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flauta%20de%20pan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1E9-16DA-4749-BB71-0F7721C6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BDD6-9A30-43DD-B773-FADFC6A6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A84-B24F-47AF-81B2-C28F2ED8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F38-109A-4A0A-990A-7C9C1966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9F5-1480-4A12-921B-D748F8EF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ADA-8428-4575-9016-79744DB7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B6C-7003-4157-902E-6AEF2A6B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54D-AFF6-4D50-9877-B5742759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00A-8341-4D7A-9755-40DB67F4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D77-00FA-423D-A1E5-0F73DA25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6B8-A267-44E3-9CB3-4C676E3D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110-961D-40EA-9D49-A3865158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6660-5589-4A0C-95EE-C7CCCE2EB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lauta%20de%20pa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flauta%20de%20pan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flauta%20de%20pa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aracas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42" name="WordArt 9"/>
          <p:cNvSpPr txBox="1"/>
          <p:nvPr/>
        </p:nvSpPr>
        <p:spPr>
          <a:xfrm>
            <a:off x="395280" y="1484280"/>
            <a:ext cx="799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>
                    <a:alpha val="71000"/>
                  </a:srgbClr>
                </a:solidFill>
                <a:latin typeface="Traffic"/>
              </a:rPr>
              <a:t>12 de Octubre</a:t>
            </a:r>
            <a:endParaRPr b="1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>
                  <a:alpha val="71000"/>
                </a:srgbClr>
              </a:solidFill>
              <a:latin typeface="Traffic"/>
              <a:ea typeface="Traffic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0" y="6488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cc00"/>
                </a:solidFill>
                <a:latin typeface="Century Gothic"/>
              </a:rPr>
              <a:t>Arte Precolombino de Perú                                                                                               Da click  para avan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80" y="5415120"/>
            <a:ext cx="909972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Bradley Hand ITC"/>
              </a:rPr>
              <a:t>Redescubrir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Bradley Hand ITC"/>
              </a:rPr>
              <a:t>AMERICA</a:t>
            </a:r>
            <a:r>
              <a:rPr b="1" lang="en-US" sz="3000" spc="-1" strike="noStrike">
                <a:solidFill>
                  <a:srgbClr val="cc0000"/>
                </a:solidFill>
                <a:latin typeface="Bradley Hand ITC"/>
              </a:rPr>
              <a:t> , sin negar “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Bradley Hand ITC"/>
              </a:rPr>
              <a:t>El Viejo Continente</a:t>
            </a:r>
            <a:r>
              <a:rPr b="1" lang="en-US" sz="3000" spc="-1" strike="noStrike">
                <a:solidFill>
                  <a:srgbClr val="cc0000"/>
                </a:solidFill>
                <a:latin typeface="Bradley Hand ITC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Huacas sagradas hulda schueden med"/>
          <p:cNvPicPr/>
          <p:nvPr/>
        </p:nvPicPr>
        <p:blipFill>
          <a:blip r:embed="rId1"/>
          <a:stretch/>
        </p:blipFill>
        <p:spPr>
          <a:xfrm>
            <a:off x="755640" y="189000"/>
            <a:ext cx="5904000" cy="4149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6732720" y="3429000"/>
            <a:ext cx="24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8ebc8"/>
                </a:solidFill>
                <a:latin typeface="Century Gothic"/>
              </a:rPr>
              <a:t>Hulda Shuelden  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0" y="442908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Nos limitaremos a exigir la devolución de los metales precio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adelantados, más el módico interés fijo del 10 por ciento, acumul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ólo durante los últimos 300 años, con 200 años de gra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Sobre esta base, y aplicando la fórmula europea del interés compues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informamos a los descubridores que nos deben, como primer pago de su deuda, una masa de 185 mil kilos de oro y 16 millones de plata, ambas cifras elevadas a la potencia de 3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fotogambartesfigurapaye"/>
          <p:cNvPicPr/>
          <p:nvPr/>
        </p:nvPicPr>
        <p:blipFill>
          <a:blip r:embed="rId1"/>
          <a:stretch/>
        </p:blipFill>
        <p:spPr>
          <a:xfrm>
            <a:off x="179280" y="216000"/>
            <a:ext cx="5102280" cy="6308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332000" y="652464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cc99"/>
                </a:solidFill>
                <a:latin typeface="Arial"/>
              </a:rPr>
              <a:t>Leonidas Gambartes  1909- 1963 Rosario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64000" y="0"/>
            <a:ext cx="360072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Es decir, un número para cuya expresión total, serían necesarias más de 300 cifras, y que supera ampliamente el peso total del planeta Ti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Muy pesadas son esas moles de oro y plata. ¿Cuánto pesarían, calculadas en sang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Aducir que Europa, en medio milenio, no ha podido generar riquezas suficientes para cancelar ese módico interés, sería tanto como admitir su absoluto fracaso financie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y/o la demencial irracionalidad de los supuestos del capital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musicos barrios pastor boliviano"/>
          <p:cNvPicPr/>
          <p:nvPr/>
        </p:nvPicPr>
        <p:blipFill>
          <a:blip r:embed="rId1"/>
          <a:stretch/>
        </p:blipFill>
        <p:spPr>
          <a:xfrm>
            <a:off x="0" y="549360"/>
            <a:ext cx="4968720" cy="3384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556000" y="3645000"/>
            <a:ext cx="59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cc99"/>
                </a:solidFill>
                <a:latin typeface="Arial"/>
              </a:rPr>
              <a:t>Pastor Berrios    Boli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56360" y="189000"/>
            <a:ext cx="2987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0" y="4149720"/>
            <a:ext cx="91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99"/>
                </a:solidFill>
                <a:latin typeface="Arial"/>
              </a:rPr>
              <a:t>Cuando el Cacique Guaicaipuro Cuatemoc                                                  dió su conferencia ante la reunión de                                                        </a:t>
            </a:r>
            <a:r>
              <a:rPr b="1" lang="es-ES" sz="2000" spc="-1" strike="noStrike">
                <a:solidFill>
                  <a:srgbClr val="66ffff"/>
                </a:solidFill>
                <a:latin typeface="Arial"/>
              </a:rPr>
              <a:t>JEFES DE ESTADO DE LA COMUNIDAD EUROPEA,</a:t>
            </a:r>
            <a:r>
              <a:rPr b="1" lang="es-ES" sz="2000" spc="-1" strike="noStrike">
                <a:solidFill>
                  <a:srgbClr val="ff3399"/>
                </a:solidFill>
                <a:latin typeface="Arial"/>
              </a:rPr>
              <a:t>                                                               no sabían que estaba exponiendo una tésis de Derecho Internacional              para determinar </a:t>
            </a:r>
            <a:r>
              <a:rPr b="1" lang="es-ES" sz="2000" spc="-1" strike="noStrike">
                <a:solidFill>
                  <a:srgbClr val="9999ff"/>
                </a:solidFill>
                <a:latin typeface="Arial"/>
              </a:rPr>
              <a:t>LA VERDADERA DEUDA EXTERNA </a:t>
            </a:r>
            <a:r>
              <a:rPr b="1" lang="es-ES" sz="2000" spc="-1" strike="noStrike">
                <a:solidFill>
                  <a:srgbClr val="ff3399"/>
                </a:solidFill>
                <a:latin typeface="Arial"/>
              </a:rPr>
              <a:t>,                                         ahora sólo resta que algún gobierno latinoamericano                                            tenga el valor suficiente                                                                                             para hacer el reclamo ante los Tribunales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867280" y="658332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cc99"/>
                </a:solidFill>
                <a:latin typeface="Century Gothic"/>
              </a:rPr>
              <a:t>Nora Reyna Córdoba Argentina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5003640" y="0"/>
            <a:ext cx="414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000"/>
                </a:solidFill>
                <a:latin typeface="Arial"/>
              </a:rPr>
              <a:t>Tales cuestiones metafísicas, desde luego, no nos inquietan a los Indoameric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Arial"/>
              </a:rPr>
              <a:t>Pero sí exigimos la firma de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50"/>
                </a:solidFill>
                <a:latin typeface="Arial"/>
              </a:rPr>
              <a:t>Carta de Intención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50"/>
                </a:solidFill>
                <a:latin typeface="Arial"/>
              </a:rPr>
              <a:t>discipline a los pueblos deudores del Viejo Continente, y que los obligue a cumplir su compromiso mediante una pro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50"/>
                </a:solidFill>
                <a:latin typeface="Arial"/>
              </a:rPr>
              <a:t>privatización o reconversión de Europa, que les permi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50"/>
                </a:solidFill>
                <a:latin typeface="Arial"/>
              </a:rPr>
              <a:t>entregárnosla entera, como primer pago de la deu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50"/>
                </a:solidFill>
                <a:latin typeface="Arial"/>
              </a:rPr>
              <a:t>histórica...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supisich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250920" y="63817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cc99"/>
                </a:solidFill>
                <a:latin typeface="Arial"/>
              </a:rPr>
              <a:t>Obra : Ricardo Supisiche 1912-1992 Sta Fé  Argenti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5416560" y="714240"/>
            <a:ext cx="340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b050"/>
                </a:solidFill>
                <a:latin typeface="Century Gothic"/>
              </a:rPr>
              <a:t>Exposición del Cacique Guaicaipuro Cuatemoc ante la reun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b050"/>
                </a:solidFill>
                <a:latin typeface="Century Gothic"/>
              </a:rPr>
              <a:t>Jefes de Estado de la Comunidad Europea (08/02/200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entury Gothic"/>
              </a:rPr>
              <a:t>Con lenguaje simp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entury Gothic"/>
              </a:rPr>
              <a:t> </a:t>
            </a:r>
            <a:r>
              <a:rPr b="1" lang="es-ES" sz="2000" spc="-1" strike="noStrike">
                <a:solidFill>
                  <a:srgbClr val="ffcc00"/>
                </a:solidFill>
                <a:latin typeface="Century Gothic"/>
              </a:rPr>
              <a:t>que era trasmitido en traducción simultánea a más de un centenar de Jefes de Estado y dignatarios de la Comunidad Europe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entury Gothic"/>
              </a:rPr>
              <a:t>el Cac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entury Gothic"/>
              </a:rPr>
              <a:t> </a:t>
            </a:r>
            <a:r>
              <a:rPr b="1" lang="es-ES" sz="2000" spc="-1" strike="noStrike">
                <a:solidFill>
                  <a:srgbClr val="ffcc00"/>
                </a:solidFill>
                <a:latin typeface="Century Gothic"/>
              </a:rPr>
              <a:t>Guaicaípuro Cuatemoc logró inquietar a su audiencia cuando dij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mollari1 sombreros blancos"/>
          <p:cNvPicPr/>
          <p:nvPr/>
        </p:nvPicPr>
        <p:blipFill>
          <a:blip r:embed="rId1"/>
          <a:stretch/>
        </p:blipFill>
        <p:spPr>
          <a:xfrm>
            <a:off x="0" y="604800"/>
            <a:ext cx="5929200" cy="5516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3708360" y="6329520"/>
            <a:ext cx="525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cc99"/>
                </a:solidFill>
                <a:latin typeface="Century Gothic"/>
              </a:rPr>
              <a:t>Mario Mollari   1930   Argen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929200" y="404640"/>
            <a:ext cx="32148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99"/>
                </a:solidFill>
                <a:latin typeface="Century Gothic"/>
              </a:rPr>
              <a:t>'Aquí pues yo, Guaicaipuro Cuatem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99"/>
                </a:solidFill>
                <a:latin typeface="Century Gothic"/>
              </a:rPr>
              <a:t>he venido a encontrar a los que celebran el encuent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99ff"/>
                </a:solidFill>
                <a:latin typeface="Century Gothic"/>
              </a:rPr>
              <a:t>Aquí pues yo, descendiente de los que poblaron la América hace cuarenta mil añ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99ff"/>
                </a:solidFill>
                <a:latin typeface="Century Gothic"/>
              </a:rPr>
              <a:t> </a:t>
            </a:r>
            <a:r>
              <a:rPr b="1" lang="es-ES" sz="2000" spc="-1" strike="noStrike">
                <a:solidFill>
                  <a:srgbClr val="9999ff"/>
                </a:solidFill>
                <a:latin typeface="Century Gothic"/>
              </a:rPr>
              <a:t>he venido a encontrar a los que la encontraron hace solo quinientos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Century Gothic"/>
              </a:rPr>
              <a:t>Aquí pues, nos encontramos todos. Sabemos lo que somos, y es basta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entury Gothic"/>
              </a:rPr>
              <a:t>Nunca tendremos otra co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ook_of_paintings_liber_fridman"/>
          <p:cNvPicPr/>
          <p:nvPr/>
        </p:nvPicPr>
        <p:blipFill>
          <a:blip r:embed="rId1"/>
          <a:stretch/>
        </p:blipFill>
        <p:spPr>
          <a:xfrm>
            <a:off x="3510000" y="333360"/>
            <a:ext cx="5634000" cy="6120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6156360" y="646740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cc99"/>
                </a:solidFill>
                <a:latin typeface="Century Gothic"/>
              </a:rPr>
              <a:t>Liber Friman 1910  argen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0" y="189000"/>
            <a:ext cx="349236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entury Gothic"/>
              </a:rPr>
              <a:t>El hermano aduanero europeo me pide papel escrito con visa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entury Gothic"/>
              </a:rPr>
              <a:t>poder descubrir a los que me descubrie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99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9999"/>
                </a:solidFill>
                <a:latin typeface="Century Gothic"/>
              </a:rPr>
              <a:t>El hermano usure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99"/>
                </a:solidFill>
                <a:latin typeface="Century Gothic"/>
              </a:rPr>
              <a:t>europeo me pide pago de una deuda contraída por Judas, a quien nunca autoricé a vender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a3e0"/>
                </a:solidFill>
                <a:latin typeface="Century Gothic"/>
              </a:rPr>
              <a:t>El hermano leguleyo europeo me explica que toda deuda se paga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a3e0"/>
                </a:solidFill>
                <a:latin typeface="Century Gothic"/>
              </a:rPr>
              <a:t>intereses aunque sea vendiendo seres humanos y países enteros s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a3e0"/>
                </a:solidFill>
                <a:latin typeface="Century Gothic"/>
              </a:rPr>
              <a:t>pedirles consentimi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entury Gothic"/>
              </a:rPr>
              <a:t>Yo los voy descubriendo. También yo puedo reclamar pagos y tambié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entury Gothic"/>
              </a:rPr>
              <a:t>puedo reclamar intere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uesta de los aparecidos_manuel-reyna"/>
          <p:cNvPicPr/>
          <p:nvPr/>
        </p:nvPicPr>
        <p:blipFill>
          <a:blip r:embed="rId1"/>
          <a:stretch/>
        </p:blipFill>
        <p:spPr>
          <a:xfrm>
            <a:off x="0" y="0"/>
            <a:ext cx="9107640" cy="73119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5867280" y="216000"/>
            <a:ext cx="31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cc99"/>
                </a:solidFill>
                <a:latin typeface="Arial"/>
              </a:rPr>
              <a:t>Manuel Reyna   argentino 1918-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826920" y="112536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99"/>
                </a:solidFill>
                <a:latin typeface="Arial"/>
              </a:rPr>
              <a:t>Consta en el Archivo de Indias, papel sobre papel,                                recibo sobre recibo y firma sobre firma,                                        que solamente entre el año 1503 y 1660 llegaron                                     a San Lucas de Barrameda 185 mil kilos de oro y 16 millones de kilos de plata provenientes de América.                                 Saqueo? ¡No lo creyera yo! Porque sería pensar que los hermanos cristianos faltaron a su Séptimo Mandami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cc99"/>
                </a:solidFill>
                <a:latin typeface="Arial"/>
              </a:rPr>
              <a:t>Expoliación? ¡Guárdeme Tanatzin de firgurarme que los europeos, como Caín, matan y niegan la sangre de su hermano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99"/>
                </a:solidFill>
                <a:latin typeface="Arial"/>
              </a:rPr>
              <a:t>            </a:t>
            </a:r>
            <a:r>
              <a:rPr b="1" lang="es-ES" sz="2000" spc="-1" strike="noStrike">
                <a:solidFill>
                  <a:srgbClr val="ffcc99"/>
                </a:solidFill>
                <a:latin typeface="Arial"/>
              </a:rPr>
              <a:t>Genocidio?  Eso sería dar crédito a los calumniadores, como Bartolomé de las Casas, que califican al encuentro                   como de destrucción de las Indias, o a ultrosos                                     como Arturo Uslar Pietri, que afirma que el arranque                                    del capitalismo y la actual civilización europea                                                se deben a la inundación de metales precioso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ardenasfamiliatemple bolivia"/>
          <p:cNvPicPr/>
          <p:nvPr/>
        </p:nvPicPr>
        <p:blipFill>
          <a:blip r:embed="rId1"/>
          <a:stretch/>
        </p:blipFill>
        <p:spPr>
          <a:xfrm>
            <a:off x="1042920" y="189000"/>
            <a:ext cx="6769080" cy="4410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85080" y="3573360"/>
            <a:ext cx="12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ebc8"/>
                </a:solidFill>
                <a:latin typeface="Century Gothic"/>
              </a:rPr>
              <a:t>Ponciano Cárdenas 1927   Bolivi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68360" y="6093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395280" y="4724280"/>
            <a:ext cx="7777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89080" y="4643280"/>
            <a:ext cx="885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No! 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Esos 185 mil kilos de oro y 16 millones de kilos de plata deb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er considerados como el primero de muchos otros préstamos amigables de América, destinados al desarrollo de Euro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Lo contrario sería presumir la existencia de crímenes de guerra, lo que daría derecho no sólo a exigir la devolución inmediata, sino la indemnización por daños y perju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anastcarpani"/>
          <p:cNvPicPr/>
          <p:nvPr/>
        </p:nvPicPr>
        <p:blipFill>
          <a:blip r:embed="rId1"/>
          <a:stretch/>
        </p:blipFill>
        <p:spPr>
          <a:xfrm>
            <a:off x="4286160" y="189000"/>
            <a:ext cx="4857840" cy="6048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4932360" y="6381720"/>
            <a:ext cx="36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cc99"/>
                </a:solidFill>
                <a:latin typeface="Arial"/>
              </a:rPr>
              <a:t>Carpani Ricardo       1930-1997 Argen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0"/>
            <a:ext cx="43927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d9d9d9"/>
                </a:solidFill>
                <a:latin typeface="Arial"/>
              </a:rPr>
              <a:t>Yo, Guaicaipuro Cuatemoc, prefiero pensar en la menos ofensiva de estas hipóte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ff"/>
                </a:solidFill>
                <a:latin typeface="Arial"/>
              </a:rPr>
              <a:t>Tan fabulosa export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ff"/>
                </a:solidFill>
                <a:latin typeface="Arial"/>
              </a:rPr>
              <a:t>capitales no fueron más que el inicio de un plan MARSHALLTESUMA''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cc66"/>
                </a:solidFill>
                <a:latin typeface="Arial"/>
              </a:rPr>
              <a:t>Para garantizar la reconstrucción de la bárbara Europa, arruin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cc66"/>
                </a:solidFill>
                <a:latin typeface="Arial"/>
              </a:rPr>
              <a:t>por sus deplorables guerras contra los cultos musulmanes, creadores del álgebra, la poligamia, el baño cotidiano y otros logros superiores de la civ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ebc8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8ebc8"/>
                </a:solidFill>
                <a:latin typeface="Arial"/>
              </a:rPr>
              <a:t>Por eso, al celebrar el Quinto Centenario del Emprésti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ebc8"/>
                </a:solidFill>
                <a:latin typeface="Arial"/>
              </a:rPr>
              <a:t>podremos preguntarnos: Han hecho los hermanos europeos un uso racional, responsable o por lo menos productivo de los fondos tan generosamente adelantados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pint_siqueiros2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5292720" y="6583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8ebc8"/>
                </a:solidFill>
                <a:latin typeface="Arial"/>
              </a:rPr>
              <a:t>Alvaro Siqueiro 1896- 1974--Mé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19120" y="639720"/>
            <a:ext cx="27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50920" y="260280"/>
            <a:ext cx="295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-36360" y="0"/>
            <a:ext cx="40370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ebc8"/>
                </a:solidFill>
                <a:latin typeface="Century Gothic"/>
              </a:rPr>
              <a:t>..por el Fondo Indoamericano Internacion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99"/>
                </a:solidFill>
                <a:latin typeface="Century Gothic"/>
              </a:rPr>
              <a:t> </a:t>
            </a:r>
            <a:r>
              <a:rPr b="1" lang="es-ES" sz="2000" spc="-1" strike="noStrike">
                <a:solidFill>
                  <a:srgbClr val="ff3399"/>
                </a:solidFill>
                <a:latin typeface="Century Gothic"/>
              </a:rPr>
              <a:t>Deploramos decir que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99ff"/>
                </a:solidFill>
                <a:latin typeface="Century Gothic"/>
              </a:rPr>
              <a:t> </a:t>
            </a:r>
            <a:r>
              <a:rPr b="1" lang="es-ES" sz="2000" spc="-1" strike="noStrike">
                <a:solidFill>
                  <a:srgbClr val="9999ff"/>
                </a:solidFill>
                <a:latin typeface="Century Gothic"/>
              </a:rPr>
              <a:t>En lo estratégico, lo dilapidaron en las batallas de Lepanto, en armadas invencibles, en terceros reichs y otras formas de exterminio mutuo, sin otro destino que terminar ocupados por las tropas gringas de la OTAN, como en Panamá, sin ca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b050"/>
                </a:solidFill>
                <a:latin typeface="Century Gothic"/>
              </a:rPr>
              <a:t> </a:t>
            </a:r>
            <a:r>
              <a:rPr b="1" lang="es-ES" sz="2000" spc="-1" strike="noStrike">
                <a:solidFill>
                  <a:srgbClr val="00b050"/>
                </a:solidFill>
                <a:latin typeface="Century Gothic"/>
              </a:rPr>
              <a:t>En lo financiero, han sido incapaces, después de una moratoria de 500 años, tanto de cancelar el capital y sus intereses, cuanto de independizarse de las rentas líquidas, las materias primas y la energía barata que les exporta y provee todo el Tercer Mun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7"/>
          <p:cNvSpPr/>
          <p:nvPr/>
        </p:nvSpPr>
        <p:spPr>
          <a:xfrm>
            <a:off x="376200" y="4508640"/>
            <a:ext cx="8767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rivera_trigo"/>
          <p:cNvPicPr/>
          <p:nvPr/>
        </p:nvPicPr>
        <p:blipFill>
          <a:blip r:embed="rId1"/>
          <a:stretch/>
        </p:blipFill>
        <p:spPr>
          <a:xfrm>
            <a:off x="1332000" y="111240"/>
            <a:ext cx="4970520" cy="3848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6516720" y="3500280"/>
            <a:ext cx="264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Century Gothic"/>
              </a:rPr>
              <a:t>Rivera  1886-1957   Mé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0" y="4071960"/>
            <a:ext cx="91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Century Gothic"/>
              </a:rPr>
              <a:t>Este deplorable cuadro corrobora la afirmación de Milton Friedm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Century Gothic"/>
              </a:rPr>
              <a:t>según la cual una economía subsidiada jamás puede funcionar y 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Century Gothic"/>
              </a:rPr>
              <a:t>obliga a reclamarles, para su propio bien, el pago del capital y los intereses que, tan generosamente hemos demo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Century Gothic"/>
              </a:rPr>
              <a:t> </a:t>
            </a:r>
            <a:r>
              <a:rPr b="1" lang="es-ES" sz="2000" spc="-1" strike="noStrike">
                <a:solidFill>
                  <a:srgbClr val="92d050"/>
                </a:solidFill>
                <a:latin typeface="Century Gothic"/>
              </a:rPr>
              <a:t>todos estos siglos en cob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99ff"/>
                </a:solidFill>
                <a:latin typeface="Century Gothic"/>
              </a:rPr>
              <a:t> </a:t>
            </a:r>
            <a:r>
              <a:rPr b="1" lang="es-ES" sz="2000" spc="-1" strike="noStrike">
                <a:solidFill>
                  <a:srgbClr val="9999ff"/>
                </a:solidFill>
                <a:latin typeface="Century Gothic"/>
              </a:rPr>
              <a:t>Al decir esto, aclaramos que no nos rebajaremos a cobrarle a nuestro hermanos europeos las viles y sanguinarias tasas del 20 y hasta el 30 por ciento de interés, que los hermanos europeos le cobran a los pueblos del Tercer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5:12:43Z</dcterms:created>
  <dc:creator>Noa</dc:creator>
  <dc:description/>
  <dc:language>en-US</dc:language>
  <cp:lastModifiedBy>cl</cp:lastModifiedBy>
  <dcterms:modified xsi:type="dcterms:W3CDTF">2008-09-24T18:37:26Z</dcterms:modified>
  <cp:revision>86</cp:revision>
  <dc:subject/>
  <dc:title>Diapositiva 1</dc:title>
</cp:coreProperties>
</file>