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L%20PESCAD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601-85B3-4EF4-B36B-C4DC25F5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A05-442D-4A62-8495-A2F7D5F4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AB4-83A6-4736-B608-3A24208D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8FA-9A78-406F-84C3-D561FE63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311-E55B-4769-9583-985894A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254-6ABA-4029-85D3-6F95534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8C7-E348-4645-8385-F75119E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37D-72D2-4AE1-8E14-B9E31215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53B-957F-4FA9-899B-8A67038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1F2-C8DA-4FB1-BE7C-CDE55E6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723-36E5-4CE9-8FEF-9235537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40D-A7F2-4CD9-AE04-66422F6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AC3D-ADAA-4037-A62E-2EF79F338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%20PESCAD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219480"/>
            <a:ext cx="80676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vida es tan corta...</a:t>
            </a:r>
            <a:endParaRPr b="1" lang="en-US" sz="66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EL%20PESCAD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Antes había clasificado a Tommy: de extrañ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Parece ser como si a todo aquel que yo rechazara mediante mi propia calificación, Dios lo devolviera a mi vida para que me educ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Pero por lo que en realidad 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vine a verlo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 es por algo que usted me dijo el 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último día de clases. 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(¡Se acordó!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Él continuó diciendo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- Yo le pregunté si usted creía que yo llegaría alguna vez a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encontrar a Dios.   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Usted me dijo qu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Kristen ITC"/>
              </a:rPr>
              <a:t>¡No!,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 cosa que me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sorprendió mucho. Entonces usted dij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'Pero Él te encontrará a ti'.</a:t>
            </a:r>
            <a:r>
              <a:rPr b="0" lang="es-ES" sz="27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stuve pensando mucho en eso, aunque no se puede decir que mi búsqueda era muy intensa en aquel ento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ero  cuando los doctores removieron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l tumor que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enía en la ingle y me dijeron que era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maligno, ahí fue que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empecé a buscar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seriamente a Dios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Y cuando el cáncer se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regó a mis órganos vitales, de verás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4613b9"/>
                </a:solidFill>
                <a:latin typeface="Kristen ITC"/>
              </a:rPr>
              <a:t>que 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mpecé a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golpear fuertemente con mis puños </a:t>
            </a:r>
            <a:r>
              <a:rPr b="1" lang="es-ES" sz="2400" spc="-1" strike="noStrike">
                <a:solidFill>
                  <a:srgbClr val="4613b9"/>
                </a:solidFill>
                <a:latin typeface="Kristen ITC"/>
              </a:rPr>
              <a:t>las puertas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 </a:t>
            </a:r>
            <a:r>
              <a:rPr b="1" lang="es-ES" sz="2400" spc="-1" strike="noStrike">
                <a:solidFill>
                  <a:srgbClr val="4613b9"/>
                </a:solidFill>
                <a:latin typeface="Kristen ITC"/>
              </a:rPr>
              <a:t>del 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ielo...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pero Dios no salió. De hecho, no pasó 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¿Alguna vez ha tratado de hacer alg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on mucho esfuerzo sin obtener ningún resultado? Uno se harta psicológicamente, se aburre de tratar y tratar y tratar... y eventualmente, uno deja de trat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5720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Bueno,   pues un día me desperté y en lugar de estar lanzando mis reclamos inútiles por encima de ese muro de ladrillos a un Dios que posiblemente no estuviera ahí, me rendí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ecidí que en realidad no me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importaba Dios, ni una vida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después de la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muerte, ni nada que se le pareciera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ecidí pasar el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iempo que me quedara haciendo algo más provech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ensé en usted y en su clase y recordé otra cosa que usted nos había dicho: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Kristen ITC"/>
              </a:rPr>
              <a:t>'La mayor tristeza es pasarse la vida sin amar.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Pero sería igualmente triste pasar por la vida e irse sin nunca haberle dicho a los que uno ama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que los ama'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9144000" cy="59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Así que empecé por el más difícil, mi pad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Él estaba leyendo el periódico cuando me le acerqué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- Papá …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¿Qué?, preguntó </a:t>
            </a: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sin quitar</a:t>
            </a: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 sus ojos del periódico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- Papá, quisiera hablar contigo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- Bueno, habla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- Papá... es algo </a:t>
            </a: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verdaderamente importante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Bajó el periódico </a:t>
            </a: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lentamente, ¿De qué se trata?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- Papá, yo te amo. </a:t>
            </a: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Sólo quería que lo supieras.. (Tom me sonrió</a:t>
            </a: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mientras me contaba con satisfacción, como si sintiera un gozo cálido y secreto, que fluía a través de su interior.)</a:t>
            </a:r>
            <a:br>
              <a:rPr sz="2100"/>
            </a:br>
            <a:r>
              <a:rPr b="1" lang="es-ES" sz="2100" spc="-1" strike="noStrike">
                <a:solidFill>
                  <a:srgbClr val="000000"/>
                </a:solidFill>
                <a:latin typeface="Kristen ITC"/>
              </a:rPr>
              <a:t>Entonces mi padre hizo dos cosas que no recuerdo que hubiese</a:t>
            </a: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 hecho antes.</a:t>
            </a:r>
            <a:br>
              <a:rPr sz="2100"/>
            </a:br>
            <a:r>
              <a:rPr b="1" lang="es-ES" sz="2100" spc="-1" strike="noStrike">
                <a:solidFill>
                  <a:srgbClr val="ffffff"/>
                </a:solidFill>
                <a:latin typeface="Kristen ITC"/>
              </a:rPr>
              <a:t>Él lloró y me abrazó. Estuvimos hablando toda la noche, aunque él tenía que ir a trabajar al día siguiente.. Me sentí tan bien de estar cerca de mi padre, de ver sus lágrimas, de sentir su abrazo y de oírle decir que me amaba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Fue más fácil con mi madre y con mi hermano pequeño. También ellos lloraron conmigo y nos abrazamos y nos dijimos cosas bonitas los unos a los otros.    Compartimos las cosas </a:t>
            </a:r>
            <a:r>
              <a:rPr b="1" lang="es-ES" sz="2700" spc="-1" strike="noStrike">
                <a:solidFill>
                  <a:srgbClr val="000000"/>
                </a:solidFill>
                <a:latin typeface="Kristen ITC"/>
              </a:rPr>
              <a:t>que habíamos</a:t>
            </a: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 guardado en secreto por tantos </a:t>
            </a:r>
            <a:r>
              <a:rPr b="1" lang="es-ES" sz="2700" spc="-1" strike="noStrike">
                <a:solidFill>
                  <a:srgbClr val="000000"/>
                </a:solidFill>
                <a:latin typeface="Kristen ITC"/>
              </a:rPr>
              <a:t>años.   Sólo me</a:t>
            </a: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 arrepiento de una </a:t>
            </a:r>
            <a:r>
              <a:rPr b="1" lang="es-ES" sz="2700" spc="-1" strike="noStrike">
                <a:solidFill>
                  <a:srgbClr val="000000"/>
                </a:solidFill>
                <a:latin typeface="Kristen ITC"/>
              </a:rPr>
              <a:t>cosa...     de haber esperado tanto tiempo!!!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Ahí estaba, </a:t>
            </a:r>
            <a:r>
              <a:rPr b="1" lang="es-ES" sz="2700" spc="-1" strike="noStrike">
                <a:solidFill>
                  <a:srgbClr val="000000"/>
                </a:solidFill>
                <a:latin typeface="Kristen ITC"/>
              </a:rPr>
              <a:t>comenzando a abrirme a todas las</a:t>
            </a: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 personas que siempre habían estado tan cerca de mí.</a:t>
            </a:r>
            <a:br>
              <a:rPr sz="2700"/>
            </a:br>
            <a:r>
              <a:rPr b="1" i="1" lang="es-ES" sz="2900" spc="-1" strike="noStrike" u="sng">
                <a:solidFill>
                  <a:srgbClr val="ffffff"/>
                </a:solidFill>
                <a:uFillTx/>
                <a:latin typeface="Kristen ITC"/>
              </a:rPr>
              <a:t>Entonces, un día me volteé ¡y ahí estaba Dios!</a:t>
            </a:r>
            <a:br>
              <a:rPr sz="2900"/>
            </a:br>
            <a:r>
              <a:rPr b="1" lang="es-ES" sz="2700" spc="-1" strike="noStrike">
                <a:solidFill>
                  <a:srgbClr val="ffffff"/>
                </a:solidFill>
                <a:latin typeface="Kristen ITC"/>
              </a:rPr>
              <a:t>No vino a mí cuando yo se lo rogaba.</a:t>
            </a:r>
            <a:r>
              <a:rPr b="0" lang="es-ES" sz="27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57200"/>
            <a:ext cx="91440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Me imagino que yo me portaba como un entrenador de animales aguantando el aro para que saltaran: ¡Vamos, salta! Te doy tres días, tres semanas.' Aparentemente Dios hace las cosas a Su manera y a Su ho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Pero lo importante es que </a:t>
            </a:r>
            <a:r>
              <a:rPr b="1" i="1" lang="es-ES" sz="2800" spc="-1" strike="noStrike">
                <a:solidFill>
                  <a:srgbClr val="000000"/>
                </a:solidFill>
                <a:latin typeface="Kristen ITC"/>
              </a:rPr>
              <a:t>Él estaba ahí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¡Me había encontrado! </a:t>
            </a:r>
            <a:r>
              <a:rPr b="1" i="1" lang="es-ES" sz="2800" spc="-1" strike="noStrike">
                <a:solidFill>
                  <a:srgbClr val="000000"/>
                </a:solidFill>
                <a:latin typeface="Kristen ITC"/>
              </a:rPr>
              <a:t>Usted tenía razón, me</a:t>
            </a: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 encontró aún </a:t>
            </a:r>
            <a:r>
              <a:rPr b="1" i="1" lang="es-ES" sz="2800" spc="-1" strike="noStrike">
                <a:solidFill>
                  <a:srgbClr val="000000"/>
                </a:solidFill>
                <a:latin typeface="Kristen ITC"/>
              </a:rPr>
              <a:t>después de que yo dejé de buscarlo</a:t>
            </a: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62120"/>
            <a:ext cx="91440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- Tom, le dije casi sin aliento,   yo creo que estás diciendo algo muy importante y más universal de lo que tú te puedas imaginar.   Por lo menos para mí, lo que estás diciendo es que la forma más </a:t>
            </a:r>
            <a:r>
              <a:rPr b="1" lang="es-ES" sz="2600" spc="-1" strike="noStrike">
                <a:solidFill>
                  <a:srgbClr val="000000"/>
                </a:solidFill>
                <a:latin typeface="Kristen ITC"/>
              </a:rPr>
              <a:t>segura de encontrar</a:t>
            </a: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 a Dios:  Es la de no hacerlo una </a:t>
            </a:r>
            <a:r>
              <a:rPr b="1" lang="es-ES" sz="2600" spc="-1" strike="noStrike">
                <a:solidFill>
                  <a:srgbClr val="000000"/>
                </a:solidFill>
                <a:latin typeface="Kristen ITC"/>
              </a:rPr>
              <a:t>posesión particular, un</a:t>
            </a: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 solucionador de problemas, </a:t>
            </a:r>
            <a:r>
              <a:rPr b="1" lang="es-ES" sz="2600" spc="-1" strike="noStrike">
                <a:solidFill>
                  <a:srgbClr val="000000"/>
                </a:solidFill>
                <a:latin typeface="Kristen ITC"/>
              </a:rPr>
              <a:t>un consuelo instantáneo en</a:t>
            </a: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 tiempos de necesidad... </a:t>
            </a:r>
            <a:r>
              <a:rPr b="1" lang="es-ES" sz="2600" spc="-1" strike="noStrike">
                <a:solidFill>
                  <a:srgbClr val="000000"/>
                </a:solidFill>
                <a:latin typeface="Kristen ITC"/>
              </a:rPr>
              <a:t>sino abrirse al amor!!! Sabes, el</a:t>
            </a: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 apóstol Juan dijo eso, </a:t>
            </a:r>
            <a:r>
              <a:rPr b="1" lang="es-ES" sz="2600" spc="-1" strike="noStrike">
                <a:solidFill>
                  <a:srgbClr val="000000"/>
                </a:solidFill>
                <a:latin typeface="Kristen ITC"/>
              </a:rPr>
              <a:t>él dijo: "Dios es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Kristen ITC"/>
              </a:rPr>
              <a:t>Amor y quien permanece en el amor permanece en Dios y Dios en él."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685800"/>
            <a:ext cx="899136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Tom, ¿podría pedirte un favor?, pregunté. Fíjate, cuando te tenía en mi clase eras una verdadera molestia, pero (riendo) ahora puedes compensarme por todo... ¿Vendrías a mi curso de Teología de la Fe y les contarías lo que acabas de contarme? Si yo se los dijera,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no tendría el</a:t>
            </a: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 mismo impacto que puede tener al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contárselo tú.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 Oohh.Yo estaba listo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para usted, pero no sé si estoy listo para su clase.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- Piénsalo, Tom, y si te sientes listo, llámame.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Tom me llamó a los pocos días y me dijo que estaba listo para la clase, que él quería hacer eso por Dios y por mí. Así que hicimos la cita, pero Tom nunca pudo llegar... Él tenía una cita mucho más importante que la mía y mi clase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520"/>
            <a:ext cx="8991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5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Por supuesto que su vida no terminó con la muerte, sólo cambió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Él dio el gran salto de la fe a la vi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Él encontró una vida más hermosa que todo lo que ha visto el ojo humano o que el oído humano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haya escuchado</a:t>
            </a: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 o que la mente del ser humano jamás se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haya imaginado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Antes de que él muriera,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hablamos una últim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No voy a poder </a:t>
            </a: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llegar a su clase", me dijo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 Lo sé, Tom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 ¿Les dirá usted por mí? ¿Le dirá. al mundo entero por mí?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Sí,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-Tom, les diré. Haré lo mejor que pue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48006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Así que a todos ustedes que han tenido la bondad de leer esta simple historia sobre el amor de Dios, gracias por el tiem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</a:rPr>
              <a:t>Y a ti, Tommy, en los brillantes y verdes cerros del Cielo, se los dije lo mejor que pude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876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i esta historia ha significado algo para usted, pásela por favor a uno o dos amigos. Es una historia real que no ha sido realzada para propósitos publicitarios.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066680"/>
            <a:ext cx="8534160" cy="544572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6954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Kristen ITC"/>
              </a:rPr>
              <a:t>La vida es tan corta que debemos aprovechar cada día para ser felic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Kristen ITC"/>
              </a:rPr>
              <a:t>John Powell, un profesor de Loyola University en Chicago</a:t>
            </a:r>
            <a:r>
              <a:rPr b="1" lang="es-ES" sz="2800" spc="-1" strike="noStrike">
                <a:solidFill>
                  <a:srgbClr val="ffffff"/>
                </a:solidFill>
                <a:latin typeface="Kristen ITC"/>
              </a:rPr>
              <a:t>, escribe sobre un estudiante de su clase de La Teología de la Fe llamado </a:t>
            </a:r>
            <a:r>
              <a:rPr b="1" lang="es-ES" sz="3200" spc="-1" strike="noStrike">
                <a:solidFill>
                  <a:srgbClr val="ffffff"/>
                </a:solidFill>
                <a:latin typeface="Kristen ITC"/>
              </a:rPr>
              <a:t>Tommy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425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762120"/>
            <a:ext cx="8153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Tempus Sans ITC"/>
              </a:rPr>
              <a:t>DIOS SIEMPRE ESTA CON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Muchas gracias, Rev. John Powell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Kristen ITC"/>
              </a:rPr>
              <a:t>Profesor de Loyola University, Chicago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3300"/>
                </a:solidFill>
                <a:latin typeface="Tempus Sans ITC"/>
              </a:rPr>
              <a:t>Vamos a compartir </a:t>
            </a:r>
            <a:r>
              <a:rPr b="1" i="1" lang="es-AR" sz="4000" spc="-1" strike="noStrike">
                <a:solidFill>
                  <a:srgbClr val="ff3300"/>
                </a:solidFill>
                <a:latin typeface="Tempus Sans ITC"/>
              </a:rPr>
              <a:t>con todos….. el</a:t>
            </a:r>
            <a:r>
              <a:rPr b="1" i="1" lang="es-ES_tradnl" sz="4000" spc="-1" strike="noStrike">
                <a:solidFill>
                  <a:srgbClr val="ff3300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3300"/>
                </a:solidFill>
                <a:latin typeface="Tempus Sans ITC"/>
              </a:rPr>
              <a:t>INMENSO </a:t>
            </a:r>
            <a:r>
              <a:rPr b="1" i="1" lang="es-ES_tradnl" sz="4000" spc="-1" strike="noStrike">
                <a:solidFill>
                  <a:srgbClr val="ff3300"/>
                </a:solidFill>
                <a:latin typeface="Tempus Sans ITC"/>
              </a:rPr>
              <a:t>AMOR  DE D</a:t>
            </a:r>
            <a:r>
              <a:rPr b="1" i="1" lang="es-AR" sz="4000" spc="-1" strike="noStrike">
                <a:solidFill>
                  <a:srgbClr val="ff3300"/>
                </a:solidFill>
                <a:latin typeface="Tempus Sans ITC"/>
              </a:rPr>
              <a:t>IO</a:t>
            </a:r>
            <a:r>
              <a:rPr b="1" i="1" lang="es-ES_tradnl" sz="4000" spc="-1" strike="noStrike">
                <a:solidFill>
                  <a:srgbClr val="ff3300"/>
                </a:solidFill>
                <a:latin typeface="Tempus Sans ITC"/>
              </a:rPr>
              <a:t>S</a:t>
            </a:r>
            <a:r>
              <a:rPr b="1" i="1" lang="es-ES_tradnl" sz="4000" spc="-1" strike="noStrike">
                <a:solidFill>
                  <a:srgbClr val="ff3300"/>
                </a:solidFill>
                <a:latin typeface="Tempus Sans ITC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534160" cy="5396760"/>
          </a:xfrm>
          <a:prstGeom prst="rect">
            <a:avLst/>
          </a:prstGeom>
          <a:noFill/>
          <a:ln w="9360">
            <a:solidFill>
              <a:srgbClr val="4e1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Hace unos doce años atrás, yo estaba de pie observando a mis estudiantes de la universidad mientras entraban al salón para nuestra primera sesión de Teología de la F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--Ése fue el primer día que vi a Tommy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ommy estaba peinando su larga cabellera rubia, que caía 6" por debajo de sus hombros. Como ese día no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estaba preparado para ello, mis emociones se alteraron y de inmediato catalogué a Tommy " de extraño... Muy extraño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62120"/>
            <a:ext cx="861048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Kristen ITC"/>
              </a:rPr>
              <a:t>Tommy resultó ser el "ateo de la clase" en mi curso de Teología de la 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Kristen ITC"/>
              </a:rPr>
              <a:t>Él objetaba constantemente, sonriendo sarcásticamente sobre la posibilidad de un Dios/Padre que nos ama incondicionalmente.</a:t>
            </a:r>
            <a:br>
              <a:rPr sz="27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2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Cuando al terminar el curso vino a entregar su examen final, me preguntó en un tono algo cínico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¿Cree usted que alguna vez encontraré a Dios?</a:t>
            </a:r>
            <a:br>
              <a:rPr sz="2200"/>
            </a:b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Inmediatamente decidí usar un poquito de la técnica de la terapia de shock.</a:t>
            </a:r>
            <a:br>
              <a:rPr sz="2200"/>
            </a:b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- ¡No!, le dije muy enfáticamente.</a:t>
            </a:r>
            <a:br>
              <a:rPr sz="2200"/>
            </a:b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Kristen ITC"/>
              </a:rPr>
              <a:t>- ¿Por qué no?, me respondió, yo creía que ése era el producto que usted estaba vendiendo.</a:t>
            </a:r>
            <a:br>
              <a:rPr sz="2200"/>
            </a:br>
            <a:r>
              <a:rPr b="1" i="1" lang="es-ES" sz="2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Dejé que estuviese a unos cinco pasos de la puerta del salón y alcé mi voz para decirle:</a:t>
            </a:r>
            <a:br>
              <a:rPr sz="2200"/>
            </a:b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Kristen ITC"/>
              </a:rPr>
              <a:t>- ¡Tommy! Creo que tú nunca encontrarás a Dios... Pero estoy absolutamente seguro de que Él te encontrará a ti</a:t>
            </a:r>
            <a:r>
              <a:rPr b="1" i="1" lang="es-ES" sz="2300" spc="-1" strike="noStrike">
                <a:solidFill>
                  <a:srgbClr val="ffffff"/>
                </a:solidFill>
                <a:latin typeface="Kristen ITC"/>
              </a:rPr>
              <a:t>.</a:t>
            </a:r>
            <a:br>
              <a:rPr sz="2300"/>
            </a:br>
            <a:r>
              <a:rPr b="1" i="1" lang="es-ES" sz="23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914400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Él se encogió de hombros y salió de mi c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y de mi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Yo me quedé algo frustrado por el hecho de que no había captado mi ingeniosa observa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Kristen ITC"/>
              </a:rPr>
              <a:t>"¡Él te encontrará a ti!"</a:t>
            </a: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, por lo menos yo pensaba que había sido ingeniosa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Un tiempo después me enteré que Tommy se había graduado y me dió el debido gu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Más adelante me llegó una triste noticia, supe que Tommy padecía de un cáncer terminal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Antes de que yo pudiera salir a buscarlo, él vino a ver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57200"/>
            <a:ext cx="8686800" cy="61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Cuando entró en mi oficina lucía demacrado y su larga cabellera había desaparecido debido a la quimioterapia.   Pero sus ojos brillaban y su voz tenía una firmeza que no tenía ant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ommy, he pensado mucho en ti... oí que estás enfermo, le dije en un tono casual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- Oh, sí, muy enfermo, me respondió, tengo cáncer en ambos pulmones. Es cuestión de seman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- Tom, ¿puedes hablar sobre eso?, le pregunté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- Por supuesto, ¿que quiere saber?, me contestó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1440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-¿Qué se siente tener solo 24 años y estar muriendo?, le dije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- Bueno, podría ser peo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¿Peor, cómo qué?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- Bueno, como llegar a los</a:t>
            </a: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 cincuenta años sin tener </a:t>
            </a: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valores o ideales; </a:t>
            </a: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o llegar a los cincuenta creyendo </a:t>
            </a:r>
            <a:r>
              <a:rPr b="0" lang="es-ES" sz="2800" spc="-1" strike="noStrike">
                <a:solidFill>
                  <a:srgbClr val="ffffff"/>
                </a:solidFill>
                <a:latin typeface="Kristen ITC"/>
              </a:rPr>
              <a:t>que beber, seducir mujeres y hacer dinero son 'lo máximo' de la v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8:07:15Z</dcterms:created>
  <dc:creator>Dios</dc:creator>
  <dc:description>Dios te ama y yo tambien</dc:description>
  <cp:keywords>sonrie Dios te ama</cp:keywords>
  <dc:language>en-US</dc:language>
  <cp:lastModifiedBy>Fam. Villela Ramírez</cp:lastModifiedBy>
  <dcterms:modified xsi:type="dcterms:W3CDTF">2008-03-17T23:27:39Z</dcterms:modified>
  <cp:revision>32</cp:revision>
  <dc:subject>saludos a todos mis amigos y hermanos</dc:subject>
  <dc:title>ES DIOS</dc:title>
</cp:coreProperties>
</file>