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F3D-7AF3-464B-9155-A375EC94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906-9F35-49AA-98C0-F65B26E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52E2A-E59A-49FE-86B8-5B32A0C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D3C39-BDA4-408E-AB6E-2B28C468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0D137-BC54-422C-9AC6-CDB252C7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C089-5809-4DB4-B88F-A45BE38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A09C7-8975-4368-8B89-02462E2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0FDBF-B582-486C-8327-18D0233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998A9-87E4-45CE-9F0A-31072DD4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AE97D-A2DF-4DEB-A869-EE8196EC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732DC-4BD4-4EC2-A1F9-4750EB5F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124-A782-4DDC-8F5F-4D4FE17E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D85-11DD-46C6-AEB1-43A34A75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CC53-892B-4209-9019-5938FB78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26FF-E5DB-4467-832A-6700761D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7E5-4F19-4150-9F12-734F0109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529E-CE5E-47A0-A9C9-4358B8D9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B543-084D-457E-8487-6B37D71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532-809E-48CF-8148-DB507A95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3129-60DA-4EDF-B4D3-9DCF69B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7C2-EF50-44D5-A1CB-6077EB2E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8DFC-9ED6-4403-88D6-493AC68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8A7E-1074-42A9-8133-BB477DD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BD6-7282-44CD-9F22-63E5676A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EF48-523A-495D-9E38-403F8C44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73A5-0A5D-4038-902D-14D53913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81D9-3375-488D-8F69-6B53739F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7BB1-B609-4199-B277-8DC3D172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3E57-205D-4103-B1DB-A20468F8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250E-BBD9-46FF-8200-FF402F6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2C3C-0FB0-488D-81DF-02134EA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F5C-62A2-4228-8EF4-FB75AA2F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B439-0DF1-4633-BAB1-6865584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F9E8-3B88-47B0-BED7-7C9E25E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98C6-41D9-4175-8A97-16814A8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AAF1-6DE4-42C2-8D25-5F9D8D3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FC6A-3D7E-47BF-B83D-E9B39C10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F701-C041-4307-8609-8557DCF8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36F0-4BCE-4332-ABF5-006219B4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4AEE-73AD-4AE4-9C36-824B79FF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923C-43B7-4237-836B-7FAA870E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C0C7-BB6D-48BA-8B12-675A52D3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746-209C-401E-8740-7959434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0558-9187-4E80-9F29-573CADC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2A0B-A6BA-4FF6-A12D-58A0F78E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DE16-A740-44D9-B08B-F84F489F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FD8E-EAD5-4530-80D2-267134A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362F-C6CB-473D-B76D-C83E594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0286-D867-43F8-91F1-ADF29C5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ED0F-B9FF-45C9-9A68-4143CA28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110C-CA03-4560-A425-B763DEC6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BCE2-E0D4-444F-9E4E-2DD01DE1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0B03-6885-4E90-A28D-6457A999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0C8-B475-440A-99C4-DA520EF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8B42-9E34-4EB8-B690-65B8AB4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F3D5E-AC57-4064-B795-871A2AB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7177-2A55-4C52-BF6A-C15DC2AC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4148-3367-4AC6-B177-8191F667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A03C-395B-41C1-8A4C-7B19448B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B6DF-2417-4DB2-B458-078802C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840B-5FB6-486C-9E0D-19917C4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E5DF-6952-4841-A10B-882631C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9AC3-ECB7-4F04-A5A7-CED3E20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6CC89-EB50-4E61-A16E-B85B02AD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59E-C7C3-4051-B030-A9919B20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DE66-3B5E-4C32-86F7-BE3780C9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0FF3-E0D9-4E76-BDAC-2B9C57CB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F8C0-04A9-4AD7-BB89-0C1F039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B01A-FBCF-4633-A534-ACF8340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A311E-B9C8-4CED-8A34-4FDBB21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B3D4-FB81-4B00-A2E2-6B11D12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FADB-E463-41EC-BE2E-D629465D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94C2-A573-4AB9-8968-7217AE1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FDA7-471B-4047-9A07-FF63E36F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7F00-0F0F-4389-A79B-2525924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7F6-B570-43C8-8E9B-B418785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A6AE-1984-49C1-8998-70396EA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9F3E-3B15-44BF-A297-174C1E62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366F9-0EAC-4922-A9D1-041E64AE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B8014-327E-4E58-A759-15A11A8E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A144-7082-47CB-84BE-B00FABA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E23C-7671-4BD2-9E6A-DAD6B6F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8394-0FB1-4E24-AB83-1F98B197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A231-15FF-4F08-BB9C-93A8FEB6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D9438-D311-4530-9E5C-24B2D0DA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02A3-2AF3-4482-9CC9-48DEDE3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E9A-AD04-4376-A74D-0E658C7A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CB45-92FB-4F5E-9F31-ED2700C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F79C-09D7-4C6E-94C3-9E42FA9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8CAC8-5C2E-4A06-A4D0-DFBACFB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392C-9A6B-498D-ABDB-4F8B3E40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86DE0-6005-427A-80D8-61B887DD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25488-A759-4773-B75F-9E171F65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BA3FE-A7EE-4A2A-9F81-9B2F581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2DE5-BF30-4ADB-8A5A-453A078A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8F9A4-711C-4219-809E-E3EEC2A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0BCBD-ADD3-49D7-A8AD-ED828B0B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84E-D668-472C-AE43-E77A3CC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4564-51E1-40FF-872F-59D9626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60870-2CB0-41DD-AAED-AA68884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D37D-6985-449E-80EA-E037ADC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12CF-5B6A-4285-BC5E-3470FC3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2A761-0F65-44C5-8FC4-4D5749AC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C389F-FD57-4A40-85B3-E1C24C47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B9E29-BC35-45D2-85C2-91DA711D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7455-8AD1-4E90-AD6A-7FF21329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3D6A8-6973-426D-9EAD-4FB61AC1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340C3-55D0-4874-BCF2-96F9450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CF6B-CF35-433D-9C89-847409B18D3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EF04-0AC9-4F5F-930F-EB2F711AB150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625-0F14-4186-AE94-914A752EAEA5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B80-9DE4-492D-83DD-A82D853572A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A22A-402D-4E72-A0A8-9958037934C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E75-73C8-4834-BA5E-61E9BA9001D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460B-CD3C-4B0C-9EFD-6B6828E2548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F474-25D9-4C6D-A5E8-626CAC0DD75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D503-55CA-4AD8-B389-D114A11B601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682560" y="615960"/>
            <a:ext cx="3968640" cy="2389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OR  MARITO</a:t>
            </a:r>
            <a:endParaRPr b="0" lang="en-US" sz="4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1 Imagen" descr=""/>
          <p:cNvPicPr/>
          <p:nvPr/>
        </p:nvPicPr>
        <p:blipFill>
          <a:blip r:embed="rId1"/>
          <a:stretch/>
        </p:blipFill>
        <p:spPr>
          <a:xfrm>
            <a:off x="762120" y="47628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1 Imagen" descr=""/>
          <p:cNvPicPr/>
          <p:nvPr/>
        </p:nvPicPr>
        <p:blipFill>
          <a:blip r:embed="rId1"/>
          <a:stretch/>
        </p:blipFill>
        <p:spPr>
          <a:xfrm>
            <a:off x="1403280" y="41400"/>
            <a:ext cx="633744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1 Imagen" descr=""/>
          <p:cNvPicPr/>
          <p:nvPr/>
        </p:nvPicPr>
        <p:blipFill>
          <a:blip r:embed="rId1"/>
          <a:stretch/>
        </p:blipFill>
        <p:spPr>
          <a:xfrm>
            <a:off x="0" y="1197000"/>
            <a:ext cx="911376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Imagen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Imagen" descr=""/>
          <p:cNvPicPr/>
          <p:nvPr/>
        </p:nvPicPr>
        <p:blipFill>
          <a:blip r:embed="rId1"/>
          <a:stretch/>
        </p:blipFill>
        <p:spPr>
          <a:xfrm>
            <a:off x="395280" y="79200"/>
            <a:ext cx="8424720" cy="664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1 Imagen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1 Imagen" descr="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1 Imagen" descr=""/>
          <p:cNvPicPr/>
          <p:nvPr/>
        </p:nvPicPr>
        <p:blipFill>
          <a:blip r:embed="rId1"/>
          <a:stretch/>
        </p:blipFill>
        <p:spPr>
          <a:xfrm>
            <a:off x="468360" y="104760"/>
            <a:ext cx="820728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Imagen" descr=""/>
          <p:cNvPicPr/>
          <p:nvPr/>
        </p:nvPicPr>
        <p:blipFill>
          <a:blip r:embed="rId1"/>
          <a:stretch/>
        </p:blipFill>
        <p:spPr>
          <a:xfrm>
            <a:off x="468360" y="384120"/>
            <a:ext cx="820728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1 Imagen" descr=""/>
          <p:cNvPicPr/>
          <p:nvPr/>
        </p:nvPicPr>
        <p:blipFill>
          <a:blip r:embed="rId1"/>
          <a:stretch/>
        </p:blipFill>
        <p:spPr>
          <a:xfrm>
            <a:off x="596880" y="76320"/>
            <a:ext cx="7950240" cy="67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3 Imagen" descr=""/>
          <p:cNvPicPr/>
          <p:nvPr/>
        </p:nvPicPr>
        <p:blipFill>
          <a:blip r:embed="rId1"/>
          <a:stretch/>
        </p:blipFill>
        <p:spPr>
          <a:xfrm>
            <a:off x="1689120" y="355680"/>
            <a:ext cx="576576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1 Imagen" descr=""/>
          <p:cNvPicPr/>
          <p:nvPr/>
        </p:nvPicPr>
        <p:blipFill>
          <a:blip r:embed="rId1"/>
          <a:stretch/>
        </p:blipFill>
        <p:spPr>
          <a:xfrm>
            <a:off x="1979640" y="39600"/>
            <a:ext cx="518472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1 Imagen" descr=""/>
          <p:cNvPicPr/>
          <p:nvPr/>
        </p:nvPicPr>
        <p:blipFill>
          <a:blip r:embed="rId1"/>
          <a:stretch/>
        </p:blipFill>
        <p:spPr>
          <a:xfrm>
            <a:off x="468360" y="104760"/>
            <a:ext cx="820728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Imagen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92000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Imagen" descr="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1 Imagen" descr=""/>
          <p:cNvPicPr/>
          <p:nvPr/>
        </p:nvPicPr>
        <p:blipFill>
          <a:blip r:embed="rId1"/>
          <a:stretch/>
        </p:blipFill>
        <p:spPr>
          <a:xfrm>
            <a:off x="1187280" y="31680"/>
            <a:ext cx="676944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1 Imagen" descr=""/>
          <p:cNvPicPr/>
          <p:nvPr/>
        </p:nvPicPr>
        <p:blipFill>
          <a:blip r:embed="rId1"/>
          <a:stretch/>
        </p:blipFill>
        <p:spPr>
          <a:xfrm>
            <a:off x="1523880" y="19044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Imagen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54208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1 Imagen" descr="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Imagen" descr=""/>
          <p:cNvPicPr/>
          <p:nvPr/>
        </p:nvPicPr>
        <p:blipFill>
          <a:blip r:embed="rId1"/>
          <a:stretch/>
        </p:blipFill>
        <p:spPr>
          <a:xfrm>
            <a:off x="1477800" y="109440"/>
            <a:ext cx="6262920" cy="65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1 Imagen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9776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Imagen" descr=""/>
          <p:cNvPicPr/>
          <p:nvPr/>
        </p:nvPicPr>
        <p:blipFill>
          <a:blip r:embed="rId1"/>
          <a:stretch/>
        </p:blipFill>
        <p:spPr>
          <a:xfrm>
            <a:off x="127080" y="272880"/>
            <a:ext cx="8889840" cy="631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Imagen" descr=""/>
          <p:cNvPicPr/>
          <p:nvPr/>
        </p:nvPicPr>
        <p:blipFill>
          <a:blip r:embed="rId1"/>
          <a:stretch/>
        </p:blipFill>
        <p:spPr>
          <a:xfrm>
            <a:off x="1332000" y="27000"/>
            <a:ext cx="6480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1 Imagen" descr=""/>
          <p:cNvPicPr/>
          <p:nvPr/>
        </p:nvPicPr>
        <p:blipFill>
          <a:blip r:embed="rId1"/>
          <a:stretch/>
        </p:blipFill>
        <p:spPr>
          <a:xfrm>
            <a:off x="387360" y="115920"/>
            <a:ext cx="836928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1 Imagen" descr=""/>
          <p:cNvPicPr/>
          <p:nvPr/>
        </p:nvPicPr>
        <p:blipFill>
          <a:blip r:embed="rId1"/>
          <a:stretch/>
        </p:blipFill>
        <p:spPr>
          <a:xfrm>
            <a:off x="293760" y="0"/>
            <a:ext cx="85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7080" y="260280"/>
            <a:ext cx="88898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1 Imagen" descr=""/>
          <p:cNvPicPr/>
          <p:nvPr/>
        </p:nvPicPr>
        <p:blipFill>
          <a:blip r:embed="rId1"/>
          <a:stretch/>
        </p:blipFill>
        <p:spPr>
          <a:xfrm>
            <a:off x="1717560" y="0"/>
            <a:ext cx="570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Imagen" descr=""/>
          <p:cNvPicPr/>
          <p:nvPr/>
        </p:nvPicPr>
        <p:blipFill>
          <a:blip r:embed="rId1"/>
          <a:stretch/>
        </p:blipFill>
        <p:spPr>
          <a:xfrm>
            <a:off x="1392120" y="44280"/>
            <a:ext cx="642780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1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200640" cy="66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1 Imagen" descr=""/>
          <p:cNvPicPr/>
          <p:nvPr/>
        </p:nvPicPr>
        <p:blipFill>
          <a:blip r:embed="rId1"/>
          <a:stretch/>
        </p:blipFill>
        <p:spPr>
          <a:xfrm>
            <a:off x="1247760" y="0"/>
            <a:ext cx="664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20:58:40Z</dcterms:created>
  <dc:creator>Mario</dc:creator>
  <dc:description/>
  <dc:language>en-US</dc:language>
  <cp:lastModifiedBy>Viktor Brandt</cp:lastModifiedBy>
  <dcterms:modified xsi:type="dcterms:W3CDTF">2014-01-21T22:40:50Z</dcterms:modified>
  <cp:revision>8</cp:revision>
  <dc:subject/>
  <dc:title>Presentación de PowerPoint</dc:title>
</cp:coreProperties>
</file>