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Ernesto%20Cortizar%20-%20Autun%20rose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900-BD5A-4560-B01F-10158B23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D6E-3037-4F2D-BBC6-AFF65A7D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9C7-3976-49AD-9FE5-693949D5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A4E-1122-491A-B981-4515A5D2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C55-D394-4BED-A50B-13297163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D9F-801A-458E-A3DA-B384A66E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B76-4B21-48E3-8137-504D1E9C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CC8-5DF8-422E-9FFA-9F139FC7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371-AEE2-4927-88CF-8FD8D82B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CA3-7A3A-428C-B2AB-EB4BD8C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01C-EB7F-40A3-93D8-3CFD19FD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5AC-B778-4C2E-829B-5D75F199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A5C7-9018-43C9-AE3D-06441CE5CD4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izar%20-%20Autun%20ro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98100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comic"/>
              </a:rPr>
              <a:t>SÉRIE  ARTE/REFLEX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78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comic"/>
              </a:rPr>
              <a:t>  </a:t>
            </a:r>
            <a:r>
              <a:rPr b="1" lang="pt-BR" sz="3200" spc="-1" strike="noStrike">
                <a:solidFill>
                  <a:srgbClr val="ffff99"/>
                </a:solidFill>
                <a:latin typeface="comic"/>
              </a:rPr>
              <a:t>BELlAS  CASCADAS  DEL 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994200"/>
            <a:ext cx="896472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ecff"/>
                </a:solidFill>
                <a:latin typeface="Arial"/>
              </a:rPr>
              <a:t>MÚSICA: Ernesto Corta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ec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ecff"/>
                </a:solidFill>
                <a:latin typeface="Arial"/>
              </a:rPr>
              <a:t>TEXTO: Roberto Shinyash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ecff"/>
                </a:solidFill>
                <a:latin typeface="Arial"/>
              </a:rPr>
              <a:t>(La Conciencia de su Misió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844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ARTE DE IMAGENES, ARTE MUSICAL Y ARTE DEL PENS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159680" cy="537516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2"/>
          <p:cNvSpPr/>
          <p:nvPr/>
        </p:nvSpPr>
        <p:spPr>
          <a:xfrm>
            <a:off x="1116000" y="692280"/>
            <a:ext cx="41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Forêt nationale Umpqua , Oregon, 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96016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ecff"/>
                </a:solidFill>
                <a:latin typeface="Arial"/>
              </a:rPr>
              <a:t>Nuestras acciones, especialmente cuando tenemos 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ccecff"/>
                </a:solidFill>
                <a:latin typeface="Arial"/>
              </a:rPr>
              <a:t>superarnos, hacen de nosotros personas mej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ffffff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396200" cy="555300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2"/>
          <p:cNvSpPr/>
          <p:nvPr/>
        </p:nvSpPr>
        <p:spPr>
          <a:xfrm>
            <a:off x="4211640" y="692280"/>
            <a:ext cx="53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Chutes  Cathédral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Virginie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5793120"/>
            <a:ext cx="86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Nuestra capacidad de resistir a las tentaciones, a los desánimos para continuar el camino, es  lo que nos torna personas especi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52652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2"/>
          <p:cNvSpPr/>
          <p:nvPr/>
        </p:nvSpPr>
        <p:spPr>
          <a:xfrm>
            <a:off x="900000" y="47628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Chutes  rivière Columb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Orégon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96016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ecff"/>
                </a:solidFill>
                <a:latin typeface="Arial"/>
              </a:rPr>
              <a:t>Nadie vino a esta vida con la misión de juntar dinero y comer de lo bueno y de lo mej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247160" cy="5442120"/>
          </a:xfrm>
          <a:prstGeom prst="rect">
            <a:avLst/>
          </a:prstGeom>
          <a:ln w="0">
            <a:noFill/>
          </a:ln>
        </p:spPr>
      </p:pic>
      <p:sp>
        <p:nvSpPr>
          <p:cNvPr id="75" name="ZoneTexte 2"/>
          <p:cNvSpPr/>
          <p:nvPr/>
        </p:nvSpPr>
        <p:spPr>
          <a:xfrm>
            <a:off x="4716360" y="4653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awtooth, Idaho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9601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Ganar dinero y alimentarse es parte de la vida, pero no puede ser la razón de la vi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cc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 1" descr="Dreamland, Havasu Falls, Grand Canyon, Arizona.jpg"/>
          <p:cNvPicPr/>
          <p:nvPr/>
        </p:nvPicPr>
        <p:blipFill>
          <a:blip r:embed="rId1"/>
          <a:stretch/>
        </p:blipFill>
        <p:spPr>
          <a:xfrm>
            <a:off x="971640" y="333360"/>
            <a:ext cx="6913440" cy="4807080"/>
          </a:xfrm>
          <a:prstGeom prst="rect">
            <a:avLst/>
          </a:prstGeom>
          <a:ln w="0">
            <a:noFill/>
          </a:ln>
        </p:spPr>
      </p:pic>
      <p:sp>
        <p:nvSpPr>
          <p:cNvPr id="78" name="ZoneTexte 2"/>
          <p:cNvSpPr/>
          <p:nvPr/>
        </p:nvSpPr>
        <p:spPr>
          <a:xfrm>
            <a:off x="4140360" y="69228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hutes Havasu, Grand Canyon, Arizona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5163120"/>
            <a:ext cx="89647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ccff"/>
                </a:solidFill>
                <a:latin typeface="Arial"/>
              </a:rPr>
              <a:t>Tengo  la certeza de que personas como Martin Luther King, Mahatma Ghandi, Nelson Mandela, Madre Teresa de Calcuta, Irmã Dulce, Betinho y tantas otras anónimas, que lucharon y luchan par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ccff"/>
                </a:solidFill>
                <a:latin typeface="Arial"/>
              </a:rPr>
              <a:t>mejorar la vida de los más débiles y de los más pobres, no estab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pt-BR" sz="2100" spc="-1" strike="noStrike">
                <a:solidFill>
                  <a:srgbClr val="ffccff"/>
                </a:solidFill>
                <a:latin typeface="Arial"/>
              </a:rPr>
              <a:t>motivadas por la idea de ganar dine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2"/>
          <p:cNvSpPr/>
          <p:nvPr/>
        </p:nvSpPr>
        <p:spPr>
          <a:xfrm>
            <a:off x="1476360" y="2781360"/>
            <a:ext cx="56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ff"/>
                </a:solidFill>
                <a:latin typeface="Calibri"/>
              </a:rPr>
              <a:t>Chutes El Nicho, Sierra de Trinidad, Cu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6983640" cy="5239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80428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ecff"/>
                </a:solidFill>
                <a:latin typeface="Arial"/>
              </a:rPr>
              <a:t>¿Qué mueve a esas personas generosas a trabajar diariamente, a no desistir nunca?</a:t>
            </a:r>
            <a:r>
              <a:rPr b="0" lang="pt-BR" sz="2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cc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577200" cy="493236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2"/>
          <p:cNvSpPr/>
          <p:nvPr/>
        </p:nvSpPr>
        <p:spPr>
          <a:xfrm>
            <a:off x="1619280" y="765000"/>
            <a:ext cx="46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hutes  les 4 Cascades, Jama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4416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La respuesta es una sol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la conciencia de su misión en esta vi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cce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1042920" y="1125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Chutes Golden, Ice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642640"/>
            <a:ext cx="89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Cuando tienes conciencia de que a través de tu tr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estás realizando tu misión, desenvuelves una fuerza extra, capaz de llevarte a la cima de la montaña más alta del Plan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ccec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490160" cy="545472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2"/>
          <p:cNvSpPr/>
          <p:nvPr/>
        </p:nvSpPr>
        <p:spPr>
          <a:xfrm>
            <a:off x="1258920" y="260280"/>
            <a:ext cx="40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Chutes Iguassu, Bré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5648760"/>
            <a:ext cx="86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Infelizmente, mucha gente se pierde en este viaje y distorsi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el sentido de su existencia pensando que acumular bienes materiales es el objetivo de la vi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cc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345440" cy="540072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2"/>
          <p:cNvSpPr/>
          <p:nvPr/>
        </p:nvSpPr>
        <p:spPr>
          <a:xfrm>
            <a:off x="1258920" y="907920"/>
            <a:ext cx="35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Calibri"/>
              </a:rPr>
              <a:t>Chutes Kentucky, Orégon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88852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Y cuando llega al final del camino, percibe que sólo va poder llevarse de aquí, el bien que hizo a los demá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47720" y="606240"/>
            <a:ext cx="7785000" cy="55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Obras de la Naturaleza, como las grandes cascadas,  en su belleza, magnitud y fuerza, nos llevan a la meditación sobre nuestras vidas, nuestro destino, razón de estar y vivir en este Planeta.  Tenemos una conciencia; no hay duda y también una misió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Roberto Shinyashiki nos presenta un  texto con mucha sabiduría sobre este tema. La belleza de las cascadas y  el fondo musical de Ernesto Cortazar crean un  ambiente propício a la meditación sobre el mism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Entonces veamos....</a:t>
            </a:r>
            <a:r>
              <a:rPr b="1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Monotype Corsiva"/>
              </a:rPr>
              <a:t>J. MEIR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ccec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777440" cy="550872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2"/>
          <p:cNvSpPr/>
          <p:nvPr/>
        </p:nvSpPr>
        <p:spPr>
          <a:xfrm>
            <a:off x="4427640" y="692280"/>
            <a:ext cx="40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                        </a:t>
            </a: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Parc Lithia, Orégon, 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8154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ecff"/>
                </a:solidFill>
                <a:latin typeface="Arial"/>
              </a:rPr>
              <a:t>Si tienes angustia sin motivo aparente, está ahí un aviso para parar y reflexionar sobre tu estilo de vi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ff9900"/>
            </a:gs>
            <a:gs pos="100000">
              <a:srgbClr val="00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985080" cy="523908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2"/>
          <p:cNvSpPr/>
          <p:nvPr/>
        </p:nvSpPr>
        <p:spPr>
          <a:xfrm>
            <a:off x="1619280" y="134136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ffffff"/>
                </a:solidFill>
                <a:latin typeface="Calibri"/>
              </a:rPr>
              <a:t>Chutes Niagara, Ontario,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60393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00"/>
                </a:solidFill>
                <a:latin typeface="Arial"/>
              </a:rPr>
              <a:t>Escucha a tu alma: ella tiene la orientación sobre cual es 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3300"/>
                </a:solidFill>
                <a:latin typeface="Arial"/>
              </a:rPr>
              <a:t>camino que debes segu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ccec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490160" cy="561672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2"/>
          <p:cNvSpPr/>
          <p:nvPr/>
        </p:nvSpPr>
        <p:spPr>
          <a:xfrm>
            <a:off x="1547640" y="692280"/>
            <a:ext cx="52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hutes Russell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Tasmania, Austral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596016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Todo en la vida es una invitación para el avance y la conquista de valores en la armonía y en la gloria del bi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ccec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417080" cy="556272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2"/>
          <p:cNvSpPr/>
          <p:nvPr/>
        </p:nvSpPr>
        <p:spPr>
          <a:xfrm>
            <a:off x="1116000" y="549360"/>
            <a:ext cx="55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utes Tahquamenon, Michigan, 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87592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Que tengas una linda semana!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Un gran abrazo!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98100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FORMATAÇÃO  INICIAL: Roberto Shinyash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3429000"/>
            <a:ext cx="7416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ecff"/>
                </a:solidFill>
                <a:latin typeface="Arial"/>
              </a:rPr>
              <a:t>MÚSICA: Ernesto Cortazar – Autumn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ecff"/>
                </a:solidFill>
                <a:latin typeface="Arial"/>
              </a:rPr>
              <a:t>TEXTO: </a:t>
            </a:r>
            <a:r>
              <a:rPr b="1" lang="pt-BR" sz="18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1" lang="pt-BR" sz="2400" spc="-1" strike="noStrike">
                <a:solidFill>
                  <a:srgbClr val="ccecff"/>
                </a:solidFill>
                <a:latin typeface="Arial"/>
              </a:rPr>
              <a:t>Roberto Shinyash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ccec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182000" cy="539136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2"/>
          <p:cNvSpPr/>
          <p:nvPr/>
        </p:nvSpPr>
        <p:spPr>
          <a:xfrm>
            <a:off x="395280" y="587700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ecff"/>
                </a:solidFill>
                <a:latin typeface="Arial"/>
              </a:rPr>
              <a:t>Frecuentemente, me pregun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1" lang="pt-BR" sz="2200" spc="-1" strike="noStrike">
                <a:solidFill>
                  <a:srgbClr val="ccecff"/>
                </a:solidFill>
                <a:latin typeface="Arial"/>
              </a:rPr>
              <a:t>Qué es lo que cada uno de nosotros está haciendo en este Planeta?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ccec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324920" cy="547848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2"/>
          <p:cNvSpPr/>
          <p:nvPr/>
        </p:nvSpPr>
        <p:spPr>
          <a:xfrm>
            <a:off x="1908000" y="47628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utes Burney, Californie, 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ecff"/>
                </a:solidFill>
                <a:latin typeface="Arial"/>
              </a:rPr>
              <a:t>¿Es la vida solamente intentar aprovechar al máximo po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ccecff"/>
                </a:solidFill>
                <a:latin typeface="Arial"/>
              </a:rPr>
              <a:t>las horas y minut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ccec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466040" cy="5602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9280" y="60393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Tengo  la certeza de que existe un sentido mejor en todo l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que vivim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932880" cy="521676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2"/>
          <p:cNvSpPr/>
          <p:nvPr/>
        </p:nvSpPr>
        <p:spPr>
          <a:xfrm>
            <a:off x="4427640" y="54936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Chutes Blue Nile, Éthio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9601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Para mi, nuestra venida al planeta Tierra tiene básicamente 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motivos: evolucionar espiritualmente y aprender a amar mej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432560" cy="557676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"/>
          <p:cNvSpPr/>
          <p:nvPr/>
        </p:nvSpPr>
        <p:spPr>
          <a:xfrm>
            <a:off x="2987640" y="620640"/>
            <a:ext cx="46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hutes Burgess Falls, Tennessee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0948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ffcc"/>
                </a:solidFill>
                <a:latin typeface="Arial"/>
              </a:rPr>
              <a:t>Todos nuestros bienes en verdad no son nuestr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ffcc"/>
                </a:solidFill>
                <a:latin typeface="Arial"/>
              </a:rPr>
              <a:t>Somos apenas nuestras al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108920" cy="534024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2"/>
          <p:cNvSpPr/>
          <p:nvPr/>
        </p:nvSpPr>
        <p:spPr>
          <a:xfrm>
            <a:off x="2843280" y="549360"/>
            <a:ext cx="46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hutes Burgess Falls, Tennessee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59601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Y debemos aprovechar todas las oportunidades que la vi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nos da para mejorarnos como personas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50000">
              <a:srgbClr val="ffffff"/>
            </a:gs>
            <a:gs pos="100000">
              <a:srgbClr val="1c1c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16720" cy="528804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2"/>
          <p:cNvSpPr/>
          <p:nvPr/>
        </p:nvSpPr>
        <p:spPr>
          <a:xfrm>
            <a:off x="1187280" y="620640"/>
            <a:ext cx="500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Chutes Burne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Californie, 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564084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Por tanto, recuerda siempre que tus fracasos son siempre los mejores profesores y es en los momentos difíciles cuando l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personas precisan encontrar una razón para continuar al fr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21:57:54Z</dcterms:created>
  <dc:creator>Jose Meirelles</dc:creator>
  <dc:description/>
  <dc:language>en-US</dc:language>
  <cp:lastModifiedBy>FER</cp:lastModifiedBy>
  <dcterms:modified xsi:type="dcterms:W3CDTF">2009-04-16T20:58:09Z</dcterms:modified>
  <cp:revision>28</cp:revision>
  <dc:subject/>
  <dc:title>Slide 1</dc:title>
</cp:coreProperties>
</file>