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artist%20-%20Track%202.wav" ContentType="audio/x-wav"/>
  <Override PartName="/ppt/media/image21.jpeg" ContentType="image/jpeg"/>
  <Override PartName="/ppt/media/image17.gif" ContentType="image/gif"/>
  <Override PartName="/ppt/media/image2.jpeg" ContentType="image/jpeg"/>
  <Override PartName="/ppt/media/image14.jpeg" ContentType="image/jpeg"/>
  <Override PartName="/ppt/media/image13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E575-7355-41E0-A7F2-64AC2AEC7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66C2-CA82-465B-8988-A70C41C7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B64F-6DB4-49C1-8AD4-9DFC74BFD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2E63-A344-4EDD-841F-F442B0775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F917-AD0E-4835-88D5-1B757B52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DEDE-FE13-4ADA-8F1D-E036E794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F74A-9EF1-4F8D-8309-4DB4BA81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47F1-8F29-4F58-87AE-E7F61810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D811-8227-471B-BED6-AAEB8999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3530-C23B-40A8-83E3-31073CA2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C037-5B89-4F5D-A6A4-BEAAD15A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4D9A-01EF-4FEA-90F2-BA4D6B4D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48C8-EEE2-41D8-9C84-8B25C6B5DE1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rtist%20-%20Track%202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5614920" y="400536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or: </a:t>
            </a:r>
            <a:r>
              <a:rPr b="1" lang="pt-BR" sz="2400" spc="-1" strike="noStrike">
                <a:solidFill>
                  <a:srgbClr val="ffffff"/>
                </a:solidFill>
                <a:latin typeface="Blackadder ITC"/>
              </a:rPr>
              <a:t>Geoffrey Hoppe y Tobías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crystali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2"/>
          <p:cNvSpPr/>
          <p:nvPr/>
        </p:nvSpPr>
        <p:spPr>
          <a:xfrm>
            <a:off x="10360800" y="5929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99ff"/>
                </a:solidFill>
                <a:latin typeface="Arial"/>
              </a:rPr>
              <a:t>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13"/>
          <p:cNvSpPr txBox="1"/>
          <p:nvPr/>
        </p:nvSpPr>
        <p:spPr>
          <a:xfrm>
            <a:off x="108000" y="5300640"/>
            <a:ext cx="8785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act"/>
              </a:rPr>
              <a:t>Los Doce Síntomas del  Despertar Divin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act"/>
              <a:ea typeface="Impact"/>
            </a:endParaRPr>
          </a:p>
        </p:txBody>
      </p:sp>
    </p:spTree>
  </p:cSld>
  <p:transition spd="slow" advTm="15000">
    <p:zoom dir="out"/>
    <p:sndAc>
      <p:stSnd>
        <p:snd r:embed="rId2" name="artist%20-%20Track%202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5"/>
          <p:cNvSpPr/>
          <p:nvPr/>
        </p:nvSpPr>
        <p:spPr>
          <a:xfrm>
            <a:off x="179280" y="2708280"/>
            <a:ext cx="5651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Incremento de la "auto conversación". Con mayor frecuencia te vas a encontrar hablando contigo mismo. De pronto te das cuenta que llevas media hora de conversación contigo mismo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Auror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7"/>
          <p:cNvSpPr/>
          <p:nvPr/>
        </p:nvSpPr>
        <p:spPr>
          <a:xfrm>
            <a:off x="179280" y="4630680"/>
            <a:ext cx="896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Incremento de la "auto conversación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Con mayor frecuencia te vas a encontr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hablando contigo mism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De pronto te das cuenta que llevas media hora de conversación contigo mismo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newsflash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75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75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galadriel"/>
          <p:cNvPicPr/>
          <p:nvPr/>
        </p:nvPicPr>
        <p:blipFill>
          <a:blip r:embed="rId1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8"/>
          <p:cNvSpPr/>
          <p:nvPr/>
        </p:nvSpPr>
        <p:spPr>
          <a:xfrm>
            <a:off x="0" y="692280"/>
            <a:ext cx="4427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Se está dando un nuevo nivel de comunicación dentro de tu ser y estás experimentando la punta del iceberg con la auto convers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Las charlas se incrementarán y serán más fluidas, más coherentes y más intuitiv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No te estás volviendo loco, simplemente eres Shaumbra trasladándote a la nueva ener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Galadriel__a"/>
          <p:cNvPicPr/>
          <p:nvPr/>
        </p:nvPicPr>
        <p:blipFill>
          <a:blip r:embed="rId2"/>
          <a:stretch/>
        </p:blipFill>
        <p:spPr>
          <a:xfrm>
            <a:off x="4284720" y="0"/>
            <a:ext cx="49417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1000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1" descr="fine_lovelose"/>
          <p:cNvPicPr/>
          <p:nvPr/>
        </p:nvPicPr>
        <p:blipFill>
          <a:blip r:embed="rId1"/>
          <a:stretch/>
        </p:blipFill>
        <p:spPr>
          <a:xfrm>
            <a:off x="0" y="0"/>
            <a:ext cx="9252000" cy="69580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2"/>
          <p:cNvSpPr/>
          <p:nvPr/>
        </p:nvSpPr>
        <p:spPr>
          <a:xfrm>
            <a:off x="0" y="0"/>
            <a:ext cx="56516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Sentimientos de soleda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incluso en compañía de otros. Puedes sentirte solo y aisl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de los demá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Puedes sentir el dese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de "huir" de grup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y multitud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estás recorrien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un camino sagrado y solitari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Por mucho que los sentimientos de soledad te causen ansiedad, es difícil que en este momento puedas relacionarte con los demás.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6000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Twin-Hearts-5x7"/>
          <p:cNvPicPr/>
          <p:nvPr/>
        </p:nvPicPr>
        <p:blipFill>
          <a:blip r:embed="rId1"/>
          <a:stretch/>
        </p:blipFill>
        <p:spPr>
          <a:xfrm>
            <a:off x="0" y="0"/>
            <a:ext cx="9325080" cy="7101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7"/>
          <p:cNvSpPr/>
          <p:nvPr/>
        </p:nvSpPr>
        <p:spPr>
          <a:xfrm>
            <a:off x="250920" y="189000"/>
            <a:ext cx="633708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Los sentimientos de soledad están también asociados c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el hecho de que 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Guías se han i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Han est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contigo 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todos 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viajes, 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todas tus vid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Era tiempo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que se retirar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para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puedas llenar 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espacio con 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propia divini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El vacío interior se llenará con el amor y la energía de tu nueva conciencia Crística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Imagen 37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7"/>
          <p:cNvSpPr/>
          <p:nvPr/>
        </p:nvSpPr>
        <p:spPr>
          <a:xfrm>
            <a:off x="3635280" y="193680"/>
            <a:ext cx="5508720" cy="67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Pérdida del entusiasmo. Puedes sentirte totalmente desapasionado, con escaso o ningún deseo de hacer na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Está bien y es parte del proceso. Tómate este tiempo para el "NO-hacer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No luches contigo mismo por ello, porque también pasará. Es similar a volver a arrancar la computado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Necesitas apagarla un momento para que pueda cargar ese nuevo y sofisticado programa o, en este caso, la energía de la nueva semilla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Crís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5000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Imagen 265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8"/>
          <p:cNvSpPr/>
          <p:nvPr/>
        </p:nvSpPr>
        <p:spPr>
          <a:xfrm>
            <a:off x="179280" y="4292640"/>
            <a:ext cx="89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12.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Un profundo anhelo de regresar a Casa. Tal vez sea ésta la más difícil y desafiante de todas las condiciones. Puedes experimentar un profundo y abrumador deseo de abandonar el planeta y regresar a Ca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No es éste un sentimiento "suicida". No se basa en la cólera o la frustración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6000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!cid_006e01c56e1c$c5664240$1fbf4741@oemcomputer"/>
          <p:cNvPicPr/>
          <p:nvPr/>
        </p:nvPicPr>
        <p:blipFill>
          <a:blip r:embed="rId1"/>
          <a:stretch/>
        </p:blipFill>
        <p:spPr>
          <a:xfrm>
            <a:off x="4500720" y="0"/>
            <a:ext cx="466236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9"/>
          <p:cNvSpPr/>
          <p:nvPr/>
        </p:nvSpPr>
        <p:spPr>
          <a:xfrm>
            <a:off x="4716360" y="189000"/>
            <a:ext cx="44276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No le des excesiva importancia ni hagas un drama, para ti o para los demá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Hay una silenciosa parte de ti mismo que quiere ir a Ca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La causa original de esto es bien simple. Ya has completado tus ciclos karmáticos. Ya cumpliste el contrato de esta vi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Estás listo para iniciar una nueva vida, mientras estás todavía en tu cuerpo físico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" descr="!cid_006e01c56e1c$c5664240$1fbf4741@oemcomputer_a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9000">
    <p:split dir="in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8" descr="1620888023"/>
          <p:cNvPicPr/>
          <p:nvPr/>
        </p:nvPicPr>
        <p:blipFill>
          <a:blip r:embed="rId1"/>
          <a:stretch/>
        </p:blipFill>
        <p:spPr>
          <a:xfrm>
            <a:off x="3348000" y="836640"/>
            <a:ext cx="5689800" cy="42814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193680"/>
            <a:ext cx="8497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ff"/>
                </a:solidFill>
                <a:latin typeface="Arial"/>
              </a:rPr>
              <a:t>Durante este proceso de transició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ff"/>
                </a:solidFill>
                <a:latin typeface="Arial"/>
              </a:rPr>
              <a:t>tienes reminiscenci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ff"/>
                </a:solidFill>
                <a:latin typeface="Arial"/>
              </a:rPr>
              <a:t>interiores de cóm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ff"/>
                </a:solidFill>
                <a:latin typeface="Arial"/>
              </a:rPr>
              <a:t>es estar del otro l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ff"/>
                </a:solidFill>
                <a:latin typeface="Arial"/>
              </a:rPr>
              <a:t>¿Estás preparado pa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ff"/>
                </a:solidFill>
                <a:latin typeface="Arial"/>
              </a:rPr>
              <a:t>alistarte en otra jorn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ff"/>
                </a:solidFill>
                <a:latin typeface="Arial"/>
              </a:rPr>
              <a:t>de servicio aquí en la tierr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ff"/>
                </a:solidFill>
                <a:latin typeface="Arial"/>
              </a:rPr>
              <a:t>¿Estás preparado pa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ff"/>
                </a:solidFill>
                <a:latin typeface="Arial"/>
              </a:rPr>
              <a:t>aceptar los retos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ff"/>
                </a:solidFill>
                <a:latin typeface="Arial"/>
              </a:rPr>
              <a:t>trasladarte a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ff"/>
                </a:solidFill>
                <a:latin typeface="Arial"/>
              </a:rPr>
              <a:t>Nueva Energí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ff"/>
                </a:solidFill>
                <a:latin typeface="Arial"/>
              </a:rPr>
              <a:t>Sí, por supues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ff"/>
                </a:solidFill>
                <a:latin typeface="Arial"/>
              </a:rPr>
              <a:t>que podrías ir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ff"/>
                </a:solidFill>
                <a:latin typeface="Arial"/>
              </a:rPr>
              <a:t>a Casa ahora mism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ff"/>
                </a:solidFill>
                <a:latin typeface="Arial"/>
              </a:rPr>
              <a:t>Pero has lleg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ff"/>
                </a:solidFill>
                <a:latin typeface="Arial"/>
              </a:rPr>
              <a:t>hasta aquí y después de muchas, muchas vidas, sería una lástima marcharse antes de que termine la pelíc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8" descr="el encuentro"/>
          <p:cNvPicPr/>
          <p:nvPr/>
        </p:nvPicPr>
        <p:blipFill>
          <a:blip r:embed="rId1"/>
          <a:stretch/>
        </p:blipFill>
        <p:spPr>
          <a:xfrm>
            <a:off x="3780000" y="620640"/>
            <a:ext cx="5148000" cy="3861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9"/>
          <p:cNvSpPr/>
          <p:nvPr/>
        </p:nvSpPr>
        <p:spPr>
          <a:xfrm>
            <a:off x="0" y="0"/>
            <a:ext cx="8964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Arial"/>
              </a:rPr>
              <a:t>Además, el Espíritu te necesita aquí para ayudar a otros a hacer la transi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Arial"/>
              </a:rPr>
              <a:t>a la nueva energí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Arial"/>
              </a:rPr>
              <a:t>Van a necesitar u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Arial"/>
              </a:rPr>
              <a:t>guía humano, exactam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Arial"/>
              </a:rPr>
              <a:t>como tu, que ha hec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Arial"/>
              </a:rPr>
              <a:t>el viaje de la vie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Arial"/>
              </a:rPr>
              <a:t>Energía  a la nuev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Arial"/>
              </a:rPr>
              <a:t>El sendero que en es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Arial"/>
              </a:rPr>
              <a:t>momento recor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Arial"/>
              </a:rPr>
              <a:t>te proporciona l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Arial"/>
              </a:rPr>
              <a:t>experiencias que te capacitará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Arial"/>
              </a:rPr>
              <a:t>para convertirte en Maestro del Nuevo Humano Divi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Arial"/>
              </a:rPr>
              <a:t>Por solitario y oscuro que sea a veces tu viaje, recuerda que nunca estás solo.</a:t>
            </a:r>
            <a:r>
              <a:rPr b="0" lang="es-E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9" descr="f2610024790"/>
          <p:cNvPicPr/>
          <p:nvPr/>
        </p:nvPicPr>
        <p:blipFill>
          <a:blip r:embed="rId1"/>
          <a:stretch/>
        </p:blipFill>
        <p:spPr>
          <a:xfrm>
            <a:off x="4067280" y="981000"/>
            <a:ext cx="4897440" cy="50929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0"/>
          <p:cNvSpPr/>
          <p:nvPr/>
        </p:nvSpPr>
        <p:spPr>
          <a:xfrm>
            <a:off x="0" y="19368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ff"/>
                </a:solidFill>
                <a:latin typeface="Arial"/>
              </a:rPr>
              <a:t>Mi Agrademiento eterno, a los que siempre han estado ahi, en los buenos y en los malos mom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ff"/>
                </a:solidFill>
                <a:latin typeface="Arial"/>
              </a:rPr>
              <a:t>Que  han sido autentic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ff"/>
                </a:solidFill>
                <a:latin typeface="Arial"/>
              </a:rPr>
              <a:t>amorosos, y  conscient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ff"/>
                </a:solidFill>
                <a:latin typeface="Arial"/>
              </a:rPr>
              <a:t>de que la verdad 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ff"/>
                </a:solidFill>
                <a:latin typeface="Arial"/>
              </a:rPr>
              <a:t>manifiesta, siempre pa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ff"/>
                </a:solidFill>
                <a:latin typeface="Arial"/>
              </a:rPr>
              <a:t>el corazon que 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ff"/>
                </a:solidFill>
                <a:latin typeface="Arial"/>
              </a:rPr>
              <a:t>despier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ff"/>
                </a:solidFill>
                <a:latin typeface="Arial"/>
              </a:rPr>
              <a:t>Que la luz ilu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ff"/>
                </a:solidFill>
                <a:latin typeface="Arial"/>
              </a:rPr>
              <a:t>siempre nuestro cam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ff"/>
                </a:solidFill>
                <a:latin typeface="Arial"/>
              </a:rPr>
              <a:t>Que el Amor sea siemp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ff"/>
                </a:solidFill>
                <a:latin typeface="Arial"/>
              </a:rPr>
              <a:t>nuestra gu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ff"/>
                </a:solidFill>
                <a:latin typeface="Arial"/>
              </a:rPr>
              <a:t>Para la manifestacion  del servicio al Plan Divino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4606920" y="404640"/>
            <a:ext cx="4537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99"/>
                </a:solidFill>
                <a:latin typeface="Arial"/>
              </a:rPr>
              <a:t>Dolores y malestares físicos, especialmente en el cuello, hombros y espal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99"/>
                </a:solidFill>
                <a:latin typeface="Arial"/>
              </a:rPr>
              <a:t>Esto es el resultado de intensos cambios en tu nivel de ADN, al despertar tu semilla Crística interi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kun1"/>
          <p:cNvPicPr/>
          <p:nvPr/>
        </p:nvPicPr>
        <p:blipFill>
          <a:blip r:embed="rId1"/>
          <a:stretch/>
        </p:blipFill>
        <p:spPr>
          <a:xfrm>
            <a:off x="324000" y="549360"/>
            <a:ext cx="4235400" cy="581328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zoom dir="in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3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5"/>
          <p:cNvSpPr/>
          <p:nvPr/>
        </p:nvSpPr>
        <p:spPr>
          <a:xfrm>
            <a:off x="4643280" y="189000"/>
            <a:ext cx="4500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660066"/>
                </a:solidFill>
                <a:latin typeface="Arial"/>
              </a:rPr>
              <a:t>2. </a:t>
            </a:r>
            <a:r>
              <a:rPr b="1" i="1" lang="es-ES" sz="2400" spc="-1" strike="noStrike">
                <a:solidFill>
                  <a:srgbClr val="660066"/>
                </a:solidFill>
                <a:latin typeface="Arial"/>
              </a:rPr>
              <a:t>Sentimientos de profunda tristeza sin razón aparente. Estás liberando tu pasado (ésta y otras vidas) y esto causa un sentimiento de tristez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660066"/>
                </a:solidFill>
                <a:latin typeface="Arial"/>
              </a:rPr>
              <a:t>Es similar a la experiencia de cambiarse de una casa en la que has vivido muchos, muchos años, a una nueva. Por mucho que desees cambiarte a la nueva casa, se siente la tristeza de dejar atrás los recuerdos, la energía y las experiencias de la que dejas.</a:t>
            </a: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670713057_1d7cb3aaf1"/>
          <p:cNvPicPr/>
          <p:nvPr/>
        </p:nvPicPr>
        <p:blipFill>
          <a:blip r:embed="rId1"/>
          <a:stretch/>
        </p:blipFill>
        <p:spPr>
          <a:xfrm>
            <a:off x="0" y="0"/>
            <a:ext cx="46162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wheel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3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3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4946760" y="260280"/>
            <a:ext cx="41972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669900"/>
                </a:solidFill>
                <a:latin typeface="Arial"/>
              </a:rPr>
              <a:t>3. </a:t>
            </a:r>
            <a:r>
              <a:rPr b="1" i="1" lang="es-ES" sz="3200" spc="-1" strike="noStrike">
                <a:solidFill>
                  <a:srgbClr val="669900"/>
                </a:solidFill>
                <a:latin typeface="Arial"/>
              </a:rPr>
              <a:t>Llorar sin</a:t>
            </a:r>
            <a:r>
              <a:rPr b="1" i="1" lang="es-ES" sz="1800" spc="-1" strike="noStrike" u="sng">
                <a:solidFill>
                  <a:srgbClr val="669900"/>
                </a:solidFill>
                <a:uFillTx/>
                <a:latin typeface="Arial"/>
              </a:rPr>
              <a:t> </a:t>
            </a:r>
            <a:r>
              <a:rPr b="1" i="1" lang="es-ES" sz="3200" spc="-1" strike="noStrike">
                <a:solidFill>
                  <a:srgbClr val="669900"/>
                </a:solidFill>
                <a:latin typeface="Arial"/>
              </a:rPr>
              <a:t>razón alguna. Similar a la anteri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669900"/>
                </a:solidFill>
                <a:latin typeface="Arial"/>
              </a:rPr>
              <a:t>Es bueno y es sano dejar que fluyan las lágrim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669900"/>
                </a:solidFill>
                <a:latin typeface="Arial"/>
              </a:rPr>
              <a:t>Ayuda a liberar la vieja energía</a:t>
            </a:r>
            <a:r>
              <a:rPr b="1" i="1" lang="es-ES" sz="18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1" i="1" lang="es-ES" sz="3200" spc="-1" strike="noStrike">
                <a:solidFill>
                  <a:srgbClr val="669900"/>
                </a:solidFill>
                <a:latin typeface="Arial"/>
              </a:rPr>
              <a:t>interior.</a:t>
            </a:r>
            <a:r>
              <a:rPr b="0" lang="es-ES" sz="18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f5"/>
          <p:cNvPicPr/>
          <p:nvPr/>
        </p:nvPicPr>
        <p:blipFill>
          <a:blip r:embed="rId1"/>
          <a:stretch/>
        </p:blipFill>
        <p:spPr>
          <a:xfrm>
            <a:off x="250920" y="260280"/>
            <a:ext cx="4787640" cy="633744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75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75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75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75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75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75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5"/>
          <p:cNvSpPr/>
          <p:nvPr/>
        </p:nvSpPr>
        <p:spPr>
          <a:xfrm>
            <a:off x="4967280" y="0"/>
            <a:ext cx="4357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333399"/>
                </a:solidFill>
                <a:latin typeface="Arial"/>
              </a:rPr>
              <a:t>4. </a:t>
            </a: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Cambios repentinos de trabajo o profesión. Un síntoma muy comú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Al cambiar, las cosas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te rodean cambian tambié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No te preocupes por ahora por encontrar el trabajo o la profesión correct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Estás en medio de una transición y es posible que hagas varios cambios de trabajo antes de establecerte en uno que se ajuste a tu pasión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crystal"/>
          <p:cNvPicPr/>
          <p:nvPr/>
        </p:nvPicPr>
        <p:blipFill>
          <a:blip r:embed="rId1"/>
          <a:stretch/>
        </p:blipFill>
        <p:spPr>
          <a:xfrm>
            <a:off x="179280" y="189000"/>
            <a:ext cx="4753080" cy="6408720"/>
          </a:xfrm>
          <a:prstGeom prst="rect">
            <a:avLst/>
          </a:prstGeom>
          <a:ln w="0">
            <a:noFill/>
          </a:ln>
        </p:spPr>
      </p:pic>
    </p:spTree>
  </p:cSld>
  <p:transition spd="slow" advTm="26000">
    <p:blinds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3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3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3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0" y="0"/>
            <a:ext cx="3887640" cy="40644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comets"/>
          <p:cNvPicPr/>
          <p:nvPr/>
        </p:nvPicPr>
        <p:blipFill>
          <a:blip r:embed="rId1"/>
          <a:stretch/>
        </p:blipFill>
        <p:spPr>
          <a:xfrm>
            <a:off x="0" y="0"/>
            <a:ext cx="9252000" cy="6939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4140360" y="0"/>
            <a:ext cx="5003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partarse de las relaciones familiares. Estás conectado a tu familia biológica vía el viejo kar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Cuando te sales del ciclo karmático, los lazos de antiguas relaciones se liberan. Pudiera parecer como si estuvieras separándote de tu familia y amig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Después de algún tiempo, tal vez establezcas una nueva relación con ellos, si así es lo adecu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Sin embargo, la relación estará basada en la nueva energía, sin las ataduras karmáticas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6000">
    <p:checker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75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75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7" descr="113109927438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8"/>
          <p:cNvSpPr/>
          <p:nvPr/>
        </p:nvSpPr>
        <p:spPr>
          <a:xfrm>
            <a:off x="179280" y="0"/>
            <a:ext cx="896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00"/>
                </a:solidFill>
                <a:latin typeface="Arial"/>
              </a:rPr>
              <a:t>6. 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Patrones de sueño desacostumbrados. Es probable que te despiertes muchas noches entre las 2:00 y las 4:00 de la mañana. Hay mucho  trabajo en marcha en tu interior y con frecuencia esto hace que te despiertes a tomar un respir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No te preocupes. Si no puedes volver a dormirte, levántate y haz algo en vez de quedarte en la cama preocupándote de las cosas humanas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Imagen 3713"/>
          <p:cNvPicPr/>
          <p:nvPr/>
        </p:nvPicPr>
        <p:blipFill>
          <a:blip r:embed="rId1"/>
          <a:stretch/>
        </p:blipFill>
        <p:spPr>
          <a:xfrm>
            <a:off x="0" y="0"/>
            <a:ext cx="9252000" cy="69739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7"/>
          <p:cNvSpPr/>
          <p:nvPr/>
        </p:nvSpPr>
        <p:spPr>
          <a:xfrm>
            <a:off x="0" y="1773360"/>
            <a:ext cx="86756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ff"/>
                </a:solidFill>
                <a:latin typeface="Arial"/>
              </a:rPr>
              <a:t>7. </a:t>
            </a:r>
            <a:r>
              <a:rPr b="1" i="1" lang="es-ES" sz="2800" spc="-1" strike="noStrike">
                <a:solidFill>
                  <a:srgbClr val="0000ff"/>
                </a:solidFill>
                <a:latin typeface="Arial"/>
              </a:rPr>
              <a:t>Sueños intensos. Estos pudieran incluir sueñ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ff"/>
                </a:solidFill>
                <a:latin typeface="Arial"/>
              </a:rPr>
              <a:t>relaciona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ff"/>
                </a:solidFill>
                <a:latin typeface="Arial"/>
              </a:rPr>
              <a:t>con guerr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ff"/>
                </a:solidFill>
                <a:latin typeface="Arial"/>
              </a:rPr>
              <a:t>y batalla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ff"/>
                </a:solidFill>
                <a:latin typeface="Arial"/>
              </a:rPr>
              <a:t>persecucio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ff"/>
                </a:solidFill>
                <a:latin typeface="Arial"/>
              </a:rPr>
              <a:t>y monstru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ff"/>
                </a:solidFill>
                <a:latin typeface="Arial"/>
              </a:rPr>
              <a:t>Literalmente estás liberando la vieja energía interior y estas energías del pasado a menudo están simbolizadas por guerras, huidas y "cocos".</a:t>
            </a: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6000"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75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75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75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75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75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75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75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75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75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75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75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75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75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75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5"/>
          <p:cNvSpPr/>
          <p:nvPr/>
        </p:nvSpPr>
        <p:spPr>
          <a:xfrm>
            <a:off x="2085840" y="0"/>
            <a:ext cx="70581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Desorientación física. A veces te sentirás desubicado. Como espacialmente cuestionado, con la sensación de que no puedes poner los pies en la tierra o de que andas caminando entre dos mundos. Al transitar la conciencia hacia la nueva energía, a veces tu cuerpo se queda atrás. Pasa más tiempo cerca de la naturaleza para que te ayude a aterrizar la nueva energía en tu interior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et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2"/>
          <p:cNvSpPr/>
          <p:nvPr/>
        </p:nvSpPr>
        <p:spPr>
          <a:xfrm>
            <a:off x="0" y="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Desorientación física. A veces te sentirás desubicado. Como espacialmente cuestionado, con la sensación de que no puedes poner los pies en la tierra o de que andas caminando entre dos mun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l transitar la conciencia hacia la nueva energí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 veces tu cuerpo se queda atrá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Pasa más tiempo cerca de la naturale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para que te ay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 aterrizar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nueva energí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en tu interior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dissolv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3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4T12:18:52Z</dcterms:created>
  <dc:creator>Sergio Carvalhor</dc:creator>
  <dc:description/>
  <dc:language>en-US</dc:language>
  <cp:lastModifiedBy>reiko</cp:lastModifiedBy>
  <dcterms:modified xsi:type="dcterms:W3CDTF">2008-06-05T05:28:17Z</dcterms:modified>
  <cp:revision>55</cp:revision>
  <dc:subject/>
  <dc:title>Slide 1</dc:title>
</cp:coreProperties>
</file>