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angel%5B1%5D.wav" ContentType="audio/x-wav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237F-07C4-4B43-8B1A-2095AB97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640-326E-4C17-A174-410E82DA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0E26-35B8-437B-A1EC-020DD4BC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F6C-468E-4018-8034-83F0EB3A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F7B-1AB3-44A0-B25F-77E25C99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614-953C-44CF-A626-BD781B11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9DF-8DAD-4F4C-91E4-5A02CD41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F44-3E68-4D0C-BD80-2E783070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E82-B4E1-48A0-B4A6-6EB3F92E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57D1-CBF7-47A8-AF9D-DB4376EC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746A-A1B6-4E79-B260-0B22AA9E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E14-5405-499C-B394-91635D7B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9427-D50D-4D47-83F5-33DD38A50DCD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angel%5B1%5D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925720" y="1096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924280" y="1738440"/>
          <a:ext cx="3295440" cy="4024080"/>
        </p:xfrm>
        <a:graphic>
          <a:graphicData uri="http://schemas.openxmlformats.org/drawingml/2006/table">
            <a:tbl>
              <a:tblPr/>
              <a:tblGrid>
                <a:gridCol w="3295440"/>
              </a:tblGrid>
              <a:tr h="43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s-MX" sz="2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Picture 11" descr="Coro%20de%20Angeles%20y%20Jesús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2"/>
          <p:cNvSpPr/>
          <p:nvPr/>
        </p:nvSpPr>
        <p:spPr>
          <a:xfrm>
            <a:off x="3564000" y="547920"/>
            <a:ext cx="532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Anoche soñé que estaba en el Cielo y que un Angel me servía de guía para mostrarme los alrededores. Caminaba lado a lado a través de un largo salón de trabajo lleno de ánge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i ángel guía se detuvo en frente de la primera sección y dij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Estrella luminosa"/>
          <p:cNvPicPr/>
          <p:nvPr/>
        </p:nvPicPr>
        <p:blipFill>
          <a:blip r:embed="rId2"/>
          <a:stretch/>
        </p:blipFill>
        <p:spPr>
          <a:xfrm>
            <a:off x="3059280" y="3716280"/>
            <a:ext cx="82836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angel%5B1%5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925720" y="1096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aa30075"/>
          <p:cNvPicPr/>
          <p:nvPr/>
        </p:nvPicPr>
        <p:blipFill>
          <a:blip r:embed="rId1"/>
          <a:stretch/>
        </p:blipFill>
        <p:spPr>
          <a:xfrm>
            <a:off x="-36360" y="0"/>
            <a:ext cx="5472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1"/>
          <p:cNvSpPr/>
          <p:nvPr/>
        </p:nvSpPr>
        <p:spPr>
          <a:xfrm>
            <a:off x="5470560" y="2059200"/>
            <a:ext cx="3673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Atentamente: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epartamento de Confirmación de Recibo.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Estrella luminosa"/>
          <p:cNvPicPr/>
          <p:nvPr/>
        </p:nvPicPr>
        <p:blipFill>
          <a:blip r:embed="rId2"/>
          <a:stretch/>
        </p:blipFill>
        <p:spPr>
          <a:xfrm>
            <a:off x="6732720" y="3933720"/>
            <a:ext cx="82872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925720" y="1096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924280" y="1738440"/>
          <a:ext cx="3295440" cy="4024080"/>
        </p:xfrm>
        <a:graphic>
          <a:graphicData uri="http://schemas.openxmlformats.org/drawingml/2006/table">
            <a:tbl>
              <a:tblPr/>
              <a:tblGrid>
                <a:gridCol w="3295440"/>
              </a:tblGrid>
              <a:tr h="43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s-MX" sz="2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Picture 13" descr="Coro%20de%20Angeles%20y%20Jesús_jpg"/>
          <p:cNvPicPr/>
          <p:nvPr/>
        </p:nvPicPr>
        <p:blipFill>
          <a:blip r:embed="rId1"/>
          <a:stretch/>
        </p:blipFill>
        <p:spPr>
          <a:xfrm>
            <a:off x="3240" y="-28440"/>
            <a:ext cx="9156600" cy="6899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4"/>
          <p:cNvSpPr/>
          <p:nvPr/>
        </p:nvSpPr>
        <p:spPr>
          <a:xfrm>
            <a:off x="0" y="16981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Arial"/>
              </a:rPr>
              <a:t>GRACIAS DI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"Gracias por darme la habilidad de compartir este mensaje y por darme tantas personas maravillosas para compartirlo." Sólo recuerden que por cada minuto de coraje... perdemos sesenta segundos de felicidad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Les deseo mucho amor, salud y grandes bendic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Estrella luminosa"/>
          <p:cNvPicPr/>
          <p:nvPr/>
        </p:nvPicPr>
        <p:blipFill>
          <a:blip r:embed="rId2"/>
          <a:stretch/>
        </p:blipFill>
        <p:spPr>
          <a:xfrm>
            <a:off x="4500720" y="0"/>
            <a:ext cx="82836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925720" y="1096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898560" y="5065560"/>
            <a:ext cx="82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LOS ANGELES EXISTEN. Pero algunas veces como no poseen alas los llamamos </a:t>
            </a:r>
            <a:br>
              <a:rPr sz="2800"/>
            </a:b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AMIGOS, COMO TÚ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5" descr="Angel y nube"/>
          <p:cNvPicPr/>
          <p:nvPr/>
        </p:nvPicPr>
        <p:blipFill>
          <a:blip r:embed="rId2"/>
          <a:stretch/>
        </p:blipFill>
        <p:spPr>
          <a:xfrm>
            <a:off x="1763640" y="0"/>
            <a:ext cx="5832720" cy="456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Estrella luminosa"/>
          <p:cNvPicPr/>
          <p:nvPr/>
        </p:nvPicPr>
        <p:blipFill>
          <a:blip r:embed="rId3"/>
          <a:stretch/>
        </p:blipFill>
        <p:spPr>
          <a:xfrm>
            <a:off x="324000" y="4221000"/>
            <a:ext cx="82836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2925720" y="1096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924280" y="1738440"/>
          <a:ext cx="3295440" cy="4024080"/>
        </p:xfrm>
        <a:graphic>
          <a:graphicData uri="http://schemas.openxmlformats.org/drawingml/2006/table">
            <a:tbl>
              <a:tblPr/>
              <a:tblGrid>
                <a:gridCol w="3295440"/>
              </a:tblGrid>
              <a:tr h="43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s-MX" sz="2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" name="Picture 11" descr="angeli75_jpg"/>
          <p:cNvPicPr/>
          <p:nvPr/>
        </p:nvPicPr>
        <p:blipFill>
          <a:blip r:embed="rId1"/>
          <a:stretch/>
        </p:blipFill>
        <p:spPr>
          <a:xfrm>
            <a:off x="-36360" y="-15840"/>
            <a:ext cx="561636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2"/>
          <p:cNvSpPr/>
          <p:nvPr/>
        </p:nvSpPr>
        <p:spPr>
          <a:xfrm>
            <a:off x="5400720" y="175320"/>
            <a:ext cx="3779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Esta es la sección de "Recepción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". Aquí todas las peticiones hechas a Dios en oración son recibid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iré alrededor del área, estaban extremadamente ocupados y eran tantos los ángeles sorteando las peticiones de todas las partes del mundo que quedé impresion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Estrella luminosa"/>
          <p:cNvPicPr/>
          <p:nvPr/>
        </p:nvPicPr>
        <p:blipFill>
          <a:blip r:embed="rId2"/>
          <a:stretch/>
        </p:blipFill>
        <p:spPr>
          <a:xfrm>
            <a:off x="8315280" y="5805360"/>
            <a:ext cx="82872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925720" y="1096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924280" y="1738440"/>
          <a:ext cx="3295440" cy="4024080"/>
        </p:xfrm>
        <a:graphic>
          <a:graphicData uri="http://schemas.openxmlformats.org/drawingml/2006/table">
            <a:tbl>
              <a:tblPr/>
              <a:tblGrid>
                <a:gridCol w="3295440"/>
              </a:tblGrid>
              <a:tr h="43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s-MX" sz="2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11" descr="Angel0012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2"/>
          <p:cNvSpPr/>
          <p:nvPr/>
        </p:nvSpPr>
        <p:spPr>
          <a:xfrm>
            <a:off x="3419640" y="-6480"/>
            <a:ext cx="4789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uego pasamos a través de un largo corredor hasta que llegamos a la segunda sec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l ángel me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ijo entonces: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"Esta es la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ección de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mpaque y Despacho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Aquí, la gracia y la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bendicione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que fueron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licitada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por las persona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n procesada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y entregadas a aquellos seres vivos que las pidier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Noté cuan ocupados estaban allí también. Habían muchísimo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 á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ngeles trabajando muy duro, eran muchas las bendiciones siendo enviadas a la tier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Estrella titila"/>
          <p:cNvPicPr/>
          <p:nvPr/>
        </p:nvPicPr>
        <p:blipFill>
          <a:blip r:embed="rId2"/>
          <a:stretch/>
        </p:blipFill>
        <p:spPr>
          <a:xfrm>
            <a:off x="7236000" y="6496200"/>
            <a:ext cx="761760" cy="723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Estrella titila"/>
          <p:cNvPicPr/>
          <p:nvPr/>
        </p:nvPicPr>
        <p:blipFill>
          <a:blip r:embed="rId3"/>
          <a:stretch/>
        </p:blipFill>
        <p:spPr>
          <a:xfrm>
            <a:off x="8381880" y="6134040"/>
            <a:ext cx="762120" cy="723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Estrella titila"/>
          <p:cNvPicPr/>
          <p:nvPr/>
        </p:nvPicPr>
        <p:blipFill>
          <a:blip r:embed="rId4"/>
          <a:stretch/>
        </p:blipFill>
        <p:spPr>
          <a:xfrm>
            <a:off x="7956720" y="6496200"/>
            <a:ext cx="761760" cy="723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Estrella luminosa"/>
          <p:cNvPicPr/>
          <p:nvPr/>
        </p:nvPicPr>
        <p:blipFill>
          <a:blip r:embed="rId5"/>
          <a:stretch/>
        </p:blipFill>
        <p:spPr>
          <a:xfrm>
            <a:off x="539640" y="620640"/>
            <a:ext cx="82872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925720" y="1096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924280" y="1738440"/>
          <a:ext cx="3295440" cy="4024080"/>
        </p:xfrm>
        <a:graphic>
          <a:graphicData uri="http://schemas.openxmlformats.org/drawingml/2006/table">
            <a:tbl>
              <a:tblPr/>
              <a:tblGrid>
                <a:gridCol w="3295440"/>
              </a:tblGrid>
              <a:tr h="43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s-MX" sz="2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9" descr="aa30075"/>
          <p:cNvPicPr/>
          <p:nvPr/>
        </p:nvPicPr>
        <p:blipFill>
          <a:blip r:embed="rId1"/>
          <a:stretch/>
        </p:blipFill>
        <p:spPr>
          <a:xfrm>
            <a:off x="4140360" y="0"/>
            <a:ext cx="5040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0" y="257760"/>
            <a:ext cx="406728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Finalmente, en el punto más lejano del corredor nos detuvimos en una puerta de una sección muy pequeña. Para mi gran sorpresa, había sólo un ángel sentado allí, y con muy poco que hacer. "Este es el cuarto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Confirmación de recibo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", me informó el ángel. Parecía un poco apenad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¿Cómo es que hay tan poco trabajo aquí?, le pregunté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"Muy triste", suspiró el ángel. "Luego de que las personas reciben las bendiciones que solicitaron, muy pocos envían la confirmación de recibo de vuelta"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Estrella luminosa"/>
          <p:cNvPicPr/>
          <p:nvPr/>
        </p:nvPicPr>
        <p:blipFill>
          <a:blip r:embed="rId2"/>
          <a:stretch/>
        </p:blipFill>
        <p:spPr>
          <a:xfrm>
            <a:off x="2268360" y="6058080"/>
            <a:ext cx="828720" cy="799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925720" y="1096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924280" y="1738440"/>
          <a:ext cx="3295440" cy="4024080"/>
        </p:xfrm>
        <a:graphic>
          <a:graphicData uri="http://schemas.openxmlformats.org/drawingml/2006/table">
            <a:tbl>
              <a:tblPr/>
              <a:tblGrid>
                <a:gridCol w="3295440"/>
              </a:tblGrid>
              <a:tr h="43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s-MX" sz="2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9" descr="aa30075"/>
          <p:cNvPicPr/>
          <p:nvPr/>
        </p:nvPicPr>
        <p:blipFill>
          <a:blip r:embed="rId1"/>
          <a:stretch/>
        </p:blipFill>
        <p:spPr>
          <a:xfrm>
            <a:off x="4067280" y="0"/>
            <a:ext cx="51130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0" y="1053360"/>
            <a:ext cx="425772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¿Y cómo se debe confirmar el recibo de una bendición?”, le pregunté al áng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"Muy simple", me contest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"Sólo tienes que decir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"Gracias, Dios".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Estrella luminosa"/>
          <p:cNvPicPr/>
          <p:nvPr/>
        </p:nvPicPr>
        <p:blipFill>
          <a:blip r:embed="rId2"/>
          <a:stretch/>
        </p:blipFill>
        <p:spPr>
          <a:xfrm>
            <a:off x="1547640" y="5445000"/>
            <a:ext cx="82872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925720" y="1096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924280" y="1738440"/>
          <a:ext cx="3295440" cy="4024080"/>
        </p:xfrm>
        <a:graphic>
          <a:graphicData uri="http://schemas.openxmlformats.org/drawingml/2006/table">
            <a:tbl>
              <a:tblPr/>
              <a:tblGrid>
                <a:gridCol w="3295440"/>
              </a:tblGrid>
              <a:tr h="43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s-MX" sz="2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Picture 9" descr="aa30075"/>
          <p:cNvPicPr/>
          <p:nvPr/>
        </p:nvPicPr>
        <p:blipFill>
          <a:blip r:embed="rId1"/>
          <a:stretch/>
        </p:blipFill>
        <p:spPr>
          <a:xfrm>
            <a:off x="4788000" y="0"/>
            <a:ext cx="43923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-71280" y="171360"/>
            <a:ext cx="5003640" cy="65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e pregunté al ángel: ¿ Y cuáles deben ser confirmadas?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"Si tienes comida en tu heladera, ropa con qué vestir, un techo y un lugar para dormir... eres más rico que el 75% de este mundo.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"Si tienes dinero en el banco, en tu cartera, y monedas sueltas en tu alcancía, estás en el 8% de la riqueza del mundo.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"Y si recibiste este mensaje en tu propia computadora, eres parte del 1% en el mundo que tiene esa oportunidad.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Estrella luminosa"/>
          <p:cNvPicPr/>
          <p:nvPr/>
        </p:nvPicPr>
        <p:blipFill>
          <a:blip r:embed="rId2"/>
          <a:stretch/>
        </p:blipFill>
        <p:spPr>
          <a:xfrm>
            <a:off x="0" y="549360"/>
            <a:ext cx="828720" cy="799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925720" y="1096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924280" y="1738440"/>
          <a:ext cx="3295440" cy="4024080"/>
        </p:xfrm>
        <a:graphic>
          <a:graphicData uri="http://schemas.openxmlformats.org/drawingml/2006/table">
            <a:tbl>
              <a:tblPr/>
              <a:tblGrid>
                <a:gridCol w="3295440"/>
              </a:tblGrid>
              <a:tr h="43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s-MX" sz="2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9" descr="aa30075"/>
          <p:cNvPicPr/>
          <p:nvPr/>
        </p:nvPicPr>
        <p:blipFill>
          <a:blip r:embed="rId1"/>
          <a:stretch/>
        </p:blipFill>
        <p:spPr>
          <a:xfrm>
            <a:off x="4716360" y="0"/>
            <a:ext cx="446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1"/>
          <p:cNvSpPr/>
          <p:nvPr/>
        </p:nvSpPr>
        <p:spPr>
          <a:xfrm>
            <a:off x="0" y="112320"/>
            <a:ext cx="4788000" cy="67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"/>
              </a:rPr>
              <a:t>"Además ... Si te levantaste esta mañana con más salud que enfermedad.... tú estás más bendecido que muchos que no llegarán ni siquiera a sobrevivir este día...."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"/>
              </a:rPr>
              <a:t>"Si nunca has experimentado miedo en una batalla, soledad en encerramiento, la agonía de la tortura, o el dolor de morir de hambre.... estás sobre 700 millones de personas de este mund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"/>
              </a:rPr>
              <a:t>"Si puedes asistir a una iglesia, sin miedo a sufrir hostigamiento, arresto, tortura o la muerte.... eres envidiado por eso y más bendecido que 3 billones de personas de este mund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Estrella luminosa"/>
          <p:cNvPicPr/>
          <p:nvPr/>
        </p:nvPicPr>
        <p:blipFill>
          <a:blip r:embed="rId2"/>
          <a:stretch/>
        </p:blipFill>
        <p:spPr>
          <a:xfrm>
            <a:off x="468360" y="4221000"/>
            <a:ext cx="82872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2925720" y="1096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aa30075"/>
          <p:cNvPicPr/>
          <p:nvPr/>
        </p:nvPicPr>
        <p:blipFill>
          <a:blip r:embed="rId1"/>
          <a:stretch/>
        </p:blipFill>
        <p:spPr>
          <a:xfrm>
            <a:off x="4643280" y="0"/>
            <a:ext cx="45370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1"/>
          <p:cNvSpPr/>
          <p:nvPr/>
        </p:nvSpPr>
        <p:spPr>
          <a:xfrm>
            <a:off x="217440" y="1289160"/>
            <a:ext cx="39942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"Si puedes mantener tu cabeza en alto con una sonrisa, no eres normal... eres único a todos aquellos en duda y desesperanza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¿Y ahora qué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¿Cómo puedo empezar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Estrella luminosa"/>
          <p:cNvPicPr/>
          <p:nvPr/>
        </p:nvPicPr>
        <p:blipFill>
          <a:blip r:embed="rId2"/>
          <a:stretch/>
        </p:blipFill>
        <p:spPr>
          <a:xfrm>
            <a:off x="1763640" y="5229360"/>
            <a:ext cx="828720" cy="799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925720" y="1096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924280" y="1738440"/>
          <a:ext cx="3295440" cy="4024080"/>
        </p:xfrm>
        <a:graphic>
          <a:graphicData uri="http://schemas.openxmlformats.org/drawingml/2006/table">
            <a:tbl>
              <a:tblPr/>
              <a:tblGrid>
                <a:gridCol w="3295440"/>
              </a:tblGrid>
              <a:tr h="43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s-MX" sz="2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Picture 9" descr="aa30075"/>
          <p:cNvPicPr/>
          <p:nvPr/>
        </p:nvPicPr>
        <p:blipFill>
          <a:blip r:embed="rId1"/>
          <a:stretch/>
        </p:blipFill>
        <p:spPr>
          <a:xfrm>
            <a:off x="4788000" y="0"/>
            <a:ext cx="43923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1"/>
          <p:cNvSpPr/>
          <p:nvPr/>
        </p:nvSpPr>
        <p:spPr>
          <a:xfrm>
            <a:off x="0" y="697680"/>
            <a:ext cx="478800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Si puedes leer este mensaje, has recibido doble bendición, por alguien que piensa que eres especial y que eres más bendecido que 2 billones de personas que no pueden le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Que tengas un maravilloso día, cuenta tus bendiciones, y si tú quieres, pasa este mensaje a aquellas personas que quieras recordarle la bendición que es, y lo bendecido que está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Estrella luminosa"/>
          <p:cNvPicPr/>
          <p:nvPr/>
        </p:nvPicPr>
        <p:blipFill>
          <a:blip r:embed="rId2"/>
          <a:stretch/>
        </p:blipFill>
        <p:spPr>
          <a:xfrm>
            <a:off x="3851280" y="6058080"/>
            <a:ext cx="828720" cy="799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9T17:25:51Z</dcterms:created>
  <dc:creator>Emilio</dc:creator>
  <dc:description/>
  <dc:language>en-US</dc:language>
  <cp:lastModifiedBy>Francisco Checchi</cp:lastModifiedBy>
  <dcterms:modified xsi:type="dcterms:W3CDTF">2012-06-20T21:52:43Z</dcterms:modified>
  <cp:revision>4</cp:revision>
  <dc:subject>Cosas</dc:subject>
  <dc:title>Angeles</dc:title>
</cp:coreProperties>
</file>