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Enya%20-%20Evening%20Falls.wav" ContentType="audio/x-wav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7BC-6E2A-4589-97AC-7A40664C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BE0-48B4-4356-8A53-258990FC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B83-13CA-4469-905C-D9C59390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6BB-5C20-44CE-AFED-7498E191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06B-482E-44E2-A81A-CC567FF5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085-243B-4CA9-B4BB-F4CCA5A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FFF-0270-4B34-A288-5145C1AE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228-FA3C-413B-BDDF-FE2C0229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4D0-F412-4C68-875C-5B179487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9D4-1C47-4FE7-AC13-C977A2B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FEE-F149-47AD-9CE9-2EC4328A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57B-754D-4E93-9F0D-CD891919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24A9-B340-4059-9607-51FAC47E15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nya%20-%20Evening%20Fall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-1260360" y="5303880"/>
            <a:ext cx="93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¡Si entre Amigos y compañ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fuéramos como una de 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ves migrator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18"/>
          <p:cNvSpPr/>
          <p:nvPr/>
        </p:nvSpPr>
        <p:spPr>
          <a:xfrm>
            <a:off x="324000" y="2708280"/>
            <a:ext cx="1547640" cy="1224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2412000" y="5877000"/>
            <a:ext cx="47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UANDO EL AVE LIDER SE CANS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"/>
          <p:cNvGrpSpPr/>
          <p:nvPr/>
        </p:nvGrpSpPr>
        <p:grpSpPr>
          <a:xfrm>
            <a:off x="468360" y="620640"/>
            <a:ext cx="5543280" cy="4740120"/>
            <a:chOff x="468360" y="620640"/>
            <a:chExt cx="5543280" cy="4740120"/>
          </a:xfrm>
        </p:grpSpPr>
        <p:pic>
          <p:nvPicPr>
            <p:cNvPr id="122" name="Picture 21" descr="Imagen11qa"/>
            <p:cNvPicPr/>
            <p:nvPr/>
          </p:nvPicPr>
          <p:blipFill>
            <a:blip r:embed="rId1"/>
            <a:stretch/>
          </p:blipFill>
          <p:spPr>
            <a:xfrm flipH="1">
              <a:off x="468360" y="2573280"/>
              <a:ext cx="13046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2" descr="Imagen11qa"/>
            <p:cNvPicPr/>
            <p:nvPr/>
          </p:nvPicPr>
          <p:blipFill>
            <a:blip r:embed="rId2"/>
            <a:stretch/>
          </p:blipFill>
          <p:spPr>
            <a:xfrm flipH="1">
              <a:off x="1526400" y="1893600"/>
              <a:ext cx="130500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3" descr="Imagen11qa"/>
            <p:cNvPicPr/>
            <p:nvPr/>
          </p:nvPicPr>
          <p:blipFill>
            <a:blip r:embed="rId3"/>
            <a:stretch/>
          </p:blipFill>
          <p:spPr>
            <a:xfrm flipH="1">
              <a:off x="2750760" y="1298520"/>
              <a:ext cx="130500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4" descr="Imagen11qa"/>
            <p:cNvPicPr/>
            <p:nvPr/>
          </p:nvPicPr>
          <p:blipFill>
            <a:blip r:embed="rId4"/>
            <a:stretch/>
          </p:blipFill>
          <p:spPr>
            <a:xfrm flipH="1">
              <a:off x="3891960" y="620640"/>
              <a:ext cx="130500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5" descr="Imagen11qa"/>
            <p:cNvPicPr/>
            <p:nvPr/>
          </p:nvPicPr>
          <p:blipFill>
            <a:blip r:embed="rId5"/>
            <a:stretch/>
          </p:blipFill>
          <p:spPr>
            <a:xfrm flipH="1">
              <a:off x="1771560" y="3421080"/>
              <a:ext cx="13046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6" descr="Imagen11qa"/>
            <p:cNvPicPr/>
            <p:nvPr/>
          </p:nvPicPr>
          <p:blipFill>
            <a:blip r:embed="rId6"/>
            <a:stretch/>
          </p:blipFill>
          <p:spPr>
            <a:xfrm flipH="1">
              <a:off x="3240360" y="3932280"/>
              <a:ext cx="13046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7" descr="Imagen11qa"/>
            <p:cNvPicPr/>
            <p:nvPr/>
          </p:nvPicPr>
          <p:blipFill>
            <a:blip r:embed="rId7"/>
            <a:stretch/>
          </p:blipFill>
          <p:spPr>
            <a:xfrm flipH="1">
              <a:off x="4707000" y="4016520"/>
              <a:ext cx="1304640" cy="134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5950080"/>
            <a:ext cx="95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... SE TRASLADA AL FINAL DE LA 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IENTRAS OTRO ASUME LA DELANT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6" descr="Imagen11qa"/>
          <p:cNvPicPr/>
          <p:nvPr/>
        </p:nvPicPr>
        <p:blipFill>
          <a:blip r:embed="rId1"/>
          <a:stretch/>
        </p:blipFill>
        <p:spPr>
          <a:xfrm flipH="1">
            <a:off x="1332000" y="1557360"/>
            <a:ext cx="1295280" cy="12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Imagen11qa"/>
          <p:cNvPicPr/>
          <p:nvPr/>
        </p:nvPicPr>
        <p:blipFill>
          <a:blip r:embed="rId2"/>
          <a:stretch/>
        </p:blipFill>
        <p:spPr>
          <a:xfrm flipH="1">
            <a:off x="2700360" y="907920"/>
            <a:ext cx="1295280" cy="12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Imagen11qa"/>
          <p:cNvPicPr/>
          <p:nvPr/>
        </p:nvPicPr>
        <p:blipFill>
          <a:blip r:embed="rId3"/>
          <a:stretch/>
        </p:blipFill>
        <p:spPr>
          <a:xfrm flipH="1">
            <a:off x="4211640" y="333360"/>
            <a:ext cx="1295280" cy="1281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0" descr="Imagen11qa"/>
          <p:cNvPicPr/>
          <p:nvPr/>
        </p:nvPicPr>
        <p:blipFill>
          <a:blip r:embed="rId4"/>
          <a:stretch/>
        </p:blipFill>
        <p:spPr>
          <a:xfrm flipH="1">
            <a:off x="1619280" y="3068640"/>
            <a:ext cx="1295280" cy="1281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1" descr="Imagen11qa"/>
          <p:cNvPicPr/>
          <p:nvPr/>
        </p:nvPicPr>
        <p:blipFill>
          <a:blip r:embed="rId5"/>
          <a:stretch/>
        </p:blipFill>
        <p:spPr>
          <a:xfrm flipH="1">
            <a:off x="3059280" y="3860640"/>
            <a:ext cx="1295280" cy="1281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Imagen11qa"/>
          <p:cNvPicPr/>
          <p:nvPr/>
        </p:nvPicPr>
        <p:blipFill>
          <a:blip r:embed="rId6"/>
          <a:stretch/>
        </p:blipFill>
        <p:spPr>
          <a:xfrm flipH="1">
            <a:off x="4859280" y="4508640"/>
            <a:ext cx="1295280" cy="12808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4"/>
          <p:cNvGrpSpPr/>
          <p:nvPr/>
        </p:nvGrpSpPr>
        <p:grpSpPr>
          <a:xfrm>
            <a:off x="250920" y="2565360"/>
            <a:ext cx="1295280" cy="1281240"/>
            <a:chOff x="250920" y="2565360"/>
            <a:chExt cx="1295280" cy="1281240"/>
          </a:xfrm>
        </p:grpSpPr>
        <p:pic>
          <p:nvPicPr>
            <p:cNvPr id="138" name="Picture 27" descr="Imagen11qa"/>
            <p:cNvPicPr/>
            <p:nvPr/>
          </p:nvPicPr>
          <p:blipFill>
            <a:blip r:embed="rId7"/>
            <a:stretch/>
          </p:blipFill>
          <p:spPr>
            <a:xfrm flipH="1">
              <a:off x="250920" y="2565360"/>
              <a:ext cx="12952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33"/>
            <p:cNvSpPr/>
            <p:nvPr/>
          </p:nvSpPr>
          <p:spPr>
            <a:xfrm>
              <a:off x="250920" y="2565360"/>
              <a:ext cx="1224000" cy="11304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44 0.0037 C 0.09792 0.00301 0.12223 0.00301 0.14671 0.00162 C 0.16198 0.0007 0.17865 -0.0088 0.19341 -0.01412 C 0.20921 -0.01991 0.22552 -0.02384 0.24167 -0.02731 C 0.24931 -0.03241 0.25695 -0.03356 0.26511 -0.03634 C 0.27257 -0.04282 0.28143 -0.04514 0.29011 -0.04745 C 0.30278 -0.05856 0.28594 -0.04491 0.30348 -0.05393 C 0.30539 -0.05486 0.30643 -0.05741 0.30834 -0.05856 C 0.31042 -0.05972 0.31285 -0.05995 0.31511 -0.06065 C 0.32535 -0.06759 0.33629 -0.07222 0.34671 -0.07847 C 0.35122 -0.08125 0.35521 -0.08565 0.36007 -0.08727 C 0.36598 -0.08935 0.3691 -0.09005 0.375 -0.09398 C 0.38733 -0.10208 0.40035 -0.1125 0.41337 -0.11852 C 0.4198 -0.12477 0.42466 -0.12708 0.43177 -0.13171 C 0.44723 -0.15347 0.42153 -0.11875 0.44011 -0.13842 C 0.44445 -0.14305 0.4474 -0.14954 0.45174 -0.15393 C 0.45938 -0.16157 0.46719 -0.16875 0.475 -0.17616 C 0.48455 -0.18518 0.48837 -0.20903 0.49167 -0.22292 C 0.4948 -0.25139 0.50521 -0.32847 0.47344 -0.33842 C 0.47171 -0.34074 0.46841 -0.34514 0.46841 -0.34514 E">
                                      <p:cBhvr>
                                        <p:cTn id="12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39 -0.00185 C -0.08298 -0.01528 -0.0901 -0.01621 -0.10139 -0.01968 C -0.11545 -0.02408 -0.12899 -0.02917 -0.14305 -0.0331 C -0.1526 -0.04144 -0.14444 -0.03588 -0.16145 -0.03959 C -0.19687 -0.04746 -0.16024 -0.04167 -0.19305 -0.0463 C -0.21024 -0.0456 -0.2276 -0.04676 -0.24479 -0.04421 C -0.26128 -0.0419 -0.28159 -0.03125 -0.29809 -0.02639 C -0.30937 -0.01736 -0.31788 -0.01852 -0.32968 -0.01296 C -0.33402 -0.00741 -0.3427 -0.00116 -0.34809 0.00254 C -0.35451 0.01366 -0.36128 0.01921 -0.36979 0.02708 C -0.37899 0.03565 -0.38767 0.04629 -0.39635 0.05579 C -0.40399 0.06412 -0.39531 0.05741 -0.40468 0.07153 C -0.40659 0.0743 -0.40954 0.07546 -0.41145 0.07801 C -0.42014 0.08935 -0.42604 0.10023 -0.43645 0.10926 C -0.44895 0.13426 -0.45416 0.16319 -0.46145 0.19143 C -0.46319 0.23287 -0.46302 0.21666 -0.46302 0.24004 E">
                                      <p:cBhvr>
                                        <p:cTn id="13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13"/>
          <p:cNvSpPr/>
          <p:nvPr/>
        </p:nvSpPr>
        <p:spPr>
          <a:xfrm>
            <a:off x="3132000" y="620640"/>
            <a:ext cx="1203480" cy="1130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219640" y="0"/>
            <a:ext cx="3924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LECCIÓN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MPARTIR EL LIDER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RESPETARNOS MUTU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N TODO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MPARTIR LOS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Y LOS TRABAJOS MÁS DIFIC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REU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HABILIDADES Y CAPACIDAD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MBINAR DON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TALENTOS Y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5"/>
          <p:cNvGrpSpPr/>
          <p:nvPr/>
        </p:nvGrpSpPr>
        <p:grpSpPr>
          <a:xfrm>
            <a:off x="-360" y="620640"/>
            <a:ext cx="5003280" cy="4451040"/>
            <a:chOff x="-360" y="620640"/>
            <a:chExt cx="5003280" cy="4451040"/>
          </a:xfrm>
        </p:grpSpPr>
        <p:pic>
          <p:nvPicPr>
            <p:cNvPr id="143" name="Picture 16" descr="Imagen11qa"/>
            <p:cNvPicPr/>
            <p:nvPr/>
          </p:nvPicPr>
          <p:blipFill>
            <a:blip r:embed="rId1"/>
            <a:stretch/>
          </p:blipFill>
          <p:spPr>
            <a:xfrm flipH="1">
              <a:off x="-360" y="2454120"/>
              <a:ext cx="117756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7" descr="Imagen11qa"/>
            <p:cNvPicPr/>
            <p:nvPr/>
          </p:nvPicPr>
          <p:blipFill>
            <a:blip r:embed="rId2"/>
            <a:stretch/>
          </p:blipFill>
          <p:spPr>
            <a:xfrm flipH="1">
              <a:off x="955440" y="1816200"/>
              <a:ext cx="117792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8" descr="Imagen11qa"/>
            <p:cNvPicPr/>
            <p:nvPr/>
          </p:nvPicPr>
          <p:blipFill>
            <a:blip r:embed="rId3"/>
            <a:stretch/>
          </p:blipFill>
          <p:spPr>
            <a:xfrm flipH="1">
              <a:off x="2060280" y="1257120"/>
              <a:ext cx="117792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9" descr="Imagen11qa"/>
            <p:cNvPicPr/>
            <p:nvPr/>
          </p:nvPicPr>
          <p:blipFill>
            <a:blip r:embed="rId4"/>
            <a:stretch/>
          </p:blipFill>
          <p:spPr>
            <a:xfrm flipH="1">
              <a:off x="3090600" y="620640"/>
              <a:ext cx="117792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0" descr="Imagen11qa"/>
            <p:cNvPicPr/>
            <p:nvPr/>
          </p:nvPicPr>
          <p:blipFill>
            <a:blip r:embed="rId5"/>
            <a:stretch/>
          </p:blipFill>
          <p:spPr>
            <a:xfrm flipH="1">
              <a:off x="1175760" y="3250440"/>
              <a:ext cx="117756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1" descr="Imagen11qa"/>
            <p:cNvPicPr/>
            <p:nvPr/>
          </p:nvPicPr>
          <p:blipFill>
            <a:blip r:embed="rId6"/>
            <a:stretch/>
          </p:blipFill>
          <p:spPr>
            <a:xfrm flipH="1">
              <a:off x="2501280" y="3730320"/>
              <a:ext cx="117756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2" descr="Imagen11qa"/>
            <p:cNvPicPr/>
            <p:nvPr/>
          </p:nvPicPr>
          <p:blipFill>
            <a:blip r:embed="rId7"/>
            <a:stretch/>
          </p:blipFill>
          <p:spPr>
            <a:xfrm flipH="1">
              <a:off x="3825360" y="3809160"/>
              <a:ext cx="1177560" cy="126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6"/>
          <p:cNvSpPr/>
          <p:nvPr/>
        </p:nvSpPr>
        <p:spPr>
          <a:xfrm>
            <a:off x="4572000" y="1773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LAS AVES VOL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N 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GRAZNAN PARA D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RAJE Y AL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 LOS QUE VAN AL FR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4572000" y="3284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ARA QUE ASÍ MANTE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LA VELO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2"/>
          <p:cNvGrpSpPr/>
          <p:nvPr/>
        </p:nvGrpSpPr>
        <p:grpSpPr>
          <a:xfrm>
            <a:off x="323640" y="907920"/>
            <a:ext cx="4968720" cy="4813560"/>
            <a:chOff x="323640" y="907920"/>
            <a:chExt cx="4968720" cy="4813560"/>
          </a:xfrm>
        </p:grpSpPr>
        <p:grpSp>
          <p:nvGrpSpPr>
            <p:cNvPr id="153" name="Group 31"/>
            <p:cNvGrpSpPr/>
            <p:nvPr/>
          </p:nvGrpSpPr>
          <p:grpSpPr>
            <a:xfrm>
              <a:off x="323640" y="907920"/>
              <a:ext cx="4968720" cy="4453200"/>
              <a:chOff x="323640" y="907920"/>
              <a:chExt cx="4968720" cy="4453200"/>
            </a:xfrm>
          </p:grpSpPr>
          <p:sp>
            <p:nvSpPr>
              <p:cNvPr id="154" name="Text Box 18"/>
              <p:cNvSpPr/>
              <p:nvPr/>
            </p:nvSpPr>
            <p:spPr>
              <a:xfrm>
                <a:off x="2627280" y="141300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9"/>
              <p:cNvSpPr/>
              <p:nvPr/>
            </p:nvSpPr>
            <p:spPr>
              <a:xfrm>
                <a:off x="2701800" y="42210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20"/>
              <p:cNvSpPr/>
              <p:nvPr/>
            </p:nvSpPr>
            <p:spPr>
              <a:xfrm>
                <a:off x="1477800" y="35733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1"/>
              <p:cNvSpPr/>
              <p:nvPr/>
            </p:nvSpPr>
            <p:spPr>
              <a:xfrm>
                <a:off x="1404720" y="19162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22"/>
              <p:cNvSpPr/>
              <p:nvPr/>
            </p:nvSpPr>
            <p:spPr>
              <a:xfrm>
                <a:off x="3925800" y="10526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23"/>
              <p:cNvSpPr/>
              <p:nvPr/>
            </p:nvSpPr>
            <p:spPr>
              <a:xfrm>
                <a:off x="3851280" y="4581360"/>
                <a:ext cx="3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24" descr="Imagen11qa"/>
              <p:cNvPicPr/>
              <p:nvPr/>
            </p:nvPicPr>
            <p:blipFill>
              <a:blip r:embed="rId1"/>
              <a:stretch/>
            </p:blipFill>
            <p:spPr>
              <a:xfrm flipH="1">
                <a:off x="4140000" y="907920"/>
                <a:ext cx="1152360" cy="114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25" descr="Imagen11qa"/>
              <p:cNvPicPr/>
              <p:nvPr/>
            </p:nvPicPr>
            <p:blipFill>
              <a:blip r:embed="rId2"/>
              <a:stretch/>
            </p:blipFill>
            <p:spPr>
              <a:xfrm flipH="1">
                <a:off x="2842920" y="1341360"/>
                <a:ext cx="1152360" cy="11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26" descr="Imagen11qa"/>
              <p:cNvPicPr/>
              <p:nvPr/>
            </p:nvPicPr>
            <p:blipFill>
              <a:blip r:embed="rId3"/>
              <a:stretch/>
            </p:blipFill>
            <p:spPr>
              <a:xfrm flipH="1">
                <a:off x="1618920" y="1773360"/>
                <a:ext cx="1152360" cy="11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27" descr="Imagen11qa"/>
              <p:cNvPicPr/>
              <p:nvPr/>
            </p:nvPicPr>
            <p:blipFill>
              <a:blip r:embed="rId4"/>
              <a:stretch/>
            </p:blipFill>
            <p:spPr>
              <a:xfrm flipH="1">
                <a:off x="323640" y="2349360"/>
                <a:ext cx="1152360" cy="114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28" descr="Imagen11qa"/>
              <p:cNvPicPr/>
              <p:nvPr/>
            </p:nvPicPr>
            <p:blipFill>
              <a:blip r:embed="rId5"/>
              <a:stretch/>
            </p:blipFill>
            <p:spPr>
              <a:xfrm flipH="1">
                <a:off x="1547640" y="3429000"/>
                <a:ext cx="1152720" cy="11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29" descr="Imagen11qa"/>
              <p:cNvPicPr/>
              <p:nvPr/>
            </p:nvPicPr>
            <p:blipFill>
              <a:blip r:embed="rId6"/>
              <a:stretch/>
            </p:blipFill>
            <p:spPr>
              <a:xfrm flipH="1">
                <a:off x="2627280" y="4221000"/>
                <a:ext cx="1152720" cy="1140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6" name="Picture 30" descr="Imagen11qa"/>
            <p:cNvPicPr/>
            <p:nvPr/>
          </p:nvPicPr>
          <p:blipFill>
            <a:blip r:embed="rId7"/>
            <a:stretch/>
          </p:blipFill>
          <p:spPr>
            <a:xfrm flipH="1">
              <a:off x="3924000" y="4581360"/>
              <a:ext cx="1152360" cy="1140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468360" y="529992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5219640" y="1844640"/>
            <a:ext cx="392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LECCIÓN 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UANDO H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RAJE Y ALIE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L PROGRESO ES MAY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UNA PALABRA DE AL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 TIEMPO MOTIV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YUDA, DA FUER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ODUCE EL MEJ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E LOS BENEF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6"/>
          <p:cNvGrpSpPr/>
          <p:nvPr/>
        </p:nvGrpSpPr>
        <p:grpSpPr>
          <a:xfrm>
            <a:off x="-360" y="1125360"/>
            <a:ext cx="4968720" cy="4813560"/>
            <a:chOff x="-360" y="1125360"/>
            <a:chExt cx="4968720" cy="4813560"/>
          </a:xfrm>
        </p:grpSpPr>
        <p:grpSp>
          <p:nvGrpSpPr>
            <p:cNvPr id="170" name="Group 37"/>
            <p:cNvGrpSpPr/>
            <p:nvPr/>
          </p:nvGrpSpPr>
          <p:grpSpPr>
            <a:xfrm>
              <a:off x="-360" y="1125360"/>
              <a:ext cx="4968720" cy="4453200"/>
              <a:chOff x="-360" y="1125360"/>
              <a:chExt cx="4968720" cy="4453200"/>
            </a:xfrm>
          </p:grpSpPr>
          <p:sp>
            <p:nvSpPr>
              <p:cNvPr id="171" name="Text Box 38"/>
              <p:cNvSpPr/>
              <p:nvPr/>
            </p:nvSpPr>
            <p:spPr>
              <a:xfrm>
                <a:off x="2303280" y="163044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39"/>
              <p:cNvSpPr/>
              <p:nvPr/>
            </p:nvSpPr>
            <p:spPr>
              <a:xfrm>
                <a:off x="2377800" y="44384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0"/>
              <p:cNvSpPr/>
              <p:nvPr/>
            </p:nvSpPr>
            <p:spPr>
              <a:xfrm>
                <a:off x="1153800" y="37908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41"/>
              <p:cNvSpPr/>
              <p:nvPr/>
            </p:nvSpPr>
            <p:spPr>
              <a:xfrm>
                <a:off x="1080720" y="213372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3601800" y="1270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43"/>
              <p:cNvSpPr/>
              <p:nvPr/>
            </p:nvSpPr>
            <p:spPr>
              <a:xfrm>
                <a:off x="3527280" y="4798800"/>
                <a:ext cx="3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Picture 44" descr="Imagen11qa"/>
              <p:cNvPicPr/>
              <p:nvPr/>
            </p:nvPicPr>
            <p:blipFill>
              <a:blip r:embed="rId1"/>
              <a:stretch/>
            </p:blipFill>
            <p:spPr>
              <a:xfrm flipH="1">
                <a:off x="3816000" y="1125360"/>
                <a:ext cx="1152360" cy="114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45" descr="Imagen11qa"/>
              <p:cNvPicPr/>
              <p:nvPr/>
            </p:nvPicPr>
            <p:blipFill>
              <a:blip r:embed="rId2"/>
              <a:stretch/>
            </p:blipFill>
            <p:spPr>
              <a:xfrm flipH="1">
                <a:off x="2518920" y="1558800"/>
                <a:ext cx="1152360" cy="11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46" descr="Imagen11qa"/>
              <p:cNvPicPr/>
              <p:nvPr/>
            </p:nvPicPr>
            <p:blipFill>
              <a:blip r:embed="rId3"/>
              <a:stretch/>
            </p:blipFill>
            <p:spPr>
              <a:xfrm flipH="1">
                <a:off x="1294920" y="1990800"/>
                <a:ext cx="1152360" cy="11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47" descr="Imagen11qa"/>
              <p:cNvPicPr/>
              <p:nvPr/>
            </p:nvPicPr>
            <p:blipFill>
              <a:blip r:embed="rId4"/>
              <a:stretch/>
            </p:blipFill>
            <p:spPr>
              <a:xfrm flipH="1">
                <a:off x="-360" y="2566800"/>
                <a:ext cx="1152360" cy="114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48" descr="Imagen11qa"/>
              <p:cNvPicPr/>
              <p:nvPr/>
            </p:nvPicPr>
            <p:blipFill>
              <a:blip r:embed="rId5"/>
              <a:stretch/>
            </p:blipFill>
            <p:spPr>
              <a:xfrm flipH="1">
                <a:off x="1223640" y="3646440"/>
                <a:ext cx="1152720" cy="11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49" descr="Imagen11qa"/>
              <p:cNvPicPr/>
              <p:nvPr/>
            </p:nvPicPr>
            <p:blipFill>
              <a:blip r:embed="rId6"/>
              <a:stretch/>
            </p:blipFill>
            <p:spPr>
              <a:xfrm flipH="1">
                <a:off x="2303280" y="4438440"/>
                <a:ext cx="1152720" cy="1140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3" name="Picture 50" descr="Imagen11qa"/>
            <p:cNvPicPr/>
            <p:nvPr/>
          </p:nvPicPr>
          <p:blipFill>
            <a:blip r:embed="rId7"/>
            <a:stretch/>
          </p:blipFill>
          <p:spPr>
            <a:xfrm flipH="1">
              <a:off x="3600000" y="4798800"/>
              <a:ext cx="1152360" cy="1140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12"/>
          <p:cNvSpPr/>
          <p:nvPr/>
        </p:nvSpPr>
        <p:spPr>
          <a:xfrm>
            <a:off x="3419640" y="907920"/>
            <a:ext cx="1272960" cy="1203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4067280" y="285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UANDO UN AVE SE ENFE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 HERIDO O ESTÁ CANSA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4"/>
          <p:cNvGrpSpPr/>
          <p:nvPr/>
        </p:nvGrpSpPr>
        <p:grpSpPr>
          <a:xfrm>
            <a:off x="-360" y="765000"/>
            <a:ext cx="5471640" cy="4884480"/>
            <a:chOff x="-360" y="765000"/>
            <a:chExt cx="5471640" cy="4884480"/>
          </a:xfrm>
        </p:grpSpPr>
        <p:pic>
          <p:nvPicPr>
            <p:cNvPr id="187" name="Picture 15" descr="Imagen11qa"/>
            <p:cNvPicPr/>
            <p:nvPr/>
          </p:nvPicPr>
          <p:blipFill>
            <a:blip r:embed="rId1"/>
            <a:stretch/>
          </p:blipFill>
          <p:spPr>
            <a:xfrm flipH="1">
              <a:off x="-360" y="2777040"/>
              <a:ext cx="1287720" cy="13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6" descr="Imagen11qa"/>
            <p:cNvPicPr/>
            <p:nvPr/>
          </p:nvPicPr>
          <p:blipFill>
            <a:blip r:embed="rId2"/>
            <a:stretch/>
          </p:blipFill>
          <p:spPr>
            <a:xfrm flipH="1">
              <a:off x="1044720" y="2076840"/>
              <a:ext cx="1288080" cy="13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7" descr="Imagen11qa"/>
            <p:cNvPicPr/>
            <p:nvPr/>
          </p:nvPicPr>
          <p:blipFill>
            <a:blip r:embed="rId3"/>
            <a:stretch/>
          </p:blipFill>
          <p:spPr>
            <a:xfrm flipH="1">
              <a:off x="2253240" y="1463400"/>
              <a:ext cx="1288080" cy="13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8" descr="Imagen11qa"/>
            <p:cNvPicPr/>
            <p:nvPr/>
          </p:nvPicPr>
          <p:blipFill>
            <a:blip r:embed="rId4"/>
            <a:stretch/>
          </p:blipFill>
          <p:spPr>
            <a:xfrm flipH="1">
              <a:off x="3379680" y="765000"/>
              <a:ext cx="1288080" cy="13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9" descr="Imagen11qa"/>
            <p:cNvPicPr/>
            <p:nvPr/>
          </p:nvPicPr>
          <p:blipFill>
            <a:blip r:embed="rId5"/>
            <a:stretch/>
          </p:blipFill>
          <p:spPr>
            <a:xfrm flipH="1">
              <a:off x="1285920" y="3650760"/>
              <a:ext cx="1287720" cy="13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0" descr="Imagen11qa"/>
            <p:cNvPicPr/>
            <p:nvPr/>
          </p:nvPicPr>
          <p:blipFill>
            <a:blip r:embed="rId6"/>
            <a:stretch/>
          </p:blipFill>
          <p:spPr>
            <a:xfrm flipH="1">
              <a:off x="2735640" y="4177440"/>
              <a:ext cx="1287720" cy="13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1" descr="Imagen11qa"/>
            <p:cNvPicPr/>
            <p:nvPr/>
          </p:nvPicPr>
          <p:blipFill>
            <a:blip r:embed="rId7"/>
            <a:stretch/>
          </p:blipFill>
          <p:spPr>
            <a:xfrm flipH="1">
              <a:off x="4183560" y="4264200"/>
              <a:ext cx="1287720" cy="138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2"/>
          <p:cNvSpPr/>
          <p:nvPr/>
        </p:nvSpPr>
        <p:spPr>
          <a:xfrm>
            <a:off x="611280" y="189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Y DEBE SALIR DE LA 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3" descr="Imagen11qa"/>
          <p:cNvPicPr/>
          <p:nvPr/>
        </p:nvPicPr>
        <p:blipFill>
          <a:blip r:embed="rId1"/>
          <a:stretch/>
        </p:blipFill>
        <p:spPr>
          <a:xfrm flipH="1">
            <a:off x="250560" y="2349360"/>
            <a:ext cx="1439640" cy="14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4" descr="Imagen11qa"/>
          <p:cNvPicPr/>
          <p:nvPr/>
        </p:nvPicPr>
        <p:blipFill>
          <a:blip r:embed="rId2"/>
          <a:stretch/>
        </p:blipFill>
        <p:spPr>
          <a:xfrm flipH="1">
            <a:off x="4356000" y="3933720"/>
            <a:ext cx="1152720" cy="1139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6" descr="Imagen11qa"/>
          <p:cNvPicPr/>
          <p:nvPr/>
        </p:nvPicPr>
        <p:blipFill>
          <a:blip r:embed="rId3"/>
          <a:stretch/>
        </p:blipFill>
        <p:spPr>
          <a:xfrm flipH="1">
            <a:off x="2987640" y="3500280"/>
            <a:ext cx="1152720" cy="1140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7" descr="Imagen11qa"/>
          <p:cNvPicPr/>
          <p:nvPr/>
        </p:nvPicPr>
        <p:blipFill>
          <a:blip r:embed="rId4"/>
          <a:stretch/>
        </p:blipFill>
        <p:spPr>
          <a:xfrm flipH="1">
            <a:off x="2842920" y="1341360"/>
            <a:ext cx="1152360" cy="1139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8" descr="Imagen11qa"/>
          <p:cNvPicPr/>
          <p:nvPr/>
        </p:nvPicPr>
        <p:blipFill>
          <a:blip r:embed="rId5"/>
          <a:stretch/>
        </p:blipFill>
        <p:spPr>
          <a:xfrm flipH="1">
            <a:off x="1763640" y="3284640"/>
            <a:ext cx="115272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9" descr="Imagen11qa"/>
          <p:cNvPicPr/>
          <p:nvPr/>
        </p:nvPicPr>
        <p:blipFill>
          <a:blip r:embed="rId6"/>
          <a:stretch/>
        </p:blipFill>
        <p:spPr>
          <a:xfrm flipH="1">
            <a:off x="1692000" y="1844640"/>
            <a:ext cx="1152360" cy="113976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31"/>
          <p:cNvGrpSpPr/>
          <p:nvPr/>
        </p:nvGrpSpPr>
        <p:grpSpPr>
          <a:xfrm>
            <a:off x="4284360" y="907920"/>
            <a:ext cx="1202040" cy="1140120"/>
            <a:chOff x="4284360" y="907920"/>
            <a:chExt cx="1202040" cy="1140120"/>
          </a:xfrm>
        </p:grpSpPr>
        <p:pic>
          <p:nvPicPr>
            <p:cNvPr id="202" name="Picture 25" descr="Imagen11qa"/>
            <p:cNvPicPr/>
            <p:nvPr/>
          </p:nvPicPr>
          <p:blipFill>
            <a:blip r:embed="rId7"/>
            <a:stretch/>
          </p:blipFill>
          <p:spPr>
            <a:xfrm flipH="1">
              <a:off x="4284360" y="907920"/>
              <a:ext cx="115236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30"/>
            <p:cNvSpPr/>
            <p:nvPr/>
          </p:nvSpPr>
          <p:spPr>
            <a:xfrm>
              <a:off x="4356000" y="981000"/>
              <a:ext cx="1130400" cy="9144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C 0.02968 0.00625 0.05451 0.02963 0.08333 0.03773 C 0.10312 0.05509 0.12482 0.06759 0.14514 0.08426 C 0.15885 0.09537 0.17205 0.1081 0.18507 0.11991 C 0.18975 0.12407 0.1934 0.13009 0.19843 0.13333 C 0.21284 0.14282 0.22639 0.15278 0.24166 0.15995 C 0.24826 0.16829 0.25521 0.17593 0.2618 0.18426 C 0.2618 0.18426 0.26996 0.20093 0.2717 0.2044 C 0.27743 0.21204 0.28385 0.22107 0.29166 0.22431 C 0.29496 0.22732 0.29843 0.23032 0.30173 0.23333 C 0.3033 0.23472 0.30364 0.23796 0.30503 0.23982 C 0.30642 0.24167 0.30833 0.24282 0.31007 0.24444 C 0.31614 0.25625 0.31632 0.25394 0.325 0.25995 E">
                                      <p:cBhvr>
                                        <p:cTn id="13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val 12"/>
          <p:cNvSpPr/>
          <p:nvPr/>
        </p:nvSpPr>
        <p:spPr>
          <a:xfrm>
            <a:off x="7451640" y="2997360"/>
            <a:ext cx="1368360" cy="1152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OTROS SALEN DE LA FORMACIÓN Y LO ACOMPAÑAN PARA AYUDARLO Y PROTEGERLO. PERMANECEN CON ÉL HASTA QUE MUERA O SEA CAPAZ DE VOLAR NUEVAMENTE; ALCANZAN SU BANDADA, O SE INTEGRANA OTRA 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4" descr="Imagen11qa"/>
          <p:cNvPicPr/>
          <p:nvPr/>
        </p:nvPicPr>
        <p:blipFill>
          <a:blip r:embed="rId1"/>
          <a:stretch/>
        </p:blipFill>
        <p:spPr>
          <a:xfrm flipH="1">
            <a:off x="3419280" y="4437000"/>
            <a:ext cx="1152360" cy="1139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Imagen11qa"/>
          <p:cNvPicPr/>
          <p:nvPr/>
        </p:nvPicPr>
        <p:blipFill>
          <a:blip r:embed="rId2"/>
          <a:stretch/>
        </p:blipFill>
        <p:spPr>
          <a:xfrm flipH="1">
            <a:off x="2268360" y="4005360"/>
            <a:ext cx="1152720" cy="1139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Imagen11qa"/>
          <p:cNvPicPr/>
          <p:nvPr/>
        </p:nvPicPr>
        <p:blipFill>
          <a:blip r:embed="rId3"/>
          <a:stretch/>
        </p:blipFill>
        <p:spPr>
          <a:xfrm flipH="1">
            <a:off x="1115640" y="3573360"/>
            <a:ext cx="1152360" cy="1139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Imagen11qa"/>
          <p:cNvPicPr/>
          <p:nvPr/>
        </p:nvPicPr>
        <p:blipFill>
          <a:blip r:embed="rId4"/>
          <a:stretch/>
        </p:blipFill>
        <p:spPr>
          <a:xfrm flipH="1">
            <a:off x="3492360" y="1268280"/>
            <a:ext cx="1152720" cy="1140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Imagen11qa"/>
          <p:cNvPicPr/>
          <p:nvPr/>
        </p:nvPicPr>
        <p:blipFill>
          <a:blip r:embed="rId5"/>
          <a:stretch/>
        </p:blipFill>
        <p:spPr>
          <a:xfrm flipH="1">
            <a:off x="2050920" y="1773360"/>
            <a:ext cx="1152720" cy="1139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Imagen11qa"/>
          <p:cNvPicPr/>
          <p:nvPr/>
        </p:nvPicPr>
        <p:blipFill>
          <a:blip r:embed="rId6"/>
          <a:stretch/>
        </p:blipFill>
        <p:spPr>
          <a:xfrm flipH="1">
            <a:off x="900000" y="2133720"/>
            <a:ext cx="1152720" cy="1139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0" descr="Imagen11qa"/>
          <p:cNvPicPr/>
          <p:nvPr/>
        </p:nvPicPr>
        <p:blipFill>
          <a:blip r:embed="rId7"/>
          <a:stretch/>
        </p:blipFill>
        <p:spPr>
          <a:xfrm flipH="1">
            <a:off x="-360" y="2852640"/>
            <a:ext cx="1152360" cy="1139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Imagen11qa"/>
          <p:cNvPicPr/>
          <p:nvPr/>
        </p:nvPicPr>
        <p:blipFill>
          <a:blip r:embed="rId8"/>
          <a:stretch/>
        </p:blipFill>
        <p:spPr>
          <a:xfrm flipH="1">
            <a:off x="7596000" y="2997360"/>
            <a:ext cx="11523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44444E-006 C 0.08246 0.01042 0.11701 0.00347 0.23333 0.00231 C 0.25035 -0.0037 0.26753 -0.00602 0.2849 -0.0088 C 0.29618 -0.01273 0.30712 -0.01528 0.31823 -0.01991 C 0.32569 -0.02685 0.33594 -0.02824 0.34496 -0.03102 C 0.3467 -0.03264 0.34809 -0.03449 0.35 -0.03565 C 0.35312 -0.0375 0.3599 -0.04005 0.3599 -0.04005 C 0.37257 -0.03704 0.37031 -0.03519 0.37986 -0.02662 C 0.38906 -0.0088 0.37865 -0.03032 0.3849 -0.01343 C 0.38576 -0.01111 0.38819 -0.00671 0.38819 -0.00671 E">
                                      <p:cBhvr>
                                        <p:cTn id="14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C 0.01215 0.00556 0.02291 0.01482 0.03507 0.02014 C 0.03941 0.02199 0.04843 0.02454 0.04843 0.02454 C 0.0592 0.0338 0.071 0.03681 0.08333 0.04005 C 0.09375 0.04282 0.10278 0.04884 0.11337 0.05116 C 0.12517 0.05625 0.12014 0.05394 0.12847 0.05787 C 0.18906 0.05718 0.24948 0.05695 0.31007 0.05556 C 0.32257 0.05532 0.32968 0.0412 0.3401 0.03565 C 0.35833 0.02593 0.37621 0.01181 0.39166 -0.0044 C 0.40052 -0.01366 0.41007 -0.0243 0.42014 -0.03102 E">
                                      <p:cBhvr>
                                        <p:cTn id="145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 12"/>
          <p:cNvSpPr/>
          <p:nvPr/>
        </p:nvSpPr>
        <p:spPr>
          <a:xfrm>
            <a:off x="3492360" y="1413000"/>
            <a:ext cx="1295640" cy="865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5435640" y="220500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LECCIÓN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EMOS UN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UNO AL LADO DEL OT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ESE A LAS DIFER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TANTO EN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OMENTOS DE DIFICULT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MO EN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OMENTOS DE ESFUER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"/>
          <p:cNvGrpSpPr/>
          <p:nvPr/>
        </p:nvGrpSpPr>
        <p:grpSpPr>
          <a:xfrm>
            <a:off x="0" y="1197000"/>
            <a:ext cx="5724000" cy="5256000"/>
            <a:chOff x="0" y="1197000"/>
            <a:chExt cx="5724000" cy="5256000"/>
          </a:xfrm>
        </p:grpSpPr>
        <p:pic>
          <p:nvPicPr>
            <p:cNvPr id="217" name="Picture 15" descr="Imagen11qa"/>
            <p:cNvPicPr/>
            <p:nvPr/>
          </p:nvPicPr>
          <p:blipFill>
            <a:blip r:embed="rId1"/>
            <a:stretch/>
          </p:blipFill>
          <p:spPr>
            <a:xfrm flipH="1">
              <a:off x="0" y="3362040"/>
              <a:ext cx="134712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6" descr="Imagen11qa"/>
            <p:cNvPicPr/>
            <p:nvPr/>
          </p:nvPicPr>
          <p:blipFill>
            <a:blip r:embed="rId2"/>
            <a:stretch/>
          </p:blipFill>
          <p:spPr>
            <a:xfrm flipH="1">
              <a:off x="1092600" y="2608560"/>
              <a:ext cx="134748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7" descr="Imagen11qa"/>
            <p:cNvPicPr/>
            <p:nvPr/>
          </p:nvPicPr>
          <p:blipFill>
            <a:blip r:embed="rId3"/>
            <a:stretch/>
          </p:blipFill>
          <p:spPr>
            <a:xfrm flipH="1">
              <a:off x="2356560" y="1948680"/>
              <a:ext cx="134748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8" descr="Imagen11qa"/>
            <p:cNvPicPr/>
            <p:nvPr/>
          </p:nvPicPr>
          <p:blipFill>
            <a:blip r:embed="rId4"/>
            <a:stretch/>
          </p:blipFill>
          <p:spPr>
            <a:xfrm flipH="1">
              <a:off x="3535200" y="1197000"/>
              <a:ext cx="134748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9" descr="Imagen11qa"/>
            <p:cNvPicPr/>
            <p:nvPr/>
          </p:nvPicPr>
          <p:blipFill>
            <a:blip r:embed="rId5"/>
            <a:stretch/>
          </p:blipFill>
          <p:spPr>
            <a:xfrm flipH="1">
              <a:off x="1345680" y="4302360"/>
              <a:ext cx="134712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0" descr="Imagen11qa"/>
            <p:cNvPicPr/>
            <p:nvPr/>
          </p:nvPicPr>
          <p:blipFill>
            <a:blip r:embed="rId6"/>
            <a:stretch/>
          </p:blipFill>
          <p:spPr>
            <a:xfrm flipH="1">
              <a:off x="2862000" y="4869000"/>
              <a:ext cx="134712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1" descr="Imagen11qa"/>
            <p:cNvPicPr/>
            <p:nvPr/>
          </p:nvPicPr>
          <p:blipFill>
            <a:blip r:embed="rId7"/>
            <a:stretch/>
          </p:blipFill>
          <p:spPr>
            <a:xfrm flipH="1">
              <a:off x="4376880" y="4962240"/>
              <a:ext cx="1347120" cy="149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Imagen11qa"/>
          <p:cNvPicPr/>
          <p:nvPr/>
        </p:nvPicPr>
        <p:blipFill>
          <a:blip r:embed="rId1"/>
          <a:stretch/>
        </p:blipFill>
        <p:spPr>
          <a:xfrm flipH="1">
            <a:off x="0" y="2492280"/>
            <a:ext cx="1511280" cy="1495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vbn"/>
          <p:cNvPicPr/>
          <p:nvPr/>
        </p:nvPicPr>
        <p:blipFill>
          <a:blip r:embed="rId2"/>
          <a:stretch/>
        </p:blipFill>
        <p:spPr>
          <a:xfrm flipH="1">
            <a:off x="3419640" y="1125360"/>
            <a:ext cx="863280" cy="721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Imagen1n"/>
          <p:cNvPicPr/>
          <p:nvPr/>
        </p:nvPicPr>
        <p:blipFill>
          <a:blip r:embed="rId3"/>
          <a:stretch/>
        </p:blipFill>
        <p:spPr>
          <a:xfrm flipH="1">
            <a:off x="1258560" y="3357720"/>
            <a:ext cx="1297080" cy="1266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61"/>
          <p:cNvPicPr/>
          <p:nvPr/>
        </p:nvPicPr>
        <p:blipFill>
          <a:blip r:embed="rId4"/>
          <a:stretch/>
        </p:blipFill>
        <p:spPr>
          <a:xfrm>
            <a:off x="1332000" y="2276640"/>
            <a:ext cx="1081080" cy="82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61"/>
          <p:cNvPicPr/>
          <p:nvPr/>
        </p:nvPicPr>
        <p:blipFill>
          <a:blip r:embed="rId5"/>
          <a:stretch/>
        </p:blipFill>
        <p:spPr>
          <a:xfrm>
            <a:off x="3635280" y="4581360"/>
            <a:ext cx="1081080" cy="8258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4"/>
          <p:cNvSpPr/>
          <p:nvPr/>
        </p:nvSpPr>
        <p:spPr>
          <a:xfrm>
            <a:off x="0" y="189000"/>
            <a:ext cx="37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NOS MANTENE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UNO AL LADO DEL OT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POYANDONOS Y ACOMPAÑAND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4284720" y="260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HACEMOS REALIDAD EL ESPIR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E EQUI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4572000" y="1484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PESE A LAS DIFERENCIAS POD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NFORMAR UN GRUP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ARA AFRONTAR TO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TIPO DE SITU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4572000" y="3213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ENTENDEMOS EL VERD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VALOR DE LA AMIST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4572000" y="4005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SOMOS CONSCIENTES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ENTIMIENTO DE COMPAR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250920" y="5516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LA VIDA SERÁ MÁS SIMPLE, Y EL VUELO DE LOS AÑOS MÁS PLACENT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0" descr="Imagen11qa"/>
          <p:cNvPicPr/>
          <p:nvPr/>
        </p:nvPicPr>
        <p:blipFill>
          <a:blip r:embed="rId6"/>
          <a:stretch/>
        </p:blipFill>
        <p:spPr>
          <a:xfrm flipH="1">
            <a:off x="2340000" y="1413000"/>
            <a:ext cx="1511280" cy="1495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1" descr="Imagen11qa"/>
          <p:cNvPicPr/>
          <p:nvPr/>
        </p:nvPicPr>
        <p:blipFill>
          <a:blip r:embed="rId7"/>
          <a:stretch/>
        </p:blipFill>
        <p:spPr>
          <a:xfrm flipH="1">
            <a:off x="2050920" y="3716280"/>
            <a:ext cx="15112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4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2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92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8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68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44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4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12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96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187280" y="3573360"/>
            <a:ext cx="639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PRÓXIMA TEMPORADA, CUANDO VEAS A LAS AVES EMIGR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RIGIENDOSE HACIA UN LUGAR MÁS CÁLIDO PARA PASAR EL INV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IJATE QUE VUELAN EN FORMA DE “ V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TAL VEZ TE INTERESE SABER POR QUE LO HACEN A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Imagen11qa"/>
          <p:cNvPicPr/>
          <p:nvPr/>
        </p:nvPicPr>
        <p:blipFill>
          <a:blip r:embed="rId1"/>
          <a:stretch/>
        </p:blipFill>
        <p:spPr>
          <a:xfrm flipH="1">
            <a:off x="7812000" y="0"/>
            <a:ext cx="1332000" cy="131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Imagen11qa"/>
          <p:cNvPicPr/>
          <p:nvPr/>
        </p:nvPicPr>
        <p:blipFill>
          <a:blip r:embed="rId2"/>
          <a:stretch/>
        </p:blipFill>
        <p:spPr>
          <a:xfrm flipH="1">
            <a:off x="8477280" y="907920"/>
            <a:ext cx="1332000" cy="131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Imagen11qa"/>
          <p:cNvPicPr/>
          <p:nvPr/>
        </p:nvPicPr>
        <p:blipFill>
          <a:blip r:embed="rId3"/>
          <a:stretch/>
        </p:blipFill>
        <p:spPr>
          <a:xfrm flipH="1">
            <a:off x="8243640" y="-658800"/>
            <a:ext cx="1331640" cy="131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Imagen11qa"/>
          <p:cNvPicPr/>
          <p:nvPr/>
        </p:nvPicPr>
        <p:blipFill>
          <a:blip r:embed="rId4"/>
          <a:stretch/>
        </p:blipFill>
        <p:spPr>
          <a:xfrm flipH="1">
            <a:off x="8477280" y="1557360"/>
            <a:ext cx="1332000" cy="131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Imagen11qa"/>
          <p:cNvPicPr/>
          <p:nvPr/>
        </p:nvPicPr>
        <p:blipFill>
          <a:blip r:embed="rId5"/>
          <a:stretch/>
        </p:blipFill>
        <p:spPr>
          <a:xfrm flipH="1">
            <a:off x="8172360" y="404640"/>
            <a:ext cx="1332000" cy="1317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95 0.00555 C -0.08993 0.00787 -0.10034 0.01249 -0.1118 0.01688 C -0.11458 0.01804 -0.11753 0.01827 -0.12031 0.01919 C -0.12482 0.02058 -0.13385 0.02359 -0.13385 0.02359 C -0.14305 0.02983 -0.15312 0.03006 -0.16267 0.03492 C -0.1651 0.03607 -0.16701 0.03839 -0.16944 0.03954 C -0.17552 0.04255 -0.18038 0.04162 -0.18645 0.04625 C -0.19392 0.05226 -0.19861 0.0548 -0.20677 0.05758 C -0.2217 0.06937 -0.23854 0.07654 -0.2559 0.08 C -0.26458 0.08393 -0.27395 0.0844 -0.28298 0.08694 C -0.29357 0.09388 -0.30538 0.0955 -0.31684 0.09827 C -0.34635 0.10521 -0.32257 0.10405 -0.36614 0.10729 C -0.4 0.11307 -0.43385 0.11284 -0.4677 0.1163 C -0.51354 0.13041 -0.55955 0.14382 -0.60677 0.14775 C -0.66128 0.15839 -0.59479 0.14613 -0.74236 0.15237 C -0.77066 0.15353 -0.79739 0.16417 -0.82534 0.1681 C -0.82916 0.16971 -0.84062 0.1755 -0.84062 0.16578 E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56069E-006 C -0.01493 0.00578 -0.03038 0.01179 -0.04566 0.01596 C -0.18472 0.01411 -0.18507 0.01364 -0.27968 0.00902 C -0.29514 0.00624 -0.30989 0.0007 -0.32534 -0.00208 C -0.33454 -0.00624 -0.35416 -0.00902 -0.35416 -0.00902 C -0.36632 -0.0141 -0.35017 -0.00786 -0.37291 -0.01341 C -0.37968 -0.01503 -0.38645 -0.0185 -0.39323 -0.02035 C -0.41111 -0.02497 -0.42916 -0.02751 -0.44739 -0.02936 C -0.52569 -0.06173 -0.59166 -0.03769 -0.66267 -0.02035 C -0.67552 -0.01341 -0.68784 -0.0111 -0.70173 -0.00902 C -0.70625 -0.0074 -0.71076 -0.00624 -0.71527 -0.00439 C -0.71857 -0.003 -0.72534 1.56069E-006 -0.72534 1.56069E-006 C -0.73715 0.01064 -0.75798 0.00786 -0.77118 0.00902 C -0.77291 0.00971 -0.77448 0.01133 -0.77621 0.01133 C -0.77916 0.01133 -0.78472 0.00902 -0.78472 0.00902 E">
                                      <p:cBhvr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0.00647 C -0.075 0.00878 -0.07483 0.01179 -0.07605 0.01341 C -0.079 0.01734 -0.08334 0.0185 -0.08629 0.02243 C -0.09254 0.03075 -0.09983 0.03884 -0.10834 0.04277 C -0.12917 0.07052 -0.16268 0.07006 -0.18959 0.07191 C -0.21962 0.07399 -0.24948 0.07699 -0.27952 0.07884 C -0.29757 0.08624 -0.3198 0.08347 -0.33889 0.08555 C -0.35625 0.09364 -0.34167 0.0874 -0.38282 0.09017 C -0.47778 0.09641 -0.33438 0.0911 -0.57448 0.09456 C -0.59341 0.10312 -0.61285 0.10982 -0.63195 0.11722 C -0.63924 0.12347 -0.6474 0.12809 -0.65573 0.13063 C -0.6632 0.13734 -0.67084 0.13965 -0.67952 0.14196 C -0.68125 0.14358 -0.68264 0.14543 -0.68455 0.14659 C -0.68785 0.14844 -0.6948 0.15098 -0.6948 0.15098 C -0.72014 0.17433 -0.77414 0.15815 -0.79132 0.15769 C -0.80018 0.15977 -0.80799 0.16462 -0.81684 0.16462 E">
                                      <p:cBhvr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5.72254E-006 C -0.01285 -0.01317 -0.03021 -0.03005 -0.04567 -0.03629 C -0.0514 -0.0386 -0.05192 -0.03837 -0.05765 -0.043 C -0.06112 -0.04577 -0.06442 -0.04901 -0.06771 -0.05201 C -0.07136 -0.05525 -0.07605 -0.05571 -0.07969 -0.05872 C -0.0915 -0.06866 -0.08143 -0.06357 -0.0915 -0.06774 C -0.10574 -0.0823 -0.12223 -0.0971 -0.1389 -0.10612 C -0.14445 -0.10912 -0.15053 -0.10959 -0.15591 -0.11305 C -0.16164 -0.11675 -0.16685 -0.12115 -0.17292 -0.12415 C -0.17761 -0.12647 -0.18039 -0.126 -0.18473 -0.12878 C -0.20556 -0.14265 -0.22657 -0.15213 -0.24914 -0.16045 C -0.25886 -0.16415 -0.26824 -0.17063 -0.27796 -0.17386 C -0.30313 -0.18242 -0.32865 -0.18959 -0.35417 -0.19652 C -0.36199 -0.20323 -0.3665 -0.20369 -0.37622 -0.20554 C -0.38351 -0.20878 -0.38959 -0.21479 -0.39653 -0.21895 C -0.41042 -0.22704 -0.42605 -0.23421 -0.44063 -0.2393 C -0.45712 -0.25456 -0.479 -0.26034 -0.49827 -0.26635 C -0.59706 -0.26427 -0.59653 -0.30797 -0.59653 -0.26196 E">
                                      <p:cBhvr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31 0.00231 C -0.07952 0.00925 -0.08039 0.01642 -0.08612 0.02243 C -0.09636 0.03376 -0.1099 0.04855 -0.12344 0.05179 C -0.13125 0.05364 -0.15382 0.05572 -0.15903 0.05618 C -0.16632 0.05965 -0.17414 0.05873 -0.18108 0.06289 C -0.18559 0.0659 -0.2007 0.07561 -0.20487 0.08092 C -0.21632 0.09688 -0.21094 0.0911 -0.22014 0.09919 C -0.22865 0.1163 -0.23733 0.13133 -0.24723 0.14659 C -0.25296 0.15561 -0.2573 0.1674 -0.2658 0.17133 C -0.27448 0.18566 -0.28316 0.19329 -0.29462 0.20509 C -0.30087 0.21179 -0.30608 0.2185 -0.31337 0.22335 C -0.31754 0.23191 -0.32275 0.23283 -0.32848 0.23908 C -0.33577 0.24717 -0.34306 0.25642 -0.35226 0.25942 C -0.35782 0.26705 -0.36164 0.27491 -0.36754 0.28185 C -0.37848 0.29457 -0.39115 0.30497 -0.40313 0.31584 C -0.41771 0.32925 -0.43125 0.34358 -0.44723 0.35422 C -0.45643 0.36046 -0.46459 0.37017 -0.47431 0.3748 C -0.48108 0.38358 -0.48959 0.38775 -0.49809 0.39491 C -0.50903 0.40393 -0.51875 0.41179 -0.53195 0.41503 C -0.55608 0.43746 -0.61407 0.42382 -0.62518 0.42405 C -0.63681 0.42798 -0.63421 0.42751 -0.64375 0.43769 C -0.64688 0.44116 -0.654 0.44694 -0.654 0.44694 C -0.65504 0.44971 -0.65695 0.45249 -0.6573 0.45572 C -0.65747 0.45803 -0.65747 0.46173 -0.65573 0.46243 C -0.65139 0.46382 -0.64549 0.45133 -0.64549 0.45133 E">
                                      <p:cBhvr>
                                        <p:cTn id="7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684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86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8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292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404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6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logo_golondrinas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684360" y="49417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MIG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ENDAMOS DE 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VES MIGRATORIA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8"/>
          <p:cNvSpPr txBox="1"/>
          <p:nvPr/>
        </p:nvSpPr>
        <p:spPr>
          <a:xfrm rot="20609400">
            <a:off x="7812000" y="5805360"/>
            <a:ext cx="10112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J.S.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8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2915640" y="2708280"/>
            <a:ext cx="57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L VOLAR EN FORMACIÓN DE “ V ”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0"/>
          <p:cNvGrpSpPr/>
          <p:nvPr/>
        </p:nvGrpSpPr>
        <p:grpSpPr>
          <a:xfrm>
            <a:off x="468000" y="692280"/>
            <a:ext cx="4895640" cy="4019040"/>
            <a:chOff x="468000" y="692280"/>
            <a:chExt cx="4895640" cy="4019040"/>
          </a:xfrm>
        </p:grpSpPr>
        <p:pic>
          <p:nvPicPr>
            <p:cNvPr id="50" name="Picture 21" descr="Imagen11qa"/>
            <p:cNvPicPr/>
            <p:nvPr/>
          </p:nvPicPr>
          <p:blipFill>
            <a:blip r:embed="rId1"/>
            <a:stretch/>
          </p:blipFill>
          <p:spPr>
            <a:xfrm flipH="1">
              <a:off x="468000" y="2347920"/>
              <a:ext cx="115236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2" descr="Imagen11qa"/>
            <p:cNvPicPr/>
            <p:nvPr/>
          </p:nvPicPr>
          <p:blipFill>
            <a:blip r:embed="rId2"/>
            <a:stretch/>
          </p:blipFill>
          <p:spPr>
            <a:xfrm flipH="1">
              <a:off x="1403280" y="1771560"/>
              <a:ext cx="11527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3" descr="Imagen11qa"/>
            <p:cNvPicPr/>
            <p:nvPr/>
          </p:nvPicPr>
          <p:blipFill>
            <a:blip r:embed="rId3"/>
            <a:stretch/>
          </p:blipFill>
          <p:spPr>
            <a:xfrm flipH="1">
              <a:off x="2484360" y="1266840"/>
              <a:ext cx="11527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4" descr="Imagen11qa"/>
            <p:cNvPicPr/>
            <p:nvPr/>
          </p:nvPicPr>
          <p:blipFill>
            <a:blip r:embed="rId4"/>
            <a:stretch/>
          </p:blipFill>
          <p:spPr>
            <a:xfrm flipH="1">
              <a:off x="3492360" y="692280"/>
              <a:ext cx="11527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5" descr="Imagen11qa"/>
            <p:cNvPicPr/>
            <p:nvPr/>
          </p:nvPicPr>
          <p:blipFill>
            <a:blip r:embed="rId5"/>
            <a:stretch/>
          </p:blipFill>
          <p:spPr>
            <a:xfrm flipH="1">
              <a:off x="1618920" y="3066840"/>
              <a:ext cx="115236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6" descr="Imagen11qa"/>
            <p:cNvPicPr/>
            <p:nvPr/>
          </p:nvPicPr>
          <p:blipFill>
            <a:blip r:embed="rId6"/>
            <a:stretch/>
          </p:blipFill>
          <p:spPr>
            <a:xfrm flipH="1">
              <a:off x="2916000" y="3500280"/>
              <a:ext cx="115236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7" descr="Imagen11qa"/>
            <p:cNvPicPr/>
            <p:nvPr/>
          </p:nvPicPr>
          <p:blipFill>
            <a:blip r:embed="rId7"/>
            <a:stretch/>
          </p:blipFill>
          <p:spPr>
            <a:xfrm flipH="1">
              <a:off x="4211280" y="3571560"/>
              <a:ext cx="1152360" cy="113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28" descr="Imagen11qa"/>
          <p:cNvPicPr/>
          <p:nvPr/>
        </p:nvPicPr>
        <p:blipFill>
          <a:blip r:embed="rId8"/>
          <a:stretch/>
        </p:blipFill>
        <p:spPr>
          <a:xfrm flipH="1">
            <a:off x="7380000" y="476280"/>
            <a:ext cx="1152360" cy="113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"/>
          <p:cNvSpPr/>
          <p:nvPr/>
        </p:nvSpPr>
        <p:spPr>
          <a:xfrm>
            <a:off x="3924360" y="2133720"/>
            <a:ext cx="56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...LA BANDADA ENTERA AUM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N UN 71% EL ALCANCE DEL V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285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N RELACIÓN AL DE UN PÁJ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VOLANDO SÓ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250560" y="620640"/>
            <a:ext cx="5112720" cy="4968360"/>
            <a:chOff x="250560" y="620640"/>
            <a:chExt cx="5112720" cy="4968360"/>
          </a:xfrm>
        </p:grpSpPr>
        <p:pic>
          <p:nvPicPr>
            <p:cNvPr id="61" name="Picture 14" descr="Imagen11qa"/>
            <p:cNvPicPr/>
            <p:nvPr/>
          </p:nvPicPr>
          <p:blipFill>
            <a:blip r:embed="rId1"/>
            <a:stretch/>
          </p:blipFill>
          <p:spPr>
            <a:xfrm flipH="1">
              <a:off x="250560" y="2667600"/>
              <a:ext cx="120348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5" descr="Imagen11qa"/>
            <p:cNvPicPr/>
            <p:nvPr/>
          </p:nvPicPr>
          <p:blipFill>
            <a:blip r:embed="rId2"/>
            <a:stretch/>
          </p:blipFill>
          <p:spPr>
            <a:xfrm flipH="1">
              <a:off x="1227240" y="1955160"/>
              <a:ext cx="120384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6" descr="Imagen11qa"/>
            <p:cNvPicPr/>
            <p:nvPr/>
          </p:nvPicPr>
          <p:blipFill>
            <a:blip r:embed="rId3"/>
            <a:stretch/>
          </p:blipFill>
          <p:spPr>
            <a:xfrm flipH="1">
              <a:off x="2356200" y="1331280"/>
              <a:ext cx="120384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7" descr="Imagen11qa"/>
            <p:cNvPicPr/>
            <p:nvPr/>
          </p:nvPicPr>
          <p:blipFill>
            <a:blip r:embed="rId4"/>
            <a:stretch/>
          </p:blipFill>
          <p:spPr>
            <a:xfrm flipH="1">
              <a:off x="3409200" y="620640"/>
              <a:ext cx="120384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8" descr="Imagen11qa"/>
            <p:cNvPicPr/>
            <p:nvPr/>
          </p:nvPicPr>
          <p:blipFill>
            <a:blip r:embed="rId5"/>
            <a:stretch/>
          </p:blipFill>
          <p:spPr>
            <a:xfrm flipH="1">
              <a:off x="1452240" y="3556080"/>
              <a:ext cx="120348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9" descr="Imagen11qa"/>
            <p:cNvPicPr/>
            <p:nvPr/>
          </p:nvPicPr>
          <p:blipFill>
            <a:blip r:embed="rId6"/>
            <a:stretch/>
          </p:blipFill>
          <p:spPr>
            <a:xfrm flipH="1">
              <a:off x="2807280" y="4092120"/>
              <a:ext cx="120348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0" descr="Imagen11qa"/>
            <p:cNvPicPr/>
            <p:nvPr/>
          </p:nvPicPr>
          <p:blipFill>
            <a:blip r:embed="rId7"/>
            <a:stretch/>
          </p:blipFill>
          <p:spPr>
            <a:xfrm flipH="1">
              <a:off x="4159800" y="4179960"/>
              <a:ext cx="1203480" cy="1409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6"/>
          <p:cNvSpPr/>
          <p:nvPr/>
        </p:nvSpPr>
        <p:spPr>
          <a:xfrm>
            <a:off x="4572000" y="1125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LECCIÓN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OMPARTIR LA MISMA 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Y EL SENTIDO DEL GRUP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ERMITE LLEGAR MÁS 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Y FÁCILMENTE A DESTIN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ORQUE AYUDAND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NTRE NOSOTROS LOS LOG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ON MEJ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-360" y="836640"/>
            <a:ext cx="4895640" cy="4019040"/>
            <a:chOff x="-360" y="836640"/>
            <a:chExt cx="4895640" cy="4019040"/>
          </a:xfrm>
        </p:grpSpPr>
        <p:pic>
          <p:nvPicPr>
            <p:cNvPr id="70" name="Picture 18" descr="Imagen11qa"/>
            <p:cNvPicPr/>
            <p:nvPr/>
          </p:nvPicPr>
          <p:blipFill>
            <a:blip r:embed="rId1"/>
            <a:stretch/>
          </p:blipFill>
          <p:spPr>
            <a:xfrm flipH="1">
              <a:off x="-360" y="2492280"/>
              <a:ext cx="115236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9" descr="Imagen11qa"/>
            <p:cNvPicPr/>
            <p:nvPr/>
          </p:nvPicPr>
          <p:blipFill>
            <a:blip r:embed="rId2"/>
            <a:stretch/>
          </p:blipFill>
          <p:spPr>
            <a:xfrm flipH="1">
              <a:off x="934920" y="1915920"/>
              <a:ext cx="11527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0" descr="Imagen11qa"/>
            <p:cNvPicPr/>
            <p:nvPr/>
          </p:nvPicPr>
          <p:blipFill>
            <a:blip r:embed="rId3"/>
            <a:stretch/>
          </p:blipFill>
          <p:spPr>
            <a:xfrm flipH="1">
              <a:off x="2016000" y="1411200"/>
              <a:ext cx="11527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1" descr="Imagen11qa"/>
            <p:cNvPicPr/>
            <p:nvPr/>
          </p:nvPicPr>
          <p:blipFill>
            <a:blip r:embed="rId4"/>
            <a:stretch/>
          </p:blipFill>
          <p:spPr>
            <a:xfrm flipH="1">
              <a:off x="3024000" y="836640"/>
              <a:ext cx="11527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2" descr="Imagen11qa"/>
            <p:cNvPicPr/>
            <p:nvPr/>
          </p:nvPicPr>
          <p:blipFill>
            <a:blip r:embed="rId5"/>
            <a:stretch/>
          </p:blipFill>
          <p:spPr>
            <a:xfrm flipH="1">
              <a:off x="1150560" y="3211200"/>
              <a:ext cx="115236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3" descr="Imagen11qa"/>
            <p:cNvPicPr/>
            <p:nvPr/>
          </p:nvPicPr>
          <p:blipFill>
            <a:blip r:embed="rId6"/>
            <a:stretch/>
          </p:blipFill>
          <p:spPr>
            <a:xfrm flipH="1">
              <a:off x="2447640" y="3644640"/>
              <a:ext cx="115236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4" descr="Imagen11qa"/>
            <p:cNvPicPr/>
            <p:nvPr/>
          </p:nvPicPr>
          <p:blipFill>
            <a:blip r:embed="rId7"/>
            <a:stretch/>
          </p:blipFill>
          <p:spPr>
            <a:xfrm flipH="1">
              <a:off x="3742920" y="3715920"/>
              <a:ext cx="1152360" cy="1139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"/>
          <p:cNvSpPr/>
          <p:nvPr/>
        </p:nvSpPr>
        <p:spPr>
          <a:xfrm>
            <a:off x="1116000" y="7650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UANDO UNA AVE SALE DE LA FORMACIÓ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6443640" y="2276640"/>
            <a:ext cx="1152720" cy="1223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0"/>
          <p:cNvGrpSpPr/>
          <p:nvPr/>
        </p:nvGrpSpPr>
        <p:grpSpPr>
          <a:xfrm>
            <a:off x="394920" y="1628640"/>
            <a:ext cx="4681440" cy="4453200"/>
            <a:chOff x="394920" y="1628640"/>
            <a:chExt cx="4681440" cy="4453200"/>
          </a:xfrm>
        </p:grpSpPr>
        <p:pic>
          <p:nvPicPr>
            <p:cNvPr id="80" name="Picture 13" descr="Imagen11qa"/>
            <p:cNvPicPr/>
            <p:nvPr/>
          </p:nvPicPr>
          <p:blipFill>
            <a:blip r:embed="rId1"/>
            <a:stretch/>
          </p:blipFill>
          <p:spPr>
            <a:xfrm flipH="1">
              <a:off x="394920" y="2997360"/>
              <a:ext cx="115236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4" descr="Imagen11qa"/>
            <p:cNvPicPr/>
            <p:nvPr/>
          </p:nvPicPr>
          <p:blipFill>
            <a:blip r:embed="rId2"/>
            <a:stretch/>
          </p:blipFill>
          <p:spPr>
            <a:xfrm flipH="1">
              <a:off x="1403280" y="2276640"/>
              <a:ext cx="115272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5" descr="Imagen11qa"/>
            <p:cNvPicPr/>
            <p:nvPr/>
          </p:nvPicPr>
          <p:blipFill>
            <a:blip r:embed="rId3"/>
            <a:stretch/>
          </p:blipFill>
          <p:spPr>
            <a:xfrm flipH="1">
              <a:off x="2842920" y="1628640"/>
              <a:ext cx="115236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6" descr="Imagen11qa"/>
            <p:cNvPicPr/>
            <p:nvPr/>
          </p:nvPicPr>
          <p:blipFill>
            <a:blip r:embed="rId4"/>
            <a:stretch/>
          </p:blipFill>
          <p:spPr>
            <a:xfrm flipH="1">
              <a:off x="1618920" y="3573360"/>
              <a:ext cx="115236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7" descr="Imagen11qa"/>
            <p:cNvPicPr/>
            <p:nvPr/>
          </p:nvPicPr>
          <p:blipFill>
            <a:blip r:embed="rId5"/>
            <a:stretch/>
          </p:blipFill>
          <p:spPr>
            <a:xfrm flipH="1">
              <a:off x="2771640" y="4292640"/>
              <a:ext cx="115272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8" descr="Imagen11qa"/>
            <p:cNvPicPr/>
            <p:nvPr/>
          </p:nvPicPr>
          <p:blipFill>
            <a:blip r:embed="rId6"/>
            <a:stretch/>
          </p:blipFill>
          <p:spPr>
            <a:xfrm flipH="1">
              <a:off x="3924000" y="4941720"/>
              <a:ext cx="1152360" cy="114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19" descr="Imagen11qa"/>
          <p:cNvPicPr/>
          <p:nvPr/>
        </p:nvPicPr>
        <p:blipFill>
          <a:blip r:embed="rId7"/>
          <a:stretch/>
        </p:blipFill>
        <p:spPr>
          <a:xfrm flipH="1">
            <a:off x="6372000" y="2276640"/>
            <a:ext cx="1152360" cy="113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5"/>
          <p:cNvSpPr/>
          <p:nvPr/>
        </p:nvSpPr>
        <p:spPr>
          <a:xfrm>
            <a:off x="1979640" y="54936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SIENTE LA RESISTENCIA DE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Y LA DIFICULTAD DE VOLAR SÓ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4"/>
          <p:cNvGrpSpPr/>
          <p:nvPr/>
        </p:nvGrpSpPr>
        <p:grpSpPr>
          <a:xfrm>
            <a:off x="179280" y="1484280"/>
            <a:ext cx="5040000" cy="4884120"/>
            <a:chOff x="179280" y="1484280"/>
            <a:chExt cx="5040000" cy="4884120"/>
          </a:xfrm>
        </p:grpSpPr>
        <p:pic>
          <p:nvPicPr>
            <p:cNvPr id="89" name="Picture 25" descr="Imagen11qa"/>
            <p:cNvPicPr/>
            <p:nvPr/>
          </p:nvPicPr>
          <p:blipFill>
            <a:blip r:embed="rId1"/>
            <a:stretch/>
          </p:blipFill>
          <p:spPr>
            <a:xfrm flipH="1">
              <a:off x="179280" y="2985480"/>
              <a:ext cx="124056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6" descr="Imagen11qa"/>
            <p:cNvPicPr/>
            <p:nvPr/>
          </p:nvPicPr>
          <p:blipFill>
            <a:blip r:embed="rId2"/>
            <a:stretch/>
          </p:blipFill>
          <p:spPr>
            <a:xfrm flipH="1">
              <a:off x="1263960" y="2194920"/>
              <a:ext cx="124092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7" descr="Imagen11qa"/>
            <p:cNvPicPr/>
            <p:nvPr/>
          </p:nvPicPr>
          <p:blipFill>
            <a:blip r:embed="rId3"/>
            <a:stretch/>
          </p:blipFill>
          <p:spPr>
            <a:xfrm flipH="1">
              <a:off x="2814840" y="1484280"/>
              <a:ext cx="124056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8" descr="Imagen11qa"/>
            <p:cNvPicPr/>
            <p:nvPr/>
          </p:nvPicPr>
          <p:blipFill>
            <a:blip r:embed="rId4"/>
            <a:stretch/>
          </p:blipFill>
          <p:spPr>
            <a:xfrm flipH="1">
              <a:off x="1496880" y="3617280"/>
              <a:ext cx="124056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9" descr="Imagen11qa"/>
            <p:cNvPicPr/>
            <p:nvPr/>
          </p:nvPicPr>
          <p:blipFill>
            <a:blip r:embed="rId5"/>
            <a:stretch/>
          </p:blipFill>
          <p:spPr>
            <a:xfrm flipH="1">
              <a:off x="2737440" y="4406400"/>
              <a:ext cx="124092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0" descr="Imagen11qa"/>
            <p:cNvPicPr/>
            <p:nvPr/>
          </p:nvPicPr>
          <p:blipFill>
            <a:blip r:embed="rId6"/>
            <a:stretch/>
          </p:blipFill>
          <p:spPr>
            <a:xfrm flipH="1">
              <a:off x="3978720" y="5118120"/>
              <a:ext cx="1240560" cy="12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32"/>
          <p:cNvGrpSpPr/>
          <p:nvPr/>
        </p:nvGrpSpPr>
        <p:grpSpPr>
          <a:xfrm>
            <a:off x="7667280" y="3141720"/>
            <a:ext cx="1203840" cy="1139760"/>
            <a:chOff x="7667280" y="3141720"/>
            <a:chExt cx="1203840" cy="1139760"/>
          </a:xfrm>
        </p:grpSpPr>
        <p:sp>
          <p:nvSpPr>
            <p:cNvPr id="96" name="Oval 23"/>
            <p:cNvSpPr/>
            <p:nvPr/>
          </p:nvSpPr>
          <p:spPr>
            <a:xfrm>
              <a:off x="7667640" y="3141720"/>
              <a:ext cx="1203480" cy="11304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31" descr="Imagen11qa"/>
            <p:cNvPicPr/>
            <p:nvPr/>
          </p:nvPicPr>
          <p:blipFill>
            <a:blip r:embed="rId7"/>
            <a:stretch/>
          </p:blipFill>
          <p:spPr>
            <a:xfrm flipH="1">
              <a:off x="7667280" y="3141720"/>
              <a:ext cx="1152360" cy="1139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6"/>
          <p:cNvSpPr/>
          <p:nvPr/>
        </p:nvSpPr>
        <p:spPr>
          <a:xfrm>
            <a:off x="0" y="544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NTONCES, RÁPIDAMENTE RETORNA A LA FORM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ARA APROVECHAR EL PODER DE ELEVACIÓN DE LOS QUE ESTÁN A SU F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6"/>
          <p:cNvGrpSpPr/>
          <p:nvPr/>
        </p:nvGrpSpPr>
        <p:grpSpPr>
          <a:xfrm>
            <a:off x="-360" y="620640"/>
            <a:ext cx="4681440" cy="4452480"/>
            <a:chOff x="-360" y="620640"/>
            <a:chExt cx="4681440" cy="4452480"/>
          </a:xfrm>
        </p:grpSpPr>
        <p:pic>
          <p:nvPicPr>
            <p:cNvPr id="100" name="Picture 27" descr="Imagen11qa"/>
            <p:cNvPicPr/>
            <p:nvPr/>
          </p:nvPicPr>
          <p:blipFill>
            <a:blip r:embed="rId1"/>
            <a:stretch/>
          </p:blipFill>
          <p:spPr>
            <a:xfrm flipH="1">
              <a:off x="-360" y="1989000"/>
              <a:ext cx="115236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8" descr="Imagen11qa"/>
            <p:cNvPicPr/>
            <p:nvPr/>
          </p:nvPicPr>
          <p:blipFill>
            <a:blip r:embed="rId2"/>
            <a:stretch/>
          </p:blipFill>
          <p:spPr>
            <a:xfrm flipH="1">
              <a:off x="1008000" y="1268280"/>
              <a:ext cx="11527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9" descr="Imagen11qa"/>
            <p:cNvPicPr/>
            <p:nvPr/>
          </p:nvPicPr>
          <p:blipFill>
            <a:blip r:embed="rId3"/>
            <a:stretch/>
          </p:blipFill>
          <p:spPr>
            <a:xfrm flipH="1">
              <a:off x="2447640" y="620640"/>
              <a:ext cx="115236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30" descr="Imagen11qa"/>
            <p:cNvPicPr/>
            <p:nvPr/>
          </p:nvPicPr>
          <p:blipFill>
            <a:blip r:embed="rId4"/>
            <a:stretch/>
          </p:blipFill>
          <p:spPr>
            <a:xfrm flipH="1">
              <a:off x="1223640" y="2565000"/>
              <a:ext cx="115236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1" descr="Imagen11qa"/>
            <p:cNvPicPr/>
            <p:nvPr/>
          </p:nvPicPr>
          <p:blipFill>
            <a:blip r:embed="rId5"/>
            <a:stretch/>
          </p:blipFill>
          <p:spPr>
            <a:xfrm flipH="1">
              <a:off x="2376360" y="3284280"/>
              <a:ext cx="11527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2" descr="Imagen11qa"/>
            <p:cNvPicPr/>
            <p:nvPr/>
          </p:nvPicPr>
          <p:blipFill>
            <a:blip r:embed="rId6"/>
            <a:stretch/>
          </p:blipFill>
          <p:spPr>
            <a:xfrm flipH="1">
              <a:off x="3528720" y="3933360"/>
              <a:ext cx="1152360" cy="113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33"/>
          <p:cNvGrpSpPr/>
          <p:nvPr/>
        </p:nvGrpSpPr>
        <p:grpSpPr>
          <a:xfrm>
            <a:off x="7667280" y="3284640"/>
            <a:ext cx="1203840" cy="1139760"/>
            <a:chOff x="7667280" y="3284640"/>
            <a:chExt cx="1203840" cy="1139760"/>
          </a:xfrm>
        </p:grpSpPr>
        <p:sp>
          <p:nvSpPr>
            <p:cNvPr id="107" name="Oval 34"/>
            <p:cNvSpPr/>
            <p:nvPr/>
          </p:nvSpPr>
          <p:spPr>
            <a:xfrm>
              <a:off x="7667640" y="3284640"/>
              <a:ext cx="1203480" cy="11304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35" descr="Imagen11qa"/>
            <p:cNvPicPr/>
            <p:nvPr/>
          </p:nvPicPr>
          <p:blipFill>
            <a:blip r:embed="rId7"/>
            <a:stretch/>
          </p:blipFill>
          <p:spPr>
            <a:xfrm flipH="1">
              <a:off x="7667280" y="3284640"/>
              <a:ext cx="1152360" cy="1139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7.40741E-007 C -0.00486 -0.00625 -0.00851 -0.01343 -0.01337 -0.01991 C -0.0158 -0.02917 -0.01997 -0.03519 -0.025 -0.04213 C -0.02796 -0.05371 -0.0382 -0.06713 -0.04341 -0.07778 C -0.04549 -0.08218 -0.05174 -0.08889 -0.05174 -0.08889 C -0.05677 -0.10741 -0.08021 -0.12917 -0.09167 -0.14213 C -0.10243 -0.1544 -0.11372 -0.16621 -0.125 -0.17778 C -0.13039 -0.18334 -0.13733 -0.18588 -0.14341 -0.18889 C -0.16389 -0.19931 -0.14011 -0.18774 -0.15348 -0.19769 C -0.16302 -0.20486 -0.17361 -0.20903 -0.18334 -0.21551 C -0.19254 -0.22176 -0.20018 -0.23125 -0.21007 -0.23542 C -0.21181 -0.23774 -0.2132 -0.24005 -0.21511 -0.24213 C -0.21667 -0.24375 -0.21858 -0.24468 -0.22014 -0.24653 C -0.22761 -0.2551 -0.22917 -0.26019 -0.23837 -0.26436 C -0.25452 -0.27986 -0.26198 -0.27986 -0.28334 -0.28218 C -0.31233 -0.29098 -0.31632 -0.28936 -0.35834 -0.29098 C -0.3691 -0.29792 -0.36927 -0.2963 -0.37848 -0.3088 C -0.38004 -0.31111 -0.3816 -0.3132 -0.38334 -0.31551 C -0.38455 -0.31713 -0.38681 -0.31991 -0.38681 -0.31991 C -0.39011 -0.33403 -0.4 -0.34399 -0.40677 -0.35556 C -0.4132 -0.36644 -0.41927 -0.37732 -0.425 -0.38889 C -0.42674 -0.3926 -0.425 -0.39769 -0.425 -0.40209 E">
                                      <p:cBhvr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5"/>
          <p:cNvSpPr/>
          <p:nvPr/>
        </p:nvSpPr>
        <p:spPr>
          <a:xfrm>
            <a:off x="5364000" y="0"/>
            <a:ext cx="378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LECCIÓN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ERMANECIENDO EN SINTONÍA Y U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JUNTO A  AQUELLOS QUE SE DI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N NUESTRA MISMA DIREC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L ESFUERZO SERÁ MEN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ERÁ MÁS SENCILLO Y PLACEN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LCANZAR LAS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AREMOS DISPUES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  ACEPTAR Y OFRECER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4"/>
          <p:cNvSpPr/>
          <p:nvPr/>
        </p:nvSpPr>
        <p:spPr>
          <a:xfrm>
            <a:off x="3132000" y="836640"/>
            <a:ext cx="1224000" cy="1130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5"/>
          <p:cNvGrpSpPr/>
          <p:nvPr/>
        </p:nvGrpSpPr>
        <p:grpSpPr>
          <a:xfrm>
            <a:off x="-360" y="692280"/>
            <a:ext cx="5003280" cy="4595400"/>
            <a:chOff x="-360" y="692280"/>
            <a:chExt cx="5003280" cy="4595400"/>
          </a:xfrm>
        </p:grpSpPr>
        <p:pic>
          <p:nvPicPr>
            <p:cNvPr id="112" name="Picture 26" descr="Imagen11qa"/>
            <p:cNvPicPr/>
            <p:nvPr/>
          </p:nvPicPr>
          <p:blipFill>
            <a:blip r:embed="rId1"/>
            <a:stretch/>
          </p:blipFill>
          <p:spPr>
            <a:xfrm flipH="1">
              <a:off x="-360" y="2585520"/>
              <a:ext cx="1177560" cy="13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7" descr="Imagen11qa"/>
            <p:cNvPicPr/>
            <p:nvPr/>
          </p:nvPicPr>
          <p:blipFill>
            <a:blip r:embed="rId2"/>
            <a:stretch/>
          </p:blipFill>
          <p:spPr>
            <a:xfrm flipH="1">
              <a:off x="955440" y="1926360"/>
              <a:ext cx="1177920" cy="13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28" descr="Imagen11qa"/>
            <p:cNvPicPr/>
            <p:nvPr/>
          </p:nvPicPr>
          <p:blipFill>
            <a:blip r:embed="rId3"/>
            <a:stretch/>
          </p:blipFill>
          <p:spPr>
            <a:xfrm flipH="1">
              <a:off x="2060280" y="1349280"/>
              <a:ext cx="1177920" cy="13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9" descr="Imagen11qa"/>
            <p:cNvPicPr/>
            <p:nvPr/>
          </p:nvPicPr>
          <p:blipFill>
            <a:blip r:embed="rId4"/>
            <a:stretch/>
          </p:blipFill>
          <p:spPr>
            <a:xfrm flipH="1">
              <a:off x="3090600" y="692280"/>
              <a:ext cx="1177920" cy="13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30" descr="Imagen11qa"/>
            <p:cNvPicPr/>
            <p:nvPr/>
          </p:nvPicPr>
          <p:blipFill>
            <a:blip r:embed="rId5"/>
            <a:stretch/>
          </p:blipFill>
          <p:spPr>
            <a:xfrm flipH="1">
              <a:off x="1175760" y="3407400"/>
              <a:ext cx="1177560" cy="13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1" descr="Imagen11qa"/>
            <p:cNvPicPr/>
            <p:nvPr/>
          </p:nvPicPr>
          <p:blipFill>
            <a:blip r:embed="rId6"/>
            <a:stretch/>
          </p:blipFill>
          <p:spPr>
            <a:xfrm flipH="1">
              <a:off x="2501280" y="3902760"/>
              <a:ext cx="1177560" cy="13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2" descr="Imagen11qa"/>
            <p:cNvPicPr/>
            <p:nvPr/>
          </p:nvPicPr>
          <p:blipFill>
            <a:blip r:embed="rId7"/>
            <a:stretch/>
          </p:blipFill>
          <p:spPr>
            <a:xfrm flipH="1">
              <a:off x="3825360" y="3984480"/>
              <a:ext cx="1177560" cy="1303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7:16:02Z</dcterms:created>
  <dc:creator>J.S.</dc:creator>
  <dc:description/>
  <dc:language>en-US</dc:language>
  <cp:lastModifiedBy>RAUL ECHEANDIA</cp:lastModifiedBy>
  <dcterms:modified xsi:type="dcterms:W3CDTF">2012-04-05T19:01:33Z</dcterms:modified>
  <cp:revision>12</cp:revision>
  <dc:subject/>
  <dc:title>El Vuelo de las Aves</dc:title>
</cp:coreProperties>
</file>