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FAFB-0B2E-4197-B27D-DA9A0010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578-0333-47BB-B150-D80BBE90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5EC-DFAF-407D-AC5B-7B490624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56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288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1460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7856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4288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E616-F8A3-4C6C-931C-9933CD32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91EE-AB4D-491E-8211-B3D077E4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95D9-7DD8-41A1-884F-CEF0CFB6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530E-B0E7-4B6E-8B74-5EC35362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C71B-D847-49BA-9F04-85119B0F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7984-3BB4-4F54-8B93-1E071C1F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477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761B-1A3F-4B9C-A1A9-A5D21850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EA94-DE9F-440F-BC80-7CFC4044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9B9-4C77-4380-9B65-21F37C93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0E3F-81E7-406D-896C-7E54BDFB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363D-6C17-4451-A645-04C4FE6F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FF90-5823-480A-A25C-D0FBA2A8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7B26-1DAE-4A44-B9CC-8E885125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56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4288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1460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7856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84288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07F2-6B57-4941-B158-739DFF33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8B7-5C75-49C6-86BC-3E247431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781-1D31-4470-A764-9C11D4CF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B62-F2D7-4070-B5D6-C45BF5D8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477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0499-B026-433E-9CC3-7B731106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D1EF-BB9F-49C5-AA99-15DFF8DF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B2F-7999-441A-9644-4F72F7C7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E2A-DD44-4232-9942-0DF02CEB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0958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A63C-DDE6-4B3E-83D7-C85C732AB6BF}" type="datetime">
              <a:rPr b="0" lang="pt-BR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3F79-A412-4EF3-9D37-DD1D1928AF9A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600"/>
            <a:ext cx="6399360" cy="17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0958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87F7-5625-4AB0-8E4B-A2011E969568}" type="datetime">
              <a:rPr b="0" lang="pt-BR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36DE-E2FA-4307-A1C8-8E77D939B13B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622764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pt-BR" sz="4800" spc="-1" strike="noStrike">
                <a:solidFill>
                  <a:srgbClr val="ffffff"/>
                </a:solidFill>
                <a:latin typeface="Arial Narrow"/>
              </a:rPr>
              <a:t>Automasaje</a:t>
            </a:r>
            <a:br>
              <a:rPr sz="4800"/>
            </a:br>
            <a:r>
              <a:rPr b="1" lang="pt-BR" sz="3200" spc="-1" strike="noStrike">
                <a:solidFill>
                  <a:srgbClr val="ffff66"/>
                </a:solidFill>
                <a:latin typeface="Arial Narrow"/>
              </a:rPr>
              <a:t>para aliviar tensiones del día-a-día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24360" y="1628640"/>
            <a:ext cx="2092320" cy="3098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76720" y="4869000"/>
            <a:ext cx="4498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 Narrow"/>
              </a:rPr>
              <a:t>Clínica Salud &amp; Bienest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Andradas 1234, conj, 1601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fone 3228 638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Reichelt Emmel       Massoterapeuta  cel: 9808758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FD5B-66E3-495E-92EF-FEF85D239B1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F4ED3-0BA4-4A0B-A35C-F32E18AB70DF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640" y="304560"/>
            <a:ext cx="79437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automasaje 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– </a:t>
            </a: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dolor al escribir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2057040"/>
            <a:ext cx="46814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te toque es indicado para personas que seinten dolores durante la escritu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Presionar los músculos del antebrazo con el pulg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Cada punto debe ser estimulado unos diez segund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Es importante masajear la parte superior e infer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76720" y="2687760"/>
            <a:ext cx="3816360" cy="254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Reichelt Emmel       Massoterapeuta  cel: 9808758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B91-5066-4C3C-B64B-562064FEFD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82266-E9AF-4DE5-BDD1-28F65D422833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8015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automasaje – dolor de pierna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43210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Las piernas merecen atención a la hora del masa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ufren al estar de pie o sentado durante mucho tiemp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Dar leves pellizcos para activar la circu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00720" y="2328840"/>
            <a:ext cx="4281480" cy="285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Reichelt Emmel       Massoterapeuta  cel: 9808758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3A8-121A-49D0-8143-4EC5A93D28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E2004-AFD9-469E-ADE1-96C5B57A06D4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640" y="304560"/>
            <a:ext cx="79437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automasaje - dolor de pierna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565000"/>
            <a:ext cx="4105080" cy="32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2. Repetir los pellizcos suavemente en la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pantorrilla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y en el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tobill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284720" y="2184480"/>
            <a:ext cx="4497480" cy="309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Reichelt Emmel       Massoterapeuta  cel: 9808758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3C2-08C9-4F69-8C89-8C35F3B0B1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64484-5B27-4F88-BB1E-FD11D314C2C6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993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automasaje - dolor de pierna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4032360" cy="23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3. Presionar los puntos de la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espinilla y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la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pantorrilla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con los pulg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3280" y="2232000"/>
            <a:ext cx="4138920" cy="275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Reichelt Emmel       Massoterapeuta  cel: 9808758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C28-62BF-473A-BFB7-F3BF8D93ACE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430EC-5FB9-4189-BD57-CE58B3327963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15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automasaje – dolor en los pi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3413160" cy="41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i usa zapatos cerrados o de tacón alto necesitan hacer este movim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Colocar la pelota de tenis bajo los pies y presione para que se curv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Hacer movimientos hacia adelante y hacia los l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427640" y="2157480"/>
            <a:ext cx="4392360" cy="292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Reichelt Emmel       Massoterapeuta  cel: 9808758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D3D-016C-48D0-AF5A-2ABDBEEF22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EF63F-A88C-45C3-9417-D8C64C581B8C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Fuent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fª Maria Julia Pereira Coelho Ferraz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pecialista en Ortopedia Funcional de los Maxilares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stre em Ortodontia pela FOP/UNICAMP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outoranda em Biologia Buco-Dental pela FOP/UNICA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rtal Unimeds com informações da Folha de S. Paul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vista Criativa - Edição de abril/200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a Forma  - T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Reichelt Emmel       Massoterapeuta  cel: 9808758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52A-5722-4D6C-BA13-86363EFC00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8F9BC-939E-4CFF-8339-180768086FE3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cc"/>
                </a:solidFill>
                <a:latin typeface="Arial Narrow"/>
              </a:rPr>
              <a:t>automasaje anti-stres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751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l automasaje es una alternativa rápida y eficaz para relajarse a diari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uede hacerse en cualquier lugar con simplicidad y eficac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menzar con 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</a:rPr>
              <a:t>movimientos circulares en las sienes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en sentido horario y anti-horario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19640" y="2328840"/>
            <a:ext cx="3673440" cy="244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Reichelt Emmel       Massoterapeuta  cel: 9808758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3D1B-93F3-4283-9634-87B54062D4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1A439-61FB-4331-AC9A-F61ECB501FF0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2920" y="304560"/>
            <a:ext cx="7512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automasaje anti-stres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640" y="2565360"/>
            <a:ext cx="4248000" cy="34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petir el movimiento en la 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articulación de la mandíbul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64000" y="2712960"/>
            <a:ext cx="3418200" cy="2278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765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Reichelt Emmel       Massoterapeuta  cel: 9808758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11A-E5FC-48AB-9A96-29AD3B41F0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2B308-6486-48AC-A3ED-BC45ED44C750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304560"/>
            <a:ext cx="7799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automasaje - dolor de cabez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12408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1. Presionar la parte superior del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maxilar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con el nudo del dedo índice durante 15 segundo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579640" y="1628640"/>
            <a:ext cx="312444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2. Empujar el músculo de debajo la </a:t>
            </a:r>
            <a:r>
              <a:rPr b="1" lang="pt-BR" sz="2200" spc="-1" strike="noStrike">
                <a:solidFill>
                  <a:srgbClr val="ffff00"/>
                </a:solidFill>
                <a:latin typeface="Arial"/>
              </a:rPr>
              <a:t>ceja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 en  la cavidad del ojo durante 15 segund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400536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940360" y="4005360"/>
            <a:ext cx="2857680" cy="1904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Reichelt Emmel       Massoterapeuta  cel: 9808758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362-781E-4BBA-832F-245AB135BA37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E8791-4E7A-4570-8BB3-424680666D3C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automasaje – dolor de hombro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4378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masar la región del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trapecio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(hombr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Lo ideal es sujetar cerca de dos segundos y sol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es necesaria mucha fuerz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13560" y="1916280"/>
            <a:ext cx="2592360" cy="38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Reichelt Emmel       Massoterapeuta  cel: 9808758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941-1BB9-4BE2-8ECC-25EF13E823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C0201-B367-41FF-80FF-251BAF0DB046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2310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automasaje – dolor del cuell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413208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petir el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amasamiento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alrededor del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cuello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, sin tocar las vértebr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03640" y="2471760"/>
            <a:ext cx="3778560" cy="25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Reichelt Emmel       Massoterapeuta  cel: 9808758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71B-D427-405D-9FF6-E149F19992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97D34-084F-4621-9F7C-1D998B6F492B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8015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automasaje – dolor de espald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341172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to es ideal para quien esté sentado durante mucho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Deslizar las manos en la región lumbar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427640" y="2087640"/>
            <a:ext cx="4354560" cy="29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Reichelt Emmel       Massoterapeuta  cel: 9808758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81D-5844-438B-AE79-C3B9785E9B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ECE50-250D-4BEA-963E-A7470B41EAD6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304560"/>
            <a:ext cx="79437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automasaje – dolor lumbar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2636640"/>
            <a:ext cx="396072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2. En la zona lumbar, hacer el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amasamiento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284720" y="2281320"/>
            <a:ext cx="4497480" cy="29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Reichelt Emmel       Massoterapeuta  cel: 9808758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5FD-56F5-4C6F-A96E-A6E84C0998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D2AD0-2D29-45E3-A51F-26317E9C27F6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2310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automasaje – dolor de espald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10544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. Colocar una pelota de tenis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nt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la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escápul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de la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column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y deposite todo su peso para aliviar la tensión del área más circund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03640" y="1628640"/>
            <a:ext cx="391176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2. Colocar la pelota de tenis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nt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l músculo del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uell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y el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cráne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 Mantener la posición hasta que ocurra la relaj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64000" y="414972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Reichelt Emmel       Massoterapeuta  cel: 9808758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C514-A534-4DE9-A3D1-926079BFA341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77CFE-3E99-4A78-A688-476FD8E78F43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sa</cp:lastModifiedBy>
  <dcterms:modified xsi:type="dcterms:W3CDTF">2011-02-14T19:42:06Z</dcterms:modified>
  <cp:revision>31</cp:revision>
  <dc:subject/>
  <dc:title>Apresentação do PowerPoint</dc:title>
</cp:coreProperties>
</file>