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33.jpeg" ContentType="image/jpeg"/>
  <Override PartName="/ppt/media/Para%20PPS%20-%20%20Ernesto%20Cortazar%20-%20Over%20the%20Rainbow.wav" ContentType="audio/x-wav"/>
  <Override PartName="/ppt/media/image1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F02F-2298-49E6-B554-280EF947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D318-FCCD-4CB2-BB51-56C5AF79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DAFF-BB26-4177-B464-657FCC42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9A1C-A474-4527-AE0B-AB1E580F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D480-75D8-4FAE-8C03-CD6CAEC4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AE94-0BA2-486C-962C-E1042950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1D08-8FAA-4B83-A561-B73924FE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5E58-5763-4CDE-A6E9-B25BDD1E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85B8-5145-40DD-AC77-3D067892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B55C-2B52-4AF1-9603-C28B35F1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D06E-FB72-4D20-B737-9A5E0AF1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8D6B-FD9F-426B-92CA-8D1464D9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9D3D-F86F-4B39-A5E6-0FC42516B09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ara%20PPS%20-%20%20Ernesto%20Cortazar%20-%20Over%20the%20Rainbow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089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4119480" y="12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0" y="3573360"/>
            <a:ext cx="485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Times New Roman"/>
              </a:rPr>
              <a:t>La sociedad te prepara para la actividad, para la ambición, para la prisa, para la eficiencia. No te prepara para relajarte ni para no hacer nada y descans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5867280" y="623736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Times New Roman"/>
              </a:rPr>
              <a:t>click para cambi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Para%20PPS%20-%20%20Ernesto%20Cortazar%20-%20Over%20the%20Rainb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280"/>
                            </p:stCondLst>
                            <p:childTnLst>
                              <p:par>
                                <p:cTn id="1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054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Times New Roman"/>
              </a:rPr>
              <a:t>Muévete como si toda la eternidad estuviera a tu disposición; de hecho lo está. Estamos aquí desde el principio y vamos a estar hasta el f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056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0" y="0"/>
            <a:ext cx="41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Times New Roman"/>
              </a:rPr>
              <a:t>Recuerda que en el universo no hay principio ni f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0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0" y="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Times New Roman"/>
              </a:rPr>
              <a:t>Siempre hemos estado aquí y lo estaremos siempre.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O" sz="2400" spc="-1" strike="noStrike">
                <a:solidFill>
                  <a:srgbClr val="ffffff"/>
                </a:solidFill>
                <a:latin typeface="Times New Roman"/>
              </a:rPr>
              <a:t>Cambian las formas pero no la sustancia; cambian las vestiduras, pero no el al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059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7451640" y="0"/>
            <a:ext cx="16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Times New Roman"/>
              </a:rPr>
              <a:t>Tensión significa prisa, miedo, du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0" y="1989000"/>
            <a:ext cx="212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Times New Roman"/>
              </a:rPr>
              <a:t>La tensión significa estar temerosos de que mañana no podamos enfrentarnos a la realidad, obligándonos a  estar en permanente guar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065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4932360" y="0"/>
            <a:ext cx="421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Times New Roman"/>
              </a:rPr>
              <a:t>El primer paso para la relajación está en </a:t>
            </a:r>
            <a:r>
              <a:rPr b="1" lang="es-CO" sz="2400" spc="-1" strike="noStrike">
                <a:solidFill>
                  <a:srgbClr val="ffff00"/>
                </a:solidFill>
                <a:latin typeface="Times New Roman"/>
              </a:rPr>
              <a:t>tu cuerpo</a:t>
            </a:r>
            <a:r>
              <a:rPr b="1" lang="es-CO" sz="2400" spc="-1" strike="noStrike">
                <a:solidFill>
                  <a:srgbClr val="ffffff"/>
                </a:solidFill>
                <a:latin typeface="Times New Roman"/>
              </a:rPr>
              <a:t>, mira en tu interior y busca alguna tensión en él: en el cuello, en la cabeza, en las piernas. Relájalo a conciencia. Ve hasta esa parte del cuerpo y persuádela, dile amorosamente: “¡Relájate!”</a:t>
            </a: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074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Times New Roman"/>
              </a:rPr>
              <a:t>Al abordar cualquier parte de tu cuerpo, quedarás sorprendido de que te escucha, te hace caso; ¡es tu cuerpo! Con los ojos cerrados penetra en su interior, desde los dedos de los pies hasta la cabeza, localizando cualquier lugar donde haya ten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0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324000" y="0"/>
            <a:ext cx="864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476360" y="18900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Times New Roman"/>
              </a:rPr>
              <a:t>Habla entonces con esa parte del cuerpo como si hablaras con un amigo; permite un diálogo entre tu cuerpo y t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068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Dile que se relaje y adviértele: “No hay nada que temer. No tengas miedo.Estoy aquí para cuidarte; estate tranquil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069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179280" y="333360"/>
            <a:ext cx="88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Times New Roman"/>
              </a:rPr>
              <a:t>Poco a poco, aprenderás el truco. Conseguirás que el cuerpo se rel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061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539640" y="544500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Times New Roman"/>
              </a:rPr>
              <a:t>Toda sociedad es impulsada, obsesionada y adicta al trabajo. Por lo tanto no quiere que aprendas a relajarte.</a:t>
            </a: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070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324000" y="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Times New Roman"/>
              </a:rPr>
              <a:t>Después da otro paso, un poco más profundo; dile a </a:t>
            </a:r>
            <a:r>
              <a:rPr b="1" lang="es-CO" sz="2400" spc="-1" strike="noStrike">
                <a:solidFill>
                  <a:srgbClr val="ffff00"/>
                </a:solidFill>
                <a:latin typeface="Times New Roman"/>
              </a:rPr>
              <a:t>la mente</a:t>
            </a:r>
            <a:r>
              <a:rPr b="0" lang="es-CO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CO" sz="2400" spc="-1" strike="noStrike">
                <a:solidFill>
                  <a:srgbClr val="ffffff"/>
                </a:solidFill>
                <a:latin typeface="Times New Roman"/>
              </a:rPr>
              <a:t>que se relaje. Si el cuerpo escucha, la mente también lo hace.</a:t>
            </a: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082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0" y="0"/>
            <a:ext cx="46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Mucha gente empieza por la mente y fracasa; se debe a que empieza por el sitio equivocado. Primero el cuerpo, luego la 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0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Times New Roman"/>
              </a:rPr>
              <a:t>Cuando la mente se encuentre relajada empieza entonces a relajar tu </a:t>
            </a:r>
            <a:r>
              <a:rPr b="1" lang="es-CO" sz="2400" spc="-1" strike="noStrike">
                <a:solidFill>
                  <a:srgbClr val="ffff00"/>
                </a:solidFill>
                <a:latin typeface="Times New Roman"/>
              </a:rPr>
              <a:t>corazón…</a:t>
            </a:r>
            <a:r>
              <a:rPr b="0" lang="es-CO" sz="2400" spc="-1" strike="noStrike">
                <a:solidFill>
                  <a:srgbClr val="ffffff"/>
                </a:solidFill>
                <a:latin typeface="Times New Roman"/>
              </a:rPr>
              <a:t> el mundo de tus sentimientos, tus emociones ; algo todavía más complejo, más sutil. Sólo entonces ,cuando has dado estos tres pasos, puedes pasar al cua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084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0" y="0"/>
            <a:ext cx="55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Ahora puedes pasar </a:t>
            </a:r>
            <a:r>
              <a:rPr b="1" lang="es-CO" sz="2400" spc="-1" strike="noStrike">
                <a:solidFill>
                  <a:srgbClr val="ff3300"/>
                </a:solidFill>
                <a:latin typeface="Times New Roman"/>
              </a:rPr>
              <a:t>al centro más interno de tu ser</a:t>
            </a: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, el cual está más allá del cuerpo, de la mente, del corazón: </a:t>
            </a:r>
            <a:r>
              <a:rPr b="1" lang="es-CO" sz="2400" spc="-1" strike="noStrike">
                <a:solidFill>
                  <a:srgbClr val="ff3300"/>
                </a:solidFill>
                <a:latin typeface="Times New Roman"/>
              </a:rPr>
              <a:t>el verdadero centro de tu existencia</a:t>
            </a: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. Conseguirás también relaj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097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250920" y="567072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Times New Roman"/>
              </a:rPr>
              <a:t>Dicha relajación aporta el mayor gozo posible, el supremo éxtasis, la total aceptación. Te hallarás lleno de felicidad y de júbilo. Llenarás tu vida de ductilidad y armonía, la convertirá en dan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062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5003640" y="1700280"/>
            <a:ext cx="374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Times New Roman"/>
              </a:rPr>
              <a:t>La existencia danza en armonía, la existencia entera se mueve de una manera muy relajada; hay movimiento, sin duda, pero en total equilib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095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0" y="4419720"/>
            <a:ext cx="47880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Times New Roman"/>
              </a:rPr>
              <a:t>Los árboles crecen, los pájaros trinan y los ríos fluyen; las estrellas se mueven: todo marcha de una manera muy armónica. Sin prisa, sin alboroto, sin preocupación y sin desperdiciar 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080"/>
          <p:cNvPicPr/>
          <p:nvPr/>
        </p:nvPicPr>
        <p:blipFill>
          <a:blip r:embed="rId1"/>
          <a:stretch/>
        </p:blipFill>
        <p:spPr>
          <a:xfrm>
            <a:off x="1440" y="-133200"/>
            <a:ext cx="9323640" cy="69912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395280" y="18900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Times New Roman"/>
              </a:rPr>
              <a:t>La relajación es un fenómeno de gran complejidad; con muchos matices multidimensionales.</a:t>
            </a: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84360" y="4941720"/>
            <a:ext cx="82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091"/>
          <p:cNvPicPr/>
          <p:nvPr/>
        </p:nvPicPr>
        <p:blipFill>
          <a:blip r:embed="rId1"/>
          <a:stretch/>
        </p:blipFill>
        <p:spPr>
          <a:xfrm>
            <a:off x="0" y="0"/>
            <a:ext cx="9142560" cy="68594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539640" y="260280"/>
            <a:ext cx="8209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Times New Roman"/>
              </a:rPr>
              <a:t>Son primordiales las siguientes cosas: entregar, confiar, darse, amar, aceptar, seguir la voz de tu corazón, unirse a la existencia, disolver el ego, entrar en éxtasis. Todo ello comienza a suceder si aprendes los caminos hacia la relaj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085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0" y="191628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Times New Roman"/>
              </a:rPr>
              <a:t>Como no sabemos a ciencia cierta si existe el cielo y el infierno, no temas al infierno y tampoco ansíes el cielo. Todo lo que existe es este momento. Puedes convertirlo en cielo o en infier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073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24000" y="476280"/>
            <a:ext cx="26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468360" y="3357720"/>
            <a:ext cx="230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0" y="0"/>
            <a:ext cx="539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Times New Roman"/>
              </a:rPr>
              <a:t>La relajación  tiene poderes milagrosos. Trata de relajarte una hora o dos de las 24 y adquirirás mayor percepción sobre ti m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081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468360" y="333360"/>
            <a:ext cx="194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Times New Roman"/>
              </a:rPr>
              <a:t>El infierno existe cuando te encuentras ten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0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6095880" y="620640"/>
            <a:ext cx="250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Times New Roman"/>
              </a:rPr>
              <a:t>El cielo, cuando estás relaj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3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079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2195640" y="26028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Times New Roman"/>
              </a:rPr>
              <a:t>La relajación total es el paraí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0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0" y="0"/>
            <a:ext cx="248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Times New Roman"/>
              </a:rPr>
              <a:t>Textos adaptados especialmente para ti del libro “El equilibrio entre la mente y el cuerpo” de OSH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477120" y="6019920"/>
            <a:ext cx="2666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Lucida Handwriting"/>
                <a:ea typeface="Times New Roman"/>
              </a:rPr>
              <a:t>R.S. -</a:t>
            </a:r>
            <a:fld id="{91739AEA-2C0D-4C5B-B843-D011531D810B}" type="datetime">
              <a:rPr b="0" lang="en-US" sz="1200" spc="-1" strike="noStrike">
                <a:solidFill>
                  <a:srgbClr val="ffffff"/>
                </a:solidFill>
                <a:latin typeface="Lucida Handwriting"/>
                <a:ea typeface="Times New Roman"/>
              </a:rPr>
              <a:t>07/30/26</a:t>
            </a:fld>
            <a:r>
              <a:rPr b="0" lang="en-US" sz="1200" spc="-1" strike="noStrike">
                <a:solidFill>
                  <a:srgbClr val="ffffff"/>
                </a:solidFill>
                <a:latin typeface="Lucida Handwriting"/>
                <a:ea typeface="Times New Roman"/>
              </a:rPr>
              <a:t> </a:t>
            </a:r>
            <a:fld id="{8905380B-96A3-4083-AAAB-4CA751955FD6}" type="datetime10">
              <a:rPr b="0" lang="en-US" sz="1200" spc="-1" strike="noStrike">
                <a:solidFill>
                  <a:srgbClr val="ffffff"/>
                </a:solidFill>
                <a:latin typeface="Lucida Handwriting"/>
                <a:ea typeface="Times New Roman"/>
              </a:rPr>
              <a:t>15:0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308720" y="620640"/>
            <a:ext cx="13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Times New Roman"/>
              </a:rPr>
              <a:t>¡Dios te bendiga y que tengas un lindo dí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057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826920" y="189000"/>
            <a:ext cx="81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Times New Roman"/>
              </a:rPr>
              <a:t>Aplica la relajación en las tres capas: cuerpo-mente –coraz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055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179280" y="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Times New Roman"/>
              </a:rPr>
              <a:t>La relajación puede llevarte a puntos altos; es una simple técnica. No es complicada; durante unos pocos días la encontrarás dificil por la falta de costumb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688000" y="580536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Times New Roman"/>
              </a:rPr>
              <a:t>Habituarte será cuestión de dí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400"/>
                            </p:stCondLst>
                            <p:childTnLst>
                              <p:par>
                                <p:cTn id="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066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6856560" y="65160"/>
            <a:ext cx="196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6802560" y="0"/>
            <a:ext cx="234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Times New Roman"/>
              </a:rPr>
              <a:t>Insistiendo en la relajación,llega a aparecer la med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078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826920" y="18900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Times New Roman"/>
              </a:rPr>
              <a:t>La meditación es el nombre de la más profunda relaj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0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250920" y="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Times New Roman"/>
              </a:rPr>
              <a:t>Hay que relajarse desde la circunferencia. Relaja la circunferencia de tu ser, relaja tu cuerpo, relaja tu comportamiento, relaja tus ac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102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179280" y="18900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Times New Roman"/>
              </a:rPr>
              <a:t>Camina de una manera relajada, come de una manera relajada, habla, escucha de una manera relajada. Aminora cada acción. No tengas prisa, no te acele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amón I</dc:creator>
  <dc:description>Adaptado del libro Body-Mind Balancing de OSHO</dc:description>
  <dc:language>en-US</dc:language>
  <cp:lastModifiedBy>PERFORMANCE FOOD GROUP</cp:lastModifiedBy>
  <dcterms:modified xsi:type="dcterms:W3CDTF">2011-04-12T10:56:0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