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(Jorge%20Alfano)%20-%20Inti%20-%20Mamacocha%20%5BSea%5D.wav" ContentType="audio/x-wav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946-E389-4BE4-A5E1-7BD8B645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B68-2617-43FF-88C5-BC3B904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8AE-ED6E-46C3-86AE-88186B9A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032-4405-4B3A-9763-2268305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FA7-34F0-46B0-AF73-2DEED801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EB0-3215-4A90-946A-4E2CB3B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CD9-3CCC-4E5A-8439-C05F7B58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121-3166-405E-946D-9A8EF796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672-9BCA-4357-8AD3-92DF730A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5CB-E8A6-47C4-A74C-C8AF01D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667-472B-476D-982F-AA00013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283-EA78-4A63-B670-3BDCB72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dbd2"/>
            </a:gs>
            <a:gs pos="100000">
              <a:srgbClr val="695b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1A4A-3FD9-475A-815B-6CFD56D7CD6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(Jorge%20Alfano)%20-%20Inti%20-%20Mamacocha%20%5BSea%5D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dbd2"/>
              </a:gs>
              <a:gs pos="100000">
                <a:srgbClr val="695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1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2 Rectángulo"/>
          <p:cNvSpPr/>
          <p:nvPr/>
        </p:nvSpPr>
        <p:spPr>
          <a:xfrm>
            <a:off x="1547640" y="9360"/>
            <a:ext cx="4537080" cy="4572000"/>
          </a:xfrm>
          <a:prstGeom prst="rect">
            <a:avLst/>
          </a:prstGeom>
          <a:gradFill rotWithShape="0">
            <a:gsLst>
              <a:gs pos="0">
                <a:srgbClr val="aa744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3 CuadroTexto"/>
          <p:cNvSpPr/>
          <p:nvPr/>
        </p:nvSpPr>
        <p:spPr>
          <a:xfrm>
            <a:off x="1442160" y="469440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er click para continu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4 CuadroTexto" descr=""/>
          <p:cNvPicPr/>
          <p:nvPr/>
        </p:nvPicPr>
        <p:blipFill>
          <a:blip r:embed="rId1"/>
          <a:stretch/>
        </p:blipFill>
        <p:spPr>
          <a:xfrm>
            <a:off x="1352520" y="3303720"/>
            <a:ext cx="491976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18 Imagen" descr="Imagen2.png"/>
          <p:cNvPicPr/>
          <p:nvPr/>
        </p:nvPicPr>
        <p:blipFill>
          <a:blip r:embed="rId2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api.ning.com/files/GeiGwkrT4EuVT*wjmtvnEsYktKhIV3DLaBUQI-qiksU1cXMKb1hvZYsBKFas5naAZR3CDT9Nz5Y0UDScLkt4elmObc4N-HnM/jeanshinodaBolen.jpg"/>
          <p:cNvPicPr/>
          <p:nvPr/>
        </p:nvPicPr>
        <p:blipFill>
          <a:blip r:embed="rId3"/>
          <a:stretch/>
        </p:blipFill>
        <p:spPr>
          <a:xfrm>
            <a:off x="1835280" y="477720"/>
            <a:ext cx="396072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(Jorge%20Alfano)%20-%20Inti%20-%20Mamacocha%20%5BSea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96" name="1 CuadroTexto"/>
          <p:cNvSpPr/>
          <p:nvPr/>
        </p:nvSpPr>
        <p:spPr>
          <a:xfrm>
            <a:off x="684360" y="1866960"/>
            <a:ext cx="81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Perdone, pero ¿por qué un círculo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Cuando uno está sentado en círculo y en silencio se da cuenta de que hay una conexión espiritual con poder transformador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o pertenezco a uno desde hace 18 años: encendemos una vela, guardamos silencio, contamos lo que nos preocupa, debatimos, y juntamos nuestras energías con un propós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www.thestrangedeathofliberalamerica.com/wp-content/themes/stormy%20liberty/build/candlelight.jpg"/>
          <p:cNvPicPr/>
          <p:nvPr/>
        </p:nvPicPr>
        <p:blipFill>
          <a:blip r:embed="rId2"/>
          <a:stretch/>
        </p:blipFill>
        <p:spPr>
          <a:xfrm>
            <a:off x="3924360" y="386064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98" name="5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01" name="1 CuadroTexto"/>
          <p:cNvSpPr/>
          <p:nvPr/>
        </p:nvSpPr>
        <p:spPr>
          <a:xfrm>
            <a:off x="684360" y="186696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Convocan el poder interior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Interior y exterior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espiritualidad, la física cuántica y el budismo dicen lo mismo: Todo y todos estamos conectados y por tanto lo que cada uno haga influye en el mund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multiply.com/mu/jardelva/image/oB2REOYAvlqVmY9TeEaXWg/photos/1M/300x300/2610/la-areola-se-transforma-en-un-circulo-de-mujeres-reunidas-desde-todo-el-mundo.jpg?et=J32AGKNxO9SJNJj%2BarNDyw&amp;nmid=0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148360" y="126828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athanor.es/phplist/uploadimages/Boletin%2077/La%20Mente%20Expandida.jpg"/>
          <p:cNvPicPr/>
          <p:nvPr/>
        </p:nvPicPr>
        <p:blipFill>
          <a:blip r:embed="rId3"/>
          <a:stretch/>
        </p:blipFill>
        <p:spPr>
          <a:xfrm>
            <a:off x="2200320" y="4653000"/>
            <a:ext cx="1650960" cy="1738440"/>
          </a:xfrm>
          <a:prstGeom prst="rect">
            <a:avLst/>
          </a:prstGeom>
          <a:ln w="0">
            <a:noFill/>
          </a:ln>
        </p:spPr>
      </p:pic>
      <p:sp>
        <p:nvSpPr>
          <p:cNvPr id="104" name="7 Rectángulo"/>
          <p:cNvSpPr/>
          <p:nvPr/>
        </p:nvSpPr>
        <p:spPr>
          <a:xfrm>
            <a:off x="3960720" y="45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los círculos de mujeres se trabaja el campo mórfico, de acuerdo a las teorías de Rupert Sheldr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Rectángulo"/>
          <p:cNvSpPr/>
          <p:nvPr/>
        </p:nvSpPr>
        <p:spPr>
          <a:xfrm>
            <a:off x="1002600" y="616572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Rupert Sheldr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09" name="1 CuadroTexto"/>
          <p:cNvSpPr/>
          <p:nvPr/>
        </p:nvSpPr>
        <p:spPr>
          <a:xfrm>
            <a:off x="684360" y="186696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El centésimo mono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Sí, este biólogo desarrolló la hipótesis de que cuando una masa crítica de monos llega a un determinado conocimiento, éste se transmite de forma intuitiva e inmediata a los miembros de su especi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Rectángulo"/>
          <p:cNvSpPr/>
          <p:nvPr/>
        </p:nvSpPr>
        <p:spPr>
          <a:xfrm>
            <a:off x="684360" y="3429000"/>
            <a:ext cx="37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l mismo modo, un número crítico de círculos de mujeres pueden realzar las cualidades femeninas tan necesarias para que el mundo cam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http://www.proyectogransimio.org/images/macaco_gib.jpg"/>
          <p:cNvPicPr/>
          <p:nvPr/>
        </p:nvPicPr>
        <p:blipFill>
          <a:blip r:embed="rId2"/>
          <a:stretch/>
        </p:blipFill>
        <p:spPr>
          <a:xfrm>
            <a:off x="4308480" y="3429000"/>
            <a:ext cx="3935520" cy="2952720"/>
          </a:xfrm>
          <a:prstGeom prst="rect">
            <a:avLst/>
          </a:prstGeom>
          <a:ln w="0">
            <a:noFill/>
          </a:ln>
        </p:spPr>
      </p:pic>
      <p:sp>
        <p:nvSpPr>
          <p:cNvPr id="112" name="10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15" name="1 CuadroTexto"/>
          <p:cNvSpPr/>
          <p:nvPr/>
        </p:nvSpPr>
        <p:spPr>
          <a:xfrm>
            <a:off x="684360" y="186696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Por qué no círculos mixtos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Entre mujeres hay una conexión natural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gunos estudios evidencian que cuando una mujer que sufre estrés habla con otra mujer, ambas liberan la hormona de la maternidad que provoca que el estrés descie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http://adhb.files.wordpress.com/2010/10/rigoberta_menchu_800_600.jpg"/>
          <p:cNvPicPr/>
          <p:nvPr/>
        </p:nvPicPr>
        <p:blipFill>
          <a:blip r:embed="rId2"/>
          <a:stretch/>
        </p:blipFill>
        <p:spPr>
          <a:xfrm>
            <a:off x="755640" y="3897360"/>
            <a:ext cx="3311640" cy="2484360"/>
          </a:xfrm>
          <a:prstGeom prst="rect">
            <a:avLst/>
          </a:prstGeom>
          <a:ln w="0">
            <a:noFill/>
          </a:ln>
        </p:spPr>
      </p:pic>
      <p:sp>
        <p:nvSpPr>
          <p:cNvPr id="117" name="8 Rectángulo"/>
          <p:cNvSpPr/>
          <p:nvPr/>
        </p:nvSpPr>
        <p:spPr>
          <a:xfrm>
            <a:off x="4284720" y="383544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Curioso…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Si las mujeres estuvieran implicadas en los procesos de paz, todo sería más fáci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¡pero los que negocian son machos alfa...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9 CuadroTexto"/>
          <p:cNvSpPr/>
          <p:nvPr/>
        </p:nvSpPr>
        <p:spPr>
          <a:xfrm>
            <a:off x="4061160" y="616572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Rigoberta Menchú, Premio Nobel de la Paz, 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22" name="1 CuadroTexto"/>
          <p:cNvSpPr/>
          <p:nvPr/>
        </p:nvSpPr>
        <p:spPr>
          <a:xfrm>
            <a:off x="684360" y="186696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Qué ocurre cuando se encuentra un hombre estresado con otro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Cuando un hombre estresado se encuentra con otro, segregan testosterona, lo que provoca o bien la huida o el enfrentamiento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entrotele.com/wp-content/2009/12/spartacus_500.jpg"/>
          <p:cNvPicPr/>
          <p:nvPr/>
        </p:nvPicPr>
        <p:blipFill>
          <a:blip r:embed="rId2"/>
          <a:stretch/>
        </p:blipFill>
        <p:spPr>
          <a:xfrm>
            <a:off x="5037120" y="1197000"/>
            <a:ext cx="3567240" cy="2376360"/>
          </a:xfrm>
          <a:prstGeom prst="rect">
            <a:avLst/>
          </a:prstGeom>
          <a:ln w="0">
            <a:noFill/>
          </a:ln>
        </p:spPr>
      </p:pic>
      <p:sp>
        <p:nvSpPr>
          <p:cNvPr id="124" name="5 Rectángulo"/>
          <p:cNvSpPr/>
          <p:nvPr/>
        </p:nvSpPr>
        <p:spPr>
          <a:xfrm>
            <a:off x="4321080" y="4122720"/>
            <a:ext cx="413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o si ese mismo hombre acude a una mujer que le comprende, una bruja sabia, su adrenalina baja y su autoestima sube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basta con que se siente a su 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tatic.tvguide.com/MediaBin/Galleries/Shows/S_Z/Si_Sp/Spartacus_Blood_Sand/season1/spartacus-blood-sand38.jpg"/>
          <p:cNvPicPr/>
          <p:nvPr/>
        </p:nvPicPr>
        <p:blipFill>
          <a:blip r:embed="rId3"/>
          <a:stretch/>
        </p:blipFill>
        <p:spPr>
          <a:xfrm>
            <a:off x="755640" y="4005360"/>
            <a:ext cx="3360600" cy="2376360"/>
          </a:xfrm>
          <a:prstGeom prst="rect">
            <a:avLst/>
          </a:prstGeom>
          <a:ln w="0">
            <a:noFill/>
          </a:ln>
        </p:spPr>
      </p:pic>
      <p:sp>
        <p:nvSpPr>
          <p:cNvPr id="126" name="8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29" name="1 CuadroTexto"/>
          <p:cNvSpPr/>
          <p:nvPr/>
        </p:nvSpPr>
        <p:spPr>
          <a:xfrm>
            <a:off x="684360" y="186696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Es bonito eso que dice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Estamos llenas de recursos poderosísimos a los que no prestamos atención, como el conocimiento intuitivo. Poderes que se pueden desarrollar en los cír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http://aseretselene.files.wordpress.com/2010/01/162037_191672237511779_1288594_n.jpg"/>
          <p:cNvPicPr/>
          <p:nvPr/>
        </p:nvPicPr>
        <p:blipFill>
          <a:blip r:embed="rId2"/>
          <a:stretch/>
        </p:blipFill>
        <p:spPr>
          <a:xfrm>
            <a:off x="5292720" y="3144960"/>
            <a:ext cx="2664000" cy="3236760"/>
          </a:xfrm>
          <a:prstGeom prst="rect">
            <a:avLst/>
          </a:prstGeom>
          <a:ln w="0">
            <a:noFill/>
          </a:ln>
        </p:spPr>
      </p:pic>
      <p:sp>
        <p:nvSpPr>
          <p:cNvPr id="131" name="5 Rectángulo"/>
          <p:cNvSpPr/>
          <p:nvPr/>
        </p:nvSpPr>
        <p:spPr>
          <a:xfrm>
            <a:off x="684360" y="32418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Propóngame un viaje interior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Sé auténtica, sé consecuente con tu persona interior y averigua qué quieres hacer con tu preciosa vida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de fuera intentarán responder por ti a las preguntas esenciales, no lo permitas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vela qué tipo de arquetipo domina en 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35" name="1 CuadroTexto"/>
          <p:cNvSpPr/>
          <p:nvPr/>
        </p:nvSpPr>
        <p:spPr>
          <a:xfrm>
            <a:off x="684360" y="186696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A qué se refi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Tus patrones internos que yo resumo en siete di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da mujer debe identificar a sus dos o tres diosas dominantes, que van desde la autónoma Artemisa y la fría Atenea, hasta la nutritiva Deméter, la creativa Afrodita o Hera, la diosa del matrimo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www.colegiopioxii.com/Web%203%C2%BA%20ESO/3%C2%BA%20A/Elisa%20Garc%C3%ADa%20y%20Pepe%20Rutea/Fotos/Fotos%20dioses/artemisa.jpg"/>
          <p:cNvPicPr/>
          <p:nvPr/>
        </p:nvPicPr>
        <p:blipFill>
          <a:blip r:embed="rId2"/>
          <a:stretch/>
        </p:blipFill>
        <p:spPr>
          <a:xfrm>
            <a:off x="826920" y="4076640"/>
            <a:ext cx="127188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arte.laguia2000.com/wp-content/uploads/2006/11/atenea_parthenos_varvakeion.jpg"/>
          <p:cNvPicPr/>
          <p:nvPr/>
        </p:nvPicPr>
        <p:blipFill>
          <a:blip r:embed="rId3"/>
          <a:stretch/>
        </p:blipFill>
        <p:spPr>
          <a:xfrm>
            <a:off x="2405160" y="4076640"/>
            <a:ext cx="93024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www.blogodisea.com/wp-content/uploads/2010/06/ceres-demeter-estatua.jpg"/>
          <p:cNvPicPr/>
          <p:nvPr/>
        </p:nvPicPr>
        <p:blipFill>
          <a:blip r:embed="rId4"/>
          <a:stretch/>
        </p:blipFill>
        <p:spPr>
          <a:xfrm>
            <a:off x="3635280" y="407664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upload.wikimedia.org/wikipedia/commons/c/cb/Afrodita_sorprendida_desnuda.JPG"/>
          <p:cNvPicPr/>
          <p:nvPr/>
        </p:nvPicPr>
        <p:blipFill>
          <a:blip r:embed="rId5"/>
          <a:stretch/>
        </p:blipFill>
        <p:spPr>
          <a:xfrm>
            <a:off x="5256360" y="4076640"/>
            <a:ext cx="148428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4.bp.blogspot.com/_Wf5CmeTlT54/TDXBGY_TcXI/AAAAAAAAAFQ/uIPr379yMwM/s1600/hera.jpg"/>
          <p:cNvPicPr/>
          <p:nvPr/>
        </p:nvPicPr>
        <p:blipFill>
          <a:blip r:embed="rId6"/>
          <a:stretch/>
        </p:blipFill>
        <p:spPr>
          <a:xfrm>
            <a:off x="7093080" y="4076640"/>
            <a:ext cx="1261800" cy="1981440"/>
          </a:xfrm>
          <a:prstGeom prst="rect">
            <a:avLst/>
          </a:prstGeom>
          <a:ln w="0">
            <a:noFill/>
          </a:ln>
        </p:spPr>
      </p:pic>
      <p:sp>
        <p:nvSpPr>
          <p:cNvPr id="141" name="10 CuadroTexto"/>
          <p:cNvSpPr/>
          <p:nvPr/>
        </p:nvSpPr>
        <p:spPr>
          <a:xfrm>
            <a:off x="1124280" y="616572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"/>
              </a:rPr>
              <a:t>Artem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1 CuadroTexto"/>
          <p:cNvSpPr/>
          <p:nvPr/>
        </p:nvSpPr>
        <p:spPr>
          <a:xfrm>
            <a:off x="2580120" y="6165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"/>
              </a:rPr>
              <a:t>Aten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2 CuadroTexto"/>
          <p:cNvSpPr/>
          <p:nvPr/>
        </p:nvSpPr>
        <p:spPr>
          <a:xfrm>
            <a:off x="3963960" y="616572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"/>
              </a:rPr>
              <a:t>Dé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CuadroTexto"/>
          <p:cNvSpPr/>
          <p:nvPr/>
        </p:nvSpPr>
        <p:spPr>
          <a:xfrm>
            <a:off x="5690880" y="616572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"/>
              </a:rPr>
              <a:t>Afrod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4 CuadroTexto"/>
          <p:cNvSpPr/>
          <p:nvPr/>
        </p:nvSpPr>
        <p:spPr>
          <a:xfrm>
            <a:off x="7496280" y="616572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"/>
              </a:rPr>
              <a:t>H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5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49" name="1 CuadroTexto"/>
          <p:cNvSpPr/>
          <p:nvPr/>
        </p:nvSpPr>
        <p:spPr>
          <a:xfrm>
            <a:off x="684360" y="186696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"/>
              </a:rPr>
              <a:t>-No será tan simple…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No, pero si podemos llevar una vida en la que el arquetipo y el papel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empeñamos coinciden, nos sentiremos satisfec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2.bp.blogspot.com/_KgF_fK3sgVk/SblEab-FEUI/AAAAAAAAAL8/XPTSbhmv5k4/s320/mujer%2Bluna%2Bsol.jpg"/>
          <p:cNvPicPr/>
          <p:nvPr/>
        </p:nvPicPr>
        <p:blipFill>
          <a:blip r:embed="rId2"/>
          <a:stretch/>
        </p:blipFill>
        <p:spPr>
          <a:xfrm>
            <a:off x="2690640" y="2997360"/>
            <a:ext cx="3762720" cy="3527280"/>
          </a:xfrm>
          <a:prstGeom prst="rect">
            <a:avLst/>
          </a:prstGeom>
          <a:ln w="0">
            <a:noFill/>
          </a:ln>
        </p:spPr>
      </p:pic>
      <p:sp>
        <p:nvSpPr>
          <p:cNvPr id="151" name="10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Rectángulo"/>
          <p:cNvSpPr/>
          <p:nvPr/>
        </p:nvSpPr>
        <p:spPr>
          <a:xfrm>
            <a:off x="152280" y="147600"/>
            <a:ext cx="8839440" cy="6562800"/>
          </a:xfrm>
          <a:prstGeom prst="rect">
            <a:avLst/>
          </a:prstGeom>
          <a:gradFill rotWithShape="0">
            <a:gsLst>
              <a:gs pos="0">
                <a:srgbClr val="aa744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55" name="1 CuadroTexto"/>
          <p:cNvSpPr/>
          <p:nvPr/>
        </p:nvSpPr>
        <p:spPr>
          <a:xfrm>
            <a:off x="684360" y="476280"/>
            <a:ext cx="806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Jean Shinoda Bolen describe </a:t>
            </a:r>
            <a:r>
              <a:rPr b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s 13 cualidades de la bru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son los rasgos distintivos a través de los que una anciana se disting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(como mujer o como arquetip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no se que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son atre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tienen mano para las pla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confían en los present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meditan a su manera 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defienden con fiereza lo que más les importa 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deciden su camino con el corazón 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dicen la verdad con compa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escuchan su cuerpo 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improvisan 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no imploran 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se ríen j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Las ancianas saborean lo positivo de la vid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	</a:t>
            </a:r>
            <a:r>
              <a:rPr b="0" lang="es-MX" sz="1800" spc="-1" strike="noStrike">
                <a:solidFill>
                  <a:srgbClr val="ddd9c3"/>
                </a:solidFill>
                <a:latin typeface="Arial Unicode MS"/>
                <a:ea typeface="Arial Unicode MS"/>
              </a:rPr>
              <a:t>Jean Shinoda Bolen, de su libro </a:t>
            </a:r>
            <a:r>
              <a:rPr b="0" i="1" lang="es-MX" sz="1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Las brujas no se que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2.bp.blogspot.com/_OmFxyG88NTQ/TJETPvS8gvI/AAAAAAAABQM/AjvDPIpyExA/s1600/viejita+con+pipa.jpg"/>
          <p:cNvPicPr/>
          <p:nvPr/>
        </p:nvPicPr>
        <p:blipFill>
          <a:blip r:embed="rId2"/>
          <a:stretch/>
        </p:blipFill>
        <p:spPr>
          <a:xfrm>
            <a:off x="5940360" y="3645000"/>
            <a:ext cx="266400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6 CuadroTexto"/>
          <p:cNvSpPr/>
          <p:nvPr/>
        </p:nvSpPr>
        <p:spPr>
          <a:xfrm>
            <a:off x="2124000" y="4684680"/>
            <a:ext cx="56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Textos de la entrevista a Jean Shinoda Bo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Publicado en La Vanguar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7 Rectángulo"/>
          <p:cNvSpPr/>
          <p:nvPr/>
        </p:nvSpPr>
        <p:spPr>
          <a:xfrm>
            <a:off x="6084720" y="0"/>
            <a:ext cx="1554480" cy="4581360"/>
          </a:xfrm>
          <a:prstGeom prst="rect">
            <a:avLst/>
          </a:prstGeom>
          <a:gradFill rotWithShape="0">
            <a:gsLst>
              <a:gs pos="0">
                <a:srgbClr val="aa744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8 CuadroTexto" descr=""/>
          <p:cNvPicPr/>
          <p:nvPr/>
        </p:nvPicPr>
        <p:blipFill>
          <a:blip r:embed="rId1"/>
          <a:stretch/>
        </p:blipFill>
        <p:spPr>
          <a:xfrm>
            <a:off x="6066000" y="3676680"/>
            <a:ext cx="1614240" cy="839880"/>
          </a:xfrm>
          <a:prstGeom prst="rect">
            <a:avLst/>
          </a:prstGeom>
          <a:ln w="0">
            <a:noFill/>
          </a:ln>
        </p:spPr>
      </p:pic>
      <p:sp>
        <p:nvSpPr>
          <p:cNvPr id="161" name="10 CuadroTexto"/>
          <p:cNvSpPr/>
          <p:nvPr/>
        </p:nvSpPr>
        <p:spPr>
          <a:xfrm>
            <a:off x="4618080" y="5013360"/>
            <a:ext cx="314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Música: Jorge Alfano – Mamacocha, del album I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CuadroTexto"/>
          <p:cNvSpPr/>
          <p:nvPr/>
        </p:nvSpPr>
        <p:spPr>
          <a:xfrm>
            <a:off x="4008240" y="5229360"/>
            <a:ext cx="381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Concepto general y montaje gráfico original  ©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e2b1a"/>
                </a:solidFill>
                <a:latin typeface="Arial Unicode MS"/>
                <a:ea typeface="Arial Unicode MS"/>
              </a:rPr>
              <a:t>Se agradece respetarlo sin alte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Santiago de Querétaro, México, Agosto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otras producciones del edit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http://www.slideshare.net/carlitosrangel/presen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18 Imagen" descr="Imagen2.png"/>
          <p:cNvPicPr/>
          <p:nvPr/>
        </p:nvPicPr>
        <p:blipFill>
          <a:blip r:embed="rId2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4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4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4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Rectángulo"/>
          <p:cNvSpPr/>
          <p:nvPr/>
        </p:nvSpPr>
        <p:spPr>
          <a:xfrm>
            <a:off x="1547640" y="9360"/>
            <a:ext cx="4537080" cy="4572000"/>
          </a:xfrm>
          <a:prstGeom prst="rect">
            <a:avLst/>
          </a:prstGeom>
          <a:gradFill rotWithShape="0">
            <a:gsLst>
              <a:gs pos="0">
                <a:srgbClr val="aa744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dbd2"/>
              </a:gs>
              <a:gs pos="100000">
                <a:srgbClr val="695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1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api.ning.com/files/GeiGwkrT4EuVT*wjmtvnEsYktKhIV3DLaBUQI-qiksU1cXMKb1hvZYsBKFas5naAZR3CDT9Nz5Y0UDScLkt4elmObc4N-HnM/jeanshinodaBolen.jpg"/>
          <p:cNvPicPr/>
          <p:nvPr/>
        </p:nvPicPr>
        <p:blipFill>
          <a:blip r:embed="rId2"/>
          <a:stretch/>
        </p:blipFill>
        <p:spPr>
          <a:xfrm>
            <a:off x="1836720" y="479520"/>
            <a:ext cx="3959280" cy="2975040"/>
          </a:xfrm>
          <a:prstGeom prst="rect">
            <a:avLst/>
          </a:prstGeom>
          <a:ln w="0">
            <a:noFill/>
          </a:ln>
        </p:spPr>
      </p:pic>
      <p:sp>
        <p:nvSpPr>
          <p:cNvPr id="54" name="8 CuadroTexto"/>
          <p:cNvSpPr/>
          <p:nvPr/>
        </p:nvSpPr>
        <p:spPr>
          <a:xfrm>
            <a:off x="684360" y="3860640"/>
            <a:ext cx="7704000" cy="26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ngo 68 años. Nací y vivo en Los Áng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y doctora en Medicina, analista junguiana y profesora de Psiquiatría en la Universidad de 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toy divorciada y tengo dos hijo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raq es Vietnam una y otra vez, es una pena que tengamos que aprender a través de tanto sufrimiento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Espiritualidad y las religiones se div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9 Rectángulo"/>
          <p:cNvSpPr/>
          <p:nvPr/>
        </p:nvSpPr>
        <p:spPr>
          <a:xfrm>
            <a:off x="6012000" y="1930320"/>
            <a:ext cx="2879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A ENTREVISTA A JEAN SHINODA BOLEN Doctora en Medicina y Analista Jungu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Para quienes no han leído algo de ella, se sugiere: </a:t>
            </a:r>
            <a:r>
              <a:rPr b="1" lang="es-MX" sz="12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Las diosas de cada mujer</a:t>
            </a:r>
            <a:r>
              <a:rPr b="0" lang="es-MX" sz="12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6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16 CuadroTexto"/>
          <p:cNvSpPr/>
          <p:nvPr/>
        </p:nvSpPr>
        <p:spPr>
          <a:xfrm>
            <a:off x="2124000" y="4684680"/>
            <a:ext cx="56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Textos de la entrevista a Jean Shinoda Bo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Publicado en La Vanguar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1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7 Rectángulo"/>
          <p:cNvSpPr/>
          <p:nvPr/>
        </p:nvSpPr>
        <p:spPr>
          <a:xfrm>
            <a:off x="6084720" y="0"/>
            <a:ext cx="1554480" cy="4581360"/>
          </a:xfrm>
          <a:prstGeom prst="rect">
            <a:avLst/>
          </a:prstGeom>
          <a:gradFill rotWithShape="0">
            <a:gsLst>
              <a:gs pos="0">
                <a:srgbClr val="aa744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8 CuadroTexto" descr=""/>
          <p:cNvPicPr/>
          <p:nvPr/>
        </p:nvPicPr>
        <p:blipFill>
          <a:blip r:embed="rId1"/>
          <a:stretch/>
        </p:blipFill>
        <p:spPr>
          <a:xfrm>
            <a:off x="6066000" y="3676680"/>
            <a:ext cx="1614240" cy="839880"/>
          </a:xfrm>
          <a:prstGeom prst="rect">
            <a:avLst/>
          </a:prstGeom>
          <a:ln w="0">
            <a:noFill/>
          </a:ln>
        </p:spPr>
      </p:pic>
      <p:sp>
        <p:nvSpPr>
          <p:cNvPr id="168" name="10 CuadroTexto"/>
          <p:cNvSpPr/>
          <p:nvPr/>
        </p:nvSpPr>
        <p:spPr>
          <a:xfrm>
            <a:off x="4635360" y="5013360"/>
            <a:ext cx="314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Música: Jorge Alfano – Mamacocha, del album I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7 CuadroTexto"/>
          <p:cNvSpPr/>
          <p:nvPr/>
        </p:nvSpPr>
        <p:spPr>
          <a:xfrm>
            <a:off x="4008240" y="5229360"/>
            <a:ext cx="381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Concepto general y montaje gráfico original  ©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e2b1a"/>
                </a:solidFill>
                <a:latin typeface="Arial Unicode MS"/>
                <a:ea typeface="Arial Unicode MS"/>
              </a:rPr>
              <a:t>Se agradece respetarlo sin alte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Santiago de Querétaro, México, Agosto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otras producciones del edit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a452a"/>
                </a:solidFill>
                <a:latin typeface="Arial Unicode MS"/>
                <a:ea typeface="Arial Unicode MS"/>
              </a:rPr>
              <a:t>http://www.slideshare.net/carlitosrangel/presen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18 Imagen" descr="Imagen2.png"/>
          <p:cNvPicPr/>
          <p:nvPr/>
        </p:nvPicPr>
        <p:blipFill>
          <a:blip r:embed="rId2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171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684360" y="1866960"/>
            <a:ext cx="3958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Quejarse es perder el tiempo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¡Claro!</a:t>
            </a:r>
            <a:br>
              <a:rPr sz="1800"/>
            </a:br>
            <a:br>
              <a:rPr sz="1800"/>
            </a:b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Hay mucho que aprender..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Por eso a mí me interesan las mujeres maduras, con humor y activas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partir de los 40 años empieza lo mejor si eres capaz de darte cuenta de la cantidad de cualidades potenciales que hay dentro de ti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684360" y="692280"/>
            <a:ext cx="5903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984807"/>
                </a:solidFill>
                <a:latin typeface="Arial Unicode MS"/>
                <a:ea typeface="Arial Unicode MS"/>
              </a:rPr>
              <a:t>Publicada en La 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utils.lainformacion.com/images/IMGS_CMS/victoria-civera-plasma-el-silencio-en-47-pinturas-expuestas-en-el-cac-malaga/2010_5_28_Lbr03IbAvIHBJHcMEEtYC.jpg?type=border&amp;width=645&amp;height=645&amp;mtime=1275078784"/>
          <p:cNvPicPr/>
          <p:nvPr/>
        </p:nvPicPr>
        <p:blipFill>
          <a:blip r:embed="rId2"/>
          <a:srcRect l="1373" t="15016" r="1758" b="15400"/>
          <a:stretch/>
        </p:blipFill>
        <p:spPr>
          <a:xfrm>
            <a:off x="4667400" y="2276640"/>
            <a:ext cx="4008240" cy="2881080"/>
          </a:xfrm>
          <a:prstGeom prst="rect">
            <a:avLst/>
          </a:prstGeom>
          <a:ln w="0">
            <a:noFill/>
          </a:ln>
        </p:spPr>
      </p:pic>
      <p:sp>
        <p:nvSpPr>
          <p:cNvPr id="61" name="7 Rectángulo"/>
          <p:cNvSpPr/>
          <p:nvPr/>
        </p:nvSpPr>
        <p:spPr>
          <a:xfrm>
            <a:off x="684360" y="5445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tonces te entran ganas de convertirte en bruj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6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6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64" name="1 CuadroTexto"/>
          <p:cNvSpPr/>
          <p:nvPr/>
        </p:nvSpPr>
        <p:spPr>
          <a:xfrm>
            <a:off x="684360" y="18669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No sé yo..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Te lo diré de otra manera: una persona con poder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 CuadroTexto"/>
          <p:cNvSpPr/>
          <p:nvPr/>
        </p:nvSpPr>
        <p:spPr>
          <a:xfrm>
            <a:off x="684360" y="270504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Eso me gusta. 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Las brujas sabias dicen la verdad con compasión, y no comulgan con lo que no les gusta, pero no tienen la rabia de las mujeres más jóv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gunos hombres  excepcionales pueden llegar a ser brujas, los que tienen compasión, sabiduría, humor y no están supeditados al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xmagazinenews.files.wordpress.com/2010/03/secre.jpg"/>
          <p:cNvPicPr/>
          <p:nvPr/>
        </p:nvPicPr>
        <p:blipFill>
          <a:blip r:embed="rId2"/>
          <a:stretch/>
        </p:blipFill>
        <p:spPr>
          <a:xfrm>
            <a:off x="4748040" y="3068640"/>
            <a:ext cx="374040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70" name="1 CuadroTexto"/>
          <p:cNvSpPr/>
          <p:nvPr/>
        </p:nvSpPr>
        <p:spPr>
          <a:xfrm>
            <a:off x="5219640" y="18669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Algo más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Sí, las brujas sabias son capaces de mirar hacia atrás sin rencor ni dolor; son atrevidas,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ían en los presentimientos, meditan a su manera, defienden con firmeza lo que más les importa,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iden su camino con el corazón, escuchan su cuerpo, improvisan, no imploran, ríen, y tienen “pulgares verd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gtuset.com/backOffice/files/imagen_obra/Bague_Jacobo_La_Mujer_y_la_luna.jpg"/>
          <p:cNvPicPr/>
          <p:nvPr/>
        </p:nvPicPr>
        <p:blipFill>
          <a:blip r:embed="rId2"/>
          <a:stretch/>
        </p:blipFill>
        <p:spPr>
          <a:xfrm>
            <a:off x="755640" y="1125360"/>
            <a:ext cx="4270320" cy="5301000"/>
          </a:xfrm>
          <a:prstGeom prst="rect">
            <a:avLst/>
          </a:prstGeom>
          <a:ln w="0">
            <a:noFill/>
          </a:ln>
        </p:spPr>
      </p:pic>
      <p:sp>
        <p:nvSpPr>
          <p:cNvPr id="72" name="7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75" name="1 CuadroTexto"/>
          <p:cNvSpPr/>
          <p:nvPr/>
        </p:nvSpPr>
        <p:spPr>
          <a:xfrm>
            <a:off x="684360" y="186696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¡...!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Tienen “buena mano” con las plantas. Y también con los animales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ero aprenden a amar lo que hacen, luego alientan a otros al crecimient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ben reconocer lo frágil y lo que tiene valor, y también lo que debe ser pod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casa-jardin.com/wp-content/uploads/2010/04/jardineria-ecologica.jpg"/>
          <p:cNvPicPr/>
          <p:nvPr/>
        </p:nvPicPr>
        <p:blipFill>
          <a:blip r:embed="rId2"/>
          <a:stretch/>
        </p:blipFill>
        <p:spPr>
          <a:xfrm>
            <a:off x="3057480" y="4005360"/>
            <a:ext cx="3029040" cy="2419200"/>
          </a:xfrm>
          <a:prstGeom prst="rect">
            <a:avLst/>
          </a:prstGeom>
          <a:ln w="0">
            <a:noFill/>
          </a:ln>
        </p:spPr>
      </p:pic>
      <p:sp>
        <p:nvSpPr>
          <p:cNvPr id="77" name="5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80" name="1 CuadroTexto"/>
          <p:cNvSpPr/>
          <p:nvPr/>
        </p:nvSpPr>
        <p:spPr>
          <a:xfrm>
            <a:off x="684360" y="18669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Y hay que esperar a la vejez para ello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Cuanta más edad, más camino aprendido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portalhoroscopos.com/jpg/250px-balthasar_denner_003.jpg"/>
          <p:cNvPicPr/>
          <p:nvPr/>
        </p:nvPicPr>
        <p:blipFill>
          <a:blip r:embed="rId2"/>
          <a:stretch/>
        </p:blipFill>
        <p:spPr>
          <a:xfrm>
            <a:off x="755640" y="2781360"/>
            <a:ext cx="2879640" cy="3513240"/>
          </a:xfrm>
          <a:prstGeom prst="rect">
            <a:avLst/>
          </a:prstGeom>
          <a:ln w="0">
            <a:noFill/>
          </a:ln>
        </p:spPr>
      </p:pic>
      <p:sp>
        <p:nvSpPr>
          <p:cNvPr id="82" name="1 CuadroTexto"/>
          <p:cNvSpPr/>
          <p:nvPr/>
        </p:nvSpPr>
        <p:spPr>
          <a:xfrm>
            <a:off x="3924360" y="271620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observación compasiva de la vida de los demás te enseña much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las mujeres sabias se pasan mucho tiempo observand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y casos -pocos- de mujeres sabias a partir de los 30 o 35, pero ésas, a los 60 son increí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684360" y="1866960"/>
            <a:ext cx="43923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Qué nos quiere transmit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Que las mujeres tienen la oportunidad de cambiar el mundo en las próximas décadas. Pero, que si no lo hacen ahora, probablemente ya no lo ha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¿Por qué dice 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Tras los extremismos de la revolución feminista, el péndulo está en el centro y las mujeres que se lo permiten pueden llegar al equilibrio, a ser completas, fuertes y vulnerables al mismo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ttp://cutiepiejen.files.wordpress.com/2009/03/waris_dirie_book1.jpg?w=436&amp;h=449"/>
          <p:cNvPicPr/>
          <p:nvPr/>
        </p:nvPicPr>
        <p:blipFill>
          <a:blip r:embed="rId2"/>
          <a:stretch/>
        </p:blipFill>
        <p:spPr>
          <a:xfrm>
            <a:off x="5268960" y="1236600"/>
            <a:ext cx="2975040" cy="4651560"/>
          </a:xfrm>
          <a:prstGeom prst="rect">
            <a:avLst/>
          </a:prstGeom>
          <a:ln w="0">
            <a:noFill/>
          </a:ln>
        </p:spPr>
      </p:pic>
      <p:sp>
        <p:nvSpPr>
          <p:cNvPr id="88" name="6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2 Rectángulo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948a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8 Imagen" descr="Imagen2.png"/>
          <p:cNvPicPr/>
          <p:nvPr/>
        </p:nvPicPr>
        <p:blipFill>
          <a:blip r:embed="rId1"/>
          <a:stretch/>
        </p:blipFill>
        <p:spPr>
          <a:xfrm>
            <a:off x="8604360" y="6524640"/>
            <a:ext cx="366480" cy="217440"/>
          </a:xfrm>
          <a:prstGeom prst="rect">
            <a:avLst/>
          </a:prstGeom>
          <a:ln w="0">
            <a:noFill/>
          </a:ln>
        </p:spPr>
      </p:pic>
      <p:sp>
        <p:nvSpPr>
          <p:cNvPr id="91" name="1 CuadroTexto"/>
          <p:cNvSpPr/>
          <p:nvPr/>
        </p:nvSpPr>
        <p:spPr>
          <a:xfrm>
            <a:off x="684360" y="1866960"/>
            <a:ext cx="813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Arial"/>
              </a:rPr>
              <a:t>-¿Un camino colectivo?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Por supuesto. No tengo la menor duda de que un pequeño grupo comprometido puede cambiar el mund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realidad, así ha sido hasta ahor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MX" sz="1800" spc="-1" strike="noStrike">
                <a:solidFill>
                  <a:srgbClr val="ffffff"/>
                </a:solidFill>
                <a:latin typeface="Arial"/>
              </a:rPr>
              <a:t>-¿Y cuál es el secre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El millonésimo círcul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o aliento a las mujeres a formar círcu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 tengan un componente espiritual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mplemente escuchando los problemas, anhelos y miedos de otras mujeres y contando los tuyos, adquieres fuer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www.eoi.es/blogs/sostenibilidad/files/2010/03/sagepymes.jpg"/>
          <p:cNvPicPr/>
          <p:nvPr/>
        </p:nvPicPr>
        <p:blipFill>
          <a:blip r:embed="rId2"/>
          <a:stretch/>
        </p:blipFill>
        <p:spPr>
          <a:xfrm>
            <a:off x="5342040" y="2744640"/>
            <a:ext cx="3190680" cy="2397240"/>
          </a:xfrm>
          <a:prstGeom prst="rect">
            <a:avLst/>
          </a:prstGeom>
          <a:ln w="0">
            <a:noFill/>
          </a:ln>
        </p:spPr>
      </p:pic>
      <p:sp>
        <p:nvSpPr>
          <p:cNvPr id="93" name="5 Rectángulo"/>
          <p:cNvSpPr/>
          <p:nvPr/>
        </p:nvSpPr>
        <p:spPr>
          <a:xfrm>
            <a:off x="684360" y="692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3cdb1"/>
                </a:solidFill>
                <a:latin typeface="Arial Unicode MS"/>
                <a:ea typeface="Arial Unicode MS"/>
              </a:rPr>
              <a:t>ENTREVISTA A JEAN SHINODA B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2:30:28Z</dcterms:created>
  <dc:creator>Carlos Rangel</dc:creator>
  <dc:description/>
  <dc:language>en-US</dc:language>
  <cp:lastModifiedBy>Carlitos</cp:lastModifiedBy>
  <dcterms:modified xsi:type="dcterms:W3CDTF">2011-08-03T16:52:11Z</dcterms:modified>
  <cp:revision>10</cp:revision>
  <dc:subject/>
  <dc:title>Mujer Sab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