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4.png" ContentType="image/png"/>
  <Override PartName="/ppt/media/image1.gif" ContentType="image/gif"/>
  <Override PartName="/ppt/media/image3.png" ContentType="image/png"/>
  <Override PartName="/ppt/media/image11.png" ContentType="image/png"/>
  <Override PartName="/ppt/media/image6.png" ContentType="image/png"/>
  <Override PartName="/ppt/media/image23.jpeg" ContentType="image/jpeg"/>
  <Override PartName="/ppt/media/image22.gif" ContentType="image/gif"/>
  <Override PartName="/ppt/media/image14.png" ContentType="image/png"/>
  <Override PartName="/ppt/media/image21.png" ContentType="image/png"/>
  <Override PartName="/ppt/media/image20.wmf" ContentType="image/x-wmf"/>
  <Override PartName="/ppt/media/image18.gif" ContentType="image/gif"/>
  <Override PartName="/ppt/media/image24.png" ContentType="image/png"/>
  <Override PartName="/ppt/media/image19.gif" ContentType="image/gif"/>
  <Override PartName="/ppt/media/image10.png" ContentType="image/png"/>
  <Override PartName="/ppt/media/image2.gif" ContentType="image/gif"/>
  <Override PartName="/ppt/media/image5.png" ContentType="image/png"/>
  <Override PartName="/ppt/media/image17.gif" ContentType="image/gif"/>
  <Override PartName="/ppt/media/image16.png" ContentType="image/png"/>
  <Override PartName="/ppt/media/image1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775B-4F53-495E-8E85-96A110343D7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1D30-E989-4BAB-9B39-E2B14F2B664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A592-D4FD-438F-B42D-496178A86E9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E1E4-60F5-4938-AFB4-F48BDE4C97A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C025-2680-44BA-B1AA-37C20F3D80D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D64E-3597-4F25-9844-044B84E5E38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CE88-2C02-4E90-BBDD-820D0BDEFCF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AC39-C9C9-426D-962E-959E1352228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439D-5CF2-454A-9B83-BE48E6C5990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25A2-8A26-41E3-9228-F89F500C13C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DD27-FA5A-40D7-8113-D2A25588A03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B0A3-DF4C-490B-B4FF-AD0A0BF5630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7192-A6C6-4A8C-8067-F617BF72F07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8DC7-F169-4945-9FB6-5DE88C6F696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BC34-D312-4342-BCC5-10E5693E070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F42B-9FD6-4110-950D-080FFFB41E1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C880-A489-4070-9A3C-083A4B394DB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6B6C-7E7A-46EC-9A06-2BA37AEBB29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923D-8BDC-4E05-96DF-6D25AB5E901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3013-D08A-4F56-BB81-D19AA7C8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AF3E-1C2A-436B-8DE8-A2444637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4B14-9CBC-4908-AAA1-E3ECD2DA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83D4-0C80-4047-9ADF-EFD1E85B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4099-BF5F-4992-B33C-4D1B02DE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16A-586B-4265-A0B4-29FAA72E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1B3-BB73-45E6-9DAC-59582441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71E5-8F1A-4770-B582-2FE94D2B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977-1F7C-445A-B339-3E2742AF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DF1-26F8-4915-9A44-999A34F3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BC69-A4F5-4B9E-A47F-E642CA42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20AB-ADD2-4162-AB3A-80DDF5AA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6AA9-16D2-48C1-A89E-A4C969A6CAC8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4.png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.png"/><Relationship Id="rId8" Type="http://schemas.openxmlformats.org/officeDocument/2006/relationships/image" Target="../media/image10.png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63240" y="2104560"/>
            <a:ext cx="8011080" cy="42087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Em uma conversa, os interlocutores </a:t>
            </a:r>
            <a:br>
              <a:rPr sz="2700"/>
            </a:b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piscam uma média de 22 vezes por minut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Quando alguém lê, a frequência desta piscadel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se produz 12 a 15 vezes por minut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Porém, quando se está sentad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diante de um computador, os olho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Arial"/>
              </a:rPr>
              <a:t>PISCAM MENOS 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Arial"/>
              </a:rPr>
              <a:t>5 vezes por MINUTO!!!</a:t>
            </a:r>
            <a:r>
              <a:rPr b="1" lang="es-AR" sz="2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411280" y="696960"/>
            <a:ext cx="5446800" cy="9471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Quantas vezes o olho humano pisca, por minu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2" descr="./003.gif"/>
          <p:cNvPicPr/>
          <p:nvPr/>
        </p:nvPicPr>
        <p:blipFill>
          <a:blip r:embed="rId1"/>
          <a:stretch/>
        </p:blipFill>
        <p:spPr>
          <a:xfrm>
            <a:off x="7310520" y="4724280"/>
            <a:ext cx="1833480" cy="1833840"/>
          </a:xfrm>
          <a:prstGeom prst="rect">
            <a:avLst/>
          </a:prstGeom>
          <a:ln w="0">
            <a:noFill/>
          </a:ln>
        </p:spPr>
      </p:pic>
      <p:sp>
        <p:nvSpPr>
          <p:cNvPr id="51" name="Oval 24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5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53" name="Group 26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54" name="Group 27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55" name="Group 28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56" name="Group 29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57" name="Group 30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58" name="Picture 31" descr="82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59" name="Freeform 32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" name="Freeform 33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" name="Freeform 34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" name="Oval 35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36"/>
              <p:cNvSpPr/>
              <p:nvPr/>
            </p:nvSpPr>
            <p:spPr>
              <a:xfrm>
                <a:off x="933480" y="30312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37"/>
              <p:cNvSpPr/>
              <p:nvPr/>
            </p:nvSpPr>
            <p:spPr>
              <a:xfrm>
                <a:off x="959040" y="33336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Oval 38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900"/>
                            </p:stCondLst>
                            <p:childTnLst>
                              <p:par>
                                <p:cTn id="19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50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9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900"/>
                            </p:stCondLst>
                            <p:childTnLst>
                              <p:par>
                                <p:cTn id="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0"/>
          <p:cNvSpPr/>
          <p:nvPr/>
        </p:nvSpPr>
        <p:spPr>
          <a:xfrm>
            <a:off x="2711880" y="5310360"/>
            <a:ext cx="4013640" cy="70380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As lâmpadas provocan reflex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nas telas de ambos moni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5"/>
          <p:cNvSpPr/>
          <p:nvPr/>
        </p:nvSpPr>
        <p:spPr>
          <a:xfrm>
            <a:off x="2430360" y="750960"/>
            <a:ext cx="6193080" cy="57736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9"/>
          <p:cNvSpPr/>
          <p:nvPr/>
        </p:nvSpPr>
        <p:spPr>
          <a:xfrm>
            <a:off x="233280" y="2179800"/>
            <a:ext cx="1808280" cy="1008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S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0"/>
          <p:cNvSpPr/>
          <p:nvPr/>
        </p:nvSpPr>
        <p:spPr>
          <a:xfrm>
            <a:off x="2286000" y="4221000"/>
            <a:ext cx="28908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42"/>
          <p:cNvSpPr txBox="1"/>
          <p:nvPr/>
        </p:nvSpPr>
        <p:spPr>
          <a:xfrm>
            <a:off x="108000" y="4221000"/>
            <a:ext cx="3217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ocalização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correta</a:t>
            </a:r>
            <a:endParaRPr b="0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25" name="Group 58"/>
          <p:cNvGrpSpPr/>
          <p:nvPr/>
        </p:nvGrpSpPr>
        <p:grpSpPr>
          <a:xfrm>
            <a:off x="2556000" y="907920"/>
            <a:ext cx="5922720" cy="3773520"/>
            <a:chOff x="2556000" y="907920"/>
            <a:chExt cx="5922720" cy="3773520"/>
          </a:xfrm>
        </p:grpSpPr>
        <p:grpSp>
          <p:nvGrpSpPr>
            <p:cNvPr id="226" name="Group 54"/>
            <p:cNvGrpSpPr/>
            <p:nvPr/>
          </p:nvGrpSpPr>
          <p:grpSpPr>
            <a:xfrm>
              <a:off x="2556000" y="981000"/>
              <a:ext cx="5922720" cy="3700440"/>
              <a:chOff x="2556000" y="981000"/>
              <a:chExt cx="5922720" cy="3700440"/>
            </a:xfrm>
          </p:grpSpPr>
          <p:graphicFrame>
            <p:nvGraphicFramePr>
              <p:cNvPr id="227" name="Object 5"/>
              <p:cNvGraphicFramePr/>
              <p:nvPr/>
            </p:nvGraphicFramePr>
            <p:xfrm>
              <a:off x="2573280" y="981000"/>
              <a:ext cx="5905440" cy="3700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8" name="Object 5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573280" y="981000"/>
                        <a:ext cx="5905440" cy="3700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9" name="Rectangle 53"/>
              <p:cNvSpPr/>
              <p:nvPr/>
            </p:nvSpPr>
            <p:spPr>
              <a:xfrm>
                <a:off x="2556000" y="1052640"/>
                <a:ext cx="1439640" cy="100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Rectangle 57"/>
            <p:cNvSpPr/>
            <p:nvPr/>
          </p:nvSpPr>
          <p:spPr>
            <a:xfrm>
              <a:off x="6372360" y="907920"/>
              <a:ext cx="2087280" cy="1152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59"/>
          <p:cNvSpPr/>
          <p:nvPr/>
        </p:nvSpPr>
        <p:spPr>
          <a:xfrm>
            <a:off x="7231680" y="430200"/>
            <a:ext cx="1155960" cy="1618560"/>
          </a:xfrm>
          <a:prstGeom prst="rect">
            <a:avLst/>
          </a:prstGeom>
          <a:solidFill>
            <a:srgbClr val="000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A luz 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jan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ref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5"/>
          <p:cNvSpPr/>
          <p:nvPr/>
        </p:nvSpPr>
        <p:spPr>
          <a:xfrm>
            <a:off x="2131200" y="396720"/>
            <a:ext cx="1480680" cy="1618560"/>
          </a:xfrm>
          <a:prstGeom prst="rect">
            <a:avLst/>
          </a:prstGeom>
          <a:solidFill>
            <a:srgbClr val="000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A luz 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jan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est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no r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do usu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61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234" name="Group 62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235" name="Group 63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236" name="Group 64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237" name="Group 65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238" name="Group 66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239" name="Picture 67" descr="82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240" name="Freeform 68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41" name="Freeform 69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2" name="Freeform 70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3" name="Oval 71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Freeform 72"/>
              <p:cNvSpPr/>
              <p:nvPr/>
            </p:nvSpPr>
            <p:spPr>
              <a:xfrm>
                <a:off x="933480" y="30312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73"/>
              <p:cNvSpPr/>
              <p:nvPr/>
            </p:nvSpPr>
            <p:spPr>
              <a:xfrm>
                <a:off x="959040" y="33336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Oval 74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450"/>
                            </p:stCondLst>
                            <p:childTnLst>
                              <p:par>
                                <p:cTn id="370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500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45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7450"/>
                            </p:stCondLst>
                            <p:childTnLst>
                              <p:par>
                                <p:cTn id="3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450"/>
                            </p:stCondLst>
                            <p:childTnLst>
                              <p:par>
                                <p:cTn id="3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9450"/>
                            </p:stCondLst>
                            <p:childTnLst>
                              <p:par>
                                <p:cTn id="3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Object 5"/>
          <p:cNvGraphicFramePr/>
          <p:nvPr/>
        </p:nvGraphicFramePr>
        <p:xfrm>
          <a:off x="3924360" y="189000"/>
          <a:ext cx="460836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89000"/>
                    <a:ext cx="46083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5"/>
          <p:cNvSpPr/>
          <p:nvPr/>
        </p:nvSpPr>
        <p:spPr>
          <a:xfrm>
            <a:off x="3213720" y="4076640"/>
            <a:ext cx="4973760" cy="2014200"/>
          </a:xfrm>
          <a:prstGeom prst="rect">
            <a:avLst/>
          </a:prstGeom>
          <a:noFill/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ff33"/>
                </a:solidFill>
                <a:latin typeface="Arial"/>
              </a:rPr>
              <a:t>A luz natural da janela chega pelas later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ff33"/>
                </a:solidFill>
                <a:latin typeface="Arial"/>
              </a:rPr>
              <a:t>dos monitores e não incomoda os usuá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ff33"/>
                </a:solidFill>
                <a:latin typeface="Arial"/>
              </a:rPr>
              <a:t>A luz elétrica incide atrás dos moni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ff33"/>
                </a:solidFill>
                <a:latin typeface="Arial"/>
              </a:rPr>
              <a:t>É preferível utilizar luminárias de mes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ff33"/>
                </a:solidFill>
                <a:latin typeface="Arial"/>
              </a:rPr>
              <a:t>pois podem ficar de modo a não refleti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ff33"/>
                </a:solidFill>
                <a:latin typeface="Arial"/>
              </a:rPr>
              <a:t>luz tanto nas telas quanto nos olh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ff33"/>
                </a:solidFill>
                <a:latin typeface="Arial"/>
              </a:rPr>
              <a:t>dos usuá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7"/>
          <p:cNvSpPr/>
          <p:nvPr/>
        </p:nvSpPr>
        <p:spPr>
          <a:xfrm>
            <a:off x="2700360" y="189000"/>
            <a:ext cx="6192720" cy="626256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8"/>
          <p:cNvSpPr/>
          <p:nvPr/>
        </p:nvSpPr>
        <p:spPr>
          <a:xfrm>
            <a:off x="270720" y="3522600"/>
            <a:ext cx="212688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1"/>
          <p:cNvSpPr/>
          <p:nvPr/>
        </p:nvSpPr>
        <p:spPr>
          <a:xfrm>
            <a:off x="2556000" y="1700280"/>
            <a:ext cx="288720" cy="93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32"/>
          <p:cNvSpPr txBox="1"/>
          <p:nvPr/>
        </p:nvSpPr>
        <p:spPr>
          <a:xfrm>
            <a:off x="417600" y="1844640"/>
            <a:ext cx="3217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ocalização </a:t>
            </a:r>
            <a:endParaRPr b="0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reta</a:t>
            </a:r>
            <a:endParaRPr b="0" lang="en-US" sz="2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Oval 33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34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257" name="Group 35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258" name="Group 36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259" name="Group 37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260" name="Group 38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261" name="Group 39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262" name="Picture 40" descr="82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263" name="Freeform 41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64" name="Freeform 42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5" name="Freeform 43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6" name="Oval 44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" name="Freeform 45"/>
              <p:cNvSpPr/>
              <p:nvPr/>
            </p:nvSpPr>
            <p:spPr>
              <a:xfrm>
                <a:off x="933480" y="30312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46"/>
              <p:cNvSpPr/>
              <p:nvPr/>
            </p:nvSpPr>
            <p:spPr>
              <a:xfrm>
                <a:off x="959040" y="33336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Oval 47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350"/>
                            </p:stCondLst>
                            <p:childTnLst>
                              <p:par>
                                <p:cTn id="427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500" autoRev="1" fill="hold"/>
                                        <p:tgtEl>
                                          <p:spTgt spid="2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35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4522320" y="2800080"/>
            <a:ext cx="4269600" cy="311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NTOMAS </a:t>
            </a:r>
            <a:r>
              <a:rPr b="1" i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NÃ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OCULA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IS FREQU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efalé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or e contração cerv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ores lomb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udanças de humor com irri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 insô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s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ausa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destes sintomas est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lacionadas fundamentalmente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fatores posturais tanto dos olh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omo do cor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213840" y="2192400"/>
            <a:ext cx="4001040" cy="311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NTOMAS  </a:t>
            </a:r>
            <a:r>
              <a:rPr b="1" i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VISUAIS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IS  FREQU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lhos cans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álpebras pes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são bor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lhos avermelh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lhos se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ômodo e dor causado pela lu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reia nos olh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ômodos perman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21"/>
          <p:cNvSpPr/>
          <p:nvPr/>
        </p:nvSpPr>
        <p:spPr>
          <a:xfrm>
            <a:off x="73080" y="8100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38" descr="niñaTV"/>
          <p:cNvPicPr/>
          <p:nvPr/>
        </p:nvPicPr>
        <p:blipFill>
          <a:blip r:embed="rId1"/>
          <a:stretch/>
        </p:blipFill>
        <p:spPr>
          <a:xfrm>
            <a:off x="2843280" y="1116000"/>
            <a:ext cx="1873080" cy="1665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1" descr="32bn1,m.gif (4736 bytes)"/>
          <p:cNvPicPr/>
          <p:nvPr/>
        </p:nvPicPr>
        <p:blipFill>
          <a:blip r:embed="rId2"/>
          <a:stretch/>
        </p:blipFill>
        <p:spPr>
          <a:xfrm flipH="1">
            <a:off x="7500600" y="1643040"/>
            <a:ext cx="1873080" cy="1577880"/>
          </a:xfrm>
          <a:prstGeom prst="rect">
            <a:avLst/>
          </a:prstGeom>
          <a:ln w="0">
            <a:noFill/>
          </a:ln>
        </p:spPr>
      </p:pic>
      <p:sp>
        <p:nvSpPr>
          <p:cNvPr id="275" name="Oval 43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44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277" name="Group 45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278" name="Group 46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279" name="Group 47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280" name="Group 48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281" name="Group 49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282" name="Picture 50" descr="82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283" name="Freeform 51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84" name="Freeform 52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5" name="Freeform 53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Oval 54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Freeform 55"/>
              <p:cNvSpPr/>
              <p:nvPr/>
            </p:nvSpPr>
            <p:spPr>
              <a:xfrm>
                <a:off x="933480" y="30312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56"/>
              <p:cNvSpPr/>
              <p:nvPr/>
            </p:nvSpPr>
            <p:spPr>
              <a:xfrm>
                <a:off x="959040" y="33336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Oval 57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9" descr="principio_activo1"/>
          <p:cNvPicPr/>
          <p:nvPr/>
        </p:nvPicPr>
        <p:blipFill>
          <a:blip r:embed="rId1"/>
          <a:stretch/>
        </p:blipFill>
        <p:spPr>
          <a:xfrm>
            <a:off x="250920" y="765000"/>
            <a:ext cx="3903480" cy="4032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principio_activo2"/>
          <p:cNvPicPr/>
          <p:nvPr/>
        </p:nvPicPr>
        <p:blipFill>
          <a:blip r:embed="rId2"/>
          <a:stretch/>
        </p:blipFill>
        <p:spPr>
          <a:xfrm>
            <a:off x="5087880" y="765000"/>
            <a:ext cx="3905280" cy="40323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1"/>
          <p:cNvSpPr/>
          <p:nvPr/>
        </p:nvSpPr>
        <p:spPr>
          <a:xfrm>
            <a:off x="635760" y="4748040"/>
            <a:ext cx="3522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o estar sentado por muitas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sem mover as pernas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, part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o sangue que deveria retor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o coração, </a:t>
            </a: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se acumula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 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veias das pern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braços e pescoço </a:t>
            </a: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dificultan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de forma crescente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 a circula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sanguín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6061320" y="5038560"/>
            <a:ext cx="2623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Periodicamente dev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movimentar as pernas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ara que a </a:t>
            </a: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circulação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 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sangue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 seja adequ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m todo mo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6"/>
          <p:cNvSpPr/>
          <p:nvPr/>
        </p:nvSpPr>
        <p:spPr>
          <a:xfrm>
            <a:off x="1213920" y="260280"/>
            <a:ext cx="71409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BLEMAS CIRCULATÓRIOS QUE DEVEM SER PREV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100"/>
                            </p:stCondLst>
                            <p:childTnLst>
                              <p:par>
                                <p:cTn id="473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250" autoRev="1" fill="hold"/>
                                        <p:tgtEl>
                                          <p:spTgt spid="2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600"/>
                            </p:stCondLst>
                            <p:childTnLst>
                              <p:par>
                                <p:cTn id="4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600"/>
                            </p:stCondLst>
                            <p:childTnLst>
                              <p:par>
                                <p:cTn id="4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600"/>
                            </p:stCondLst>
                            <p:childTnLst>
                              <p:par>
                                <p:cTn id="4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6600"/>
                            </p:stCondLst>
                            <p:childTnLst>
                              <p:par>
                                <p:cTn id="4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WordArt 4"/>
          <p:cNvSpPr txBox="1"/>
          <p:nvPr/>
        </p:nvSpPr>
        <p:spPr>
          <a:xfrm>
            <a:off x="395280" y="260280"/>
            <a:ext cx="828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ocure deixar seu lugar de trabalho assim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250920" y="195120"/>
            <a:ext cx="8569080" cy="56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2"/>
          <p:cNvGrpSpPr/>
          <p:nvPr/>
        </p:nvGrpSpPr>
        <p:grpSpPr>
          <a:xfrm>
            <a:off x="325440" y="692280"/>
            <a:ext cx="8818560" cy="6037200"/>
            <a:chOff x="325440" y="692280"/>
            <a:chExt cx="8818560" cy="6037200"/>
          </a:xfrm>
        </p:grpSpPr>
        <p:grpSp>
          <p:nvGrpSpPr>
            <p:cNvPr id="298" name="Group 23"/>
            <p:cNvGrpSpPr/>
            <p:nvPr/>
          </p:nvGrpSpPr>
          <p:grpSpPr>
            <a:xfrm>
              <a:off x="325440" y="692280"/>
              <a:ext cx="8818560" cy="6037200"/>
              <a:chOff x="325440" y="692280"/>
              <a:chExt cx="8818560" cy="6037200"/>
            </a:xfrm>
          </p:grpSpPr>
          <p:grpSp>
            <p:nvGrpSpPr>
              <p:cNvPr id="299" name="Group 24"/>
              <p:cNvGrpSpPr/>
              <p:nvPr/>
            </p:nvGrpSpPr>
            <p:grpSpPr>
              <a:xfrm>
                <a:off x="325440" y="692280"/>
                <a:ext cx="8818560" cy="6037200"/>
                <a:chOff x="325440" y="692280"/>
                <a:chExt cx="8818560" cy="6037200"/>
              </a:xfrm>
            </p:grpSpPr>
            <p:grpSp>
              <p:nvGrpSpPr>
                <p:cNvPr id="300" name="Group 25"/>
                <p:cNvGrpSpPr/>
                <p:nvPr/>
              </p:nvGrpSpPr>
              <p:grpSpPr>
                <a:xfrm>
                  <a:off x="325440" y="692280"/>
                  <a:ext cx="8818560" cy="6037200"/>
                  <a:chOff x="325440" y="692280"/>
                  <a:chExt cx="8818560" cy="6037200"/>
                </a:xfrm>
              </p:grpSpPr>
              <p:sp>
                <p:nvSpPr>
                  <p:cNvPr id="301" name="Rectangle 26"/>
                  <p:cNvSpPr/>
                  <p:nvPr/>
                </p:nvSpPr>
                <p:spPr>
                  <a:xfrm>
                    <a:off x="325440" y="1838520"/>
                    <a:ext cx="8818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02" name="Object 27"/>
                  <p:cNvGraphicFramePr/>
                  <p:nvPr/>
                </p:nvGraphicFramePr>
                <p:xfrm>
                  <a:off x="565560" y="692280"/>
                  <a:ext cx="8057880" cy="60372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303" name="Object 27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565560" y="692280"/>
                            <a:ext cx="8057880" cy="60372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04" name="Text Box 28"/>
                  <p:cNvSpPr/>
                  <p:nvPr/>
                </p:nvSpPr>
                <p:spPr>
                  <a:xfrm>
                    <a:off x="5595120" y="2342880"/>
                    <a:ext cx="2285280" cy="9464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AR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ONITOR LOCALIZADO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AR" sz="1400" spc="-1" strike="noStrike">
                        <a:solidFill>
                          <a:srgbClr val="ffffff"/>
                        </a:solidFill>
                        <a:latin typeface="Arial"/>
                      </a:rPr>
                      <a:t>ABAIXO D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AR" sz="1400" spc="-1" strike="noStrike">
                        <a:solidFill>
                          <a:srgbClr val="ffffff"/>
                        </a:solidFill>
                        <a:latin typeface="Arial"/>
                      </a:rPr>
                      <a:t>LINHA D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AR" sz="1400" spc="-1" strike="noStrike">
                        <a:solidFill>
                          <a:srgbClr val="ffffff"/>
                        </a:solidFill>
                        <a:latin typeface="Arial"/>
                      </a:rPr>
                      <a:t>HORIZONTE VISUA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29"/>
                  <p:cNvSpPr/>
                  <p:nvPr/>
                </p:nvSpPr>
                <p:spPr>
                  <a:xfrm>
                    <a:off x="3485520" y="1667160"/>
                    <a:ext cx="5206680" cy="0"/>
                  </a:xfrm>
                  <a:prstGeom prst="line">
                    <a:avLst/>
                  </a:prstGeom>
                  <a:ln w="11448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Text Box 30"/>
                  <p:cNvSpPr/>
                  <p:nvPr/>
                </p:nvSpPr>
                <p:spPr>
                  <a:xfrm>
                    <a:off x="5826960" y="893520"/>
                    <a:ext cx="2631240" cy="64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AR" sz="1800" spc="-1" strike="noStrike">
                        <a:solidFill>
                          <a:srgbClr val="cc3300"/>
                        </a:solidFill>
                        <a:latin typeface="Arial"/>
                      </a:rPr>
                      <a:t>LINHA VERMELHA D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AR" sz="1800" spc="-1" strike="noStrike">
                        <a:solidFill>
                          <a:srgbClr val="cc3300"/>
                        </a:solidFill>
                        <a:latin typeface="Arial"/>
                      </a:rPr>
                      <a:t>HORIZONTE VISUAL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7" name="Line 31"/>
                <p:cNvSpPr/>
                <p:nvPr/>
              </p:nvSpPr>
              <p:spPr>
                <a:xfrm>
                  <a:off x="2068560" y="3500280"/>
                  <a:ext cx="1728720" cy="0"/>
                </a:xfrm>
                <a:prstGeom prst="line">
                  <a:avLst/>
                </a:prstGeom>
                <a:ln w="114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Rectangle 32"/>
              <p:cNvSpPr/>
              <p:nvPr/>
            </p:nvSpPr>
            <p:spPr>
              <a:xfrm>
                <a:off x="7956720" y="1773360"/>
                <a:ext cx="576000" cy="475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Line 33"/>
            <p:cNvSpPr/>
            <p:nvPr/>
          </p:nvSpPr>
          <p:spPr>
            <a:xfrm>
              <a:off x="7885080" y="3789360"/>
              <a:ext cx="1008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4"/>
            <p:cNvSpPr/>
            <p:nvPr/>
          </p:nvSpPr>
          <p:spPr>
            <a:xfrm>
              <a:off x="8388360" y="1700280"/>
              <a:ext cx="0" cy="20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5"/>
            <p:cNvSpPr/>
            <p:nvPr/>
          </p:nvSpPr>
          <p:spPr>
            <a:xfrm>
              <a:off x="7969320" y="2585880"/>
              <a:ext cx="900000" cy="641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AL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CaixaDeTexto 17"/>
          <p:cNvSpPr/>
          <p:nvPr/>
        </p:nvSpPr>
        <p:spPr>
          <a:xfrm>
            <a:off x="1143000" y="1500120"/>
            <a:ext cx="1500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Ângulo aproxima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da inclinaçã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da cabeç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tângulo 19"/>
          <p:cNvSpPr/>
          <p:nvPr/>
        </p:nvSpPr>
        <p:spPr>
          <a:xfrm>
            <a:off x="1357200" y="928800"/>
            <a:ext cx="15004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tângulo 20"/>
          <p:cNvSpPr/>
          <p:nvPr/>
        </p:nvSpPr>
        <p:spPr>
          <a:xfrm>
            <a:off x="1285920" y="1285920"/>
            <a:ext cx="11430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tângulo 21"/>
          <p:cNvSpPr/>
          <p:nvPr/>
        </p:nvSpPr>
        <p:spPr>
          <a:xfrm>
            <a:off x="4286160" y="928800"/>
            <a:ext cx="114300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tângulo 23"/>
          <p:cNvSpPr/>
          <p:nvPr/>
        </p:nvSpPr>
        <p:spPr>
          <a:xfrm rot="20906400">
            <a:off x="5578560" y="5862240"/>
            <a:ext cx="1500120" cy="2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750"/>
                            </p:stCondLst>
                            <p:childTnLst>
                              <p:par>
                                <p:cTn id="509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1" dur="25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25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1"/>
          <p:cNvSpPr/>
          <p:nvPr/>
        </p:nvSpPr>
        <p:spPr>
          <a:xfrm>
            <a:off x="409680" y="4811760"/>
            <a:ext cx="7470360" cy="192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 que realmente se há comprovado é que os princip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sponsáveis da mencionada sintomatologia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são os fa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relacionados com a posição do corpo em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rente a um PC e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pecialmente,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 disposição dos olhos diante da tela,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o também a maneira  que desenvolvemos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tividades com estes equipa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WordArt 21"/>
          <p:cNvSpPr txBox="1"/>
          <p:nvPr/>
        </p:nvSpPr>
        <p:spPr>
          <a:xfrm>
            <a:off x="1581120" y="260280"/>
            <a:ext cx="73119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 TELA DO MONITOR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MITE  RADIAÇÕES?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9" name="Text Box 30"/>
          <p:cNvSpPr/>
          <p:nvPr/>
        </p:nvSpPr>
        <p:spPr>
          <a:xfrm>
            <a:off x="508680" y="1747800"/>
            <a:ext cx="7461000" cy="131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odos os estudos biomédicos efetuados até a data de hoj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não têm demostrad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que existam riscos para a saú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 radiações ionizantes ou não ionizantes emitidas pe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las dos comput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23"/>
          <p:cNvGrpSpPr/>
          <p:nvPr/>
        </p:nvGrpSpPr>
        <p:grpSpPr>
          <a:xfrm>
            <a:off x="3851280" y="2809800"/>
            <a:ext cx="2449080" cy="2058840"/>
            <a:chOff x="3851280" y="2809800"/>
            <a:chExt cx="2449080" cy="2058840"/>
          </a:xfrm>
        </p:grpSpPr>
        <p:sp>
          <p:nvSpPr>
            <p:cNvPr id="321" name="Oval 24"/>
            <p:cNvSpPr/>
            <p:nvPr/>
          </p:nvSpPr>
          <p:spPr>
            <a:xfrm>
              <a:off x="3851280" y="2809800"/>
              <a:ext cx="2008800" cy="20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2" name="Picture 25" descr="esqueleto"/>
            <p:cNvPicPr/>
            <p:nvPr/>
          </p:nvPicPr>
          <p:blipFill>
            <a:blip r:embed="rId1"/>
            <a:stretch/>
          </p:blipFill>
          <p:spPr>
            <a:xfrm>
              <a:off x="3851280" y="2936880"/>
              <a:ext cx="2449080" cy="170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Text Box 26"/>
          <p:cNvSpPr/>
          <p:nvPr/>
        </p:nvSpPr>
        <p:spPr>
          <a:xfrm>
            <a:off x="6037200" y="3633840"/>
            <a:ext cx="2837160" cy="5806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Doutor, é verdade que o 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não é radioativ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8"/>
          <p:cNvSpPr/>
          <p:nvPr/>
        </p:nvSpPr>
        <p:spPr>
          <a:xfrm rot="21239400">
            <a:off x="5451480" y="3327480"/>
            <a:ext cx="1224000" cy="360360"/>
          </a:xfrm>
          <a:prstGeom prst="lightningBol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2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500" autoRev="1" fill="hold"/>
                                        <p:tgtEl>
                                          <p:spTgt spid="3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400"/>
                            </p:stCondLst>
                            <p:childTnLst>
                              <p:par>
                                <p:cTn id="5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4400"/>
                            </p:stCondLst>
                            <p:childTnLst>
                              <p:par>
                                <p:cTn id="5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400"/>
                            </p:stCondLst>
                            <p:childTnLst>
                              <p:par>
                                <p:cTn id="5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8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6400"/>
                            </p:stCondLst>
                            <p:childTnLst>
                              <p:par>
                                <p:cTn id="5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8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7400"/>
                            </p:stCondLst>
                            <p:childTnLst>
                              <p:par>
                                <p:cTn id="5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412280" y="1625400"/>
            <a:ext cx="7420680" cy="4483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tiliz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lírios humectante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periodic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 utiliza Lentes de Contato use os colí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umectantes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m maior frequ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nte-se diante da tela do monitor de mod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sua visã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seja ligeiramente para baix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Nã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trabalhe mais de 50 minutos dire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scanse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de 5 a 10 minutos, levante-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  olh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ara longe e para pert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ucessiv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2771640" y="476280"/>
            <a:ext cx="4395960" cy="825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RECOMENDAÇÕES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OS USUÁRIOS DO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9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40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329" name="Group 41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330" name="Group 42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331" name="Group 43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332" name="Group 44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333" name="Group 45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334" name="Picture 46" descr="82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335" name="Freeform 47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6" name="Freeform 48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7" name="Freeform 49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8" name="Oval 50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Freeform 51"/>
              <p:cNvSpPr/>
              <p:nvPr/>
            </p:nvSpPr>
            <p:spPr>
              <a:xfrm>
                <a:off x="933480" y="30312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52"/>
              <p:cNvSpPr/>
              <p:nvPr/>
            </p:nvSpPr>
            <p:spPr>
              <a:xfrm>
                <a:off x="959040" y="33336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Oval 53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WordArt 54"/>
          <p:cNvSpPr txBox="1"/>
          <p:nvPr/>
        </p:nvSpPr>
        <p:spPr>
          <a:xfrm rot="17451000">
            <a:off x="339120" y="417240"/>
            <a:ext cx="1306800" cy="1281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apograf@gmail.com     </a:t>
            </a:r>
            <a:endParaRPr b="0" lang="en-US" sz="1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8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500"/>
                            </p:stCondLst>
                            <p:childTnLst>
                              <p:par>
                                <p:cTn id="5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6000"/>
                            </p:stCondLst>
                            <p:childTnLst>
                              <p:par>
                                <p:cTn id="601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500" autoRev="1" fill="hold"/>
                                        <p:tgtEl>
                                          <p:spTgt spid="3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7000"/>
                            </p:stCondLst>
                            <p:childTnLst>
                              <p:par>
                                <p:cTn id="6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36"/>
          <p:cNvSpPr/>
          <p:nvPr/>
        </p:nvSpPr>
        <p:spPr>
          <a:xfrm>
            <a:off x="507600" y="1981080"/>
            <a:ext cx="8251200" cy="411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rija sua visão ao longe para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obilizar os músculo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o ol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gule a temperatura ambiente para evitar o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ument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a secura o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sulte o oftalmologista se sentir necessidad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rreção óptic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e para controlar e evitar o iníci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lhos secos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7"/>
          <p:cNvSpPr/>
          <p:nvPr/>
        </p:nvSpPr>
        <p:spPr>
          <a:xfrm>
            <a:off x="2347560" y="476280"/>
            <a:ext cx="4274280" cy="8254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RECOMEND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PARA OS USUARIOS DE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8" descr="doctor.gif (14543 bytes)"/>
          <p:cNvPicPr/>
          <p:nvPr/>
        </p:nvPicPr>
        <p:blipFill>
          <a:blip r:embed="rId1"/>
          <a:stretch/>
        </p:blipFill>
        <p:spPr>
          <a:xfrm>
            <a:off x="4284720" y="3573360"/>
            <a:ext cx="1366920" cy="1366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450"/>
                            </p:stCondLst>
                            <p:childTnLst>
                              <p:par>
                                <p:cTn id="619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2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10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450"/>
                            </p:stCondLst>
                            <p:childTnLst>
                              <p:par>
                                <p:cTn id="6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450"/>
                            </p:stCondLst>
                            <p:childTnLst>
                              <p:par>
                                <p:cTn id="6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92" descr="ojo seco"/>
          <p:cNvPicPr/>
          <p:nvPr/>
        </p:nvPicPr>
        <p:blipFill>
          <a:blip r:embed="rId1"/>
          <a:srcRect l="2256" t="0" r="0" b="0"/>
          <a:stretch/>
        </p:blipFill>
        <p:spPr>
          <a:xfrm>
            <a:off x="3564000" y="115920"/>
            <a:ext cx="4680000" cy="6730920"/>
          </a:xfrm>
          <a:prstGeom prst="rect">
            <a:avLst/>
          </a:prstGeom>
          <a:ln w="0">
            <a:noFill/>
          </a:ln>
        </p:spPr>
      </p:pic>
      <p:sp>
        <p:nvSpPr>
          <p:cNvPr id="347" name="Oval 41"/>
          <p:cNvSpPr/>
          <p:nvPr/>
        </p:nvSpPr>
        <p:spPr>
          <a:xfrm>
            <a:off x="3330720" y="270972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2"/>
          <p:cNvGrpSpPr/>
          <p:nvPr/>
        </p:nvGrpSpPr>
        <p:grpSpPr>
          <a:xfrm>
            <a:off x="3510000" y="2752560"/>
            <a:ext cx="1384200" cy="1407960"/>
            <a:chOff x="3510000" y="2752560"/>
            <a:chExt cx="1384200" cy="1407960"/>
          </a:xfrm>
        </p:grpSpPr>
        <p:grpSp>
          <p:nvGrpSpPr>
            <p:cNvPr id="349" name="Group 43"/>
            <p:cNvGrpSpPr/>
            <p:nvPr/>
          </p:nvGrpSpPr>
          <p:grpSpPr>
            <a:xfrm>
              <a:off x="3510000" y="2752560"/>
              <a:ext cx="1384200" cy="1407960"/>
              <a:chOff x="3510000" y="2752560"/>
              <a:chExt cx="1384200" cy="1407960"/>
            </a:xfrm>
          </p:grpSpPr>
          <p:grpSp>
            <p:nvGrpSpPr>
              <p:cNvPr id="350" name="Group 44"/>
              <p:cNvGrpSpPr/>
              <p:nvPr/>
            </p:nvGrpSpPr>
            <p:grpSpPr>
              <a:xfrm>
                <a:off x="3510000" y="2792160"/>
                <a:ext cx="1371600" cy="1368360"/>
                <a:chOff x="3510000" y="2792160"/>
                <a:chExt cx="1371600" cy="1368360"/>
              </a:xfrm>
            </p:grpSpPr>
            <p:grpSp>
              <p:nvGrpSpPr>
                <p:cNvPr id="351" name="Group 45"/>
                <p:cNvGrpSpPr/>
                <p:nvPr/>
              </p:nvGrpSpPr>
              <p:grpSpPr>
                <a:xfrm>
                  <a:off x="3510000" y="2820600"/>
                  <a:ext cx="1298520" cy="1338480"/>
                  <a:chOff x="3510000" y="2820600"/>
                  <a:chExt cx="1298520" cy="1338480"/>
                </a:xfrm>
              </p:grpSpPr>
              <p:grpSp>
                <p:nvGrpSpPr>
                  <p:cNvPr id="352" name="Group 46"/>
                  <p:cNvGrpSpPr/>
                  <p:nvPr/>
                </p:nvGrpSpPr>
                <p:grpSpPr>
                  <a:xfrm>
                    <a:off x="3510000" y="2820600"/>
                    <a:ext cx="1298520" cy="1338480"/>
                    <a:chOff x="3510000" y="2820600"/>
                    <a:chExt cx="1298520" cy="1338480"/>
                  </a:xfrm>
                </p:grpSpPr>
                <p:grpSp>
                  <p:nvGrpSpPr>
                    <p:cNvPr id="353" name="Group 47"/>
                    <p:cNvGrpSpPr/>
                    <p:nvPr/>
                  </p:nvGrpSpPr>
                  <p:grpSpPr>
                    <a:xfrm>
                      <a:off x="3510000" y="2820600"/>
                      <a:ext cx="1298520" cy="1338480"/>
                      <a:chOff x="3510000" y="2820600"/>
                      <a:chExt cx="1298520" cy="1338480"/>
                    </a:xfrm>
                  </p:grpSpPr>
                  <p:pic>
                    <p:nvPicPr>
                      <p:cNvPr id="354" name="Picture 48" descr="82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513240" y="286380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355" name="Freeform 49"/>
                      <p:cNvSpPr/>
                      <p:nvPr/>
                    </p:nvSpPr>
                    <p:spPr>
                      <a:xfrm>
                        <a:off x="3510000" y="282060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6" name="Freeform 50"/>
                    <p:cNvSpPr/>
                    <p:nvPr/>
                  </p:nvSpPr>
                  <p:spPr>
                    <a:xfrm>
                      <a:off x="3632400" y="282240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7" name="Freeform 51"/>
                  <p:cNvSpPr/>
                  <p:nvPr/>
                </p:nvSpPr>
                <p:spPr>
                  <a:xfrm>
                    <a:off x="3670200" y="308916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8" name="Oval 52"/>
                <p:cNvSpPr/>
                <p:nvPr/>
              </p:nvSpPr>
              <p:spPr>
                <a:xfrm>
                  <a:off x="3513240" y="279216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" name="Freeform 53"/>
              <p:cNvSpPr/>
              <p:nvPr/>
            </p:nvSpPr>
            <p:spPr>
              <a:xfrm>
                <a:off x="4084560" y="275256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54"/>
              <p:cNvSpPr/>
              <p:nvPr/>
            </p:nvSpPr>
            <p:spPr>
              <a:xfrm>
                <a:off x="4110120" y="278280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Oval 55"/>
            <p:cNvSpPr/>
            <p:nvPr/>
          </p:nvSpPr>
          <p:spPr>
            <a:xfrm>
              <a:off x="3727440" y="311292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57"/>
          <p:cNvSpPr/>
          <p:nvPr/>
        </p:nvSpPr>
        <p:spPr>
          <a:xfrm>
            <a:off x="2937960" y="2214720"/>
            <a:ext cx="187704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olho saud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8"/>
          <p:cNvSpPr/>
          <p:nvPr/>
        </p:nvSpPr>
        <p:spPr>
          <a:xfrm>
            <a:off x="4950720" y="2205000"/>
            <a:ext cx="162396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olho “sec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88" descr="tapa copia"/>
          <p:cNvPicPr/>
          <p:nvPr/>
        </p:nvPicPr>
        <p:blipFill>
          <a:blip r:embed="rId3"/>
          <a:srcRect l="28055" t="28055" r="27875" b="27875"/>
          <a:stretch/>
        </p:blipFill>
        <p:spPr>
          <a:xfrm>
            <a:off x="3403440" y="2744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93"/>
          <p:cNvSpPr/>
          <p:nvPr/>
        </p:nvSpPr>
        <p:spPr>
          <a:xfrm>
            <a:off x="488880" y="4437000"/>
            <a:ext cx="520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Salve seus olho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Pisque para lubr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ccff"/>
                </a:solidFill>
                <a:latin typeface="Arial"/>
              </a:rPr>
              <a:t>Piscar para lubricar</a:t>
            </a: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iscar para lubr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Não existem repostos para seus olho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500"/>
                            </p:stCondLst>
                            <p:childTnLst>
                              <p:par>
                                <p:cTn id="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0"/>
          <p:cNvSpPr/>
          <p:nvPr/>
        </p:nvSpPr>
        <p:spPr>
          <a:xfrm>
            <a:off x="1860120" y="1125360"/>
            <a:ext cx="6285240" cy="5214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lho se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 menos piscade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 concentração da nossa a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a tela faz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iminuir a frequ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o piscad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 aumenta a sintomat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o olho se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Isto aumenta a fadiga ocular e mental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m olho sem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 lubrificação do piscad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mo um motor sem óleo: os pist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 aderem a parede do cilind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 o motor vai para o lix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5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68" name="Group 26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69" name="Group 27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70" name="Group 28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71" name="Group 29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72" name="Group 30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73" name="Picture 31" descr="82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4" name="Freeform 32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5" name="Freeform 33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" name="Freeform 34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" name="Oval 35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Freeform 36"/>
              <p:cNvSpPr/>
              <p:nvPr/>
            </p:nvSpPr>
            <p:spPr>
              <a:xfrm>
                <a:off x="933480" y="30312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7"/>
              <p:cNvSpPr/>
              <p:nvPr/>
            </p:nvSpPr>
            <p:spPr>
              <a:xfrm>
                <a:off x="959040" y="33336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Oval 38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1"/>
          <p:cNvSpPr/>
          <p:nvPr/>
        </p:nvSpPr>
        <p:spPr>
          <a:xfrm>
            <a:off x="1973880" y="795240"/>
            <a:ext cx="6918480" cy="521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lho se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 posição do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 monitor deve estar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abaix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horizonte visual.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Isso permite que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álpebras cubram uma maior superfí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o globo ocular e dimin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 exposição da córn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ssim será menor o ressecamento 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película lacrimal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que cobre a cór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 protege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dos sintomas do olho seco</a:t>
            </a:r>
            <a:r>
              <a:rPr b="1" lang="es-AR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29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83" name="Group 30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84" name="Group 31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85" name="Group 32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86" name="Group 33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87" name="Group 34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88" name="Picture 35" descr="82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89" name="Freeform 36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0" name="Freeform 37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" name="Freeform 38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Oval 39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Freeform 40"/>
              <p:cNvSpPr/>
              <p:nvPr/>
            </p:nvSpPr>
            <p:spPr>
              <a:xfrm>
                <a:off x="933480" y="30312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41"/>
              <p:cNvSpPr/>
              <p:nvPr/>
            </p:nvSpPr>
            <p:spPr>
              <a:xfrm>
                <a:off x="959040" y="33336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Oval 42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1"/>
          <p:cNvSpPr/>
          <p:nvPr/>
        </p:nvSpPr>
        <p:spPr>
          <a:xfrm>
            <a:off x="3109320" y="5229360"/>
            <a:ext cx="3164760" cy="15541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Nesta posição a córnea est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totalmente exposta ao da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Isto pode-se ver nas casas, 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universidad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empresas, escol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cibercafé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22"/>
          <p:cNvSpPr txBox="1"/>
          <p:nvPr/>
        </p:nvSpPr>
        <p:spPr>
          <a:xfrm>
            <a:off x="1979640" y="260280"/>
            <a:ext cx="66247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sição de Total Exposição 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98" name="Object 23"/>
          <p:cNvGraphicFramePr/>
          <p:nvPr/>
        </p:nvGraphicFramePr>
        <p:xfrm>
          <a:off x="7236000" y="1197000"/>
          <a:ext cx="1622160" cy="392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197000"/>
                    <a:ext cx="162216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Group 24"/>
          <p:cNvGrpSpPr/>
          <p:nvPr/>
        </p:nvGrpSpPr>
        <p:grpSpPr>
          <a:xfrm>
            <a:off x="2655720" y="1700280"/>
            <a:ext cx="1916280" cy="2263680"/>
            <a:chOff x="2655720" y="1700280"/>
            <a:chExt cx="1916280" cy="2263680"/>
          </a:xfrm>
        </p:grpSpPr>
        <p:pic>
          <p:nvPicPr>
            <p:cNvPr id="101" name="Picture 25" descr="cinthia 1"/>
            <p:cNvPicPr/>
            <p:nvPr/>
          </p:nvPicPr>
          <p:blipFill>
            <a:blip r:embed="rId5"/>
            <a:srcRect l="0" t="0" r="34448" b="0"/>
            <a:stretch/>
          </p:blipFill>
          <p:spPr>
            <a:xfrm>
              <a:off x="2655720" y="1730520"/>
              <a:ext cx="191628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Freeform 26"/>
            <p:cNvSpPr/>
            <p:nvPr/>
          </p:nvSpPr>
          <p:spPr>
            <a:xfrm>
              <a:off x="2655720" y="1700280"/>
              <a:ext cx="1440000" cy="2984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Freeform 29"/>
          <p:cNvSpPr/>
          <p:nvPr/>
        </p:nvSpPr>
        <p:spPr>
          <a:xfrm>
            <a:off x="4140360" y="1413000"/>
            <a:ext cx="3311280" cy="3168360"/>
          </a:xfrm>
          <a:prstGeom prst="pie">
            <a:avLst/>
          </a:prstGeom>
          <a:solidFill>
            <a:srgbClr val="ff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0" descr="cinthia 1a"/>
          <p:cNvPicPr/>
          <p:nvPr/>
        </p:nvPicPr>
        <p:blipFill>
          <a:blip r:embed="rId6"/>
          <a:srcRect l="7913" t="5070" r="19962" b="7542"/>
          <a:stretch/>
        </p:blipFill>
        <p:spPr>
          <a:xfrm>
            <a:off x="108000" y="3443400"/>
            <a:ext cx="3024000" cy="293832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31"/>
          <p:cNvSpPr/>
          <p:nvPr/>
        </p:nvSpPr>
        <p:spPr>
          <a:xfrm>
            <a:off x="1692360" y="4005360"/>
            <a:ext cx="1942920" cy="1798560"/>
          </a:xfrm>
          <a:prstGeom prst="pie">
            <a:avLst/>
          </a:prstGeom>
          <a:solidFill>
            <a:srgbClr val="ff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2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3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108" name="Group 34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109" name="Group 35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110" name="Group 36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111" name="Group 37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112" name="Group 38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113" name="Picture 39" descr="82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14" name="Freeform 40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5" name="Freeform 41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" name="Freeform 42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Oval 43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Freeform 44"/>
              <p:cNvSpPr/>
              <p:nvPr/>
            </p:nvSpPr>
            <p:spPr>
              <a:xfrm>
                <a:off x="933480" y="30312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45"/>
              <p:cNvSpPr/>
              <p:nvPr/>
            </p:nvSpPr>
            <p:spPr>
              <a:xfrm>
                <a:off x="959040" y="33336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Oval 46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100"/>
                            </p:stCondLst>
                            <p:childTnLst>
                              <p:par>
                                <p:cTn id="76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1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1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1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1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21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41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2"/>
          <p:cNvSpPr/>
          <p:nvPr/>
        </p:nvSpPr>
        <p:spPr>
          <a:xfrm>
            <a:off x="7597800" y="3406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3"/>
          <p:cNvSpPr/>
          <p:nvPr/>
        </p:nvSpPr>
        <p:spPr>
          <a:xfrm>
            <a:off x="525240" y="4264200"/>
            <a:ext cx="3704040" cy="2043720"/>
          </a:xfrm>
          <a:prstGeom prst="rect">
            <a:avLst/>
          </a:prstGeom>
          <a:noFill/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O horizonte vi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deve estar ac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da borda sup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do moni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48"/>
          <p:cNvSpPr txBox="1"/>
          <p:nvPr/>
        </p:nvSpPr>
        <p:spPr>
          <a:xfrm>
            <a:off x="2771640" y="189000"/>
            <a:ext cx="597708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 posição adequada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4" name="Object 54"/>
          <p:cNvGraphicFramePr/>
          <p:nvPr/>
        </p:nvGraphicFramePr>
        <p:xfrm>
          <a:off x="7236000" y="2122560"/>
          <a:ext cx="1622160" cy="392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5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2122560"/>
                    <a:ext cx="1622160" cy="39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Group 56"/>
          <p:cNvGrpSpPr/>
          <p:nvPr/>
        </p:nvGrpSpPr>
        <p:grpSpPr>
          <a:xfrm>
            <a:off x="1763640" y="1193760"/>
            <a:ext cx="1916280" cy="2263680"/>
            <a:chOff x="1763640" y="1193760"/>
            <a:chExt cx="1916280" cy="2263680"/>
          </a:xfrm>
        </p:grpSpPr>
        <p:pic>
          <p:nvPicPr>
            <p:cNvPr id="127" name="Picture 36" descr="cinthia 1"/>
            <p:cNvPicPr/>
            <p:nvPr/>
          </p:nvPicPr>
          <p:blipFill>
            <a:blip r:embed="rId5"/>
            <a:srcRect l="0" t="0" r="34448" b="0"/>
            <a:stretch/>
          </p:blipFill>
          <p:spPr>
            <a:xfrm>
              <a:off x="1763640" y="1224000"/>
              <a:ext cx="191628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Freeform 55"/>
            <p:cNvSpPr/>
            <p:nvPr/>
          </p:nvSpPr>
          <p:spPr>
            <a:xfrm>
              <a:off x="1763640" y="1193760"/>
              <a:ext cx="1440000" cy="2984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Line 45"/>
          <p:cNvSpPr/>
          <p:nvPr/>
        </p:nvSpPr>
        <p:spPr>
          <a:xfrm flipH="1" flipV="1">
            <a:off x="3276360" y="2172960"/>
            <a:ext cx="5398920" cy="28440"/>
          </a:xfrm>
          <a:prstGeom prst="line">
            <a:avLst/>
          </a:prstGeom>
          <a:ln w="76320">
            <a:solidFill>
              <a:srgbClr val="00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7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8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132" name="Group 59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133" name="Group 60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134" name="Group 61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135" name="Group 62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136" name="Group 63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137" name="Picture 64" descr="82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38" name="Freeform 65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9" name="Freeform 66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" name="Freeform 67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Oval 68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Freeform 69"/>
              <p:cNvSpPr/>
              <p:nvPr/>
            </p:nvSpPr>
            <p:spPr>
              <a:xfrm>
                <a:off x="933480" y="30312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70"/>
              <p:cNvSpPr/>
              <p:nvPr/>
            </p:nvSpPr>
            <p:spPr>
              <a:xfrm>
                <a:off x="959040" y="33336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Oval 71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750"/>
                            </p:stCondLst>
                            <p:childTnLst>
                              <p:par>
                                <p:cTn id="121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50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75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75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75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75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5"/>
          <p:cNvSpPr/>
          <p:nvPr/>
        </p:nvSpPr>
        <p:spPr>
          <a:xfrm>
            <a:off x="4295160" y="4545000"/>
            <a:ext cx="2768400" cy="2040840"/>
          </a:xfrm>
          <a:prstGeom prst="rect">
            <a:avLst/>
          </a:prstGeom>
          <a:noFill/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 cabeça está leve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inclinada para o moni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Nesta posição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álpebra cobre quase 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o globo ocular,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rotege do brilho da t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 diminue a fadi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visual e m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28"/>
          <p:cNvSpPr txBox="1"/>
          <p:nvPr/>
        </p:nvSpPr>
        <p:spPr>
          <a:xfrm>
            <a:off x="4427640" y="270000"/>
            <a:ext cx="3816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stura de trabalho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reta</a:t>
            </a:r>
            <a:endParaRPr b="0" lang="en-US" sz="1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Line 31"/>
          <p:cNvSpPr/>
          <p:nvPr/>
        </p:nvSpPr>
        <p:spPr>
          <a:xfrm>
            <a:off x="3635280" y="1714680"/>
            <a:ext cx="51847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33"/>
          <p:cNvGrpSpPr/>
          <p:nvPr/>
        </p:nvGrpSpPr>
        <p:grpSpPr>
          <a:xfrm>
            <a:off x="1784880" y="335880"/>
            <a:ext cx="2218680" cy="2460240"/>
            <a:chOff x="1784880" y="335880"/>
            <a:chExt cx="2218680" cy="2460240"/>
          </a:xfrm>
        </p:grpSpPr>
        <p:pic>
          <p:nvPicPr>
            <p:cNvPr id="149" name="Picture 21" descr="cinthia 2"/>
            <p:cNvPicPr/>
            <p:nvPr/>
          </p:nvPicPr>
          <p:blipFill>
            <a:blip r:embed="rId5"/>
            <a:srcRect l="0" t="0" r="32313" b="0"/>
            <a:stretch/>
          </p:blipFill>
          <p:spPr>
            <a:xfrm rot="621600">
              <a:off x="1963800" y="485280"/>
              <a:ext cx="186048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Freeform 32"/>
            <p:cNvSpPr/>
            <p:nvPr/>
          </p:nvSpPr>
          <p:spPr>
            <a:xfrm>
              <a:off x="2124000" y="417600"/>
              <a:ext cx="1522440" cy="65880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1" name="Object 34"/>
          <p:cNvGraphicFramePr/>
          <p:nvPr/>
        </p:nvGraphicFramePr>
        <p:xfrm>
          <a:off x="7236000" y="1650960"/>
          <a:ext cx="1622160" cy="392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2" name="Object 3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36000" y="1650960"/>
                    <a:ext cx="162216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Picture 35" descr="cinthia 2 a"/>
          <p:cNvPicPr/>
          <p:nvPr/>
        </p:nvPicPr>
        <p:blipFill>
          <a:blip r:embed="rId8"/>
          <a:stretch/>
        </p:blipFill>
        <p:spPr>
          <a:xfrm rot="417000">
            <a:off x="34560" y="3068640"/>
            <a:ext cx="3959280" cy="3075120"/>
          </a:xfrm>
          <a:prstGeom prst="rect">
            <a:avLst/>
          </a:prstGeom>
          <a:ln w="0">
            <a:noFill/>
          </a:ln>
        </p:spPr>
      </p:pic>
      <p:sp>
        <p:nvSpPr>
          <p:cNvPr id="154" name="Freeform 41"/>
          <p:cNvSpPr/>
          <p:nvPr/>
        </p:nvSpPr>
        <p:spPr>
          <a:xfrm>
            <a:off x="3564000" y="1773360"/>
            <a:ext cx="3960720" cy="1655640"/>
          </a:xfrm>
          <a:prstGeom prst="pie">
            <a:avLst/>
          </a:prstGeom>
          <a:solidFill>
            <a:srgbClr val="bbe0e3">
              <a:alpha val="7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43"/>
          <p:cNvSpPr/>
          <p:nvPr/>
        </p:nvSpPr>
        <p:spPr>
          <a:xfrm>
            <a:off x="3492360" y="1773360"/>
            <a:ext cx="3959280" cy="3240000"/>
          </a:xfrm>
          <a:prstGeom prst="pie">
            <a:avLst/>
          </a:prstGeom>
          <a:solidFill>
            <a:srgbClr val="ffff00">
              <a:alpha val="5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7"/>
          <p:cNvSpPr/>
          <p:nvPr/>
        </p:nvSpPr>
        <p:spPr>
          <a:xfrm rot="920400">
            <a:off x="5452560" y="2120760"/>
            <a:ext cx="1791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ZONA PROTEG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PELA PÁLPE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>
            <a:off x="3492360" y="1773360"/>
            <a:ext cx="3816360" cy="165564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8"/>
          <p:cNvSpPr/>
          <p:nvPr/>
        </p:nvSpPr>
        <p:spPr>
          <a:xfrm rot="2346600">
            <a:off x="5353560" y="3402000"/>
            <a:ext cx="1584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ZONA EXPO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9"/>
          <p:cNvSpPr/>
          <p:nvPr/>
        </p:nvSpPr>
        <p:spPr>
          <a:xfrm>
            <a:off x="2268360" y="4452840"/>
            <a:ext cx="1943280" cy="1297080"/>
          </a:xfrm>
          <a:prstGeom prst="pie">
            <a:avLst/>
          </a:prstGeom>
          <a:solidFill>
            <a:srgbClr val="bbe0e3">
              <a:alpha val="5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50"/>
          <p:cNvSpPr/>
          <p:nvPr/>
        </p:nvSpPr>
        <p:spPr>
          <a:xfrm>
            <a:off x="2268360" y="4710240"/>
            <a:ext cx="1943280" cy="2160360"/>
          </a:xfrm>
          <a:prstGeom prst="pie">
            <a:avLst/>
          </a:prstGeom>
          <a:solidFill>
            <a:srgbClr val="ffff00">
              <a:alpha val="5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7"/>
          <p:cNvSpPr/>
          <p:nvPr/>
        </p:nvSpPr>
        <p:spPr>
          <a:xfrm>
            <a:off x="2268360" y="4724280"/>
            <a:ext cx="1654200" cy="86544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1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52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164" name="Group 53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165" name="Group 54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166" name="Group 55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167" name="Group 56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168" name="Group 57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169" name="Picture 58" descr="82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70" name="Freeform 59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1" name="Freeform 60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2" name="Freeform 61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" name="Oval 62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Freeform 63"/>
              <p:cNvSpPr/>
              <p:nvPr/>
            </p:nvSpPr>
            <p:spPr>
              <a:xfrm>
                <a:off x="933480" y="30312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64"/>
              <p:cNvSpPr/>
              <p:nvPr/>
            </p:nvSpPr>
            <p:spPr>
              <a:xfrm>
                <a:off x="959040" y="33336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Oval 65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WordArt 66"/>
          <p:cNvSpPr txBox="1"/>
          <p:nvPr/>
        </p:nvSpPr>
        <p:spPr>
          <a:xfrm rot="17451000">
            <a:off x="339120" y="417240"/>
            <a:ext cx="1306800" cy="1281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apograf@gmail.com     </a:t>
            </a:r>
            <a:endParaRPr b="0" lang="en-US" sz="1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650"/>
                            </p:stCondLst>
                            <p:childTnLst>
                              <p:par>
                                <p:cTn id="176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65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65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65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65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46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665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865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65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265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465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665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865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4" descr="cinthia 2"/>
          <p:cNvPicPr/>
          <p:nvPr/>
        </p:nvPicPr>
        <p:blipFill>
          <a:blip r:embed="rId1"/>
          <a:srcRect l="0" t="0" r="32313" b="0"/>
          <a:stretch/>
        </p:blipFill>
        <p:spPr>
          <a:xfrm rot="621600">
            <a:off x="2268000" y="3254400"/>
            <a:ext cx="1341720" cy="154152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15"/>
          <p:cNvSpPr/>
          <p:nvPr/>
        </p:nvSpPr>
        <p:spPr>
          <a:xfrm>
            <a:off x="2382840" y="3205080"/>
            <a:ext cx="1098720" cy="4716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>
            <a:off x="3473280" y="4130640"/>
            <a:ext cx="37339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16"/>
          <p:cNvGraphicFramePr/>
          <p:nvPr/>
        </p:nvGraphicFramePr>
        <p:xfrm>
          <a:off x="6067440" y="4084560"/>
          <a:ext cx="1168560" cy="280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67440" y="4084560"/>
                    <a:ext cx="116856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Freeform 17"/>
          <p:cNvSpPr/>
          <p:nvPr/>
        </p:nvSpPr>
        <p:spPr>
          <a:xfrm>
            <a:off x="3421080" y="4172040"/>
            <a:ext cx="2854440" cy="1181160"/>
          </a:xfrm>
          <a:prstGeom prst="pie">
            <a:avLst/>
          </a:prstGeom>
          <a:solidFill>
            <a:srgbClr val="bbe0e3">
              <a:alpha val="7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 rot="920400">
            <a:off x="4610160" y="4302000"/>
            <a:ext cx="1213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ZONA PROTEGI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PELA PÁLPEB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20"/>
          <p:cNvSpPr/>
          <p:nvPr/>
        </p:nvSpPr>
        <p:spPr>
          <a:xfrm>
            <a:off x="3368520" y="4160880"/>
            <a:ext cx="2853000" cy="2309760"/>
          </a:xfrm>
          <a:prstGeom prst="pie">
            <a:avLst/>
          </a:prstGeom>
          <a:solidFill>
            <a:srgbClr val="ffff00">
              <a:alpha val="5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 rot="1800600">
            <a:off x="4762800" y="5229360"/>
            <a:ext cx="1081440" cy="231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ZONA EXPO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3368520" y="4181400"/>
            <a:ext cx="2749680" cy="11797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24"/>
          <p:cNvGraphicFramePr/>
          <p:nvPr/>
        </p:nvGraphicFramePr>
        <p:xfrm>
          <a:off x="5958000" y="836640"/>
          <a:ext cx="1276200" cy="253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9" name="Object 2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58000" y="836640"/>
                    <a:ext cx="127620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Group 25"/>
          <p:cNvGrpSpPr/>
          <p:nvPr/>
        </p:nvGrpSpPr>
        <p:grpSpPr>
          <a:xfrm>
            <a:off x="2352600" y="1160640"/>
            <a:ext cx="1508040" cy="1460160"/>
            <a:chOff x="2352600" y="1160640"/>
            <a:chExt cx="1508040" cy="1460160"/>
          </a:xfrm>
        </p:grpSpPr>
        <p:pic>
          <p:nvPicPr>
            <p:cNvPr id="191" name="Picture 26" descr="cinthia 1"/>
            <p:cNvPicPr/>
            <p:nvPr/>
          </p:nvPicPr>
          <p:blipFill>
            <a:blip r:embed="rId6"/>
            <a:srcRect l="0" t="0" r="34448" b="0"/>
            <a:stretch/>
          </p:blipFill>
          <p:spPr>
            <a:xfrm>
              <a:off x="2352600" y="1180080"/>
              <a:ext cx="1508040" cy="144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Freeform 27"/>
            <p:cNvSpPr/>
            <p:nvPr/>
          </p:nvSpPr>
          <p:spPr>
            <a:xfrm>
              <a:off x="2352600" y="1160640"/>
              <a:ext cx="1133280" cy="1922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Freeform 28"/>
          <p:cNvSpPr/>
          <p:nvPr/>
        </p:nvSpPr>
        <p:spPr>
          <a:xfrm>
            <a:off x="3521160" y="974880"/>
            <a:ext cx="2604960" cy="2044440"/>
          </a:xfrm>
          <a:prstGeom prst="pie">
            <a:avLst/>
          </a:prstGeom>
          <a:solidFill>
            <a:srgbClr val="ff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1"/>
          <p:cNvSpPr/>
          <p:nvPr/>
        </p:nvSpPr>
        <p:spPr>
          <a:xfrm>
            <a:off x="4120560" y="1708200"/>
            <a:ext cx="138456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ZONA EXPO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53"/>
          <p:cNvSpPr txBox="1"/>
          <p:nvPr/>
        </p:nvSpPr>
        <p:spPr>
          <a:xfrm>
            <a:off x="1981080" y="115920"/>
            <a:ext cx="316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implesmente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paremos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Oval 54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50"/>
                            </p:stCondLst>
                            <p:childTnLst>
                              <p:par>
                                <p:cTn id="247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250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5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55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5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55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55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255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355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55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755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955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155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355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55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1"/>
          <p:cNvSpPr/>
          <p:nvPr/>
        </p:nvSpPr>
        <p:spPr>
          <a:xfrm>
            <a:off x="2268360" y="907920"/>
            <a:ext cx="489600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lho se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 cansaço vi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ma das causas de incôm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 cansaço visual reside 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e as pessoas que dev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sar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óculo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nem sempre 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eem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dequados a dista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a tela do monitor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coi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e devem resolver com se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oftalmologista.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 isso soma-se o fato de muitos lugares de trabalho não contarem com uma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iluminação adequ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3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2644560" y="348480"/>
            <a:ext cx="4464720" cy="33858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OCALIZAÇÃO DO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m relação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ontes de ilumin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(janelas, lâmpad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rata-se de evitar 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flexos no monit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umentando as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 visibilidade e diminui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 fatiga ocular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674440" y="4292640"/>
            <a:ext cx="5650560" cy="2228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ra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um uso corret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as te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os monitores, deve-se verificar qu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luminação  ambiente se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uficientemente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tênue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para um b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traste da tela sem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ficulte a visão de text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ocumentos, etc. que estejam sobre a mesa.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acker copia"/>
          <p:cNvPicPr/>
          <p:nvPr/>
        </p:nvPicPr>
        <p:blipFill>
          <a:blip r:embed="rId1"/>
          <a:stretch/>
        </p:blipFill>
        <p:spPr>
          <a:xfrm>
            <a:off x="1071720" y="4572000"/>
            <a:ext cx="1439640" cy="1692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operadora"/>
          <p:cNvPicPr/>
          <p:nvPr/>
        </p:nvPicPr>
        <p:blipFill>
          <a:blip r:embed="rId2"/>
          <a:stretch/>
        </p:blipFill>
        <p:spPr>
          <a:xfrm>
            <a:off x="6226200" y="692280"/>
            <a:ext cx="2593800" cy="2394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4"/>
          <p:cNvSpPr/>
          <p:nvPr/>
        </p:nvSpPr>
        <p:spPr>
          <a:xfrm>
            <a:off x="220680" y="2036880"/>
            <a:ext cx="1808280" cy="1008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S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6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7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206" name="Group 28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207" name="Group 29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208" name="Group 30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209" name="Group 31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210" name="Group 32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211" name="Picture 33" descr="82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212" name="Freeform 34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13" name="Freeform 35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4" name="Freeform 36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Oval 37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Freeform 38"/>
              <p:cNvSpPr/>
              <p:nvPr/>
            </p:nvSpPr>
            <p:spPr>
              <a:xfrm>
                <a:off x="933480" y="30312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39"/>
              <p:cNvSpPr/>
              <p:nvPr/>
            </p:nvSpPr>
            <p:spPr>
              <a:xfrm>
                <a:off x="959040" y="33336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Oval 40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3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3:58:39Z</dcterms:created>
  <dc:creator/>
  <dc:description/>
  <dc:language>en-US</dc:language>
  <cp:lastModifiedBy>110073408</cp:lastModifiedBy>
  <dcterms:modified xsi:type="dcterms:W3CDTF">2009-06-26T13:45:00Z</dcterms:modified>
  <cp:revision>270</cp:revision>
  <dc:subject/>
  <dc:title>Diapositiva 1</dc:title>
</cp:coreProperties>
</file>