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1.png" ContentType="image/png"/>
  <Override PartName="/ppt/media/image6.png" ContentType="image/png"/>
  <Override PartName="/ppt/media/image23.jpeg" ContentType="image/jpeg"/>
  <Override PartName="/ppt/media/image22.gif" ContentType="image/gif"/>
  <Override PartName="/ppt/media/image14.png" ContentType="image/png"/>
  <Override PartName="/ppt/media/image21.png" ContentType="image/png"/>
  <Override PartName="/ppt/media/image20.wmf" ContentType="image/x-wmf"/>
  <Override PartName="/ppt/media/image18.gif" ContentType="image/gif"/>
  <Override PartName="/ppt/media/image24.png" ContentType="image/png"/>
  <Override PartName="/ppt/media/image19.gif" ContentType="image/gif"/>
  <Override PartName="/ppt/media/image10.png" ContentType="image/png"/>
  <Override PartName="/ppt/media/image2.gif" ContentType="image/gif"/>
  <Override PartName="/ppt/media/image5.png" ContentType="image/png"/>
  <Override PartName="/ppt/media/image17.gif" ContentType="image/gif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1D31-8744-4A9A-A71F-21BEDAF965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C5E8-D791-41C4-A77F-2D650B932DA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C1A0-5764-41A2-8714-F56769E629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644A-9F37-47DC-BEBF-64284EDE8C3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9584-E49D-49D9-8C9F-E6494B2961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2B15-AC97-4C73-8CB5-8C20454A5C3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338C-4978-4B3C-A870-80EB0AE09B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5871-0E69-46AF-A5E9-B45293AAA8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60D4-FA00-49F7-ADD7-5092ECC7F5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6A34-D5CC-46CA-893E-A91A7C5CD8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42EC-79EE-4A0E-8D0B-393B65A2CCC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A98-C5C2-402D-8CCB-7AB4665C21F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ECC9-938B-4BC3-B98E-BA56471E0CE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9F8-C4FB-49B4-8A96-D272E3CBA5C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D548-1296-4816-93FB-3DC655D933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4DC-D390-427E-91BA-50050405AD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18A3-FC11-41A1-B7DF-0A1FBBCBAA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B3D-D6AD-4515-9D41-5396C0740DC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D8D-4F3C-4D6B-A410-A3E6084D37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C58-47DA-4B19-87B4-33561B65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145-7770-4B42-B2E2-827802D6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92F-F8A1-492D-97FD-F8B7D7D4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546-BE72-4A31-99AF-C70BE9F5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F4E-B124-4C05-B162-8CC9DF8A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62C-0277-4DEC-AE1D-1DD8CF5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407-CB3B-4194-98C3-AF4311A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16B-0778-4BA1-AAA2-5D73CFF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BD0-1C51-4258-8311-DD714840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B3A-DD81-482C-AA55-E35F343F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DDD-7B05-418A-ADCB-335F5F2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406-E036-4621-AD29-4B00695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ECB-890C-4F95-ADC7-23C58B40FB67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63240" y="2104560"/>
            <a:ext cx="8011080" cy="42087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m uma conversa, os interlocutores 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iscam uma média de 22 vez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ando alguém lê, a frequência desta piscade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e produz 12 a 15 vezes por minu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Porém, quando se está sent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iante de um computador, os olho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PISCAM MENOS 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Arial"/>
              </a:rPr>
              <a:t>5 vezes por MINUTO!!!</a:t>
            </a:r>
            <a:r>
              <a:rPr b="1" lang="es-AR" sz="27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11280" y="696960"/>
            <a:ext cx="5446800" cy="947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Quantas vezes o olho humano pisca, por minu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./003.gif"/>
          <p:cNvPicPr/>
          <p:nvPr/>
        </p:nvPicPr>
        <p:blipFill>
          <a:blip r:embed="rId1"/>
          <a:stretch/>
        </p:blipFill>
        <p:spPr>
          <a:xfrm>
            <a:off x="7310520" y="4724280"/>
            <a:ext cx="1833480" cy="1833840"/>
          </a:xfrm>
          <a:prstGeom prst="rect">
            <a:avLst/>
          </a:prstGeom>
          <a:ln w="0">
            <a:noFill/>
          </a:ln>
        </p:spPr>
      </p:pic>
      <p:sp>
        <p:nvSpPr>
          <p:cNvPr id="51" name="Oval 24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5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53" name="Group 26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54" name="Group 27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55" name="Group 28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56" name="Group 29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57" name="Group 30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58" name="Picture 31" descr="82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9" name="Freeform 32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" name="Freeform 33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" name="Freeform 34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" name="Oval 35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36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7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Oval 38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9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900"/>
                            </p:stCondLst>
                            <p:childTnLst>
                              <p:par>
                                <p:cTn id="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711880" y="5310360"/>
            <a:ext cx="4013640" cy="7038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s lâmpadas provocan refl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as telas de ambos mon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2430360" y="750960"/>
            <a:ext cx="6193080" cy="5773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233280" y="2179800"/>
            <a:ext cx="1808280" cy="1008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2286000" y="4221000"/>
            <a:ext cx="28908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42"/>
          <p:cNvSpPr txBox="1"/>
          <p:nvPr/>
        </p:nvSpPr>
        <p:spPr>
          <a:xfrm>
            <a:off x="108000" y="4221000"/>
            <a:ext cx="321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calização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correta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5" name="Group 58"/>
          <p:cNvGrpSpPr/>
          <p:nvPr/>
        </p:nvGrpSpPr>
        <p:grpSpPr>
          <a:xfrm>
            <a:off x="2556000" y="907920"/>
            <a:ext cx="5922720" cy="3773520"/>
            <a:chOff x="2556000" y="907920"/>
            <a:chExt cx="5922720" cy="3773520"/>
          </a:xfrm>
        </p:grpSpPr>
        <p:grpSp>
          <p:nvGrpSpPr>
            <p:cNvPr id="226" name="Group 54"/>
            <p:cNvGrpSpPr/>
            <p:nvPr/>
          </p:nvGrpSpPr>
          <p:grpSpPr>
            <a:xfrm>
              <a:off x="2556000" y="981000"/>
              <a:ext cx="5922720" cy="3700440"/>
              <a:chOff x="2556000" y="981000"/>
              <a:chExt cx="5922720" cy="3700440"/>
            </a:xfrm>
          </p:grpSpPr>
          <p:graphicFrame>
            <p:nvGraphicFramePr>
              <p:cNvPr id="227" name="Object 5"/>
              <p:cNvGraphicFramePr/>
              <p:nvPr/>
            </p:nvGraphicFramePr>
            <p:xfrm>
              <a:off x="2573280" y="981000"/>
              <a:ext cx="5905440" cy="370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8" name="Object 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73280" y="981000"/>
                        <a:ext cx="5905440" cy="370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9" name="Rectangle 53"/>
              <p:cNvSpPr/>
              <p:nvPr/>
            </p:nvSpPr>
            <p:spPr>
              <a:xfrm>
                <a:off x="2556000" y="1052640"/>
                <a:ext cx="1439640" cy="100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57"/>
            <p:cNvSpPr/>
            <p:nvPr/>
          </p:nvSpPr>
          <p:spPr>
            <a:xfrm>
              <a:off x="6372360" y="907920"/>
              <a:ext cx="2087280" cy="11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9"/>
          <p:cNvSpPr/>
          <p:nvPr/>
        </p:nvSpPr>
        <p:spPr>
          <a:xfrm>
            <a:off x="7231680" y="430200"/>
            <a:ext cx="115596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 luz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ref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5"/>
          <p:cNvSpPr/>
          <p:nvPr/>
        </p:nvSpPr>
        <p:spPr>
          <a:xfrm>
            <a:off x="2131200" y="396720"/>
            <a:ext cx="1480680" cy="1618560"/>
          </a:xfrm>
          <a:prstGeom prst="rect">
            <a:avLst/>
          </a:prstGeom>
          <a:solidFill>
            <a:srgbClr val="000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A luz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est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no 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d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1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34" name="Group 62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35" name="Group 63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36" name="Group 64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37" name="Group 65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38" name="Group 66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39" name="Picture 67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40" name="Freeform 68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1" name="Freeform 69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2" name="Freeform 70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Oval 71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Freeform 72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3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Oval 74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45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5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5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745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45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450"/>
                            </p:stCondLst>
                            <p:childTnLst>
                              <p:par>
                                <p:cTn id="3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5"/>
          <p:cNvGraphicFramePr/>
          <p:nvPr/>
        </p:nvGraphicFramePr>
        <p:xfrm>
          <a:off x="3924360" y="189000"/>
          <a:ext cx="46083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9000"/>
                    <a:ext cx="46083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5"/>
          <p:cNvSpPr/>
          <p:nvPr/>
        </p:nvSpPr>
        <p:spPr>
          <a:xfrm>
            <a:off x="3213720" y="4076640"/>
            <a:ext cx="4973760" cy="201420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A luz natural da janela chega pelas late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dos monitores e não incomoda os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A luz elétrica incide atrás dos moni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É preferível utilizar luminárias de m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pois podem ficar de modo a não refleti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luz tanto nas telas quanto nos ol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Arial"/>
              </a:rPr>
              <a:t>dos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2700360" y="189000"/>
            <a:ext cx="6192720" cy="62625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270720" y="3522600"/>
            <a:ext cx="21268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2556000" y="1700280"/>
            <a:ext cx="28872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2"/>
          <p:cNvSpPr txBox="1"/>
          <p:nvPr/>
        </p:nvSpPr>
        <p:spPr>
          <a:xfrm>
            <a:off x="417600" y="1844640"/>
            <a:ext cx="321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calização 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ta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Oval 3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4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57" name="Group 35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58" name="Group 36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59" name="Group 37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60" name="Group 38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61" name="Group 39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62" name="Picture 40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63" name="Freeform 41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4" name="Freeform 42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Freeform 43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Oval 44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45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6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Oval 47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350"/>
                            </p:stCondLst>
                            <p:childTnLst>
                              <p:par>
                                <p:cTn id="4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5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35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522320" y="2800080"/>
            <a:ext cx="4269600" cy="311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OMAS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Ã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OCULA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S FREQU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efalé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r e contração cerv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res lomb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udanças de humor com irri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 insô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stes sintomas est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adas fundamentalm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atores posturais tanto dos olh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mo do co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13840" y="2192400"/>
            <a:ext cx="4001040" cy="311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TOMAS  </a:t>
            </a:r>
            <a:r>
              <a:rPr b="1" i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VISUAIS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IS  FREQ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can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álpebras pes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ão bor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avermelh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lhos se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ômodo e dor causado pela l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eia nos ol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ômodos perma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73080" y="8100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8" descr="niñaTV"/>
          <p:cNvPicPr/>
          <p:nvPr/>
        </p:nvPicPr>
        <p:blipFill>
          <a:blip r:embed="rId1"/>
          <a:stretch/>
        </p:blipFill>
        <p:spPr>
          <a:xfrm>
            <a:off x="2843280" y="1116000"/>
            <a:ext cx="1873080" cy="166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1" descr="32bn1,m.gif (4736 bytes)"/>
          <p:cNvPicPr/>
          <p:nvPr/>
        </p:nvPicPr>
        <p:blipFill>
          <a:blip r:embed="rId2"/>
          <a:stretch/>
        </p:blipFill>
        <p:spPr>
          <a:xfrm flipH="1">
            <a:off x="7500600" y="1643040"/>
            <a:ext cx="1873080" cy="1577880"/>
          </a:xfrm>
          <a:prstGeom prst="rect">
            <a:avLst/>
          </a:prstGeom>
          <a:ln w="0">
            <a:noFill/>
          </a:ln>
        </p:spPr>
      </p:pic>
      <p:sp>
        <p:nvSpPr>
          <p:cNvPr id="275" name="Oval 4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4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77" name="Group 45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78" name="Group 46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79" name="Group 47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80" name="Group 48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81" name="Group 49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82" name="Picture 50" descr="82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83" name="Freeform 51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84" name="Freeform 52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5" name="Freeform 53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Oval 54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Freeform 55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56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Oval 57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principio_activo1"/>
          <p:cNvPicPr/>
          <p:nvPr/>
        </p:nvPicPr>
        <p:blipFill>
          <a:blip r:embed="rId1"/>
          <a:stretch/>
        </p:blipFill>
        <p:spPr>
          <a:xfrm>
            <a:off x="250920" y="765000"/>
            <a:ext cx="3903480" cy="4032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principio_activo2"/>
          <p:cNvPicPr/>
          <p:nvPr/>
        </p:nvPicPr>
        <p:blipFill>
          <a:blip r:embed="rId2"/>
          <a:stretch/>
        </p:blipFill>
        <p:spPr>
          <a:xfrm>
            <a:off x="5087880" y="765000"/>
            <a:ext cx="3905280" cy="4032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635760" y="4748040"/>
            <a:ext cx="352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o estar sentado por muitas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em mover as pernas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, par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o sangue que deveria retor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o coração,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e acumula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eias das pern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braços e pescoço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ificultan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e forma crescente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a circul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anguí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061320" y="5038560"/>
            <a:ext cx="262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Periodicamente dev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movimentar as pernas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ara que a </a:t>
            </a: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circulação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angue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seja adeq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 todo mo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6"/>
          <p:cNvSpPr/>
          <p:nvPr/>
        </p:nvSpPr>
        <p:spPr>
          <a:xfrm>
            <a:off x="1213920" y="260280"/>
            <a:ext cx="7140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BLEMAS CIRCULATÓRIOS QUE DEVEM SER PREV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100"/>
                            </p:stCondLst>
                            <p:childTnLst>
                              <p:par>
                                <p:cTn id="47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25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600"/>
                            </p:stCondLst>
                            <p:childTnLst>
                              <p:par>
                                <p:cTn id="4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60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600"/>
                            </p:stCondLst>
                            <p:childTnLst>
                              <p:par>
                                <p:cTn id="4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600"/>
                            </p:stCondLst>
                            <p:childTnLst>
                              <p:par>
                                <p:cTn id="4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4"/>
          <p:cNvSpPr txBox="1"/>
          <p:nvPr/>
        </p:nvSpPr>
        <p:spPr>
          <a:xfrm>
            <a:off x="395280" y="260280"/>
            <a:ext cx="82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cure deixar seu lugar de trabalho assim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50920" y="195120"/>
            <a:ext cx="8569080" cy="56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2"/>
          <p:cNvGrpSpPr/>
          <p:nvPr/>
        </p:nvGrpSpPr>
        <p:grpSpPr>
          <a:xfrm>
            <a:off x="325440" y="692280"/>
            <a:ext cx="8818560" cy="6037200"/>
            <a:chOff x="325440" y="692280"/>
            <a:chExt cx="8818560" cy="6037200"/>
          </a:xfrm>
        </p:grpSpPr>
        <p:grpSp>
          <p:nvGrpSpPr>
            <p:cNvPr id="298" name="Group 23"/>
            <p:cNvGrpSpPr/>
            <p:nvPr/>
          </p:nvGrpSpPr>
          <p:grpSpPr>
            <a:xfrm>
              <a:off x="325440" y="692280"/>
              <a:ext cx="8818560" cy="6037200"/>
              <a:chOff x="325440" y="692280"/>
              <a:chExt cx="8818560" cy="6037200"/>
            </a:xfrm>
          </p:grpSpPr>
          <p:grpSp>
            <p:nvGrpSpPr>
              <p:cNvPr id="299" name="Group 24"/>
              <p:cNvGrpSpPr/>
              <p:nvPr/>
            </p:nvGrpSpPr>
            <p:grpSpPr>
              <a:xfrm>
                <a:off x="325440" y="692280"/>
                <a:ext cx="8818560" cy="6037200"/>
                <a:chOff x="325440" y="692280"/>
                <a:chExt cx="8818560" cy="6037200"/>
              </a:xfrm>
            </p:grpSpPr>
            <p:grpSp>
              <p:nvGrpSpPr>
                <p:cNvPr id="300" name="Group 25"/>
                <p:cNvGrpSpPr/>
                <p:nvPr/>
              </p:nvGrpSpPr>
              <p:grpSpPr>
                <a:xfrm>
                  <a:off x="325440" y="692280"/>
                  <a:ext cx="8818560" cy="6037200"/>
                  <a:chOff x="325440" y="692280"/>
                  <a:chExt cx="8818560" cy="6037200"/>
                </a:xfrm>
              </p:grpSpPr>
              <p:sp>
                <p:nvSpPr>
                  <p:cNvPr id="301" name="Rectangle 26"/>
                  <p:cNvSpPr/>
                  <p:nvPr/>
                </p:nvSpPr>
                <p:spPr>
                  <a:xfrm>
                    <a:off x="325440" y="1838520"/>
                    <a:ext cx="8818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02" name="Object 27"/>
                  <p:cNvGraphicFramePr/>
                  <p:nvPr/>
                </p:nvGraphicFramePr>
                <p:xfrm>
                  <a:off x="565560" y="692280"/>
                  <a:ext cx="8057880" cy="60372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303" name="Object 27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565560" y="692280"/>
                            <a:ext cx="8057880" cy="6037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04" name="Text Box 28"/>
                  <p:cNvSpPr/>
                  <p:nvPr/>
                </p:nvSpPr>
                <p:spPr>
                  <a:xfrm>
                    <a:off x="5595120" y="2342880"/>
                    <a:ext cx="2285280" cy="946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ONITOR LOCALIZADO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ABAIXO D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INHA D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400" spc="-1" strike="noStrike">
                        <a:solidFill>
                          <a:srgbClr val="ffffff"/>
                        </a:solidFill>
                        <a:latin typeface="Arial"/>
                      </a:rPr>
                      <a:t>HORIZONTE VISU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29"/>
                  <p:cNvSpPr/>
                  <p:nvPr/>
                </p:nvSpPr>
                <p:spPr>
                  <a:xfrm>
                    <a:off x="3485520" y="1667160"/>
                    <a:ext cx="5206680" cy="0"/>
                  </a:xfrm>
                  <a:prstGeom prst="line">
                    <a:avLst/>
                  </a:prstGeom>
                  <a:ln w="11448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Text Box 30"/>
                  <p:cNvSpPr/>
                  <p:nvPr/>
                </p:nvSpPr>
                <p:spPr>
                  <a:xfrm>
                    <a:off x="5826960" y="893520"/>
                    <a:ext cx="263124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cc3300"/>
                        </a:solidFill>
                        <a:latin typeface="Arial"/>
                      </a:rPr>
                      <a:t>LINHA VERMELHA 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AR" sz="1800" spc="-1" strike="noStrike">
                        <a:solidFill>
                          <a:srgbClr val="cc3300"/>
                        </a:solidFill>
                        <a:latin typeface="Arial"/>
                      </a:rPr>
                      <a:t>HORIZONTE VISU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7" name="Line 31"/>
                <p:cNvSpPr/>
                <p:nvPr/>
              </p:nvSpPr>
              <p:spPr>
                <a:xfrm>
                  <a:off x="2068560" y="3500280"/>
                  <a:ext cx="1728720" cy="0"/>
                </a:xfrm>
                <a:prstGeom prst="line">
                  <a:avLst/>
                </a:prstGeom>
                <a:ln w="114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Rectangle 32"/>
              <p:cNvSpPr/>
              <p:nvPr/>
            </p:nvSpPr>
            <p:spPr>
              <a:xfrm>
                <a:off x="7956720" y="1773360"/>
                <a:ext cx="576000" cy="475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Line 33"/>
            <p:cNvSpPr/>
            <p:nvPr/>
          </p:nvSpPr>
          <p:spPr>
            <a:xfrm>
              <a:off x="7885080" y="3789360"/>
              <a:ext cx="1008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4"/>
            <p:cNvSpPr/>
            <p:nvPr/>
          </p:nvSpPr>
          <p:spPr>
            <a:xfrm>
              <a:off x="8388360" y="1700280"/>
              <a:ext cx="0" cy="20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5"/>
            <p:cNvSpPr/>
            <p:nvPr/>
          </p:nvSpPr>
          <p:spPr>
            <a:xfrm>
              <a:off x="7969320" y="2585880"/>
              <a:ext cx="900000" cy="641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AL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CaixaDeTexto 17"/>
          <p:cNvSpPr/>
          <p:nvPr/>
        </p:nvSpPr>
        <p:spPr>
          <a:xfrm>
            <a:off x="1143000" y="1500120"/>
            <a:ext cx="1500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Ângulo aproxim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a inclinaçã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a cabeç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tângulo 19"/>
          <p:cNvSpPr/>
          <p:nvPr/>
        </p:nvSpPr>
        <p:spPr>
          <a:xfrm>
            <a:off x="1357200" y="928800"/>
            <a:ext cx="1500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20"/>
          <p:cNvSpPr/>
          <p:nvPr/>
        </p:nvSpPr>
        <p:spPr>
          <a:xfrm>
            <a:off x="1285920" y="1285920"/>
            <a:ext cx="11430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21"/>
          <p:cNvSpPr/>
          <p:nvPr/>
        </p:nvSpPr>
        <p:spPr>
          <a:xfrm>
            <a:off x="4286160" y="928800"/>
            <a:ext cx="11430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23"/>
          <p:cNvSpPr/>
          <p:nvPr/>
        </p:nvSpPr>
        <p:spPr>
          <a:xfrm rot="20906400">
            <a:off x="5578560" y="5862240"/>
            <a:ext cx="15001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5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25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1"/>
          <p:cNvSpPr/>
          <p:nvPr/>
        </p:nvSpPr>
        <p:spPr>
          <a:xfrm>
            <a:off x="409680" y="4811760"/>
            <a:ext cx="7470360" cy="192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 que realmente se há comprovado é que os princip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ponsáveis da mencionada sintomatologi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são os f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lacionados com a posição do corpo em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ente a um PC e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almente,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 disposição dos olhos diante da tela,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o também a maneira  que desenvolvemo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tividades com estes equip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21"/>
          <p:cNvSpPr txBox="1"/>
          <p:nvPr/>
        </p:nvSpPr>
        <p:spPr>
          <a:xfrm>
            <a:off x="1581120" y="260280"/>
            <a:ext cx="73119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TELA DO MONITOR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MITE  RADIAÇÕES?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508680" y="1747800"/>
            <a:ext cx="746100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odos os estudos biomédicos efetuados até a data de hoj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não têm demostrad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existam riscos para 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 radiações ionizantes ou não ionizantes emitidas p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as dos compu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3"/>
          <p:cNvGrpSpPr/>
          <p:nvPr/>
        </p:nvGrpSpPr>
        <p:grpSpPr>
          <a:xfrm>
            <a:off x="3851280" y="2809800"/>
            <a:ext cx="2449080" cy="2058840"/>
            <a:chOff x="3851280" y="2809800"/>
            <a:chExt cx="2449080" cy="2058840"/>
          </a:xfrm>
        </p:grpSpPr>
        <p:sp>
          <p:nvSpPr>
            <p:cNvPr id="321" name="Oval 24"/>
            <p:cNvSpPr/>
            <p:nvPr/>
          </p:nvSpPr>
          <p:spPr>
            <a:xfrm>
              <a:off x="3851280" y="2809800"/>
              <a:ext cx="2008800" cy="20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25" descr="esqueleto"/>
            <p:cNvPicPr/>
            <p:nvPr/>
          </p:nvPicPr>
          <p:blipFill>
            <a:blip r:embed="rId1"/>
            <a:stretch/>
          </p:blipFill>
          <p:spPr>
            <a:xfrm>
              <a:off x="3851280" y="2936880"/>
              <a:ext cx="2449080" cy="17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26"/>
          <p:cNvSpPr/>
          <p:nvPr/>
        </p:nvSpPr>
        <p:spPr>
          <a:xfrm>
            <a:off x="6037200" y="3633840"/>
            <a:ext cx="2837160" cy="5806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Doutor, é verdade que o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não é radioativ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8"/>
          <p:cNvSpPr/>
          <p:nvPr/>
        </p:nvSpPr>
        <p:spPr>
          <a:xfrm rot="21239400">
            <a:off x="5451480" y="3327480"/>
            <a:ext cx="1224000" cy="360360"/>
          </a:xfrm>
          <a:prstGeom prst="lightningBol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50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400"/>
                            </p:stCondLst>
                            <p:childTnLst>
                              <p:par>
                                <p:cTn id="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4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400"/>
                            </p:stCondLst>
                            <p:childTnLst>
                              <p:par>
                                <p:cTn id="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400"/>
                            </p:stCondLst>
                            <p:childTnLst>
                              <p:par>
                                <p:cTn id="5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400"/>
                            </p:stCondLst>
                            <p:childTnLst>
                              <p:par>
                                <p:cTn id="5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412280" y="1625400"/>
            <a:ext cx="7420680" cy="448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tiliz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lírios humectant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eriod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utiliza Lentes de Contato use os colí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umectantes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m maior frequ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nte-se diante da tela do monitor de mo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ua visã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seja ligeiramente para bai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Nã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trabalhe mais de 50 minutos dir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scans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de 5 a 10 minutos, levante-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 olh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a longe e para pert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cess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2771640" y="476280"/>
            <a:ext cx="43959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RECOMENDAÇÕE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OS USUÁRIOS DO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9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0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329" name="Group 41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330" name="Group 42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331" name="Group 43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332" name="Group 44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333" name="Group 45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334" name="Picture 46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35" name="Freeform 47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6" name="Freeform 48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Freeform 49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Oval 50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Freeform 51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2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Oval 53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WordArt 54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50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00"/>
                            </p:stCondLst>
                            <p:childTnLst>
                              <p:par>
                                <p:cTn id="6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6"/>
          <p:cNvSpPr/>
          <p:nvPr/>
        </p:nvSpPr>
        <p:spPr>
          <a:xfrm>
            <a:off x="507600" y="1981080"/>
            <a:ext cx="8251200" cy="411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rija sua visão ao longe par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obilizar os mús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 ol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e a temperatura ambiente para evitar o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a secura o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sulte o oftalmologista se sentir necessidad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rreção óptic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 para controlar e evitar o iníci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s seco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7"/>
          <p:cNvSpPr/>
          <p:nvPr/>
        </p:nvSpPr>
        <p:spPr>
          <a:xfrm>
            <a:off x="2347560" y="476280"/>
            <a:ext cx="4274280" cy="8254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PARA OS USUARIOS DE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8" descr="doctor.gif (14543 bytes)"/>
          <p:cNvPicPr/>
          <p:nvPr/>
        </p:nvPicPr>
        <p:blipFill>
          <a:blip r:embed="rId1"/>
          <a:stretch/>
        </p:blipFill>
        <p:spPr>
          <a:xfrm>
            <a:off x="4284720" y="3573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450"/>
                            </p:stCondLst>
                            <p:childTnLst>
                              <p:par>
                                <p:cTn id="619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10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450"/>
                            </p:stCondLst>
                            <p:childTnLst>
                              <p:par>
                                <p:cTn id="6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450"/>
                            </p:stCondLst>
                            <p:childTnLst>
                              <p:par>
                                <p:cTn id="6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92" descr="ojo seco"/>
          <p:cNvPicPr/>
          <p:nvPr/>
        </p:nvPicPr>
        <p:blipFill>
          <a:blip r:embed="rId1"/>
          <a:srcRect l="2256" t="0" r="0" b="0"/>
          <a:stretch/>
        </p:blipFill>
        <p:spPr>
          <a:xfrm>
            <a:off x="3564000" y="115920"/>
            <a:ext cx="4680000" cy="6730920"/>
          </a:xfrm>
          <a:prstGeom prst="rect">
            <a:avLst/>
          </a:prstGeom>
          <a:ln w="0">
            <a:noFill/>
          </a:ln>
        </p:spPr>
      </p:pic>
      <p:sp>
        <p:nvSpPr>
          <p:cNvPr id="347" name="Oval 41"/>
          <p:cNvSpPr/>
          <p:nvPr/>
        </p:nvSpPr>
        <p:spPr>
          <a:xfrm>
            <a:off x="3330720" y="270972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2"/>
          <p:cNvGrpSpPr/>
          <p:nvPr/>
        </p:nvGrpSpPr>
        <p:grpSpPr>
          <a:xfrm>
            <a:off x="3510000" y="2752560"/>
            <a:ext cx="1384200" cy="1407960"/>
            <a:chOff x="3510000" y="2752560"/>
            <a:chExt cx="1384200" cy="1407960"/>
          </a:xfrm>
        </p:grpSpPr>
        <p:grpSp>
          <p:nvGrpSpPr>
            <p:cNvPr id="349" name="Group 43"/>
            <p:cNvGrpSpPr/>
            <p:nvPr/>
          </p:nvGrpSpPr>
          <p:grpSpPr>
            <a:xfrm>
              <a:off x="3510000" y="2752560"/>
              <a:ext cx="1384200" cy="1407960"/>
              <a:chOff x="3510000" y="2752560"/>
              <a:chExt cx="1384200" cy="1407960"/>
            </a:xfrm>
          </p:grpSpPr>
          <p:grpSp>
            <p:nvGrpSpPr>
              <p:cNvPr id="350" name="Group 44"/>
              <p:cNvGrpSpPr/>
              <p:nvPr/>
            </p:nvGrpSpPr>
            <p:grpSpPr>
              <a:xfrm>
                <a:off x="3510000" y="2792160"/>
                <a:ext cx="1371600" cy="1368360"/>
                <a:chOff x="3510000" y="2792160"/>
                <a:chExt cx="1371600" cy="1368360"/>
              </a:xfrm>
            </p:grpSpPr>
            <p:grpSp>
              <p:nvGrpSpPr>
                <p:cNvPr id="351" name="Group 45"/>
                <p:cNvGrpSpPr/>
                <p:nvPr/>
              </p:nvGrpSpPr>
              <p:grpSpPr>
                <a:xfrm>
                  <a:off x="3510000" y="2820600"/>
                  <a:ext cx="1298520" cy="1338480"/>
                  <a:chOff x="3510000" y="2820600"/>
                  <a:chExt cx="1298520" cy="1338480"/>
                </a:xfrm>
              </p:grpSpPr>
              <p:grpSp>
                <p:nvGrpSpPr>
                  <p:cNvPr id="352" name="Group 46"/>
                  <p:cNvGrpSpPr/>
                  <p:nvPr/>
                </p:nvGrpSpPr>
                <p:grpSpPr>
                  <a:xfrm>
                    <a:off x="3510000" y="2820600"/>
                    <a:ext cx="1298520" cy="1338480"/>
                    <a:chOff x="3510000" y="2820600"/>
                    <a:chExt cx="1298520" cy="1338480"/>
                  </a:xfrm>
                </p:grpSpPr>
                <p:grpSp>
                  <p:nvGrpSpPr>
                    <p:cNvPr id="353" name="Group 47"/>
                    <p:cNvGrpSpPr/>
                    <p:nvPr/>
                  </p:nvGrpSpPr>
                  <p:grpSpPr>
                    <a:xfrm>
                      <a:off x="3510000" y="2820600"/>
                      <a:ext cx="1298520" cy="1338480"/>
                      <a:chOff x="3510000" y="2820600"/>
                      <a:chExt cx="1298520" cy="1338480"/>
                    </a:xfrm>
                  </p:grpSpPr>
                  <p:pic>
                    <p:nvPicPr>
                      <p:cNvPr id="354" name="Picture 48" descr="82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13240" y="286380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355" name="Freeform 49"/>
                      <p:cNvSpPr/>
                      <p:nvPr/>
                    </p:nvSpPr>
                    <p:spPr>
                      <a:xfrm>
                        <a:off x="3510000" y="282060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6" name="Freeform 50"/>
                    <p:cNvSpPr/>
                    <p:nvPr/>
                  </p:nvSpPr>
                  <p:spPr>
                    <a:xfrm>
                      <a:off x="3632400" y="282240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7" name="Freeform 51"/>
                  <p:cNvSpPr/>
                  <p:nvPr/>
                </p:nvSpPr>
                <p:spPr>
                  <a:xfrm>
                    <a:off x="3670200" y="308916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Oval 52"/>
                <p:cNvSpPr/>
                <p:nvPr/>
              </p:nvSpPr>
              <p:spPr>
                <a:xfrm>
                  <a:off x="3513240" y="279216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Freeform 53"/>
              <p:cNvSpPr/>
              <p:nvPr/>
            </p:nvSpPr>
            <p:spPr>
              <a:xfrm>
                <a:off x="4084560" y="275256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4"/>
              <p:cNvSpPr/>
              <p:nvPr/>
            </p:nvSpPr>
            <p:spPr>
              <a:xfrm>
                <a:off x="4110120" y="278280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Oval 55"/>
            <p:cNvSpPr/>
            <p:nvPr/>
          </p:nvSpPr>
          <p:spPr>
            <a:xfrm>
              <a:off x="3727440" y="311292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57"/>
          <p:cNvSpPr/>
          <p:nvPr/>
        </p:nvSpPr>
        <p:spPr>
          <a:xfrm>
            <a:off x="2937960" y="2214720"/>
            <a:ext cx="187704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lho saud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50720" y="2205000"/>
            <a:ext cx="162396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olho “se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88" descr="tapa copia"/>
          <p:cNvPicPr/>
          <p:nvPr/>
        </p:nvPicPr>
        <p:blipFill>
          <a:blip r:embed="rId3"/>
          <a:srcRect l="28055" t="28055" r="27875" b="27875"/>
          <a:stretch/>
        </p:blipFill>
        <p:spPr>
          <a:xfrm>
            <a:off x="3403440" y="2744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3"/>
          <p:cNvSpPr/>
          <p:nvPr/>
        </p:nvSpPr>
        <p:spPr>
          <a:xfrm>
            <a:off x="488880" y="4437000"/>
            <a:ext cx="520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Salve seus olho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Pisque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ccff"/>
                </a:solidFill>
                <a:latin typeface="Arial"/>
              </a:rPr>
              <a:t>Piscar para lubricar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iscar para lubr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99ff33"/>
                </a:solidFill>
                <a:latin typeface="Arial"/>
              </a:rPr>
              <a:t>Não existem repostos para seus olh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0"/>
          <p:cNvSpPr/>
          <p:nvPr/>
        </p:nvSpPr>
        <p:spPr>
          <a:xfrm>
            <a:off x="1860120" y="1125360"/>
            <a:ext cx="6285240" cy="52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menos piscad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concentração da nossa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a tela faz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iminuir a frequ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o pisc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aumenta a sintoma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o olho se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sto aumenta a fadiga ocular e m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m olho sem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lubrificação do pisc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um motor sem óleo: os pi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aderem a parede do cilin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o motor vai para o li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5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68" name="Group 26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69" name="Group 27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70" name="Group 28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71" name="Group 29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72" name="Group 30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73" name="Picture 31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4" name="Freeform 32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" name="Freeform 33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" name="Freeform 34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Oval 35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Freeform 36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7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Oval 38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1"/>
          <p:cNvSpPr/>
          <p:nvPr/>
        </p:nvSpPr>
        <p:spPr>
          <a:xfrm>
            <a:off x="1973880" y="795240"/>
            <a:ext cx="6918480" cy="521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 posição do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 monitor deve estar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baix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horizonte visual.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Isso permite qu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álpebras cubram uma maior superfí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o globo ocular e dim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exposição da cór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ssim será menor o ressecamento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elícula lacrimal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que cobre a cór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 protege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dos sintomas do olho seco</a:t>
            </a:r>
            <a:r>
              <a:rPr b="1" lang="es-A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9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83" name="Group 30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84" name="Group 31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85" name="Group 32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86" name="Group 33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87" name="Group 34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88" name="Picture 35" descr="82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9" name="Freeform 36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0" name="Freeform 37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Freeform 38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Oval 39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40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Oval 42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1"/>
          <p:cNvSpPr/>
          <p:nvPr/>
        </p:nvSpPr>
        <p:spPr>
          <a:xfrm>
            <a:off x="3109320" y="5229360"/>
            <a:ext cx="3164760" cy="15541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Nesta posição a córnea est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otalmente exposta ao d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Isto pode-se ver nas casas,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universidad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empresas, escol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cibercafé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1979640" y="260280"/>
            <a:ext cx="6624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ção de Total Exposição 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8" name="Object 23"/>
          <p:cNvGraphicFramePr/>
          <p:nvPr/>
        </p:nvGraphicFramePr>
        <p:xfrm>
          <a:off x="7236000" y="1197000"/>
          <a:ext cx="1622160" cy="392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9700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Group 24"/>
          <p:cNvGrpSpPr/>
          <p:nvPr/>
        </p:nvGrpSpPr>
        <p:grpSpPr>
          <a:xfrm>
            <a:off x="2655720" y="1700280"/>
            <a:ext cx="1916280" cy="2263680"/>
            <a:chOff x="2655720" y="1700280"/>
            <a:chExt cx="1916280" cy="2263680"/>
          </a:xfrm>
        </p:grpSpPr>
        <p:pic>
          <p:nvPicPr>
            <p:cNvPr id="101" name="Picture 25" descr="cinthia 1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2655720" y="173052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Freeform 26"/>
            <p:cNvSpPr/>
            <p:nvPr/>
          </p:nvSpPr>
          <p:spPr>
            <a:xfrm>
              <a:off x="2655720" y="1700280"/>
              <a:ext cx="1440000" cy="298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Freeform 29"/>
          <p:cNvSpPr/>
          <p:nvPr/>
        </p:nvSpPr>
        <p:spPr>
          <a:xfrm>
            <a:off x="4140360" y="1413000"/>
            <a:ext cx="3311280" cy="316836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0" descr="cinthia 1a"/>
          <p:cNvPicPr/>
          <p:nvPr/>
        </p:nvPicPr>
        <p:blipFill>
          <a:blip r:embed="rId6"/>
          <a:srcRect l="7913" t="5070" r="19962" b="7542"/>
          <a:stretch/>
        </p:blipFill>
        <p:spPr>
          <a:xfrm>
            <a:off x="108000" y="3443400"/>
            <a:ext cx="3024000" cy="293832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31"/>
          <p:cNvSpPr/>
          <p:nvPr/>
        </p:nvSpPr>
        <p:spPr>
          <a:xfrm>
            <a:off x="1692360" y="4005360"/>
            <a:ext cx="1942920" cy="179856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2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3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08" name="Group 34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09" name="Group 35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10" name="Group 36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11" name="Group 37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12" name="Group 38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13" name="Picture 39" descr="82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" name="Freeform 40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15" name="Freeform 41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Freeform 42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Oval 43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Freeform 44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45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Oval 46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1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1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21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2"/>
          <p:cNvSpPr/>
          <p:nvPr/>
        </p:nvSpPr>
        <p:spPr>
          <a:xfrm>
            <a:off x="7597800" y="3406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525240" y="4264200"/>
            <a:ext cx="3704040" cy="204372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O horizonte 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eve estar a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a borda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do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8"/>
          <p:cNvSpPr txBox="1"/>
          <p:nvPr/>
        </p:nvSpPr>
        <p:spPr>
          <a:xfrm>
            <a:off x="2771640" y="189000"/>
            <a:ext cx="59770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 posição adequada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4" name="Object 54"/>
          <p:cNvGraphicFramePr/>
          <p:nvPr/>
        </p:nvGraphicFramePr>
        <p:xfrm>
          <a:off x="7236000" y="2122560"/>
          <a:ext cx="1622160" cy="39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122560"/>
                    <a:ext cx="162216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56"/>
          <p:cNvGrpSpPr/>
          <p:nvPr/>
        </p:nvGrpSpPr>
        <p:grpSpPr>
          <a:xfrm>
            <a:off x="1763640" y="1193760"/>
            <a:ext cx="1916280" cy="2263680"/>
            <a:chOff x="1763640" y="1193760"/>
            <a:chExt cx="1916280" cy="2263680"/>
          </a:xfrm>
        </p:grpSpPr>
        <p:pic>
          <p:nvPicPr>
            <p:cNvPr id="127" name="Picture 36" descr="cinthia 1"/>
            <p:cNvPicPr/>
            <p:nvPr/>
          </p:nvPicPr>
          <p:blipFill>
            <a:blip r:embed="rId5"/>
            <a:srcRect l="0" t="0" r="34448" b="0"/>
            <a:stretch/>
          </p:blipFill>
          <p:spPr>
            <a:xfrm>
              <a:off x="1763640" y="1224000"/>
              <a:ext cx="191628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reeform 55"/>
            <p:cNvSpPr/>
            <p:nvPr/>
          </p:nvSpPr>
          <p:spPr>
            <a:xfrm>
              <a:off x="1763640" y="1193760"/>
              <a:ext cx="1440000" cy="2984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45"/>
          <p:cNvSpPr/>
          <p:nvPr/>
        </p:nvSpPr>
        <p:spPr>
          <a:xfrm flipH="1" flipV="1">
            <a:off x="3276360" y="2172960"/>
            <a:ext cx="5398920" cy="28440"/>
          </a:xfrm>
          <a:prstGeom prst="line">
            <a:avLst/>
          </a:prstGeom>
          <a:ln w="76320">
            <a:solidFill>
              <a:srgbClr val="00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7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8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32" name="Group 59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33" name="Group 60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34" name="Group 61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35" name="Group 62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36" name="Group 63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37" name="Picture 64" descr="82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38" name="Freeform 65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Freeform 66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Freeform 67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Oval 68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69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0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71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5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75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7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7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5"/>
          <p:cNvSpPr/>
          <p:nvPr/>
        </p:nvSpPr>
        <p:spPr>
          <a:xfrm>
            <a:off x="4295160" y="4545000"/>
            <a:ext cx="2768400" cy="204084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 cabeça está lev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clinada para o moni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esta posição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álpebra cobre quas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 globo ocular,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otege do brilho da t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 diminue a fad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visual e 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28"/>
          <p:cNvSpPr txBox="1"/>
          <p:nvPr/>
        </p:nvSpPr>
        <p:spPr>
          <a:xfrm>
            <a:off x="4427640" y="270000"/>
            <a:ext cx="381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tura de trabalho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reta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3635280" y="1714680"/>
            <a:ext cx="51847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3"/>
          <p:cNvGrpSpPr/>
          <p:nvPr/>
        </p:nvGrpSpPr>
        <p:grpSpPr>
          <a:xfrm>
            <a:off x="1784880" y="335880"/>
            <a:ext cx="2218680" cy="2460240"/>
            <a:chOff x="1784880" y="335880"/>
            <a:chExt cx="2218680" cy="2460240"/>
          </a:xfrm>
        </p:grpSpPr>
        <p:pic>
          <p:nvPicPr>
            <p:cNvPr id="149" name="Picture 21" descr="cinthia 2"/>
            <p:cNvPicPr/>
            <p:nvPr/>
          </p:nvPicPr>
          <p:blipFill>
            <a:blip r:embed="rId5"/>
            <a:srcRect l="0" t="0" r="32313" b="0"/>
            <a:stretch/>
          </p:blipFill>
          <p:spPr>
            <a:xfrm rot="621600">
              <a:off x="1963800" y="485280"/>
              <a:ext cx="18604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Freeform 32"/>
            <p:cNvSpPr/>
            <p:nvPr/>
          </p:nvSpPr>
          <p:spPr>
            <a:xfrm>
              <a:off x="2124000" y="417600"/>
              <a:ext cx="1522440" cy="6588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Object 34"/>
          <p:cNvGraphicFramePr/>
          <p:nvPr/>
        </p:nvGraphicFramePr>
        <p:xfrm>
          <a:off x="7236000" y="1650960"/>
          <a:ext cx="1622160" cy="392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6000" y="1650960"/>
                    <a:ext cx="162216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35" descr="cinthia 2 a"/>
          <p:cNvPicPr/>
          <p:nvPr/>
        </p:nvPicPr>
        <p:blipFill>
          <a:blip r:embed="rId8"/>
          <a:stretch/>
        </p:blipFill>
        <p:spPr>
          <a:xfrm rot="417000">
            <a:off x="34560" y="3068640"/>
            <a:ext cx="3959280" cy="307512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41"/>
          <p:cNvSpPr/>
          <p:nvPr/>
        </p:nvSpPr>
        <p:spPr>
          <a:xfrm>
            <a:off x="3564000" y="1773360"/>
            <a:ext cx="3960720" cy="1655640"/>
          </a:xfrm>
          <a:prstGeom prst="pie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3"/>
          <p:cNvSpPr/>
          <p:nvPr/>
        </p:nvSpPr>
        <p:spPr>
          <a:xfrm>
            <a:off x="3492360" y="1773360"/>
            <a:ext cx="3959280" cy="3240000"/>
          </a:xfrm>
          <a:prstGeom prst="pie">
            <a:avLst/>
          </a:pr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7"/>
          <p:cNvSpPr/>
          <p:nvPr/>
        </p:nvSpPr>
        <p:spPr>
          <a:xfrm rot="920400">
            <a:off x="5452560" y="2120760"/>
            <a:ext cx="1791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ZONA PROTEG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ELA PÁLPE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3492360" y="1773360"/>
            <a:ext cx="3816360" cy="16556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2346600">
            <a:off x="5353560" y="3402000"/>
            <a:ext cx="1584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9"/>
          <p:cNvSpPr/>
          <p:nvPr/>
        </p:nvSpPr>
        <p:spPr>
          <a:xfrm>
            <a:off x="2268360" y="4452840"/>
            <a:ext cx="1943280" cy="1297080"/>
          </a:xfrm>
          <a:prstGeom prst="pi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0"/>
          <p:cNvSpPr/>
          <p:nvPr/>
        </p:nvSpPr>
        <p:spPr>
          <a:xfrm>
            <a:off x="2268360" y="4710240"/>
            <a:ext cx="1943280" cy="2160360"/>
          </a:xfrm>
          <a:prstGeom prst="pie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2268360" y="4724280"/>
            <a:ext cx="1654200" cy="8654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1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2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164" name="Group 53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165" name="Group 54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166" name="Group 55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167" name="Group 56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168" name="Group 57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169" name="Picture 58" descr="82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70" name="Freeform 59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1" name="Freeform 60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" name="Freeform 61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Oval 62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Freeform 63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64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Oval 65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WordArt 66"/>
          <p:cNvSpPr txBox="1"/>
          <p:nvPr/>
        </p:nvSpPr>
        <p:spPr>
          <a:xfrm rot="17451000">
            <a:off x="339120" y="417240"/>
            <a:ext cx="1306800" cy="12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apograf@gmail.com     </a:t>
            </a:r>
            <a:endParaRPr b="0" lang="en-US" sz="1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65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6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5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65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65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46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65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865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65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65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65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65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865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4" descr="cinthia 2"/>
          <p:cNvPicPr/>
          <p:nvPr/>
        </p:nvPicPr>
        <p:blipFill>
          <a:blip r:embed="rId1"/>
          <a:srcRect l="0" t="0" r="32313" b="0"/>
          <a:stretch/>
        </p:blipFill>
        <p:spPr>
          <a:xfrm rot="621600">
            <a:off x="2268000" y="3254400"/>
            <a:ext cx="1341720" cy="15415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5"/>
          <p:cNvSpPr/>
          <p:nvPr/>
        </p:nvSpPr>
        <p:spPr>
          <a:xfrm>
            <a:off x="2382840" y="3205080"/>
            <a:ext cx="1098720" cy="4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3473280" y="4130640"/>
            <a:ext cx="3733920" cy="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6"/>
          <p:cNvGraphicFramePr/>
          <p:nvPr/>
        </p:nvGraphicFramePr>
        <p:xfrm>
          <a:off x="6067440" y="4084560"/>
          <a:ext cx="116856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7440" y="4084560"/>
                    <a:ext cx="1168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Freeform 17"/>
          <p:cNvSpPr/>
          <p:nvPr/>
        </p:nvSpPr>
        <p:spPr>
          <a:xfrm>
            <a:off x="3421080" y="4172040"/>
            <a:ext cx="2854440" cy="1181160"/>
          </a:xfrm>
          <a:prstGeom prst="pie">
            <a:avLst/>
          </a:prstGeom>
          <a:solidFill>
            <a:srgbClr val="bbe0e3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 rot="920400">
            <a:off x="4610160" y="4302000"/>
            <a:ext cx="121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ZONA PROTEG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PELA PÁLPE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0"/>
          <p:cNvSpPr/>
          <p:nvPr/>
        </p:nvSpPr>
        <p:spPr>
          <a:xfrm>
            <a:off x="3368520" y="4160880"/>
            <a:ext cx="2853000" cy="2309760"/>
          </a:xfrm>
          <a:prstGeom prst="pie">
            <a:avLst/>
          </a:prstGeom>
          <a:solidFill>
            <a:srgbClr val="ffff00">
              <a:alpha val="5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 rot="1800600">
            <a:off x="4762800" y="5229360"/>
            <a:ext cx="1081440" cy="23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3368520" y="4181400"/>
            <a:ext cx="2749680" cy="11797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4"/>
          <p:cNvGraphicFramePr/>
          <p:nvPr/>
        </p:nvGraphicFramePr>
        <p:xfrm>
          <a:off x="5958000" y="836640"/>
          <a:ext cx="127620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58000" y="836640"/>
                    <a:ext cx="127620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25"/>
          <p:cNvGrpSpPr/>
          <p:nvPr/>
        </p:nvGrpSpPr>
        <p:grpSpPr>
          <a:xfrm>
            <a:off x="2352600" y="1160640"/>
            <a:ext cx="1508040" cy="1460160"/>
            <a:chOff x="2352600" y="1160640"/>
            <a:chExt cx="1508040" cy="1460160"/>
          </a:xfrm>
        </p:grpSpPr>
        <p:pic>
          <p:nvPicPr>
            <p:cNvPr id="191" name="Picture 26" descr="cinthia 1"/>
            <p:cNvPicPr/>
            <p:nvPr/>
          </p:nvPicPr>
          <p:blipFill>
            <a:blip r:embed="rId6"/>
            <a:srcRect l="0" t="0" r="34448" b="0"/>
            <a:stretch/>
          </p:blipFill>
          <p:spPr>
            <a:xfrm>
              <a:off x="2352600" y="1180080"/>
              <a:ext cx="150804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7"/>
            <p:cNvSpPr/>
            <p:nvPr/>
          </p:nvSpPr>
          <p:spPr>
            <a:xfrm>
              <a:off x="2352600" y="1160640"/>
              <a:ext cx="1133280" cy="1922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28"/>
          <p:cNvSpPr/>
          <p:nvPr/>
        </p:nvSpPr>
        <p:spPr>
          <a:xfrm>
            <a:off x="3521160" y="974880"/>
            <a:ext cx="2604960" cy="2044440"/>
          </a:xfrm>
          <a:prstGeom prst="pie">
            <a:avLst/>
          </a:prstGeom>
          <a:solidFill>
            <a:srgbClr val="ff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4120560" y="1708200"/>
            <a:ext cx="13845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ZONA EXP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3"/>
          <p:cNvSpPr txBox="1"/>
          <p:nvPr/>
        </p:nvSpPr>
        <p:spPr>
          <a:xfrm>
            <a:off x="1981080" y="115920"/>
            <a:ext cx="316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mplesmente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emos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Oval 54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5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5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5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5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5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5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255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55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55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55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955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155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55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55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1"/>
          <p:cNvSpPr/>
          <p:nvPr/>
        </p:nvSpPr>
        <p:spPr>
          <a:xfrm>
            <a:off x="2268360" y="907920"/>
            <a:ext cx="48960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lho s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cansaço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ma das causas de incôm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 cansaço visual reside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as pessoas que dev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ócul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nem sempre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eem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dequados a dista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a tela do monitor,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co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e devem resolver com s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oftalmologista.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A isso soma-se o fato de muitos lugares de trabalho não contarem com uma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iluminação adeq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2644560" y="348480"/>
            <a:ext cx="4464720" cy="33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OCALIZAÇÃO D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m relaçã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ontes de ilumin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(janelas, lâmpad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rata-se de evitar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flexos no moni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umentando as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visibilidade e diminui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 fatiga ocular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674440" y="4292640"/>
            <a:ext cx="5650560" cy="2228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um uso corret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as t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s monitores, deve-se verificar qu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luminação  ambiente s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ficientement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ênu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para um b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raste da tela sem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ficulte a visão de text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cumentos, etc. que estejam sobre a mesa.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acker copia"/>
          <p:cNvPicPr/>
          <p:nvPr/>
        </p:nvPicPr>
        <p:blipFill>
          <a:blip r:embed="rId1"/>
          <a:stretch/>
        </p:blipFill>
        <p:spPr>
          <a:xfrm>
            <a:off x="1071720" y="4572000"/>
            <a:ext cx="1439640" cy="1692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operadora"/>
          <p:cNvPicPr/>
          <p:nvPr/>
        </p:nvPicPr>
        <p:blipFill>
          <a:blip r:embed="rId2"/>
          <a:stretch/>
        </p:blipFill>
        <p:spPr>
          <a:xfrm>
            <a:off x="6226200" y="692280"/>
            <a:ext cx="2593800" cy="2394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220680" y="2036880"/>
            <a:ext cx="1808280" cy="1008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ILUMI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6"/>
          <p:cNvSpPr/>
          <p:nvPr/>
        </p:nvSpPr>
        <p:spPr>
          <a:xfrm>
            <a:off x="179280" y="260280"/>
            <a:ext cx="1619280" cy="161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7"/>
          <p:cNvGrpSpPr/>
          <p:nvPr/>
        </p:nvGrpSpPr>
        <p:grpSpPr>
          <a:xfrm>
            <a:off x="358920" y="303120"/>
            <a:ext cx="1384200" cy="1407960"/>
            <a:chOff x="358920" y="303120"/>
            <a:chExt cx="1384200" cy="1407960"/>
          </a:xfrm>
        </p:grpSpPr>
        <p:grpSp>
          <p:nvGrpSpPr>
            <p:cNvPr id="206" name="Group 28"/>
            <p:cNvGrpSpPr/>
            <p:nvPr/>
          </p:nvGrpSpPr>
          <p:grpSpPr>
            <a:xfrm>
              <a:off x="358920" y="303120"/>
              <a:ext cx="1384200" cy="1407960"/>
              <a:chOff x="358920" y="303120"/>
              <a:chExt cx="1384200" cy="1407960"/>
            </a:xfrm>
          </p:grpSpPr>
          <p:grpSp>
            <p:nvGrpSpPr>
              <p:cNvPr id="207" name="Group 29"/>
              <p:cNvGrpSpPr/>
              <p:nvPr/>
            </p:nvGrpSpPr>
            <p:grpSpPr>
              <a:xfrm>
                <a:off x="358920" y="342720"/>
                <a:ext cx="1371600" cy="1368360"/>
                <a:chOff x="358920" y="342720"/>
                <a:chExt cx="1371600" cy="1368360"/>
              </a:xfrm>
            </p:grpSpPr>
            <p:grpSp>
              <p:nvGrpSpPr>
                <p:cNvPr id="208" name="Group 30"/>
                <p:cNvGrpSpPr/>
                <p:nvPr/>
              </p:nvGrpSpPr>
              <p:grpSpPr>
                <a:xfrm>
                  <a:off x="358920" y="371160"/>
                  <a:ext cx="1298520" cy="1338480"/>
                  <a:chOff x="358920" y="371160"/>
                  <a:chExt cx="1298520" cy="1338480"/>
                </a:xfrm>
              </p:grpSpPr>
              <p:grpSp>
                <p:nvGrpSpPr>
                  <p:cNvPr id="209" name="Group 31"/>
                  <p:cNvGrpSpPr/>
                  <p:nvPr/>
                </p:nvGrpSpPr>
                <p:grpSpPr>
                  <a:xfrm>
                    <a:off x="358920" y="371160"/>
                    <a:ext cx="1298520" cy="1338480"/>
                    <a:chOff x="358920" y="371160"/>
                    <a:chExt cx="1298520" cy="1338480"/>
                  </a:xfrm>
                </p:grpSpPr>
                <p:grpSp>
                  <p:nvGrpSpPr>
                    <p:cNvPr id="210" name="Group 32"/>
                    <p:cNvGrpSpPr/>
                    <p:nvPr/>
                  </p:nvGrpSpPr>
                  <p:grpSpPr>
                    <a:xfrm>
                      <a:off x="358920" y="371160"/>
                      <a:ext cx="1298520" cy="1338480"/>
                      <a:chOff x="358920" y="371160"/>
                      <a:chExt cx="1298520" cy="1338480"/>
                    </a:xfrm>
                  </p:grpSpPr>
                  <p:pic>
                    <p:nvPicPr>
                      <p:cNvPr id="211" name="Picture 33" descr="82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62160" y="414360"/>
                        <a:ext cx="1295280" cy="129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212" name="Freeform 34"/>
                      <p:cNvSpPr/>
                      <p:nvPr/>
                    </p:nvSpPr>
                    <p:spPr>
                      <a:xfrm>
                        <a:off x="358920" y="371160"/>
                        <a:ext cx="1230480" cy="131148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13" name="Freeform 35"/>
                    <p:cNvSpPr/>
                    <p:nvPr/>
                  </p:nvSpPr>
                  <p:spPr>
                    <a:xfrm>
                      <a:off x="481320" y="372960"/>
                      <a:ext cx="596880" cy="1230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4" name="Freeform 36"/>
                  <p:cNvSpPr/>
                  <p:nvPr/>
                </p:nvSpPr>
                <p:spPr>
                  <a:xfrm>
                    <a:off x="519120" y="639720"/>
                    <a:ext cx="506520" cy="9525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Oval 37"/>
                <p:cNvSpPr/>
                <p:nvPr/>
              </p:nvSpPr>
              <p:spPr>
                <a:xfrm>
                  <a:off x="362160" y="342720"/>
                  <a:ext cx="1368360" cy="1368360"/>
                </a:xfrm>
                <a:prstGeom prst="ellipse">
                  <a:avLst/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Freeform 38"/>
              <p:cNvSpPr/>
              <p:nvPr/>
            </p:nvSpPr>
            <p:spPr>
              <a:xfrm>
                <a:off x="933480" y="303120"/>
                <a:ext cx="777960" cy="12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9"/>
              <p:cNvSpPr/>
              <p:nvPr/>
            </p:nvSpPr>
            <p:spPr>
              <a:xfrm>
                <a:off x="959040" y="333360"/>
                <a:ext cx="784080" cy="122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Oval 40"/>
            <p:cNvSpPr/>
            <p:nvPr/>
          </p:nvSpPr>
          <p:spPr>
            <a:xfrm>
              <a:off x="576360" y="663480"/>
              <a:ext cx="790560" cy="7920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58:39Z</dcterms:created>
  <dc:creator/>
  <dc:description/>
  <dc:language>en-US</dc:language>
  <cp:lastModifiedBy>110073408</cp:lastModifiedBy>
  <dcterms:modified xsi:type="dcterms:W3CDTF">2009-06-26T13:45:00Z</dcterms:modified>
  <cp:revision>270</cp:revision>
  <dc:subject/>
  <dc:title>Diapositiva 1</dc:title>
</cp:coreProperties>
</file>