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Jorge%20Arag%C3%A3o%20-%20Ave%20Maria.wav" ContentType="audio/x-wav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5924-95B9-413A-B518-E717BECB1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1733-8526-4CCF-B484-B10E16E8E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3825-2A37-4BB4-922E-7C5D5FC8B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05DD-A6C0-4B6F-895E-EDA6E7CD6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B2D25-D612-4F93-89B4-983AC530D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A09F1-C9E6-4236-9015-F9AAF2DC0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AD7FC-F5E3-42F2-A61C-2E5CBB469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6C3BD-C366-493B-9DFD-C13E6600A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C20A9-163E-4DC7-A77D-0BC9B7DB1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F2234-44EC-4B12-A2C7-FB9995B6D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EF036-FA43-441B-A336-9F9E33F3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A02C-61E6-4E63-AC67-1D7F654B1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68191-BF60-4EE1-8F39-1C958598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87E4C-5E1D-4324-9A89-86AC7BA5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37421-E9EF-4289-91BD-CCF13009E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533EC-E66E-4D0C-B831-7FD234711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33E2A-BA93-407B-9303-D9AD04350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51E2-D3DE-45A5-AA3D-91768DE4E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EBF0-E7F5-4E80-A557-8A4B2A7AC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1789-3FC4-4B36-8FC3-8F5D77001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49C9-F8A6-44B3-9B23-44359CE3B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5C28-2843-4F7A-849A-A60CE6A7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9B52-DB35-4809-B505-B0CCAA5E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6F1A-BEC3-4841-8943-6857B6DE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D1B58-13E9-4E2B-B095-A40555D6B9E2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502D0-8C8C-4579-8F67-0C3E3F903C12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orge%20Arag&#227;o%20-%20Ave%20Maria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8000" y="1268280"/>
            <a:ext cx="82296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i="1" lang="en-US" sz="3800" spc="-1" strike="noStrike">
                <a:solidFill>
                  <a:srgbClr val="ffff00"/>
                </a:solidFill>
                <a:latin typeface="Arial"/>
              </a:rPr>
              <a:t>ESTA É A HORA!</a:t>
            </a:r>
            <a:br>
              <a:rPr sz="3800"/>
            </a:br>
            <a:r>
              <a:rPr b="1" i="1" lang="en-US" sz="3800" spc="-1" strike="noStrike">
                <a:solidFill>
                  <a:srgbClr val="ccf20e"/>
                </a:solidFill>
                <a:latin typeface="Arial"/>
              </a:rPr>
              <a:t>        </a:t>
            </a:r>
            <a:br>
              <a:rPr sz="3800"/>
            </a:br>
            <a:r>
              <a:rPr b="1" i="1" lang="en-US" sz="3800" spc="-1" strike="noStrike">
                <a:solidFill>
                  <a:srgbClr val="ffffff"/>
                </a:solidFill>
                <a:latin typeface="Arial"/>
              </a:rPr>
              <a:t>7 de setembro, 17 horas!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5967000"/>
            <a:ext cx="626436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1" lang="en-US" sz="1400" spc="-1" strike="noStrike">
                <a:solidFill>
                  <a:srgbClr val="ffff00"/>
                </a:solidFill>
                <a:latin typeface="Tahoma"/>
              </a:rPr>
              <a:t>O Brasil não tem povo, tem público.”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(Lima Barreto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68360" y="518040"/>
            <a:ext cx="8497800" cy="63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Esta é a hora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ão podemos ser simples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spectadore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amos provocar uma profunda e  radical  mudança na política, sem coloração partidár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amos impor o fim do cinismo descarado, da corrupção endêmica e do banditismo institucionaliza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mos de “saco cheio”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hega de afron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e a lei de hoje puna (como puder) os canalhas que emporcalham e seviciam a nação. Mas isto não basta, a maioria dos que hoje acusam, foram os canalhas de ontem, ou serão os canalhas de amanhã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5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1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5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10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75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1000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95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1000"/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74560" y="474480"/>
            <a:ext cx="856944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Esta é a hora.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Vamos iniciar um vigoroso movimento popular que produza uma verdadeira reforma político-administrativa, profunda, séria e radical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2852640"/>
            <a:ext cx="777708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1280" y="2492280"/>
            <a:ext cx="82087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Esta é a hora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de uma reforma que afugente da vida pública a corja de escroques que se sugam o sangue da nação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699640" y="1916280"/>
            <a:ext cx="42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ou tudo continuará como sempre fo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7640" y="4653000"/>
            <a:ext cx="849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Esta é a hora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e impormos  mecanismos de punição implacável ao homem público que transgride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98480" y="3500280"/>
            <a:ext cx="673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...ou tudo continuará como sempre fo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911920"/>
            <a:ext cx="89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...ou tudo continuará como sempre foi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24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36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71640" y="106200"/>
            <a:ext cx="7777080" cy="70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 reforma político-administrativa poderá instituir, dentre outras, as seguintes medida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mprovação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documental rigorosa da idoneidade dos candidat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Extinção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u profunda restrição da imunidade parlamenta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brigatoriedade de abertura do sigilo fiscal e bancário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de vereadores, prefeitos, deputados, senadores, ministros de estado, presidente da república, vice-presidente da república, partidos políticos, dirigentes de partidos políticos, diretores de entidades da administração direta e indireta, juízes e desembargador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Proibição de contratação de parentes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e afins de até o nível de 3º grau. E que a admissão de parentes ocorra apenas por concursos, onde o critério seja técnic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Adequação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ou mesmo a redução drástica de salários, benefícios e aposentadorias para ocupantes de cargos legislativos a nível municipal, estadual e feder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rodução de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pesadas agravantes na legislação penal, cível e tributária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, para crimes cometidos pelos homens públic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brigatoriedade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 comprovada capacitação e experiência dos aspirantes a cargos de direção em entidades da administração direta e indiret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1156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1336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076720" y="138240"/>
            <a:ext cx="3924360" cy="21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Esta é a hora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de criarmos reais condições para que a esperança vença a descrença, pois, apenas assistimos  a este teatro como se não tivéssemos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poder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para alterá-l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76720" y="2205000"/>
            <a:ext cx="38512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Esta é a hora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de agirmo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elos nossos filhos e netos e em respeito aos 50 milhões de miseráve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este país, que vivem o martírio de uma vida de sofrimento desuman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66360" y="5408640"/>
            <a:ext cx="375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Verdana"/>
              </a:rPr>
              <a:t>50 </a:t>
            </a:r>
            <a:r>
              <a:rPr b="1" lang="en-US" sz="5400" spc="-1" strike="noStrike">
                <a:solidFill>
                  <a:srgbClr val="ffff00"/>
                </a:solidFill>
                <a:latin typeface="Verdana"/>
              </a:rPr>
              <a:t>milhõ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e miseráve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39640" y="260280"/>
            <a:ext cx="8425080" cy="78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No dia 7 DE SETEMBRO às 17:00 horas!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Às 17:00 horas,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amos paralisar o Brasi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Às 17:00 horas,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amos promover um panelaço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Exija que as redes de televisão, rádios, jornais, revistas e o político de sua confiança divulguem este movimen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Mobilize sua escola, seu sindicato, sua igreja, seus amig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Inicie agora esta corrente de ação nacion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mos atingir todos, de todas as camadas sociais, de todos os recantos deste Brasi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meta este e-mail para o máximo de pessoas e peça a elas que façam o mesm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00000" y="765000"/>
            <a:ext cx="7488360" cy="22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68360" y="189000"/>
            <a:ext cx="8675640" cy="65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o dia 7 de Setembro,  às 17 hora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enda na janela uma bandeira, uma toalha, um pano qualque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ta panela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que corneta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 você estiver no carro, buzin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mova desfiles, passeata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ça a nação tremer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, por 1 minuto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mos fazer a nação tremer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, por 1 minu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í sim, saberemos que somos um povo que resgatou a esperanç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ciaremos a mudanç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1280" y="27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i="1" lang="en-US" sz="6600" spc="-1" strike="noStrike">
                <a:solidFill>
                  <a:srgbClr val="ffff00"/>
                </a:solidFill>
                <a:latin typeface="Arial"/>
              </a:rPr>
              <a:t>ESTA É A HORA!</a:t>
            </a:r>
            <a:br>
              <a:rPr sz="6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meta este e-mail para o máximo de pessoas e peça a elas que façam o mesmo.</a:t>
            </a:r>
            <a:br>
              <a:rPr sz="1600"/>
            </a:br>
            <a:r>
              <a:rPr b="1" i="1" lang="en-US" sz="6600" spc="-1" strike="noStrike">
                <a:solidFill>
                  <a:srgbClr val="f1b60f"/>
                </a:solidFill>
                <a:latin typeface="Arial"/>
              </a:rPr>
              <a:t>        </a:t>
            </a:r>
            <a:br>
              <a:rPr sz="6600"/>
            </a:br>
            <a:r>
              <a:rPr b="1" i="1" lang="en-US" sz="6600" spc="-1" strike="noStrike">
                <a:solidFill>
                  <a:srgbClr val="ffff00"/>
                </a:solidFill>
                <a:latin typeface="Arial"/>
              </a:rPr>
              <a:t>7 de setembro,</a:t>
            </a:r>
            <a:r>
              <a:rPr b="1" i="1" lang="en-US" sz="6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6600"/>
            </a:br>
            <a:r>
              <a:rPr b="1" i="1" lang="en-US" sz="6600" spc="-1" strike="noStrike">
                <a:solidFill>
                  <a:srgbClr val="ffffff"/>
                </a:solidFill>
                <a:latin typeface="Arial"/>
              </a:rPr>
              <a:t>17 horas!</a:t>
            </a:r>
            <a:endParaRPr b="0" lang="en-US" sz="66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04440" y="6021360"/>
            <a:ext cx="277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Verdana"/>
              </a:rPr>
              <a:t>www.estaeahora.cjb.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3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4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5T03:23:06Z</dcterms:created>
  <dc:creator/>
  <dc:description/>
  <dc:language>en-US</dc:language>
  <cp:lastModifiedBy>Valter Garcia Cota</cp:lastModifiedBy>
  <dcterms:modified xsi:type="dcterms:W3CDTF">2005-08-03T21:05:10Z</dcterms:modified>
  <cp:revision>39</cp:revision>
  <dc:subject/>
  <dc:title>Slide 1</dc:title>
</cp:coreProperties>
</file>