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Jorge%20Arag%C3%A3o%20-%20Ave%20Maria.wav" ContentType="audio/x-wav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78D8-C19E-44C9-81E1-9E29E4B9D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818E-626F-4132-A71F-BDE0C26E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5DA3-FBC3-4E31-BBA2-0D7C2CCC2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28FE-DFC5-4A9C-94A9-2DAF59407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829F-C4B2-49BD-9D85-D5CB50890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B6CC-96BC-4E9F-B894-F88626D8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BDFE-DEF6-4032-82E2-D2A0C75C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F61F-D4E0-4C54-BD56-FB61638B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04B8-90C9-404D-87D2-89F7F406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B10B-B860-4D0D-900D-54117E82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3CE3-1E8C-446F-9160-7214D514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B176-134A-47D7-A201-7C63093C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CC8B-73F1-498A-AF4A-5F704888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8AAE-CB39-45AA-93E6-ED259364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4AA4-9E30-40D1-B427-BD7DBAB0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E8D8-3971-4AB5-8EC4-DBCD987E4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20BB-9ECE-4885-A6C9-F62B0F751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6635-DB6C-46DE-9B29-98978F81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2E77-C2F6-4DE6-BD02-E1BE1E27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F94B-6529-41A0-B6C8-73B3FDAB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CD33-2CC1-48EC-8E95-B680D757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C2CB-CFDA-4892-99C1-A64013A0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9589-095D-4506-88FD-42E01090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BF4E-7A93-423F-8AF1-68AFF959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2DCD-B9A9-4ED5-B0D2-F79FBB50405B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C846-7363-42DC-A567-C1DB7280E30B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orge%20Arag&#227;o%20-%20Ave%20Maria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8000" y="126828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i="1" lang="en-US" sz="3800" spc="-1" strike="noStrike">
                <a:solidFill>
                  <a:srgbClr val="ffff00"/>
                </a:solidFill>
                <a:latin typeface="Arial"/>
              </a:rPr>
              <a:t>ESTA É A HORA!</a:t>
            </a:r>
            <a:br>
              <a:rPr sz="3800"/>
            </a:br>
            <a:r>
              <a:rPr b="1" i="1" lang="en-US" sz="3800" spc="-1" strike="noStrike">
                <a:solidFill>
                  <a:srgbClr val="ccf20e"/>
                </a:solidFill>
                <a:latin typeface="Arial"/>
              </a:rPr>
              <a:t>        </a:t>
            </a:r>
            <a:br>
              <a:rPr sz="3800"/>
            </a:br>
            <a:r>
              <a:rPr b="1" i="1" lang="en-US" sz="3800" spc="-1" strike="noStrike">
                <a:solidFill>
                  <a:srgbClr val="ffffff"/>
                </a:solidFill>
                <a:latin typeface="Arial"/>
              </a:rPr>
              <a:t>7 de setembro, 17 horas!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5967000"/>
            <a:ext cx="626436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1" lang="en-US" sz="1400" spc="-1" strike="noStrike">
                <a:solidFill>
                  <a:srgbClr val="ffff00"/>
                </a:solidFill>
                <a:latin typeface="Tahoma"/>
              </a:rPr>
              <a:t>O Brasil não tem povo, tem público.”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(Lima Barreto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68360" y="518040"/>
            <a:ext cx="8497800" cy="63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Esta é a hora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ão podemos ser simples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spectadore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mos provocar uma profunda e  radical  mudança na política, sem coloração partidár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mos impor o fim do cinismo descarado, da corrupção endêmica e do banditismo institucionaliz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mos de “saco cheio”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hega de afro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e a lei de hoje puna (como puder) os canalhas que emporcalham e seviciam a nação. Mas isto não basta, a maioria dos que hoje acusam, foram os canalhas de ontem, ou serão os canalhas de amanhã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10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9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74560" y="474480"/>
            <a:ext cx="85694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Esta é a hora.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Vamos iniciar um vigoroso movimento popular que produza uma verdadeira reforma político-administrativa, profunda, séria e radical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2852640"/>
            <a:ext cx="77770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2492280"/>
            <a:ext cx="82087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Esta é a hora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de uma reforma que afugente da vida pública a corja de escroques que se sugam o sangue da nação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99640" y="191628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u tudo continuará como sempre fo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7640" y="4653000"/>
            <a:ext cx="84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Esta é a hora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 impormos  mecanismos de punição implacável ao homem público que transgride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98480" y="3500280"/>
            <a:ext cx="673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...ou tudo continuará como sempre fo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911920"/>
            <a:ext cx="89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...ou tudo continuará como sempre foi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4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36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71640" y="106200"/>
            <a:ext cx="7777080" cy="70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 reforma político-administrativa poderá instituir, dentre outras, as seguintes medid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mprovação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documental rigorosa da idoneidade dos candidat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Extinção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 profunda restrição da imunidade parlamenta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brigatoriedade de abertura do sigilo fiscal e bancário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de vereadores, prefeitos, deputados, senadores, ministros de estado, presidente da república, vice-presidente da república, partidos políticos, dirigentes de partidos políticos, diretores de entidades da administração direta e indireta, juízes e desembargador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roibição de contratação de parente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e afins de até o nível de 3º grau. E que a admissão de parentes ocorra apenas por concursos, onde o critério seja técnic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dequação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ou mesmo a redução drástica de salários, benefícios e aposentadorias para ocupantes de cargos legislativos a nível municipal, estadual e feder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rodução de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esadas agravantes na legislação penal, cível e tributári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, para crimes cometidos pelos homens públic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brigatoriedade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 comprovada capacitação e experiência dos aspirantes a cargos de direção em entidades da administração direta e indiret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1156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1336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076720" y="138240"/>
            <a:ext cx="392436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Esta é a hora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de criarmos reais condições para que a esperança vença a descrença, pois, apenas assistimos  a este teatro como se não tivéssemos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poder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para alterá-l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76720" y="2205000"/>
            <a:ext cx="3851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Esta é a hora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de agirmo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elos nossos filhos e netos e em respeito aos 50 milhões de miseráve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este país, que vivem o martírio de uma vida de sofrimento desuman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66360" y="5408640"/>
            <a:ext cx="375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Verdana"/>
              </a:rPr>
              <a:t>50 </a:t>
            </a:r>
            <a:r>
              <a:rPr b="1" lang="en-US" sz="5400" spc="-1" strike="noStrike">
                <a:solidFill>
                  <a:srgbClr val="ffff00"/>
                </a:solidFill>
                <a:latin typeface="Verdana"/>
              </a:rPr>
              <a:t>milhõ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e miseráve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9640" y="260280"/>
            <a:ext cx="8425080" cy="78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No dia 7 DE SETEMBRO às 17:00 horas!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Às 17:00 horas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amos paralisar o Brasi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Às 17:00 horas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amos promover um panelaço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xija que as redes de televisão, rádios, jornais, revistas e o político de sua confiança divulguem este movimen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obilize sua escola, seu sindicato, sua igreja, seus amig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nicie agora esta corrente de ação nac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mos atingir todos, de todas as camadas sociais, de todos os recantos deste Brasi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meta este e-mail para o máximo de pessoas e peça a elas que façam o mesm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765000"/>
            <a:ext cx="748836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68360" y="189000"/>
            <a:ext cx="8675640" cy="65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o dia 7 de Setembro,  às 17 hora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enda na janela uma bandeira, uma toalha, um pano qualqu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ta panel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que cornet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 você estiver no carro, buzin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mova desfiles, passeat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ça a nação treme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, por 1 minuto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mos fazer a nação treme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, por 1 minu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í sim, saberemos que somos um povo que resgatou a esperanç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ciaremos a mudanç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27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ESTA É A HORA!</a:t>
            </a:r>
            <a:br>
              <a:rPr sz="6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meta este e-mail para o máximo de pessoas e peça a elas que façam o mesmo.</a:t>
            </a:r>
            <a:br>
              <a:rPr sz="1600"/>
            </a:br>
            <a:r>
              <a:rPr b="1" i="1" lang="en-US" sz="6600" spc="-1" strike="noStrike">
                <a:solidFill>
                  <a:srgbClr val="f1b60f"/>
                </a:solidFill>
                <a:latin typeface="Arial"/>
              </a:rPr>
              <a:t>        </a:t>
            </a:r>
            <a:br>
              <a:rPr sz="6600"/>
            </a:b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7 de setembro,</a:t>
            </a:r>
            <a:r>
              <a:rPr b="1" i="1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6600"/>
            </a:br>
            <a:r>
              <a:rPr b="1" i="1" lang="en-US" sz="6600" spc="-1" strike="noStrike">
                <a:solidFill>
                  <a:srgbClr val="ffffff"/>
                </a:solidFill>
                <a:latin typeface="Arial"/>
              </a:rPr>
              <a:t>17 horas!</a:t>
            </a:r>
            <a:endParaRPr b="0" lang="en-US" sz="66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04440" y="6021360"/>
            <a:ext cx="277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Verdana"/>
              </a:rPr>
              <a:t>www.estaeahora.cjb.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3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4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5T03:23:06Z</dcterms:created>
  <dc:creator/>
  <dc:description/>
  <dc:language>en-US</dc:language>
  <cp:lastModifiedBy>Valter Garcia Cota</cp:lastModifiedBy>
  <dcterms:modified xsi:type="dcterms:W3CDTF">2005-08-03T21:05:10Z</dcterms:modified>
  <cp:revision>39</cp:revision>
  <dc:subject/>
  <dc:title>Slide 1</dc:title>
</cp:coreProperties>
</file>