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6FE-DB84-4F76-9789-47C40C54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ACC-D0A5-4EA3-8F48-BF6DB179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AB5-8E2E-4BF8-946B-A157CF18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786-F4EA-40E7-9EEA-C7E6A6B9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6BA-9EBA-44CE-8434-EF074762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08B-CB93-4DB5-AFB5-78365D82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ECC-B056-45EC-B642-7718D009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330-A9C6-46DB-9F32-F7903A7B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6C2-9525-48F0-9D9E-428CF15F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F78-5C3B-4BB6-A8BC-81A41FA6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F9A-15DB-4F83-A8E7-733D4C4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06A-F320-4831-8BE5-2EB42A9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8E52-BDE8-4CF4-AA73-0B1A74CCF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uristas1" descr=""/>
          <p:cNvPicPr/>
          <p:nvPr/>
        </p:nvPicPr>
        <p:blipFill>
          <a:blip r:embed="rId1"/>
          <a:stretch/>
        </p:blipFill>
        <p:spPr>
          <a:xfrm>
            <a:off x="1906560" y="0"/>
            <a:ext cx="53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um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ch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o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vis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xixi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ourist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urists2" descr=""/>
          <p:cNvPicPr/>
          <p:nvPr/>
        </p:nvPicPr>
        <p:blipFill>
          <a:blip r:embed="rId1"/>
          <a:stretch/>
        </p:blipFill>
        <p:spPr>
          <a:xfrm>
            <a:off x="68580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urist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uristas3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uristas4" descr=""/>
          <p:cNvPicPr/>
          <p:nvPr/>
        </p:nvPicPr>
        <p:blipFill>
          <a:blip r:embed="rId1"/>
          <a:stretch/>
        </p:blipFill>
        <p:spPr>
          <a:xfrm>
            <a:off x="240048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uristas5" descr="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rente" descr=""/>
          <p:cNvPicPr/>
          <p:nvPr/>
        </p:nvPicPr>
        <p:blipFill>
          <a:blip r:embed="rId1"/>
          <a:stretch/>
        </p:blipFill>
        <p:spPr>
          <a:xfrm>
            <a:off x="685800" y="-1440"/>
            <a:ext cx="77724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ng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4:31:19Z</dcterms:created>
  <dc:creator>Mehmet Akar</dc:creator>
  <dc:description/>
  <dc:language>en-US</dc:language>
  <cp:lastModifiedBy>Mehmet Akar</cp:lastModifiedBy>
  <dcterms:modified xsi:type="dcterms:W3CDTF">2006-01-24T11:30:06Z</dcterms:modified>
  <cp:revision>3</cp:revision>
  <dc:subject/>
  <dc:title>PowerPoint Sunusu</dc:title>
</cp:coreProperties>
</file>