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160" y="401220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6720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300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5320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16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300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5320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C8D-9350-4813-93D4-6E273BB9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E88-5065-488A-9FB3-4C0942BB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9B9-E61F-4599-B073-D916D60D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690-077D-45FF-B207-18271BA9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875-5DB5-48E3-8054-9F6C0DB9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9464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6DC-E88C-4A89-853B-A6FB2CCA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D72-383D-458A-9D51-F87266A7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6720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92E-FE8F-4B40-B8B1-6D80BDA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429-6C77-4227-9E02-2105658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401220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91A-C131-4346-AD6B-D4E7D745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6720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1EC-3A3A-4030-AFA7-455CC731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300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5320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300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5320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476-DC2C-42D4-81C0-CE8D895C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9464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6720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5D1-DD19-44AD-83E0-18364FE77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Lexical Analysis</a:t>
            </a:r>
            <a:endParaRPr b="1" lang="en-US" sz="39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lgorithm For Subset Construction – (2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371600"/>
            <a:ext cx="784872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only (unmarked) state i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st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re is unmarked state T i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state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 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put symbo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is not i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state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U as an unmarked state to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st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tr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T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:=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9480" y="2819520"/>
            <a:ext cx="3138480" cy="1865880"/>
            <a:chOff x="609480" y="2819520"/>
            <a:chExt cx="3138480" cy="1865880"/>
          </a:xfrm>
        </p:grpSpPr>
        <p:sp>
          <p:nvSpPr>
            <p:cNvPr id="240" name=""/>
            <p:cNvSpPr/>
            <p:nvPr/>
          </p:nvSpPr>
          <p:spPr>
            <a:xfrm>
              <a:off x="1385640" y="29908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43040" y="3524400"/>
              <a:ext cx="304920" cy="3045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2320" y="2990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52320" y="4210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85640" y="4210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90560" y="31431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04960" y="3295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37920" y="3295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90560" y="4362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757240" y="3781080"/>
              <a:ext cx="7002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7240" y="31431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0480" y="2819520"/>
              <a:ext cx="2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77680" y="4348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74680" y="35100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10840" y="3433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30528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7640" y="39816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76520" y="3557520"/>
              <a:ext cx="2458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480" y="3171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44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206240" y="1676520"/>
            <a:ext cx="48672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A 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et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1,2,3,4,5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be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a,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stat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state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{5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un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105520" y="4191120"/>
          <a:ext cx="3352680" cy="2466720"/>
        </p:xfrm>
        <a:graphic>
          <a:graphicData uri="http://schemas.openxmlformats.org/drawingml/2006/table">
            <a:tbl>
              <a:tblPr/>
              <a:tblGrid>
                <a:gridCol w="990360"/>
                <a:gridCol w="838440"/>
                <a:gridCol w="765000"/>
                <a:gridCol w="75888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 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43320" y="4038480"/>
          <a:ext cx="474840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8040"/>
                <a:gridCol w="21240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7" name=""/>
          <p:cNvGrpSpPr/>
          <p:nvPr/>
        </p:nvGrpSpPr>
        <p:grpSpPr>
          <a:xfrm>
            <a:off x="609480" y="2590920"/>
            <a:ext cx="3138480" cy="1865880"/>
            <a:chOff x="609480" y="2590920"/>
            <a:chExt cx="3138480" cy="1865880"/>
          </a:xfrm>
        </p:grpSpPr>
        <p:sp>
          <p:nvSpPr>
            <p:cNvPr id="268" name=""/>
            <p:cNvSpPr/>
            <p:nvPr/>
          </p:nvSpPr>
          <p:spPr>
            <a:xfrm>
              <a:off x="1385640" y="27622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3040" y="3295800"/>
              <a:ext cx="304920" cy="3045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52320" y="27622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52320" y="3981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85640" y="3981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90560" y="29145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04960" y="3067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7920" y="3067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90560" y="4133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757240" y="3552480"/>
              <a:ext cx="7002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57240" y="29145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60480" y="2590920"/>
              <a:ext cx="2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77680" y="4119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4680" y="32814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10840" y="3205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87640" y="28242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37530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76520" y="3328920"/>
              <a:ext cx="2458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480" y="29433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440" y="2624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419720" y="2209680"/>
            <a:ext cx="761760" cy="368280"/>
            <a:chOff x="4419720" y="2209680"/>
            <a:chExt cx="761760" cy="368280"/>
          </a:xfrm>
        </p:grpSpPr>
        <p:sp>
          <p:nvSpPr>
            <p:cNvPr id="289" name=""/>
            <p:cNvSpPr/>
            <p:nvPr/>
          </p:nvSpPr>
          <p:spPr>
            <a:xfrm>
              <a:off x="4419720" y="25290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95320" y="2209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2362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3429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41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8792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920" y="2863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114800" y="4038480"/>
          <a:ext cx="469728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7680"/>
                <a:gridCol w="20732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2" name=""/>
          <p:cNvGrpSpPr/>
          <p:nvPr/>
        </p:nvGrpSpPr>
        <p:grpSpPr>
          <a:xfrm>
            <a:off x="609480" y="2800440"/>
            <a:ext cx="3124440" cy="1865880"/>
            <a:chOff x="609480" y="2800440"/>
            <a:chExt cx="3124440" cy="1865880"/>
          </a:xfrm>
        </p:grpSpPr>
        <p:sp>
          <p:nvSpPr>
            <p:cNvPr id="303" name=""/>
            <p:cNvSpPr/>
            <p:nvPr/>
          </p:nvSpPr>
          <p:spPr>
            <a:xfrm>
              <a:off x="1371600" y="29718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29000" y="3505320"/>
              <a:ext cx="304920" cy="3045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38280" y="2971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71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76520" y="31240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3276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3880" y="3276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765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743200" y="37335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3200" y="31240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46440" y="2800440"/>
              <a:ext cx="2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63640" y="43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60640" y="34909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96800" y="34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27520" y="303372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73600" y="396252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9320" y="2819520"/>
              <a:ext cx="1752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313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800" y="2819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419720" y="2181240"/>
            <a:ext cx="761760" cy="368280"/>
            <a:chOff x="4419720" y="2181240"/>
            <a:chExt cx="761760" cy="368280"/>
          </a:xfrm>
        </p:grpSpPr>
        <p:sp>
          <p:nvSpPr>
            <p:cNvPr id="324" name=""/>
            <p:cNvSpPr/>
            <p:nvPr/>
          </p:nvSpPr>
          <p:spPr>
            <a:xfrm>
              <a:off x="4419720" y="25005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95320" y="218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37160" y="30337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73600" y="3962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864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2362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429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48520" y="34290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41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864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8792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35920" y="2863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633640" y="33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114800" y="4038480"/>
          <a:ext cx="4729320" cy="1916280"/>
        </p:xfrm>
        <a:graphic>
          <a:graphicData uri="http://schemas.openxmlformats.org/drawingml/2006/table">
            <a:tbl>
              <a:tblPr/>
              <a:tblGrid>
                <a:gridCol w="630360"/>
                <a:gridCol w="2047680"/>
                <a:gridCol w="205128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1219320" y="3886200"/>
            <a:ext cx="533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3200400"/>
            <a:ext cx="5335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09480" y="2805120"/>
            <a:ext cx="762120" cy="368280"/>
            <a:chOff x="609480" y="2805120"/>
            <a:chExt cx="762120" cy="368280"/>
          </a:xfrm>
        </p:grpSpPr>
        <p:sp>
          <p:nvSpPr>
            <p:cNvPr id="361" name=""/>
            <p:cNvSpPr/>
            <p:nvPr/>
          </p:nvSpPr>
          <p:spPr>
            <a:xfrm>
              <a:off x="609480" y="3124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5800" y="2805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419720" y="2181240"/>
            <a:ext cx="761760" cy="368280"/>
            <a:chOff x="4419720" y="2181240"/>
            <a:chExt cx="761760" cy="368280"/>
          </a:xfrm>
        </p:grpSpPr>
        <p:sp>
          <p:nvSpPr>
            <p:cNvPr id="364" name=""/>
            <p:cNvSpPr/>
            <p:nvPr/>
          </p:nvSpPr>
          <p:spPr>
            <a:xfrm>
              <a:off x="4419720" y="25005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95320" y="218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37160" y="30337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73600" y="3962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864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2362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15200" y="2362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3429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34290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5308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61440" y="22096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792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920" y="2863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633640" y="33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038480" y="4038480"/>
          <a:ext cx="475776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8040"/>
                <a:gridCol w="213336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362320" y="3962520"/>
            <a:ext cx="45720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3276720"/>
            <a:ext cx="45720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419720" y="2166840"/>
            <a:ext cx="761760" cy="368280"/>
            <a:chOff x="4419720" y="2166840"/>
            <a:chExt cx="761760" cy="368280"/>
          </a:xfrm>
        </p:grpSpPr>
        <p:sp>
          <p:nvSpPr>
            <p:cNvPr id="404" name=""/>
            <p:cNvSpPr/>
            <p:nvPr/>
          </p:nvSpPr>
          <p:spPr>
            <a:xfrm>
              <a:off x="4419720" y="24861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95320" y="2166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3880" y="2819520"/>
            <a:ext cx="762120" cy="368280"/>
            <a:chOff x="623880" y="2819520"/>
            <a:chExt cx="762120" cy="368280"/>
          </a:xfrm>
        </p:grpSpPr>
        <p:sp>
          <p:nvSpPr>
            <p:cNvPr id="407" name=""/>
            <p:cNvSpPr/>
            <p:nvPr/>
          </p:nvSpPr>
          <p:spPr>
            <a:xfrm>
              <a:off x="623880" y="313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0200" y="2819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37160" y="30337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73600" y="3962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2362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362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81480" y="3429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34290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5308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341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553080" y="266652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61440" y="22096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66360" y="286380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8792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35920" y="2863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33640" y="33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114800" y="4038480"/>
          <a:ext cx="468936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7680"/>
                <a:gridCol w="20653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"/>
          <p:cNvSpPr/>
          <p:nvPr/>
        </p:nvSpPr>
        <p:spPr>
          <a:xfrm>
            <a:off x="2286000" y="3886200"/>
            <a:ext cx="6094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419720" y="2181240"/>
            <a:ext cx="761760" cy="368280"/>
            <a:chOff x="4419720" y="2181240"/>
            <a:chExt cx="761760" cy="368280"/>
          </a:xfrm>
        </p:grpSpPr>
        <p:sp>
          <p:nvSpPr>
            <p:cNvPr id="448" name=""/>
            <p:cNvSpPr/>
            <p:nvPr/>
          </p:nvSpPr>
          <p:spPr>
            <a:xfrm>
              <a:off x="4419720" y="25005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320" y="218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09480" y="2800440"/>
            <a:ext cx="762120" cy="368280"/>
            <a:chOff x="609480" y="2800440"/>
            <a:chExt cx="762120" cy="368280"/>
          </a:xfrm>
        </p:grpSpPr>
        <p:sp>
          <p:nvSpPr>
            <p:cNvPr id="451" name=""/>
            <p:cNvSpPr/>
            <p:nvPr/>
          </p:nvSpPr>
          <p:spPr>
            <a:xfrm>
              <a:off x="609480" y="311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5800" y="2800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37160" y="30337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73600" y="3962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114800" y="4038480"/>
          <a:ext cx="475776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7680"/>
                <a:gridCol w="21337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</a:t>
                      </a: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</a:t>
                      </a: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2286000" y="3886200"/>
            <a:ext cx="6094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02880" y="5257800"/>
            <a:ext cx="236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final states since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FA final state is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124080" y="4952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124080" y="5333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5486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09480" y="2800440"/>
            <a:ext cx="762120" cy="368280"/>
            <a:chOff x="609480" y="2800440"/>
            <a:chExt cx="762120" cy="368280"/>
          </a:xfrm>
        </p:grpSpPr>
        <p:sp>
          <p:nvSpPr>
            <p:cNvPr id="481" name=""/>
            <p:cNvSpPr/>
            <p:nvPr/>
          </p:nvSpPr>
          <p:spPr>
            <a:xfrm>
              <a:off x="609480" y="311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5800" y="2800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114800" y="1219320"/>
            <a:ext cx="4724280" cy="2292120"/>
            <a:chOff x="4114800" y="1219320"/>
            <a:chExt cx="4724280" cy="2292120"/>
          </a:xfrm>
        </p:grpSpPr>
        <p:sp>
          <p:nvSpPr>
            <p:cNvPr id="485" name=""/>
            <p:cNvSpPr/>
            <p:nvPr/>
          </p:nvSpPr>
          <p:spPr>
            <a:xfrm>
              <a:off x="5240160" y="1486080"/>
              <a:ext cx="449280" cy="450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,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89440" y="1711440"/>
              <a:ext cx="11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15160" y="1486080"/>
              <a:ext cx="449280" cy="45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89800" y="1486080"/>
              <a:ext cx="449280" cy="45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40160" y="3062160"/>
              <a:ext cx="449280" cy="44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15160" y="3062160"/>
              <a:ext cx="449280" cy="44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64440" y="1711440"/>
              <a:ext cx="11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64080" y="1936800"/>
              <a:ext cx="0" cy="11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89440" y="3286080"/>
              <a:ext cx="11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264440" y="1936440"/>
              <a:ext cx="1236600" cy="12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25080" y="13716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640" y="232884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06880" y="1262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31760" y="22273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75280" y="2901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4114800" y="1219320"/>
              <a:ext cx="1125000" cy="470880"/>
              <a:chOff x="4114800" y="1219320"/>
              <a:chExt cx="1125000" cy="470880"/>
            </a:xfrm>
          </p:grpSpPr>
          <p:sp>
            <p:nvSpPr>
              <p:cNvPr id="501" name=""/>
              <p:cNvSpPr/>
              <p:nvPr/>
            </p:nvSpPr>
            <p:spPr>
              <a:xfrm>
                <a:off x="4114800" y="1690200"/>
                <a:ext cx="11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26040" y="12193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434440" y="1528920"/>
              <a:ext cx="361800" cy="363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0" y="1533600"/>
              <a:ext cx="361800" cy="36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81560" y="3112920"/>
              <a:ext cx="362160" cy="36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3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43400" y="3443400"/>
            <a:ext cx="30456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39600" y="2805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70120" y="43243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06640" y="30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49920" y="3962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1600200" y="32763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91080" y="34099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76520" y="347652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212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7720" y="2779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3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43400" y="3462480"/>
            <a:ext cx="30456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9600" y="2805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70120" y="43243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06640" y="30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49920" y="3962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81680" y="2971800"/>
            <a:ext cx="484200" cy="4842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8640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81480" y="4876920"/>
            <a:ext cx="484200" cy="4842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4120" y="3276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486400" y="32004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77280" y="28051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90760" y="333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57800" y="3473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09292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1600200" y="32763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91080" y="34099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114800"/>
            <a:ext cx="594000" cy="59364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1028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5486400" y="41144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638680" y="4495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"/>
          <p:cNvCxnSpPr>
            <a:stCxn id="564" idx="7"/>
            <a:endCxn id="564" idx="6"/>
          </p:cNvCxnSpPr>
          <p:nvPr/>
        </p:nvCxnSpPr>
        <p:spPr>
          <a:xfrm flipH="1" rot="16200000">
            <a:off x="7226640" y="4263120"/>
            <a:ext cx="210240" cy="87840"/>
          </a:xfrm>
          <a:prstGeom prst="curvedConnector5">
            <a:avLst>
              <a:gd name="adj1" fmla="val -150600"/>
              <a:gd name="adj2" fmla="val 181481"/>
              <a:gd name="adj3" fmla="val -150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6996240" y="35672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29760" y="3871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29560" y="45576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5288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802040" y="4387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439960" y="4311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04080" y="5243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8360" y="4842000"/>
            <a:ext cx="54756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10480" y="4148280"/>
            <a:ext cx="520560" cy="52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29200" y="4191120"/>
            <a:ext cx="27612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96" y="0"/>
                </a:moveTo>
                <a:cubicBezTo>
                  <a:pt x="48" y="84"/>
                  <a:pt x="0" y="168"/>
                  <a:pt x="0" y="240"/>
                </a:cubicBezTo>
                <a:cubicBezTo>
                  <a:pt x="0" y="312"/>
                  <a:pt x="48" y="372"/>
                  <a:pt x="9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433840" y="4162320"/>
            <a:ext cx="27648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96" y="0"/>
                </a:moveTo>
                <a:cubicBezTo>
                  <a:pt x="48" y="84"/>
                  <a:pt x="0" y="168"/>
                  <a:pt x="0" y="240"/>
                </a:cubicBezTo>
                <a:cubicBezTo>
                  <a:pt x="0" y="312"/>
                  <a:pt x="48" y="372"/>
                  <a:pt x="9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7720" y="2779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68760" y="3135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554360" y="2790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476520" y="3490920"/>
            <a:ext cx="24624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ting NFAs to DFAs (subset construction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Each state in the new DFA will correspond to some set of states from the NFA.  The DFA will be in state {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} after input if the NFA could be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se states for the same inp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NFA N with state set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lphabe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start state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final states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transition function 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x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DFA D with state set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lphabe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start sta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closure(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final states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transition function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4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160640" y="34862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2971800"/>
            <a:ext cx="484200" cy="484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9292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04080" y="5243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"/>
          <p:cNvCxnSpPr>
            <a:stCxn id="589" idx="1"/>
            <a:endCxn id="589" idx="2"/>
          </p:cNvCxnSpPr>
          <p:nvPr/>
        </p:nvCxnSpPr>
        <p:spPr>
          <a:xfrm rot="5400000">
            <a:off x="1338840" y="4267080"/>
            <a:ext cx="108720" cy="45000"/>
          </a:xfrm>
          <a:prstGeom prst="curvedConnector5">
            <a:avLst>
              <a:gd name="adj1" fmla="val -252823"/>
              <a:gd name="adj2" fmla="val 306451"/>
              <a:gd name="adj3" fmla="val -252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>
            <a:off x="900360" y="41004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7432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"/>
          <p:cNvCxnSpPr/>
          <p:nvPr/>
        </p:nvCxnSpPr>
        <p:spPr>
          <a:xfrm rot="5400000">
            <a:off x="3579840" y="2908080"/>
            <a:ext cx="2520" cy="216720"/>
          </a:xfrm>
          <a:prstGeom prst="curvedConnector5">
            <a:avLst>
              <a:gd name="adj1" fmla="val -17200000"/>
              <a:gd name="adj2" fmla="val 49916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3261960" y="2652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05480" y="3033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76920" y="3048120"/>
            <a:ext cx="30456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1814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1320" y="3962520"/>
            <a:ext cx="393480" cy="3934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934320" y="3962520"/>
            <a:ext cx="393480" cy="3934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67280" y="5029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722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99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029200" y="3352320"/>
            <a:ext cx="8380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2971800"/>
            <a:ext cx="304920" cy="30492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3962520"/>
            <a:ext cx="30456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15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611" idx="4"/>
            <a:endCxn id="611" idx="6"/>
          </p:cNvCxnSpPr>
          <p:nvPr/>
        </p:nvCxnSpPr>
        <p:spPr>
          <a:xfrm flipH="1" flipV="1" rot="5400000">
            <a:off x="6018480" y="5181120"/>
            <a:ext cx="153360" cy="153000"/>
          </a:xfrm>
          <a:prstGeom prst="curvedConnector5">
            <a:avLst>
              <a:gd name="adj1" fmla="val -149882"/>
              <a:gd name="adj2" fmla="val 125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17" idx="3"/>
            <a:endCxn id="617" idx="5"/>
          </p:cNvCxnSpPr>
          <p:nvPr/>
        </p:nvCxnSpPr>
        <p:spPr>
          <a:xfrm flipH="1" rot="16200000">
            <a:off x="8000280" y="4115160"/>
            <a:ext cx="2160" cy="216720"/>
          </a:xfrm>
          <a:prstGeom prst="curvedConnector5">
            <a:avLst>
              <a:gd name="adj1" fmla="val 17200000"/>
              <a:gd name="adj2" fmla="val 49916"/>
              <a:gd name="adj3" fmla="val 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5319360" y="2881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67080" y="4024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2956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10080" y="379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005880" y="4481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76760" y="379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06256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386760" y="51674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6212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47720" y="2779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86600" y="321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230880" y="2867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62480" y="3000240"/>
            <a:ext cx="24588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467080" y="4221000"/>
            <a:ext cx="24588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05360" y="308124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873920" y="399240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62760" y="3990960"/>
            <a:ext cx="33804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819760" y="3989520"/>
            <a:ext cx="33804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ting DFAs to 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serial links by concate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parallel links by alter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elf-loops by Kleene clo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a node (other than initial or final) for removal.  Replace it with a set of equivalent links whose path expressions correspond to the in and out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steps 1-4 until the graph consists of a single link between the entry and exit no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828800" y="1523880"/>
            <a:ext cx="16765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8108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25780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77120" y="18288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14800" y="2819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57800" y="2819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8600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7672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972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6272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26708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4197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410080" y="2133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0" y="1676520"/>
            <a:ext cx="83808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cubicBezTo>
                  <a:pt x="76" y="48"/>
                  <a:pt x="152" y="0"/>
                  <a:pt x="240" y="0"/>
                </a:cubicBezTo>
                <a:cubicBezTo>
                  <a:pt x="328" y="0"/>
                  <a:pt x="480" y="80"/>
                  <a:pt x="528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209680" y="2133720"/>
            <a:ext cx="914400" cy="152280"/>
          </a:xfrm>
          <a:custGeom>
            <a:avLst/>
            <a:gdLst/>
            <a:ahLst/>
            <a:rect l="l" t="t" r="r" b="b"/>
            <a:pathLst>
              <a:path w="576" h="96">
                <a:moveTo>
                  <a:pt x="0" y="0"/>
                </a:moveTo>
                <a:cubicBezTo>
                  <a:pt x="120" y="48"/>
                  <a:pt x="240" y="96"/>
                  <a:pt x="336" y="96"/>
                </a:cubicBezTo>
                <a:cubicBezTo>
                  <a:pt x="432" y="96"/>
                  <a:pt x="536" y="16"/>
                  <a:pt x="5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419720" y="2654280"/>
            <a:ext cx="914400" cy="241200"/>
          </a:xfrm>
          <a:custGeom>
            <a:avLst/>
            <a:gdLst/>
            <a:ahLst/>
            <a:rect l="l" t="t" r="r" b="b"/>
            <a:pathLst>
              <a:path w="576" h="152">
                <a:moveTo>
                  <a:pt x="576" y="152"/>
                </a:moveTo>
                <a:cubicBezTo>
                  <a:pt x="480" y="84"/>
                  <a:pt x="384" y="16"/>
                  <a:pt x="288" y="8"/>
                </a:cubicBezTo>
                <a:cubicBezTo>
                  <a:pt x="192" y="0"/>
                  <a:pt x="96" y="52"/>
                  <a:pt x="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900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16400" y="1405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43972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516400" y="1981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9240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1828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14600" y="16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57960" y="16621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47760" y="234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95680" y="2271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709880" y="234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10240" y="2728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15636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1337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1240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29400" y="4419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5410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5410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382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71500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197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562720" y="472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016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592720" y="426708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|b|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450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4197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523880" y="457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566880" y="4253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10240" y="42530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100400" y="4938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47960" y="4862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878360" y="5257800"/>
            <a:ext cx="4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|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05120" y="4114800"/>
            <a:ext cx="16761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62520" y="2438280"/>
            <a:ext cx="1676160" cy="9144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91120" y="5105520"/>
            <a:ext cx="1676160" cy="9144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46960" y="3505320"/>
            <a:ext cx="29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 edges become alter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0880" y="1636560"/>
            <a:ext cx="685800" cy="368280"/>
            <a:chOff x="380880" y="1636560"/>
            <a:chExt cx="685800" cy="368280"/>
          </a:xfrm>
        </p:grpSpPr>
        <p:sp>
          <p:nvSpPr>
            <p:cNvPr id="703" name=""/>
            <p:cNvSpPr/>
            <p:nvPr/>
          </p:nvSpPr>
          <p:spPr>
            <a:xfrm>
              <a:off x="380880" y="1967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2320" y="1636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519120" y="4233960"/>
            <a:ext cx="685800" cy="368280"/>
            <a:chOff x="519120" y="4233960"/>
            <a:chExt cx="685800" cy="368280"/>
          </a:xfrm>
        </p:grpSpPr>
        <p:sp>
          <p:nvSpPr>
            <p:cNvPr id="706" name=""/>
            <p:cNvSpPr/>
            <p:nvPr/>
          </p:nvSpPr>
          <p:spPr>
            <a:xfrm>
              <a:off x="519120" y="456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0560" y="4233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6510240" y="185724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657840" y="44481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28600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516400" y="1405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43972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516400" y="1981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94240" y="513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05320" y="484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648320" y="484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867280" y="48402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09880" y="49928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952880" y="4992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44800" y="46735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82920" y="468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508040" y="482616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948480" y="4673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12960" y="49784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641760" y="5130720"/>
            <a:ext cx="1143000" cy="35568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0"/>
                </a:moveTo>
                <a:cubicBezTo>
                  <a:pt x="672" y="80"/>
                  <a:pt x="624" y="160"/>
                  <a:pt x="528" y="192"/>
                </a:cubicBezTo>
                <a:cubicBezTo>
                  <a:pt x="432" y="224"/>
                  <a:pt x="232" y="216"/>
                  <a:pt x="144" y="192"/>
                </a:cubicBezTo>
                <a:cubicBezTo>
                  <a:pt x="56" y="168"/>
                  <a:pt x="28" y="10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781080" y="511668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(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56360" y="2424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2133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124080" y="2133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133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410080" y="2133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133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267080" y="3124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410080" y="3124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38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429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1500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1972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562720" y="243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0164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92720" y="198108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|b|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94504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19320" y="21337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5238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566880" y="1967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710240" y="19670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100400" y="2652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547960" y="25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8360" y="2971800"/>
            <a:ext cx="4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|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23880" y="1828800"/>
            <a:ext cx="28195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038480" y="2438280"/>
            <a:ext cx="1828800" cy="12956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828800" y="4495680"/>
            <a:ext cx="16765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4876920"/>
            <a:ext cx="1447560" cy="8380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340960" y="396252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edges become 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509760" y="1927080"/>
            <a:ext cx="685800" cy="368280"/>
            <a:chOff x="509760" y="1927080"/>
            <a:chExt cx="685800" cy="368280"/>
          </a:xfrm>
        </p:grpSpPr>
        <p:sp>
          <p:nvSpPr>
            <p:cNvPr id="759" name=""/>
            <p:cNvSpPr/>
            <p:nvPr/>
          </p:nvSpPr>
          <p:spPr>
            <a:xfrm>
              <a:off x="509760" y="2257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1200" y="1927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804960" y="4633920"/>
            <a:ext cx="685800" cy="368280"/>
            <a:chOff x="804960" y="4633920"/>
            <a:chExt cx="685800" cy="368280"/>
          </a:xfrm>
        </p:grpSpPr>
        <p:sp>
          <p:nvSpPr>
            <p:cNvPr id="762" name=""/>
            <p:cNvSpPr/>
            <p:nvPr/>
          </p:nvSpPr>
          <p:spPr>
            <a:xfrm>
              <a:off x="804960" y="4964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6400" y="4633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662880" y="2166840"/>
            <a:ext cx="24588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897520" y="4873680"/>
            <a:ext cx="24624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867280" y="2362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978360" y="207180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21360" y="207180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340320" y="207180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82920" y="22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425920" y="22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517840" y="19051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5960" y="1919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981080" y="20574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421520" y="19051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2209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362320"/>
            <a:ext cx="1143000" cy="35532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0"/>
                </a:moveTo>
                <a:cubicBezTo>
                  <a:pt x="672" y="80"/>
                  <a:pt x="624" y="160"/>
                  <a:pt x="528" y="192"/>
                </a:cubicBezTo>
                <a:cubicBezTo>
                  <a:pt x="432" y="224"/>
                  <a:pt x="232" y="216"/>
                  <a:pt x="144" y="192"/>
                </a:cubicBezTo>
                <a:cubicBezTo>
                  <a:pt x="56" y="168"/>
                  <a:pt x="28" y="10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254120" y="234792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(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927760" y="4083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379260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81480" y="379260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00800" y="379260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343400" y="3944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486400" y="3944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78320" y="36259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16440" y="3639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41560" y="37782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81640" y="3625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346480" y="3930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950000" y="4083120"/>
            <a:ext cx="67284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328" y="0"/>
                </a:moveTo>
                <a:cubicBezTo>
                  <a:pt x="376" y="100"/>
                  <a:pt x="424" y="200"/>
                  <a:pt x="376" y="240"/>
                </a:cubicBezTo>
                <a:cubicBezTo>
                  <a:pt x="328" y="280"/>
                  <a:pt x="80" y="280"/>
                  <a:pt x="40" y="240"/>
                </a:cubicBezTo>
                <a:cubicBezTo>
                  <a:pt x="0" y="200"/>
                  <a:pt x="68" y="100"/>
                  <a:pt x="1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63600" y="444492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b|c)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733920" y="1752480"/>
            <a:ext cx="1981080" cy="10670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48320" y="3886200"/>
            <a:ext cx="1295280" cy="9144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399640" y="295740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d paths that can be “shorten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271520" y="1865160"/>
            <a:ext cx="685800" cy="368280"/>
            <a:chOff x="1271520" y="1865160"/>
            <a:chExt cx="685800" cy="368280"/>
          </a:xfrm>
        </p:grpSpPr>
        <p:sp>
          <p:nvSpPr>
            <p:cNvPr id="797" name=""/>
            <p:cNvSpPr/>
            <p:nvPr/>
          </p:nvSpPr>
          <p:spPr>
            <a:xfrm>
              <a:off x="1271520" y="2195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72960" y="1865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343160" y="3610080"/>
            <a:ext cx="685800" cy="368280"/>
            <a:chOff x="1343160" y="3610080"/>
            <a:chExt cx="685800" cy="368280"/>
          </a:xfrm>
        </p:grpSpPr>
        <p:sp>
          <p:nvSpPr>
            <p:cNvPr id="800" name=""/>
            <p:cNvSpPr/>
            <p:nvPr/>
          </p:nvSpPr>
          <p:spPr>
            <a:xfrm>
              <a:off x="1343160" y="3940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44600" y="3610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369120" y="2104920"/>
            <a:ext cx="24588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29240" y="382104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248520" y="243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359240" y="214776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2240" y="214776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721560" y="214776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664160" y="23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07160" y="23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98720" y="198108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037200" y="1995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362320" y="21337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02400" y="1981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66880" y="2286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270400" y="243828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328" y="0"/>
                </a:moveTo>
                <a:cubicBezTo>
                  <a:pt x="376" y="100"/>
                  <a:pt x="424" y="200"/>
                  <a:pt x="376" y="240"/>
                </a:cubicBezTo>
                <a:cubicBezTo>
                  <a:pt x="328" y="280"/>
                  <a:pt x="80" y="280"/>
                  <a:pt x="40" y="240"/>
                </a:cubicBezTo>
                <a:cubicBezTo>
                  <a:pt x="0" y="200"/>
                  <a:pt x="68" y="100"/>
                  <a:pt x="1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213160" y="281448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b|c)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59240" y="38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02240" y="38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721560" y="38242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664160" y="39765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807160" y="3976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98720" y="365760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642280" y="358128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(b|c)da)*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62320" y="38098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802400" y="36576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666880" y="3962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324480" y="5867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721560" y="534816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737160" y="518148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108760" y="518148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(b|c)da)*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362320" y="53341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802400" y="51814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666880" y="54864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029200" y="1981080"/>
            <a:ext cx="1295280" cy="12193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638680" y="3505320"/>
            <a:ext cx="129564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3505320"/>
            <a:ext cx="4876560" cy="990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4952880"/>
            <a:ext cx="3962520" cy="990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67760" y="280512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iminate self-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34600" y="455760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edges become 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676520" y="1952640"/>
            <a:ext cx="685800" cy="368280"/>
            <a:chOff x="1676520" y="1952640"/>
            <a:chExt cx="685800" cy="368280"/>
          </a:xfrm>
        </p:grpSpPr>
        <p:sp>
          <p:nvSpPr>
            <p:cNvPr id="842" name=""/>
            <p:cNvSpPr/>
            <p:nvPr/>
          </p:nvSpPr>
          <p:spPr>
            <a:xfrm>
              <a:off x="1676520" y="2283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77960" y="19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676520" y="3629160"/>
            <a:ext cx="685800" cy="368280"/>
            <a:chOff x="1676520" y="3629160"/>
            <a:chExt cx="685800" cy="368280"/>
          </a:xfrm>
        </p:grpSpPr>
        <p:sp>
          <p:nvSpPr>
            <p:cNvPr id="845" name=""/>
            <p:cNvSpPr/>
            <p:nvPr/>
          </p:nvSpPr>
          <p:spPr>
            <a:xfrm>
              <a:off x="1676520" y="3959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77960" y="3629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676520" y="5162400"/>
            <a:ext cx="685800" cy="368280"/>
            <a:chOff x="1676520" y="5162400"/>
            <a:chExt cx="685800" cy="368280"/>
          </a:xfrm>
        </p:grpSpPr>
        <p:sp>
          <p:nvSpPr>
            <p:cNvPr id="848" name=""/>
            <p:cNvSpPr/>
            <p:nvPr/>
          </p:nvSpPr>
          <p:spPr>
            <a:xfrm>
              <a:off x="1676520" y="549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677960" y="516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750000" y="2181240"/>
            <a:ext cx="24624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753240" y="3854520"/>
            <a:ext cx="24588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756480" y="5381640"/>
            <a:ext cx="24588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hip among RE, NFA, DF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strings recognized by an NFA can be described by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strings described by a Regular Expression can be recognized by an N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strings recognized by an DFA can be described by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strings described by a Regular Expression can be recognized by an D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s, NFAs, and Regular Expressions all have the same “power”. They describe “Regular Sets” (“Regular Language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FA may have a lot more states than the NF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rminology:</a:t>
            </a:r>
            <a:r>
              <a:rPr b="1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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clos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T) = T + all NFA states reachable from any state in T using on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600200" y="327636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9600" y="2805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70120" y="43243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4160" y="35622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6640" y="30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9440" y="39481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3526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{1,2,5}) = {1,2,5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{4}) = {1,4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{3}) = {1,3,4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{3,5}) = {1,3,4,5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llustrating Conversion – A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876920"/>
            <a:ext cx="7543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we calculate: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closure(0)    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(i.e., state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closure(0) = {0, 1, 2, 4, 7}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ll states reachable from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n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mo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Let A={0, 1, 2, 4, 7} be a state of new DFA,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920" y="866520"/>
            <a:ext cx="8534160" cy="3846240"/>
            <a:chOff x="304920" y="866520"/>
            <a:chExt cx="8534160" cy="3846240"/>
          </a:xfrm>
        </p:grpSpPr>
        <p:grpSp>
          <p:nvGrpSpPr>
            <p:cNvPr id="107" name=""/>
            <p:cNvGrpSpPr/>
            <p:nvPr/>
          </p:nvGrpSpPr>
          <p:grpSpPr>
            <a:xfrm>
              <a:off x="8153280" y="3581280"/>
              <a:ext cx="609480" cy="609480"/>
              <a:chOff x="8153280" y="3581280"/>
              <a:chExt cx="609480" cy="609480"/>
            </a:xfrm>
          </p:grpSpPr>
          <p:sp>
            <p:nvSpPr>
              <p:cNvPr id="108" name=""/>
              <p:cNvSpPr/>
              <p:nvPr/>
            </p:nvSpPr>
            <p:spPr>
              <a:xfrm>
                <a:off x="8153280" y="35812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229240" y="365760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429000" y="3505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18288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77320" y="2666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60984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3505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080" y="2666880"/>
              <a:ext cx="60984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8320" y="18288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43000" y="2666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24480" y="2666880"/>
              <a:ext cx="60984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2666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19520" y="3200400"/>
              <a:ext cx="685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38098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181480" y="3200400"/>
              <a:ext cx="3049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29718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9718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819520" y="2362320"/>
              <a:ext cx="53316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62520" y="21337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22860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29718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4320" y="29718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8720" y="29718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1880" y="3276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"/>
            <p:cNvCxnSpPr>
              <a:stCxn id="117" idx="4"/>
              <a:endCxn id="118" idx="4"/>
            </p:cNvCxnSpPr>
            <p:nvPr/>
          </p:nvCxnSpPr>
          <p:spPr>
            <a:xfrm flipH="1" rot="16200000">
              <a:off x="4037040" y="686520"/>
              <a:ext cx="2160" cy="5182200"/>
            </a:xfrm>
            <a:prstGeom prst="curvedConnector5">
              <a:avLst>
                <a:gd name="adj1" fmla="val 79780000"/>
                <a:gd name="adj2" fmla="val 50000"/>
                <a:gd name="adj3" fmla="val 79780000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33" name=""/>
            <p:cNvCxnSpPr>
              <a:stCxn id="115" idx="0"/>
              <a:endCxn id="119" idx="0"/>
            </p:cNvCxnSpPr>
            <p:nvPr/>
          </p:nvCxnSpPr>
          <p:spPr>
            <a:xfrm rot="5400000">
              <a:off x="4151520" y="1104840"/>
              <a:ext cx="2520" cy="3124800"/>
            </a:xfrm>
            <a:prstGeom prst="curvedConnector5">
              <a:avLst>
                <a:gd name="adj1" fmla="val -83300000"/>
                <a:gd name="adj2" fmla="val 49994"/>
                <a:gd name="adj3" fmla="val -83300000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34" name=""/>
            <p:cNvSpPr/>
            <p:nvPr/>
          </p:nvSpPr>
          <p:spPr>
            <a:xfrm>
              <a:off x="1295280" y="2819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8280" y="2819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05320" y="19810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00600" y="19810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12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72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7712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152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960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29600" y="3733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666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2286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9520" y="335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86200" y="4267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1295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81480" y="2209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81480" y="335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259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0" y="259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84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14800" y="3505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72400" y="259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818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920" y="26668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 with NFA:                                         </a:t>
            </a:r>
            <a:r>
              <a:rPr b="1" lang="en-US" sz="2400" spc="-1" strike="noStrike">
                <a:solidFill>
                  <a:srgbClr val="ff6699"/>
                </a:solidFill>
                <a:latin typeface="Times New Roman"/>
              </a:rPr>
              <a:t>(a | b)*a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73280" y="32004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sion Example – continued (1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343400"/>
            <a:ext cx="763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1,2,4,7},b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s {5}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( since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mov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4,b)=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this we have :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({5}) = {1,2,4,5,6,7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since 5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,  6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,  and 1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  all by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-mo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C={1,2,4,5,6,7} be a new state.  Define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A,b] =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1905120"/>
            <a:ext cx="7315200" cy="21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343400"/>
            <a:ext cx="731520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143000"/>
            <a:ext cx="76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we calculate :  a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a))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b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1,2,4,7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s {3,8}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( since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mov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2,a)=3 an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mov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7,a)=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this we have :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({3,8}) = {1,2,3,4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since 3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,  6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,  and 1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  all by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-mo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B={1,2,3,4,6,7,8} be a new state.  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A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sion Example – continued (2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114300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we calculate for state B on {a,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3,4,6,7,8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B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3,4,6,7,8},b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4,5,6,7,9} =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B,b] =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1143000"/>
            <a:ext cx="762012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1940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we calculate for state C on {a,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C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},b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4,5,6,7}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C,b] =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962520"/>
            <a:ext cx="7620120" cy="259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sion Example – continued (3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14300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we calculate for state D on {a,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,9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D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,9},b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4,5,6,7,10} =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D,b] =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143000"/>
            <a:ext cx="762012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01004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ly, we calculate for state E on {a,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,10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E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,10},b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4,5,6,7}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E,b] =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962520"/>
            <a:ext cx="7620120" cy="259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sion Example – continued (4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05120" y="1752480"/>
            <a:ext cx="5257800" cy="2456280"/>
            <a:chOff x="1905120" y="1752480"/>
            <a:chExt cx="5257800" cy="2456280"/>
          </a:xfrm>
        </p:grpSpPr>
        <p:sp>
          <p:nvSpPr>
            <p:cNvPr id="178" name=""/>
            <p:cNvSpPr/>
            <p:nvPr/>
          </p:nvSpPr>
          <p:spPr>
            <a:xfrm>
              <a:off x="1905120" y="4190760"/>
              <a:ext cx="52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9000" y="1828440"/>
              <a:ext cx="0" cy="236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81840" y="2285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5120" y="2514240"/>
              <a:ext cx="52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20570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Dst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5320" y="175248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put Symb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2520" y="2133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640" y="2133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5120" y="259056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                        B                         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5120" y="289548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                         B                         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320004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                         B                         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5120" y="380988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                         B                         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350496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                         B                         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23880" y="4419720"/>
            <a:ext cx="5867280" cy="2314080"/>
            <a:chOff x="1523880" y="4419720"/>
            <a:chExt cx="5867280" cy="2314080"/>
          </a:xfrm>
        </p:grpSpPr>
        <p:grpSp>
          <p:nvGrpSpPr>
            <p:cNvPr id="192" name=""/>
            <p:cNvGrpSpPr/>
            <p:nvPr/>
          </p:nvGrpSpPr>
          <p:grpSpPr>
            <a:xfrm>
              <a:off x="2285640" y="5638680"/>
              <a:ext cx="685800" cy="685800"/>
              <a:chOff x="2285640" y="5638680"/>
              <a:chExt cx="685800" cy="685800"/>
            </a:xfrm>
          </p:grpSpPr>
          <p:sp>
            <p:nvSpPr>
              <p:cNvPr id="193" name=""/>
              <p:cNvSpPr/>
              <p:nvPr/>
            </p:nvSpPr>
            <p:spPr>
              <a:xfrm>
                <a:off x="2285640" y="56386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61960" y="5715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495680" y="4800600"/>
              <a:ext cx="685800" cy="685800"/>
              <a:chOff x="4495680" y="4800600"/>
              <a:chExt cx="685800" cy="685800"/>
            </a:xfrm>
          </p:grpSpPr>
          <p:sp>
            <p:nvSpPr>
              <p:cNvPr id="196" name=""/>
              <p:cNvSpPr/>
              <p:nvPr/>
            </p:nvSpPr>
            <p:spPr>
              <a:xfrm>
                <a:off x="4495680" y="480060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72000" y="4876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657240" y="5638680"/>
              <a:ext cx="685800" cy="685800"/>
              <a:chOff x="3657240" y="5638680"/>
              <a:chExt cx="685800" cy="685800"/>
            </a:xfrm>
          </p:grpSpPr>
          <p:sp>
            <p:nvSpPr>
              <p:cNvPr id="199" name=""/>
              <p:cNvSpPr/>
              <p:nvPr/>
            </p:nvSpPr>
            <p:spPr>
              <a:xfrm>
                <a:off x="3657240" y="56386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33560" y="5715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257440" y="5638680"/>
              <a:ext cx="685800" cy="685800"/>
              <a:chOff x="5257440" y="5638680"/>
              <a:chExt cx="685800" cy="685800"/>
            </a:xfrm>
          </p:grpSpPr>
          <p:sp>
            <p:nvSpPr>
              <p:cNvPr id="202" name=""/>
              <p:cNvSpPr/>
              <p:nvPr/>
            </p:nvSpPr>
            <p:spPr>
              <a:xfrm>
                <a:off x="5257440" y="56386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33760" y="5715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705360" y="5638680"/>
              <a:ext cx="685800" cy="685800"/>
              <a:chOff x="6705360" y="5638680"/>
              <a:chExt cx="685800" cy="6858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6705360" y="5638680"/>
                <a:ext cx="685800" cy="685800"/>
                <a:chOff x="6705360" y="5638680"/>
                <a:chExt cx="685800" cy="685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705360" y="5638680"/>
                  <a:ext cx="685800" cy="685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781680" y="5715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6781680" y="571464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9" name=""/>
            <p:cNvCxnSpPr>
              <a:stCxn id="193" idx="6"/>
              <a:endCxn id="199" idx="2"/>
            </p:cNvCxnSpPr>
            <p:nvPr/>
          </p:nvCxnSpPr>
          <p:spPr>
            <a:xfrm>
              <a:off x="2971080" y="5981400"/>
              <a:ext cx="68652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0" name=""/>
            <p:cNvCxnSpPr>
              <a:stCxn id="196" idx="4"/>
              <a:endCxn id="199" idx="7"/>
            </p:cNvCxnSpPr>
            <p:nvPr/>
          </p:nvCxnSpPr>
          <p:spPr>
            <a:xfrm rot="5400000">
              <a:off x="4413960" y="5314680"/>
              <a:ext cx="253080" cy="595800"/>
            </a:xfrm>
            <a:prstGeom prst="curvedConnector5">
              <a:avLst>
                <a:gd name="adj1" fmla="val 30056"/>
                <a:gd name="adj2" fmla="val 50000"/>
                <a:gd name="adj3" fmla="val 30056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1" name=""/>
            <p:cNvCxnSpPr>
              <a:stCxn id="206" idx="1"/>
              <a:endCxn id="196" idx="6"/>
            </p:cNvCxnSpPr>
            <p:nvPr/>
          </p:nvCxnSpPr>
          <p:spPr>
            <a:xfrm flipV="1" rot="16200000">
              <a:off x="5695200" y="4628520"/>
              <a:ext cx="595800" cy="16246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2" name=""/>
            <p:cNvCxnSpPr>
              <a:stCxn id="206" idx="3"/>
              <a:endCxn id="199" idx="5"/>
            </p:cNvCxnSpPr>
            <p:nvPr/>
          </p:nvCxnSpPr>
          <p:spPr>
            <a:xfrm rot="5400000">
              <a:off x="5522760" y="4944240"/>
              <a:ext cx="2160" cy="25628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3" name=""/>
            <p:cNvCxnSpPr>
              <a:stCxn id="199" idx="4"/>
              <a:endCxn id="199" idx="3"/>
            </p:cNvCxnSpPr>
            <p:nvPr/>
          </p:nvCxnSpPr>
          <p:spPr>
            <a:xfrm flipV="1" rot="16200000">
              <a:off x="3828240" y="6152400"/>
              <a:ext cx="100440" cy="243720"/>
            </a:xfrm>
            <a:prstGeom prst="curvedConnector5">
              <a:avLst>
                <a:gd name="adj1" fmla="val -409352"/>
                <a:gd name="adj2" fmla="val 50000"/>
                <a:gd name="adj3" fmla="val -409352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4" name=""/>
            <p:cNvCxnSpPr>
              <a:stCxn id="202" idx="3"/>
              <a:endCxn id="199" idx="6"/>
            </p:cNvCxnSpPr>
            <p:nvPr/>
          </p:nvCxnSpPr>
          <p:spPr>
            <a:xfrm flipV="1" rot="16200000">
              <a:off x="4728240" y="5595120"/>
              <a:ext cx="243720" cy="1015200"/>
            </a:xfrm>
            <a:prstGeom prst="curvedConnector5">
              <a:avLst>
                <a:gd name="adj1" fmla="val -48224"/>
                <a:gd name="adj2" fmla="val 27456"/>
                <a:gd name="adj3" fmla="val -48224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5" name=""/>
            <p:cNvCxnSpPr>
              <a:stCxn id="193" idx="0"/>
              <a:endCxn id="196" idx="2"/>
            </p:cNvCxnSpPr>
            <p:nvPr/>
          </p:nvCxnSpPr>
          <p:spPr>
            <a:xfrm flipH="1" flipV="1" rot="5400000">
              <a:off x="3314520" y="4457160"/>
              <a:ext cx="495720" cy="18676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6" name=""/>
            <p:cNvCxnSpPr>
              <a:stCxn id="202" idx="6"/>
              <a:endCxn id="206" idx="2"/>
            </p:cNvCxnSpPr>
            <p:nvPr/>
          </p:nvCxnSpPr>
          <p:spPr>
            <a:xfrm>
              <a:off x="5942880" y="5981400"/>
              <a:ext cx="76284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7" name=""/>
            <p:cNvCxnSpPr>
              <a:stCxn id="199" idx="6"/>
              <a:endCxn id="202" idx="2"/>
            </p:cNvCxnSpPr>
            <p:nvPr/>
          </p:nvCxnSpPr>
          <p:spPr>
            <a:xfrm>
              <a:off x="4343040" y="5981400"/>
              <a:ext cx="91512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18" name=""/>
            <p:cNvSpPr/>
            <p:nvPr/>
          </p:nvSpPr>
          <p:spPr>
            <a:xfrm>
              <a:off x="1676160" y="60199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196" idx="0"/>
              <a:endCxn id="196" idx="1"/>
            </p:cNvCxnSpPr>
            <p:nvPr/>
          </p:nvCxnSpPr>
          <p:spPr>
            <a:xfrm rot="5400000">
              <a:off x="4665960" y="4728960"/>
              <a:ext cx="100800" cy="243720"/>
            </a:xfrm>
            <a:prstGeom prst="curvedConnector5">
              <a:avLst>
                <a:gd name="adj1" fmla="val -228315"/>
                <a:gd name="adj2" fmla="val 50000"/>
                <a:gd name="adj3" fmla="val -228315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20" name=""/>
            <p:cNvSpPr/>
            <p:nvPr/>
          </p:nvSpPr>
          <p:spPr>
            <a:xfrm>
              <a:off x="1523880" y="5715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588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4796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1956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7960" y="4419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776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8640" y="6248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240" y="6019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776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19560" y="6172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43000" y="114300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gives the transition tabl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Dtr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DFA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lgorithm For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 all states in T onto st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T) to 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ck is not empty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 t, the top element, off the st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  state u with edge from t to u labele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is not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T)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u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T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 u onto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06440" y="13716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omput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-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23:33:51Z</dcterms:created>
  <dc:creator>Lafifa Jamal</dc:creator>
  <dc:description/>
  <dc:language>en-US</dc:language>
  <cp:lastModifiedBy>index support dep</cp:lastModifiedBy>
  <dcterms:modified xsi:type="dcterms:W3CDTF">2010-08-17T02:54:35Z</dcterms:modified>
  <cp:revision>306</cp:revision>
  <dc:subject>Compiler Desigh</dc:subject>
  <dc:title>Chapter 03</dc:title>
</cp:coreProperties>
</file>