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5070-595C-4669-93CB-98583EBB2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E03D8-6701-44AE-9C20-D39B2B0A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BDF5B-D26E-487A-90C6-6FA37E15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FB65-0257-4BA3-912E-0992DCC5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8520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516B-25A6-4728-BC2B-3D5624ED2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130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8D8A-564F-46F7-B310-F9F213CFF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9144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5428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79144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5428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EEB7-640E-41B6-8808-5E179349C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75801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5801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580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75801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6231-81AF-4C07-B22E-B9BBF6471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130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98520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130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9144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54280" y="144756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9144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54280" y="3985200"/>
            <a:ext cx="2440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5801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E3E6-DD22-4598-8D71-423DDDB56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56EA-4CFF-4466-B32D-0BDE1F1DF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6353-66FE-43AC-AEEC-B11D53C6B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580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DEBF-DE4E-40C7-8A57-FB1FF653C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DE0C-D091-40E0-B25D-52D57C2C6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13000" y="398520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BA11-478E-4C80-818F-4A3A2CB62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13000" y="1447560"/>
            <a:ext cx="369900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85200"/>
            <a:ext cx="75801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9EBF-FD76-4B0C-B07D-D8746058F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580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75801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250960" y="6587640"/>
            <a:ext cx="33498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67520" y="644040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B7E3D-1667-4B7D-AB5B-5FA682A10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9145440" cy="657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700280"/>
            <a:ext cx="837900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0520" y="2766960"/>
            <a:ext cx="418788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MS PGothic"/>
              </a:rPr>
              <a:t>05/0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9F27E-3EEC-4F69-AA68-827CADCE68A4}" type="slidenum">
              <a:rPr b="0" lang="en-US" sz="2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700280"/>
            <a:ext cx="72867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shop sobre Ciclos de Vida de Proje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292720" y="3284640"/>
            <a:ext cx="34704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quip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Ful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Beltr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icr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758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ANÁLISE SW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1197000"/>
            <a:ext cx="2808360" cy="2663640"/>
          </a:xfrm>
          <a:prstGeom prst="rect">
            <a:avLst/>
          </a:prstGeom>
          <a:solidFill>
            <a:srgbClr val="66ff3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OS F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om ag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1197000"/>
            <a:ext cx="2808360" cy="2663640"/>
          </a:xfrm>
          <a:prstGeom prst="rect">
            <a:avLst/>
          </a:prstGeom>
          <a:solidFill>
            <a:srgbClr val="99663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OS FRA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Ruim ag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3933720"/>
            <a:ext cx="2808360" cy="2664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EAÇ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hreat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Ruim no fut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3933720"/>
            <a:ext cx="2808360" cy="2664000"/>
          </a:xfrm>
          <a:prstGeom prst="rect">
            <a:avLst/>
          </a:prstGeom>
          <a:solidFill>
            <a:srgbClr val="0000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PORTUNIDADE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Bom no fut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2720" y="766800"/>
            <a:ext cx="2806560" cy="36036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J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765000"/>
            <a:ext cx="2806560" cy="36036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RAPAL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720" y="1195560"/>
            <a:ext cx="360360" cy="266364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3933720"/>
            <a:ext cx="360360" cy="2664000"/>
          </a:xfrm>
          <a:prstGeom prst="rect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76B5-64B2-4FD5-ACD5-BC62D20258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ário de Proje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58340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 indent="-1112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Verdana"/>
              </a:rPr>
              <a:t>Fornecedor</a:t>
            </a:r>
            <a:r>
              <a:rPr b="0" lang="pt-BR" sz="2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ábrica de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dada em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calizada em Campi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certificações ISO9001:2000 e CMMI Nível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roximadamente 70 colabor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alizada em Java/JavaEE/O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stores realizam relacionamento comer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ixa utilização de ferram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1240" indent="-1112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ltinacional americ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calizada em São Pau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edor de soluções em Telecomunic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profissionais P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0911-0C86-41F9-BF69-FBC6690200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ário de Proje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907920"/>
            <a:ext cx="7583400" cy="595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 indent="-1112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Verdana"/>
              </a:rPr>
              <a:t>Software</a:t>
            </a:r>
            <a:endParaRPr b="0" lang="en-US" sz="2000" spc="-1" strike="noStrike">
              <a:solidFill>
                <a:srgbClr val="0066ff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o de negócio: Call Center de Serviços de Telefo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nálise de requisitos deve ser no ambiente do cliente, implementação deve ser na Fáb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vem-se utilizar os frameworks disponibilizados pelo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gração do software deve ser realizado no ambiente do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cnologias utilizadas: Java/JSP (Frontend) integrando com Mainframe (Ser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ados do sistema atual devem ser convertidos e migr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gócio requer alto desempenho e confiabi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istema deverá ser multi-línguas (internacionalizaçã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cesso de desenvolvimento deverá seguir templates do cliente, quando existir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rgência do negócio exige implantar em 8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ão disponibilizadas 2 posições (baias) no ambiente do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ocação prevista de 10 profissionais, Full-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396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1240"/>
                <a:tab algn="l" pos="223920"/>
                <a:tab algn="l" pos="681120"/>
                <a:tab algn="l" pos="1138320"/>
                <a:tab algn="l" pos="1595520"/>
                <a:tab algn="l" pos="2052720"/>
                <a:tab algn="l" pos="2509920"/>
                <a:tab algn="l" pos="2967120"/>
                <a:tab algn="l" pos="3424320"/>
                <a:tab algn="l" pos="3881520"/>
                <a:tab algn="l" pos="4338720"/>
                <a:tab algn="l" pos="4795920"/>
                <a:tab algn="l" pos="5253120"/>
                <a:tab algn="l" pos="5710320"/>
                <a:tab algn="l" pos="6167520"/>
                <a:tab algn="l" pos="6624720"/>
                <a:tab algn="l" pos="7081920"/>
                <a:tab algn="l" pos="7539120"/>
                <a:tab algn="l" pos="7996320"/>
                <a:tab algn="l" pos="8453520"/>
                <a:tab algn="l" pos="8910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cebimentos de parcelas de faturamento do projeto ao fim de cada f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3D21-F99E-4A8D-8D5E-92E5E1B4C07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8:28:12Z</dcterms:created>
  <dc:creator>Ali</dc:creator>
  <dc:description/>
  <dc:language>en-US</dc:language>
  <cp:lastModifiedBy>Alan Braz</cp:lastModifiedBy>
  <dcterms:modified xsi:type="dcterms:W3CDTF">2010-04-24T10:52:27Z</dcterms:modified>
  <cp:revision>188</cp:revision>
  <dc:subject/>
  <dc:title>Slide sem título</dc:title>
</cp:coreProperties>
</file>