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756-8C81-4721-B9ED-5EC29EEC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64B-C0E3-4FF4-8028-596676F2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4C8-BF82-4CA0-9A25-D2C6D845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0EE-ED08-480D-B76C-396479C3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F4E4-A8C1-4422-9A04-ECF89DAE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F35E-3D05-4A46-A9E3-24EBCD75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2484-2238-4F70-A17C-B18B2A0D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028C-8E87-406E-813D-1B09FC59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C33D-8B44-4310-8821-0C4A57E0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CBA-E985-402C-A738-0C410C3C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925C-A024-40F5-A55E-6A0794B2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CB1-3D89-4535-B797-CAF72304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DDD2-7658-4F78-9264-0A8D2C8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AA5E-33DA-4C04-AA6E-AEBBA132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3F26-2FDB-48AF-A30D-E5308934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69CD-FB85-4988-939E-30BAE4C8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AB35-05E5-4177-956C-70ADEFCF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B9C-E28C-4C00-8EE0-1A0485DD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207-28C5-4A25-9B1F-A72A7B85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728-F9F4-4B8D-B2FF-C7827813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618-4E4D-443B-8CFF-2262D2CB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B3F-B2CC-48C4-972C-7CC547A0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DFE-6DAD-46AC-9EB0-159D9E0B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D9C-E9B4-49EB-878B-9F7A757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DDC7-2BA1-4244-8260-B650CB6FB34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87B8-C315-4901-948D-1365A4333641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191592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ABOUT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MONE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086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HIS CHINESE PROVERB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BRINGS LUCK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T ORIGINATED FROM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HE NETHERLAND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HIS PROVERB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HAS GONE AROUND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HE WORLD 8 TIMES.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NOW IT IS YOUR TURN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O HAVE GOOD LUCK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ONCE YOU HAVE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RECEIVED IT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HIS IS NOT A JOKE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YOUR LUCK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ILL ARRIVE BY MAIL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OR VIA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HE INTERNET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SEND A COPY TO THE PEOPLE WHO </a:t>
            </a:r>
            <a:r>
              <a:rPr b="1" lang="es-MX" sz="4000" spc="-1" strike="noStrike" u="sng">
                <a:solidFill>
                  <a:srgbClr val="996600"/>
                </a:solidFill>
                <a:uFillTx/>
                <a:latin typeface="Times New Roman"/>
              </a:rPr>
              <a:t>REALLY</a:t>
            </a: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 NEED LUCK. DO NOT SEND MONEY, BECAUSE YOU CANNOT BUY LUCK, AND DO NOT KEEP IT FOR MORE THAN 4 DAYS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ONE MAN, GOT HIS FIRST COPY OF THE PROVERB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N 1953 AND ASKED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HIS SECRETARY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O MAKE HIM 20 COPIES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NINE HOURS LATER HE WON $99 MILLION IN THE LOTTERY IN HIS COUNTRY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AN EMPLOYEE OF HIS RECEIVED THE SAME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CARD, BUT DID NOT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FORWARD IT.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A FEW DAYS LATER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HE LOST HIS JOB.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AFTER THAT, HE CHANGED HIS MIND, SENT IT, AND BECAME RICH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996600"/>
                </a:solidFill>
                <a:latin typeface="Times New Roman"/>
              </a:rPr>
              <a:t>IN 1967, ANOTHER MAN</a:t>
            </a:r>
            <a:br>
              <a:rPr sz="3600"/>
            </a:br>
            <a:r>
              <a:rPr b="0" lang="es-MX" sz="3600" spc="-1" strike="noStrike">
                <a:solidFill>
                  <a:srgbClr val="996600"/>
                </a:solidFill>
                <a:latin typeface="Times New Roman"/>
              </a:rPr>
              <a:t>GOT THE PROVERB;</a:t>
            </a:r>
            <a:br>
              <a:rPr sz="3600"/>
            </a:br>
            <a:r>
              <a:rPr b="0" lang="es-MX" sz="3600" spc="-1" strike="noStrike">
                <a:solidFill>
                  <a:srgbClr val="996600"/>
                </a:solidFill>
                <a:latin typeface="Times New Roman"/>
              </a:rPr>
              <a:t>HE LAUGHED ABOUT IT</a:t>
            </a:r>
            <a:br>
              <a:rPr sz="3600"/>
            </a:br>
            <a:r>
              <a:rPr b="0" lang="es-MX" sz="3600" spc="-1" strike="noStrike">
                <a:solidFill>
                  <a:srgbClr val="996600"/>
                </a:solidFill>
                <a:latin typeface="Times New Roman"/>
              </a:rPr>
              <a:t>AND DISCARDED IT.</a:t>
            </a:r>
            <a:br>
              <a:rPr sz="3600"/>
            </a:br>
            <a:r>
              <a:rPr b="0" lang="es-MX" sz="3600" spc="-1" strike="noStrike">
                <a:solidFill>
                  <a:srgbClr val="996600"/>
                </a:solidFill>
                <a:latin typeface="Times New Roman"/>
              </a:rPr>
              <a:t>A FEW DAYS LATER</a:t>
            </a:r>
            <a:br>
              <a:rPr sz="3600"/>
            </a:br>
            <a:r>
              <a:rPr b="0" lang="es-MX" sz="3600" spc="-1" strike="noStrike">
                <a:solidFill>
                  <a:srgbClr val="996600"/>
                </a:solidFill>
                <a:latin typeface="Times New Roman"/>
              </a:rPr>
              <a:t>HIS SON GOT SICK.</a:t>
            </a:r>
            <a:br>
              <a:rPr sz="3600"/>
            </a:br>
            <a:r>
              <a:rPr b="0" lang="es-MX" sz="3600" spc="-1" strike="noStrike">
                <a:solidFill>
                  <a:srgbClr val="996600"/>
                </a:solidFill>
                <a:latin typeface="Times New Roman"/>
              </a:rPr>
              <a:t>THE MAN LOOKED FOR THE NOTE, MADE 20 COPIES, AND SENT THEM. NINE DAYS LATER, HE GOT GOOD NEWS: HIS SON WAS SAFE AND SOUND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HIS CARD HAS BEEN SENT BY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ANTHONY DE CROUD,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A MISSIONARY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N SOUTH AFRIC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EFORE 96 HOURS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ASS YOU BY, 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YOU SHOULD FORWARD THIS MESSAGE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O 20 OTHER PEOPL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YOUR LUCK WILL COME WITHIN 4 DAYS FROM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HE MOMENT YOU RECEIVED THE MESSAGE.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1523880"/>
            <a:ext cx="739116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ITH MONEY YOU CAN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Y A HOUSE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T NOT A HOM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HAT DO YOU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HAVE TO LOSE?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HIS CARD HAS JUST BEEN SENT TO YOU FOR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GOOD LUCK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NOW LUCK IS FINALLY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AT YOUR DOOR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4678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SEND 20 COPIES TO ACQUAINTANCES, FRIENDS, AND FAMILY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ONE DAY LATER YOU WILL GET GOOD NEWS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OR A NICE SURPRIS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77336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 SENT THIS CARD EXPECTING IT TO GO AROUND THE WORLD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1412640"/>
            <a:ext cx="716292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SEND ONLY 20 COPIES</a:t>
            </a:r>
            <a:br>
              <a:rPr sz="4000"/>
            </a:b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AND EXPECT</a:t>
            </a:r>
            <a:br>
              <a:rPr sz="4000"/>
            </a:b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GOOD TIDINGS</a:t>
            </a:r>
            <a:br>
              <a:rPr sz="4000"/>
            </a:b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TO ARRIVE</a:t>
            </a:r>
            <a:br>
              <a:rPr sz="4000"/>
            </a:b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IN THE NEXT FEW DAYS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IMPORTANT:</a:t>
            </a:r>
            <a:br>
              <a:rPr sz="4000"/>
            </a:b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DO NOT MODIFY THE TEXT THAT I SENT YOU. </a:t>
            </a: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FORWARD IT EXACTLY</a:t>
            </a: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THE WAY YOU GOT IT.</a:t>
            </a:r>
            <a:br>
              <a:rPr sz="3600"/>
            </a:br>
            <a:br>
              <a:rPr sz="4000"/>
            </a:br>
            <a:r>
              <a:rPr b="0" lang="es-MX" sz="7200" spc="-1" strike="noStrike">
                <a:solidFill>
                  <a:srgbClr val="996600"/>
                </a:solidFill>
                <a:latin typeface="Times New Roman"/>
              </a:rPr>
              <a:t>GOOD LUCK!</a:t>
            </a:r>
            <a:br>
              <a:rPr sz="7200"/>
            </a:br>
            <a:br>
              <a:rPr sz="4800"/>
            </a:br>
            <a:endParaRPr b="0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1125360"/>
            <a:ext cx="36734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15238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ITH MONEY YOU CAN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Y A CLOCK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T NOT TIM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1483920"/>
            <a:ext cx="7315200" cy="33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ITH MONEY YOU CAN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BUY A BED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T NOT SLEEP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ITH MONEY YOU CAN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Y A BOOK, BUT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NOT KNOWLEDG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1640" y="14839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ITH MONEY YOU CAN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SEE A DOCTOR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T NOT GOOD HEALTH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4678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ITH MONEY YOU CAN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Y A POSITION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T NOT RESPECT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1413000"/>
            <a:ext cx="7445520" cy="39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ITH MONEY YOU CAN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Y BLOOD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T NOT LIF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74678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WITH MONEY YOU CAN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BUY SEX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BUT NOT LOV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18:54Z</dcterms:created>
  <dc:creator> </dc:creator>
  <dc:description> </dc:description>
  <cp:keywords/>
  <dc:language>en-US</dc:language>
  <cp:lastModifiedBy> </cp:lastModifiedBy>
  <dcterms:modified xsi:type="dcterms:W3CDTF">2007-12-19T19:41:09Z</dcterms:modified>
  <cp:revision>15</cp:revision>
  <dc:subject> </dc:subject>
  <dc:title> </dc:title>
</cp:coreProperties>
</file>