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576-D928-4117-847B-EDC6E03E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74E-2624-485C-8971-7A110432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AFB-7F10-427D-AF8B-90197589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F81-AAF9-4E0F-A0F2-BBE2EAA2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F32-752E-4A48-BE1F-1C64924E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7F2-39A6-470C-A595-B3C0B9F0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4D1-DA01-440F-8A97-91248E29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E87-8019-4D03-86F7-9595F036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5C7-9BD0-4C46-A327-EFC53F00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E2B-77B9-430A-ADC7-EBCF75D5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2F0-31AE-45B5-8162-2FB4773F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A2D-D21C-426E-889A-EFB44A1B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99F2-CC0F-4265-9A4E-D981F5BAB5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se the mouse to get your frustration out by clicking on the arrow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hange armes by clicking on the h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ShockwaveFlash1"/>
          <p:cNvGraphicFramePr/>
          <p:nvPr/>
        </p:nvGraphicFramePr>
        <p:xfrm>
          <a:off x="1143000" y="990720"/>
          <a:ext cx="6858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6858000" cy="571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7:01:04Z</dcterms:created>
  <dc:creator>Desert Jockey</dc:creator>
  <dc:description/>
  <dc:language>en-US</dc:language>
  <cp:lastModifiedBy>user</cp:lastModifiedBy>
  <dcterms:modified xsi:type="dcterms:W3CDTF">2007-01-30T08:53:44Z</dcterms:modified>
  <cp:revision>14</cp:revision>
  <dc:subject/>
  <dc:title>Punish Him</dc:title>
</cp:coreProperties>
</file>