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E42-351C-4948-BD41-BECD15CA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7A7-2FC7-451C-83FF-35AA80A9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37A-FD80-4994-84FF-48845737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B94-17D5-4BC0-A4BB-EB2BA023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EB6-FD71-4E54-9750-0D4552BD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B7F-6DE6-4CFB-A165-C9AB0381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7FF-831C-43E3-8C4B-3536E2B7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78E-9846-4B46-A85A-B3B524C3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F97-D263-4DBB-A869-4CAD38CE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49C-DD5D-47E4-A81E-D496A893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839-2913-43C0-BDB9-B1998A2C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CB5-A303-45C1-9398-D5A7E2D9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B000-8D55-4F98-9B59-540BB3AFCA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se the mouse to get your frustration out by clicking on the arrow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hange armes by clicking on the h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ShockwaveFlash1"/>
          <p:cNvGraphicFramePr/>
          <p:nvPr/>
        </p:nvGraphicFramePr>
        <p:xfrm>
          <a:off x="1143000" y="990720"/>
          <a:ext cx="6858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685800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7:01:04Z</dcterms:created>
  <dc:creator>Desert Jockey</dc:creator>
  <dc:description/>
  <dc:language>en-US</dc:language>
  <cp:lastModifiedBy>user</cp:lastModifiedBy>
  <dcterms:modified xsi:type="dcterms:W3CDTF">2007-01-30T08:53:44Z</dcterms:modified>
  <cp:revision>14</cp:revision>
  <dc:subject/>
  <dc:title>Punish Him</dc:title>
</cp:coreProperties>
</file>