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488-1504-40EB-A503-56A24D0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7A7-45C1-446D-AD72-BF6E70D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59A-C4F2-40B2-AA32-1648E074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530-ABAF-4A86-AF86-D0CE7A6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29C-6AF3-4402-B138-DC3CA24E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770F-77A0-42C4-B7D3-0B67293D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5A7-574F-4805-B80B-1BBEB5E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0041-7886-413D-9138-DC906A2E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0423-E8C1-41C0-A1FA-7C7C158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42720" y="401400"/>
            <a:ext cx="6172200" cy="76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217A-D5A8-463F-BC57-B3B1F9C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FE70-9F49-46D0-A2EB-159810D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E98-9B06-459F-88A1-F88C5938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FC7-AAB6-4B63-BA0B-8B5DD4F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6636-3E32-4ADB-B9B2-24A6EAD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7EDF-1360-4400-AAE5-E5C600B0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7A4-F2BE-43A7-95B8-4AAAAEBA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4272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42964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516560" y="5729400"/>
            <a:ext cx="1987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FB3-228A-4E2F-A569-0DCB1B73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92C-ADC4-4615-AA1E-B886351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AB2-8002-4DBB-9C69-AA11DFDD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881-E08C-4403-9C0F-E27C231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2720" y="401400"/>
            <a:ext cx="6172200" cy="76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2F8-09F5-42A7-8AB8-9B69517A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691-2306-4BCD-8617-755D1E5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5320" y="572940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57B-B19D-404A-8695-72863AB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729400"/>
            <a:ext cx="617220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4E5-701D-49AB-818F-623A45F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6861240" cy="9896040"/>
            <a:chOff x="1440" y="0"/>
            <a:chExt cx="6861240" cy="9896040"/>
          </a:xfrm>
        </p:grpSpPr>
        <p:sp>
          <p:nvSpPr>
            <p:cNvPr id="1" name=""/>
            <p:cNvSpPr/>
            <p:nvPr/>
          </p:nvSpPr>
          <p:spPr>
            <a:xfrm>
              <a:off x="6006600" y="6021000"/>
              <a:ext cx="856080" cy="38746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12680" y="8699040"/>
              <a:ext cx="450000" cy="11966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2600" y="9662760"/>
              <a:ext cx="100080" cy="233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343080" y="0"/>
              <a:ext cx="6069240" cy="9895680"/>
              <a:chOff x="343080" y="0"/>
              <a:chExt cx="6069240" cy="9895680"/>
            </a:xfrm>
          </p:grpSpPr>
          <p:sp>
            <p:nvSpPr>
              <p:cNvPr id="5" name=""/>
              <p:cNvSpPr/>
              <p:nvPr/>
            </p:nvSpPr>
            <p:spPr>
              <a:xfrm>
                <a:off x="3320640" y="0"/>
                <a:ext cx="85320" cy="98956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77760" y="0"/>
                <a:ext cx="207000" cy="98956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997800" y="0"/>
                <a:ext cx="401040" cy="98956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376520" y="0"/>
                <a:ext cx="508320" cy="98956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698000" y="0"/>
                <a:ext cx="663840" cy="98956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055120" y="0"/>
                <a:ext cx="821160" cy="98956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83800" y="0"/>
                <a:ext cx="1028520" cy="98956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56240" y="0"/>
                <a:ext cx="178200" cy="98956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41800" y="0"/>
                <a:ext cx="357120" cy="98956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864440" y="0"/>
                <a:ext cx="505800" cy="98956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342800" y="0"/>
                <a:ext cx="684360" cy="98956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5920" y="0"/>
                <a:ext cx="877320" cy="98956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3080" y="0"/>
                <a:ext cx="999720" cy="98956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7200" y="6652080"/>
              <a:ext cx="721440" cy="32439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200" y="8919360"/>
              <a:ext cx="271440" cy="9763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86200" y="0"/>
              <a:ext cx="1171440" cy="409500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01560" y="0"/>
              <a:ext cx="856080" cy="19371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372000" y="0"/>
              <a:ext cx="485640" cy="9493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200" y="0"/>
              <a:ext cx="1021320" cy="32302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200" y="0"/>
              <a:ext cx="699840" cy="137304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200" y="0"/>
              <a:ext cx="321480" cy="57744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6302880"/>
              <a:ext cx="6855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5401800"/>
              <a:ext cx="6855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720396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898920"/>
              <a:ext cx="6855120" cy="3601440"/>
              <a:chOff x="1440" y="898920"/>
              <a:chExt cx="6855120" cy="360144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79712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450036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359928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269820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89892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900648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810540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145-3277-4787-84E8-D56AD1D1B2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6861240" cy="9896040"/>
            <a:chOff x="0" y="0"/>
            <a:chExt cx="6861240" cy="9896040"/>
          </a:xfrm>
        </p:grpSpPr>
        <p:sp>
          <p:nvSpPr>
            <p:cNvPr id="79" name=""/>
            <p:cNvSpPr/>
            <p:nvPr/>
          </p:nvSpPr>
          <p:spPr>
            <a:xfrm>
              <a:off x="6005160" y="6021000"/>
              <a:ext cx="856080" cy="38746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11240" y="8699040"/>
              <a:ext cx="450000" cy="11966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61160" y="9662760"/>
              <a:ext cx="100080" cy="233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41640" y="0"/>
              <a:ext cx="6069240" cy="9895680"/>
              <a:chOff x="341640" y="0"/>
              <a:chExt cx="6069240" cy="9895680"/>
            </a:xfrm>
          </p:grpSpPr>
          <p:sp>
            <p:nvSpPr>
              <p:cNvPr id="83" name=""/>
              <p:cNvSpPr/>
              <p:nvPr/>
            </p:nvSpPr>
            <p:spPr>
              <a:xfrm>
                <a:off x="3319200" y="0"/>
                <a:ext cx="85320" cy="98956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676320" y="0"/>
                <a:ext cx="207000" cy="98956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96360" y="0"/>
                <a:ext cx="401040" cy="98956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75080" y="0"/>
                <a:ext cx="508320" cy="98956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96560" y="0"/>
                <a:ext cx="663840" cy="98956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53680" y="0"/>
                <a:ext cx="821160" cy="98956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82360" y="0"/>
                <a:ext cx="1028520" cy="98956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54800" y="0"/>
                <a:ext cx="178200" cy="98956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40360" y="0"/>
                <a:ext cx="357120" cy="98956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63000" y="0"/>
                <a:ext cx="505800" cy="98956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41360" y="0"/>
                <a:ext cx="684360" cy="98956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4480" y="0"/>
                <a:ext cx="877320" cy="98956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1640" y="0"/>
                <a:ext cx="999720" cy="98956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5760" y="6652080"/>
              <a:ext cx="721440" cy="32439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0" y="8919360"/>
              <a:ext cx="271440" cy="9763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4760" y="0"/>
              <a:ext cx="1171440" cy="409500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0120" y="0"/>
              <a:ext cx="856080" cy="19371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0560" y="0"/>
              <a:ext cx="485640" cy="9493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0" y="0"/>
              <a:ext cx="1021320" cy="32302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0" y="0"/>
              <a:ext cx="699840" cy="137304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0" y="0"/>
              <a:ext cx="321480" cy="57744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302880"/>
              <a:ext cx="6855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401800"/>
              <a:ext cx="6855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720396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898920"/>
              <a:ext cx="6855120" cy="3601440"/>
              <a:chOff x="0" y="898920"/>
              <a:chExt cx="6855120" cy="360144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79712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450036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59928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69820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898920"/>
                <a:ext cx="6855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900648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8105400"/>
              <a:ext cx="6855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444400"/>
            <a:ext cx="582912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257-5995-4112-966A-BBB0CFBC1F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2444400"/>
            <a:ext cx="582912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429" t="0" r="657" b="0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dobe Garamond Pro Bold"/>
              </a:rPr>
              <a:t>JUDUL &amp; JADWAL </a:t>
            </a:r>
            <a:br>
              <a:rPr sz="3100"/>
            </a:br>
            <a:r>
              <a:rPr b="0" lang="en-US" sz="3100" spc="-1" strike="noStrike">
                <a:solidFill>
                  <a:srgbClr val="ffffcc"/>
                </a:solidFill>
                <a:latin typeface="Adobe Garamond Pro Bold"/>
              </a:rPr>
              <a:t>PELATIHAN SEKRETARIS </a:t>
            </a:r>
            <a:br>
              <a:rPr sz="3100"/>
            </a:br>
            <a:r>
              <a:rPr b="0" lang="en-US" sz="3100" spc="-1" strike="noStrike">
                <a:solidFill>
                  <a:srgbClr val="ffffcc"/>
                </a:solidFill>
                <a:latin typeface="Adobe Garamond Pro Bold"/>
              </a:rPr>
              <a:t>Bulan Juni 2010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000" y="2585520"/>
            <a:ext cx="6172200" cy="65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66"/>
                </a:solidFill>
                <a:latin typeface="Arial Rounded MT Bold"/>
              </a:rPr>
              <a:t>TO BE SMART SECRETAR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66"/>
                </a:solidFill>
                <a:latin typeface="Arial Rounded MT Bold"/>
              </a:rPr>
              <a:t>      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Rabu, 23 Juni 2010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Estubizi Bussiness Cente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Kuningan, Jakarta Selata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66"/>
                </a:solidFill>
                <a:latin typeface="Arial Rounded MT Bold"/>
              </a:rPr>
              <a:t>PERSONALITY DEVELOPMENT FOR SECRETAR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66"/>
                </a:solidFill>
                <a:latin typeface="Arial Rounded MT Bold"/>
              </a:rPr>
              <a:t>      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Kamis - Jumat, 24 - 25 Juni 2010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Aston Rasuna Hote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Kuningan, Jakarta Selata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66"/>
                </a:solidFill>
                <a:latin typeface="Arial Rounded MT Bold"/>
              </a:rPr>
              <a:t>HR FOR SECRETAR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66"/>
                </a:solidFill>
                <a:latin typeface="Arial Rounded MT Bold"/>
              </a:rPr>
              <a:t>      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Rabu, 30 Juni 2010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Estubizi Bussiness Cente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Kuningan, Jakarta Selata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66"/>
                </a:solidFill>
                <a:latin typeface="Arial Rounded MT Bold"/>
              </a:rPr>
              <a:t>TIPS &amp; TRICKS TO EXECUTION SECRETARY JOBS IN SMART WA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66"/>
                </a:solidFill>
                <a:latin typeface="Arial Rounded MT Bold"/>
              </a:rPr>
              <a:t>      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Rabu, 30 Juni 2010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Estubizi Bussiness Cente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1" lang="en-US" sz="1500" spc="-1" strike="noStrike">
                <a:solidFill>
                  <a:srgbClr val="66ccff"/>
                </a:solidFill>
                <a:latin typeface="Arial Rounded MT Bold"/>
              </a:rPr>
              <a:t>Kuningan, Jakarta Selata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76280" y="2073240"/>
            <a:ext cx="58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4014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800" y="642600"/>
            <a:ext cx="6172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Informasi selengkapnya 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hubungi: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2440" y="2649240"/>
            <a:ext cx="6172200" cy="65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Verdana"/>
              </a:rPr>
              <a:t>Sekretaris Pro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Jl. Bangka 1 No. 1A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ampang – Jakarta Selata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Phone: [021] 7191175, 7190833,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7145979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Fax.   : [021] 7190833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Email : sekretarispro@yahoo.co.i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*) untuk info HR for Secretary menyusul!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1:36:19Z</dcterms:created>
  <dc:creator>Kayumaniez</dc:creator>
  <dc:description/>
  <dc:language>en-US</dc:language>
  <cp:lastModifiedBy>Kayumaniez</cp:lastModifiedBy>
  <dcterms:modified xsi:type="dcterms:W3CDTF">2010-05-24T07:08:05Z</dcterms:modified>
  <cp:revision>4</cp:revision>
  <dc:subject/>
  <dc:title>Slide 1</dc:title>
</cp:coreProperties>
</file>