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0"/>
            <a:ext cx="3368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398840" y="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0" y="9555120"/>
            <a:ext cx="3368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B3EB6-6AD6-4DA2-99E3-65546BCCE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F2213-EF34-4BB1-B2E9-E4F97FB64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F0057-A8DC-4EA8-BCAD-B886F5803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E0A88-3D62-4A8E-8281-93FB62421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35BCD-658F-45C3-8E92-0EEEF70EC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DC4E5-5D45-4520-8BD3-B446CDD1D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C1167-D0A9-41E8-86F2-70ED4BBA0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5764B-1F60-4478-A421-E4C00E51A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D8CF8-849B-421D-9B10-8973C4706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72C0B-20FA-440D-A36D-83143F10A2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46110-8903-4AB8-A5CF-559E3162D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A1E4B-850F-4E4A-ADB4-5E3C02BDE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747A5-3D89-4D66-AF9C-ACF84D587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F6367-72FB-450F-81B4-D50DBBE24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418B4-4CBD-45C4-AC20-E3993C5A3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8894A-9699-4C87-B18D-0E54D00F1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AD822-F930-4B81-BFAF-A9146F590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C691F-757E-47EB-98C3-F7347EE15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97991-2A96-4963-9749-5A806FCB7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2ED56-4A17-43FA-BE06-AB80C59BE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3F545-10AE-45F3-8851-19C73D17A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E634C-782A-417F-AB7A-69BFA7FB1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EAEAD-55EF-4509-BC85-3FC40FD9A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2388F-5380-4BCA-9E16-A5F5481A7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24672-F656-42E0-B764-FFE0D80FA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B0933-003E-435B-BBB8-8B21A1196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BFB20-44A7-4921-96B5-1D823B2E2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06BCA-DE85-42DE-9974-E6A9D717B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13C30-3C26-4EF6-809D-6BC335921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B40DF-22BB-4AA9-BACA-30D0A5CC1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3B8C7-0FE7-4031-973E-BA22E279B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9"/>
          <p:cNvSpPr/>
          <p:nvPr/>
        </p:nvSpPr>
        <p:spPr>
          <a:xfrm>
            <a:off x="439884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703A1-1693-47A8-A491-A8EDE7531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4A2BA-84BF-44C4-8CFC-B7113A404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roid Sans Fallback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0C47-D1EF-40CA-8E3D-F9AD2B05B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98BB-7BF3-4661-B552-AD3CCFC9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31B0-1CC6-4441-9946-4BD8453F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4E96-785C-425F-B199-859222787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E59FF-28AA-4AEF-A5B5-E76A6C2E4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401A1-8A62-42A9-98EF-F14E4243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B1E73-0891-49F7-AE51-CFBE5014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90163-31CA-489E-892D-48FD7755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A99E3-0EED-47EF-AA56-5F3C87B3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08FB8-6DC5-43AE-9804-1E2F6BA4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43B7B-0A19-450B-844B-DE4EE5FE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9412-1B61-459F-96FA-5B56FB3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0D48D-5A82-43D5-8332-625F2792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82488-3404-4744-9866-C2AE07FB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8EDAC-EB89-4DE8-8410-391235E1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08D05-6257-48A0-95DC-E4C982A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25BF9-ED75-44E3-AECE-1E36B54F7F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402F-10F7-4522-805F-DEA0E0383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9DAB-A017-4F27-98C2-BDBC1691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7523-CB9B-409D-9A9E-B16DAFF7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7B06-EEF1-4CE8-B334-873B6AB1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9737-3E60-4858-A36B-F201A48D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D2F6-EC2E-48AB-825C-34AA0AB7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5CBE-7392-433F-BB82-F9F72985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13D0-D7F8-43E7-9809-EBDE5A55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8E25-BDD2-485E-BA82-82F2362C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FECB-DA00-41D0-8A29-74779731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9D6E-194A-4102-9132-A02F3A13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7067-0C05-4EB3-8BED-661A894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51DE-A4ED-4145-922C-E55E943019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112C7-1053-428D-A065-E1BAC25B7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EB38A-07AC-4E8D-B3FA-379D3E2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D89F0-A390-4C54-97E9-4C9937A6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1E86-FABC-4BC8-B953-D0D24718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E682A-F6F3-4DC5-BD85-12F020E8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6A4D5-51E6-43E6-B9C6-530DA08A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C079F-C554-4C96-86BF-DEEC7EA0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AD8E1-9A5F-4EDF-87E1-89334763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198A0-E938-42E7-AF4D-FA7886EC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B2324-7F5A-43C1-8443-644FCE70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66257-9B9B-433E-B3BD-23D448A1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27580-FE72-4C39-8DA1-C3CE21B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F6E99-6A66-4B9A-904E-BAACDD909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5C2C-DDD5-405E-AE92-F5767D75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A02F-276F-48C1-B0D7-287E52C2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EE95-2FE0-4B6C-8BBC-D49A183B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9E42-4BC7-4746-B288-258EBD16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357E-2FD7-4194-895C-D69C78F7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21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91ABB-284C-489B-8947-A5AE4C0ABB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5/21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7E1FE-6177-4BC8-933D-64565086403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5/21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2F32E-5508-4CFA-9A36-869C1987BDB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5/21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7DF8D-DB23-4FB6-94E4-9363323EF92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3581280" cy="2068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4343400" y="4952880"/>
            <a:ext cx="4343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finanţat din Fondul Social Europea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 Programul Operaţional Sector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zvoltarea Resurselor Umane 2007 – 2013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DRU/135/5.2/S/13548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Investeşte în oameni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62120" y="2209680"/>
            <a:ext cx="804204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icrocreditarea, componentă fundamental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antreprenoriatului în mediul rural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286000" y="1371600"/>
            <a:ext cx="51465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EZENTAREA PROIECTULULU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685800" y="1542960"/>
            <a:ext cx="7848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066680" y="1600200"/>
            <a:ext cx="75438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I DE ELIGIBILITATE LA PRESELECTIE SI LA SELECTIA PENTRU FORM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domiciliul in mediul rural (420 de persoane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ul de munca in mediul rural (420 de persoane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ii medii (156 - IFC) si  superioare(78 - AR, 78 - AC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predile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ţi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u cel putin toleranta, pentru lucrul cu num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l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 pentru i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ţiativă,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ova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ş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-conformis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685800" y="1542960"/>
            <a:ext cx="7848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066680" y="1600200"/>
            <a:ext cx="75438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ele de select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alizarea unei campanii de informare a 1680 persoane din mediul r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Preselectia a 420 de persoane pe baza criteriilor de eligibili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Consilierea celor 420 de perso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lectia a 312 persoane dintre cele 420 astfel: aprox 110 persoane in cautarea unui loc de munca, aprox 62 someri, 140 manageri si angajati. Dintre aceste persoane, cel putin 160 vor fi feme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457200" y="1371600"/>
            <a:ext cx="822960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GATIREA FORMARI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tre cele 3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lectate pentru formar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ar 90 -100  vor proveni din cele 30 de microregiu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ntru care se vor fi efectuat misiuni de explorare in cele 6 Regiuni de dezvolt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elalte aproximativ 200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soane vor proven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 alte aproximativ 60 + de microregiu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upa selectie, tot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torii cursanti AC, AR si IFC vor primi spre completare, inainte de venirea la cursuri, cate un Chestionar de estimare a potentialului de microcreditare in microregi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grila de evaluare – pentru promovarea la cursurile de CA - a Proiectului de cu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tele astfel culese vor constitui baza pe care se va intocmi Proiectul de curs  AC, AR si IFC necesar certificar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143000" y="1371600"/>
            <a:ext cx="723888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ZULTATE LA FINALUL PROIECTULU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75 de absolventi ai cursului de CA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 deveni capabili sa isi creeze propriile locuri de munca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intreprinderi specializate nou infiintate si urmand a fi subcontrac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 Organizatii Cooperatiste de Credit (OCC) sau Institutii Financiare Nebancare (IF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intreprinderile nou cre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vor constitu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cte de informare antreprenorial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promovarea organizarii intreprinderilor in asocieri pe verticala - pe lanturi valorice inchise local - in cluster-ele din mediul ru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237 de participanti specializati in AC, AF si IF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i vor putea gasi 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c de munca fie la OCC, fie la IF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 filiale loc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urs de proliferare - pentru a raspunde necesitatilor de creditare neacoperite de banci in mediul r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685800" y="1542960"/>
            <a:ext cx="7848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143000" y="2057400"/>
            <a:ext cx="754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În timp, proiectul va contribui semnificativ, direct şi indirec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prin efectul de multiplicare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a dezvoltarea oportunităţilor de ocupare în mediul rural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143000" y="1600200"/>
            <a:ext cx="69343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E DE CONTA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473040" y="2166840"/>
          <a:ext cx="8461440" cy="4216320"/>
        </p:xfrm>
        <a:graphic>
          <a:graphicData uri="http://schemas.openxmlformats.org/drawingml/2006/table">
            <a:tbl>
              <a:tblPr/>
              <a:tblGrid>
                <a:gridCol w="500040"/>
                <a:gridCol w="1602000"/>
                <a:gridCol w="1403280"/>
                <a:gridCol w="788760"/>
                <a:gridCol w="2799000"/>
                <a:gridCol w="1368360"/>
              </a:tblGrid>
              <a:tr h="911160"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 c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 Prenu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ie/ Regiu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peri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353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993960"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DOVEANU Carm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onator Formare Profesional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8- 28968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armen_2@hotmail.c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men968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993600"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VICIU Sorin Stef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55- 02358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69- 25049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coviciu@yahoo.c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msibiu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546120"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HIA Elena Vasil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56- 16250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naberghia@yahoo.c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na berg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771480"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ONA Lev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556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1,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41- 18974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ona_levente2009@yahoo.com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tekatona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3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066680" y="1828800"/>
            <a:ext cx="693432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304920" y="6006960"/>
            <a:ext cx="8610480" cy="774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1219320" y="1676520"/>
            <a:ext cx="685800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ă mulţumim pentru atentie si contam pe sprijinul si implicarea dvs.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685800" y="1371600"/>
            <a:ext cx="78487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eneri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OCIATIA INSTITUTUL pent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CROINTREPRINDE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GRATE  REGIONAL– AIMIR (P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unile </a:t>
            </a:r>
            <a:r>
              <a:rPr b="1" lang="en-US" sz="1800" spc="-1" strike="noStrike">
                <a:solidFill>
                  <a:srgbClr val="ff950e"/>
                </a:solidFill>
                <a:latin typeface="Arial"/>
              </a:rPr>
              <a:t>1 Nord 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3deb3d"/>
                </a:solidFill>
                <a:latin typeface="Arial"/>
              </a:rPr>
              <a:t>7 Centru</a:t>
            </a:r>
            <a:r>
              <a:rPr b="1" i="1" lang="en-US" sz="1800" spc="-1" strike="noStrike">
                <a:solidFill>
                  <a:srgbClr val="3deb3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EDERATIA NATIONALA a GRUPURIL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 ACTIUNE LOCALA– FNGAL (P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unile </a:t>
            </a:r>
            <a:r>
              <a:rPr b="1" lang="en-US" sz="1800" spc="-1" strike="noStrike">
                <a:solidFill>
                  <a:srgbClr val="0047ff"/>
                </a:solidFill>
                <a:latin typeface="Arial"/>
              </a:rPr>
              <a:t>2 Sud 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 Sud Munt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38080" y="1371600"/>
            <a:ext cx="533412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neficia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OCIATIA DE DEZVOLT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ÎN AFACERI  - ADA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unile</a:t>
            </a:r>
            <a:r>
              <a:rPr b="1" lang="en-US" sz="1800" spc="-1" strike="noStrike">
                <a:solidFill>
                  <a:srgbClr val="c5000b"/>
                </a:solidFill>
                <a:latin typeface="Arial"/>
              </a:rPr>
              <a:t> 5 V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ff6633"/>
                </a:solidFill>
                <a:latin typeface="Arial"/>
              </a:rPr>
              <a:t>6 Nord V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562720" y="1676520"/>
            <a:ext cx="304776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. Comana nr. 19B, sector 1, Bucure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l. 0212226837, fax. 02122268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ail: office@asociatia-ada.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ww.asociatia-ada.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562720" y="3352680"/>
            <a:ext cx="30477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una Bran nr. 72A, jud. Bras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l. 07235293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ail: popaflaviu@gami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5638680" y="4572000"/>
            <a:ext cx="28195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resa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776160" y="1125360"/>
            <a:ext cx="746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Harta cu Regiunile si judetele vizate:</a:t>
            </a:r>
            <a:r>
              <a:rPr b="1" i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1600200"/>
            <a:ext cx="79725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809460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914400" y="1143000"/>
            <a:ext cx="746748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ele care au condus la ideea de proiec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dere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urilor de mun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pe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ru tineri si persoane de peste 45 de a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portunitati de angajare foarte limitate in zonele rurale si in orasele mi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ea putini furnizori locali de bunuri si servicii in mediul rural fata de nevoile locuitori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ipsa creditelor pentru materializarea ideilor de afaceri generatoare de locuri de munca lo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685800" y="1541520"/>
            <a:ext cx="800100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solutie integrata propusa prin proi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a unei structuri antreprenoriale de tip ret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 teritoriul a 6 Regiuni de dezvolt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icarea functiilor de microcreditare si de promov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e componentelor retele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gurarea co-finantarii ideilor antreprenoriale loc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n credite pentru afaceri mici, sustenabile si durabi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685800" y="1542960"/>
            <a:ext cx="784872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Administrator de Risc (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Analist de Credit (A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Intermediar Financiar Comercial (IF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urmate de transmitere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Competenţe Antreprenoriale (CA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08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143000" y="1600200"/>
            <a:ext cx="75438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ga principala a procesului integr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construire a reţele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 in  derularea in doua etape a un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e de formare profesională de tip specializare autoriz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catre Autoritatea Nationala a Calificarilor pe baza unor Standarde Ocupationale in vigoa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685800" y="1600200"/>
            <a:ext cx="800100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iectivul general al proiectulu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zvoltarea unei reţ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ţionale, unitare, integrate, funcţionale şi sustenabi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 microîntreprinderi specializate în microcreditare la nivel de comu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poli antreprenoriali de ocupar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ntru persoane în căutarea unui loc de muncă, şomeri, manageri şi angajaţi din mediul rura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362320" y="5791320"/>
            <a:ext cx="624816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914400" y="1285920"/>
            <a:ext cx="7543800" cy="49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iectivele specific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S 6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alizarea unui sistem interactiv şi integrat de promovare a reţelei de microîntreprinderi specializate în microcreditare în mediul rural la nivel naţion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ul va fi mediul de realizare al acestui sub-sistem deschi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S 5. Angajarea a 57 de fondatori prin înfiinţarea de câte min. 3 persoane a 19 microîntreprinderi specializate în microcreditar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e 19 microintreprinderi vor functiona in 19 microregiuni din cele 6 Regiuni de dezvoltare. O microregiune este constituita din 2-4 comune apropia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ste 19 microregiuni vor fi alese dintr-un numar de 25 in care se vor fi efectuat 25 de vizite de studii de catre 75 de absolventi ai cursurilor de CA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S 4. Instruirea directă şi certificarea în CA a 75 de persoane. Cele 75 de persoane vor fi selectate dintre cele 312 persoane instruite în IFC şi/sau de AC şi AR pe criteriul celor mai bune proiecte de curs elaborate la nivelul fiecărei regiuni. Certificarea în CA a celor 75 de persoane presupune 75 de proiecte de curs pentru mediul ru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sti absolventi vor dobandi si competentele necesare promovarii unor forme de asociere antreprenoriala pe verticala - pa lantul valoric -  sustenabile si mai putin riscan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914400" y="1371600"/>
            <a:ext cx="754380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iectivele specific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S 3. Instruirea directă şi certificarea în competenţe de AR a 78 de persoane. Certificarea în IFC şi/sau de AC şi AR a celor 78 persoane presupune 78 proiecte de curs pentru mediul ru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OS 2. Instruirea directă şi certificarea în competenţe de AC a 78 de persoane.  Certificarea în AC a celor 78 de persoane presupune 78 proiecte de curs pentru mediul ru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OS 1. Instruirea directă şi certificarea în competenţe de IFC a 156 de persoane. Certificarea în IFC a celor 156 de persoane presupune 156 proiecte de curs pentru mediul ru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ntii la formare vor dobandi cunostintele necesare elaborarii rapoartelor de finalizare a activitatilor pentru un client ale celor 3 ocupatii din institutiile financiar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estia vor proveni din cel putin 30 de microregiuni in care se vor fi efectuat misiuni de explorare pentru promovarea proiectului, pentru identificarea unor grupuri-nucleu de participanti si pentru stabilirea unor legaturi de lucru intre aceste grupuri si comunitatea de afaceri loca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2362320" y="5791320"/>
            <a:ext cx="62481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ectul: Microcreditarea, componenta fundamentala a antreprenoriatului in mediul rural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icitant si parteneri: Asociatia de Dezvoltare in Afacerii Bucuresti, Asociatia Institutul pentru Microintreprinderi Integrate Regional, Federatia Nationala a Grupurilor de Actiune Locala din Roman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1295280" y="5715000"/>
            <a:ext cx="990720" cy="571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90010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OR</dc:creator>
  <dc:description/>
  <dc:language>en-US</dc:language>
  <cp:lastModifiedBy>a</cp:lastModifiedBy>
  <dcterms:modified xsi:type="dcterms:W3CDTF">2014-05-26T05:42:16Z</dcterms:modified>
  <cp:revision>4</cp:revision>
  <dc:subject/>
  <dc:title>Prezentare PowerPoint</dc:title>
</cp:coreProperties>
</file>