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0"/>
            <a:ext cx="336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398840" y="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9555120"/>
            <a:ext cx="336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23C47-36DC-4E88-B408-9CC2EF8A7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5EB2F-DF93-4396-9D32-3141536A3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713D3-FE59-403B-A781-4F7BC3DB8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FBF37-F0CB-4B7A-A254-12795951D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9FC62-34DB-4C86-97D4-E80EE096F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ECA77-9102-49C1-98FA-9D868A460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1B03-D726-46A7-9311-F98609CEB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C6CFB-2B08-45E4-8696-C2EB26D34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92C0C-57F9-4D27-BB68-800EBF355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74A0A-34B5-4FE1-A77E-7179F06BC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3BB8-1F9D-4A91-AFC4-240BE92FF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1CC3A-2004-46F3-8691-007A458CF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22E0D-0655-4F72-9B5E-2E661E7D9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623DC-59AD-4068-9E40-9FDCBD4F5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C9F0B-218F-4EA1-8983-3F70FECE7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7F88B-E846-4941-8D44-E38F6D1DE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5A98A-E542-46E1-B841-E51631182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5865A-B5B9-4607-A8AA-FD83C3063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65665-CF8F-4F76-9F0A-DCB8A8EED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FF72E-3F51-4611-9B04-69DEA7CA5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15DD-1613-4623-B831-C8EA8CF48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AAA2E-6FFD-41C9-9DC0-6B071565B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26395-39B4-4572-B05D-A0EF9E65A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5A5A-0272-4BCF-867D-12C04C690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A558C-030C-4428-BD36-CADB54665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FE94-2B35-43C2-92FF-5ADB93E1F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00AA2-16B5-437F-B0EC-7F9570DBD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A3563-B116-42E6-B8AC-90855337C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3969B-7BE2-41C6-99B1-616995E3A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CD69-4CAA-4799-BE49-53B987F35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09A68-0F0E-41C3-A433-FC7668F02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23F7-C8A6-4C34-B602-5A1B461B3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21C51-294B-4E26-874F-DF7FDA2E3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6B6B-91E8-4CDA-B04F-EC1C89A96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8DD8-8F09-4428-A855-00391D13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58AC-599F-404E-9CD4-92B5A01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71FE-7665-4620-B810-B7B7BFAEE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62483-25F7-4454-830F-8508CB067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BA53-FB46-4C24-A511-6389453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9160-07CC-498E-96FB-F6AE9B0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01E2-25B8-4AA1-B36A-4BC3ACF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2ECD9-20DB-4E7F-BC81-1E60837D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510F-C68D-49A8-9549-9E78B27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BB262-719E-4DFD-8D67-83363E0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2348-173D-4B42-8A18-95823B0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2ADCE-CF27-41ED-BA7D-1E0C295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02F1-5CDF-4485-AACC-920FFB2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8921E-2077-441E-8594-BD1CDDE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1EFF-5F4E-4007-B630-66286C6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04BCE-2988-44E8-8872-C09643630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049-FF8E-4090-8295-FCAC7A8CD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294F-FC07-4117-AD84-D2943EF4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9720-F18E-48BA-915C-FA931B7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58C4-5DF5-4307-B78B-B9F1A44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6B5-0296-4339-A550-8CA9B4EE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A562-BC18-4057-BC58-1D07D7A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CF2A-360B-410A-9475-28034DFC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5978-D211-42B8-A45A-D9C80F07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3BBC-AA6F-4F47-BE96-887D17A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956-561C-4928-AC17-5A972B5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40D7-A9FC-45E6-9CB3-400B918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1FE6-7F5A-403D-A6B5-89CF0E6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40F3-72DC-45B7-8FE7-4E42B9713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4CFCB-F93F-4383-BD5E-D5C1BB68A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BA27C-67D5-4160-AE8A-F2EBE67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12823-038E-497A-8F35-5CCC61B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6D51-384C-48CB-800D-AC710DA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05677-924D-4C9E-A2AB-8744A98C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92670-458D-4E91-BBDA-5E73F000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8B154-FB1A-43C8-BEF2-F3E91291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80DFD-9E3E-4D4A-81A1-2A234383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8D5CE-AC54-4885-83FB-048F481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DAEBA-4C73-42EF-931E-6B90B62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F17D2-031C-47A0-8907-785702E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B887D-41F1-4D53-AE7A-7321309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DE475-4177-4109-814F-449CEA332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22B4-F8C1-436A-8EFC-C9AB8DF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0F61-20D0-4BAC-A10D-F5DD32EA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8206-4FAF-41D7-9A09-98A4305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55D5-B0C2-40C0-A9D1-4B3441E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B9F4-F2AE-4D78-B84A-F0E7458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1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F8953-C5A7-4725-B757-B51B80F911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D3C3D-098B-4035-BE10-254C143B7E2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76122-B3FD-4473-B096-A2870808C70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19F1-B635-46A7-ABCA-3CC40D8B495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3581280" cy="2068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4343400" y="4952880"/>
            <a:ext cx="4343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finanţat din Fondul Social Europea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 Programul Operaţional Sector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zvoltarea Resurselor Umane 2007 – 2013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DRU/135/5.2/S/13548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Investeşte în oameni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2120" y="2209680"/>
            <a:ext cx="804204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creditarea, componentă fundamental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antreprenoriatului în mediul rura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86000" y="1371600"/>
            <a:ext cx="51465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ZENTAREA PROIECTULULU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066680" y="1600200"/>
            <a:ext cx="7543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I DE ELIGIBILITATE LA PRESELECTIE SI LA SELECTIA PENTRU FORM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domiciliul in mediul rural (420 de persoane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ul de munca in mediul rural (420 de persoane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ii medii (156 - IFC) si  superioare(78 - AR, 78 - AC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predile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i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u cel putin toleranta, pentru lucrul cu num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l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pentru i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iativă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ov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ş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conformis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066680" y="1600200"/>
            <a:ext cx="75438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ele de select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alizarea unei campanii de informare a 1680 persoane din mediul r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Preselectia a 420 de persoane pe baza criteriilor de eligibili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Consilierea celor 420 de perso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lectia a 312 persoane dintre cele 420 astfel: aprox 110 persoane in cautarea unui loc de munca, aprox 62 someri, 140 manageri si angajati. Dintre aceste persoane, cel putin 160 vor fi feme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1371600"/>
            <a:ext cx="82296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ATIREA FORMAR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cele 3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lectate pentru formar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ar 90 -100  vor proveni din cele 30 de microregiu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ntru care se vor fi efectuat misiuni de explorare in cele 6 Regiuni de dezvol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elalte aproximativ 200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ane vor proven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 alte aproximativ 60 + de microregiu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upa selectie, to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torii cursanti AC, AR si IFC vor primi spre completare, inainte de venirea la cursuri, cate un Chestionar de estimare a potentialului de microcreditare in microregi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grila de evaluare – pentru promovarea la cursurile de CA - a Proiectului de c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ele astfel culese vor constitui baza pe care se va intocmi Proiectul de curs  AC, AR si IFC necesar certificar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143000" y="1371600"/>
            <a:ext cx="723888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ZULTATE LA FINALUL PROIECTULU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75 de absolventi ai cursului de C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 deveni capabili sa isi creeze propriile locuri de munca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intreprinderi specializate nou infiintate si urmand a fi subcontrac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 Organizatii Cooperatiste de Credit (OCC) sau Institutii Financiare Nebancare (IF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intreprinderile nou 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or constitu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cte de informare antreprenoria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promovarea organizarii intreprinderilor in asocieri pe verticala - pe lanturi valorice inchise local - in cluster-ele din mediul ru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237 de participanti specializati in AC, AF si IF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i vor putea gasi 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 de munca fie la OCC, fie la IF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 filiale loc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urs de proliferare - pentru a raspunde necesitatilor de creditare neacoperite de banci in mediul r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143000" y="2057400"/>
            <a:ext cx="754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În timp, proiectul va contribui semnificativ, direct şi indire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in efectul de multiplicar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 dezvoltarea oportunităţilor de ocupare în mediul rural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143000" y="1600200"/>
            <a:ext cx="693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E DE CONTA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473040" y="2166840"/>
          <a:ext cx="8461440" cy="4216320"/>
        </p:xfrm>
        <a:graphic>
          <a:graphicData uri="http://schemas.openxmlformats.org/drawingml/2006/table">
            <a:tbl>
              <a:tblPr/>
              <a:tblGrid>
                <a:gridCol w="500040"/>
                <a:gridCol w="1602000"/>
                <a:gridCol w="1403280"/>
                <a:gridCol w="788760"/>
                <a:gridCol w="2799000"/>
                <a:gridCol w="1368360"/>
              </a:tblGrid>
              <a:tr h="91116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 c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 Prenu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e/ Regiu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peri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99396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OVEANU Carm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onator Formare Profesional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8- 28968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armen_2@hotmail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men96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99360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VICIU Sorin Stef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5- 0235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69- 25049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coviciu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msibiu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54612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HIA Elena Vasil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6- 1625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berghia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 berg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77148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ONA Lev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1,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1- 18974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ona_levente2009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tekatona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3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066680" y="1828800"/>
            <a:ext cx="693432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304920" y="6006960"/>
            <a:ext cx="8610480" cy="774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219320" y="1676520"/>
            <a:ext cx="685800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ă mulţumim pentru atentie si contam pe sprijinul si implicarea dvs.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685800" y="1371600"/>
            <a:ext cx="7848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eneri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OCIATIA INSTITUTUL pent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ROINTREPRINDE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GRATE  REGIONAL– AIMIR (P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 </a:t>
            </a:r>
            <a:r>
              <a:rPr b="1" lang="en-US" sz="1800" spc="-1" strike="noStrike">
                <a:solidFill>
                  <a:srgbClr val="ff950e"/>
                </a:solidFill>
                <a:latin typeface="Arial"/>
              </a:rPr>
              <a:t>1 Nord 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3deb3d"/>
                </a:solidFill>
                <a:latin typeface="Arial"/>
              </a:rPr>
              <a:t>7 Centru</a:t>
            </a:r>
            <a:r>
              <a:rPr b="1" i="1" lang="en-US" sz="1800" spc="-1" strike="noStrike">
                <a:solidFill>
                  <a:srgbClr val="3deb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DERATIA NATIONALA a GRUPURIL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ACTIUNE LOCALA– FNGAL (P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 </a:t>
            </a:r>
            <a:r>
              <a:rPr b="1" lang="en-US" sz="1800" spc="-1" strike="noStrike">
                <a:solidFill>
                  <a:srgbClr val="0047ff"/>
                </a:solidFill>
                <a:latin typeface="Arial"/>
              </a:rPr>
              <a:t>2 Sud 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 Sud Munt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38080" y="1371600"/>
            <a:ext cx="53341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eficia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OCIATIA DE DEZVOLT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ÎN AFACERI  - ADA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</a:t>
            </a:r>
            <a:r>
              <a:rPr b="1" lang="en-US" sz="1800" spc="-1" strike="noStrike">
                <a:solidFill>
                  <a:srgbClr val="c5000b"/>
                </a:solidFill>
                <a:latin typeface="Arial"/>
              </a:rPr>
              <a:t> 5 V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ff6633"/>
                </a:solidFill>
                <a:latin typeface="Arial"/>
              </a:rPr>
              <a:t>6 Nord V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562720" y="1676520"/>
            <a:ext cx="304776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. Comana nr. 19B, sector 1, Bucure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. 0212226837, fax. 02122268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office@asociatia-ada.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asociatia-ada.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562720" y="3352680"/>
            <a:ext cx="3047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una Bran nr. 72A, jud. Bras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. 07235293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opaflaviu@gam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638680" y="4572000"/>
            <a:ext cx="28195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esa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776160" y="1125360"/>
            <a:ext cx="746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Harta cu Regiunile si judetele vizate:</a:t>
            </a:r>
            <a:r>
              <a:rPr b="1" i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600200"/>
            <a:ext cx="79725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809460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914400" y="1143000"/>
            <a:ext cx="746748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ele care au condus la ideea de proie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de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rilor de mun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pe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tineri si persoane de peste 45 de a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portunitati de angajare foarte limitate in zonele rurale si in orasele mi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a putini furnizori locali de bunuri si servicii in mediul rural fata de nevoile locuitor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psa creditelor pentru materializarea ideilor de afaceri generatoare de locuri de munca lo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685800" y="1541520"/>
            <a:ext cx="80010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solutie integrata propusa prin proi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a unei structuri antreprenoriale de tip ret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 teritoriul a 6 Regiuni de dezvolt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carea functiilor de microcreditare si de promov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e componentelor retele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gurarea co-finantarii ideilor antreprenoriale lo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 credite pentru afaceri mici, sustenabile si durab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685800" y="1542960"/>
            <a:ext cx="78487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dministrator de Risc (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nalist de Credit (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Intermediar Financiar Comercial (IF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urmate de transmitere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Competenţe Antreprenoriale (CA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43000" y="1600200"/>
            <a:ext cx="7543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ga principala a procesului integ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construire a reţele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 in  derularea in doua etape a un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e de formare profesională de tip specializare autoriz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catre Autoritatea Nationala a Calificarilor pe baza unor Standarde Ocupationale in vigoa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685800" y="1600200"/>
            <a:ext cx="80010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iectivul general al proiectulu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zvoltarea unei reţ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ţionale, unitare, integrate, funcţionale şi sustenabi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 microîntreprinderi specializate în microcreditare la nivel de comu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poli antreprenoriali de ocupar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ntru persoane în căutarea unui loc de muncă, şomeri, manageri şi angajaţi din mediul rur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914400" y="1285920"/>
            <a:ext cx="754380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ctivele specific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6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lizarea unui sistem interactiv şi integrat de promovare a reţelei de microîntreprinderi specializate în microcreditare în mediul rural la nivel naţion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ul va fi mediul de realizare al acestui sub-sistem deschi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5. Angajarea a 57 de fondatori prin înfiinţarea de câte min. 3 persoane a 19 microîntreprinderi specializate în microcredita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e 19 microintreprinderi vor functiona in 19 microregiuni din cele 6 Regiuni de dezvoltare. O microregiune este constituita din 2-4 comune apropi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e 19 microregiuni vor fi alese dintr-un numar de 25 in care se vor fi efectuat 25 de vizite de studii de catre 75 de absolventi ai cursurilor de CA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4. Instruirea directă şi certificarea în CA a 75 de persoane. Cele 75 de persoane vor fi selectate dintre cele 312 persoane instruite în IFC şi/sau de AC şi AR pe criteriul celor mai bune proiecte de curs elaborate la nivelul fiecărei regiuni. Certificarea în CA a celor 75 de persoane presupune 75 de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i absolventi vor dobandi si competentele necesare promovarii unor forme de asociere antreprenoriala pe verticala - pa lantul valoric -  sustenabile si mai putin risca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91440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ctivele specific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3. Instruirea directă şi certificarea în competenţe de AR a 78 de persoane. Certificarea în IFC şi/sau de AC şi AR a celor 78 persoane presupune 78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OS 2. Instruirea directă şi certificarea în competenţe de AC a 78 de persoane.  Certificarea în AC a celor 78 de persoane presupune 78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OS 1. Instruirea directă şi certificarea în competenţe de IFC a 156 de persoane. Certificarea în IFC a celor 156 de persoane presupune 156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ii la formare vor dobandi cunostintele necesare elaborarii rapoartelor de finalizare a activitatilor pentru un client ale celor 3 ocupatii din institutiile financia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ia vor proveni din cel putin 30 de microregiuni in care se vor fi efectuat misiuni de explorare pentru promovarea proiectului, pentru identificarea unor grupuri-nucleu de participanti si pentru stabilirea unor legaturi de lucru intre aceste grupuri si comunitatea de afaceri loca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OR</dc:creator>
  <dc:description/>
  <dc:language>en-US</dc:language>
  <cp:lastModifiedBy>a</cp:lastModifiedBy>
  <dcterms:modified xsi:type="dcterms:W3CDTF">2014-05-26T05:42:16Z</dcterms:modified>
  <cp:revision>4</cp:revision>
  <dc:subject/>
  <dc:title>Prezentare PowerPoint</dc:title>
</cp:coreProperties>
</file>