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9095C-D774-4AB6-8F23-135149251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DD5B2-C416-4F1B-BDDE-A713B031A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15FA2-1729-4A5E-90E6-94EB9036F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3B571-0887-4890-9489-8FC280823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D0B607F-479E-464B-84CD-A200DF3152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A847568-B548-4DA5-AECA-B6CE6543B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4A09BD8-D360-4443-AAAA-7AF7F35E7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1A1DE10-60CB-453C-9CE1-85BD62BC0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0DD5F8A-2786-4431-8F77-77DE1D492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363D730-7BEE-427B-9310-ADF5EF021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2DD0D34-D5CC-40D7-9951-EBBDB0C5B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D0FC6-8D78-4FC0-8630-E2CDD54BC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6A48C30-D745-4DE3-9707-C26E500DC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A93E335-DF0C-4291-99DE-2D28424AB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C827EFB-6193-4F51-8BE3-3064F9C3D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6B03080-8B91-48FE-A5BE-8608949CC0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28153A6-99E8-4A78-9E9A-225F0EC7B0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22473-BBFB-42B6-8BBA-7FBB2664B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90F43-2ECE-4CD6-B879-7564889BE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97190-29DE-4539-9B6C-A159AF2A3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BF346-1D12-48A4-8F71-C37DDA0E2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711AB-608F-4CD1-9221-EFCAB1512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73417-15ED-4C77-BF0A-E7F2EBA9A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D97DB-EC01-4F8C-AE97-203D861F9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E15B5-7CE2-493B-8794-674D83C88C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93E31-95C4-4427-B2E8-F101EE58D0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data%20penunjang%20Earning%20MGT.doc" TargetMode="External"/><Relationship Id="rId2" Type="http://schemas.openxmlformats.org/officeDocument/2006/relationships/hyperlink" Target="file:///data%20penunjang%20Earning%20MGT.doc" TargetMode="External"/><Relationship Id="rId3" Type="http://schemas.openxmlformats.org/officeDocument/2006/relationships/hyperlink" Target="file:///data%20penunjang%20Earning%20MGT.doc"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Earning Management</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Closer Look</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Key Constituents</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unting profess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diting profess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es exchang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 agenci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ard of director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al auditor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eholders activists(institutional investo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s Earning Management</a:t>
            </a:r>
            <a:r>
              <a:rPr b="0" lang="en-US" sz="4400" spc="-1" strike="noStrike">
                <a:solidFill>
                  <a:srgbClr val="e3e3ff"/>
                </a:solidFill>
                <a:latin typeface="Arial"/>
              </a:rPr>
              <a:t> </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 active manipulation of accounting results for the purpose of creating an altered impression of business performan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form of the financial number game, where the flexibility of GAAP is employed to guide earning toward a predetermined targe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TUJUAN EARNING MANAGEMENT</a:t>
            </a:r>
            <a:endParaRPr b="0" lang="en-US" sz="3200" spc="-1" strike="noStrike">
              <a:solidFill>
                <a:srgbClr val="e3e3ff"/>
              </a:solidFill>
              <a:latin typeface="Arial"/>
            </a:endParaRPr>
          </a:p>
        </p:txBody>
      </p:sp>
      <p:sp>
        <p:nvSpPr>
          <p:cNvPr id="12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tuk memaksimalkan kompensasi insentif dari pendapatan yang dihasilkan(maximize earning –based incentive compensation)</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tuk meminimalkan pelanggaran penjanjian hutang(to minimize debt covenant violation)</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tuk meminimalkan biaya politik yang sebenarnya(to minimize certain political cost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ondisi lainnya dan keinginan lainnya tuk melakukan earning managemen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Memaksimalkan proses IP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Smoothing and managing earning toward long term tren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Perubahan manajemen dan write-off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Restrukturisasi Accruals dan Reversals data penunjang Earning MGT.doc</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ain itu Earning Management dipengaruhi oleh kondisi dan pendorong sehingga dilakukan earning management </a:t>
            </a:r>
            <a:r>
              <a:rPr b="0" lang="en-US" sz="2000" spc="-1" strike="noStrike" u="sng">
                <a:solidFill>
                  <a:srgbClr val="00ffcc"/>
                </a:solidFill>
                <a:uFillTx/>
                <a:latin typeface="Arial"/>
                <a:hlinkClick r:id="rId1"/>
              </a:rPr>
              <a:t>(</a:t>
            </a:r>
            <a:r>
              <a:rPr b="0" lang="en-US" sz="2000" spc="-1" strike="noStrike" u="sng">
                <a:solidFill>
                  <a:srgbClr val="00ffcc"/>
                </a:solidFill>
                <a:uFillTx/>
                <a:latin typeface="Arial"/>
                <a:hlinkClick r:id="rId2"/>
              </a:rPr>
              <a:t>exibit</a:t>
            </a:r>
            <a:r>
              <a:rPr b="0" lang="en-US" sz="2000" spc="-1" strike="noStrike" u="sng">
                <a:solidFill>
                  <a:srgbClr val="00ffcc"/>
                </a:solidFill>
                <a:uFillTx/>
                <a:latin typeface="Arial"/>
                <a:hlinkClick r:id="rId3"/>
              </a:rPr>
              <a:t> 3.2)</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Is Earning Management is good or bad</a:t>
            </a:r>
            <a:endParaRPr b="0" lang="en-US" sz="3200" spc="-1" strike="noStrike">
              <a:solidFill>
                <a:srgbClr val="e3e3ff"/>
              </a:solidFill>
              <a:latin typeface="Arial"/>
            </a:endParaRPr>
          </a:p>
        </p:txBody>
      </p:sp>
      <p:sp>
        <p:nvSpPr>
          <p:cNvPr id="129"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urut CEO Manajemen:</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rning management dikatakan baik jika merupakan praktik yang layak dan sesuai yang merupakan bagian dari manajemen bisnis yang well/baik dan menghasilkan nilai tambah bagi para pemegang saham</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rning manajemen dikatakan tidak baik jika merupakan  manajemen earning yang tidak layak dengan mengintervensi untuk menyembunyikan pelaporan kinerja yang sebenarnya dengan merekayasa akun akuntansi secara artifisial atau melakukan penaksiran yang tidak layak/patut/sesuai dari nilai yang seharusnya</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urut SEC:</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tan Ketua SEC Levitt menyatakan:</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lexibility in accounting allow it to keep pace with business innovation. Abuses such as earning management occur when people exploit this pliancy. Trickery is employ to obscure actual financial volatility</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ama berada pada rules fleksibelitas GAAP(grey area), SEC tidak akan melakukan action, tetapi ketika melewati batas rules GAAP yang ditentukan (black area), SEC akan melakukan a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Teknik Earning Manajemen yang digunakan</a:t>
            </a:r>
            <a:r>
              <a:rPr b="0" lang="en-US" sz="3200" spc="-1" strike="noStrike">
                <a:solidFill>
                  <a:srgbClr val="e3e3ff"/>
                </a:solidFill>
                <a:latin typeface="Arial"/>
              </a:rPr>
              <a:t> </a:t>
            </a:r>
            <a:endParaRPr b="0" lang="en-US" sz="3200" spc="-1" strike="noStrike">
              <a:solidFill>
                <a:srgbClr val="e3e3ff"/>
              </a:solidFill>
              <a:latin typeface="Arial"/>
            </a:endParaRPr>
          </a:p>
        </p:txBody>
      </p:sp>
      <p:sp>
        <p:nvSpPr>
          <p:cNvPr id="131"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ubah metode depresiasi</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ubah masa nilai manfaat untuk tujuan depresiasi</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ubah penaksiran nilai sisa yang digunakan untuk tujuan depresiasi</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entukan pencadangan yang diminta untuk menetukan uncollectible account atau loan receivable</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etukan pencadangan yang diminta untuk menentukan warranty obligation</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entukan penilaian pencadangan yang diminta untuk menentukan pajak aktiva yang ditangguhkan.</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entukan jumlah impaired asset dan any necessary loss acrual</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gestimasi bagian yang diselesaikan dari kontrak persentase penyelesaian </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gestimasi kemungkinan timbulnya realisasi klaim atas kontrak</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gestimasi penurunan jumlah investasi yang dilakukan</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gestimasi jumlah restrukturisasi akrual</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entukan jumlah penurunan persediaan yang diperlukan </a:t>
            </a:r>
            <a:endParaRPr b="0" lang="en-US" sz="1800" spc="-1" strike="noStrike">
              <a:solidFill>
                <a:srgbClr val="ffffff"/>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Teknik Earning Manajemen yang digunakan</a:t>
            </a:r>
            <a:endParaRPr b="0" lang="en-US" sz="2800" spc="-1" strike="noStrike">
              <a:solidFill>
                <a:srgbClr val="e3e3ff"/>
              </a:solidFill>
              <a:latin typeface="Arial"/>
            </a:endParaRPr>
          </a:p>
        </p:txBody>
      </p:sp>
      <p:sp>
        <p:nvSpPr>
          <p:cNvPr id="133"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 Mengestimasi environmental obligation accrual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 Membuat atau merubah asumsi jumlah aktuarial dana pensiu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Menentukan jumlah porsi dari harga pembelian dari transaksi yang dilakukan untuk memperoleh biaya R &amp; D dalam prose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 Menentukan dan merubah periode amortisasi untuk aktiva intangible</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 Memutuskan seberapa besar  various cost seperti landfill development, biaya iklan langsung, dan pengembangan software yang seharusnya dikapitalisasi.</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Menetukan klasifikasi hedge apa yang sesuai dengan kegiatan finansial derivatif yang diinginka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 Menentukan investasi mana yang diperlukan yang secara signifikan berpengaruh positif terhadap para investor</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 Menentukan penurunan dari nilai pasar investasi mana yang ditetapkan dari nilai yang ditetapkan secara temporary.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EM Into the Darkness</a:t>
            </a:r>
            <a:endParaRPr b="0" lang="en-US" sz="36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ing Irregularitie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udulent financial reporting</a:t>
            </a:r>
            <a:endParaRPr b="0" lang="en-US" sz="2400" spc="-1" strike="noStrike">
              <a:solidFill>
                <a:srgbClr val="ffffff"/>
              </a:solidFill>
              <a:latin typeface="Arial"/>
            </a:endParaRPr>
          </a:p>
        </p:txBody>
      </p:sp>
      <p:sp>
        <p:nvSpPr>
          <p:cNvPr id="136" name=""/>
          <p:cNvSpPr/>
          <p:nvPr/>
        </p:nvSpPr>
        <p:spPr>
          <a:xfrm>
            <a:off x="2362320" y="2590920"/>
            <a:ext cx="838080" cy="533160"/>
          </a:xfrm>
          <a:prstGeom prst="downArrow">
            <a:avLst>
              <a:gd name="adj1" fmla="val 50000"/>
              <a:gd name="adj2" fmla="val 25000"/>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3352680" y="3657600"/>
            <a:ext cx="1600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1828800" y="3276720"/>
            <a:ext cx="2438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ounting and Auditing Enforcement Release (AAERs)</a:t>
            </a:r>
            <a:endParaRPr b="0" lang="en-US" sz="1800" spc="-1" strike="noStrike">
              <a:solidFill>
                <a:srgbClr val="ffffff"/>
              </a:solidFill>
              <a:latin typeface="Arial"/>
            </a:endParaRPr>
          </a:p>
        </p:txBody>
      </p:sp>
      <p:sp>
        <p:nvSpPr>
          <p:cNvPr id="139" name=""/>
          <p:cNvSpPr/>
          <p:nvPr/>
        </p:nvSpPr>
        <p:spPr>
          <a:xfrm>
            <a:off x="4800600" y="1828800"/>
            <a:ext cx="11430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flipV="1">
            <a:off x="5029200" y="2133360"/>
            <a:ext cx="9144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095880" y="1752480"/>
            <a:ext cx="1600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usive Earning Management</a:t>
            </a:r>
            <a:endParaRPr b="0" lang="en-US" sz="1800" spc="-1" strike="noStrike">
              <a:solidFill>
                <a:srgbClr val="ffffff"/>
              </a:solidFill>
              <a:latin typeface="Arial"/>
            </a:endParaRPr>
          </a:p>
        </p:txBody>
      </p:sp>
      <p:sp>
        <p:nvSpPr>
          <p:cNvPr id="142" name=""/>
          <p:cNvSpPr/>
          <p:nvPr/>
        </p:nvSpPr>
        <p:spPr>
          <a:xfrm>
            <a:off x="4343400" y="3657600"/>
            <a:ext cx="533520" cy="457200"/>
          </a:xfrm>
          <a:prstGeom prst="rightArrow">
            <a:avLst>
              <a:gd name="adj1" fmla="val 50000"/>
              <a:gd name="adj2" fmla="val 29173"/>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5105520" y="2819520"/>
            <a:ext cx="2971800" cy="355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 in Exibit 3.5 secara garis besar termasuk kedalam</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use of normal accounting activity</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gnition of sales    (Revenue &amp; Expense)</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ccrual of expense</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pitalisation of cost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rite off of asset</a:t>
            </a:r>
            <a:endParaRPr b="0" lang="en-US" sz="1800" spc="-1" strike="noStrike">
              <a:solidFill>
                <a:srgbClr val="ffffff"/>
              </a:solidFill>
              <a:latin typeface="Arial"/>
            </a:endParaRPr>
          </a:p>
        </p:txBody>
      </p:sp>
      <p:sp>
        <p:nvSpPr>
          <p:cNvPr id="144" name=""/>
          <p:cNvSpPr/>
          <p:nvPr/>
        </p:nvSpPr>
        <p:spPr>
          <a:xfrm>
            <a:off x="304920" y="5029200"/>
            <a:ext cx="18288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ibit 3.3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usive EM to Projection</a:t>
            </a:r>
            <a:endParaRPr b="0" lang="en-US" sz="1800" spc="-1" strike="noStrike">
              <a:solidFill>
                <a:srgbClr val="ffffff"/>
              </a:solidFill>
              <a:latin typeface="Arial"/>
            </a:endParaRPr>
          </a:p>
        </p:txBody>
      </p:sp>
      <p:sp>
        <p:nvSpPr>
          <p:cNvPr id="145" name=""/>
          <p:cNvSpPr/>
          <p:nvPr/>
        </p:nvSpPr>
        <p:spPr>
          <a:xfrm>
            <a:off x="2593440" y="5105520"/>
            <a:ext cx="1436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ibit 3.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usive 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over-up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ities</a:t>
            </a:r>
            <a:endParaRPr b="0" lang="en-US" sz="1800" spc="-1" strike="noStrike">
              <a:solidFill>
                <a:srgbClr val="ffffff"/>
              </a:solidFill>
              <a:latin typeface="Arial"/>
            </a:endParaRPr>
          </a:p>
        </p:txBody>
      </p:sp>
      <p:sp>
        <p:nvSpPr>
          <p:cNvPr id="146" name=""/>
          <p:cNvSpPr/>
          <p:nvPr/>
        </p:nvSpPr>
        <p:spPr>
          <a:xfrm flipH="1">
            <a:off x="914400" y="4191120"/>
            <a:ext cx="182880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2819520" y="4267080"/>
            <a:ext cx="3808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77320" y="3124080"/>
            <a:ext cx="38088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49" name=""/>
          <p:cNvSpPr/>
          <p:nvPr/>
        </p:nvSpPr>
        <p:spPr>
          <a:xfrm>
            <a:off x="7924680" y="3124080"/>
            <a:ext cx="0" cy="3124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501120" y="6259680"/>
            <a:ext cx="28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     V     I     D     E     N     C     E</a:t>
            </a:r>
            <a:endParaRPr b="0" lang="en-US" sz="1400" spc="-1" strike="noStrike">
              <a:solidFill>
                <a:srgbClr val="ffffff"/>
              </a:solidFill>
              <a:latin typeface="Arial"/>
            </a:endParaRPr>
          </a:p>
        </p:txBody>
      </p:sp>
      <p:sp>
        <p:nvSpPr>
          <p:cNvPr id="151" name=""/>
          <p:cNvSpPr/>
          <p:nvPr/>
        </p:nvSpPr>
        <p:spPr>
          <a:xfrm>
            <a:off x="380880" y="6248520"/>
            <a:ext cx="327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Evidence of Earning Management</a:t>
            </a:r>
            <a:endParaRPr b="0" lang="en-US" sz="36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 Evidence</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Berdasarakan akumulasi jumlah kasus yang disidangkan, termasuk didalamnya testimoni peradilan, bukti dokumentasi yang lengkap dan terinci, dan dalam beberapa kasus diungkap dari hak pembelaan yang dilakukan pihak manajemen yang bersalah (exibit 3.3,3.5,3.6)</a:t>
            </a:r>
            <a:endParaRPr b="0" lang="en-US" sz="20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ademic Research Evidence</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erdasarkan sample atau contoh yang besar dari analisis statistik dan informasi keuangan publik yang didapat dari berbagai sumber</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ukti tersebut diperoleh dengan 2 pendekatan: studi deskriptif dan model statistica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Beberapa contoh kasus</a:t>
            </a:r>
            <a:endParaRPr b="0" lang="en-US" sz="36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ro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ld Co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Managem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er</cp:lastModifiedBy>
  <dcterms:modified xsi:type="dcterms:W3CDTF">2007-12-09T22:50:53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