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BF22-0E8A-4E38-9EC5-965A59E82B1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E9AA-ED22-4550-99EC-CAB0807DEF6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7223-D6C6-4FC6-B4AB-C566BF77738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8561-44A3-4B2F-B86D-ACF41659DD3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7B7A-51A5-4F2A-ADA2-334241608D2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154-1222-46B6-A21A-04A0A8A262F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9318-F889-41B8-AD26-2B8B19A30A3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3AC2-B2E1-4ECD-BBF7-3B959E77CFD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0EDF-6B3F-4433-80D2-3F53796FE44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5BAC-FB19-49A0-B515-AA7A1917DD6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0CD3-A242-43C2-A1DD-DBFFF1AD765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ED21-A87C-4AE9-84D4-A7109361ACC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2A1D-01A9-432C-93EF-A5532624660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18C5-D9F4-4283-9F9C-E35B3FE59E2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752E-D25A-4B46-A24A-7E57D190B4D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C43-3A19-49A1-8E0C-D9F4E2CB43B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C913-BDD9-44CC-8541-C4E1BADA0A5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DA8B-D8CF-46B0-83D2-6ABBBC7FD11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3C53-6D94-4570-8BD8-D1F16880E73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FD2E-5F10-4AAF-8A60-733C7F6B41C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5AFA-DDFA-45D3-84CE-DD17F13489A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621-DE2E-4A71-B69C-D0DAAF46521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0D69-FDE3-4B24-9A02-3C239E62AC7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CF22-611A-4E54-865F-1B3D33CC02E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7B13-E31C-49C6-9E24-C9451CD8007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00B2-A5A4-4778-B773-15B6DF3A0BC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CFF0-6D22-4588-BF70-E734F05EF50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C573-813F-4F80-9CCD-52E2BB793CD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8AAC-70BD-4DA0-B44C-4EF46C55F74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6B5B-9C15-43ED-B49C-C5E3C21F69E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0544-57F0-4B17-BBFA-F7885214E18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CA2C-EB04-4F31-9953-25A5C43A7C6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B646-93D1-493F-BBD9-7C8EF3BE90D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CEEB-92DD-4A1F-B023-CF9D12B9AE1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829F-9697-4520-892A-1A0FA134D9E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8E8-0C20-4C2E-8B23-097B4BC51A2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81F4-7C21-4887-8482-D8C43B6A354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2EEE-232F-43C2-AA65-03E74F418F7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CEAE-59DF-4F7E-80F6-A1CE4C05A48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F78D-F56D-4DBC-865D-907D9807F56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EA8C-9353-492A-B940-8362A976440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8B38-0594-4508-A907-ACC241FDCBC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7F2D-F365-4C03-92FB-651DB6B4266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D854-6BC1-4D63-A690-5D211AA2A94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2AA-52F7-4978-BFBE-0D221ACF912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4A88-6656-4BDA-9802-383481E5668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E3D9-EA76-4A92-9843-38252CBED4B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2A6B-9A14-4B18-801F-3C7F3B0625A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E3CD-C07E-4447-B4D0-8D70C4D0E35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A806-EB02-4762-8A3C-4AA5297E231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9910-107E-43C6-9049-05F8E2ECB8B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D219-A129-47B4-95A3-9FA5076EEC4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34B1-B8D4-44AC-9AEB-7B165D710FE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D394-AE31-4CA1-A46D-C58E65F18E7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1303-540B-4DBB-B78A-C62A74AF469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7FF3-D3C3-47F4-8D09-016721AB63F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C840-3F4B-4A57-90EC-4A35267DAF8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8CF5-54ED-4047-866F-BFCE8725FC8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316-A6EB-47DF-824D-4501A0523A5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FCB-EC01-4309-9C94-61C8F82D405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9C0D-EA8B-415D-B602-A1B8E91CC0C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D8F8-AB2B-43E6-B1D0-045F629EE5E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EA45-A8C5-4AE7-9261-024E39F9DB1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9AF8-8F96-4B95-8893-8E690EB787F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171F-9D60-4947-BC7A-B2A0E9AE15D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E581-BDDE-4735-B1E4-A5788AA7E64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B2D0-2076-41F7-8A8B-1646F0BECD8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D968-0279-434E-9950-EF59274256D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1E48-17CC-41FD-8A12-5B8362BF9A0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21CE-D4DD-4049-A363-07C5565DCCD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C02D-2705-439E-B148-8A591A0DE41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E695-A0A3-4E7C-AA83-2BABA525414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95D9-66A2-402E-A75E-4031898E93C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D45D-617A-4EAD-AF43-1DD2E60E044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38D0-4978-4D3D-A143-2BA09382191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0D48-EDA1-42C5-A5A9-396B17F1DB4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CA3E-CB6E-4579-9E27-16907B6CD25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2AD9-3F49-4341-8CD6-114CBFFFC16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8AB7-FC50-492B-9F70-D233107F8DA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AFF-D26D-47E0-A56B-3C9D6DF954C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FF16-3154-4056-BB81-98F24D1ACFC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B26-8649-4B60-ACE7-AE8ABA81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CAC-5606-4AAA-B405-031599C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28B-39B0-4C48-B51D-CDABB89C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393-5723-4BE0-BC9F-DE71F3C5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E020-71C0-4A9E-93F8-E791C81D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3BAF-2CC3-4DDB-BC6C-2BF84488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9DE3-3914-4E71-A8FD-5458ECC6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620C-381F-4F11-925B-4D164729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D0CF-7713-4016-9847-C03465C3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F31D-0C43-432B-BE60-45F51EF6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78D2-050E-4382-9944-A4C167DF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3FC-D334-45CE-B040-59A7F1E8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1F92-ECFC-453C-9790-FE7CD7DA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3599-8207-486F-86A4-47AC984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F7BE-5ED5-484D-B34B-CF8A1780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446E-C39F-4E3C-9A5B-CE52C38E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982C-458D-4B0C-8740-97913D64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F6E-0EB5-4F5F-B2D3-468483CA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D49-89EA-4E0A-A055-E5FED9A7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EA6-3551-48ED-8A52-55193DA1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D05-9620-49CA-B255-CBA030A7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3AF-8F3B-4CA7-A324-A59A8BD9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28E-85A7-4D16-9CD8-CD3616B5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AB2-D681-4FA2-9955-1894D05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0C6B-0830-41F8-965B-8BD77FEEF4F6}" type="slidenum">
              <a:rPr b="0" lang="zh-TW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D63-4496-4AAB-A5A8-91E87EFD2B21}" type="slidenum">
              <a:rPr b="0" lang="zh-TW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505320" y="3060720"/>
            <a:ext cx="2120760" cy="2577960"/>
            <a:chOff x="3505320" y="3060720"/>
            <a:chExt cx="2120760" cy="2577960"/>
          </a:xfrm>
        </p:grpSpPr>
        <p:sp>
          <p:nvSpPr>
            <p:cNvPr id="92" name=""/>
            <p:cNvSpPr/>
            <p:nvPr/>
          </p:nvSpPr>
          <p:spPr>
            <a:xfrm>
              <a:off x="3505320" y="3060720"/>
              <a:ext cx="2120760" cy="1892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600" spc="-1" strike="noStrike">
                  <a:solidFill>
                    <a:srgbClr val="b3b900"/>
                  </a:solidFill>
                  <a:latin typeface="Times New Roman"/>
                </a:rPr>
                <a:t>6</a:t>
              </a:r>
              <a:endParaRPr b="0" lang="en-US" sz="15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4965840"/>
              <a:ext cx="2120760" cy="67284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2f6f"/>
                  </a:solidFill>
                  <a:latin typeface="Times New Roman"/>
                </a:rPr>
                <a:t>CHAP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66"/>
                </a:solidFill>
                <a:latin typeface="Arial Black"/>
              </a:rPr>
              <a:t>Analyzing Operating Activiti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04920" y="1473120"/>
            <a:ext cx="8534160" cy="504036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Economic Income vs. Accounting Incom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Economic Income and Accounting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 reflect similar concep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income is a produc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of the financial reporting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environment—accounting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standards, enforcemen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mechanisms, managers’ incentives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H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income can diverge from economic income (yielding accounting distortions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553080" y="2209680"/>
            <a:ext cx="2286000" cy="2361960"/>
            <a:chOff x="6553080" y="2209680"/>
            <a:chExt cx="2286000" cy="2361960"/>
          </a:xfrm>
        </p:grpSpPr>
        <p:sp>
          <p:nvSpPr>
            <p:cNvPr id="380" name=""/>
            <p:cNvSpPr/>
            <p:nvPr/>
          </p:nvSpPr>
          <p:spPr>
            <a:xfrm>
              <a:off x="6553080" y="2209680"/>
              <a:ext cx="2286000" cy="2212200"/>
            </a:xfrm>
            <a:custGeom>
              <a:avLst/>
              <a:gdLst/>
              <a:ahLst/>
              <a:rect l="l" t="t" r="r" b="b"/>
              <a:pathLst>
                <a:path w="4264" h="4015">
                  <a:moveTo>
                    <a:pt x="2200" y="0"/>
                  </a:moveTo>
                  <a:lnTo>
                    <a:pt x="0" y="2309"/>
                  </a:lnTo>
                  <a:lnTo>
                    <a:pt x="2322" y="4015"/>
                  </a:lnTo>
                  <a:lnTo>
                    <a:pt x="4264" y="2275"/>
                  </a:lnTo>
                  <a:lnTo>
                    <a:pt x="2200" y="0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d8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72040" y="2419920"/>
              <a:ext cx="53280" cy="7596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0" y="29"/>
                  </a:moveTo>
                  <a:lnTo>
                    <a:pt x="8" y="108"/>
                  </a:lnTo>
                  <a:lnTo>
                    <a:pt x="51" y="139"/>
                  </a:lnTo>
                  <a:lnTo>
                    <a:pt x="95" y="108"/>
                  </a:lnTo>
                  <a:lnTo>
                    <a:pt x="101" y="36"/>
                  </a:lnTo>
                  <a:lnTo>
                    <a:pt x="59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32720" y="2408040"/>
              <a:ext cx="104760" cy="127440"/>
            </a:xfrm>
            <a:custGeom>
              <a:avLst/>
              <a:gdLst/>
              <a:ahLst/>
              <a:rect l="l" t="t" r="r" b="b"/>
              <a:pathLst>
                <a:path w="195" h="232">
                  <a:moveTo>
                    <a:pt x="0" y="72"/>
                  </a:moveTo>
                  <a:lnTo>
                    <a:pt x="87" y="152"/>
                  </a:lnTo>
                  <a:lnTo>
                    <a:pt x="136" y="232"/>
                  </a:lnTo>
                  <a:lnTo>
                    <a:pt x="180" y="216"/>
                  </a:lnTo>
                  <a:lnTo>
                    <a:pt x="195" y="144"/>
                  </a:lnTo>
                  <a:lnTo>
                    <a:pt x="159" y="50"/>
                  </a:lnTo>
                  <a:lnTo>
                    <a:pt x="87" y="0"/>
                  </a:lnTo>
                  <a:lnTo>
                    <a:pt x="15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4840" y="2415600"/>
              <a:ext cx="1541880" cy="506520"/>
            </a:xfrm>
            <a:custGeom>
              <a:avLst/>
              <a:gdLst/>
              <a:ahLst/>
              <a:rect l="l" t="t" r="r" b="b"/>
              <a:pathLst>
                <a:path w="2875" h="919">
                  <a:moveTo>
                    <a:pt x="332" y="477"/>
                  </a:moveTo>
                  <a:lnTo>
                    <a:pt x="167" y="506"/>
                  </a:lnTo>
                  <a:lnTo>
                    <a:pt x="57" y="500"/>
                  </a:lnTo>
                  <a:lnTo>
                    <a:pt x="0" y="470"/>
                  </a:lnTo>
                  <a:lnTo>
                    <a:pt x="23" y="354"/>
                  </a:lnTo>
                  <a:lnTo>
                    <a:pt x="95" y="246"/>
                  </a:lnTo>
                  <a:lnTo>
                    <a:pt x="304" y="182"/>
                  </a:lnTo>
                  <a:lnTo>
                    <a:pt x="442" y="94"/>
                  </a:lnTo>
                  <a:lnTo>
                    <a:pt x="622" y="66"/>
                  </a:lnTo>
                  <a:lnTo>
                    <a:pt x="802" y="72"/>
                  </a:lnTo>
                  <a:lnTo>
                    <a:pt x="982" y="130"/>
                  </a:lnTo>
                  <a:lnTo>
                    <a:pt x="1077" y="102"/>
                  </a:lnTo>
                  <a:lnTo>
                    <a:pt x="1229" y="174"/>
                  </a:lnTo>
                  <a:lnTo>
                    <a:pt x="1329" y="261"/>
                  </a:lnTo>
                  <a:lnTo>
                    <a:pt x="1424" y="405"/>
                  </a:lnTo>
                  <a:lnTo>
                    <a:pt x="1481" y="275"/>
                  </a:lnTo>
                  <a:lnTo>
                    <a:pt x="1575" y="341"/>
                  </a:lnTo>
                  <a:lnTo>
                    <a:pt x="1668" y="239"/>
                  </a:lnTo>
                  <a:lnTo>
                    <a:pt x="1784" y="239"/>
                  </a:lnTo>
                  <a:lnTo>
                    <a:pt x="1935" y="202"/>
                  </a:lnTo>
                  <a:lnTo>
                    <a:pt x="2131" y="87"/>
                  </a:lnTo>
                  <a:lnTo>
                    <a:pt x="2297" y="0"/>
                  </a:lnTo>
                  <a:lnTo>
                    <a:pt x="2434" y="22"/>
                  </a:lnTo>
                  <a:lnTo>
                    <a:pt x="2629" y="7"/>
                  </a:lnTo>
                  <a:lnTo>
                    <a:pt x="2817" y="0"/>
                  </a:lnTo>
                  <a:lnTo>
                    <a:pt x="2875" y="79"/>
                  </a:lnTo>
                  <a:lnTo>
                    <a:pt x="2860" y="202"/>
                  </a:lnTo>
                  <a:lnTo>
                    <a:pt x="2773" y="303"/>
                  </a:lnTo>
                  <a:lnTo>
                    <a:pt x="2637" y="413"/>
                  </a:lnTo>
                  <a:lnTo>
                    <a:pt x="1416" y="919"/>
                  </a:lnTo>
                  <a:lnTo>
                    <a:pt x="332" y="477"/>
                  </a:lnTo>
                  <a:lnTo>
                    <a:pt x="332" y="477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01200" y="2555640"/>
              <a:ext cx="1696320" cy="1528920"/>
            </a:xfrm>
            <a:custGeom>
              <a:avLst/>
              <a:gdLst/>
              <a:ahLst/>
              <a:rect l="l" t="t" r="r" b="b"/>
              <a:pathLst>
                <a:path w="3163" h="2777">
                  <a:moveTo>
                    <a:pt x="650" y="43"/>
                  </a:moveTo>
                  <a:lnTo>
                    <a:pt x="375" y="223"/>
                  </a:lnTo>
                  <a:lnTo>
                    <a:pt x="267" y="383"/>
                  </a:lnTo>
                  <a:lnTo>
                    <a:pt x="188" y="599"/>
                  </a:lnTo>
                  <a:lnTo>
                    <a:pt x="136" y="917"/>
                  </a:lnTo>
                  <a:lnTo>
                    <a:pt x="28" y="1279"/>
                  </a:lnTo>
                  <a:lnTo>
                    <a:pt x="0" y="1510"/>
                  </a:lnTo>
                  <a:lnTo>
                    <a:pt x="8" y="1742"/>
                  </a:lnTo>
                  <a:lnTo>
                    <a:pt x="123" y="1924"/>
                  </a:lnTo>
                  <a:lnTo>
                    <a:pt x="267" y="2047"/>
                  </a:lnTo>
                  <a:lnTo>
                    <a:pt x="172" y="2242"/>
                  </a:lnTo>
                  <a:lnTo>
                    <a:pt x="216" y="2299"/>
                  </a:lnTo>
                  <a:lnTo>
                    <a:pt x="317" y="2291"/>
                  </a:lnTo>
                  <a:lnTo>
                    <a:pt x="548" y="2235"/>
                  </a:lnTo>
                  <a:lnTo>
                    <a:pt x="823" y="2545"/>
                  </a:lnTo>
                  <a:lnTo>
                    <a:pt x="997" y="2697"/>
                  </a:lnTo>
                  <a:lnTo>
                    <a:pt x="1169" y="2769"/>
                  </a:lnTo>
                  <a:lnTo>
                    <a:pt x="1840" y="2777"/>
                  </a:lnTo>
                  <a:lnTo>
                    <a:pt x="2202" y="2394"/>
                  </a:lnTo>
                  <a:lnTo>
                    <a:pt x="2557" y="2068"/>
                  </a:lnTo>
                  <a:lnTo>
                    <a:pt x="2788" y="2068"/>
                  </a:lnTo>
                  <a:lnTo>
                    <a:pt x="2831" y="2003"/>
                  </a:lnTo>
                  <a:lnTo>
                    <a:pt x="2788" y="1844"/>
                  </a:lnTo>
                  <a:lnTo>
                    <a:pt x="3047" y="1490"/>
                  </a:lnTo>
                  <a:lnTo>
                    <a:pt x="3148" y="1200"/>
                  </a:lnTo>
                  <a:lnTo>
                    <a:pt x="3163" y="874"/>
                  </a:lnTo>
                  <a:lnTo>
                    <a:pt x="3076" y="534"/>
                  </a:lnTo>
                  <a:lnTo>
                    <a:pt x="2932" y="267"/>
                  </a:lnTo>
                  <a:lnTo>
                    <a:pt x="2737" y="100"/>
                  </a:lnTo>
                  <a:lnTo>
                    <a:pt x="2541" y="36"/>
                  </a:lnTo>
                  <a:lnTo>
                    <a:pt x="2339" y="43"/>
                  </a:lnTo>
                  <a:lnTo>
                    <a:pt x="2143" y="100"/>
                  </a:lnTo>
                  <a:lnTo>
                    <a:pt x="1891" y="252"/>
                  </a:lnTo>
                  <a:lnTo>
                    <a:pt x="1768" y="362"/>
                  </a:lnTo>
                  <a:lnTo>
                    <a:pt x="1603" y="629"/>
                  </a:lnTo>
                  <a:lnTo>
                    <a:pt x="1531" y="498"/>
                  </a:lnTo>
                  <a:lnTo>
                    <a:pt x="1408" y="383"/>
                  </a:lnTo>
                  <a:lnTo>
                    <a:pt x="1234" y="223"/>
                  </a:lnTo>
                  <a:lnTo>
                    <a:pt x="1076" y="79"/>
                  </a:lnTo>
                  <a:lnTo>
                    <a:pt x="902" y="0"/>
                  </a:lnTo>
                  <a:lnTo>
                    <a:pt x="650" y="43"/>
                  </a:lnTo>
                  <a:lnTo>
                    <a:pt x="650" y="43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1640" y="3985920"/>
              <a:ext cx="748440" cy="474480"/>
            </a:xfrm>
            <a:custGeom>
              <a:avLst/>
              <a:gdLst/>
              <a:ahLst/>
              <a:rect l="l" t="t" r="r" b="b"/>
              <a:pathLst>
                <a:path w="1394" h="860">
                  <a:moveTo>
                    <a:pt x="28" y="208"/>
                  </a:moveTo>
                  <a:lnTo>
                    <a:pt x="187" y="85"/>
                  </a:lnTo>
                  <a:lnTo>
                    <a:pt x="405" y="144"/>
                  </a:lnTo>
                  <a:lnTo>
                    <a:pt x="693" y="0"/>
                  </a:lnTo>
                  <a:lnTo>
                    <a:pt x="904" y="21"/>
                  </a:lnTo>
                  <a:lnTo>
                    <a:pt x="1243" y="129"/>
                  </a:lnTo>
                  <a:lnTo>
                    <a:pt x="1394" y="267"/>
                  </a:lnTo>
                  <a:lnTo>
                    <a:pt x="866" y="824"/>
                  </a:lnTo>
                  <a:lnTo>
                    <a:pt x="426" y="860"/>
                  </a:lnTo>
                  <a:lnTo>
                    <a:pt x="0" y="303"/>
                  </a:lnTo>
                  <a:lnTo>
                    <a:pt x="28" y="208"/>
                  </a:lnTo>
                  <a:lnTo>
                    <a:pt x="28" y="208"/>
                  </a:lnTo>
                  <a:close/>
                </a:path>
              </a:pathLst>
            </a:custGeom>
            <a:solidFill>
              <a:srgbClr val="ba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63240" y="3962520"/>
              <a:ext cx="343800" cy="500040"/>
            </a:xfrm>
            <a:custGeom>
              <a:avLst/>
              <a:gdLst/>
              <a:ahLst/>
              <a:rect l="l" t="t" r="r" b="b"/>
              <a:pathLst>
                <a:path w="642" h="910">
                  <a:moveTo>
                    <a:pt x="267" y="101"/>
                  </a:moveTo>
                  <a:lnTo>
                    <a:pt x="0" y="686"/>
                  </a:lnTo>
                  <a:lnTo>
                    <a:pt x="123" y="910"/>
                  </a:lnTo>
                  <a:lnTo>
                    <a:pt x="498" y="874"/>
                  </a:lnTo>
                  <a:lnTo>
                    <a:pt x="642" y="650"/>
                  </a:lnTo>
                  <a:lnTo>
                    <a:pt x="534" y="463"/>
                  </a:lnTo>
                  <a:lnTo>
                    <a:pt x="491" y="303"/>
                  </a:lnTo>
                  <a:lnTo>
                    <a:pt x="470" y="80"/>
                  </a:lnTo>
                  <a:lnTo>
                    <a:pt x="369" y="0"/>
                  </a:lnTo>
                  <a:lnTo>
                    <a:pt x="267" y="101"/>
                  </a:lnTo>
                  <a:lnTo>
                    <a:pt x="267" y="10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41360" y="3978000"/>
              <a:ext cx="173520" cy="502200"/>
            </a:xfrm>
            <a:custGeom>
              <a:avLst/>
              <a:gdLst/>
              <a:ahLst/>
              <a:rect l="l" t="t" r="r" b="b"/>
              <a:pathLst>
                <a:path w="324" h="912">
                  <a:moveTo>
                    <a:pt x="172" y="73"/>
                  </a:moveTo>
                  <a:lnTo>
                    <a:pt x="0" y="594"/>
                  </a:lnTo>
                  <a:lnTo>
                    <a:pt x="0" y="912"/>
                  </a:lnTo>
                  <a:lnTo>
                    <a:pt x="324" y="846"/>
                  </a:lnTo>
                  <a:lnTo>
                    <a:pt x="231" y="319"/>
                  </a:lnTo>
                  <a:lnTo>
                    <a:pt x="288" y="0"/>
                  </a:lnTo>
                  <a:lnTo>
                    <a:pt x="180" y="16"/>
                  </a:lnTo>
                  <a:lnTo>
                    <a:pt x="172" y="73"/>
                  </a:lnTo>
                  <a:lnTo>
                    <a:pt x="172" y="73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10560" y="3814920"/>
              <a:ext cx="953280" cy="672120"/>
            </a:xfrm>
            <a:custGeom>
              <a:avLst/>
              <a:gdLst/>
              <a:ahLst/>
              <a:rect l="l" t="t" r="r" b="b"/>
              <a:pathLst>
                <a:path w="1778" h="1221">
                  <a:moveTo>
                    <a:pt x="0" y="1128"/>
                  </a:moveTo>
                  <a:lnTo>
                    <a:pt x="355" y="578"/>
                  </a:lnTo>
                  <a:lnTo>
                    <a:pt x="643" y="280"/>
                  </a:lnTo>
                  <a:lnTo>
                    <a:pt x="1012" y="0"/>
                  </a:lnTo>
                  <a:lnTo>
                    <a:pt x="1778" y="555"/>
                  </a:lnTo>
                  <a:lnTo>
                    <a:pt x="1706" y="578"/>
                  </a:lnTo>
                  <a:lnTo>
                    <a:pt x="1770" y="650"/>
                  </a:lnTo>
                  <a:lnTo>
                    <a:pt x="1632" y="658"/>
                  </a:lnTo>
                  <a:lnTo>
                    <a:pt x="1748" y="750"/>
                  </a:lnTo>
                  <a:lnTo>
                    <a:pt x="1452" y="830"/>
                  </a:lnTo>
                  <a:lnTo>
                    <a:pt x="1264" y="938"/>
                  </a:lnTo>
                  <a:lnTo>
                    <a:pt x="1097" y="1076"/>
                  </a:lnTo>
                  <a:lnTo>
                    <a:pt x="1033" y="1200"/>
                  </a:lnTo>
                  <a:lnTo>
                    <a:pt x="195" y="1221"/>
                  </a:lnTo>
                  <a:lnTo>
                    <a:pt x="0" y="1128"/>
                  </a:lnTo>
                  <a:lnTo>
                    <a:pt x="0" y="1128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22280" y="3942720"/>
              <a:ext cx="891000" cy="557280"/>
            </a:xfrm>
            <a:custGeom>
              <a:avLst/>
              <a:gdLst/>
              <a:ahLst/>
              <a:rect l="l" t="t" r="r" b="b"/>
              <a:pathLst>
                <a:path w="1663" h="1012">
                  <a:moveTo>
                    <a:pt x="0" y="686"/>
                  </a:moveTo>
                  <a:lnTo>
                    <a:pt x="95" y="629"/>
                  </a:lnTo>
                  <a:lnTo>
                    <a:pt x="16" y="542"/>
                  </a:lnTo>
                  <a:lnTo>
                    <a:pt x="131" y="470"/>
                  </a:lnTo>
                  <a:lnTo>
                    <a:pt x="31" y="391"/>
                  </a:lnTo>
                  <a:lnTo>
                    <a:pt x="491" y="152"/>
                  </a:lnTo>
                  <a:lnTo>
                    <a:pt x="774" y="42"/>
                  </a:lnTo>
                  <a:lnTo>
                    <a:pt x="933" y="0"/>
                  </a:lnTo>
                  <a:lnTo>
                    <a:pt x="1221" y="281"/>
                  </a:lnTo>
                  <a:lnTo>
                    <a:pt x="1424" y="535"/>
                  </a:lnTo>
                  <a:lnTo>
                    <a:pt x="1575" y="802"/>
                  </a:lnTo>
                  <a:lnTo>
                    <a:pt x="1663" y="969"/>
                  </a:lnTo>
                  <a:lnTo>
                    <a:pt x="666" y="1012"/>
                  </a:lnTo>
                  <a:lnTo>
                    <a:pt x="463" y="817"/>
                  </a:lnTo>
                  <a:lnTo>
                    <a:pt x="0" y="686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68480" y="4308480"/>
              <a:ext cx="176760" cy="142920"/>
            </a:xfrm>
            <a:custGeom>
              <a:avLst/>
              <a:gdLst/>
              <a:ahLst/>
              <a:rect l="l" t="t" r="r" b="b"/>
              <a:pathLst>
                <a:path w="332" h="260">
                  <a:moveTo>
                    <a:pt x="116" y="0"/>
                  </a:moveTo>
                  <a:lnTo>
                    <a:pt x="0" y="173"/>
                  </a:lnTo>
                  <a:lnTo>
                    <a:pt x="252" y="260"/>
                  </a:lnTo>
                  <a:lnTo>
                    <a:pt x="332" y="93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63480" y="4383360"/>
              <a:ext cx="181080" cy="139680"/>
            </a:xfrm>
            <a:custGeom>
              <a:avLst/>
              <a:gdLst/>
              <a:ahLst/>
              <a:rect l="l" t="t" r="r" b="b"/>
              <a:pathLst>
                <a:path w="339" h="254">
                  <a:moveTo>
                    <a:pt x="0" y="180"/>
                  </a:moveTo>
                  <a:lnTo>
                    <a:pt x="79" y="15"/>
                  </a:lnTo>
                  <a:lnTo>
                    <a:pt x="331" y="0"/>
                  </a:lnTo>
                  <a:lnTo>
                    <a:pt x="339" y="87"/>
                  </a:lnTo>
                  <a:lnTo>
                    <a:pt x="108" y="254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65640" y="2458440"/>
              <a:ext cx="408600" cy="166320"/>
            </a:xfrm>
            <a:custGeom>
              <a:avLst/>
              <a:gdLst/>
              <a:ahLst/>
              <a:rect l="l" t="t" r="r" b="b"/>
              <a:pathLst>
                <a:path w="762" h="304">
                  <a:moveTo>
                    <a:pt x="762" y="57"/>
                  </a:moveTo>
                  <a:lnTo>
                    <a:pt x="728" y="25"/>
                  </a:lnTo>
                  <a:lnTo>
                    <a:pt x="630" y="6"/>
                  </a:lnTo>
                  <a:lnTo>
                    <a:pt x="556" y="0"/>
                  </a:lnTo>
                  <a:lnTo>
                    <a:pt x="431" y="10"/>
                  </a:lnTo>
                  <a:lnTo>
                    <a:pt x="357" y="31"/>
                  </a:lnTo>
                  <a:lnTo>
                    <a:pt x="311" y="78"/>
                  </a:lnTo>
                  <a:lnTo>
                    <a:pt x="230" y="88"/>
                  </a:lnTo>
                  <a:lnTo>
                    <a:pt x="152" y="101"/>
                  </a:lnTo>
                  <a:lnTo>
                    <a:pt x="71" y="133"/>
                  </a:lnTo>
                  <a:lnTo>
                    <a:pt x="21" y="190"/>
                  </a:lnTo>
                  <a:lnTo>
                    <a:pt x="0" y="249"/>
                  </a:lnTo>
                  <a:lnTo>
                    <a:pt x="10" y="290"/>
                  </a:lnTo>
                  <a:lnTo>
                    <a:pt x="55" y="304"/>
                  </a:lnTo>
                  <a:lnTo>
                    <a:pt x="82" y="243"/>
                  </a:lnTo>
                  <a:lnTo>
                    <a:pt x="127" y="207"/>
                  </a:lnTo>
                  <a:lnTo>
                    <a:pt x="182" y="184"/>
                  </a:lnTo>
                  <a:lnTo>
                    <a:pt x="249" y="171"/>
                  </a:lnTo>
                  <a:lnTo>
                    <a:pt x="323" y="162"/>
                  </a:lnTo>
                  <a:lnTo>
                    <a:pt x="366" y="152"/>
                  </a:lnTo>
                  <a:lnTo>
                    <a:pt x="402" y="127"/>
                  </a:lnTo>
                  <a:lnTo>
                    <a:pt x="423" y="84"/>
                  </a:lnTo>
                  <a:lnTo>
                    <a:pt x="472" y="65"/>
                  </a:lnTo>
                  <a:lnTo>
                    <a:pt x="552" y="57"/>
                  </a:lnTo>
                  <a:lnTo>
                    <a:pt x="635" y="63"/>
                  </a:lnTo>
                  <a:lnTo>
                    <a:pt x="707" y="86"/>
                  </a:lnTo>
                  <a:lnTo>
                    <a:pt x="758" y="84"/>
                  </a:lnTo>
                  <a:lnTo>
                    <a:pt x="762" y="57"/>
                  </a:lnTo>
                  <a:lnTo>
                    <a:pt x="762" y="57"/>
                  </a:lnTo>
                  <a:lnTo>
                    <a:pt x="7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50880" y="2555640"/>
              <a:ext cx="353520" cy="567360"/>
            </a:xfrm>
            <a:custGeom>
              <a:avLst/>
              <a:gdLst/>
              <a:ahLst/>
              <a:rect l="l" t="t" r="r" b="b"/>
              <a:pathLst>
                <a:path w="659" h="1031">
                  <a:moveTo>
                    <a:pt x="76" y="170"/>
                  </a:moveTo>
                  <a:lnTo>
                    <a:pt x="144" y="159"/>
                  </a:lnTo>
                  <a:lnTo>
                    <a:pt x="208" y="136"/>
                  </a:lnTo>
                  <a:lnTo>
                    <a:pt x="271" y="115"/>
                  </a:lnTo>
                  <a:lnTo>
                    <a:pt x="316" y="94"/>
                  </a:lnTo>
                  <a:lnTo>
                    <a:pt x="341" y="53"/>
                  </a:lnTo>
                  <a:lnTo>
                    <a:pt x="394" y="32"/>
                  </a:lnTo>
                  <a:lnTo>
                    <a:pt x="470" y="7"/>
                  </a:lnTo>
                  <a:lnTo>
                    <a:pt x="549" y="0"/>
                  </a:lnTo>
                  <a:lnTo>
                    <a:pt x="606" y="2"/>
                  </a:lnTo>
                  <a:lnTo>
                    <a:pt x="654" y="30"/>
                  </a:lnTo>
                  <a:lnTo>
                    <a:pt x="659" y="58"/>
                  </a:lnTo>
                  <a:lnTo>
                    <a:pt x="618" y="98"/>
                  </a:lnTo>
                  <a:lnTo>
                    <a:pt x="496" y="149"/>
                  </a:lnTo>
                  <a:lnTo>
                    <a:pt x="349" y="250"/>
                  </a:lnTo>
                  <a:lnTo>
                    <a:pt x="256" y="333"/>
                  </a:lnTo>
                  <a:lnTo>
                    <a:pt x="199" y="396"/>
                  </a:lnTo>
                  <a:lnTo>
                    <a:pt x="138" y="542"/>
                  </a:lnTo>
                  <a:lnTo>
                    <a:pt x="95" y="743"/>
                  </a:lnTo>
                  <a:lnTo>
                    <a:pt x="32" y="961"/>
                  </a:lnTo>
                  <a:lnTo>
                    <a:pt x="11" y="1031"/>
                  </a:lnTo>
                  <a:lnTo>
                    <a:pt x="0" y="989"/>
                  </a:lnTo>
                  <a:lnTo>
                    <a:pt x="7" y="826"/>
                  </a:lnTo>
                  <a:lnTo>
                    <a:pt x="26" y="680"/>
                  </a:lnTo>
                  <a:lnTo>
                    <a:pt x="74" y="508"/>
                  </a:lnTo>
                  <a:lnTo>
                    <a:pt x="163" y="320"/>
                  </a:lnTo>
                  <a:lnTo>
                    <a:pt x="258" y="184"/>
                  </a:lnTo>
                  <a:lnTo>
                    <a:pt x="167" y="220"/>
                  </a:lnTo>
                  <a:lnTo>
                    <a:pt x="121" y="233"/>
                  </a:lnTo>
                  <a:lnTo>
                    <a:pt x="76" y="212"/>
                  </a:lnTo>
                  <a:lnTo>
                    <a:pt x="76" y="170"/>
                  </a:lnTo>
                  <a:lnTo>
                    <a:pt x="76" y="170"/>
                  </a:lnTo>
                  <a:lnTo>
                    <a:pt x="76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25440" y="2625120"/>
              <a:ext cx="49320" cy="6336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0" y="24"/>
                  </a:moveTo>
                  <a:lnTo>
                    <a:pt x="39" y="91"/>
                  </a:lnTo>
                  <a:lnTo>
                    <a:pt x="66" y="115"/>
                  </a:lnTo>
                  <a:lnTo>
                    <a:pt x="93" y="100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02520" y="2997360"/>
              <a:ext cx="91080" cy="12420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0" y="166"/>
                  </a:moveTo>
                  <a:lnTo>
                    <a:pt x="150" y="0"/>
                  </a:lnTo>
                  <a:lnTo>
                    <a:pt x="171" y="37"/>
                  </a:lnTo>
                  <a:lnTo>
                    <a:pt x="93" y="163"/>
                  </a:lnTo>
                  <a:lnTo>
                    <a:pt x="66" y="218"/>
                  </a:lnTo>
                  <a:lnTo>
                    <a:pt x="40" y="225"/>
                  </a:lnTo>
                  <a:lnTo>
                    <a:pt x="9" y="20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64520" y="2902680"/>
              <a:ext cx="227160" cy="56880"/>
            </a:xfrm>
            <a:custGeom>
              <a:avLst/>
              <a:gdLst/>
              <a:ahLst/>
              <a:rect l="l" t="t" r="r" b="b"/>
              <a:pathLst>
                <a:path w="425" h="102">
                  <a:moveTo>
                    <a:pt x="0" y="74"/>
                  </a:moveTo>
                  <a:lnTo>
                    <a:pt x="13" y="49"/>
                  </a:lnTo>
                  <a:lnTo>
                    <a:pt x="48" y="26"/>
                  </a:lnTo>
                  <a:lnTo>
                    <a:pt x="175" y="19"/>
                  </a:lnTo>
                  <a:lnTo>
                    <a:pt x="286" y="13"/>
                  </a:lnTo>
                  <a:lnTo>
                    <a:pt x="410" y="0"/>
                  </a:lnTo>
                  <a:lnTo>
                    <a:pt x="425" y="21"/>
                  </a:lnTo>
                  <a:lnTo>
                    <a:pt x="353" y="53"/>
                  </a:lnTo>
                  <a:lnTo>
                    <a:pt x="216" y="74"/>
                  </a:lnTo>
                  <a:lnTo>
                    <a:pt x="104" y="93"/>
                  </a:lnTo>
                  <a:lnTo>
                    <a:pt x="32" y="10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45040" y="2827800"/>
              <a:ext cx="32040" cy="231120"/>
            </a:xfrm>
            <a:custGeom>
              <a:avLst/>
              <a:gdLst/>
              <a:ahLst/>
              <a:rect l="l" t="t" r="r" b="b"/>
              <a:pathLst>
                <a:path w="59" h="419">
                  <a:moveTo>
                    <a:pt x="0" y="10"/>
                  </a:moveTo>
                  <a:lnTo>
                    <a:pt x="21" y="419"/>
                  </a:lnTo>
                  <a:lnTo>
                    <a:pt x="43" y="399"/>
                  </a:lnTo>
                  <a:lnTo>
                    <a:pt x="59" y="50"/>
                  </a:lnTo>
                  <a:lnTo>
                    <a:pt x="51" y="14"/>
                  </a:lnTo>
                  <a:lnTo>
                    <a:pt x="3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42160" y="2629440"/>
              <a:ext cx="32040" cy="97920"/>
            </a:xfrm>
            <a:custGeom>
              <a:avLst/>
              <a:gdLst/>
              <a:ahLst/>
              <a:rect l="l" t="t" r="r" b="b"/>
              <a:pathLst>
                <a:path w="61" h="178">
                  <a:moveTo>
                    <a:pt x="0" y="23"/>
                  </a:moveTo>
                  <a:lnTo>
                    <a:pt x="12" y="178"/>
                  </a:lnTo>
                  <a:lnTo>
                    <a:pt x="36" y="148"/>
                  </a:lnTo>
                  <a:lnTo>
                    <a:pt x="61" y="63"/>
                  </a:lnTo>
                  <a:lnTo>
                    <a:pt x="59" y="17"/>
                  </a:lnTo>
                  <a:lnTo>
                    <a:pt x="38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92320" y="2454120"/>
              <a:ext cx="194040" cy="139680"/>
            </a:xfrm>
            <a:custGeom>
              <a:avLst/>
              <a:gdLst/>
              <a:ahLst/>
              <a:rect l="l" t="t" r="r" b="b"/>
              <a:pathLst>
                <a:path w="362" h="254">
                  <a:moveTo>
                    <a:pt x="135" y="184"/>
                  </a:moveTo>
                  <a:lnTo>
                    <a:pt x="51" y="134"/>
                  </a:lnTo>
                  <a:lnTo>
                    <a:pt x="13" y="100"/>
                  </a:lnTo>
                  <a:lnTo>
                    <a:pt x="0" y="78"/>
                  </a:lnTo>
                  <a:lnTo>
                    <a:pt x="15" y="36"/>
                  </a:lnTo>
                  <a:lnTo>
                    <a:pt x="59" y="4"/>
                  </a:lnTo>
                  <a:lnTo>
                    <a:pt x="127" y="0"/>
                  </a:lnTo>
                  <a:lnTo>
                    <a:pt x="199" y="24"/>
                  </a:lnTo>
                  <a:lnTo>
                    <a:pt x="271" y="79"/>
                  </a:lnTo>
                  <a:lnTo>
                    <a:pt x="334" y="159"/>
                  </a:lnTo>
                  <a:lnTo>
                    <a:pt x="362" y="214"/>
                  </a:lnTo>
                  <a:lnTo>
                    <a:pt x="343" y="241"/>
                  </a:lnTo>
                  <a:lnTo>
                    <a:pt x="315" y="254"/>
                  </a:lnTo>
                  <a:lnTo>
                    <a:pt x="264" y="241"/>
                  </a:lnTo>
                  <a:lnTo>
                    <a:pt x="248" y="214"/>
                  </a:lnTo>
                  <a:lnTo>
                    <a:pt x="286" y="199"/>
                  </a:lnTo>
                  <a:lnTo>
                    <a:pt x="250" y="140"/>
                  </a:lnTo>
                  <a:lnTo>
                    <a:pt x="193" y="93"/>
                  </a:lnTo>
                  <a:lnTo>
                    <a:pt x="120" y="70"/>
                  </a:lnTo>
                  <a:lnTo>
                    <a:pt x="93" y="78"/>
                  </a:lnTo>
                  <a:lnTo>
                    <a:pt x="106" y="100"/>
                  </a:lnTo>
                  <a:lnTo>
                    <a:pt x="152" y="134"/>
                  </a:lnTo>
                  <a:lnTo>
                    <a:pt x="169" y="178"/>
                  </a:lnTo>
                  <a:lnTo>
                    <a:pt x="135" y="184"/>
                  </a:lnTo>
                  <a:lnTo>
                    <a:pt x="135" y="184"/>
                  </a:lnTo>
                  <a:lnTo>
                    <a:pt x="1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44320" y="2496960"/>
              <a:ext cx="42480" cy="70200"/>
            </a:xfrm>
            <a:custGeom>
              <a:avLst/>
              <a:gdLst/>
              <a:ahLst/>
              <a:rect l="l" t="t" r="r" b="b"/>
              <a:pathLst>
                <a:path w="82" h="128">
                  <a:moveTo>
                    <a:pt x="0" y="17"/>
                  </a:moveTo>
                  <a:lnTo>
                    <a:pt x="15" y="81"/>
                  </a:lnTo>
                  <a:lnTo>
                    <a:pt x="44" y="128"/>
                  </a:lnTo>
                  <a:lnTo>
                    <a:pt x="70" y="123"/>
                  </a:lnTo>
                  <a:lnTo>
                    <a:pt x="82" y="73"/>
                  </a:lnTo>
                  <a:lnTo>
                    <a:pt x="68" y="22"/>
                  </a:lnTo>
                  <a:lnTo>
                    <a:pt x="34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12000" y="2522520"/>
              <a:ext cx="29880" cy="349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0" y="8"/>
                  </a:moveTo>
                  <a:lnTo>
                    <a:pt x="6" y="57"/>
                  </a:lnTo>
                  <a:lnTo>
                    <a:pt x="29" y="64"/>
                  </a:lnTo>
                  <a:lnTo>
                    <a:pt x="51" y="61"/>
                  </a:lnTo>
                  <a:lnTo>
                    <a:pt x="57" y="36"/>
                  </a:lnTo>
                  <a:lnTo>
                    <a:pt x="42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14080" y="3188880"/>
              <a:ext cx="42840" cy="129960"/>
            </a:xfrm>
            <a:custGeom>
              <a:avLst/>
              <a:gdLst/>
              <a:ahLst/>
              <a:rect l="l" t="t" r="r" b="b"/>
              <a:pathLst>
                <a:path w="80" h="235">
                  <a:moveTo>
                    <a:pt x="0" y="17"/>
                  </a:moveTo>
                  <a:lnTo>
                    <a:pt x="17" y="124"/>
                  </a:lnTo>
                  <a:lnTo>
                    <a:pt x="38" y="228"/>
                  </a:lnTo>
                  <a:lnTo>
                    <a:pt x="68" y="235"/>
                  </a:lnTo>
                  <a:lnTo>
                    <a:pt x="80" y="209"/>
                  </a:lnTo>
                  <a:lnTo>
                    <a:pt x="80" y="144"/>
                  </a:lnTo>
                  <a:lnTo>
                    <a:pt x="70" y="67"/>
                  </a:lnTo>
                  <a:lnTo>
                    <a:pt x="63" y="17"/>
                  </a:lnTo>
                  <a:lnTo>
                    <a:pt x="32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90720" y="3190320"/>
              <a:ext cx="56520" cy="56160"/>
            </a:xfrm>
            <a:custGeom>
              <a:avLst/>
              <a:gdLst/>
              <a:ahLst/>
              <a:rect l="l" t="t" r="r" b="b"/>
              <a:pathLst>
                <a:path w="106" h="103">
                  <a:moveTo>
                    <a:pt x="0" y="38"/>
                  </a:moveTo>
                  <a:lnTo>
                    <a:pt x="17" y="10"/>
                  </a:lnTo>
                  <a:lnTo>
                    <a:pt x="55" y="0"/>
                  </a:lnTo>
                  <a:lnTo>
                    <a:pt x="87" y="10"/>
                  </a:lnTo>
                  <a:lnTo>
                    <a:pt x="106" y="38"/>
                  </a:lnTo>
                  <a:lnTo>
                    <a:pt x="100" y="78"/>
                  </a:lnTo>
                  <a:lnTo>
                    <a:pt x="79" y="99"/>
                  </a:lnTo>
                  <a:lnTo>
                    <a:pt x="45" y="103"/>
                  </a:lnTo>
                  <a:lnTo>
                    <a:pt x="7" y="7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46480" y="3109680"/>
              <a:ext cx="95040" cy="56880"/>
            </a:xfrm>
            <a:custGeom>
              <a:avLst/>
              <a:gdLst/>
              <a:ahLst/>
              <a:rect l="l" t="t" r="r" b="b"/>
              <a:pathLst>
                <a:path w="178" h="104">
                  <a:moveTo>
                    <a:pt x="13" y="12"/>
                  </a:moveTo>
                  <a:lnTo>
                    <a:pt x="41" y="0"/>
                  </a:lnTo>
                  <a:lnTo>
                    <a:pt x="77" y="6"/>
                  </a:lnTo>
                  <a:lnTo>
                    <a:pt x="125" y="27"/>
                  </a:lnTo>
                  <a:lnTo>
                    <a:pt x="170" y="67"/>
                  </a:lnTo>
                  <a:lnTo>
                    <a:pt x="178" y="104"/>
                  </a:lnTo>
                  <a:lnTo>
                    <a:pt x="140" y="97"/>
                  </a:lnTo>
                  <a:lnTo>
                    <a:pt x="72" y="86"/>
                  </a:lnTo>
                  <a:lnTo>
                    <a:pt x="26" y="70"/>
                  </a:lnTo>
                  <a:lnTo>
                    <a:pt x="0" y="46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32520" y="3297240"/>
              <a:ext cx="57600" cy="6696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9" y="53"/>
                  </a:moveTo>
                  <a:lnTo>
                    <a:pt x="34" y="11"/>
                  </a:lnTo>
                  <a:lnTo>
                    <a:pt x="72" y="0"/>
                  </a:lnTo>
                  <a:lnTo>
                    <a:pt x="100" y="19"/>
                  </a:lnTo>
                  <a:lnTo>
                    <a:pt x="108" y="49"/>
                  </a:lnTo>
                  <a:lnTo>
                    <a:pt x="108" y="81"/>
                  </a:lnTo>
                  <a:lnTo>
                    <a:pt x="93" y="104"/>
                  </a:lnTo>
                  <a:lnTo>
                    <a:pt x="49" y="123"/>
                  </a:lnTo>
                  <a:lnTo>
                    <a:pt x="13" y="123"/>
                  </a:lnTo>
                  <a:lnTo>
                    <a:pt x="0" y="98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85360" y="3209040"/>
              <a:ext cx="155160" cy="479160"/>
            </a:xfrm>
            <a:custGeom>
              <a:avLst/>
              <a:gdLst/>
              <a:ahLst/>
              <a:rect l="l" t="t" r="r" b="b"/>
              <a:pathLst>
                <a:path w="290" h="870">
                  <a:moveTo>
                    <a:pt x="70" y="0"/>
                  </a:moveTo>
                  <a:lnTo>
                    <a:pt x="38" y="93"/>
                  </a:lnTo>
                  <a:lnTo>
                    <a:pt x="19" y="199"/>
                  </a:lnTo>
                  <a:lnTo>
                    <a:pt x="5" y="336"/>
                  </a:lnTo>
                  <a:lnTo>
                    <a:pt x="0" y="446"/>
                  </a:lnTo>
                  <a:lnTo>
                    <a:pt x="13" y="518"/>
                  </a:lnTo>
                  <a:lnTo>
                    <a:pt x="36" y="594"/>
                  </a:lnTo>
                  <a:lnTo>
                    <a:pt x="68" y="654"/>
                  </a:lnTo>
                  <a:lnTo>
                    <a:pt x="123" y="728"/>
                  </a:lnTo>
                  <a:lnTo>
                    <a:pt x="201" y="802"/>
                  </a:lnTo>
                  <a:lnTo>
                    <a:pt x="280" y="870"/>
                  </a:lnTo>
                  <a:lnTo>
                    <a:pt x="290" y="800"/>
                  </a:lnTo>
                  <a:lnTo>
                    <a:pt x="220" y="723"/>
                  </a:lnTo>
                  <a:lnTo>
                    <a:pt x="166" y="666"/>
                  </a:lnTo>
                  <a:lnTo>
                    <a:pt x="132" y="613"/>
                  </a:lnTo>
                  <a:lnTo>
                    <a:pt x="108" y="567"/>
                  </a:lnTo>
                  <a:lnTo>
                    <a:pt x="81" y="487"/>
                  </a:lnTo>
                  <a:lnTo>
                    <a:pt x="76" y="412"/>
                  </a:lnTo>
                  <a:lnTo>
                    <a:pt x="70" y="256"/>
                  </a:lnTo>
                  <a:lnTo>
                    <a:pt x="76" y="156"/>
                  </a:lnTo>
                  <a:lnTo>
                    <a:pt x="89" y="63"/>
                  </a:lnTo>
                  <a:lnTo>
                    <a:pt x="98" y="1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08480" y="3156120"/>
              <a:ext cx="88920" cy="585000"/>
            </a:xfrm>
            <a:custGeom>
              <a:avLst/>
              <a:gdLst/>
              <a:ahLst/>
              <a:rect l="l" t="t" r="r" b="b"/>
              <a:pathLst>
                <a:path w="165" h="1061">
                  <a:moveTo>
                    <a:pt x="17" y="34"/>
                  </a:moveTo>
                  <a:lnTo>
                    <a:pt x="55" y="165"/>
                  </a:lnTo>
                  <a:lnTo>
                    <a:pt x="80" y="365"/>
                  </a:lnTo>
                  <a:lnTo>
                    <a:pt x="102" y="555"/>
                  </a:lnTo>
                  <a:lnTo>
                    <a:pt x="91" y="731"/>
                  </a:lnTo>
                  <a:lnTo>
                    <a:pt x="34" y="987"/>
                  </a:lnTo>
                  <a:lnTo>
                    <a:pt x="0" y="1061"/>
                  </a:lnTo>
                  <a:lnTo>
                    <a:pt x="36" y="1046"/>
                  </a:lnTo>
                  <a:lnTo>
                    <a:pt x="98" y="947"/>
                  </a:lnTo>
                  <a:lnTo>
                    <a:pt x="134" y="860"/>
                  </a:lnTo>
                  <a:lnTo>
                    <a:pt x="165" y="697"/>
                  </a:lnTo>
                  <a:lnTo>
                    <a:pt x="165" y="451"/>
                  </a:lnTo>
                  <a:lnTo>
                    <a:pt x="144" y="240"/>
                  </a:lnTo>
                  <a:lnTo>
                    <a:pt x="98" y="70"/>
                  </a:lnTo>
                  <a:lnTo>
                    <a:pt x="55" y="0"/>
                  </a:lnTo>
                  <a:lnTo>
                    <a:pt x="21" y="7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47360" y="3628800"/>
              <a:ext cx="713880" cy="452520"/>
            </a:xfrm>
            <a:custGeom>
              <a:avLst/>
              <a:gdLst/>
              <a:ahLst/>
              <a:rect l="l" t="t" r="r" b="b"/>
              <a:pathLst>
                <a:path w="1332" h="821">
                  <a:moveTo>
                    <a:pt x="0" y="338"/>
                  </a:moveTo>
                  <a:lnTo>
                    <a:pt x="44" y="315"/>
                  </a:lnTo>
                  <a:lnTo>
                    <a:pt x="123" y="300"/>
                  </a:lnTo>
                  <a:lnTo>
                    <a:pt x="243" y="249"/>
                  </a:lnTo>
                  <a:lnTo>
                    <a:pt x="356" y="188"/>
                  </a:lnTo>
                  <a:lnTo>
                    <a:pt x="453" y="124"/>
                  </a:lnTo>
                  <a:lnTo>
                    <a:pt x="550" y="40"/>
                  </a:lnTo>
                  <a:lnTo>
                    <a:pt x="599" y="0"/>
                  </a:lnTo>
                  <a:lnTo>
                    <a:pt x="627" y="17"/>
                  </a:lnTo>
                  <a:lnTo>
                    <a:pt x="612" y="67"/>
                  </a:lnTo>
                  <a:lnTo>
                    <a:pt x="555" y="209"/>
                  </a:lnTo>
                  <a:lnTo>
                    <a:pt x="462" y="342"/>
                  </a:lnTo>
                  <a:lnTo>
                    <a:pt x="415" y="372"/>
                  </a:lnTo>
                  <a:lnTo>
                    <a:pt x="476" y="448"/>
                  </a:lnTo>
                  <a:lnTo>
                    <a:pt x="603" y="561"/>
                  </a:lnTo>
                  <a:lnTo>
                    <a:pt x="694" y="639"/>
                  </a:lnTo>
                  <a:lnTo>
                    <a:pt x="781" y="704"/>
                  </a:lnTo>
                  <a:lnTo>
                    <a:pt x="834" y="724"/>
                  </a:lnTo>
                  <a:lnTo>
                    <a:pt x="881" y="734"/>
                  </a:lnTo>
                  <a:lnTo>
                    <a:pt x="940" y="734"/>
                  </a:lnTo>
                  <a:lnTo>
                    <a:pt x="993" y="723"/>
                  </a:lnTo>
                  <a:lnTo>
                    <a:pt x="1067" y="683"/>
                  </a:lnTo>
                  <a:lnTo>
                    <a:pt x="1124" y="647"/>
                  </a:lnTo>
                  <a:lnTo>
                    <a:pt x="1181" y="569"/>
                  </a:lnTo>
                  <a:lnTo>
                    <a:pt x="1230" y="470"/>
                  </a:lnTo>
                  <a:lnTo>
                    <a:pt x="1298" y="336"/>
                  </a:lnTo>
                  <a:lnTo>
                    <a:pt x="1313" y="321"/>
                  </a:lnTo>
                  <a:lnTo>
                    <a:pt x="1332" y="307"/>
                  </a:lnTo>
                  <a:lnTo>
                    <a:pt x="1327" y="414"/>
                  </a:lnTo>
                  <a:lnTo>
                    <a:pt x="1300" y="525"/>
                  </a:lnTo>
                  <a:lnTo>
                    <a:pt x="1279" y="569"/>
                  </a:lnTo>
                  <a:lnTo>
                    <a:pt x="1306" y="579"/>
                  </a:lnTo>
                  <a:lnTo>
                    <a:pt x="1321" y="616"/>
                  </a:lnTo>
                  <a:lnTo>
                    <a:pt x="1308" y="662"/>
                  </a:lnTo>
                  <a:lnTo>
                    <a:pt x="1260" y="723"/>
                  </a:lnTo>
                  <a:lnTo>
                    <a:pt x="1186" y="766"/>
                  </a:lnTo>
                  <a:lnTo>
                    <a:pt x="1095" y="797"/>
                  </a:lnTo>
                  <a:lnTo>
                    <a:pt x="1018" y="815"/>
                  </a:lnTo>
                  <a:lnTo>
                    <a:pt x="929" y="821"/>
                  </a:lnTo>
                  <a:lnTo>
                    <a:pt x="843" y="814"/>
                  </a:lnTo>
                  <a:lnTo>
                    <a:pt x="716" y="755"/>
                  </a:lnTo>
                  <a:lnTo>
                    <a:pt x="563" y="639"/>
                  </a:lnTo>
                  <a:lnTo>
                    <a:pt x="440" y="510"/>
                  </a:lnTo>
                  <a:lnTo>
                    <a:pt x="277" y="328"/>
                  </a:lnTo>
                  <a:lnTo>
                    <a:pt x="250" y="309"/>
                  </a:lnTo>
                  <a:lnTo>
                    <a:pt x="222" y="315"/>
                  </a:lnTo>
                  <a:lnTo>
                    <a:pt x="178" y="345"/>
                  </a:lnTo>
                  <a:lnTo>
                    <a:pt x="131" y="357"/>
                  </a:lnTo>
                  <a:lnTo>
                    <a:pt x="66" y="364"/>
                  </a:lnTo>
                  <a:lnTo>
                    <a:pt x="23" y="362"/>
                  </a:lnTo>
                  <a:lnTo>
                    <a:pt x="2" y="355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93680" y="3919680"/>
              <a:ext cx="120960" cy="37440"/>
            </a:xfrm>
            <a:custGeom>
              <a:avLst/>
              <a:gdLst/>
              <a:ahLst/>
              <a:rect l="l" t="t" r="r" b="b"/>
              <a:pathLst>
                <a:path w="228" h="69">
                  <a:moveTo>
                    <a:pt x="0" y="0"/>
                  </a:moveTo>
                  <a:lnTo>
                    <a:pt x="84" y="2"/>
                  </a:lnTo>
                  <a:lnTo>
                    <a:pt x="165" y="12"/>
                  </a:lnTo>
                  <a:lnTo>
                    <a:pt x="205" y="23"/>
                  </a:lnTo>
                  <a:lnTo>
                    <a:pt x="228" y="52"/>
                  </a:lnTo>
                  <a:lnTo>
                    <a:pt x="205" y="69"/>
                  </a:lnTo>
                  <a:lnTo>
                    <a:pt x="171" y="52"/>
                  </a:lnTo>
                  <a:lnTo>
                    <a:pt x="99" y="50"/>
                  </a:lnTo>
                  <a:lnTo>
                    <a:pt x="42" y="48"/>
                  </a:lnTo>
                  <a:lnTo>
                    <a:pt x="8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41360" y="4062600"/>
              <a:ext cx="100440" cy="327240"/>
            </a:xfrm>
            <a:custGeom>
              <a:avLst/>
              <a:gdLst/>
              <a:ahLst/>
              <a:rect l="l" t="t" r="r" b="b"/>
              <a:pathLst>
                <a:path w="187" h="595">
                  <a:moveTo>
                    <a:pt x="148" y="0"/>
                  </a:moveTo>
                  <a:lnTo>
                    <a:pt x="106" y="93"/>
                  </a:lnTo>
                  <a:lnTo>
                    <a:pt x="55" y="228"/>
                  </a:lnTo>
                  <a:lnTo>
                    <a:pt x="13" y="370"/>
                  </a:lnTo>
                  <a:lnTo>
                    <a:pt x="0" y="487"/>
                  </a:lnTo>
                  <a:lnTo>
                    <a:pt x="0" y="595"/>
                  </a:lnTo>
                  <a:lnTo>
                    <a:pt x="28" y="580"/>
                  </a:lnTo>
                  <a:lnTo>
                    <a:pt x="47" y="438"/>
                  </a:lnTo>
                  <a:lnTo>
                    <a:pt x="85" y="303"/>
                  </a:lnTo>
                  <a:lnTo>
                    <a:pt x="119" y="201"/>
                  </a:lnTo>
                  <a:lnTo>
                    <a:pt x="170" y="85"/>
                  </a:lnTo>
                  <a:lnTo>
                    <a:pt x="187" y="28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06880" y="4032000"/>
              <a:ext cx="1034640" cy="539640"/>
            </a:xfrm>
            <a:custGeom>
              <a:avLst/>
              <a:gdLst/>
              <a:ahLst/>
              <a:rect l="l" t="t" r="r" b="b"/>
              <a:pathLst>
                <a:path w="1929" h="980">
                  <a:moveTo>
                    <a:pt x="1774" y="13"/>
                  </a:moveTo>
                  <a:lnTo>
                    <a:pt x="1768" y="125"/>
                  </a:lnTo>
                  <a:lnTo>
                    <a:pt x="1758" y="301"/>
                  </a:lnTo>
                  <a:lnTo>
                    <a:pt x="1762" y="510"/>
                  </a:lnTo>
                  <a:lnTo>
                    <a:pt x="1774" y="664"/>
                  </a:lnTo>
                  <a:lnTo>
                    <a:pt x="1768" y="700"/>
                  </a:lnTo>
                  <a:lnTo>
                    <a:pt x="1704" y="715"/>
                  </a:lnTo>
                  <a:lnTo>
                    <a:pt x="1613" y="726"/>
                  </a:lnTo>
                  <a:lnTo>
                    <a:pt x="1506" y="764"/>
                  </a:lnTo>
                  <a:lnTo>
                    <a:pt x="1332" y="796"/>
                  </a:lnTo>
                  <a:lnTo>
                    <a:pt x="1110" y="804"/>
                  </a:lnTo>
                  <a:lnTo>
                    <a:pt x="790" y="819"/>
                  </a:lnTo>
                  <a:lnTo>
                    <a:pt x="652" y="832"/>
                  </a:lnTo>
                  <a:lnTo>
                    <a:pt x="620" y="821"/>
                  </a:lnTo>
                  <a:lnTo>
                    <a:pt x="595" y="772"/>
                  </a:lnTo>
                  <a:lnTo>
                    <a:pt x="614" y="749"/>
                  </a:lnTo>
                  <a:lnTo>
                    <a:pt x="654" y="713"/>
                  </a:lnTo>
                  <a:lnTo>
                    <a:pt x="674" y="669"/>
                  </a:lnTo>
                  <a:lnTo>
                    <a:pt x="663" y="629"/>
                  </a:lnTo>
                  <a:lnTo>
                    <a:pt x="595" y="607"/>
                  </a:lnTo>
                  <a:lnTo>
                    <a:pt x="496" y="607"/>
                  </a:lnTo>
                  <a:lnTo>
                    <a:pt x="422" y="637"/>
                  </a:lnTo>
                  <a:lnTo>
                    <a:pt x="350" y="718"/>
                  </a:lnTo>
                  <a:lnTo>
                    <a:pt x="320" y="762"/>
                  </a:lnTo>
                  <a:lnTo>
                    <a:pt x="369" y="798"/>
                  </a:lnTo>
                  <a:lnTo>
                    <a:pt x="407" y="728"/>
                  </a:lnTo>
                  <a:lnTo>
                    <a:pt x="449" y="692"/>
                  </a:lnTo>
                  <a:lnTo>
                    <a:pt x="500" y="679"/>
                  </a:lnTo>
                  <a:lnTo>
                    <a:pt x="561" y="669"/>
                  </a:lnTo>
                  <a:lnTo>
                    <a:pt x="578" y="675"/>
                  </a:lnTo>
                  <a:lnTo>
                    <a:pt x="568" y="703"/>
                  </a:lnTo>
                  <a:lnTo>
                    <a:pt x="386" y="811"/>
                  </a:lnTo>
                  <a:lnTo>
                    <a:pt x="358" y="827"/>
                  </a:lnTo>
                  <a:lnTo>
                    <a:pt x="322" y="817"/>
                  </a:lnTo>
                  <a:lnTo>
                    <a:pt x="276" y="806"/>
                  </a:lnTo>
                  <a:lnTo>
                    <a:pt x="146" y="821"/>
                  </a:lnTo>
                  <a:lnTo>
                    <a:pt x="28" y="853"/>
                  </a:lnTo>
                  <a:lnTo>
                    <a:pt x="4" y="885"/>
                  </a:lnTo>
                  <a:lnTo>
                    <a:pt x="0" y="918"/>
                  </a:lnTo>
                  <a:lnTo>
                    <a:pt x="23" y="940"/>
                  </a:lnTo>
                  <a:lnTo>
                    <a:pt x="93" y="961"/>
                  </a:lnTo>
                  <a:lnTo>
                    <a:pt x="193" y="980"/>
                  </a:lnTo>
                  <a:lnTo>
                    <a:pt x="307" y="980"/>
                  </a:lnTo>
                  <a:lnTo>
                    <a:pt x="436" y="967"/>
                  </a:lnTo>
                  <a:lnTo>
                    <a:pt x="620" y="959"/>
                  </a:lnTo>
                  <a:lnTo>
                    <a:pt x="830" y="948"/>
                  </a:lnTo>
                  <a:lnTo>
                    <a:pt x="1065" y="931"/>
                  </a:lnTo>
                  <a:lnTo>
                    <a:pt x="1271" y="914"/>
                  </a:lnTo>
                  <a:lnTo>
                    <a:pt x="1455" y="919"/>
                  </a:lnTo>
                  <a:lnTo>
                    <a:pt x="1592" y="938"/>
                  </a:lnTo>
                  <a:lnTo>
                    <a:pt x="1662" y="940"/>
                  </a:lnTo>
                  <a:lnTo>
                    <a:pt x="1719" y="933"/>
                  </a:lnTo>
                  <a:lnTo>
                    <a:pt x="1768" y="904"/>
                  </a:lnTo>
                  <a:lnTo>
                    <a:pt x="1796" y="859"/>
                  </a:lnTo>
                  <a:lnTo>
                    <a:pt x="1844" y="845"/>
                  </a:lnTo>
                  <a:lnTo>
                    <a:pt x="1908" y="832"/>
                  </a:lnTo>
                  <a:lnTo>
                    <a:pt x="1929" y="791"/>
                  </a:lnTo>
                  <a:lnTo>
                    <a:pt x="1914" y="730"/>
                  </a:lnTo>
                  <a:lnTo>
                    <a:pt x="1876" y="707"/>
                  </a:lnTo>
                  <a:lnTo>
                    <a:pt x="1840" y="633"/>
                  </a:lnTo>
                  <a:lnTo>
                    <a:pt x="1823" y="482"/>
                  </a:lnTo>
                  <a:lnTo>
                    <a:pt x="1817" y="322"/>
                  </a:lnTo>
                  <a:lnTo>
                    <a:pt x="1823" y="216"/>
                  </a:lnTo>
                  <a:lnTo>
                    <a:pt x="1838" y="119"/>
                  </a:lnTo>
                  <a:lnTo>
                    <a:pt x="1844" y="47"/>
                  </a:lnTo>
                  <a:lnTo>
                    <a:pt x="1825" y="19"/>
                  </a:lnTo>
                  <a:lnTo>
                    <a:pt x="1789" y="0"/>
                  </a:lnTo>
                  <a:lnTo>
                    <a:pt x="1774" y="13"/>
                  </a:lnTo>
                  <a:lnTo>
                    <a:pt x="1774" y="13"/>
                  </a:lnTo>
                  <a:lnTo>
                    <a:pt x="177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0360" y="4086000"/>
              <a:ext cx="302400" cy="341280"/>
            </a:xfrm>
            <a:custGeom>
              <a:avLst/>
              <a:gdLst/>
              <a:ahLst/>
              <a:rect l="l" t="t" r="r" b="b"/>
              <a:pathLst>
                <a:path w="565" h="619">
                  <a:moveTo>
                    <a:pt x="0" y="55"/>
                  </a:moveTo>
                  <a:lnTo>
                    <a:pt x="175" y="202"/>
                  </a:lnTo>
                  <a:lnTo>
                    <a:pt x="298" y="322"/>
                  </a:lnTo>
                  <a:lnTo>
                    <a:pt x="408" y="430"/>
                  </a:lnTo>
                  <a:lnTo>
                    <a:pt x="487" y="536"/>
                  </a:lnTo>
                  <a:lnTo>
                    <a:pt x="546" y="619"/>
                  </a:lnTo>
                  <a:lnTo>
                    <a:pt x="565" y="599"/>
                  </a:lnTo>
                  <a:lnTo>
                    <a:pt x="519" y="500"/>
                  </a:lnTo>
                  <a:lnTo>
                    <a:pt x="396" y="347"/>
                  </a:lnTo>
                  <a:lnTo>
                    <a:pt x="239" y="178"/>
                  </a:lnTo>
                  <a:lnTo>
                    <a:pt x="68" y="19"/>
                  </a:lnTo>
                  <a:lnTo>
                    <a:pt x="32" y="0"/>
                  </a:lnTo>
                  <a:lnTo>
                    <a:pt x="4" y="1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2760" y="4033080"/>
              <a:ext cx="334440" cy="409680"/>
            </a:xfrm>
            <a:custGeom>
              <a:avLst/>
              <a:gdLst/>
              <a:ahLst/>
              <a:rect l="l" t="t" r="r" b="b"/>
              <a:pathLst>
                <a:path w="623" h="745">
                  <a:moveTo>
                    <a:pt x="0" y="47"/>
                  </a:moveTo>
                  <a:lnTo>
                    <a:pt x="146" y="184"/>
                  </a:lnTo>
                  <a:lnTo>
                    <a:pt x="235" y="265"/>
                  </a:lnTo>
                  <a:lnTo>
                    <a:pt x="326" y="358"/>
                  </a:lnTo>
                  <a:lnTo>
                    <a:pt x="443" y="506"/>
                  </a:lnTo>
                  <a:lnTo>
                    <a:pt x="567" y="688"/>
                  </a:lnTo>
                  <a:lnTo>
                    <a:pt x="603" y="745"/>
                  </a:lnTo>
                  <a:lnTo>
                    <a:pt x="623" y="705"/>
                  </a:lnTo>
                  <a:lnTo>
                    <a:pt x="527" y="540"/>
                  </a:lnTo>
                  <a:lnTo>
                    <a:pt x="364" y="337"/>
                  </a:lnTo>
                  <a:lnTo>
                    <a:pt x="278" y="239"/>
                  </a:lnTo>
                  <a:lnTo>
                    <a:pt x="131" y="91"/>
                  </a:lnTo>
                  <a:lnTo>
                    <a:pt x="32" y="0"/>
                  </a:lnTo>
                  <a:lnTo>
                    <a:pt x="4" y="11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60480" y="3973680"/>
              <a:ext cx="365400" cy="470160"/>
            </a:xfrm>
            <a:custGeom>
              <a:avLst/>
              <a:gdLst/>
              <a:ahLst/>
              <a:rect l="l" t="t" r="r" b="b"/>
              <a:pathLst>
                <a:path w="682" h="855">
                  <a:moveTo>
                    <a:pt x="0" y="44"/>
                  </a:moveTo>
                  <a:lnTo>
                    <a:pt x="161" y="205"/>
                  </a:lnTo>
                  <a:lnTo>
                    <a:pt x="290" y="354"/>
                  </a:lnTo>
                  <a:lnTo>
                    <a:pt x="436" y="517"/>
                  </a:lnTo>
                  <a:lnTo>
                    <a:pt x="533" y="650"/>
                  </a:lnTo>
                  <a:lnTo>
                    <a:pt x="608" y="800"/>
                  </a:lnTo>
                  <a:lnTo>
                    <a:pt x="639" y="855"/>
                  </a:lnTo>
                  <a:lnTo>
                    <a:pt x="667" y="849"/>
                  </a:lnTo>
                  <a:lnTo>
                    <a:pt x="682" y="817"/>
                  </a:lnTo>
                  <a:lnTo>
                    <a:pt x="661" y="764"/>
                  </a:lnTo>
                  <a:lnTo>
                    <a:pt x="572" y="608"/>
                  </a:lnTo>
                  <a:lnTo>
                    <a:pt x="389" y="373"/>
                  </a:lnTo>
                  <a:lnTo>
                    <a:pt x="299" y="282"/>
                  </a:lnTo>
                  <a:lnTo>
                    <a:pt x="371" y="244"/>
                  </a:lnTo>
                  <a:lnTo>
                    <a:pt x="461" y="174"/>
                  </a:lnTo>
                  <a:lnTo>
                    <a:pt x="307" y="104"/>
                  </a:lnTo>
                  <a:lnTo>
                    <a:pt x="229" y="197"/>
                  </a:lnTo>
                  <a:lnTo>
                    <a:pt x="95" y="47"/>
                  </a:lnTo>
                  <a:lnTo>
                    <a:pt x="42" y="0"/>
                  </a:lnTo>
                  <a:lnTo>
                    <a:pt x="13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23360" y="4093560"/>
              <a:ext cx="469440" cy="343800"/>
            </a:xfrm>
            <a:custGeom>
              <a:avLst/>
              <a:gdLst/>
              <a:ahLst/>
              <a:rect l="l" t="t" r="r" b="b"/>
              <a:pathLst>
                <a:path w="876" h="624">
                  <a:moveTo>
                    <a:pt x="522" y="624"/>
                  </a:moveTo>
                  <a:lnTo>
                    <a:pt x="400" y="565"/>
                  </a:lnTo>
                  <a:lnTo>
                    <a:pt x="271" y="512"/>
                  </a:lnTo>
                  <a:lnTo>
                    <a:pt x="107" y="464"/>
                  </a:lnTo>
                  <a:lnTo>
                    <a:pt x="0" y="430"/>
                  </a:lnTo>
                  <a:lnTo>
                    <a:pt x="0" y="398"/>
                  </a:lnTo>
                  <a:lnTo>
                    <a:pt x="25" y="368"/>
                  </a:lnTo>
                  <a:lnTo>
                    <a:pt x="101" y="328"/>
                  </a:lnTo>
                  <a:lnTo>
                    <a:pt x="292" y="222"/>
                  </a:lnTo>
                  <a:lnTo>
                    <a:pt x="493" y="108"/>
                  </a:lnTo>
                  <a:lnTo>
                    <a:pt x="673" y="42"/>
                  </a:lnTo>
                  <a:lnTo>
                    <a:pt x="781" y="9"/>
                  </a:lnTo>
                  <a:lnTo>
                    <a:pt x="876" y="0"/>
                  </a:lnTo>
                  <a:lnTo>
                    <a:pt x="859" y="34"/>
                  </a:lnTo>
                  <a:lnTo>
                    <a:pt x="711" y="83"/>
                  </a:lnTo>
                  <a:lnTo>
                    <a:pt x="577" y="127"/>
                  </a:lnTo>
                  <a:lnTo>
                    <a:pt x="393" y="222"/>
                  </a:lnTo>
                  <a:lnTo>
                    <a:pt x="192" y="332"/>
                  </a:lnTo>
                  <a:lnTo>
                    <a:pt x="116" y="375"/>
                  </a:lnTo>
                  <a:lnTo>
                    <a:pt x="108" y="390"/>
                  </a:lnTo>
                  <a:lnTo>
                    <a:pt x="188" y="411"/>
                  </a:lnTo>
                  <a:lnTo>
                    <a:pt x="372" y="472"/>
                  </a:lnTo>
                  <a:lnTo>
                    <a:pt x="486" y="529"/>
                  </a:lnTo>
                  <a:lnTo>
                    <a:pt x="567" y="563"/>
                  </a:lnTo>
                  <a:lnTo>
                    <a:pt x="522" y="624"/>
                  </a:lnTo>
                  <a:lnTo>
                    <a:pt x="522" y="624"/>
                  </a:lnTo>
                  <a:lnTo>
                    <a:pt x="522" y="6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34880" y="3933720"/>
              <a:ext cx="486720" cy="232560"/>
            </a:xfrm>
            <a:custGeom>
              <a:avLst/>
              <a:gdLst/>
              <a:ahLst/>
              <a:rect l="l" t="t" r="r" b="b"/>
              <a:pathLst>
                <a:path w="908" h="423">
                  <a:moveTo>
                    <a:pt x="0" y="396"/>
                  </a:moveTo>
                  <a:lnTo>
                    <a:pt x="137" y="303"/>
                  </a:lnTo>
                  <a:lnTo>
                    <a:pt x="279" y="222"/>
                  </a:lnTo>
                  <a:lnTo>
                    <a:pt x="411" y="155"/>
                  </a:lnTo>
                  <a:lnTo>
                    <a:pt x="571" y="87"/>
                  </a:lnTo>
                  <a:lnTo>
                    <a:pt x="737" y="32"/>
                  </a:lnTo>
                  <a:lnTo>
                    <a:pt x="908" y="0"/>
                  </a:lnTo>
                  <a:lnTo>
                    <a:pt x="889" y="28"/>
                  </a:lnTo>
                  <a:lnTo>
                    <a:pt x="698" y="95"/>
                  </a:lnTo>
                  <a:lnTo>
                    <a:pt x="429" y="214"/>
                  </a:lnTo>
                  <a:lnTo>
                    <a:pt x="175" y="349"/>
                  </a:lnTo>
                  <a:lnTo>
                    <a:pt x="59" y="423"/>
                  </a:lnTo>
                  <a:lnTo>
                    <a:pt x="21" y="419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27680" y="3987720"/>
              <a:ext cx="513720" cy="257760"/>
            </a:xfrm>
            <a:custGeom>
              <a:avLst/>
              <a:gdLst/>
              <a:ahLst/>
              <a:rect l="l" t="t" r="r" b="b"/>
              <a:pathLst>
                <a:path w="959" h="469">
                  <a:moveTo>
                    <a:pt x="0" y="433"/>
                  </a:moveTo>
                  <a:lnTo>
                    <a:pt x="176" y="332"/>
                  </a:lnTo>
                  <a:lnTo>
                    <a:pt x="426" y="199"/>
                  </a:lnTo>
                  <a:lnTo>
                    <a:pt x="625" y="107"/>
                  </a:lnTo>
                  <a:lnTo>
                    <a:pt x="817" y="44"/>
                  </a:lnTo>
                  <a:lnTo>
                    <a:pt x="959" y="0"/>
                  </a:lnTo>
                  <a:lnTo>
                    <a:pt x="953" y="29"/>
                  </a:lnTo>
                  <a:lnTo>
                    <a:pt x="857" y="82"/>
                  </a:lnTo>
                  <a:lnTo>
                    <a:pt x="584" y="186"/>
                  </a:lnTo>
                  <a:lnTo>
                    <a:pt x="335" y="306"/>
                  </a:lnTo>
                  <a:lnTo>
                    <a:pt x="112" y="419"/>
                  </a:lnTo>
                  <a:lnTo>
                    <a:pt x="57" y="467"/>
                  </a:lnTo>
                  <a:lnTo>
                    <a:pt x="23" y="469"/>
                  </a:lnTo>
                  <a:lnTo>
                    <a:pt x="0" y="459"/>
                  </a:lnTo>
                  <a:lnTo>
                    <a:pt x="0" y="433"/>
                  </a:lnTo>
                  <a:lnTo>
                    <a:pt x="0" y="43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48680" y="2739600"/>
              <a:ext cx="816840" cy="88920"/>
            </a:xfrm>
            <a:custGeom>
              <a:avLst/>
              <a:gdLst/>
              <a:ahLst/>
              <a:rect l="l" t="t" r="r" b="b"/>
              <a:pathLst>
                <a:path w="1524" h="163">
                  <a:moveTo>
                    <a:pt x="0" y="127"/>
                  </a:moveTo>
                  <a:lnTo>
                    <a:pt x="53" y="99"/>
                  </a:lnTo>
                  <a:lnTo>
                    <a:pt x="229" y="76"/>
                  </a:lnTo>
                  <a:lnTo>
                    <a:pt x="474" y="48"/>
                  </a:lnTo>
                  <a:lnTo>
                    <a:pt x="731" y="25"/>
                  </a:lnTo>
                  <a:lnTo>
                    <a:pt x="1073" y="6"/>
                  </a:lnTo>
                  <a:lnTo>
                    <a:pt x="1380" y="0"/>
                  </a:lnTo>
                  <a:lnTo>
                    <a:pt x="1524" y="12"/>
                  </a:lnTo>
                  <a:lnTo>
                    <a:pt x="1467" y="40"/>
                  </a:lnTo>
                  <a:lnTo>
                    <a:pt x="1171" y="67"/>
                  </a:lnTo>
                  <a:lnTo>
                    <a:pt x="711" y="101"/>
                  </a:lnTo>
                  <a:lnTo>
                    <a:pt x="333" y="133"/>
                  </a:lnTo>
                  <a:lnTo>
                    <a:pt x="57" y="163"/>
                  </a:lnTo>
                  <a:lnTo>
                    <a:pt x="9" y="158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30800" y="2489400"/>
              <a:ext cx="28800" cy="349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7" y="6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32" y="65"/>
                  </a:lnTo>
                  <a:lnTo>
                    <a:pt x="55" y="46"/>
                  </a:lnTo>
                  <a:lnTo>
                    <a:pt x="55" y="17"/>
                  </a:lnTo>
                  <a:lnTo>
                    <a:pt x="32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89040" y="2616120"/>
              <a:ext cx="81360" cy="94680"/>
            </a:xfrm>
            <a:custGeom>
              <a:avLst/>
              <a:gdLst/>
              <a:ahLst/>
              <a:rect l="l" t="t" r="r" b="b"/>
              <a:pathLst>
                <a:path w="152" h="172">
                  <a:moveTo>
                    <a:pt x="0" y="161"/>
                  </a:moveTo>
                  <a:lnTo>
                    <a:pt x="76" y="30"/>
                  </a:lnTo>
                  <a:lnTo>
                    <a:pt x="106" y="2"/>
                  </a:lnTo>
                  <a:lnTo>
                    <a:pt x="135" y="0"/>
                  </a:lnTo>
                  <a:lnTo>
                    <a:pt x="152" y="17"/>
                  </a:lnTo>
                  <a:lnTo>
                    <a:pt x="133" y="53"/>
                  </a:lnTo>
                  <a:lnTo>
                    <a:pt x="51" y="146"/>
                  </a:lnTo>
                  <a:lnTo>
                    <a:pt x="29" y="172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70120" y="2919960"/>
              <a:ext cx="180000" cy="79200"/>
            </a:xfrm>
            <a:custGeom>
              <a:avLst/>
              <a:gdLst/>
              <a:ahLst/>
              <a:rect l="l" t="t" r="r" b="b"/>
              <a:pathLst>
                <a:path w="338" h="144">
                  <a:moveTo>
                    <a:pt x="4" y="89"/>
                  </a:moveTo>
                  <a:lnTo>
                    <a:pt x="27" y="59"/>
                  </a:lnTo>
                  <a:lnTo>
                    <a:pt x="103" y="25"/>
                  </a:lnTo>
                  <a:lnTo>
                    <a:pt x="190" y="8"/>
                  </a:lnTo>
                  <a:lnTo>
                    <a:pt x="283" y="0"/>
                  </a:lnTo>
                  <a:lnTo>
                    <a:pt x="338" y="12"/>
                  </a:lnTo>
                  <a:lnTo>
                    <a:pt x="306" y="53"/>
                  </a:lnTo>
                  <a:lnTo>
                    <a:pt x="182" y="104"/>
                  </a:lnTo>
                  <a:lnTo>
                    <a:pt x="105" y="133"/>
                  </a:lnTo>
                  <a:lnTo>
                    <a:pt x="67" y="144"/>
                  </a:lnTo>
                  <a:lnTo>
                    <a:pt x="18" y="133"/>
                  </a:lnTo>
                  <a:lnTo>
                    <a:pt x="0" y="112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32400" y="2543400"/>
              <a:ext cx="79200" cy="48240"/>
            </a:xfrm>
            <a:custGeom>
              <a:avLst/>
              <a:gdLst/>
              <a:ahLst/>
              <a:rect l="l" t="t" r="r" b="b"/>
              <a:pathLst>
                <a:path w="150" h="87">
                  <a:moveTo>
                    <a:pt x="150" y="0"/>
                  </a:moveTo>
                  <a:lnTo>
                    <a:pt x="66" y="17"/>
                  </a:lnTo>
                  <a:lnTo>
                    <a:pt x="11" y="43"/>
                  </a:lnTo>
                  <a:lnTo>
                    <a:pt x="0" y="70"/>
                  </a:lnTo>
                  <a:lnTo>
                    <a:pt x="17" y="87"/>
                  </a:lnTo>
                  <a:lnTo>
                    <a:pt x="51" y="83"/>
                  </a:lnTo>
                  <a:lnTo>
                    <a:pt x="85" y="57"/>
                  </a:lnTo>
                  <a:lnTo>
                    <a:pt x="142" y="38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63640" y="3118320"/>
              <a:ext cx="60840" cy="561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63"/>
                  </a:moveTo>
                  <a:lnTo>
                    <a:pt x="101" y="23"/>
                  </a:lnTo>
                  <a:lnTo>
                    <a:pt x="63" y="0"/>
                  </a:lnTo>
                  <a:lnTo>
                    <a:pt x="29" y="6"/>
                  </a:lnTo>
                  <a:lnTo>
                    <a:pt x="6" y="27"/>
                  </a:lnTo>
                  <a:lnTo>
                    <a:pt x="0" y="52"/>
                  </a:lnTo>
                  <a:lnTo>
                    <a:pt x="6" y="84"/>
                  </a:lnTo>
                  <a:lnTo>
                    <a:pt x="34" y="103"/>
                  </a:lnTo>
                  <a:lnTo>
                    <a:pt x="68" y="95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22200" y="3344400"/>
              <a:ext cx="555120" cy="93600"/>
            </a:xfrm>
            <a:custGeom>
              <a:avLst/>
              <a:gdLst/>
              <a:ahLst/>
              <a:rect l="l" t="t" r="r" b="b"/>
              <a:pathLst>
                <a:path w="1037" h="168">
                  <a:moveTo>
                    <a:pt x="55" y="157"/>
                  </a:moveTo>
                  <a:lnTo>
                    <a:pt x="9" y="151"/>
                  </a:lnTo>
                  <a:lnTo>
                    <a:pt x="0" y="129"/>
                  </a:lnTo>
                  <a:lnTo>
                    <a:pt x="63" y="112"/>
                  </a:lnTo>
                  <a:lnTo>
                    <a:pt x="447" y="93"/>
                  </a:lnTo>
                  <a:lnTo>
                    <a:pt x="616" y="70"/>
                  </a:lnTo>
                  <a:lnTo>
                    <a:pt x="828" y="38"/>
                  </a:lnTo>
                  <a:lnTo>
                    <a:pt x="1037" y="0"/>
                  </a:lnTo>
                  <a:lnTo>
                    <a:pt x="1033" y="24"/>
                  </a:lnTo>
                  <a:lnTo>
                    <a:pt x="794" y="81"/>
                  </a:lnTo>
                  <a:lnTo>
                    <a:pt x="517" y="138"/>
                  </a:lnTo>
                  <a:lnTo>
                    <a:pt x="328" y="155"/>
                  </a:lnTo>
                  <a:lnTo>
                    <a:pt x="148" y="168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88280" y="3472200"/>
              <a:ext cx="606960" cy="94680"/>
            </a:xfrm>
            <a:custGeom>
              <a:avLst/>
              <a:gdLst/>
              <a:ahLst/>
              <a:rect l="l" t="t" r="r" b="b"/>
              <a:pathLst>
                <a:path w="1131" h="173">
                  <a:moveTo>
                    <a:pt x="2" y="133"/>
                  </a:moveTo>
                  <a:lnTo>
                    <a:pt x="30" y="104"/>
                  </a:lnTo>
                  <a:lnTo>
                    <a:pt x="299" y="76"/>
                  </a:lnTo>
                  <a:lnTo>
                    <a:pt x="648" y="51"/>
                  </a:lnTo>
                  <a:lnTo>
                    <a:pt x="970" y="13"/>
                  </a:lnTo>
                  <a:lnTo>
                    <a:pt x="1127" y="0"/>
                  </a:lnTo>
                  <a:lnTo>
                    <a:pt x="1131" y="23"/>
                  </a:lnTo>
                  <a:lnTo>
                    <a:pt x="940" y="80"/>
                  </a:lnTo>
                  <a:lnTo>
                    <a:pt x="703" y="127"/>
                  </a:lnTo>
                  <a:lnTo>
                    <a:pt x="256" y="169"/>
                  </a:lnTo>
                  <a:lnTo>
                    <a:pt x="47" y="173"/>
                  </a:lnTo>
                  <a:lnTo>
                    <a:pt x="0" y="155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59880" y="4433040"/>
              <a:ext cx="703440" cy="92160"/>
            </a:xfrm>
            <a:custGeom>
              <a:avLst/>
              <a:gdLst/>
              <a:ahLst/>
              <a:rect l="l" t="t" r="r" b="b"/>
              <a:pathLst>
                <a:path w="1314" h="169">
                  <a:moveTo>
                    <a:pt x="4" y="21"/>
                  </a:moveTo>
                  <a:lnTo>
                    <a:pt x="0" y="45"/>
                  </a:lnTo>
                  <a:lnTo>
                    <a:pt x="4" y="81"/>
                  </a:lnTo>
                  <a:lnTo>
                    <a:pt x="29" y="116"/>
                  </a:lnTo>
                  <a:lnTo>
                    <a:pt x="108" y="144"/>
                  </a:lnTo>
                  <a:lnTo>
                    <a:pt x="235" y="167"/>
                  </a:lnTo>
                  <a:lnTo>
                    <a:pt x="379" y="167"/>
                  </a:lnTo>
                  <a:lnTo>
                    <a:pt x="616" y="155"/>
                  </a:lnTo>
                  <a:lnTo>
                    <a:pt x="720" y="146"/>
                  </a:lnTo>
                  <a:lnTo>
                    <a:pt x="825" y="146"/>
                  </a:lnTo>
                  <a:lnTo>
                    <a:pt x="900" y="161"/>
                  </a:lnTo>
                  <a:lnTo>
                    <a:pt x="1031" y="169"/>
                  </a:lnTo>
                  <a:lnTo>
                    <a:pt x="1130" y="163"/>
                  </a:lnTo>
                  <a:lnTo>
                    <a:pt x="1232" y="144"/>
                  </a:lnTo>
                  <a:lnTo>
                    <a:pt x="1293" y="127"/>
                  </a:lnTo>
                  <a:lnTo>
                    <a:pt x="1314" y="95"/>
                  </a:lnTo>
                  <a:lnTo>
                    <a:pt x="1308" y="45"/>
                  </a:lnTo>
                  <a:lnTo>
                    <a:pt x="1262" y="2"/>
                  </a:lnTo>
                  <a:lnTo>
                    <a:pt x="1209" y="0"/>
                  </a:lnTo>
                  <a:lnTo>
                    <a:pt x="1135" y="19"/>
                  </a:lnTo>
                  <a:lnTo>
                    <a:pt x="933" y="25"/>
                  </a:lnTo>
                  <a:lnTo>
                    <a:pt x="696" y="36"/>
                  </a:lnTo>
                  <a:lnTo>
                    <a:pt x="442" y="47"/>
                  </a:lnTo>
                  <a:lnTo>
                    <a:pt x="311" y="42"/>
                  </a:lnTo>
                  <a:lnTo>
                    <a:pt x="178" y="21"/>
                  </a:lnTo>
                  <a:lnTo>
                    <a:pt x="38" y="1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56960" y="4300920"/>
              <a:ext cx="186480" cy="128880"/>
            </a:xfrm>
            <a:custGeom>
              <a:avLst/>
              <a:gdLst/>
              <a:ahLst/>
              <a:rect l="l" t="t" r="r" b="b"/>
              <a:pathLst>
                <a:path w="349" h="235">
                  <a:moveTo>
                    <a:pt x="349" y="91"/>
                  </a:moveTo>
                  <a:lnTo>
                    <a:pt x="286" y="122"/>
                  </a:lnTo>
                  <a:lnTo>
                    <a:pt x="243" y="91"/>
                  </a:lnTo>
                  <a:lnTo>
                    <a:pt x="193" y="70"/>
                  </a:lnTo>
                  <a:lnTo>
                    <a:pt x="154" y="68"/>
                  </a:lnTo>
                  <a:lnTo>
                    <a:pt x="123" y="99"/>
                  </a:lnTo>
                  <a:lnTo>
                    <a:pt x="93" y="139"/>
                  </a:lnTo>
                  <a:lnTo>
                    <a:pt x="95" y="167"/>
                  </a:lnTo>
                  <a:lnTo>
                    <a:pt x="157" y="169"/>
                  </a:lnTo>
                  <a:lnTo>
                    <a:pt x="216" y="173"/>
                  </a:lnTo>
                  <a:lnTo>
                    <a:pt x="284" y="152"/>
                  </a:lnTo>
                  <a:lnTo>
                    <a:pt x="341" y="135"/>
                  </a:lnTo>
                  <a:lnTo>
                    <a:pt x="343" y="167"/>
                  </a:lnTo>
                  <a:lnTo>
                    <a:pt x="326" y="186"/>
                  </a:lnTo>
                  <a:lnTo>
                    <a:pt x="248" y="218"/>
                  </a:lnTo>
                  <a:lnTo>
                    <a:pt x="163" y="231"/>
                  </a:lnTo>
                  <a:lnTo>
                    <a:pt x="95" y="235"/>
                  </a:lnTo>
                  <a:lnTo>
                    <a:pt x="49" y="224"/>
                  </a:lnTo>
                  <a:lnTo>
                    <a:pt x="0" y="195"/>
                  </a:lnTo>
                  <a:lnTo>
                    <a:pt x="0" y="167"/>
                  </a:lnTo>
                  <a:lnTo>
                    <a:pt x="44" y="114"/>
                  </a:lnTo>
                  <a:lnTo>
                    <a:pt x="89" y="25"/>
                  </a:lnTo>
                  <a:lnTo>
                    <a:pt x="127" y="0"/>
                  </a:lnTo>
                  <a:lnTo>
                    <a:pt x="188" y="6"/>
                  </a:lnTo>
                  <a:lnTo>
                    <a:pt x="273" y="48"/>
                  </a:lnTo>
                  <a:lnTo>
                    <a:pt x="349" y="91"/>
                  </a:lnTo>
                  <a:lnTo>
                    <a:pt x="349" y="91"/>
                  </a:lnTo>
                  <a:lnTo>
                    <a:pt x="34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57440" y="4023360"/>
              <a:ext cx="378360" cy="399600"/>
            </a:xfrm>
            <a:custGeom>
              <a:avLst/>
              <a:gdLst/>
              <a:ahLst/>
              <a:rect l="l" t="t" r="r" b="b"/>
              <a:pathLst>
                <a:path w="707" h="726">
                  <a:moveTo>
                    <a:pt x="0" y="716"/>
                  </a:moveTo>
                  <a:lnTo>
                    <a:pt x="66" y="595"/>
                  </a:lnTo>
                  <a:lnTo>
                    <a:pt x="156" y="472"/>
                  </a:lnTo>
                  <a:lnTo>
                    <a:pt x="294" y="320"/>
                  </a:lnTo>
                  <a:lnTo>
                    <a:pt x="415" y="188"/>
                  </a:lnTo>
                  <a:lnTo>
                    <a:pt x="569" y="70"/>
                  </a:lnTo>
                  <a:lnTo>
                    <a:pt x="677" y="0"/>
                  </a:lnTo>
                  <a:lnTo>
                    <a:pt x="707" y="34"/>
                  </a:lnTo>
                  <a:lnTo>
                    <a:pt x="663" y="72"/>
                  </a:lnTo>
                  <a:lnTo>
                    <a:pt x="504" y="182"/>
                  </a:lnTo>
                  <a:lnTo>
                    <a:pt x="322" y="360"/>
                  </a:lnTo>
                  <a:lnTo>
                    <a:pt x="186" y="510"/>
                  </a:lnTo>
                  <a:lnTo>
                    <a:pt x="66" y="665"/>
                  </a:lnTo>
                  <a:lnTo>
                    <a:pt x="29" y="726"/>
                  </a:lnTo>
                  <a:lnTo>
                    <a:pt x="0" y="716"/>
                  </a:lnTo>
                  <a:lnTo>
                    <a:pt x="0" y="716"/>
                  </a:lnTo>
                  <a:lnTo>
                    <a:pt x="0" y="7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00920" y="3929400"/>
              <a:ext cx="424440" cy="500040"/>
            </a:xfrm>
            <a:custGeom>
              <a:avLst/>
              <a:gdLst/>
              <a:ahLst/>
              <a:rect l="l" t="t" r="r" b="b"/>
              <a:pathLst>
                <a:path w="790" h="908">
                  <a:moveTo>
                    <a:pt x="0" y="908"/>
                  </a:moveTo>
                  <a:lnTo>
                    <a:pt x="49" y="772"/>
                  </a:lnTo>
                  <a:lnTo>
                    <a:pt x="142" y="609"/>
                  </a:lnTo>
                  <a:lnTo>
                    <a:pt x="267" y="432"/>
                  </a:lnTo>
                  <a:lnTo>
                    <a:pt x="430" y="264"/>
                  </a:lnTo>
                  <a:lnTo>
                    <a:pt x="608" y="105"/>
                  </a:lnTo>
                  <a:lnTo>
                    <a:pt x="745" y="0"/>
                  </a:lnTo>
                  <a:lnTo>
                    <a:pt x="790" y="36"/>
                  </a:lnTo>
                  <a:lnTo>
                    <a:pt x="690" y="108"/>
                  </a:lnTo>
                  <a:lnTo>
                    <a:pt x="532" y="252"/>
                  </a:lnTo>
                  <a:lnTo>
                    <a:pt x="366" y="408"/>
                  </a:lnTo>
                  <a:lnTo>
                    <a:pt x="214" y="605"/>
                  </a:lnTo>
                  <a:lnTo>
                    <a:pt x="121" y="755"/>
                  </a:lnTo>
                  <a:lnTo>
                    <a:pt x="64" y="840"/>
                  </a:lnTo>
                  <a:lnTo>
                    <a:pt x="32" y="899"/>
                  </a:lnTo>
                  <a:lnTo>
                    <a:pt x="0" y="908"/>
                  </a:lnTo>
                  <a:lnTo>
                    <a:pt x="0" y="908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7560" y="3818160"/>
              <a:ext cx="495000" cy="618120"/>
            </a:xfrm>
            <a:custGeom>
              <a:avLst/>
              <a:gdLst/>
              <a:ahLst/>
              <a:rect l="l" t="t" r="r" b="b"/>
              <a:pathLst>
                <a:path w="925" h="1123">
                  <a:moveTo>
                    <a:pt x="0" y="1090"/>
                  </a:moveTo>
                  <a:lnTo>
                    <a:pt x="86" y="889"/>
                  </a:lnTo>
                  <a:lnTo>
                    <a:pt x="218" y="679"/>
                  </a:lnTo>
                  <a:lnTo>
                    <a:pt x="385" y="450"/>
                  </a:lnTo>
                  <a:lnTo>
                    <a:pt x="531" y="296"/>
                  </a:lnTo>
                  <a:lnTo>
                    <a:pt x="675" y="167"/>
                  </a:lnTo>
                  <a:lnTo>
                    <a:pt x="813" y="57"/>
                  </a:lnTo>
                  <a:lnTo>
                    <a:pt x="893" y="0"/>
                  </a:lnTo>
                  <a:lnTo>
                    <a:pt x="925" y="12"/>
                  </a:lnTo>
                  <a:lnTo>
                    <a:pt x="925" y="48"/>
                  </a:lnTo>
                  <a:lnTo>
                    <a:pt x="831" y="116"/>
                  </a:lnTo>
                  <a:lnTo>
                    <a:pt x="635" y="268"/>
                  </a:lnTo>
                  <a:lnTo>
                    <a:pt x="480" y="438"/>
                  </a:lnTo>
                  <a:lnTo>
                    <a:pt x="359" y="571"/>
                  </a:lnTo>
                  <a:lnTo>
                    <a:pt x="262" y="711"/>
                  </a:lnTo>
                  <a:lnTo>
                    <a:pt x="158" y="882"/>
                  </a:lnTo>
                  <a:lnTo>
                    <a:pt x="86" y="1020"/>
                  </a:lnTo>
                  <a:lnTo>
                    <a:pt x="36" y="1096"/>
                  </a:lnTo>
                  <a:lnTo>
                    <a:pt x="12" y="1123"/>
                  </a:lnTo>
                  <a:lnTo>
                    <a:pt x="0" y="1090"/>
                  </a:lnTo>
                  <a:lnTo>
                    <a:pt x="0" y="1090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20560" y="3964680"/>
              <a:ext cx="69480" cy="34200"/>
            </a:xfrm>
            <a:custGeom>
              <a:avLst/>
              <a:gdLst/>
              <a:ahLst/>
              <a:rect l="l" t="t" r="r" b="b"/>
              <a:pathLst>
                <a:path w="130" h="60">
                  <a:moveTo>
                    <a:pt x="17" y="0"/>
                  </a:moveTo>
                  <a:lnTo>
                    <a:pt x="113" y="0"/>
                  </a:lnTo>
                  <a:lnTo>
                    <a:pt x="130" y="60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64480" y="3566880"/>
              <a:ext cx="604440" cy="536400"/>
            </a:xfrm>
            <a:custGeom>
              <a:avLst/>
              <a:gdLst/>
              <a:ahLst/>
              <a:rect l="l" t="t" r="r" b="b"/>
              <a:pathLst>
                <a:path w="1128" h="974">
                  <a:moveTo>
                    <a:pt x="2" y="623"/>
                  </a:moveTo>
                  <a:lnTo>
                    <a:pt x="0" y="697"/>
                  </a:lnTo>
                  <a:lnTo>
                    <a:pt x="13" y="767"/>
                  </a:lnTo>
                  <a:lnTo>
                    <a:pt x="78" y="849"/>
                  </a:lnTo>
                  <a:lnTo>
                    <a:pt x="134" y="909"/>
                  </a:lnTo>
                  <a:lnTo>
                    <a:pt x="203" y="923"/>
                  </a:lnTo>
                  <a:lnTo>
                    <a:pt x="286" y="911"/>
                  </a:lnTo>
                  <a:lnTo>
                    <a:pt x="330" y="894"/>
                  </a:lnTo>
                  <a:lnTo>
                    <a:pt x="352" y="894"/>
                  </a:lnTo>
                  <a:lnTo>
                    <a:pt x="404" y="923"/>
                  </a:lnTo>
                  <a:lnTo>
                    <a:pt x="502" y="974"/>
                  </a:lnTo>
                  <a:lnTo>
                    <a:pt x="584" y="871"/>
                  </a:lnTo>
                  <a:lnTo>
                    <a:pt x="496" y="811"/>
                  </a:lnTo>
                  <a:lnTo>
                    <a:pt x="417" y="777"/>
                  </a:lnTo>
                  <a:lnTo>
                    <a:pt x="468" y="739"/>
                  </a:lnTo>
                  <a:lnTo>
                    <a:pt x="578" y="638"/>
                  </a:lnTo>
                  <a:lnTo>
                    <a:pt x="701" y="513"/>
                  </a:lnTo>
                  <a:lnTo>
                    <a:pt x="822" y="390"/>
                  </a:lnTo>
                  <a:lnTo>
                    <a:pt x="947" y="244"/>
                  </a:lnTo>
                  <a:lnTo>
                    <a:pt x="982" y="225"/>
                  </a:lnTo>
                  <a:lnTo>
                    <a:pt x="1046" y="227"/>
                  </a:lnTo>
                  <a:lnTo>
                    <a:pt x="1109" y="221"/>
                  </a:lnTo>
                  <a:lnTo>
                    <a:pt x="1128" y="202"/>
                  </a:lnTo>
                  <a:lnTo>
                    <a:pt x="1088" y="191"/>
                  </a:lnTo>
                  <a:lnTo>
                    <a:pt x="942" y="157"/>
                  </a:lnTo>
                  <a:lnTo>
                    <a:pt x="843" y="132"/>
                  </a:lnTo>
                  <a:lnTo>
                    <a:pt x="733" y="72"/>
                  </a:lnTo>
                  <a:lnTo>
                    <a:pt x="646" y="22"/>
                  </a:lnTo>
                  <a:lnTo>
                    <a:pt x="612" y="0"/>
                  </a:lnTo>
                  <a:lnTo>
                    <a:pt x="572" y="5"/>
                  </a:lnTo>
                  <a:lnTo>
                    <a:pt x="563" y="28"/>
                  </a:lnTo>
                  <a:lnTo>
                    <a:pt x="578" y="75"/>
                  </a:lnTo>
                  <a:lnTo>
                    <a:pt x="612" y="140"/>
                  </a:lnTo>
                  <a:lnTo>
                    <a:pt x="712" y="307"/>
                  </a:lnTo>
                  <a:lnTo>
                    <a:pt x="739" y="318"/>
                  </a:lnTo>
                  <a:lnTo>
                    <a:pt x="758" y="329"/>
                  </a:lnTo>
                  <a:lnTo>
                    <a:pt x="747" y="363"/>
                  </a:lnTo>
                  <a:lnTo>
                    <a:pt x="584" y="521"/>
                  </a:lnTo>
                  <a:lnTo>
                    <a:pt x="434" y="657"/>
                  </a:lnTo>
                  <a:lnTo>
                    <a:pt x="318" y="743"/>
                  </a:lnTo>
                  <a:lnTo>
                    <a:pt x="271" y="756"/>
                  </a:lnTo>
                  <a:lnTo>
                    <a:pt x="231" y="760"/>
                  </a:lnTo>
                  <a:lnTo>
                    <a:pt x="197" y="756"/>
                  </a:lnTo>
                  <a:lnTo>
                    <a:pt x="157" y="744"/>
                  </a:lnTo>
                  <a:lnTo>
                    <a:pt x="117" y="707"/>
                  </a:lnTo>
                  <a:lnTo>
                    <a:pt x="81" y="655"/>
                  </a:lnTo>
                  <a:lnTo>
                    <a:pt x="61" y="629"/>
                  </a:lnTo>
                  <a:lnTo>
                    <a:pt x="40" y="617"/>
                  </a:lnTo>
                  <a:lnTo>
                    <a:pt x="15" y="617"/>
                  </a:lnTo>
                  <a:lnTo>
                    <a:pt x="2" y="623"/>
                  </a:lnTo>
                  <a:lnTo>
                    <a:pt x="2" y="623"/>
                  </a:lnTo>
                  <a:lnTo>
                    <a:pt x="2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2320" y="3768480"/>
              <a:ext cx="194040" cy="12564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0" y="40"/>
                  </a:moveTo>
                  <a:lnTo>
                    <a:pt x="53" y="86"/>
                  </a:lnTo>
                  <a:lnTo>
                    <a:pt x="146" y="154"/>
                  </a:lnTo>
                  <a:lnTo>
                    <a:pt x="218" y="201"/>
                  </a:lnTo>
                  <a:lnTo>
                    <a:pt x="277" y="228"/>
                  </a:lnTo>
                  <a:lnTo>
                    <a:pt x="324" y="222"/>
                  </a:lnTo>
                  <a:lnTo>
                    <a:pt x="356" y="190"/>
                  </a:lnTo>
                  <a:lnTo>
                    <a:pt x="362" y="156"/>
                  </a:lnTo>
                  <a:lnTo>
                    <a:pt x="301" y="148"/>
                  </a:lnTo>
                  <a:lnTo>
                    <a:pt x="224" y="124"/>
                  </a:lnTo>
                  <a:lnTo>
                    <a:pt x="146" y="78"/>
                  </a:lnTo>
                  <a:lnTo>
                    <a:pt x="127" y="34"/>
                  </a:lnTo>
                  <a:lnTo>
                    <a:pt x="98" y="8"/>
                  </a:lnTo>
                  <a:lnTo>
                    <a:pt x="62" y="0"/>
                  </a:lnTo>
                  <a:lnTo>
                    <a:pt x="28" y="0"/>
                  </a:lnTo>
                  <a:lnTo>
                    <a:pt x="6" y="1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49840" y="3814920"/>
              <a:ext cx="423360" cy="320400"/>
            </a:xfrm>
            <a:custGeom>
              <a:avLst/>
              <a:gdLst/>
              <a:ahLst/>
              <a:rect l="l" t="t" r="r" b="b"/>
              <a:pathLst>
                <a:path w="790" h="582">
                  <a:moveTo>
                    <a:pt x="11" y="0"/>
                  </a:moveTo>
                  <a:lnTo>
                    <a:pt x="64" y="5"/>
                  </a:lnTo>
                  <a:lnTo>
                    <a:pt x="106" y="17"/>
                  </a:lnTo>
                  <a:lnTo>
                    <a:pt x="227" y="93"/>
                  </a:lnTo>
                  <a:lnTo>
                    <a:pt x="386" y="216"/>
                  </a:lnTo>
                  <a:lnTo>
                    <a:pt x="564" y="356"/>
                  </a:lnTo>
                  <a:lnTo>
                    <a:pt x="733" y="513"/>
                  </a:lnTo>
                  <a:lnTo>
                    <a:pt x="790" y="572"/>
                  </a:lnTo>
                  <a:lnTo>
                    <a:pt x="767" y="582"/>
                  </a:lnTo>
                  <a:lnTo>
                    <a:pt x="617" y="468"/>
                  </a:lnTo>
                  <a:lnTo>
                    <a:pt x="428" y="324"/>
                  </a:lnTo>
                  <a:lnTo>
                    <a:pt x="225" y="180"/>
                  </a:lnTo>
                  <a:lnTo>
                    <a:pt x="117" y="110"/>
                  </a:lnTo>
                  <a:lnTo>
                    <a:pt x="22" y="64"/>
                  </a:lnTo>
                  <a:lnTo>
                    <a:pt x="0" y="3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26440" y="3888720"/>
              <a:ext cx="422640" cy="266400"/>
            </a:xfrm>
            <a:custGeom>
              <a:avLst/>
              <a:gdLst/>
              <a:ahLst/>
              <a:rect l="l" t="t" r="r" b="b"/>
              <a:pathLst>
                <a:path w="788" h="484">
                  <a:moveTo>
                    <a:pt x="6" y="21"/>
                  </a:moveTo>
                  <a:lnTo>
                    <a:pt x="28" y="0"/>
                  </a:lnTo>
                  <a:lnTo>
                    <a:pt x="63" y="6"/>
                  </a:lnTo>
                  <a:lnTo>
                    <a:pt x="203" y="78"/>
                  </a:lnTo>
                  <a:lnTo>
                    <a:pt x="406" y="207"/>
                  </a:lnTo>
                  <a:lnTo>
                    <a:pt x="660" y="383"/>
                  </a:lnTo>
                  <a:lnTo>
                    <a:pt x="788" y="476"/>
                  </a:lnTo>
                  <a:lnTo>
                    <a:pt x="751" y="484"/>
                  </a:lnTo>
                  <a:lnTo>
                    <a:pt x="542" y="351"/>
                  </a:lnTo>
                  <a:lnTo>
                    <a:pt x="317" y="207"/>
                  </a:lnTo>
                  <a:lnTo>
                    <a:pt x="173" y="131"/>
                  </a:lnTo>
                  <a:lnTo>
                    <a:pt x="64" y="78"/>
                  </a:lnTo>
                  <a:lnTo>
                    <a:pt x="25" y="67"/>
                  </a:lnTo>
                  <a:lnTo>
                    <a:pt x="0" y="5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36160" y="4002120"/>
              <a:ext cx="369720" cy="180360"/>
            </a:xfrm>
            <a:custGeom>
              <a:avLst/>
              <a:gdLst/>
              <a:ahLst/>
              <a:rect l="l" t="t" r="r" b="b"/>
              <a:pathLst>
                <a:path w="690" h="328">
                  <a:moveTo>
                    <a:pt x="0" y="21"/>
                  </a:moveTo>
                  <a:lnTo>
                    <a:pt x="28" y="0"/>
                  </a:lnTo>
                  <a:lnTo>
                    <a:pt x="129" y="23"/>
                  </a:lnTo>
                  <a:lnTo>
                    <a:pt x="305" y="87"/>
                  </a:lnTo>
                  <a:lnTo>
                    <a:pt x="472" y="176"/>
                  </a:lnTo>
                  <a:lnTo>
                    <a:pt x="680" y="294"/>
                  </a:lnTo>
                  <a:lnTo>
                    <a:pt x="690" y="328"/>
                  </a:lnTo>
                  <a:lnTo>
                    <a:pt x="650" y="322"/>
                  </a:lnTo>
                  <a:lnTo>
                    <a:pt x="534" y="265"/>
                  </a:lnTo>
                  <a:lnTo>
                    <a:pt x="332" y="167"/>
                  </a:lnTo>
                  <a:lnTo>
                    <a:pt x="193" y="114"/>
                  </a:lnTo>
                  <a:lnTo>
                    <a:pt x="49" y="76"/>
                  </a:lnTo>
                  <a:lnTo>
                    <a:pt x="6" y="4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09240" y="4192920"/>
              <a:ext cx="332280" cy="205560"/>
            </a:xfrm>
            <a:custGeom>
              <a:avLst/>
              <a:gdLst/>
              <a:ahLst/>
              <a:rect l="l" t="t" r="r" b="b"/>
              <a:pathLst>
                <a:path w="620" h="373">
                  <a:moveTo>
                    <a:pt x="620" y="47"/>
                  </a:moveTo>
                  <a:lnTo>
                    <a:pt x="446" y="99"/>
                  </a:lnTo>
                  <a:lnTo>
                    <a:pt x="294" y="161"/>
                  </a:lnTo>
                  <a:lnTo>
                    <a:pt x="167" y="237"/>
                  </a:lnTo>
                  <a:lnTo>
                    <a:pt x="88" y="294"/>
                  </a:lnTo>
                  <a:lnTo>
                    <a:pt x="23" y="373"/>
                  </a:lnTo>
                  <a:lnTo>
                    <a:pt x="0" y="305"/>
                  </a:lnTo>
                  <a:lnTo>
                    <a:pt x="74" y="237"/>
                  </a:lnTo>
                  <a:lnTo>
                    <a:pt x="175" y="161"/>
                  </a:lnTo>
                  <a:lnTo>
                    <a:pt x="323" y="85"/>
                  </a:lnTo>
                  <a:lnTo>
                    <a:pt x="469" y="23"/>
                  </a:lnTo>
                  <a:lnTo>
                    <a:pt x="561" y="0"/>
                  </a:lnTo>
                  <a:lnTo>
                    <a:pt x="601" y="2"/>
                  </a:lnTo>
                  <a:lnTo>
                    <a:pt x="618" y="23"/>
                  </a:lnTo>
                  <a:lnTo>
                    <a:pt x="620" y="47"/>
                  </a:lnTo>
                  <a:lnTo>
                    <a:pt x="620" y="47"/>
                  </a:lnTo>
                  <a:lnTo>
                    <a:pt x="62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5120" y="2410200"/>
              <a:ext cx="390240" cy="166320"/>
            </a:xfrm>
            <a:custGeom>
              <a:avLst/>
              <a:gdLst/>
              <a:ahLst/>
              <a:rect l="l" t="t" r="r" b="b"/>
              <a:pathLst>
                <a:path w="728" h="302">
                  <a:moveTo>
                    <a:pt x="0" y="281"/>
                  </a:moveTo>
                  <a:lnTo>
                    <a:pt x="11" y="252"/>
                  </a:lnTo>
                  <a:lnTo>
                    <a:pt x="118" y="184"/>
                  </a:lnTo>
                  <a:lnTo>
                    <a:pt x="250" y="93"/>
                  </a:lnTo>
                  <a:lnTo>
                    <a:pt x="301" y="63"/>
                  </a:lnTo>
                  <a:lnTo>
                    <a:pt x="341" y="57"/>
                  </a:lnTo>
                  <a:lnTo>
                    <a:pt x="394" y="68"/>
                  </a:lnTo>
                  <a:lnTo>
                    <a:pt x="423" y="80"/>
                  </a:lnTo>
                  <a:lnTo>
                    <a:pt x="457" y="70"/>
                  </a:lnTo>
                  <a:lnTo>
                    <a:pt x="508" y="57"/>
                  </a:lnTo>
                  <a:lnTo>
                    <a:pt x="555" y="34"/>
                  </a:lnTo>
                  <a:lnTo>
                    <a:pt x="595" y="15"/>
                  </a:lnTo>
                  <a:lnTo>
                    <a:pt x="646" y="6"/>
                  </a:lnTo>
                  <a:lnTo>
                    <a:pt x="682" y="0"/>
                  </a:lnTo>
                  <a:lnTo>
                    <a:pt x="713" y="12"/>
                  </a:lnTo>
                  <a:lnTo>
                    <a:pt x="728" y="34"/>
                  </a:lnTo>
                  <a:lnTo>
                    <a:pt x="692" y="63"/>
                  </a:lnTo>
                  <a:lnTo>
                    <a:pt x="578" y="103"/>
                  </a:lnTo>
                  <a:lnTo>
                    <a:pt x="474" y="139"/>
                  </a:lnTo>
                  <a:lnTo>
                    <a:pt x="434" y="165"/>
                  </a:lnTo>
                  <a:lnTo>
                    <a:pt x="400" y="173"/>
                  </a:lnTo>
                  <a:lnTo>
                    <a:pt x="377" y="161"/>
                  </a:lnTo>
                  <a:lnTo>
                    <a:pt x="347" y="139"/>
                  </a:lnTo>
                  <a:lnTo>
                    <a:pt x="313" y="131"/>
                  </a:lnTo>
                  <a:lnTo>
                    <a:pt x="250" y="154"/>
                  </a:lnTo>
                  <a:lnTo>
                    <a:pt x="116" y="243"/>
                  </a:lnTo>
                  <a:lnTo>
                    <a:pt x="44" y="294"/>
                  </a:lnTo>
                  <a:lnTo>
                    <a:pt x="11" y="302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24560" y="2432160"/>
              <a:ext cx="250920" cy="183600"/>
            </a:xfrm>
            <a:custGeom>
              <a:avLst/>
              <a:gdLst/>
              <a:ahLst/>
              <a:rect l="l" t="t" r="r" b="b"/>
              <a:pathLst>
                <a:path w="468" h="334">
                  <a:moveTo>
                    <a:pt x="379" y="13"/>
                  </a:moveTo>
                  <a:lnTo>
                    <a:pt x="356" y="30"/>
                  </a:lnTo>
                  <a:lnTo>
                    <a:pt x="356" y="51"/>
                  </a:lnTo>
                  <a:lnTo>
                    <a:pt x="367" y="74"/>
                  </a:lnTo>
                  <a:lnTo>
                    <a:pt x="329" y="104"/>
                  </a:lnTo>
                  <a:lnTo>
                    <a:pt x="235" y="167"/>
                  </a:lnTo>
                  <a:lnTo>
                    <a:pt x="200" y="191"/>
                  </a:lnTo>
                  <a:lnTo>
                    <a:pt x="127" y="203"/>
                  </a:lnTo>
                  <a:lnTo>
                    <a:pt x="79" y="214"/>
                  </a:lnTo>
                  <a:lnTo>
                    <a:pt x="49" y="237"/>
                  </a:lnTo>
                  <a:lnTo>
                    <a:pt x="5" y="252"/>
                  </a:lnTo>
                  <a:lnTo>
                    <a:pt x="0" y="277"/>
                  </a:lnTo>
                  <a:lnTo>
                    <a:pt x="15" y="299"/>
                  </a:lnTo>
                  <a:lnTo>
                    <a:pt x="79" y="305"/>
                  </a:lnTo>
                  <a:lnTo>
                    <a:pt x="149" y="313"/>
                  </a:lnTo>
                  <a:lnTo>
                    <a:pt x="183" y="330"/>
                  </a:lnTo>
                  <a:lnTo>
                    <a:pt x="235" y="334"/>
                  </a:lnTo>
                  <a:lnTo>
                    <a:pt x="257" y="318"/>
                  </a:lnTo>
                  <a:lnTo>
                    <a:pt x="269" y="282"/>
                  </a:lnTo>
                  <a:lnTo>
                    <a:pt x="276" y="241"/>
                  </a:lnTo>
                  <a:lnTo>
                    <a:pt x="299" y="212"/>
                  </a:lnTo>
                  <a:lnTo>
                    <a:pt x="350" y="178"/>
                  </a:lnTo>
                  <a:lnTo>
                    <a:pt x="409" y="146"/>
                  </a:lnTo>
                  <a:lnTo>
                    <a:pt x="449" y="110"/>
                  </a:lnTo>
                  <a:lnTo>
                    <a:pt x="468" y="76"/>
                  </a:lnTo>
                  <a:lnTo>
                    <a:pt x="466" y="40"/>
                  </a:lnTo>
                  <a:lnTo>
                    <a:pt x="441" y="11"/>
                  </a:lnTo>
                  <a:lnTo>
                    <a:pt x="407" y="0"/>
                  </a:lnTo>
                  <a:lnTo>
                    <a:pt x="379" y="13"/>
                  </a:lnTo>
                  <a:lnTo>
                    <a:pt x="379" y="13"/>
                  </a:lnTo>
                  <a:lnTo>
                    <a:pt x="37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96000" y="3101040"/>
              <a:ext cx="162720" cy="57960"/>
            </a:xfrm>
            <a:custGeom>
              <a:avLst/>
              <a:gdLst/>
              <a:ahLst/>
              <a:rect l="l" t="t" r="r" b="b"/>
              <a:pathLst>
                <a:path w="305" h="106">
                  <a:moveTo>
                    <a:pt x="0" y="44"/>
                  </a:moveTo>
                  <a:lnTo>
                    <a:pt x="70" y="21"/>
                  </a:lnTo>
                  <a:lnTo>
                    <a:pt x="155" y="4"/>
                  </a:lnTo>
                  <a:lnTo>
                    <a:pt x="227" y="0"/>
                  </a:lnTo>
                  <a:lnTo>
                    <a:pt x="295" y="10"/>
                  </a:lnTo>
                  <a:lnTo>
                    <a:pt x="305" y="44"/>
                  </a:lnTo>
                  <a:lnTo>
                    <a:pt x="282" y="78"/>
                  </a:lnTo>
                  <a:lnTo>
                    <a:pt x="197" y="95"/>
                  </a:lnTo>
                  <a:lnTo>
                    <a:pt x="85" y="106"/>
                  </a:lnTo>
                  <a:lnTo>
                    <a:pt x="24" y="95"/>
                  </a:lnTo>
                  <a:lnTo>
                    <a:pt x="7" y="7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3160" y="3246480"/>
              <a:ext cx="72720" cy="5256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49"/>
                  </a:moveTo>
                  <a:lnTo>
                    <a:pt x="25" y="24"/>
                  </a:lnTo>
                  <a:lnTo>
                    <a:pt x="42" y="5"/>
                  </a:lnTo>
                  <a:lnTo>
                    <a:pt x="70" y="0"/>
                  </a:lnTo>
                  <a:lnTo>
                    <a:pt x="104" y="0"/>
                  </a:lnTo>
                  <a:lnTo>
                    <a:pt x="136" y="30"/>
                  </a:lnTo>
                  <a:lnTo>
                    <a:pt x="127" y="70"/>
                  </a:lnTo>
                  <a:lnTo>
                    <a:pt x="102" y="92"/>
                  </a:lnTo>
                  <a:lnTo>
                    <a:pt x="42" y="94"/>
                  </a:lnTo>
                  <a:lnTo>
                    <a:pt x="15" y="7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35080" y="3397320"/>
              <a:ext cx="87480" cy="267480"/>
            </a:xfrm>
            <a:custGeom>
              <a:avLst/>
              <a:gdLst/>
              <a:ahLst/>
              <a:rect l="l" t="t" r="r" b="b"/>
              <a:pathLst>
                <a:path w="163" h="487">
                  <a:moveTo>
                    <a:pt x="0" y="0"/>
                  </a:moveTo>
                  <a:lnTo>
                    <a:pt x="23" y="125"/>
                  </a:lnTo>
                  <a:lnTo>
                    <a:pt x="63" y="280"/>
                  </a:lnTo>
                  <a:lnTo>
                    <a:pt x="85" y="343"/>
                  </a:lnTo>
                  <a:lnTo>
                    <a:pt x="108" y="396"/>
                  </a:lnTo>
                  <a:lnTo>
                    <a:pt x="129" y="437"/>
                  </a:lnTo>
                  <a:lnTo>
                    <a:pt x="140" y="487"/>
                  </a:lnTo>
                  <a:lnTo>
                    <a:pt x="163" y="454"/>
                  </a:lnTo>
                  <a:lnTo>
                    <a:pt x="156" y="388"/>
                  </a:lnTo>
                  <a:lnTo>
                    <a:pt x="133" y="282"/>
                  </a:lnTo>
                  <a:lnTo>
                    <a:pt x="93" y="166"/>
                  </a:lnTo>
                  <a:lnTo>
                    <a:pt x="65" y="47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25360" y="3012840"/>
              <a:ext cx="102600" cy="376560"/>
            </a:xfrm>
            <a:custGeom>
              <a:avLst/>
              <a:gdLst/>
              <a:ahLst/>
              <a:rect l="l" t="t" r="r" b="b"/>
              <a:pathLst>
                <a:path w="193" h="684">
                  <a:moveTo>
                    <a:pt x="118" y="15"/>
                  </a:moveTo>
                  <a:lnTo>
                    <a:pt x="70" y="91"/>
                  </a:lnTo>
                  <a:lnTo>
                    <a:pt x="27" y="197"/>
                  </a:lnTo>
                  <a:lnTo>
                    <a:pt x="10" y="265"/>
                  </a:lnTo>
                  <a:lnTo>
                    <a:pt x="0" y="345"/>
                  </a:lnTo>
                  <a:lnTo>
                    <a:pt x="6" y="449"/>
                  </a:lnTo>
                  <a:lnTo>
                    <a:pt x="32" y="591"/>
                  </a:lnTo>
                  <a:lnTo>
                    <a:pt x="48" y="684"/>
                  </a:lnTo>
                  <a:lnTo>
                    <a:pt x="66" y="667"/>
                  </a:lnTo>
                  <a:lnTo>
                    <a:pt x="66" y="540"/>
                  </a:lnTo>
                  <a:lnTo>
                    <a:pt x="65" y="409"/>
                  </a:lnTo>
                  <a:lnTo>
                    <a:pt x="89" y="271"/>
                  </a:lnTo>
                  <a:lnTo>
                    <a:pt x="133" y="172"/>
                  </a:lnTo>
                  <a:lnTo>
                    <a:pt x="192" y="80"/>
                  </a:lnTo>
                  <a:lnTo>
                    <a:pt x="193" y="40"/>
                  </a:lnTo>
                  <a:lnTo>
                    <a:pt x="180" y="15"/>
                  </a:lnTo>
                  <a:lnTo>
                    <a:pt x="154" y="0"/>
                  </a:lnTo>
                  <a:lnTo>
                    <a:pt x="118" y="15"/>
                  </a:lnTo>
                  <a:lnTo>
                    <a:pt x="118" y="15"/>
                  </a:lnTo>
                  <a:lnTo>
                    <a:pt x="1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6560" y="3142800"/>
              <a:ext cx="221040" cy="450720"/>
            </a:xfrm>
            <a:custGeom>
              <a:avLst/>
              <a:gdLst/>
              <a:ahLst/>
              <a:rect l="l" t="t" r="r" b="b"/>
              <a:pathLst>
                <a:path w="411" h="817">
                  <a:moveTo>
                    <a:pt x="0" y="733"/>
                  </a:moveTo>
                  <a:lnTo>
                    <a:pt x="89" y="622"/>
                  </a:lnTo>
                  <a:lnTo>
                    <a:pt x="187" y="485"/>
                  </a:lnTo>
                  <a:lnTo>
                    <a:pt x="248" y="377"/>
                  </a:lnTo>
                  <a:lnTo>
                    <a:pt x="297" y="254"/>
                  </a:lnTo>
                  <a:lnTo>
                    <a:pt x="320" y="188"/>
                  </a:lnTo>
                  <a:lnTo>
                    <a:pt x="337" y="68"/>
                  </a:lnTo>
                  <a:lnTo>
                    <a:pt x="343" y="0"/>
                  </a:lnTo>
                  <a:lnTo>
                    <a:pt x="411" y="4"/>
                  </a:lnTo>
                  <a:lnTo>
                    <a:pt x="398" y="61"/>
                  </a:lnTo>
                  <a:lnTo>
                    <a:pt x="381" y="174"/>
                  </a:lnTo>
                  <a:lnTo>
                    <a:pt x="350" y="303"/>
                  </a:lnTo>
                  <a:lnTo>
                    <a:pt x="297" y="426"/>
                  </a:lnTo>
                  <a:lnTo>
                    <a:pt x="225" y="544"/>
                  </a:lnTo>
                  <a:lnTo>
                    <a:pt x="112" y="697"/>
                  </a:lnTo>
                  <a:lnTo>
                    <a:pt x="26" y="817"/>
                  </a:lnTo>
                  <a:lnTo>
                    <a:pt x="0" y="733"/>
                  </a:lnTo>
                  <a:lnTo>
                    <a:pt x="0" y="733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39400" y="2622600"/>
              <a:ext cx="270360" cy="500040"/>
            </a:xfrm>
            <a:custGeom>
              <a:avLst/>
              <a:gdLst/>
              <a:ahLst/>
              <a:rect l="l" t="t" r="r" b="b"/>
              <a:pathLst>
                <a:path w="504" h="908">
                  <a:moveTo>
                    <a:pt x="28" y="4"/>
                  </a:moveTo>
                  <a:lnTo>
                    <a:pt x="66" y="0"/>
                  </a:lnTo>
                  <a:lnTo>
                    <a:pt x="108" y="15"/>
                  </a:lnTo>
                  <a:lnTo>
                    <a:pt x="189" y="83"/>
                  </a:lnTo>
                  <a:lnTo>
                    <a:pt x="310" y="246"/>
                  </a:lnTo>
                  <a:lnTo>
                    <a:pt x="384" y="377"/>
                  </a:lnTo>
                  <a:lnTo>
                    <a:pt x="458" y="574"/>
                  </a:lnTo>
                  <a:lnTo>
                    <a:pt x="492" y="783"/>
                  </a:lnTo>
                  <a:lnTo>
                    <a:pt x="504" y="908"/>
                  </a:lnTo>
                  <a:lnTo>
                    <a:pt x="426" y="902"/>
                  </a:lnTo>
                  <a:lnTo>
                    <a:pt x="415" y="788"/>
                  </a:lnTo>
                  <a:lnTo>
                    <a:pt x="392" y="673"/>
                  </a:lnTo>
                  <a:lnTo>
                    <a:pt x="360" y="521"/>
                  </a:lnTo>
                  <a:lnTo>
                    <a:pt x="305" y="394"/>
                  </a:lnTo>
                  <a:lnTo>
                    <a:pt x="257" y="292"/>
                  </a:lnTo>
                  <a:lnTo>
                    <a:pt x="201" y="207"/>
                  </a:lnTo>
                  <a:lnTo>
                    <a:pt x="142" y="136"/>
                  </a:lnTo>
                  <a:lnTo>
                    <a:pt x="62" y="80"/>
                  </a:lnTo>
                  <a:lnTo>
                    <a:pt x="17" y="55"/>
                  </a:lnTo>
                  <a:lnTo>
                    <a:pt x="0" y="2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04920" y="1523880"/>
            <a:ext cx="8534160" cy="455400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Accounting Income consists 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Permanent Component--the recurring component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expected to persist indefinit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Transitory Component--the transitory (or non-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recurring) component not expected to pers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(Note: The concept of economic income includes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both permanent and transitory components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Value Irrelevant Component--value irrelevant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components have no economic content; they ar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distortion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04920" y="1523880"/>
            <a:ext cx="8534160" cy="455400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Arial"/>
              </a:rPr>
              <a:t>Analysis Implications</a:t>
            </a: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Adjusting accounting income i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important tas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Necessary to specify analysi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objectives--e.g., determin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economic income or permanen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 or sustainable earning 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Adopt an inclusive approach—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including recurring and non-recurring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Times New Roman"/>
              </a:rPr>
              <a:t>componen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6705720" y="2286000"/>
          <a:ext cx="19810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286000"/>
                    <a:ext cx="1981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425680" y="3886200"/>
            <a:ext cx="4365000" cy="2274480"/>
            <a:chOff x="2425680" y="3886200"/>
            <a:chExt cx="4365000" cy="2274480"/>
          </a:xfrm>
        </p:grpSpPr>
        <p:grpSp>
          <p:nvGrpSpPr>
            <p:cNvPr id="457" name=""/>
            <p:cNvGrpSpPr/>
            <p:nvPr/>
          </p:nvGrpSpPr>
          <p:grpSpPr>
            <a:xfrm>
              <a:off x="2624040" y="3920760"/>
              <a:ext cx="3815640" cy="1761120"/>
              <a:chOff x="2624040" y="3920760"/>
              <a:chExt cx="3815640" cy="1761120"/>
            </a:xfrm>
          </p:grpSpPr>
          <p:sp>
            <p:nvSpPr>
              <p:cNvPr id="458" name=""/>
              <p:cNvSpPr/>
              <p:nvPr/>
            </p:nvSpPr>
            <p:spPr>
              <a:xfrm>
                <a:off x="2624760" y="4049640"/>
                <a:ext cx="3814560" cy="163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9" y="846"/>
                    </a:moveTo>
                    <a:arcTo wR="10800" hR="10800" stAng="-4030638" swAng="18509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9" y="846"/>
                    </a:moveTo>
                    <a:arcTo wR="10800" hR="10800" stAng="-4030638" swAng="185090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24040" y="3920760"/>
                <a:ext cx="381564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9" y="845"/>
                    </a:moveTo>
                    <a:arcTo wR="10800" hR="10800" stAng="-4030836" swAng="1840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9" y="845"/>
                    </a:moveTo>
                    <a:arcTo wR="10800" hR="10800" stAng="-4030836" swAng="1840160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35280" y="4251240"/>
                <a:ext cx="1525680" cy="608040"/>
              </a:xfrm>
              <a:custGeom>
                <a:avLst/>
                <a:gdLst/>
                <a:ahLst/>
                <a:rect l="l" t="t" r="r" b="b"/>
                <a:pathLst>
                  <a:path w="961" h="383">
                    <a:moveTo>
                      <a:pt x="0" y="302"/>
                    </a:moveTo>
                    <a:lnTo>
                      <a:pt x="0" y="382"/>
                    </a:lnTo>
                    <a:lnTo>
                      <a:pt x="960" y="80"/>
                    </a:lnTo>
                    <a:lnTo>
                      <a:pt x="960" y="0"/>
                    </a:lnTo>
                    <a:lnTo>
                      <a:pt x="0" y="30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2791440" y="3993840"/>
              <a:ext cx="3480840" cy="148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68" y="837"/>
                  </a:moveTo>
                  <a:arcTo wR="10800" hR="10800" stAng="-4037984" swAng="18506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68" y="837"/>
                  </a:moveTo>
                  <a:arcTo wR="10800" hR="10800" stAng="-4037984" swAng="1850633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2576880" y="3886200"/>
              <a:ext cx="3817800" cy="1761840"/>
              <a:chOff x="2576880" y="3886200"/>
              <a:chExt cx="3817800" cy="176184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2576880" y="3886200"/>
                <a:ext cx="3817800" cy="1761840"/>
                <a:chOff x="2576880" y="3886200"/>
                <a:chExt cx="3817800" cy="176184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576880" y="3886200"/>
                  <a:ext cx="3817800" cy="1761840"/>
                  <a:chOff x="2576880" y="3886200"/>
                  <a:chExt cx="3817800" cy="17618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2576880" y="4013280"/>
                    <a:ext cx="3817800" cy="163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425" y="88"/>
                        </a:moveTo>
                        <a:arcTo wR="10800" hR="10800" stAng="-5838794" swAng="17730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425" y="88"/>
                        </a:moveTo>
                        <a:arcTo wR="10800" hR="10800" stAng="-5838794" swAng="1773061"/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576880" y="3886200"/>
                    <a:ext cx="3817800" cy="163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425" y="88"/>
                        </a:moveTo>
                        <a:arcTo wR="10800" hR="10800" stAng="-5838794" swAng="17730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425" y="88"/>
                        </a:moveTo>
                        <a:arcTo wR="10800" hR="10800" stAng="-5838794" swAng="1773061"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>
                  <a:off x="4487400" y="3944880"/>
                  <a:ext cx="716040" cy="879480"/>
                </a:xfrm>
                <a:custGeom>
                  <a:avLst/>
                  <a:gdLst/>
                  <a:ahLst/>
                  <a:rect l="l" t="t" r="r" b="b"/>
                  <a:pathLst>
                    <a:path w="451" h="554">
                      <a:moveTo>
                        <a:pt x="0" y="472"/>
                      </a:moveTo>
                      <a:lnTo>
                        <a:pt x="0" y="553"/>
                      </a:lnTo>
                      <a:lnTo>
                        <a:pt x="450" y="80"/>
                      </a:lnTo>
                      <a:lnTo>
                        <a:pt x="450" y="0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4250880" y="3889440"/>
                <a:ext cx="228600" cy="939600"/>
              </a:xfrm>
              <a:custGeom>
                <a:avLst/>
                <a:gdLst/>
                <a:ahLst/>
                <a:rect l="l" t="t" r="r" b="b"/>
                <a:pathLst>
                  <a:path w="144" h="592">
                    <a:moveTo>
                      <a:pt x="143" y="591"/>
                    </a:moveTo>
                    <a:lnTo>
                      <a:pt x="143" y="511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143" y="591"/>
                    </a:lnTo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2743200" y="3957840"/>
              <a:ext cx="3481560" cy="148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43" y="86"/>
                  </a:moveTo>
                  <a:arcTo wR="10800" hR="10800" stAng="-5832941" swAng="17642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443" y="86"/>
                  </a:moveTo>
                  <a:arcTo wR="10800" hR="10800" stAng="-5832941" swAng="1764294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2649240" y="3960720"/>
              <a:ext cx="3816360" cy="1762200"/>
              <a:chOff x="2649240" y="3960720"/>
              <a:chExt cx="3816360" cy="1762200"/>
            </a:xfrm>
          </p:grpSpPr>
          <p:sp>
            <p:nvSpPr>
              <p:cNvPr id="471" name=""/>
              <p:cNvSpPr/>
              <p:nvPr/>
            </p:nvSpPr>
            <p:spPr>
              <a:xfrm>
                <a:off x="2649960" y="4087800"/>
                <a:ext cx="381492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504" y="4406"/>
                    </a:moveTo>
                    <a:arcTo wR="10800" hR="10800" stAng="-2178145" swAng="18437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504" y="4406"/>
                    </a:moveTo>
                    <a:arcTo wR="10800" hR="10800" stAng="-2178145" swAng="1843767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62280" y="4694400"/>
                <a:ext cx="1892160" cy="206280"/>
              </a:xfrm>
              <a:custGeom>
                <a:avLst/>
                <a:gdLst/>
                <a:ahLst/>
                <a:rect l="l" t="t" r="r" b="b"/>
                <a:pathLst>
                  <a:path w="1192" h="130">
                    <a:moveTo>
                      <a:pt x="0" y="50"/>
                    </a:moveTo>
                    <a:lnTo>
                      <a:pt x="0" y="129"/>
                    </a:lnTo>
                    <a:lnTo>
                      <a:pt x="1191" y="80"/>
                    </a:lnTo>
                    <a:lnTo>
                      <a:pt x="1191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49240" y="3960720"/>
                <a:ext cx="3816360" cy="163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95" y="4394"/>
                    </a:moveTo>
                    <a:arcTo wR="10800" hR="10800" stAng="-2183028" swAng="18344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95" y="4394"/>
                    </a:moveTo>
                    <a:arcTo wR="10800" hR="10800" stAng="-2183028" swAng="1834404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2817360" y="4031280"/>
              <a:ext cx="3480120" cy="149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04" y="4407"/>
                  </a:moveTo>
                  <a:arcTo wR="10800" hR="10800" stAng="-2177848" swAng="18404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04" y="4407"/>
                  </a:moveTo>
                  <a:arcTo wR="10800" hR="10800" stAng="-2177848" swAng="184046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545920" y="3930480"/>
              <a:ext cx="3813120" cy="1762200"/>
              <a:chOff x="2545920" y="3930480"/>
              <a:chExt cx="3813120" cy="1762200"/>
            </a:xfrm>
          </p:grpSpPr>
          <p:sp>
            <p:nvSpPr>
              <p:cNvPr id="476" name=""/>
              <p:cNvSpPr/>
              <p:nvPr/>
            </p:nvSpPr>
            <p:spPr>
              <a:xfrm>
                <a:off x="2545920" y="4057560"/>
                <a:ext cx="381312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65" y="2278"/>
                    </a:moveTo>
                    <a:arcTo wR="10800" hR="10800" stAng="-7674259" swAng="18296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65" y="2278"/>
                    </a:moveTo>
                    <a:arcTo wR="10800" hR="10800" stAng="-7674259" swAng="1829609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547000" y="3930480"/>
                <a:ext cx="381060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71" y="2274"/>
                    </a:moveTo>
                    <a:arcTo wR="10800" hR="10800" stAng="-7672003" swAng="18273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71" y="2274"/>
                    </a:moveTo>
                    <a:arcTo wR="10800" hR="10800" stAng="-7672003" swAng="182735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284280" y="4100400"/>
                <a:ext cx="1162080" cy="770040"/>
              </a:xfrm>
              <a:custGeom>
                <a:avLst/>
                <a:gdLst/>
                <a:ahLst/>
                <a:rect l="l" t="t" r="r" b="b"/>
                <a:pathLst>
                  <a:path w="732" h="485">
                    <a:moveTo>
                      <a:pt x="731" y="484"/>
                    </a:moveTo>
                    <a:lnTo>
                      <a:pt x="731" y="403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731" y="484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710800" y="4002480"/>
              <a:ext cx="3480120" cy="148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60" y="2282"/>
                  </a:moveTo>
                  <a:arcTo wR="10800" hR="10800" stAng="-7676201" swAng="1833552"/>
                  <a:lnTo>
                    <a:pt x="10800" y="10800"/>
                  </a:lnTo>
                  <a:close/>
                </a:path>
                <a:path fill="none" w="21600" h="21600">
                  <a:moveTo>
                    <a:pt x="4160" y="2282"/>
                  </a:moveTo>
                  <a:arcTo wR="10800" hR="10800" stAng="-7676201" swAng="1833552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467800" y="3975840"/>
              <a:ext cx="3813840" cy="1760400"/>
              <a:chOff x="2467800" y="3975840"/>
              <a:chExt cx="3813840" cy="176040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2467800" y="3975840"/>
                <a:ext cx="3813840" cy="1760400"/>
                <a:chOff x="2467800" y="3975840"/>
                <a:chExt cx="3813840" cy="17604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2467800" y="4103280"/>
                  <a:ext cx="381384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4" y="6735"/>
                      </a:moveTo>
                      <a:arcTo wR="10800" hR="10800" stAng="-9473234" swAng="18012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4" y="6735"/>
                      </a:moveTo>
                      <a:arcTo wR="10800" hR="10800" stAng="-9473234" swAng="1801287"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467800" y="3975840"/>
                  <a:ext cx="3813480" cy="163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12" y="6692"/>
                      </a:moveTo>
                      <a:arcTo wR="10800" hR="10800" stAng="-9458723" swAng="17953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12" y="6692"/>
                      </a:moveTo>
                      <a:arcTo wR="10800" hR="10800" stAng="-9458723" swAng="1795373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2606400" y="4479840"/>
                <a:ext cx="1760400" cy="433440"/>
              </a:xfrm>
              <a:custGeom>
                <a:avLst/>
                <a:gdLst/>
                <a:ahLst/>
                <a:rect l="l" t="t" r="r" b="b"/>
                <a:pathLst>
                  <a:path w="1109" h="273">
                    <a:moveTo>
                      <a:pt x="1108" y="193"/>
                    </a:moveTo>
                    <a:lnTo>
                      <a:pt x="1108" y="272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1108" y="193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2632680" y="4043160"/>
              <a:ext cx="3481200" cy="149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4" y="6735"/>
                  </a:moveTo>
                  <a:arcTo wR="10800" hR="10800" stAng="-9473523" swAng="1799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794" y="6735"/>
                  </a:moveTo>
                  <a:arcTo wR="10800" hR="10800" stAng="-9473523" swAng="179978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2557080" y="4019760"/>
              <a:ext cx="3817440" cy="1762920"/>
              <a:chOff x="2557080" y="4019760"/>
              <a:chExt cx="3817440" cy="1762920"/>
            </a:xfrm>
          </p:grpSpPr>
          <p:sp>
            <p:nvSpPr>
              <p:cNvPr id="487" name=""/>
              <p:cNvSpPr/>
              <p:nvPr/>
            </p:nvSpPr>
            <p:spPr>
              <a:xfrm>
                <a:off x="2557080" y="4826160"/>
                <a:ext cx="66600" cy="1587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2558880" y="4019760"/>
                <a:ext cx="3815640" cy="1762920"/>
                <a:chOff x="2558880" y="4019760"/>
                <a:chExt cx="3815640" cy="17629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2558880" y="4145760"/>
                  <a:ext cx="3815640" cy="163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3" y="12058"/>
                      </a:moveTo>
                      <a:arcTo wR="10800" hR="10800" stAng="10398801" swAng="16843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3" y="12058"/>
                      </a:moveTo>
                      <a:arcTo wR="10800" hR="10800" stAng="10398801" swAng="1684354"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58880" y="4019760"/>
                  <a:ext cx="3815640" cy="163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6" y="12079"/>
                      </a:moveTo>
                      <a:arcTo wR="10800" hR="10800" stAng="10391784" swAng="16997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6" y="12079"/>
                      </a:moveTo>
                      <a:arcTo wR="10800" hR="10800" stAng="10391784" swAng="1699763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70040" y="4837320"/>
                  <a:ext cx="1888920" cy="218880"/>
                </a:xfrm>
                <a:custGeom>
                  <a:avLst/>
                  <a:gdLst/>
                  <a:ahLst/>
                  <a:rect l="l" t="t" r="r" b="b"/>
                  <a:pathLst>
                    <a:path w="1190" h="138">
                      <a:moveTo>
                        <a:pt x="0" y="137"/>
                      </a:moveTo>
                      <a:lnTo>
                        <a:pt x="0" y="60"/>
                      </a:lnTo>
                      <a:lnTo>
                        <a:pt x="1189" y="0"/>
                      </a:lnTo>
                      <a:lnTo>
                        <a:pt x="1189" y="77"/>
                      </a:lnTo>
                      <a:lnTo>
                        <a:pt x="0" y="137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2" name=""/>
            <p:cNvSpPr/>
            <p:nvPr/>
          </p:nvSpPr>
          <p:spPr>
            <a:xfrm>
              <a:off x="2723760" y="4090680"/>
              <a:ext cx="3483000" cy="148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" y="12043"/>
                  </a:moveTo>
                  <a:arcTo wR="10800" hR="10800" stAng="10403589" swAng="1678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" y="12043"/>
                  </a:moveTo>
                  <a:arcTo wR="10800" hR="10800" stAng="10403589" swAng="1678290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425680" y="4090680"/>
              <a:ext cx="3816000" cy="1760400"/>
              <a:chOff x="2425680" y="4090680"/>
              <a:chExt cx="3816000" cy="1760400"/>
            </a:xfrm>
          </p:grpSpPr>
          <p:sp>
            <p:nvSpPr>
              <p:cNvPr id="494" name=""/>
              <p:cNvSpPr/>
              <p:nvPr/>
            </p:nvSpPr>
            <p:spPr>
              <a:xfrm>
                <a:off x="2426040" y="4220280"/>
                <a:ext cx="3815280" cy="163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9" y="17211"/>
                    </a:moveTo>
                    <a:arcTo wR="10800" hR="10800" stAng="8615172" swAng="1769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9" y="17211"/>
                    </a:moveTo>
                    <a:arcTo wR="10800" hR="10800" stAng="8615172" swAng="1769813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438280" y="5016600"/>
                <a:ext cx="350640" cy="500040"/>
              </a:xfrm>
              <a:custGeom>
                <a:avLst/>
                <a:gdLst/>
                <a:ahLst/>
                <a:rect l="l" t="t" r="r" b="b"/>
                <a:pathLst>
                  <a:path w="221" h="315">
                    <a:moveTo>
                      <a:pt x="220" y="238"/>
                    </a:moveTo>
                    <a:lnTo>
                      <a:pt x="220" y="314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220" y="238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04760" y="4911840"/>
                <a:ext cx="1519200" cy="612720"/>
              </a:xfrm>
              <a:custGeom>
                <a:avLst/>
                <a:gdLst/>
                <a:ahLst/>
                <a:rect l="l" t="t" r="r" b="b"/>
                <a:pathLst>
                  <a:path w="957" h="386">
                    <a:moveTo>
                      <a:pt x="0" y="305"/>
                    </a:moveTo>
                    <a:lnTo>
                      <a:pt x="0" y="385"/>
                    </a:lnTo>
                    <a:lnTo>
                      <a:pt x="956" y="79"/>
                    </a:lnTo>
                    <a:lnTo>
                      <a:pt x="956" y="0"/>
                    </a:lnTo>
                    <a:lnTo>
                      <a:pt x="0" y="305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425680" y="4090680"/>
                <a:ext cx="381600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" y="17234"/>
                    </a:moveTo>
                    <a:arcTo wR="10800" hR="10800" stAng="8605919" swAng="17729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" y="17234"/>
                    </a:moveTo>
                    <a:arcTo wR="10800" hR="10800" stAng="8605919" swAng="1772900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2591640" y="4163040"/>
              <a:ext cx="3480120" cy="148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9" y="17225"/>
                  </a:moveTo>
                  <a:arcTo wR="10800" hR="10800" stAng="8609784" swAng="17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9" y="17225"/>
                  </a:moveTo>
                  <a:arcTo wR="10800" hR="10800" stAng="8609784" swAng="1764148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2649600" y="3966480"/>
              <a:ext cx="3815640" cy="1765080"/>
              <a:chOff x="2649600" y="3966480"/>
              <a:chExt cx="3815640" cy="1765080"/>
            </a:xfrm>
          </p:grpSpPr>
          <p:sp>
            <p:nvSpPr>
              <p:cNvPr id="500" name=""/>
              <p:cNvSpPr/>
              <p:nvPr/>
            </p:nvSpPr>
            <p:spPr>
              <a:xfrm>
                <a:off x="2649600" y="4091400"/>
                <a:ext cx="3815640" cy="164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5" y="9714"/>
                    </a:moveTo>
                    <a:arcTo wR="10800" hR="10800" stAng="-346328" swAng="17206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5" y="9714"/>
                    </a:moveTo>
                    <a:arcTo wR="10800" hR="10800" stAng="-346328" swAng="172065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62280" y="4786200"/>
                <a:ext cx="1743120" cy="443160"/>
              </a:xfrm>
              <a:custGeom>
                <a:avLst/>
                <a:gdLst/>
                <a:ahLst/>
                <a:rect l="l" t="t" r="r" b="b"/>
                <a:pathLst>
                  <a:path w="1098" h="279">
                    <a:moveTo>
                      <a:pt x="0" y="0"/>
                    </a:moveTo>
                    <a:lnTo>
                      <a:pt x="0" y="78"/>
                    </a:lnTo>
                    <a:lnTo>
                      <a:pt x="1097" y="278"/>
                    </a:lnTo>
                    <a:lnTo>
                      <a:pt x="1097" y="2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395760" y="4784760"/>
                <a:ext cx="68400" cy="15408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49600" y="3966480"/>
                <a:ext cx="3815640" cy="163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1" y="9669"/>
                    </a:moveTo>
                    <a:arcTo wR="10800" hR="10800" stAng="-360544" swAng="17445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1" y="9669"/>
                    </a:moveTo>
                    <a:arcTo wR="10800" hR="10800" stAng="-360544" swAng="1744511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816280" y="4038840"/>
              <a:ext cx="3482280" cy="149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1" y="9675"/>
                  </a:moveTo>
                  <a:arcTo wR="10800" hR="10800" stAng="-358848" swAng="1726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1" y="9675"/>
                  </a:moveTo>
                  <a:arcTo wR="10800" hR="10800" stAng="-358848" swAng="1726867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770920" y="4120200"/>
              <a:ext cx="3814200" cy="1761480"/>
              <a:chOff x="2770920" y="4120200"/>
              <a:chExt cx="3814200" cy="1761480"/>
            </a:xfrm>
          </p:grpSpPr>
          <p:sp>
            <p:nvSpPr>
              <p:cNvPr id="506" name=""/>
              <p:cNvSpPr/>
              <p:nvPr/>
            </p:nvSpPr>
            <p:spPr>
              <a:xfrm>
                <a:off x="2771280" y="4246200"/>
                <a:ext cx="3813480" cy="163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980" swAng="1766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980" swAng="176619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679640" y="4940280"/>
                <a:ext cx="1152720" cy="773280"/>
              </a:xfrm>
              <a:custGeom>
                <a:avLst/>
                <a:gdLst/>
                <a:ahLst/>
                <a:rect l="l" t="t" r="r" b="b"/>
                <a:pathLst>
                  <a:path w="726" h="487">
                    <a:moveTo>
                      <a:pt x="0" y="0"/>
                    </a:moveTo>
                    <a:lnTo>
                      <a:pt x="0" y="79"/>
                    </a:lnTo>
                    <a:lnTo>
                      <a:pt x="725" y="486"/>
                    </a:lnTo>
                    <a:lnTo>
                      <a:pt x="725" y="40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132240" y="5265720"/>
                <a:ext cx="291960" cy="195480"/>
              </a:xfrm>
              <a:custGeom>
                <a:avLst/>
                <a:gdLst/>
                <a:ahLst/>
                <a:rect l="l" t="t" r="r" b="b"/>
                <a:pathLst>
                  <a:path w="184" h="123">
                    <a:moveTo>
                      <a:pt x="183" y="0"/>
                    </a:moveTo>
                    <a:lnTo>
                      <a:pt x="183" y="77"/>
                    </a:lnTo>
                    <a:lnTo>
                      <a:pt x="0" y="122"/>
                    </a:lnTo>
                    <a:lnTo>
                      <a:pt x="32" y="30"/>
                    </a:lnTo>
                    <a:lnTo>
                      <a:pt x="183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70920" y="4120200"/>
                <a:ext cx="3814200" cy="163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1" y="15043"/>
                    </a:moveTo>
                    <a:arcTo wR="10800" hR="10800" stAng="1388105" swAng="17714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1" y="15043"/>
                    </a:moveTo>
                    <a:arcTo wR="10800" hR="10800" stAng="1388105" swAng="177140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2937960" y="4192920"/>
              <a:ext cx="3476880" cy="148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40" y="15024"/>
                  </a:moveTo>
                  <a:arcTo wR="10800" hR="10800" stAng="1381346" swAng="1770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40" y="15024"/>
                  </a:moveTo>
                  <a:arcTo wR="10800" hR="10800" stAng="1381346" swAng="177031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975040" y="4399200"/>
              <a:ext cx="3815640" cy="1761480"/>
              <a:chOff x="2975040" y="4399200"/>
              <a:chExt cx="3815640" cy="1761480"/>
            </a:xfrm>
          </p:grpSpPr>
          <p:sp>
            <p:nvSpPr>
              <p:cNvPr id="512" name=""/>
              <p:cNvSpPr/>
              <p:nvPr/>
            </p:nvSpPr>
            <p:spPr>
              <a:xfrm>
                <a:off x="2975040" y="4526280"/>
                <a:ext cx="38156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49" y="19388"/>
                    </a:moveTo>
                    <a:arcTo wR="10800" hR="10800" stAng="3160198" swAng="18210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49" y="19388"/>
                    </a:moveTo>
                    <a:arcTo wR="10800" hR="10800" stAng="3160198" swAng="1821053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21000" y="5873760"/>
                <a:ext cx="909720" cy="279360"/>
              </a:xfrm>
              <a:custGeom>
                <a:avLst/>
                <a:gdLst/>
                <a:ahLst/>
                <a:rect l="l" t="t" r="r" b="b"/>
                <a:pathLst>
                  <a:path w="573" h="176">
                    <a:moveTo>
                      <a:pt x="0" y="95"/>
                    </a:moveTo>
                    <a:lnTo>
                      <a:pt x="0" y="175"/>
                    </a:lnTo>
                    <a:lnTo>
                      <a:pt x="572" y="76"/>
                    </a:lnTo>
                    <a:lnTo>
                      <a:pt x="572" y="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85920" y="5221440"/>
                <a:ext cx="223920" cy="934920"/>
              </a:xfrm>
              <a:custGeom>
                <a:avLst/>
                <a:gdLst/>
                <a:ahLst/>
                <a:rect l="l" t="t" r="r" b="b"/>
                <a:pathLst>
                  <a:path w="141" h="589">
                    <a:moveTo>
                      <a:pt x="140" y="506"/>
                    </a:moveTo>
                    <a:lnTo>
                      <a:pt x="140" y="588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140" y="50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75040" y="4399200"/>
                <a:ext cx="38156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49" y="19388"/>
                    </a:moveTo>
                    <a:arcTo wR="10800" hR="10800" stAng="3160198" swAng="18210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49" y="19388"/>
                    </a:moveTo>
                    <a:arcTo wR="10800" hR="10800" stAng="3160198" swAng="182105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142080" y="4469760"/>
              <a:ext cx="3484800" cy="14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33" y="19400"/>
                  </a:moveTo>
                  <a:arcTo wR="10800" hR="10800" stAng="3166827" swAng="1818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33" y="19400"/>
                  </a:moveTo>
                  <a:arcTo wR="10800" hR="10800" stAng="3166827" swAng="1818174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632680" y="4227480"/>
              <a:ext cx="3811320" cy="1761840"/>
              <a:chOff x="2632680" y="4227480"/>
              <a:chExt cx="3811320" cy="1761840"/>
            </a:xfrm>
          </p:grpSpPr>
          <p:sp>
            <p:nvSpPr>
              <p:cNvPr id="518" name=""/>
              <p:cNvSpPr/>
              <p:nvPr/>
            </p:nvSpPr>
            <p:spPr>
              <a:xfrm>
                <a:off x="2632680" y="4354560"/>
                <a:ext cx="381132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04" y="21521"/>
                    </a:moveTo>
                    <a:arcTo wR="10800" hR="10800" stAng="4983920" swAng="1808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04" y="21521"/>
                    </a:moveTo>
                    <a:arcTo wR="10800" hR="10800" stAng="4983920" swAng="1808167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95480" y="5800680"/>
                <a:ext cx="968400" cy="181080"/>
              </a:xfrm>
              <a:custGeom>
                <a:avLst/>
                <a:gdLst/>
                <a:ahLst/>
                <a:rect l="l" t="t" r="r" b="b"/>
                <a:pathLst>
                  <a:path w="610" h="114">
                    <a:moveTo>
                      <a:pt x="0" y="0"/>
                    </a:moveTo>
                    <a:lnTo>
                      <a:pt x="0" y="79"/>
                    </a:lnTo>
                    <a:lnTo>
                      <a:pt x="609" y="113"/>
                    </a:lnTo>
                    <a:lnTo>
                      <a:pt x="609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32680" y="4227480"/>
                <a:ext cx="381132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04" y="21521"/>
                    </a:moveTo>
                    <a:arcTo wR="10800" hR="10800" stAng="4983920" swAng="1808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04" y="21521"/>
                    </a:moveTo>
                    <a:arcTo wR="10800" hR="10800" stAng="4983920" swAng="1808167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797920" y="4298760"/>
              <a:ext cx="3483360" cy="149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12" y="21520"/>
                  </a:moveTo>
                  <a:arcTo wR="10800" hR="10800" stAng="4981258" swAng="1806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12" y="21520"/>
                  </a:moveTo>
                  <a:arcTo wR="10800" hR="10800" stAng="4981258" swAng="180606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2467440" y="4254480"/>
              <a:ext cx="3814560" cy="1761840"/>
              <a:chOff x="2467440" y="4254480"/>
              <a:chExt cx="3814560" cy="1761840"/>
            </a:xfrm>
          </p:grpSpPr>
          <p:sp>
            <p:nvSpPr>
              <p:cNvPr id="523" name=""/>
              <p:cNvSpPr/>
              <p:nvPr/>
            </p:nvSpPr>
            <p:spPr>
              <a:xfrm>
                <a:off x="2467800" y="4381920"/>
                <a:ext cx="38138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7" y="20697"/>
                    </a:moveTo>
                    <a:arcTo wR="10800" hR="10800" stAng="6815754" swAng="17804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7" y="20697"/>
                    </a:moveTo>
                    <a:arcTo wR="10800" hR="10800" stAng="6815754" swAng="1780482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52280" y="5567400"/>
                <a:ext cx="756000" cy="376200"/>
              </a:xfrm>
              <a:custGeom>
                <a:avLst/>
                <a:gdLst/>
                <a:ahLst/>
                <a:rect l="l" t="t" r="r" b="b"/>
                <a:pathLst>
                  <a:path w="476" h="237">
                    <a:moveTo>
                      <a:pt x="0" y="0"/>
                    </a:moveTo>
                    <a:lnTo>
                      <a:pt x="0" y="79"/>
                    </a:lnTo>
                    <a:lnTo>
                      <a:pt x="475" y="236"/>
                    </a:lnTo>
                    <a:lnTo>
                      <a:pt x="475" y="14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467440" y="4254480"/>
                <a:ext cx="381456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80" y="20699"/>
                    </a:moveTo>
                    <a:arcTo wR="10800" hR="10800" stAng="6814579" swAng="177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80" y="20699"/>
                    </a:moveTo>
                    <a:arcTo wR="10800" hR="10800" stAng="6814579" swAng="1776628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616200" y="5072040"/>
                <a:ext cx="750600" cy="878040"/>
              </a:xfrm>
              <a:custGeom>
                <a:avLst/>
                <a:gdLst/>
                <a:ahLst/>
                <a:rect l="l" t="t" r="r" b="b"/>
                <a:pathLst>
                  <a:path w="473" h="553">
                    <a:moveTo>
                      <a:pt x="0" y="472"/>
                    </a:moveTo>
                    <a:lnTo>
                      <a:pt x="0" y="552"/>
                    </a:lnTo>
                    <a:lnTo>
                      <a:pt x="472" y="81"/>
                    </a:lnTo>
                    <a:lnTo>
                      <a:pt x="472" y="0"/>
                    </a:lnTo>
                    <a:lnTo>
                      <a:pt x="0" y="47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2632680" y="4325040"/>
              <a:ext cx="3477960" cy="149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7" y="20706"/>
                  </a:moveTo>
                  <a:arcTo wR="10800" hR="10800" stAng="6808672" swAng="179324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7" y="20706"/>
                  </a:moveTo>
                  <a:arcTo wR="10800" hR="10800" stAng="6808672" swAng="1793240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28600" y="1752480"/>
            <a:ext cx="8686800" cy="146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Arial Black"/>
                <a:ea typeface="Arial"/>
              </a:rPr>
              <a:t>Two main components of accounting incom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Black"/>
                <a:ea typeface="Arial"/>
              </a:rPr>
              <a:t>	</a:t>
            </a:r>
            <a:r>
              <a:rPr b="1" lang="en-US" sz="2800" spc="-1" strike="noStrike">
                <a:solidFill>
                  <a:srgbClr val="ff3399"/>
                </a:solidFill>
                <a:latin typeface="Arial Black"/>
                <a:ea typeface="Arial"/>
              </a:rPr>
              <a:t>Revenues (ga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 Black"/>
                <a:ea typeface="Arial"/>
              </a:rPr>
              <a:t>	</a:t>
            </a:r>
            <a:r>
              <a:rPr b="1" lang="en-US" sz="2800" spc="-1" strike="noStrike">
                <a:solidFill>
                  <a:srgbClr val="ff3399"/>
                </a:solidFill>
                <a:latin typeface="Arial Black"/>
                <a:ea typeface="Arial"/>
              </a:rPr>
              <a:t>Expenses (lo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04920" y="1447920"/>
            <a:ext cx="8458200" cy="519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Sample Income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1600200"/>
            <a:ext cx="8416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Amber Corp. and Subsidi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697960" y="1600200"/>
            <a:ext cx="446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1752480"/>
            <a:ext cx="4887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167440" y="1752480"/>
            <a:ext cx="647280" cy="211320"/>
            <a:chOff x="5167440" y="1752480"/>
            <a:chExt cx="647280" cy="211320"/>
          </a:xfrm>
        </p:grpSpPr>
        <p:sp>
          <p:nvSpPr>
            <p:cNvPr id="536" name=""/>
            <p:cNvSpPr/>
            <p:nvPr/>
          </p:nvSpPr>
          <p:spPr>
            <a:xfrm>
              <a:off x="5167440" y="1752480"/>
              <a:ext cx="647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91920" y="1752480"/>
              <a:ext cx="597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840280" y="1752480"/>
            <a:ext cx="455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828800"/>
            <a:ext cx="4572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594640" y="1752480"/>
            <a:ext cx="451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4920" y="1963800"/>
            <a:ext cx="5103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724280" y="1963800"/>
            <a:ext cx="1066680" cy="263520"/>
            <a:chOff x="4724280" y="1963800"/>
            <a:chExt cx="1066680" cy="263520"/>
          </a:xfrm>
        </p:grpSpPr>
        <p:sp>
          <p:nvSpPr>
            <p:cNvPr id="543" name=""/>
            <p:cNvSpPr/>
            <p:nvPr/>
          </p:nvSpPr>
          <p:spPr>
            <a:xfrm>
              <a:off x="4724280" y="1963800"/>
              <a:ext cx="10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48760" y="1963800"/>
              <a:ext cx="1017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4,31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816520" y="1963800"/>
            <a:ext cx="2714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87960" y="1963800"/>
            <a:ext cx="8654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12,71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63800"/>
            <a:ext cx="258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86720" y="1963800"/>
            <a:ext cx="654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13,03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317080" y="1963800"/>
            <a:ext cx="446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2227320"/>
            <a:ext cx="51037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quity inc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724280" y="2227320"/>
            <a:ext cx="1066680" cy="160200"/>
            <a:chOff x="4724280" y="2227320"/>
            <a:chExt cx="1066680" cy="160200"/>
          </a:xfrm>
        </p:grpSpPr>
        <p:sp>
          <p:nvSpPr>
            <p:cNvPr id="552" name=""/>
            <p:cNvSpPr/>
            <p:nvPr/>
          </p:nvSpPr>
          <p:spPr>
            <a:xfrm>
              <a:off x="4724280" y="2227320"/>
              <a:ext cx="10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48760" y="2227320"/>
              <a:ext cx="10173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816520" y="2227320"/>
            <a:ext cx="271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87960" y="2227320"/>
            <a:ext cx="865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953400" y="2227320"/>
            <a:ext cx="258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86720" y="2227320"/>
            <a:ext cx="654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17080" y="2227320"/>
            <a:ext cx="4460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2387520"/>
            <a:ext cx="510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est inc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724280" y="2387520"/>
            <a:ext cx="1066680" cy="211320"/>
            <a:chOff x="4724280" y="2387520"/>
            <a:chExt cx="1066680" cy="211320"/>
          </a:xfrm>
        </p:grpSpPr>
        <p:sp>
          <p:nvSpPr>
            <p:cNvPr id="561" name=""/>
            <p:cNvSpPr/>
            <p:nvPr/>
          </p:nvSpPr>
          <p:spPr>
            <a:xfrm>
              <a:off x="4724280" y="2387520"/>
              <a:ext cx="10666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48760" y="2387520"/>
              <a:ext cx="1017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816520" y="2387520"/>
            <a:ext cx="2714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87960" y="2387520"/>
            <a:ext cx="8654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953400" y="2387520"/>
            <a:ext cx="258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86720" y="2387520"/>
            <a:ext cx="6541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317080" y="2387520"/>
            <a:ext cx="4460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920" y="2598840"/>
            <a:ext cx="5103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of goods s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724280" y="2598840"/>
            <a:ext cx="1066680" cy="210960"/>
            <a:chOff x="4724280" y="2598840"/>
            <a:chExt cx="1066680" cy="210960"/>
          </a:xfrm>
        </p:grpSpPr>
        <p:sp>
          <p:nvSpPr>
            <p:cNvPr id="570" name=""/>
            <p:cNvSpPr/>
            <p:nvPr/>
          </p:nvSpPr>
          <p:spPr>
            <a:xfrm>
              <a:off x="4724280" y="2598840"/>
              <a:ext cx="10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48760" y="2598840"/>
              <a:ext cx="10173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(8,33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5816520" y="2598840"/>
            <a:ext cx="2714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87960" y="2598840"/>
            <a:ext cx="8654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7,56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53400" y="2598840"/>
            <a:ext cx="2584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86720" y="2598840"/>
            <a:ext cx="6541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8,0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17080" y="2598840"/>
            <a:ext cx="446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2809800"/>
            <a:ext cx="5319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ross prof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781520" y="2809800"/>
            <a:ext cx="1004400" cy="262080"/>
            <a:chOff x="4781520" y="2809800"/>
            <a:chExt cx="1004400" cy="262080"/>
          </a:xfrm>
        </p:grpSpPr>
        <p:sp>
          <p:nvSpPr>
            <p:cNvPr id="579" name=""/>
            <p:cNvSpPr/>
            <p:nvPr/>
          </p:nvSpPr>
          <p:spPr>
            <a:xfrm>
              <a:off x="4781520" y="2809800"/>
              <a:ext cx="10044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06000" y="2809800"/>
              <a:ext cx="955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6,04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811840" y="2809800"/>
            <a:ext cx="257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68880" y="2809800"/>
            <a:ext cx="87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5,26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48360" y="2809800"/>
            <a:ext cx="45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554960" y="2809800"/>
            <a:ext cx="750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5,09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3071880"/>
            <a:ext cx="51037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565520" y="3071880"/>
            <a:ext cx="1066680" cy="160200"/>
            <a:chOff x="4565520" y="3071880"/>
            <a:chExt cx="1066680" cy="160200"/>
          </a:xfrm>
        </p:grpSpPr>
        <p:sp>
          <p:nvSpPr>
            <p:cNvPr id="587" name=""/>
            <p:cNvSpPr/>
            <p:nvPr/>
          </p:nvSpPr>
          <p:spPr>
            <a:xfrm>
              <a:off x="4565520" y="3071880"/>
              <a:ext cx="10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590000" y="3071880"/>
              <a:ext cx="10173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5657760" y="3071880"/>
            <a:ext cx="271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29200" y="3071880"/>
            <a:ext cx="865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94640" y="3071880"/>
            <a:ext cx="258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53120" y="3071880"/>
            <a:ext cx="654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35760" y="3071880"/>
            <a:ext cx="446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4640" y="3232080"/>
            <a:ext cx="4888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ling and administ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952880" y="3232080"/>
            <a:ext cx="861840" cy="273240"/>
            <a:chOff x="4952880" y="3232080"/>
            <a:chExt cx="861840" cy="273240"/>
          </a:xfrm>
        </p:grpSpPr>
        <p:sp>
          <p:nvSpPr>
            <p:cNvPr id="596" name=""/>
            <p:cNvSpPr/>
            <p:nvPr/>
          </p:nvSpPr>
          <p:spPr>
            <a:xfrm>
              <a:off x="4952880" y="3232080"/>
              <a:ext cx="861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85640" y="3232080"/>
              <a:ext cx="795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(2,96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840280" y="3232080"/>
            <a:ext cx="455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96040" y="3232080"/>
            <a:ext cx="669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(2,47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66000" y="3232080"/>
            <a:ext cx="4572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38880" y="3232080"/>
            <a:ext cx="1098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(2,39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496360" y="3232080"/>
            <a:ext cx="450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4640" y="3494160"/>
            <a:ext cx="4888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earch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167440" y="3494160"/>
            <a:ext cx="647280" cy="210960"/>
            <a:chOff x="5167440" y="3494160"/>
            <a:chExt cx="647280" cy="210960"/>
          </a:xfrm>
        </p:grpSpPr>
        <p:sp>
          <p:nvSpPr>
            <p:cNvPr id="605" name=""/>
            <p:cNvSpPr/>
            <p:nvPr/>
          </p:nvSpPr>
          <p:spPr>
            <a:xfrm>
              <a:off x="5167440" y="3494160"/>
              <a:ext cx="6472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91920" y="3494160"/>
              <a:ext cx="5979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23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840280" y="3494160"/>
            <a:ext cx="4557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296040" y="3494160"/>
            <a:ext cx="6699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89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66000" y="3494160"/>
            <a:ext cx="4572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38880" y="3494160"/>
            <a:ext cx="1098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85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96360" y="3494160"/>
            <a:ext cx="450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4640" y="3705120"/>
            <a:ext cx="4888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tructuring cha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167440" y="3705120"/>
            <a:ext cx="647280" cy="211320"/>
            <a:chOff x="5167440" y="3705120"/>
            <a:chExt cx="647280" cy="211320"/>
          </a:xfrm>
        </p:grpSpPr>
        <p:sp>
          <p:nvSpPr>
            <p:cNvPr id="614" name=""/>
            <p:cNvSpPr/>
            <p:nvPr/>
          </p:nvSpPr>
          <p:spPr>
            <a:xfrm>
              <a:off x="5167440" y="3705120"/>
              <a:ext cx="647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91920" y="3705120"/>
              <a:ext cx="597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5840280" y="3705120"/>
            <a:ext cx="455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96040" y="3705120"/>
            <a:ext cx="6699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101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66000" y="3705120"/>
            <a:ext cx="4572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3705120"/>
            <a:ext cx="109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496360" y="3705120"/>
            <a:ext cx="450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4640" y="3916440"/>
            <a:ext cx="4888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est expe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167440" y="3916440"/>
            <a:ext cx="647280" cy="210960"/>
            <a:chOff x="5167440" y="3916440"/>
            <a:chExt cx="647280" cy="210960"/>
          </a:xfrm>
        </p:grpSpPr>
        <p:sp>
          <p:nvSpPr>
            <p:cNvPr id="623" name=""/>
            <p:cNvSpPr/>
            <p:nvPr/>
          </p:nvSpPr>
          <p:spPr>
            <a:xfrm>
              <a:off x="5167440" y="3916440"/>
              <a:ext cx="6472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91920" y="3916440"/>
              <a:ext cx="5979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(72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840280" y="3916440"/>
            <a:ext cx="4557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296040" y="3916440"/>
            <a:ext cx="6699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7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66000" y="3916440"/>
            <a:ext cx="4572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238880" y="3916440"/>
            <a:ext cx="1098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65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496360" y="3916440"/>
            <a:ext cx="450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4127400"/>
            <a:ext cx="510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come before tax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724280" y="4127400"/>
            <a:ext cx="1066680" cy="262080"/>
            <a:chOff x="4724280" y="4127400"/>
            <a:chExt cx="1066680" cy="262080"/>
          </a:xfrm>
        </p:grpSpPr>
        <p:sp>
          <p:nvSpPr>
            <p:cNvPr id="632" name=""/>
            <p:cNvSpPr/>
            <p:nvPr/>
          </p:nvSpPr>
          <p:spPr>
            <a:xfrm>
              <a:off x="4724280" y="4127400"/>
              <a:ext cx="1066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48760" y="4127400"/>
              <a:ext cx="1017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,12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767560" y="4127400"/>
            <a:ext cx="271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39000" y="4127400"/>
            <a:ext cx="86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   15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4080" y="4127400"/>
            <a:ext cx="258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86720" y="412740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1,18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501040" y="4127400"/>
            <a:ext cx="446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4640" y="4389480"/>
            <a:ext cx="488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come tax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143680" y="4267080"/>
            <a:ext cx="647280" cy="262080"/>
            <a:chOff x="5143680" y="4267080"/>
            <a:chExt cx="647280" cy="262080"/>
          </a:xfrm>
        </p:grpSpPr>
        <p:sp>
          <p:nvSpPr>
            <p:cNvPr id="641" name=""/>
            <p:cNvSpPr/>
            <p:nvPr/>
          </p:nvSpPr>
          <p:spPr>
            <a:xfrm>
              <a:off x="5143680" y="4267080"/>
              <a:ext cx="6472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168160" y="4267080"/>
              <a:ext cx="5979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(33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132520" y="4389480"/>
            <a:ext cx="455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64360" y="4419720"/>
            <a:ext cx="669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35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7880" y="4389480"/>
            <a:ext cx="4572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4389480"/>
            <a:ext cx="1098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35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96360" y="4389480"/>
            <a:ext cx="450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4920" y="4651200"/>
            <a:ext cx="510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come from continuing 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675320" y="4691160"/>
            <a:ext cx="1066320" cy="261720"/>
            <a:chOff x="4675320" y="4691160"/>
            <a:chExt cx="1066320" cy="261720"/>
          </a:xfrm>
        </p:grpSpPr>
        <p:sp>
          <p:nvSpPr>
            <p:cNvPr id="650" name=""/>
            <p:cNvSpPr/>
            <p:nvPr/>
          </p:nvSpPr>
          <p:spPr>
            <a:xfrm>
              <a:off x="4675320" y="4691160"/>
              <a:ext cx="10663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99800" y="4691160"/>
              <a:ext cx="10170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785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767560" y="4651200"/>
            <a:ext cx="271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39000" y="4691160"/>
            <a:ext cx="86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 (19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904080" y="4651200"/>
            <a:ext cx="258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686720" y="465120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$    83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501040" y="4651200"/>
            <a:ext cx="446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74640" y="4913280"/>
            <a:ext cx="4888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ain from extinguishment of deb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105520" y="4913280"/>
            <a:ext cx="647280" cy="211320"/>
            <a:chOff x="5105520" y="4913280"/>
            <a:chExt cx="647280" cy="211320"/>
          </a:xfrm>
        </p:grpSpPr>
        <p:sp>
          <p:nvSpPr>
            <p:cNvPr id="659" name=""/>
            <p:cNvSpPr/>
            <p:nvPr/>
          </p:nvSpPr>
          <p:spPr>
            <a:xfrm>
              <a:off x="5105520" y="4913280"/>
              <a:ext cx="647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30000" y="4913280"/>
              <a:ext cx="597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5132520" y="4913280"/>
            <a:ext cx="4554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88040" y="4913280"/>
            <a:ext cx="6699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257880" y="4913280"/>
            <a:ext cx="4572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38880" y="4913280"/>
            <a:ext cx="109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96360" y="4913280"/>
            <a:ext cx="450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4640" y="5124600"/>
            <a:ext cx="48880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ss from operating discontinued 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067360" y="5124600"/>
            <a:ext cx="647280" cy="212400"/>
            <a:chOff x="5067360" y="5124600"/>
            <a:chExt cx="647280" cy="212400"/>
          </a:xfrm>
        </p:grpSpPr>
        <p:sp>
          <p:nvSpPr>
            <p:cNvPr id="668" name=""/>
            <p:cNvSpPr/>
            <p:nvPr/>
          </p:nvSpPr>
          <p:spPr>
            <a:xfrm>
              <a:off x="5067360" y="5124600"/>
              <a:ext cx="6472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91840" y="5124600"/>
              <a:ext cx="597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132520" y="5124600"/>
            <a:ext cx="455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88040" y="5124600"/>
            <a:ext cx="669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57880" y="5124600"/>
            <a:ext cx="457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38880" y="5124600"/>
            <a:ext cx="10987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2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496360" y="5124600"/>
            <a:ext cx="4507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4640" y="5337000"/>
            <a:ext cx="4888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ain from sale of discontinued 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067360" y="5337000"/>
            <a:ext cx="647280" cy="211320"/>
            <a:chOff x="5067360" y="5337000"/>
            <a:chExt cx="647280" cy="211320"/>
          </a:xfrm>
        </p:grpSpPr>
        <p:sp>
          <p:nvSpPr>
            <p:cNvPr id="677" name=""/>
            <p:cNvSpPr/>
            <p:nvPr/>
          </p:nvSpPr>
          <p:spPr>
            <a:xfrm>
              <a:off x="5067360" y="5337000"/>
              <a:ext cx="647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91840" y="5337000"/>
              <a:ext cx="597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-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132520" y="5337000"/>
            <a:ext cx="4554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172200" y="5337000"/>
            <a:ext cx="6699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-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57880" y="5337000"/>
            <a:ext cx="4572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38880" y="5337000"/>
            <a:ext cx="109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496360" y="5337000"/>
            <a:ext cx="450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5548320"/>
            <a:ext cx="510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 inc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75320" y="5548320"/>
            <a:ext cx="1066320" cy="262080"/>
            <a:chOff x="4675320" y="5548320"/>
            <a:chExt cx="1066320" cy="262080"/>
          </a:xfrm>
        </p:grpSpPr>
        <p:sp>
          <p:nvSpPr>
            <p:cNvPr id="686" name=""/>
            <p:cNvSpPr/>
            <p:nvPr/>
          </p:nvSpPr>
          <p:spPr>
            <a:xfrm>
              <a:off x="4675320" y="5548320"/>
              <a:ext cx="1066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99800" y="5548320"/>
              <a:ext cx="10170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$   823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5767560" y="5548320"/>
            <a:ext cx="271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39000" y="5548320"/>
            <a:ext cx="86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(19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4080" y="5548320"/>
            <a:ext cx="258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686720" y="554832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87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01040" y="5548320"/>
            <a:ext cx="446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920" y="5810400"/>
            <a:ext cx="5103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eign currency translation adjust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4675320" y="5810400"/>
            <a:ext cx="1066320" cy="210960"/>
            <a:chOff x="4675320" y="5810400"/>
            <a:chExt cx="1066320" cy="210960"/>
          </a:xfrm>
        </p:grpSpPr>
        <p:sp>
          <p:nvSpPr>
            <p:cNvPr id="695" name=""/>
            <p:cNvSpPr/>
            <p:nvPr/>
          </p:nvSpPr>
          <p:spPr>
            <a:xfrm>
              <a:off x="4675320" y="5810400"/>
              <a:ext cx="10663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99800" y="5810400"/>
              <a:ext cx="1017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5767560" y="5810400"/>
            <a:ext cx="2714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39000" y="5810400"/>
            <a:ext cx="865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5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04080" y="5810400"/>
            <a:ext cx="2588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86720" y="5810400"/>
            <a:ext cx="6541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3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501040" y="5810400"/>
            <a:ext cx="446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4920" y="6021360"/>
            <a:ext cx="510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realized holding gains on available-for-sale secur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675320" y="6021360"/>
            <a:ext cx="1066320" cy="211320"/>
            <a:chOff x="4675320" y="6021360"/>
            <a:chExt cx="1066320" cy="211320"/>
          </a:xfrm>
        </p:grpSpPr>
        <p:sp>
          <p:nvSpPr>
            <p:cNvPr id="704" name=""/>
            <p:cNvSpPr/>
            <p:nvPr/>
          </p:nvSpPr>
          <p:spPr>
            <a:xfrm>
              <a:off x="4675320" y="6021360"/>
              <a:ext cx="10663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99800" y="6021360"/>
              <a:ext cx="1017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767560" y="6021360"/>
            <a:ext cx="2714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39000" y="6021360"/>
            <a:ext cx="865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904080" y="6021360"/>
            <a:ext cx="2588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86720" y="6021360"/>
            <a:ext cx="6541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501040" y="6021360"/>
            <a:ext cx="4460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920" y="6232680"/>
            <a:ext cx="51037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ditional minimum pension liability adjus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675320" y="6232680"/>
            <a:ext cx="1066320" cy="210960"/>
            <a:chOff x="4675320" y="6232680"/>
            <a:chExt cx="1066320" cy="210960"/>
          </a:xfrm>
        </p:grpSpPr>
        <p:sp>
          <p:nvSpPr>
            <p:cNvPr id="713" name=""/>
            <p:cNvSpPr/>
            <p:nvPr/>
          </p:nvSpPr>
          <p:spPr>
            <a:xfrm>
              <a:off x="4675320" y="6232680"/>
              <a:ext cx="10663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9800" y="6232680"/>
              <a:ext cx="1017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5767560" y="6232680"/>
            <a:ext cx="2714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39000" y="6232680"/>
            <a:ext cx="865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04080" y="6232680"/>
            <a:ext cx="2588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686720" y="6232680"/>
            <a:ext cx="6541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501040" y="6232680"/>
            <a:ext cx="446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6443640"/>
            <a:ext cx="510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rehensive inc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4675320" y="6443640"/>
            <a:ext cx="1066320" cy="262080"/>
            <a:chOff x="4675320" y="6443640"/>
            <a:chExt cx="1066320" cy="262080"/>
          </a:xfrm>
        </p:grpSpPr>
        <p:sp>
          <p:nvSpPr>
            <p:cNvPr id="722" name=""/>
            <p:cNvSpPr/>
            <p:nvPr/>
          </p:nvSpPr>
          <p:spPr>
            <a:xfrm>
              <a:off x="4675320" y="6443640"/>
              <a:ext cx="1066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99800" y="6443640"/>
              <a:ext cx="10170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$   92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5767560" y="6443640"/>
            <a:ext cx="271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39000" y="6443640"/>
            <a:ext cx="86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(23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04080" y="6443640"/>
            <a:ext cx="258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86720" y="644364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84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501040" y="6443640"/>
            <a:ext cx="446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272280" y="1752480"/>
            <a:ext cx="718560" cy="211320"/>
            <a:chOff x="6272280" y="1752480"/>
            <a:chExt cx="718560" cy="211320"/>
          </a:xfrm>
        </p:grpSpPr>
        <p:sp>
          <p:nvSpPr>
            <p:cNvPr id="730" name=""/>
            <p:cNvSpPr/>
            <p:nvPr/>
          </p:nvSpPr>
          <p:spPr>
            <a:xfrm>
              <a:off x="6296760" y="1752480"/>
              <a:ext cx="6692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72280" y="1752480"/>
              <a:ext cx="7185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446960" y="1752480"/>
            <a:ext cx="1147320" cy="211320"/>
            <a:chOff x="7446960" y="1752480"/>
            <a:chExt cx="1147320" cy="211320"/>
          </a:xfrm>
        </p:grpSpPr>
        <p:sp>
          <p:nvSpPr>
            <p:cNvPr id="733" name=""/>
            <p:cNvSpPr/>
            <p:nvPr/>
          </p:nvSpPr>
          <p:spPr>
            <a:xfrm>
              <a:off x="7471440" y="1752480"/>
              <a:ext cx="1098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19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46960" y="1752480"/>
              <a:ext cx="11473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04920" y="1523880"/>
            <a:ext cx="8458200" cy="4263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Arial"/>
              </a:rPr>
              <a:t>Revenues and Gai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00279f"/>
                </a:solidFill>
                <a:latin typeface="Arial Black"/>
                <a:ea typeface="Arial"/>
              </a:rPr>
              <a:t>Revenue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 are earned inflows or prospectiv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inflows of cash from operation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00279f"/>
                </a:solidFill>
                <a:latin typeface="Arial Black"/>
                <a:ea typeface="Arial"/>
              </a:rPr>
              <a:t>Gain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 are recognized inflows or prospectiv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inflows of cash from non-operations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*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Revenues are expected to re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Times New Roman"/>
              </a:rPr>
              <a:t>**Gains are non-re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7010280" y="4495680"/>
          <a:ext cx="157032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495680"/>
                    <a:ext cx="157032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4920" y="1523880"/>
            <a:ext cx="8458200" cy="5011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Expenses and Lo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•</a:t>
            </a: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Expenses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are incurred outflows, prospective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outflows, or allocations of past outflows of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cash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from oper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•</a:t>
            </a: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Losses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are decreases in a company’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net assets arising fro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non-operation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Expenses and losses are resource consumed, spent, or lost in pursuing revenues and gain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7162920" y="3962520"/>
          <a:ext cx="14936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962520"/>
                    <a:ext cx="14936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04920" y="1523880"/>
            <a:ext cx="8458200" cy="496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Two major </a:t>
            </a:r>
            <a:r>
              <a:rPr b="1" lang="en-US" sz="2500" spc="-1" strike="noStrike">
                <a:solidFill>
                  <a:srgbClr val="00279f"/>
                </a:solidFill>
                <a:latin typeface="Arial"/>
                <a:ea typeface="Times New Roman"/>
              </a:rPr>
              <a:t>income dimensions</a:t>
            </a:r>
            <a:r>
              <a:rPr b="1" lang="en-US" sz="25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operating versus non-opera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recurring versus non-recurring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AutoNum type="arabicPeriod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  <a:ea typeface="Times New Roman"/>
              </a:rPr>
              <a:t>*Motivated by need to separate permanent and transitory componen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425680" y="3276720"/>
            <a:ext cx="4365000" cy="2274480"/>
            <a:chOff x="2425680" y="3276720"/>
            <a:chExt cx="4365000" cy="2274480"/>
          </a:xfrm>
        </p:grpSpPr>
        <p:grpSp>
          <p:nvGrpSpPr>
            <p:cNvPr id="749" name=""/>
            <p:cNvGrpSpPr/>
            <p:nvPr/>
          </p:nvGrpSpPr>
          <p:grpSpPr>
            <a:xfrm>
              <a:off x="2624040" y="3311280"/>
              <a:ext cx="3815640" cy="1761120"/>
              <a:chOff x="2624040" y="3311280"/>
              <a:chExt cx="3815640" cy="1761120"/>
            </a:xfrm>
          </p:grpSpPr>
          <p:sp>
            <p:nvSpPr>
              <p:cNvPr id="750" name=""/>
              <p:cNvSpPr/>
              <p:nvPr/>
            </p:nvSpPr>
            <p:spPr>
              <a:xfrm>
                <a:off x="2624760" y="3440160"/>
                <a:ext cx="3814560" cy="163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9" y="846"/>
                    </a:moveTo>
                    <a:arcTo wR="10800" hR="10800" stAng="-4030638" swAng="18509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9" y="846"/>
                    </a:moveTo>
                    <a:arcTo wR="10800" hR="10800" stAng="-4030638" swAng="185090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624040" y="3311280"/>
                <a:ext cx="381564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9" y="845"/>
                    </a:moveTo>
                    <a:arcTo wR="10800" hR="10800" stAng="-4030836" swAng="1840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9" y="845"/>
                    </a:moveTo>
                    <a:arcTo wR="10800" hR="10800" stAng="-4030836" swAng="1840160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35280" y="3641760"/>
                <a:ext cx="1525680" cy="608040"/>
              </a:xfrm>
              <a:custGeom>
                <a:avLst/>
                <a:gdLst/>
                <a:ahLst/>
                <a:rect l="l" t="t" r="r" b="b"/>
                <a:pathLst>
                  <a:path w="961" h="383">
                    <a:moveTo>
                      <a:pt x="0" y="302"/>
                    </a:moveTo>
                    <a:lnTo>
                      <a:pt x="0" y="382"/>
                    </a:lnTo>
                    <a:lnTo>
                      <a:pt x="960" y="80"/>
                    </a:lnTo>
                    <a:lnTo>
                      <a:pt x="960" y="0"/>
                    </a:lnTo>
                    <a:lnTo>
                      <a:pt x="0" y="30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2791440" y="3384360"/>
              <a:ext cx="3480840" cy="148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68" y="837"/>
                  </a:moveTo>
                  <a:arcTo wR="10800" hR="10800" stAng="-4037984" swAng="18506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68" y="837"/>
                  </a:moveTo>
                  <a:arcTo wR="10800" hR="10800" stAng="-4037984" swAng="1850633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2576880" y="3276720"/>
              <a:ext cx="3817800" cy="1761840"/>
              <a:chOff x="2576880" y="3276720"/>
              <a:chExt cx="3817800" cy="176184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2576880" y="3276720"/>
                <a:ext cx="3817800" cy="1761840"/>
                <a:chOff x="2576880" y="3276720"/>
                <a:chExt cx="3817800" cy="1761840"/>
              </a:xfrm>
            </p:grpSpPr>
            <p:grpSp>
              <p:nvGrpSpPr>
                <p:cNvPr id="756" name=""/>
                <p:cNvGrpSpPr/>
                <p:nvPr/>
              </p:nvGrpSpPr>
              <p:grpSpPr>
                <a:xfrm>
                  <a:off x="2576880" y="3276720"/>
                  <a:ext cx="3817800" cy="1761840"/>
                  <a:chOff x="2576880" y="3276720"/>
                  <a:chExt cx="3817800" cy="176184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>
                    <a:off x="2576880" y="3403800"/>
                    <a:ext cx="3817800" cy="163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425" y="88"/>
                        </a:moveTo>
                        <a:arcTo wR="10800" hR="10800" stAng="-5838794" swAng="17730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425" y="88"/>
                        </a:moveTo>
                        <a:arcTo wR="10800" hR="10800" stAng="-5838794" swAng="1773061"/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576880" y="3276720"/>
                    <a:ext cx="3817800" cy="163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425" y="88"/>
                        </a:moveTo>
                        <a:arcTo wR="10800" hR="10800" stAng="-5838794" swAng="17730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425" y="88"/>
                        </a:moveTo>
                        <a:arcTo wR="10800" hR="10800" stAng="-5838794" swAng="1773061"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>
                  <a:off x="4487400" y="3335400"/>
                  <a:ext cx="716040" cy="879480"/>
                </a:xfrm>
                <a:custGeom>
                  <a:avLst/>
                  <a:gdLst/>
                  <a:ahLst/>
                  <a:rect l="l" t="t" r="r" b="b"/>
                  <a:pathLst>
                    <a:path w="451" h="554">
                      <a:moveTo>
                        <a:pt x="0" y="472"/>
                      </a:moveTo>
                      <a:lnTo>
                        <a:pt x="0" y="553"/>
                      </a:lnTo>
                      <a:lnTo>
                        <a:pt x="450" y="80"/>
                      </a:lnTo>
                      <a:lnTo>
                        <a:pt x="450" y="0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" name=""/>
              <p:cNvSpPr/>
              <p:nvPr/>
            </p:nvSpPr>
            <p:spPr>
              <a:xfrm>
                <a:off x="4250880" y="3279960"/>
                <a:ext cx="228600" cy="939600"/>
              </a:xfrm>
              <a:custGeom>
                <a:avLst/>
                <a:gdLst/>
                <a:ahLst/>
                <a:rect l="l" t="t" r="r" b="b"/>
                <a:pathLst>
                  <a:path w="144" h="592">
                    <a:moveTo>
                      <a:pt x="143" y="591"/>
                    </a:moveTo>
                    <a:lnTo>
                      <a:pt x="143" y="511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143" y="591"/>
                    </a:lnTo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2743200" y="3348360"/>
              <a:ext cx="3481560" cy="148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43" y="86"/>
                  </a:moveTo>
                  <a:arcTo wR="10800" hR="10800" stAng="-5832941" swAng="17642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443" y="86"/>
                  </a:moveTo>
                  <a:arcTo wR="10800" hR="10800" stAng="-5832941" swAng="1764294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649240" y="3351240"/>
              <a:ext cx="3816360" cy="1762200"/>
              <a:chOff x="2649240" y="3351240"/>
              <a:chExt cx="3816360" cy="1762200"/>
            </a:xfrm>
          </p:grpSpPr>
          <p:sp>
            <p:nvSpPr>
              <p:cNvPr id="763" name=""/>
              <p:cNvSpPr/>
              <p:nvPr/>
            </p:nvSpPr>
            <p:spPr>
              <a:xfrm>
                <a:off x="2649960" y="3478320"/>
                <a:ext cx="381492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504" y="4406"/>
                    </a:moveTo>
                    <a:arcTo wR="10800" hR="10800" stAng="-2178145" swAng="18437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504" y="4406"/>
                    </a:moveTo>
                    <a:arcTo wR="10800" hR="10800" stAng="-2178145" swAng="1843767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62280" y="4084920"/>
                <a:ext cx="1892160" cy="206280"/>
              </a:xfrm>
              <a:custGeom>
                <a:avLst/>
                <a:gdLst/>
                <a:ahLst/>
                <a:rect l="l" t="t" r="r" b="b"/>
                <a:pathLst>
                  <a:path w="1192" h="130">
                    <a:moveTo>
                      <a:pt x="0" y="50"/>
                    </a:moveTo>
                    <a:lnTo>
                      <a:pt x="0" y="129"/>
                    </a:lnTo>
                    <a:lnTo>
                      <a:pt x="1191" y="80"/>
                    </a:lnTo>
                    <a:lnTo>
                      <a:pt x="1191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649240" y="3351240"/>
                <a:ext cx="3816360" cy="163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95" y="4394"/>
                    </a:moveTo>
                    <a:arcTo wR="10800" hR="10800" stAng="-2183028" swAng="18344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95" y="4394"/>
                    </a:moveTo>
                    <a:arcTo wR="10800" hR="10800" stAng="-2183028" swAng="1834404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2817360" y="3421800"/>
              <a:ext cx="3480120" cy="149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04" y="4407"/>
                  </a:moveTo>
                  <a:arcTo wR="10800" hR="10800" stAng="-2177848" swAng="18404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04" y="4407"/>
                  </a:moveTo>
                  <a:arcTo wR="10800" hR="10800" stAng="-2177848" swAng="184046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2545920" y="3321000"/>
              <a:ext cx="3813120" cy="1762200"/>
              <a:chOff x="2545920" y="3321000"/>
              <a:chExt cx="3813120" cy="1762200"/>
            </a:xfrm>
          </p:grpSpPr>
          <p:sp>
            <p:nvSpPr>
              <p:cNvPr id="768" name=""/>
              <p:cNvSpPr/>
              <p:nvPr/>
            </p:nvSpPr>
            <p:spPr>
              <a:xfrm>
                <a:off x="2545920" y="3448080"/>
                <a:ext cx="381312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65" y="2278"/>
                    </a:moveTo>
                    <a:arcTo wR="10800" hR="10800" stAng="-7674259" swAng="18296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65" y="2278"/>
                    </a:moveTo>
                    <a:arcTo wR="10800" hR="10800" stAng="-7674259" swAng="1829609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547000" y="3321000"/>
                <a:ext cx="381060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71" y="2274"/>
                    </a:moveTo>
                    <a:arcTo wR="10800" hR="10800" stAng="-7672003" swAng="18273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71" y="2274"/>
                    </a:moveTo>
                    <a:arcTo wR="10800" hR="10800" stAng="-7672003" swAng="182735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84280" y="3490920"/>
                <a:ext cx="1162080" cy="770040"/>
              </a:xfrm>
              <a:custGeom>
                <a:avLst/>
                <a:gdLst/>
                <a:ahLst/>
                <a:rect l="l" t="t" r="r" b="b"/>
                <a:pathLst>
                  <a:path w="732" h="485">
                    <a:moveTo>
                      <a:pt x="731" y="484"/>
                    </a:moveTo>
                    <a:lnTo>
                      <a:pt x="731" y="403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731" y="484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2710800" y="3393000"/>
              <a:ext cx="3480120" cy="148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60" y="2282"/>
                  </a:moveTo>
                  <a:arcTo wR="10800" hR="10800" stAng="-7676201" swAng="1833552"/>
                  <a:lnTo>
                    <a:pt x="10800" y="10800"/>
                  </a:lnTo>
                  <a:close/>
                </a:path>
                <a:path fill="none" w="21600" h="21600">
                  <a:moveTo>
                    <a:pt x="4160" y="2282"/>
                  </a:moveTo>
                  <a:arcTo wR="10800" hR="10800" stAng="-7676201" swAng="1833552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2467800" y="3366360"/>
              <a:ext cx="3813840" cy="1760400"/>
              <a:chOff x="2467800" y="3366360"/>
              <a:chExt cx="3813840" cy="176040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2467800" y="3366360"/>
                <a:ext cx="3813840" cy="1760400"/>
                <a:chOff x="2467800" y="3366360"/>
                <a:chExt cx="3813840" cy="17604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467800" y="3493800"/>
                  <a:ext cx="381384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4" y="6735"/>
                      </a:moveTo>
                      <a:arcTo wR="10800" hR="10800" stAng="-9473234" swAng="18012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4" y="6735"/>
                      </a:moveTo>
                      <a:arcTo wR="10800" hR="10800" stAng="-9473234" swAng="1801287"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467800" y="3366360"/>
                  <a:ext cx="3813480" cy="163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12" y="6692"/>
                      </a:moveTo>
                      <a:arcTo wR="10800" hR="10800" stAng="-9458723" swAng="17953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12" y="6692"/>
                      </a:moveTo>
                      <a:arcTo wR="10800" hR="10800" stAng="-9458723" swAng="1795373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2606400" y="3870360"/>
                <a:ext cx="1760400" cy="433440"/>
              </a:xfrm>
              <a:custGeom>
                <a:avLst/>
                <a:gdLst/>
                <a:ahLst/>
                <a:rect l="l" t="t" r="r" b="b"/>
                <a:pathLst>
                  <a:path w="1109" h="273">
                    <a:moveTo>
                      <a:pt x="1108" y="193"/>
                    </a:moveTo>
                    <a:lnTo>
                      <a:pt x="1108" y="272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1108" y="193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2632680" y="3433680"/>
              <a:ext cx="3481200" cy="149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4" y="6735"/>
                  </a:moveTo>
                  <a:arcTo wR="10800" hR="10800" stAng="-9473523" swAng="1799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794" y="6735"/>
                  </a:moveTo>
                  <a:arcTo wR="10800" hR="10800" stAng="-9473523" swAng="179978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2557080" y="3410280"/>
              <a:ext cx="3817440" cy="1762920"/>
              <a:chOff x="2557080" y="3410280"/>
              <a:chExt cx="3817440" cy="1762920"/>
            </a:xfrm>
          </p:grpSpPr>
          <p:sp>
            <p:nvSpPr>
              <p:cNvPr id="779" name=""/>
              <p:cNvSpPr/>
              <p:nvPr/>
            </p:nvSpPr>
            <p:spPr>
              <a:xfrm>
                <a:off x="2557080" y="4216680"/>
                <a:ext cx="66600" cy="1587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"/>
              <p:cNvGrpSpPr/>
              <p:nvPr/>
            </p:nvGrpSpPr>
            <p:grpSpPr>
              <a:xfrm>
                <a:off x="2558880" y="3410280"/>
                <a:ext cx="3815640" cy="1762920"/>
                <a:chOff x="2558880" y="3410280"/>
                <a:chExt cx="3815640" cy="1762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2558880" y="3536280"/>
                  <a:ext cx="3815640" cy="163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3" y="12058"/>
                      </a:moveTo>
                      <a:arcTo wR="10800" hR="10800" stAng="10398801" swAng="16843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3" y="12058"/>
                      </a:moveTo>
                      <a:arcTo wR="10800" hR="10800" stAng="10398801" swAng="1684354"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558880" y="3410280"/>
                  <a:ext cx="3815640" cy="163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6" y="12079"/>
                      </a:moveTo>
                      <a:arcTo wR="10800" hR="10800" stAng="10391784" swAng="16997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6" y="12079"/>
                      </a:moveTo>
                      <a:arcTo wR="10800" hR="10800" stAng="10391784" swAng="1699763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570040" y="4227840"/>
                  <a:ext cx="1888920" cy="218880"/>
                </a:xfrm>
                <a:custGeom>
                  <a:avLst/>
                  <a:gdLst/>
                  <a:ahLst/>
                  <a:rect l="l" t="t" r="r" b="b"/>
                  <a:pathLst>
                    <a:path w="1190" h="138">
                      <a:moveTo>
                        <a:pt x="0" y="137"/>
                      </a:moveTo>
                      <a:lnTo>
                        <a:pt x="0" y="60"/>
                      </a:lnTo>
                      <a:lnTo>
                        <a:pt x="1189" y="0"/>
                      </a:lnTo>
                      <a:lnTo>
                        <a:pt x="1189" y="77"/>
                      </a:lnTo>
                      <a:lnTo>
                        <a:pt x="0" y="137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>
              <a:off x="2723760" y="3481200"/>
              <a:ext cx="3483000" cy="148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" y="12043"/>
                  </a:moveTo>
                  <a:arcTo wR="10800" hR="10800" stAng="10403589" swAng="1678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" y="12043"/>
                  </a:moveTo>
                  <a:arcTo wR="10800" hR="10800" stAng="10403589" swAng="1678290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2425680" y="3481200"/>
              <a:ext cx="3816000" cy="1760400"/>
              <a:chOff x="2425680" y="3481200"/>
              <a:chExt cx="3816000" cy="1760400"/>
            </a:xfrm>
          </p:grpSpPr>
          <p:sp>
            <p:nvSpPr>
              <p:cNvPr id="786" name=""/>
              <p:cNvSpPr/>
              <p:nvPr/>
            </p:nvSpPr>
            <p:spPr>
              <a:xfrm>
                <a:off x="2426040" y="3610800"/>
                <a:ext cx="3815280" cy="163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9" y="17211"/>
                    </a:moveTo>
                    <a:arcTo wR="10800" hR="10800" stAng="8615172" swAng="1769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9" y="17211"/>
                    </a:moveTo>
                    <a:arcTo wR="10800" hR="10800" stAng="8615172" swAng="1769813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438280" y="4407120"/>
                <a:ext cx="350640" cy="500040"/>
              </a:xfrm>
              <a:custGeom>
                <a:avLst/>
                <a:gdLst/>
                <a:ahLst/>
                <a:rect l="l" t="t" r="r" b="b"/>
                <a:pathLst>
                  <a:path w="221" h="315">
                    <a:moveTo>
                      <a:pt x="220" y="238"/>
                    </a:moveTo>
                    <a:lnTo>
                      <a:pt x="220" y="314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220" y="238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804760" y="4302360"/>
                <a:ext cx="1519200" cy="612720"/>
              </a:xfrm>
              <a:custGeom>
                <a:avLst/>
                <a:gdLst/>
                <a:ahLst/>
                <a:rect l="l" t="t" r="r" b="b"/>
                <a:pathLst>
                  <a:path w="957" h="386">
                    <a:moveTo>
                      <a:pt x="0" y="305"/>
                    </a:moveTo>
                    <a:lnTo>
                      <a:pt x="0" y="385"/>
                    </a:lnTo>
                    <a:lnTo>
                      <a:pt x="956" y="79"/>
                    </a:lnTo>
                    <a:lnTo>
                      <a:pt x="956" y="0"/>
                    </a:lnTo>
                    <a:lnTo>
                      <a:pt x="0" y="305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425680" y="3481200"/>
                <a:ext cx="3816000" cy="16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" y="17234"/>
                    </a:moveTo>
                    <a:arcTo wR="10800" hR="10800" stAng="8605919" swAng="17729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" y="17234"/>
                    </a:moveTo>
                    <a:arcTo wR="10800" hR="10800" stAng="8605919" swAng="1772900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2591640" y="3553560"/>
              <a:ext cx="3480120" cy="148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9" y="17225"/>
                  </a:moveTo>
                  <a:arcTo wR="10800" hR="10800" stAng="8609784" swAng="17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9" y="17225"/>
                  </a:moveTo>
                  <a:arcTo wR="10800" hR="10800" stAng="8609784" swAng="1764148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2649600" y="3357000"/>
              <a:ext cx="3815640" cy="1765080"/>
              <a:chOff x="2649600" y="3357000"/>
              <a:chExt cx="3815640" cy="1765080"/>
            </a:xfrm>
          </p:grpSpPr>
          <p:sp>
            <p:nvSpPr>
              <p:cNvPr id="792" name=""/>
              <p:cNvSpPr/>
              <p:nvPr/>
            </p:nvSpPr>
            <p:spPr>
              <a:xfrm>
                <a:off x="2649600" y="3481920"/>
                <a:ext cx="3815640" cy="164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5" y="9714"/>
                    </a:moveTo>
                    <a:arcTo wR="10800" hR="10800" stAng="-346328" swAng="17206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5" y="9714"/>
                    </a:moveTo>
                    <a:arcTo wR="10800" hR="10800" stAng="-346328" swAng="172065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562280" y="4176720"/>
                <a:ext cx="1743120" cy="443160"/>
              </a:xfrm>
              <a:custGeom>
                <a:avLst/>
                <a:gdLst/>
                <a:ahLst/>
                <a:rect l="l" t="t" r="r" b="b"/>
                <a:pathLst>
                  <a:path w="1098" h="279">
                    <a:moveTo>
                      <a:pt x="0" y="0"/>
                    </a:moveTo>
                    <a:lnTo>
                      <a:pt x="0" y="78"/>
                    </a:lnTo>
                    <a:lnTo>
                      <a:pt x="1097" y="278"/>
                    </a:lnTo>
                    <a:lnTo>
                      <a:pt x="1097" y="2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395760" y="4175280"/>
                <a:ext cx="68400" cy="15408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49600" y="3357000"/>
                <a:ext cx="3815640" cy="163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41" y="9669"/>
                    </a:moveTo>
                    <a:arcTo wR="10800" hR="10800" stAng="-360544" swAng="17445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41" y="9669"/>
                    </a:moveTo>
                    <a:arcTo wR="10800" hR="10800" stAng="-360544" swAng="1744511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816280" y="3429360"/>
              <a:ext cx="3482280" cy="149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1" y="9675"/>
                  </a:moveTo>
                  <a:arcTo wR="10800" hR="10800" stAng="-358848" swAng="1726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1" y="9675"/>
                  </a:moveTo>
                  <a:arcTo wR="10800" hR="10800" stAng="-358848" swAng="1726867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2770920" y="3510720"/>
              <a:ext cx="3814200" cy="1761480"/>
              <a:chOff x="2770920" y="3510720"/>
              <a:chExt cx="3814200" cy="1761480"/>
            </a:xfrm>
          </p:grpSpPr>
          <p:sp>
            <p:nvSpPr>
              <p:cNvPr id="798" name=""/>
              <p:cNvSpPr/>
              <p:nvPr/>
            </p:nvSpPr>
            <p:spPr>
              <a:xfrm>
                <a:off x="2771280" y="3636720"/>
                <a:ext cx="3813480" cy="163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980" swAng="1766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980" swAng="1766191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679640" y="4330800"/>
                <a:ext cx="1152720" cy="773280"/>
              </a:xfrm>
              <a:custGeom>
                <a:avLst/>
                <a:gdLst/>
                <a:ahLst/>
                <a:rect l="l" t="t" r="r" b="b"/>
                <a:pathLst>
                  <a:path w="726" h="487">
                    <a:moveTo>
                      <a:pt x="0" y="0"/>
                    </a:moveTo>
                    <a:lnTo>
                      <a:pt x="0" y="79"/>
                    </a:lnTo>
                    <a:lnTo>
                      <a:pt x="725" y="486"/>
                    </a:lnTo>
                    <a:lnTo>
                      <a:pt x="725" y="40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32240" y="4656240"/>
                <a:ext cx="291960" cy="195480"/>
              </a:xfrm>
              <a:custGeom>
                <a:avLst/>
                <a:gdLst/>
                <a:ahLst/>
                <a:rect l="l" t="t" r="r" b="b"/>
                <a:pathLst>
                  <a:path w="184" h="123">
                    <a:moveTo>
                      <a:pt x="183" y="0"/>
                    </a:moveTo>
                    <a:lnTo>
                      <a:pt x="183" y="77"/>
                    </a:lnTo>
                    <a:lnTo>
                      <a:pt x="0" y="122"/>
                    </a:lnTo>
                    <a:lnTo>
                      <a:pt x="32" y="30"/>
                    </a:lnTo>
                    <a:lnTo>
                      <a:pt x="183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70920" y="3510720"/>
                <a:ext cx="3814200" cy="163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1" y="15043"/>
                    </a:moveTo>
                    <a:arcTo wR="10800" hR="10800" stAng="1388105" swAng="17714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1" y="15043"/>
                    </a:moveTo>
                    <a:arcTo wR="10800" hR="10800" stAng="1388105" swAng="177140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2937960" y="3583440"/>
              <a:ext cx="3476880" cy="148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40" y="15024"/>
                  </a:moveTo>
                  <a:arcTo wR="10800" hR="10800" stAng="1381346" swAng="1770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40" y="15024"/>
                  </a:moveTo>
                  <a:arcTo wR="10800" hR="10800" stAng="1381346" swAng="177031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2975040" y="3789720"/>
              <a:ext cx="3815640" cy="1761480"/>
              <a:chOff x="2975040" y="3789720"/>
              <a:chExt cx="3815640" cy="1761480"/>
            </a:xfrm>
          </p:grpSpPr>
          <p:sp>
            <p:nvSpPr>
              <p:cNvPr id="804" name=""/>
              <p:cNvSpPr/>
              <p:nvPr/>
            </p:nvSpPr>
            <p:spPr>
              <a:xfrm>
                <a:off x="2975040" y="3916800"/>
                <a:ext cx="38156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49" y="19388"/>
                    </a:moveTo>
                    <a:arcTo wR="10800" hR="10800" stAng="3160198" swAng="18210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49" y="19388"/>
                    </a:moveTo>
                    <a:arcTo wR="10800" hR="10800" stAng="3160198" swAng="1821053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121000" y="5264280"/>
                <a:ext cx="909720" cy="279360"/>
              </a:xfrm>
              <a:custGeom>
                <a:avLst/>
                <a:gdLst/>
                <a:ahLst/>
                <a:rect l="l" t="t" r="r" b="b"/>
                <a:pathLst>
                  <a:path w="573" h="176">
                    <a:moveTo>
                      <a:pt x="0" y="95"/>
                    </a:moveTo>
                    <a:lnTo>
                      <a:pt x="0" y="175"/>
                    </a:lnTo>
                    <a:lnTo>
                      <a:pt x="572" y="76"/>
                    </a:lnTo>
                    <a:lnTo>
                      <a:pt x="572" y="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885920" y="4611960"/>
                <a:ext cx="223920" cy="934920"/>
              </a:xfrm>
              <a:custGeom>
                <a:avLst/>
                <a:gdLst/>
                <a:ahLst/>
                <a:rect l="l" t="t" r="r" b="b"/>
                <a:pathLst>
                  <a:path w="141" h="589">
                    <a:moveTo>
                      <a:pt x="140" y="506"/>
                    </a:moveTo>
                    <a:lnTo>
                      <a:pt x="140" y="588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140" y="50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975040" y="3789720"/>
                <a:ext cx="38156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49" y="19388"/>
                    </a:moveTo>
                    <a:arcTo wR="10800" hR="10800" stAng="3160198" swAng="18210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49" y="19388"/>
                    </a:moveTo>
                    <a:arcTo wR="10800" hR="10800" stAng="3160198" swAng="1821053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3142080" y="3860280"/>
              <a:ext cx="3484800" cy="149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33" y="19400"/>
                  </a:moveTo>
                  <a:arcTo wR="10800" hR="10800" stAng="3166827" swAng="1818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33" y="19400"/>
                  </a:moveTo>
                  <a:arcTo wR="10800" hR="10800" stAng="3166827" swAng="1818174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2632680" y="3618000"/>
              <a:ext cx="3811320" cy="1761840"/>
              <a:chOff x="2632680" y="3618000"/>
              <a:chExt cx="3811320" cy="1761840"/>
            </a:xfrm>
          </p:grpSpPr>
          <p:sp>
            <p:nvSpPr>
              <p:cNvPr id="810" name=""/>
              <p:cNvSpPr/>
              <p:nvPr/>
            </p:nvSpPr>
            <p:spPr>
              <a:xfrm>
                <a:off x="2632680" y="3745080"/>
                <a:ext cx="381132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04" y="21521"/>
                    </a:moveTo>
                    <a:arcTo wR="10800" hR="10800" stAng="4983920" swAng="1808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04" y="21521"/>
                    </a:moveTo>
                    <a:arcTo wR="10800" hR="10800" stAng="4983920" swAng="1808167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795480" y="5191200"/>
                <a:ext cx="968400" cy="181080"/>
              </a:xfrm>
              <a:custGeom>
                <a:avLst/>
                <a:gdLst/>
                <a:ahLst/>
                <a:rect l="l" t="t" r="r" b="b"/>
                <a:pathLst>
                  <a:path w="610" h="114">
                    <a:moveTo>
                      <a:pt x="0" y="0"/>
                    </a:moveTo>
                    <a:lnTo>
                      <a:pt x="0" y="79"/>
                    </a:lnTo>
                    <a:lnTo>
                      <a:pt x="609" y="113"/>
                    </a:lnTo>
                    <a:lnTo>
                      <a:pt x="609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32680" y="3618000"/>
                <a:ext cx="381132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04" y="21521"/>
                    </a:moveTo>
                    <a:arcTo wR="10800" hR="10800" stAng="4983920" swAng="1808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04" y="21521"/>
                    </a:moveTo>
                    <a:arcTo wR="10800" hR="10800" stAng="4983920" swAng="1808167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2797920" y="3689280"/>
              <a:ext cx="3483360" cy="149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12" y="21520"/>
                  </a:moveTo>
                  <a:arcTo wR="10800" hR="10800" stAng="4981258" swAng="1806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12" y="21520"/>
                  </a:moveTo>
                  <a:arcTo wR="10800" hR="10800" stAng="4981258" swAng="1806069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2467440" y="3645000"/>
              <a:ext cx="3814560" cy="1761840"/>
              <a:chOff x="2467440" y="3645000"/>
              <a:chExt cx="3814560" cy="1761840"/>
            </a:xfrm>
          </p:grpSpPr>
          <p:sp>
            <p:nvSpPr>
              <p:cNvPr id="815" name=""/>
              <p:cNvSpPr/>
              <p:nvPr/>
            </p:nvSpPr>
            <p:spPr>
              <a:xfrm>
                <a:off x="2467800" y="3772440"/>
                <a:ext cx="3813840" cy="163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7" y="20697"/>
                    </a:moveTo>
                    <a:arcTo wR="10800" hR="10800" stAng="6815754" swAng="17804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7" y="20697"/>
                    </a:moveTo>
                    <a:arcTo wR="10800" hR="10800" stAng="6815754" swAng="1780482"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852280" y="4957920"/>
                <a:ext cx="756000" cy="376200"/>
              </a:xfrm>
              <a:custGeom>
                <a:avLst/>
                <a:gdLst/>
                <a:ahLst/>
                <a:rect l="l" t="t" r="r" b="b"/>
                <a:pathLst>
                  <a:path w="476" h="237">
                    <a:moveTo>
                      <a:pt x="0" y="0"/>
                    </a:moveTo>
                    <a:lnTo>
                      <a:pt x="0" y="79"/>
                    </a:lnTo>
                    <a:lnTo>
                      <a:pt x="475" y="236"/>
                    </a:lnTo>
                    <a:lnTo>
                      <a:pt x="475" y="14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467440" y="3645000"/>
                <a:ext cx="3814560" cy="163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80" y="20699"/>
                    </a:moveTo>
                    <a:arcTo wR="10800" hR="10800" stAng="6814579" swAng="177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80" y="20699"/>
                    </a:moveTo>
                    <a:arcTo wR="10800" hR="10800" stAng="6814579" swAng="1776628"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616200" y="4462560"/>
                <a:ext cx="750600" cy="878040"/>
              </a:xfrm>
              <a:custGeom>
                <a:avLst/>
                <a:gdLst/>
                <a:ahLst/>
                <a:rect l="l" t="t" r="r" b="b"/>
                <a:pathLst>
                  <a:path w="473" h="553">
                    <a:moveTo>
                      <a:pt x="0" y="472"/>
                    </a:moveTo>
                    <a:lnTo>
                      <a:pt x="0" y="552"/>
                    </a:lnTo>
                    <a:lnTo>
                      <a:pt x="472" y="81"/>
                    </a:lnTo>
                    <a:lnTo>
                      <a:pt x="472" y="0"/>
                    </a:lnTo>
                    <a:lnTo>
                      <a:pt x="0" y="47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2632680" y="3715560"/>
              <a:ext cx="3477960" cy="149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7" y="20706"/>
                  </a:moveTo>
                  <a:arcTo wR="10800" hR="10800" stAng="6808672" swAng="179324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7" y="20706"/>
                  </a:moveTo>
                  <a:arcTo wR="10800" hR="10800" stAng="6808672" swAng="1793240"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914400" y="1447920"/>
            <a:ext cx="7467480" cy="393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  <a:ea typeface="Times New Roman"/>
              </a:rPr>
              <a:t>Operating vs. Non-Operating and Recurring vs. Non-Recurring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2120" y="2057400"/>
            <a:ext cx="7818480" cy="46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0" y="26668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42670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124080" y="2133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Operating In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on-Operating In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2120" y="3886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ecur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238880" y="36576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on- Recur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04920" y="1447920"/>
            <a:ext cx="8534160" cy="508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Alternative Income Statement Meas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Net 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—widely regarded as “bottom line” measure of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Comprehensive 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--includes most changes to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equity that result from non-owner sources; it is actually the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bottom line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measure of income; is the accountant’s proxy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for economic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Continuing 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--excludes extraordinary items,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cumulative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effects of accounting changes, and the effects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of discontinued operations from net inco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 Black"/>
                <a:ea typeface="Times New Roman"/>
              </a:rPr>
              <a:t>Core income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--excludes all non-recurring items from net 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  <a:ea typeface="Times New Roman"/>
              </a:rPr>
              <a:t>*Often erroneously referred to as “operating income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897200"/>
            <a:ext cx="8534160" cy="383688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Illustration Fac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Company with $100,000 in 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Buys condo for 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Rents condo for $12,000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End of the first year: Condo valued at $125,000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99072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3200" y="83808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4920" y="1600200"/>
            <a:ext cx="8528040" cy="472428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hat constitutes the ‘correct’ measure of income for analysis purpo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here is no answer for two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rrect measurement depends on analys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lternative accounting income measur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esult from including or excluding lin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tems—still subject to accounting dist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3200" y="83808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4920" y="1523880"/>
            <a:ext cx="8528040" cy="472464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Operating versus Non-Operating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Operating incom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measure of company income as generated from operat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ree important aspects of operating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ertains only to income generated from operation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cuses on income for the company, not simply for equity holder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means financing revenues and expenses are exclu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ertains only to ongoing business activities (i.e., results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iscontinued operations is exclu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Non-operating incom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includes all components of net income excluded from operating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Useful to separate non-operating components pertaining to financing and investing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84312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4920" y="1523880"/>
            <a:ext cx="8528040" cy="495324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Clean Surpl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rticulation of income with equity in successive balance sheets--i.e., income accounts for all changes in equity from non-owner 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irty Surpl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ccounting allows certain components of income to bypass income as direct adjustments to equ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H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Net income is generally a produce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irty surplus accoun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Comprehensive income is a product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clean surplus accounting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7162920" y="5029200"/>
          <a:ext cx="172224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029200"/>
                    <a:ext cx="172224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43200" y="84312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4920" y="1523880"/>
            <a:ext cx="8528040" cy="495324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etermination of Comprehensive Income—sample company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86560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 inco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comprehensive inc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/-  Unrealized holding gain or loss on marketable secur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/-  Foreign currency translation adju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/-  Additional minimum pension liability adju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/-  Unrealized holding gain or loss on derivative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hensive inc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" y="281952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57200" y="518148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43200" y="84312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4920" y="1523880"/>
            <a:ext cx="8528040" cy="4953240"/>
          </a:xfrm>
          <a:prstGeom prst="rect">
            <a:avLst/>
          </a:prstGeom>
          <a:solidFill>
            <a:srgbClr val="c8fec8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Comprehensive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ccountant’s proxy for economic income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evenue and expense components must be adjusted in  estimating economic income (confine to the four usual items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lude unrealized gains and losses from investment secur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lude foreign currency translation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xclude additional minimum pension liability adjust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lude change in pension funded status (pension assets less pension oblig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*Many components of comprehensive income are irrelevant for determining permanent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4648320" y="1752480"/>
            <a:ext cx="4055040" cy="4113720"/>
            <a:chOff x="4648320" y="1752480"/>
            <a:chExt cx="4055040" cy="4113720"/>
          </a:xfrm>
        </p:grpSpPr>
        <p:grpSp>
          <p:nvGrpSpPr>
            <p:cNvPr id="858" name=""/>
            <p:cNvGrpSpPr/>
            <p:nvPr/>
          </p:nvGrpSpPr>
          <p:grpSpPr>
            <a:xfrm>
              <a:off x="4648320" y="1752480"/>
              <a:ext cx="289440" cy="252360"/>
              <a:chOff x="4648320" y="1752480"/>
              <a:chExt cx="289440" cy="2523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4648320" y="1752480"/>
                <a:ext cx="289440" cy="252360"/>
                <a:chOff x="4648320" y="1752480"/>
                <a:chExt cx="289440" cy="2523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4648320" y="1752480"/>
                  <a:ext cx="289440" cy="252360"/>
                </a:xfrm>
                <a:custGeom>
                  <a:avLst/>
                  <a:gdLst/>
                  <a:ahLst/>
                  <a:rect l="l" t="t" r="r" b="b"/>
                  <a:pathLst>
                    <a:path w="359" h="192">
                      <a:moveTo>
                        <a:pt x="55" y="192"/>
                      </a:moveTo>
                      <a:lnTo>
                        <a:pt x="0" y="0"/>
                      </a:lnTo>
                      <a:lnTo>
                        <a:pt x="275" y="0"/>
                      </a:lnTo>
                      <a:lnTo>
                        <a:pt x="359" y="192"/>
                      </a:lnTo>
                      <a:lnTo>
                        <a:pt x="55" y="192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1" name=""/>
                <p:cNvGrpSpPr/>
                <p:nvPr/>
              </p:nvGrpSpPr>
              <p:grpSpPr>
                <a:xfrm>
                  <a:off x="4654800" y="1783800"/>
                  <a:ext cx="274680" cy="189000"/>
                  <a:chOff x="4654800" y="1783800"/>
                  <a:chExt cx="274680" cy="18900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4654800" y="1783800"/>
                    <a:ext cx="232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8">
                        <a:moveTo>
                          <a:pt x="0" y="0"/>
                        </a:moveTo>
                        <a:lnTo>
                          <a:pt x="278" y="0"/>
                        </a:lnTo>
                        <a:lnTo>
                          <a:pt x="291" y="28"/>
                        </a:lnTo>
                        <a:lnTo>
                          <a:pt x="8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4667400" y="1859760"/>
                    <a:ext cx="2412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29">
                        <a:moveTo>
                          <a:pt x="0" y="0"/>
                        </a:moveTo>
                        <a:lnTo>
                          <a:pt x="289" y="0"/>
                        </a:lnTo>
                        <a:lnTo>
                          <a:pt x="302" y="29"/>
                        </a:lnTo>
                        <a:lnTo>
                          <a:pt x="9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680000" y="1933200"/>
                    <a:ext cx="249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29">
                        <a:moveTo>
                          <a:pt x="0" y="0"/>
                        </a:moveTo>
                        <a:lnTo>
                          <a:pt x="296" y="0"/>
                        </a:lnTo>
                        <a:lnTo>
                          <a:pt x="309" y="29"/>
                        </a:lnTo>
                        <a:lnTo>
                          <a:pt x="8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5" name=""/>
              <p:cNvGrpSpPr/>
              <p:nvPr/>
            </p:nvGrpSpPr>
            <p:grpSpPr>
              <a:xfrm>
                <a:off x="4658040" y="1760040"/>
                <a:ext cx="261360" cy="230760"/>
                <a:chOff x="4658040" y="1760040"/>
                <a:chExt cx="261360" cy="230760"/>
              </a:xfrm>
            </p:grpSpPr>
            <p:grpSp>
              <p:nvGrpSpPr>
                <p:cNvPr id="866" name=""/>
                <p:cNvGrpSpPr/>
                <p:nvPr/>
              </p:nvGrpSpPr>
              <p:grpSpPr>
                <a:xfrm>
                  <a:off x="4658040" y="1762920"/>
                  <a:ext cx="42840" cy="227880"/>
                  <a:chOff x="4658040" y="1762920"/>
                  <a:chExt cx="42840" cy="22788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4658040" y="176292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6" y="5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662720" y="179424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4668840" y="182592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4673880" y="1859760"/>
                    <a:ext cx="61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6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4680000" y="1888560"/>
                    <a:ext cx="50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5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685040" y="192024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6" y="5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691160" y="19519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5" y="6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4695840" y="1983240"/>
                    <a:ext cx="50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4862160" y="1760040"/>
                  <a:ext cx="57240" cy="222840"/>
                  <a:chOff x="4862160" y="1760040"/>
                  <a:chExt cx="57240" cy="22284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862160" y="176004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870080" y="179136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876200" y="182052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4" y="6"/>
                        </a:lnTo>
                        <a:lnTo>
                          <a:pt x="5" y="6"/>
                        </a:lnTo>
                        <a:lnTo>
                          <a:pt x="5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4885920" y="185220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1" y="0"/>
                        </a:move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4894200" y="188856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4906800" y="194616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4" y="3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4914720" y="197532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900320" y="191520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84" name=""/>
            <p:cNvGrpSpPr/>
            <p:nvPr/>
          </p:nvGrpSpPr>
          <p:grpSpPr>
            <a:xfrm>
              <a:off x="4820760" y="1913400"/>
              <a:ext cx="394200" cy="352800"/>
              <a:chOff x="4820760" y="1913400"/>
              <a:chExt cx="394200" cy="352800"/>
            </a:xfrm>
          </p:grpSpPr>
          <p:grpSp>
            <p:nvGrpSpPr>
              <p:cNvPr id="885" name=""/>
              <p:cNvGrpSpPr/>
              <p:nvPr/>
            </p:nvGrpSpPr>
            <p:grpSpPr>
              <a:xfrm>
                <a:off x="4820760" y="1913400"/>
                <a:ext cx="394200" cy="352800"/>
                <a:chOff x="4820760" y="1913400"/>
                <a:chExt cx="394200" cy="35280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4820760" y="1913400"/>
                  <a:ext cx="394200" cy="352800"/>
                </a:xfrm>
                <a:custGeom>
                  <a:avLst/>
                  <a:gdLst/>
                  <a:ahLst/>
                  <a:rect l="l" t="t" r="r" b="b"/>
                  <a:pathLst>
                    <a:path w="491" h="270">
                      <a:moveTo>
                        <a:pt x="77" y="270"/>
                      </a:moveTo>
                      <a:lnTo>
                        <a:pt x="0" y="0"/>
                      </a:lnTo>
                      <a:lnTo>
                        <a:pt x="376" y="0"/>
                      </a:lnTo>
                      <a:lnTo>
                        <a:pt x="491" y="270"/>
                      </a:lnTo>
                      <a:lnTo>
                        <a:pt x="77" y="27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4828680" y="1958040"/>
                  <a:ext cx="373320" cy="262440"/>
                  <a:chOff x="4828680" y="1958040"/>
                  <a:chExt cx="373320" cy="26244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4828680" y="1958040"/>
                    <a:ext cx="317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94" h="39">
                        <a:moveTo>
                          <a:pt x="0" y="0"/>
                        </a:moveTo>
                        <a:lnTo>
                          <a:pt x="378" y="0"/>
                        </a:lnTo>
                        <a:lnTo>
                          <a:pt x="394" y="39"/>
                        </a:lnTo>
                        <a:lnTo>
                          <a:pt x="10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4846320" y="2062800"/>
                    <a:ext cx="3283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0">
                        <a:moveTo>
                          <a:pt x="0" y="0"/>
                        </a:moveTo>
                        <a:lnTo>
                          <a:pt x="391" y="0"/>
                        </a:lnTo>
                        <a:lnTo>
                          <a:pt x="408" y="40"/>
                        </a:lnTo>
                        <a:lnTo>
                          <a:pt x="11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4863960" y="2168280"/>
                    <a:ext cx="3380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39">
                        <a:moveTo>
                          <a:pt x="0" y="0"/>
                        </a:moveTo>
                        <a:lnTo>
                          <a:pt x="402" y="0"/>
                        </a:lnTo>
                        <a:lnTo>
                          <a:pt x="419" y="39"/>
                        </a:lnTo>
                        <a:lnTo>
                          <a:pt x="11" y="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1" name=""/>
              <p:cNvGrpSpPr/>
              <p:nvPr/>
            </p:nvGrpSpPr>
            <p:grpSpPr>
              <a:xfrm>
                <a:off x="4833360" y="1923840"/>
                <a:ext cx="355680" cy="322200"/>
                <a:chOff x="4833360" y="1923840"/>
                <a:chExt cx="355680" cy="322200"/>
              </a:xfrm>
            </p:grpSpPr>
            <p:grpSp>
              <p:nvGrpSpPr>
                <p:cNvPr id="892" name=""/>
                <p:cNvGrpSpPr/>
                <p:nvPr/>
              </p:nvGrpSpPr>
              <p:grpSpPr>
                <a:xfrm>
                  <a:off x="4833360" y="1928880"/>
                  <a:ext cx="59040" cy="317160"/>
                  <a:chOff x="4833360" y="1928880"/>
                  <a:chExt cx="59040" cy="31716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4833360" y="1928880"/>
                    <a:ext cx="64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7"/>
                        </a:lnTo>
                        <a:lnTo>
                          <a:pt x="3" y="8"/>
                        </a:lnTo>
                        <a:lnTo>
                          <a:pt x="5" y="8"/>
                        </a:lnTo>
                        <a:lnTo>
                          <a:pt x="6" y="7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7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4839840" y="197352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8" y="7"/>
                        </a:lnTo>
                        <a:lnTo>
                          <a:pt x="8" y="5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849200" y="2015280"/>
                    <a:ext cx="6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3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9" y="6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855680" y="2062080"/>
                    <a:ext cx="6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1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863960" y="2106720"/>
                    <a:ext cx="6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8" y="6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4871880" y="214920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4879800" y="2193840"/>
                    <a:ext cx="4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4886280" y="2238480"/>
                    <a:ext cx="61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6" y="7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5112000" y="1923840"/>
                  <a:ext cx="77040" cy="314640"/>
                  <a:chOff x="5112000" y="1923840"/>
                  <a:chExt cx="77040" cy="31464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5112000" y="1923840"/>
                    <a:ext cx="64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5121720" y="196848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8" y="5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5132520" y="2009880"/>
                    <a:ext cx="6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5144040" y="2052360"/>
                    <a:ext cx="50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3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5153760" y="210240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8" y="7"/>
                        </a:lnTo>
                        <a:lnTo>
                          <a:pt x="8" y="5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5171400" y="2183400"/>
                    <a:ext cx="6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9" y="7"/>
                        </a:lnTo>
                        <a:lnTo>
                          <a:pt x="9" y="6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182560" y="223092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4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2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165280" y="2144160"/>
                    <a:ext cx="61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5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5" y="8"/>
                        </a:lnTo>
                        <a:lnTo>
                          <a:pt x="6" y="7"/>
                        </a:lnTo>
                        <a:lnTo>
                          <a:pt x="8" y="7"/>
                        </a:lnTo>
                        <a:lnTo>
                          <a:pt x="8" y="5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0" name=""/>
            <p:cNvGrpSpPr/>
            <p:nvPr/>
          </p:nvGrpSpPr>
          <p:grpSpPr>
            <a:xfrm>
              <a:off x="5059440" y="2145600"/>
              <a:ext cx="551880" cy="511560"/>
              <a:chOff x="5059440" y="2145600"/>
              <a:chExt cx="551880" cy="51156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5059440" y="2145600"/>
                <a:ext cx="551880" cy="511560"/>
                <a:chOff x="5059440" y="2145600"/>
                <a:chExt cx="551880" cy="51156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5059440" y="2145600"/>
                  <a:ext cx="551880" cy="511560"/>
                </a:xfrm>
                <a:custGeom>
                  <a:avLst/>
                  <a:gdLst/>
                  <a:ahLst/>
                  <a:rect l="l" t="t" r="r" b="b"/>
                  <a:pathLst>
                    <a:path w="685" h="389">
                      <a:moveTo>
                        <a:pt x="104" y="389"/>
                      </a:moveTo>
                      <a:lnTo>
                        <a:pt x="0" y="0"/>
                      </a:lnTo>
                      <a:lnTo>
                        <a:pt x="517" y="0"/>
                      </a:lnTo>
                      <a:lnTo>
                        <a:pt x="685" y="389"/>
                      </a:lnTo>
                      <a:lnTo>
                        <a:pt x="104" y="389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3" name=""/>
                <p:cNvGrpSpPr/>
                <p:nvPr/>
              </p:nvGrpSpPr>
              <p:grpSpPr>
                <a:xfrm>
                  <a:off x="5072040" y="2219400"/>
                  <a:ext cx="514800" cy="349560"/>
                  <a:chOff x="5072040" y="2219400"/>
                  <a:chExt cx="514800" cy="349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5116680" y="2498040"/>
                    <a:ext cx="47016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6" h="55">
                        <a:moveTo>
                          <a:pt x="0" y="0"/>
                        </a:moveTo>
                        <a:lnTo>
                          <a:pt x="561" y="0"/>
                        </a:lnTo>
                        <a:lnTo>
                          <a:pt x="586" y="55"/>
                        </a:lnTo>
                        <a:lnTo>
                          <a:pt x="15" y="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5072040" y="2219400"/>
                    <a:ext cx="44280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55">
                        <a:moveTo>
                          <a:pt x="0" y="0"/>
                        </a:moveTo>
                        <a:lnTo>
                          <a:pt x="525" y="0"/>
                        </a:lnTo>
                        <a:lnTo>
                          <a:pt x="549" y="55"/>
                        </a:lnTo>
                        <a:lnTo>
                          <a:pt x="14" y="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092560" y="2355840"/>
                    <a:ext cx="45720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54">
                        <a:moveTo>
                          <a:pt x="0" y="0"/>
                        </a:moveTo>
                        <a:lnTo>
                          <a:pt x="544" y="0"/>
                        </a:lnTo>
                        <a:lnTo>
                          <a:pt x="566" y="54"/>
                        </a:lnTo>
                        <a:lnTo>
                          <a:pt x="16" y="5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5081400" y="2174760"/>
                <a:ext cx="497160" cy="446760"/>
                <a:chOff x="5081400" y="2174760"/>
                <a:chExt cx="497160" cy="446760"/>
              </a:xfrm>
            </p:grpSpPr>
            <p:grpSp>
              <p:nvGrpSpPr>
                <p:cNvPr id="918" name=""/>
                <p:cNvGrpSpPr/>
                <p:nvPr/>
              </p:nvGrpSpPr>
              <p:grpSpPr>
                <a:xfrm>
                  <a:off x="5081400" y="2174760"/>
                  <a:ext cx="86760" cy="446760"/>
                  <a:chOff x="5081400" y="2174760"/>
                  <a:chExt cx="86760" cy="446760"/>
                </a:xfrm>
              </p:grpSpPr>
              <p:sp>
                <p:nvSpPr>
                  <p:cNvPr id="919" name=""/>
                  <p:cNvSpPr/>
                  <p:nvPr/>
                </p:nvSpPr>
                <p:spPr>
                  <a:xfrm>
                    <a:off x="5081400" y="2174760"/>
                    <a:ext cx="79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7" y="10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2" y="7"/>
                        </a:lnTo>
                        <a:lnTo>
                          <a:pt x="12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091120" y="2237760"/>
                    <a:ext cx="9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0">
                        <a:moveTo>
                          <a:pt x="6" y="0"/>
                        </a:move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7" y="10"/>
                        </a:lnTo>
                        <a:lnTo>
                          <a:pt x="9" y="10"/>
                        </a:lnTo>
                        <a:lnTo>
                          <a:pt x="10" y="9"/>
                        </a:lnTo>
                        <a:lnTo>
                          <a:pt x="11" y="9"/>
                        </a:lnTo>
                        <a:lnTo>
                          <a:pt x="11" y="8"/>
                        </a:lnTo>
                        <a:lnTo>
                          <a:pt x="13" y="6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105520" y="230040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7" y="10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12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5113800" y="2363760"/>
                    <a:ext cx="93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4" y="9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2" y="8"/>
                        </a:lnTo>
                        <a:lnTo>
                          <a:pt x="13" y="6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3" y="2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5124600" y="2424600"/>
                    <a:ext cx="97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1" y="6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2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135760" y="2485080"/>
                    <a:ext cx="9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5" y="0"/>
                        </a:move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3" y="9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7" y="11"/>
                        </a:lnTo>
                        <a:lnTo>
                          <a:pt x="8" y="11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1" y="6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5147280" y="2548440"/>
                    <a:ext cx="97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9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3" y="9"/>
                        </a:lnTo>
                        <a:lnTo>
                          <a:pt x="4" y="9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5157000" y="2608560"/>
                    <a:ext cx="11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7" y="10"/>
                        </a:lnTo>
                        <a:lnTo>
                          <a:pt x="10" y="10"/>
                        </a:lnTo>
                        <a:lnTo>
                          <a:pt x="11" y="9"/>
                        </a:lnTo>
                        <a:lnTo>
                          <a:pt x="11" y="8"/>
                        </a:lnTo>
                        <a:lnTo>
                          <a:pt x="13" y="8"/>
                        </a:lnTo>
                        <a:lnTo>
                          <a:pt x="13" y="7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1" y="3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5464800" y="2179800"/>
                  <a:ext cx="113760" cy="437040"/>
                  <a:chOff x="5464800" y="2179800"/>
                  <a:chExt cx="113760" cy="43704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>
                    <a:off x="5464800" y="2179800"/>
                    <a:ext cx="9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1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3" y="9"/>
                        </a:lnTo>
                        <a:lnTo>
                          <a:pt x="4" y="9"/>
                        </a:lnTo>
                        <a:lnTo>
                          <a:pt x="4" y="11"/>
                        </a:lnTo>
                        <a:lnTo>
                          <a:pt x="6" y="11"/>
                        </a:lnTo>
                        <a:lnTo>
                          <a:pt x="7" y="11"/>
                        </a:lnTo>
                        <a:lnTo>
                          <a:pt x="8" y="9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479200" y="2239920"/>
                    <a:ext cx="9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9">
                        <a:moveTo>
                          <a:pt x="6" y="0"/>
                        </a:move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3" y="9"/>
                        </a:lnTo>
                        <a:lnTo>
                          <a:pt x="5" y="9"/>
                        </a:lnTo>
                        <a:lnTo>
                          <a:pt x="6" y="9"/>
                        </a:lnTo>
                        <a:lnTo>
                          <a:pt x="8" y="9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7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493600" y="2297880"/>
                    <a:ext cx="11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1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" y="10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11"/>
                        </a:lnTo>
                        <a:lnTo>
                          <a:pt x="6" y="11"/>
                        </a:lnTo>
                        <a:lnTo>
                          <a:pt x="7" y="11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3" y="7"/>
                        </a:lnTo>
                        <a:lnTo>
                          <a:pt x="13" y="6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2"/>
                        </a:lnTo>
                        <a:lnTo>
                          <a:pt x="10" y="2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509440" y="2358360"/>
                    <a:ext cx="11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4" y="9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1" y="6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5527440" y="2426760"/>
                    <a:ext cx="9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5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2" y="8"/>
                        </a:lnTo>
                        <a:lnTo>
                          <a:pt x="12" y="7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5551560" y="2540160"/>
                    <a:ext cx="11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5" y="10"/>
                        </a:lnTo>
                        <a:lnTo>
                          <a:pt x="6" y="12"/>
                        </a:lnTo>
                        <a:lnTo>
                          <a:pt x="7" y="12"/>
                        </a:lnTo>
                        <a:lnTo>
                          <a:pt x="9" y="12"/>
                        </a:lnTo>
                        <a:lnTo>
                          <a:pt x="10" y="10"/>
                        </a:lnTo>
                        <a:lnTo>
                          <a:pt x="12" y="9"/>
                        </a:lnTo>
                        <a:lnTo>
                          <a:pt x="12" y="8"/>
                        </a:lnTo>
                        <a:lnTo>
                          <a:pt x="13" y="6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5569200" y="2603160"/>
                    <a:ext cx="93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5" y="0"/>
                        </a:move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9"/>
                        </a:lnTo>
                        <a:lnTo>
                          <a:pt x="3" y="11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7" y="11"/>
                        </a:lnTo>
                        <a:lnTo>
                          <a:pt x="8" y="11"/>
                        </a:lnTo>
                        <a:lnTo>
                          <a:pt x="10" y="9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3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5541840" y="2484720"/>
                    <a:ext cx="9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0">
                        <a:moveTo>
                          <a:pt x="8" y="0"/>
                        </a:move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3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3" y="7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36" name=""/>
            <p:cNvGrpSpPr/>
            <p:nvPr/>
          </p:nvGrpSpPr>
          <p:grpSpPr>
            <a:xfrm>
              <a:off x="5143320" y="2470320"/>
              <a:ext cx="270360" cy="186840"/>
              <a:chOff x="5143320" y="2470320"/>
              <a:chExt cx="270360" cy="186840"/>
            </a:xfrm>
          </p:grpSpPr>
          <p:sp>
            <p:nvSpPr>
              <p:cNvPr id="937" name=""/>
              <p:cNvSpPr/>
              <p:nvPr/>
            </p:nvSpPr>
            <p:spPr>
              <a:xfrm>
                <a:off x="5143320" y="2470320"/>
                <a:ext cx="270360" cy="186840"/>
              </a:xfrm>
              <a:custGeom>
                <a:avLst/>
                <a:gdLst/>
                <a:ahLst/>
                <a:rect l="l" t="t" r="r" b="b"/>
                <a:pathLst>
                  <a:path w="336" h="141">
                    <a:moveTo>
                      <a:pt x="297" y="0"/>
                    </a:moveTo>
                    <a:lnTo>
                      <a:pt x="0" y="141"/>
                    </a:lnTo>
                    <a:lnTo>
                      <a:pt x="336" y="141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5189760" y="2501280"/>
                <a:ext cx="176760" cy="138960"/>
                <a:chOff x="5189760" y="2501280"/>
                <a:chExt cx="176760" cy="138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5361840" y="2501280"/>
                  <a:ext cx="4680" cy="104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337720" y="25225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310360" y="254088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285880" y="25596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265000" y="2577240"/>
                  <a:ext cx="4680" cy="828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241240" y="25934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215320" y="2614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189760" y="26326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7" name=""/>
            <p:cNvGrpSpPr/>
            <p:nvPr/>
          </p:nvGrpSpPr>
          <p:grpSpPr>
            <a:xfrm>
              <a:off x="4882320" y="2145600"/>
              <a:ext cx="199080" cy="120960"/>
              <a:chOff x="4882320" y="2145600"/>
              <a:chExt cx="199080" cy="1209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82320" y="2145600"/>
                <a:ext cx="199080" cy="120960"/>
              </a:xfrm>
              <a:custGeom>
                <a:avLst/>
                <a:gdLst/>
                <a:ahLst/>
                <a:rect l="l" t="t" r="r" b="b"/>
                <a:pathLst>
                  <a:path w="247" h="94">
                    <a:moveTo>
                      <a:pt x="220" y="0"/>
                    </a:moveTo>
                    <a:lnTo>
                      <a:pt x="0" y="94"/>
                    </a:lnTo>
                    <a:lnTo>
                      <a:pt x="247" y="9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9" name=""/>
              <p:cNvGrpSpPr/>
              <p:nvPr/>
            </p:nvGrpSpPr>
            <p:grpSpPr>
              <a:xfrm>
                <a:off x="4909680" y="2161440"/>
                <a:ext cx="145800" cy="101520"/>
                <a:chOff x="4909680" y="2161440"/>
                <a:chExt cx="145800" cy="10152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5049000" y="21614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029920" y="21744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009040" y="21898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89600" y="22028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70520" y="2215800"/>
                  <a:ext cx="64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951080" y="22287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931640" y="224208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909680" y="225792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8" name=""/>
            <p:cNvGrpSpPr/>
            <p:nvPr/>
          </p:nvGrpSpPr>
          <p:grpSpPr>
            <a:xfrm>
              <a:off x="5382000" y="2470320"/>
              <a:ext cx="752040" cy="679680"/>
              <a:chOff x="5382000" y="2470320"/>
              <a:chExt cx="752040" cy="67968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5382000" y="2470320"/>
                <a:ext cx="752040" cy="679680"/>
                <a:chOff x="5382000" y="2470320"/>
                <a:chExt cx="752040" cy="67968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5382000" y="2470320"/>
                  <a:ext cx="752040" cy="679680"/>
                </a:xfrm>
                <a:custGeom>
                  <a:avLst/>
                  <a:gdLst/>
                  <a:ahLst/>
                  <a:rect l="l" t="t" r="r" b="b"/>
                  <a:pathLst>
                    <a:path w="933" h="515">
                      <a:moveTo>
                        <a:pt x="147" y="515"/>
                      </a:moveTo>
                      <a:lnTo>
                        <a:pt x="0" y="0"/>
                      </a:lnTo>
                      <a:lnTo>
                        <a:pt x="712" y="0"/>
                      </a:lnTo>
                      <a:lnTo>
                        <a:pt x="933" y="515"/>
                      </a:lnTo>
                      <a:lnTo>
                        <a:pt x="147" y="515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1" name=""/>
                <p:cNvGrpSpPr/>
                <p:nvPr/>
              </p:nvGrpSpPr>
              <p:grpSpPr>
                <a:xfrm>
                  <a:off x="5397840" y="2559960"/>
                  <a:ext cx="709920" cy="499680"/>
                  <a:chOff x="5397840" y="2559960"/>
                  <a:chExt cx="709920" cy="49968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5397840" y="2559960"/>
                    <a:ext cx="60552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2" h="74">
                        <a:moveTo>
                          <a:pt x="0" y="0"/>
                        </a:moveTo>
                        <a:lnTo>
                          <a:pt x="720" y="0"/>
                        </a:lnTo>
                        <a:lnTo>
                          <a:pt x="752" y="74"/>
                        </a:lnTo>
                        <a:lnTo>
                          <a:pt x="21" y="7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5431320" y="2760120"/>
                    <a:ext cx="62496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5" h="76">
                        <a:moveTo>
                          <a:pt x="0" y="0"/>
                        </a:moveTo>
                        <a:lnTo>
                          <a:pt x="744" y="0"/>
                        </a:lnTo>
                        <a:lnTo>
                          <a:pt x="775" y="76"/>
                        </a:lnTo>
                        <a:lnTo>
                          <a:pt x="22" y="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466600" y="2962440"/>
                    <a:ext cx="64116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7" h="74">
                        <a:moveTo>
                          <a:pt x="0" y="0"/>
                        </a:moveTo>
                        <a:lnTo>
                          <a:pt x="767" y="0"/>
                        </a:lnTo>
                        <a:lnTo>
                          <a:pt x="797" y="74"/>
                        </a:lnTo>
                        <a:lnTo>
                          <a:pt x="22" y="7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5" name=""/>
              <p:cNvGrpSpPr/>
              <p:nvPr/>
            </p:nvGrpSpPr>
            <p:grpSpPr>
              <a:xfrm>
                <a:off x="5407560" y="2493360"/>
                <a:ext cx="676080" cy="618840"/>
                <a:chOff x="5407560" y="2493360"/>
                <a:chExt cx="676080" cy="61884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5407560" y="2500920"/>
                  <a:ext cx="112320" cy="611280"/>
                  <a:chOff x="5407560" y="2500920"/>
                  <a:chExt cx="112320" cy="61128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5407560" y="2500920"/>
                    <a:ext cx="126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4">
                        <a:moveTo>
                          <a:pt x="7" y="0"/>
                        </a:move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7" y="14"/>
                        </a:lnTo>
                        <a:lnTo>
                          <a:pt x="8" y="14"/>
                        </a:lnTo>
                        <a:lnTo>
                          <a:pt x="10" y="13"/>
                        </a:lnTo>
                        <a:lnTo>
                          <a:pt x="12" y="13"/>
                        </a:lnTo>
                        <a:lnTo>
                          <a:pt x="14" y="12"/>
                        </a:lnTo>
                        <a:lnTo>
                          <a:pt x="14" y="10"/>
                        </a:lnTo>
                        <a:lnTo>
                          <a:pt x="15" y="9"/>
                        </a:lnTo>
                        <a:lnTo>
                          <a:pt x="15" y="8"/>
                        </a:lnTo>
                        <a:lnTo>
                          <a:pt x="15" y="7"/>
                        </a:lnTo>
                        <a:lnTo>
                          <a:pt x="15" y="5"/>
                        </a:lnTo>
                        <a:lnTo>
                          <a:pt x="14" y="4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420160" y="2588040"/>
                    <a:ext cx="129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">
                        <a:moveTo>
                          <a:pt x="9" y="0"/>
                        </a:move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3" y="12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7" y="13"/>
                        </a:lnTo>
                        <a:lnTo>
                          <a:pt x="9" y="13"/>
                        </a:lnTo>
                        <a:lnTo>
                          <a:pt x="10" y="13"/>
                        </a:lnTo>
                        <a:lnTo>
                          <a:pt x="13" y="13"/>
                        </a:lnTo>
                        <a:lnTo>
                          <a:pt x="14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4" y="2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438160" y="2669760"/>
                    <a:ext cx="12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">
                        <a:moveTo>
                          <a:pt x="8" y="0"/>
                        </a:move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2" y="12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7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2" y="13"/>
                        </a:lnTo>
                        <a:lnTo>
                          <a:pt x="14" y="12"/>
                        </a:lnTo>
                        <a:lnTo>
                          <a:pt x="15" y="12"/>
                        </a:lnTo>
                        <a:lnTo>
                          <a:pt x="15" y="10"/>
                        </a:lnTo>
                        <a:lnTo>
                          <a:pt x="17" y="9"/>
                        </a:lnTo>
                        <a:lnTo>
                          <a:pt x="17" y="8"/>
                        </a:lnTo>
                        <a:lnTo>
                          <a:pt x="17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5" y="3"/>
                        </a:lnTo>
                        <a:lnTo>
                          <a:pt x="14" y="3"/>
                        </a:lnTo>
                        <a:lnTo>
                          <a:pt x="12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450760" y="2756520"/>
                    <a:ext cx="126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9" y="0"/>
                        </a:move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3"/>
                        </a:lnTo>
                        <a:lnTo>
                          <a:pt x="3" y="14"/>
                        </a:lnTo>
                        <a:lnTo>
                          <a:pt x="5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2" y="14"/>
                        </a:lnTo>
                        <a:lnTo>
                          <a:pt x="13" y="14"/>
                        </a:lnTo>
                        <a:lnTo>
                          <a:pt x="15" y="13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5"/>
                        </a:lnTo>
                        <a:lnTo>
                          <a:pt x="15" y="4"/>
                        </a:lnTo>
                        <a:lnTo>
                          <a:pt x="13" y="3"/>
                        </a:lnTo>
                        <a:lnTo>
                          <a:pt x="13" y="1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465520" y="2843640"/>
                    <a:ext cx="126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4" y="13"/>
                        </a:lnTo>
                        <a:lnTo>
                          <a:pt x="4" y="15"/>
                        </a:lnTo>
                        <a:lnTo>
                          <a:pt x="6" y="15"/>
                        </a:lnTo>
                        <a:lnTo>
                          <a:pt x="7" y="15"/>
                        </a:lnTo>
                        <a:lnTo>
                          <a:pt x="10" y="15"/>
                        </a:lnTo>
                        <a:lnTo>
                          <a:pt x="11" y="15"/>
                        </a:lnTo>
                        <a:lnTo>
                          <a:pt x="13" y="13"/>
                        </a:lnTo>
                        <a:lnTo>
                          <a:pt x="14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4" y="4"/>
                        </a:lnTo>
                        <a:lnTo>
                          <a:pt x="13" y="3"/>
                        </a:lnTo>
                        <a:lnTo>
                          <a:pt x="13" y="2"/>
                        </a:lnTo>
                        <a:lnTo>
                          <a:pt x="11" y="2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5479920" y="2925000"/>
                    <a:ext cx="108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3" y="13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9" y="13"/>
                        </a:lnTo>
                        <a:lnTo>
                          <a:pt x="10" y="13"/>
                        </a:lnTo>
                        <a:lnTo>
                          <a:pt x="11" y="13"/>
                        </a:lnTo>
                        <a:lnTo>
                          <a:pt x="13" y="13"/>
                        </a:lnTo>
                        <a:lnTo>
                          <a:pt x="13" y="12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5494320" y="3009600"/>
                    <a:ext cx="129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7" y="0"/>
                        </a:move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2" y="15"/>
                        </a:lnTo>
                        <a:lnTo>
                          <a:pt x="4" y="15"/>
                        </a:lnTo>
                        <a:lnTo>
                          <a:pt x="5" y="15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5"/>
                        </a:lnTo>
                        <a:lnTo>
                          <a:pt x="12" y="13"/>
                        </a:lnTo>
                        <a:lnTo>
                          <a:pt x="14" y="12"/>
                        </a:lnTo>
                        <a:lnTo>
                          <a:pt x="14" y="11"/>
                        </a:lnTo>
                        <a:lnTo>
                          <a:pt x="15" y="9"/>
                        </a:lnTo>
                        <a:lnTo>
                          <a:pt x="15" y="8"/>
                        </a:lnTo>
                        <a:lnTo>
                          <a:pt x="15" y="7"/>
                        </a:lnTo>
                        <a:lnTo>
                          <a:pt x="15" y="6"/>
                        </a:lnTo>
                        <a:lnTo>
                          <a:pt x="14" y="6"/>
                        </a:lnTo>
                        <a:lnTo>
                          <a:pt x="14" y="3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2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507280" y="309636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8" y="0"/>
                        </a:move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0"/>
                        </a:lnTo>
                        <a:lnTo>
                          <a:pt x="3" y="11"/>
                        </a:lnTo>
                        <a:lnTo>
                          <a:pt x="4" y="13"/>
                        </a:lnTo>
                        <a:lnTo>
                          <a:pt x="5" y="13"/>
                        </a:lnTo>
                        <a:lnTo>
                          <a:pt x="8" y="13"/>
                        </a:lnTo>
                        <a:lnTo>
                          <a:pt x="10" y="13"/>
                        </a:lnTo>
                        <a:lnTo>
                          <a:pt x="11" y="13"/>
                        </a:lnTo>
                        <a:lnTo>
                          <a:pt x="13" y="11"/>
                        </a:lnTo>
                        <a:lnTo>
                          <a:pt x="14" y="11"/>
                        </a:lnTo>
                        <a:lnTo>
                          <a:pt x="14" y="10"/>
                        </a:lnTo>
                        <a:lnTo>
                          <a:pt x="15" y="9"/>
                        </a:lnTo>
                        <a:lnTo>
                          <a:pt x="15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4" y="2"/>
                        </a:lnTo>
                        <a:lnTo>
                          <a:pt x="14" y="1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5937480" y="2493360"/>
                  <a:ext cx="146160" cy="603000"/>
                  <a:chOff x="5937480" y="2493360"/>
                  <a:chExt cx="146160" cy="60300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5937480" y="2493360"/>
                    <a:ext cx="11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3" y="14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7" y="14"/>
                        </a:lnTo>
                        <a:lnTo>
                          <a:pt x="9" y="14"/>
                        </a:lnTo>
                        <a:lnTo>
                          <a:pt x="11" y="14"/>
                        </a:lnTo>
                        <a:lnTo>
                          <a:pt x="13" y="14"/>
                        </a:lnTo>
                        <a:lnTo>
                          <a:pt x="13" y="13"/>
                        </a:lnTo>
                        <a:lnTo>
                          <a:pt x="14" y="12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4" y="4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5956560" y="2577600"/>
                    <a:ext cx="11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1"/>
                        </a:lnTo>
                        <a:lnTo>
                          <a:pt x="3" y="11"/>
                        </a:lnTo>
                        <a:lnTo>
                          <a:pt x="3" y="13"/>
                        </a:lnTo>
                        <a:lnTo>
                          <a:pt x="5" y="14"/>
                        </a:lnTo>
                        <a:lnTo>
                          <a:pt x="6" y="14"/>
                        </a:lnTo>
                        <a:lnTo>
                          <a:pt x="7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3" y="13"/>
                        </a:lnTo>
                        <a:lnTo>
                          <a:pt x="13" y="11"/>
                        </a:lnTo>
                        <a:lnTo>
                          <a:pt x="15" y="11"/>
                        </a:lnTo>
                        <a:lnTo>
                          <a:pt x="15" y="10"/>
                        </a:lnTo>
                        <a:lnTo>
                          <a:pt x="16" y="9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5" y="2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5976000" y="2659320"/>
                    <a:ext cx="126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4">
                        <a:moveTo>
                          <a:pt x="7" y="0"/>
                        </a:move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8" y="14"/>
                        </a:lnTo>
                        <a:lnTo>
                          <a:pt x="11" y="14"/>
                        </a:lnTo>
                        <a:lnTo>
                          <a:pt x="12" y="13"/>
                        </a:lnTo>
                        <a:lnTo>
                          <a:pt x="14" y="12"/>
                        </a:lnTo>
                        <a:lnTo>
                          <a:pt x="14" y="10"/>
                        </a:lnTo>
                        <a:lnTo>
                          <a:pt x="15" y="9"/>
                        </a:lnTo>
                        <a:lnTo>
                          <a:pt x="15" y="8"/>
                        </a:lnTo>
                        <a:lnTo>
                          <a:pt x="15" y="6"/>
                        </a:lnTo>
                        <a:lnTo>
                          <a:pt x="15" y="5"/>
                        </a:lnTo>
                        <a:lnTo>
                          <a:pt x="14" y="4"/>
                        </a:lnTo>
                        <a:lnTo>
                          <a:pt x="12" y="2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5996880" y="2741040"/>
                    <a:ext cx="11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">
                        <a:moveTo>
                          <a:pt x="9" y="0"/>
                        </a:move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2" y="9"/>
                        </a:lnTo>
                        <a:lnTo>
                          <a:pt x="2" y="11"/>
                        </a:lnTo>
                        <a:lnTo>
                          <a:pt x="3" y="12"/>
                        </a:lnTo>
                        <a:lnTo>
                          <a:pt x="5" y="13"/>
                        </a:lnTo>
                        <a:lnTo>
                          <a:pt x="6" y="13"/>
                        </a:lnTo>
                        <a:lnTo>
                          <a:pt x="9" y="13"/>
                        </a:lnTo>
                        <a:lnTo>
                          <a:pt x="10" y="13"/>
                        </a:lnTo>
                        <a:lnTo>
                          <a:pt x="12" y="13"/>
                        </a:lnTo>
                        <a:lnTo>
                          <a:pt x="13" y="12"/>
                        </a:lnTo>
                        <a:lnTo>
                          <a:pt x="15" y="12"/>
                        </a:lnTo>
                        <a:lnTo>
                          <a:pt x="16" y="11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6" y="2"/>
                        </a:lnTo>
                        <a:lnTo>
                          <a:pt x="15" y="2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6017760" y="2836080"/>
                    <a:ext cx="129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3" y="13"/>
                        </a:lnTo>
                        <a:lnTo>
                          <a:pt x="5" y="13"/>
                        </a:lnTo>
                        <a:lnTo>
                          <a:pt x="5" y="14"/>
                        </a:lnTo>
                        <a:lnTo>
                          <a:pt x="6" y="14"/>
                        </a:lnTo>
                        <a:lnTo>
                          <a:pt x="7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3" y="13"/>
                        </a:lnTo>
                        <a:lnTo>
                          <a:pt x="15" y="12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2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050160" y="2991600"/>
                    <a:ext cx="126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7" y="0"/>
                        </a:moveTo>
                        <a:lnTo>
                          <a:pt x="6" y="0"/>
                        </a:ln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3" y="13"/>
                        </a:lnTo>
                        <a:lnTo>
                          <a:pt x="5" y="15"/>
                        </a:lnTo>
                        <a:lnTo>
                          <a:pt x="6" y="15"/>
                        </a:lnTo>
                        <a:lnTo>
                          <a:pt x="9" y="15"/>
                        </a:lnTo>
                        <a:lnTo>
                          <a:pt x="10" y="15"/>
                        </a:lnTo>
                        <a:lnTo>
                          <a:pt x="12" y="15"/>
                        </a:lnTo>
                        <a:lnTo>
                          <a:pt x="13" y="15"/>
                        </a:lnTo>
                        <a:lnTo>
                          <a:pt x="15" y="13"/>
                        </a:lnTo>
                        <a:lnTo>
                          <a:pt x="15" y="12"/>
                        </a:lnTo>
                        <a:lnTo>
                          <a:pt x="16" y="11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5" y="4"/>
                        </a:lnTo>
                        <a:lnTo>
                          <a:pt x="15" y="3"/>
                        </a:lnTo>
                        <a:lnTo>
                          <a:pt x="13" y="2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6072480" y="3078000"/>
                    <a:ext cx="11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1"/>
                        </a:lnTo>
                        <a:lnTo>
                          <a:pt x="3" y="13"/>
                        </a:lnTo>
                        <a:lnTo>
                          <a:pt x="5" y="13"/>
                        </a:lnTo>
                        <a:lnTo>
                          <a:pt x="6" y="13"/>
                        </a:lnTo>
                        <a:lnTo>
                          <a:pt x="8" y="13"/>
                        </a:lnTo>
                        <a:lnTo>
                          <a:pt x="9" y="13"/>
                        </a:lnTo>
                        <a:lnTo>
                          <a:pt x="12" y="13"/>
                        </a:lnTo>
                        <a:lnTo>
                          <a:pt x="13" y="11"/>
                        </a:lnTo>
                        <a:lnTo>
                          <a:pt x="15" y="10"/>
                        </a:lnTo>
                        <a:lnTo>
                          <a:pt x="15" y="9"/>
                        </a:lnTo>
                        <a:lnTo>
                          <a:pt x="15" y="8"/>
                        </a:lnTo>
                        <a:lnTo>
                          <a:pt x="15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5" y="2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037200" y="2912040"/>
                    <a:ext cx="11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9" y="0"/>
                        </a:move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3" y="12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9" y="15"/>
                        </a:lnTo>
                        <a:lnTo>
                          <a:pt x="10" y="15"/>
                        </a:lnTo>
                        <a:lnTo>
                          <a:pt x="12" y="13"/>
                        </a:lnTo>
                        <a:lnTo>
                          <a:pt x="13" y="13"/>
                        </a:lnTo>
                        <a:lnTo>
                          <a:pt x="14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3"/>
                        </a:lnTo>
                        <a:lnTo>
                          <a:pt x="13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84" name=""/>
            <p:cNvGrpSpPr/>
            <p:nvPr/>
          </p:nvGrpSpPr>
          <p:grpSpPr>
            <a:xfrm>
              <a:off x="5836680" y="2916360"/>
              <a:ext cx="1049040" cy="972720"/>
              <a:chOff x="5836680" y="2916360"/>
              <a:chExt cx="1049040" cy="9727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836680" y="2916360"/>
                <a:ext cx="1049040" cy="972720"/>
                <a:chOff x="5836680" y="2916360"/>
                <a:chExt cx="1049040" cy="97272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5836680" y="2916360"/>
                  <a:ext cx="1049040" cy="972720"/>
                </a:xfrm>
                <a:custGeom>
                  <a:avLst/>
                  <a:gdLst/>
                  <a:ahLst/>
                  <a:rect l="l" t="t" r="r" b="b"/>
                  <a:pathLst>
                    <a:path w="1300" h="738">
                      <a:moveTo>
                        <a:pt x="197" y="738"/>
                      </a:moveTo>
                      <a:lnTo>
                        <a:pt x="0" y="0"/>
                      </a:lnTo>
                      <a:lnTo>
                        <a:pt x="980" y="0"/>
                      </a:lnTo>
                      <a:lnTo>
                        <a:pt x="1300" y="738"/>
                      </a:lnTo>
                      <a:lnTo>
                        <a:pt x="197" y="738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7" name=""/>
                <p:cNvGrpSpPr/>
                <p:nvPr/>
              </p:nvGrpSpPr>
              <p:grpSpPr>
                <a:xfrm>
                  <a:off x="5860800" y="3056040"/>
                  <a:ext cx="979560" cy="666000"/>
                  <a:chOff x="5860800" y="3056040"/>
                  <a:chExt cx="979560" cy="66600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5946120" y="3585240"/>
                    <a:ext cx="894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104">
                        <a:moveTo>
                          <a:pt x="0" y="0"/>
                        </a:moveTo>
                        <a:lnTo>
                          <a:pt x="1065" y="0"/>
                        </a:lnTo>
                        <a:lnTo>
                          <a:pt x="1109" y="104"/>
                        </a:lnTo>
                        <a:lnTo>
                          <a:pt x="28" y="10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5860800" y="3056040"/>
                    <a:ext cx="8398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4" h="103">
                        <a:moveTo>
                          <a:pt x="0" y="0"/>
                        </a:moveTo>
                        <a:lnTo>
                          <a:pt x="998" y="0"/>
                        </a:lnTo>
                        <a:lnTo>
                          <a:pt x="1044" y="103"/>
                        </a:lnTo>
                        <a:lnTo>
                          <a:pt x="28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5902560" y="3321720"/>
                    <a:ext cx="86688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6" h="103">
                        <a:moveTo>
                          <a:pt x="0" y="0"/>
                        </a:moveTo>
                        <a:lnTo>
                          <a:pt x="1032" y="0"/>
                        </a:lnTo>
                        <a:lnTo>
                          <a:pt x="1076" y="103"/>
                        </a:lnTo>
                        <a:lnTo>
                          <a:pt x="30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1" name=""/>
              <p:cNvGrpSpPr/>
              <p:nvPr/>
            </p:nvGrpSpPr>
            <p:grpSpPr>
              <a:xfrm>
                <a:off x="5878440" y="2976480"/>
                <a:ext cx="945360" cy="845640"/>
                <a:chOff x="5878440" y="2976480"/>
                <a:chExt cx="945360" cy="845640"/>
              </a:xfrm>
            </p:grpSpPr>
            <p:grpSp>
              <p:nvGrpSpPr>
                <p:cNvPr id="992" name=""/>
                <p:cNvGrpSpPr/>
                <p:nvPr/>
              </p:nvGrpSpPr>
              <p:grpSpPr>
                <a:xfrm>
                  <a:off x="5878440" y="2976480"/>
                  <a:ext cx="165600" cy="845640"/>
                  <a:chOff x="5878440" y="2976480"/>
                  <a:chExt cx="165600" cy="84564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5878440" y="297648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0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3" y="17"/>
                        </a:lnTo>
                        <a:lnTo>
                          <a:pt x="6" y="19"/>
                        </a:lnTo>
                        <a:lnTo>
                          <a:pt x="7" y="19"/>
                        </a:lnTo>
                        <a:lnTo>
                          <a:pt x="9" y="20"/>
                        </a:lnTo>
                        <a:lnTo>
                          <a:pt x="12" y="20"/>
                        </a:lnTo>
                        <a:lnTo>
                          <a:pt x="15" y="20"/>
                        </a:lnTo>
                        <a:lnTo>
                          <a:pt x="17" y="19"/>
                        </a:lnTo>
                        <a:lnTo>
                          <a:pt x="19" y="17"/>
                        </a:lnTo>
                        <a:lnTo>
                          <a:pt x="20" y="17"/>
                        </a:lnTo>
                        <a:lnTo>
                          <a:pt x="22" y="15"/>
                        </a:lnTo>
                        <a:lnTo>
                          <a:pt x="23" y="13"/>
                        </a:lnTo>
                        <a:lnTo>
                          <a:pt x="23" y="12"/>
                        </a:lnTo>
                        <a:lnTo>
                          <a:pt x="23" y="9"/>
                        </a:lnTo>
                        <a:lnTo>
                          <a:pt x="23" y="8"/>
                        </a:lnTo>
                        <a:lnTo>
                          <a:pt x="23" y="7"/>
                        </a:lnTo>
                        <a:lnTo>
                          <a:pt x="23" y="6"/>
                        </a:lnTo>
                        <a:lnTo>
                          <a:pt x="22" y="4"/>
                        </a:lnTo>
                        <a:lnTo>
                          <a:pt x="20" y="3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5897520" y="3095280"/>
                    <a:ext cx="190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1"/>
                        </a:lnTo>
                        <a:lnTo>
                          <a:pt x="5" y="3"/>
                        </a:lnTo>
                        <a:lnTo>
                          <a:pt x="4" y="3"/>
                        </a:lnTo>
                        <a:lnTo>
                          <a:pt x="1" y="5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4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5" y="20"/>
                        </a:lnTo>
                        <a:lnTo>
                          <a:pt x="7" y="20"/>
                        </a:lnTo>
                        <a:lnTo>
                          <a:pt x="9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7" y="20"/>
                        </a:lnTo>
                        <a:lnTo>
                          <a:pt x="18" y="18"/>
                        </a:lnTo>
                        <a:lnTo>
                          <a:pt x="21" y="18"/>
                        </a:lnTo>
                        <a:lnTo>
                          <a:pt x="21" y="16"/>
                        </a:lnTo>
                        <a:lnTo>
                          <a:pt x="22" y="14"/>
                        </a:lnTo>
                        <a:lnTo>
                          <a:pt x="22" y="13"/>
                        </a:lnTo>
                        <a:lnTo>
                          <a:pt x="22" y="11"/>
                        </a:lnTo>
                        <a:lnTo>
                          <a:pt x="22" y="9"/>
                        </a:lnTo>
                        <a:lnTo>
                          <a:pt x="22" y="8"/>
                        </a:lnTo>
                        <a:lnTo>
                          <a:pt x="22" y="7"/>
                        </a:lnTo>
                        <a:lnTo>
                          <a:pt x="21" y="5"/>
                        </a:lnTo>
                        <a:lnTo>
                          <a:pt x="21" y="4"/>
                        </a:lnTo>
                        <a:lnTo>
                          <a:pt x="19" y="3"/>
                        </a:lnTo>
                        <a:lnTo>
                          <a:pt x="17" y="1"/>
                        </a:lnTo>
                        <a:lnTo>
                          <a:pt x="15" y="1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5923080" y="321120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11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1" y="14"/>
                        </a:lnTo>
                        <a:lnTo>
                          <a:pt x="3" y="15"/>
                        </a:lnTo>
                        <a:lnTo>
                          <a:pt x="4" y="17"/>
                        </a:lnTo>
                        <a:lnTo>
                          <a:pt x="6" y="18"/>
                        </a:lnTo>
                        <a:lnTo>
                          <a:pt x="7" y="19"/>
                        </a:lnTo>
                        <a:lnTo>
                          <a:pt x="10" y="19"/>
                        </a:lnTo>
                        <a:lnTo>
                          <a:pt x="13" y="19"/>
                        </a:lnTo>
                        <a:lnTo>
                          <a:pt x="14" y="19"/>
                        </a:lnTo>
                        <a:lnTo>
                          <a:pt x="17" y="18"/>
                        </a:lnTo>
                        <a:lnTo>
                          <a:pt x="18" y="18"/>
                        </a:lnTo>
                        <a:lnTo>
                          <a:pt x="20" y="17"/>
                        </a:lnTo>
                        <a:lnTo>
                          <a:pt x="21" y="15"/>
                        </a:lnTo>
                        <a:lnTo>
                          <a:pt x="23" y="13"/>
                        </a:lnTo>
                        <a:lnTo>
                          <a:pt x="24" y="11"/>
                        </a:lnTo>
                        <a:lnTo>
                          <a:pt x="24" y="10"/>
                        </a:lnTo>
                        <a:lnTo>
                          <a:pt x="24" y="8"/>
                        </a:lnTo>
                        <a:lnTo>
                          <a:pt x="23" y="6"/>
                        </a:lnTo>
                        <a:lnTo>
                          <a:pt x="23" y="5"/>
                        </a:lnTo>
                        <a:lnTo>
                          <a:pt x="21" y="4"/>
                        </a:lnTo>
                        <a:lnTo>
                          <a:pt x="20" y="2"/>
                        </a:lnTo>
                        <a:lnTo>
                          <a:pt x="18" y="1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1080" y="332928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9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5"/>
                        </a:lnTo>
                        <a:lnTo>
                          <a:pt x="5" y="17"/>
                        </a:lnTo>
                        <a:lnTo>
                          <a:pt x="6" y="18"/>
                        </a:lnTo>
                        <a:lnTo>
                          <a:pt x="7" y="18"/>
                        </a:lnTo>
                        <a:lnTo>
                          <a:pt x="10" y="19"/>
                        </a:lnTo>
                        <a:lnTo>
                          <a:pt x="13" y="19"/>
                        </a:lnTo>
                        <a:lnTo>
                          <a:pt x="15" y="19"/>
                        </a:lnTo>
                        <a:lnTo>
                          <a:pt x="17" y="18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2" y="15"/>
                        </a:lnTo>
                        <a:lnTo>
                          <a:pt x="23" y="13"/>
                        </a:lnTo>
                        <a:lnTo>
                          <a:pt x="25" y="12"/>
                        </a:lnTo>
                        <a:lnTo>
                          <a:pt x="25" y="10"/>
                        </a:lnTo>
                        <a:lnTo>
                          <a:pt x="25" y="8"/>
                        </a:lnTo>
                        <a:lnTo>
                          <a:pt x="23" y="6"/>
                        </a:lnTo>
                        <a:lnTo>
                          <a:pt x="23" y="5"/>
                        </a:lnTo>
                        <a:lnTo>
                          <a:pt x="22" y="4"/>
                        </a:lnTo>
                        <a:lnTo>
                          <a:pt x="20" y="2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5961960" y="345060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9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6"/>
                        </a:lnTo>
                        <a:lnTo>
                          <a:pt x="5" y="16"/>
                        </a:lnTo>
                        <a:lnTo>
                          <a:pt x="6" y="17"/>
                        </a:lnTo>
                        <a:lnTo>
                          <a:pt x="8" y="18"/>
                        </a:lnTo>
                        <a:lnTo>
                          <a:pt x="10" y="19"/>
                        </a:lnTo>
                        <a:lnTo>
                          <a:pt x="13" y="19"/>
                        </a:lnTo>
                        <a:lnTo>
                          <a:pt x="15" y="19"/>
                        </a:lnTo>
                        <a:lnTo>
                          <a:pt x="18" y="18"/>
                        </a:lnTo>
                        <a:lnTo>
                          <a:pt x="19" y="17"/>
                        </a:lnTo>
                        <a:lnTo>
                          <a:pt x="20" y="16"/>
                        </a:lnTo>
                        <a:lnTo>
                          <a:pt x="23" y="14"/>
                        </a:lnTo>
                        <a:lnTo>
                          <a:pt x="23" y="13"/>
                        </a:lnTo>
                        <a:lnTo>
                          <a:pt x="25" y="12"/>
                        </a:lnTo>
                        <a:lnTo>
                          <a:pt x="25" y="9"/>
                        </a:lnTo>
                        <a:lnTo>
                          <a:pt x="25" y="8"/>
                        </a:lnTo>
                        <a:lnTo>
                          <a:pt x="23" y="6"/>
                        </a:lnTo>
                        <a:lnTo>
                          <a:pt x="23" y="5"/>
                        </a:lnTo>
                        <a:lnTo>
                          <a:pt x="23" y="4"/>
                        </a:lnTo>
                        <a:lnTo>
                          <a:pt x="20" y="3"/>
                        </a:lnTo>
                        <a:lnTo>
                          <a:pt x="20" y="1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5982840" y="3561120"/>
                    <a:ext cx="1764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9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7"/>
                        </a:lnTo>
                        <a:lnTo>
                          <a:pt x="6" y="18"/>
                        </a:lnTo>
                        <a:lnTo>
                          <a:pt x="7" y="19"/>
                        </a:lnTo>
                        <a:lnTo>
                          <a:pt x="9" y="19"/>
                        </a:lnTo>
                        <a:lnTo>
                          <a:pt x="12" y="19"/>
                        </a:lnTo>
                        <a:lnTo>
                          <a:pt x="14" y="19"/>
                        </a:lnTo>
                        <a:lnTo>
                          <a:pt x="16" y="19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2" y="15"/>
                        </a:lnTo>
                        <a:lnTo>
                          <a:pt x="22" y="14"/>
                        </a:lnTo>
                        <a:lnTo>
                          <a:pt x="23" y="11"/>
                        </a:lnTo>
                        <a:lnTo>
                          <a:pt x="23" y="10"/>
                        </a:lnTo>
                        <a:lnTo>
                          <a:pt x="23" y="9"/>
                        </a:lnTo>
                        <a:lnTo>
                          <a:pt x="23" y="6"/>
                        </a:lnTo>
                        <a:lnTo>
                          <a:pt x="22" y="5"/>
                        </a:lnTo>
                        <a:lnTo>
                          <a:pt x="22" y="3"/>
                        </a:lnTo>
                        <a:lnTo>
                          <a:pt x="20" y="2"/>
                        </a:lnTo>
                        <a:lnTo>
                          <a:pt x="19" y="1"/>
                        </a:lnTo>
                        <a:lnTo>
                          <a:pt x="17" y="1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005520" y="3680280"/>
                    <a:ext cx="176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0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3" y="17"/>
                        </a:lnTo>
                        <a:lnTo>
                          <a:pt x="6" y="18"/>
                        </a:lnTo>
                        <a:lnTo>
                          <a:pt x="7" y="18"/>
                        </a:lnTo>
                        <a:lnTo>
                          <a:pt x="9" y="20"/>
                        </a:lnTo>
                        <a:lnTo>
                          <a:pt x="12" y="20"/>
                        </a:lnTo>
                        <a:lnTo>
                          <a:pt x="15" y="20"/>
                        </a:lnTo>
                        <a:lnTo>
                          <a:pt x="16" y="18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2" y="14"/>
                        </a:lnTo>
                        <a:lnTo>
                          <a:pt x="22" y="13"/>
                        </a:lnTo>
                        <a:lnTo>
                          <a:pt x="23" y="12"/>
                        </a:lnTo>
                        <a:lnTo>
                          <a:pt x="23" y="9"/>
                        </a:lnTo>
                        <a:lnTo>
                          <a:pt x="23" y="8"/>
                        </a:lnTo>
                        <a:lnTo>
                          <a:pt x="23" y="7"/>
                        </a:lnTo>
                        <a:lnTo>
                          <a:pt x="22" y="5"/>
                        </a:lnTo>
                        <a:lnTo>
                          <a:pt x="22" y="4"/>
                        </a:lnTo>
                        <a:lnTo>
                          <a:pt x="20" y="3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024960" y="379836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8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5" y="3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3"/>
                        </a:lnTo>
                        <a:lnTo>
                          <a:pt x="3" y="16"/>
                        </a:lnTo>
                        <a:lnTo>
                          <a:pt x="5" y="17"/>
                        </a:lnTo>
                        <a:lnTo>
                          <a:pt x="6" y="18"/>
                        </a:lnTo>
                        <a:lnTo>
                          <a:pt x="9" y="18"/>
                        </a:lnTo>
                        <a:lnTo>
                          <a:pt x="10" y="18"/>
                        </a:lnTo>
                        <a:lnTo>
                          <a:pt x="13" y="18"/>
                        </a:lnTo>
                        <a:lnTo>
                          <a:pt x="16" y="18"/>
                        </a:lnTo>
                        <a:lnTo>
                          <a:pt x="18" y="18"/>
                        </a:lnTo>
                        <a:lnTo>
                          <a:pt x="19" y="17"/>
                        </a:lnTo>
                        <a:lnTo>
                          <a:pt x="20" y="17"/>
                        </a:lnTo>
                        <a:lnTo>
                          <a:pt x="23" y="16"/>
                        </a:lnTo>
                        <a:lnTo>
                          <a:pt x="23" y="13"/>
                        </a:lnTo>
                        <a:lnTo>
                          <a:pt x="25" y="12"/>
                        </a:lnTo>
                        <a:lnTo>
                          <a:pt x="25" y="11"/>
                        </a:lnTo>
                        <a:lnTo>
                          <a:pt x="25" y="8"/>
                        </a:lnTo>
                        <a:lnTo>
                          <a:pt x="23" y="7"/>
                        </a:lnTo>
                        <a:lnTo>
                          <a:pt x="23" y="5"/>
                        </a:lnTo>
                        <a:lnTo>
                          <a:pt x="23" y="4"/>
                        </a:lnTo>
                        <a:lnTo>
                          <a:pt x="20" y="3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6606720" y="2979360"/>
                  <a:ext cx="217080" cy="834840"/>
                  <a:chOff x="6606720" y="2979360"/>
                  <a:chExt cx="217080" cy="83484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6606720" y="297936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5" y="18"/>
                        </a:lnTo>
                        <a:lnTo>
                          <a:pt x="8" y="19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4" y="19"/>
                        </a:lnTo>
                        <a:lnTo>
                          <a:pt x="17" y="19"/>
                        </a:lnTo>
                        <a:lnTo>
                          <a:pt x="20" y="18"/>
                        </a:lnTo>
                        <a:lnTo>
                          <a:pt x="21" y="17"/>
                        </a:lnTo>
                        <a:lnTo>
                          <a:pt x="21" y="16"/>
                        </a:lnTo>
                        <a:lnTo>
                          <a:pt x="22" y="14"/>
                        </a:lnTo>
                        <a:lnTo>
                          <a:pt x="24" y="12"/>
                        </a:lnTo>
                        <a:lnTo>
                          <a:pt x="24" y="10"/>
                        </a:lnTo>
                        <a:lnTo>
                          <a:pt x="24" y="9"/>
                        </a:lnTo>
                        <a:lnTo>
                          <a:pt x="22" y="6"/>
                        </a:lnTo>
                        <a:lnTo>
                          <a:pt x="22" y="5"/>
                        </a:lnTo>
                        <a:lnTo>
                          <a:pt x="21" y="4"/>
                        </a:lnTo>
                        <a:lnTo>
                          <a:pt x="20" y="1"/>
                        </a:lnTo>
                        <a:lnTo>
                          <a:pt x="18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6635520" y="309492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12" y="0"/>
                        </a:move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6" y="2"/>
                        </a:lnTo>
                        <a:lnTo>
                          <a:pt x="5" y="3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5" y="17"/>
                        </a:lnTo>
                        <a:lnTo>
                          <a:pt x="6" y="19"/>
                        </a:lnTo>
                        <a:lnTo>
                          <a:pt x="7" y="20"/>
                        </a:lnTo>
                        <a:lnTo>
                          <a:pt x="9" y="20"/>
                        </a:lnTo>
                        <a:lnTo>
                          <a:pt x="13" y="20"/>
                        </a:lnTo>
                        <a:lnTo>
                          <a:pt x="15" y="20"/>
                        </a:lnTo>
                        <a:lnTo>
                          <a:pt x="17" y="19"/>
                        </a:lnTo>
                        <a:lnTo>
                          <a:pt x="19" y="19"/>
                        </a:lnTo>
                        <a:lnTo>
                          <a:pt x="20" y="17"/>
                        </a:lnTo>
                        <a:lnTo>
                          <a:pt x="22" y="16"/>
                        </a:lnTo>
                        <a:lnTo>
                          <a:pt x="23" y="13"/>
                        </a:lnTo>
                        <a:lnTo>
                          <a:pt x="25" y="12"/>
                        </a:lnTo>
                        <a:lnTo>
                          <a:pt x="25" y="11"/>
                        </a:lnTo>
                        <a:lnTo>
                          <a:pt x="25" y="8"/>
                        </a:lnTo>
                        <a:lnTo>
                          <a:pt x="23" y="7"/>
                        </a:lnTo>
                        <a:lnTo>
                          <a:pt x="23" y="6"/>
                        </a:lnTo>
                        <a:lnTo>
                          <a:pt x="22" y="4"/>
                        </a:lnTo>
                        <a:lnTo>
                          <a:pt x="20" y="3"/>
                        </a:lnTo>
                        <a:lnTo>
                          <a:pt x="20" y="2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664680" y="320796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0">
                        <a:moveTo>
                          <a:pt x="11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1" y="14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6" y="18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4" y="20"/>
                        </a:lnTo>
                        <a:lnTo>
                          <a:pt x="17" y="20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1" y="16"/>
                        </a:lnTo>
                        <a:lnTo>
                          <a:pt x="23" y="14"/>
                        </a:lnTo>
                        <a:lnTo>
                          <a:pt x="24" y="12"/>
                        </a:lnTo>
                        <a:lnTo>
                          <a:pt x="24" y="11"/>
                        </a:lnTo>
                        <a:lnTo>
                          <a:pt x="24" y="9"/>
                        </a:lnTo>
                        <a:lnTo>
                          <a:pt x="23" y="8"/>
                        </a:lnTo>
                        <a:lnTo>
                          <a:pt x="23" y="5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9" y="3"/>
                        </a:lnTo>
                        <a:lnTo>
                          <a:pt x="17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6695280" y="3321720"/>
                    <a:ext cx="172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1" y="0"/>
                        </a:move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5" y="18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7" y="18"/>
                        </a:lnTo>
                        <a:lnTo>
                          <a:pt x="18" y="18"/>
                        </a:lnTo>
                        <a:lnTo>
                          <a:pt x="20" y="17"/>
                        </a:lnTo>
                        <a:lnTo>
                          <a:pt x="21" y="16"/>
                        </a:lnTo>
                        <a:lnTo>
                          <a:pt x="22" y="13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7"/>
                        </a:lnTo>
                        <a:lnTo>
                          <a:pt x="22" y="5"/>
                        </a:lnTo>
                        <a:lnTo>
                          <a:pt x="21" y="4"/>
                        </a:lnTo>
                        <a:lnTo>
                          <a:pt x="20" y="3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725520" y="3450600"/>
                    <a:ext cx="19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6" y="18"/>
                        </a:lnTo>
                        <a:lnTo>
                          <a:pt x="7" y="19"/>
                        </a:lnTo>
                        <a:lnTo>
                          <a:pt x="10" y="19"/>
                        </a:lnTo>
                        <a:lnTo>
                          <a:pt x="13" y="19"/>
                        </a:lnTo>
                        <a:lnTo>
                          <a:pt x="14" y="19"/>
                        </a:lnTo>
                        <a:lnTo>
                          <a:pt x="17" y="19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3" y="16"/>
                        </a:lnTo>
                        <a:lnTo>
                          <a:pt x="23" y="14"/>
                        </a:lnTo>
                        <a:lnTo>
                          <a:pt x="24" y="13"/>
                        </a:lnTo>
                        <a:lnTo>
                          <a:pt x="24" y="10"/>
                        </a:lnTo>
                        <a:lnTo>
                          <a:pt x="24" y="9"/>
                        </a:lnTo>
                        <a:lnTo>
                          <a:pt x="23" y="8"/>
                        </a:lnTo>
                        <a:lnTo>
                          <a:pt x="23" y="6"/>
                        </a:lnTo>
                        <a:lnTo>
                          <a:pt x="23" y="4"/>
                        </a:lnTo>
                        <a:lnTo>
                          <a:pt x="20" y="3"/>
                        </a:lnTo>
                        <a:lnTo>
                          <a:pt x="17" y="1"/>
                        </a:lnTo>
                        <a:lnTo>
                          <a:pt x="16" y="1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774120" y="3669480"/>
                    <a:ext cx="172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0">
                        <a:moveTo>
                          <a:pt x="11" y="0"/>
                        </a:moveTo>
                        <a:lnTo>
                          <a:pt x="9" y="0"/>
                        </a:lnTo>
                        <a:lnTo>
                          <a:pt x="7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3" y="17"/>
                        </a:lnTo>
                        <a:lnTo>
                          <a:pt x="6" y="19"/>
                        </a:lnTo>
                        <a:lnTo>
                          <a:pt x="7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4" y="20"/>
                        </a:lnTo>
                        <a:lnTo>
                          <a:pt x="16" y="19"/>
                        </a:lnTo>
                        <a:lnTo>
                          <a:pt x="19" y="19"/>
                        </a:lnTo>
                        <a:lnTo>
                          <a:pt x="20" y="17"/>
                        </a:lnTo>
                        <a:lnTo>
                          <a:pt x="21" y="16"/>
                        </a:lnTo>
                        <a:lnTo>
                          <a:pt x="21" y="13"/>
                        </a:lnTo>
                        <a:lnTo>
                          <a:pt x="23" y="12"/>
                        </a:lnTo>
                        <a:lnTo>
                          <a:pt x="23" y="11"/>
                        </a:lnTo>
                        <a:lnTo>
                          <a:pt x="23" y="8"/>
                        </a:lnTo>
                        <a:lnTo>
                          <a:pt x="23" y="7"/>
                        </a:lnTo>
                        <a:lnTo>
                          <a:pt x="21" y="6"/>
                        </a:lnTo>
                        <a:lnTo>
                          <a:pt x="21" y="4"/>
                        </a:lnTo>
                        <a:lnTo>
                          <a:pt x="20" y="3"/>
                        </a:lnTo>
                        <a:lnTo>
                          <a:pt x="19" y="2"/>
                        </a:lnTo>
                        <a:lnTo>
                          <a:pt x="17" y="2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804720" y="3787560"/>
                    <a:ext cx="19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1" y="0"/>
                        </a:move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2" y="17"/>
                        </a:lnTo>
                        <a:lnTo>
                          <a:pt x="5" y="19"/>
                        </a:lnTo>
                        <a:lnTo>
                          <a:pt x="7" y="19"/>
                        </a:lnTo>
                        <a:lnTo>
                          <a:pt x="8" y="20"/>
                        </a:lnTo>
                        <a:lnTo>
                          <a:pt x="11" y="20"/>
                        </a:lnTo>
                        <a:lnTo>
                          <a:pt x="14" y="20"/>
                        </a:lnTo>
                        <a:lnTo>
                          <a:pt x="17" y="19"/>
                        </a:lnTo>
                        <a:lnTo>
                          <a:pt x="18" y="19"/>
                        </a:lnTo>
                        <a:lnTo>
                          <a:pt x="20" y="17"/>
                        </a:lnTo>
                        <a:lnTo>
                          <a:pt x="21" y="15"/>
                        </a:lnTo>
                        <a:lnTo>
                          <a:pt x="22" y="13"/>
                        </a:lnTo>
                        <a:lnTo>
                          <a:pt x="22" y="12"/>
                        </a:lnTo>
                        <a:lnTo>
                          <a:pt x="22" y="11"/>
                        </a:lnTo>
                        <a:lnTo>
                          <a:pt x="22" y="8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1" y="4"/>
                        </a:lnTo>
                        <a:lnTo>
                          <a:pt x="20" y="3"/>
                        </a:lnTo>
                        <a:lnTo>
                          <a:pt x="18" y="2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6753240" y="3555720"/>
                    <a:ext cx="190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3" y="17"/>
                        </a:lnTo>
                        <a:lnTo>
                          <a:pt x="5" y="17"/>
                        </a:lnTo>
                        <a:lnTo>
                          <a:pt x="6" y="18"/>
                        </a:lnTo>
                        <a:lnTo>
                          <a:pt x="7" y="19"/>
                        </a:lnTo>
                        <a:lnTo>
                          <a:pt x="10" y="21"/>
                        </a:lnTo>
                        <a:lnTo>
                          <a:pt x="12" y="21"/>
                        </a:lnTo>
                        <a:lnTo>
                          <a:pt x="15" y="21"/>
                        </a:lnTo>
                        <a:lnTo>
                          <a:pt x="17" y="19"/>
                        </a:lnTo>
                        <a:lnTo>
                          <a:pt x="19" y="18"/>
                        </a:lnTo>
                        <a:lnTo>
                          <a:pt x="20" y="17"/>
                        </a:lnTo>
                        <a:lnTo>
                          <a:pt x="22" y="15"/>
                        </a:lnTo>
                        <a:lnTo>
                          <a:pt x="23" y="14"/>
                        </a:lnTo>
                        <a:lnTo>
                          <a:pt x="23" y="13"/>
                        </a:lnTo>
                        <a:lnTo>
                          <a:pt x="23" y="10"/>
                        </a:lnTo>
                        <a:lnTo>
                          <a:pt x="23" y="9"/>
                        </a:lnTo>
                        <a:lnTo>
                          <a:pt x="23" y="7"/>
                        </a:lnTo>
                        <a:lnTo>
                          <a:pt x="23" y="6"/>
                        </a:lnTo>
                        <a:lnTo>
                          <a:pt x="22" y="5"/>
                        </a:lnTo>
                        <a:lnTo>
                          <a:pt x="20" y="4"/>
                        </a:lnTo>
                        <a:lnTo>
                          <a:pt x="19" y="2"/>
                        </a:lnTo>
                        <a:lnTo>
                          <a:pt x="17" y="1"/>
                        </a:lnTo>
                        <a:lnTo>
                          <a:pt x="15" y="1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10" name=""/>
            <p:cNvGrpSpPr/>
            <p:nvPr/>
          </p:nvGrpSpPr>
          <p:grpSpPr>
            <a:xfrm>
              <a:off x="5996520" y="3536280"/>
              <a:ext cx="512280" cy="353160"/>
              <a:chOff x="5996520" y="3536280"/>
              <a:chExt cx="512280" cy="353160"/>
            </a:xfrm>
          </p:grpSpPr>
          <p:sp>
            <p:nvSpPr>
              <p:cNvPr id="1011" name=""/>
              <p:cNvSpPr/>
              <p:nvPr/>
            </p:nvSpPr>
            <p:spPr>
              <a:xfrm>
                <a:off x="5996520" y="3536280"/>
                <a:ext cx="512280" cy="353160"/>
              </a:xfrm>
              <a:custGeom>
                <a:avLst/>
                <a:gdLst/>
                <a:ahLst/>
                <a:rect l="l" t="t" r="r" b="b"/>
                <a:pathLst>
                  <a:path w="636" h="268">
                    <a:moveTo>
                      <a:pt x="564" y="0"/>
                    </a:moveTo>
                    <a:lnTo>
                      <a:pt x="0" y="268"/>
                    </a:lnTo>
                    <a:lnTo>
                      <a:pt x="636" y="268"/>
                    </a:lnTo>
                    <a:lnTo>
                      <a:pt x="564" y="0"/>
                    </a:lnTo>
                    <a:close/>
                  </a:path>
                </a:pathLst>
              </a:custGeom>
              <a:solidFill>
                <a:srgbClr val="9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6081480" y="3594240"/>
                <a:ext cx="341280" cy="268200"/>
                <a:chOff x="6081480" y="3594240"/>
                <a:chExt cx="341280" cy="26820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6411600" y="3594240"/>
                  <a:ext cx="11160" cy="183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7" y="14"/>
                      </a:lnTo>
                      <a:lnTo>
                        <a:pt x="9" y="14"/>
                      </a:lnTo>
                      <a:lnTo>
                        <a:pt x="10" y="14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365160" y="3630960"/>
                  <a:ext cx="9360" cy="1836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9" y="15"/>
                      </a:lnTo>
                      <a:lnTo>
                        <a:pt x="10" y="15"/>
                      </a:lnTo>
                      <a:lnTo>
                        <a:pt x="11" y="13"/>
                      </a:lnTo>
                      <a:lnTo>
                        <a:pt x="13" y="12"/>
                      </a:lnTo>
                      <a:lnTo>
                        <a:pt x="13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315120" y="3670560"/>
                  <a:ext cx="11160" cy="154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1" y="12"/>
                      </a:lnTo>
                      <a:lnTo>
                        <a:pt x="12" y="11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269760" y="3702240"/>
                  <a:ext cx="11160" cy="1836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9" y="13"/>
                      </a:lnTo>
                      <a:lnTo>
                        <a:pt x="12" y="13"/>
                      </a:lnTo>
                      <a:lnTo>
                        <a:pt x="13" y="12"/>
                      </a:lnTo>
                      <a:lnTo>
                        <a:pt x="15" y="10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226200" y="373608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1" y="10"/>
                      </a:lnTo>
                      <a:lnTo>
                        <a:pt x="13" y="10"/>
                      </a:lnTo>
                      <a:lnTo>
                        <a:pt x="13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6181560" y="3770640"/>
                  <a:ext cx="11160" cy="176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1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134760" y="380736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3" y="12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4" y="10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081480" y="3844080"/>
                  <a:ext cx="12960" cy="183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1" y="12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1" name=""/>
            <p:cNvGrpSpPr/>
            <p:nvPr/>
          </p:nvGrpSpPr>
          <p:grpSpPr>
            <a:xfrm>
              <a:off x="5499360" y="2916360"/>
              <a:ext cx="376920" cy="234000"/>
              <a:chOff x="5499360" y="2916360"/>
              <a:chExt cx="376920" cy="234000"/>
            </a:xfrm>
          </p:grpSpPr>
          <p:sp>
            <p:nvSpPr>
              <p:cNvPr id="1022" name=""/>
              <p:cNvSpPr/>
              <p:nvPr/>
            </p:nvSpPr>
            <p:spPr>
              <a:xfrm>
                <a:off x="5499360" y="2916360"/>
                <a:ext cx="376920" cy="234000"/>
              </a:xfrm>
              <a:custGeom>
                <a:avLst/>
                <a:gdLst/>
                <a:ahLst/>
                <a:rect l="l" t="t" r="r" b="b"/>
                <a:pathLst>
                  <a:path w="468" h="178">
                    <a:moveTo>
                      <a:pt x="418" y="0"/>
                    </a:moveTo>
                    <a:lnTo>
                      <a:pt x="0" y="178"/>
                    </a:lnTo>
                    <a:lnTo>
                      <a:pt x="468" y="178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9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5551200" y="2947680"/>
                <a:ext cx="277920" cy="193680"/>
                <a:chOff x="5551200" y="2947680"/>
                <a:chExt cx="277920" cy="19368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5819760" y="294768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781240" y="2976120"/>
                  <a:ext cx="9720" cy="1044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742360" y="3002400"/>
                  <a:ext cx="9720" cy="1296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9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704200" y="302616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668560" y="304992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631480" y="3076200"/>
                  <a:ext cx="7920" cy="1296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592600" y="3102480"/>
                  <a:ext cx="9720" cy="1044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551200" y="3128400"/>
                  <a:ext cx="7920" cy="1296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2" name=""/>
            <p:cNvGrpSpPr/>
            <p:nvPr/>
          </p:nvGrpSpPr>
          <p:grpSpPr>
            <a:xfrm>
              <a:off x="6451200" y="3536280"/>
              <a:ext cx="1502280" cy="1358280"/>
              <a:chOff x="6451200" y="3536280"/>
              <a:chExt cx="1502280" cy="135828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6451200" y="3536280"/>
                <a:ext cx="1502280" cy="1358280"/>
                <a:chOff x="6451200" y="3536280"/>
                <a:chExt cx="1502280" cy="13582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6451200" y="3536280"/>
                  <a:ext cx="1502280" cy="1358280"/>
                </a:xfrm>
                <a:custGeom>
                  <a:avLst/>
                  <a:gdLst/>
                  <a:ahLst/>
                  <a:rect l="l" t="t" r="r" b="b"/>
                  <a:pathLst>
                    <a:path w="1863" h="1030">
                      <a:moveTo>
                        <a:pt x="294" y="1030"/>
                      </a:moveTo>
                      <a:lnTo>
                        <a:pt x="1863" y="1030"/>
                      </a:lnTo>
                      <a:lnTo>
                        <a:pt x="1397" y="0"/>
                      </a:lnTo>
                      <a:lnTo>
                        <a:pt x="0" y="0"/>
                      </a:lnTo>
                      <a:lnTo>
                        <a:pt x="294" y="103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5" name=""/>
                <p:cNvGrpSpPr/>
                <p:nvPr/>
              </p:nvGrpSpPr>
              <p:grpSpPr>
                <a:xfrm>
                  <a:off x="6483240" y="3713040"/>
                  <a:ext cx="1411920" cy="969480"/>
                  <a:chOff x="6483240" y="3713040"/>
                  <a:chExt cx="1411920" cy="96948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6483240" y="3713040"/>
                    <a:ext cx="119916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8" h="156">
                        <a:moveTo>
                          <a:pt x="0" y="0"/>
                        </a:moveTo>
                        <a:lnTo>
                          <a:pt x="1417" y="0"/>
                        </a:lnTo>
                        <a:lnTo>
                          <a:pt x="1488" y="156"/>
                        </a:lnTo>
                        <a:lnTo>
                          <a:pt x="42" y="1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549120" y="4097520"/>
                    <a:ext cx="123948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9" h="153">
                        <a:moveTo>
                          <a:pt x="0" y="0"/>
                        </a:moveTo>
                        <a:lnTo>
                          <a:pt x="1469" y="0"/>
                        </a:lnTo>
                        <a:lnTo>
                          <a:pt x="1539" y="153"/>
                        </a:lnTo>
                        <a:lnTo>
                          <a:pt x="43" y="15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616800" y="4476960"/>
                    <a:ext cx="127836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157">
                        <a:moveTo>
                          <a:pt x="0" y="0"/>
                        </a:moveTo>
                        <a:lnTo>
                          <a:pt x="1517" y="0"/>
                        </a:lnTo>
                        <a:lnTo>
                          <a:pt x="1587" y="157"/>
                        </a:lnTo>
                        <a:lnTo>
                          <a:pt x="43" y="15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9" name=""/>
              <p:cNvGrpSpPr/>
              <p:nvPr/>
            </p:nvGrpSpPr>
            <p:grpSpPr>
              <a:xfrm>
                <a:off x="6515640" y="3646800"/>
                <a:ext cx="1366560" cy="1128240"/>
                <a:chOff x="6515640" y="3646800"/>
                <a:chExt cx="1366560" cy="1128240"/>
              </a:xfrm>
            </p:grpSpPr>
            <p:grpSp>
              <p:nvGrpSpPr>
                <p:cNvPr id="1040" name=""/>
                <p:cNvGrpSpPr/>
                <p:nvPr/>
              </p:nvGrpSpPr>
              <p:grpSpPr>
                <a:xfrm>
                  <a:off x="7553520" y="3646800"/>
                  <a:ext cx="328680" cy="1117800"/>
                  <a:chOff x="7553520" y="3646800"/>
                  <a:chExt cx="328680" cy="111780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>
                    <a:off x="7553520" y="364680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5" y="3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2" y="21"/>
                        </a:lnTo>
                        <a:lnTo>
                          <a:pt x="3" y="22"/>
                        </a:lnTo>
                        <a:lnTo>
                          <a:pt x="6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6" y="25"/>
                        </a:lnTo>
                        <a:lnTo>
                          <a:pt x="19" y="25"/>
                        </a:lnTo>
                        <a:lnTo>
                          <a:pt x="22" y="24"/>
                        </a:lnTo>
                        <a:lnTo>
                          <a:pt x="23" y="22"/>
                        </a:lnTo>
                        <a:lnTo>
                          <a:pt x="25" y="20"/>
                        </a:lnTo>
                        <a:lnTo>
                          <a:pt x="26" y="18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6" y="9"/>
                        </a:lnTo>
                        <a:lnTo>
                          <a:pt x="26" y="8"/>
                        </a:lnTo>
                        <a:lnTo>
                          <a:pt x="25" y="5"/>
                        </a:lnTo>
                        <a:lnTo>
                          <a:pt x="23" y="4"/>
                        </a:lnTo>
                        <a:lnTo>
                          <a:pt x="22" y="3"/>
                        </a:lnTo>
                        <a:lnTo>
                          <a:pt x="20" y="1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7597080" y="3801960"/>
                    <a:ext cx="20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19"/>
                        </a:lnTo>
                        <a:lnTo>
                          <a:pt x="4" y="21"/>
                        </a:lnTo>
                        <a:lnTo>
                          <a:pt x="6" y="23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1" y="22"/>
                        </a:lnTo>
                        <a:lnTo>
                          <a:pt x="24" y="21"/>
                        </a:lnTo>
                        <a:lnTo>
                          <a:pt x="26" y="19"/>
                        </a:lnTo>
                        <a:lnTo>
                          <a:pt x="26" y="17"/>
                        </a:lnTo>
                        <a:lnTo>
                          <a:pt x="27" y="15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9"/>
                        </a:lnTo>
                        <a:lnTo>
                          <a:pt x="26" y="6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1" y="2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638840" y="3949560"/>
                    <a:ext cx="208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19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8" y="23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1" y="22"/>
                        </a:lnTo>
                        <a:lnTo>
                          <a:pt x="24" y="21"/>
                        </a:lnTo>
                        <a:lnTo>
                          <a:pt x="26" y="19"/>
                        </a:lnTo>
                        <a:lnTo>
                          <a:pt x="27" y="17"/>
                        </a:lnTo>
                        <a:lnTo>
                          <a:pt x="27" y="15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9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2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7680960" y="410796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5" y="0"/>
                        </a:moveTo>
                        <a:lnTo>
                          <a:pt x="11" y="0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8" y="25"/>
                        </a:lnTo>
                        <a:lnTo>
                          <a:pt x="11" y="25"/>
                        </a:lnTo>
                        <a:lnTo>
                          <a:pt x="15" y="25"/>
                        </a:lnTo>
                        <a:lnTo>
                          <a:pt x="18" y="25"/>
                        </a:lnTo>
                        <a:lnTo>
                          <a:pt x="21" y="25"/>
                        </a:lnTo>
                        <a:lnTo>
                          <a:pt x="24" y="24"/>
                        </a:lnTo>
                        <a:lnTo>
                          <a:pt x="25" y="22"/>
                        </a:lnTo>
                        <a:lnTo>
                          <a:pt x="27" y="20"/>
                        </a:lnTo>
                        <a:lnTo>
                          <a:pt x="28" y="18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2"/>
                        </a:lnTo>
                        <a:lnTo>
                          <a:pt x="28" y="9"/>
                        </a:lnTo>
                        <a:lnTo>
                          <a:pt x="28" y="8"/>
                        </a:lnTo>
                        <a:lnTo>
                          <a:pt x="27" y="5"/>
                        </a:lnTo>
                        <a:lnTo>
                          <a:pt x="25" y="4"/>
                        </a:lnTo>
                        <a:lnTo>
                          <a:pt x="24" y="3"/>
                        </a:lnTo>
                        <a:lnTo>
                          <a:pt x="21" y="2"/>
                        </a:lnTo>
                        <a:lnTo>
                          <a:pt x="20" y="2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729200" y="426672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2" y="0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7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3" y="20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9" y="25"/>
                        </a:lnTo>
                        <a:lnTo>
                          <a:pt x="12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3" y="23"/>
                        </a:lnTo>
                        <a:lnTo>
                          <a:pt x="24" y="21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0"/>
                        </a:lnTo>
                        <a:lnTo>
                          <a:pt x="27" y="9"/>
                        </a:lnTo>
                        <a:lnTo>
                          <a:pt x="27" y="7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2" y="1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771320" y="4416480"/>
                    <a:ext cx="223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1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1" y="17"/>
                        </a:lnTo>
                        <a:lnTo>
                          <a:pt x="1" y="18"/>
                        </a:lnTo>
                        <a:lnTo>
                          <a:pt x="3" y="19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9" y="23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3" y="22"/>
                        </a:lnTo>
                        <a:lnTo>
                          <a:pt x="24" y="21"/>
                        </a:lnTo>
                        <a:lnTo>
                          <a:pt x="26" y="19"/>
                        </a:lnTo>
                        <a:lnTo>
                          <a:pt x="27" y="17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0"/>
                        </a:lnTo>
                        <a:lnTo>
                          <a:pt x="27" y="9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7818120" y="4574880"/>
                    <a:ext cx="219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3" y="19"/>
                        </a:lnTo>
                        <a:lnTo>
                          <a:pt x="3" y="21"/>
                        </a:lnTo>
                        <a:lnTo>
                          <a:pt x="4" y="23"/>
                        </a:lnTo>
                        <a:lnTo>
                          <a:pt x="7" y="24"/>
                        </a:lnTo>
                        <a:lnTo>
                          <a:pt x="10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3" y="24"/>
                        </a:lnTo>
                        <a:lnTo>
                          <a:pt x="24" y="23"/>
                        </a:lnTo>
                        <a:lnTo>
                          <a:pt x="26" y="20"/>
                        </a:lnTo>
                        <a:lnTo>
                          <a:pt x="27" y="19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2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6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2"/>
                        </a:lnTo>
                        <a:lnTo>
                          <a:pt x="19" y="2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7861680" y="473292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5" y="21"/>
                        </a:lnTo>
                        <a:lnTo>
                          <a:pt x="6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6" y="25"/>
                        </a:lnTo>
                        <a:lnTo>
                          <a:pt x="20" y="24"/>
                        </a:lnTo>
                        <a:lnTo>
                          <a:pt x="22" y="22"/>
                        </a:lnTo>
                        <a:lnTo>
                          <a:pt x="25" y="21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6" y="7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2" y="3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9" name=""/>
                <p:cNvGrpSpPr/>
                <p:nvPr/>
              </p:nvGrpSpPr>
              <p:grpSpPr>
                <a:xfrm>
                  <a:off x="6515640" y="3665160"/>
                  <a:ext cx="223560" cy="1109880"/>
                  <a:chOff x="6515640" y="3665160"/>
                  <a:chExt cx="223560" cy="110988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6515640" y="3665160"/>
                    <a:ext cx="219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19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8" y="23"/>
                        </a:lnTo>
                        <a:lnTo>
                          <a:pt x="10" y="24"/>
                        </a:lnTo>
                        <a:lnTo>
                          <a:pt x="14" y="24"/>
                        </a:lnTo>
                        <a:lnTo>
                          <a:pt x="17" y="24"/>
                        </a:lnTo>
                        <a:lnTo>
                          <a:pt x="20" y="23"/>
                        </a:lnTo>
                        <a:lnTo>
                          <a:pt x="21" y="22"/>
                        </a:lnTo>
                        <a:lnTo>
                          <a:pt x="24" y="21"/>
                        </a:lnTo>
                        <a:lnTo>
                          <a:pt x="26" y="19"/>
                        </a:lnTo>
                        <a:lnTo>
                          <a:pt x="27" y="17"/>
                        </a:lnTo>
                        <a:lnTo>
                          <a:pt x="27" y="15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9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2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545880" y="381816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1" y="21"/>
                        </a:lnTo>
                        <a:lnTo>
                          <a:pt x="4" y="22"/>
                        </a:lnTo>
                        <a:lnTo>
                          <a:pt x="6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1" y="24"/>
                        </a:lnTo>
                        <a:lnTo>
                          <a:pt x="24" y="22"/>
                        </a:lnTo>
                        <a:lnTo>
                          <a:pt x="26" y="21"/>
                        </a:lnTo>
                        <a:lnTo>
                          <a:pt x="26" y="18"/>
                        </a:lnTo>
                        <a:lnTo>
                          <a:pt x="27" y="16"/>
                        </a:lnTo>
                        <a:lnTo>
                          <a:pt x="27" y="15"/>
                        </a:lnTo>
                        <a:lnTo>
                          <a:pt x="27" y="12"/>
                        </a:lnTo>
                        <a:lnTo>
                          <a:pt x="27" y="9"/>
                        </a:lnTo>
                        <a:lnTo>
                          <a:pt x="26" y="8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1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578280" y="397116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1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1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3" y="24"/>
                        </a:lnTo>
                        <a:lnTo>
                          <a:pt x="24" y="22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1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1"/>
                        </a:lnTo>
                        <a:lnTo>
                          <a:pt x="19" y="1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6603840" y="4118760"/>
                    <a:ext cx="23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1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1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8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3" y="24"/>
                        </a:lnTo>
                        <a:lnTo>
                          <a:pt x="24" y="22"/>
                        </a:lnTo>
                        <a:lnTo>
                          <a:pt x="25" y="20"/>
                        </a:lnTo>
                        <a:lnTo>
                          <a:pt x="27" y="17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0"/>
                        </a:lnTo>
                        <a:lnTo>
                          <a:pt x="27" y="9"/>
                        </a:lnTo>
                        <a:lnTo>
                          <a:pt x="27" y="7"/>
                        </a:lnTo>
                        <a:lnTo>
                          <a:pt x="25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1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631200" y="4268520"/>
                    <a:ext cx="205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2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2" y="19"/>
                        </a:lnTo>
                        <a:lnTo>
                          <a:pt x="4" y="21"/>
                        </a:lnTo>
                        <a:lnTo>
                          <a:pt x="7" y="23"/>
                        </a:lnTo>
                        <a:lnTo>
                          <a:pt x="8" y="23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2" y="22"/>
                        </a:lnTo>
                        <a:lnTo>
                          <a:pt x="24" y="21"/>
                        </a:lnTo>
                        <a:lnTo>
                          <a:pt x="25" y="19"/>
                        </a:lnTo>
                        <a:lnTo>
                          <a:pt x="27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9"/>
                        </a:lnTo>
                        <a:lnTo>
                          <a:pt x="27" y="6"/>
                        </a:lnTo>
                        <a:lnTo>
                          <a:pt x="25" y="5"/>
                        </a:lnTo>
                        <a:lnTo>
                          <a:pt x="24" y="4"/>
                        </a:lnTo>
                        <a:lnTo>
                          <a:pt x="22" y="3"/>
                        </a:lnTo>
                        <a:lnTo>
                          <a:pt x="20" y="1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6660000" y="443196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9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8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1" y="24"/>
                        </a:lnTo>
                        <a:lnTo>
                          <a:pt x="24" y="22"/>
                        </a:lnTo>
                        <a:lnTo>
                          <a:pt x="25" y="20"/>
                        </a:lnTo>
                        <a:lnTo>
                          <a:pt x="25" y="19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7" y="9"/>
                        </a:lnTo>
                        <a:lnTo>
                          <a:pt x="25" y="8"/>
                        </a:lnTo>
                        <a:lnTo>
                          <a:pt x="25" y="6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6684480" y="457956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5" y="0"/>
                        </a:moveTo>
                        <a:lnTo>
                          <a:pt x="10" y="0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5" y="4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2" y="19"/>
                        </a:lnTo>
                        <a:lnTo>
                          <a:pt x="3" y="21"/>
                        </a:lnTo>
                        <a:lnTo>
                          <a:pt x="5" y="22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2" y="24"/>
                        </a:lnTo>
                        <a:lnTo>
                          <a:pt x="25" y="22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3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6716880" y="4740480"/>
                    <a:ext cx="223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3" y="21"/>
                        </a:lnTo>
                        <a:lnTo>
                          <a:pt x="5" y="23"/>
                        </a:lnTo>
                        <a:lnTo>
                          <a:pt x="8" y="23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5" y="25"/>
                        </a:lnTo>
                        <a:lnTo>
                          <a:pt x="18" y="23"/>
                        </a:lnTo>
                        <a:lnTo>
                          <a:pt x="21" y="22"/>
                        </a:lnTo>
                        <a:lnTo>
                          <a:pt x="23" y="21"/>
                        </a:lnTo>
                        <a:lnTo>
                          <a:pt x="24" y="19"/>
                        </a:lnTo>
                        <a:lnTo>
                          <a:pt x="25" y="17"/>
                        </a:lnTo>
                        <a:lnTo>
                          <a:pt x="27" y="14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5" y="8"/>
                        </a:lnTo>
                        <a:lnTo>
                          <a:pt x="25" y="6"/>
                        </a:lnTo>
                        <a:lnTo>
                          <a:pt x="24" y="5"/>
                        </a:lnTo>
                        <a:lnTo>
                          <a:pt x="23" y="4"/>
                        </a:lnTo>
                        <a:lnTo>
                          <a:pt x="21" y="1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58" name=""/>
            <p:cNvGrpSpPr/>
            <p:nvPr/>
          </p:nvGrpSpPr>
          <p:grpSpPr>
            <a:xfrm>
              <a:off x="4696560" y="1913400"/>
              <a:ext cx="140040" cy="91800"/>
              <a:chOff x="4696560" y="1913400"/>
              <a:chExt cx="140040" cy="91800"/>
            </a:xfrm>
          </p:grpSpPr>
          <p:sp>
            <p:nvSpPr>
              <p:cNvPr id="1059" name=""/>
              <p:cNvSpPr/>
              <p:nvPr/>
            </p:nvSpPr>
            <p:spPr>
              <a:xfrm>
                <a:off x="4696560" y="1913400"/>
                <a:ext cx="140040" cy="91800"/>
              </a:xfrm>
              <a:custGeom>
                <a:avLst/>
                <a:gdLst/>
                <a:ahLst/>
                <a:rect l="l" t="t" r="r" b="b"/>
                <a:pathLst>
                  <a:path w="174" h="71">
                    <a:moveTo>
                      <a:pt x="154" y="0"/>
                    </a:moveTo>
                    <a:lnTo>
                      <a:pt x="0" y="71"/>
                    </a:lnTo>
                    <a:lnTo>
                      <a:pt x="174" y="71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0" name=""/>
              <p:cNvGrpSpPr/>
              <p:nvPr/>
            </p:nvGrpSpPr>
            <p:grpSpPr>
              <a:xfrm>
                <a:off x="4722480" y="1929240"/>
                <a:ext cx="91080" cy="67320"/>
                <a:chOff x="4722480" y="1929240"/>
                <a:chExt cx="91080" cy="6732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4812120" y="192924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797720" y="193680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85120" y="19468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772160" y="195516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761000" y="196308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748040" y="19735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735080" y="198144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722480" y="19944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9" name=""/>
            <p:cNvGrpSpPr/>
            <p:nvPr/>
          </p:nvGrpSpPr>
          <p:grpSpPr>
            <a:xfrm>
              <a:off x="6688080" y="4895640"/>
              <a:ext cx="2015280" cy="970560"/>
              <a:chOff x="6688080" y="4895640"/>
              <a:chExt cx="2015280" cy="97056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6688080" y="4895640"/>
                <a:ext cx="2015280" cy="970560"/>
                <a:chOff x="6688080" y="4895640"/>
                <a:chExt cx="2015280" cy="970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688080" y="4895640"/>
                  <a:ext cx="2015280" cy="970560"/>
                </a:xfrm>
                <a:custGeom>
                  <a:avLst/>
                  <a:gdLst/>
                  <a:ahLst/>
                  <a:rect l="l" t="t" r="r" b="b"/>
                  <a:pathLst>
                    <a:path w="2500" h="736">
                      <a:moveTo>
                        <a:pt x="0" y="0"/>
                      </a:moveTo>
                      <a:lnTo>
                        <a:pt x="1569" y="0"/>
                      </a:lnTo>
                      <a:lnTo>
                        <a:pt x="2500" y="736"/>
                      </a:lnTo>
                      <a:lnTo>
                        <a:pt x="513" y="7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2" name=""/>
                <p:cNvGrpSpPr/>
                <p:nvPr/>
              </p:nvGrpSpPr>
              <p:grpSpPr>
                <a:xfrm>
                  <a:off x="6736680" y="5011560"/>
                  <a:ext cx="1852200" cy="708840"/>
                  <a:chOff x="6736680" y="5011560"/>
                  <a:chExt cx="1852200" cy="70884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6736680" y="5011560"/>
                    <a:ext cx="139752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33" h="90">
                        <a:moveTo>
                          <a:pt x="0" y="0"/>
                        </a:moveTo>
                        <a:lnTo>
                          <a:pt x="1618" y="0"/>
                        </a:lnTo>
                        <a:lnTo>
                          <a:pt x="1733" y="90"/>
                        </a:lnTo>
                        <a:lnTo>
                          <a:pt x="66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6978240" y="5572800"/>
                    <a:ext cx="16106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8" h="112">
                        <a:moveTo>
                          <a:pt x="0" y="0"/>
                        </a:moveTo>
                        <a:lnTo>
                          <a:pt x="1864" y="0"/>
                        </a:lnTo>
                        <a:lnTo>
                          <a:pt x="1998" y="112"/>
                        </a:lnTo>
                        <a:lnTo>
                          <a:pt x="77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6850800" y="5277960"/>
                    <a:ext cx="15105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" h="112">
                        <a:moveTo>
                          <a:pt x="0" y="0"/>
                        </a:moveTo>
                        <a:lnTo>
                          <a:pt x="1734" y="0"/>
                        </a:lnTo>
                        <a:lnTo>
                          <a:pt x="1874" y="112"/>
                        </a:lnTo>
                        <a:lnTo>
                          <a:pt x="79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6" name=""/>
              <p:cNvGrpSpPr/>
              <p:nvPr/>
            </p:nvGrpSpPr>
            <p:grpSpPr>
              <a:xfrm>
                <a:off x="6757200" y="4940280"/>
                <a:ext cx="1850040" cy="867240"/>
                <a:chOff x="6757200" y="4940280"/>
                <a:chExt cx="1850040" cy="867240"/>
              </a:xfrm>
            </p:grpSpPr>
            <p:grpSp>
              <p:nvGrpSpPr>
                <p:cNvPr id="1077" name=""/>
                <p:cNvGrpSpPr/>
                <p:nvPr/>
              </p:nvGrpSpPr>
              <p:grpSpPr>
                <a:xfrm>
                  <a:off x="6757200" y="4950720"/>
                  <a:ext cx="368640" cy="856440"/>
                  <a:chOff x="6757200" y="4950720"/>
                  <a:chExt cx="368640" cy="85644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>
                    <a:off x="6757200" y="495072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9" y="1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2" y="24"/>
                        </a:lnTo>
                        <a:lnTo>
                          <a:pt x="24" y="22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6" y="8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0" y="1"/>
                        </a:lnTo>
                        <a:lnTo>
                          <a:pt x="17" y="1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6808680" y="508752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4" y="22"/>
                        </a:lnTo>
                        <a:lnTo>
                          <a:pt x="6" y="24"/>
                        </a:lnTo>
                        <a:lnTo>
                          <a:pt x="8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6" y="25"/>
                        </a:lnTo>
                        <a:lnTo>
                          <a:pt x="20" y="25"/>
                        </a:lnTo>
                        <a:lnTo>
                          <a:pt x="21" y="24"/>
                        </a:lnTo>
                        <a:lnTo>
                          <a:pt x="23" y="22"/>
                        </a:lnTo>
                        <a:lnTo>
                          <a:pt x="26" y="20"/>
                        </a:lnTo>
                        <a:lnTo>
                          <a:pt x="26" y="19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7" y="9"/>
                        </a:lnTo>
                        <a:lnTo>
                          <a:pt x="26" y="8"/>
                        </a:lnTo>
                        <a:lnTo>
                          <a:pt x="26" y="6"/>
                        </a:lnTo>
                        <a:lnTo>
                          <a:pt x="23" y="4"/>
                        </a:lnTo>
                        <a:lnTo>
                          <a:pt x="21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6869880" y="522180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1"/>
                        </a:lnTo>
                        <a:lnTo>
                          <a:pt x="6" y="3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3" y="22"/>
                        </a:lnTo>
                        <a:lnTo>
                          <a:pt x="6" y="24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6" y="25"/>
                        </a:lnTo>
                        <a:lnTo>
                          <a:pt x="20" y="24"/>
                        </a:lnTo>
                        <a:lnTo>
                          <a:pt x="22" y="24"/>
                        </a:lnTo>
                        <a:lnTo>
                          <a:pt x="23" y="22"/>
                        </a:lnTo>
                        <a:lnTo>
                          <a:pt x="26" y="20"/>
                        </a:lnTo>
                        <a:lnTo>
                          <a:pt x="26" y="17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1"/>
                        </a:lnTo>
                        <a:lnTo>
                          <a:pt x="28" y="9"/>
                        </a:lnTo>
                        <a:lnTo>
                          <a:pt x="26" y="7"/>
                        </a:lnTo>
                        <a:lnTo>
                          <a:pt x="26" y="5"/>
                        </a:lnTo>
                        <a:lnTo>
                          <a:pt x="23" y="4"/>
                        </a:lnTo>
                        <a:lnTo>
                          <a:pt x="22" y="3"/>
                        </a:lnTo>
                        <a:lnTo>
                          <a:pt x="20" y="1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6929640" y="5361840"/>
                    <a:ext cx="205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5" y="0"/>
                        </a:moveTo>
                        <a:lnTo>
                          <a:pt x="12" y="0"/>
                        </a:lnTo>
                        <a:lnTo>
                          <a:pt x="9" y="0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3" y="19"/>
                        </a:lnTo>
                        <a:lnTo>
                          <a:pt x="5" y="21"/>
                        </a:lnTo>
                        <a:lnTo>
                          <a:pt x="7" y="23"/>
                        </a:lnTo>
                        <a:lnTo>
                          <a:pt x="9" y="23"/>
                        </a:lnTo>
                        <a:lnTo>
                          <a:pt x="12" y="25"/>
                        </a:lnTo>
                        <a:lnTo>
                          <a:pt x="15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3" y="22"/>
                        </a:lnTo>
                        <a:lnTo>
                          <a:pt x="25" y="21"/>
                        </a:lnTo>
                        <a:lnTo>
                          <a:pt x="26" y="19"/>
                        </a:lnTo>
                        <a:lnTo>
                          <a:pt x="27" y="17"/>
                        </a:lnTo>
                        <a:lnTo>
                          <a:pt x="27" y="14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8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989040" y="549864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1"/>
                        </a:lnTo>
                        <a:lnTo>
                          <a:pt x="6" y="2"/>
                        </a:lnTo>
                        <a:lnTo>
                          <a:pt x="5" y="4"/>
                        </a:lnTo>
                        <a:lnTo>
                          <a:pt x="2" y="5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2" y="18"/>
                        </a:lnTo>
                        <a:lnTo>
                          <a:pt x="2" y="21"/>
                        </a:lnTo>
                        <a:lnTo>
                          <a:pt x="5" y="22"/>
                        </a:lnTo>
                        <a:lnTo>
                          <a:pt x="6" y="23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15" y="25"/>
                        </a:lnTo>
                        <a:lnTo>
                          <a:pt x="16" y="25"/>
                        </a:lnTo>
                        <a:lnTo>
                          <a:pt x="20" y="23"/>
                        </a:lnTo>
                        <a:lnTo>
                          <a:pt x="22" y="23"/>
                        </a:lnTo>
                        <a:lnTo>
                          <a:pt x="23" y="22"/>
                        </a:lnTo>
                        <a:lnTo>
                          <a:pt x="26" y="19"/>
                        </a:lnTo>
                        <a:lnTo>
                          <a:pt x="26" y="17"/>
                        </a:lnTo>
                        <a:lnTo>
                          <a:pt x="28" y="15"/>
                        </a:lnTo>
                        <a:lnTo>
                          <a:pt x="28" y="13"/>
                        </a:lnTo>
                        <a:lnTo>
                          <a:pt x="28" y="10"/>
                        </a:lnTo>
                        <a:lnTo>
                          <a:pt x="28" y="9"/>
                        </a:lnTo>
                        <a:lnTo>
                          <a:pt x="26" y="6"/>
                        </a:lnTo>
                        <a:lnTo>
                          <a:pt x="26" y="5"/>
                        </a:lnTo>
                        <a:lnTo>
                          <a:pt x="23" y="4"/>
                        </a:lnTo>
                        <a:lnTo>
                          <a:pt x="22" y="2"/>
                        </a:lnTo>
                        <a:lnTo>
                          <a:pt x="20" y="1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7042320" y="563544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1" y="18"/>
                        </a:lnTo>
                        <a:lnTo>
                          <a:pt x="2" y="19"/>
                        </a:lnTo>
                        <a:lnTo>
                          <a:pt x="4" y="21"/>
                        </a:lnTo>
                        <a:lnTo>
                          <a:pt x="7" y="22"/>
                        </a:lnTo>
                        <a:lnTo>
                          <a:pt x="8" y="23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3"/>
                        </a:lnTo>
                        <a:lnTo>
                          <a:pt x="21" y="22"/>
                        </a:lnTo>
                        <a:lnTo>
                          <a:pt x="24" y="21"/>
                        </a:lnTo>
                        <a:lnTo>
                          <a:pt x="25" y="19"/>
                        </a:lnTo>
                        <a:lnTo>
                          <a:pt x="25" y="17"/>
                        </a:lnTo>
                        <a:lnTo>
                          <a:pt x="27" y="14"/>
                        </a:lnTo>
                        <a:lnTo>
                          <a:pt x="27" y="13"/>
                        </a:lnTo>
                        <a:lnTo>
                          <a:pt x="27" y="10"/>
                        </a:lnTo>
                        <a:lnTo>
                          <a:pt x="27" y="8"/>
                        </a:lnTo>
                        <a:lnTo>
                          <a:pt x="25" y="6"/>
                        </a:lnTo>
                        <a:lnTo>
                          <a:pt x="25" y="4"/>
                        </a:lnTo>
                        <a:lnTo>
                          <a:pt x="24" y="3"/>
                        </a:lnTo>
                        <a:lnTo>
                          <a:pt x="22" y="1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7105320" y="577548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7" y="2"/>
                        </a:lnTo>
                        <a:lnTo>
                          <a:pt x="4" y="3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2" y="23"/>
                        </a:lnTo>
                        <a:lnTo>
                          <a:pt x="5" y="24"/>
                        </a:lnTo>
                        <a:lnTo>
                          <a:pt x="8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5" y="25"/>
                        </a:lnTo>
                        <a:lnTo>
                          <a:pt x="20" y="24"/>
                        </a:lnTo>
                        <a:lnTo>
                          <a:pt x="21" y="24"/>
                        </a:lnTo>
                        <a:lnTo>
                          <a:pt x="22" y="23"/>
                        </a:lnTo>
                        <a:lnTo>
                          <a:pt x="24" y="20"/>
                        </a:lnTo>
                        <a:lnTo>
                          <a:pt x="25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5" y="8"/>
                        </a:lnTo>
                        <a:lnTo>
                          <a:pt x="24" y="6"/>
                        </a:lnTo>
                        <a:lnTo>
                          <a:pt x="22" y="4"/>
                        </a:lnTo>
                        <a:lnTo>
                          <a:pt x="21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5" name=""/>
                <p:cNvGrpSpPr/>
                <p:nvPr/>
              </p:nvGrpSpPr>
              <p:grpSpPr>
                <a:xfrm>
                  <a:off x="7941960" y="4940280"/>
                  <a:ext cx="665280" cy="867240"/>
                  <a:chOff x="7941960" y="4940280"/>
                  <a:chExt cx="665280" cy="86724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7941960" y="49402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2" y="20"/>
                        </a:lnTo>
                        <a:lnTo>
                          <a:pt x="4" y="21"/>
                        </a:lnTo>
                        <a:lnTo>
                          <a:pt x="7" y="24"/>
                        </a:lnTo>
                        <a:lnTo>
                          <a:pt x="8" y="24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2" y="23"/>
                        </a:lnTo>
                        <a:lnTo>
                          <a:pt x="24" y="21"/>
                        </a:lnTo>
                        <a:lnTo>
                          <a:pt x="25" y="20"/>
                        </a:lnTo>
                        <a:lnTo>
                          <a:pt x="27" y="17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1"/>
                        </a:lnTo>
                        <a:lnTo>
                          <a:pt x="27" y="9"/>
                        </a:lnTo>
                        <a:lnTo>
                          <a:pt x="27" y="7"/>
                        </a:lnTo>
                        <a:lnTo>
                          <a:pt x="25" y="6"/>
                        </a:lnTo>
                        <a:lnTo>
                          <a:pt x="24" y="4"/>
                        </a:lnTo>
                        <a:lnTo>
                          <a:pt x="22" y="3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8044920" y="5063760"/>
                    <a:ext cx="208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1" y="19"/>
                        </a:lnTo>
                        <a:lnTo>
                          <a:pt x="3" y="21"/>
                        </a:lnTo>
                        <a:lnTo>
                          <a:pt x="4" y="23"/>
                        </a:lnTo>
                        <a:lnTo>
                          <a:pt x="7" y="24"/>
                        </a:lnTo>
                        <a:lnTo>
                          <a:pt x="8" y="25"/>
                        </a:lnTo>
                        <a:lnTo>
                          <a:pt x="10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1" y="24"/>
                        </a:lnTo>
                        <a:lnTo>
                          <a:pt x="24" y="23"/>
                        </a:lnTo>
                        <a:lnTo>
                          <a:pt x="25" y="21"/>
                        </a:lnTo>
                        <a:lnTo>
                          <a:pt x="27" y="19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7" y="10"/>
                        </a:lnTo>
                        <a:lnTo>
                          <a:pt x="27" y="8"/>
                        </a:lnTo>
                        <a:lnTo>
                          <a:pt x="25" y="6"/>
                        </a:lnTo>
                        <a:lnTo>
                          <a:pt x="24" y="4"/>
                        </a:lnTo>
                        <a:lnTo>
                          <a:pt x="22" y="3"/>
                        </a:lnTo>
                        <a:lnTo>
                          <a:pt x="20" y="2"/>
                        </a:lnTo>
                        <a:lnTo>
                          <a:pt x="17" y="2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8141760" y="5201280"/>
                    <a:ext cx="22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1" y="24"/>
                        </a:lnTo>
                        <a:lnTo>
                          <a:pt x="24" y="22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1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0" y="2"/>
                        </a:lnTo>
                        <a:lnTo>
                          <a:pt x="19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8265960" y="534888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4" y="22"/>
                        </a:lnTo>
                        <a:lnTo>
                          <a:pt x="7" y="24"/>
                        </a:lnTo>
                        <a:lnTo>
                          <a:pt x="10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3" y="24"/>
                        </a:lnTo>
                        <a:lnTo>
                          <a:pt x="24" y="22"/>
                        </a:lnTo>
                        <a:lnTo>
                          <a:pt x="25" y="20"/>
                        </a:lnTo>
                        <a:lnTo>
                          <a:pt x="27" y="17"/>
                        </a:lnTo>
                        <a:lnTo>
                          <a:pt x="28" y="16"/>
                        </a:lnTo>
                        <a:lnTo>
                          <a:pt x="28" y="13"/>
                        </a:lnTo>
                        <a:lnTo>
                          <a:pt x="28" y="11"/>
                        </a:lnTo>
                        <a:lnTo>
                          <a:pt x="27" y="9"/>
                        </a:lnTo>
                        <a:lnTo>
                          <a:pt x="27" y="7"/>
                        </a:lnTo>
                        <a:lnTo>
                          <a:pt x="25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2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8372520" y="5491080"/>
                    <a:ext cx="2196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4">
                        <a:moveTo>
                          <a:pt x="13" y="0"/>
                        </a:moveTo>
                        <a:lnTo>
                          <a:pt x="10" y="0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2" y="5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3" y="19"/>
                        </a:lnTo>
                        <a:lnTo>
                          <a:pt x="5" y="20"/>
                        </a:lnTo>
                        <a:lnTo>
                          <a:pt x="6" y="23"/>
                        </a:lnTo>
                        <a:lnTo>
                          <a:pt x="9" y="23"/>
                        </a:lnTo>
                        <a:lnTo>
                          <a:pt x="10" y="24"/>
                        </a:lnTo>
                        <a:lnTo>
                          <a:pt x="15" y="24"/>
                        </a:lnTo>
                        <a:lnTo>
                          <a:pt x="18" y="24"/>
                        </a:lnTo>
                        <a:lnTo>
                          <a:pt x="20" y="23"/>
                        </a:lnTo>
                        <a:lnTo>
                          <a:pt x="22" y="22"/>
                        </a:lnTo>
                        <a:lnTo>
                          <a:pt x="25" y="20"/>
                        </a:lnTo>
                        <a:lnTo>
                          <a:pt x="26" y="19"/>
                        </a:lnTo>
                        <a:lnTo>
                          <a:pt x="26" y="16"/>
                        </a:lnTo>
                        <a:lnTo>
                          <a:pt x="28" y="15"/>
                        </a:lnTo>
                        <a:lnTo>
                          <a:pt x="28" y="13"/>
                        </a:lnTo>
                        <a:lnTo>
                          <a:pt x="28" y="10"/>
                        </a:lnTo>
                        <a:lnTo>
                          <a:pt x="28" y="9"/>
                        </a:lnTo>
                        <a:lnTo>
                          <a:pt x="26" y="6"/>
                        </a:lnTo>
                        <a:lnTo>
                          <a:pt x="26" y="5"/>
                        </a:lnTo>
                        <a:lnTo>
                          <a:pt x="25" y="3"/>
                        </a:lnTo>
                        <a:lnTo>
                          <a:pt x="22" y="2"/>
                        </a:lnTo>
                        <a:lnTo>
                          <a:pt x="20" y="1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8478720" y="5630400"/>
                    <a:ext cx="20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8" y="1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1" y="18"/>
                        </a:lnTo>
                        <a:lnTo>
                          <a:pt x="3" y="21"/>
                        </a:lnTo>
                        <a:lnTo>
                          <a:pt x="4" y="22"/>
                        </a:lnTo>
                        <a:lnTo>
                          <a:pt x="7" y="23"/>
                        </a:lnTo>
                        <a:lnTo>
                          <a:pt x="8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5"/>
                        </a:lnTo>
                        <a:lnTo>
                          <a:pt x="21" y="23"/>
                        </a:lnTo>
                        <a:lnTo>
                          <a:pt x="24" y="22"/>
                        </a:lnTo>
                        <a:lnTo>
                          <a:pt x="25" y="20"/>
                        </a:lnTo>
                        <a:lnTo>
                          <a:pt x="27" y="18"/>
                        </a:lnTo>
                        <a:lnTo>
                          <a:pt x="27" y="16"/>
                        </a:lnTo>
                        <a:lnTo>
                          <a:pt x="27" y="13"/>
                        </a:lnTo>
                        <a:lnTo>
                          <a:pt x="27" y="12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5" y="5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0" y="1"/>
                        </a:lnTo>
                        <a:lnTo>
                          <a:pt x="18" y="1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8585280" y="577584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">
                        <a:moveTo>
                          <a:pt x="14" y="0"/>
                        </a:move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3" y="21"/>
                        </a:lnTo>
                        <a:lnTo>
                          <a:pt x="4" y="23"/>
                        </a:lnTo>
                        <a:lnTo>
                          <a:pt x="7" y="24"/>
                        </a:lnTo>
                        <a:lnTo>
                          <a:pt x="9" y="25"/>
                        </a:lnTo>
                        <a:lnTo>
                          <a:pt x="11" y="25"/>
                        </a:lnTo>
                        <a:lnTo>
                          <a:pt x="14" y="25"/>
                        </a:lnTo>
                        <a:lnTo>
                          <a:pt x="17" y="25"/>
                        </a:lnTo>
                        <a:lnTo>
                          <a:pt x="20" y="24"/>
                        </a:lnTo>
                        <a:lnTo>
                          <a:pt x="23" y="24"/>
                        </a:lnTo>
                        <a:lnTo>
                          <a:pt x="24" y="23"/>
                        </a:lnTo>
                        <a:lnTo>
                          <a:pt x="26" y="20"/>
                        </a:lnTo>
                        <a:lnTo>
                          <a:pt x="27" y="17"/>
                        </a:lnTo>
                        <a:lnTo>
                          <a:pt x="29" y="16"/>
                        </a:lnTo>
                        <a:lnTo>
                          <a:pt x="29" y="13"/>
                        </a:lnTo>
                        <a:lnTo>
                          <a:pt x="29" y="11"/>
                        </a:lnTo>
                        <a:lnTo>
                          <a:pt x="27" y="9"/>
                        </a:lnTo>
                        <a:lnTo>
                          <a:pt x="27" y="8"/>
                        </a:lnTo>
                        <a:lnTo>
                          <a:pt x="26" y="6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1" y="2"/>
                        </a:lnTo>
                        <a:lnTo>
                          <a:pt x="19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93" name=""/>
          <p:cNvSpPr/>
          <p:nvPr/>
        </p:nvSpPr>
        <p:spPr>
          <a:xfrm>
            <a:off x="533520" y="1600200"/>
            <a:ext cx="401616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ffcc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traordinary i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ffcc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scontinued seg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ffcc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counting ch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ffcc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structuring char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fcc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cial ite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traordinary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28600" y="1600200"/>
            <a:ext cx="8686800" cy="44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Unusual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Infrequent in oc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Uninsured losses from a major casualty (earthquake,hurricane, tornado), losses from expropriation, and gains and losses from early retirement of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Classified separately in income statement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80880" y="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362320" y="68580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traordinary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281916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772400" cy="2819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traordinary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8600" y="1600200"/>
            <a:ext cx="8686800" cy="423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Extraordinary items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Are non-re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Excluded when computing permanent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Included when computing economic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Can reveal risk exp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Can impact computation of sustainable earning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Often Excluded when making comparisons over time or across firms</a:t>
            </a: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304920" y="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362320" y="68580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scontinue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289548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23880"/>
            <a:ext cx="8534160" cy="493416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Illustration Fac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Net (free) cash flow = $(88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cash flow = $12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Economic income = $37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($12,000 rental income + $25,000 holding gai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Accounting income = $11,500 ($12,000 renta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income - $500 depreciation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*Condo’s useful life is 50 years and its salvage value is $75,000—yearly straight-line depreciation is 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scontinue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28600" y="1600200"/>
            <a:ext cx="8686800" cy="43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Accounting is two-f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Income statements for the current and prior two years are restated after excluding the effects of discontinued ope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Gains or losses from the discontinued operations are reported separately, net of tax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510094"/>
                </a:solidFill>
                <a:latin typeface="Arial"/>
                <a:ea typeface="Arial"/>
              </a:rPr>
              <a:t>*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Reported in two categories: (i) operating income or loss from discontinued operations until the measurement date, and (ii) gains and losses on disposal</a:t>
            </a:r>
            <a:r>
              <a:rPr b="1" lang="en-US" sz="2400" spc="-1" strike="noStrike">
                <a:solidFill>
                  <a:srgbClr val="510094"/>
                </a:solidFill>
                <a:latin typeface="Garamond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scontinue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" y="1600200"/>
            <a:ext cx="8686800" cy="481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10094"/>
                </a:solidFill>
                <a:latin typeface="Arial Black"/>
                <a:ea typeface="Arial"/>
              </a:rPr>
              <a:t>For analysis of discontinued operati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Adjust current and past income to remove effects of discontinue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Companies disclose this info for the current and past two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For earlier ye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Look for restated summary info or other voluntary disclo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Take care when doing inter-tempor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Adjust assets and liabilities to remove discontinue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Retain cumulative gain or loss from discontinued operations in equity</a:t>
            </a:r>
            <a:r>
              <a:rPr b="1" lang="en-US" sz="2400" spc="-1" strike="noStrike">
                <a:solidFill>
                  <a:srgbClr val="510094"/>
                </a:solidFill>
                <a:latin typeface="Arial Blac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80880" y="1828800"/>
            <a:ext cx="4572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Accounting changes are of 3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Accounting principl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Accounting estim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0094"/>
                </a:solidFill>
                <a:latin typeface="Arial"/>
                <a:ea typeface="Arial"/>
              </a:rPr>
              <a:t>Reporting entity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5867280" y="3656160"/>
            <a:ext cx="2830680" cy="210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0880" y="1600200"/>
            <a:ext cx="45720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Accounting Principle Change</a:t>
            </a: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—involves switch from one principle to anoth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Disclosure include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Nature of and justification for chan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Effect of change on current income and earnings per sha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312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10094"/>
                </a:solidFill>
                <a:latin typeface="Arial"/>
                <a:ea typeface="Arial"/>
              </a:rPr>
              <a:t>Pro forma effects of retroactive application of change on income and EPS for income statement year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830680" cy="210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0880" y="1676520"/>
            <a:ext cx="45720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10094"/>
                </a:solidFill>
                <a:latin typeface="Arial"/>
                <a:ea typeface="Times New Roman"/>
              </a:rPr>
              <a:t>Accounting Estimate Change</a:t>
            </a:r>
            <a:r>
              <a:rPr b="1" lang="en-US" sz="2300" spc="-1" strike="noStrike">
                <a:solidFill>
                  <a:srgbClr val="510094"/>
                </a:solidFill>
                <a:latin typeface="Arial Black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Times New Roman"/>
              </a:rPr>
              <a:t>involves change in estimate underlying ac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10094"/>
                </a:solidFill>
                <a:latin typeface="Arial"/>
                <a:ea typeface="Times New Roman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Times New Roman"/>
              </a:rPr>
              <a:t>Prospective application—a change is accounted for in current and future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Times New Roman"/>
              </a:rPr>
              <a:t>Disclose effects on current income and E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830680" cy="2106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80880" y="1676520"/>
            <a:ext cx="4572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Reporting Entity Change</a:t>
            </a:r>
            <a:r>
              <a:rPr b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—involves initial publication of consolidated statements, or change in consolidation policy, or a pooling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10094"/>
                </a:solidFill>
                <a:latin typeface="Arial"/>
                <a:ea typeface="Arial"/>
              </a:rPr>
              <a:t>Restate all prior periods’ financial statements and disclosing the nature of change</a:t>
            </a:r>
            <a:r>
              <a:rPr b="1" i="1" lang="en-US" sz="2400" spc="-1" strike="noStrike">
                <a:solidFill>
                  <a:srgbClr val="510094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830680" cy="210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62320" y="84312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unting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0880" y="1523880"/>
            <a:ext cx="457200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 Black"/>
                <a:ea typeface="Arial"/>
              </a:rPr>
              <a:t>Analyzing Accounting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Are cosmetic and yield no cash 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Can better reflect economic re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Can reflect earnings management (or even manipu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Impact comparative analysis (apples-to-ap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Effect both economic and permanen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For permanent income, use the new method and ignore the cumulative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10094"/>
                </a:solidFill>
                <a:latin typeface="Arial"/>
                <a:ea typeface="Arial"/>
              </a:rPr>
              <a:t>For economic income, evaluate the change to assess whether it reflects reality</a:t>
            </a:r>
            <a:r>
              <a:rPr b="1" i="1" lang="en-US" sz="1800" spc="-1" strike="noStrike">
                <a:solidFill>
                  <a:srgbClr val="510094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830680" cy="210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" y="1488960"/>
            <a:ext cx="8610480" cy="5132160"/>
          </a:xfrm>
          <a:prstGeom prst="rect">
            <a:avLst/>
          </a:prstGeom>
          <a:solidFill>
            <a:srgbClr val="ffc5cf"/>
          </a:solidFill>
          <a:ln w="38160">
            <a:solidFill>
              <a:srgbClr val="996633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Special Item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--transactions and events that are unusual or in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allenges f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Often little GAAP guid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conomic implications are 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iscretionary nature serves earnings management a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wo majo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sset impairments (write-off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estructuring char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304920" y="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362320" y="685800"/>
            <a:ext cx="4267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304920" y="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362320" y="685800"/>
            <a:ext cx="4267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144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41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523880"/>
            <a:ext cx="8534160" cy="430848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Economic Incom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Two measures reflect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the economic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economic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permanent inc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2120" y="3886200"/>
            <a:ext cx="1752120" cy="1803240"/>
            <a:chOff x="762120" y="3886200"/>
            <a:chExt cx="1752120" cy="1803240"/>
          </a:xfrm>
        </p:grpSpPr>
        <p:sp>
          <p:nvSpPr>
            <p:cNvPr id="105" name=""/>
            <p:cNvSpPr/>
            <p:nvPr/>
          </p:nvSpPr>
          <p:spPr>
            <a:xfrm>
              <a:off x="1083240" y="4943160"/>
              <a:ext cx="1431000" cy="74628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4440" y="4083840"/>
              <a:ext cx="1165680" cy="147744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3400" y="4584240"/>
              <a:ext cx="264240" cy="52776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9560" y="4843800"/>
              <a:ext cx="656280" cy="74052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6520" y="3900960"/>
              <a:ext cx="769680" cy="46116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4880" y="4294440"/>
              <a:ext cx="820080" cy="44028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39960" y="4502520"/>
              <a:ext cx="616680" cy="58284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15800" y="4005720"/>
              <a:ext cx="747360" cy="21024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05000" y="4769280"/>
              <a:ext cx="118080" cy="22392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8960" y="4993560"/>
              <a:ext cx="192600" cy="13212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66760" y="5138280"/>
              <a:ext cx="1080720" cy="40572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72280" y="4620960"/>
              <a:ext cx="1390320" cy="93384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5200" y="4985640"/>
              <a:ext cx="268920" cy="9648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89520" y="4736880"/>
              <a:ext cx="119880" cy="25632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11840" y="3995280"/>
              <a:ext cx="628200" cy="26676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5400" y="4964760"/>
              <a:ext cx="270000" cy="16092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97680" y="4362120"/>
              <a:ext cx="204840" cy="65304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20720" y="4335480"/>
              <a:ext cx="214920" cy="69552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55440" y="4604760"/>
              <a:ext cx="361080" cy="37008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47880" y="4506840"/>
              <a:ext cx="409320" cy="28188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70880" y="4664880"/>
              <a:ext cx="1025280" cy="48492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7160" y="4456440"/>
              <a:ext cx="608040" cy="31608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400" y="4365720"/>
              <a:ext cx="630360" cy="41508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2960" y="4097880"/>
              <a:ext cx="1268280" cy="51012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2680" y="3897360"/>
              <a:ext cx="1355400" cy="68292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3320" y="4653000"/>
              <a:ext cx="696960" cy="42084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26320" y="4516200"/>
              <a:ext cx="212040" cy="14220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3886200"/>
              <a:ext cx="1393920" cy="58284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6800" y="4275720"/>
              <a:ext cx="859680" cy="51732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8720" y="4335480"/>
              <a:ext cx="719280" cy="31500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19200" y="4216320"/>
              <a:ext cx="503280" cy="78624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5080" y="4817520"/>
              <a:ext cx="130680" cy="18504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85240" y="4021920"/>
              <a:ext cx="412560" cy="58284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7360" y="4496760"/>
              <a:ext cx="1479240" cy="67932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3600" y="4789800"/>
              <a:ext cx="136080" cy="24480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5520" y="4892400"/>
              <a:ext cx="212760" cy="8604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3400" y="4590000"/>
              <a:ext cx="1386360" cy="79920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769280"/>
              <a:ext cx="248760" cy="69084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4880" y="4830480"/>
              <a:ext cx="1488240" cy="79092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6800" y="5217840"/>
              <a:ext cx="752400" cy="26280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27880" y="4964760"/>
              <a:ext cx="344520" cy="17820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18640" y="5072760"/>
              <a:ext cx="298080" cy="4464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01680" y="3987360"/>
              <a:ext cx="828720" cy="24372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16200" y="4487400"/>
              <a:ext cx="428760" cy="20592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6320" y="4440600"/>
              <a:ext cx="763920" cy="63216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4960" y="5003640"/>
              <a:ext cx="134280" cy="7704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"/>
          <p:cNvSpPr/>
          <p:nvPr/>
        </p:nvSpPr>
        <p:spPr>
          <a:xfrm>
            <a:off x="2438280" y="838080"/>
            <a:ext cx="4572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Break-Up One-Time Charges (Special Ite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0" y="446040"/>
          <a:ext cx="9159840" cy="641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6040"/>
                    <a:ext cx="9159840" cy="64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"/>
          <p:cNvSpPr/>
          <p:nvPr/>
        </p:nvSpPr>
        <p:spPr>
          <a:xfrm>
            <a:off x="2362320" y="685800"/>
            <a:ext cx="4572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Break-Up One-Time Charges (Special Ite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28600" y="1488960"/>
            <a:ext cx="8610480" cy="5116320"/>
          </a:xfrm>
          <a:prstGeom prst="rect">
            <a:avLst/>
          </a:prstGeom>
          <a:solidFill>
            <a:srgbClr val="ffc5cf"/>
          </a:solidFill>
          <a:ln w="38160">
            <a:solidFill>
              <a:srgbClr val="996633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Asset Impairme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—when asset fair value is below carrying (book)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ome reasons for impair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line in demand for asset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chnological obsol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Changes in compan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for impair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port at the lower of market o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 disclosure about determination of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 disclosure about probable impair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Flexibility in determining when and how much to write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 plan required for asset dis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WP MathA"/>
                <a:ea typeface="Times New Roman"/>
              </a:rPr>
              <a:t>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Conservative presentation of ass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8600" y="1488960"/>
            <a:ext cx="8610480" cy="4915800"/>
          </a:xfrm>
          <a:prstGeom prst="rect">
            <a:avLst/>
          </a:prstGeom>
          <a:solidFill>
            <a:srgbClr val="ffc5cf"/>
          </a:solidFill>
          <a:ln w="38160">
            <a:solidFill>
              <a:srgbClr val="996633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Restructuring Charg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—costs usually related to major changes in company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xamples of these major changes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xtensive re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Divesting business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Terminating contracts and joint ven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Discontinuing product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Worker retrenc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nagement turn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Write-offs combined with investments in assets, technology or man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for estimated costs of restructur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stablish a provision (liability) for estimated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harge estimated costs to curren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23328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ctual costs involve adjustments against the provision when incur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057400" y="1676520"/>
            <a:ext cx="5105520" cy="4512240"/>
          </a:xfrm>
          <a:prstGeom prst="rect">
            <a:avLst/>
          </a:prstGeom>
          <a:solidFill>
            <a:srgbClr val="ffc5cf"/>
          </a:solidFill>
          <a:ln w="38160">
            <a:solidFill>
              <a:srgbClr val="996633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nalyzing special items is challenging and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hallenges arise from lack of guidance in account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hallenges also arise in understanding the economics of speci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Importance relates to the frequency and impact on past, present, and future in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7848720" y="3809880"/>
            <a:ext cx="1120680" cy="2449440"/>
            <a:chOff x="7848720" y="3809880"/>
            <a:chExt cx="1120680" cy="2449440"/>
          </a:xfrm>
        </p:grpSpPr>
        <p:sp>
          <p:nvSpPr>
            <p:cNvPr id="1180" name=""/>
            <p:cNvSpPr/>
            <p:nvPr/>
          </p:nvSpPr>
          <p:spPr>
            <a:xfrm>
              <a:off x="7851960" y="4628880"/>
              <a:ext cx="1117080" cy="1555560"/>
            </a:xfrm>
            <a:custGeom>
              <a:avLst/>
              <a:gdLst/>
              <a:ahLst/>
              <a:rect l="l" t="t" r="r" b="b"/>
              <a:pathLst>
                <a:path w="8749" h="6480">
                  <a:moveTo>
                    <a:pt x="6888" y="4591"/>
                  </a:moveTo>
                  <a:lnTo>
                    <a:pt x="6608" y="4781"/>
                  </a:lnTo>
                  <a:lnTo>
                    <a:pt x="5243" y="5013"/>
                  </a:lnTo>
                  <a:lnTo>
                    <a:pt x="4405" y="5553"/>
                  </a:lnTo>
                  <a:lnTo>
                    <a:pt x="4063" y="5746"/>
                  </a:lnTo>
                  <a:lnTo>
                    <a:pt x="3693" y="5708"/>
                  </a:lnTo>
                  <a:lnTo>
                    <a:pt x="2886" y="5593"/>
                  </a:lnTo>
                  <a:lnTo>
                    <a:pt x="2575" y="5593"/>
                  </a:lnTo>
                  <a:lnTo>
                    <a:pt x="2544" y="5130"/>
                  </a:lnTo>
                  <a:lnTo>
                    <a:pt x="2699" y="4474"/>
                  </a:lnTo>
                  <a:lnTo>
                    <a:pt x="3040" y="3625"/>
                  </a:lnTo>
                  <a:lnTo>
                    <a:pt x="3102" y="2777"/>
                  </a:lnTo>
                  <a:lnTo>
                    <a:pt x="2669" y="1543"/>
                  </a:lnTo>
                  <a:lnTo>
                    <a:pt x="2328" y="811"/>
                  </a:lnTo>
                  <a:lnTo>
                    <a:pt x="1863" y="115"/>
                  </a:lnTo>
                  <a:lnTo>
                    <a:pt x="1706" y="0"/>
                  </a:lnTo>
                  <a:lnTo>
                    <a:pt x="1490" y="578"/>
                  </a:lnTo>
                  <a:lnTo>
                    <a:pt x="993" y="1080"/>
                  </a:lnTo>
                  <a:lnTo>
                    <a:pt x="404" y="1620"/>
                  </a:lnTo>
                  <a:lnTo>
                    <a:pt x="126" y="2006"/>
                  </a:lnTo>
                  <a:lnTo>
                    <a:pt x="0" y="2276"/>
                  </a:lnTo>
                  <a:lnTo>
                    <a:pt x="373" y="2276"/>
                  </a:lnTo>
                  <a:lnTo>
                    <a:pt x="777" y="2351"/>
                  </a:lnTo>
                  <a:lnTo>
                    <a:pt x="1119" y="2622"/>
                  </a:lnTo>
                  <a:lnTo>
                    <a:pt x="1396" y="3009"/>
                  </a:lnTo>
                  <a:lnTo>
                    <a:pt x="1770" y="3508"/>
                  </a:lnTo>
                  <a:lnTo>
                    <a:pt x="1737" y="3896"/>
                  </a:lnTo>
                  <a:lnTo>
                    <a:pt x="1490" y="4551"/>
                  </a:lnTo>
                  <a:lnTo>
                    <a:pt x="1334" y="5051"/>
                  </a:lnTo>
                  <a:lnTo>
                    <a:pt x="1366" y="5399"/>
                  </a:lnTo>
                  <a:lnTo>
                    <a:pt x="1584" y="5670"/>
                  </a:lnTo>
                  <a:lnTo>
                    <a:pt x="2948" y="6480"/>
                  </a:lnTo>
                  <a:lnTo>
                    <a:pt x="4002" y="6170"/>
                  </a:lnTo>
                  <a:lnTo>
                    <a:pt x="4809" y="6480"/>
                  </a:lnTo>
                  <a:lnTo>
                    <a:pt x="5212" y="6170"/>
                  </a:lnTo>
                  <a:lnTo>
                    <a:pt x="6206" y="5786"/>
                  </a:lnTo>
                  <a:lnTo>
                    <a:pt x="6918" y="5977"/>
                  </a:lnTo>
                  <a:lnTo>
                    <a:pt x="8749" y="5670"/>
                  </a:lnTo>
                  <a:lnTo>
                    <a:pt x="8749" y="5244"/>
                  </a:lnTo>
                  <a:lnTo>
                    <a:pt x="8469" y="5130"/>
                  </a:lnTo>
                  <a:lnTo>
                    <a:pt x="8594" y="5013"/>
                  </a:lnTo>
                  <a:lnTo>
                    <a:pt x="6888" y="459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137800" y="3869280"/>
              <a:ext cx="527040" cy="1084320"/>
            </a:xfrm>
            <a:custGeom>
              <a:avLst/>
              <a:gdLst/>
              <a:ahLst/>
              <a:rect l="l" t="t" r="r" b="b"/>
              <a:pathLst>
                <a:path w="4132" h="4516">
                  <a:moveTo>
                    <a:pt x="1465" y="377"/>
                  </a:moveTo>
                  <a:lnTo>
                    <a:pt x="1201" y="668"/>
                  </a:lnTo>
                  <a:lnTo>
                    <a:pt x="650" y="1065"/>
                  </a:lnTo>
                  <a:lnTo>
                    <a:pt x="553" y="1545"/>
                  </a:lnTo>
                  <a:lnTo>
                    <a:pt x="317" y="1751"/>
                  </a:lnTo>
                  <a:lnTo>
                    <a:pt x="277" y="1854"/>
                  </a:lnTo>
                  <a:lnTo>
                    <a:pt x="13" y="2027"/>
                  </a:lnTo>
                  <a:lnTo>
                    <a:pt x="0" y="2232"/>
                  </a:lnTo>
                  <a:lnTo>
                    <a:pt x="346" y="2301"/>
                  </a:lnTo>
                  <a:lnTo>
                    <a:pt x="303" y="3212"/>
                  </a:lnTo>
                  <a:lnTo>
                    <a:pt x="401" y="3487"/>
                  </a:lnTo>
                  <a:lnTo>
                    <a:pt x="317" y="3744"/>
                  </a:lnTo>
                  <a:lnTo>
                    <a:pt x="317" y="3966"/>
                  </a:lnTo>
                  <a:lnTo>
                    <a:pt x="719" y="4226"/>
                  </a:lnTo>
                  <a:lnTo>
                    <a:pt x="912" y="4516"/>
                  </a:lnTo>
                  <a:lnTo>
                    <a:pt x="1616" y="4499"/>
                  </a:lnTo>
                  <a:lnTo>
                    <a:pt x="3882" y="2387"/>
                  </a:lnTo>
                  <a:lnTo>
                    <a:pt x="4132" y="1666"/>
                  </a:lnTo>
                  <a:lnTo>
                    <a:pt x="3427" y="326"/>
                  </a:lnTo>
                  <a:lnTo>
                    <a:pt x="2917" y="0"/>
                  </a:lnTo>
                  <a:lnTo>
                    <a:pt x="1825" y="118"/>
                  </a:lnTo>
                  <a:lnTo>
                    <a:pt x="1465" y="377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307000" y="3815280"/>
              <a:ext cx="181800" cy="140040"/>
            </a:xfrm>
            <a:custGeom>
              <a:avLst/>
              <a:gdLst/>
              <a:ahLst/>
              <a:rect l="l" t="t" r="r" b="b"/>
              <a:pathLst>
                <a:path w="1424" h="584">
                  <a:moveTo>
                    <a:pt x="126" y="584"/>
                  </a:moveTo>
                  <a:lnTo>
                    <a:pt x="0" y="447"/>
                  </a:lnTo>
                  <a:lnTo>
                    <a:pt x="14" y="241"/>
                  </a:lnTo>
                  <a:lnTo>
                    <a:pt x="180" y="85"/>
                  </a:lnTo>
                  <a:lnTo>
                    <a:pt x="622" y="18"/>
                  </a:lnTo>
                  <a:lnTo>
                    <a:pt x="1093" y="0"/>
                  </a:lnTo>
                  <a:lnTo>
                    <a:pt x="1424" y="171"/>
                  </a:lnTo>
                  <a:lnTo>
                    <a:pt x="263" y="532"/>
                  </a:lnTo>
                  <a:lnTo>
                    <a:pt x="126" y="584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497440" y="3959640"/>
              <a:ext cx="229320" cy="371520"/>
            </a:xfrm>
            <a:custGeom>
              <a:avLst/>
              <a:gdLst/>
              <a:ahLst/>
              <a:rect l="l" t="t" r="r" b="b"/>
              <a:pathLst>
                <a:path w="1796" h="1546">
                  <a:moveTo>
                    <a:pt x="41" y="361"/>
                  </a:moveTo>
                  <a:lnTo>
                    <a:pt x="137" y="240"/>
                  </a:lnTo>
                  <a:lnTo>
                    <a:pt x="483" y="206"/>
                  </a:lnTo>
                  <a:lnTo>
                    <a:pt x="662" y="0"/>
                  </a:lnTo>
                  <a:lnTo>
                    <a:pt x="967" y="103"/>
                  </a:lnTo>
                  <a:lnTo>
                    <a:pt x="1325" y="705"/>
                  </a:lnTo>
                  <a:lnTo>
                    <a:pt x="1603" y="652"/>
                  </a:lnTo>
                  <a:lnTo>
                    <a:pt x="1479" y="739"/>
                  </a:lnTo>
                  <a:lnTo>
                    <a:pt x="1796" y="721"/>
                  </a:lnTo>
                  <a:lnTo>
                    <a:pt x="1438" y="876"/>
                  </a:lnTo>
                  <a:lnTo>
                    <a:pt x="1630" y="876"/>
                  </a:lnTo>
                  <a:lnTo>
                    <a:pt x="1340" y="1100"/>
                  </a:lnTo>
                  <a:lnTo>
                    <a:pt x="1242" y="1289"/>
                  </a:lnTo>
                  <a:lnTo>
                    <a:pt x="483" y="1444"/>
                  </a:lnTo>
                  <a:lnTo>
                    <a:pt x="292" y="1546"/>
                  </a:lnTo>
                  <a:lnTo>
                    <a:pt x="194" y="1444"/>
                  </a:lnTo>
                  <a:lnTo>
                    <a:pt x="137" y="790"/>
                  </a:lnTo>
                  <a:lnTo>
                    <a:pt x="194" y="721"/>
                  </a:lnTo>
                  <a:lnTo>
                    <a:pt x="0" y="516"/>
                  </a:lnTo>
                  <a:lnTo>
                    <a:pt x="41" y="36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118360" y="4396320"/>
              <a:ext cx="232200" cy="197640"/>
            </a:xfrm>
            <a:custGeom>
              <a:avLst/>
              <a:gdLst/>
              <a:ahLst/>
              <a:rect l="l" t="t" r="r" b="b"/>
              <a:pathLst>
                <a:path w="1824" h="823">
                  <a:moveTo>
                    <a:pt x="415" y="118"/>
                  </a:moveTo>
                  <a:lnTo>
                    <a:pt x="178" y="324"/>
                  </a:lnTo>
                  <a:lnTo>
                    <a:pt x="56" y="496"/>
                  </a:lnTo>
                  <a:lnTo>
                    <a:pt x="0" y="703"/>
                  </a:lnTo>
                  <a:lnTo>
                    <a:pt x="28" y="823"/>
                  </a:lnTo>
                  <a:lnTo>
                    <a:pt x="178" y="703"/>
                  </a:lnTo>
                  <a:lnTo>
                    <a:pt x="1824" y="496"/>
                  </a:lnTo>
                  <a:lnTo>
                    <a:pt x="1810" y="239"/>
                  </a:lnTo>
                  <a:lnTo>
                    <a:pt x="1699" y="102"/>
                  </a:lnTo>
                  <a:lnTo>
                    <a:pt x="1451" y="0"/>
                  </a:lnTo>
                  <a:lnTo>
                    <a:pt x="1216" y="68"/>
                  </a:lnTo>
                  <a:lnTo>
                    <a:pt x="538" y="85"/>
                  </a:lnTo>
                  <a:lnTo>
                    <a:pt x="415" y="11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319240" y="4145040"/>
              <a:ext cx="42120" cy="24840"/>
            </a:xfrm>
            <a:custGeom>
              <a:avLst/>
              <a:gdLst/>
              <a:ahLst/>
              <a:rect l="l" t="t" r="r" b="b"/>
              <a:pathLst>
                <a:path w="330" h="103">
                  <a:moveTo>
                    <a:pt x="0" y="103"/>
                  </a:moveTo>
                  <a:lnTo>
                    <a:pt x="291" y="0"/>
                  </a:lnTo>
                  <a:lnTo>
                    <a:pt x="330" y="86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304840" y="3979440"/>
              <a:ext cx="157320" cy="161280"/>
            </a:xfrm>
            <a:custGeom>
              <a:avLst/>
              <a:gdLst/>
              <a:ahLst/>
              <a:rect l="l" t="t" r="r" b="b"/>
              <a:pathLst>
                <a:path w="1231" h="671">
                  <a:moveTo>
                    <a:pt x="0" y="362"/>
                  </a:moveTo>
                  <a:lnTo>
                    <a:pt x="305" y="139"/>
                  </a:lnTo>
                  <a:lnTo>
                    <a:pt x="540" y="34"/>
                  </a:lnTo>
                  <a:lnTo>
                    <a:pt x="747" y="0"/>
                  </a:lnTo>
                  <a:lnTo>
                    <a:pt x="996" y="34"/>
                  </a:lnTo>
                  <a:lnTo>
                    <a:pt x="1135" y="121"/>
                  </a:lnTo>
                  <a:lnTo>
                    <a:pt x="1231" y="242"/>
                  </a:lnTo>
                  <a:lnTo>
                    <a:pt x="1078" y="362"/>
                  </a:lnTo>
                  <a:lnTo>
                    <a:pt x="706" y="482"/>
                  </a:lnTo>
                  <a:lnTo>
                    <a:pt x="499" y="464"/>
                  </a:lnTo>
                  <a:lnTo>
                    <a:pt x="84" y="671"/>
                  </a:lnTo>
                  <a:lnTo>
                    <a:pt x="15" y="567"/>
                  </a:lnTo>
                  <a:lnTo>
                    <a:pt x="0" y="464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162280" y="4050720"/>
              <a:ext cx="101880" cy="143640"/>
            </a:xfrm>
            <a:custGeom>
              <a:avLst/>
              <a:gdLst/>
              <a:ahLst/>
              <a:rect l="l" t="t" r="r" b="b"/>
              <a:pathLst>
                <a:path w="802" h="602">
                  <a:moveTo>
                    <a:pt x="802" y="343"/>
                  </a:moveTo>
                  <a:lnTo>
                    <a:pt x="415" y="0"/>
                  </a:lnTo>
                  <a:lnTo>
                    <a:pt x="360" y="34"/>
                  </a:lnTo>
                  <a:lnTo>
                    <a:pt x="221" y="34"/>
                  </a:lnTo>
                  <a:lnTo>
                    <a:pt x="84" y="189"/>
                  </a:lnTo>
                  <a:lnTo>
                    <a:pt x="0" y="361"/>
                  </a:lnTo>
                  <a:lnTo>
                    <a:pt x="0" y="498"/>
                  </a:lnTo>
                  <a:lnTo>
                    <a:pt x="95" y="567"/>
                  </a:lnTo>
                  <a:lnTo>
                    <a:pt x="553" y="602"/>
                  </a:lnTo>
                  <a:lnTo>
                    <a:pt x="760" y="533"/>
                  </a:lnTo>
                  <a:lnTo>
                    <a:pt x="802" y="34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279280" y="4739400"/>
              <a:ext cx="228600" cy="657720"/>
            </a:xfrm>
            <a:custGeom>
              <a:avLst/>
              <a:gdLst/>
              <a:ahLst/>
              <a:rect l="l" t="t" r="r" b="b"/>
              <a:pathLst>
                <a:path w="1794" h="2742">
                  <a:moveTo>
                    <a:pt x="1279" y="0"/>
                  </a:moveTo>
                  <a:lnTo>
                    <a:pt x="924" y="244"/>
                  </a:lnTo>
                  <a:lnTo>
                    <a:pt x="373" y="995"/>
                  </a:lnTo>
                  <a:lnTo>
                    <a:pt x="0" y="1792"/>
                  </a:lnTo>
                  <a:lnTo>
                    <a:pt x="498" y="2742"/>
                  </a:lnTo>
                  <a:lnTo>
                    <a:pt x="1191" y="2697"/>
                  </a:lnTo>
                  <a:lnTo>
                    <a:pt x="1794" y="156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317800" y="4999680"/>
              <a:ext cx="56520" cy="201600"/>
            </a:xfrm>
            <a:custGeom>
              <a:avLst/>
              <a:gdLst/>
              <a:ahLst/>
              <a:rect l="l" t="t" r="r" b="b"/>
              <a:pathLst>
                <a:path w="445" h="841">
                  <a:moveTo>
                    <a:pt x="303" y="45"/>
                  </a:moveTo>
                  <a:lnTo>
                    <a:pt x="0" y="818"/>
                  </a:lnTo>
                  <a:lnTo>
                    <a:pt x="266" y="841"/>
                  </a:lnTo>
                  <a:lnTo>
                    <a:pt x="445" y="0"/>
                  </a:lnTo>
                  <a:lnTo>
                    <a:pt x="303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99720" y="5084280"/>
              <a:ext cx="150120" cy="291600"/>
            </a:xfrm>
            <a:custGeom>
              <a:avLst/>
              <a:gdLst/>
              <a:ahLst/>
              <a:rect l="l" t="t" r="r" b="b"/>
              <a:pathLst>
                <a:path w="1174" h="1217">
                  <a:moveTo>
                    <a:pt x="0" y="135"/>
                  </a:moveTo>
                  <a:lnTo>
                    <a:pt x="284" y="0"/>
                  </a:lnTo>
                  <a:lnTo>
                    <a:pt x="1156" y="488"/>
                  </a:lnTo>
                  <a:lnTo>
                    <a:pt x="1174" y="863"/>
                  </a:lnTo>
                  <a:lnTo>
                    <a:pt x="1030" y="1217"/>
                  </a:lnTo>
                  <a:lnTo>
                    <a:pt x="301" y="1195"/>
                  </a:lnTo>
                  <a:lnTo>
                    <a:pt x="88" y="685"/>
                  </a:lnTo>
                  <a:lnTo>
                    <a:pt x="213" y="400"/>
                  </a:lnTo>
                  <a:lnTo>
                    <a:pt x="35" y="24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06400" y="5258880"/>
              <a:ext cx="100080" cy="202680"/>
            </a:xfrm>
            <a:custGeom>
              <a:avLst/>
              <a:gdLst/>
              <a:ahLst/>
              <a:rect l="l" t="t" r="r" b="b"/>
              <a:pathLst>
                <a:path w="783" h="841">
                  <a:moveTo>
                    <a:pt x="658" y="111"/>
                  </a:moveTo>
                  <a:lnTo>
                    <a:pt x="605" y="0"/>
                  </a:lnTo>
                  <a:lnTo>
                    <a:pt x="0" y="265"/>
                  </a:lnTo>
                  <a:lnTo>
                    <a:pt x="125" y="397"/>
                  </a:lnTo>
                  <a:lnTo>
                    <a:pt x="72" y="576"/>
                  </a:lnTo>
                  <a:lnTo>
                    <a:pt x="195" y="641"/>
                  </a:lnTo>
                  <a:lnTo>
                    <a:pt x="213" y="730"/>
                  </a:lnTo>
                  <a:lnTo>
                    <a:pt x="338" y="797"/>
                  </a:lnTo>
                  <a:lnTo>
                    <a:pt x="534" y="841"/>
                  </a:lnTo>
                  <a:lnTo>
                    <a:pt x="783" y="598"/>
                  </a:lnTo>
                  <a:lnTo>
                    <a:pt x="676" y="465"/>
                  </a:lnTo>
                  <a:lnTo>
                    <a:pt x="747" y="287"/>
                  </a:lnTo>
                  <a:lnTo>
                    <a:pt x="642" y="198"/>
                  </a:lnTo>
                  <a:lnTo>
                    <a:pt x="658" y="111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87800" y="5742000"/>
              <a:ext cx="361080" cy="159120"/>
            </a:xfrm>
            <a:custGeom>
              <a:avLst/>
              <a:gdLst/>
              <a:ahLst/>
              <a:rect l="l" t="t" r="r" b="b"/>
              <a:pathLst>
                <a:path w="2827" h="664">
                  <a:moveTo>
                    <a:pt x="1138" y="0"/>
                  </a:moveTo>
                  <a:lnTo>
                    <a:pt x="890" y="110"/>
                  </a:lnTo>
                  <a:lnTo>
                    <a:pt x="0" y="287"/>
                  </a:lnTo>
                  <a:lnTo>
                    <a:pt x="890" y="199"/>
                  </a:lnTo>
                  <a:lnTo>
                    <a:pt x="159" y="331"/>
                  </a:lnTo>
                  <a:lnTo>
                    <a:pt x="1085" y="287"/>
                  </a:lnTo>
                  <a:lnTo>
                    <a:pt x="319" y="465"/>
                  </a:lnTo>
                  <a:lnTo>
                    <a:pt x="1350" y="353"/>
                  </a:lnTo>
                  <a:lnTo>
                    <a:pt x="712" y="509"/>
                  </a:lnTo>
                  <a:lnTo>
                    <a:pt x="1600" y="443"/>
                  </a:lnTo>
                  <a:lnTo>
                    <a:pt x="1012" y="553"/>
                  </a:lnTo>
                  <a:lnTo>
                    <a:pt x="1901" y="509"/>
                  </a:lnTo>
                  <a:lnTo>
                    <a:pt x="1156" y="664"/>
                  </a:lnTo>
                  <a:lnTo>
                    <a:pt x="2061" y="597"/>
                  </a:lnTo>
                  <a:lnTo>
                    <a:pt x="2721" y="485"/>
                  </a:lnTo>
                  <a:lnTo>
                    <a:pt x="2827" y="375"/>
                  </a:lnTo>
                  <a:lnTo>
                    <a:pt x="1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08720" y="5975280"/>
              <a:ext cx="133920" cy="48960"/>
            </a:xfrm>
            <a:custGeom>
              <a:avLst/>
              <a:gdLst/>
              <a:ahLst/>
              <a:rect l="l" t="t" r="r" b="b"/>
              <a:pathLst>
                <a:path w="1050" h="201">
                  <a:moveTo>
                    <a:pt x="230" y="0"/>
                  </a:moveTo>
                  <a:lnTo>
                    <a:pt x="1050" y="201"/>
                  </a:lnTo>
                  <a:lnTo>
                    <a:pt x="605" y="201"/>
                  </a:lnTo>
                  <a:lnTo>
                    <a:pt x="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394840" y="5891040"/>
              <a:ext cx="235800" cy="133200"/>
            </a:xfrm>
            <a:custGeom>
              <a:avLst/>
              <a:gdLst/>
              <a:ahLst/>
              <a:rect l="l" t="t" r="r" b="b"/>
              <a:pathLst>
                <a:path w="1848" h="554">
                  <a:moveTo>
                    <a:pt x="728" y="0"/>
                  </a:moveTo>
                  <a:lnTo>
                    <a:pt x="0" y="464"/>
                  </a:lnTo>
                  <a:lnTo>
                    <a:pt x="624" y="154"/>
                  </a:lnTo>
                  <a:lnTo>
                    <a:pt x="142" y="530"/>
                  </a:lnTo>
                  <a:lnTo>
                    <a:pt x="801" y="198"/>
                  </a:lnTo>
                  <a:lnTo>
                    <a:pt x="428" y="508"/>
                  </a:lnTo>
                  <a:lnTo>
                    <a:pt x="854" y="309"/>
                  </a:lnTo>
                  <a:lnTo>
                    <a:pt x="624" y="530"/>
                  </a:lnTo>
                  <a:lnTo>
                    <a:pt x="997" y="375"/>
                  </a:lnTo>
                  <a:lnTo>
                    <a:pt x="835" y="554"/>
                  </a:lnTo>
                  <a:lnTo>
                    <a:pt x="1334" y="375"/>
                  </a:lnTo>
                  <a:lnTo>
                    <a:pt x="1208" y="508"/>
                  </a:lnTo>
                  <a:lnTo>
                    <a:pt x="1848" y="309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029440" y="5403240"/>
              <a:ext cx="201600" cy="498240"/>
            </a:xfrm>
            <a:custGeom>
              <a:avLst/>
              <a:gdLst/>
              <a:ahLst/>
              <a:rect l="l" t="t" r="r" b="b"/>
              <a:pathLst>
                <a:path w="1583" h="2078">
                  <a:moveTo>
                    <a:pt x="445" y="552"/>
                  </a:moveTo>
                  <a:lnTo>
                    <a:pt x="0" y="1879"/>
                  </a:lnTo>
                  <a:lnTo>
                    <a:pt x="285" y="1237"/>
                  </a:lnTo>
                  <a:lnTo>
                    <a:pt x="142" y="1945"/>
                  </a:lnTo>
                  <a:lnTo>
                    <a:pt x="427" y="1237"/>
                  </a:lnTo>
                  <a:lnTo>
                    <a:pt x="267" y="1989"/>
                  </a:lnTo>
                  <a:lnTo>
                    <a:pt x="587" y="1192"/>
                  </a:lnTo>
                  <a:lnTo>
                    <a:pt x="445" y="2011"/>
                  </a:lnTo>
                  <a:lnTo>
                    <a:pt x="746" y="1171"/>
                  </a:lnTo>
                  <a:lnTo>
                    <a:pt x="624" y="2034"/>
                  </a:lnTo>
                  <a:lnTo>
                    <a:pt x="907" y="1171"/>
                  </a:lnTo>
                  <a:lnTo>
                    <a:pt x="802" y="2034"/>
                  </a:lnTo>
                  <a:lnTo>
                    <a:pt x="1102" y="1127"/>
                  </a:lnTo>
                  <a:lnTo>
                    <a:pt x="1014" y="2078"/>
                  </a:lnTo>
                  <a:lnTo>
                    <a:pt x="1244" y="1237"/>
                  </a:lnTo>
                  <a:lnTo>
                    <a:pt x="1495" y="597"/>
                  </a:lnTo>
                  <a:lnTo>
                    <a:pt x="1583" y="0"/>
                  </a:lnTo>
                  <a:lnTo>
                    <a:pt x="1495" y="375"/>
                  </a:lnTo>
                  <a:lnTo>
                    <a:pt x="1405" y="0"/>
                  </a:lnTo>
                  <a:lnTo>
                    <a:pt x="1353" y="331"/>
                  </a:lnTo>
                  <a:lnTo>
                    <a:pt x="1297" y="22"/>
                  </a:lnTo>
                  <a:lnTo>
                    <a:pt x="1191" y="397"/>
                  </a:lnTo>
                  <a:lnTo>
                    <a:pt x="1157" y="43"/>
                  </a:lnTo>
                  <a:lnTo>
                    <a:pt x="1067" y="353"/>
                  </a:lnTo>
                  <a:lnTo>
                    <a:pt x="978" y="66"/>
                  </a:lnTo>
                  <a:lnTo>
                    <a:pt x="907" y="442"/>
                  </a:lnTo>
                  <a:lnTo>
                    <a:pt x="837" y="132"/>
                  </a:lnTo>
                  <a:lnTo>
                    <a:pt x="746" y="464"/>
                  </a:lnTo>
                  <a:lnTo>
                    <a:pt x="676" y="199"/>
                  </a:lnTo>
                  <a:lnTo>
                    <a:pt x="624" y="486"/>
                  </a:lnTo>
                  <a:lnTo>
                    <a:pt x="569" y="265"/>
                  </a:lnTo>
                  <a:lnTo>
                    <a:pt x="533" y="552"/>
                  </a:lnTo>
                  <a:lnTo>
                    <a:pt x="498" y="442"/>
                  </a:lnTo>
                  <a:lnTo>
                    <a:pt x="445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68760" y="4067280"/>
              <a:ext cx="73800" cy="100800"/>
            </a:xfrm>
            <a:custGeom>
              <a:avLst/>
              <a:gdLst/>
              <a:ahLst/>
              <a:rect l="l" t="t" r="r" b="b"/>
              <a:pathLst>
                <a:path w="583" h="420">
                  <a:moveTo>
                    <a:pt x="312" y="14"/>
                  </a:moveTo>
                  <a:lnTo>
                    <a:pt x="339" y="182"/>
                  </a:lnTo>
                  <a:lnTo>
                    <a:pt x="378" y="65"/>
                  </a:lnTo>
                  <a:lnTo>
                    <a:pt x="432" y="269"/>
                  </a:lnTo>
                  <a:lnTo>
                    <a:pt x="486" y="167"/>
                  </a:lnTo>
                  <a:lnTo>
                    <a:pt x="528" y="351"/>
                  </a:lnTo>
                  <a:lnTo>
                    <a:pt x="583" y="420"/>
                  </a:lnTo>
                  <a:lnTo>
                    <a:pt x="447" y="333"/>
                  </a:lnTo>
                  <a:lnTo>
                    <a:pt x="432" y="402"/>
                  </a:lnTo>
                  <a:lnTo>
                    <a:pt x="339" y="269"/>
                  </a:lnTo>
                  <a:lnTo>
                    <a:pt x="286" y="369"/>
                  </a:lnTo>
                  <a:lnTo>
                    <a:pt x="217" y="218"/>
                  </a:lnTo>
                  <a:lnTo>
                    <a:pt x="175" y="351"/>
                  </a:lnTo>
                  <a:lnTo>
                    <a:pt x="95" y="284"/>
                  </a:lnTo>
                  <a:lnTo>
                    <a:pt x="0" y="251"/>
                  </a:lnTo>
                  <a:lnTo>
                    <a:pt x="120" y="218"/>
                  </a:lnTo>
                  <a:lnTo>
                    <a:pt x="81" y="82"/>
                  </a:lnTo>
                  <a:lnTo>
                    <a:pt x="217" y="118"/>
                  </a:lnTo>
                  <a:lnTo>
                    <a:pt x="162" y="0"/>
                  </a:lnTo>
                  <a:lnTo>
                    <a:pt x="31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08800" y="3994200"/>
              <a:ext cx="108720" cy="115920"/>
            </a:xfrm>
            <a:custGeom>
              <a:avLst/>
              <a:gdLst/>
              <a:ahLst/>
              <a:rect l="l" t="t" r="r" b="b"/>
              <a:pathLst>
                <a:path w="852" h="486">
                  <a:moveTo>
                    <a:pt x="0" y="404"/>
                  </a:moveTo>
                  <a:lnTo>
                    <a:pt x="176" y="169"/>
                  </a:lnTo>
                  <a:lnTo>
                    <a:pt x="176" y="253"/>
                  </a:lnTo>
                  <a:lnTo>
                    <a:pt x="325" y="118"/>
                  </a:lnTo>
                  <a:lnTo>
                    <a:pt x="310" y="184"/>
                  </a:lnTo>
                  <a:lnTo>
                    <a:pt x="541" y="33"/>
                  </a:lnTo>
                  <a:lnTo>
                    <a:pt x="486" y="118"/>
                  </a:lnTo>
                  <a:lnTo>
                    <a:pt x="798" y="0"/>
                  </a:lnTo>
                  <a:lnTo>
                    <a:pt x="515" y="169"/>
                  </a:lnTo>
                  <a:lnTo>
                    <a:pt x="852" y="100"/>
                  </a:lnTo>
                  <a:lnTo>
                    <a:pt x="515" y="235"/>
                  </a:lnTo>
                  <a:lnTo>
                    <a:pt x="771" y="202"/>
                  </a:lnTo>
                  <a:lnTo>
                    <a:pt x="351" y="304"/>
                  </a:lnTo>
                  <a:lnTo>
                    <a:pt x="486" y="353"/>
                  </a:lnTo>
                  <a:lnTo>
                    <a:pt x="229" y="335"/>
                  </a:lnTo>
                  <a:lnTo>
                    <a:pt x="298" y="422"/>
                  </a:lnTo>
                  <a:lnTo>
                    <a:pt x="93" y="404"/>
                  </a:lnTo>
                  <a:lnTo>
                    <a:pt x="108" y="486"/>
                  </a:lnTo>
                  <a:lnTo>
                    <a:pt x="13" y="455"/>
                  </a:lnTo>
                  <a:lnTo>
                    <a:pt x="0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267040" y="4069800"/>
              <a:ext cx="36000" cy="39960"/>
            </a:xfrm>
            <a:custGeom>
              <a:avLst/>
              <a:gdLst/>
              <a:ahLst/>
              <a:rect l="l" t="t" r="r" b="b"/>
              <a:pathLst>
                <a:path w="286" h="168">
                  <a:moveTo>
                    <a:pt x="0" y="68"/>
                  </a:moveTo>
                  <a:lnTo>
                    <a:pt x="42" y="168"/>
                  </a:lnTo>
                  <a:lnTo>
                    <a:pt x="286" y="104"/>
                  </a:lnTo>
                  <a:lnTo>
                    <a:pt x="232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92960" y="3928680"/>
              <a:ext cx="84600" cy="121680"/>
            </a:xfrm>
            <a:custGeom>
              <a:avLst/>
              <a:gdLst/>
              <a:ahLst/>
              <a:rect l="l" t="t" r="r" b="b"/>
              <a:pathLst>
                <a:path w="662" h="505">
                  <a:moveTo>
                    <a:pt x="324" y="136"/>
                  </a:moveTo>
                  <a:lnTo>
                    <a:pt x="0" y="505"/>
                  </a:lnTo>
                  <a:lnTo>
                    <a:pt x="161" y="454"/>
                  </a:lnTo>
                  <a:lnTo>
                    <a:pt x="431" y="136"/>
                  </a:lnTo>
                  <a:lnTo>
                    <a:pt x="662" y="0"/>
                  </a:lnTo>
                  <a:lnTo>
                    <a:pt x="324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151120" y="4187160"/>
              <a:ext cx="129600" cy="202320"/>
            </a:xfrm>
            <a:custGeom>
              <a:avLst/>
              <a:gdLst/>
              <a:ahLst/>
              <a:rect l="l" t="t" r="r" b="b"/>
              <a:pathLst>
                <a:path w="1017" h="843">
                  <a:moveTo>
                    <a:pt x="868" y="18"/>
                  </a:moveTo>
                  <a:lnTo>
                    <a:pt x="462" y="235"/>
                  </a:lnTo>
                  <a:lnTo>
                    <a:pt x="272" y="404"/>
                  </a:lnTo>
                  <a:lnTo>
                    <a:pt x="191" y="556"/>
                  </a:lnTo>
                  <a:lnTo>
                    <a:pt x="41" y="656"/>
                  </a:lnTo>
                  <a:lnTo>
                    <a:pt x="0" y="843"/>
                  </a:lnTo>
                  <a:lnTo>
                    <a:pt x="340" y="825"/>
                  </a:lnTo>
                  <a:lnTo>
                    <a:pt x="393" y="573"/>
                  </a:lnTo>
                  <a:lnTo>
                    <a:pt x="340" y="505"/>
                  </a:lnTo>
                  <a:lnTo>
                    <a:pt x="423" y="338"/>
                  </a:lnTo>
                  <a:lnTo>
                    <a:pt x="678" y="169"/>
                  </a:lnTo>
                  <a:lnTo>
                    <a:pt x="1017" y="0"/>
                  </a:lnTo>
                  <a:lnTo>
                    <a:pt x="86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12040" y="4183200"/>
              <a:ext cx="42840" cy="28800"/>
            </a:xfrm>
            <a:custGeom>
              <a:avLst/>
              <a:gdLst/>
              <a:ahLst/>
              <a:rect l="l" t="t" r="r" b="b"/>
              <a:pathLst>
                <a:path w="338" h="116">
                  <a:moveTo>
                    <a:pt x="0" y="33"/>
                  </a:moveTo>
                  <a:lnTo>
                    <a:pt x="272" y="0"/>
                  </a:lnTo>
                  <a:lnTo>
                    <a:pt x="338" y="66"/>
                  </a:lnTo>
                  <a:lnTo>
                    <a:pt x="26" y="11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12040" y="4119120"/>
              <a:ext cx="44640" cy="48960"/>
            </a:xfrm>
            <a:custGeom>
              <a:avLst/>
              <a:gdLst/>
              <a:ahLst/>
              <a:rect l="l" t="t" r="r" b="b"/>
              <a:pathLst>
                <a:path w="353" h="202">
                  <a:moveTo>
                    <a:pt x="0" y="202"/>
                  </a:moveTo>
                  <a:lnTo>
                    <a:pt x="257" y="133"/>
                  </a:lnTo>
                  <a:lnTo>
                    <a:pt x="353" y="0"/>
                  </a:lnTo>
                  <a:lnTo>
                    <a:pt x="122" y="100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327160" y="4212000"/>
              <a:ext cx="112680" cy="84240"/>
            </a:xfrm>
            <a:custGeom>
              <a:avLst/>
              <a:gdLst/>
              <a:ahLst/>
              <a:rect l="l" t="t" r="r" b="b"/>
              <a:pathLst>
                <a:path w="881" h="354">
                  <a:moveTo>
                    <a:pt x="55" y="237"/>
                  </a:moveTo>
                  <a:lnTo>
                    <a:pt x="786" y="0"/>
                  </a:lnTo>
                  <a:lnTo>
                    <a:pt x="881" y="52"/>
                  </a:lnTo>
                  <a:lnTo>
                    <a:pt x="745" y="103"/>
                  </a:lnTo>
                  <a:lnTo>
                    <a:pt x="826" y="152"/>
                  </a:lnTo>
                  <a:lnTo>
                    <a:pt x="650" y="203"/>
                  </a:lnTo>
                  <a:lnTo>
                    <a:pt x="690" y="270"/>
                  </a:lnTo>
                  <a:lnTo>
                    <a:pt x="489" y="270"/>
                  </a:lnTo>
                  <a:lnTo>
                    <a:pt x="460" y="321"/>
                  </a:lnTo>
                  <a:lnTo>
                    <a:pt x="338" y="321"/>
                  </a:lnTo>
                  <a:lnTo>
                    <a:pt x="177" y="354"/>
                  </a:lnTo>
                  <a:lnTo>
                    <a:pt x="41" y="321"/>
                  </a:lnTo>
                  <a:lnTo>
                    <a:pt x="0" y="286"/>
                  </a:lnTo>
                  <a:lnTo>
                    <a:pt x="55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46600" y="4369680"/>
              <a:ext cx="32400" cy="221400"/>
            </a:xfrm>
            <a:custGeom>
              <a:avLst/>
              <a:gdLst/>
              <a:ahLst/>
              <a:rect l="l" t="t" r="r" b="b"/>
              <a:pathLst>
                <a:path w="257" h="925">
                  <a:moveTo>
                    <a:pt x="12" y="101"/>
                  </a:moveTo>
                  <a:lnTo>
                    <a:pt x="147" y="371"/>
                  </a:lnTo>
                  <a:lnTo>
                    <a:pt x="147" y="604"/>
                  </a:lnTo>
                  <a:lnTo>
                    <a:pt x="53" y="891"/>
                  </a:lnTo>
                  <a:lnTo>
                    <a:pt x="39" y="925"/>
                  </a:lnTo>
                  <a:lnTo>
                    <a:pt x="188" y="773"/>
                  </a:lnTo>
                  <a:lnTo>
                    <a:pt x="257" y="504"/>
                  </a:lnTo>
                  <a:lnTo>
                    <a:pt x="257" y="269"/>
                  </a:lnTo>
                  <a:lnTo>
                    <a:pt x="188" y="101"/>
                  </a:lnTo>
                  <a:lnTo>
                    <a:pt x="81" y="0"/>
                  </a:lnTo>
                  <a:lnTo>
                    <a:pt x="0" y="3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25560" y="4433760"/>
              <a:ext cx="139680" cy="133200"/>
            </a:xfrm>
            <a:custGeom>
              <a:avLst/>
              <a:gdLst/>
              <a:ahLst/>
              <a:rect l="l" t="t" r="r" b="b"/>
              <a:pathLst>
                <a:path w="1097" h="555">
                  <a:moveTo>
                    <a:pt x="325" y="34"/>
                  </a:moveTo>
                  <a:lnTo>
                    <a:pt x="148" y="184"/>
                  </a:lnTo>
                  <a:lnTo>
                    <a:pt x="54" y="335"/>
                  </a:lnTo>
                  <a:lnTo>
                    <a:pt x="0" y="504"/>
                  </a:lnTo>
                  <a:lnTo>
                    <a:pt x="28" y="555"/>
                  </a:lnTo>
                  <a:lnTo>
                    <a:pt x="161" y="253"/>
                  </a:lnTo>
                  <a:lnTo>
                    <a:pt x="148" y="455"/>
                  </a:lnTo>
                  <a:lnTo>
                    <a:pt x="325" y="184"/>
                  </a:lnTo>
                  <a:lnTo>
                    <a:pt x="338" y="321"/>
                  </a:lnTo>
                  <a:lnTo>
                    <a:pt x="447" y="184"/>
                  </a:lnTo>
                  <a:lnTo>
                    <a:pt x="487" y="269"/>
                  </a:lnTo>
                  <a:lnTo>
                    <a:pt x="609" y="152"/>
                  </a:lnTo>
                  <a:lnTo>
                    <a:pt x="650" y="235"/>
                  </a:lnTo>
                  <a:lnTo>
                    <a:pt x="770" y="84"/>
                  </a:lnTo>
                  <a:lnTo>
                    <a:pt x="799" y="217"/>
                  </a:lnTo>
                  <a:lnTo>
                    <a:pt x="879" y="102"/>
                  </a:lnTo>
                  <a:lnTo>
                    <a:pt x="974" y="202"/>
                  </a:lnTo>
                  <a:lnTo>
                    <a:pt x="1028" y="135"/>
                  </a:lnTo>
                  <a:lnTo>
                    <a:pt x="1097" y="217"/>
                  </a:lnTo>
                  <a:lnTo>
                    <a:pt x="1069" y="34"/>
                  </a:lnTo>
                  <a:lnTo>
                    <a:pt x="947" y="102"/>
                  </a:lnTo>
                  <a:lnTo>
                    <a:pt x="892" y="0"/>
                  </a:lnTo>
                  <a:lnTo>
                    <a:pt x="811" y="84"/>
                  </a:lnTo>
                  <a:lnTo>
                    <a:pt x="757" y="18"/>
                  </a:lnTo>
                  <a:lnTo>
                    <a:pt x="689" y="102"/>
                  </a:lnTo>
                  <a:lnTo>
                    <a:pt x="650" y="18"/>
                  </a:lnTo>
                  <a:lnTo>
                    <a:pt x="541" y="84"/>
                  </a:lnTo>
                  <a:lnTo>
                    <a:pt x="527" y="34"/>
                  </a:lnTo>
                  <a:lnTo>
                    <a:pt x="419" y="118"/>
                  </a:lnTo>
                  <a:lnTo>
                    <a:pt x="419" y="34"/>
                  </a:lnTo>
                  <a:lnTo>
                    <a:pt x="32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187840" y="4575960"/>
              <a:ext cx="51480" cy="59400"/>
            </a:xfrm>
            <a:custGeom>
              <a:avLst/>
              <a:gdLst/>
              <a:ahLst/>
              <a:rect l="l" t="t" r="r" b="b"/>
              <a:pathLst>
                <a:path w="405" h="251">
                  <a:moveTo>
                    <a:pt x="13" y="100"/>
                  </a:moveTo>
                  <a:lnTo>
                    <a:pt x="0" y="200"/>
                  </a:lnTo>
                  <a:lnTo>
                    <a:pt x="40" y="251"/>
                  </a:lnTo>
                  <a:lnTo>
                    <a:pt x="379" y="166"/>
                  </a:lnTo>
                  <a:lnTo>
                    <a:pt x="379" y="83"/>
                  </a:lnTo>
                  <a:lnTo>
                    <a:pt x="405" y="0"/>
                  </a:lnTo>
                  <a:lnTo>
                    <a:pt x="163" y="49"/>
                  </a:lnTo>
                  <a:lnTo>
                    <a:pt x="13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189280" y="4716360"/>
              <a:ext cx="68760" cy="89280"/>
            </a:xfrm>
            <a:custGeom>
              <a:avLst/>
              <a:gdLst/>
              <a:ahLst/>
              <a:rect l="l" t="t" r="r" b="b"/>
              <a:pathLst>
                <a:path w="541" h="370">
                  <a:moveTo>
                    <a:pt x="55" y="101"/>
                  </a:moveTo>
                  <a:lnTo>
                    <a:pt x="0" y="253"/>
                  </a:lnTo>
                  <a:lnTo>
                    <a:pt x="55" y="370"/>
                  </a:lnTo>
                  <a:lnTo>
                    <a:pt x="231" y="353"/>
                  </a:lnTo>
                  <a:lnTo>
                    <a:pt x="432" y="284"/>
                  </a:lnTo>
                  <a:lnTo>
                    <a:pt x="406" y="184"/>
                  </a:lnTo>
                  <a:lnTo>
                    <a:pt x="447" y="84"/>
                  </a:lnTo>
                  <a:lnTo>
                    <a:pt x="541" y="0"/>
                  </a:lnTo>
                  <a:lnTo>
                    <a:pt x="189" y="101"/>
                  </a:lnTo>
                  <a:lnTo>
                    <a:pt x="55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307000" y="4624200"/>
              <a:ext cx="39600" cy="72000"/>
            </a:xfrm>
            <a:custGeom>
              <a:avLst/>
              <a:gdLst/>
              <a:ahLst/>
              <a:rect l="l" t="t" r="r" b="b"/>
              <a:pathLst>
                <a:path w="312" h="303">
                  <a:moveTo>
                    <a:pt x="0" y="252"/>
                  </a:moveTo>
                  <a:lnTo>
                    <a:pt x="217" y="0"/>
                  </a:lnTo>
                  <a:lnTo>
                    <a:pt x="312" y="0"/>
                  </a:lnTo>
                  <a:lnTo>
                    <a:pt x="258" y="118"/>
                  </a:lnTo>
                  <a:lnTo>
                    <a:pt x="27" y="30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244720" y="4861440"/>
              <a:ext cx="72360" cy="57240"/>
            </a:xfrm>
            <a:custGeom>
              <a:avLst/>
              <a:gdLst/>
              <a:ahLst/>
              <a:rect l="l" t="t" r="r" b="b"/>
              <a:pathLst>
                <a:path w="569" h="237">
                  <a:moveTo>
                    <a:pt x="0" y="86"/>
                  </a:moveTo>
                  <a:lnTo>
                    <a:pt x="81" y="186"/>
                  </a:lnTo>
                  <a:lnTo>
                    <a:pt x="191" y="237"/>
                  </a:lnTo>
                  <a:lnTo>
                    <a:pt x="488" y="117"/>
                  </a:lnTo>
                  <a:lnTo>
                    <a:pt x="569" y="51"/>
                  </a:lnTo>
                  <a:lnTo>
                    <a:pt x="554" y="0"/>
                  </a:lnTo>
                  <a:lnTo>
                    <a:pt x="462" y="35"/>
                  </a:lnTo>
                  <a:lnTo>
                    <a:pt x="257" y="104"/>
                  </a:lnTo>
                  <a:lnTo>
                    <a:pt x="137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304840" y="3893400"/>
              <a:ext cx="24480" cy="43920"/>
            </a:xfrm>
            <a:custGeom>
              <a:avLst/>
              <a:gdLst/>
              <a:ahLst/>
              <a:rect l="l" t="t" r="r" b="b"/>
              <a:pathLst>
                <a:path w="192" h="186">
                  <a:moveTo>
                    <a:pt x="69" y="186"/>
                  </a:moveTo>
                  <a:lnTo>
                    <a:pt x="0" y="50"/>
                  </a:lnTo>
                  <a:lnTo>
                    <a:pt x="96" y="0"/>
                  </a:lnTo>
                  <a:lnTo>
                    <a:pt x="192" y="101"/>
                  </a:lnTo>
                  <a:lnTo>
                    <a:pt x="69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503920" y="3994200"/>
              <a:ext cx="110160" cy="185040"/>
            </a:xfrm>
            <a:custGeom>
              <a:avLst/>
              <a:gdLst/>
              <a:ahLst/>
              <a:rect l="l" t="t" r="r" b="b"/>
              <a:pathLst>
                <a:path w="867" h="773">
                  <a:moveTo>
                    <a:pt x="121" y="253"/>
                  </a:moveTo>
                  <a:lnTo>
                    <a:pt x="433" y="202"/>
                  </a:lnTo>
                  <a:lnTo>
                    <a:pt x="677" y="118"/>
                  </a:lnTo>
                  <a:lnTo>
                    <a:pt x="785" y="0"/>
                  </a:lnTo>
                  <a:lnTo>
                    <a:pt x="867" y="49"/>
                  </a:lnTo>
                  <a:lnTo>
                    <a:pt x="662" y="202"/>
                  </a:lnTo>
                  <a:lnTo>
                    <a:pt x="419" y="304"/>
                  </a:lnTo>
                  <a:lnTo>
                    <a:pt x="365" y="369"/>
                  </a:lnTo>
                  <a:lnTo>
                    <a:pt x="284" y="504"/>
                  </a:lnTo>
                  <a:lnTo>
                    <a:pt x="581" y="724"/>
                  </a:lnTo>
                  <a:lnTo>
                    <a:pt x="528" y="773"/>
                  </a:lnTo>
                  <a:lnTo>
                    <a:pt x="216" y="655"/>
                  </a:lnTo>
                  <a:lnTo>
                    <a:pt x="0" y="335"/>
                  </a:lnTo>
                  <a:lnTo>
                    <a:pt x="243" y="404"/>
                  </a:lnTo>
                  <a:lnTo>
                    <a:pt x="121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547120" y="4191840"/>
              <a:ext cx="60480" cy="27720"/>
            </a:xfrm>
            <a:custGeom>
              <a:avLst/>
              <a:gdLst/>
              <a:ahLst/>
              <a:rect l="l" t="t" r="r" b="b"/>
              <a:pathLst>
                <a:path w="474" h="117">
                  <a:moveTo>
                    <a:pt x="39" y="0"/>
                  </a:moveTo>
                  <a:lnTo>
                    <a:pt x="474" y="51"/>
                  </a:lnTo>
                  <a:lnTo>
                    <a:pt x="351" y="117"/>
                  </a:lnTo>
                  <a:lnTo>
                    <a:pt x="0" y="8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9840" y="4219920"/>
              <a:ext cx="24120" cy="100800"/>
            </a:xfrm>
            <a:custGeom>
              <a:avLst/>
              <a:gdLst/>
              <a:ahLst/>
              <a:rect l="l" t="t" r="r" b="b"/>
              <a:pathLst>
                <a:path w="191" h="421">
                  <a:moveTo>
                    <a:pt x="0" y="0"/>
                  </a:moveTo>
                  <a:lnTo>
                    <a:pt x="191" y="84"/>
                  </a:lnTo>
                  <a:lnTo>
                    <a:pt x="69" y="421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232840" y="3809880"/>
              <a:ext cx="352080" cy="285120"/>
            </a:xfrm>
            <a:custGeom>
              <a:avLst/>
              <a:gdLst/>
              <a:ahLst/>
              <a:rect l="l" t="t" r="r" b="b"/>
              <a:pathLst>
                <a:path w="2762" h="1188">
                  <a:moveTo>
                    <a:pt x="390" y="1020"/>
                  </a:moveTo>
                  <a:lnTo>
                    <a:pt x="587" y="818"/>
                  </a:lnTo>
                  <a:lnTo>
                    <a:pt x="742" y="657"/>
                  </a:lnTo>
                  <a:lnTo>
                    <a:pt x="897" y="562"/>
                  </a:lnTo>
                  <a:lnTo>
                    <a:pt x="1080" y="465"/>
                  </a:lnTo>
                  <a:lnTo>
                    <a:pt x="1311" y="401"/>
                  </a:lnTo>
                  <a:lnTo>
                    <a:pt x="1597" y="304"/>
                  </a:lnTo>
                  <a:lnTo>
                    <a:pt x="1805" y="304"/>
                  </a:lnTo>
                  <a:lnTo>
                    <a:pt x="2035" y="304"/>
                  </a:lnTo>
                  <a:lnTo>
                    <a:pt x="2321" y="401"/>
                  </a:lnTo>
                  <a:lnTo>
                    <a:pt x="2527" y="496"/>
                  </a:lnTo>
                  <a:lnTo>
                    <a:pt x="2685" y="594"/>
                  </a:lnTo>
                  <a:lnTo>
                    <a:pt x="2762" y="755"/>
                  </a:lnTo>
                  <a:lnTo>
                    <a:pt x="2762" y="657"/>
                  </a:lnTo>
                  <a:lnTo>
                    <a:pt x="2685" y="531"/>
                  </a:lnTo>
                  <a:lnTo>
                    <a:pt x="2503" y="368"/>
                  </a:lnTo>
                  <a:lnTo>
                    <a:pt x="2407" y="318"/>
                  </a:lnTo>
                  <a:lnTo>
                    <a:pt x="2553" y="300"/>
                  </a:lnTo>
                  <a:lnTo>
                    <a:pt x="2139" y="176"/>
                  </a:lnTo>
                  <a:lnTo>
                    <a:pt x="1936" y="132"/>
                  </a:lnTo>
                  <a:lnTo>
                    <a:pt x="1600" y="117"/>
                  </a:lnTo>
                  <a:lnTo>
                    <a:pt x="1304" y="168"/>
                  </a:lnTo>
                  <a:lnTo>
                    <a:pt x="1386" y="83"/>
                  </a:lnTo>
                  <a:lnTo>
                    <a:pt x="1681" y="0"/>
                  </a:lnTo>
                  <a:lnTo>
                    <a:pt x="1467" y="0"/>
                  </a:lnTo>
                  <a:lnTo>
                    <a:pt x="1264" y="50"/>
                  </a:lnTo>
                  <a:lnTo>
                    <a:pt x="1129" y="132"/>
                  </a:lnTo>
                  <a:lnTo>
                    <a:pt x="974" y="241"/>
                  </a:lnTo>
                  <a:lnTo>
                    <a:pt x="1027" y="143"/>
                  </a:lnTo>
                  <a:lnTo>
                    <a:pt x="923" y="207"/>
                  </a:lnTo>
                  <a:lnTo>
                    <a:pt x="769" y="304"/>
                  </a:lnTo>
                  <a:lnTo>
                    <a:pt x="794" y="241"/>
                  </a:lnTo>
                  <a:lnTo>
                    <a:pt x="897" y="143"/>
                  </a:lnTo>
                  <a:lnTo>
                    <a:pt x="1002" y="78"/>
                  </a:lnTo>
                  <a:lnTo>
                    <a:pt x="1182" y="48"/>
                  </a:lnTo>
                  <a:lnTo>
                    <a:pt x="1156" y="16"/>
                  </a:lnTo>
                  <a:lnTo>
                    <a:pt x="897" y="78"/>
                  </a:lnTo>
                  <a:lnTo>
                    <a:pt x="717" y="176"/>
                  </a:lnTo>
                  <a:lnTo>
                    <a:pt x="638" y="304"/>
                  </a:lnTo>
                  <a:lnTo>
                    <a:pt x="691" y="401"/>
                  </a:lnTo>
                  <a:lnTo>
                    <a:pt x="769" y="496"/>
                  </a:lnTo>
                  <a:lnTo>
                    <a:pt x="846" y="531"/>
                  </a:lnTo>
                  <a:lnTo>
                    <a:pt x="713" y="584"/>
                  </a:lnTo>
                  <a:lnTo>
                    <a:pt x="606" y="484"/>
                  </a:lnTo>
                  <a:lnTo>
                    <a:pt x="587" y="401"/>
                  </a:lnTo>
                  <a:lnTo>
                    <a:pt x="587" y="304"/>
                  </a:lnTo>
                  <a:lnTo>
                    <a:pt x="538" y="368"/>
                  </a:lnTo>
                  <a:lnTo>
                    <a:pt x="538" y="500"/>
                  </a:lnTo>
                  <a:lnTo>
                    <a:pt x="664" y="626"/>
                  </a:lnTo>
                  <a:lnTo>
                    <a:pt x="587" y="657"/>
                  </a:lnTo>
                  <a:lnTo>
                    <a:pt x="509" y="755"/>
                  </a:lnTo>
                  <a:lnTo>
                    <a:pt x="443" y="836"/>
                  </a:lnTo>
                  <a:lnTo>
                    <a:pt x="336" y="952"/>
                  </a:lnTo>
                  <a:lnTo>
                    <a:pt x="224" y="1010"/>
                  </a:lnTo>
                  <a:lnTo>
                    <a:pt x="0" y="1120"/>
                  </a:lnTo>
                  <a:lnTo>
                    <a:pt x="66" y="1188"/>
                  </a:lnTo>
                  <a:lnTo>
                    <a:pt x="250" y="1108"/>
                  </a:lnTo>
                  <a:lnTo>
                    <a:pt x="538" y="1020"/>
                  </a:lnTo>
                  <a:lnTo>
                    <a:pt x="390" y="10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492760" y="3968280"/>
              <a:ext cx="178560" cy="192960"/>
            </a:xfrm>
            <a:custGeom>
              <a:avLst/>
              <a:gdLst/>
              <a:ahLst/>
              <a:rect l="l" t="t" r="r" b="b"/>
              <a:pathLst>
                <a:path w="1400" h="804">
                  <a:moveTo>
                    <a:pt x="707" y="96"/>
                  </a:moveTo>
                  <a:lnTo>
                    <a:pt x="654" y="128"/>
                  </a:lnTo>
                  <a:lnTo>
                    <a:pt x="735" y="246"/>
                  </a:lnTo>
                  <a:lnTo>
                    <a:pt x="518" y="195"/>
                  </a:lnTo>
                  <a:lnTo>
                    <a:pt x="587" y="279"/>
                  </a:lnTo>
                  <a:lnTo>
                    <a:pt x="415" y="227"/>
                  </a:lnTo>
                  <a:lnTo>
                    <a:pt x="465" y="312"/>
                  </a:lnTo>
                  <a:lnTo>
                    <a:pt x="286" y="257"/>
                  </a:lnTo>
                  <a:lnTo>
                    <a:pt x="286" y="323"/>
                  </a:lnTo>
                  <a:lnTo>
                    <a:pt x="208" y="257"/>
                  </a:lnTo>
                  <a:lnTo>
                    <a:pt x="104" y="323"/>
                  </a:lnTo>
                  <a:lnTo>
                    <a:pt x="286" y="353"/>
                  </a:lnTo>
                  <a:lnTo>
                    <a:pt x="389" y="419"/>
                  </a:lnTo>
                  <a:lnTo>
                    <a:pt x="364" y="323"/>
                  </a:lnTo>
                  <a:lnTo>
                    <a:pt x="518" y="419"/>
                  </a:lnTo>
                  <a:lnTo>
                    <a:pt x="674" y="611"/>
                  </a:lnTo>
                  <a:lnTo>
                    <a:pt x="598" y="387"/>
                  </a:lnTo>
                  <a:lnTo>
                    <a:pt x="518" y="323"/>
                  </a:lnTo>
                  <a:lnTo>
                    <a:pt x="628" y="346"/>
                  </a:lnTo>
                  <a:lnTo>
                    <a:pt x="727" y="419"/>
                  </a:lnTo>
                  <a:lnTo>
                    <a:pt x="674" y="290"/>
                  </a:lnTo>
                  <a:lnTo>
                    <a:pt x="883" y="429"/>
                  </a:lnTo>
                  <a:lnTo>
                    <a:pt x="777" y="290"/>
                  </a:lnTo>
                  <a:lnTo>
                    <a:pt x="1032" y="413"/>
                  </a:lnTo>
                  <a:lnTo>
                    <a:pt x="761" y="195"/>
                  </a:lnTo>
                  <a:lnTo>
                    <a:pt x="829" y="146"/>
                  </a:lnTo>
                  <a:lnTo>
                    <a:pt x="1043" y="195"/>
                  </a:lnTo>
                  <a:lnTo>
                    <a:pt x="776" y="45"/>
                  </a:lnTo>
                  <a:lnTo>
                    <a:pt x="1032" y="78"/>
                  </a:lnTo>
                  <a:lnTo>
                    <a:pt x="1245" y="257"/>
                  </a:lnTo>
                  <a:lnTo>
                    <a:pt x="1322" y="353"/>
                  </a:lnTo>
                  <a:lnTo>
                    <a:pt x="1374" y="484"/>
                  </a:lnTo>
                  <a:lnTo>
                    <a:pt x="1400" y="580"/>
                  </a:lnTo>
                  <a:lnTo>
                    <a:pt x="1400" y="676"/>
                  </a:lnTo>
                  <a:lnTo>
                    <a:pt x="1218" y="741"/>
                  </a:lnTo>
                  <a:lnTo>
                    <a:pt x="1036" y="804"/>
                  </a:lnTo>
                  <a:lnTo>
                    <a:pt x="882" y="804"/>
                  </a:lnTo>
                  <a:lnTo>
                    <a:pt x="722" y="796"/>
                  </a:lnTo>
                  <a:lnTo>
                    <a:pt x="587" y="713"/>
                  </a:lnTo>
                  <a:lnTo>
                    <a:pt x="492" y="580"/>
                  </a:lnTo>
                  <a:lnTo>
                    <a:pt x="293" y="429"/>
                  </a:lnTo>
                  <a:lnTo>
                    <a:pt x="0" y="387"/>
                  </a:lnTo>
                  <a:lnTo>
                    <a:pt x="104" y="227"/>
                  </a:lnTo>
                  <a:lnTo>
                    <a:pt x="286" y="195"/>
                  </a:lnTo>
                  <a:lnTo>
                    <a:pt x="468" y="161"/>
                  </a:lnTo>
                  <a:lnTo>
                    <a:pt x="571" y="98"/>
                  </a:lnTo>
                  <a:lnTo>
                    <a:pt x="650" y="0"/>
                  </a:lnTo>
                  <a:lnTo>
                    <a:pt x="70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3920" y="4086360"/>
              <a:ext cx="190440" cy="132120"/>
            </a:xfrm>
            <a:custGeom>
              <a:avLst/>
              <a:gdLst/>
              <a:ahLst/>
              <a:rect l="l" t="t" r="r" b="b"/>
              <a:pathLst>
                <a:path w="1492" h="552">
                  <a:moveTo>
                    <a:pt x="39" y="0"/>
                  </a:moveTo>
                  <a:lnTo>
                    <a:pt x="248" y="246"/>
                  </a:lnTo>
                  <a:lnTo>
                    <a:pt x="402" y="341"/>
                  </a:lnTo>
                  <a:lnTo>
                    <a:pt x="591" y="386"/>
                  </a:lnTo>
                  <a:lnTo>
                    <a:pt x="900" y="368"/>
                  </a:lnTo>
                  <a:lnTo>
                    <a:pt x="1142" y="319"/>
                  </a:lnTo>
                  <a:lnTo>
                    <a:pt x="1289" y="268"/>
                  </a:lnTo>
                  <a:lnTo>
                    <a:pt x="1492" y="181"/>
                  </a:lnTo>
                  <a:lnTo>
                    <a:pt x="1142" y="368"/>
                  </a:lnTo>
                  <a:lnTo>
                    <a:pt x="869" y="438"/>
                  </a:lnTo>
                  <a:lnTo>
                    <a:pt x="661" y="438"/>
                  </a:lnTo>
                  <a:lnTo>
                    <a:pt x="481" y="407"/>
                  </a:lnTo>
                  <a:lnTo>
                    <a:pt x="325" y="341"/>
                  </a:lnTo>
                  <a:lnTo>
                    <a:pt x="248" y="279"/>
                  </a:lnTo>
                  <a:lnTo>
                    <a:pt x="325" y="407"/>
                  </a:lnTo>
                  <a:lnTo>
                    <a:pt x="481" y="502"/>
                  </a:lnTo>
                  <a:lnTo>
                    <a:pt x="724" y="537"/>
                  </a:lnTo>
                  <a:lnTo>
                    <a:pt x="417" y="552"/>
                  </a:lnTo>
                  <a:lnTo>
                    <a:pt x="274" y="502"/>
                  </a:lnTo>
                  <a:lnTo>
                    <a:pt x="169" y="438"/>
                  </a:lnTo>
                  <a:lnTo>
                    <a:pt x="81" y="251"/>
                  </a:lnTo>
                  <a:lnTo>
                    <a:pt x="222" y="372"/>
                  </a:lnTo>
                  <a:lnTo>
                    <a:pt x="143" y="211"/>
                  </a:lnTo>
                  <a:lnTo>
                    <a:pt x="0" y="3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608680" y="4130640"/>
              <a:ext cx="132120" cy="84240"/>
            </a:xfrm>
            <a:custGeom>
              <a:avLst/>
              <a:gdLst/>
              <a:ahLst/>
              <a:rect l="l" t="t" r="r" b="b"/>
              <a:pathLst>
                <a:path w="1036" h="352">
                  <a:moveTo>
                    <a:pt x="0" y="352"/>
                  </a:moveTo>
                  <a:lnTo>
                    <a:pt x="255" y="285"/>
                  </a:lnTo>
                  <a:lnTo>
                    <a:pt x="514" y="156"/>
                  </a:lnTo>
                  <a:lnTo>
                    <a:pt x="712" y="51"/>
                  </a:lnTo>
                  <a:lnTo>
                    <a:pt x="861" y="0"/>
                  </a:lnTo>
                  <a:lnTo>
                    <a:pt x="1036" y="0"/>
                  </a:lnTo>
                  <a:lnTo>
                    <a:pt x="819" y="66"/>
                  </a:lnTo>
                  <a:lnTo>
                    <a:pt x="593" y="156"/>
                  </a:lnTo>
                  <a:lnTo>
                    <a:pt x="458" y="217"/>
                  </a:lnTo>
                  <a:lnTo>
                    <a:pt x="335" y="285"/>
                  </a:lnTo>
                  <a:lnTo>
                    <a:pt x="161" y="35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231760" y="4179600"/>
              <a:ext cx="471240" cy="826560"/>
            </a:xfrm>
            <a:custGeom>
              <a:avLst/>
              <a:gdLst/>
              <a:ahLst/>
              <a:rect l="l" t="t" r="r" b="b"/>
              <a:pathLst>
                <a:path w="3691" h="3444">
                  <a:moveTo>
                    <a:pt x="2978" y="251"/>
                  </a:moveTo>
                  <a:lnTo>
                    <a:pt x="3234" y="217"/>
                  </a:lnTo>
                  <a:lnTo>
                    <a:pt x="3421" y="133"/>
                  </a:lnTo>
                  <a:lnTo>
                    <a:pt x="3691" y="0"/>
                  </a:lnTo>
                  <a:lnTo>
                    <a:pt x="3462" y="179"/>
                  </a:lnTo>
                  <a:lnTo>
                    <a:pt x="3571" y="342"/>
                  </a:lnTo>
                  <a:lnTo>
                    <a:pt x="3599" y="500"/>
                  </a:lnTo>
                  <a:lnTo>
                    <a:pt x="3545" y="631"/>
                  </a:lnTo>
                  <a:lnTo>
                    <a:pt x="3466" y="758"/>
                  </a:lnTo>
                  <a:lnTo>
                    <a:pt x="3416" y="921"/>
                  </a:lnTo>
                  <a:lnTo>
                    <a:pt x="3416" y="951"/>
                  </a:lnTo>
                  <a:lnTo>
                    <a:pt x="3364" y="1016"/>
                  </a:lnTo>
                  <a:lnTo>
                    <a:pt x="3302" y="1171"/>
                  </a:lnTo>
                  <a:lnTo>
                    <a:pt x="3207" y="1304"/>
                  </a:lnTo>
                  <a:lnTo>
                    <a:pt x="3157" y="1433"/>
                  </a:lnTo>
                  <a:lnTo>
                    <a:pt x="3078" y="1530"/>
                  </a:lnTo>
                  <a:lnTo>
                    <a:pt x="3001" y="1627"/>
                  </a:lnTo>
                  <a:lnTo>
                    <a:pt x="2949" y="1690"/>
                  </a:lnTo>
                  <a:lnTo>
                    <a:pt x="2871" y="1690"/>
                  </a:lnTo>
                  <a:lnTo>
                    <a:pt x="2692" y="1883"/>
                  </a:lnTo>
                  <a:lnTo>
                    <a:pt x="2613" y="1883"/>
                  </a:lnTo>
                  <a:lnTo>
                    <a:pt x="2483" y="1979"/>
                  </a:lnTo>
                  <a:lnTo>
                    <a:pt x="2380" y="2075"/>
                  </a:lnTo>
                  <a:lnTo>
                    <a:pt x="2275" y="2141"/>
                  </a:lnTo>
                  <a:lnTo>
                    <a:pt x="2121" y="2205"/>
                  </a:lnTo>
                  <a:lnTo>
                    <a:pt x="2250" y="2365"/>
                  </a:lnTo>
                  <a:lnTo>
                    <a:pt x="2117" y="2574"/>
                  </a:lnTo>
                  <a:lnTo>
                    <a:pt x="1940" y="2687"/>
                  </a:lnTo>
                  <a:lnTo>
                    <a:pt x="1928" y="2841"/>
                  </a:lnTo>
                  <a:lnTo>
                    <a:pt x="1795" y="2977"/>
                  </a:lnTo>
                  <a:lnTo>
                    <a:pt x="1338" y="3444"/>
                  </a:lnTo>
                  <a:lnTo>
                    <a:pt x="1753" y="2740"/>
                  </a:lnTo>
                  <a:lnTo>
                    <a:pt x="1581" y="2908"/>
                  </a:lnTo>
                  <a:lnTo>
                    <a:pt x="1786" y="2623"/>
                  </a:lnTo>
                  <a:lnTo>
                    <a:pt x="1500" y="2876"/>
                  </a:lnTo>
                  <a:lnTo>
                    <a:pt x="1734" y="2589"/>
                  </a:lnTo>
                  <a:lnTo>
                    <a:pt x="1445" y="2825"/>
                  </a:lnTo>
                  <a:lnTo>
                    <a:pt x="1683" y="2558"/>
                  </a:lnTo>
                  <a:lnTo>
                    <a:pt x="1406" y="2776"/>
                  </a:lnTo>
                  <a:lnTo>
                    <a:pt x="1630" y="2558"/>
                  </a:lnTo>
                  <a:lnTo>
                    <a:pt x="1366" y="2707"/>
                  </a:lnTo>
                  <a:lnTo>
                    <a:pt x="1604" y="2494"/>
                  </a:lnTo>
                  <a:lnTo>
                    <a:pt x="1812" y="2301"/>
                  </a:lnTo>
                  <a:lnTo>
                    <a:pt x="1657" y="2365"/>
                  </a:lnTo>
                  <a:lnTo>
                    <a:pt x="1424" y="2558"/>
                  </a:lnTo>
                  <a:lnTo>
                    <a:pt x="1189" y="2908"/>
                  </a:lnTo>
                  <a:lnTo>
                    <a:pt x="1029" y="3008"/>
                  </a:lnTo>
                  <a:lnTo>
                    <a:pt x="880" y="3201"/>
                  </a:lnTo>
                  <a:lnTo>
                    <a:pt x="895" y="3275"/>
                  </a:lnTo>
                  <a:lnTo>
                    <a:pt x="800" y="3360"/>
                  </a:lnTo>
                  <a:lnTo>
                    <a:pt x="665" y="3411"/>
                  </a:lnTo>
                  <a:lnTo>
                    <a:pt x="356" y="3375"/>
                  </a:lnTo>
                  <a:lnTo>
                    <a:pt x="206" y="3330"/>
                  </a:lnTo>
                  <a:lnTo>
                    <a:pt x="129" y="3233"/>
                  </a:lnTo>
                  <a:lnTo>
                    <a:pt x="0" y="2945"/>
                  </a:lnTo>
                  <a:lnTo>
                    <a:pt x="180" y="3169"/>
                  </a:lnTo>
                  <a:lnTo>
                    <a:pt x="180" y="3059"/>
                  </a:lnTo>
                  <a:lnTo>
                    <a:pt x="272" y="3128"/>
                  </a:lnTo>
                  <a:lnTo>
                    <a:pt x="309" y="3040"/>
                  </a:lnTo>
                  <a:lnTo>
                    <a:pt x="415" y="3146"/>
                  </a:lnTo>
                  <a:lnTo>
                    <a:pt x="439" y="3040"/>
                  </a:lnTo>
                  <a:lnTo>
                    <a:pt x="556" y="3128"/>
                  </a:lnTo>
                  <a:lnTo>
                    <a:pt x="568" y="3007"/>
                  </a:lnTo>
                  <a:lnTo>
                    <a:pt x="683" y="3092"/>
                  </a:lnTo>
                  <a:lnTo>
                    <a:pt x="671" y="2977"/>
                  </a:lnTo>
                  <a:lnTo>
                    <a:pt x="796" y="3022"/>
                  </a:lnTo>
                  <a:lnTo>
                    <a:pt x="813" y="2890"/>
                  </a:lnTo>
                  <a:lnTo>
                    <a:pt x="907" y="2934"/>
                  </a:lnTo>
                  <a:lnTo>
                    <a:pt x="935" y="2828"/>
                  </a:lnTo>
                  <a:lnTo>
                    <a:pt x="1034" y="2847"/>
                  </a:lnTo>
                  <a:lnTo>
                    <a:pt x="1002" y="2758"/>
                  </a:lnTo>
                  <a:lnTo>
                    <a:pt x="1105" y="2758"/>
                  </a:lnTo>
                  <a:lnTo>
                    <a:pt x="1105" y="2688"/>
                  </a:lnTo>
                  <a:lnTo>
                    <a:pt x="1189" y="2672"/>
                  </a:lnTo>
                  <a:lnTo>
                    <a:pt x="1189" y="2584"/>
                  </a:lnTo>
                  <a:lnTo>
                    <a:pt x="1296" y="2574"/>
                  </a:lnTo>
                  <a:lnTo>
                    <a:pt x="1288" y="2476"/>
                  </a:lnTo>
                  <a:lnTo>
                    <a:pt x="1371" y="2494"/>
                  </a:lnTo>
                  <a:lnTo>
                    <a:pt x="1357" y="2391"/>
                  </a:lnTo>
                  <a:lnTo>
                    <a:pt x="1475" y="2365"/>
                  </a:lnTo>
                  <a:lnTo>
                    <a:pt x="1474" y="2285"/>
                  </a:lnTo>
                  <a:lnTo>
                    <a:pt x="1577" y="2269"/>
                  </a:lnTo>
                  <a:lnTo>
                    <a:pt x="1577" y="2205"/>
                  </a:lnTo>
                  <a:lnTo>
                    <a:pt x="1657" y="2173"/>
                  </a:lnTo>
                  <a:lnTo>
                    <a:pt x="1683" y="2108"/>
                  </a:lnTo>
                  <a:lnTo>
                    <a:pt x="1760" y="2046"/>
                  </a:lnTo>
                  <a:lnTo>
                    <a:pt x="1552" y="2141"/>
                  </a:lnTo>
                  <a:lnTo>
                    <a:pt x="1292" y="2269"/>
                  </a:lnTo>
                  <a:lnTo>
                    <a:pt x="1203" y="2374"/>
                  </a:lnTo>
                  <a:lnTo>
                    <a:pt x="988" y="2423"/>
                  </a:lnTo>
                  <a:lnTo>
                    <a:pt x="788" y="2441"/>
                  </a:lnTo>
                  <a:lnTo>
                    <a:pt x="1034" y="2301"/>
                  </a:lnTo>
                  <a:lnTo>
                    <a:pt x="1087" y="2239"/>
                  </a:lnTo>
                  <a:lnTo>
                    <a:pt x="1216" y="2239"/>
                  </a:lnTo>
                  <a:lnTo>
                    <a:pt x="1241" y="2141"/>
                  </a:lnTo>
                  <a:lnTo>
                    <a:pt x="1318" y="2173"/>
                  </a:lnTo>
                  <a:lnTo>
                    <a:pt x="1318" y="2075"/>
                  </a:lnTo>
                  <a:lnTo>
                    <a:pt x="1424" y="2075"/>
                  </a:lnTo>
                  <a:lnTo>
                    <a:pt x="1424" y="1979"/>
                  </a:lnTo>
                  <a:lnTo>
                    <a:pt x="1527" y="2011"/>
                  </a:lnTo>
                  <a:lnTo>
                    <a:pt x="1515" y="1899"/>
                  </a:lnTo>
                  <a:lnTo>
                    <a:pt x="1600" y="1917"/>
                  </a:lnTo>
                  <a:lnTo>
                    <a:pt x="1604" y="1818"/>
                  </a:lnTo>
                  <a:lnTo>
                    <a:pt x="1698" y="1812"/>
                  </a:lnTo>
                  <a:lnTo>
                    <a:pt x="1657" y="1721"/>
                  </a:lnTo>
                  <a:lnTo>
                    <a:pt x="1783" y="1707"/>
                  </a:lnTo>
                  <a:lnTo>
                    <a:pt x="1768" y="1617"/>
                  </a:lnTo>
                  <a:lnTo>
                    <a:pt x="1867" y="1584"/>
                  </a:lnTo>
                  <a:lnTo>
                    <a:pt x="1840" y="1495"/>
                  </a:lnTo>
                  <a:lnTo>
                    <a:pt x="1936" y="1495"/>
                  </a:lnTo>
                  <a:lnTo>
                    <a:pt x="1881" y="1409"/>
                  </a:lnTo>
                  <a:lnTo>
                    <a:pt x="1953" y="1373"/>
                  </a:lnTo>
                  <a:lnTo>
                    <a:pt x="1912" y="1304"/>
                  </a:lnTo>
                  <a:lnTo>
                    <a:pt x="1993" y="1273"/>
                  </a:lnTo>
                  <a:lnTo>
                    <a:pt x="1917" y="1202"/>
                  </a:lnTo>
                  <a:lnTo>
                    <a:pt x="1993" y="1177"/>
                  </a:lnTo>
                  <a:lnTo>
                    <a:pt x="1917" y="1102"/>
                  </a:lnTo>
                  <a:lnTo>
                    <a:pt x="1966" y="1049"/>
                  </a:lnTo>
                  <a:lnTo>
                    <a:pt x="1940" y="983"/>
                  </a:lnTo>
                  <a:lnTo>
                    <a:pt x="1966" y="921"/>
                  </a:lnTo>
                  <a:lnTo>
                    <a:pt x="2069" y="853"/>
                  </a:lnTo>
                  <a:lnTo>
                    <a:pt x="2174" y="758"/>
                  </a:lnTo>
                  <a:lnTo>
                    <a:pt x="2069" y="951"/>
                  </a:lnTo>
                  <a:lnTo>
                    <a:pt x="2042" y="1113"/>
                  </a:lnTo>
                  <a:lnTo>
                    <a:pt x="2095" y="1241"/>
                  </a:lnTo>
                  <a:lnTo>
                    <a:pt x="2224" y="1369"/>
                  </a:lnTo>
                  <a:lnTo>
                    <a:pt x="2250" y="1273"/>
                  </a:lnTo>
                  <a:lnTo>
                    <a:pt x="2301" y="1369"/>
                  </a:lnTo>
                  <a:lnTo>
                    <a:pt x="2328" y="1273"/>
                  </a:lnTo>
                  <a:lnTo>
                    <a:pt x="2380" y="1369"/>
                  </a:lnTo>
                  <a:lnTo>
                    <a:pt x="2406" y="1273"/>
                  </a:lnTo>
                  <a:lnTo>
                    <a:pt x="2457" y="1337"/>
                  </a:lnTo>
                  <a:lnTo>
                    <a:pt x="2589" y="1253"/>
                  </a:lnTo>
                  <a:lnTo>
                    <a:pt x="2925" y="1053"/>
                  </a:lnTo>
                  <a:lnTo>
                    <a:pt x="2613" y="1113"/>
                  </a:lnTo>
                  <a:lnTo>
                    <a:pt x="2665" y="1049"/>
                  </a:lnTo>
                  <a:lnTo>
                    <a:pt x="2818" y="1003"/>
                  </a:lnTo>
                  <a:lnTo>
                    <a:pt x="3074" y="834"/>
                  </a:lnTo>
                  <a:lnTo>
                    <a:pt x="3166" y="668"/>
                  </a:lnTo>
                  <a:lnTo>
                    <a:pt x="3105" y="500"/>
                  </a:lnTo>
                  <a:lnTo>
                    <a:pt x="3078" y="470"/>
                  </a:lnTo>
                  <a:lnTo>
                    <a:pt x="2977" y="500"/>
                  </a:lnTo>
                  <a:lnTo>
                    <a:pt x="2846" y="598"/>
                  </a:lnTo>
                  <a:lnTo>
                    <a:pt x="2846" y="470"/>
                  </a:lnTo>
                  <a:lnTo>
                    <a:pt x="2742" y="598"/>
                  </a:lnTo>
                  <a:lnTo>
                    <a:pt x="2716" y="534"/>
                  </a:lnTo>
                  <a:lnTo>
                    <a:pt x="2665" y="631"/>
                  </a:lnTo>
                  <a:lnTo>
                    <a:pt x="2640" y="566"/>
                  </a:lnTo>
                  <a:lnTo>
                    <a:pt x="2640" y="693"/>
                  </a:lnTo>
                  <a:lnTo>
                    <a:pt x="2560" y="823"/>
                  </a:lnTo>
                  <a:lnTo>
                    <a:pt x="2431" y="921"/>
                  </a:lnTo>
                  <a:lnTo>
                    <a:pt x="2534" y="790"/>
                  </a:lnTo>
                  <a:lnTo>
                    <a:pt x="2534" y="693"/>
                  </a:lnTo>
                  <a:lnTo>
                    <a:pt x="2457" y="662"/>
                  </a:lnTo>
                  <a:lnTo>
                    <a:pt x="2301" y="790"/>
                  </a:lnTo>
                  <a:lnTo>
                    <a:pt x="2275" y="727"/>
                  </a:lnTo>
                  <a:lnTo>
                    <a:pt x="2319" y="671"/>
                  </a:lnTo>
                  <a:lnTo>
                    <a:pt x="2361" y="618"/>
                  </a:lnTo>
                  <a:lnTo>
                    <a:pt x="2275" y="566"/>
                  </a:lnTo>
                  <a:lnTo>
                    <a:pt x="2457" y="566"/>
                  </a:lnTo>
                  <a:lnTo>
                    <a:pt x="2275" y="444"/>
                  </a:lnTo>
                  <a:lnTo>
                    <a:pt x="2560" y="500"/>
                  </a:lnTo>
                  <a:lnTo>
                    <a:pt x="2262" y="302"/>
                  </a:lnTo>
                  <a:lnTo>
                    <a:pt x="2716" y="437"/>
                  </a:lnTo>
                  <a:lnTo>
                    <a:pt x="2262" y="179"/>
                  </a:lnTo>
                  <a:lnTo>
                    <a:pt x="2785" y="374"/>
                  </a:lnTo>
                  <a:lnTo>
                    <a:pt x="2686" y="251"/>
                  </a:lnTo>
                  <a:lnTo>
                    <a:pt x="3105" y="374"/>
                  </a:lnTo>
                  <a:lnTo>
                    <a:pt x="2978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132760" y="4415760"/>
              <a:ext cx="224640" cy="470520"/>
            </a:xfrm>
            <a:custGeom>
              <a:avLst/>
              <a:gdLst/>
              <a:ahLst/>
              <a:rect l="l" t="t" r="r" b="b"/>
              <a:pathLst>
                <a:path w="1759" h="1962">
                  <a:moveTo>
                    <a:pt x="415" y="1222"/>
                  </a:moveTo>
                  <a:lnTo>
                    <a:pt x="337" y="1414"/>
                  </a:lnTo>
                  <a:lnTo>
                    <a:pt x="311" y="1606"/>
                  </a:lnTo>
                  <a:lnTo>
                    <a:pt x="337" y="1735"/>
                  </a:lnTo>
                  <a:lnTo>
                    <a:pt x="389" y="1864"/>
                  </a:lnTo>
                  <a:lnTo>
                    <a:pt x="546" y="1928"/>
                  </a:lnTo>
                  <a:lnTo>
                    <a:pt x="647" y="1962"/>
                  </a:lnTo>
                  <a:lnTo>
                    <a:pt x="778" y="1962"/>
                  </a:lnTo>
                  <a:lnTo>
                    <a:pt x="750" y="1896"/>
                  </a:lnTo>
                  <a:lnTo>
                    <a:pt x="907" y="1928"/>
                  </a:lnTo>
                  <a:lnTo>
                    <a:pt x="880" y="1833"/>
                  </a:lnTo>
                  <a:lnTo>
                    <a:pt x="984" y="1864"/>
                  </a:lnTo>
                  <a:lnTo>
                    <a:pt x="984" y="1769"/>
                  </a:lnTo>
                  <a:lnTo>
                    <a:pt x="1035" y="1801"/>
                  </a:lnTo>
                  <a:lnTo>
                    <a:pt x="1035" y="1704"/>
                  </a:lnTo>
                  <a:lnTo>
                    <a:pt x="1164" y="1704"/>
                  </a:lnTo>
                  <a:lnTo>
                    <a:pt x="1164" y="1672"/>
                  </a:lnTo>
                  <a:lnTo>
                    <a:pt x="1320" y="1640"/>
                  </a:lnTo>
                  <a:lnTo>
                    <a:pt x="1320" y="1575"/>
                  </a:lnTo>
                  <a:lnTo>
                    <a:pt x="1372" y="1543"/>
                  </a:lnTo>
                  <a:lnTo>
                    <a:pt x="1449" y="1480"/>
                  </a:lnTo>
                  <a:lnTo>
                    <a:pt x="1294" y="1543"/>
                  </a:lnTo>
                  <a:lnTo>
                    <a:pt x="1087" y="1606"/>
                  </a:lnTo>
                  <a:lnTo>
                    <a:pt x="1035" y="1575"/>
                  </a:lnTo>
                  <a:lnTo>
                    <a:pt x="984" y="1640"/>
                  </a:lnTo>
                  <a:lnTo>
                    <a:pt x="931" y="1575"/>
                  </a:lnTo>
                  <a:lnTo>
                    <a:pt x="907" y="1640"/>
                  </a:lnTo>
                  <a:lnTo>
                    <a:pt x="828" y="1606"/>
                  </a:lnTo>
                  <a:lnTo>
                    <a:pt x="801" y="1672"/>
                  </a:lnTo>
                  <a:lnTo>
                    <a:pt x="750" y="1640"/>
                  </a:lnTo>
                  <a:lnTo>
                    <a:pt x="723" y="1672"/>
                  </a:lnTo>
                  <a:lnTo>
                    <a:pt x="647" y="1606"/>
                  </a:lnTo>
                  <a:lnTo>
                    <a:pt x="571" y="1704"/>
                  </a:lnTo>
                  <a:lnTo>
                    <a:pt x="546" y="1606"/>
                  </a:lnTo>
                  <a:lnTo>
                    <a:pt x="415" y="1672"/>
                  </a:lnTo>
                  <a:lnTo>
                    <a:pt x="389" y="1543"/>
                  </a:lnTo>
                  <a:lnTo>
                    <a:pt x="415" y="1414"/>
                  </a:lnTo>
                  <a:lnTo>
                    <a:pt x="493" y="1286"/>
                  </a:lnTo>
                  <a:lnTo>
                    <a:pt x="647" y="1318"/>
                  </a:lnTo>
                  <a:lnTo>
                    <a:pt x="647" y="1256"/>
                  </a:lnTo>
                  <a:lnTo>
                    <a:pt x="750" y="1318"/>
                  </a:lnTo>
                  <a:lnTo>
                    <a:pt x="750" y="1222"/>
                  </a:lnTo>
                  <a:lnTo>
                    <a:pt x="854" y="1286"/>
                  </a:lnTo>
                  <a:lnTo>
                    <a:pt x="854" y="1190"/>
                  </a:lnTo>
                  <a:lnTo>
                    <a:pt x="958" y="1256"/>
                  </a:lnTo>
                  <a:lnTo>
                    <a:pt x="958" y="1190"/>
                  </a:lnTo>
                  <a:lnTo>
                    <a:pt x="880" y="996"/>
                  </a:lnTo>
                  <a:lnTo>
                    <a:pt x="958" y="1023"/>
                  </a:lnTo>
                  <a:lnTo>
                    <a:pt x="931" y="933"/>
                  </a:lnTo>
                  <a:lnTo>
                    <a:pt x="1027" y="971"/>
                  </a:lnTo>
                  <a:lnTo>
                    <a:pt x="1009" y="900"/>
                  </a:lnTo>
                  <a:lnTo>
                    <a:pt x="1108" y="841"/>
                  </a:lnTo>
                  <a:lnTo>
                    <a:pt x="854" y="868"/>
                  </a:lnTo>
                  <a:lnTo>
                    <a:pt x="828" y="933"/>
                  </a:lnTo>
                  <a:lnTo>
                    <a:pt x="750" y="868"/>
                  </a:lnTo>
                  <a:lnTo>
                    <a:pt x="750" y="966"/>
                  </a:lnTo>
                  <a:lnTo>
                    <a:pt x="675" y="900"/>
                  </a:lnTo>
                  <a:lnTo>
                    <a:pt x="675" y="933"/>
                  </a:lnTo>
                  <a:lnTo>
                    <a:pt x="623" y="900"/>
                  </a:lnTo>
                  <a:lnTo>
                    <a:pt x="571" y="996"/>
                  </a:lnTo>
                  <a:lnTo>
                    <a:pt x="493" y="933"/>
                  </a:lnTo>
                  <a:lnTo>
                    <a:pt x="466" y="1028"/>
                  </a:lnTo>
                  <a:lnTo>
                    <a:pt x="519" y="1125"/>
                  </a:lnTo>
                  <a:lnTo>
                    <a:pt x="415" y="1092"/>
                  </a:lnTo>
                  <a:lnTo>
                    <a:pt x="389" y="996"/>
                  </a:lnTo>
                  <a:lnTo>
                    <a:pt x="364" y="933"/>
                  </a:lnTo>
                  <a:lnTo>
                    <a:pt x="389" y="835"/>
                  </a:lnTo>
                  <a:lnTo>
                    <a:pt x="493" y="676"/>
                  </a:lnTo>
                  <a:lnTo>
                    <a:pt x="596" y="707"/>
                  </a:lnTo>
                  <a:lnTo>
                    <a:pt x="623" y="644"/>
                  </a:lnTo>
                  <a:lnTo>
                    <a:pt x="700" y="676"/>
                  </a:lnTo>
                  <a:lnTo>
                    <a:pt x="704" y="589"/>
                  </a:lnTo>
                  <a:lnTo>
                    <a:pt x="758" y="655"/>
                  </a:lnTo>
                  <a:lnTo>
                    <a:pt x="771" y="573"/>
                  </a:lnTo>
                  <a:lnTo>
                    <a:pt x="854" y="644"/>
                  </a:lnTo>
                  <a:lnTo>
                    <a:pt x="880" y="579"/>
                  </a:lnTo>
                  <a:lnTo>
                    <a:pt x="958" y="644"/>
                  </a:lnTo>
                  <a:lnTo>
                    <a:pt x="984" y="547"/>
                  </a:lnTo>
                  <a:lnTo>
                    <a:pt x="1087" y="611"/>
                  </a:lnTo>
                  <a:lnTo>
                    <a:pt x="1113" y="483"/>
                  </a:lnTo>
                  <a:lnTo>
                    <a:pt x="1190" y="579"/>
                  </a:lnTo>
                  <a:lnTo>
                    <a:pt x="1243" y="483"/>
                  </a:lnTo>
                  <a:lnTo>
                    <a:pt x="1346" y="547"/>
                  </a:lnTo>
                  <a:lnTo>
                    <a:pt x="1346" y="483"/>
                  </a:lnTo>
                  <a:lnTo>
                    <a:pt x="1423" y="547"/>
                  </a:lnTo>
                  <a:lnTo>
                    <a:pt x="1449" y="515"/>
                  </a:lnTo>
                  <a:lnTo>
                    <a:pt x="1502" y="579"/>
                  </a:lnTo>
                  <a:lnTo>
                    <a:pt x="1502" y="290"/>
                  </a:lnTo>
                  <a:lnTo>
                    <a:pt x="1554" y="547"/>
                  </a:lnTo>
                  <a:lnTo>
                    <a:pt x="1605" y="450"/>
                  </a:lnTo>
                  <a:lnTo>
                    <a:pt x="1658" y="611"/>
                  </a:lnTo>
                  <a:lnTo>
                    <a:pt x="1734" y="483"/>
                  </a:lnTo>
                  <a:lnTo>
                    <a:pt x="1759" y="354"/>
                  </a:lnTo>
                  <a:lnTo>
                    <a:pt x="1734" y="194"/>
                  </a:lnTo>
                  <a:lnTo>
                    <a:pt x="1658" y="66"/>
                  </a:lnTo>
                  <a:lnTo>
                    <a:pt x="1554" y="0"/>
                  </a:lnTo>
                  <a:lnTo>
                    <a:pt x="1682" y="226"/>
                  </a:lnTo>
                  <a:lnTo>
                    <a:pt x="1524" y="88"/>
                  </a:lnTo>
                  <a:lnTo>
                    <a:pt x="1579" y="290"/>
                  </a:lnTo>
                  <a:lnTo>
                    <a:pt x="1449" y="130"/>
                  </a:lnTo>
                  <a:lnTo>
                    <a:pt x="1476" y="226"/>
                  </a:lnTo>
                  <a:lnTo>
                    <a:pt x="1372" y="130"/>
                  </a:lnTo>
                  <a:lnTo>
                    <a:pt x="1372" y="290"/>
                  </a:lnTo>
                  <a:lnTo>
                    <a:pt x="1320" y="161"/>
                  </a:lnTo>
                  <a:lnTo>
                    <a:pt x="1294" y="321"/>
                  </a:lnTo>
                  <a:lnTo>
                    <a:pt x="1243" y="258"/>
                  </a:lnTo>
                  <a:lnTo>
                    <a:pt x="1164" y="386"/>
                  </a:lnTo>
                  <a:lnTo>
                    <a:pt x="1113" y="226"/>
                  </a:lnTo>
                  <a:lnTo>
                    <a:pt x="1060" y="386"/>
                  </a:lnTo>
                  <a:lnTo>
                    <a:pt x="1009" y="290"/>
                  </a:lnTo>
                  <a:lnTo>
                    <a:pt x="958" y="386"/>
                  </a:lnTo>
                  <a:lnTo>
                    <a:pt x="931" y="290"/>
                  </a:lnTo>
                  <a:lnTo>
                    <a:pt x="828" y="386"/>
                  </a:lnTo>
                  <a:lnTo>
                    <a:pt x="828" y="290"/>
                  </a:lnTo>
                  <a:lnTo>
                    <a:pt x="723" y="419"/>
                  </a:lnTo>
                  <a:lnTo>
                    <a:pt x="700" y="290"/>
                  </a:lnTo>
                  <a:lnTo>
                    <a:pt x="647" y="419"/>
                  </a:lnTo>
                  <a:lnTo>
                    <a:pt x="623" y="290"/>
                  </a:lnTo>
                  <a:lnTo>
                    <a:pt x="546" y="450"/>
                  </a:lnTo>
                  <a:lnTo>
                    <a:pt x="529" y="354"/>
                  </a:lnTo>
                  <a:lnTo>
                    <a:pt x="544" y="284"/>
                  </a:lnTo>
                  <a:lnTo>
                    <a:pt x="571" y="197"/>
                  </a:lnTo>
                  <a:lnTo>
                    <a:pt x="486" y="284"/>
                  </a:lnTo>
                  <a:lnTo>
                    <a:pt x="430" y="354"/>
                  </a:lnTo>
                  <a:lnTo>
                    <a:pt x="389" y="450"/>
                  </a:lnTo>
                  <a:lnTo>
                    <a:pt x="364" y="386"/>
                  </a:lnTo>
                  <a:lnTo>
                    <a:pt x="373" y="337"/>
                  </a:lnTo>
                  <a:lnTo>
                    <a:pt x="402" y="284"/>
                  </a:lnTo>
                  <a:lnTo>
                    <a:pt x="445" y="214"/>
                  </a:lnTo>
                  <a:lnTo>
                    <a:pt x="303" y="337"/>
                  </a:lnTo>
                  <a:lnTo>
                    <a:pt x="247" y="426"/>
                  </a:lnTo>
                  <a:lnTo>
                    <a:pt x="234" y="479"/>
                  </a:lnTo>
                  <a:lnTo>
                    <a:pt x="207" y="547"/>
                  </a:lnTo>
                  <a:lnTo>
                    <a:pt x="192" y="420"/>
                  </a:lnTo>
                  <a:lnTo>
                    <a:pt x="234" y="290"/>
                  </a:lnTo>
                  <a:lnTo>
                    <a:pt x="104" y="450"/>
                  </a:lnTo>
                  <a:lnTo>
                    <a:pt x="28" y="611"/>
                  </a:lnTo>
                  <a:lnTo>
                    <a:pt x="0" y="707"/>
                  </a:lnTo>
                  <a:lnTo>
                    <a:pt x="28" y="803"/>
                  </a:lnTo>
                  <a:lnTo>
                    <a:pt x="72" y="687"/>
                  </a:lnTo>
                  <a:lnTo>
                    <a:pt x="129" y="868"/>
                  </a:lnTo>
                  <a:lnTo>
                    <a:pt x="192" y="705"/>
                  </a:lnTo>
                  <a:lnTo>
                    <a:pt x="260" y="835"/>
                  </a:lnTo>
                  <a:lnTo>
                    <a:pt x="286" y="738"/>
                  </a:lnTo>
                  <a:lnTo>
                    <a:pt x="311" y="996"/>
                  </a:lnTo>
                  <a:lnTo>
                    <a:pt x="389" y="1158"/>
                  </a:lnTo>
                  <a:lnTo>
                    <a:pt x="415" y="12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32760" y="4184280"/>
              <a:ext cx="191520" cy="261000"/>
            </a:xfrm>
            <a:custGeom>
              <a:avLst/>
              <a:gdLst/>
              <a:ahLst/>
              <a:rect l="l" t="t" r="r" b="b"/>
              <a:pathLst>
                <a:path w="1502" h="1089">
                  <a:moveTo>
                    <a:pt x="984" y="31"/>
                  </a:moveTo>
                  <a:lnTo>
                    <a:pt x="723" y="160"/>
                  </a:lnTo>
                  <a:lnTo>
                    <a:pt x="571" y="255"/>
                  </a:lnTo>
                  <a:lnTo>
                    <a:pt x="415" y="384"/>
                  </a:lnTo>
                  <a:lnTo>
                    <a:pt x="337" y="479"/>
                  </a:lnTo>
                  <a:lnTo>
                    <a:pt x="311" y="577"/>
                  </a:lnTo>
                  <a:lnTo>
                    <a:pt x="181" y="641"/>
                  </a:lnTo>
                  <a:lnTo>
                    <a:pt x="78" y="737"/>
                  </a:lnTo>
                  <a:lnTo>
                    <a:pt x="52" y="867"/>
                  </a:lnTo>
                  <a:lnTo>
                    <a:pt x="78" y="930"/>
                  </a:lnTo>
                  <a:lnTo>
                    <a:pt x="106" y="879"/>
                  </a:lnTo>
                  <a:lnTo>
                    <a:pt x="163" y="842"/>
                  </a:lnTo>
                  <a:lnTo>
                    <a:pt x="234" y="930"/>
                  </a:lnTo>
                  <a:lnTo>
                    <a:pt x="260" y="832"/>
                  </a:lnTo>
                  <a:lnTo>
                    <a:pt x="311" y="900"/>
                  </a:lnTo>
                  <a:lnTo>
                    <a:pt x="361" y="827"/>
                  </a:lnTo>
                  <a:lnTo>
                    <a:pt x="415" y="900"/>
                  </a:lnTo>
                  <a:lnTo>
                    <a:pt x="430" y="842"/>
                  </a:lnTo>
                  <a:lnTo>
                    <a:pt x="529" y="894"/>
                  </a:lnTo>
                  <a:lnTo>
                    <a:pt x="623" y="930"/>
                  </a:lnTo>
                  <a:lnTo>
                    <a:pt x="700" y="832"/>
                  </a:lnTo>
                  <a:lnTo>
                    <a:pt x="828" y="802"/>
                  </a:lnTo>
                  <a:lnTo>
                    <a:pt x="931" y="832"/>
                  </a:lnTo>
                  <a:lnTo>
                    <a:pt x="984" y="900"/>
                  </a:lnTo>
                  <a:lnTo>
                    <a:pt x="1060" y="930"/>
                  </a:lnTo>
                  <a:lnTo>
                    <a:pt x="1137" y="867"/>
                  </a:lnTo>
                  <a:lnTo>
                    <a:pt x="1164" y="769"/>
                  </a:lnTo>
                  <a:lnTo>
                    <a:pt x="1113" y="706"/>
                  </a:lnTo>
                  <a:lnTo>
                    <a:pt x="1035" y="641"/>
                  </a:lnTo>
                  <a:lnTo>
                    <a:pt x="1113" y="641"/>
                  </a:lnTo>
                  <a:lnTo>
                    <a:pt x="1190" y="706"/>
                  </a:lnTo>
                  <a:lnTo>
                    <a:pt x="1319" y="790"/>
                  </a:lnTo>
                  <a:lnTo>
                    <a:pt x="1502" y="912"/>
                  </a:lnTo>
                  <a:lnTo>
                    <a:pt x="1375" y="912"/>
                  </a:lnTo>
                  <a:lnTo>
                    <a:pt x="1334" y="1019"/>
                  </a:lnTo>
                  <a:lnTo>
                    <a:pt x="1190" y="962"/>
                  </a:lnTo>
                  <a:lnTo>
                    <a:pt x="1113" y="1028"/>
                  </a:lnTo>
                  <a:lnTo>
                    <a:pt x="1060" y="962"/>
                  </a:lnTo>
                  <a:lnTo>
                    <a:pt x="1009" y="1028"/>
                  </a:lnTo>
                  <a:lnTo>
                    <a:pt x="966" y="966"/>
                  </a:lnTo>
                  <a:lnTo>
                    <a:pt x="910" y="1037"/>
                  </a:lnTo>
                  <a:lnTo>
                    <a:pt x="867" y="984"/>
                  </a:lnTo>
                  <a:lnTo>
                    <a:pt x="783" y="1037"/>
                  </a:lnTo>
                  <a:lnTo>
                    <a:pt x="758" y="982"/>
                  </a:lnTo>
                  <a:lnTo>
                    <a:pt x="669" y="1054"/>
                  </a:lnTo>
                  <a:lnTo>
                    <a:pt x="662" y="999"/>
                  </a:lnTo>
                  <a:lnTo>
                    <a:pt x="571" y="1054"/>
                  </a:lnTo>
                  <a:lnTo>
                    <a:pt x="570" y="999"/>
                  </a:lnTo>
                  <a:lnTo>
                    <a:pt x="430" y="1072"/>
                  </a:lnTo>
                  <a:lnTo>
                    <a:pt x="422" y="1014"/>
                  </a:lnTo>
                  <a:lnTo>
                    <a:pt x="333" y="1089"/>
                  </a:lnTo>
                  <a:lnTo>
                    <a:pt x="337" y="1028"/>
                  </a:lnTo>
                  <a:lnTo>
                    <a:pt x="156" y="995"/>
                  </a:lnTo>
                  <a:lnTo>
                    <a:pt x="0" y="962"/>
                  </a:lnTo>
                  <a:lnTo>
                    <a:pt x="0" y="737"/>
                  </a:lnTo>
                  <a:lnTo>
                    <a:pt x="78" y="610"/>
                  </a:lnTo>
                  <a:lnTo>
                    <a:pt x="234" y="513"/>
                  </a:lnTo>
                  <a:lnTo>
                    <a:pt x="337" y="353"/>
                  </a:lnTo>
                  <a:lnTo>
                    <a:pt x="571" y="160"/>
                  </a:lnTo>
                  <a:lnTo>
                    <a:pt x="907" y="0"/>
                  </a:lnTo>
                  <a:lnTo>
                    <a:pt x="98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205840" y="4214880"/>
              <a:ext cx="87120" cy="120600"/>
            </a:xfrm>
            <a:custGeom>
              <a:avLst/>
              <a:gdLst/>
              <a:ahLst/>
              <a:rect l="l" t="t" r="r" b="b"/>
              <a:pathLst>
                <a:path w="685" h="501">
                  <a:moveTo>
                    <a:pt x="0" y="384"/>
                  </a:moveTo>
                  <a:lnTo>
                    <a:pt x="39" y="317"/>
                  </a:lnTo>
                  <a:lnTo>
                    <a:pt x="104" y="320"/>
                  </a:lnTo>
                  <a:lnTo>
                    <a:pt x="120" y="250"/>
                  </a:lnTo>
                  <a:lnTo>
                    <a:pt x="187" y="250"/>
                  </a:lnTo>
                  <a:lnTo>
                    <a:pt x="200" y="199"/>
                  </a:lnTo>
                  <a:lnTo>
                    <a:pt x="257" y="224"/>
                  </a:lnTo>
                  <a:lnTo>
                    <a:pt x="257" y="159"/>
                  </a:lnTo>
                  <a:lnTo>
                    <a:pt x="336" y="192"/>
                  </a:lnTo>
                  <a:lnTo>
                    <a:pt x="360" y="126"/>
                  </a:lnTo>
                  <a:lnTo>
                    <a:pt x="387" y="126"/>
                  </a:lnTo>
                  <a:lnTo>
                    <a:pt x="413" y="95"/>
                  </a:lnTo>
                  <a:lnTo>
                    <a:pt x="489" y="95"/>
                  </a:lnTo>
                  <a:lnTo>
                    <a:pt x="516" y="63"/>
                  </a:lnTo>
                  <a:lnTo>
                    <a:pt x="566" y="63"/>
                  </a:lnTo>
                  <a:lnTo>
                    <a:pt x="619" y="0"/>
                  </a:lnTo>
                  <a:lnTo>
                    <a:pt x="646" y="95"/>
                  </a:lnTo>
                  <a:lnTo>
                    <a:pt x="685" y="150"/>
                  </a:lnTo>
                  <a:lnTo>
                    <a:pt x="577" y="134"/>
                  </a:lnTo>
                  <a:lnTo>
                    <a:pt x="577" y="199"/>
                  </a:lnTo>
                  <a:lnTo>
                    <a:pt x="516" y="192"/>
                  </a:lnTo>
                  <a:lnTo>
                    <a:pt x="509" y="250"/>
                  </a:lnTo>
                  <a:lnTo>
                    <a:pt x="415" y="217"/>
                  </a:lnTo>
                  <a:lnTo>
                    <a:pt x="443" y="299"/>
                  </a:lnTo>
                  <a:lnTo>
                    <a:pt x="334" y="268"/>
                  </a:lnTo>
                  <a:lnTo>
                    <a:pt x="375" y="350"/>
                  </a:lnTo>
                  <a:lnTo>
                    <a:pt x="253" y="317"/>
                  </a:lnTo>
                  <a:lnTo>
                    <a:pt x="334" y="400"/>
                  </a:lnTo>
                  <a:lnTo>
                    <a:pt x="200" y="368"/>
                  </a:lnTo>
                  <a:lnTo>
                    <a:pt x="295" y="452"/>
                  </a:lnTo>
                  <a:lnTo>
                    <a:pt x="161" y="417"/>
                  </a:lnTo>
                  <a:lnTo>
                    <a:pt x="268" y="501"/>
                  </a:lnTo>
                  <a:lnTo>
                    <a:pt x="76" y="448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145360" y="4044960"/>
              <a:ext cx="149040" cy="185040"/>
            </a:xfrm>
            <a:custGeom>
              <a:avLst/>
              <a:gdLst/>
              <a:ahLst/>
              <a:rect l="l" t="t" r="r" b="b"/>
              <a:pathLst>
                <a:path w="1170" h="771">
                  <a:moveTo>
                    <a:pt x="832" y="308"/>
                  </a:moveTo>
                  <a:lnTo>
                    <a:pt x="524" y="30"/>
                  </a:lnTo>
                  <a:lnTo>
                    <a:pt x="497" y="124"/>
                  </a:lnTo>
                  <a:lnTo>
                    <a:pt x="367" y="64"/>
                  </a:lnTo>
                  <a:lnTo>
                    <a:pt x="394" y="161"/>
                  </a:lnTo>
                  <a:lnTo>
                    <a:pt x="265" y="161"/>
                  </a:lnTo>
                  <a:lnTo>
                    <a:pt x="290" y="257"/>
                  </a:lnTo>
                  <a:lnTo>
                    <a:pt x="187" y="288"/>
                  </a:lnTo>
                  <a:lnTo>
                    <a:pt x="265" y="353"/>
                  </a:lnTo>
                  <a:lnTo>
                    <a:pt x="161" y="451"/>
                  </a:lnTo>
                  <a:lnTo>
                    <a:pt x="238" y="451"/>
                  </a:lnTo>
                  <a:lnTo>
                    <a:pt x="161" y="544"/>
                  </a:lnTo>
                  <a:lnTo>
                    <a:pt x="296" y="508"/>
                  </a:lnTo>
                  <a:lnTo>
                    <a:pt x="362" y="457"/>
                  </a:lnTo>
                  <a:lnTo>
                    <a:pt x="447" y="513"/>
                  </a:lnTo>
                  <a:lnTo>
                    <a:pt x="484" y="457"/>
                  </a:lnTo>
                  <a:lnTo>
                    <a:pt x="524" y="544"/>
                  </a:lnTo>
                  <a:lnTo>
                    <a:pt x="578" y="440"/>
                  </a:lnTo>
                  <a:lnTo>
                    <a:pt x="601" y="544"/>
                  </a:lnTo>
                  <a:lnTo>
                    <a:pt x="702" y="481"/>
                  </a:lnTo>
                  <a:lnTo>
                    <a:pt x="729" y="579"/>
                  </a:lnTo>
                  <a:lnTo>
                    <a:pt x="832" y="544"/>
                  </a:lnTo>
                  <a:lnTo>
                    <a:pt x="832" y="579"/>
                  </a:lnTo>
                  <a:lnTo>
                    <a:pt x="806" y="609"/>
                  </a:lnTo>
                  <a:lnTo>
                    <a:pt x="605" y="709"/>
                  </a:lnTo>
                  <a:lnTo>
                    <a:pt x="420" y="771"/>
                  </a:lnTo>
                  <a:lnTo>
                    <a:pt x="420" y="642"/>
                  </a:lnTo>
                  <a:lnTo>
                    <a:pt x="290" y="708"/>
                  </a:lnTo>
                  <a:lnTo>
                    <a:pt x="290" y="610"/>
                  </a:lnTo>
                  <a:lnTo>
                    <a:pt x="189" y="658"/>
                  </a:lnTo>
                  <a:lnTo>
                    <a:pt x="174" y="591"/>
                  </a:lnTo>
                  <a:lnTo>
                    <a:pt x="57" y="642"/>
                  </a:lnTo>
                  <a:lnTo>
                    <a:pt x="108" y="544"/>
                  </a:lnTo>
                  <a:lnTo>
                    <a:pt x="0" y="525"/>
                  </a:lnTo>
                  <a:lnTo>
                    <a:pt x="108" y="481"/>
                  </a:lnTo>
                  <a:lnTo>
                    <a:pt x="0" y="423"/>
                  </a:lnTo>
                  <a:lnTo>
                    <a:pt x="108" y="383"/>
                  </a:lnTo>
                  <a:lnTo>
                    <a:pt x="28" y="290"/>
                  </a:lnTo>
                  <a:lnTo>
                    <a:pt x="108" y="224"/>
                  </a:lnTo>
                  <a:lnTo>
                    <a:pt x="108" y="161"/>
                  </a:lnTo>
                  <a:lnTo>
                    <a:pt x="187" y="161"/>
                  </a:lnTo>
                  <a:lnTo>
                    <a:pt x="187" y="96"/>
                  </a:lnTo>
                  <a:lnTo>
                    <a:pt x="265" y="128"/>
                  </a:lnTo>
                  <a:lnTo>
                    <a:pt x="265" y="0"/>
                  </a:lnTo>
                  <a:lnTo>
                    <a:pt x="447" y="30"/>
                  </a:lnTo>
                  <a:lnTo>
                    <a:pt x="472" y="0"/>
                  </a:lnTo>
                  <a:lnTo>
                    <a:pt x="576" y="0"/>
                  </a:lnTo>
                  <a:lnTo>
                    <a:pt x="910" y="320"/>
                  </a:lnTo>
                  <a:lnTo>
                    <a:pt x="981" y="257"/>
                  </a:lnTo>
                  <a:lnTo>
                    <a:pt x="1009" y="357"/>
                  </a:lnTo>
                  <a:lnTo>
                    <a:pt x="1049" y="272"/>
                  </a:lnTo>
                  <a:lnTo>
                    <a:pt x="1170" y="241"/>
                  </a:lnTo>
                  <a:lnTo>
                    <a:pt x="1129" y="423"/>
                  </a:lnTo>
                  <a:lnTo>
                    <a:pt x="1049" y="574"/>
                  </a:lnTo>
                  <a:lnTo>
                    <a:pt x="1049" y="473"/>
                  </a:lnTo>
                  <a:lnTo>
                    <a:pt x="942" y="591"/>
                  </a:lnTo>
                  <a:lnTo>
                    <a:pt x="954" y="473"/>
                  </a:lnTo>
                  <a:lnTo>
                    <a:pt x="859" y="591"/>
                  </a:lnTo>
                  <a:lnTo>
                    <a:pt x="942" y="372"/>
                  </a:lnTo>
                  <a:lnTo>
                    <a:pt x="83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307000" y="3952800"/>
              <a:ext cx="172440" cy="222480"/>
            </a:xfrm>
            <a:custGeom>
              <a:avLst/>
              <a:gdLst/>
              <a:ahLst/>
              <a:rect l="l" t="t" r="r" b="b"/>
              <a:pathLst>
                <a:path w="1355" h="930">
                  <a:moveTo>
                    <a:pt x="0" y="510"/>
                  </a:moveTo>
                  <a:lnTo>
                    <a:pt x="113" y="320"/>
                  </a:lnTo>
                  <a:lnTo>
                    <a:pt x="164" y="320"/>
                  </a:lnTo>
                  <a:lnTo>
                    <a:pt x="257" y="191"/>
                  </a:lnTo>
                  <a:lnTo>
                    <a:pt x="319" y="224"/>
                  </a:lnTo>
                  <a:lnTo>
                    <a:pt x="396" y="129"/>
                  </a:lnTo>
                  <a:lnTo>
                    <a:pt x="424" y="161"/>
                  </a:lnTo>
                  <a:lnTo>
                    <a:pt x="578" y="32"/>
                  </a:lnTo>
                  <a:lnTo>
                    <a:pt x="578" y="129"/>
                  </a:lnTo>
                  <a:lnTo>
                    <a:pt x="760" y="0"/>
                  </a:lnTo>
                  <a:lnTo>
                    <a:pt x="733" y="97"/>
                  </a:lnTo>
                  <a:lnTo>
                    <a:pt x="942" y="0"/>
                  </a:lnTo>
                  <a:lnTo>
                    <a:pt x="889" y="90"/>
                  </a:lnTo>
                  <a:lnTo>
                    <a:pt x="1098" y="32"/>
                  </a:lnTo>
                  <a:lnTo>
                    <a:pt x="1019" y="129"/>
                  </a:lnTo>
                  <a:lnTo>
                    <a:pt x="1227" y="129"/>
                  </a:lnTo>
                  <a:lnTo>
                    <a:pt x="1149" y="192"/>
                  </a:lnTo>
                  <a:lnTo>
                    <a:pt x="1304" y="224"/>
                  </a:lnTo>
                  <a:lnTo>
                    <a:pt x="1251" y="290"/>
                  </a:lnTo>
                  <a:lnTo>
                    <a:pt x="1355" y="353"/>
                  </a:lnTo>
                  <a:lnTo>
                    <a:pt x="1225" y="392"/>
                  </a:lnTo>
                  <a:lnTo>
                    <a:pt x="1278" y="514"/>
                  </a:lnTo>
                  <a:lnTo>
                    <a:pt x="1168" y="442"/>
                  </a:lnTo>
                  <a:lnTo>
                    <a:pt x="1225" y="576"/>
                  </a:lnTo>
                  <a:lnTo>
                    <a:pt x="1072" y="514"/>
                  </a:lnTo>
                  <a:lnTo>
                    <a:pt x="1061" y="658"/>
                  </a:lnTo>
                  <a:lnTo>
                    <a:pt x="890" y="577"/>
                  </a:lnTo>
                  <a:lnTo>
                    <a:pt x="874" y="658"/>
                  </a:lnTo>
                  <a:lnTo>
                    <a:pt x="733" y="610"/>
                  </a:lnTo>
                  <a:lnTo>
                    <a:pt x="753" y="694"/>
                  </a:lnTo>
                  <a:lnTo>
                    <a:pt x="592" y="627"/>
                  </a:lnTo>
                  <a:lnTo>
                    <a:pt x="403" y="643"/>
                  </a:lnTo>
                  <a:lnTo>
                    <a:pt x="215" y="776"/>
                  </a:lnTo>
                  <a:lnTo>
                    <a:pt x="86" y="867"/>
                  </a:lnTo>
                  <a:lnTo>
                    <a:pt x="9" y="930"/>
                  </a:lnTo>
                  <a:lnTo>
                    <a:pt x="60" y="837"/>
                  </a:lnTo>
                  <a:lnTo>
                    <a:pt x="9" y="837"/>
                  </a:lnTo>
                  <a:lnTo>
                    <a:pt x="60" y="739"/>
                  </a:lnTo>
                  <a:lnTo>
                    <a:pt x="9" y="739"/>
                  </a:lnTo>
                  <a:lnTo>
                    <a:pt x="60" y="674"/>
                  </a:lnTo>
                  <a:lnTo>
                    <a:pt x="257" y="627"/>
                  </a:lnTo>
                  <a:lnTo>
                    <a:pt x="216" y="577"/>
                  </a:lnTo>
                  <a:lnTo>
                    <a:pt x="319" y="577"/>
                  </a:lnTo>
                  <a:lnTo>
                    <a:pt x="268" y="514"/>
                  </a:lnTo>
                  <a:lnTo>
                    <a:pt x="396" y="547"/>
                  </a:lnTo>
                  <a:lnTo>
                    <a:pt x="396" y="482"/>
                  </a:lnTo>
                  <a:lnTo>
                    <a:pt x="631" y="514"/>
                  </a:lnTo>
                  <a:lnTo>
                    <a:pt x="578" y="416"/>
                  </a:lnTo>
                  <a:lnTo>
                    <a:pt x="786" y="450"/>
                  </a:lnTo>
                  <a:lnTo>
                    <a:pt x="760" y="386"/>
                  </a:lnTo>
                  <a:lnTo>
                    <a:pt x="942" y="416"/>
                  </a:lnTo>
                  <a:lnTo>
                    <a:pt x="890" y="320"/>
                  </a:lnTo>
                  <a:lnTo>
                    <a:pt x="1072" y="416"/>
                  </a:lnTo>
                  <a:lnTo>
                    <a:pt x="1072" y="320"/>
                  </a:lnTo>
                  <a:lnTo>
                    <a:pt x="1149" y="320"/>
                  </a:lnTo>
                  <a:lnTo>
                    <a:pt x="1072" y="192"/>
                  </a:lnTo>
                  <a:lnTo>
                    <a:pt x="833" y="124"/>
                  </a:lnTo>
                  <a:lnTo>
                    <a:pt x="645" y="159"/>
                  </a:lnTo>
                  <a:lnTo>
                    <a:pt x="444" y="191"/>
                  </a:lnTo>
                  <a:lnTo>
                    <a:pt x="268" y="291"/>
                  </a:lnTo>
                  <a:lnTo>
                    <a:pt x="135" y="392"/>
                  </a:lnTo>
                  <a:lnTo>
                    <a:pt x="0" y="5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314200" y="4137120"/>
              <a:ext cx="82440" cy="38160"/>
            </a:xfrm>
            <a:custGeom>
              <a:avLst/>
              <a:gdLst/>
              <a:ahLst/>
              <a:rect l="l" t="t" r="r" b="b"/>
              <a:pathLst>
                <a:path w="647" h="161">
                  <a:moveTo>
                    <a:pt x="0" y="161"/>
                  </a:moveTo>
                  <a:lnTo>
                    <a:pt x="208" y="68"/>
                  </a:lnTo>
                  <a:lnTo>
                    <a:pt x="364" y="0"/>
                  </a:lnTo>
                  <a:lnTo>
                    <a:pt x="544" y="0"/>
                  </a:lnTo>
                  <a:lnTo>
                    <a:pt x="647" y="35"/>
                  </a:lnTo>
                  <a:lnTo>
                    <a:pt x="336" y="130"/>
                  </a:lnTo>
                  <a:lnTo>
                    <a:pt x="285" y="68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324280" y="4175640"/>
              <a:ext cx="82440" cy="77400"/>
            </a:xfrm>
            <a:custGeom>
              <a:avLst/>
              <a:gdLst/>
              <a:ahLst/>
              <a:rect l="l" t="t" r="r" b="b"/>
              <a:pathLst>
                <a:path w="647" h="323">
                  <a:moveTo>
                    <a:pt x="0" y="195"/>
                  </a:moveTo>
                  <a:lnTo>
                    <a:pt x="0" y="164"/>
                  </a:lnTo>
                  <a:lnTo>
                    <a:pt x="129" y="227"/>
                  </a:lnTo>
                  <a:lnTo>
                    <a:pt x="103" y="130"/>
                  </a:lnTo>
                  <a:lnTo>
                    <a:pt x="232" y="195"/>
                  </a:lnTo>
                  <a:lnTo>
                    <a:pt x="232" y="130"/>
                  </a:lnTo>
                  <a:lnTo>
                    <a:pt x="310" y="164"/>
                  </a:lnTo>
                  <a:lnTo>
                    <a:pt x="310" y="98"/>
                  </a:lnTo>
                  <a:lnTo>
                    <a:pt x="415" y="130"/>
                  </a:lnTo>
                  <a:lnTo>
                    <a:pt x="415" y="66"/>
                  </a:lnTo>
                  <a:lnTo>
                    <a:pt x="543" y="98"/>
                  </a:lnTo>
                  <a:lnTo>
                    <a:pt x="543" y="35"/>
                  </a:lnTo>
                  <a:lnTo>
                    <a:pt x="647" y="0"/>
                  </a:lnTo>
                  <a:lnTo>
                    <a:pt x="568" y="164"/>
                  </a:lnTo>
                  <a:lnTo>
                    <a:pt x="465" y="227"/>
                  </a:lnTo>
                  <a:lnTo>
                    <a:pt x="310" y="290"/>
                  </a:lnTo>
                  <a:lnTo>
                    <a:pt x="180" y="323"/>
                  </a:lnTo>
                  <a:lnTo>
                    <a:pt x="52" y="323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360640" y="4454280"/>
              <a:ext cx="66240" cy="185040"/>
            </a:xfrm>
            <a:custGeom>
              <a:avLst/>
              <a:gdLst/>
              <a:ahLst/>
              <a:rect l="l" t="t" r="r" b="b"/>
              <a:pathLst>
                <a:path w="518" h="771">
                  <a:moveTo>
                    <a:pt x="518" y="64"/>
                  </a:moveTo>
                  <a:lnTo>
                    <a:pt x="491" y="192"/>
                  </a:lnTo>
                  <a:lnTo>
                    <a:pt x="415" y="385"/>
                  </a:lnTo>
                  <a:lnTo>
                    <a:pt x="309" y="514"/>
                  </a:lnTo>
                  <a:lnTo>
                    <a:pt x="180" y="641"/>
                  </a:lnTo>
                  <a:lnTo>
                    <a:pt x="0" y="771"/>
                  </a:lnTo>
                  <a:lnTo>
                    <a:pt x="207" y="545"/>
                  </a:lnTo>
                  <a:lnTo>
                    <a:pt x="283" y="417"/>
                  </a:lnTo>
                  <a:lnTo>
                    <a:pt x="283" y="288"/>
                  </a:lnTo>
                  <a:lnTo>
                    <a:pt x="377" y="298"/>
                  </a:lnTo>
                  <a:lnTo>
                    <a:pt x="308" y="192"/>
                  </a:lnTo>
                  <a:lnTo>
                    <a:pt x="436" y="192"/>
                  </a:lnTo>
                  <a:lnTo>
                    <a:pt x="336" y="122"/>
                  </a:lnTo>
                  <a:lnTo>
                    <a:pt x="450" y="106"/>
                  </a:lnTo>
                  <a:lnTo>
                    <a:pt x="363" y="35"/>
                  </a:lnTo>
                  <a:lnTo>
                    <a:pt x="465" y="0"/>
                  </a:lnTo>
                  <a:lnTo>
                    <a:pt x="51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222040" y="4955400"/>
              <a:ext cx="171360" cy="246600"/>
            </a:xfrm>
            <a:custGeom>
              <a:avLst/>
              <a:gdLst/>
              <a:ahLst/>
              <a:rect l="l" t="t" r="r" b="b"/>
              <a:pathLst>
                <a:path w="1345" h="1028">
                  <a:moveTo>
                    <a:pt x="958" y="0"/>
                  </a:moveTo>
                  <a:lnTo>
                    <a:pt x="1112" y="64"/>
                  </a:lnTo>
                  <a:lnTo>
                    <a:pt x="1217" y="130"/>
                  </a:lnTo>
                  <a:lnTo>
                    <a:pt x="1345" y="226"/>
                  </a:lnTo>
                  <a:lnTo>
                    <a:pt x="1190" y="192"/>
                  </a:lnTo>
                  <a:lnTo>
                    <a:pt x="1190" y="322"/>
                  </a:lnTo>
                  <a:lnTo>
                    <a:pt x="1008" y="1028"/>
                  </a:lnTo>
                  <a:lnTo>
                    <a:pt x="931" y="996"/>
                  </a:lnTo>
                  <a:lnTo>
                    <a:pt x="982" y="966"/>
                  </a:lnTo>
                  <a:lnTo>
                    <a:pt x="958" y="898"/>
                  </a:lnTo>
                  <a:lnTo>
                    <a:pt x="1008" y="868"/>
                  </a:lnTo>
                  <a:lnTo>
                    <a:pt x="982" y="803"/>
                  </a:lnTo>
                  <a:lnTo>
                    <a:pt x="1034" y="772"/>
                  </a:lnTo>
                  <a:lnTo>
                    <a:pt x="1008" y="740"/>
                  </a:lnTo>
                  <a:lnTo>
                    <a:pt x="1034" y="706"/>
                  </a:lnTo>
                  <a:lnTo>
                    <a:pt x="1059" y="611"/>
                  </a:lnTo>
                  <a:lnTo>
                    <a:pt x="1059" y="579"/>
                  </a:lnTo>
                  <a:lnTo>
                    <a:pt x="1112" y="513"/>
                  </a:lnTo>
                  <a:lnTo>
                    <a:pt x="1087" y="450"/>
                  </a:lnTo>
                  <a:lnTo>
                    <a:pt x="1138" y="258"/>
                  </a:lnTo>
                  <a:lnTo>
                    <a:pt x="1034" y="513"/>
                  </a:lnTo>
                  <a:lnTo>
                    <a:pt x="1087" y="258"/>
                  </a:lnTo>
                  <a:lnTo>
                    <a:pt x="931" y="611"/>
                  </a:lnTo>
                  <a:lnTo>
                    <a:pt x="1034" y="289"/>
                  </a:lnTo>
                  <a:lnTo>
                    <a:pt x="931" y="192"/>
                  </a:lnTo>
                  <a:lnTo>
                    <a:pt x="620" y="772"/>
                  </a:lnTo>
                  <a:lnTo>
                    <a:pt x="490" y="740"/>
                  </a:lnTo>
                  <a:lnTo>
                    <a:pt x="335" y="706"/>
                  </a:lnTo>
                  <a:lnTo>
                    <a:pt x="284" y="676"/>
                  </a:lnTo>
                  <a:lnTo>
                    <a:pt x="101" y="611"/>
                  </a:lnTo>
                  <a:lnTo>
                    <a:pt x="0" y="611"/>
                  </a:lnTo>
                  <a:lnTo>
                    <a:pt x="78" y="513"/>
                  </a:lnTo>
                  <a:lnTo>
                    <a:pt x="180" y="546"/>
                  </a:lnTo>
                  <a:lnTo>
                    <a:pt x="309" y="642"/>
                  </a:lnTo>
                  <a:lnTo>
                    <a:pt x="464" y="353"/>
                  </a:lnTo>
                  <a:lnTo>
                    <a:pt x="749" y="130"/>
                  </a:lnTo>
                  <a:lnTo>
                    <a:pt x="9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65880" y="4749120"/>
              <a:ext cx="451080" cy="1472040"/>
            </a:xfrm>
            <a:custGeom>
              <a:avLst/>
              <a:gdLst/>
              <a:ahLst/>
              <a:rect l="l" t="t" r="r" b="b"/>
              <a:pathLst>
                <a:path w="3534" h="6130">
                  <a:moveTo>
                    <a:pt x="2727" y="0"/>
                  </a:moveTo>
                  <a:lnTo>
                    <a:pt x="3192" y="156"/>
                  </a:lnTo>
                  <a:lnTo>
                    <a:pt x="3534" y="462"/>
                  </a:lnTo>
                  <a:lnTo>
                    <a:pt x="3379" y="1504"/>
                  </a:lnTo>
                  <a:lnTo>
                    <a:pt x="3472" y="2467"/>
                  </a:lnTo>
                  <a:lnTo>
                    <a:pt x="3069" y="2623"/>
                  </a:lnTo>
                  <a:lnTo>
                    <a:pt x="3052" y="3301"/>
                  </a:lnTo>
                  <a:lnTo>
                    <a:pt x="2768" y="3335"/>
                  </a:lnTo>
                  <a:lnTo>
                    <a:pt x="2924" y="4170"/>
                  </a:lnTo>
                  <a:lnTo>
                    <a:pt x="3158" y="4939"/>
                  </a:lnTo>
                  <a:lnTo>
                    <a:pt x="3078" y="5133"/>
                  </a:lnTo>
                  <a:lnTo>
                    <a:pt x="3183" y="5422"/>
                  </a:lnTo>
                  <a:lnTo>
                    <a:pt x="3210" y="5936"/>
                  </a:lnTo>
                  <a:lnTo>
                    <a:pt x="3183" y="6130"/>
                  </a:lnTo>
                  <a:lnTo>
                    <a:pt x="3052" y="6130"/>
                  </a:lnTo>
                  <a:lnTo>
                    <a:pt x="2975" y="5970"/>
                  </a:lnTo>
                  <a:lnTo>
                    <a:pt x="2846" y="5553"/>
                  </a:lnTo>
                  <a:lnTo>
                    <a:pt x="2819" y="5325"/>
                  </a:lnTo>
                  <a:lnTo>
                    <a:pt x="2742" y="5295"/>
                  </a:lnTo>
                  <a:lnTo>
                    <a:pt x="2613" y="4939"/>
                  </a:lnTo>
                  <a:lnTo>
                    <a:pt x="2381" y="4394"/>
                  </a:lnTo>
                  <a:lnTo>
                    <a:pt x="2175" y="4007"/>
                  </a:lnTo>
                  <a:lnTo>
                    <a:pt x="1863" y="3688"/>
                  </a:lnTo>
                  <a:lnTo>
                    <a:pt x="1657" y="3461"/>
                  </a:lnTo>
                  <a:lnTo>
                    <a:pt x="1657" y="4041"/>
                  </a:lnTo>
                  <a:lnTo>
                    <a:pt x="1681" y="4363"/>
                  </a:lnTo>
                  <a:lnTo>
                    <a:pt x="1734" y="4684"/>
                  </a:lnTo>
                  <a:lnTo>
                    <a:pt x="1630" y="4716"/>
                  </a:lnTo>
                  <a:lnTo>
                    <a:pt x="1630" y="4908"/>
                  </a:lnTo>
                  <a:lnTo>
                    <a:pt x="1242" y="5005"/>
                  </a:lnTo>
                  <a:lnTo>
                    <a:pt x="1009" y="5069"/>
                  </a:lnTo>
                  <a:lnTo>
                    <a:pt x="749" y="5133"/>
                  </a:lnTo>
                  <a:lnTo>
                    <a:pt x="957" y="5005"/>
                  </a:lnTo>
                  <a:lnTo>
                    <a:pt x="1060" y="4973"/>
                  </a:lnTo>
                  <a:lnTo>
                    <a:pt x="1086" y="4908"/>
                  </a:lnTo>
                  <a:lnTo>
                    <a:pt x="1216" y="4877"/>
                  </a:lnTo>
                  <a:lnTo>
                    <a:pt x="1294" y="4779"/>
                  </a:lnTo>
                  <a:lnTo>
                    <a:pt x="1398" y="4716"/>
                  </a:lnTo>
                  <a:lnTo>
                    <a:pt x="1267" y="4684"/>
                  </a:lnTo>
                  <a:lnTo>
                    <a:pt x="1216" y="4331"/>
                  </a:lnTo>
                  <a:lnTo>
                    <a:pt x="1086" y="3911"/>
                  </a:lnTo>
                  <a:lnTo>
                    <a:pt x="904" y="3590"/>
                  </a:lnTo>
                  <a:lnTo>
                    <a:pt x="775" y="3461"/>
                  </a:lnTo>
                  <a:lnTo>
                    <a:pt x="363" y="3527"/>
                  </a:lnTo>
                  <a:lnTo>
                    <a:pt x="463" y="3142"/>
                  </a:lnTo>
                  <a:lnTo>
                    <a:pt x="541" y="2821"/>
                  </a:lnTo>
                  <a:lnTo>
                    <a:pt x="625" y="2673"/>
                  </a:lnTo>
                  <a:lnTo>
                    <a:pt x="401" y="2690"/>
                  </a:lnTo>
                  <a:lnTo>
                    <a:pt x="288" y="2612"/>
                  </a:lnTo>
                  <a:lnTo>
                    <a:pt x="561" y="2491"/>
                  </a:lnTo>
                  <a:lnTo>
                    <a:pt x="233" y="2594"/>
                  </a:lnTo>
                  <a:lnTo>
                    <a:pt x="129" y="2562"/>
                  </a:lnTo>
                  <a:lnTo>
                    <a:pt x="143" y="2453"/>
                  </a:lnTo>
                  <a:lnTo>
                    <a:pt x="442" y="2242"/>
                  </a:lnTo>
                  <a:lnTo>
                    <a:pt x="129" y="2362"/>
                  </a:lnTo>
                  <a:lnTo>
                    <a:pt x="77" y="2307"/>
                  </a:lnTo>
                  <a:lnTo>
                    <a:pt x="185" y="2124"/>
                  </a:lnTo>
                  <a:lnTo>
                    <a:pt x="408" y="1923"/>
                  </a:lnTo>
                  <a:lnTo>
                    <a:pt x="415" y="1757"/>
                  </a:lnTo>
                  <a:lnTo>
                    <a:pt x="39" y="1904"/>
                  </a:lnTo>
                  <a:lnTo>
                    <a:pt x="0" y="1825"/>
                  </a:lnTo>
                  <a:lnTo>
                    <a:pt x="51" y="1727"/>
                  </a:lnTo>
                  <a:lnTo>
                    <a:pt x="336" y="1470"/>
                  </a:lnTo>
                  <a:lnTo>
                    <a:pt x="336" y="1535"/>
                  </a:lnTo>
                  <a:lnTo>
                    <a:pt x="449" y="1535"/>
                  </a:lnTo>
                  <a:lnTo>
                    <a:pt x="336" y="1594"/>
                  </a:lnTo>
                  <a:lnTo>
                    <a:pt x="442" y="1605"/>
                  </a:lnTo>
                  <a:lnTo>
                    <a:pt x="313" y="1684"/>
                  </a:lnTo>
                  <a:lnTo>
                    <a:pt x="490" y="1631"/>
                  </a:lnTo>
                  <a:lnTo>
                    <a:pt x="737" y="1853"/>
                  </a:lnTo>
                  <a:lnTo>
                    <a:pt x="490" y="1921"/>
                  </a:lnTo>
                  <a:lnTo>
                    <a:pt x="415" y="1984"/>
                  </a:lnTo>
                  <a:lnTo>
                    <a:pt x="415" y="2047"/>
                  </a:lnTo>
                  <a:lnTo>
                    <a:pt x="463" y="2114"/>
                  </a:lnTo>
                  <a:lnTo>
                    <a:pt x="874" y="2124"/>
                  </a:lnTo>
                  <a:lnTo>
                    <a:pt x="914" y="2044"/>
                  </a:lnTo>
                  <a:lnTo>
                    <a:pt x="962" y="2194"/>
                  </a:lnTo>
                  <a:lnTo>
                    <a:pt x="904" y="2176"/>
                  </a:lnTo>
                  <a:lnTo>
                    <a:pt x="541" y="2241"/>
                  </a:lnTo>
                  <a:lnTo>
                    <a:pt x="518" y="2307"/>
                  </a:lnTo>
                  <a:lnTo>
                    <a:pt x="541" y="2369"/>
                  </a:lnTo>
                  <a:lnTo>
                    <a:pt x="594" y="2403"/>
                  </a:lnTo>
                  <a:lnTo>
                    <a:pt x="698" y="2403"/>
                  </a:lnTo>
                  <a:lnTo>
                    <a:pt x="930" y="2369"/>
                  </a:lnTo>
                  <a:lnTo>
                    <a:pt x="698" y="2498"/>
                  </a:lnTo>
                  <a:lnTo>
                    <a:pt x="698" y="2562"/>
                  </a:lnTo>
                  <a:lnTo>
                    <a:pt x="800" y="2594"/>
                  </a:lnTo>
                  <a:lnTo>
                    <a:pt x="904" y="2594"/>
                  </a:lnTo>
                  <a:lnTo>
                    <a:pt x="1294" y="2498"/>
                  </a:lnTo>
                  <a:lnTo>
                    <a:pt x="1422" y="2241"/>
                  </a:lnTo>
                  <a:lnTo>
                    <a:pt x="1422" y="1984"/>
                  </a:lnTo>
                  <a:lnTo>
                    <a:pt x="1448" y="2274"/>
                  </a:lnTo>
                  <a:lnTo>
                    <a:pt x="1448" y="2403"/>
                  </a:lnTo>
                  <a:lnTo>
                    <a:pt x="1398" y="2531"/>
                  </a:lnTo>
                  <a:lnTo>
                    <a:pt x="1810" y="2594"/>
                  </a:lnTo>
                  <a:lnTo>
                    <a:pt x="1889" y="2466"/>
                  </a:lnTo>
                  <a:lnTo>
                    <a:pt x="1916" y="2274"/>
                  </a:lnTo>
                  <a:lnTo>
                    <a:pt x="1863" y="2079"/>
                  </a:lnTo>
                  <a:lnTo>
                    <a:pt x="1810" y="1952"/>
                  </a:lnTo>
                  <a:lnTo>
                    <a:pt x="1707" y="1921"/>
                  </a:lnTo>
                  <a:lnTo>
                    <a:pt x="1527" y="1887"/>
                  </a:lnTo>
                  <a:lnTo>
                    <a:pt x="1836" y="1887"/>
                  </a:lnTo>
                  <a:lnTo>
                    <a:pt x="1966" y="1405"/>
                  </a:lnTo>
                  <a:lnTo>
                    <a:pt x="2122" y="956"/>
                  </a:lnTo>
                  <a:lnTo>
                    <a:pt x="2304" y="505"/>
                  </a:lnTo>
                  <a:lnTo>
                    <a:pt x="27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848720" y="4607640"/>
              <a:ext cx="363240" cy="873000"/>
            </a:xfrm>
            <a:custGeom>
              <a:avLst/>
              <a:gdLst/>
              <a:ahLst/>
              <a:rect l="l" t="t" r="r" b="b"/>
              <a:pathLst>
                <a:path w="2848" h="3633">
                  <a:moveTo>
                    <a:pt x="2848" y="1993"/>
                  </a:moveTo>
                  <a:lnTo>
                    <a:pt x="2666" y="1447"/>
                  </a:lnTo>
                  <a:lnTo>
                    <a:pt x="2459" y="998"/>
                  </a:lnTo>
                  <a:lnTo>
                    <a:pt x="2095" y="387"/>
                  </a:lnTo>
                  <a:lnTo>
                    <a:pt x="1733" y="0"/>
                  </a:lnTo>
                  <a:lnTo>
                    <a:pt x="1604" y="419"/>
                  </a:lnTo>
                  <a:lnTo>
                    <a:pt x="1474" y="677"/>
                  </a:lnTo>
                  <a:lnTo>
                    <a:pt x="1216" y="932"/>
                  </a:lnTo>
                  <a:lnTo>
                    <a:pt x="855" y="1254"/>
                  </a:lnTo>
                  <a:lnTo>
                    <a:pt x="595" y="1511"/>
                  </a:lnTo>
                  <a:lnTo>
                    <a:pt x="286" y="1867"/>
                  </a:lnTo>
                  <a:lnTo>
                    <a:pt x="77" y="2187"/>
                  </a:lnTo>
                  <a:lnTo>
                    <a:pt x="0" y="2413"/>
                  </a:lnTo>
                  <a:lnTo>
                    <a:pt x="259" y="2345"/>
                  </a:lnTo>
                  <a:lnTo>
                    <a:pt x="622" y="2443"/>
                  </a:lnTo>
                  <a:lnTo>
                    <a:pt x="933" y="2572"/>
                  </a:lnTo>
                  <a:lnTo>
                    <a:pt x="1189" y="2764"/>
                  </a:lnTo>
                  <a:lnTo>
                    <a:pt x="1294" y="2895"/>
                  </a:lnTo>
                  <a:lnTo>
                    <a:pt x="982" y="3086"/>
                  </a:lnTo>
                  <a:lnTo>
                    <a:pt x="1036" y="3182"/>
                  </a:lnTo>
                  <a:lnTo>
                    <a:pt x="1164" y="3182"/>
                  </a:lnTo>
                  <a:lnTo>
                    <a:pt x="1294" y="3150"/>
                  </a:lnTo>
                  <a:lnTo>
                    <a:pt x="1268" y="3311"/>
                  </a:lnTo>
                  <a:lnTo>
                    <a:pt x="1345" y="3343"/>
                  </a:lnTo>
                  <a:lnTo>
                    <a:pt x="1426" y="3369"/>
                  </a:lnTo>
                  <a:lnTo>
                    <a:pt x="1396" y="3441"/>
                  </a:lnTo>
                  <a:lnTo>
                    <a:pt x="1474" y="3536"/>
                  </a:lnTo>
                  <a:lnTo>
                    <a:pt x="1553" y="3536"/>
                  </a:lnTo>
                  <a:lnTo>
                    <a:pt x="1675" y="3559"/>
                  </a:lnTo>
                  <a:lnTo>
                    <a:pt x="1682" y="3633"/>
                  </a:lnTo>
                  <a:lnTo>
                    <a:pt x="1812" y="3633"/>
                  </a:lnTo>
                  <a:lnTo>
                    <a:pt x="1838" y="3568"/>
                  </a:lnTo>
                  <a:lnTo>
                    <a:pt x="2018" y="3409"/>
                  </a:lnTo>
                  <a:lnTo>
                    <a:pt x="2018" y="3311"/>
                  </a:lnTo>
                  <a:lnTo>
                    <a:pt x="1956" y="3261"/>
                  </a:lnTo>
                  <a:lnTo>
                    <a:pt x="1682" y="3504"/>
                  </a:lnTo>
                  <a:lnTo>
                    <a:pt x="1553" y="3471"/>
                  </a:lnTo>
                  <a:lnTo>
                    <a:pt x="1474" y="3409"/>
                  </a:lnTo>
                  <a:lnTo>
                    <a:pt x="1527" y="3343"/>
                  </a:lnTo>
                  <a:lnTo>
                    <a:pt x="1682" y="3419"/>
                  </a:lnTo>
                  <a:lnTo>
                    <a:pt x="1922" y="3190"/>
                  </a:lnTo>
                  <a:lnTo>
                    <a:pt x="1941" y="3054"/>
                  </a:lnTo>
                  <a:lnTo>
                    <a:pt x="1863" y="3054"/>
                  </a:lnTo>
                  <a:lnTo>
                    <a:pt x="1501" y="3311"/>
                  </a:lnTo>
                  <a:lnTo>
                    <a:pt x="1355" y="3261"/>
                  </a:lnTo>
                  <a:lnTo>
                    <a:pt x="1362" y="3190"/>
                  </a:lnTo>
                  <a:lnTo>
                    <a:pt x="1417" y="3130"/>
                  </a:lnTo>
                  <a:lnTo>
                    <a:pt x="1538" y="3229"/>
                  </a:lnTo>
                  <a:lnTo>
                    <a:pt x="1655" y="3119"/>
                  </a:lnTo>
                  <a:lnTo>
                    <a:pt x="1941" y="2895"/>
                  </a:lnTo>
                  <a:lnTo>
                    <a:pt x="1889" y="2829"/>
                  </a:lnTo>
                  <a:lnTo>
                    <a:pt x="1422" y="3021"/>
                  </a:lnTo>
                  <a:lnTo>
                    <a:pt x="1345" y="2957"/>
                  </a:lnTo>
                  <a:lnTo>
                    <a:pt x="1396" y="2895"/>
                  </a:lnTo>
                  <a:lnTo>
                    <a:pt x="1036" y="2572"/>
                  </a:lnTo>
                  <a:lnTo>
                    <a:pt x="724" y="2378"/>
                  </a:lnTo>
                  <a:lnTo>
                    <a:pt x="310" y="2284"/>
                  </a:lnTo>
                  <a:lnTo>
                    <a:pt x="103" y="2345"/>
                  </a:lnTo>
                  <a:lnTo>
                    <a:pt x="286" y="1993"/>
                  </a:lnTo>
                  <a:lnTo>
                    <a:pt x="647" y="1544"/>
                  </a:lnTo>
                  <a:lnTo>
                    <a:pt x="1111" y="1125"/>
                  </a:lnTo>
                  <a:lnTo>
                    <a:pt x="1501" y="740"/>
                  </a:lnTo>
                  <a:lnTo>
                    <a:pt x="1655" y="453"/>
                  </a:lnTo>
                  <a:lnTo>
                    <a:pt x="1759" y="130"/>
                  </a:lnTo>
                  <a:lnTo>
                    <a:pt x="1992" y="387"/>
                  </a:lnTo>
                  <a:lnTo>
                    <a:pt x="2303" y="901"/>
                  </a:lnTo>
                  <a:lnTo>
                    <a:pt x="2589" y="1447"/>
                  </a:lnTo>
                  <a:lnTo>
                    <a:pt x="2796" y="2026"/>
                  </a:lnTo>
                  <a:lnTo>
                    <a:pt x="2848" y="19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016480" y="5464440"/>
              <a:ext cx="451440" cy="794880"/>
            </a:xfrm>
            <a:custGeom>
              <a:avLst/>
              <a:gdLst/>
              <a:ahLst/>
              <a:rect l="l" t="t" r="r" b="b"/>
              <a:pathLst>
                <a:path w="3538" h="3311">
                  <a:moveTo>
                    <a:pt x="495" y="65"/>
                  </a:moveTo>
                  <a:lnTo>
                    <a:pt x="442" y="289"/>
                  </a:lnTo>
                  <a:lnTo>
                    <a:pt x="390" y="514"/>
                  </a:lnTo>
                  <a:lnTo>
                    <a:pt x="313" y="674"/>
                  </a:lnTo>
                  <a:lnTo>
                    <a:pt x="210" y="964"/>
                  </a:lnTo>
                  <a:lnTo>
                    <a:pt x="105" y="1221"/>
                  </a:lnTo>
                  <a:lnTo>
                    <a:pt x="12" y="1551"/>
                  </a:lnTo>
                  <a:lnTo>
                    <a:pt x="0" y="1736"/>
                  </a:lnTo>
                  <a:lnTo>
                    <a:pt x="102" y="1978"/>
                  </a:lnTo>
                  <a:lnTo>
                    <a:pt x="236" y="2153"/>
                  </a:lnTo>
                  <a:lnTo>
                    <a:pt x="908" y="2604"/>
                  </a:lnTo>
                  <a:lnTo>
                    <a:pt x="309" y="2800"/>
                  </a:lnTo>
                  <a:lnTo>
                    <a:pt x="936" y="2686"/>
                  </a:lnTo>
                  <a:lnTo>
                    <a:pt x="445" y="2885"/>
                  </a:lnTo>
                  <a:lnTo>
                    <a:pt x="1095" y="2745"/>
                  </a:lnTo>
                  <a:lnTo>
                    <a:pt x="559" y="2956"/>
                  </a:lnTo>
                  <a:lnTo>
                    <a:pt x="1198" y="2812"/>
                  </a:lnTo>
                  <a:lnTo>
                    <a:pt x="696" y="3013"/>
                  </a:lnTo>
                  <a:lnTo>
                    <a:pt x="1369" y="2871"/>
                  </a:lnTo>
                  <a:lnTo>
                    <a:pt x="879" y="3098"/>
                  </a:lnTo>
                  <a:lnTo>
                    <a:pt x="1531" y="2943"/>
                  </a:lnTo>
                  <a:lnTo>
                    <a:pt x="1062" y="3170"/>
                  </a:lnTo>
                  <a:lnTo>
                    <a:pt x="1689" y="2999"/>
                  </a:lnTo>
                  <a:lnTo>
                    <a:pt x="1210" y="3241"/>
                  </a:lnTo>
                  <a:lnTo>
                    <a:pt x="1804" y="3070"/>
                  </a:lnTo>
                  <a:lnTo>
                    <a:pt x="1302" y="3296"/>
                  </a:lnTo>
                  <a:lnTo>
                    <a:pt x="1861" y="3098"/>
                  </a:lnTo>
                  <a:lnTo>
                    <a:pt x="1531" y="3311"/>
                  </a:lnTo>
                  <a:lnTo>
                    <a:pt x="1917" y="3154"/>
                  </a:lnTo>
                  <a:lnTo>
                    <a:pt x="2112" y="3042"/>
                  </a:lnTo>
                  <a:lnTo>
                    <a:pt x="2304" y="2928"/>
                  </a:lnTo>
                  <a:lnTo>
                    <a:pt x="2566" y="2827"/>
                  </a:lnTo>
                  <a:lnTo>
                    <a:pt x="2825" y="2797"/>
                  </a:lnTo>
                  <a:lnTo>
                    <a:pt x="3110" y="2827"/>
                  </a:lnTo>
                  <a:lnTo>
                    <a:pt x="3369" y="2925"/>
                  </a:lnTo>
                  <a:lnTo>
                    <a:pt x="3538" y="3028"/>
                  </a:lnTo>
                  <a:lnTo>
                    <a:pt x="3195" y="2745"/>
                  </a:lnTo>
                  <a:lnTo>
                    <a:pt x="2924" y="2544"/>
                  </a:lnTo>
                  <a:lnTo>
                    <a:pt x="2636" y="2417"/>
                  </a:lnTo>
                  <a:lnTo>
                    <a:pt x="2478" y="2374"/>
                  </a:lnTo>
                  <a:lnTo>
                    <a:pt x="2170" y="2388"/>
                  </a:lnTo>
                  <a:lnTo>
                    <a:pt x="1963" y="2488"/>
                  </a:lnTo>
                  <a:lnTo>
                    <a:pt x="1793" y="2673"/>
                  </a:lnTo>
                  <a:lnTo>
                    <a:pt x="1701" y="2900"/>
                  </a:lnTo>
                  <a:lnTo>
                    <a:pt x="1518" y="2757"/>
                  </a:lnTo>
                  <a:lnTo>
                    <a:pt x="1369" y="2587"/>
                  </a:lnTo>
                  <a:lnTo>
                    <a:pt x="1256" y="2345"/>
                  </a:lnTo>
                  <a:lnTo>
                    <a:pt x="1153" y="2020"/>
                  </a:lnTo>
                  <a:lnTo>
                    <a:pt x="1244" y="2558"/>
                  </a:lnTo>
                  <a:lnTo>
                    <a:pt x="1016" y="2004"/>
                  </a:lnTo>
                  <a:lnTo>
                    <a:pt x="1095" y="2503"/>
                  </a:lnTo>
                  <a:lnTo>
                    <a:pt x="866" y="1978"/>
                  </a:lnTo>
                  <a:lnTo>
                    <a:pt x="959" y="2445"/>
                  </a:lnTo>
                  <a:lnTo>
                    <a:pt x="708" y="1963"/>
                  </a:lnTo>
                  <a:lnTo>
                    <a:pt x="800" y="2374"/>
                  </a:lnTo>
                  <a:lnTo>
                    <a:pt x="525" y="1934"/>
                  </a:lnTo>
                  <a:lnTo>
                    <a:pt x="640" y="2317"/>
                  </a:lnTo>
                  <a:lnTo>
                    <a:pt x="378" y="1920"/>
                  </a:lnTo>
                  <a:lnTo>
                    <a:pt x="457" y="2217"/>
                  </a:lnTo>
                  <a:lnTo>
                    <a:pt x="218" y="1893"/>
                  </a:lnTo>
                  <a:lnTo>
                    <a:pt x="274" y="2104"/>
                  </a:lnTo>
                  <a:lnTo>
                    <a:pt x="115" y="1878"/>
                  </a:lnTo>
                  <a:lnTo>
                    <a:pt x="69" y="1707"/>
                  </a:lnTo>
                  <a:lnTo>
                    <a:pt x="125" y="1367"/>
                  </a:lnTo>
                  <a:lnTo>
                    <a:pt x="309" y="884"/>
                  </a:lnTo>
                  <a:lnTo>
                    <a:pt x="495" y="385"/>
                  </a:lnTo>
                  <a:lnTo>
                    <a:pt x="546" y="0"/>
                  </a:lnTo>
                  <a:lnTo>
                    <a:pt x="49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175600" y="5588280"/>
              <a:ext cx="318960" cy="551160"/>
            </a:xfrm>
            <a:custGeom>
              <a:avLst/>
              <a:gdLst/>
              <a:ahLst/>
              <a:rect l="l" t="t" r="r" b="b"/>
              <a:pathLst>
                <a:path w="2498" h="2298">
                  <a:moveTo>
                    <a:pt x="259" y="96"/>
                  </a:moveTo>
                  <a:lnTo>
                    <a:pt x="78" y="644"/>
                  </a:lnTo>
                  <a:lnTo>
                    <a:pt x="0" y="1063"/>
                  </a:lnTo>
                  <a:lnTo>
                    <a:pt x="0" y="1414"/>
                  </a:lnTo>
                  <a:lnTo>
                    <a:pt x="52" y="1672"/>
                  </a:lnTo>
                  <a:lnTo>
                    <a:pt x="432" y="2298"/>
                  </a:lnTo>
                  <a:lnTo>
                    <a:pt x="502" y="2088"/>
                  </a:lnTo>
                  <a:lnTo>
                    <a:pt x="729" y="1874"/>
                  </a:lnTo>
                  <a:lnTo>
                    <a:pt x="421" y="2044"/>
                  </a:lnTo>
                  <a:lnTo>
                    <a:pt x="605" y="1860"/>
                  </a:lnTo>
                  <a:lnTo>
                    <a:pt x="352" y="1989"/>
                  </a:lnTo>
                  <a:lnTo>
                    <a:pt x="489" y="1819"/>
                  </a:lnTo>
                  <a:lnTo>
                    <a:pt x="306" y="1931"/>
                  </a:lnTo>
                  <a:lnTo>
                    <a:pt x="386" y="1776"/>
                  </a:lnTo>
                  <a:lnTo>
                    <a:pt x="226" y="1874"/>
                  </a:lnTo>
                  <a:lnTo>
                    <a:pt x="306" y="1747"/>
                  </a:lnTo>
                  <a:lnTo>
                    <a:pt x="182" y="1769"/>
                  </a:lnTo>
                  <a:lnTo>
                    <a:pt x="209" y="1703"/>
                  </a:lnTo>
                  <a:lnTo>
                    <a:pt x="129" y="1703"/>
                  </a:lnTo>
                  <a:lnTo>
                    <a:pt x="135" y="1634"/>
                  </a:lnTo>
                  <a:lnTo>
                    <a:pt x="512" y="1648"/>
                  </a:lnTo>
                  <a:lnTo>
                    <a:pt x="1026" y="1747"/>
                  </a:lnTo>
                  <a:lnTo>
                    <a:pt x="1323" y="1819"/>
                  </a:lnTo>
                  <a:lnTo>
                    <a:pt x="1665" y="1931"/>
                  </a:lnTo>
                  <a:lnTo>
                    <a:pt x="1708" y="1864"/>
                  </a:lnTo>
                  <a:lnTo>
                    <a:pt x="1379" y="1803"/>
                  </a:lnTo>
                  <a:lnTo>
                    <a:pt x="1679" y="1703"/>
                  </a:lnTo>
                  <a:lnTo>
                    <a:pt x="1950" y="1521"/>
                  </a:lnTo>
                  <a:lnTo>
                    <a:pt x="2304" y="1285"/>
                  </a:lnTo>
                  <a:lnTo>
                    <a:pt x="2498" y="1164"/>
                  </a:lnTo>
                  <a:lnTo>
                    <a:pt x="2341" y="1193"/>
                  </a:lnTo>
                  <a:lnTo>
                    <a:pt x="2064" y="1392"/>
                  </a:lnTo>
                  <a:lnTo>
                    <a:pt x="1721" y="1619"/>
                  </a:lnTo>
                  <a:lnTo>
                    <a:pt x="1528" y="1703"/>
                  </a:lnTo>
                  <a:lnTo>
                    <a:pt x="1294" y="1769"/>
                  </a:lnTo>
                  <a:lnTo>
                    <a:pt x="628" y="1619"/>
                  </a:lnTo>
                  <a:lnTo>
                    <a:pt x="319" y="1577"/>
                  </a:lnTo>
                  <a:lnTo>
                    <a:pt x="78" y="1575"/>
                  </a:lnTo>
                  <a:lnTo>
                    <a:pt x="78" y="1158"/>
                  </a:lnTo>
                  <a:lnTo>
                    <a:pt x="129" y="803"/>
                  </a:lnTo>
                  <a:lnTo>
                    <a:pt x="234" y="387"/>
                  </a:lnTo>
                  <a:lnTo>
                    <a:pt x="386" y="0"/>
                  </a:lnTo>
                  <a:lnTo>
                    <a:pt x="25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466120" y="5982120"/>
              <a:ext cx="244440" cy="208080"/>
            </a:xfrm>
            <a:custGeom>
              <a:avLst/>
              <a:gdLst/>
              <a:ahLst/>
              <a:rect l="l" t="t" r="r" b="b"/>
              <a:pathLst>
                <a:path w="1916" h="868">
                  <a:moveTo>
                    <a:pt x="104" y="707"/>
                  </a:moveTo>
                  <a:lnTo>
                    <a:pt x="544" y="354"/>
                  </a:lnTo>
                  <a:lnTo>
                    <a:pt x="983" y="96"/>
                  </a:lnTo>
                  <a:lnTo>
                    <a:pt x="1218" y="0"/>
                  </a:lnTo>
                  <a:lnTo>
                    <a:pt x="1398" y="0"/>
                  </a:lnTo>
                  <a:lnTo>
                    <a:pt x="1630" y="64"/>
                  </a:lnTo>
                  <a:lnTo>
                    <a:pt x="1865" y="162"/>
                  </a:lnTo>
                  <a:lnTo>
                    <a:pt x="1916" y="258"/>
                  </a:lnTo>
                  <a:lnTo>
                    <a:pt x="1580" y="192"/>
                  </a:lnTo>
                  <a:lnTo>
                    <a:pt x="1269" y="289"/>
                  </a:lnTo>
                  <a:lnTo>
                    <a:pt x="933" y="420"/>
                  </a:lnTo>
                  <a:lnTo>
                    <a:pt x="544" y="578"/>
                  </a:lnTo>
                  <a:lnTo>
                    <a:pt x="259" y="739"/>
                  </a:lnTo>
                  <a:lnTo>
                    <a:pt x="0" y="868"/>
                  </a:lnTo>
                  <a:lnTo>
                    <a:pt x="104" y="70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529120" y="5819760"/>
              <a:ext cx="205200" cy="184320"/>
            </a:xfrm>
            <a:custGeom>
              <a:avLst/>
              <a:gdLst/>
              <a:ahLst/>
              <a:rect l="l" t="t" r="r" b="b"/>
              <a:pathLst>
                <a:path w="1607" h="770">
                  <a:moveTo>
                    <a:pt x="337" y="385"/>
                  </a:moveTo>
                  <a:lnTo>
                    <a:pt x="1501" y="770"/>
                  </a:lnTo>
                  <a:lnTo>
                    <a:pt x="258" y="257"/>
                  </a:lnTo>
                  <a:lnTo>
                    <a:pt x="1554" y="642"/>
                  </a:lnTo>
                  <a:lnTo>
                    <a:pt x="206" y="128"/>
                  </a:lnTo>
                  <a:lnTo>
                    <a:pt x="1607" y="514"/>
                  </a:lnTo>
                  <a:lnTo>
                    <a:pt x="0" y="0"/>
                  </a:lnTo>
                  <a:lnTo>
                    <a:pt x="3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548920" y="5726880"/>
              <a:ext cx="406440" cy="208080"/>
            </a:xfrm>
            <a:custGeom>
              <a:avLst/>
              <a:gdLst/>
              <a:ahLst/>
              <a:rect l="l" t="t" r="r" b="b"/>
              <a:pathLst>
                <a:path w="3184" h="866">
                  <a:moveTo>
                    <a:pt x="0" y="386"/>
                  </a:moveTo>
                  <a:lnTo>
                    <a:pt x="545" y="353"/>
                  </a:lnTo>
                  <a:lnTo>
                    <a:pt x="983" y="290"/>
                  </a:lnTo>
                  <a:lnTo>
                    <a:pt x="1269" y="194"/>
                  </a:lnTo>
                  <a:lnTo>
                    <a:pt x="1477" y="65"/>
                  </a:lnTo>
                  <a:lnTo>
                    <a:pt x="3082" y="448"/>
                  </a:lnTo>
                  <a:lnTo>
                    <a:pt x="2796" y="611"/>
                  </a:lnTo>
                  <a:lnTo>
                    <a:pt x="2407" y="706"/>
                  </a:lnTo>
                  <a:lnTo>
                    <a:pt x="1941" y="771"/>
                  </a:lnTo>
                  <a:lnTo>
                    <a:pt x="1553" y="866"/>
                  </a:lnTo>
                  <a:lnTo>
                    <a:pt x="3082" y="738"/>
                  </a:lnTo>
                  <a:lnTo>
                    <a:pt x="2925" y="643"/>
                  </a:lnTo>
                  <a:lnTo>
                    <a:pt x="3184" y="448"/>
                  </a:lnTo>
                  <a:lnTo>
                    <a:pt x="3107" y="416"/>
                  </a:lnTo>
                  <a:lnTo>
                    <a:pt x="1425" y="0"/>
                  </a:lnTo>
                  <a:lnTo>
                    <a:pt x="1192" y="161"/>
                  </a:lnTo>
                  <a:lnTo>
                    <a:pt x="830" y="258"/>
                  </a:lnTo>
                  <a:lnTo>
                    <a:pt x="157" y="35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731080" y="5910120"/>
              <a:ext cx="238320" cy="133200"/>
            </a:xfrm>
            <a:custGeom>
              <a:avLst/>
              <a:gdLst/>
              <a:ahLst/>
              <a:rect l="l" t="t" r="r" b="b"/>
              <a:pathLst>
                <a:path w="1868" h="558">
                  <a:moveTo>
                    <a:pt x="79" y="202"/>
                  </a:moveTo>
                  <a:lnTo>
                    <a:pt x="0" y="558"/>
                  </a:lnTo>
                  <a:lnTo>
                    <a:pt x="1858" y="276"/>
                  </a:lnTo>
                  <a:lnTo>
                    <a:pt x="117" y="433"/>
                  </a:lnTo>
                  <a:lnTo>
                    <a:pt x="1868" y="167"/>
                  </a:lnTo>
                  <a:lnTo>
                    <a:pt x="136" y="361"/>
                  </a:lnTo>
                  <a:lnTo>
                    <a:pt x="1858" y="71"/>
                  </a:lnTo>
                  <a:lnTo>
                    <a:pt x="175" y="265"/>
                  </a:lnTo>
                  <a:lnTo>
                    <a:pt x="1849" y="0"/>
                  </a:lnTo>
                  <a:lnTo>
                    <a:pt x="175" y="167"/>
                  </a:lnTo>
                  <a:lnTo>
                    <a:pt x="79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80560" y="4710600"/>
              <a:ext cx="18720" cy="32400"/>
            </a:xfrm>
            <a:custGeom>
              <a:avLst/>
              <a:gdLst/>
              <a:ahLst/>
              <a:rect l="l" t="t" r="r" b="b"/>
              <a:pathLst>
                <a:path w="150" h="138">
                  <a:moveTo>
                    <a:pt x="63" y="0"/>
                  </a:moveTo>
                  <a:lnTo>
                    <a:pt x="0" y="61"/>
                  </a:lnTo>
                  <a:lnTo>
                    <a:pt x="74" y="138"/>
                  </a:lnTo>
                  <a:lnTo>
                    <a:pt x="150" y="6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94960" y="4758480"/>
              <a:ext cx="18720" cy="32400"/>
            </a:xfrm>
            <a:custGeom>
              <a:avLst/>
              <a:gdLst/>
              <a:ahLst/>
              <a:rect l="l" t="t" r="r" b="b"/>
              <a:pathLst>
                <a:path w="150" h="136">
                  <a:moveTo>
                    <a:pt x="62" y="0"/>
                  </a:moveTo>
                  <a:lnTo>
                    <a:pt x="0" y="60"/>
                  </a:lnTo>
                  <a:lnTo>
                    <a:pt x="75" y="136"/>
                  </a:lnTo>
                  <a:lnTo>
                    <a:pt x="150" y="6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110080" y="4806360"/>
              <a:ext cx="19440" cy="3348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63" y="0"/>
                  </a:moveTo>
                  <a:lnTo>
                    <a:pt x="0" y="62"/>
                  </a:lnTo>
                  <a:lnTo>
                    <a:pt x="75" y="140"/>
                  </a:lnTo>
                  <a:lnTo>
                    <a:pt x="150" y="6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126640" y="4854600"/>
              <a:ext cx="18720" cy="3348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61" y="0"/>
                  </a:moveTo>
                  <a:lnTo>
                    <a:pt x="0" y="64"/>
                  </a:lnTo>
                  <a:lnTo>
                    <a:pt x="76" y="140"/>
                  </a:lnTo>
                  <a:lnTo>
                    <a:pt x="150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137800" y="4902480"/>
              <a:ext cx="18720" cy="3348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63" y="0"/>
                  </a:moveTo>
                  <a:lnTo>
                    <a:pt x="0" y="65"/>
                  </a:lnTo>
                  <a:lnTo>
                    <a:pt x="74" y="140"/>
                  </a:lnTo>
                  <a:lnTo>
                    <a:pt x="150" y="6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150040" y="4954320"/>
              <a:ext cx="19440" cy="32400"/>
            </a:xfrm>
            <a:custGeom>
              <a:avLst/>
              <a:gdLst/>
              <a:ahLst/>
              <a:rect l="l" t="t" r="r" b="b"/>
              <a:pathLst>
                <a:path w="150" h="139">
                  <a:moveTo>
                    <a:pt x="61" y="0"/>
                  </a:moveTo>
                  <a:lnTo>
                    <a:pt x="0" y="62"/>
                  </a:lnTo>
                  <a:lnTo>
                    <a:pt x="76" y="139"/>
                  </a:lnTo>
                  <a:lnTo>
                    <a:pt x="150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161200" y="5002560"/>
              <a:ext cx="19440" cy="33480"/>
            </a:xfrm>
            <a:custGeom>
              <a:avLst/>
              <a:gdLst/>
              <a:ahLst/>
              <a:rect l="l" t="t" r="r" b="b"/>
              <a:pathLst>
                <a:path w="151" h="140">
                  <a:moveTo>
                    <a:pt x="64" y="0"/>
                  </a:moveTo>
                  <a:lnTo>
                    <a:pt x="0" y="63"/>
                  </a:lnTo>
                  <a:lnTo>
                    <a:pt x="75" y="140"/>
                  </a:lnTo>
                  <a:lnTo>
                    <a:pt x="151" y="63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170560" y="5054400"/>
              <a:ext cx="19080" cy="32400"/>
            </a:xfrm>
            <a:custGeom>
              <a:avLst/>
              <a:gdLst/>
              <a:ahLst/>
              <a:rect l="l" t="t" r="r" b="b"/>
              <a:pathLst>
                <a:path w="150" h="138">
                  <a:moveTo>
                    <a:pt x="63" y="0"/>
                  </a:moveTo>
                  <a:lnTo>
                    <a:pt x="0" y="61"/>
                  </a:lnTo>
                  <a:lnTo>
                    <a:pt x="75" y="138"/>
                  </a:lnTo>
                  <a:lnTo>
                    <a:pt x="150" y="6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88200" y="5194800"/>
              <a:ext cx="18720" cy="33480"/>
            </a:xfrm>
            <a:custGeom>
              <a:avLst/>
              <a:gdLst/>
              <a:ahLst/>
              <a:rect l="l" t="t" r="r" b="b"/>
              <a:pathLst>
                <a:path w="150" h="139">
                  <a:moveTo>
                    <a:pt x="62" y="0"/>
                  </a:moveTo>
                  <a:lnTo>
                    <a:pt x="0" y="62"/>
                  </a:lnTo>
                  <a:lnTo>
                    <a:pt x="74" y="139"/>
                  </a:lnTo>
                  <a:lnTo>
                    <a:pt x="150" y="6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182080" y="5110200"/>
              <a:ext cx="18720" cy="33480"/>
            </a:xfrm>
            <a:custGeom>
              <a:avLst/>
              <a:gdLst/>
              <a:ahLst/>
              <a:rect l="l" t="t" r="r" b="b"/>
              <a:pathLst>
                <a:path w="148" h="139">
                  <a:moveTo>
                    <a:pt x="60" y="0"/>
                  </a:moveTo>
                  <a:lnTo>
                    <a:pt x="0" y="62"/>
                  </a:lnTo>
                  <a:lnTo>
                    <a:pt x="75" y="139"/>
                  </a:lnTo>
                  <a:lnTo>
                    <a:pt x="148" y="6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93000" y="5117760"/>
              <a:ext cx="19440" cy="32400"/>
            </a:xfrm>
            <a:custGeom>
              <a:avLst/>
              <a:gdLst/>
              <a:ahLst/>
              <a:rect l="l" t="t" r="r" b="b"/>
              <a:pathLst>
                <a:path w="151" h="139">
                  <a:moveTo>
                    <a:pt x="64" y="0"/>
                  </a:moveTo>
                  <a:lnTo>
                    <a:pt x="0" y="61"/>
                  </a:lnTo>
                  <a:lnTo>
                    <a:pt x="76" y="139"/>
                  </a:lnTo>
                  <a:lnTo>
                    <a:pt x="151" y="6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21800" y="5128200"/>
              <a:ext cx="19440" cy="3240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1" y="0"/>
                  </a:moveTo>
                  <a:lnTo>
                    <a:pt x="0" y="62"/>
                  </a:lnTo>
                  <a:lnTo>
                    <a:pt x="76" y="138"/>
                  </a:lnTo>
                  <a:lnTo>
                    <a:pt x="149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947720" y="5146560"/>
              <a:ext cx="18720" cy="33480"/>
            </a:xfrm>
            <a:custGeom>
              <a:avLst/>
              <a:gdLst/>
              <a:ahLst/>
              <a:rect l="l" t="t" r="r" b="b"/>
              <a:pathLst>
                <a:path w="149" h="140">
                  <a:moveTo>
                    <a:pt x="61" y="0"/>
                  </a:moveTo>
                  <a:lnTo>
                    <a:pt x="0" y="64"/>
                  </a:lnTo>
                  <a:lnTo>
                    <a:pt x="73" y="140"/>
                  </a:lnTo>
                  <a:lnTo>
                    <a:pt x="149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969320" y="5176440"/>
              <a:ext cx="19440" cy="3348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1" y="0"/>
                  </a:moveTo>
                  <a:lnTo>
                    <a:pt x="0" y="62"/>
                  </a:lnTo>
                  <a:lnTo>
                    <a:pt x="75" y="138"/>
                  </a:lnTo>
                  <a:lnTo>
                    <a:pt x="149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988760" y="5205240"/>
              <a:ext cx="18720" cy="33480"/>
            </a:xfrm>
            <a:custGeom>
              <a:avLst/>
              <a:gdLst/>
              <a:ahLst/>
              <a:rect l="l" t="t" r="r" b="b"/>
              <a:pathLst>
                <a:path w="148" h="139">
                  <a:moveTo>
                    <a:pt x="61" y="0"/>
                  </a:moveTo>
                  <a:lnTo>
                    <a:pt x="0" y="64"/>
                  </a:lnTo>
                  <a:lnTo>
                    <a:pt x="76" y="139"/>
                  </a:lnTo>
                  <a:lnTo>
                    <a:pt x="148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01360" y="5238720"/>
              <a:ext cx="18720" cy="334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61" y="0"/>
                  </a:moveTo>
                  <a:lnTo>
                    <a:pt x="0" y="63"/>
                  </a:lnTo>
                  <a:lnTo>
                    <a:pt x="76" y="139"/>
                  </a:lnTo>
                  <a:lnTo>
                    <a:pt x="149" y="6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16480" y="5280120"/>
              <a:ext cx="19440" cy="3348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63" y="0"/>
                  </a:moveTo>
                  <a:lnTo>
                    <a:pt x="0" y="63"/>
                  </a:lnTo>
                  <a:lnTo>
                    <a:pt x="76" y="138"/>
                  </a:lnTo>
                  <a:lnTo>
                    <a:pt x="151" y="6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76600" y="5472000"/>
              <a:ext cx="168480" cy="69840"/>
            </a:xfrm>
            <a:custGeom>
              <a:avLst/>
              <a:gdLst/>
              <a:ahLst/>
              <a:rect l="l" t="t" r="r" b="b"/>
              <a:pathLst>
                <a:path w="1319" h="288">
                  <a:moveTo>
                    <a:pt x="26" y="288"/>
                  </a:moveTo>
                  <a:lnTo>
                    <a:pt x="1319" y="0"/>
                  </a:lnTo>
                  <a:lnTo>
                    <a:pt x="0" y="256"/>
                  </a:lnTo>
                  <a:lnTo>
                    <a:pt x="26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393760" y="6012720"/>
              <a:ext cx="128520" cy="138240"/>
            </a:xfrm>
            <a:custGeom>
              <a:avLst/>
              <a:gdLst/>
              <a:ahLst/>
              <a:rect l="l" t="t" r="r" b="b"/>
              <a:pathLst>
                <a:path w="1008" h="577">
                  <a:moveTo>
                    <a:pt x="545" y="577"/>
                  </a:moveTo>
                  <a:lnTo>
                    <a:pt x="0" y="192"/>
                  </a:lnTo>
                  <a:lnTo>
                    <a:pt x="310" y="32"/>
                  </a:lnTo>
                  <a:lnTo>
                    <a:pt x="131" y="192"/>
                  </a:lnTo>
                  <a:lnTo>
                    <a:pt x="569" y="0"/>
                  </a:lnTo>
                  <a:lnTo>
                    <a:pt x="208" y="290"/>
                  </a:lnTo>
                  <a:lnTo>
                    <a:pt x="802" y="0"/>
                  </a:lnTo>
                  <a:lnTo>
                    <a:pt x="363" y="352"/>
                  </a:lnTo>
                  <a:lnTo>
                    <a:pt x="907" y="95"/>
                  </a:lnTo>
                  <a:lnTo>
                    <a:pt x="493" y="416"/>
                  </a:lnTo>
                  <a:lnTo>
                    <a:pt x="1008" y="159"/>
                  </a:lnTo>
                  <a:lnTo>
                    <a:pt x="645" y="448"/>
                  </a:lnTo>
                  <a:lnTo>
                    <a:pt x="545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350920" y="4240800"/>
              <a:ext cx="135360" cy="117720"/>
            </a:xfrm>
            <a:custGeom>
              <a:avLst/>
              <a:gdLst/>
              <a:ahLst/>
              <a:rect l="l" t="t" r="r" b="b"/>
              <a:pathLst>
                <a:path w="1056" h="493">
                  <a:moveTo>
                    <a:pt x="972" y="177"/>
                  </a:moveTo>
                  <a:lnTo>
                    <a:pt x="720" y="334"/>
                  </a:lnTo>
                  <a:lnTo>
                    <a:pt x="477" y="493"/>
                  </a:lnTo>
                  <a:lnTo>
                    <a:pt x="198" y="493"/>
                  </a:lnTo>
                  <a:lnTo>
                    <a:pt x="0" y="351"/>
                  </a:lnTo>
                  <a:lnTo>
                    <a:pt x="253" y="404"/>
                  </a:lnTo>
                  <a:lnTo>
                    <a:pt x="169" y="316"/>
                  </a:lnTo>
                  <a:lnTo>
                    <a:pt x="366" y="404"/>
                  </a:lnTo>
                  <a:lnTo>
                    <a:pt x="294" y="316"/>
                  </a:lnTo>
                  <a:lnTo>
                    <a:pt x="492" y="371"/>
                  </a:lnTo>
                  <a:lnTo>
                    <a:pt x="437" y="264"/>
                  </a:lnTo>
                  <a:lnTo>
                    <a:pt x="579" y="334"/>
                  </a:lnTo>
                  <a:lnTo>
                    <a:pt x="549" y="244"/>
                  </a:lnTo>
                  <a:lnTo>
                    <a:pt x="690" y="281"/>
                  </a:lnTo>
                  <a:lnTo>
                    <a:pt x="649" y="193"/>
                  </a:lnTo>
                  <a:lnTo>
                    <a:pt x="789" y="211"/>
                  </a:lnTo>
                  <a:lnTo>
                    <a:pt x="762" y="122"/>
                  </a:lnTo>
                  <a:lnTo>
                    <a:pt x="873" y="141"/>
                  </a:lnTo>
                  <a:lnTo>
                    <a:pt x="846" y="70"/>
                  </a:lnTo>
                  <a:lnTo>
                    <a:pt x="960" y="70"/>
                  </a:lnTo>
                  <a:lnTo>
                    <a:pt x="960" y="0"/>
                  </a:lnTo>
                  <a:lnTo>
                    <a:pt x="1056" y="53"/>
                  </a:lnTo>
                  <a:lnTo>
                    <a:pt x="972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4920" y="1523880"/>
            <a:ext cx="8458200" cy="495324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Earnings Management with Special Char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1)  Special charges often garner less inves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ttention under an assumption they are non-recur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and do not per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2)  Managers motivated to re-classify oper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harges as special one-time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3) When analysts ignore such re-classified char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it leads to low operating expense estimat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overestimates of compan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04920" y="1447920"/>
            <a:ext cx="8610480" cy="547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Earnings Management with Special Charg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—An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mpany earns $2 per share in perpet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st of capital is 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mpany valuation is $20 ($2/0.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mpany overstates recurring earnings by $1 per share for 4 periods and then reverses this with a single charge in the fourth ye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$ per share)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Year 1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Year 2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Year 3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Year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Recurring earning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2 + $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2 + $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2 + $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2 + $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Special charg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--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--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--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 (4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Net Incom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1) 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Suggests permanent component of $3 per share and a transitory component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$(4) per share in Yea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2)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ompany stock is valued at $26 ([$3 / 0.10] - $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(3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Ignoring special charges (as some analysts advise) yields stock valued at $30 ($3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/0.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0880" y="350532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0880" y="457200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666880" y="441972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19520" y="4572000"/>
            <a:ext cx="30456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38480" y="441972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781680" y="441972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34120" y="4419720"/>
            <a:ext cx="30456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362320" y="838080"/>
            <a:ext cx="4267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0" y="144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8600" y="1447920"/>
            <a:ext cx="8763120" cy="511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Earnings Management with Special Charge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—Graphical Illustration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5" name=""/>
          <p:cNvGraphicFramePr/>
          <p:nvPr/>
        </p:nvGraphicFramePr>
        <p:xfrm>
          <a:off x="380880" y="1828800"/>
          <a:ext cx="84582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458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04920" y="1523880"/>
            <a:ext cx="8458200" cy="495324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Income Statement Adjust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(1) Permanent income reflect profitability of a compan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under normal circum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Most special charges constitute operating expens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that need to be reflected in permanent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Special charges often reflect either understate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of past expenses or investments for future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(2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conomic income reflects the effects on equity of 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vents that occur in the peri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ntire amount of special charges is included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Non-Recurring Items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peci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04920" y="1523880"/>
            <a:ext cx="8458200" cy="495324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Arial"/>
              </a:rPr>
              <a:t>Balance Sheet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Balance sheets after special charges often better refl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business reality by reporting assets closer to net realiza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Two additional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(1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etain provision or net against equ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f a going-concern analysis, then re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f a liquidating value analysis, then offset against equ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(2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sset write-offs conservatively distort asset and liabil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alues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523880"/>
            <a:ext cx="8534160" cy="491832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Economic Incom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Equals net cash flows + the change in the present value of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future cash fl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Measures change in shareholder value—reflecting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financial effects of all events in a comprehensive man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Includes both recurring and nonrecurring components—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rendering it less useful for forecasting future earnings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1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Related to </a:t>
            </a:r>
            <a:r>
              <a:rPr b="1" lang="en-US" sz="2200" spc="-1" strike="noStrike">
                <a:solidFill>
                  <a:srgbClr val="0066cc"/>
                </a:solidFill>
                <a:latin typeface="Arial"/>
                <a:ea typeface="Times New Roman"/>
              </a:rPr>
              <a:t>Hicksian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 concept of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income—income includes both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realized (cash flow) and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unrealized (holding gain or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loss) component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4400" y="4648320"/>
            <a:ext cx="1676520" cy="1676160"/>
            <a:chOff x="914400" y="4648320"/>
            <a:chExt cx="1676520" cy="1676160"/>
          </a:xfrm>
        </p:grpSpPr>
        <p:sp>
          <p:nvSpPr>
            <p:cNvPr id="155" name=""/>
            <p:cNvSpPr/>
            <p:nvPr/>
          </p:nvSpPr>
          <p:spPr>
            <a:xfrm>
              <a:off x="1221840" y="5630760"/>
              <a:ext cx="1369080" cy="69372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21680" y="4832280"/>
              <a:ext cx="1114920" cy="137340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82800" y="5297040"/>
              <a:ext cx="252720" cy="49032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50400" y="5538600"/>
              <a:ext cx="627840" cy="68832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8080" y="4662000"/>
              <a:ext cx="736200" cy="42876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45720" y="5027760"/>
              <a:ext cx="784440" cy="40932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84680" y="5221080"/>
              <a:ext cx="590040" cy="54144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3960" y="4759560"/>
              <a:ext cx="714960" cy="19548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33880" y="5469120"/>
              <a:ext cx="112680" cy="2084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51440" y="5677560"/>
              <a:ext cx="184320" cy="12276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01400" y="5812200"/>
              <a:ext cx="1033560" cy="37728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19880" y="5331240"/>
              <a:ext cx="1329840" cy="86796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1400" y="5670000"/>
              <a:ext cx="257400" cy="8964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19120" y="5439240"/>
              <a:ext cx="114840" cy="23832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0360" y="4749840"/>
              <a:ext cx="600840" cy="24768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09680" y="5650920"/>
              <a:ext cx="258120" cy="14976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3600" y="5090760"/>
              <a:ext cx="195840" cy="60696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35920" y="5065920"/>
              <a:ext cx="205560" cy="64656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99440" y="5316120"/>
              <a:ext cx="345240" cy="34416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92240" y="5225400"/>
              <a:ext cx="391680" cy="26172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96880" y="5371920"/>
              <a:ext cx="980640" cy="45072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6240" y="5178240"/>
              <a:ext cx="581760" cy="29376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6880" y="5094000"/>
              <a:ext cx="603000" cy="38556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58760" y="4844880"/>
              <a:ext cx="1213200" cy="47412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81720" y="4658760"/>
              <a:ext cx="1296720" cy="63504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61760" y="5361120"/>
              <a:ext cx="666720" cy="39096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49800" y="5234040"/>
              <a:ext cx="202680" cy="13212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4400" y="4648320"/>
              <a:ext cx="1333800" cy="54180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8720" y="5010480"/>
              <a:ext cx="822240" cy="48060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4160" y="5065920"/>
              <a:ext cx="688320" cy="29304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38360" y="4955040"/>
              <a:ext cx="481320" cy="73080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87760" y="5514120"/>
              <a:ext cx="124920" cy="17208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93240" y="4774320"/>
              <a:ext cx="394560" cy="54144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72440" y="5216040"/>
              <a:ext cx="1415160" cy="63144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52400" y="5488200"/>
              <a:ext cx="130320" cy="22752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97840" y="5583600"/>
              <a:ext cx="203400" cy="7992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2800" y="5302440"/>
              <a:ext cx="1326240" cy="74268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17000" y="5469120"/>
              <a:ext cx="237960" cy="64224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45720" y="5526000"/>
              <a:ext cx="1423440" cy="73512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63240" y="5886000"/>
              <a:ext cx="719640" cy="24444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64320" y="5650920"/>
              <a:ext cx="329760" cy="16560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9520" y="5751360"/>
              <a:ext cx="285120" cy="4140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4880" y="4742280"/>
              <a:ext cx="792720" cy="22644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22760" y="5207040"/>
              <a:ext cx="410400" cy="19116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21880" y="5163480"/>
              <a:ext cx="730800" cy="58752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74680" y="5687280"/>
              <a:ext cx="128520" cy="7164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304920" y="1523880"/>
            <a:ext cx="8534160" cy="491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Revenue Recogni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arning activities are substantially complete and no significant added effort i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isk of ownership is effectively passed to the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, and related expense, are measured or estimated with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recognized norm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yields an increase in cas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ceivables or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transactions are at arm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length with independent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ransaction is not subject to revoca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Revenu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9" name=""/>
          <p:cNvGraphicFramePr/>
          <p:nvPr/>
        </p:nvGraphicFramePr>
        <p:xfrm>
          <a:off x="7162920" y="4876920"/>
          <a:ext cx="165888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876920"/>
                    <a:ext cx="165888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04920" y="1523880"/>
            <a:ext cx="8534160" cy="491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ome special revenue recognition situati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Revenue When Right of Return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ranchise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Financing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ransfers of Receivables with Re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Recognition at Completion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Revenue under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49440" indent="-457200">
              <a:lnSpc>
                <a:spcPct val="11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ercentage-of-complet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49440" indent="-457200">
              <a:lnSpc>
                <a:spcPct val="11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pleted-contrac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nearned Finance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228600"/>
                <a:tab algn="l" pos="68580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Recognizing “Sales” to Leasing Subsidiaries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Revenu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304920" y="1523880"/>
            <a:ext cx="8534160" cy="491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Revenue is important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Company 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Accounting-based contractual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Management pressure to achieve income 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Management compensation linked to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Valuation of stock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Analysis must assess whether revenue reflects business re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Assess risk of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Assess risk of collec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Circumstances fueling questions about revenue recognition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Sale of assets or operations not producing cash flows to fund interest or divid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Lack of equity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34800" algn="just">
              <a:lnSpc>
                <a:spcPct val="11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457200"/>
                <a:tab algn="l" pos="1717560"/>
                <a:tab algn="l" pos="45165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Existence of contingent liabilities</a:t>
            </a:r>
            <a:r>
              <a:rPr b="1" lang="en-US" sz="1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Revenu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86000" y="8380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solidFill>
            <a:srgbClr val="0066cc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Costs incurred but deferred because they a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expected to benefit future perio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Consider four categories of deferred costs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and develop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Computer software cos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Costs in extractive indust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Miscellaneous (Other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0" name=""/>
          <p:cNvGraphicFramePr/>
          <p:nvPr/>
        </p:nvGraphicFramePr>
        <p:xfrm>
          <a:off x="7010280" y="5486400"/>
          <a:ext cx="198144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486400"/>
                    <a:ext cx="1981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04920" y="1593720"/>
            <a:ext cx="8610480" cy="4725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R&amp;D cost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Materials, equipment, and facilities acquired or constructed for a R&amp;D pro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Purchased intangibles with no alternative future u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Materials consumed in R&amp;D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Depreciation of equipment or facilities, and amortization of intangible assets, used in R&amp;D activities with alternative future u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Salaries and other related cost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personnel engaged in R&amp;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Services performed by others in conne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with R&amp;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Allocation of indirect costs, excluding gener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and administrative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新細明體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828800" y="838080"/>
            <a:ext cx="5562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Research and Developm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5" name=""/>
          <p:cNvGraphicFramePr/>
          <p:nvPr/>
        </p:nvGraphicFramePr>
        <p:xfrm>
          <a:off x="7162920" y="4495680"/>
          <a:ext cx="16761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495680"/>
                    <a:ext cx="16761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304920" y="1593720"/>
            <a:ext cx="8610480" cy="497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Black"/>
                <a:ea typeface="Arial"/>
              </a:rPr>
              <a:t>Accounting for R&amp;D is problematic due to: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High uncertainty of any potential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Time period between R&amp;D activities and determination of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Intangible nature of most R&amp;D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Difficulty in estimating future benefit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H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U.S. accounting requires expensing R&amp;D when incu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Only costs of materials, equipment, and facilities with alternative future uses are capitalized as tangible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Intangibles purchased from others for R&amp;D activities with alternative future uses are capit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*These accounting problems are similar to those encountered with employee training programs, product promotions, and advertisin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828800" y="838080"/>
            <a:ext cx="5562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Research and Developm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304920" y="1593720"/>
            <a:ext cx="8610480" cy="477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nalysis of R&amp;D is challenging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uture benefits are usually created from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nceptually, R&amp;D should not be expensed as in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xpensing R&amp;D impairs earnings use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arket often rewards a stock price for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nderstates R&amp;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ccounting ignores experi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many ongoing R&amp;D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ails to serve needs and inter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2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many analysts</a:t>
            </a: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Research and Developm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7162920" y="4648320"/>
          <a:ext cx="160020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648320"/>
                    <a:ext cx="16002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Research and Developm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7391520" y="4495680"/>
          <a:ext cx="14475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495680"/>
                    <a:ext cx="14475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"/>
          <p:cNvSpPr/>
          <p:nvPr/>
        </p:nvSpPr>
        <p:spPr>
          <a:xfrm>
            <a:off x="1905120" y="2271960"/>
            <a:ext cx="5410080" cy="3556440"/>
          </a:xfrm>
          <a:prstGeom prst="roundRect">
            <a:avLst>
              <a:gd name="adj" fmla="val 12495"/>
            </a:avLst>
          </a:prstGeom>
          <a:solidFill>
            <a:srgbClr val="438e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nalysis needs/wants inclu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ypes of research perform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&amp;D outlays by categ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echnical feasi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mmercial vi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otential of R&amp;D pro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23652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rior success/failure with R&amp;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457200" y="1676520"/>
            <a:ext cx="8375760" cy="4800600"/>
          </a:xfrm>
          <a:prstGeom prst="rect">
            <a:avLst/>
          </a:prstGeom>
          <a:solidFill>
            <a:srgbClr val="b3b900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[Note: Accounting for costs of computer software to be sold, leased, or otherwise marketed identifies a point referred to as technological feasibility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ior to technologi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easibility, cos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re expensed w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cur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fter technological feasibility, costs are capitalized as an intangible asse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Computer Softwar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3" name=""/>
          <p:cNvGraphicFramePr/>
          <p:nvPr/>
        </p:nvGraphicFramePr>
        <p:xfrm>
          <a:off x="5105520" y="3581280"/>
          <a:ext cx="35812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581280"/>
                    <a:ext cx="3581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380880" y="1523880"/>
            <a:ext cx="8375760" cy="510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  <a:effectLst>
            <a:outerShdw dist="107932" dir="2700000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Search and development costs for natural resources is important to extractive industries including oil, gas, metals, coal, and nonmetallic miner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Two basic accounting viewpoi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Full‑cost” view—all cost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productive and nonproductiv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urred in the search for resour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re capitalized and amortized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come as resources are produc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nd s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buClr>
                <a:srgbClr val="ff6600"/>
              </a:buClr>
              <a:buSzPct val="11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Successful efforts” view—all costs that do not result directly in discovery of resources have no future benefit and should be expensed as incurred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Costs in Extractive Indust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7162920" y="3200400"/>
          <a:ext cx="14796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200400"/>
                    <a:ext cx="1479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1447920"/>
            <a:ext cx="8534160" cy="505512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Permanent Income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Equals stable average income that a company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is expected to earn over its lif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Reflects a long-term foc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Directly proportional to compan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valu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Arial"/>
              </a:rPr>
              <a:t>•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Often expressed by divid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permanent income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cost of ca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*Also called sustainable earning power, or sustainable or normalized earn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3352680"/>
            <a:ext cx="1752120" cy="2285640"/>
            <a:chOff x="6858000" y="3352680"/>
            <a:chExt cx="1752120" cy="2285640"/>
          </a:xfrm>
        </p:grpSpPr>
        <p:sp>
          <p:nvSpPr>
            <p:cNvPr id="205" name=""/>
            <p:cNvSpPr/>
            <p:nvPr/>
          </p:nvSpPr>
          <p:spPr>
            <a:xfrm>
              <a:off x="7179120" y="4692240"/>
              <a:ext cx="1431000" cy="94608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70320" y="3603240"/>
              <a:ext cx="1165680" cy="187308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29280" y="4237560"/>
              <a:ext cx="264240" cy="66888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5440" y="4566600"/>
              <a:ext cx="656280" cy="93852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72400" y="3371400"/>
              <a:ext cx="769680" cy="58464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90760" y="3870360"/>
              <a:ext cx="820080" cy="55836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35840" y="4133880"/>
              <a:ext cx="616680" cy="73872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11680" y="3504240"/>
              <a:ext cx="747360" cy="26676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0880" y="4472280"/>
              <a:ext cx="118080" cy="2840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4840" y="4756680"/>
              <a:ext cx="192600" cy="16740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62640" y="4939920"/>
              <a:ext cx="1080720" cy="51444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68160" y="4284000"/>
              <a:ext cx="1390320" cy="118368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1080" y="4746240"/>
              <a:ext cx="268920" cy="12204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85400" y="4431240"/>
              <a:ext cx="119880" cy="32508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07720" y="3490920"/>
              <a:ext cx="628200" cy="33804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71280" y="4719960"/>
              <a:ext cx="270000" cy="20412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93560" y="3956040"/>
              <a:ext cx="204840" cy="82800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6600" y="3922560"/>
              <a:ext cx="214920" cy="88200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1320" y="4263480"/>
              <a:ext cx="361080" cy="46908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3760" y="4139640"/>
              <a:ext cx="409320" cy="35712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6760" y="4339800"/>
              <a:ext cx="1025280" cy="61488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53040" y="4075560"/>
              <a:ext cx="608040" cy="40068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2280" y="3960360"/>
              <a:ext cx="630360" cy="52596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08840" y="3620880"/>
              <a:ext cx="1268280" cy="64692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8560" y="3367080"/>
              <a:ext cx="1355400" cy="86580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39200" y="4324680"/>
              <a:ext cx="696960" cy="53352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2200" y="4151520"/>
              <a:ext cx="212040" cy="18036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0" y="3352680"/>
              <a:ext cx="1393920" cy="73908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62680" y="3846600"/>
              <a:ext cx="859680" cy="65556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4600" y="3922560"/>
              <a:ext cx="719280" cy="39960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15080" y="3771000"/>
              <a:ext cx="503280" cy="99684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0960" y="4533480"/>
              <a:ext cx="130680" cy="23436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1120" y="3524760"/>
              <a:ext cx="412560" cy="73872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3240" y="4126680"/>
              <a:ext cx="1479240" cy="86148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29480" y="4498200"/>
              <a:ext cx="136080" cy="31032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81400" y="4628160"/>
              <a:ext cx="212760" cy="10908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29280" y="4244760"/>
              <a:ext cx="1386360" cy="101304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65280" y="4472280"/>
              <a:ext cx="248760" cy="87588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90760" y="4549680"/>
              <a:ext cx="1488240" cy="100260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22680" y="5040720"/>
              <a:ext cx="752400" cy="33336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23760" y="4719960"/>
              <a:ext cx="344520" cy="22608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14520" y="4857120"/>
              <a:ext cx="298080" cy="5652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97560" y="3480840"/>
              <a:ext cx="828720" cy="30888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2080" y="4114800"/>
              <a:ext cx="428760" cy="26100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02200" y="4055400"/>
              <a:ext cx="763920" cy="80136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70840" y="4769280"/>
              <a:ext cx="134280" cy="9756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Deferred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5120" y="838080"/>
            <a:ext cx="556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Other Deferr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9200" y="1823400"/>
            <a:ext cx="8469360" cy="4437000"/>
          </a:xfrm>
          <a:prstGeom prst="roundRect">
            <a:avLst>
              <a:gd name="adj" fmla="val 12495"/>
            </a:avLst>
          </a:prstGeom>
          <a:solidFill>
            <a:srgbClr val="063d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ferred charges are often substa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alidating many deferred charges depends on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ing the benefit period to amortize deferred charges is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alysis must be alert to deferred charges that do not carry future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scriptions of deferred costs are useful 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ferred charges are generally incapable of satisfying creditors’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 propensity of management to defer cos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304920" y="1523880"/>
            <a:ext cx="8534160" cy="42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2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Increase in employee benefits supplementary to salaries and w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Some supplementary benefits are not accorded full or timely recogn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2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Compensated abs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Deferred compensation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Stock appreciation rights (S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Junior stock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1800" indent="-228600">
              <a:lnSpc>
                <a:spcPct val="100000"/>
              </a:lnSpc>
              <a:buClr>
                <a:srgbClr val="ff6600"/>
              </a:buClr>
              <a:buFont typeface="Arial Black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Employee Stock Options (ESOs)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438280" y="843120"/>
            <a:ext cx="4191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685800" y="4095720"/>
            <a:ext cx="1981080" cy="1947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304920" y="1523880"/>
            <a:ext cx="8534160" cy="48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ESOs are a popular form of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incentive compens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—</a:t>
            </a: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reason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Enhanced employee 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Align employee and company incen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Viewed as means to ric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Tool to attract talented and enterprising work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Do not have direct cash flow eff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20000"/>
              </a:lnSpc>
              <a:buClr>
                <a:srgbClr val="ff6600"/>
              </a:buClr>
              <a:buFont typeface="Wingdings" charset="2"/>
              <a:buChar char="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Do not require the recording of cos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5791320" y="1676520"/>
          <a:ext cx="2808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676520"/>
                    <a:ext cx="2808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304920" y="1523880"/>
            <a:ext cx="8534160" cy="51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Option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Option to purchase shares at a specific price on or after a future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Exercise price is the price a holder has the right to purchase shares 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Exercise price often set equal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stock price on grant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Vesting date is the earliest da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the employee can exercise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o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In-the-Money: When stoc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price is higher than exerci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Out-of-the-Money: When stock pri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Times New Roman"/>
              </a:rPr>
              <a:t>is less than exercise price</a:t>
            </a:r>
            <a:r>
              <a:rPr b="1" lang="en-US" sz="23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7010280" y="5029200"/>
            <a:ext cx="1752480" cy="1676160"/>
            <a:chOff x="7010280" y="5029200"/>
            <a:chExt cx="1752480" cy="1676160"/>
          </a:xfrm>
        </p:grpSpPr>
        <p:sp>
          <p:nvSpPr>
            <p:cNvPr id="1346" name=""/>
            <p:cNvSpPr/>
            <p:nvPr/>
          </p:nvSpPr>
          <p:spPr>
            <a:xfrm>
              <a:off x="7722720" y="5392440"/>
              <a:ext cx="843840" cy="840600"/>
            </a:xfrm>
            <a:custGeom>
              <a:avLst/>
              <a:gdLst/>
              <a:ahLst/>
              <a:rect l="l" t="t" r="r" b="b"/>
              <a:pathLst>
                <a:path w="5941" h="4291">
                  <a:moveTo>
                    <a:pt x="411" y="472"/>
                  </a:moveTo>
                  <a:lnTo>
                    <a:pt x="196" y="844"/>
                  </a:lnTo>
                  <a:lnTo>
                    <a:pt x="146" y="1385"/>
                  </a:lnTo>
                  <a:lnTo>
                    <a:pt x="0" y="1822"/>
                  </a:lnTo>
                  <a:lnTo>
                    <a:pt x="159" y="2215"/>
                  </a:lnTo>
                  <a:lnTo>
                    <a:pt x="254" y="3311"/>
                  </a:lnTo>
                  <a:lnTo>
                    <a:pt x="786" y="4241"/>
                  </a:lnTo>
                  <a:lnTo>
                    <a:pt x="1332" y="4291"/>
                  </a:lnTo>
                  <a:lnTo>
                    <a:pt x="2736" y="4154"/>
                  </a:lnTo>
                  <a:lnTo>
                    <a:pt x="4200" y="3918"/>
                  </a:lnTo>
                  <a:lnTo>
                    <a:pt x="4884" y="3918"/>
                  </a:lnTo>
                  <a:lnTo>
                    <a:pt x="5912" y="3544"/>
                  </a:lnTo>
                  <a:lnTo>
                    <a:pt x="5941" y="3259"/>
                  </a:lnTo>
                  <a:lnTo>
                    <a:pt x="5593" y="2805"/>
                  </a:lnTo>
                  <a:lnTo>
                    <a:pt x="5007" y="1675"/>
                  </a:lnTo>
                  <a:lnTo>
                    <a:pt x="4536" y="728"/>
                  </a:lnTo>
                  <a:lnTo>
                    <a:pt x="4509" y="543"/>
                  </a:lnTo>
                  <a:lnTo>
                    <a:pt x="4340" y="438"/>
                  </a:lnTo>
                  <a:lnTo>
                    <a:pt x="3976" y="341"/>
                  </a:lnTo>
                  <a:lnTo>
                    <a:pt x="3394" y="170"/>
                  </a:lnTo>
                  <a:lnTo>
                    <a:pt x="3268" y="103"/>
                  </a:lnTo>
                  <a:lnTo>
                    <a:pt x="2736" y="0"/>
                  </a:lnTo>
                  <a:lnTo>
                    <a:pt x="1358" y="152"/>
                  </a:lnTo>
                  <a:lnTo>
                    <a:pt x="411" y="4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065360" y="5514120"/>
              <a:ext cx="749880" cy="994320"/>
            </a:xfrm>
            <a:custGeom>
              <a:avLst/>
              <a:gdLst/>
              <a:ahLst/>
              <a:rect l="l" t="t" r="r" b="b"/>
              <a:pathLst>
                <a:path w="5284" h="5077">
                  <a:moveTo>
                    <a:pt x="5000" y="3681"/>
                  </a:moveTo>
                  <a:lnTo>
                    <a:pt x="4911" y="3869"/>
                  </a:lnTo>
                  <a:lnTo>
                    <a:pt x="3079" y="5077"/>
                  </a:lnTo>
                  <a:lnTo>
                    <a:pt x="0" y="4852"/>
                  </a:lnTo>
                  <a:lnTo>
                    <a:pt x="23" y="821"/>
                  </a:lnTo>
                  <a:lnTo>
                    <a:pt x="318" y="605"/>
                  </a:lnTo>
                  <a:lnTo>
                    <a:pt x="1255" y="395"/>
                  </a:lnTo>
                  <a:lnTo>
                    <a:pt x="1415" y="167"/>
                  </a:lnTo>
                  <a:lnTo>
                    <a:pt x="1750" y="0"/>
                  </a:lnTo>
                  <a:lnTo>
                    <a:pt x="2001" y="226"/>
                  </a:lnTo>
                  <a:lnTo>
                    <a:pt x="3135" y="1113"/>
                  </a:lnTo>
                  <a:lnTo>
                    <a:pt x="3701" y="962"/>
                  </a:lnTo>
                  <a:lnTo>
                    <a:pt x="3885" y="1039"/>
                  </a:lnTo>
                  <a:lnTo>
                    <a:pt x="4049" y="1358"/>
                  </a:lnTo>
                  <a:lnTo>
                    <a:pt x="4105" y="1567"/>
                  </a:lnTo>
                  <a:lnTo>
                    <a:pt x="4573" y="2433"/>
                  </a:lnTo>
                  <a:lnTo>
                    <a:pt x="4986" y="2605"/>
                  </a:lnTo>
                  <a:lnTo>
                    <a:pt x="5284" y="3248"/>
                  </a:lnTo>
                  <a:lnTo>
                    <a:pt x="5000" y="368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28600" y="5968800"/>
              <a:ext cx="406080" cy="330120"/>
            </a:xfrm>
            <a:custGeom>
              <a:avLst/>
              <a:gdLst/>
              <a:ahLst/>
              <a:rect l="l" t="t" r="r" b="b"/>
              <a:pathLst>
                <a:path w="2863" h="1682">
                  <a:moveTo>
                    <a:pt x="0" y="1660"/>
                  </a:moveTo>
                  <a:lnTo>
                    <a:pt x="1176" y="1243"/>
                  </a:lnTo>
                  <a:lnTo>
                    <a:pt x="2863" y="0"/>
                  </a:lnTo>
                  <a:lnTo>
                    <a:pt x="1396" y="1384"/>
                  </a:lnTo>
                  <a:lnTo>
                    <a:pt x="918" y="1682"/>
                  </a:lnTo>
                  <a:lnTo>
                    <a:pt x="0" y="16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76200" y="6234480"/>
              <a:ext cx="1036800" cy="444600"/>
            </a:xfrm>
            <a:custGeom>
              <a:avLst/>
              <a:gdLst/>
              <a:ahLst/>
              <a:rect l="l" t="t" r="r" b="b"/>
              <a:pathLst>
                <a:path w="7296" h="2267">
                  <a:moveTo>
                    <a:pt x="3063" y="0"/>
                  </a:moveTo>
                  <a:lnTo>
                    <a:pt x="1312" y="659"/>
                  </a:lnTo>
                  <a:lnTo>
                    <a:pt x="2887" y="1326"/>
                  </a:lnTo>
                  <a:lnTo>
                    <a:pt x="962" y="1241"/>
                  </a:lnTo>
                  <a:lnTo>
                    <a:pt x="0" y="1933"/>
                  </a:lnTo>
                  <a:lnTo>
                    <a:pt x="3431" y="2267"/>
                  </a:lnTo>
                  <a:lnTo>
                    <a:pt x="3780" y="1494"/>
                  </a:lnTo>
                  <a:lnTo>
                    <a:pt x="4898" y="1628"/>
                  </a:lnTo>
                  <a:lnTo>
                    <a:pt x="6098" y="1743"/>
                  </a:lnTo>
                  <a:lnTo>
                    <a:pt x="6423" y="1572"/>
                  </a:lnTo>
                  <a:lnTo>
                    <a:pt x="7296" y="1020"/>
                  </a:lnTo>
                  <a:lnTo>
                    <a:pt x="5355" y="829"/>
                  </a:lnTo>
                  <a:lnTo>
                    <a:pt x="5597" y="635"/>
                  </a:lnTo>
                  <a:lnTo>
                    <a:pt x="4571" y="442"/>
                  </a:lnTo>
                  <a:lnTo>
                    <a:pt x="3672" y="220"/>
                  </a:lnTo>
                  <a:lnTo>
                    <a:pt x="30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506800" y="6178320"/>
              <a:ext cx="65880" cy="133200"/>
            </a:xfrm>
            <a:custGeom>
              <a:avLst/>
              <a:gdLst/>
              <a:ahLst/>
              <a:rect l="l" t="t" r="r" b="b"/>
              <a:pathLst>
                <a:path w="466" h="679">
                  <a:moveTo>
                    <a:pt x="437" y="0"/>
                  </a:moveTo>
                  <a:lnTo>
                    <a:pt x="192" y="224"/>
                  </a:lnTo>
                  <a:lnTo>
                    <a:pt x="0" y="665"/>
                  </a:lnTo>
                  <a:lnTo>
                    <a:pt x="78" y="679"/>
                  </a:lnTo>
                  <a:lnTo>
                    <a:pt x="160" y="627"/>
                  </a:lnTo>
                  <a:lnTo>
                    <a:pt x="376" y="421"/>
                  </a:lnTo>
                  <a:lnTo>
                    <a:pt x="376" y="320"/>
                  </a:lnTo>
                  <a:lnTo>
                    <a:pt x="466" y="179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447760" y="6020640"/>
              <a:ext cx="114120" cy="176400"/>
            </a:xfrm>
            <a:custGeom>
              <a:avLst/>
              <a:gdLst/>
              <a:ahLst/>
              <a:rect l="l" t="t" r="r" b="b"/>
              <a:pathLst>
                <a:path w="806" h="902">
                  <a:moveTo>
                    <a:pt x="0" y="82"/>
                  </a:moveTo>
                  <a:lnTo>
                    <a:pt x="240" y="0"/>
                  </a:lnTo>
                  <a:lnTo>
                    <a:pt x="557" y="41"/>
                  </a:lnTo>
                  <a:lnTo>
                    <a:pt x="742" y="164"/>
                  </a:lnTo>
                  <a:lnTo>
                    <a:pt x="806" y="365"/>
                  </a:lnTo>
                  <a:lnTo>
                    <a:pt x="742" y="602"/>
                  </a:lnTo>
                  <a:lnTo>
                    <a:pt x="774" y="645"/>
                  </a:lnTo>
                  <a:lnTo>
                    <a:pt x="640" y="744"/>
                  </a:lnTo>
                  <a:lnTo>
                    <a:pt x="615" y="871"/>
                  </a:lnTo>
                  <a:lnTo>
                    <a:pt x="549" y="902"/>
                  </a:lnTo>
                  <a:lnTo>
                    <a:pt x="445" y="673"/>
                  </a:lnTo>
                  <a:lnTo>
                    <a:pt x="147" y="4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908120" y="6079320"/>
              <a:ext cx="448920" cy="201600"/>
            </a:xfrm>
            <a:custGeom>
              <a:avLst/>
              <a:gdLst/>
              <a:ahLst/>
              <a:rect l="l" t="t" r="r" b="b"/>
              <a:pathLst>
                <a:path w="3159" h="1032">
                  <a:moveTo>
                    <a:pt x="725" y="0"/>
                  </a:moveTo>
                  <a:lnTo>
                    <a:pt x="1554" y="113"/>
                  </a:lnTo>
                  <a:lnTo>
                    <a:pt x="2392" y="16"/>
                  </a:lnTo>
                  <a:lnTo>
                    <a:pt x="2907" y="356"/>
                  </a:lnTo>
                  <a:lnTo>
                    <a:pt x="3159" y="737"/>
                  </a:lnTo>
                  <a:lnTo>
                    <a:pt x="3159" y="815"/>
                  </a:lnTo>
                  <a:lnTo>
                    <a:pt x="3109" y="870"/>
                  </a:lnTo>
                  <a:lnTo>
                    <a:pt x="3077" y="870"/>
                  </a:lnTo>
                  <a:lnTo>
                    <a:pt x="2828" y="483"/>
                  </a:lnTo>
                  <a:lnTo>
                    <a:pt x="2502" y="368"/>
                  </a:lnTo>
                  <a:lnTo>
                    <a:pt x="2645" y="535"/>
                  </a:lnTo>
                  <a:lnTo>
                    <a:pt x="2871" y="977"/>
                  </a:lnTo>
                  <a:lnTo>
                    <a:pt x="2815" y="1032"/>
                  </a:lnTo>
                  <a:lnTo>
                    <a:pt x="2229" y="439"/>
                  </a:lnTo>
                  <a:lnTo>
                    <a:pt x="1307" y="625"/>
                  </a:lnTo>
                  <a:lnTo>
                    <a:pt x="0" y="483"/>
                  </a:lnTo>
                  <a:lnTo>
                    <a:pt x="136" y="188"/>
                  </a:lnTo>
                  <a:lnTo>
                    <a:pt x="514" y="0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028000" y="5621760"/>
              <a:ext cx="87840" cy="414360"/>
            </a:xfrm>
            <a:custGeom>
              <a:avLst/>
              <a:gdLst/>
              <a:ahLst/>
              <a:rect l="l" t="t" r="r" b="b"/>
              <a:pathLst>
                <a:path w="621" h="2113">
                  <a:moveTo>
                    <a:pt x="415" y="0"/>
                  </a:moveTo>
                  <a:lnTo>
                    <a:pt x="456" y="44"/>
                  </a:lnTo>
                  <a:lnTo>
                    <a:pt x="456" y="179"/>
                  </a:lnTo>
                  <a:lnTo>
                    <a:pt x="303" y="426"/>
                  </a:lnTo>
                  <a:lnTo>
                    <a:pt x="600" y="1226"/>
                  </a:lnTo>
                  <a:lnTo>
                    <a:pt x="621" y="1740"/>
                  </a:lnTo>
                  <a:lnTo>
                    <a:pt x="405" y="2113"/>
                  </a:lnTo>
                  <a:lnTo>
                    <a:pt x="60" y="1890"/>
                  </a:lnTo>
                  <a:lnTo>
                    <a:pt x="0" y="1035"/>
                  </a:lnTo>
                  <a:lnTo>
                    <a:pt x="234" y="434"/>
                  </a:lnTo>
                  <a:lnTo>
                    <a:pt x="135" y="37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05960" y="5124240"/>
              <a:ext cx="283320" cy="501480"/>
            </a:xfrm>
            <a:custGeom>
              <a:avLst/>
              <a:gdLst/>
              <a:ahLst/>
              <a:rect l="l" t="t" r="r" b="b"/>
              <a:pathLst>
                <a:path w="1993" h="2561">
                  <a:moveTo>
                    <a:pt x="6" y="755"/>
                  </a:moveTo>
                  <a:lnTo>
                    <a:pt x="29" y="722"/>
                  </a:lnTo>
                  <a:lnTo>
                    <a:pt x="1120" y="0"/>
                  </a:lnTo>
                  <a:lnTo>
                    <a:pt x="1662" y="0"/>
                  </a:lnTo>
                  <a:lnTo>
                    <a:pt x="1993" y="482"/>
                  </a:lnTo>
                  <a:lnTo>
                    <a:pt x="1944" y="1156"/>
                  </a:lnTo>
                  <a:lnTo>
                    <a:pt x="1908" y="1428"/>
                  </a:lnTo>
                  <a:lnTo>
                    <a:pt x="1771" y="1994"/>
                  </a:lnTo>
                  <a:lnTo>
                    <a:pt x="1670" y="2151"/>
                  </a:lnTo>
                  <a:lnTo>
                    <a:pt x="1402" y="2447"/>
                  </a:lnTo>
                  <a:lnTo>
                    <a:pt x="1142" y="2561"/>
                  </a:lnTo>
                  <a:lnTo>
                    <a:pt x="606" y="2225"/>
                  </a:lnTo>
                  <a:lnTo>
                    <a:pt x="337" y="1566"/>
                  </a:lnTo>
                  <a:lnTo>
                    <a:pt x="167" y="1509"/>
                  </a:lnTo>
                  <a:lnTo>
                    <a:pt x="0" y="1132"/>
                  </a:lnTo>
                  <a:lnTo>
                    <a:pt x="6" y="755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041320" y="5029200"/>
              <a:ext cx="159120" cy="271080"/>
            </a:xfrm>
            <a:custGeom>
              <a:avLst/>
              <a:gdLst/>
              <a:ahLst/>
              <a:rect l="l" t="t" r="r" b="b"/>
              <a:pathLst>
                <a:path w="1118" h="1383">
                  <a:moveTo>
                    <a:pt x="523" y="632"/>
                  </a:moveTo>
                  <a:lnTo>
                    <a:pt x="636" y="484"/>
                  </a:lnTo>
                  <a:lnTo>
                    <a:pt x="862" y="724"/>
                  </a:lnTo>
                  <a:lnTo>
                    <a:pt x="988" y="987"/>
                  </a:lnTo>
                  <a:lnTo>
                    <a:pt x="988" y="1383"/>
                  </a:lnTo>
                  <a:lnTo>
                    <a:pt x="1118" y="1175"/>
                  </a:lnTo>
                  <a:lnTo>
                    <a:pt x="1113" y="880"/>
                  </a:lnTo>
                  <a:lnTo>
                    <a:pt x="847" y="412"/>
                  </a:lnTo>
                  <a:lnTo>
                    <a:pt x="699" y="264"/>
                  </a:lnTo>
                  <a:lnTo>
                    <a:pt x="456" y="134"/>
                  </a:lnTo>
                  <a:lnTo>
                    <a:pt x="164" y="0"/>
                  </a:lnTo>
                  <a:lnTo>
                    <a:pt x="0" y="224"/>
                  </a:lnTo>
                  <a:lnTo>
                    <a:pt x="523" y="63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73760" y="6256080"/>
              <a:ext cx="138240" cy="195840"/>
            </a:xfrm>
            <a:custGeom>
              <a:avLst/>
              <a:gdLst/>
              <a:ahLst/>
              <a:rect l="l" t="t" r="r" b="b"/>
              <a:pathLst>
                <a:path w="974" h="1000">
                  <a:moveTo>
                    <a:pt x="327" y="1000"/>
                  </a:moveTo>
                  <a:lnTo>
                    <a:pt x="862" y="997"/>
                  </a:lnTo>
                  <a:lnTo>
                    <a:pt x="966" y="917"/>
                  </a:lnTo>
                  <a:lnTo>
                    <a:pt x="969" y="847"/>
                  </a:lnTo>
                  <a:lnTo>
                    <a:pt x="909" y="761"/>
                  </a:lnTo>
                  <a:lnTo>
                    <a:pt x="958" y="670"/>
                  </a:lnTo>
                  <a:lnTo>
                    <a:pt x="937" y="587"/>
                  </a:lnTo>
                  <a:lnTo>
                    <a:pt x="906" y="575"/>
                  </a:lnTo>
                  <a:lnTo>
                    <a:pt x="974" y="483"/>
                  </a:lnTo>
                  <a:lnTo>
                    <a:pt x="862" y="133"/>
                  </a:lnTo>
                  <a:lnTo>
                    <a:pt x="457" y="0"/>
                  </a:lnTo>
                  <a:lnTo>
                    <a:pt x="145" y="0"/>
                  </a:lnTo>
                  <a:lnTo>
                    <a:pt x="91" y="47"/>
                  </a:lnTo>
                  <a:lnTo>
                    <a:pt x="0" y="179"/>
                  </a:lnTo>
                  <a:lnTo>
                    <a:pt x="327" y="100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841880" y="6362640"/>
              <a:ext cx="42480" cy="29520"/>
            </a:xfrm>
            <a:custGeom>
              <a:avLst/>
              <a:gdLst/>
              <a:ahLst/>
              <a:rect l="l" t="t" r="r" b="b"/>
              <a:pathLst>
                <a:path w="298" h="148">
                  <a:moveTo>
                    <a:pt x="298" y="148"/>
                  </a:moveTo>
                  <a:lnTo>
                    <a:pt x="0" y="67"/>
                  </a:lnTo>
                  <a:lnTo>
                    <a:pt x="52" y="0"/>
                  </a:lnTo>
                  <a:lnTo>
                    <a:pt x="250" y="102"/>
                  </a:lnTo>
                  <a:lnTo>
                    <a:pt x="298" y="148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486200" y="6301800"/>
              <a:ext cx="122760" cy="54720"/>
            </a:xfrm>
            <a:custGeom>
              <a:avLst/>
              <a:gdLst/>
              <a:ahLst/>
              <a:rect l="l" t="t" r="r" b="b"/>
              <a:pathLst>
                <a:path w="868" h="283">
                  <a:moveTo>
                    <a:pt x="0" y="283"/>
                  </a:moveTo>
                  <a:lnTo>
                    <a:pt x="725" y="283"/>
                  </a:lnTo>
                  <a:lnTo>
                    <a:pt x="868" y="251"/>
                  </a:lnTo>
                  <a:lnTo>
                    <a:pt x="785" y="153"/>
                  </a:lnTo>
                  <a:lnTo>
                    <a:pt x="584" y="0"/>
                  </a:lnTo>
                  <a:lnTo>
                    <a:pt x="346" y="0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409520" y="5784480"/>
              <a:ext cx="125640" cy="572040"/>
            </a:xfrm>
            <a:custGeom>
              <a:avLst/>
              <a:gdLst/>
              <a:ahLst/>
              <a:rect l="l" t="t" r="r" b="b"/>
              <a:pathLst>
                <a:path w="885" h="2923">
                  <a:moveTo>
                    <a:pt x="446" y="455"/>
                  </a:moveTo>
                  <a:lnTo>
                    <a:pt x="595" y="1145"/>
                  </a:lnTo>
                  <a:lnTo>
                    <a:pt x="885" y="2483"/>
                  </a:lnTo>
                  <a:lnTo>
                    <a:pt x="777" y="2723"/>
                  </a:lnTo>
                  <a:lnTo>
                    <a:pt x="534" y="2923"/>
                  </a:lnTo>
                  <a:lnTo>
                    <a:pt x="143" y="834"/>
                  </a:lnTo>
                  <a:lnTo>
                    <a:pt x="0" y="619"/>
                  </a:lnTo>
                  <a:lnTo>
                    <a:pt x="143" y="104"/>
                  </a:lnTo>
                  <a:lnTo>
                    <a:pt x="246" y="0"/>
                  </a:lnTo>
                  <a:lnTo>
                    <a:pt x="446" y="4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91520" y="5162400"/>
              <a:ext cx="318240" cy="316440"/>
            </a:xfrm>
            <a:custGeom>
              <a:avLst/>
              <a:gdLst/>
              <a:ahLst/>
              <a:rect l="l" t="t" r="r" b="b"/>
              <a:pathLst>
                <a:path w="2241" h="1615">
                  <a:moveTo>
                    <a:pt x="1929" y="1615"/>
                  </a:moveTo>
                  <a:lnTo>
                    <a:pt x="2110" y="1615"/>
                  </a:lnTo>
                  <a:lnTo>
                    <a:pt x="2196" y="1453"/>
                  </a:lnTo>
                  <a:lnTo>
                    <a:pt x="2241" y="1101"/>
                  </a:lnTo>
                  <a:lnTo>
                    <a:pt x="1753" y="670"/>
                  </a:lnTo>
                  <a:lnTo>
                    <a:pt x="797" y="0"/>
                  </a:lnTo>
                  <a:lnTo>
                    <a:pt x="284" y="69"/>
                  </a:lnTo>
                  <a:lnTo>
                    <a:pt x="0" y="471"/>
                  </a:lnTo>
                  <a:lnTo>
                    <a:pt x="1954" y="1525"/>
                  </a:lnTo>
                  <a:lnTo>
                    <a:pt x="1929" y="1615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486200" y="5434560"/>
              <a:ext cx="185400" cy="317520"/>
            </a:xfrm>
            <a:custGeom>
              <a:avLst/>
              <a:gdLst/>
              <a:ahLst/>
              <a:rect l="l" t="t" r="r" b="b"/>
              <a:pathLst>
                <a:path w="1307" h="1619">
                  <a:moveTo>
                    <a:pt x="732" y="1558"/>
                  </a:moveTo>
                  <a:lnTo>
                    <a:pt x="785" y="1419"/>
                  </a:lnTo>
                  <a:lnTo>
                    <a:pt x="876" y="1379"/>
                  </a:lnTo>
                  <a:lnTo>
                    <a:pt x="916" y="1311"/>
                  </a:lnTo>
                  <a:lnTo>
                    <a:pt x="966" y="1282"/>
                  </a:lnTo>
                  <a:lnTo>
                    <a:pt x="1075" y="1081"/>
                  </a:lnTo>
                  <a:lnTo>
                    <a:pt x="1215" y="1095"/>
                  </a:lnTo>
                  <a:lnTo>
                    <a:pt x="1273" y="1059"/>
                  </a:lnTo>
                  <a:lnTo>
                    <a:pt x="1295" y="1007"/>
                  </a:lnTo>
                  <a:lnTo>
                    <a:pt x="1162" y="691"/>
                  </a:lnTo>
                  <a:lnTo>
                    <a:pt x="1257" y="480"/>
                  </a:lnTo>
                  <a:lnTo>
                    <a:pt x="1307" y="132"/>
                  </a:lnTo>
                  <a:lnTo>
                    <a:pt x="778" y="0"/>
                  </a:lnTo>
                  <a:lnTo>
                    <a:pt x="0" y="1323"/>
                  </a:lnTo>
                  <a:lnTo>
                    <a:pt x="487" y="1619"/>
                  </a:lnTo>
                  <a:lnTo>
                    <a:pt x="732" y="1558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543080" y="5691600"/>
              <a:ext cx="74520" cy="5184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5" y="0"/>
                  </a:moveTo>
                  <a:lnTo>
                    <a:pt x="412" y="11"/>
                  </a:lnTo>
                  <a:lnTo>
                    <a:pt x="236" y="127"/>
                  </a:lnTo>
                  <a:lnTo>
                    <a:pt x="0" y="167"/>
                  </a:lnTo>
                  <a:lnTo>
                    <a:pt x="144" y="269"/>
                  </a:lnTo>
                  <a:lnTo>
                    <a:pt x="429" y="26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18440" y="5124240"/>
              <a:ext cx="411120" cy="652320"/>
            </a:xfrm>
            <a:custGeom>
              <a:avLst/>
              <a:gdLst/>
              <a:ahLst/>
              <a:rect l="l" t="t" r="r" b="b"/>
              <a:pathLst>
                <a:path w="2896" h="3327">
                  <a:moveTo>
                    <a:pt x="1916" y="3151"/>
                  </a:moveTo>
                  <a:lnTo>
                    <a:pt x="1802" y="3238"/>
                  </a:lnTo>
                  <a:lnTo>
                    <a:pt x="1624" y="3238"/>
                  </a:lnTo>
                  <a:lnTo>
                    <a:pt x="905" y="3018"/>
                  </a:lnTo>
                  <a:lnTo>
                    <a:pt x="1083" y="3327"/>
                  </a:lnTo>
                  <a:lnTo>
                    <a:pt x="996" y="3287"/>
                  </a:lnTo>
                  <a:lnTo>
                    <a:pt x="610" y="2902"/>
                  </a:lnTo>
                  <a:lnTo>
                    <a:pt x="243" y="2439"/>
                  </a:lnTo>
                  <a:lnTo>
                    <a:pt x="202" y="2220"/>
                  </a:lnTo>
                  <a:lnTo>
                    <a:pt x="8" y="2001"/>
                  </a:lnTo>
                  <a:lnTo>
                    <a:pt x="0" y="1793"/>
                  </a:lnTo>
                  <a:lnTo>
                    <a:pt x="69" y="1640"/>
                  </a:lnTo>
                  <a:lnTo>
                    <a:pt x="101" y="1105"/>
                  </a:lnTo>
                  <a:lnTo>
                    <a:pt x="315" y="567"/>
                  </a:lnTo>
                  <a:lnTo>
                    <a:pt x="456" y="273"/>
                  </a:lnTo>
                  <a:lnTo>
                    <a:pt x="905" y="0"/>
                  </a:lnTo>
                  <a:lnTo>
                    <a:pt x="1456" y="67"/>
                  </a:lnTo>
                  <a:lnTo>
                    <a:pt x="2132" y="336"/>
                  </a:lnTo>
                  <a:lnTo>
                    <a:pt x="2537" y="763"/>
                  </a:lnTo>
                  <a:lnTo>
                    <a:pt x="2828" y="1293"/>
                  </a:lnTo>
                  <a:lnTo>
                    <a:pt x="2896" y="1640"/>
                  </a:lnTo>
                  <a:lnTo>
                    <a:pt x="2664" y="1807"/>
                  </a:lnTo>
                  <a:lnTo>
                    <a:pt x="2589" y="1807"/>
                  </a:lnTo>
                  <a:lnTo>
                    <a:pt x="2672" y="1678"/>
                  </a:lnTo>
                  <a:lnTo>
                    <a:pt x="2537" y="1507"/>
                  </a:lnTo>
                  <a:lnTo>
                    <a:pt x="2560" y="1382"/>
                  </a:lnTo>
                  <a:lnTo>
                    <a:pt x="2736" y="1369"/>
                  </a:lnTo>
                  <a:lnTo>
                    <a:pt x="2402" y="1211"/>
                  </a:lnTo>
                  <a:lnTo>
                    <a:pt x="2427" y="1081"/>
                  </a:lnTo>
                  <a:lnTo>
                    <a:pt x="2225" y="943"/>
                  </a:lnTo>
                  <a:lnTo>
                    <a:pt x="2079" y="967"/>
                  </a:lnTo>
                  <a:lnTo>
                    <a:pt x="2060" y="813"/>
                  </a:lnTo>
                  <a:lnTo>
                    <a:pt x="1940" y="839"/>
                  </a:lnTo>
                  <a:lnTo>
                    <a:pt x="1826" y="749"/>
                  </a:lnTo>
                  <a:lnTo>
                    <a:pt x="1835" y="619"/>
                  </a:lnTo>
                  <a:lnTo>
                    <a:pt x="1750" y="669"/>
                  </a:lnTo>
                  <a:lnTo>
                    <a:pt x="1661" y="610"/>
                  </a:lnTo>
                  <a:lnTo>
                    <a:pt x="1607" y="426"/>
                  </a:lnTo>
                  <a:lnTo>
                    <a:pt x="1500" y="515"/>
                  </a:lnTo>
                  <a:lnTo>
                    <a:pt x="1297" y="411"/>
                  </a:lnTo>
                  <a:lnTo>
                    <a:pt x="1326" y="322"/>
                  </a:lnTo>
                  <a:lnTo>
                    <a:pt x="1181" y="359"/>
                  </a:lnTo>
                  <a:lnTo>
                    <a:pt x="1037" y="322"/>
                  </a:lnTo>
                  <a:lnTo>
                    <a:pt x="996" y="411"/>
                  </a:lnTo>
                  <a:lnTo>
                    <a:pt x="754" y="528"/>
                  </a:lnTo>
                  <a:lnTo>
                    <a:pt x="1129" y="439"/>
                  </a:lnTo>
                  <a:lnTo>
                    <a:pt x="1425" y="592"/>
                  </a:lnTo>
                  <a:lnTo>
                    <a:pt x="1418" y="659"/>
                  </a:lnTo>
                  <a:lnTo>
                    <a:pt x="1551" y="686"/>
                  </a:lnTo>
                  <a:lnTo>
                    <a:pt x="1722" y="839"/>
                  </a:lnTo>
                  <a:lnTo>
                    <a:pt x="1682" y="932"/>
                  </a:lnTo>
                  <a:lnTo>
                    <a:pt x="1997" y="1148"/>
                  </a:lnTo>
                  <a:lnTo>
                    <a:pt x="2079" y="1081"/>
                  </a:lnTo>
                  <a:lnTo>
                    <a:pt x="2060" y="1264"/>
                  </a:lnTo>
                  <a:lnTo>
                    <a:pt x="2245" y="1276"/>
                  </a:lnTo>
                  <a:lnTo>
                    <a:pt x="2152" y="1420"/>
                  </a:lnTo>
                  <a:lnTo>
                    <a:pt x="2529" y="1640"/>
                  </a:lnTo>
                  <a:lnTo>
                    <a:pt x="2548" y="1717"/>
                  </a:lnTo>
                  <a:lnTo>
                    <a:pt x="2435" y="1807"/>
                  </a:lnTo>
                  <a:lnTo>
                    <a:pt x="2435" y="1729"/>
                  </a:lnTo>
                  <a:lnTo>
                    <a:pt x="2267" y="1793"/>
                  </a:lnTo>
                  <a:lnTo>
                    <a:pt x="2119" y="2065"/>
                  </a:lnTo>
                  <a:lnTo>
                    <a:pt x="1802" y="2249"/>
                  </a:lnTo>
                  <a:lnTo>
                    <a:pt x="1661" y="2400"/>
                  </a:lnTo>
                  <a:lnTo>
                    <a:pt x="1641" y="2556"/>
                  </a:lnTo>
                  <a:lnTo>
                    <a:pt x="1745" y="2632"/>
                  </a:lnTo>
                  <a:lnTo>
                    <a:pt x="1835" y="2644"/>
                  </a:lnTo>
                  <a:lnTo>
                    <a:pt x="1597" y="2902"/>
                  </a:lnTo>
                  <a:lnTo>
                    <a:pt x="1703" y="3082"/>
                  </a:lnTo>
                  <a:lnTo>
                    <a:pt x="1745" y="3151"/>
                  </a:lnTo>
                  <a:lnTo>
                    <a:pt x="1916" y="3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589880" y="5700240"/>
              <a:ext cx="19080" cy="136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0" y="40"/>
                  </a:moveTo>
                  <a:lnTo>
                    <a:pt x="58" y="68"/>
                  </a:lnTo>
                  <a:lnTo>
                    <a:pt x="136" y="40"/>
                  </a:lnTo>
                  <a:lnTo>
                    <a:pt x="35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10280" y="5674680"/>
              <a:ext cx="725040" cy="1030680"/>
            </a:xfrm>
            <a:custGeom>
              <a:avLst/>
              <a:gdLst/>
              <a:ahLst/>
              <a:rect l="l" t="t" r="r" b="b"/>
              <a:pathLst>
                <a:path w="5105" h="5262">
                  <a:moveTo>
                    <a:pt x="0" y="646"/>
                  </a:moveTo>
                  <a:lnTo>
                    <a:pt x="0" y="5262"/>
                  </a:lnTo>
                  <a:lnTo>
                    <a:pt x="3929" y="5262"/>
                  </a:lnTo>
                  <a:lnTo>
                    <a:pt x="3672" y="5013"/>
                  </a:lnTo>
                  <a:lnTo>
                    <a:pt x="3597" y="4898"/>
                  </a:lnTo>
                  <a:lnTo>
                    <a:pt x="3556" y="4718"/>
                  </a:lnTo>
                  <a:lnTo>
                    <a:pt x="3200" y="4648"/>
                  </a:lnTo>
                  <a:lnTo>
                    <a:pt x="4015" y="4216"/>
                  </a:lnTo>
                  <a:lnTo>
                    <a:pt x="4238" y="4031"/>
                  </a:lnTo>
                  <a:lnTo>
                    <a:pt x="4460" y="3999"/>
                  </a:lnTo>
                  <a:lnTo>
                    <a:pt x="4540" y="3967"/>
                  </a:lnTo>
                  <a:lnTo>
                    <a:pt x="5003" y="3967"/>
                  </a:lnTo>
                  <a:lnTo>
                    <a:pt x="5096" y="3868"/>
                  </a:lnTo>
                  <a:lnTo>
                    <a:pt x="5105" y="3819"/>
                  </a:lnTo>
                  <a:lnTo>
                    <a:pt x="5044" y="3733"/>
                  </a:lnTo>
                  <a:lnTo>
                    <a:pt x="5096" y="3619"/>
                  </a:lnTo>
                  <a:lnTo>
                    <a:pt x="5016" y="3533"/>
                  </a:lnTo>
                  <a:lnTo>
                    <a:pt x="4989" y="3470"/>
                  </a:lnTo>
                  <a:lnTo>
                    <a:pt x="5044" y="3363"/>
                  </a:lnTo>
                  <a:lnTo>
                    <a:pt x="5016" y="3266"/>
                  </a:lnTo>
                  <a:lnTo>
                    <a:pt x="4951" y="3218"/>
                  </a:lnTo>
                  <a:lnTo>
                    <a:pt x="4922" y="3100"/>
                  </a:lnTo>
                  <a:lnTo>
                    <a:pt x="4844" y="3002"/>
                  </a:lnTo>
                  <a:lnTo>
                    <a:pt x="4782" y="2984"/>
                  </a:lnTo>
                  <a:lnTo>
                    <a:pt x="4460" y="2854"/>
                  </a:lnTo>
                  <a:lnTo>
                    <a:pt x="4439" y="2889"/>
                  </a:lnTo>
                  <a:lnTo>
                    <a:pt x="4726" y="3051"/>
                  </a:lnTo>
                  <a:lnTo>
                    <a:pt x="4488" y="3251"/>
                  </a:lnTo>
                  <a:lnTo>
                    <a:pt x="4186" y="3450"/>
                  </a:lnTo>
                  <a:lnTo>
                    <a:pt x="3623" y="3482"/>
                  </a:lnTo>
                  <a:lnTo>
                    <a:pt x="3689" y="3565"/>
                  </a:lnTo>
                  <a:lnTo>
                    <a:pt x="3637" y="3679"/>
                  </a:lnTo>
                  <a:lnTo>
                    <a:pt x="3605" y="3999"/>
                  </a:lnTo>
                  <a:lnTo>
                    <a:pt x="3463" y="4098"/>
                  </a:lnTo>
                  <a:lnTo>
                    <a:pt x="2986" y="4098"/>
                  </a:lnTo>
                  <a:lnTo>
                    <a:pt x="2833" y="4031"/>
                  </a:lnTo>
                  <a:lnTo>
                    <a:pt x="2833" y="3915"/>
                  </a:lnTo>
                  <a:lnTo>
                    <a:pt x="2700" y="3915"/>
                  </a:lnTo>
                  <a:lnTo>
                    <a:pt x="2663" y="3949"/>
                  </a:lnTo>
                  <a:lnTo>
                    <a:pt x="2422" y="3967"/>
                  </a:lnTo>
                  <a:lnTo>
                    <a:pt x="2304" y="3915"/>
                  </a:lnTo>
                  <a:lnTo>
                    <a:pt x="2527" y="3733"/>
                  </a:lnTo>
                  <a:lnTo>
                    <a:pt x="2187" y="3819"/>
                  </a:lnTo>
                  <a:lnTo>
                    <a:pt x="1962" y="3902"/>
                  </a:lnTo>
                  <a:lnTo>
                    <a:pt x="1727" y="3819"/>
                  </a:lnTo>
                  <a:lnTo>
                    <a:pt x="1634" y="3679"/>
                  </a:lnTo>
                  <a:lnTo>
                    <a:pt x="1727" y="3482"/>
                  </a:lnTo>
                  <a:lnTo>
                    <a:pt x="1710" y="3400"/>
                  </a:lnTo>
                  <a:lnTo>
                    <a:pt x="1190" y="3533"/>
                  </a:lnTo>
                  <a:lnTo>
                    <a:pt x="964" y="3819"/>
                  </a:lnTo>
                  <a:lnTo>
                    <a:pt x="609" y="3984"/>
                  </a:lnTo>
                  <a:lnTo>
                    <a:pt x="557" y="3933"/>
                  </a:lnTo>
                  <a:lnTo>
                    <a:pt x="716" y="3302"/>
                  </a:lnTo>
                  <a:lnTo>
                    <a:pt x="706" y="2320"/>
                  </a:lnTo>
                  <a:lnTo>
                    <a:pt x="519" y="1869"/>
                  </a:lnTo>
                  <a:lnTo>
                    <a:pt x="689" y="1524"/>
                  </a:lnTo>
                  <a:lnTo>
                    <a:pt x="887" y="1724"/>
                  </a:lnTo>
                  <a:lnTo>
                    <a:pt x="871" y="1920"/>
                  </a:lnTo>
                  <a:lnTo>
                    <a:pt x="1003" y="2302"/>
                  </a:lnTo>
                  <a:lnTo>
                    <a:pt x="936" y="1920"/>
                  </a:lnTo>
                  <a:lnTo>
                    <a:pt x="1003" y="1585"/>
                  </a:lnTo>
                  <a:lnTo>
                    <a:pt x="543" y="527"/>
                  </a:lnTo>
                  <a:lnTo>
                    <a:pt x="413" y="0"/>
                  </a:lnTo>
                  <a:lnTo>
                    <a:pt x="0" y="6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169760" y="6024600"/>
              <a:ext cx="88560" cy="239040"/>
            </a:xfrm>
            <a:custGeom>
              <a:avLst/>
              <a:gdLst/>
              <a:ahLst/>
              <a:rect l="l" t="t" r="r" b="b"/>
              <a:pathLst>
                <a:path w="627" h="1220">
                  <a:moveTo>
                    <a:pt x="0" y="0"/>
                  </a:moveTo>
                  <a:lnTo>
                    <a:pt x="50" y="177"/>
                  </a:lnTo>
                  <a:lnTo>
                    <a:pt x="430" y="573"/>
                  </a:lnTo>
                  <a:lnTo>
                    <a:pt x="512" y="1220"/>
                  </a:lnTo>
                  <a:lnTo>
                    <a:pt x="627" y="617"/>
                  </a:lnTo>
                  <a:lnTo>
                    <a:pt x="523" y="333"/>
                  </a:lnTo>
                  <a:lnTo>
                    <a:pt x="118" y="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30160" y="6220440"/>
              <a:ext cx="115560" cy="83160"/>
            </a:xfrm>
            <a:custGeom>
              <a:avLst/>
              <a:gdLst/>
              <a:ahLst/>
              <a:rect l="l" t="t" r="r" b="b"/>
              <a:pathLst>
                <a:path w="816" h="427">
                  <a:moveTo>
                    <a:pt x="0" y="0"/>
                  </a:moveTo>
                  <a:lnTo>
                    <a:pt x="105" y="161"/>
                  </a:lnTo>
                  <a:lnTo>
                    <a:pt x="423" y="369"/>
                  </a:lnTo>
                  <a:lnTo>
                    <a:pt x="816" y="427"/>
                  </a:lnTo>
                  <a:lnTo>
                    <a:pt x="440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28720" y="5791320"/>
              <a:ext cx="129960" cy="287640"/>
            </a:xfrm>
            <a:custGeom>
              <a:avLst/>
              <a:gdLst/>
              <a:ahLst/>
              <a:rect l="l" t="t" r="r" b="b"/>
              <a:pathLst>
                <a:path w="914" h="1471">
                  <a:moveTo>
                    <a:pt x="32" y="0"/>
                  </a:moveTo>
                  <a:lnTo>
                    <a:pt x="0" y="277"/>
                  </a:lnTo>
                  <a:lnTo>
                    <a:pt x="685" y="1321"/>
                  </a:lnTo>
                  <a:lnTo>
                    <a:pt x="914" y="1471"/>
                  </a:lnTo>
                  <a:lnTo>
                    <a:pt x="676" y="776"/>
                  </a:lnTo>
                  <a:lnTo>
                    <a:pt x="439" y="544"/>
                  </a:lnTo>
                  <a:lnTo>
                    <a:pt x="302" y="14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01800" y="5845320"/>
              <a:ext cx="52200" cy="103680"/>
            </a:xfrm>
            <a:custGeom>
              <a:avLst/>
              <a:gdLst/>
              <a:ahLst/>
              <a:rect l="l" t="t" r="r" b="b"/>
              <a:pathLst>
                <a:path w="370" h="530">
                  <a:moveTo>
                    <a:pt x="0" y="0"/>
                  </a:moveTo>
                  <a:lnTo>
                    <a:pt x="104" y="307"/>
                  </a:lnTo>
                  <a:lnTo>
                    <a:pt x="370" y="530"/>
                  </a:lnTo>
                  <a:lnTo>
                    <a:pt x="298" y="3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54360" y="5894280"/>
              <a:ext cx="162000" cy="471960"/>
            </a:xfrm>
            <a:custGeom>
              <a:avLst/>
              <a:gdLst/>
              <a:ahLst/>
              <a:rect l="l" t="t" r="r" b="b"/>
              <a:pathLst>
                <a:path w="1140" h="2411">
                  <a:moveTo>
                    <a:pt x="288" y="0"/>
                  </a:moveTo>
                  <a:lnTo>
                    <a:pt x="254" y="281"/>
                  </a:lnTo>
                  <a:lnTo>
                    <a:pt x="81" y="503"/>
                  </a:lnTo>
                  <a:lnTo>
                    <a:pt x="174" y="856"/>
                  </a:lnTo>
                  <a:lnTo>
                    <a:pt x="174" y="1209"/>
                  </a:lnTo>
                  <a:lnTo>
                    <a:pt x="0" y="1928"/>
                  </a:lnTo>
                  <a:lnTo>
                    <a:pt x="301" y="1871"/>
                  </a:lnTo>
                  <a:lnTo>
                    <a:pt x="244" y="2032"/>
                  </a:lnTo>
                  <a:lnTo>
                    <a:pt x="636" y="2179"/>
                  </a:lnTo>
                  <a:lnTo>
                    <a:pt x="480" y="2250"/>
                  </a:lnTo>
                  <a:lnTo>
                    <a:pt x="139" y="2280"/>
                  </a:lnTo>
                  <a:lnTo>
                    <a:pt x="244" y="2341"/>
                  </a:lnTo>
                  <a:lnTo>
                    <a:pt x="870" y="2411"/>
                  </a:lnTo>
                  <a:lnTo>
                    <a:pt x="1140" y="2195"/>
                  </a:lnTo>
                  <a:lnTo>
                    <a:pt x="778" y="1855"/>
                  </a:lnTo>
                  <a:lnTo>
                    <a:pt x="834" y="1543"/>
                  </a:lnTo>
                  <a:lnTo>
                    <a:pt x="636" y="1677"/>
                  </a:lnTo>
                  <a:lnTo>
                    <a:pt x="546" y="1590"/>
                  </a:lnTo>
                  <a:lnTo>
                    <a:pt x="385" y="1619"/>
                  </a:lnTo>
                  <a:lnTo>
                    <a:pt x="569" y="1416"/>
                  </a:lnTo>
                  <a:lnTo>
                    <a:pt x="269" y="1281"/>
                  </a:lnTo>
                  <a:lnTo>
                    <a:pt x="410" y="902"/>
                  </a:lnTo>
                  <a:lnTo>
                    <a:pt x="277" y="902"/>
                  </a:lnTo>
                  <a:lnTo>
                    <a:pt x="429" y="474"/>
                  </a:lnTo>
                  <a:lnTo>
                    <a:pt x="325" y="443"/>
                  </a:lnTo>
                  <a:lnTo>
                    <a:pt x="410" y="16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107480" y="5549400"/>
              <a:ext cx="241560" cy="227160"/>
            </a:xfrm>
            <a:custGeom>
              <a:avLst/>
              <a:gdLst/>
              <a:ahLst/>
              <a:rect l="l" t="t" r="r" b="b"/>
              <a:pathLst>
                <a:path w="1696" h="1161">
                  <a:moveTo>
                    <a:pt x="1101" y="0"/>
                  </a:moveTo>
                  <a:lnTo>
                    <a:pt x="867" y="219"/>
                  </a:lnTo>
                  <a:lnTo>
                    <a:pt x="494" y="280"/>
                  </a:lnTo>
                  <a:lnTo>
                    <a:pt x="0" y="471"/>
                  </a:lnTo>
                  <a:lnTo>
                    <a:pt x="345" y="442"/>
                  </a:lnTo>
                  <a:lnTo>
                    <a:pt x="789" y="824"/>
                  </a:lnTo>
                  <a:lnTo>
                    <a:pt x="1696" y="1161"/>
                  </a:lnTo>
                  <a:lnTo>
                    <a:pt x="1276" y="588"/>
                  </a:lnTo>
                  <a:lnTo>
                    <a:pt x="1171" y="116"/>
                  </a:lnTo>
                  <a:lnTo>
                    <a:pt x="1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317000" y="5690520"/>
              <a:ext cx="72360" cy="117720"/>
            </a:xfrm>
            <a:custGeom>
              <a:avLst/>
              <a:gdLst/>
              <a:ahLst/>
              <a:rect l="l" t="t" r="r" b="b"/>
              <a:pathLst>
                <a:path w="511" h="599">
                  <a:moveTo>
                    <a:pt x="0" y="0"/>
                  </a:moveTo>
                  <a:lnTo>
                    <a:pt x="488" y="599"/>
                  </a:lnTo>
                  <a:lnTo>
                    <a:pt x="511" y="408"/>
                  </a:lnTo>
                  <a:lnTo>
                    <a:pt x="419" y="233"/>
                  </a:lnTo>
                  <a:lnTo>
                    <a:pt x="229" y="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361640" y="5805000"/>
              <a:ext cx="124920" cy="551520"/>
            </a:xfrm>
            <a:custGeom>
              <a:avLst/>
              <a:gdLst/>
              <a:ahLst/>
              <a:rect l="l" t="t" r="r" b="b"/>
              <a:pathLst>
                <a:path w="878" h="2812">
                  <a:moveTo>
                    <a:pt x="474" y="0"/>
                  </a:moveTo>
                  <a:lnTo>
                    <a:pt x="243" y="223"/>
                  </a:lnTo>
                  <a:lnTo>
                    <a:pt x="320" y="205"/>
                  </a:lnTo>
                  <a:lnTo>
                    <a:pt x="369" y="340"/>
                  </a:lnTo>
                  <a:lnTo>
                    <a:pt x="149" y="648"/>
                  </a:lnTo>
                  <a:lnTo>
                    <a:pt x="208" y="824"/>
                  </a:lnTo>
                  <a:lnTo>
                    <a:pt x="195" y="1044"/>
                  </a:lnTo>
                  <a:lnTo>
                    <a:pt x="382" y="1295"/>
                  </a:lnTo>
                  <a:lnTo>
                    <a:pt x="288" y="1678"/>
                  </a:lnTo>
                  <a:lnTo>
                    <a:pt x="0" y="2101"/>
                  </a:lnTo>
                  <a:lnTo>
                    <a:pt x="519" y="1767"/>
                  </a:lnTo>
                  <a:lnTo>
                    <a:pt x="590" y="1573"/>
                  </a:lnTo>
                  <a:lnTo>
                    <a:pt x="728" y="2471"/>
                  </a:lnTo>
                  <a:lnTo>
                    <a:pt x="878" y="2812"/>
                  </a:lnTo>
                  <a:lnTo>
                    <a:pt x="786" y="2176"/>
                  </a:lnTo>
                  <a:lnTo>
                    <a:pt x="556" y="939"/>
                  </a:lnTo>
                  <a:lnTo>
                    <a:pt x="474" y="664"/>
                  </a:lnTo>
                  <a:lnTo>
                    <a:pt x="360" y="485"/>
                  </a:lnTo>
                  <a:lnTo>
                    <a:pt x="418" y="340"/>
                  </a:lnTo>
                  <a:lnTo>
                    <a:pt x="543" y="254"/>
                  </a:lnTo>
                  <a:lnTo>
                    <a:pt x="543" y="92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39040" y="5758920"/>
              <a:ext cx="38160" cy="173520"/>
            </a:xfrm>
            <a:custGeom>
              <a:avLst/>
              <a:gdLst/>
              <a:ahLst/>
              <a:rect l="l" t="t" r="r" b="b"/>
              <a:pathLst>
                <a:path w="268" h="884">
                  <a:moveTo>
                    <a:pt x="175" y="0"/>
                  </a:moveTo>
                  <a:lnTo>
                    <a:pt x="0" y="164"/>
                  </a:lnTo>
                  <a:lnTo>
                    <a:pt x="91" y="441"/>
                  </a:lnTo>
                  <a:lnTo>
                    <a:pt x="34" y="678"/>
                  </a:lnTo>
                  <a:lnTo>
                    <a:pt x="81" y="884"/>
                  </a:lnTo>
                  <a:lnTo>
                    <a:pt x="234" y="576"/>
                  </a:lnTo>
                  <a:lnTo>
                    <a:pt x="162" y="355"/>
                  </a:lnTo>
                  <a:lnTo>
                    <a:pt x="268" y="75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72520" y="5761800"/>
              <a:ext cx="15480" cy="75240"/>
            </a:xfrm>
            <a:custGeom>
              <a:avLst/>
              <a:gdLst/>
              <a:ahLst/>
              <a:rect l="l" t="t" r="r" b="b"/>
              <a:pathLst>
                <a:path w="113" h="385">
                  <a:moveTo>
                    <a:pt x="0" y="136"/>
                  </a:moveTo>
                  <a:lnTo>
                    <a:pt x="101" y="385"/>
                  </a:lnTo>
                  <a:lnTo>
                    <a:pt x="113" y="284"/>
                  </a:lnTo>
                  <a:lnTo>
                    <a:pt x="45" y="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525080" y="5785560"/>
              <a:ext cx="23400" cy="258480"/>
            </a:xfrm>
            <a:custGeom>
              <a:avLst/>
              <a:gdLst/>
              <a:ahLst/>
              <a:rect l="l" t="t" r="r" b="b"/>
              <a:pathLst>
                <a:path w="162" h="1320">
                  <a:moveTo>
                    <a:pt x="44" y="0"/>
                  </a:moveTo>
                  <a:lnTo>
                    <a:pt x="44" y="764"/>
                  </a:lnTo>
                  <a:lnTo>
                    <a:pt x="0" y="924"/>
                  </a:lnTo>
                  <a:lnTo>
                    <a:pt x="0" y="1086"/>
                  </a:lnTo>
                  <a:lnTo>
                    <a:pt x="102" y="1320"/>
                  </a:lnTo>
                  <a:lnTo>
                    <a:pt x="162" y="1202"/>
                  </a:lnTo>
                  <a:lnTo>
                    <a:pt x="162" y="1057"/>
                  </a:lnTo>
                  <a:lnTo>
                    <a:pt x="80" y="899"/>
                  </a:lnTo>
                  <a:lnTo>
                    <a:pt x="80" y="630"/>
                  </a:lnTo>
                  <a:lnTo>
                    <a:pt x="124" y="5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557840" y="5808240"/>
              <a:ext cx="40320" cy="216360"/>
            </a:xfrm>
            <a:custGeom>
              <a:avLst/>
              <a:gdLst/>
              <a:ahLst/>
              <a:rect l="l" t="t" r="r" b="b"/>
              <a:pathLst>
                <a:path w="281" h="1103">
                  <a:moveTo>
                    <a:pt x="232" y="0"/>
                  </a:moveTo>
                  <a:lnTo>
                    <a:pt x="162" y="252"/>
                  </a:lnTo>
                  <a:lnTo>
                    <a:pt x="58" y="400"/>
                  </a:lnTo>
                  <a:lnTo>
                    <a:pt x="58" y="720"/>
                  </a:lnTo>
                  <a:lnTo>
                    <a:pt x="0" y="1103"/>
                  </a:lnTo>
                  <a:lnTo>
                    <a:pt x="107" y="660"/>
                  </a:lnTo>
                  <a:lnTo>
                    <a:pt x="127" y="427"/>
                  </a:lnTo>
                  <a:lnTo>
                    <a:pt x="281" y="117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85120" y="5877720"/>
              <a:ext cx="181080" cy="480960"/>
            </a:xfrm>
            <a:custGeom>
              <a:avLst/>
              <a:gdLst/>
              <a:ahLst/>
              <a:rect l="l" t="t" r="r" b="b"/>
              <a:pathLst>
                <a:path w="1278" h="2456">
                  <a:moveTo>
                    <a:pt x="52" y="646"/>
                  </a:moveTo>
                  <a:lnTo>
                    <a:pt x="317" y="1982"/>
                  </a:lnTo>
                  <a:lnTo>
                    <a:pt x="269" y="2087"/>
                  </a:lnTo>
                  <a:lnTo>
                    <a:pt x="214" y="1982"/>
                  </a:lnTo>
                  <a:lnTo>
                    <a:pt x="179" y="2249"/>
                  </a:lnTo>
                  <a:lnTo>
                    <a:pt x="0" y="2456"/>
                  </a:lnTo>
                  <a:lnTo>
                    <a:pt x="433" y="2191"/>
                  </a:lnTo>
                  <a:lnTo>
                    <a:pt x="584" y="2191"/>
                  </a:lnTo>
                  <a:lnTo>
                    <a:pt x="873" y="2413"/>
                  </a:lnTo>
                  <a:lnTo>
                    <a:pt x="854" y="2321"/>
                  </a:lnTo>
                  <a:lnTo>
                    <a:pt x="653" y="2145"/>
                  </a:lnTo>
                  <a:lnTo>
                    <a:pt x="477" y="2073"/>
                  </a:lnTo>
                  <a:lnTo>
                    <a:pt x="641" y="1790"/>
                  </a:lnTo>
                  <a:lnTo>
                    <a:pt x="746" y="1776"/>
                  </a:lnTo>
                  <a:lnTo>
                    <a:pt x="780" y="1512"/>
                  </a:lnTo>
                  <a:lnTo>
                    <a:pt x="913" y="1266"/>
                  </a:lnTo>
                  <a:lnTo>
                    <a:pt x="1265" y="1081"/>
                  </a:lnTo>
                  <a:lnTo>
                    <a:pt x="1084" y="1104"/>
                  </a:lnTo>
                  <a:lnTo>
                    <a:pt x="1084" y="1029"/>
                  </a:lnTo>
                  <a:lnTo>
                    <a:pt x="1265" y="879"/>
                  </a:lnTo>
                  <a:lnTo>
                    <a:pt x="1278" y="778"/>
                  </a:lnTo>
                  <a:lnTo>
                    <a:pt x="1095" y="867"/>
                  </a:lnTo>
                  <a:lnTo>
                    <a:pt x="831" y="1293"/>
                  </a:lnTo>
                  <a:lnTo>
                    <a:pt x="867" y="986"/>
                  </a:lnTo>
                  <a:lnTo>
                    <a:pt x="746" y="1081"/>
                  </a:lnTo>
                  <a:lnTo>
                    <a:pt x="772" y="836"/>
                  </a:lnTo>
                  <a:lnTo>
                    <a:pt x="1077" y="484"/>
                  </a:lnTo>
                  <a:lnTo>
                    <a:pt x="1130" y="0"/>
                  </a:lnTo>
                  <a:lnTo>
                    <a:pt x="1028" y="278"/>
                  </a:lnTo>
                  <a:lnTo>
                    <a:pt x="898" y="429"/>
                  </a:lnTo>
                  <a:lnTo>
                    <a:pt x="839" y="631"/>
                  </a:lnTo>
                  <a:lnTo>
                    <a:pt x="641" y="879"/>
                  </a:lnTo>
                  <a:lnTo>
                    <a:pt x="503" y="867"/>
                  </a:lnTo>
                  <a:lnTo>
                    <a:pt x="283" y="1451"/>
                  </a:lnTo>
                  <a:lnTo>
                    <a:pt x="52" y="6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606080" y="6119640"/>
              <a:ext cx="72360" cy="100800"/>
            </a:xfrm>
            <a:custGeom>
              <a:avLst/>
              <a:gdLst/>
              <a:ahLst/>
              <a:rect l="l" t="t" r="r" b="b"/>
              <a:pathLst>
                <a:path w="508" h="512">
                  <a:moveTo>
                    <a:pt x="0" y="456"/>
                  </a:moveTo>
                  <a:lnTo>
                    <a:pt x="13" y="265"/>
                  </a:lnTo>
                  <a:lnTo>
                    <a:pt x="289" y="0"/>
                  </a:lnTo>
                  <a:lnTo>
                    <a:pt x="508" y="0"/>
                  </a:lnTo>
                  <a:lnTo>
                    <a:pt x="319" y="58"/>
                  </a:lnTo>
                  <a:lnTo>
                    <a:pt x="186" y="293"/>
                  </a:lnTo>
                  <a:lnTo>
                    <a:pt x="230" y="512"/>
                  </a:lnTo>
                  <a:lnTo>
                    <a:pt x="77" y="439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17600" y="5721840"/>
              <a:ext cx="149040" cy="299880"/>
            </a:xfrm>
            <a:custGeom>
              <a:avLst/>
              <a:gdLst/>
              <a:ahLst/>
              <a:rect l="l" t="t" r="r" b="b"/>
              <a:pathLst>
                <a:path w="1049" h="1528">
                  <a:moveTo>
                    <a:pt x="0" y="0"/>
                  </a:moveTo>
                  <a:lnTo>
                    <a:pt x="153" y="238"/>
                  </a:lnTo>
                  <a:lnTo>
                    <a:pt x="199" y="502"/>
                  </a:lnTo>
                  <a:lnTo>
                    <a:pt x="688" y="1365"/>
                  </a:lnTo>
                  <a:lnTo>
                    <a:pt x="1049" y="15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701840" y="6009840"/>
              <a:ext cx="85680" cy="112320"/>
            </a:xfrm>
            <a:custGeom>
              <a:avLst/>
              <a:gdLst/>
              <a:ahLst/>
              <a:rect l="l" t="t" r="r" b="b"/>
              <a:pathLst>
                <a:path w="607" h="574">
                  <a:moveTo>
                    <a:pt x="0" y="0"/>
                  </a:moveTo>
                  <a:lnTo>
                    <a:pt x="336" y="121"/>
                  </a:lnTo>
                  <a:lnTo>
                    <a:pt x="607" y="574"/>
                  </a:lnTo>
                  <a:lnTo>
                    <a:pt x="489" y="515"/>
                  </a:lnTo>
                  <a:lnTo>
                    <a:pt x="209" y="222"/>
                  </a:lnTo>
                  <a:lnTo>
                    <a:pt x="28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89920" y="5291640"/>
              <a:ext cx="66600" cy="136080"/>
            </a:xfrm>
            <a:custGeom>
              <a:avLst/>
              <a:gdLst/>
              <a:ahLst/>
              <a:rect l="l" t="t" r="r" b="b"/>
              <a:pathLst>
                <a:path w="470" h="695">
                  <a:moveTo>
                    <a:pt x="11" y="0"/>
                  </a:moveTo>
                  <a:lnTo>
                    <a:pt x="11" y="172"/>
                  </a:lnTo>
                  <a:lnTo>
                    <a:pt x="35" y="298"/>
                  </a:lnTo>
                  <a:lnTo>
                    <a:pt x="0" y="343"/>
                  </a:lnTo>
                  <a:lnTo>
                    <a:pt x="0" y="388"/>
                  </a:lnTo>
                  <a:lnTo>
                    <a:pt x="136" y="388"/>
                  </a:lnTo>
                  <a:lnTo>
                    <a:pt x="70" y="441"/>
                  </a:lnTo>
                  <a:lnTo>
                    <a:pt x="35" y="502"/>
                  </a:lnTo>
                  <a:lnTo>
                    <a:pt x="106" y="556"/>
                  </a:lnTo>
                  <a:lnTo>
                    <a:pt x="170" y="695"/>
                  </a:lnTo>
                  <a:lnTo>
                    <a:pt x="307" y="639"/>
                  </a:lnTo>
                  <a:lnTo>
                    <a:pt x="214" y="628"/>
                  </a:lnTo>
                  <a:lnTo>
                    <a:pt x="158" y="556"/>
                  </a:lnTo>
                  <a:lnTo>
                    <a:pt x="272" y="556"/>
                  </a:lnTo>
                  <a:lnTo>
                    <a:pt x="349" y="469"/>
                  </a:lnTo>
                  <a:lnTo>
                    <a:pt x="214" y="469"/>
                  </a:lnTo>
                  <a:lnTo>
                    <a:pt x="246" y="395"/>
                  </a:lnTo>
                  <a:lnTo>
                    <a:pt x="323" y="343"/>
                  </a:lnTo>
                  <a:lnTo>
                    <a:pt x="361" y="343"/>
                  </a:lnTo>
                  <a:lnTo>
                    <a:pt x="470" y="298"/>
                  </a:lnTo>
                  <a:lnTo>
                    <a:pt x="323" y="288"/>
                  </a:lnTo>
                  <a:lnTo>
                    <a:pt x="391" y="244"/>
                  </a:lnTo>
                  <a:lnTo>
                    <a:pt x="289" y="278"/>
                  </a:lnTo>
                  <a:lnTo>
                    <a:pt x="182" y="313"/>
                  </a:lnTo>
                  <a:lnTo>
                    <a:pt x="128" y="313"/>
                  </a:lnTo>
                  <a:lnTo>
                    <a:pt x="35" y="20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58680" y="5352480"/>
              <a:ext cx="11160" cy="1836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0" y="0"/>
                  </a:moveTo>
                  <a:lnTo>
                    <a:pt x="23" y="40"/>
                  </a:lnTo>
                  <a:lnTo>
                    <a:pt x="0" y="95"/>
                  </a:lnTo>
                  <a:lnTo>
                    <a:pt x="8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182080" y="5201640"/>
              <a:ext cx="21960" cy="147960"/>
            </a:xfrm>
            <a:custGeom>
              <a:avLst/>
              <a:gdLst/>
              <a:ahLst/>
              <a:rect l="l" t="t" r="r" b="b"/>
              <a:pathLst>
                <a:path w="153" h="756">
                  <a:moveTo>
                    <a:pt x="119" y="0"/>
                  </a:moveTo>
                  <a:lnTo>
                    <a:pt x="101" y="275"/>
                  </a:lnTo>
                  <a:lnTo>
                    <a:pt x="52" y="288"/>
                  </a:lnTo>
                  <a:lnTo>
                    <a:pt x="17" y="385"/>
                  </a:lnTo>
                  <a:lnTo>
                    <a:pt x="0" y="375"/>
                  </a:lnTo>
                  <a:lnTo>
                    <a:pt x="0" y="756"/>
                  </a:lnTo>
                  <a:lnTo>
                    <a:pt x="119" y="482"/>
                  </a:lnTo>
                  <a:lnTo>
                    <a:pt x="153" y="275"/>
                  </a:lnTo>
                  <a:lnTo>
                    <a:pt x="153" y="11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107560" y="5068080"/>
              <a:ext cx="81360" cy="160560"/>
            </a:xfrm>
            <a:custGeom>
              <a:avLst/>
              <a:gdLst/>
              <a:ahLst/>
              <a:rect l="l" t="t" r="r" b="b"/>
              <a:pathLst>
                <a:path w="575" h="820">
                  <a:moveTo>
                    <a:pt x="0" y="34"/>
                  </a:moveTo>
                  <a:lnTo>
                    <a:pt x="127" y="0"/>
                  </a:lnTo>
                  <a:lnTo>
                    <a:pt x="349" y="148"/>
                  </a:lnTo>
                  <a:lnTo>
                    <a:pt x="548" y="422"/>
                  </a:lnTo>
                  <a:lnTo>
                    <a:pt x="575" y="597"/>
                  </a:lnTo>
                  <a:lnTo>
                    <a:pt x="439" y="352"/>
                  </a:lnTo>
                  <a:lnTo>
                    <a:pt x="530" y="682"/>
                  </a:lnTo>
                  <a:lnTo>
                    <a:pt x="498" y="693"/>
                  </a:lnTo>
                  <a:lnTo>
                    <a:pt x="530" y="820"/>
                  </a:lnTo>
                  <a:lnTo>
                    <a:pt x="475" y="735"/>
                  </a:lnTo>
                  <a:lnTo>
                    <a:pt x="372" y="534"/>
                  </a:lnTo>
                  <a:lnTo>
                    <a:pt x="242" y="393"/>
                  </a:lnTo>
                  <a:lnTo>
                    <a:pt x="156" y="311"/>
                  </a:lnTo>
                  <a:lnTo>
                    <a:pt x="78" y="148"/>
                  </a:lnTo>
                  <a:lnTo>
                    <a:pt x="221" y="223"/>
                  </a:lnTo>
                  <a:lnTo>
                    <a:pt x="138" y="11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11000" y="5029920"/>
              <a:ext cx="209880" cy="602640"/>
            </a:xfrm>
            <a:custGeom>
              <a:avLst/>
              <a:gdLst/>
              <a:ahLst/>
              <a:rect l="l" t="t" r="r" b="b"/>
              <a:pathLst>
                <a:path w="1482" h="3073">
                  <a:moveTo>
                    <a:pt x="1086" y="0"/>
                  </a:moveTo>
                  <a:lnTo>
                    <a:pt x="1225" y="174"/>
                  </a:lnTo>
                  <a:lnTo>
                    <a:pt x="1108" y="138"/>
                  </a:lnTo>
                  <a:lnTo>
                    <a:pt x="1135" y="193"/>
                  </a:lnTo>
                  <a:lnTo>
                    <a:pt x="1405" y="354"/>
                  </a:lnTo>
                  <a:lnTo>
                    <a:pt x="1482" y="523"/>
                  </a:lnTo>
                  <a:lnTo>
                    <a:pt x="1442" y="630"/>
                  </a:lnTo>
                  <a:lnTo>
                    <a:pt x="1248" y="681"/>
                  </a:lnTo>
                  <a:lnTo>
                    <a:pt x="1093" y="670"/>
                  </a:lnTo>
                  <a:lnTo>
                    <a:pt x="919" y="826"/>
                  </a:lnTo>
                  <a:lnTo>
                    <a:pt x="884" y="1013"/>
                  </a:lnTo>
                  <a:lnTo>
                    <a:pt x="1054" y="1398"/>
                  </a:lnTo>
                  <a:lnTo>
                    <a:pt x="848" y="1357"/>
                  </a:lnTo>
                  <a:lnTo>
                    <a:pt x="884" y="1465"/>
                  </a:lnTo>
                  <a:lnTo>
                    <a:pt x="1058" y="1586"/>
                  </a:lnTo>
                  <a:lnTo>
                    <a:pt x="1009" y="1664"/>
                  </a:lnTo>
                  <a:lnTo>
                    <a:pt x="1009" y="1728"/>
                  </a:lnTo>
                  <a:lnTo>
                    <a:pt x="1086" y="1728"/>
                  </a:lnTo>
                  <a:lnTo>
                    <a:pt x="1162" y="1664"/>
                  </a:lnTo>
                  <a:lnTo>
                    <a:pt x="1162" y="1835"/>
                  </a:lnTo>
                  <a:lnTo>
                    <a:pt x="1193" y="2135"/>
                  </a:lnTo>
                  <a:lnTo>
                    <a:pt x="1142" y="2112"/>
                  </a:lnTo>
                  <a:lnTo>
                    <a:pt x="1142" y="2191"/>
                  </a:lnTo>
                  <a:lnTo>
                    <a:pt x="1193" y="2305"/>
                  </a:lnTo>
                  <a:lnTo>
                    <a:pt x="1193" y="2424"/>
                  </a:lnTo>
                  <a:lnTo>
                    <a:pt x="1102" y="2401"/>
                  </a:lnTo>
                  <a:lnTo>
                    <a:pt x="1029" y="2497"/>
                  </a:lnTo>
                  <a:lnTo>
                    <a:pt x="878" y="2554"/>
                  </a:lnTo>
                  <a:lnTo>
                    <a:pt x="945" y="2592"/>
                  </a:lnTo>
                  <a:lnTo>
                    <a:pt x="995" y="2690"/>
                  </a:lnTo>
                  <a:lnTo>
                    <a:pt x="1093" y="2721"/>
                  </a:lnTo>
                  <a:lnTo>
                    <a:pt x="1225" y="2721"/>
                  </a:lnTo>
                  <a:lnTo>
                    <a:pt x="1064" y="2848"/>
                  </a:lnTo>
                  <a:lnTo>
                    <a:pt x="1064" y="2905"/>
                  </a:lnTo>
                  <a:lnTo>
                    <a:pt x="1127" y="2988"/>
                  </a:lnTo>
                  <a:lnTo>
                    <a:pt x="1187" y="2988"/>
                  </a:lnTo>
                  <a:lnTo>
                    <a:pt x="1430" y="2816"/>
                  </a:lnTo>
                  <a:lnTo>
                    <a:pt x="1396" y="2890"/>
                  </a:lnTo>
                  <a:lnTo>
                    <a:pt x="1211" y="3032"/>
                  </a:lnTo>
                  <a:lnTo>
                    <a:pt x="1046" y="3073"/>
                  </a:lnTo>
                  <a:lnTo>
                    <a:pt x="951" y="3073"/>
                  </a:lnTo>
                  <a:lnTo>
                    <a:pt x="679" y="2923"/>
                  </a:lnTo>
                  <a:lnTo>
                    <a:pt x="486" y="2690"/>
                  </a:lnTo>
                  <a:lnTo>
                    <a:pt x="318" y="2346"/>
                  </a:lnTo>
                  <a:lnTo>
                    <a:pt x="325" y="2230"/>
                  </a:lnTo>
                  <a:lnTo>
                    <a:pt x="229" y="1953"/>
                  </a:lnTo>
                  <a:lnTo>
                    <a:pt x="211" y="1686"/>
                  </a:lnTo>
                  <a:lnTo>
                    <a:pt x="139" y="1631"/>
                  </a:lnTo>
                  <a:lnTo>
                    <a:pt x="109" y="1676"/>
                  </a:lnTo>
                  <a:lnTo>
                    <a:pt x="76" y="1525"/>
                  </a:lnTo>
                  <a:lnTo>
                    <a:pt x="168" y="1465"/>
                  </a:lnTo>
                  <a:lnTo>
                    <a:pt x="127" y="1364"/>
                  </a:lnTo>
                  <a:lnTo>
                    <a:pt x="229" y="1413"/>
                  </a:lnTo>
                  <a:lnTo>
                    <a:pt x="174" y="1294"/>
                  </a:lnTo>
                  <a:lnTo>
                    <a:pt x="93" y="1206"/>
                  </a:lnTo>
                  <a:lnTo>
                    <a:pt x="0" y="1206"/>
                  </a:lnTo>
                  <a:lnTo>
                    <a:pt x="82" y="695"/>
                  </a:lnTo>
                  <a:lnTo>
                    <a:pt x="325" y="213"/>
                  </a:lnTo>
                  <a:lnTo>
                    <a:pt x="566" y="97"/>
                  </a:lnTo>
                  <a:lnTo>
                    <a:pt x="927" y="0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11080" y="5522040"/>
              <a:ext cx="75600" cy="8640"/>
            </a:xfrm>
            <a:custGeom>
              <a:avLst/>
              <a:gdLst/>
              <a:ahLst/>
              <a:rect l="l" t="t" r="r" b="b"/>
              <a:pathLst>
                <a:path w="534" h="47">
                  <a:moveTo>
                    <a:pt x="0" y="47"/>
                  </a:moveTo>
                  <a:lnTo>
                    <a:pt x="462" y="47"/>
                  </a:lnTo>
                  <a:lnTo>
                    <a:pt x="5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902360" y="5275080"/>
              <a:ext cx="29520" cy="146880"/>
            </a:xfrm>
            <a:custGeom>
              <a:avLst/>
              <a:gdLst/>
              <a:ahLst/>
              <a:rect l="l" t="t" r="r" b="b"/>
              <a:pathLst>
                <a:path w="208" h="749">
                  <a:moveTo>
                    <a:pt x="27" y="0"/>
                  </a:moveTo>
                  <a:lnTo>
                    <a:pt x="0" y="104"/>
                  </a:lnTo>
                  <a:lnTo>
                    <a:pt x="27" y="418"/>
                  </a:lnTo>
                  <a:lnTo>
                    <a:pt x="208" y="749"/>
                  </a:lnTo>
                  <a:lnTo>
                    <a:pt x="191" y="645"/>
                  </a:lnTo>
                  <a:lnTo>
                    <a:pt x="81" y="47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17840" y="5295600"/>
              <a:ext cx="14040" cy="13680"/>
            </a:xfrm>
            <a:custGeom>
              <a:avLst/>
              <a:gdLst/>
              <a:ahLst/>
              <a:rect l="l" t="t" r="r" b="b"/>
              <a:pathLst>
                <a:path w="97" h="70">
                  <a:moveTo>
                    <a:pt x="0" y="70"/>
                  </a:moveTo>
                  <a:lnTo>
                    <a:pt x="14" y="0"/>
                  </a:lnTo>
                  <a:lnTo>
                    <a:pt x="97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054280" y="5442480"/>
              <a:ext cx="79920" cy="102600"/>
            </a:xfrm>
            <a:custGeom>
              <a:avLst/>
              <a:gdLst/>
              <a:ahLst/>
              <a:rect l="l" t="t" r="r" b="b"/>
              <a:pathLst>
                <a:path w="566" h="525">
                  <a:moveTo>
                    <a:pt x="0" y="441"/>
                  </a:moveTo>
                  <a:lnTo>
                    <a:pt x="45" y="473"/>
                  </a:lnTo>
                  <a:lnTo>
                    <a:pt x="149" y="473"/>
                  </a:lnTo>
                  <a:lnTo>
                    <a:pt x="248" y="441"/>
                  </a:lnTo>
                  <a:lnTo>
                    <a:pt x="387" y="441"/>
                  </a:lnTo>
                  <a:lnTo>
                    <a:pt x="486" y="525"/>
                  </a:lnTo>
                  <a:lnTo>
                    <a:pt x="557" y="490"/>
                  </a:lnTo>
                  <a:lnTo>
                    <a:pt x="566" y="207"/>
                  </a:lnTo>
                  <a:lnTo>
                    <a:pt x="401" y="0"/>
                  </a:lnTo>
                  <a:lnTo>
                    <a:pt x="314" y="0"/>
                  </a:lnTo>
                  <a:lnTo>
                    <a:pt x="314" y="88"/>
                  </a:lnTo>
                  <a:lnTo>
                    <a:pt x="468" y="279"/>
                  </a:lnTo>
                  <a:lnTo>
                    <a:pt x="468" y="402"/>
                  </a:lnTo>
                  <a:lnTo>
                    <a:pt x="234" y="402"/>
                  </a:lnTo>
                  <a:lnTo>
                    <a:pt x="149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144640" y="5399640"/>
              <a:ext cx="32400" cy="146880"/>
            </a:xfrm>
            <a:custGeom>
              <a:avLst/>
              <a:gdLst/>
              <a:ahLst/>
              <a:rect l="l" t="t" r="r" b="b"/>
              <a:pathLst>
                <a:path w="230" h="749">
                  <a:moveTo>
                    <a:pt x="230" y="0"/>
                  </a:moveTo>
                  <a:lnTo>
                    <a:pt x="72" y="615"/>
                  </a:lnTo>
                  <a:lnTo>
                    <a:pt x="0" y="749"/>
                  </a:lnTo>
                  <a:lnTo>
                    <a:pt x="104" y="598"/>
                  </a:lnTo>
                  <a:lnTo>
                    <a:pt x="219" y="1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170200" y="5466960"/>
              <a:ext cx="53640" cy="351720"/>
            </a:xfrm>
            <a:custGeom>
              <a:avLst/>
              <a:gdLst/>
              <a:ahLst/>
              <a:rect l="l" t="t" r="r" b="b"/>
              <a:pathLst>
                <a:path w="378" h="1792">
                  <a:moveTo>
                    <a:pt x="29" y="0"/>
                  </a:moveTo>
                  <a:lnTo>
                    <a:pt x="0" y="208"/>
                  </a:lnTo>
                  <a:lnTo>
                    <a:pt x="109" y="657"/>
                  </a:lnTo>
                  <a:lnTo>
                    <a:pt x="120" y="1087"/>
                  </a:lnTo>
                  <a:lnTo>
                    <a:pt x="83" y="1280"/>
                  </a:lnTo>
                  <a:lnTo>
                    <a:pt x="173" y="1327"/>
                  </a:lnTo>
                  <a:lnTo>
                    <a:pt x="378" y="1792"/>
                  </a:lnTo>
                  <a:lnTo>
                    <a:pt x="315" y="1530"/>
                  </a:lnTo>
                  <a:lnTo>
                    <a:pt x="375" y="1269"/>
                  </a:lnTo>
                  <a:lnTo>
                    <a:pt x="228" y="927"/>
                  </a:lnTo>
                  <a:lnTo>
                    <a:pt x="228" y="675"/>
                  </a:lnTo>
                  <a:lnTo>
                    <a:pt x="127" y="500"/>
                  </a:lnTo>
                  <a:lnTo>
                    <a:pt x="144" y="28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182080" y="5416200"/>
              <a:ext cx="111960" cy="120240"/>
            </a:xfrm>
            <a:custGeom>
              <a:avLst/>
              <a:gdLst/>
              <a:ahLst/>
              <a:rect l="l" t="t" r="r" b="b"/>
              <a:pathLst>
                <a:path w="789" h="613">
                  <a:moveTo>
                    <a:pt x="37" y="0"/>
                  </a:moveTo>
                  <a:lnTo>
                    <a:pt x="0" y="50"/>
                  </a:lnTo>
                  <a:lnTo>
                    <a:pt x="52" y="169"/>
                  </a:lnTo>
                  <a:lnTo>
                    <a:pt x="197" y="83"/>
                  </a:lnTo>
                  <a:lnTo>
                    <a:pt x="385" y="153"/>
                  </a:lnTo>
                  <a:lnTo>
                    <a:pt x="372" y="278"/>
                  </a:lnTo>
                  <a:lnTo>
                    <a:pt x="450" y="423"/>
                  </a:lnTo>
                  <a:lnTo>
                    <a:pt x="450" y="546"/>
                  </a:lnTo>
                  <a:lnTo>
                    <a:pt x="503" y="613"/>
                  </a:lnTo>
                  <a:lnTo>
                    <a:pt x="503" y="446"/>
                  </a:lnTo>
                  <a:lnTo>
                    <a:pt x="789" y="237"/>
                  </a:lnTo>
                  <a:lnTo>
                    <a:pt x="273" y="5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082000" y="5513040"/>
              <a:ext cx="263880" cy="590760"/>
            </a:xfrm>
            <a:custGeom>
              <a:avLst/>
              <a:gdLst/>
              <a:ahLst/>
              <a:rect l="l" t="t" r="r" b="b"/>
              <a:pathLst>
                <a:path w="1863" h="3015">
                  <a:moveTo>
                    <a:pt x="1382" y="0"/>
                  </a:moveTo>
                  <a:lnTo>
                    <a:pt x="1126" y="555"/>
                  </a:lnTo>
                  <a:lnTo>
                    <a:pt x="1029" y="680"/>
                  </a:lnTo>
                  <a:lnTo>
                    <a:pt x="1248" y="584"/>
                  </a:lnTo>
                  <a:lnTo>
                    <a:pt x="1189" y="1082"/>
                  </a:lnTo>
                  <a:lnTo>
                    <a:pt x="1090" y="1021"/>
                  </a:lnTo>
                  <a:lnTo>
                    <a:pt x="1274" y="1885"/>
                  </a:lnTo>
                  <a:lnTo>
                    <a:pt x="1141" y="1933"/>
                  </a:lnTo>
                  <a:lnTo>
                    <a:pt x="1104" y="1824"/>
                  </a:lnTo>
                  <a:lnTo>
                    <a:pt x="843" y="1593"/>
                  </a:lnTo>
                  <a:lnTo>
                    <a:pt x="968" y="2010"/>
                  </a:lnTo>
                  <a:lnTo>
                    <a:pt x="856" y="2290"/>
                  </a:lnTo>
                  <a:lnTo>
                    <a:pt x="1176" y="2274"/>
                  </a:lnTo>
                  <a:lnTo>
                    <a:pt x="981" y="2382"/>
                  </a:lnTo>
                  <a:lnTo>
                    <a:pt x="769" y="2738"/>
                  </a:lnTo>
                  <a:lnTo>
                    <a:pt x="622" y="2738"/>
                  </a:lnTo>
                  <a:lnTo>
                    <a:pt x="0" y="2954"/>
                  </a:lnTo>
                  <a:lnTo>
                    <a:pt x="327" y="3002"/>
                  </a:lnTo>
                  <a:lnTo>
                    <a:pt x="1176" y="2906"/>
                  </a:lnTo>
                  <a:lnTo>
                    <a:pt x="1405" y="2864"/>
                  </a:lnTo>
                  <a:lnTo>
                    <a:pt x="1543" y="3015"/>
                  </a:lnTo>
                  <a:lnTo>
                    <a:pt x="1491" y="2711"/>
                  </a:lnTo>
                  <a:lnTo>
                    <a:pt x="1431" y="2538"/>
                  </a:lnTo>
                  <a:lnTo>
                    <a:pt x="1552" y="2150"/>
                  </a:lnTo>
                  <a:lnTo>
                    <a:pt x="1405" y="1905"/>
                  </a:lnTo>
                  <a:lnTo>
                    <a:pt x="1639" y="1870"/>
                  </a:lnTo>
                  <a:lnTo>
                    <a:pt x="1863" y="1685"/>
                  </a:lnTo>
                  <a:lnTo>
                    <a:pt x="1573" y="1623"/>
                  </a:lnTo>
                  <a:lnTo>
                    <a:pt x="1468" y="1439"/>
                  </a:lnTo>
                  <a:lnTo>
                    <a:pt x="1615" y="1006"/>
                  </a:lnTo>
                  <a:lnTo>
                    <a:pt x="1420" y="1238"/>
                  </a:lnTo>
                  <a:lnTo>
                    <a:pt x="1347" y="1160"/>
                  </a:lnTo>
                  <a:lnTo>
                    <a:pt x="1615" y="399"/>
                  </a:lnTo>
                  <a:lnTo>
                    <a:pt x="1456" y="584"/>
                  </a:lnTo>
                  <a:lnTo>
                    <a:pt x="1323" y="619"/>
                  </a:lnTo>
                  <a:lnTo>
                    <a:pt x="1382" y="199"/>
                  </a:lnTo>
                  <a:lnTo>
                    <a:pt x="13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308080" y="5879520"/>
              <a:ext cx="89280" cy="240120"/>
            </a:xfrm>
            <a:custGeom>
              <a:avLst/>
              <a:gdLst/>
              <a:ahLst/>
              <a:rect l="l" t="t" r="r" b="b"/>
              <a:pathLst>
                <a:path w="629" h="1226">
                  <a:moveTo>
                    <a:pt x="0" y="154"/>
                  </a:moveTo>
                  <a:lnTo>
                    <a:pt x="198" y="480"/>
                  </a:lnTo>
                  <a:lnTo>
                    <a:pt x="222" y="775"/>
                  </a:lnTo>
                  <a:lnTo>
                    <a:pt x="407" y="791"/>
                  </a:lnTo>
                  <a:lnTo>
                    <a:pt x="370" y="916"/>
                  </a:lnTo>
                  <a:lnTo>
                    <a:pt x="500" y="1226"/>
                  </a:lnTo>
                  <a:lnTo>
                    <a:pt x="554" y="1132"/>
                  </a:lnTo>
                  <a:lnTo>
                    <a:pt x="500" y="883"/>
                  </a:lnTo>
                  <a:lnTo>
                    <a:pt x="554" y="712"/>
                  </a:lnTo>
                  <a:lnTo>
                    <a:pt x="433" y="649"/>
                  </a:lnTo>
                  <a:lnTo>
                    <a:pt x="629" y="358"/>
                  </a:lnTo>
                  <a:lnTo>
                    <a:pt x="578" y="280"/>
                  </a:lnTo>
                  <a:lnTo>
                    <a:pt x="383" y="280"/>
                  </a:lnTo>
                  <a:lnTo>
                    <a:pt x="407" y="0"/>
                  </a:lnTo>
                  <a:lnTo>
                    <a:pt x="309" y="80"/>
                  </a:lnTo>
                  <a:lnTo>
                    <a:pt x="49" y="8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393040" y="6034320"/>
              <a:ext cx="128520" cy="257760"/>
            </a:xfrm>
            <a:custGeom>
              <a:avLst/>
              <a:gdLst/>
              <a:ahLst/>
              <a:rect l="l" t="t" r="r" b="b"/>
              <a:pathLst>
                <a:path w="904" h="1316">
                  <a:moveTo>
                    <a:pt x="385" y="0"/>
                  </a:moveTo>
                  <a:lnTo>
                    <a:pt x="134" y="188"/>
                  </a:lnTo>
                  <a:lnTo>
                    <a:pt x="0" y="512"/>
                  </a:lnTo>
                  <a:lnTo>
                    <a:pt x="61" y="700"/>
                  </a:lnTo>
                  <a:lnTo>
                    <a:pt x="211" y="700"/>
                  </a:lnTo>
                  <a:lnTo>
                    <a:pt x="247" y="880"/>
                  </a:lnTo>
                  <a:lnTo>
                    <a:pt x="416" y="1102"/>
                  </a:lnTo>
                  <a:lnTo>
                    <a:pt x="173" y="1316"/>
                  </a:lnTo>
                  <a:lnTo>
                    <a:pt x="542" y="1131"/>
                  </a:lnTo>
                  <a:lnTo>
                    <a:pt x="894" y="744"/>
                  </a:lnTo>
                  <a:lnTo>
                    <a:pt x="833" y="619"/>
                  </a:lnTo>
                  <a:lnTo>
                    <a:pt x="833" y="493"/>
                  </a:lnTo>
                  <a:lnTo>
                    <a:pt x="904" y="417"/>
                  </a:lnTo>
                  <a:lnTo>
                    <a:pt x="904" y="341"/>
                  </a:lnTo>
                  <a:lnTo>
                    <a:pt x="760" y="278"/>
                  </a:lnTo>
                  <a:lnTo>
                    <a:pt x="566" y="34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120520" y="5567040"/>
              <a:ext cx="57960" cy="385920"/>
            </a:xfrm>
            <a:custGeom>
              <a:avLst/>
              <a:gdLst/>
              <a:ahLst/>
              <a:rect l="l" t="t" r="r" b="b"/>
              <a:pathLst>
                <a:path w="410" h="1966">
                  <a:moveTo>
                    <a:pt x="269" y="0"/>
                  </a:moveTo>
                  <a:lnTo>
                    <a:pt x="269" y="93"/>
                  </a:lnTo>
                  <a:lnTo>
                    <a:pt x="72" y="805"/>
                  </a:lnTo>
                  <a:lnTo>
                    <a:pt x="0" y="915"/>
                  </a:lnTo>
                  <a:lnTo>
                    <a:pt x="49" y="1301"/>
                  </a:lnTo>
                  <a:lnTo>
                    <a:pt x="55" y="1796"/>
                  </a:lnTo>
                  <a:lnTo>
                    <a:pt x="410" y="1966"/>
                  </a:lnTo>
                  <a:lnTo>
                    <a:pt x="410" y="1053"/>
                  </a:lnTo>
                  <a:lnTo>
                    <a:pt x="337" y="819"/>
                  </a:lnTo>
                  <a:lnTo>
                    <a:pt x="337" y="218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074800" y="5627520"/>
              <a:ext cx="46800" cy="88200"/>
            </a:xfrm>
            <a:custGeom>
              <a:avLst/>
              <a:gdLst/>
              <a:ahLst/>
              <a:rect l="l" t="t" r="r" b="b"/>
              <a:pathLst>
                <a:path w="331" h="451">
                  <a:moveTo>
                    <a:pt x="110" y="0"/>
                  </a:moveTo>
                  <a:lnTo>
                    <a:pt x="110" y="109"/>
                  </a:lnTo>
                  <a:lnTo>
                    <a:pt x="0" y="341"/>
                  </a:lnTo>
                  <a:lnTo>
                    <a:pt x="122" y="234"/>
                  </a:lnTo>
                  <a:lnTo>
                    <a:pt x="176" y="373"/>
                  </a:lnTo>
                  <a:lnTo>
                    <a:pt x="331" y="451"/>
                  </a:lnTo>
                  <a:lnTo>
                    <a:pt x="212" y="7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433000" y="5946120"/>
              <a:ext cx="133920" cy="92160"/>
            </a:xfrm>
            <a:custGeom>
              <a:avLst/>
              <a:gdLst/>
              <a:ahLst/>
              <a:rect l="l" t="t" r="r" b="b"/>
              <a:pathLst>
                <a:path w="943" h="467">
                  <a:moveTo>
                    <a:pt x="0" y="0"/>
                  </a:moveTo>
                  <a:lnTo>
                    <a:pt x="685" y="0"/>
                  </a:lnTo>
                  <a:lnTo>
                    <a:pt x="930" y="214"/>
                  </a:lnTo>
                  <a:lnTo>
                    <a:pt x="943" y="467"/>
                  </a:lnTo>
                  <a:lnTo>
                    <a:pt x="621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376840" y="5558040"/>
              <a:ext cx="143280" cy="391680"/>
            </a:xfrm>
            <a:custGeom>
              <a:avLst/>
              <a:gdLst/>
              <a:ahLst/>
              <a:rect l="l" t="t" r="r" b="b"/>
              <a:pathLst>
                <a:path w="1006" h="1998">
                  <a:moveTo>
                    <a:pt x="0" y="0"/>
                  </a:moveTo>
                  <a:lnTo>
                    <a:pt x="1006" y="1998"/>
                  </a:lnTo>
                  <a:lnTo>
                    <a:pt x="419" y="1209"/>
                  </a:lnTo>
                  <a:lnTo>
                    <a:pt x="395" y="9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339040" y="5481720"/>
              <a:ext cx="29520" cy="61560"/>
            </a:xfrm>
            <a:custGeom>
              <a:avLst/>
              <a:gdLst/>
              <a:ahLst/>
              <a:rect l="l" t="t" r="r" b="b"/>
              <a:pathLst>
                <a:path w="211" h="312">
                  <a:moveTo>
                    <a:pt x="0" y="0"/>
                  </a:moveTo>
                  <a:lnTo>
                    <a:pt x="148" y="125"/>
                  </a:lnTo>
                  <a:lnTo>
                    <a:pt x="136" y="264"/>
                  </a:lnTo>
                  <a:lnTo>
                    <a:pt x="211" y="312"/>
                  </a:lnTo>
                  <a:lnTo>
                    <a:pt x="211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526600" y="6028560"/>
              <a:ext cx="35280" cy="109440"/>
            </a:xfrm>
            <a:custGeom>
              <a:avLst/>
              <a:gdLst/>
              <a:ahLst/>
              <a:rect l="l" t="t" r="r" b="b"/>
              <a:pathLst>
                <a:path w="249" h="561">
                  <a:moveTo>
                    <a:pt x="0" y="0"/>
                  </a:moveTo>
                  <a:lnTo>
                    <a:pt x="185" y="123"/>
                  </a:lnTo>
                  <a:lnTo>
                    <a:pt x="249" y="324"/>
                  </a:lnTo>
                  <a:lnTo>
                    <a:pt x="185" y="5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8536320" y="6149160"/>
              <a:ext cx="396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722000" y="5394600"/>
              <a:ext cx="352800" cy="536760"/>
            </a:xfrm>
            <a:custGeom>
              <a:avLst/>
              <a:gdLst/>
              <a:ahLst/>
              <a:rect l="l" t="t" r="r" b="b"/>
              <a:pathLst>
                <a:path w="2482" h="2743">
                  <a:moveTo>
                    <a:pt x="658" y="526"/>
                  </a:moveTo>
                  <a:lnTo>
                    <a:pt x="868" y="1021"/>
                  </a:lnTo>
                  <a:lnTo>
                    <a:pt x="868" y="1191"/>
                  </a:lnTo>
                  <a:lnTo>
                    <a:pt x="586" y="916"/>
                  </a:lnTo>
                  <a:lnTo>
                    <a:pt x="302" y="852"/>
                  </a:lnTo>
                  <a:lnTo>
                    <a:pt x="749" y="1396"/>
                  </a:lnTo>
                  <a:lnTo>
                    <a:pt x="883" y="1703"/>
                  </a:lnTo>
                  <a:lnTo>
                    <a:pt x="450" y="1396"/>
                  </a:lnTo>
                  <a:lnTo>
                    <a:pt x="278" y="1471"/>
                  </a:lnTo>
                  <a:lnTo>
                    <a:pt x="560" y="1830"/>
                  </a:lnTo>
                  <a:lnTo>
                    <a:pt x="474" y="1903"/>
                  </a:lnTo>
                  <a:lnTo>
                    <a:pt x="623" y="2108"/>
                  </a:lnTo>
                  <a:lnTo>
                    <a:pt x="36" y="1799"/>
                  </a:lnTo>
                  <a:lnTo>
                    <a:pt x="0" y="1162"/>
                  </a:lnTo>
                  <a:lnTo>
                    <a:pt x="122" y="916"/>
                  </a:lnTo>
                  <a:lnTo>
                    <a:pt x="149" y="636"/>
                  </a:lnTo>
                  <a:lnTo>
                    <a:pt x="377" y="388"/>
                  </a:lnTo>
                  <a:lnTo>
                    <a:pt x="979" y="63"/>
                  </a:lnTo>
                  <a:lnTo>
                    <a:pt x="1135" y="78"/>
                  </a:lnTo>
                  <a:lnTo>
                    <a:pt x="1395" y="0"/>
                  </a:lnTo>
                  <a:lnTo>
                    <a:pt x="1482" y="126"/>
                  </a:lnTo>
                  <a:lnTo>
                    <a:pt x="1614" y="174"/>
                  </a:lnTo>
                  <a:lnTo>
                    <a:pt x="1518" y="282"/>
                  </a:lnTo>
                  <a:lnTo>
                    <a:pt x="1542" y="526"/>
                  </a:lnTo>
                  <a:lnTo>
                    <a:pt x="1910" y="1425"/>
                  </a:lnTo>
                  <a:lnTo>
                    <a:pt x="1910" y="1628"/>
                  </a:lnTo>
                  <a:lnTo>
                    <a:pt x="1980" y="1689"/>
                  </a:lnTo>
                  <a:lnTo>
                    <a:pt x="2262" y="1191"/>
                  </a:lnTo>
                  <a:lnTo>
                    <a:pt x="2430" y="1347"/>
                  </a:lnTo>
                  <a:lnTo>
                    <a:pt x="2446" y="1520"/>
                  </a:lnTo>
                  <a:lnTo>
                    <a:pt x="2394" y="1596"/>
                  </a:lnTo>
                  <a:lnTo>
                    <a:pt x="2482" y="1965"/>
                  </a:lnTo>
                  <a:lnTo>
                    <a:pt x="2421" y="2185"/>
                  </a:lnTo>
                  <a:lnTo>
                    <a:pt x="2314" y="2280"/>
                  </a:lnTo>
                  <a:lnTo>
                    <a:pt x="2255" y="2108"/>
                  </a:lnTo>
                  <a:lnTo>
                    <a:pt x="2189" y="2280"/>
                  </a:lnTo>
                  <a:lnTo>
                    <a:pt x="2176" y="1998"/>
                  </a:lnTo>
                  <a:lnTo>
                    <a:pt x="2365" y="1596"/>
                  </a:lnTo>
                  <a:lnTo>
                    <a:pt x="2287" y="1460"/>
                  </a:lnTo>
                  <a:lnTo>
                    <a:pt x="2079" y="1812"/>
                  </a:lnTo>
                  <a:lnTo>
                    <a:pt x="2069" y="1965"/>
                  </a:lnTo>
                  <a:lnTo>
                    <a:pt x="2032" y="2165"/>
                  </a:lnTo>
                  <a:lnTo>
                    <a:pt x="2032" y="2400"/>
                  </a:lnTo>
                  <a:lnTo>
                    <a:pt x="1736" y="2743"/>
                  </a:lnTo>
                  <a:lnTo>
                    <a:pt x="1809" y="2371"/>
                  </a:lnTo>
                  <a:lnTo>
                    <a:pt x="1773" y="2014"/>
                  </a:lnTo>
                  <a:lnTo>
                    <a:pt x="1670" y="1613"/>
                  </a:lnTo>
                  <a:lnTo>
                    <a:pt x="1760" y="1503"/>
                  </a:lnTo>
                  <a:lnTo>
                    <a:pt x="1589" y="977"/>
                  </a:lnTo>
                  <a:lnTo>
                    <a:pt x="1467" y="929"/>
                  </a:lnTo>
                  <a:lnTo>
                    <a:pt x="1542" y="1147"/>
                  </a:lnTo>
                  <a:lnTo>
                    <a:pt x="1614" y="1920"/>
                  </a:lnTo>
                  <a:lnTo>
                    <a:pt x="1445" y="1211"/>
                  </a:lnTo>
                  <a:lnTo>
                    <a:pt x="1395" y="1268"/>
                  </a:lnTo>
                  <a:lnTo>
                    <a:pt x="1152" y="743"/>
                  </a:lnTo>
                  <a:lnTo>
                    <a:pt x="793" y="526"/>
                  </a:lnTo>
                  <a:lnTo>
                    <a:pt x="658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866000" y="5578920"/>
              <a:ext cx="38160" cy="187920"/>
            </a:xfrm>
            <a:custGeom>
              <a:avLst/>
              <a:gdLst/>
              <a:ahLst/>
              <a:rect l="l" t="t" r="r" b="b"/>
              <a:pathLst>
                <a:path w="268" h="961">
                  <a:moveTo>
                    <a:pt x="0" y="0"/>
                  </a:moveTo>
                  <a:lnTo>
                    <a:pt x="0" y="358"/>
                  </a:lnTo>
                  <a:lnTo>
                    <a:pt x="147" y="483"/>
                  </a:lnTo>
                  <a:lnTo>
                    <a:pt x="268" y="961"/>
                  </a:lnTo>
                  <a:lnTo>
                    <a:pt x="186" y="3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725600" y="5785560"/>
              <a:ext cx="116280" cy="236160"/>
            </a:xfrm>
            <a:custGeom>
              <a:avLst/>
              <a:gdLst/>
              <a:ahLst/>
              <a:rect l="l" t="t" r="r" b="b"/>
              <a:pathLst>
                <a:path w="820" h="1205">
                  <a:moveTo>
                    <a:pt x="60" y="0"/>
                  </a:moveTo>
                  <a:lnTo>
                    <a:pt x="76" y="123"/>
                  </a:lnTo>
                  <a:lnTo>
                    <a:pt x="0" y="325"/>
                  </a:lnTo>
                  <a:lnTo>
                    <a:pt x="33" y="745"/>
                  </a:lnTo>
                  <a:lnTo>
                    <a:pt x="156" y="804"/>
                  </a:lnTo>
                  <a:lnTo>
                    <a:pt x="156" y="1128"/>
                  </a:lnTo>
                  <a:lnTo>
                    <a:pt x="315" y="1205"/>
                  </a:lnTo>
                  <a:lnTo>
                    <a:pt x="820" y="604"/>
                  </a:lnTo>
                  <a:lnTo>
                    <a:pt x="535" y="789"/>
                  </a:lnTo>
                  <a:lnTo>
                    <a:pt x="266" y="699"/>
                  </a:lnTo>
                  <a:lnTo>
                    <a:pt x="746" y="387"/>
                  </a:lnTo>
                  <a:lnTo>
                    <a:pt x="622" y="294"/>
                  </a:lnTo>
                  <a:lnTo>
                    <a:pt x="289" y="479"/>
                  </a:lnTo>
                  <a:lnTo>
                    <a:pt x="390" y="294"/>
                  </a:lnTo>
                  <a:lnTo>
                    <a:pt x="206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908120" y="5733360"/>
              <a:ext cx="30960" cy="155880"/>
            </a:xfrm>
            <a:custGeom>
              <a:avLst/>
              <a:gdLst/>
              <a:ahLst/>
              <a:rect l="l" t="t" r="r" b="b"/>
              <a:pathLst>
                <a:path w="222" h="793">
                  <a:moveTo>
                    <a:pt x="100" y="0"/>
                  </a:moveTo>
                  <a:lnTo>
                    <a:pt x="100" y="231"/>
                  </a:lnTo>
                  <a:lnTo>
                    <a:pt x="0" y="420"/>
                  </a:lnTo>
                  <a:lnTo>
                    <a:pt x="0" y="714"/>
                  </a:lnTo>
                  <a:lnTo>
                    <a:pt x="48" y="793"/>
                  </a:lnTo>
                  <a:lnTo>
                    <a:pt x="222" y="527"/>
                  </a:lnTo>
                  <a:lnTo>
                    <a:pt x="185" y="217"/>
                  </a:lnTo>
                  <a:lnTo>
                    <a:pt x="159" y="78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770240" y="5992200"/>
              <a:ext cx="119160" cy="263520"/>
            </a:xfrm>
            <a:custGeom>
              <a:avLst/>
              <a:gdLst/>
              <a:ahLst/>
              <a:rect l="l" t="t" r="r" b="b"/>
              <a:pathLst>
                <a:path w="841" h="1347">
                  <a:moveTo>
                    <a:pt x="0" y="168"/>
                  </a:moveTo>
                  <a:lnTo>
                    <a:pt x="246" y="728"/>
                  </a:lnTo>
                  <a:lnTo>
                    <a:pt x="86" y="977"/>
                  </a:lnTo>
                  <a:lnTo>
                    <a:pt x="27" y="1252"/>
                  </a:lnTo>
                  <a:lnTo>
                    <a:pt x="186" y="1347"/>
                  </a:lnTo>
                  <a:lnTo>
                    <a:pt x="710" y="1131"/>
                  </a:lnTo>
                  <a:lnTo>
                    <a:pt x="392" y="899"/>
                  </a:lnTo>
                  <a:lnTo>
                    <a:pt x="505" y="761"/>
                  </a:lnTo>
                  <a:lnTo>
                    <a:pt x="318" y="404"/>
                  </a:lnTo>
                  <a:lnTo>
                    <a:pt x="841" y="0"/>
                  </a:lnTo>
                  <a:lnTo>
                    <a:pt x="554" y="0"/>
                  </a:lnTo>
                  <a:lnTo>
                    <a:pt x="164" y="234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917120" y="5785560"/>
              <a:ext cx="204480" cy="306360"/>
            </a:xfrm>
            <a:custGeom>
              <a:avLst/>
              <a:gdLst/>
              <a:ahLst/>
              <a:rect l="l" t="t" r="r" b="b"/>
              <a:pathLst>
                <a:path w="1441" h="1563">
                  <a:moveTo>
                    <a:pt x="217" y="465"/>
                  </a:moveTo>
                  <a:lnTo>
                    <a:pt x="0" y="789"/>
                  </a:lnTo>
                  <a:lnTo>
                    <a:pt x="60" y="1019"/>
                  </a:lnTo>
                  <a:lnTo>
                    <a:pt x="413" y="1191"/>
                  </a:lnTo>
                  <a:lnTo>
                    <a:pt x="586" y="1128"/>
                  </a:lnTo>
                  <a:lnTo>
                    <a:pt x="608" y="1302"/>
                  </a:lnTo>
                  <a:lnTo>
                    <a:pt x="817" y="1410"/>
                  </a:lnTo>
                  <a:lnTo>
                    <a:pt x="883" y="1563"/>
                  </a:lnTo>
                  <a:lnTo>
                    <a:pt x="1058" y="1502"/>
                  </a:lnTo>
                  <a:lnTo>
                    <a:pt x="1433" y="1458"/>
                  </a:lnTo>
                  <a:lnTo>
                    <a:pt x="1441" y="945"/>
                  </a:lnTo>
                  <a:lnTo>
                    <a:pt x="1380" y="387"/>
                  </a:lnTo>
                  <a:lnTo>
                    <a:pt x="1358" y="883"/>
                  </a:lnTo>
                  <a:lnTo>
                    <a:pt x="1181" y="1205"/>
                  </a:lnTo>
                  <a:lnTo>
                    <a:pt x="1135" y="928"/>
                  </a:lnTo>
                  <a:lnTo>
                    <a:pt x="915" y="1019"/>
                  </a:lnTo>
                  <a:lnTo>
                    <a:pt x="855" y="774"/>
                  </a:lnTo>
                  <a:lnTo>
                    <a:pt x="855" y="529"/>
                  </a:lnTo>
                  <a:lnTo>
                    <a:pt x="797" y="0"/>
                  </a:lnTo>
                  <a:lnTo>
                    <a:pt x="635" y="450"/>
                  </a:lnTo>
                  <a:lnTo>
                    <a:pt x="388" y="730"/>
                  </a:lnTo>
                  <a:lnTo>
                    <a:pt x="298" y="529"/>
                  </a:lnTo>
                  <a:lnTo>
                    <a:pt x="217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830000" y="6076440"/>
              <a:ext cx="484920" cy="234000"/>
            </a:xfrm>
            <a:custGeom>
              <a:avLst/>
              <a:gdLst/>
              <a:ahLst/>
              <a:rect l="l" t="t" r="r" b="b"/>
              <a:pathLst>
                <a:path w="3415" h="1194">
                  <a:moveTo>
                    <a:pt x="1290" y="264"/>
                  </a:moveTo>
                  <a:lnTo>
                    <a:pt x="1412" y="202"/>
                  </a:lnTo>
                  <a:lnTo>
                    <a:pt x="979" y="78"/>
                  </a:lnTo>
                  <a:lnTo>
                    <a:pt x="1065" y="30"/>
                  </a:lnTo>
                  <a:lnTo>
                    <a:pt x="1290" y="0"/>
                  </a:lnTo>
                  <a:lnTo>
                    <a:pt x="1042" y="0"/>
                  </a:lnTo>
                  <a:lnTo>
                    <a:pt x="651" y="171"/>
                  </a:lnTo>
                  <a:lnTo>
                    <a:pt x="416" y="485"/>
                  </a:lnTo>
                  <a:lnTo>
                    <a:pt x="517" y="656"/>
                  </a:lnTo>
                  <a:lnTo>
                    <a:pt x="930" y="745"/>
                  </a:lnTo>
                  <a:lnTo>
                    <a:pt x="0" y="745"/>
                  </a:lnTo>
                  <a:lnTo>
                    <a:pt x="785" y="930"/>
                  </a:lnTo>
                  <a:lnTo>
                    <a:pt x="1265" y="775"/>
                  </a:lnTo>
                  <a:lnTo>
                    <a:pt x="1505" y="821"/>
                  </a:lnTo>
                  <a:lnTo>
                    <a:pt x="1910" y="791"/>
                  </a:lnTo>
                  <a:lnTo>
                    <a:pt x="2192" y="963"/>
                  </a:lnTo>
                  <a:lnTo>
                    <a:pt x="2534" y="1058"/>
                  </a:lnTo>
                  <a:lnTo>
                    <a:pt x="2778" y="1194"/>
                  </a:lnTo>
                  <a:lnTo>
                    <a:pt x="2917" y="1118"/>
                  </a:lnTo>
                  <a:lnTo>
                    <a:pt x="2940" y="1023"/>
                  </a:lnTo>
                  <a:lnTo>
                    <a:pt x="3050" y="1058"/>
                  </a:lnTo>
                  <a:lnTo>
                    <a:pt x="3085" y="963"/>
                  </a:lnTo>
                  <a:lnTo>
                    <a:pt x="3050" y="791"/>
                  </a:lnTo>
                  <a:lnTo>
                    <a:pt x="3319" y="1101"/>
                  </a:lnTo>
                  <a:lnTo>
                    <a:pt x="3391" y="1101"/>
                  </a:lnTo>
                  <a:lnTo>
                    <a:pt x="3415" y="991"/>
                  </a:lnTo>
                  <a:lnTo>
                    <a:pt x="3267" y="821"/>
                  </a:lnTo>
                  <a:lnTo>
                    <a:pt x="3181" y="791"/>
                  </a:lnTo>
                  <a:lnTo>
                    <a:pt x="3015" y="468"/>
                  </a:lnTo>
                  <a:lnTo>
                    <a:pt x="2499" y="160"/>
                  </a:lnTo>
                  <a:lnTo>
                    <a:pt x="2385" y="233"/>
                  </a:lnTo>
                  <a:lnTo>
                    <a:pt x="2245" y="220"/>
                  </a:lnTo>
                  <a:lnTo>
                    <a:pt x="2129" y="330"/>
                  </a:lnTo>
                  <a:lnTo>
                    <a:pt x="2120" y="449"/>
                  </a:lnTo>
                  <a:lnTo>
                    <a:pt x="1959" y="468"/>
                  </a:lnTo>
                  <a:lnTo>
                    <a:pt x="1923" y="529"/>
                  </a:lnTo>
                  <a:lnTo>
                    <a:pt x="1738" y="390"/>
                  </a:lnTo>
                  <a:lnTo>
                    <a:pt x="1383" y="330"/>
                  </a:lnTo>
                  <a:lnTo>
                    <a:pt x="1689" y="546"/>
                  </a:lnTo>
                  <a:lnTo>
                    <a:pt x="628" y="434"/>
                  </a:lnTo>
                  <a:lnTo>
                    <a:pt x="699" y="264"/>
                  </a:lnTo>
                  <a:lnTo>
                    <a:pt x="1290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254080" y="6125400"/>
              <a:ext cx="95760" cy="125280"/>
            </a:xfrm>
            <a:custGeom>
              <a:avLst/>
              <a:gdLst/>
              <a:ahLst/>
              <a:rect l="l" t="t" r="r" b="b"/>
              <a:pathLst>
                <a:path w="672" h="636">
                  <a:moveTo>
                    <a:pt x="0" y="0"/>
                  </a:moveTo>
                  <a:lnTo>
                    <a:pt x="13" y="92"/>
                  </a:lnTo>
                  <a:lnTo>
                    <a:pt x="208" y="295"/>
                  </a:lnTo>
                  <a:lnTo>
                    <a:pt x="340" y="310"/>
                  </a:lnTo>
                  <a:lnTo>
                    <a:pt x="590" y="636"/>
                  </a:lnTo>
                  <a:lnTo>
                    <a:pt x="672" y="636"/>
                  </a:lnTo>
                  <a:lnTo>
                    <a:pt x="416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8245440" y="6080400"/>
              <a:ext cx="111240" cy="166320"/>
            </a:xfrm>
            <a:custGeom>
              <a:avLst/>
              <a:gdLst/>
              <a:ahLst/>
              <a:rect l="l" t="t" r="r" b="b"/>
              <a:pathLst>
                <a:path w="784" h="853">
                  <a:moveTo>
                    <a:pt x="0" y="0"/>
                  </a:moveTo>
                  <a:lnTo>
                    <a:pt x="523" y="353"/>
                  </a:lnTo>
                  <a:lnTo>
                    <a:pt x="784" y="728"/>
                  </a:lnTo>
                  <a:lnTo>
                    <a:pt x="784" y="804"/>
                  </a:lnTo>
                  <a:lnTo>
                    <a:pt x="749" y="8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283600" y="6183360"/>
              <a:ext cx="3096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38920" y="6272640"/>
              <a:ext cx="110520" cy="103680"/>
            </a:xfrm>
            <a:custGeom>
              <a:avLst/>
              <a:gdLst/>
              <a:ahLst/>
              <a:rect l="l" t="t" r="r" b="b"/>
              <a:pathLst>
                <a:path w="780" h="527">
                  <a:moveTo>
                    <a:pt x="0" y="0"/>
                  </a:moveTo>
                  <a:lnTo>
                    <a:pt x="380" y="133"/>
                  </a:lnTo>
                  <a:lnTo>
                    <a:pt x="399" y="200"/>
                  </a:lnTo>
                  <a:lnTo>
                    <a:pt x="362" y="248"/>
                  </a:lnTo>
                  <a:lnTo>
                    <a:pt x="780" y="457"/>
                  </a:lnTo>
                  <a:lnTo>
                    <a:pt x="773" y="495"/>
                  </a:lnTo>
                  <a:lnTo>
                    <a:pt x="757" y="521"/>
                  </a:lnTo>
                  <a:lnTo>
                    <a:pt x="728" y="527"/>
                  </a:lnTo>
                  <a:lnTo>
                    <a:pt x="171" y="264"/>
                  </a:lnTo>
                  <a:lnTo>
                    <a:pt x="47" y="240"/>
                  </a:lnTo>
                  <a:lnTo>
                    <a:pt x="72" y="193"/>
                  </a:lnTo>
                  <a:lnTo>
                    <a:pt x="3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764480" y="6329520"/>
              <a:ext cx="13320" cy="370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47" y="0"/>
                  </a:moveTo>
                  <a:lnTo>
                    <a:pt x="47" y="78"/>
                  </a:lnTo>
                  <a:lnTo>
                    <a:pt x="0" y="190"/>
                  </a:lnTo>
                  <a:lnTo>
                    <a:pt x="38" y="190"/>
                  </a:lnTo>
                  <a:lnTo>
                    <a:pt x="90" y="109"/>
                  </a:lnTo>
                  <a:lnTo>
                    <a:pt x="96" y="1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876080" y="6382440"/>
              <a:ext cx="9000" cy="9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13" y="0"/>
                  </a:moveTo>
                  <a:lnTo>
                    <a:pt x="0" y="32"/>
                  </a:lnTo>
                  <a:lnTo>
                    <a:pt x="65" y="4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749720" y="6412680"/>
              <a:ext cx="51840" cy="12600"/>
            </a:xfrm>
            <a:custGeom>
              <a:avLst/>
              <a:gdLst/>
              <a:ahLst/>
              <a:rect l="l" t="t" r="r" b="b"/>
              <a:pathLst>
                <a:path w="364" h="66">
                  <a:moveTo>
                    <a:pt x="20" y="49"/>
                  </a:moveTo>
                  <a:lnTo>
                    <a:pt x="345" y="0"/>
                  </a:lnTo>
                  <a:lnTo>
                    <a:pt x="364" y="3"/>
                  </a:lnTo>
                  <a:lnTo>
                    <a:pt x="158" y="66"/>
                  </a:lnTo>
                  <a:lnTo>
                    <a:pt x="0" y="66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800840" y="6352920"/>
              <a:ext cx="13320" cy="1656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55" y="0"/>
                  </a:moveTo>
                  <a:lnTo>
                    <a:pt x="0" y="85"/>
                  </a:lnTo>
                  <a:lnTo>
                    <a:pt x="93" y="1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797960" y="6393960"/>
              <a:ext cx="9720" cy="1944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9" y="0"/>
                  </a:moveTo>
                  <a:lnTo>
                    <a:pt x="0" y="99"/>
                  </a:lnTo>
                  <a:lnTo>
                    <a:pt x="41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745400" y="6437160"/>
              <a:ext cx="65880" cy="22320"/>
            </a:xfrm>
            <a:custGeom>
              <a:avLst/>
              <a:gdLst/>
              <a:ahLst/>
              <a:rect l="l" t="t" r="r" b="b"/>
              <a:pathLst>
                <a:path w="465" h="116">
                  <a:moveTo>
                    <a:pt x="465" y="0"/>
                  </a:moveTo>
                  <a:lnTo>
                    <a:pt x="340" y="76"/>
                  </a:lnTo>
                  <a:lnTo>
                    <a:pt x="0" y="76"/>
                  </a:lnTo>
                  <a:lnTo>
                    <a:pt x="352" y="116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839000" y="6415560"/>
              <a:ext cx="178920" cy="71280"/>
            </a:xfrm>
            <a:custGeom>
              <a:avLst/>
              <a:gdLst/>
              <a:ahLst/>
              <a:rect l="l" t="t" r="r" b="b"/>
              <a:pathLst>
                <a:path w="1260" h="366">
                  <a:moveTo>
                    <a:pt x="0" y="0"/>
                  </a:moveTo>
                  <a:lnTo>
                    <a:pt x="1260" y="331"/>
                  </a:lnTo>
                  <a:lnTo>
                    <a:pt x="1013" y="366"/>
                  </a:lnTo>
                  <a:lnTo>
                    <a:pt x="704" y="265"/>
                  </a:lnTo>
                  <a:lnTo>
                    <a:pt x="652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044920" y="6400800"/>
              <a:ext cx="286920" cy="140760"/>
            </a:xfrm>
            <a:custGeom>
              <a:avLst/>
              <a:gdLst/>
              <a:ahLst/>
              <a:rect l="l" t="t" r="r" b="b"/>
              <a:pathLst>
                <a:path w="2023" h="719">
                  <a:moveTo>
                    <a:pt x="2023" y="0"/>
                  </a:moveTo>
                  <a:lnTo>
                    <a:pt x="1482" y="245"/>
                  </a:lnTo>
                  <a:lnTo>
                    <a:pt x="919" y="402"/>
                  </a:lnTo>
                  <a:lnTo>
                    <a:pt x="342" y="436"/>
                  </a:lnTo>
                  <a:lnTo>
                    <a:pt x="0" y="436"/>
                  </a:lnTo>
                  <a:lnTo>
                    <a:pt x="294" y="575"/>
                  </a:lnTo>
                  <a:lnTo>
                    <a:pt x="1072" y="719"/>
                  </a:lnTo>
                  <a:lnTo>
                    <a:pt x="948" y="606"/>
                  </a:lnTo>
                  <a:lnTo>
                    <a:pt x="1345" y="446"/>
                  </a:lnTo>
                  <a:lnTo>
                    <a:pt x="20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454960" y="6222600"/>
              <a:ext cx="81360" cy="88920"/>
            </a:xfrm>
            <a:custGeom>
              <a:avLst/>
              <a:gdLst/>
              <a:ahLst/>
              <a:rect l="l" t="t" r="r" b="b"/>
              <a:pathLst>
                <a:path w="573" h="454">
                  <a:moveTo>
                    <a:pt x="556" y="0"/>
                  </a:moveTo>
                  <a:lnTo>
                    <a:pt x="573" y="221"/>
                  </a:lnTo>
                  <a:lnTo>
                    <a:pt x="468" y="286"/>
                  </a:lnTo>
                  <a:lnTo>
                    <a:pt x="433" y="454"/>
                  </a:lnTo>
                  <a:lnTo>
                    <a:pt x="0" y="387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528760" y="6180480"/>
              <a:ext cx="44640" cy="121320"/>
            </a:xfrm>
            <a:custGeom>
              <a:avLst/>
              <a:gdLst/>
              <a:ahLst/>
              <a:rect l="l" t="t" r="r" b="b"/>
              <a:pathLst>
                <a:path w="313" h="621">
                  <a:moveTo>
                    <a:pt x="0" y="621"/>
                  </a:moveTo>
                  <a:lnTo>
                    <a:pt x="221" y="404"/>
                  </a:lnTo>
                  <a:lnTo>
                    <a:pt x="221" y="312"/>
                  </a:lnTo>
                  <a:lnTo>
                    <a:pt x="313" y="171"/>
                  </a:lnTo>
                  <a:lnTo>
                    <a:pt x="2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533800" y="5968800"/>
              <a:ext cx="201600" cy="253440"/>
            </a:xfrm>
            <a:custGeom>
              <a:avLst/>
              <a:gdLst/>
              <a:ahLst/>
              <a:rect l="l" t="t" r="r" b="b"/>
              <a:pathLst>
                <a:path w="1421" h="1295">
                  <a:moveTo>
                    <a:pt x="0" y="1295"/>
                  </a:moveTo>
                  <a:lnTo>
                    <a:pt x="1421" y="0"/>
                  </a:lnTo>
                  <a:lnTo>
                    <a:pt x="23" y="10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329320" y="6293160"/>
              <a:ext cx="88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264520" y="6548040"/>
              <a:ext cx="222840" cy="48600"/>
            </a:xfrm>
            <a:custGeom>
              <a:avLst/>
              <a:gdLst/>
              <a:ahLst/>
              <a:rect l="l" t="t" r="r" b="b"/>
              <a:pathLst>
                <a:path w="1573" h="249">
                  <a:moveTo>
                    <a:pt x="0" y="45"/>
                  </a:moveTo>
                  <a:lnTo>
                    <a:pt x="712" y="110"/>
                  </a:lnTo>
                  <a:lnTo>
                    <a:pt x="1260" y="93"/>
                  </a:lnTo>
                  <a:lnTo>
                    <a:pt x="1573" y="0"/>
                  </a:lnTo>
                  <a:lnTo>
                    <a:pt x="1159" y="2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079840" y="5734440"/>
              <a:ext cx="32040" cy="12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325000" y="6161760"/>
              <a:ext cx="102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584920" y="6161760"/>
              <a:ext cx="1778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76200" y="6614640"/>
              <a:ext cx="489240" cy="76320"/>
            </a:xfrm>
            <a:custGeom>
              <a:avLst/>
              <a:gdLst/>
              <a:ahLst/>
              <a:rect l="l" t="t" r="r" b="b"/>
              <a:pathLst>
                <a:path w="3447" h="390">
                  <a:moveTo>
                    <a:pt x="0" y="0"/>
                  </a:moveTo>
                  <a:lnTo>
                    <a:pt x="3410" y="304"/>
                  </a:lnTo>
                  <a:lnTo>
                    <a:pt x="3447" y="390"/>
                  </a:lnTo>
                  <a:lnTo>
                    <a:pt x="34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3560" y="6256080"/>
              <a:ext cx="113040" cy="76320"/>
            </a:xfrm>
            <a:custGeom>
              <a:avLst/>
              <a:gdLst/>
              <a:ahLst/>
              <a:rect l="l" t="t" r="r" b="b"/>
              <a:pathLst>
                <a:path w="796" h="390">
                  <a:moveTo>
                    <a:pt x="0" y="0"/>
                  </a:moveTo>
                  <a:lnTo>
                    <a:pt x="315" y="0"/>
                  </a:lnTo>
                  <a:lnTo>
                    <a:pt x="728" y="130"/>
                  </a:lnTo>
                  <a:lnTo>
                    <a:pt x="796" y="3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065800" y="5029920"/>
              <a:ext cx="6012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8114760" y="5128560"/>
              <a:ext cx="1620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62880" y="5544360"/>
              <a:ext cx="98640" cy="124200"/>
            </a:xfrm>
            <a:custGeom>
              <a:avLst/>
              <a:gdLst/>
              <a:ahLst/>
              <a:rect l="l" t="t" r="r" b="b"/>
              <a:pathLst>
                <a:path w="692" h="634">
                  <a:moveTo>
                    <a:pt x="665" y="315"/>
                  </a:moveTo>
                  <a:lnTo>
                    <a:pt x="634" y="374"/>
                  </a:lnTo>
                  <a:lnTo>
                    <a:pt x="692" y="501"/>
                  </a:lnTo>
                  <a:lnTo>
                    <a:pt x="681" y="523"/>
                  </a:lnTo>
                  <a:lnTo>
                    <a:pt x="561" y="523"/>
                  </a:lnTo>
                  <a:lnTo>
                    <a:pt x="358" y="634"/>
                  </a:lnTo>
                  <a:lnTo>
                    <a:pt x="322" y="611"/>
                  </a:lnTo>
                  <a:lnTo>
                    <a:pt x="369" y="488"/>
                  </a:lnTo>
                  <a:lnTo>
                    <a:pt x="480" y="348"/>
                  </a:lnTo>
                  <a:lnTo>
                    <a:pt x="475" y="216"/>
                  </a:lnTo>
                  <a:lnTo>
                    <a:pt x="322" y="276"/>
                  </a:lnTo>
                  <a:lnTo>
                    <a:pt x="421" y="97"/>
                  </a:lnTo>
                  <a:lnTo>
                    <a:pt x="189" y="179"/>
                  </a:lnTo>
                  <a:lnTo>
                    <a:pt x="0" y="106"/>
                  </a:lnTo>
                  <a:lnTo>
                    <a:pt x="179" y="129"/>
                  </a:lnTo>
                  <a:lnTo>
                    <a:pt x="345" y="54"/>
                  </a:lnTo>
                  <a:lnTo>
                    <a:pt x="532" y="48"/>
                  </a:lnTo>
                  <a:lnTo>
                    <a:pt x="596" y="6"/>
                  </a:lnTo>
                  <a:lnTo>
                    <a:pt x="657" y="0"/>
                  </a:lnTo>
                  <a:lnTo>
                    <a:pt x="596" y="137"/>
                  </a:lnTo>
                  <a:lnTo>
                    <a:pt x="665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7664040" y="5486400"/>
              <a:ext cx="46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8600" y="1523880"/>
            <a:ext cx="8629560" cy="5029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Illustration of an Option Granted to an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Grant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Vesting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Date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Date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Vesting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|---------------------------------------------|--------------------------------------------------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Stock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Stock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Price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Price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$ 1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$ 1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$ 2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819520" y="3886200"/>
            <a:ext cx="4572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38080" y="3886200"/>
            <a:ext cx="38124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3352680"/>
            <a:ext cx="0" cy="9144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010280" y="3352680"/>
            <a:ext cx="0" cy="9144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04920" y="1523880"/>
            <a:ext cx="853416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tabLst>
                <a:tab algn="l" pos="0"/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Arial"/>
              </a:rPr>
              <a:t>Two main account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Dilution of earnings per share (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3080">
              <a:lnSpc>
                <a:spcPct val="150000"/>
              </a:lnSpc>
              <a:buClr>
                <a:srgbClr val="ff6600"/>
              </a:buClr>
              <a:buSzPct val="120000"/>
              <a:buFont typeface="Wingdings" charset="2"/>
              <a:buChar char="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SOs in-the-money ar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dilutive securitie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and affect diluted 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3080">
              <a:lnSpc>
                <a:spcPct val="150000"/>
              </a:lnSpc>
              <a:buClr>
                <a:srgbClr val="ff6600"/>
              </a:buClr>
              <a:buSzPct val="120000"/>
              <a:buFont typeface="Wingdings" charset="2"/>
              <a:buChar char="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SOs out-of-the-money ar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ntidilutive securitie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and do not affect diluted 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Cost recognition of 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3080">
              <a:lnSpc>
                <a:spcPct val="150000"/>
              </a:lnSpc>
              <a:buClr>
                <a:srgbClr val="ff6600"/>
              </a:buClr>
              <a:buSzPct val="120000"/>
              <a:buFont typeface="Wingdings" charset="2"/>
              <a:buChar char="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Determine cost of ESOs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3080">
              <a:lnSpc>
                <a:spcPct val="150000"/>
              </a:lnSpc>
              <a:buClr>
                <a:srgbClr val="ff6600"/>
              </a:buClr>
              <a:buSzPct val="120000"/>
              <a:buFont typeface="Wingdings" charset="2"/>
              <a:buChar char=""/>
              <a:tabLst>
                <a:tab algn="l" pos="371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mortize cost over vesting period</a:t>
            </a:r>
            <a:r>
              <a:rPr b="1" lang="en-US" sz="2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7200" y="1852200"/>
            <a:ext cx="8313840" cy="4410720"/>
          </a:xfrm>
          <a:prstGeom prst="roundRect">
            <a:avLst>
              <a:gd name="adj" fmla="val 12495"/>
            </a:avLst>
          </a:prstGeom>
          <a:solidFill>
            <a:srgbClr val="063d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ctor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ffect on fair val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Exercise pric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Stock price on date of grant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Expected life of option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Risk-free rate of interest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Expected volatility of st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Expected dividends on st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mploye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Stock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641520" y="3886200"/>
          <a:ext cx="21222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3886200"/>
                    <a:ext cx="21222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>
            <a:off x="2819520" y="1523880"/>
            <a:ext cx="53337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30000"/>
              </a:lnSpc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ESO Discl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buClr>
                <a:srgbClr val="ff6600"/>
              </a:buClr>
              <a:buSzPct val="150000"/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Pro forma income and 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buClr>
                <a:srgbClr val="ff6600"/>
              </a:buClr>
              <a:buSzPct val="150000"/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Note details on options granted, outstanding, and exerc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buClr>
                <a:srgbClr val="ff6600"/>
              </a:buClr>
              <a:buSzPct val="150000"/>
              <a:buFont typeface="Arial"/>
              <a:buChar char="•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ssumptions for computing fair value of options granted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terest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0880" y="1776600"/>
            <a:ext cx="8382240" cy="4368600"/>
          </a:xfrm>
          <a:prstGeom prst="roundRect">
            <a:avLst>
              <a:gd name="adj" fmla="val 12495"/>
            </a:avLst>
          </a:prstGeom>
          <a:solidFill>
            <a:srgbClr val="063d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Black"/>
                <a:ea typeface="Arial"/>
              </a:rPr>
              <a:t>Inte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mpensation for use of mon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xcess cash paid beyond the money (principal)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borr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terest 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termined by risk characteristics of borrow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terest expen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termined by interest rate, principal, and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terest Capit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4920" y="1618920"/>
            <a:ext cx="3985920" cy="4769640"/>
          </a:xfrm>
          <a:custGeom>
            <a:avLst/>
            <a:gdLst>
              <a:gd name="textAreaLeft" fmla="*/ 145800 w 3985920"/>
              <a:gd name="textAreaRight" fmla="*/ 3840120 w 3985920"/>
              <a:gd name="textAreaTop" fmla="*/ 145800 h 4769640"/>
              <a:gd name="textAreaBottom" fmla="*/ 4623840 h 4769640"/>
            </a:gdLst>
            <a:ahLst/>
            <a:rect l="textAreaLeft" t="textAreaTop" r="textAreaRight" b="textAreaBottom"/>
            <a:pathLst>
              <a:path w="21600" h="25847">
                <a:moveTo>
                  <a:pt x="2699" y="0"/>
                </a:moveTo>
                <a:arcTo wR="2699" hR="2699" stAng="16200000" swAng="-5400000"/>
                <a:lnTo>
                  <a:pt x="0" y="23148"/>
                </a:lnTo>
                <a:arcTo wR="2699" hR="2699" stAng="10800000" swAng="-5400000"/>
                <a:lnTo>
                  <a:pt x="18901" y="2584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63de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ounting requires interest capitalization when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ed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ed for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any’s ow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ed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ed for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any by oth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re deposits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gress paymen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800600" y="1676520"/>
            <a:ext cx="3886200" cy="4724280"/>
          </a:xfrm>
          <a:custGeom>
            <a:avLst/>
            <a:gdLst>
              <a:gd name="textAreaLeft" fmla="*/ 142200 w 3886200"/>
              <a:gd name="textAreaRight" fmla="*/ 3744000 w 3886200"/>
              <a:gd name="textAreaTop" fmla="*/ 142200 h 4724280"/>
              <a:gd name="textAreaBottom" fmla="*/ 4582080 h 4724280"/>
            </a:gdLst>
            <a:ahLst/>
            <a:rect l="textAreaLeft" t="textAreaTop" r="textAreaRight" b="textAreaBottom"/>
            <a:pathLst>
              <a:path w="21600" h="26258">
                <a:moveTo>
                  <a:pt x="2699" y="0"/>
                </a:moveTo>
                <a:arcTo wR="2699" hR="2699" stAng="16200000" swAng="-5400000"/>
                <a:lnTo>
                  <a:pt x="0" y="23559"/>
                </a:lnTo>
                <a:arcTo wR="2699" hR="2699" stAng="10800000" swAng="-5400000"/>
                <a:lnTo>
                  <a:pt x="18901" y="26258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438e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ims of interest capi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measure asset acquisi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2) Better amortize acquisition cost against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ted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1523880"/>
            <a:ext cx="8534520" cy="496764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conomic Income and Permanent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04920" y="1905120"/>
          <a:ext cx="845820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4582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teres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80880" y="1676520"/>
            <a:ext cx="8305920" cy="47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terest on convertible debt is controversial by ignoring the cost of conversion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iluted earnings per share uses number of shares issuable in event of conversion of convertible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FAF views interest as a period cost—not capit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Changes in a company borrowing rate, not explained by market trends, reveals changes in risk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ome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0880" y="1676520"/>
            <a:ext cx="8305920" cy="33904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Substantial cost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Important to analysis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Analysis focus on periodic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281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tax expen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7620120" y="3276720"/>
            <a:ext cx="1298160" cy="1784160"/>
            <a:chOff x="7620120" y="3276720"/>
            <a:chExt cx="1298160" cy="1784160"/>
          </a:xfrm>
        </p:grpSpPr>
        <p:sp>
          <p:nvSpPr>
            <p:cNvPr id="1470" name=""/>
            <p:cNvSpPr/>
            <p:nvPr/>
          </p:nvSpPr>
          <p:spPr>
            <a:xfrm>
              <a:off x="7991280" y="3276720"/>
              <a:ext cx="472680" cy="301320"/>
            </a:xfrm>
            <a:custGeom>
              <a:avLst/>
              <a:gdLst/>
              <a:ahLst/>
              <a:rect l="l" t="t" r="r" b="b"/>
              <a:pathLst>
                <a:path w="1610" h="819">
                  <a:moveTo>
                    <a:pt x="13" y="337"/>
                  </a:moveTo>
                  <a:lnTo>
                    <a:pt x="11" y="308"/>
                  </a:lnTo>
                  <a:lnTo>
                    <a:pt x="0" y="269"/>
                  </a:lnTo>
                  <a:lnTo>
                    <a:pt x="6" y="227"/>
                  </a:lnTo>
                  <a:lnTo>
                    <a:pt x="30" y="187"/>
                  </a:lnTo>
                  <a:lnTo>
                    <a:pt x="84" y="145"/>
                  </a:lnTo>
                  <a:lnTo>
                    <a:pt x="171" y="109"/>
                  </a:lnTo>
                  <a:lnTo>
                    <a:pt x="267" y="80"/>
                  </a:lnTo>
                  <a:lnTo>
                    <a:pt x="359" y="55"/>
                  </a:lnTo>
                  <a:lnTo>
                    <a:pt x="465" y="35"/>
                  </a:lnTo>
                  <a:lnTo>
                    <a:pt x="556" y="20"/>
                  </a:lnTo>
                  <a:lnTo>
                    <a:pt x="641" y="9"/>
                  </a:lnTo>
                  <a:lnTo>
                    <a:pt x="738" y="4"/>
                  </a:lnTo>
                  <a:lnTo>
                    <a:pt x="792" y="0"/>
                  </a:lnTo>
                  <a:lnTo>
                    <a:pt x="928" y="4"/>
                  </a:lnTo>
                  <a:lnTo>
                    <a:pt x="978" y="8"/>
                  </a:lnTo>
                  <a:lnTo>
                    <a:pt x="1079" y="13"/>
                  </a:lnTo>
                  <a:lnTo>
                    <a:pt x="1128" y="16"/>
                  </a:lnTo>
                  <a:lnTo>
                    <a:pt x="1183" y="25"/>
                  </a:lnTo>
                  <a:lnTo>
                    <a:pt x="1284" y="44"/>
                  </a:lnTo>
                  <a:lnTo>
                    <a:pt x="1389" y="70"/>
                  </a:lnTo>
                  <a:lnTo>
                    <a:pt x="1480" y="101"/>
                  </a:lnTo>
                  <a:lnTo>
                    <a:pt x="1514" y="115"/>
                  </a:lnTo>
                  <a:lnTo>
                    <a:pt x="1543" y="134"/>
                  </a:lnTo>
                  <a:lnTo>
                    <a:pt x="1566" y="149"/>
                  </a:lnTo>
                  <a:lnTo>
                    <a:pt x="1586" y="170"/>
                  </a:lnTo>
                  <a:lnTo>
                    <a:pt x="1597" y="194"/>
                  </a:lnTo>
                  <a:lnTo>
                    <a:pt x="1602" y="218"/>
                  </a:lnTo>
                  <a:lnTo>
                    <a:pt x="1610" y="250"/>
                  </a:lnTo>
                  <a:lnTo>
                    <a:pt x="1602" y="283"/>
                  </a:lnTo>
                  <a:lnTo>
                    <a:pt x="1597" y="325"/>
                  </a:lnTo>
                  <a:lnTo>
                    <a:pt x="1432" y="768"/>
                  </a:lnTo>
                  <a:lnTo>
                    <a:pt x="1214" y="718"/>
                  </a:lnTo>
                  <a:lnTo>
                    <a:pt x="990" y="689"/>
                  </a:lnTo>
                  <a:lnTo>
                    <a:pt x="792" y="687"/>
                  </a:lnTo>
                  <a:lnTo>
                    <a:pt x="545" y="708"/>
                  </a:lnTo>
                  <a:lnTo>
                    <a:pt x="326" y="754"/>
                  </a:lnTo>
                  <a:lnTo>
                    <a:pt x="112" y="819"/>
                  </a:lnTo>
                  <a:lnTo>
                    <a:pt x="13" y="337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024040" y="3529440"/>
              <a:ext cx="387720" cy="226800"/>
            </a:xfrm>
            <a:custGeom>
              <a:avLst/>
              <a:gdLst/>
              <a:ahLst/>
              <a:rect l="l" t="t" r="r" b="b"/>
              <a:pathLst>
                <a:path w="1320" h="616">
                  <a:moveTo>
                    <a:pt x="878" y="2"/>
                  </a:moveTo>
                  <a:lnTo>
                    <a:pt x="1102" y="31"/>
                  </a:lnTo>
                  <a:lnTo>
                    <a:pt x="1320" y="81"/>
                  </a:lnTo>
                  <a:lnTo>
                    <a:pt x="1260" y="236"/>
                  </a:lnTo>
                  <a:lnTo>
                    <a:pt x="1115" y="236"/>
                  </a:lnTo>
                  <a:lnTo>
                    <a:pt x="1260" y="408"/>
                  </a:lnTo>
                  <a:lnTo>
                    <a:pt x="1198" y="573"/>
                  </a:lnTo>
                  <a:lnTo>
                    <a:pt x="1091" y="592"/>
                  </a:lnTo>
                  <a:lnTo>
                    <a:pt x="845" y="616"/>
                  </a:lnTo>
                  <a:lnTo>
                    <a:pt x="596" y="615"/>
                  </a:lnTo>
                  <a:lnTo>
                    <a:pt x="350" y="592"/>
                  </a:lnTo>
                  <a:lnTo>
                    <a:pt x="102" y="528"/>
                  </a:lnTo>
                  <a:lnTo>
                    <a:pt x="71" y="408"/>
                  </a:lnTo>
                  <a:lnTo>
                    <a:pt x="203" y="265"/>
                  </a:lnTo>
                  <a:lnTo>
                    <a:pt x="88" y="265"/>
                  </a:lnTo>
                  <a:lnTo>
                    <a:pt x="0" y="132"/>
                  </a:lnTo>
                  <a:lnTo>
                    <a:pt x="214" y="67"/>
                  </a:lnTo>
                  <a:lnTo>
                    <a:pt x="433" y="21"/>
                  </a:lnTo>
                  <a:lnTo>
                    <a:pt x="680" y="0"/>
                  </a:lnTo>
                  <a:lnTo>
                    <a:pt x="579" y="198"/>
                  </a:lnTo>
                  <a:lnTo>
                    <a:pt x="337" y="236"/>
                  </a:lnTo>
                  <a:lnTo>
                    <a:pt x="523" y="357"/>
                  </a:lnTo>
                  <a:lnTo>
                    <a:pt x="464" y="595"/>
                  </a:lnTo>
                  <a:lnTo>
                    <a:pt x="697" y="489"/>
                  </a:lnTo>
                  <a:lnTo>
                    <a:pt x="943" y="580"/>
                  </a:lnTo>
                  <a:lnTo>
                    <a:pt x="872" y="357"/>
                  </a:lnTo>
                  <a:lnTo>
                    <a:pt x="1030" y="210"/>
                  </a:lnTo>
                  <a:lnTo>
                    <a:pt x="813" y="198"/>
                  </a:lnTo>
                  <a:lnTo>
                    <a:pt x="680" y="0"/>
                  </a:lnTo>
                  <a:lnTo>
                    <a:pt x="878" y="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51640" y="3558960"/>
              <a:ext cx="72720" cy="181800"/>
            </a:xfrm>
            <a:custGeom>
              <a:avLst/>
              <a:gdLst/>
              <a:ahLst/>
              <a:rect l="l" t="t" r="r" b="b"/>
              <a:pathLst>
                <a:path w="247" h="492">
                  <a:moveTo>
                    <a:pt x="247" y="456"/>
                  </a:moveTo>
                  <a:lnTo>
                    <a:pt x="190" y="248"/>
                  </a:lnTo>
                  <a:lnTo>
                    <a:pt x="205" y="0"/>
                  </a:lnTo>
                  <a:lnTo>
                    <a:pt x="145" y="155"/>
                  </a:lnTo>
                  <a:lnTo>
                    <a:pt x="0" y="155"/>
                  </a:lnTo>
                  <a:lnTo>
                    <a:pt x="145" y="327"/>
                  </a:lnTo>
                  <a:lnTo>
                    <a:pt x="83" y="492"/>
                  </a:lnTo>
                  <a:lnTo>
                    <a:pt x="247" y="45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123040" y="3529440"/>
              <a:ext cx="203760" cy="219600"/>
            </a:xfrm>
            <a:custGeom>
              <a:avLst/>
              <a:gdLst/>
              <a:ahLst/>
              <a:rect l="l" t="t" r="r" b="b"/>
              <a:pathLst>
                <a:path w="693" h="595">
                  <a:moveTo>
                    <a:pt x="343" y="0"/>
                  </a:moveTo>
                  <a:lnTo>
                    <a:pt x="242" y="198"/>
                  </a:lnTo>
                  <a:lnTo>
                    <a:pt x="0" y="236"/>
                  </a:lnTo>
                  <a:lnTo>
                    <a:pt x="186" y="357"/>
                  </a:lnTo>
                  <a:lnTo>
                    <a:pt x="127" y="595"/>
                  </a:lnTo>
                  <a:lnTo>
                    <a:pt x="360" y="489"/>
                  </a:lnTo>
                  <a:lnTo>
                    <a:pt x="606" y="580"/>
                  </a:lnTo>
                  <a:lnTo>
                    <a:pt x="535" y="357"/>
                  </a:lnTo>
                  <a:lnTo>
                    <a:pt x="693" y="210"/>
                  </a:lnTo>
                  <a:lnTo>
                    <a:pt x="476" y="198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024040" y="3578040"/>
              <a:ext cx="59760" cy="145800"/>
            </a:xfrm>
            <a:custGeom>
              <a:avLst/>
              <a:gdLst/>
              <a:ahLst/>
              <a:rect l="l" t="t" r="r" b="b"/>
              <a:pathLst>
                <a:path w="203" h="396">
                  <a:moveTo>
                    <a:pt x="102" y="396"/>
                  </a:moveTo>
                  <a:lnTo>
                    <a:pt x="71" y="276"/>
                  </a:lnTo>
                  <a:lnTo>
                    <a:pt x="203" y="133"/>
                  </a:lnTo>
                  <a:lnTo>
                    <a:pt x="88" y="133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102" y="39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868880" y="3675600"/>
              <a:ext cx="703800" cy="476280"/>
            </a:xfrm>
            <a:custGeom>
              <a:avLst/>
              <a:gdLst/>
              <a:ahLst/>
              <a:rect l="l" t="t" r="r" b="b"/>
              <a:pathLst>
                <a:path w="2395" h="1292">
                  <a:moveTo>
                    <a:pt x="2123" y="910"/>
                  </a:moveTo>
                  <a:lnTo>
                    <a:pt x="1935" y="845"/>
                  </a:lnTo>
                  <a:lnTo>
                    <a:pt x="1979" y="739"/>
                  </a:lnTo>
                  <a:lnTo>
                    <a:pt x="2165" y="779"/>
                  </a:lnTo>
                  <a:lnTo>
                    <a:pt x="2208" y="657"/>
                  </a:lnTo>
                  <a:lnTo>
                    <a:pt x="2165" y="514"/>
                  </a:lnTo>
                  <a:lnTo>
                    <a:pt x="2238" y="514"/>
                  </a:lnTo>
                  <a:lnTo>
                    <a:pt x="2296" y="420"/>
                  </a:lnTo>
                  <a:lnTo>
                    <a:pt x="2165" y="420"/>
                  </a:lnTo>
                  <a:lnTo>
                    <a:pt x="2123" y="289"/>
                  </a:lnTo>
                  <a:lnTo>
                    <a:pt x="2165" y="171"/>
                  </a:lnTo>
                  <a:lnTo>
                    <a:pt x="2125" y="184"/>
                  </a:lnTo>
                  <a:lnTo>
                    <a:pt x="1863" y="250"/>
                  </a:lnTo>
                  <a:lnTo>
                    <a:pt x="1594" y="295"/>
                  </a:lnTo>
                  <a:lnTo>
                    <a:pt x="1324" y="314"/>
                  </a:lnTo>
                  <a:lnTo>
                    <a:pt x="1050" y="311"/>
                  </a:lnTo>
                  <a:lnTo>
                    <a:pt x="780" y="283"/>
                  </a:lnTo>
                  <a:lnTo>
                    <a:pt x="514" y="233"/>
                  </a:lnTo>
                  <a:lnTo>
                    <a:pt x="253" y="159"/>
                  </a:lnTo>
                  <a:lnTo>
                    <a:pt x="213" y="139"/>
                  </a:lnTo>
                  <a:lnTo>
                    <a:pt x="167" y="141"/>
                  </a:lnTo>
                  <a:lnTo>
                    <a:pt x="131" y="163"/>
                  </a:lnTo>
                  <a:lnTo>
                    <a:pt x="107" y="200"/>
                  </a:lnTo>
                  <a:lnTo>
                    <a:pt x="110" y="241"/>
                  </a:lnTo>
                  <a:lnTo>
                    <a:pt x="122" y="264"/>
                  </a:lnTo>
                  <a:lnTo>
                    <a:pt x="167" y="339"/>
                  </a:lnTo>
                  <a:lnTo>
                    <a:pt x="236" y="401"/>
                  </a:lnTo>
                  <a:lnTo>
                    <a:pt x="266" y="420"/>
                  </a:lnTo>
                  <a:lnTo>
                    <a:pt x="223" y="525"/>
                  </a:lnTo>
                  <a:lnTo>
                    <a:pt x="369" y="619"/>
                  </a:lnTo>
                  <a:lnTo>
                    <a:pt x="340" y="779"/>
                  </a:lnTo>
                  <a:lnTo>
                    <a:pt x="454" y="1067"/>
                  </a:lnTo>
                  <a:lnTo>
                    <a:pt x="439" y="1292"/>
                  </a:lnTo>
                  <a:lnTo>
                    <a:pt x="195" y="1108"/>
                  </a:lnTo>
                  <a:lnTo>
                    <a:pt x="195" y="988"/>
                  </a:lnTo>
                  <a:lnTo>
                    <a:pt x="79" y="805"/>
                  </a:lnTo>
                  <a:lnTo>
                    <a:pt x="108" y="657"/>
                  </a:lnTo>
                  <a:lnTo>
                    <a:pt x="165" y="607"/>
                  </a:lnTo>
                  <a:lnTo>
                    <a:pt x="122" y="568"/>
                  </a:lnTo>
                  <a:lnTo>
                    <a:pt x="108" y="525"/>
                  </a:lnTo>
                  <a:lnTo>
                    <a:pt x="209" y="447"/>
                  </a:lnTo>
                  <a:lnTo>
                    <a:pt x="48" y="276"/>
                  </a:lnTo>
                  <a:lnTo>
                    <a:pt x="40" y="268"/>
                  </a:lnTo>
                  <a:lnTo>
                    <a:pt x="7" y="225"/>
                  </a:lnTo>
                  <a:lnTo>
                    <a:pt x="0" y="174"/>
                  </a:lnTo>
                  <a:lnTo>
                    <a:pt x="16" y="123"/>
                  </a:lnTo>
                  <a:lnTo>
                    <a:pt x="56" y="85"/>
                  </a:lnTo>
                  <a:lnTo>
                    <a:pt x="108" y="66"/>
                  </a:lnTo>
                  <a:lnTo>
                    <a:pt x="190" y="50"/>
                  </a:lnTo>
                  <a:lnTo>
                    <a:pt x="297" y="53"/>
                  </a:lnTo>
                  <a:lnTo>
                    <a:pt x="397" y="79"/>
                  </a:lnTo>
                  <a:lnTo>
                    <a:pt x="527" y="111"/>
                  </a:lnTo>
                  <a:lnTo>
                    <a:pt x="629" y="132"/>
                  </a:lnTo>
                  <a:lnTo>
                    <a:pt x="877" y="196"/>
                  </a:lnTo>
                  <a:lnTo>
                    <a:pt x="1123" y="219"/>
                  </a:lnTo>
                  <a:lnTo>
                    <a:pt x="1372" y="220"/>
                  </a:lnTo>
                  <a:lnTo>
                    <a:pt x="1618" y="196"/>
                  </a:lnTo>
                  <a:lnTo>
                    <a:pt x="1725" y="177"/>
                  </a:lnTo>
                  <a:lnTo>
                    <a:pt x="1889" y="141"/>
                  </a:lnTo>
                  <a:lnTo>
                    <a:pt x="2096" y="79"/>
                  </a:lnTo>
                  <a:lnTo>
                    <a:pt x="2296" y="0"/>
                  </a:lnTo>
                  <a:lnTo>
                    <a:pt x="2353" y="79"/>
                  </a:lnTo>
                  <a:lnTo>
                    <a:pt x="2334" y="141"/>
                  </a:lnTo>
                  <a:lnTo>
                    <a:pt x="2289" y="203"/>
                  </a:lnTo>
                  <a:lnTo>
                    <a:pt x="2224" y="249"/>
                  </a:lnTo>
                  <a:lnTo>
                    <a:pt x="2251" y="314"/>
                  </a:lnTo>
                  <a:lnTo>
                    <a:pt x="2324" y="276"/>
                  </a:lnTo>
                  <a:lnTo>
                    <a:pt x="2395" y="369"/>
                  </a:lnTo>
                  <a:lnTo>
                    <a:pt x="2395" y="487"/>
                  </a:lnTo>
                  <a:lnTo>
                    <a:pt x="2268" y="568"/>
                  </a:lnTo>
                  <a:lnTo>
                    <a:pt x="2296" y="673"/>
                  </a:lnTo>
                  <a:lnTo>
                    <a:pt x="2251" y="845"/>
                  </a:lnTo>
                  <a:lnTo>
                    <a:pt x="2136" y="895"/>
                  </a:lnTo>
                  <a:lnTo>
                    <a:pt x="2123" y="91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900920" y="3727080"/>
              <a:ext cx="643320" cy="648000"/>
            </a:xfrm>
            <a:custGeom>
              <a:avLst/>
              <a:gdLst/>
              <a:ahLst/>
              <a:rect l="l" t="t" r="r" b="b"/>
              <a:pathLst>
                <a:path w="2189" h="1759">
                  <a:moveTo>
                    <a:pt x="332" y="1153"/>
                  </a:moveTo>
                  <a:lnTo>
                    <a:pt x="347" y="928"/>
                  </a:lnTo>
                  <a:lnTo>
                    <a:pt x="233" y="640"/>
                  </a:lnTo>
                  <a:lnTo>
                    <a:pt x="262" y="480"/>
                  </a:lnTo>
                  <a:lnTo>
                    <a:pt x="116" y="386"/>
                  </a:lnTo>
                  <a:lnTo>
                    <a:pt x="159" y="281"/>
                  </a:lnTo>
                  <a:lnTo>
                    <a:pt x="129" y="262"/>
                  </a:lnTo>
                  <a:lnTo>
                    <a:pt x="60" y="200"/>
                  </a:lnTo>
                  <a:lnTo>
                    <a:pt x="15" y="125"/>
                  </a:lnTo>
                  <a:lnTo>
                    <a:pt x="3" y="102"/>
                  </a:lnTo>
                  <a:lnTo>
                    <a:pt x="0" y="61"/>
                  </a:lnTo>
                  <a:lnTo>
                    <a:pt x="24" y="24"/>
                  </a:lnTo>
                  <a:lnTo>
                    <a:pt x="60" y="2"/>
                  </a:lnTo>
                  <a:lnTo>
                    <a:pt x="106" y="0"/>
                  </a:lnTo>
                  <a:lnTo>
                    <a:pt x="146" y="20"/>
                  </a:lnTo>
                  <a:lnTo>
                    <a:pt x="407" y="94"/>
                  </a:lnTo>
                  <a:lnTo>
                    <a:pt x="673" y="144"/>
                  </a:lnTo>
                  <a:lnTo>
                    <a:pt x="943" y="172"/>
                  </a:lnTo>
                  <a:lnTo>
                    <a:pt x="1217" y="175"/>
                  </a:lnTo>
                  <a:lnTo>
                    <a:pt x="1487" y="156"/>
                  </a:lnTo>
                  <a:lnTo>
                    <a:pt x="1756" y="111"/>
                  </a:lnTo>
                  <a:lnTo>
                    <a:pt x="2018" y="45"/>
                  </a:lnTo>
                  <a:lnTo>
                    <a:pt x="2058" y="32"/>
                  </a:lnTo>
                  <a:lnTo>
                    <a:pt x="2016" y="150"/>
                  </a:lnTo>
                  <a:lnTo>
                    <a:pt x="2058" y="281"/>
                  </a:lnTo>
                  <a:lnTo>
                    <a:pt x="2189" y="281"/>
                  </a:lnTo>
                  <a:lnTo>
                    <a:pt x="2131" y="375"/>
                  </a:lnTo>
                  <a:lnTo>
                    <a:pt x="2058" y="375"/>
                  </a:lnTo>
                  <a:lnTo>
                    <a:pt x="2101" y="518"/>
                  </a:lnTo>
                  <a:lnTo>
                    <a:pt x="2058" y="640"/>
                  </a:lnTo>
                  <a:lnTo>
                    <a:pt x="1872" y="600"/>
                  </a:lnTo>
                  <a:lnTo>
                    <a:pt x="1828" y="706"/>
                  </a:lnTo>
                  <a:lnTo>
                    <a:pt x="1768" y="849"/>
                  </a:lnTo>
                  <a:lnTo>
                    <a:pt x="1974" y="1073"/>
                  </a:lnTo>
                  <a:lnTo>
                    <a:pt x="1522" y="1456"/>
                  </a:lnTo>
                  <a:lnTo>
                    <a:pt x="1522" y="1495"/>
                  </a:lnTo>
                  <a:lnTo>
                    <a:pt x="1522" y="1507"/>
                  </a:lnTo>
                  <a:lnTo>
                    <a:pt x="1535" y="1563"/>
                  </a:lnTo>
                  <a:lnTo>
                    <a:pt x="1462" y="1654"/>
                  </a:lnTo>
                  <a:lnTo>
                    <a:pt x="1479" y="1706"/>
                  </a:lnTo>
                  <a:lnTo>
                    <a:pt x="1450" y="1759"/>
                  </a:lnTo>
                  <a:lnTo>
                    <a:pt x="1390" y="1667"/>
                  </a:lnTo>
                  <a:lnTo>
                    <a:pt x="1436" y="1563"/>
                  </a:lnTo>
                  <a:lnTo>
                    <a:pt x="1390" y="1430"/>
                  </a:lnTo>
                  <a:lnTo>
                    <a:pt x="1607" y="1230"/>
                  </a:lnTo>
                  <a:lnTo>
                    <a:pt x="1607" y="1126"/>
                  </a:lnTo>
                  <a:lnTo>
                    <a:pt x="1672" y="1069"/>
                  </a:lnTo>
                  <a:lnTo>
                    <a:pt x="1715" y="997"/>
                  </a:lnTo>
                  <a:lnTo>
                    <a:pt x="1732" y="918"/>
                  </a:lnTo>
                  <a:lnTo>
                    <a:pt x="1725" y="837"/>
                  </a:lnTo>
                  <a:lnTo>
                    <a:pt x="1535" y="1088"/>
                  </a:lnTo>
                  <a:lnTo>
                    <a:pt x="1561" y="1020"/>
                  </a:lnTo>
                  <a:lnTo>
                    <a:pt x="1566" y="953"/>
                  </a:lnTo>
                  <a:lnTo>
                    <a:pt x="1541" y="885"/>
                  </a:lnTo>
                  <a:lnTo>
                    <a:pt x="1535" y="876"/>
                  </a:lnTo>
                  <a:lnTo>
                    <a:pt x="1621" y="831"/>
                  </a:lnTo>
                  <a:lnTo>
                    <a:pt x="1691" y="769"/>
                  </a:lnTo>
                  <a:lnTo>
                    <a:pt x="1741" y="690"/>
                  </a:lnTo>
                  <a:lnTo>
                    <a:pt x="1766" y="603"/>
                  </a:lnTo>
                  <a:lnTo>
                    <a:pt x="1768" y="534"/>
                  </a:lnTo>
                  <a:lnTo>
                    <a:pt x="1828" y="506"/>
                  </a:lnTo>
                  <a:lnTo>
                    <a:pt x="1798" y="281"/>
                  </a:lnTo>
                  <a:lnTo>
                    <a:pt x="1593" y="230"/>
                  </a:lnTo>
                  <a:lnTo>
                    <a:pt x="1481" y="269"/>
                  </a:lnTo>
                  <a:lnTo>
                    <a:pt x="1306" y="307"/>
                  </a:lnTo>
                  <a:lnTo>
                    <a:pt x="1125" y="323"/>
                  </a:lnTo>
                  <a:lnTo>
                    <a:pt x="947" y="313"/>
                  </a:lnTo>
                  <a:lnTo>
                    <a:pt x="768" y="281"/>
                  </a:lnTo>
                  <a:lnTo>
                    <a:pt x="610" y="363"/>
                  </a:lnTo>
                  <a:lnTo>
                    <a:pt x="636" y="413"/>
                  </a:lnTo>
                  <a:lnTo>
                    <a:pt x="709" y="375"/>
                  </a:lnTo>
                  <a:lnTo>
                    <a:pt x="757" y="413"/>
                  </a:lnTo>
                  <a:lnTo>
                    <a:pt x="853" y="363"/>
                  </a:lnTo>
                  <a:lnTo>
                    <a:pt x="999" y="454"/>
                  </a:lnTo>
                  <a:lnTo>
                    <a:pt x="1100" y="454"/>
                  </a:lnTo>
                  <a:lnTo>
                    <a:pt x="1028" y="678"/>
                  </a:lnTo>
                  <a:lnTo>
                    <a:pt x="986" y="518"/>
                  </a:lnTo>
                  <a:lnTo>
                    <a:pt x="871" y="468"/>
                  </a:lnTo>
                  <a:lnTo>
                    <a:pt x="871" y="506"/>
                  </a:lnTo>
                  <a:lnTo>
                    <a:pt x="842" y="518"/>
                  </a:lnTo>
                  <a:lnTo>
                    <a:pt x="798" y="518"/>
                  </a:lnTo>
                  <a:lnTo>
                    <a:pt x="768" y="506"/>
                  </a:lnTo>
                  <a:lnTo>
                    <a:pt x="757" y="480"/>
                  </a:lnTo>
                  <a:lnTo>
                    <a:pt x="696" y="506"/>
                  </a:lnTo>
                  <a:lnTo>
                    <a:pt x="757" y="573"/>
                  </a:lnTo>
                  <a:lnTo>
                    <a:pt x="667" y="573"/>
                  </a:lnTo>
                  <a:lnTo>
                    <a:pt x="623" y="534"/>
                  </a:lnTo>
                  <a:lnTo>
                    <a:pt x="508" y="495"/>
                  </a:lnTo>
                  <a:lnTo>
                    <a:pt x="495" y="586"/>
                  </a:lnTo>
                  <a:lnTo>
                    <a:pt x="505" y="677"/>
                  </a:lnTo>
                  <a:lnTo>
                    <a:pt x="542" y="762"/>
                  </a:lnTo>
                  <a:lnTo>
                    <a:pt x="601" y="836"/>
                  </a:lnTo>
                  <a:lnTo>
                    <a:pt x="679" y="894"/>
                  </a:lnTo>
                  <a:lnTo>
                    <a:pt x="696" y="904"/>
                  </a:lnTo>
                  <a:lnTo>
                    <a:pt x="667" y="972"/>
                  </a:lnTo>
                  <a:lnTo>
                    <a:pt x="663" y="999"/>
                  </a:lnTo>
                  <a:lnTo>
                    <a:pt x="623" y="994"/>
                  </a:lnTo>
                  <a:lnTo>
                    <a:pt x="552" y="954"/>
                  </a:lnTo>
                  <a:lnTo>
                    <a:pt x="552" y="969"/>
                  </a:lnTo>
                  <a:lnTo>
                    <a:pt x="535" y="1002"/>
                  </a:lnTo>
                  <a:lnTo>
                    <a:pt x="522" y="1044"/>
                  </a:lnTo>
                  <a:lnTo>
                    <a:pt x="590" y="1126"/>
                  </a:lnTo>
                  <a:lnTo>
                    <a:pt x="623" y="994"/>
                  </a:lnTo>
                  <a:lnTo>
                    <a:pt x="663" y="999"/>
                  </a:lnTo>
                  <a:lnTo>
                    <a:pt x="661" y="1047"/>
                  </a:lnTo>
                  <a:lnTo>
                    <a:pt x="684" y="1119"/>
                  </a:lnTo>
                  <a:lnTo>
                    <a:pt x="727" y="1179"/>
                  </a:lnTo>
                  <a:lnTo>
                    <a:pt x="636" y="1230"/>
                  </a:lnTo>
                  <a:lnTo>
                    <a:pt x="463" y="1088"/>
                  </a:lnTo>
                  <a:lnTo>
                    <a:pt x="420" y="1179"/>
                  </a:lnTo>
                  <a:lnTo>
                    <a:pt x="332" y="115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011080" y="4127400"/>
              <a:ext cx="145080" cy="194400"/>
            </a:xfrm>
            <a:custGeom>
              <a:avLst/>
              <a:gdLst/>
              <a:ahLst/>
              <a:rect l="l" t="t" r="r" b="b"/>
              <a:pathLst>
                <a:path w="494" h="528">
                  <a:moveTo>
                    <a:pt x="406" y="500"/>
                  </a:moveTo>
                  <a:lnTo>
                    <a:pt x="290" y="330"/>
                  </a:lnTo>
                  <a:lnTo>
                    <a:pt x="0" y="237"/>
                  </a:lnTo>
                  <a:lnTo>
                    <a:pt x="43" y="91"/>
                  </a:lnTo>
                  <a:lnTo>
                    <a:pt x="86" y="0"/>
                  </a:lnTo>
                  <a:lnTo>
                    <a:pt x="259" y="142"/>
                  </a:lnTo>
                  <a:lnTo>
                    <a:pt x="277" y="142"/>
                  </a:lnTo>
                  <a:lnTo>
                    <a:pt x="434" y="315"/>
                  </a:lnTo>
                  <a:lnTo>
                    <a:pt x="441" y="342"/>
                  </a:lnTo>
                  <a:lnTo>
                    <a:pt x="494" y="528"/>
                  </a:lnTo>
                  <a:lnTo>
                    <a:pt x="406" y="5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141040" y="4254480"/>
              <a:ext cx="185400" cy="359640"/>
            </a:xfrm>
            <a:custGeom>
              <a:avLst/>
              <a:gdLst/>
              <a:ahLst/>
              <a:rect l="l" t="t" r="r" b="b"/>
              <a:pathLst>
                <a:path w="632" h="976">
                  <a:moveTo>
                    <a:pt x="74" y="200"/>
                  </a:moveTo>
                  <a:lnTo>
                    <a:pt x="108" y="224"/>
                  </a:lnTo>
                  <a:lnTo>
                    <a:pt x="121" y="237"/>
                  </a:lnTo>
                  <a:lnTo>
                    <a:pt x="125" y="252"/>
                  </a:lnTo>
                  <a:lnTo>
                    <a:pt x="129" y="272"/>
                  </a:lnTo>
                  <a:lnTo>
                    <a:pt x="129" y="296"/>
                  </a:lnTo>
                  <a:lnTo>
                    <a:pt x="121" y="318"/>
                  </a:lnTo>
                  <a:lnTo>
                    <a:pt x="105" y="333"/>
                  </a:lnTo>
                  <a:lnTo>
                    <a:pt x="89" y="347"/>
                  </a:lnTo>
                  <a:lnTo>
                    <a:pt x="72" y="357"/>
                  </a:lnTo>
                  <a:lnTo>
                    <a:pt x="108" y="382"/>
                  </a:lnTo>
                  <a:lnTo>
                    <a:pt x="116" y="393"/>
                  </a:lnTo>
                  <a:lnTo>
                    <a:pt x="117" y="411"/>
                  </a:lnTo>
                  <a:lnTo>
                    <a:pt x="112" y="444"/>
                  </a:lnTo>
                  <a:lnTo>
                    <a:pt x="100" y="466"/>
                  </a:lnTo>
                  <a:lnTo>
                    <a:pt x="85" y="493"/>
                  </a:lnTo>
                  <a:lnTo>
                    <a:pt x="66" y="508"/>
                  </a:lnTo>
                  <a:lnTo>
                    <a:pt x="69" y="528"/>
                  </a:lnTo>
                  <a:lnTo>
                    <a:pt x="69" y="546"/>
                  </a:lnTo>
                  <a:lnTo>
                    <a:pt x="66" y="567"/>
                  </a:lnTo>
                  <a:lnTo>
                    <a:pt x="62" y="582"/>
                  </a:lnTo>
                  <a:lnTo>
                    <a:pt x="108" y="660"/>
                  </a:lnTo>
                  <a:lnTo>
                    <a:pt x="155" y="580"/>
                  </a:lnTo>
                  <a:lnTo>
                    <a:pt x="240" y="870"/>
                  </a:lnTo>
                  <a:lnTo>
                    <a:pt x="256" y="921"/>
                  </a:lnTo>
                  <a:lnTo>
                    <a:pt x="263" y="928"/>
                  </a:lnTo>
                  <a:lnTo>
                    <a:pt x="273" y="939"/>
                  </a:lnTo>
                  <a:lnTo>
                    <a:pt x="296" y="957"/>
                  </a:lnTo>
                  <a:lnTo>
                    <a:pt x="319" y="966"/>
                  </a:lnTo>
                  <a:lnTo>
                    <a:pt x="348" y="976"/>
                  </a:lnTo>
                  <a:lnTo>
                    <a:pt x="375" y="976"/>
                  </a:lnTo>
                  <a:lnTo>
                    <a:pt x="404" y="970"/>
                  </a:lnTo>
                  <a:lnTo>
                    <a:pt x="430" y="961"/>
                  </a:lnTo>
                  <a:lnTo>
                    <a:pt x="451" y="944"/>
                  </a:lnTo>
                  <a:lnTo>
                    <a:pt x="459" y="936"/>
                  </a:lnTo>
                  <a:lnTo>
                    <a:pt x="428" y="766"/>
                  </a:lnTo>
                  <a:lnTo>
                    <a:pt x="415" y="712"/>
                  </a:lnTo>
                  <a:lnTo>
                    <a:pt x="428" y="660"/>
                  </a:lnTo>
                  <a:lnTo>
                    <a:pt x="545" y="712"/>
                  </a:lnTo>
                  <a:lnTo>
                    <a:pt x="538" y="659"/>
                  </a:lnTo>
                  <a:lnTo>
                    <a:pt x="540" y="549"/>
                  </a:lnTo>
                  <a:lnTo>
                    <a:pt x="567" y="440"/>
                  </a:lnTo>
                  <a:lnTo>
                    <a:pt x="618" y="343"/>
                  </a:lnTo>
                  <a:lnTo>
                    <a:pt x="632" y="329"/>
                  </a:lnTo>
                  <a:lnTo>
                    <a:pt x="572" y="237"/>
                  </a:lnTo>
                  <a:lnTo>
                    <a:pt x="618" y="133"/>
                  </a:lnTo>
                  <a:lnTo>
                    <a:pt x="572" y="0"/>
                  </a:lnTo>
                  <a:lnTo>
                    <a:pt x="0" y="0"/>
                  </a:lnTo>
                  <a:lnTo>
                    <a:pt x="53" y="186"/>
                  </a:lnTo>
                  <a:lnTo>
                    <a:pt x="74" y="20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054280" y="4078080"/>
              <a:ext cx="29880" cy="63360"/>
            </a:xfrm>
            <a:custGeom>
              <a:avLst/>
              <a:gdLst/>
              <a:ahLst/>
              <a:rect l="l" t="t" r="r" b="b"/>
              <a:pathLst>
                <a:path w="101" h="172">
                  <a:moveTo>
                    <a:pt x="30" y="0"/>
                  </a:moveTo>
                  <a:lnTo>
                    <a:pt x="101" y="40"/>
                  </a:lnTo>
                  <a:lnTo>
                    <a:pt x="68" y="172"/>
                  </a:lnTo>
                  <a:lnTo>
                    <a:pt x="0" y="94"/>
                  </a:lnTo>
                  <a:lnTo>
                    <a:pt x="17" y="40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bf7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20120" y="4122360"/>
              <a:ext cx="378360" cy="938520"/>
            </a:xfrm>
            <a:custGeom>
              <a:avLst/>
              <a:gdLst/>
              <a:ahLst/>
              <a:rect l="l" t="t" r="r" b="b"/>
              <a:pathLst>
                <a:path w="1289" h="2547">
                  <a:moveTo>
                    <a:pt x="884" y="1029"/>
                  </a:moveTo>
                  <a:lnTo>
                    <a:pt x="711" y="1293"/>
                  </a:lnTo>
                  <a:lnTo>
                    <a:pt x="639" y="1383"/>
                  </a:lnTo>
                  <a:lnTo>
                    <a:pt x="611" y="1543"/>
                  </a:lnTo>
                  <a:lnTo>
                    <a:pt x="611" y="1703"/>
                  </a:lnTo>
                  <a:lnTo>
                    <a:pt x="636" y="1863"/>
                  </a:lnTo>
                  <a:lnTo>
                    <a:pt x="681" y="2005"/>
                  </a:lnTo>
                  <a:lnTo>
                    <a:pt x="732" y="2079"/>
                  </a:lnTo>
                  <a:lnTo>
                    <a:pt x="805" y="2137"/>
                  </a:lnTo>
                  <a:lnTo>
                    <a:pt x="888" y="2173"/>
                  </a:lnTo>
                  <a:lnTo>
                    <a:pt x="981" y="2189"/>
                  </a:lnTo>
                  <a:lnTo>
                    <a:pt x="1000" y="2189"/>
                  </a:lnTo>
                  <a:lnTo>
                    <a:pt x="1037" y="2242"/>
                  </a:lnTo>
                  <a:lnTo>
                    <a:pt x="1050" y="2253"/>
                  </a:lnTo>
                  <a:lnTo>
                    <a:pt x="1063" y="2265"/>
                  </a:lnTo>
                  <a:lnTo>
                    <a:pt x="1093" y="2278"/>
                  </a:lnTo>
                  <a:lnTo>
                    <a:pt x="1122" y="2289"/>
                  </a:lnTo>
                  <a:lnTo>
                    <a:pt x="1158" y="2295"/>
                  </a:lnTo>
                  <a:lnTo>
                    <a:pt x="1195" y="2291"/>
                  </a:lnTo>
                  <a:lnTo>
                    <a:pt x="1228" y="2286"/>
                  </a:lnTo>
                  <a:lnTo>
                    <a:pt x="1289" y="2547"/>
                  </a:lnTo>
                  <a:lnTo>
                    <a:pt x="73" y="2547"/>
                  </a:lnTo>
                  <a:lnTo>
                    <a:pt x="56" y="2507"/>
                  </a:lnTo>
                  <a:lnTo>
                    <a:pt x="0" y="2005"/>
                  </a:lnTo>
                  <a:lnTo>
                    <a:pt x="56" y="1438"/>
                  </a:lnTo>
                  <a:lnTo>
                    <a:pt x="188" y="1146"/>
                  </a:lnTo>
                  <a:lnTo>
                    <a:pt x="129" y="952"/>
                  </a:lnTo>
                  <a:lnTo>
                    <a:pt x="319" y="830"/>
                  </a:lnTo>
                  <a:lnTo>
                    <a:pt x="217" y="609"/>
                  </a:lnTo>
                  <a:lnTo>
                    <a:pt x="260" y="490"/>
                  </a:lnTo>
                  <a:lnTo>
                    <a:pt x="349" y="460"/>
                  </a:lnTo>
                  <a:lnTo>
                    <a:pt x="374" y="185"/>
                  </a:lnTo>
                  <a:lnTo>
                    <a:pt x="433" y="53"/>
                  </a:lnTo>
                  <a:lnTo>
                    <a:pt x="520" y="0"/>
                  </a:lnTo>
                  <a:lnTo>
                    <a:pt x="639" y="106"/>
                  </a:lnTo>
                  <a:lnTo>
                    <a:pt x="1288" y="80"/>
                  </a:lnTo>
                  <a:lnTo>
                    <a:pt x="1102" y="479"/>
                  </a:lnTo>
                  <a:lnTo>
                    <a:pt x="1077" y="509"/>
                  </a:lnTo>
                  <a:lnTo>
                    <a:pt x="1066" y="524"/>
                  </a:lnTo>
                  <a:lnTo>
                    <a:pt x="1058" y="543"/>
                  </a:lnTo>
                  <a:lnTo>
                    <a:pt x="975" y="819"/>
                  </a:lnTo>
                  <a:lnTo>
                    <a:pt x="753" y="754"/>
                  </a:lnTo>
                  <a:lnTo>
                    <a:pt x="884" y="1029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544240" y="4161240"/>
              <a:ext cx="374040" cy="899280"/>
            </a:xfrm>
            <a:custGeom>
              <a:avLst/>
              <a:gdLst/>
              <a:ahLst/>
              <a:rect l="l" t="t" r="r" b="b"/>
              <a:pathLst>
                <a:path w="1275" h="2441">
                  <a:moveTo>
                    <a:pt x="43" y="0"/>
                  </a:moveTo>
                  <a:lnTo>
                    <a:pt x="406" y="0"/>
                  </a:lnTo>
                  <a:lnTo>
                    <a:pt x="738" y="251"/>
                  </a:lnTo>
                  <a:lnTo>
                    <a:pt x="839" y="156"/>
                  </a:lnTo>
                  <a:lnTo>
                    <a:pt x="986" y="224"/>
                  </a:lnTo>
                  <a:lnTo>
                    <a:pt x="1029" y="564"/>
                  </a:lnTo>
                  <a:lnTo>
                    <a:pt x="1146" y="648"/>
                  </a:lnTo>
                  <a:lnTo>
                    <a:pt x="1203" y="897"/>
                  </a:lnTo>
                  <a:lnTo>
                    <a:pt x="1159" y="988"/>
                  </a:lnTo>
                  <a:lnTo>
                    <a:pt x="1246" y="1107"/>
                  </a:lnTo>
                  <a:lnTo>
                    <a:pt x="1219" y="1332"/>
                  </a:lnTo>
                  <a:lnTo>
                    <a:pt x="1275" y="1437"/>
                  </a:lnTo>
                  <a:lnTo>
                    <a:pt x="1262" y="1557"/>
                  </a:lnTo>
                  <a:lnTo>
                    <a:pt x="1130" y="1807"/>
                  </a:lnTo>
                  <a:lnTo>
                    <a:pt x="1246" y="2137"/>
                  </a:lnTo>
                  <a:lnTo>
                    <a:pt x="1189" y="2441"/>
                  </a:lnTo>
                  <a:lnTo>
                    <a:pt x="15" y="2441"/>
                  </a:lnTo>
                  <a:lnTo>
                    <a:pt x="0" y="2441"/>
                  </a:lnTo>
                  <a:lnTo>
                    <a:pt x="537" y="659"/>
                  </a:lnTo>
                  <a:lnTo>
                    <a:pt x="15" y="724"/>
                  </a:lnTo>
                  <a:lnTo>
                    <a:pt x="232" y="44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48040" y="3986640"/>
              <a:ext cx="353520" cy="1074240"/>
            </a:xfrm>
            <a:custGeom>
              <a:avLst/>
              <a:gdLst/>
              <a:ahLst/>
              <a:rect l="l" t="t" r="r" b="b"/>
              <a:pathLst>
                <a:path w="1204" h="2914">
                  <a:moveTo>
                    <a:pt x="363" y="1081"/>
                  </a:moveTo>
                  <a:lnTo>
                    <a:pt x="420" y="646"/>
                  </a:lnTo>
                  <a:lnTo>
                    <a:pt x="0" y="801"/>
                  </a:lnTo>
                  <a:lnTo>
                    <a:pt x="0" y="789"/>
                  </a:lnTo>
                  <a:lnTo>
                    <a:pt x="0" y="750"/>
                  </a:lnTo>
                  <a:lnTo>
                    <a:pt x="452" y="367"/>
                  </a:lnTo>
                  <a:lnTo>
                    <a:pt x="246" y="143"/>
                  </a:lnTo>
                  <a:lnTo>
                    <a:pt x="306" y="0"/>
                  </a:lnTo>
                  <a:lnTo>
                    <a:pt x="494" y="65"/>
                  </a:lnTo>
                  <a:lnTo>
                    <a:pt x="579" y="104"/>
                  </a:lnTo>
                  <a:lnTo>
                    <a:pt x="579" y="326"/>
                  </a:lnTo>
                  <a:lnTo>
                    <a:pt x="682" y="473"/>
                  </a:lnTo>
                  <a:lnTo>
                    <a:pt x="667" y="473"/>
                  </a:lnTo>
                  <a:lnTo>
                    <a:pt x="899" y="922"/>
                  </a:lnTo>
                  <a:lnTo>
                    <a:pt x="682" y="1197"/>
                  </a:lnTo>
                  <a:lnTo>
                    <a:pt x="1204" y="1132"/>
                  </a:lnTo>
                  <a:lnTo>
                    <a:pt x="667" y="2914"/>
                  </a:lnTo>
                  <a:lnTo>
                    <a:pt x="652" y="2914"/>
                  </a:lnTo>
                  <a:lnTo>
                    <a:pt x="115" y="2914"/>
                  </a:lnTo>
                  <a:lnTo>
                    <a:pt x="350" y="1121"/>
                  </a:lnTo>
                  <a:lnTo>
                    <a:pt x="363" y="1081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144280" y="4380480"/>
              <a:ext cx="306720" cy="680400"/>
            </a:xfrm>
            <a:custGeom>
              <a:avLst/>
              <a:gdLst/>
              <a:ahLst/>
              <a:rect l="l" t="t" r="r" b="b"/>
              <a:pathLst>
                <a:path w="1044" h="1847">
                  <a:moveTo>
                    <a:pt x="98" y="1847"/>
                  </a:moveTo>
                  <a:lnTo>
                    <a:pt x="809" y="1847"/>
                  </a:lnTo>
                  <a:lnTo>
                    <a:pt x="1044" y="54"/>
                  </a:lnTo>
                  <a:lnTo>
                    <a:pt x="882" y="159"/>
                  </a:lnTo>
                  <a:lnTo>
                    <a:pt x="608" y="0"/>
                  </a:lnTo>
                  <a:lnTo>
                    <a:pt x="557" y="97"/>
                  </a:lnTo>
                  <a:lnTo>
                    <a:pt x="530" y="206"/>
                  </a:lnTo>
                  <a:lnTo>
                    <a:pt x="528" y="316"/>
                  </a:lnTo>
                  <a:lnTo>
                    <a:pt x="535" y="369"/>
                  </a:lnTo>
                  <a:lnTo>
                    <a:pt x="418" y="317"/>
                  </a:lnTo>
                  <a:lnTo>
                    <a:pt x="405" y="369"/>
                  </a:lnTo>
                  <a:lnTo>
                    <a:pt x="418" y="423"/>
                  </a:lnTo>
                  <a:lnTo>
                    <a:pt x="449" y="593"/>
                  </a:lnTo>
                  <a:lnTo>
                    <a:pt x="441" y="601"/>
                  </a:lnTo>
                  <a:lnTo>
                    <a:pt x="420" y="618"/>
                  </a:lnTo>
                  <a:lnTo>
                    <a:pt x="394" y="627"/>
                  </a:lnTo>
                  <a:lnTo>
                    <a:pt x="365" y="633"/>
                  </a:lnTo>
                  <a:lnTo>
                    <a:pt x="338" y="633"/>
                  </a:lnTo>
                  <a:lnTo>
                    <a:pt x="309" y="623"/>
                  </a:lnTo>
                  <a:lnTo>
                    <a:pt x="286" y="614"/>
                  </a:lnTo>
                  <a:lnTo>
                    <a:pt x="263" y="596"/>
                  </a:lnTo>
                  <a:lnTo>
                    <a:pt x="253" y="585"/>
                  </a:lnTo>
                  <a:lnTo>
                    <a:pt x="246" y="578"/>
                  </a:lnTo>
                  <a:lnTo>
                    <a:pt x="230" y="527"/>
                  </a:lnTo>
                  <a:lnTo>
                    <a:pt x="145" y="237"/>
                  </a:lnTo>
                  <a:lnTo>
                    <a:pt x="98" y="317"/>
                  </a:lnTo>
                  <a:lnTo>
                    <a:pt x="52" y="239"/>
                  </a:lnTo>
                  <a:lnTo>
                    <a:pt x="30" y="272"/>
                  </a:lnTo>
                  <a:lnTo>
                    <a:pt x="0" y="303"/>
                  </a:lnTo>
                  <a:lnTo>
                    <a:pt x="98" y="1832"/>
                  </a:lnTo>
                  <a:lnTo>
                    <a:pt x="98" y="18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322840" y="4224600"/>
              <a:ext cx="148320" cy="214200"/>
            </a:xfrm>
            <a:custGeom>
              <a:avLst/>
              <a:gdLst/>
              <a:ahLst/>
              <a:rect l="l" t="t" r="r" b="b"/>
              <a:pathLst>
                <a:path w="506" h="580">
                  <a:moveTo>
                    <a:pt x="449" y="435"/>
                  </a:moveTo>
                  <a:lnTo>
                    <a:pt x="506" y="0"/>
                  </a:lnTo>
                  <a:lnTo>
                    <a:pt x="86" y="155"/>
                  </a:lnTo>
                  <a:lnTo>
                    <a:pt x="99" y="211"/>
                  </a:lnTo>
                  <a:lnTo>
                    <a:pt x="26" y="302"/>
                  </a:lnTo>
                  <a:lnTo>
                    <a:pt x="43" y="354"/>
                  </a:lnTo>
                  <a:lnTo>
                    <a:pt x="14" y="407"/>
                  </a:lnTo>
                  <a:lnTo>
                    <a:pt x="0" y="421"/>
                  </a:lnTo>
                  <a:lnTo>
                    <a:pt x="274" y="580"/>
                  </a:lnTo>
                  <a:lnTo>
                    <a:pt x="436" y="475"/>
                  </a:lnTo>
                  <a:lnTo>
                    <a:pt x="449" y="435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943760" y="4151880"/>
              <a:ext cx="186840" cy="159840"/>
            </a:xfrm>
            <a:custGeom>
              <a:avLst/>
              <a:gdLst/>
              <a:ahLst/>
              <a:rect l="l" t="t" r="r" b="b"/>
              <a:pathLst>
                <a:path w="637" h="435">
                  <a:moveTo>
                    <a:pt x="186" y="0"/>
                  </a:moveTo>
                  <a:lnTo>
                    <a:pt x="274" y="26"/>
                  </a:lnTo>
                  <a:lnTo>
                    <a:pt x="231" y="172"/>
                  </a:lnTo>
                  <a:lnTo>
                    <a:pt x="521" y="265"/>
                  </a:lnTo>
                  <a:lnTo>
                    <a:pt x="637" y="435"/>
                  </a:lnTo>
                  <a:lnTo>
                    <a:pt x="419" y="435"/>
                  </a:lnTo>
                  <a:lnTo>
                    <a:pt x="290" y="354"/>
                  </a:lnTo>
                  <a:lnTo>
                    <a:pt x="255" y="337"/>
                  </a:lnTo>
                  <a:lnTo>
                    <a:pt x="214" y="331"/>
                  </a:lnTo>
                  <a:lnTo>
                    <a:pt x="175" y="327"/>
                  </a:lnTo>
                  <a:lnTo>
                    <a:pt x="136" y="333"/>
                  </a:lnTo>
                  <a:lnTo>
                    <a:pt x="99" y="339"/>
                  </a:lnTo>
                  <a:lnTo>
                    <a:pt x="62" y="355"/>
                  </a:lnTo>
                  <a:lnTo>
                    <a:pt x="26" y="375"/>
                  </a:lnTo>
                  <a:lnTo>
                    <a:pt x="0" y="399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41520" y="4400280"/>
              <a:ext cx="64440" cy="10080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222" y="65"/>
                  </a:moveTo>
                  <a:lnTo>
                    <a:pt x="0" y="0"/>
                  </a:lnTo>
                  <a:lnTo>
                    <a:pt x="131" y="275"/>
                  </a:lnTo>
                  <a:lnTo>
                    <a:pt x="175" y="221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980840" y="4491720"/>
              <a:ext cx="191880" cy="568800"/>
            </a:xfrm>
            <a:custGeom>
              <a:avLst/>
              <a:gdLst/>
              <a:ahLst/>
              <a:rect l="l" t="t" r="r" b="b"/>
              <a:pathLst>
                <a:path w="654" h="1544">
                  <a:moveTo>
                    <a:pt x="61" y="1544"/>
                  </a:moveTo>
                  <a:lnTo>
                    <a:pt x="0" y="1283"/>
                  </a:lnTo>
                  <a:lnTo>
                    <a:pt x="29" y="1271"/>
                  </a:lnTo>
                  <a:lnTo>
                    <a:pt x="60" y="1251"/>
                  </a:lnTo>
                  <a:lnTo>
                    <a:pt x="81" y="1232"/>
                  </a:lnTo>
                  <a:lnTo>
                    <a:pt x="105" y="1201"/>
                  </a:lnTo>
                  <a:lnTo>
                    <a:pt x="164" y="1087"/>
                  </a:lnTo>
                  <a:lnTo>
                    <a:pt x="200" y="964"/>
                  </a:lnTo>
                  <a:lnTo>
                    <a:pt x="207" y="922"/>
                  </a:lnTo>
                  <a:lnTo>
                    <a:pt x="310" y="699"/>
                  </a:lnTo>
                  <a:lnTo>
                    <a:pt x="191" y="422"/>
                  </a:lnTo>
                  <a:lnTo>
                    <a:pt x="193" y="368"/>
                  </a:lnTo>
                  <a:lnTo>
                    <a:pt x="219" y="318"/>
                  </a:lnTo>
                  <a:lnTo>
                    <a:pt x="327" y="287"/>
                  </a:lnTo>
                  <a:lnTo>
                    <a:pt x="423" y="235"/>
                  </a:lnTo>
                  <a:lnTo>
                    <a:pt x="496" y="171"/>
                  </a:lnTo>
                  <a:lnTo>
                    <a:pt x="523" y="126"/>
                  </a:lnTo>
                  <a:lnTo>
                    <a:pt x="526" y="74"/>
                  </a:lnTo>
                  <a:lnTo>
                    <a:pt x="511" y="38"/>
                  </a:lnTo>
                  <a:lnTo>
                    <a:pt x="556" y="0"/>
                  </a:lnTo>
                  <a:lnTo>
                    <a:pt x="654" y="1529"/>
                  </a:lnTo>
                  <a:lnTo>
                    <a:pt x="654" y="1544"/>
                  </a:lnTo>
                  <a:lnTo>
                    <a:pt x="61" y="1544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99040" y="4501440"/>
              <a:ext cx="272520" cy="466560"/>
            </a:xfrm>
            <a:custGeom>
              <a:avLst/>
              <a:gdLst/>
              <a:ahLst/>
              <a:rect l="l" t="t" r="r" b="b"/>
              <a:pathLst>
                <a:path w="927" h="1266">
                  <a:moveTo>
                    <a:pt x="810" y="342"/>
                  </a:moveTo>
                  <a:lnTo>
                    <a:pt x="770" y="395"/>
                  </a:lnTo>
                  <a:lnTo>
                    <a:pt x="710" y="427"/>
                  </a:lnTo>
                  <a:lnTo>
                    <a:pt x="710" y="462"/>
                  </a:lnTo>
                  <a:lnTo>
                    <a:pt x="710" y="647"/>
                  </a:lnTo>
                  <a:lnTo>
                    <a:pt x="433" y="1016"/>
                  </a:lnTo>
                  <a:lnTo>
                    <a:pt x="461" y="724"/>
                  </a:lnTo>
                  <a:lnTo>
                    <a:pt x="444" y="702"/>
                  </a:lnTo>
                  <a:lnTo>
                    <a:pt x="401" y="637"/>
                  </a:lnTo>
                  <a:lnTo>
                    <a:pt x="361" y="575"/>
                  </a:lnTo>
                  <a:lnTo>
                    <a:pt x="327" y="504"/>
                  </a:lnTo>
                  <a:lnTo>
                    <a:pt x="302" y="438"/>
                  </a:lnTo>
                  <a:lnTo>
                    <a:pt x="282" y="367"/>
                  </a:lnTo>
                  <a:lnTo>
                    <a:pt x="265" y="286"/>
                  </a:lnTo>
                  <a:lnTo>
                    <a:pt x="258" y="148"/>
                  </a:lnTo>
                  <a:lnTo>
                    <a:pt x="273" y="0"/>
                  </a:lnTo>
                  <a:lnTo>
                    <a:pt x="100" y="264"/>
                  </a:lnTo>
                  <a:lnTo>
                    <a:pt x="28" y="354"/>
                  </a:lnTo>
                  <a:lnTo>
                    <a:pt x="0" y="514"/>
                  </a:lnTo>
                  <a:lnTo>
                    <a:pt x="0" y="674"/>
                  </a:lnTo>
                  <a:lnTo>
                    <a:pt x="25" y="834"/>
                  </a:lnTo>
                  <a:lnTo>
                    <a:pt x="70" y="976"/>
                  </a:lnTo>
                  <a:lnTo>
                    <a:pt x="121" y="1050"/>
                  </a:lnTo>
                  <a:lnTo>
                    <a:pt x="194" y="1108"/>
                  </a:lnTo>
                  <a:lnTo>
                    <a:pt x="277" y="1144"/>
                  </a:lnTo>
                  <a:lnTo>
                    <a:pt x="370" y="1160"/>
                  </a:lnTo>
                  <a:lnTo>
                    <a:pt x="389" y="1160"/>
                  </a:lnTo>
                  <a:lnTo>
                    <a:pt x="426" y="1213"/>
                  </a:lnTo>
                  <a:lnTo>
                    <a:pt x="439" y="1224"/>
                  </a:lnTo>
                  <a:lnTo>
                    <a:pt x="452" y="1236"/>
                  </a:lnTo>
                  <a:lnTo>
                    <a:pt x="482" y="1249"/>
                  </a:lnTo>
                  <a:lnTo>
                    <a:pt x="511" y="1260"/>
                  </a:lnTo>
                  <a:lnTo>
                    <a:pt x="547" y="1266"/>
                  </a:lnTo>
                  <a:lnTo>
                    <a:pt x="584" y="1262"/>
                  </a:lnTo>
                  <a:lnTo>
                    <a:pt x="617" y="1257"/>
                  </a:lnTo>
                  <a:lnTo>
                    <a:pt x="646" y="1245"/>
                  </a:lnTo>
                  <a:lnTo>
                    <a:pt x="677" y="1225"/>
                  </a:lnTo>
                  <a:lnTo>
                    <a:pt x="698" y="1206"/>
                  </a:lnTo>
                  <a:lnTo>
                    <a:pt x="722" y="1175"/>
                  </a:lnTo>
                  <a:lnTo>
                    <a:pt x="781" y="1061"/>
                  </a:lnTo>
                  <a:lnTo>
                    <a:pt x="817" y="938"/>
                  </a:lnTo>
                  <a:lnTo>
                    <a:pt x="824" y="896"/>
                  </a:lnTo>
                  <a:lnTo>
                    <a:pt x="927" y="673"/>
                  </a:lnTo>
                  <a:lnTo>
                    <a:pt x="808" y="396"/>
                  </a:lnTo>
                  <a:lnTo>
                    <a:pt x="810" y="34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75000" y="4481280"/>
              <a:ext cx="133200" cy="394200"/>
            </a:xfrm>
            <a:custGeom>
              <a:avLst/>
              <a:gdLst/>
              <a:ahLst/>
              <a:rect l="l" t="t" r="r" b="b"/>
              <a:pathLst>
                <a:path w="452" h="1070">
                  <a:moveTo>
                    <a:pt x="452" y="516"/>
                  </a:moveTo>
                  <a:lnTo>
                    <a:pt x="425" y="543"/>
                  </a:lnTo>
                  <a:lnTo>
                    <a:pt x="401" y="556"/>
                  </a:lnTo>
                  <a:lnTo>
                    <a:pt x="388" y="558"/>
                  </a:lnTo>
                  <a:lnTo>
                    <a:pt x="369" y="566"/>
                  </a:lnTo>
                  <a:lnTo>
                    <a:pt x="341" y="568"/>
                  </a:lnTo>
                  <a:lnTo>
                    <a:pt x="309" y="566"/>
                  </a:lnTo>
                  <a:lnTo>
                    <a:pt x="282" y="556"/>
                  </a:lnTo>
                  <a:lnTo>
                    <a:pt x="257" y="543"/>
                  </a:lnTo>
                  <a:lnTo>
                    <a:pt x="231" y="524"/>
                  </a:lnTo>
                  <a:lnTo>
                    <a:pt x="218" y="505"/>
                  </a:lnTo>
                  <a:lnTo>
                    <a:pt x="213" y="503"/>
                  </a:lnTo>
                  <a:lnTo>
                    <a:pt x="189" y="470"/>
                  </a:lnTo>
                  <a:lnTo>
                    <a:pt x="158" y="418"/>
                  </a:lnTo>
                  <a:lnTo>
                    <a:pt x="128" y="352"/>
                  </a:lnTo>
                  <a:lnTo>
                    <a:pt x="103" y="284"/>
                  </a:lnTo>
                  <a:lnTo>
                    <a:pt x="86" y="220"/>
                  </a:lnTo>
                  <a:lnTo>
                    <a:pt x="68" y="144"/>
                  </a:lnTo>
                  <a:lnTo>
                    <a:pt x="59" y="0"/>
                  </a:lnTo>
                  <a:lnTo>
                    <a:pt x="15" y="54"/>
                  </a:lnTo>
                  <a:lnTo>
                    <a:pt x="0" y="202"/>
                  </a:lnTo>
                  <a:lnTo>
                    <a:pt x="7" y="340"/>
                  </a:lnTo>
                  <a:lnTo>
                    <a:pt x="24" y="421"/>
                  </a:lnTo>
                  <a:lnTo>
                    <a:pt x="44" y="492"/>
                  </a:lnTo>
                  <a:lnTo>
                    <a:pt x="69" y="558"/>
                  </a:lnTo>
                  <a:lnTo>
                    <a:pt x="103" y="629"/>
                  </a:lnTo>
                  <a:lnTo>
                    <a:pt x="143" y="691"/>
                  </a:lnTo>
                  <a:lnTo>
                    <a:pt x="186" y="756"/>
                  </a:lnTo>
                  <a:lnTo>
                    <a:pt x="203" y="778"/>
                  </a:lnTo>
                  <a:lnTo>
                    <a:pt x="175" y="1070"/>
                  </a:lnTo>
                  <a:lnTo>
                    <a:pt x="452" y="701"/>
                  </a:lnTo>
                  <a:lnTo>
                    <a:pt x="452" y="5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92640" y="4272840"/>
              <a:ext cx="285840" cy="418680"/>
            </a:xfrm>
            <a:custGeom>
              <a:avLst/>
              <a:gdLst/>
              <a:ahLst/>
              <a:rect l="l" t="t" r="r" b="b"/>
              <a:pathLst>
                <a:path w="975" h="1136">
                  <a:moveTo>
                    <a:pt x="519" y="914"/>
                  </a:moveTo>
                  <a:lnTo>
                    <a:pt x="627" y="883"/>
                  </a:lnTo>
                  <a:lnTo>
                    <a:pt x="723" y="831"/>
                  </a:lnTo>
                  <a:lnTo>
                    <a:pt x="796" y="767"/>
                  </a:lnTo>
                  <a:lnTo>
                    <a:pt x="823" y="722"/>
                  </a:lnTo>
                  <a:lnTo>
                    <a:pt x="826" y="670"/>
                  </a:lnTo>
                  <a:lnTo>
                    <a:pt x="811" y="634"/>
                  </a:lnTo>
                  <a:lnTo>
                    <a:pt x="856" y="596"/>
                  </a:lnTo>
                  <a:lnTo>
                    <a:pt x="886" y="565"/>
                  </a:lnTo>
                  <a:lnTo>
                    <a:pt x="908" y="532"/>
                  </a:lnTo>
                  <a:lnTo>
                    <a:pt x="912" y="517"/>
                  </a:lnTo>
                  <a:lnTo>
                    <a:pt x="915" y="496"/>
                  </a:lnTo>
                  <a:lnTo>
                    <a:pt x="915" y="478"/>
                  </a:lnTo>
                  <a:lnTo>
                    <a:pt x="912" y="458"/>
                  </a:lnTo>
                  <a:lnTo>
                    <a:pt x="931" y="443"/>
                  </a:lnTo>
                  <a:lnTo>
                    <a:pt x="946" y="416"/>
                  </a:lnTo>
                  <a:lnTo>
                    <a:pt x="958" y="394"/>
                  </a:lnTo>
                  <a:lnTo>
                    <a:pt x="963" y="361"/>
                  </a:lnTo>
                  <a:lnTo>
                    <a:pt x="962" y="343"/>
                  </a:lnTo>
                  <a:lnTo>
                    <a:pt x="954" y="332"/>
                  </a:lnTo>
                  <a:lnTo>
                    <a:pt x="918" y="307"/>
                  </a:lnTo>
                  <a:lnTo>
                    <a:pt x="935" y="297"/>
                  </a:lnTo>
                  <a:lnTo>
                    <a:pt x="951" y="283"/>
                  </a:lnTo>
                  <a:lnTo>
                    <a:pt x="967" y="268"/>
                  </a:lnTo>
                  <a:lnTo>
                    <a:pt x="975" y="246"/>
                  </a:lnTo>
                  <a:lnTo>
                    <a:pt x="975" y="222"/>
                  </a:lnTo>
                  <a:lnTo>
                    <a:pt x="971" y="202"/>
                  </a:lnTo>
                  <a:lnTo>
                    <a:pt x="967" y="187"/>
                  </a:lnTo>
                  <a:lnTo>
                    <a:pt x="954" y="174"/>
                  </a:lnTo>
                  <a:lnTo>
                    <a:pt x="920" y="150"/>
                  </a:lnTo>
                  <a:lnTo>
                    <a:pt x="899" y="136"/>
                  </a:lnTo>
                  <a:lnTo>
                    <a:pt x="811" y="108"/>
                  </a:lnTo>
                  <a:lnTo>
                    <a:pt x="593" y="108"/>
                  </a:lnTo>
                  <a:lnTo>
                    <a:pt x="464" y="27"/>
                  </a:lnTo>
                  <a:lnTo>
                    <a:pt x="429" y="10"/>
                  </a:lnTo>
                  <a:lnTo>
                    <a:pt x="388" y="4"/>
                  </a:lnTo>
                  <a:lnTo>
                    <a:pt x="349" y="0"/>
                  </a:lnTo>
                  <a:lnTo>
                    <a:pt x="310" y="6"/>
                  </a:lnTo>
                  <a:lnTo>
                    <a:pt x="273" y="12"/>
                  </a:lnTo>
                  <a:lnTo>
                    <a:pt x="236" y="28"/>
                  </a:lnTo>
                  <a:lnTo>
                    <a:pt x="200" y="48"/>
                  </a:lnTo>
                  <a:lnTo>
                    <a:pt x="174" y="72"/>
                  </a:lnTo>
                  <a:lnTo>
                    <a:pt x="149" y="102"/>
                  </a:lnTo>
                  <a:lnTo>
                    <a:pt x="138" y="117"/>
                  </a:lnTo>
                  <a:lnTo>
                    <a:pt x="130" y="136"/>
                  </a:lnTo>
                  <a:lnTo>
                    <a:pt x="0" y="568"/>
                  </a:lnTo>
                  <a:lnTo>
                    <a:pt x="9" y="712"/>
                  </a:lnTo>
                  <a:lnTo>
                    <a:pt x="27" y="788"/>
                  </a:lnTo>
                  <a:lnTo>
                    <a:pt x="44" y="852"/>
                  </a:lnTo>
                  <a:lnTo>
                    <a:pt x="69" y="920"/>
                  </a:lnTo>
                  <a:lnTo>
                    <a:pt x="99" y="986"/>
                  </a:lnTo>
                  <a:lnTo>
                    <a:pt x="130" y="1038"/>
                  </a:lnTo>
                  <a:lnTo>
                    <a:pt x="154" y="1071"/>
                  </a:lnTo>
                  <a:lnTo>
                    <a:pt x="159" y="1073"/>
                  </a:lnTo>
                  <a:lnTo>
                    <a:pt x="172" y="1092"/>
                  </a:lnTo>
                  <a:lnTo>
                    <a:pt x="198" y="1111"/>
                  </a:lnTo>
                  <a:lnTo>
                    <a:pt x="223" y="1124"/>
                  </a:lnTo>
                  <a:lnTo>
                    <a:pt x="250" y="1134"/>
                  </a:lnTo>
                  <a:lnTo>
                    <a:pt x="282" y="1136"/>
                  </a:lnTo>
                  <a:lnTo>
                    <a:pt x="310" y="1134"/>
                  </a:lnTo>
                  <a:lnTo>
                    <a:pt x="329" y="1126"/>
                  </a:lnTo>
                  <a:lnTo>
                    <a:pt x="342" y="1124"/>
                  </a:lnTo>
                  <a:lnTo>
                    <a:pt x="366" y="1111"/>
                  </a:lnTo>
                  <a:lnTo>
                    <a:pt x="393" y="1084"/>
                  </a:lnTo>
                  <a:lnTo>
                    <a:pt x="393" y="1049"/>
                  </a:lnTo>
                  <a:lnTo>
                    <a:pt x="453" y="1017"/>
                  </a:lnTo>
                  <a:lnTo>
                    <a:pt x="493" y="964"/>
                  </a:lnTo>
                  <a:lnTo>
                    <a:pt x="519" y="914"/>
                  </a:lnTo>
                  <a:close/>
                </a:path>
              </a:pathLst>
            </a:custGeom>
            <a:solidFill>
              <a:srgbClr val="ffbf7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7989120" y="4334400"/>
              <a:ext cx="360" cy="34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997400" y="4301640"/>
              <a:ext cx="24840" cy="1656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86" y="46"/>
                  </a:moveTo>
                  <a:lnTo>
                    <a:pt x="44" y="1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2600" y="4318200"/>
              <a:ext cx="30600" cy="3816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0" y="0"/>
                  </a:moveTo>
                  <a:lnTo>
                    <a:pt x="3" y="13"/>
                  </a:lnTo>
                  <a:lnTo>
                    <a:pt x="11" y="80"/>
                  </a:lnTo>
                  <a:lnTo>
                    <a:pt x="105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081280" y="4327920"/>
              <a:ext cx="97200" cy="57240"/>
            </a:xfrm>
            <a:custGeom>
              <a:avLst/>
              <a:gdLst/>
              <a:ahLst/>
              <a:rect l="l" t="t" r="r" b="b"/>
              <a:pathLst>
                <a:path w="333" h="157">
                  <a:moveTo>
                    <a:pt x="278" y="0"/>
                  </a:moveTo>
                  <a:lnTo>
                    <a:pt x="278" y="66"/>
                  </a:lnTo>
                  <a:lnTo>
                    <a:pt x="246" y="96"/>
                  </a:lnTo>
                  <a:lnTo>
                    <a:pt x="194" y="94"/>
                  </a:lnTo>
                  <a:lnTo>
                    <a:pt x="151" y="31"/>
                  </a:lnTo>
                  <a:lnTo>
                    <a:pt x="40" y="15"/>
                  </a:lnTo>
                  <a:lnTo>
                    <a:pt x="0" y="72"/>
                  </a:lnTo>
                  <a:lnTo>
                    <a:pt x="138" y="96"/>
                  </a:lnTo>
                  <a:lnTo>
                    <a:pt x="276" y="157"/>
                  </a:lnTo>
                  <a:lnTo>
                    <a:pt x="293" y="147"/>
                  </a:lnTo>
                  <a:lnTo>
                    <a:pt x="309" y="133"/>
                  </a:lnTo>
                  <a:lnTo>
                    <a:pt x="325" y="118"/>
                  </a:lnTo>
                  <a:lnTo>
                    <a:pt x="333" y="96"/>
                  </a:lnTo>
                  <a:lnTo>
                    <a:pt x="333" y="72"/>
                  </a:lnTo>
                  <a:lnTo>
                    <a:pt x="329" y="52"/>
                  </a:lnTo>
                  <a:lnTo>
                    <a:pt x="325" y="37"/>
                  </a:lnTo>
                  <a:lnTo>
                    <a:pt x="312" y="2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46640" y="4339080"/>
              <a:ext cx="216000" cy="96120"/>
            </a:xfrm>
            <a:custGeom>
              <a:avLst/>
              <a:gdLst/>
              <a:ahLst/>
              <a:rect l="l" t="t" r="r" b="b"/>
              <a:pathLst>
                <a:path w="735" h="262">
                  <a:moveTo>
                    <a:pt x="735" y="246"/>
                  </a:moveTo>
                  <a:lnTo>
                    <a:pt x="645" y="141"/>
                  </a:lnTo>
                  <a:lnTo>
                    <a:pt x="582" y="195"/>
                  </a:lnTo>
                  <a:lnTo>
                    <a:pt x="268" y="195"/>
                  </a:lnTo>
                  <a:lnTo>
                    <a:pt x="268" y="98"/>
                  </a:lnTo>
                  <a:lnTo>
                    <a:pt x="250" y="120"/>
                  </a:lnTo>
                  <a:lnTo>
                    <a:pt x="229" y="141"/>
                  </a:lnTo>
                  <a:lnTo>
                    <a:pt x="203" y="153"/>
                  </a:lnTo>
                  <a:lnTo>
                    <a:pt x="177" y="157"/>
                  </a:lnTo>
                  <a:lnTo>
                    <a:pt x="155" y="158"/>
                  </a:lnTo>
                  <a:lnTo>
                    <a:pt x="128" y="153"/>
                  </a:lnTo>
                  <a:lnTo>
                    <a:pt x="97" y="135"/>
                  </a:lnTo>
                  <a:lnTo>
                    <a:pt x="82" y="120"/>
                  </a:lnTo>
                  <a:lnTo>
                    <a:pt x="65" y="102"/>
                  </a:lnTo>
                  <a:lnTo>
                    <a:pt x="61" y="79"/>
                  </a:lnTo>
                  <a:lnTo>
                    <a:pt x="62" y="31"/>
                  </a:lnTo>
                  <a:lnTo>
                    <a:pt x="0" y="0"/>
                  </a:lnTo>
                  <a:lnTo>
                    <a:pt x="88" y="262"/>
                  </a:lnTo>
                  <a:lnTo>
                    <a:pt x="608" y="262"/>
                  </a:lnTo>
                  <a:lnTo>
                    <a:pt x="735" y="2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977600" y="4628160"/>
              <a:ext cx="59760" cy="35280"/>
            </a:xfrm>
            <a:custGeom>
              <a:avLst/>
              <a:gdLst/>
              <a:ahLst/>
              <a:rect l="l" t="t" r="r" b="b"/>
              <a:pathLst>
                <a:path w="203" h="96">
                  <a:moveTo>
                    <a:pt x="0" y="89"/>
                  </a:moveTo>
                  <a:lnTo>
                    <a:pt x="53" y="96"/>
                  </a:lnTo>
                  <a:lnTo>
                    <a:pt x="103" y="85"/>
                  </a:lnTo>
                  <a:lnTo>
                    <a:pt x="163" y="53"/>
                  </a:lnTo>
                  <a:lnTo>
                    <a:pt x="202" y="3"/>
                  </a:lnTo>
                  <a:lnTo>
                    <a:pt x="20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957080" y="4448880"/>
              <a:ext cx="204120" cy="163440"/>
            </a:xfrm>
            <a:custGeom>
              <a:avLst/>
              <a:gdLst/>
              <a:ahLst/>
              <a:rect l="l" t="t" r="r" b="b"/>
              <a:pathLst>
                <a:path w="694" h="445">
                  <a:moveTo>
                    <a:pt x="694" y="0"/>
                  </a:moveTo>
                  <a:lnTo>
                    <a:pt x="694" y="18"/>
                  </a:lnTo>
                  <a:lnTo>
                    <a:pt x="691" y="39"/>
                  </a:lnTo>
                  <a:lnTo>
                    <a:pt x="687" y="54"/>
                  </a:lnTo>
                  <a:lnTo>
                    <a:pt x="665" y="87"/>
                  </a:lnTo>
                  <a:lnTo>
                    <a:pt x="635" y="118"/>
                  </a:lnTo>
                  <a:lnTo>
                    <a:pt x="590" y="156"/>
                  </a:lnTo>
                  <a:lnTo>
                    <a:pt x="605" y="192"/>
                  </a:lnTo>
                  <a:lnTo>
                    <a:pt x="602" y="244"/>
                  </a:lnTo>
                  <a:lnTo>
                    <a:pt x="575" y="289"/>
                  </a:lnTo>
                  <a:lnTo>
                    <a:pt x="502" y="353"/>
                  </a:lnTo>
                  <a:lnTo>
                    <a:pt x="406" y="405"/>
                  </a:lnTo>
                  <a:lnTo>
                    <a:pt x="298" y="436"/>
                  </a:lnTo>
                  <a:lnTo>
                    <a:pt x="296" y="436"/>
                  </a:lnTo>
                  <a:lnTo>
                    <a:pt x="258" y="443"/>
                  </a:lnTo>
                  <a:lnTo>
                    <a:pt x="208" y="445"/>
                  </a:lnTo>
                  <a:lnTo>
                    <a:pt x="180" y="445"/>
                  </a:lnTo>
                  <a:lnTo>
                    <a:pt x="159" y="442"/>
                  </a:lnTo>
                  <a:lnTo>
                    <a:pt x="113" y="433"/>
                  </a:lnTo>
                  <a:lnTo>
                    <a:pt x="65" y="418"/>
                  </a:lnTo>
                  <a:lnTo>
                    <a:pt x="42" y="405"/>
                  </a:lnTo>
                  <a:lnTo>
                    <a:pt x="23" y="383"/>
                  </a:lnTo>
                  <a:lnTo>
                    <a:pt x="9" y="361"/>
                  </a:lnTo>
                  <a:lnTo>
                    <a:pt x="0" y="335"/>
                  </a:lnTo>
                  <a:lnTo>
                    <a:pt x="0" y="310"/>
                  </a:lnTo>
                  <a:lnTo>
                    <a:pt x="5" y="282"/>
                  </a:lnTo>
                  <a:lnTo>
                    <a:pt x="16" y="258"/>
                  </a:lnTo>
                  <a:lnTo>
                    <a:pt x="33" y="238"/>
                  </a:lnTo>
                  <a:lnTo>
                    <a:pt x="270" y="321"/>
                  </a:lnTo>
                  <a:lnTo>
                    <a:pt x="503" y="270"/>
                  </a:lnTo>
                  <a:lnTo>
                    <a:pt x="564" y="156"/>
                  </a:lnTo>
                  <a:lnTo>
                    <a:pt x="279" y="153"/>
                  </a:lnTo>
                  <a:lnTo>
                    <a:pt x="139" y="102"/>
                  </a:lnTo>
                  <a:lnTo>
                    <a:pt x="553" y="102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046000" y="3810960"/>
              <a:ext cx="391680" cy="443160"/>
            </a:xfrm>
            <a:custGeom>
              <a:avLst/>
              <a:gdLst/>
              <a:ahLst/>
              <a:rect l="l" t="t" r="r" b="b"/>
              <a:pathLst>
                <a:path w="1333" h="1200">
                  <a:moveTo>
                    <a:pt x="323" y="1200"/>
                  </a:moveTo>
                  <a:lnTo>
                    <a:pt x="895" y="1200"/>
                  </a:lnTo>
                  <a:lnTo>
                    <a:pt x="1112" y="1000"/>
                  </a:lnTo>
                  <a:lnTo>
                    <a:pt x="1112" y="896"/>
                  </a:lnTo>
                  <a:lnTo>
                    <a:pt x="1177" y="839"/>
                  </a:lnTo>
                  <a:lnTo>
                    <a:pt x="1220" y="767"/>
                  </a:lnTo>
                  <a:lnTo>
                    <a:pt x="1237" y="688"/>
                  </a:lnTo>
                  <a:lnTo>
                    <a:pt x="1230" y="607"/>
                  </a:lnTo>
                  <a:lnTo>
                    <a:pt x="1040" y="858"/>
                  </a:lnTo>
                  <a:lnTo>
                    <a:pt x="1066" y="790"/>
                  </a:lnTo>
                  <a:lnTo>
                    <a:pt x="1071" y="723"/>
                  </a:lnTo>
                  <a:lnTo>
                    <a:pt x="1046" y="655"/>
                  </a:lnTo>
                  <a:lnTo>
                    <a:pt x="1040" y="646"/>
                  </a:lnTo>
                  <a:lnTo>
                    <a:pt x="1126" y="601"/>
                  </a:lnTo>
                  <a:lnTo>
                    <a:pt x="1196" y="539"/>
                  </a:lnTo>
                  <a:lnTo>
                    <a:pt x="1246" y="460"/>
                  </a:lnTo>
                  <a:lnTo>
                    <a:pt x="1271" y="373"/>
                  </a:lnTo>
                  <a:lnTo>
                    <a:pt x="1273" y="304"/>
                  </a:lnTo>
                  <a:lnTo>
                    <a:pt x="1333" y="276"/>
                  </a:lnTo>
                  <a:lnTo>
                    <a:pt x="1303" y="51"/>
                  </a:lnTo>
                  <a:lnTo>
                    <a:pt x="1098" y="0"/>
                  </a:lnTo>
                  <a:lnTo>
                    <a:pt x="986" y="39"/>
                  </a:lnTo>
                  <a:lnTo>
                    <a:pt x="811" y="77"/>
                  </a:lnTo>
                  <a:lnTo>
                    <a:pt x="630" y="93"/>
                  </a:lnTo>
                  <a:lnTo>
                    <a:pt x="452" y="83"/>
                  </a:lnTo>
                  <a:lnTo>
                    <a:pt x="273" y="51"/>
                  </a:lnTo>
                  <a:lnTo>
                    <a:pt x="115" y="133"/>
                  </a:lnTo>
                  <a:lnTo>
                    <a:pt x="141" y="183"/>
                  </a:lnTo>
                  <a:lnTo>
                    <a:pt x="214" y="145"/>
                  </a:lnTo>
                  <a:lnTo>
                    <a:pt x="262" y="183"/>
                  </a:lnTo>
                  <a:lnTo>
                    <a:pt x="358" y="133"/>
                  </a:lnTo>
                  <a:lnTo>
                    <a:pt x="504" y="224"/>
                  </a:lnTo>
                  <a:lnTo>
                    <a:pt x="605" y="224"/>
                  </a:lnTo>
                  <a:lnTo>
                    <a:pt x="533" y="448"/>
                  </a:lnTo>
                  <a:lnTo>
                    <a:pt x="491" y="288"/>
                  </a:lnTo>
                  <a:lnTo>
                    <a:pt x="376" y="238"/>
                  </a:lnTo>
                  <a:lnTo>
                    <a:pt x="376" y="276"/>
                  </a:lnTo>
                  <a:lnTo>
                    <a:pt x="347" y="288"/>
                  </a:lnTo>
                  <a:lnTo>
                    <a:pt x="303" y="288"/>
                  </a:lnTo>
                  <a:lnTo>
                    <a:pt x="273" y="276"/>
                  </a:lnTo>
                  <a:lnTo>
                    <a:pt x="262" y="250"/>
                  </a:lnTo>
                  <a:lnTo>
                    <a:pt x="201" y="276"/>
                  </a:lnTo>
                  <a:lnTo>
                    <a:pt x="262" y="343"/>
                  </a:lnTo>
                  <a:lnTo>
                    <a:pt x="172" y="343"/>
                  </a:lnTo>
                  <a:lnTo>
                    <a:pt x="128" y="304"/>
                  </a:lnTo>
                  <a:lnTo>
                    <a:pt x="13" y="265"/>
                  </a:lnTo>
                  <a:lnTo>
                    <a:pt x="0" y="356"/>
                  </a:lnTo>
                  <a:lnTo>
                    <a:pt x="10" y="447"/>
                  </a:lnTo>
                  <a:lnTo>
                    <a:pt x="47" y="532"/>
                  </a:lnTo>
                  <a:lnTo>
                    <a:pt x="106" y="606"/>
                  </a:lnTo>
                  <a:lnTo>
                    <a:pt x="184" y="664"/>
                  </a:lnTo>
                  <a:lnTo>
                    <a:pt x="201" y="674"/>
                  </a:lnTo>
                  <a:lnTo>
                    <a:pt x="172" y="742"/>
                  </a:lnTo>
                  <a:lnTo>
                    <a:pt x="168" y="769"/>
                  </a:lnTo>
                  <a:lnTo>
                    <a:pt x="166" y="817"/>
                  </a:lnTo>
                  <a:lnTo>
                    <a:pt x="189" y="889"/>
                  </a:lnTo>
                  <a:lnTo>
                    <a:pt x="232" y="949"/>
                  </a:lnTo>
                  <a:lnTo>
                    <a:pt x="141" y="1000"/>
                  </a:lnTo>
                  <a:lnTo>
                    <a:pt x="159" y="1000"/>
                  </a:lnTo>
                  <a:lnTo>
                    <a:pt x="316" y="1173"/>
                  </a:lnTo>
                  <a:lnTo>
                    <a:pt x="323" y="1200"/>
                  </a:lnTo>
                  <a:close/>
                </a:path>
              </a:pathLst>
            </a:custGeom>
            <a:solidFill>
              <a:srgbClr val="ffbf7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8123040" y="3937320"/>
              <a:ext cx="316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097120" y="3938040"/>
              <a:ext cx="41040" cy="3384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55" y="62"/>
                  </a:lnTo>
                  <a:lnTo>
                    <a:pt x="141" y="9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45800" y="3855240"/>
              <a:ext cx="153360" cy="111240"/>
            </a:xfrm>
            <a:custGeom>
              <a:avLst/>
              <a:gdLst/>
              <a:ahLst/>
              <a:rect l="l" t="t" r="r" b="b"/>
              <a:pathLst>
                <a:path w="524" h="304">
                  <a:moveTo>
                    <a:pt x="60" y="304"/>
                  </a:moveTo>
                  <a:lnTo>
                    <a:pt x="0" y="93"/>
                  </a:lnTo>
                  <a:lnTo>
                    <a:pt x="318" y="65"/>
                  </a:lnTo>
                  <a:lnTo>
                    <a:pt x="349" y="0"/>
                  </a:lnTo>
                  <a:lnTo>
                    <a:pt x="408" y="65"/>
                  </a:lnTo>
                  <a:lnTo>
                    <a:pt x="452" y="15"/>
                  </a:lnTo>
                  <a:lnTo>
                    <a:pt x="524" y="93"/>
                  </a:lnTo>
                  <a:lnTo>
                    <a:pt x="452" y="210"/>
                  </a:lnTo>
                  <a:lnTo>
                    <a:pt x="434" y="186"/>
                  </a:lnTo>
                  <a:lnTo>
                    <a:pt x="408" y="186"/>
                  </a:lnTo>
                  <a:lnTo>
                    <a:pt x="289" y="210"/>
                  </a:lnTo>
                  <a:lnTo>
                    <a:pt x="408" y="186"/>
                  </a:lnTo>
                  <a:lnTo>
                    <a:pt x="408" y="147"/>
                  </a:lnTo>
                  <a:lnTo>
                    <a:pt x="309" y="120"/>
                  </a:lnTo>
                  <a:lnTo>
                    <a:pt x="300" y="156"/>
                  </a:lnTo>
                  <a:lnTo>
                    <a:pt x="270" y="174"/>
                  </a:lnTo>
                  <a:lnTo>
                    <a:pt x="230" y="174"/>
                  </a:lnTo>
                  <a:lnTo>
                    <a:pt x="208" y="156"/>
                  </a:lnTo>
                  <a:lnTo>
                    <a:pt x="194" y="132"/>
                  </a:lnTo>
                  <a:lnTo>
                    <a:pt x="133" y="198"/>
                  </a:lnTo>
                  <a:lnTo>
                    <a:pt x="89" y="186"/>
                  </a:lnTo>
                  <a:lnTo>
                    <a:pt x="66" y="275"/>
                  </a:lnTo>
                  <a:lnTo>
                    <a:pt x="60" y="3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208360" y="4000680"/>
              <a:ext cx="7560" cy="2916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26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26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208360" y="4200480"/>
              <a:ext cx="50760" cy="24120"/>
            </a:xfrm>
            <a:custGeom>
              <a:avLst/>
              <a:gdLst/>
              <a:ahLst/>
              <a:rect l="l" t="t" r="r" b="b"/>
              <a:pathLst>
                <a:path w="173" h="67">
                  <a:moveTo>
                    <a:pt x="0" y="0"/>
                  </a:moveTo>
                  <a:lnTo>
                    <a:pt x="54" y="67"/>
                  </a:lnTo>
                  <a:lnTo>
                    <a:pt x="157" y="67"/>
                  </a:lnTo>
                  <a:lnTo>
                    <a:pt x="1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296920" y="4151880"/>
              <a:ext cx="25560" cy="2052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0" y="0"/>
                  </a:moveTo>
                  <a:lnTo>
                    <a:pt x="88" y="0"/>
                  </a:lnTo>
                  <a:lnTo>
                    <a:pt x="88" y="55"/>
                  </a:lnTo>
                  <a:lnTo>
                    <a:pt x="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156520" y="4151880"/>
              <a:ext cx="114840" cy="20520"/>
            </a:xfrm>
            <a:custGeom>
              <a:avLst/>
              <a:gdLst/>
              <a:ahLst/>
              <a:rect l="l" t="t" r="r" b="b"/>
              <a:pathLst>
                <a:path w="391" h="55">
                  <a:moveTo>
                    <a:pt x="391" y="0"/>
                  </a:moveTo>
                  <a:lnTo>
                    <a:pt x="348" y="0"/>
                  </a:lnTo>
                  <a:lnTo>
                    <a:pt x="175" y="0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87" y="39"/>
                  </a:lnTo>
                  <a:lnTo>
                    <a:pt x="260" y="55"/>
                  </a:lnTo>
                  <a:lnTo>
                    <a:pt x="318" y="39"/>
                  </a:lnTo>
                  <a:lnTo>
                    <a:pt x="348" y="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178120" y="4064040"/>
              <a:ext cx="118440" cy="49320"/>
            </a:xfrm>
            <a:custGeom>
              <a:avLst/>
              <a:gdLst/>
              <a:ahLst/>
              <a:rect l="l" t="t" r="r" b="b"/>
              <a:pathLst>
                <a:path w="405" h="132">
                  <a:moveTo>
                    <a:pt x="43" y="65"/>
                  </a:moveTo>
                  <a:lnTo>
                    <a:pt x="81" y="58"/>
                  </a:lnTo>
                  <a:lnTo>
                    <a:pt x="119" y="68"/>
                  </a:lnTo>
                  <a:lnTo>
                    <a:pt x="148" y="95"/>
                  </a:lnTo>
                  <a:lnTo>
                    <a:pt x="157" y="132"/>
                  </a:lnTo>
                  <a:lnTo>
                    <a:pt x="260" y="132"/>
                  </a:lnTo>
                  <a:lnTo>
                    <a:pt x="300" y="70"/>
                  </a:lnTo>
                  <a:lnTo>
                    <a:pt x="405" y="0"/>
                  </a:lnTo>
                  <a:lnTo>
                    <a:pt x="334" y="0"/>
                  </a:lnTo>
                  <a:lnTo>
                    <a:pt x="274" y="31"/>
                  </a:lnTo>
                  <a:lnTo>
                    <a:pt x="246" y="65"/>
                  </a:lnTo>
                  <a:lnTo>
                    <a:pt x="217" y="65"/>
                  </a:lnTo>
                  <a:lnTo>
                    <a:pt x="109" y="5"/>
                  </a:lnTo>
                  <a:lnTo>
                    <a:pt x="0" y="0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05120" y="843120"/>
            <a:ext cx="5333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ome Tax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7200" y="1600200"/>
            <a:ext cx="8229600" cy="491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Identify types and amounts of temporary differences and the nature and amount of each type of operating loss and tax credit carry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Measure total deferred tax liability for taxable temporary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Compute total deferred tax asset for deductible temporary differences and operating loss carryfor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Measure deferred tax assets for each type of tax credit carry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Reduce deferred tax assets by a valuation allow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38080" y="762120"/>
            <a:ext cx="7467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Permanent Income Tax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57200" y="1371600"/>
            <a:ext cx="8229600" cy="520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Permanent differences result from tax regulations 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Items are nontax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Deductions are not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Special deductions are gra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Effective tax rate can vary from statutory rate du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Basis of property differs for financial and tax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Nonqualified and qualified stock option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Special tax privile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Lower corporate income tax rate up to a certai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ax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Different tax rates on foreign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ax expense includes both state and local income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ax loss carryforward benef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838080" y="762120"/>
            <a:ext cx="7467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Temporary Income Tax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7200" y="4038480"/>
            <a:ext cx="8229600" cy="240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or gain recognized in financial reporting but deferred for tax purpo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s deducted for tax purposes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exceed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these expenses for financial repor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or gain recognized or tax but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deferred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for financial repor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66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s deducted for financial reporting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exceed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these expenses for tax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422360" y="2262240"/>
            <a:ext cx="857160" cy="830160"/>
          </a:xfrm>
          <a:custGeom>
            <a:avLst/>
            <a:gdLst/>
            <a:ahLst/>
            <a:rect l="l" t="t" r="r" b="b"/>
            <a:pathLst>
              <a:path w="540" h="523">
                <a:moveTo>
                  <a:pt x="0" y="0"/>
                </a:moveTo>
                <a:lnTo>
                  <a:pt x="0" y="195"/>
                </a:lnTo>
                <a:lnTo>
                  <a:pt x="19" y="214"/>
                </a:lnTo>
                <a:lnTo>
                  <a:pt x="41" y="390"/>
                </a:lnTo>
                <a:lnTo>
                  <a:pt x="180" y="523"/>
                </a:lnTo>
                <a:lnTo>
                  <a:pt x="356" y="523"/>
                </a:lnTo>
                <a:lnTo>
                  <a:pt x="498" y="395"/>
                </a:lnTo>
                <a:lnTo>
                  <a:pt x="521" y="210"/>
                </a:lnTo>
                <a:lnTo>
                  <a:pt x="540" y="198"/>
                </a:lnTo>
                <a:lnTo>
                  <a:pt x="5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98e"/>
          </a:solidFill>
          <a:ln w="1440">
            <a:solidFill>
              <a:srgbClr val="ffc9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314360" y="2259000"/>
            <a:ext cx="111240" cy="330120"/>
          </a:xfrm>
          <a:custGeom>
            <a:avLst/>
            <a:gdLst/>
            <a:ahLst/>
            <a:rect l="l" t="t" r="r" b="b"/>
            <a:pathLst>
              <a:path w="70" h="208">
                <a:moveTo>
                  <a:pt x="39" y="0"/>
                </a:moveTo>
                <a:lnTo>
                  <a:pt x="0" y="92"/>
                </a:lnTo>
                <a:lnTo>
                  <a:pt x="28" y="146"/>
                </a:lnTo>
                <a:lnTo>
                  <a:pt x="28" y="185"/>
                </a:lnTo>
                <a:lnTo>
                  <a:pt x="70" y="208"/>
                </a:lnTo>
                <a:lnTo>
                  <a:pt x="70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274840" y="2259000"/>
            <a:ext cx="111240" cy="330120"/>
          </a:xfrm>
          <a:custGeom>
            <a:avLst/>
            <a:gdLst/>
            <a:ahLst/>
            <a:rect l="l" t="t" r="r" b="b"/>
            <a:pathLst>
              <a:path w="70" h="208">
                <a:moveTo>
                  <a:pt x="31" y="0"/>
                </a:moveTo>
                <a:lnTo>
                  <a:pt x="70" y="92"/>
                </a:lnTo>
                <a:lnTo>
                  <a:pt x="41" y="146"/>
                </a:lnTo>
                <a:lnTo>
                  <a:pt x="41" y="185"/>
                </a:lnTo>
                <a:lnTo>
                  <a:pt x="0" y="208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692360" y="2895480"/>
            <a:ext cx="312480" cy="336600"/>
          </a:xfrm>
          <a:custGeom>
            <a:avLst/>
            <a:gdLst/>
            <a:ahLst/>
            <a:rect l="l" t="t" r="r" b="b"/>
            <a:pathLst>
              <a:path w="197" h="212">
                <a:moveTo>
                  <a:pt x="80" y="0"/>
                </a:moveTo>
                <a:lnTo>
                  <a:pt x="13" y="63"/>
                </a:lnTo>
                <a:lnTo>
                  <a:pt x="0" y="191"/>
                </a:lnTo>
                <a:lnTo>
                  <a:pt x="101" y="212"/>
                </a:lnTo>
                <a:lnTo>
                  <a:pt x="197" y="189"/>
                </a:lnTo>
                <a:lnTo>
                  <a:pt x="186" y="63"/>
                </a:lnTo>
                <a:lnTo>
                  <a:pt x="123" y="0"/>
                </a:ln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409760" y="2260440"/>
            <a:ext cx="420480" cy="839880"/>
          </a:xfrm>
          <a:custGeom>
            <a:avLst/>
            <a:gdLst/>
            <a:ahLst/>
            <a:rect l="l" t="t" r="r" b="b"/>
            <a:pathLst>
              <a:path w="265" h="529">
                <a:moveTo>
                  <a:pt x="37" y="0"/>
                </a:moveTo>
                <a:lnTo>
                  <a:pt x="79" y="57"/>
                </a:lnTo>
                <a:lnTo>
                  <a:pt x="145" y="57"/>
                </a:lnTo>
                <a:lnTo>
                  <a:pt x="203" y="81"/>
                </a:lnTo>
                <a:lnTo>
                  <a:pt x="237" y="81"/>
                </a:lnTo>
                <a:lnTo>
                  <a:pt x="265" y="71"/>
                </a:lnTo>
                <a:lnTo>
                  <a:pt x="219" y="112"/>
                </a:lnTo>
                <a:lnTo>
                  <a:pt x="187" y="90"/>
                </a:lnTo>
                <a:lnTo>
                  <a:pt x="122" y="90"/>
                </a:lnTo>
                <a:lnTo>
                  <a:pt x="90" y="101"/>
                </a:lnTo>
                <a:lnTo>
                  <a:pt x="106" y="114"/>
                </a:lnTo>
                <a:lnTo>
                  <a:pt x="74" y="109"/>
                </a:lnTo>
                <a:lnTo>
                  <a:pt x="40" y="84"/>
                </a:lnTo>
                <a:lnTo>
                  <a:pt x="40" y="76"/>
                </a:lnTo>
                <a:lnTo>
                  <a:pt x="12" y="34"/>
                </a:lnTo>
                <a:lnTo>
                  <a:pt x="12" y="137"/>
                </a:lnTo>
                <a:lnTo>
                  <a:pt x="106" y="244"/>
                </a:lnTo>
                <a:lnTo>
                  <a:pt x="118" y="397"/>
                </a:lnTo>
                <a:lnTo>
                  <a:pt x="98" y="246"/>
                </a:lnTo>
                <a:lnTo>
                  <a:pt x="35" y="219"/>
                </a:lnTo>
                <a:lnTo>
                  <a:pt x="54" y="392"/>
                </a:lnTo>
                <a:lnTo>
                  <a:pt x="187" y="520"/>
                </a:lnTo>
                <a:lnTo>
                  <a:pt x="187" y="529"/>
                </a:lnTo>
                <a:lnTo>
                  <a:pt x="42" y="395"/>
                </a:lnTo>
                <a:lnTo>
                  <a:pt x="20" y="215"/>
                </a:lnTo>
                <a:lnTo>
                  <a:pt x="0" y="194"/>
                </a:lnTo>
                <a:lnTo>
                  <a:pt x="3" y="139"/>
                </a:lnTo>
                <a:lnTo>
                  <a:pt x="3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871640" y="2260440"/>
            <a:ext cx="420840" cy="839880"/>
          </a:xfrm>
          <a:custGeom>
            <a:avLst/>
            <a:gdLst/>
            <a:ahLst/>
            <a:rect l="l" t="t" r="r" b="b"/>
            <a:pathLst>
              <a:path w="265" h="529">
                <a:moveTo>
                  <a:pt x="228" y="0"/>
                </a:moveTo>
                <a:lnTo>
                  <a:pt x="187" y="57"/>
                </a:lnTo>
                <a:lnTo>
                  <a:pt x="120" y="57"/>
                </a:lnTo>
                <a:lnTo>
                  <a:pt x="62" y="81"/>
                </a:lnTo>
                <a:lnTo>
                  <a:pt x="28" y="81"/>
                </a:lnTo>
                <a:lnTo>
                  <a:pt x="0" y="71"/>
                </a:lnTo>
                <a:lnTo>
                  <a:pt x="46" y="112"/>
                </a:lnTo>
                <a:lnTo>
                  <a:pt x="78" y="90"/>
                </a:lnTo>
                <a:lnTo>
                  <a:pt x="142" y="90"/>
                </a:lnTo>
                <a:lnTo>
                  <a:pt x="175" y="101"/>
                </a:lnTo>
                <a:lnTo>
                  <a:pt x="159" y="114"/>
                </a:lnTo>
                <a:lnTo>
                  <a:pt x="191" y="109"/>
                </a:lnTo>
                <a:lnTo>
                  <a:pt x="226" y="84"/>
                </a:lnTo>
                <a:lnTo>
                  <a:pt x="226" y="76"/>
                </a:lnTo>
                <a:lnTo>
                  <a:pt x="253" y="34"/>
                </a:lnTo>
                <a:lnTo>
                  <a:pt x="253" y="137"/>
                </a:lnTo>
                <a:lnTo>
                  <a:pt x="159" y="244"/>
                </a:lnTo>
                <a:lnTo>
                  <a:pt x="148" y="397"/>
                </a:lnTo>
                <a:lnTo>
                  <a:pt x="168" y="246"/>
                </a:lnTo>
                <a:lnTo>
                  <a:pt x="230" y="219"/>
                </a:lnTo>
                <a:lnTo>
                  <a:pt x="212" y="392"/>
                </a:lnTo>
                <a:lnTo>
                  <a:pt x="78" y="520"/>
                </a:lnTo>
                <a:lnTo>
                  <a:pt x="78" y="529"/>
                </a:lnTo>
                <a:lnTo>
                  <a:pt x="223" y="395"/>
                </a:lnTo>
                <a:lnTo>
                  <a:pt x="244" y="215"/>
                </a:lnTo>
                <a:lnTo>
                  <a:pt x="265" y="194"/>
                </a:lnTo>
                <a:lnTo>
                  <a:pt x="262" y="139"/>
                </a:lnTo>
                <a:lnTo>
                  <a:pt x="262" y="0"/>
                </a:lnTo>
                <a:lnTo>
                  <a:pt x="2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650960" y="2774880"/>
            <a:ext cx="77760" cy="69840"/>
          </a:xfrm>
          <a:custGeom>
            <a:avLst/>
            <a:gdLst/>
            <a:ahLst/>
            <a:rect l="l" t="t" r="r" b="b"/>
            <a:pathLst>
              <a:path w="49" h="44">
                <a:moveTo>
                  <a:pt x="12" y="44"/>
                </a:moveTo>
                <a:lnTo>
                  <a:pt x="0" y="32"/>
                </a:lnTo>
                <a:lnTo>
                  <a:pt x="22" y="0"/>
                </a:lnTo>
                <a:lnTo>
                  <a:pt x="49" y="18"/>
                </a:lnTo>
                <a:lnTo>
                  <a:pt x="12" y="4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73160" y="2774880"/>
            <a:ext cx="7632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37" y="44"/>
                </a:moveTo>
                <a:lnTo>
                  <a:pt x="48" y="32"/>
                </a:lnTo>
                <a:lnTo>
                  <a:pt x="27" y="0"/>
                </a:lnTo>
                <a:lnTo>
                  <a:pt x="0" y="18"/>
                </a:lnTo>
                <a:lnTo>
                  <a:pt x="37" y="4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728720" y="2803680"/>
            <a:ext cx="2444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738440" y="2868480"/>
            <a:ext cx="223560" cy="57240"/>
          </a:xfrm>
          <a:custGeom>
            <a:avLst/>
            <a:gdLst/>
            <a:ahLst/>
            <a:rect l="l" t="t" r="r" b="b"/>
            <a:pathLst>
              <a:path w="141" h="36">
                <a:moveTo>
                  <a:pt x="0" y="18"/>
                </a:moveTo>
                <a:lnTo>
                  <a:pt x="30" y="0"/>
                </a:lnTo>
                <a:lnTo>
                  <a:pt x="108" y="0"/>
                </a:lnTo>
                <a:lnTo>
                  <a:pt x="141" y="18"/>
                </a:lnTo>
                <a:lnTo>
                  <a:pt x="122" y="36"/>
                </a:lnTo>
                <a:lnTo>
                  <a:pt x="91" y="17"/>
                </a:lnTo>
                <a:lnTo>
                  <a:pt x="51" y="17"/>
                </a:lnTo>
                <a:lnTo>
                  <a:pt x="24" y="35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746360" y="2678040"/>
            <a:ext cx="196920" cy="61920"/>
          </a:xfrm>
          <a:custGeom>
            <a:avLst/>
            <a:gdLst/>
            <a:ahLst/>
            <a:rect l="l" t="t" r="r" b="b"/>
            <a:pathLst>
              <a:path w="124" h="39">
                <a:moveTo>
                  <a:pt x="0" y="0"/>
                </a:moveTo>
                <a:lnTo>
                  <a:pt x="21" y="0"/>
                </a:lnTo>
                <a:lnTo>
                  <a:pt x="48" y="20"/>
                </a:lnTo>
                <a:lnTo>
                  <a:pt x="76" y="20"/>
                </a:lnTo>
                <a:lnTo>
                  <a:pt x="102" y="0"/>
                </a:lnTo>
                <a:lnTo>
                  <a:pt x="124" y="0"/>
                </a:lnTo>
                <a:lnTo>
                  <a:pt x="124" y="10"/>
                </a:lnTo>
                <a:lnTo>
                  <a:pt x="86" y="39"/>
                </a:lnTo>
                <a:lnTo>
                  <a:pt x="44" y="39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687680" y="2895480"/>
            <a:ext cx="16488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77" y="0"/>
                </a:moveTo>
                <a:lnTo>
                  <a:pt x="12" y="63"/>
                </a:lnTo>
                <a:lnTo>
                  <a:pt x="0" y="193"/>
                </a:lnTo>
                <a:lnTo>
                  <a:pt x="104" y="214"/>
                </a:lnTo>
                <a:lnTo>
                  <a:pt x="7" y="188"/>
                </a:lnTo>
                <a:lnTo>
                  <a:pt x="19" y="63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844640" y="2895480"/>
            <a:ext cx="16524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28" y="0"/>
                </a:moveTo>
                <a:lnTo>
                  <a:pt x="92" y="63"/>
                </a:lnTo>
                <a:lnTo>
                  <a:pt x="104" y="193"/>
                </a:lnTo>
                <a:lnTo>
                  <a:pt x="0" y="214"/>
                </a:lnTo>
                <a:lnTo>
                  <a:pt x="97" y="188"/>
                </a:lnTo>
                <a:lnTo>
                  <a:pt x="86" y="63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771560" y="3054240"/>
            <a:ext cx="17640" cy="162000"/>
          </a:xfrm>
          <a:custGeom>
            <a:avLst/>
            <a:gdLst/>
            <a:ahLst/>
            <a:rect l="l" t="t" r="r" b="b"/>
            <a:pathLst>
              <a:path w="11" h="102">
                <a:moveTo>
                  <a:pt x="0" y="100"/>
                </a:moveTo>
                <a:lnTo>
                  <a:pt x="11" y="0"/>
                </a:lnTo>
                <a:lnTo>
                  <a:pt x="5" y="102"/>
                </a:lnTo>
                <a:lnTo>
                  <a:pt x="0" y="10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898640" y="3054240"/>
            <a:ext cx="19080" cy="162000"/>
          </a:xfrm>
          <a:custGeom>
            <a:avLst/>
            <a:gdLst/>
            <a:ahLst/>
            <a:rect l="l" t="t" r="r" b="b"/>
            <a:pathLst>
              <a:path w="12" h="102">
                <a:moveTo>
                  <a:pt x="12" y="100"/>
                </a:moveTo>
                <a:lnTo>
                  <a:pt x="0" y="0"/>
                </a:lnTo>
                <a:lnTo>
                  <a:pt x="7" y="102"/>
                </a:lnTo>
                <a:lnTo>
                  <a:pt x="12" y="10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301760" y="2257560"/>
            <a:ext cx="149040" cy="344520"/>
          </a:xfrm>
          <a:custGeom>
            <a:avLst/>
            <a:gdLst/>
            <a:ahLst/>
            <a:rect l="l" t="t" r="r" b="b"/>
            <a:pathLst>
              <a:path w="94" h="217">
                <a:moveTo>
                  <a:pt x="41" y="0"/>
                </a:moveTo>
                <a:lnTo>
                  <a:pt x="0" y="93"/>
                </a:lnTo>
                <a:lnTo>
                  <a:pt x="32" y="146"/>
                </a:lnTo>
                <a:lnTo>
                  <a:pt x="32" y="189"/>
                </a:lnTo>
                <a:lnTo>
                  <a:pt x="94" y="217"/>
                </a:lnTo>
                <a:lnTo>
                  <a:pt x="41" y="182"/>
                </a:lnTo>
                <a:lnTo>
                  <a:pt x="41" y="144"/>
                </a:lnTo>
                <a:lnTo>
                  <a:pt x="10" y="93"/>
                </a:lnTo>
                <a:lnTo>
                  <a:pt x="52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251080" y="2257560"/>
            <a:ext cx="149400" cy="344520"/>
          </a:xfrm>
          <a:custGeom>
            <a:avLst/>
            <a:gdLst/>
            <a:ahLst/>
            <a:rect l="l" t="t" r="r" b="b"/>
            <a:pathLst>
              <a:path w="94" h="217">
                <a:moveTo>
                  <a:pt x="53" y="0"/>
                </a:moveTo>
                <a:lnTo>
                  <a:pt x="94" y="93"/>
                </a:lnTo>
                <a:lnTo>
                  <a:pt x="62" y="146"/>
                </a:lnTo>
                <a:lnTo>
                  <a:pt x="62" y="189"/>
                </a:lnTo>
                <a:lnTo>
                  <a:pt x="0" y="217"/>
                </a:lnTo>
                <a:lnTo>
                  <a:pt x="53" y="182"/>
                </a:lnTo>
                <a:lnTo>
                  <a:pt x="53" y="144"/>
                </a:lnTo>
                <a:lnTo>
                  <a:pt x="83" y="93"/>
                </a:lnTo>
                <a:lnTo>
                  <a:pt x="42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181160" y="2178000"/>
            <a:ext cx="1342800" cy="96840"/>
          </a:xfrm>
          <a:custGeom>
            <a:avLst/>
            <a:gdLst/>
            <a:ahLst/>
            <a:rect l="l" t="t" r="r" b="b"/>
            <a:pathLst>
              <a:path w="846" h="61">
                <a:moveTo>
                  <a:pt x="585" y="32"/>
                </a:moveTo>
                <a:lnTo>
                  <a:pt x="671" y="32"/>
                </a:lnTo>
                <a:lnTo>
                  <a:pt x="726" y="27"/>
                </a:lnTo>
                <a:lnTo>
                  <a:pt x="786" y="15"/>
                </a:lnTo>
                <a:lnTo>
                  <a:pt x="828" y="0"/>
                </a:lnTo>
                <a:lnTo>
                  <a:pt x="846" y="23"/>
                </a:lnTo>
                <a:lnTo>
                  <a:pt x="802" y="41"/>
                </a:lnTo>
                <a:lnTo>
                  <a:pt x="745" y="54"/>
                </a:lnTo>
                <a:lnTo>
                  <a:pt x="687" y="61"/>
                </a:lnTo>
                <a:lnTo>
                  <a:pt x="556" y="61"/>
                </a:lnTo>
                <a:lnTo>
                  <a:pt x="289" y="61"/>
                </a:lnTo>
                <a:lnTo>
                  <a:pt x="158" y="61"/>
                </a:lnTo>
                <a:lnTo>
                  <a:pt x="101" y="54"/>
                </a:lnTo>
                <a:lnTo>
                  <a:pt x="43" y="41"/>
                </a:lnTo>
                <a:lnTo>
                  <a:pt x="0" y="23"/>
                </a:lnTo>
                <a:lnTo>
                  <a:pt x="18" y="0"/>
                </a:lnTo>
                <a:lnTo>
                  <a:pt x="60" y="15"/>
                </a:lnTo>
                <a:lnTo>
                  <a:pt x="119" y="27"/>
                </a:lnTo>
                <a:lnTo>
                  <a:pt x="174" y="32"/>
                </a:lnTo>
                <a:lnTo>
                  <a:pt x="260" y="32"/>
                </a:lnTo>
                <a:lnTo>
                  <a:pt x="585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11120" y="1555920"/>
            <a:ext cx="1078200" cy="669600"/>
          </a:xfrm>
          <a:custGeom>
            <a:avLst/>
            <a:gdLst/>
            <a:ahLst/>
            <a:rect l="l" t="t" r="r" b="b"/>
            <a:pathLst>
              <a:path w="679" h="422">
                <a:moveTo>
                  <a:pt x="679" y="0"/>
                </a:moveTo>
                <a:lnTo>
                  <a:pt x="615" y="422"/>
                </a:lnTo>
                <a:lnTo>
                  <a:pt x="65" y="422"/>
                </a:lnTo>
                <a:lnTo>
                  <a:pt x="0" y="0"/>
                </a:lnTo>
                <a:lnTo>
                  <a:pt x="679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738440" y="1555920"/>
            <a:ext cx="201600" cy="311040"/>
          </a:xfrm>
          <a:custGeom>
            <a:avLst/>
            <a:gdLst/>
            <a:ahLst/>
            <a:rect l="l" t="t" r="r" b="b"/>
            <a:pathLst>
              <a:path w="127" h="196">
                <a:moveTo>
                  <a:pt x="127" y="0"/>
                </a:moveTo>
                <a:lnTo>
                  <a:pt x="113" y="196"/>
                </a:lnTo>
                <a:lnTo>
                  <a:pt x="14" y="196"/>
                </a:lnTo>
                <a:lnTo>
                  <a:pt x="0" y="0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380960" y="1555920"/>
            <a:ext cx="222480" cy="311040"/>
          </a:xfrm>
          <a:custGeom>
            <a:avLst/>
            <a:gdLst/>
            <a:ahLst/>
            <a:rect l="l" t="t" r="r" b="b"/>
            <a:pathLst>
              <a:path w="140" h="196">
                <a:moveTo>
                  <a:pt x="140" y="196"/>
                </a:moveTo>
                <a:lnTo>
                  <a:pt x="108" y="0"/>
                </a:lnTo>
                <a:lnTo>
                  <a:pt x="0" y="0"/>
                </a:lnTo>
                <a:lnTo>
                  <a:pt x="30" y="196"/>
                </a:lnTo>
                <a:lnTo>
                  <a:pt x="140" y="1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093760" y="1555920"/>
            <a:ext cx="222480" cy="311040"/>
          </a:xfrm>
          <a:custGeom>
            <a:avLst/>
            <a:gdLst/>
            <a:ahLst/>
            <a:rect l="l" t="t" r="r" b="b"/>
            <a:pathLst>
              <a:path w="140" h="196">
                <a:moveTo>
                  <a:pt x="0" y="196"/>
                </a:moveTo>
                <a:lnTo>
                  <a:pt x="32" y="0"/>
                </a:lnTo>
                <a:lnTo>
                  <a:pt x="140" y="0"/>
                </a:lnTo>
                <a:lnTo>
                  <a:pt x="110" y="196"/>
                </a:lnTo>
                <a:lnTo>
                  <a:pt x="0" y="1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359000" y="1866960"/>
            <a:ext cx="981000" cy="358560"/>
          </a:xfrm>
          <a:custGeom>
            <a:avLst/>
            <a:gdLst/>
            <a:ahLst/>
            <a:rect l="l" t="t" r="r" b="b"/>
            <a:pathLst>
              <a:path w="618" h="226">
                <a:moveTo>
                  <a:pt x="0" y="0"/>
                </a:moveTo>
                <a:lnTo>
                  <a:pt x="618" y="0"/>
                </a:lnTo>
                <a:lnTo>
                  <a:pt x="585" y="226"/>
                </a:lnTo>
                <a:lnTo>
                  <a:pt x="35" y="226"/>
                </a:lnTo>
                <a:lnTo>
                  <a:pt x="0" y="0"/>
                </a:lnTo>
                <a:close/>
              </a:path>
            </a:pathLst>
          </a:custGeom>
          <a:solidFill>
            <a:srgbClr val="00235b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366920" y="1905120"/>
            <a:ext cx="156960" cy="280800"/>
          </a:xfrm>
          <a:custGeom>
            <a:avLst/>
            <a:gdLst/>
            <a:ahLst/>
            <a:rect l="l" t="t" r="r" b="b"/>
            <a:pathLst>
              <a:path w="99" h="177">
                <a:moveTo>
                  <a:pt x="0" y="0"/>
                </a:moveTo>
                <a:lnTo>
                  <a:pt x="41" y="63"/>
                </a:lnTo>
                <a:lnTo>
                  <a:pt x="99" y="63"/>
                </a:lnTo>
                <a:lnTo>
                  <a:pt x="59" y="98"/>
                </a:lnTo>
                <a:lnTo>
                  <a:pt x="99" y="177"/>
                </a:lnTo>
                <a:lnTo>
                  <a:pt x="21" y="13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178000" y="1905120"/>
            <a:ext cx="157320" cy="280800"/>
          </a:xfrm>
          <a:custGeom>
            <a:avLst/>
            <a:gdLst/>
            <a:ahLst/>
            <a:rect l="l" t="t" r="r" b="b"/>
            <a:pathLst>
              <a:path w="99" h="177">
                <a:moveTo>
                  <a:pt x="99" y="0"/>
                </a:moveTo>
                <a:lnTo>
                  <a:pt x="57" y="63"/>
                </a:lnTo>
                <a:lnTo>
                  <a:pt x="0" y="63"/>
                </a:lnTo>
                <a:lnTo>
                  <a:pt x="39" y="98"/>
                </a:lnTo>
                <a:lnTo>
                  <a:pt x="0" y="177"/>
                </a:lnTo>
                <a:lnTo>
                  <a:pt x="78" y="139"/>
                </a:lnTo>
                <a:lnTo>
                  <a:pt x="99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663560" y="1893960"/>
            <a:ext cx="374760" cy="291960"/>
          </a:xfrm>
          <a:custGeom>
            <a:avLst/>
            <a:gdLst/>
            <a:ahLst/>
            <a:rect l="l" t="t" r="r" b="b"/>
            <a:pathLst>
              <a:path w="236" h="184">
                <a:moveTo>
                  <a:pt x="116" y="0"/>
                </a:moveTo>
                <a:lnTo>
                  <a:pt x="151" y="70"/>
                </a:lnTo>
                <a:lnTo>
                  <a:pt x="236" y="70"/>
                </a:lnTo>
                <a:lnTo>
                  <a:pt x="169" y="106"/>
                </a:lnTo>
                <a:lnTo>
                  <a:pt x="203" y="184"/>
                </a:lnTo>
                <a:lnTo>
                  <a:pt x="119" y="137"/>
                </a:lnTo>
                <a:lnTo>
                  <a:pt x="31" y="184"/>
                </a:lnTo>
                <a:lnTo>
                  <a:pt x="66" y="108"/>
                </a:lnTo>
                <a:lnTo>
                  <a:pt x="0" y="70"/>
                </a:lnTo>
                <a:lnTo>
                  <a:pt x="84" y="70"/>
                </a:lnTo>
                <a:lnTo>
                  <a:pt x="11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967120" y="757080"/>
            <a:ext cx="260028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748480" y="3043080"/>
            <a:ext cx="26762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inancial Statement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4" name=""/>
          <p:cNvGraphicFramePr/>
          <p:nvPr/>
        </p:nvGraphicFramePr>
        <p:xfrm>
          <a:off x="5562720" y="1600200"/>
          <a:ext cx="289548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00200"/>
                    <a:ext cx="289548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6" name=""/>
          <p:cNvSpPr/>
          <p:nvPr/>
        </p:nvSpPr>
        <p:spPr>
          <a:xfrm flipH="1" rot="16140000">
            <a:off x="579024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 rot="16140000">
            <a:off x="6185160" y="2152080"/>
            <a:ext cx="1289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 rot="16140000">
            <a:off x="657720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rot="16140000">
            <a:off x="697248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28480" y="3195720"/>
            <a:ext cx="2676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380880" y="2133720"/>
            <a:ext cx="8229600" cy="349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Initial Income Tax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Reported o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Journal Entries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Balance Sheet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ategory of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Tax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Income Tax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ferred Tax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Transaction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Statemen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Return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1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or gain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arli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Lat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b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2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s or loss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Lat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arli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b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re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3. Revenue or gain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Lat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arli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red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4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xpenses or loss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arli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Later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Cred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ebit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2286000"/>
                <a:tab algn="l" pos="2860560"/>
                <a:tab algn="l" pos="3662280"/>
                <a:tab algn="l" pos="4973760"/>
                <a:tab algn="l" pos="5373720"/>
                <a:tab algn="l" pos="6396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38080" y="762120"/>
            <a:ext cx="7467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Temporary Income Tax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0" y="40672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57200" y="3886200"/>
            <a:ext cx="8001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57200" y="5486400"/>
            <a:ext cx="8001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514600" y="2819520"/>
            <a:ext cx="5943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8080" y="762120"/>
            <a:ext cx="7467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ome Tax Discl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57200" y="1371600"/>
            <a:ext cx="8229600" cy="521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otal deferred tax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otal deferred tax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otal valuation allowance recognized for deferred tax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Current tax expense or bene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Deferred tax expense or 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Investment tax cred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Government 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Benefits of operating loss carryfor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Tax expense resulting from allocating tax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Adjustments in deferred tax liability or as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Adjustments in beginning balance of valuation allow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Reconciliation between effective and statutory federal income tax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terest and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057400" y="762120"/>
            <a:ext cx="5105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Income Tax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" y="3886200"/>
            <a:ext cx="8229600" cy="2392200"/>
          </a:xfrm>
          <a:prstGeom prst="rect">
            <a:avLst/>
          </a:prstGeom>
          <a:solidFill>
            <a:srgbClr val="ffcc99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Tax loss carrybacks yield tax refunds in the loss year and are an 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Tax loss carryforwards yield deferred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Tax accounting ignores the time value of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Income tax disclosures explain why effective tax differs from statutory 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Effective tax rate reconciliation is useful for fore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Components of deferred income tax reveal future cash flow eff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748480" y="3043080"/>
            <a:ext cx="26762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inancial Statement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605640" y="1643040"/>
            <a:ext cx="19188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5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602400" y="1639800"/>
            <a:ext cx="19224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4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207120" y="1609560"/>
            <a:ext cx="399960" cy="143856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1"/>
                </a:lnTo>
                <a:lnTo>
                  <a:pt x="14" y="15"/>
                </a:lnTo>
                <a:lnTo>
                  <a:pt x="34" y="10"/>
                </a:lnTo>
                <a:lnTo>
                  <a:pt x="62" y="5"/>
                </a:lnTo>
                <a:lnTo>
                  <a:pt x="85" y="1"/>
                </a:lnTo>
                <a:lnTo>
                  <a:pt x="107" y="0"/>
                </a:lnTo>
                <a:lnTo>
                  <a:pt x="123" y="0"/>
                </a:lnTo>
                <a:lnTo>
                  <a:pt x="136" y="0"/>
                </a:lnTo>
                <a:lnTo>
                  <a:pt x="151" y="1"/>
                </a:lnTo>
                <a:lnTo>
                  <a:pt x="165" y="3"/>
                </a:lnTo>
                <a:lnTo>
                  <a:pt x="176" y="4"/>
                </a:lnTo>
                <a:lnTo>
                  <a:pt x="186" y="6"/>
                </a:lnTo>
                <a:lnTo>
                  <a:pt x="204" y="9"/>
                </a:lnTo>
                <a:lnTo>
                  <a:pt x="228" y="15"/>
                </a:lnTo>
                <a:lnTo>
                  <a:pt x="240" y="17"/>
                </a:lnTo>
                <a:lnTo>
                  <a:pt x="252" y="21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202440" y="1604880"/>
            <a:ext cx="399960" cy="143820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2"/>
                </a:lnTo>
                <a:lnTo>
                  <a:pt x="15" y="16"/>
                </a:lnTo>
                <a:lnTo>
                  <a:pt x="35" y="11"/>
                </a:lnTo>
                <a:lnTo>
                  <a:pt x="63" y="6"/>
                </a:lnTo>
                <a:lnTo>
                  <a:pt x="86" y="2"/>
                </a:lnTo>
                <a:lnTo>
                  <a:pt x="107" y="0"/>
                </a:lnTo>
                <a:lnTo>
                  <a:pt x="123" y="1"/>
                </a:lnTo>
                <a:lnTo>
                  <a:pt x="136" y="1"/>
                </a:lnTo>
                <a:lnTo>
                  <a:pt x="151" y="2"/>
                </a:lnTo>
                <a:lnTo>
                  <a:pt x="166" y="3"/>
                </a:lnTo>
                <a:lnTo>
                  <a:pt x="177" y="5"/>
                </a:lnTo>
                <a:lnTo>
                  <a:pt x="187" y="7"/>
                </a:lnTo>
                <a:lnTo>
                  <a:pt x="205" y="10"/>
                </a:lnTo>
                <a:lnTo>
                  <a:pt x="229" y="15"/>
                </a:lnTo>
                <a:lnTo>
                  <a:pt x="241" y="18"/>
                </a:lnTo>
                <a:lnTo>
                  <a:pt x="252" y="22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207120" y="265428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4" y="4"/>
                </a:lnTo>
                <a:lnTo>
                  <a:pt x="83" y="1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8" y="4"/>
                </a:lnTo>
                <a:lnTo>
                  <a:pt x="193" y="6"/>
                </a:lnTo>
                <a:lnTo>
                  <a:pt x="210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1"/>
                </a:lnTo>
                <a:lnTo>
                  <a:pt x="243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9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5"/>
                </a:lnTo>
                <a:lnTo>
                  <a:pt x="49" y="28"/>
                </a:lnTo>
                <a:lnTo>
                  <a:pt x="32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202440" y="265104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30" y="10"/>
                </a:lnTo>
                <a:lnTo>
                  <a:pt x="48" y="7"/>
                </a:lnTo>
                <a:lnTo>
                  <a:pt x="64" y="4"/>
                </a:lnTo>
                <a:lnTo>
                  <a:pt x="84" y="0"/>
                </a:lnTo>
                <a:lnTo>
                  <a:pt x="105" y="0"/>
                </a:lnTo>
                <a:lnTo>
                  <a:pt x="121" y="0"/>
                </a:lnTo>
                <a:lnTo>
                  <a:pt x="142" y="0"/>
                </a:lnTo>
                <a:lnTo>
                  <a:pt x="162" y="1"/>
                </a:lnTo>
                <a:lnTo>
                  <a:pt x="178" y="3"/>
                </a:lnTo>
                <a:lnTo>
                  <a:pt x="194" y="6"/>
                </a:lnTo>
                <a:lnTo>
                  <a:pt x="210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8"/>
                </a:lnTo>
                <a:lnTo>
                  <a:pt x="231" y="35"/>
                </a:lnTo>
                <a:lnTo>
                  <a:pt x="217" y="31"/>
                </a:lnTo>
                <a:lnTo>
                  <a:pt x="201" y="28"/>
                </a:lnTo>
                <a:lnTo>
                  <a:pt x="183" y="25"/>
                </a:lnTo>
                <a:lnTo>
                  <a:pt x="164" y="22"/>
                </a:lnTo>
                <a:lnTo>
                  <a:pt x="145" y="20"/>
                </a:lnTo>
                <a:lnTo>
                  <a:pt x="129" y="20"/>
                </a:lnTo>
                <a:lnTo>
                  <a:pt x="115" y="20"/>
                </a:lnTo>
                <a:lnTo>
                  <a:pt x="99" y="20"/>
                </a:lnTo>
                <a:lnTo>
                  <a:pt x="84" y="21"/>
                </a:lnTo>
                <a:lnTo>
                  <a:pt x="67" y="24"/>
                </a:lnTo>
                <a:lnTo>
                  <a:pt x="50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08560" y="273672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9" y="7"/>
                </a:lnTo>
                <a:lnTo>
                  <a:pt x="64" y="4"/>
                </a:lnTo>
                <a:lnTo>
                  <a:pt x="84" y="1"/>
                </a:lnTo>
                <a:lnTo>
                  <a:pt x="105" y="0"/>
                </a:lnTo>
                <a:lnTo>
                  <a:pt x="121" y="0"/>
                </a:lnTo>
                <a:lnTo>
                  <a:pt x="142" y="0"/>
                </a:lnTo>
                <a:lnTo>
                  <a:pt x="162" y="1"/>
                </a:lnTo>
                <a:lnTo>
                  <a:pt x="178" y="3"/>
                </a:lnTo>
                <a:lnTo>
                  <a:pt x="194" y="6"/>
                </a:lnTo>
                <a:lnTo>
                  <a:pt x="210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1" y="34"/>
                </a:lnTo>
                <a:lnTo>
                  <a:pt x="216" y="31"/>
                </a:lnTo>
                <a:lnTo>
                  <a:pt x="201" y="28"/>
                </a:lnTo>
                <a:lnTo>
                  <a:pt x="183" y="25"/>
                </a:lnTo>
                <a:lnTo>
                  <a:pt x="164" y="22"/>
                </a:lnTo>
                <a:lnTo>
                  <a:pt x="145" y="20"/>
                </a:lnTo>
                <a:lnTo>
                  <a:pt x="128" y="20"/>
                </a:lnTo>
                <a:lnTo>
                  <a:pt x="115" y="20"/>
                </a:lnTo>
                <a:lnTo>
                  <a:pt x="99" y="20"/>
                </a:lnTo>
                <a:lnTo>
                  <a:pt x="84" y="21"/>
                </a:lnTo>
                <a:lnTo>
                  <a:pt x="67" y="24"/>
                </a:lnTo>
                <a:lnTo>
                  <a:pt x="50" y="27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205680" y="2733840"/>
            <a:ext cx="396720" cy="63360"/>
          </a:xfrm>
          <a:custGeom>
            <a:avLst/>
            <a:gdLst/>
            <a:ahLst/>
            <a:rect l="l" t="t" r="r" b="b"/>
            <a:pathLst>
              <a:path w="250" h="40">
                <a:moveTo>
                  <a:pt x="0" y="20"/>
                </a:moveTo>
                <a:lnTo>
                  <a:pt x="7" y="17"/>
                </a:lnTo>
                <a:lnTo>
                  <a:pt x="16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0"/>
                </a:lnTo>
                <a:lnTo>
                  <a:pt x="104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3"/>
                </a:lnTo>
                <a:lnTo>
                  <a:pt x="193" y="5"/>
                </a:lnTo>
                <a:lnTo>
                  <a:pt x="209" y="9"/>
                </a:lnTo>
                <a:lnTo>
                  <a:pt x="228" y="13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7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4"/>
                </a:lnTo>
                <a:lnTo>
                  <a:pt x="163" y="21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7"/>
                </a:lnTo>
                <a:lnTo>
                  <a:pt x="32" y="30"/>
                </a:lnTo>
                <a:lnTo>
                  <a:pt x="16" y="34"/>
                </a:lnTo>
                <a:lnTo>
                  <a:pt x="0" y="40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208560" y="199080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8"/>
                </a:lnTo>
                <a:lnTo>
                  <a:pt x="17" y="14"/>
                </a:lnTo>
                <a:lnTo>
                  <a:pt x="29" y="11"/>
                </a:lnTo>
                <a:lnTo>
                  <a:pt x="49" y="7"/>
                </a:lnTo>
                <a:lnTo>
                  <a:pt x="64" y="4"/>
                </a:lnTo>
                <a:lnTo>
                  <a:pt x="84" y="1"/>
                </a:lnTo>
                <a:lnTo>
                  <a:pt x="105" y="0"/>
                </a:lnTo>
                <a:lnTo>
                  <a:pt x="121" y="0"/>
                </a:lnTo>
                <a:lnTo>
                  <a:pt x="142" y="0"/>
                </a:lnTo>
                <a:lnTo>
                  <a:pt x="162" y="2"/>
                </a:lnTo>
                <a:lnTo>
                  <a:pt x="178" y="4"/>
                </a:lnTo>
                <a:lnTo>
                  <a:pt x="194" y="6"/>
                </a:lnTo>
                <a:lnTo>
                  <a:pt x="210" y="10"/>
                </a:lnTo>
                <a:lnTo>
                  <a:pt x="228" y="14"/>
                </a:lnTo>
                <a:lnTo>
                  <a:pt x="241" y="18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1" y="35"/>
                </a:lnTo>
                <a:lnTo>
                  <a:pt x="216" y="31"/>
                </a:lnTo>
                <a:lnTo>
                  <a:pt x="201" y="28"/>
                </a:lnTo>
                <a:lnTo>
                  <a:pt x="183" y="25"/>
                </a:lnTo>
                <a:lnTo>
                  <a:pt x="164" y="22"/>
                </a:lnTo>
                <a:lnTo>
                  <a:pt x="145" y="20"/>
                </a:lnTo>
                <a:lnTo>
                  <a:pt x="128" y="20"/>
                </a:lnTo>
                <a:lnTo>
                  <a:pt x="115" y="20"/>
                </a:lnTo>
                <a:lnTo>
                  <a:pt x="99" y="20"/>
                </a:lnTo>
                <a:lnTo>
                  <a:pt x="84" y="22"/>
                </a:lnTo>
                <a:lnTo>
                  <a:pt x="67" y="24"/>
                </a:lnTo>
                <a:lnTo>
                  <a:pt x="50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205680" y="198756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6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2" y="30"/>
                </a:lnTo>
                <a:lnTo>
                  <a:pt x="16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97680" y="1643040"/>
            <a:ext cx="19224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5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993000" y="1639800"/>
            <a:ext cx="19188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4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599160" y="1609560"/>
            <a:ext cx="398520" cy="1438560"/>
          </a:xfrm>
          <a:custGeom>
            <a:avLst/>
            <a:gdLst/>
            <a:ahLst/>
            <a:rect l="l" t="t" r="r" b="b"/>
            <a:pathLst>
              <a:path w="251" h="906">
                <a:moveTo>
                  <a:pt x="0" y="906"/>
                </a:moveTo>
                <a:lnTo>
                  <a:pt x="0" y="21"/>
                </a:lnTo>
                <a:lnTo>
                  <a:pt x="14" y="15"/>
                </a:lnTo>
                <a:lnTo>
                  <a:pt x="34" y="10"/>
                </a:lnTo>
                <a:lnTo>
                  <a:pt x="62" y="5"/>
                </a:lnTo>
                <a:lnTo>
                  <a:pt x="84" y="1"/>
                </a:lnTo>
                <a:lnTo>
                  <a:pt x="106" y="0"/>
                </a:lnTo>
                <a:lnTo>
                  <a:pt x="122" y="0"/>
                </a:lnTo>
                <a:lnTo>
                  <a:pt x="135" y="0"/>
                </a:lnTo>
                <a:lnTo>
                  <a:pt x="150" y="1"/>
                </a:lnTo>
                <a:lnTo>
                  <a:pt x="165" y="3"/>
                </a:lnTo>
                <a:lnTo>
                  <a:pt x="176" y="4"/>
                </a:lnTo>
                <a:lnTo>
                  <a:pt x="185" y="6"/>
                </a:lnTo>
                <a:lnTo>
                  <a:pt x="204" y="9"/>
                </a:lnTo>
                <a:lnTo>
                  <a:pt x="228" y="15"/>
                </a:lnTo>
                <a:lnTo>
                  <a:pt x="239" y="17"/>
                </a:lnTo>
                <a:lnTo>
                  <a:pt x="251" y="21"/>
                </a:lnTo>
                <a:lnTo>
                  <a:pt x="251" y="906"/>
                </a:lnTo>
                <a:lnTo>
                  <a:pt x="0" y="9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594480" y="1604880"/>
            <a:ext cx="399960" cy="143820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2"/>
                </a:lnTo>
                <a:lnTo>
                  <a:pt x="14" y="16"/>
                </a:lnTo>
                <a:lnTo>
                  <a:pt x="35" y="11"/>
                </a:lnTo>
                <a:lnTo>
                  <a:pt x="62" y="6"/>
                </a:lnTo>
                <a:lnTo>
                  <a:pt x="85" y="2"/>
                </a:lnTo>
                <a:lnTo>
                  <a:pt x="106" y="0"/>
                </a:lnTo>
                <a:lnTo>
                  <a:pt x="123" y="1"/>
                </a:lnTo>
                <a:lnTo>
                  <a:pt x="136" y="1"/>
                </a:lnTo>
                <a:lnTo>
                  <a:pt x="151" y="2"/>
                </a:lnTo>
                <a:lnTo>
                  <a:pt x="165" y="3"/>
                </a:lnTo>
                <a:lnTo>
                  <a:pt x="176" y="5"/>
                </a:lnTo>
                <a:lnTo>
                  <a:pt x="186" y="7"/>
                </a:lnTo>
                <a:lnTo>
                  <a:pt x="204" y="10"/>
                </a:lnTo>
                <a:lnTo>
                  <a:pt x="228" y="15"/>
                </a:lnTo>
                <a:lnTo>
                  <a:pt x="240" y="18"/>
                </a:lnTo>
                <a:lnTo>
                  <a:pt x="252" y="22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599160" y="2654280"/>
            <a:ext cx="395280" cy="65160"/>
          </a:xfrm>
          <a:custGeom>
            <a:avLst/>
            <a:gdLst/>
            <a:ahLst/>
            <a:rect l="l" t="t" r="r" b="b"/>
            <a:pathLst>
              <a:path w="249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7" y="14"/>
                </a:lnTo>
                <a:lnTo>
                  <a:pt x="240" y="17"/>
                </a:lnTo>
                <a:lnTo>
                  <a:pt x="249" y="21"/>
                </a:lnTo>
                <a:lnTo>
                  <a:pt x="249" y="41"/>
                </a:lnTo>
                <a:lnTo>
                  <a:pt x="242" y="38"/>
                </a:lnTo>
                <a:lnTo>
                  <a:pt x="230" y="35"/>
                </a:lnTo>
                <a:lnTo>
                  <a:pt x="215" y="31"/>
                </a:lnTo>
                <a:lnTo>
                  <a:pt x="200" y="29"/>
                </a:lnTo>
                <a:lnTo>
                  <a:pt x="181" y="25"/>
                </a:lnTo>
                <a:lnTo>
                  <a:pt x="163" y="22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5"/>
                </a:lnTo>
                <a:lnTo>
                  <a:pt x="49" y="28"/>
                </a:lnTo>
                <a:lnTo>
                  <a:pt x="32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594480" y="265104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0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7" y="14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2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600960" y="273672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7" y="14"/>
                </a:lnTo>
                <a:lnTo>
                  <a:pt x="240" y="17"/>
                </a:lnTo>
                <a:lnTo>
                  <a:pt x="250" y="21"/>
                </a:lnTo>
                <a:lnTo>
                  <a:pt x="250" y="40"/>
                </a:lnTo>
                <a:lnTo>
                  <a:pt x="242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1"/>
                </a:lnTo>
                <a:lnTo>
                  <a:pt x="66" y="24"/>
                </a:lnTo>
                <a:lnTo>
                  <a:pt x="49" y="27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595920" y="2733840"/>
            <a:ext cx="397080" cy="63360"/>
          </a:xfrm>
          <a:custGeom>
            <a:avLst/>
            <a:gdLst/>
            <a:ahLst/>
            <a:rect l="l" t="t" r="r" b="b"/>
            <a:pathLst>
              <a:path w="250" h="40">
                <a:moveTo>
                  <a:pt x="0" y="20"/>
                </a:moveTo>
                <a:lnTo>
                  <a:pt x="8" y="17"/>
                </a:lnTo>
                <a:lnTo>
                  <a:pt x="17" y="13"/>
                </a:lnTo>
                <a:lnTo>
                  <a:pt x="30" y="10"/>
                </a:lnTo>
                <a:lnTo>
                  <a:pt x="49" y="7"/>
                </a:lnTo>
                <a:lnTo>
                  <a:pt x="64" y="4"/>
                </a:lnTo>
                <a:lnTo>
                  <a:pt x="83" y="0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8" y="3"/>
                </a:lnTo>
                <a:lnTo>
                  <a:pt x="193" y="5"/>
                </a:lnTo>
                <a:lnTo>
                  <a:pt x="210" y="9"/>
                </a:lnTo>
                <a:lnTo>
                  <a:pt x="228" y="13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7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4"/>
                </a:lnTo>
                <a:lnTo>
                  <a:pt x="163" y="21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7"/>
                </a:lnTo>
                <a:lnTo>
                  <a:pt x="33" y="30"/>
                </a:lnTo>
                <a:lnTo>
                  <a:pt x="17" y="34"/>
                </a:lnTo>
                <a:lnTo>
                  <a:pt x="0" y="40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600960" y="199080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8"/>
                </a:lnTo>
                <a:lnTo>
                  <a:pt x="17" y="14"/>
                </a:lnTo>
                <a:lnTo>
                  <a:pt x="29" y="11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2"/>
                </a:lnTo>
                <a:lnTo>
                  <a:pt x="177" y="4"/>
                </a:lnTo>
                <a:lnTo>
                  <a:pt x="193" y="6"/>
                </a:lnTo>
                <a:lnTo>
                  <a:pt x="209" y="10"/>
                </a:lnTo>
                <a:lnTo>
                  <a:pt x="227" y="14"/>
                </a:lnTo>
                <a:lnTo>
                  <a:pt x="240" y="18"/>
                </a:lnTo>
                <a:lnTo>
                  <a:pt x="250" y="21"/>
                </a:lnTo>
                <a:lnTo>
                  <a:pt x="250" y="40"/>
                </a:lnTo>
                <a:lnTo>
                  <a:pt x="242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2"/>
                </a:lnTo>
                <a:lnTo>
                  <a:pt x="66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595920" y="198756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8" y="17"/>
                </a:lnTo>
                <a:lnTo>
                  <a:pt x="17" y="13"/>
                </a:lnTo>
                <a:lnTo>
                  <a:pt x="30" y="10"/>
                </a:lnTo>
                <a:lnTo>
                  <a:pt x="49" y="7"/>
                </a:lnTo>
                <a:lnTo>
                  <a:pt x="64" y="4"/>
                </a:lnTo>
                <a:lnTo>
                  <a:pt x="83" y="1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8" y="4"/>
                </a:lnTo>
                <a:lnTo>
                  <a:pt x="193" y="6"/>
                </a:lnTo>
                <a:lnTo>
                  <a:pt x="210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394400" y="1643040"/>
            <a:ext cx="19224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5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389720" y="1639800"/>
            <a:ext cx="19224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4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996240" y="1609560"/>
            <a:ext cx="398160" cy="1438560"/>
          </a:xfrm>
          <a:custGeom>
            <a:avLst/>
            <a:gdLst/>
            <a:ahLst/>
            <a:rect l="l" t="t" r="r" b="b"/>
            <a:pathLst>
              <a:path w="251" h="906">
                <a:moveTo>
                  <a:pt x="0" y="906"/>
                </a:moveTo>
                <a:lnTo>
                  <a:pt x="0" y="21"/>
                </a:lnTo>
                <a:lnTo>
                  <a:pt x="14" y="15"/>
                </a:lnTo>
                <a:lnTo>
                  <a:pt x="34" y="10"/>
                </a:lnTo>
                <a:lnTo>
                  <a:pt x="62" y="5"/>
                </a:lnTo>
                <a:lnTo>
                  <a:pt x="85" y="1"/>
                </a:lnTo>
                <a:lnTo>
                  <a:pt x="106" y="0"/>
                </a:lnTo>
                <a:lnTo>
                  <a:pt x="122" y="0"/>
                </a:lnTo>
                <a:lnTo>
                  <a:pt x="135" y="0"/>
                </a:lnTo>
                <a:lnTo>
                  <a:pt x="150" y="1"/>
                </a:lnTo>
                <a:lnTo>
                  <a:pt x="165" y="3"/>
                </a:lnTo>
                <a:lnTo>
                  <a:pt x="176" y="4"/>
                </a:lnTo>
                <a:lnTo>
                  <a:pt x="186" y="6"/>
                </a:lnTo>
                <a:lnTo>
                  <a:pt x="204" y="9"/>
                </a:lnTo>
                <a:lnTo>
                  <a:pt x="228" y="15"/>
                </a:lnTo>
                <a:lnTo>
                  <a:pt x="240" y="17"/>
                </a:lnTo>
                <a:lnTo>
                  <a:pt x="251" y="21"/>
                </a:lnTo>
                <a:lnTo>
                  <a:pt x="251" y="906"/>
                </a:lnTo>
                <a:lnTo>
                  <a:pt x="0" y="9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991200" y="1604880"/>
            <a:ext cx="400320" cy="143820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2"/>
                </a:lnTo>
                <a:lnTo>
                  <a:pt x="15" y="16"/>
                </a:lnTo>
                <a:lnTo>
                  <a:pt x="35" y="11"/>
                </a:lnTo>
                <a:lnTo>
                  <a:pt x="62" y="6"/>
                </a:lnTo>
                <a:lnTo>
                  <a:pt x="85" y="2"/>
                </a:lnTo>
                <a:lnTo>
                  <a:pt x="106" y="0"/>
                </a:lnTo>
                <a:lnTo>
                  <a:pt x="123" y="1"/>
                </a:lnTo>
                <a:lnTo>
                  <a:pt x="136" y="1"/>
                </a:lnTo>
                <a:lnTo>
                  <a:pt x="151" y="2"/>
                </a:lnTo>
                <a:lnTo>
                  <a:pt x="165" y="3"/>
                </a:lnTo>
                <a:lnTo>
                  <a:pt x="176" y="5"/>
                </a:lnTo>
                <a:lnTo>
                  <a:pt x="186" y="7"/>
                </a:lnTo>
                <a:lnTo>
                  <a:pt x="204" y="10"/>
                </a:lnTo>
                <a:lnTo>
                  <a:pt x="228" y="15"/>
                </a:lnTo>
                <a:lnTo>
                  <a:pt x="240" y="18"/>
                </a:lnTo>
                <a:lnTo>
                  <a:pt x="252" y="22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996240" y="2654280"/>
            <a:ext cx="395280" cy="65160"/>
          </a:xfrm>
          <a:custGeom>
            <a:avLst/>
            <a:gdLst/>
            <a:ahLst/>
            <a:rect l="l" t="t" r="r" b="b"/>
            <a:pathLst>
              <a:path w="249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7" y="14"/>
                </a:lnTo>
                <a:lnTo>
                  <a:pt x="240" y="17"/>
                </a:lnTo>
                <a:lnTo>
                  <a:pt x="249" y="21"/>
                </a:lnTo>
                <a:lnTo>
                  <a:pt x="249" y="41"/>
                </a:lnTo>
                <a:lnTo>
                  <a:pt x="242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9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1"/>
                </a:lnTo>
                <a:lnTo>
                  <a:pt x="66" y="25"/>
                </a:lnTo>
                <a:lnTo>
                  <a:pt x="49" y="28"/>
                </a:lnTo>
                <a:lnTo>
                  <a:pt x="32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991200" y="265104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30" y="10"/>
                </a:lnTo>
                <a:lnTo>
                  <a:pt x="48" y="7"/>
                </a:lnTo>
                <a:lnTo>
                  <a:pt x="63" y="4"/>
                </a:lnTo>
                <a:lnTo>
                  <a:pt x="83" y="0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997680" y="273672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7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994440" y="2733840"/>
            <a:ext cx="395280" cy="63360"/>
          </a:xfrm>
          <a:custGeom>
            <a:avLst/>
            <a:gdLst/>
            <a:ahLst/>
            <a:rect l="l" t="t" r="r" b="b"/>
            <a:pathLst>
              <a:path w="249" h="40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0"/>
                </a:lnTo>
                <a:lnTo>
                  <a:pt x="104" y="0"/>
                </a:lnTo>
                <a:lnTo>
                  <a:pt x="119" y="0"/>
                </a:lnTo>
                <a:lnTo>
                  <a:pt x="141" y="0"/>
                </a:lnTo>
                <a:lnTo>
                  <a:pt x="160" y="1"/>
                </a:lnTo>
                <a:lnTo>
                  <a:pt x="177" y="3"/>
                </a:lnTo>
                <a:lnTo>
                  <a:pt x="192" y="5"/>
                </a:lnTo>
                <a:lnTo>
                  <a:pt x="209" y="9"/>
                </a:lnTo>
                <a:lnTo>
                  <a:pt x="227" y="13"/>
                </a:lnTo>
                <a:lnTo>
                  <a:pt x="240" y="17"/>
                </a:lnTo>
                <a:lnTo>
                  <a:pt x="249" y="20"/>
                </a:lnTo>
                <a:lnTo>
                  <a:pt x="249" y="40"/>
                </a:lnTo>
                <a:lnTo>
                  <a:pt x="242" y="37"/>
                </a:lnTo>
                <a:lnTo>
                  <a:pt x="230" y="34"/>
                </a:lnTo>
                <a:lnTo>
                  <a:pt x="215" y="31"/>
                </a:lnTo>
                <a:lnTo>
                  <a:pt x="200" y="28"/>
                </a:lnTo>
                <a:lnTo>
                  <a:pt x="181" y="24"/>
                </a:lnTo>
                <a:lnTo>
                  <a:pt x="162" y="21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4"/>
                </a:lnTo>
                <a:lnTo>
                  <a:pt x="48" y="27"/>
                </a:lnTo>
                <a:lnTo>
                  <a:pt x="32" y="30"/>
                </a:lnTo>
                <a:lnTo>
                  <a:pt x="17" y="34"/>
                </a:lnTo>
                <a:lnTo>
                  <a:pt x="0" y="40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997680" y="199080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8"/>
                </a:lnTo>
                <a:lnTo>
                  <a:pt x="17" y="14"/>
                </a:lnTo>
                <a:lnTo>
                  <a:pt x="29" y="11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2" y="0"/>
                </a:lnTo>
                <a:lnTo>
                  <a:pt x="161" y="2"/>
                </a:lnTo>
                <a:lnTo>
                  <a:pt x="177" y="4"/>
                </a:lnTo>
                <a:lnTo>
                  <a:pt x="193" y="6"/>
                </a:lnTo>
                <a:lnTo>
                  <a:pt x="209" y="10"/>
                </a:lnTo>
                <a:lnTo>
                  <a:pt x="228" y="14"/>
                </a:lnTo>
                <a:lnTo>
                  <a:pt x="241" y="18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5"/>
                </a:lnTo>
                <a:lnTo>
                  <a:pt x="216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2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994440" y="1987560"/>
            <a:ext cx="395280" cy="65160"/>
          </a:xfrm>
          <a:custGeom>
            <a:avLst/>
            <a:gdLst/>
            <a:ahLst/>
            <a:rect l="l" t="t" r="r" b="b"/>
            <a:pathLst>
              <a:path w="249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1"/>
                </a:lnTo>
                <a:lnTo>
                  <a:pt x="104" y="0"/>
                </a:lnTo>
                <a:lnTo>
                  <a:pt x="119" y="0"/>
                </a:lnTo>
                <a:lnTo>
                  <a:pt x="141" y="0"/>
                </a:lnTo>
                <a:lnTo>
                  <a:pt x="160" y="1"/>
                </a:lnTo>
                <a:lnTo>
                  <a:pt x="177" y="4"/>
                </a:lnTo>
                <a:lnTo>
                  <a:pt x="192" y="6"/>
                </a:lnTo>
                <a:lnTo>
                  <a:pt x="209" y="9"/>
                </a:lnTo>
                <a:lnTo>
                  <a:pt x="227" y="14"/>
                </a:lnTo>
                <a:lnTo>
                  <a:pt x="240" y="17"/>
                </a:lnTo>
                <a:lnTo>
                  <a:pt x="249" y="21"/>
                </a:lnTo>
                <a:lnTo>
                  <a:pt x="249" y="40"/>
                </a:lnTo>
                <a:lnTo>
                  <a:pt x="242" y="38"/>
                </a:lnTo>
                <a:lnTo>
                  <a:pt x="230" y="34"/>
                </a:lnTo>
                <a:lnTo>
                  <a:pt x="215" y="31"/>
                </a:lnTo>
                <a:lnTo>
                  <a:pt x="200" y="28"/>
                </a:lnTo>
                <a:lnTo>
                  <a:pt x="181" y="25"/>
                </a:lnTo>
                <a:lnTo>
                  <a:pt x="162" y="22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4"/>
                </a:lnTo>
                <a:lnTo>
                  <a:pt x="48" y="28"/>
                </a:lnTo>
                <a:lnTo>
                  <a:pt x="32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396200" y="1609560"/>
            <a:ext cx="399960" cy="143856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1"/>
                </a:lnTo>
                <a:lnTo>
                  <a:pt x="14" y="15"/>
                </a:lnTo>
                <a:lnTo>
                  <a:pt x="35" y="10"/>
                </a:lnTo>
                <a:lnTo>
                  <a:pt x="62" y="5"/>
                </a:lnTo>
                <a:lnTo>
                  <a:pt x="85" y="1"/>
                </a:lnTo>
                <a:lnTo>
                  <a:pt x="106" y="0"/>
                </a:lnTo>
                <a:lnTo>
                  <a:pt x="122" y="0"/>
                </a:lnTo>
                <a:lnTo>
                  <a:pt x="135" y="0"/>
                </a:lnTo>
                <a:lnTo>
                  <a:pt x="150" y="1"/>
                </a:lnTo>
                <a:lnTo>
                  <a:pt x="165" y="3"/>
                </a:lnTo>
                <a:lnTo>
                  <a:pt x="176" y="4"/>
                </a:lnTo>
                <a:lnTo>
                  <a:pt x="186" y="6"/>
                </a:lnTo>
                <a:lnTo>
                  <a:pt x="204" y="9"/>
                </a:lnTo>
                <a:lnTo>
                  <a:pt x="229" y="15"/>
                </a:lnTo>
                <a:lnTo>
                  <a:pt x="240" y="17"/>
                </a:lnTo>
                <a:lnTo>
                  <a:pt x="252" y="21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391520" y="1604880"/>
            <a:ext cx="399960" cy="1438200"/>
          </a:xfrm>
          <a:custGeom>
            <a:avLst/>
            <a:gdLst/>
            <a:ahLst/>
            <a:rect l="l" t="t" r="r" b="b"/>
            <a:pathLst>
              <a:path w="252" h="906">
                <a:moveTo>
                  <a:pt x="0" y="906"/>
                </a:moveTo>
                <a:lnTo>
                  <a:pt x="0" y="22"/>
                </a:lnTo>
                <a:lnTo>
                  <a:pt x="15" y="16"/>
                </a:lnTo>
                <a:lnTo>
                  <a:pt x="35" y="11"/>
                </a:lnTo>
                <a:lnTo>
                  <a:pt x="62" y="6"/>
                </a:lnTo>
                <a:lnTo>
                  <a:pt x="85" y="2"/>
                </a:lnTo>
                <a:lnTo>
                  <a:pt x="107" y="0"/>
                </a:lnTo>
                <a:lnTo>
                  <a:pt x="123" y="1"/>
                </a:lnTo>
                <a:lnTo>
                  <a:pt x="136" y="1"/>
                </a:lnTo>
                <a:lnTo>
                  <a:pt x="151" y="2"/>
                </a:lnTo>
                <a:lnTo>
                  <a:pt x="165" y="3"/>
                </a:lnTo>
                <a:lnTo>
                  <a:pt x="176" y="5"/>
                </a:lnTo>
                <a:lnTo>
                  <a:pt x="186" y="7"/>
                </a:lnTo>
                <a:lnTo>
                  <a:pt x="204" y="10"/>
                </a:lnTo>
                <a:lnTo>
                  <a:pt x="229" y="15"/>
                </a:lnTo>
                <a:lnTo>
                  <a:pt x="241" y="18"/>
                </a:lnTo>
                <a:lnTo>
                  <a:pt x="252" y="22"/>
                </a:lnTo>
                <a:lnTo>
                  <a:pt x="252" y="906"/>
                </a:lnTo>
                <a:lnTo>
                  <a:pt x="0" y="906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794720" y="1643040"/>
            <a:ext cx="193680" cy="1405080"/>
          </a:xfrm>
          <a:custGeom>
            <a:avLst/>
            <a:gdLst/>
            <a:ahLst/>
            <a:rect l="l" t="t" r="r" b="b"/>
            <a:pathLst>
              <a:path w="122" h="885">
                <a:moveTo>
                  <a:pt x="0" y="0"/>
                </a:moveTo>
                <a:lnTo>
                  <a:pt x="122" y="140"/>
                </a:lnTo>
                <a:lnTo>
                  <a:pt x="122" y="885"/>
                </a:lnTo>
                <a:lnTo>
                  <a:pt x="0" y="885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791480" y="1639800"/>
            <a:ext cx="191880" cy="1405080"/>
          </a:xfrm>
          <a:custGeom>
            <a:avLst/>
            <a:gdLst/>
            <a:ahLst/>
            <a:rect l="l" t="t" r="r" b="b"/>
            <a:pathLst>
              <a:path w="121" h="885">
                <a:moveTo>
                  <a:pt x="0" y="0"/>
                </a:moveTo>
                <a:lnTo>
                  <a:pt x="121" y="140"/>
                </a:lnTo>
                <a:lnTo>
                  <a:pt x="121" y="885"/>
                </a:lnTo>
                <a:lnTo>
                  <a:pt x="0" y="884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396200" y="2654280"/>
            <a:ext cx="39672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1"/>
                </a:lnTo>
                <a:lnTo>
                  <a:pt x="243" y="38"/>
                </a:lnTo>
                <a:lnTo>
                  <a:pt x="231" y="35"/>
                </a:lnTo>
                <a:lnTo>
                  <a:pt x="216" y="31"/>
                </a:lnTo>
                <a:lnTo>
                  <a:pt x="200" y="29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8" y="20"/>
                </a:lnTo>
                <a:lnTo>
                  <a:pt x="83" y="21"/>
                </a:lnTo>
                <a:lnTo>
                  <a:pt x="66" y="25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391520" y="2651040"/>
            <a:ext cx="398520" cy="65160"/>
          </a:xfrm>
          <a:custGeom>
            <a:avLst/>
            <a:gdLst/>
            <a:ahLst/>
            <a:rect l="l" t="t" r="r" b="b"/>
            <a:pathLst>
              <a:path w="251" h="41">
                <a:moveTo>
                  <a:pt x="0" y="20"/>
                </a:moveTo>
                <a:lnTo>
                  <a:pt x="8" y="17"/>
                </a:lnTo>
                <a:lnTo>
                  <a:pt x="17" y="13"/>
                </a:lnTo>
                <a:lnTo>
                  <a:pt x="30" y="10"/>
                </a:lnTo>
                <a:lnTo>
                  <a:pt x="49" y="7"/>
                </a:lnTo>
                <a:lnTo>
                  <a:pt x="64" y="4"/>
                </a:lnTo>
                <a:lnTo>
                  <a:pt x="83" y="0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8" y="3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1" y="20"/>
                </a:lnTo>
                <a:lnTo>
                  <a:pt x="251" y="40"/>
                </a:lnTo>
                <a:lnTo>
                  <a:pt x="243" y="38"/>
                </a:lnTo>
                <a:lnTo>
                  <a:pt x="231" y="35"/>
                </a:lnTo>
                <a:lnTo>
                  <a:pt x="217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397640" y="273672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30" y="10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1"/>
                </a:lnTo>
                <a:lnTo>
                  <a:pt x="177" y="3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1" y="34"/>
                </a:lnTo>
                <a:lnTo>
                  <a:pt x="217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1"/>
                </a:lnTo>
                <a:lnTo>
                  <a:pt x="67" y="24"/>
                </a:lnTo>
                <a:lnTo>
                  <a:pt x="49" y="27"/>
                </a:lnTo>
                <a:lnTo>
                  <a:pt x="33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394400" y="2733840"/>
            <a:ext cx="397080" cy="63360"/>
          </a:xfrm>
          <a:custGeom>
            <a:avLst/>
            <a:gdLst/>
            <a:ahLst/>
            <a:rect l="l" t="t" r="r" b="b"/>
            <a:pathLst>
              <a:path w="250" h="40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0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3"/>
                </a:lnTo>
                <a:lnTo>
                  <a:pt x="193" y="5"/>
                </a:lnTo>
                <a:lnTo>
                  <a:pt x="209" y="9"/>
                </a:lnTo>
                <a:lnTo>
                  <a:pt x="228" y="13"/>
                </a:lnTo>
                <a:lnTo>
                  <a:pt x="241" y="17"/>
                </a:lnTo>
                <a:lnTo>
                  <a:pt x="250" y="20"/>
                </a:lnTo>
                <a:lnTo>
                  <a:pt x="250" y="40"/>
                </a:lnTo>
                <a:lnTo>
                  <a:pt x="243" y="37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1" y="24"/>
                </a:lnTo>
                <a:lnTo>
                  <a:pt x="163" y="21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4"/>
                </a:lnTo>
                <a:lnTo>
                  <a:pt x="49" y="27"/>
                </a:lnTo>
                <a:lnTo>
                  <a:pt x="32" y="30"/>
                </a:lnTo>
                <a:lnTo>
                  <a:pt x="17" y="34"/>
                </a:lnTo>
                <a:lnTo>
                  <a:pt x="0" y="40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397640" y="199080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8"/>
                </a:lnTo>
                <a:lnTo>
                  <a:pt x="17" y="14"/>
                </a:lnTo>
                <a:lnTo>
                  <a:pt x="30" y="11"/>
                </a:lnTo>
                <a:lnTo>
                  <a:pt x="48" y="7"/>
                </a:lnTo>
                <a:lnTo>
                  <a:pt x="63" y="4"/>
                </a:lnTo>
                <a:lnTo>
                  <a:pt x="83" y="1"/>
                </a:lnTo>
                <a:lnTo>
                  <a:pt x="105" y="0"/>
                </a:lnTo>
                <a:lnTo>
                  <a:pt x="120" y="0"/>
                </a:lnTo>
                <a:lnTo>
                  <a:pt x="142" y="0"/>
                </a:lnTo>
                <a:lnTo>
                  <a:pt x="161" y="2"/>
                </a:lnTo>
                <a:lnTo>
                  <a:pt x="177" y="4"/>
                </a:lnTo>
                <a:lnTo>
                  <a:pt x="193" y="6"/>
                </a:lnTo>
                <a:lnTo>
                  <a:pt x="209" y="10"/>
                </a:lnTo>
                <a:lnTo>
                  <a:pt x="228" y="14"/>
                </a:lnTo>
                <a:lnTo>
                  <a:pt x="241" y="18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1" y="35"/>
                </a:lnTo>
                <a:lnTo>
                  <a:pt x="217" y="31"/>
                </a:lnTo>
                <a:lnTo>
                  <a:pt x="200" y="28"/>
                </a:lnTo>
                <a:lnTo>
                  <a:pt x="182" y="25"/>
                </a:lnTo>
                <a:lnTo>
                  <a:pt x="163" y="22"/>
                </a:lnTo>
                <a:lnTo>
                  <a:pt x="144" y="20"/>
                </a:lnTo>
                <a:lnTo>
                  <a:pt x="128" y="20"/>
                </a:lnTo>
                <a:lnTo>
                  <a:pt x="114" y="20"/>
                </a:lnTo>
                <a:lnTo>
                  <a:pt x="99" y="20"/>
                </a:lnTo>
                <a:lnTo>
                  <a:pt x="83" y="22"/>
                </a:lnTo>
                <a:lnTo>
                  <a:pt x="67" y="24"/>
                </a:lnTo>
                <a:lnTo>
                  <a:pt x="49" y="28"/>
                </a:lnTo>
                <a:lnTo>
                  <a:pt x="33" y="31"/>
                </a:lnTo>
                <a:lnTo>
                  <a:pt x="17" y="35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394400" y="1987560"/>
            <a:ext cx="397080" cy="65160"/>
          </a:xfrm>
          <a:custGeom>
            <a:avLst/>
            <a:gdLst/>
            <a:ahLst/>
            <a:rect l="l" t="t" r="r" b="b"/>
            <a:pathLst>
              <a:path w="250" h="41">
                <a:moveTo>
                  <a:pt x="0" y="20"/>
                </a:moveTo>
                <a:lnTo>
                  <a:pt x="7" y="17"/>
                </a:lnTo>
                <a:lnTo>
                  <a:pt x="17" y="13"/>
                </a:lnTo>
                <a:lnTo>
                  <a:pt x="29" y="10"/>
                </a:lnTo>
                <a:lnTo>
                  <a:pt x="48" y="7"/>
                </a:lnTo>
                <a:lnTo>
                  <a:pt x="63" y="4"/>
                </a:lnTo>
                <a:lnTo>
                  <a:pt x="82" y="1"/>
                </a:lnTo>
                <a:lnTo>
                  <a:pt x="104" y="0"/>
                </a:lnTo>
                <a:lnTo>
                  <a:pt x="120" y="0"/>
                </a:lnTo>
                <a:lnTo>
                  <a:pt x="141" y="0"/>
                </a:lnTo>
                <a:lnTo>
                  <a:pt x="161" y="1"/>
                </a:lnTo>
                <a:lnTo>
                  <a:pt x="177" y="4"/>
                </a:lnTo>
                <a:lnTo>
                  <a:pt x="193" y="6"/>
                </a:lnTo>
                <a:lnTo>
                  <a:pt x="209" y="9"/>
                </a:lnTo>
                <a:lnTo>
                  <a:pt x="228" y="14"/>
                </a:lnTo>
                <a:lnTo>
                  <a:pt x="241" y="17"/>
                </a:lnTo>
                <a:lnTo>
                  <a:pt x="250" y="21"/>
                </a:lnTo>
                <a:lnTo>
                  <a:pt x="250" y="40"/>
                </a:lnTo>
                <a:lnTo>
                  <a:pt x="243" y="38"/>
                </a:lnTo>
                <a:lnTo>
                  <a:pt x="230" y="34"/>
                </a:lnTo>
                <a:lnTo>
                  <a:pt x="216" y="31"/>
                </a:lnTo>
                <a:lnTo>
                  <a:pt x="200" y="28"/>
                </a:lnTo>
                <a:lnTo>
                  <a:pt x="181" y="25"/>
                </a:lnTo>
                <a:lnTo>
                  <a:pt x="163" y="22"/>
                </a:lnTo>
                <a:lnTo>
                  <a:pt x="144" y="20"/>
                </a:lnTo>
                <a:lnTo>
                  <a:pt x="127" y="20"/>
                </a:lnTo>
                <a:lnTo>
                  <a:pt x="114" y="20"/>
                </a:lnTo>
                <a:lnTo>
                  <a:pt x="98" y="20"/>
                </a:lnTo>
                <a:lnTo>
                  <a:pt x="82" y="21"/>
                </a:lnTo>
                <a:lnTo>
                  <a:pt x="66" y="24"/>
                </a:lnTo>
                <a:lnTo>
                  <a:pt x="49" y="28"/>
                </a:lnTo>
                <a:lnTo>
                  <a:pt x="32" y="30"/>
                </a:lnTo>
                <a:lnTo>
                  <a:pt x="17" y="34"/>
                </a:lnTo>
                <a:lnTo>
                  <a:pt x="0" y="41"/>
                </a:lnTo>
                <a:lnTo>
                  <a:pt x="0" y="2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568840" y="2359080"/>
            <a:ext cx="633600" cy="689040"/>
          </a:xfrm>
          <a:custGeom>
            <a:avLst/>
            <a:gdLst/>
            <a:ahLst/>
            <a:rect l="l" t="t" r="r" b="b"/>
            <a:pathLst>
              <a:path w="399" h="434">
                <a:moveTo>
                  <a:pt x="399" y="0"/>
                </a:moveTo>
                <a:lnTo>
                  <a:pt x="318" y="0"/>
                </a:lnTo>
                <a:lnTo>
                  <a:pt x="318" y="374"/>
                </a:lnTo>
                <a:lnTo>
                  <a:pt x="0" y="374"/>
                </a:lnTo>
                <a:lnTo>
                  <a:pt x="0" y="434"/>
                </a:lnTo>
                <a:lnTo>
                  <a:pt x="399" y="434"/>
                </a:lnTo>
                <a:lnTo>
                  <a:pt x="399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564160" y="2354400"/>
            <a:ext cx="633600" cy="690480"/>
          </a:xfrm>
          <a:custGeom>
            <a:avLst/>
            <a:gdLst/>
            <a:ahLst/>
            <a:rect l="l" t="t" r="r" b="b"/>
            <a:pathLst>
              <a:path w="399" h="435">
                <a:moveTo>
                  <a:pt x="399" y="0"/>
                </a:moveTo>
                <a:lnTo>
                  <a:pt x="319" y="0"/>
                </a:lnTo>
                <a:lnTo>
                  <a:pt x="319" y="375"/>
                </a:lnTo>
                <a:lnTo>
                  <a:pt x="0" y="375"/>
                </a:lnTo>
                <a:lnTo>
                  <a:pt x="0" y="435"/>
                </a:lnTo>
                <a:lnTo>
                  <a:pt x="399" y="435"/>
                </a:lnTo>
                <a:lnTo>
                  <a:pt x="399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940520" y="2355840"/>
            <a:ext cx="505080" cy="692280"/>
          </a:xfrm>
          <a:custGeom>
            <a:avLst/>
            <a:gdLst/>
            <a:ahLst/>
            <a:rect l="l" t="t" r="r" b="b"/>
            <a:pathLst>
              <a:path w="318" h="436">
                <a:moveTo>
                  <a:pt x="0" y="0"/>
                </a:moveTo>
                <a:lnTo>
                  <a:pt x="107" y="132"/>
                </a:lnTo>
                <a:lnTo>
                  <a:pt x="107" y="384"/>
                </a:lnTo>
                <a:lnTo>
                  <a:pt x="318" y="384"/>
                </a:lnTo>
                <a:lnTo>
                  <a:pt x="318" y="436"/>
                </a:lnTo>
                <a:lnTo>
                  <a:pt x="0" y="436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937640" y="2352600"/>
            <a:ext cx="502920" cy="692280"/>
          </a:xfrm>
          <a:custGeom>
            <a:avLst/>
            <a:gdLst/>
            <a:ahLst/>
            <a:rect l="l" t="t" r="r" b="b"/>
            <a:pathLst>
              <a:path w="317" h="436">
                <a:moveTo>
                  <a:pt x="0" y="0"/>
                </a:moveTo>
                <a:lnTo>
                  <a:pt x="107" y="131"/>
                </a:lnTo>
                <a:lnTo>
                  <a:pt x="107" y="384"/>
                </a:lnTo>
                <a:lnTo>
                  <a:pt x="317" y="384"/>
                </a:lnTo>
                <a:lnTo>
                  <a:pt x="317" y="436"/>
                </a:lnTo>
                <a:lnTo>
                  <a:pt x="0" y="435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813800" y="2355840"/>
            <a:ext cx="633240" cy="690480"/>
          </a:xfrm>
          <a:custGeom>
            <a:avLst/>
            <a:gdLst/>
            <a:ahLst/>
            <a:rect l="l" t="t" r="r" b="b"/>
            <a:pathLst>
              <a:path w="399" h="435">
                <a:moveTo>
                  <a:pt x="0" y="0"/>
                </a:moveTo>
                <a:lnTo>
                  <a:pt x="80" y="0"/>
                </a:lnTo>
                <a:lnTo>
                  <a:pt x="80" y="375"/>
                </a:lnTo>
                <a:lnTo>
                  <a:pt x="399" y="375"/>
                </a:lnTo>
                <a:lnTo>
                  <a:pt x="399" y="435"/>
                </a:lnTo>
                <a:lnTo>
                  <a:pt x="0" y="435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810560" y="2352600"/>
            <a:ext cx="631800" cy="690480"/>
          </a:xfrm>
          <a:custGeom>
            <a:avLst/>
            <a:gdLst/>
            <a:ahLst/>
            <a:rect l="l" t="t" r="r" b="b"/>
            <a:pathLst>
              <a:path w="398" h="435">
                <a:moveTo>
                  <a:pt x="0" y="0"/>
                </a:moveTo>
                <a:lnTo>
                  <a:pt x="80" y="0"/>
                </a:lnTo>
                <a:lnTo>
                  <a:pt x="80" y="375"/>
                </a:lnTo>
                <a:lnTo>
                  <a:pt x="398" y="375"/>
                </a:lnTo>
                <a:lnTo>
                  <a:pt x="398" y="435"/>
                </a:lnTo>
                <a:lnTo>
                  <a:pt x="0" y="435"/>
                </a:lnTo>
                <a:lnTo>
                  <a:pt x="0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 rot="16140000">
            <a:off x="579024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 rot="16140000">
            <a:off x="6185160" y="2152080"/>
            <a:ext cx="1289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rot="16140000">
            <a:off x="657720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140000">
            <a:off x="6972480" y="2148480"/>
            <a:ext cx="129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28480" y="3195720"/>
            <a:ext cx="2676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422360" y="2262240"/>
            <a:ext cx="857160" cy="830160"/>
          </a:xfrm>
          <a:custGeom>
            <a:avLst/>
            <a:gdLst/>
            <a:ahLst/>
            <a:rect l="l" t="t" r="r" b="b"/>
            <a:pathLst>
              <a:path w="540" h="523">
                <a:moveTo>
                  <a:pt x="0" y="0"/>
                </a:moveTo>
                <a:lnTo>
                  <a:pt x="0" y="195"/>
                </a:lnTo>
                <a:lnTo>
                  <a:pt x="19" y="214"/>
                </a:lnTo>
                <a:lnTo>
                  <a:pt x="41" y="390"/>
                </a:lnTo>
                <a:lnTo>
                  <a:pt x="180" y="523"/>
                </a:lnTo>
                <a:lnTo>
                  <a:pt x="356" y="523"/>
                </a:lnTo>
                <a:lnTo>
                  <a:pt x="498" y="395"/>
                </a:lnTo>
                <a:lnTo>
                  <a:pt x="521" y="210"/>
                </a:lnTo>
                <a:lnTo>
                  <a:pt x="540" y="198"/>
                </a:lnTo>
                <a:lnTo>
                  <a:pt x="5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98e"/>
          </a:solidFill>
          <a:ln w="1440">
            <a:solidFill>
              <a:srgbClr val="ffc9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314360" y="2259000"/>
            <a:ext cx="111240" cy="330120"/>
          </a:xfrm>
          <a:custGeom>
            <a:avLst/>
            <a:gdLst/>
            <a:ahLst/>
            <a:rect l="l" t="t" r="r" b="b"/>
            <a:pathLst>
              <a:path w="70" h="208">
                <a:moveTo>
                  <a:pt x="39" y="0"/>
                </a:moveTo>
                <a:lnTo>
                  <a:pt x="0" y="92"/>
                </a:lnTo>
                <a:lnTo>
                  <a:pt x="28" y="146"/>
                </a:lnTo>
                <a:lnTo>
                  <a:pt x="28" y="185"/>
                </a:lnTo>
                <a:lnTo>
                  <a:pt x="70" y="208"/>
                </a:lnTo>
                <a:lnTo>
                  <a:pt x="70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274840" y="2259000"/>
            <a:ext cx="111240" cy="330120"/>
          </a:xfrm>
          <a:custGeom>
            <a:avLst/>
            <a:gdLst/>
            <a:ahLst/>
            <a:rect l="l" t="t" r="r" b="b"/>
            <a:pathLst>
              <a:path w="70" h="208">
                <a:moveTo>
                  <a:pt x="31" y="0"/>
                </a:moveTo>
                <a:lnTo>
                  <a:pt x="70" y="92"/>
                </a:lnTo>
                <a:lnTo>
                  <a:pt x="41" y="146"/>
                </a:lnTo>
                <a:lnTo>
                  <a:pt x="41" y="185"/>
                </a:lnTo>
                <a:lnTo>
                  <a:pt x="0" y="208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692360" y="2895480"/>
            <a:ext cx="312480" cy="336600"/>
          </a:xfrm>
          <a:custGeom>
            <a:avLst/>
            <a:gdLst/>
            <a:ahLst/>
            <a:rect l="l" t="t" r="r" b="b"/>
            <a:pathLst>
              <a:path w="197" h="212">
                <a:moveTo>
                  <a:pt x="80" y="0"/>
                </a:moveTo>
                <a:lnTo>
                  <a:pt x="13" y="63"/>
                </a:lnTo>
                <a:lnTo>
                  <a:pt x="0" y="191"/>
                </a:lnTo>
                <a:lnTo>
                  <a:pt x="101" y="212"/>
                </a:lnTo>
                <a:lnTo>
                  <a:pt x="197" y="189"/>
                </a:lnTo>
                <a:lnTo>
                  <a:pt x="186" y="63"/>
                </a:lnTo>
                <a:lnTo>
                  <a:pt x="123" y="0"/>
                </a:ln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09760" y="2260440"/>
            <a:ext cx="420480" cy="839880"/>
          </a:xfrm>
          <a:custGeom>
            <a:avLst/>
            <a:gdLst/>
            <a:ahLst/>
            <a:rect l="l" t="t" r="r" b="b"/>
            <a:pathLst>
              <a:path w="265" h="529">
                <a:moveTo>
                  <a:pt x="37" y="0"/>
                </a:moveTo>
                <a:lnTo>
                  <a:pt x="79" y="57"/>
                </a:lnTo>
                <a:lnTo>
                  <a:pt x="145" y="57"/>
                </a:lnTo>
                <a:lnTo>
                  <a:pt x="203" y="81"/>
                </a:lnTo>
                <a:lnTo>
                  <a:pt x="237" y="81"/>
                </a:lnTo>
                <a:lnTo>
                  <a:pt x="265" y="71"/>
                </a:lnTo>
                <a:lnTo>
                  <a:pt x="219" y="112"/>
                </a:lnTo>
                <a:lnTo>
                  <a:pt x="187" y="90"/>
                </a:lnTo>
                <a:lnTo>
                  <a:pt x="122" y="90"/>
                </a:lnTo>
                <a:lnTo>
                  <a:pt x="90" y="101"/>
                </a:lnTo>
                <a:lnTo>
                  <a:pt x="106" y="114"/>
                </a:lnTo>
                <a:lnTo>
                  <a:pt x="74" y="109"/>
                </a:lnTo>
                <a:lnTo>
                  <a:pt x="40" y="84"/>
                </a:lnTo>
                <a:lnTo>
                  <a:pt x="40" y="76"/>
                </a:lnTo>
                <a:lnTo>
                  <a:pt x="12" y="34"/>
                </a:lnTo>
                <a:lnTo>
                  <a:pt x="12" y="137"/>
                </a:lnTo>
                <a:lnTo>
                  <a:pt x="106" y="244"/>
                </a:lnTo>
                <a:lnTo>
                  <a:pt x="118" y="397"/>
                </a:lnTo>
                <a:lnTo>
                  <a:pt x="98" y="246"/>
                </a:lnTo>
                <a:lnTo>
                  <a:pt x="35" y="219"/>
                </a:lnTo>
                <a:lnTo>
                  <a:pt x="54" y="392"/>
                </a:lnTo>
                <a:lnTo>
                  <a:pt x="187" y="520"/>
                </a:lnTo>
                <a:lnTo>
                  <a:pt x="187" y="529"/>
                </a:lnTo>
                <a:lnTo>
                  <a:pt x="42" y="395"/>
                </a:lnTo>
                <a:lnTo>
                  <a:pt x="20" y="215"/>
                </a:lnTo>
                <a:lnTo>
                  <a:pt x="0" y="194"/>
                </a:lnTo>
                <a:lnTo>
                  <a:pt x="3" y="139"/>
                </a:lnTo>
                <a:lnTo>
                  <a:pt x="3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871640" y="2260440"/>
            <a:ext cx="420840" cy="839880"/>
          </a:xfrm>
          <a:custGeom>
            <a:avLst/>
            <a:gdLst/>
            <a:ahLst/>
            <a:rect l="l" t="t" r="r" b="b"/>
            <a:pathLst>
              <a:path w="265" h="529">
                <a:moveTo>
                  <a:pt x="228" y="0"/>
                </a:moveTo>
                <a:lnTo>
                  <a:pt x="187" y="57"/>
                </a:lnTo>
                <a:lnTo>
                  <a:pt x="120" y="57"/>
                </a:lnTo>
                <a:lnTo>
                  <a:pt x="62" y="81"/>
                </a:lnTo>
                <a:lnTo>
                  <a:pt x="28" y="81"/>
                </a:lnTo>
                <a:lnTo>
                  <a:pt x="0" y="71"/>
                </a:lnTo>
                <a:lnTo>
                  <a:pt x="46" y="112"/>
                </a:lnTo>
                <a:lnTo>
                  <a:pt x="78" y="90"/>
                </a:lnTo>
                <a:lnTo>
                  <a:pt x="142" y="90"/>
                </a:lnTo>
                <a:lnTo>
                  <a:pt x="175" y="101"/>
                </a:lnTo>
                <a:lnTo>
                  <a:pt x="159" y="114"/>
                </a:lnTo>
                <a:lnTo>
                  <a:pt x="191" y="109"/>
                </a:lnTo>
                <a:lnTo>
                  <a:pt x="226" y="84"/>
                </a:lnTo>
                <a:lnTo>
                  <a:pt x="226" y="76"/>
                </a:lnTo>
                <a:lnTo>
                  <a:pt x="253" y="34"/>
                </a:lnTo>
                <a:lnTo>
                  <a:pt x="253" y="137"/>
                </a:lnTo>
                <a:lnTo>
                  <a:pt x="159" y="244"/>
                </a:lnTo>
                <a:lnTo>
                  <a:pt x="148" y="397"/>
                </a:lnTo>
                <a:lnTo>
                  <a:pt x="168" y="246"/>
                </a:lnTo>
                <a:lnTo>
                  <a:pt x="230" y="219"/>
                </a:lnTo>
                <a:lnTo>
                  <a:pt x="212" y="392"/>
                </a:lnTo>
                <a:lnTo>
                  <a:pt x="78" y="520"/>
                </a:lnTo>
                <a:lnTo>
                  <a:pt x="78" y="529"/>
                </a:lnTo>
                <a:lnTo>
                  <a:pt x="223" y="395"/>
                </a:lnTo>
                <a:lnTo>
                  <a:pt x="244" y="215"/>
                </a:lnTo>
                <a:lnTo>
                  <a:pt x="265" y="194"/>
                </a:lnTo>
                <a:lnTo>
                  <a:pt x="262" y="139"/>
                </a:lnTo>
                <a:lnTo>
                  <a:pt x="262" y="0"/>
                </a:lnTo>
                <a:lnTo>
                  <a:pt x="2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650960" y="2774880"/>
            <a:ext cx="77760" cy="69840"/>
          </a:xfrm>
          <a:custGeom>
            <a:avLst/>
            <a:gdLst/>
            <a:ahLst/>
            <a:rect l="l" t="t" r="r" b="b"/>
            <a:pathLst>
              <a:path w="49" h="44">
                <a:moveTo>
                  <a:pt x="12" y="44"/>
                </a:moveTo>
                <a:lnTo>
                  <a:pt x="0" y="32"/>
                </a:lnTo>
                <a:lnTo>
                  <a:pt x="22" y="0"/>
                </a:lnTo>
                <a:lnTo>
                  <a:pt x="49" y="18"/>
                </a:lnTo>
                <a:lnTo>
                  <a:pt x="12" y="4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73160" y="2774880"/>
            <a:ext cx="7632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37" y="44"/>
                </a:moveTo>
                <a:lnTo>
                  <a:pt x="48" y="32"/>
                </a:lnTo>
                <a:lnTo>
                  <a:pt x="27" y="0"/>
                </a:lnTo>
                <a:lnTo>
                  <a:pt x="0" y="18"/>
                </a:lnTo>
                <a:lnTo>
                  <a:pt x="37" y="4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728720" y="2803680"/>
            <a:ext cx="2444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738440" y="2868480"/>
            <a:ext cx="223560" cy="57240"/>
          </a:xfrm>
          <a:custGeom>
            <a:avLst/>
            <a:gdLst/>
            <a:ahLst/>
            <a:rect l="l" t="t" r="r" b="b"/>
            <a:pathLst>
              <a:path w="141" h="36">
                <a:moveTo>
                  <a:pt x="0" y="18"/>
                </a:moveTo>
                <a:lnTo>
                  <a:pt x="30" y="0"/>
                </a:lnTo>
                <a:lnTo>
                  <a:pt x="108" y="0"/>
                </a:lnTo>
                <a:lnTo>
                  <a:pt x="141" y="18"/>
                </a:lnTo>
                <a:lnTo>
                  <a:pt x="122" y="36"/>
                </a:lnTo>
                <a:lnTo>
                  <a:pt x="91" y="17"/>
                </a:lnTo>
                <a:lnTo>
                  <a:pt x="51" y="17"/>
                </a:lnTo>
                <a:lnTo>
                  <a:pt x="24" y="35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746360" y="2678040"/>
            <a:ext cx="196920" cy="61920"/>
          </a:xfrm>
          <a:custGeom>
            <a:avLst/>
            <a:gdLst/>
            <a:ahLst/>
            <a:rect l="l" t="t" r="r" b="b"/>
            <a:pathLst>
              <a:path w="124" h="39">
                <a:moveTo>
                  <a:pt x="0" y="0"/>
                </a:moveTo>
                <a:lnTo>
                  <a:pt x="21" y="0"/>
                </a:lnTo>
                <a:lnTo>
                  <a:pt x="48" y="20"/>
                </a:lnTo>
                <a:lnTo>
                  <a:pt x="76" y="20"/>
                </a:lnTo>
                <a:lnTo>
                  <a:pt x="102" y="0"/>
                </a:lnTo>
                <a:lnTo>
                  <a:pt x="124" y="0"/>
                </a:lnTo>
                <a:lnTo>
                  <a:pt x="124" y="10"/>
                </a:lnTo>
                <a:lnTo>
                  <a:pt x="86" y="39"/>
                </a:lnTo>
                <a:lnTo>
                  <a:pt x="44" y="39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87680" y="2895480"/>
            <a:ext cx="16488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77" y="0"/>
                </a:moveTo>
                <a:lnTo>
                  <a:pt x="12" y="63"/>
                </a:lnTo>
                <a:lnTo>
                  <a:pt x="0" y="193"/>
                </a:lnTo>
                <a:lnTo>
                  <a:pt x="104" y="214"/>
                </a:lnTo>
                <a:lnTo>
                  <a:pt x="7" y="188"/>
                </a:lnTo>
                <a:lnTo>
                  <a:pt x="19" y="63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844640" y="2895480"/>
            <a:ext cx="16524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28" y="0"/>
                </a:moveTo>
                <a:lnTo>
                  <a:pt x="92" y="63"/>
                </a:lnTo>
                <a:lnTo>
                  <a:pt x="104" y="193"/>
                </a:lnTo>
                <a:lnTo>
                  <a:pt x="0" y="214"/>
                </a:lnTo>
                <a:lnTo>
                  <a:pt x="97" y="188"/>
                </a:lnTo>
                <a:lnTo>
                  <a:pt x="86" y="63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771560" y="3054240"/>
            <a:ext cx="17640" cy="162000"/>
          </a:xfrm>
          <a:custGeom>
            <a:avLst/>
            <a:gdLst/>
            <a:ahLst/>
            <a:rect l="l" t="t" r="r" b="b"/>
            <a:pathLst>
              <a:path w="11" h="102">
                <a:moveTo>
                  <a:pt x="0" y="100"/>
                </a:moveTo>
                <a:lnTo>
                  <a:pt x="11" y="0"/>
                </a:lnTo>
                <a:lnTo>
                  <a:pt x="5" y="102"/>
                </a:lnTo>
                <a:lnTo>
                  <a:pt x="0" y="10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898640" y="3054240"/>
            <a:ext cx="19080" cy="162000"/>
          </a:xfrm>
          <a:custGeom>
            <a:avLst/>
            <a:gdLst/>
            <a:ahLst/>
            <a:rect l="l" t="t" r="r" b="b"/>
            <a:pathLst>
              <a:path w="12" h="102">
                <a:moveTo>
                  <a:pt x="12" y="100"/>
                </a:moveTo>
                <a:lnTo>
                  <a:pt x="0" y="0"/>
                </a:lnTo>
                <a:lnTo>
                  <a:pt x="7" y="102"/>
                </a:lnTo>
                <a:lnTo>
                  <a:pt x="12" y="10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301760" y="2257560"/>
            <a:ext cx="149040" cy="344520"/>
          </a:xfrm>
          <a:custGeom>
            <a:avLst/>
            <a:gdLst/>
            <a:ahLst/>
            <a:rect l="l" t="t" r="r" b="b"/>
            <a:pathLst>
              <a:path w="94" h="217">
                <a:moveTo>
                  <a:pt x="41" y="0"/>
                </a:moveTo>
                <a:lnTo>
                  <a:pt x="0" y="93"/>
                </a:lnTo>
                <a:lnTo>
                  <a:pt x="32" y="146"/>
                </a:lnTo>
                <a:lnTo>
                  <a:pt x="32" y="189"/>
                </a:lnTo>
                <a:lnTo>
                  <a:pt x="94" y="217"/>
                </a:lnTo>
                <a:lnTo>
                  <a:pt x="41" y="182"/>
                </a:lnTo>
                <a:lnTo>
                  <a:pt x="41" y="144"/>
                </a:lnTo>
                <a:lnTo>
                  <a:pt x="10" y="93"/>
                </a:lnTo>
                <a:lnTo>
                  <a:pt x="52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251080" y="2257560"/>
            <a:ext cx="149400" cy="344520"/>
          </a:xfrm>
          <a:custGeom>
            <a:avLst/>
            <a:gdLst/>
            <a:ahLst/>
            <a:rect l="l" t="t" r="r" b="b"/>
            <a:pathLst>
              <a:path w="94" h="217">
                <a:moveTo>
                  <a:pt x="53" y="0"/>
                </a:moveTo>
                <a:lnTo>
                  <a:pt x="94" y="93"/>
                </a:lnTo>
                <a:lnTo>
                  <a:pt x="62" y="146"/>
                </a:lnTo>
                <a:lnTo>
                  <a:pt x="62" y="189"/>
                </a:lnTo>
                <a:lnTo>
                  <a:pt x="0" y="217"/>
                </a:lnTo>
                <a:lnTo>
                  <a:pt x="53" y="182"/>
                </a:lnTo>
                <a:lnTo>
                  <a:pt x="53" y="144"/>
                </a:lnTo>
                <a:lnTo>
                  <a:pt x="83" y="93"/>
                </a:lnTo>
                <a:lnTo>
                  <a:pt x="42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181160" y="2178000"/>
            <a:ext cx="1342800" cy="96840"/>
          </a:xfrm>
          <a:custGeom>
            <a:avLst/>
            <a:gdLst/>
            <a:ahLst/>
            <a:rect l="l" t="t" r="r" b="b"/>
            <a:pathLst>
              <a:path w="846" h="61">
                <a:moveTo>
                  <a:pt x="585" y="32"/>
                </a:moveTo>
                <a:lnTo>
                  <a:pt x="671" y="32"/>
                </a:lnTo>
                <a:lnTo>
                  <a:pt x="726" y="27"/>
                </a:lnTo>
                <a:lnTo>
                  <a:pt x="786" y="15"/>
                </a:lnTo>
                <a:lnTo>
                  <a:pt x="828" y="0"/>
                </a:lnTo>
                <a:lnTo>
                  <a:pt x="846" y="23"/>
                </a:lnTo>
                <a:lnTo>
                  <a:pt x="802" y="41"/>
                </a:lnTo>
                <a:lnTo>
                  <a:pt x="745" y="54"/>
                </a:lnTo>
                <a:lnTo>
                  <a:pt x="687" y="61"/>
                </a:lnTo>
                <a:lnTo>
                  <a:pt x="556" y="61"/>
                </a:lnTo>
                <a:lnTo>
                  <a:pt x="289" y="61"/>
                </a:lnTo>
                <a:lnTo>
                  <a:pt x="158" y="61"/>
                </a:lnTo>
                <a:lnTo>
                  <a:pt x="101" y="54"/>
                </a:lnTo>
                <a:lnTo>
                  <a:pt x="43" y="41"/>
                </a:lnTo>
                <a:lnTo>
                  <a:pt x="0" y="23"/>
                </a:lnTo>
                <a:lnTo>
                  <a:pt x="18" y="0"/>
                </a:lnTo>
                <a:lnTo>
                  <a:pt x="60" y="15"/>
                </a:lnTo>
                <a:lnTo>
                  <a:pt x="119" y="27"/>
                </a:lnTo>
                <a:lnTo>
                  <a:pt x="174" y="32"/>
                </a:lnTo>
                <a:lnTo>
                  <a:pt x="260" y="32"/>
                </a:lnTo>
                <a:lnTo>
                  <a:pt x="585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311120" y="1555920"/>
            <a:ext cx="1078200" cy="669600"/>
          </a:xfrm>
          <a:custGeom>
            <a:avLst/>
            <a:gdLst/>
            <a:ahLst/>
            <a:rect l="l" t="t" r="r" b="b"/>
            <a:pathLst>
              <a:path w="679" h="422">
                <a:moveTo>
                  <a:pt x="679" y="0"/>
                </a:moveTo>
                <a:lnTo>
                  <a:pt x="615" y="422"/>
                </a:lnTo>
                <a:lnTo>
                  <a:pt x="65" y="422"/>
                </a:lnTo>
                <a:lnTo>
                  <a:pt x="0" y="0"/>
                </a:lnTo>
                <a:lnTo>
                  <a:pt x="679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738440" y="1555920"/>
            <a:ext cx="201600" cy="311040"/>
          </a:xfrm>
          <a:custGeom>
            <a:avLst/>
            <a:gdLst/>
            <a:ahLst/>
            <a:rect l="l" t="t" r="r" b="b"/>
            <a:pathLst>
              <a:path w="127" h="196">
                <a:moveTo>
                  <a:pt x="127" y="0"/>
                </a:moveTo>
                <a:lnTo>
                  <a:pt x="113" y="196"/>
                </a:lnTo>
                <a:lnTo>
                  <a:pt x="14" y="196"/>
                </a:lnTo>
                <a:lnTo>
                  <a:pt x="0" y="0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380960" y="1555920"/>
            <a:ext cx="222480" cy="311040"/>
          </a:xfrm>
          <a:custGeom>
            <a:avLst/>
            <a:gdLst/>
            <a:ahLst/>
            <a:rect l="l" t="t" r="r" b="b"/>
            <a:pathLst>
              <a:path w="140" h="196">
                <a:moveTo>
                  <a:pt x="140" y="196"/>
                </a:moveTo>
                <a:lnTo>
                  <a:pt x="108" y="0"/>
                </a:lnTo>
                <a:lnTo>
                  <a:pt x="0" y="0"/>
                </a:lnTo>
                <a:lnTo>
                  <a:pt x="30" y="196"/>
                </a:lnTo>
                <a:lnTo>
                  <a:pt x="140" y="1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093760" y="1555920"/>
            <a:ext cx="222480" cy="311040"/>
          </a:xfrm>
          <a:custGeom>
            <a:avLst/>
            <a:gdLst/>
            <a:ahLst/>
            <a:rect l="l" t="t" r="r" b="b"/>
            <a:pathLst>
              <a:path w="140" h="196">
                <a:moveTo>
                  <a:pt x="0" y="196"/>
                </a:moveTo>
                <a:lnTo>
                  <a:pt x="32" y="0"/>
                </a:lnTo>
                <a:lnTo>
                  <a:pt x="140" y="0"/>
                </a:lnTo>
                <a:lnTo>
                  <a:pt x="110" y="196"/>
                </a:lnTo>
                <a:lnTo>
                  <a:pt x="0" y="1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359000" y="1866960"/>
            <a:ext cx="981000" cy="358560"/>
          </a:xfrm>
          <a:custGeom>
            <a:avLst/>
            <a:gdLst/>
            <a:ahLst/>
            <a:rect l="l" t="t" r="r" b="b"/>
            <a:pathLst>
              <a:path w="618" h="226">
                <a:moveTo>
                  <a:pt x="0" y="0"/>
                </a:moveTo>
                <a:lnTo>
                  <a:pt x="618" y="0"/>
                </a:lnTo>
                <a:lnTo>
                  <a:pt x="585" y="226"/>
                </a:lnTo>
                <a:lnTo>
                  <a:pt x="35" y="226"/>
                </a:lnTo>
                <a:lnTo>
                  <a:pt x="0" y="0"/>
                </a:lnTo>
                <a:close/>
              </a:path>
            </a:pathLst>
          </a:custGeom>
          <a:solidFill>
            <a:srgbClr val="00235b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66920" y="1905120"/>
            <a:ext cx="156960" cy="280800"/>
          </a:xfrm>
          <a:custGeom>
            <a:avLst/>
            <a:gdLst/>
            <a:ahLst/>
            <a:rect l="l" t="t" r="r" b="b"/>
            <a:pathLst>
              <a:path w="99" h="177">
                <a:moveTo>
                  <a:pt x="0" y="0"/>
                </a:moveTo>
                <a:lnTo>
                  <a:pt x="41" y="63"/>
                </a:lnTo>
                <a:lnTo>
                  <a:pt x="99" y="63"/>
                </a:lnTo>
                <a:lnTo>
                  <a:pt x="59" y="98"/>
                </a:lnTo>
                <a:lnTo>
                  <a:pt x="99" y="177"/>
                </a:lnTo>
                <a:lnTo>
                  <a:pt x="21" y="13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178000" y="1905120"/>
            <a:ext cx="157320" cy="280800"/>
          </a:xfrm>
          <a:custGeom>
            <a:avLst/>
            <a:gdLst/>
            <a:ahLst/>
            <a:rect l="l" t="t" r="r" b="b"/>
            <a:pathLst>
              <a:path w="99" h="177">
                <a:moveTo>
                  <a:pt x="99" y="0"/>
                </a:moveTo>
                <a:lnTo>
                  <a:pt x="57" y="63"/>
                </a:lnTo>
                <a:lnTo>
                  <a:pt x="0" y="63"/>
                </a:lnTo>
                <a:lnTo>
                  <a:pt x="39" y="98"/>
                </a:lnTo>
                <a:lnTo>
                  <a:pt x="0" y="177"/>
                </a:lnTo>
                <a:lnTo>
                  <a:pt x="78" y="139"/>
                </a:lnTo>
                <a:lnTo>
                  <a:pt x="99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663560" y="1893960"/>
            <a:ext cx="374760" cy="291960"/>
          </a:xfrm>
          <a:custGeom>
            <a:avLst/>
            <a:gdLst/>
            <a:ahLst/>
            <a:rect l="l" t="t" r="r" b="b"/>
            <a:pathLst>
              <a:path w="236" h="184">
                <a:moveTo>
                  <a:pt x="116" y="0"/>
                </a:moveTo>
                <a:lnTo>
                  <a:pt x="151" y="70"/>
                </a:lnTo>
                <a:lnTo>
                  <a:pt x="236" y="70"/>
                </a:lnTo>
                <a:lnTo>
                  <a:pt x="169" y="106"/>
                </a:lnTo>
                <a:lnTo>
                  <a:pt x="203" y="184"/>
                </a:lnTo>
                <a:lnTo>
                  <a:pt x="119" y="137"/>
                </a:lnTo>
                <a:lnTo>
                  <a:pt x="31" y="184"/>
                </a:lnTo>
                <a:lnTo>
                  <a:pt x="66" y="108"/>
                </a:lnTo>
                <a:lnTo>
                  <a:pt x="0" y="70"/>
                </a:lnTo>
                <a:lnTo>
                  <a:pt x="84" y="70"/>
                </a:lnTo>
                <a:lnTo>
                  <a:pt x="11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967120" y="757080"/>
            <a:ext cx="260028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arnings Per Share - 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57200" y="990720"/>
            <a:ext cx="8229600" cy="29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Simple Capi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Net Income – Preferred Divid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Weighted-average # of common shares out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20000"/>
              </a:lnSpc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Complex Capital Structure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743200" y="2590920"/>
            <a:ext cx="5791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8580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sic EP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57200" y="3733920"/>
            <a:ext cx="8380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371600" y="4495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752480" y="3733920"/>
            <a:ext cx="205740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t income 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preferred divid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ighted aver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mmon sh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962520" y="4419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343400" y="3733920"/>
            <a:ext cx="160020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PS imp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f dilu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ptions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ar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400800" y="3733920"/>
            <a:ext cx="160020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PS imp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f dilu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vert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019920" y="4419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rot="16200000">
            <a:off x="2047680" y="4276800"/>
            <a:ext cx="247680" cy="3276360"/>
          </a:xfrm>
          <a:custGeom>
            <a:avLst/>
            <a:gdLst>
              <a:gd name="textAreaLeft" fmla="*/ 158400 w 247680"/>
              <a:gd name="textAreaRight" fmla="*/ 248040 w 24768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676520" y="6019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rot="16200000">
            <a:off x="4114800" y="2514240"/>
            <a:ext cx="381240" cy="7543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96560 h 7543800"/>
              <a:gd name="textAreaBottom" fmla="*/ 7347240 h 754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657600" y="6400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luted 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arnings Per Share - 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urces of Potential Di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0" name=""/>
          <p:cNvGraphicFramePr/>
          <p:nvPr/>
        </p:nvGraphicFramePr>
        <p:xfrm>
          <a:off x="762120" y="2206800"/>
          <a:ext cx="8610480" cy="35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6800"/>
                    <a:ext cx="861048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2" name=""/>
          <p:cNvSpPr/>
          <p:nvPr/>
        </p:nvSpPr>
        <p:spPr>
          <a:xfrm>
            <a:off x="304920" y="2590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e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31240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eferreed st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286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28600" y="4572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ar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1523880"/>
            <a:ext cx="8534160" cy="469008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Accounting Concept of Incom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sed on accrual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Capture aspects of both economic income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ermanent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Suffers from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easuremen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roblems—yield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accounting analysis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4191120"/>
            <a:ext cx="1904760" cy="1980720"/>
            <a:chOff x="914400" y="4191120"/>
            <a:chExt cx="1904760" cy="1980720"/>
          </a:xfrm>
        </p:grpSpPr>
        <p:sp>
          <p:nvSpPr>
            <p:cNvPr id="260" name=""/>
            <p:cNvSpPr/>
            <p:nvPr/>
          </p:nvSpPr>
          <p:spPr>
            <a:xfrm>
              <a:off x="1263600" y="5352120"/>
              <a:ext cx="1555560" cy="81972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36440" y="4408560"/>
              <a:ext cx="1267200" cy="162324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2160" y="4957920"/>
              <a:ext cx="287280" cy="57960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55440" y="5243400"/>
              <a:ext cx="713520" cy="81360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29880" y="4207320"/>
              <a:ext cx="836640" cy="50652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50040" y="4639680"/>
              <a:ext cx="891360" cy="48384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07720" y="4868280"/>
              <a:ext cx="670320" cy="64008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16320" y="4322520"/>
              <a:ext cx="812520" cy="23112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04800" y="5161320"/>
              <a:ext cx="128160" cy="2462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10840" y="5407560"/>
              <a:ext cx="209520" cy="14508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53960" y="5566680"/>
              <a:ext cx="1174680" cy="44604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34280" y="4998240"/>
              <a:ext cx="1511280" cy="102564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70000" y="5398920"/>
              <a:ext cx="292320" cy="10584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87880" y="5125680"/>
              <a:ext cx="130320" cy="28188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12000" y="4311000"/>
              <a:ext cx="682920" cy="29304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63680" y="5375880"/>
              <a:ext cx="293400" cy="17676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2680" y="4714200"/>
              <a:ext cx="222840" cy="71748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47880" y="4685040"/>
              <a:ext cx="233640" cy="76428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4640" y="4980600"/>
              <a:ext cx="392400" cy="40680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16360" y="4872960"/>
              <a:ext cx="444960" cy="30960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76440" y="5046480"/>
              <a:ext cx="1114560" cy="53280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96200" y="4817520"/>
              <a:ext cx="660960" cy="34740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62640" y="4717800"/>
              <a:ext cx="685080" cy="45576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78560" y="4423680"/>
              <a:ext cx="1378800" cy="56052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1080" y="4203720"/>
              <a:ext cx="1473480" cy="75060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63640" y="5033520"/>
              <a:ext cx="757800" cy="46224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36200" y="4883400"/>
              <a:ext cx="230400" cy="15624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14400" y="4191120"/>
              <a:ext cx="1515600" cy="64044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9440" y="4619160"/>
              <a:ext cx="934560" cy="56808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84680" y="4685040"/>
              <a:ext cx="781920" cy="34632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37360" y="4553640"/>
              <a:ext cx="547200" cy="86400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6560" y="5214240"/>
              <a:ext cx="142200" cy="20340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6800" y="4340160"/>
              <a:ext cx="448200" cy="64008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94040" y="4861800"/>
              <a:ext cx="1608120" cy="74628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53200" y="5184000"/>
              <a:ext cx="147960" cy="26892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18440" y="5296680"/>
              <a:ext cx="231480" cy="9432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92160" y="4964040"/>
              <a:ext cx="1507320" cy="87804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31040" y="5161320"/>
              <a:ext cx="270360" cy="75888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50040" y="5228280"/>
              <a:ext cx="1617840" cy="86868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10760" y="5654160"/>
              <a:ext cx="817920" cy="28872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12200" y="5375880"/>
              <a:ext cx="374400" cy="19584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54080" y="5494680"/>
              <a:ext cx="324000" cy="4896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92120" y="4302000"/>
              <a:ext cx="900720" cy="26784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0280" y="4851720"/>
              <a:ext cx="466200" cy="22608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32040" y="4799880"/>
              <a:ext cx="830520" cy="69444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33080" y="5418720"/>
              <a:ext cx="146160" cy="8460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arnings Per Share - 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505320" y="1295280"/>
            <a:ext cx="22860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pital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505320" y="1905120"/>
            <a:ext cx="228600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ptions, warrants,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vertible secu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utstand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62120" y="3200400"/>
            <a:ext cx="24382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imple capital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295280" y="40384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asic 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52280" y="4952880"/>
            <a:ext cx="36576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Net Income – Preferred divid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ighted average common sh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172200" y="3200400"/>
            <a:ext cx="26668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mplex capital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81680" y="4038480"/>
            <a:ext cx="152424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luted 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038480" y="4952880"/>
            <a:ext cx="4953240" cy="1295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t income to common shares adjusted for Intere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(net of tax) and preferred dividends on dilutive secu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eighted average common shares including dilu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cu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5720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905120" y="2971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9051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5438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90512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Earnings Per Share - 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80880" y="609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28600" y="1066680"/>
            <a:ext cx="8610480" cy="34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illustrate the computation of EPS, consider a company with the following securities outstand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Common Stock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,000,000 shares outstanding for the entir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Preferred stock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00,000 shares outstanding for the entir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Convertible bonds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$5,000,000 6% bonds, sold at par, convertible into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0,000 shares of common st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Employee stock options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ptions to purchase 100,000 shares at $30 have been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tstading for the entire year.  The average market pric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f the company’s common stock during the year is $4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et Income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$3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Preferred dividends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$5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Marginal tax rate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143000" y="4724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ic EP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514600" y="4572000"/>
            <a:ext cx="441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$3,000,000 - $5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419720" y="4724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$2.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990720" y="5562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luted EP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514600" y="5410080"/>
            <a:ext cx="441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$3,000,000 - $50,000 + [($5,000,000 x 6%)(1-.35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000,000 + 200,000 +25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05720" y="5562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$2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1523880"/>
            <a:ext cx="8534160" cy="4810680"/>
          </a:xfrm>
          <a:prstGeom prst="rect">
            <a:avLst/>
          </a:prstGeom>
          <a:solidFill>
            <a:srgbClr val="c0fef9"/>
          </a:solidFill>
          <a:ln w="3816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Revenue Recognition and Matching 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 recogni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Revenues must b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ff"/>
              </a:buClr>
              <a:buFont typeface="Arial"/>
              <a:buAutoNum type="arabicParenR"/>
              <a:tabLst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realized or realizable, 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ff"/>
              </a:buClr>
              <a:buFont typeface="Arial"/>
              <a:buAutoNum type="arabicParenR"/>
              <a:tabLst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ear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Costs/Expenses matched with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recognized reven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Product costs—recognized when product or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service so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389088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Period costs--recognized when incur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52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Income Measurement  </a:t>
            </a: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83808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553080" y="2209680"/>
            <a:ext cx="2089440" cy="2514240"/>
            <a:chOff x="6553080" y="2209680"/>
            <a:chExt cx="2089440" cy="2514240"/>
          </a:xfrm>
        </p:grpSpPr>
        <p:sp>
          <p:nvSpPr>
            <p:cNvPr id="310" name=""/>
            <p:cNvSpPr/>
            <p:nvPr/>
          </p:nvSpPr>
          <p:spPr>
            <a:xfrm>
              <a:off x="6553080" y="2209680"/>
              <a:ext cx="2089440" cy="2354760"/>
            </a:xfrm>
            <a:custGeom>
              <a:avLst/>
              <a:gdLst/>
              <a:ahLst/>
              <a:rect l="l" t="t" r="r" b="b"/>
              <a:pathLst>
                <a:path w="4264" h="4015">
                  <a:moveTo>
                    <a:pt x="2200" y="0"/>
                  </a:moveTo>
                  <a:lnTo>
                    <a:pt x="0" y="2309"/>
                  </a:lnTo>
                  <a:lnTo>
                    <a:pt x="2322" y="4015"/>
                  </a:lnTo>
                  <a:lnTo>
                    <a:pt x="4264" y="2275"/>
                  </a:lnTo>
                  <a:lnTo>
                    <a:pt x="2200" y="0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d8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7280" y="2433600"/>
              <a:ext cx="48600" cy="8100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0" y="29"/>
                  </a:moveTo>
                  <a:lnTo>
                    <a:pt x="8" y="108"/>
                  </a:lnTo>
                  <a:lnTo>
                    <a:pt x="51" y="139"/>
                  </a:lnTo>
                  <a:lnTo>
                    <a:pt x="95" y="108"/>
                  </a:lnTo>
                  <a:lnTo>
                    <a:pt x="101" y="36"/>
                  </a:lnTo>
                  <a:lnTo>
                    <a:pt x="59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39840" y="2420640"/>
              <a:ext cx="95760" cy="135720"/>
            </a:xfrm>
            <a:custGeom>
              <a:avLst/>
              <a:gdLst/>
              <a:ahLst/>
              <a:rect l="l" t="t" r="r" b="b"/>
              <a:pathLst>
                <a:path w="195" h="232">
                  <a:moveTo>
                    <a:pt x="0" y="72"/>
                  </a:moveTo>
                  <a:lnTo>
                    <a:pt x="87" y="152"/>
                  </a:lnTo>
                  <a:lnTo>
                    <a:pt x="136" y="232"/>
                  </a:lnTo>
                  <a:lnTo>
                    <a:pt x="180" y="216"/>
                  </a:lnTo>
                  <a:lnTo>
                    <a:pt x="195" y="144"/>
                  </a:lnTo>
                  <a:lnTo>
                    <a:pt x="159" y="50"/>
                  </a:lnTo>
                  <a:lnTo>
                    <a:pt x="87" y="0"/>
                  </a:lnTo>
                  <a:lnTo>
                    <a:pt x="15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20280" y="2428920"/>
              <a:ext cx="1409400" cy="539280"/>
            </a:xfrm>
            <a:custGeom>
              <a:avLst/>
              <a:gdLst/>
              <a:ahLst/>
              <a:rect l="l" t="t" r="r" b="b"/>
              <a:pathLst>
                <a:path w="2875" h="919">
                  <a:moveTo>
                    <a:pt x="332" y="477"/>
                  </a:moveTo>
                  <a:lnTo>
                    <a:pt x="167" y="506"/>
                  </a:lnTo>
                  <a:lnTo>
                    <a:pt x="57" y="500"/>
                  </a:lnTo>
                  <a:lnTo>
                    <a:pt x="0" y="470"/>
                  </a:lnTo>
                  <a:lnTo>
                    <a:pt x="23" y="354"/>
                  </a:lnTo>
                  <a:lnTo>
                    <a:pt x="95" y="246"/>
                  </a:lnTo>
                  <a:lnTo>
                    <a:pt x="304" y="182"/>
                  </a:lnTo>
                  <a:lnTo>
                    <a:pt x="442" y="94"/>
                  </a:lnTo>
                  <a:lnTo>
                    <a:pt x="622" y="66"/>
                  </a:lnTo>
                  <a:lnTo>
                    <a:pt x="802" y="72"/>
                  </a:lnTo>
                  <a:lnTo>
                    <a:pt x="982" y="130"/>
                  </a:lnTo>
                  <a:lnTo>
                    <a:pt x="1077" y="102"/>
                  </a:lnTo>
                  <a:lnTo>
                    <a:pt x="1229" y="174"/>
                  </a:lnTo>
                  <a:lnTo>
                    <a:pt x="1329" y="261"/>
                  </a:lnTo>
                  <a:lnTo>
                    <a:pt x="1424" y="405"/>
                  </a:lnTo>
                  <a:lnTo>
                    <a:pt x="1481" y="275"/>
                  </a:lnTo>
                  <a:lnTo>
                    <a:pt x="1575" y="341"/>
                  </a:lnTo>
                  <a:lnTo>
                    <a:pt x="1668" y="239"/>
                  </a:lnTo>
                  <a:lnTo>
                    <a:pt x="1784" y="239"/>
                  </a:lnTo>
                  <a:lnTo>
                    <a:pt x="1935" y="202"/>
                  </a:lnTo>
                  <a:lnTo>
                    <a:pt x="2131" y="87"/>
                  </a:lnTo>
                  <a:lnTo>
                    <a:pt x="2297" y="0"/>
                  </a:lnTo>
                  <a:lnTo>
                    <a:pt x="2434" y="22"/>
                  </a:lnTo>
                  <a:lnTo>
                    <a:pt x="2629" y="7"/>
                  </a:lnTo>
                  <a:lnTo>
                    <a:pt x="2817" y="0"/>
                  </a:lnTo>
                  <a:lnTo>
                    <a:pt x="2875" y="79"/>
                  </a:lnTo>
                  <a:lnTo>
                    <a:pt x="2860" y="202"/>
                  </a:lnTo>
                  <a:lnTo>
                    <a:pt x="2773" y="303"/>
                  </a:lnTo>
                  <a:lnTo>
                    <a:pt x="2637" y="413"/>
                  </a:lnTo>
                  <a:lnTo>
                    <a:pt x="1416" y="919"/>
                  </a:lnTo>
                  <a:lnTo>
                    <a:pt x="332" y="477"/>
                  </a:lnTo>
                  <a:lnTo>
                    <a:pt x="332" y="477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71320" y="2577960"/>
              <a:ext cx="1550520" cy="1627560"/>
            </a:xfrm>
            <a:custGeom>
              <a:avLst/>
              <a:gdLst/>
              <a:ahLst/>
              <a:rect l="l" t="t" r="r" b="b"/>
              <a:pathLst>
                <a:path w="3163" h="2777">
                  <a:moveTo>
                    <a:pt x="650" y="43"/>
                  </a:moveTo>
                  <a:lnTo>
                    <a:pt x="375" y="223"/>
                  </a:lnTo>
                  <a:lnTo>
                    <a:pt x="267" y="383"/>
                  </a:lnTo>
                  <a:lnTo>
                    <a:pt x="188" y="599"/>
                  </a:lnTo>
                  <a:lnTo>
                    <a:pt x="136" y="917"/>
                  </a:lnTo>
                  <a:lnTo>
                    <a:pt x="28" y="1279"/>
                  </a:lnTo>
                  <a:lnTo>
                    <a:pt x="0" y="1510"/>
                  </a:lnTo>
                  <a:lnTo>
                    <a:pt x="8" y="1742"/>
                  </a:lnTo>
                  <a:lnTo>
                    <a:pt x="123" y="1924"/>
                  </a:lnTo>
                  <a:lnTo>
                    <a:pt x="267" y="2047"/>
                  </a:lnTo>
                  <a:lnTo>
                    <a:pt x="172" y="2242"/>
                  </a:lnTo>
                  <a:lnTo>
                    <a:pt x="216" y="2299"/>
                  </a:lnTo>
                  <a:lnTo>
                    <a:pt x="317" y="2291"/>
                  </a:lnTo>
                  <a:lnTo>
                    <a:pt x="548" y="2235"/>
                  </a:lnTo>
                  <a:lnTo>
                    <a:pt x="823" y="2545"/>
                  </a:lnTo>
                  <a:lnTo>
                    <a:pt x="997" y="2697"/>
                  </a:lnTo>
                  <a:lnTo>
                    <a:pt x="1169" y="2769"/>
                  </a:lnTo>
                  <a:lnTo>
                    <a:pt x="1840" y="2777"/>
                  </a:lnTo>
                  <a:lnTo>
                    <a:pt x="2202" y="2394"/>
                  </a:lnTo>
                  <a:lnTo>
                    <a:pt x="2557" y="2068"/>
                  </a:lnTo>
                  <a:lnTo>
                    <a:pt x="2788" y="2068"/>
                  </a:lnTo>
                  <a:lnTo>
                    <a:pt x="2831" y="2003"/>
                  </a:lnTo>
                  <a:lnTo>
                    <a:pt x="2788" y="1844"/>
                  </a:lnTo>
                  <a:lnTo>
                    <a:pt x="3047" y="1490"/>
                  </a:lnTo>
                  <a:lnTo>
                    <a:pt x="3148" y="1200"/>
                  </a:lnTo>
                  <a:lnTo>
                    <a:pt x="3163" y="874"/>
                  </a:lnTo>
                  <a:lnTo>
                    <a:pt x="3076" y="534"/>
                  </a:lnTo>
                  <a:lnTo>
                    <a:pt x="2932" y="267"/>
                  </a:lnTo>
                  <a:lnTo>
                    <a:pt x="2737" y="100"/>
                  </a:lnTo>
                  <a:lnTo>
                    <a:pt x="2541" y="36"/>
                  </a:lnTo>
                  <a:lnTo>
                    <a:pt x="2339" y="43"/>
                  </a:lnTo>
                  <a:lnTo>
                    <a:pt x="2143" y="100"/>
                  </a:lnTo>
                  <a:lnTo>
                    <a:pt x="1891" y="252"/>
                  </a:lnTo>
                  <a:lnTo>
                    <a:pt x="1768" y="362"/>
                  </a:lnTo>
                  <a:lnTo>
                    <a:pt x="1603" y="629"/>
                  </a:lnTo>
                  <a:lnTo>
                    <a:pt x="1531" y="498"/>
                  </a:lnTo>
                  <a:lnTo>
                    <a:pt x="1408" y="383"/>
                  </a:lnTo>
                  <a:lnTo>
                    <a:pt x="1234" y="223"/>
                  </a:lnTo>
                  <a:lnTo>
                    <a:pt x="1076" y="79"/>
                  </a:lnTo>
                  <a:lnTo>
                    <a:pt x="902" y="0"/>
                  </a:lnTo>
                  <a:lnTo>
                    <a:pt x="650" y="43"/>
                  </a:lnTo>
                  <a:lnTo>
                    <a:pt x="650" y="43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91800" y="4100400"/>
              <a:ext cx="684000" cy="505080"/>
            </a:xfrm>
            <a:custGeom>
              <a:avLst/>
              <a:gdLst/>
              <a:ahLst/>
              <a:rect l="l" t="t" r="r" b="b"/>
              <a:pathLst>
                <a:path w="1394" h="860">
                  <a:moveTo>
                    <a:pt x="28" y="208"/>
                  </a:moveTo>
                  <a:lnTo>
                    <a:pt x="187" y="85"/>
                  </a:lnTo>
                  <a:lnTo>
                    <a:pt x="405" y="144"/>
                  </a:lnTo>
                  <a:lnTo>
                    <a:pt x="693" y="0"/>
                  </a:lnTo>
                  <a:lnTo>
                    <a:pt x="904" y="21"/>
                  </a:lnTo>
                  <a:lnTo>
                    <a:pt x="1243" y="129"/>
                  </a:lnTo>
                  <a:lnTo>
                    <a:pt x="1394" y="267"/>
                  </a:lnTo>
                  <a:lnTo>
                    <a:pt x="866" y="824"/>
                  </a:lnTo>
                  <a:lnTo>
                    <a:pt x="426" y="860"/>
                  </a:lnTo>
                  <a:lnTo>
                    <a:pt x="0" y="303"/>
                  </a:lnTo>
                  <a:lnTo>
                    <a:pt x="28" y="208"/>
                  </a:lnTo>
                  <a:lnTo>
                    <a:pt x="28" y="208"/>
                  </a:lnTo>
                  <a:close/>
                </a:path>
              </a:pathLst>
            </a:custGeom>
            <a:solidFill>
              <a:srgbClr val="ba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76120" y="4075560"/>
              <a:ext cx="314280" cy="532440"/>
            </a:xfrm>
            <a:custGeom>
              <a:avLst/>
              <a:gdLst/>
              <a:ahLst/>
              <a:rect l="l" t="t" r="r" b="b"/>
              <a:pathLst>
                <a:path w="642" h="910">
                  <a:moveTo>
                    <a:pt x="267" y="101"/>
                  </a:moveTo>
                  <a:lnTo>
                    <a:pt x="0" y="686"/>
                  </a:lnTo>
                  <a:lnTo>
                    <a:pt x="123" y="910"/>
                  </a:lnTo>
                  <a:lnTo>
                    <a:pt x="498" y="874"/>
                  </a:lnTo>
                  <a:lnTo>
                    <a:pt x="642" y="650"/>
                  </a:lnTo>
                  <a:lnTo>
                    <a:pt x="534" y="463"/>
                  </a:lnTo>
                  <a:lnTo>
                    <a:pt x="491" y="303"/>
                  </a:lnTo>
                  <a:lnTo>
                    <a:pt x="470" y="80"/>
                  </a:lnTo>
                  <a:lnTo>
                    <a:pt x="369" y="0"/>
                  </a:lnTo>
                  <a:lnTo>
                    <a:pt x="267" y="101"/>
                  </a:lnTo>
                  <a:lnTo>
                    <a:pt x="267" y="10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47760" y="4092120"/>
              <a:ext cx="158400" cy="534600"/>
            </a:xfrm>
            <a:custGeom>
              <a:avLst/>
              <a:gdLst/>
              <a:ahLst/>
              <a:rect l="l" t="t" r="r" b="b"/>
              <a:pathLst>
                <a:path w="324" h="912">
                  <a:moveTo>
                    <a:pt x="172" y="73"/>
                  </a:moveTo>
                  <a:lnTo>
                    <a:pt x="0" y="594"/>
                  </a:lnTo>
                  <a:lnTo>
                    <a:pt x="0" y="912"/>
                  </a:lnTo>
                  <a:lnTo>
                    <a:pt x="324" y="846"/>
                  </a:lnTo>
                  <a:lnTo>
                    <a:pt x="231" y="319"/>
                  </a:lnTo>
                  <a:lnTo>
                    <a:pt x="288" y="0"/>
                  </a:lnTo>
                  <a:lnTo>
                    <a:pt x="180" y="16"/>
                  </a:lnTo>
                  <a:lnTo>
                    <a:pt x="172" y="73"/>
                  </a:lnTo>
                  <a:lnTo>
                    <a:pt x="172" y="73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02560" y="3918240"/>
              <a:ext cx="871200" cy="715320"/>
            </a:xfrm>
            <a:custGeom>
              <a:avLst/>
              <a:gdLst/>
              <a:ahLst/>
              <a:rect l="l" t="t" r="r" b="b"/>
              <a:pathLst>
                <a:path w="1778" h="1221">
                  <a:moveTo>
                    <a:pt x="0" y="1128"/>
                  </a:moveTo>
                  <a:lnTo>
                    <a:pt x="355" y="578"/>
                  </a:lnTo>
                  <a:lnTo>
                    <a:pt x="643" y="280"/>
                  </a:lnTo>
                  <a:lnTo>
                    <a:pt x="1012" y="0"/>
                  </a:lnTo>
                  <a:lnTo>
                    <a:pt x="1778" y="555"/>
                  </a:lnTo>
                  <a:lnTo>
                    <a:pt x="1706" y="578"/>
                  </a:lnTo>
                  <a:lnTo>
                    <a:pt x="1770" y="650"/>
                  </a:lnTo>
                  <a:lnTo>
                    <a:pt x="1632" y="658"/>
                  </a:lnTo>
                  <a:lnTo>
                    <a:pt x="1748" y="750"/>
                  </a:lnTo>
                  <a:lnTo>
                    <a:pt x="1452" y="830"/>
                  </a:lnTo>
                  <a:lnTo>
                    <a:pt x="1264" y="938"/>
                  </a:lnTo>
                  <a:lnTo>
                    <a:pt x="1097" y="1076"/>
                  </a:lnTo>
                  <a:lnTo>
                    <a:pt x="1033" y="1200"/>
                  </a:lnTo>
                  <a:lnTo>
                    <a:pt x="195" y="1221"/>
                  </a:lnTo>
                  <a:lnTo>
                    <a:pt x="0" y="1128"/>
                  </a:lnTo>
                  <a:lnTo>
                    <a:pt x="0" y="1128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07520" y="4054320"/>
              <a:ext cx="814320" cy="593280"/>
            </a:xfrm>
            <a:custGeom>
              <a:avLst/>
              <a:gdLst/>
              <a:ahLst/>
              <a:rect l="l" t="t" r="r" b="b"/>
              <a:pathLst>
                <a:path w="1663" h="1012">
                  <a:moveTo>
                    <a:pt x="0" y="686"/>
                  </a:moveTo>
                  <a:lnTo>
                    <a:pt x="95" y="629"/>
                  </a:lnTo>
                  <a:lnTo>
                    <a:pt x="16" y="542"/>
                  </a:lnTo>
                  <a:lnTo>
                    <a:pt x="131" y="470"/>
                  </a:lnTo>
                  <a:lnTo>
                    <a:pt x="31" y="391"/>
                  </a:lnTo>
                  <a:lnTo>
                    <a:pt x="491" y="152"/>
                  </a:lnTo>
                  <a:lnTo>
                    <a:pt x="774" y="42"/>
                  </a:lnTo>
                  <a:lnTo>
                    <a:pt x="933" y="0"/>
                  </a:lnTo>
                  <a:lnTo>
                    <a:pt x="1221" y="281"/>
                  </a:lnTo>
                  <a:lnTo>
                    <a:pt x="1424" y="535"/>
                  </a:lnTo>
                  <a:lnTo>
                    <a:pt x="1575" y="802"/>
                  </a:lnTo>
                  <a:lnTo>
                    <a:pt x="1663" y="969"/>
                  </a:lnTo>
                  <a:lnTo>
                    <a:pt x="666" y="1012"/>
                  </a:lnTo>
                  <a:lnTo>
                    <a:pt x="463" y="817"/>
                  </a:lnTo>
                  <a:lnTo>
                    <a:pt x="0" y="686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20880" y="4443840"/>
              <a:ext cx="161640" cy="152280"/>
            </a:xfrm>
            <a:custGeom>
              <a:avLst/>
              <a:gdLst/>
              <a:ahLst/>
              <a:rect l="l" t="t" r="r" b="b"/>
              <a:pathLst>
                <a:path w="332" h="260">
                  <a:moveTo>
                    <a:pt x="116" y="0"/>
                  </a:moveTo>
                  <a:lnTo>
                    <a:pt x="0" y="173"/>
                  </a:lnTo>
                  <a:lnTo>
                    <a:pt x="252" y="260"/>
                  </a:lnTo>
                  <a:lnTo>
                    <a:pt x="332" y="93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28200" y="4523760"/>
              <a:ext cx="165240" cy="148680"/>
            </a:xfrm>
            <a:custGeom>
              <a:avLst/>
              <a:gdLst/>
              <a:ahLst/>
              <a:rect l="l" t="t" r="r" b="b"/>
              <a:pathLst>
                <a:path w="339" h="254">
                  <a:moveTo>
                    <a:pt x="0" y="180"/>
                  </a:moveTo>
                  <a:lnTo>
                    <a:pt x="79" y="15"/>
                  </a:lnTo>
                  <a:lnTo>
                    <a:pt x="331" y="0"/>
                  </a:lnTo>
                  <a:lnTo>
                    <a:pt x="339" y="87"/>
                  </a:lnTo>
                  <a:lnTo>
                    <a:pt x="108" y="254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30000" y="2474640"/>
              <a:ext cx="373320" cy="177120"/>
            </a:xfrm>
            <a:custGeom>
              <a:avLst/>
              <a:gdLst/>
              <a:ahLst/>
              <a:rect l="l" t="t" r="r" b="b"/>
              <a:pathLst>
                <a:path w="762" h="304">
                  <a:moveTo>
                    <a:pt x="762" y="57"/>
                  </a:moveTo>
                  <a:lnTo>
                    <a:pt x="728" y="25"/>
                  </a:lnTo>
                  <a:lnTo>
                    <a:pt x="630" y="6"/>
                  </a:lnTo>
                  <a:lnTo>
                    <a:pt x="556" y="0"/>
                  </a:lnTo>
                  <a:lnTo>
                    <a:pt x="431" y="10"/>
                  </a:lnTo>
                  <a:lnTo>
                    <a:pt x="357" y="31"/>
                  </a:lnTo>
                  <a:lnTo>
                    <a:pt x="311" y="78"/>
                  </a:lnTo>
                  <a:lnTo>
                    <a:pt x="230" y="88"/>
                  </a:lnTo>
                  <a:lnTo>
                    <a:pt x="152" y="101"/>
                  </a:lnTo>
                  <a:lnTo>
                    <a:pt x="71" y="133"/>
                  </a:lnTo>
                  <a:lnTo>
                    <a:pt x="21" y="190"/>
                  </a:lnTo>
                  <a:lnTo>
                    <a:pt x="0" y="249"/>
                  </a:lnTo>
                  <a:lnTo>
                    <a:pt x="10" y="290"/>
                  </a:lnTo>
                  <a:lnTo>
                    <a:pt x="55" y="304"/>
                  </a:lnTo>
                  <a:lnTo>
                    <a:pt x="82" y="243"/>
                  </a:lnTo>
                  <a:lnTo>
                    <a:pt x="127" y="207"/>
                  </a:lnTo>
                  <a:lnTo>
                    <a:pt x="182" y="184"/>
                  </a:lnTo>
                  <a:lnTo>
                    <a:pt x="249" y="171"/>
                  </a:lnTo>
                  <a:lnTo>
                    <a:pt x="323" y="162"/>
                  </a:lnTo>
                  <a:lnTo>
                    <a:pt x="366" y="152"/>
                  </a:lnTo>
                  <a:lnTo>
                    <a:pt x="402" y="127"/>
                  </a:lnTo>
                  <a:lnTo>
                    <a:pt x="423" y="84"/>
                  </a:lnTo>
                  <a:lnTo>
                    <a:pt x="472" y="65"/>
                  </a:lnTo>
                  <a:lnTo>
                    <a:pt x="552" y="57"/>
                  </a:lnTo>
                  <a:lnTo>
                    <a:pt x="635" y="63"/>
                  </a:lnTo>
                  <a:lnTo>
                    <a:pt x="707" y="86"/>
                  </a:lnTo>
                  <a:lnTo>
                    <a:pt x="758" y="84"/>
                  </a:lnTo>
                  <a:lnTo>
                    <a:pt x="762" y="57"/>
                  </a:lnTo>
                  <a:lnTo>
                    <a:pt x="762" y="57"/>
                  </a:lnTo>
                  <a:lnTo>
                    <a:pt x="7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16680" y="2577960"/>
              <a:ext cx="323280" cy="603720"/>
            </a:xfrm>
            <a:custGeom>
              <a:avLst/>
              <a:gdLst/>
              <a:ahLst/>
              <a:rect l="l" t="t" r="r" b="b"/>
              <a:pathLst>
                <a:path w="659" h="1031">
                  <a:moveTo>
                    <a:pt x="76" y="170"/>
                  </a:moveTo>
                  <a:lnTo>
                    <a:pt x="144" y="159"/>
                  </a:lnTo>
                  <a:lnTo>
                    <a:pt x="208" y="136"/>
                  </a:lnTo>
                  <a:lnTo>
                    <a:pt x="271" y="115"/>
                  </a:lnTo>
                  <a:lnTo>
                    <a:pt x="316" y="94"/>
                  </a:lnTo>
                  <a:lnTo>
                    <a:pt x="341" y="53"/>
                  </a:lnTo>
                  <a:lnTo>
                    <a:pt x="394" y="32"/>
                  </a:lnTo>
                  <a:lnTo>
                    <a:pt x="470" y="7"/>
                  </a:lnTo>
                  <a:lnTo>
                    <a:pt x="549" y="0"/>
                  </a:lnTo>
                  <a:lnTo>
                    <a:pt x="606" y="2"/>
                  </a:lnTo>
                  <a:lnTo>
                    <a:pt x="654" y="30"/>
                  </a:lnTo>
                  <a:lnTo>
                    <a:pt x="659" y="58"/>
                  </a:lnTo>
                  <a:lnTo>
                    <a:pt x="618" y="98"/>
                  </a:lnTo>
                  <a:lnTo>
                    <a:pt x="496" y="149"/>
                  </a:lnTo>
                  <a:lnTo>
                    <a:pt x="349" y="250"/>
                  </a:lnTo>
                  <a:lnTo>
                    <a:pt x="256" y="333"/>
                  </a:lnTo>
                  <a:lnTo>
                    <a:pt x="199" y="396"/>
                  </a:lnTo>
                  <a:lnTo>
                    <a:pt x="138" y="542"/>
                  </a:lnTo>
                  <a:lnTo>
                    <a:pt x="95" y="743"/>
                  </a:lnTo>
                  <a:lnTo>
                    <a:pt x="32" y="961"/>
                  </a:lnTo>
                  <a:lnTo>
                    <a:pt x="11" y="1031"/>
                  </a:lnTo>
                  <a:lnTo>
                    <a:pt x="0" y="989"/>
                  </a:lnTo>
                  <a:lnTo>
                    <a:pt x="7" y="826"/>
                  </a:lnTo>
                  <a:lnTo>
                    <a:pt x="26" y="680"/>
                  </a:lnTo>
                  <a:lnTo>
                    <a:pt x="74" y="508"/>
                  </a:lnTo>
                  <a:lnTo>
                    <a:pt x="163" y="320"/>
                  </a:lnTo>
                  <a:lnTo>
                    <a:pt x="258" y="184"/>
                  </a:lnTo>
                  <a:lnTo>
                    <a:pt x="167" y="220"/>
                  </a:lnTo>
                  <a:lnTo>
                    <a:pt x="121" y="233"/>
                  </a:lnTo>
                  <a:lnTo>
                    <a:pt x="76" y="212"/>
                  </a:lnTo>
                  <a:lnTo>
                    <a:pt x="76" y="170"/>
                  </a:lnTo>
                  <a:lnTo>
                    <a:pt x="76" y="170"/>
                  </a:lnTo>
                  <a:lnTo>
                    <a:pt x="76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1920" y="2651760"/>
              <a:ext cx="45000" cy="6768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0" y="24"/>
                  </a:moveTo>
                  <a:lnTo>
                    <a:pt x="39" y="91"/>
                  </a:lnTo>
                  <a:lnTo>
                    <a:pt x="66" y="115"/>
                  </a:lnTo>
                  <a:lnTo>
                    <a:pt x="93" y="100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46720" y="3048120"/>
              <a:ext cx="83160" cy="132120"/>
            </a:xfrm>
            <a:custGeom>
              <a:avLst/>
              <a:gdLst/>
              <a:ahLst/>
              <a:rect l="l" t="t" r="r" b="b"/>
              <a:pathLst>
                <a:path w="171" h="225">
                  <a:moveTo>
                    <a:pt x="0" y="166"/>
                  </a:moveTo>
                  <a:lnTo>
                    <a:pt x="150" y="0"/>
                  </a:lnTo>
                  <a:lnTo>
                    <a:pt x="171" y="37"/>
                  </a:lnTo>
                  <a:lnTo>
                    <a:pt x="93" y="163"/>
                  </a:lnTo>
                  <a:lnTo>
                    <a:pt x="66" y="218"/>
                  </a:lnTo>
                  <a:lnTo>
                    <a:pt x="40" y="225"/>
                  </a:lnTo>
                  <a:lnTo>
                    <a:pt x="9" y="20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4680" y="2947320"/>
              <a:ext cx="207720" cy="60840"/>
            </a:xfrm>
            <a:custGeom>
              <a:avLst/>
              <a:gdLst/>
              <a:ahLst/>
              <a:rect l="l" t="t" r="r" b="b"/>
              <a:pathLst>
                <a:path w="425" h="102">
                  <a:moveTo>
                    <a:pt x="0" y="74"/>
                  </a:moveTo>
                  <a:lnTo>
                    <a:pt x="13" y="49"/>
                  </a:lnTo>
                  <a:lnTo>
                    <a:pt x="48" y="26"/>
                  </a:lnTo>
                  <a:lnTo>
                    <a:pt x="175" y="19"/>
                  </a:lnTo>
                  <a:lnTo>
                    <a:pt x="286" y="13"/>
                  </a:lnTo>
                  <a:lnTo>
                    <a:pt x="410" y="0"/>
                  </a:lnTo>
                  <a:lnTo>
                    <a:pt x="425" y="21"/>
                  </a:lnTo>
                  <a:lnTo>
                    <a:pt x="353" y="53"/>
                  </a:lnTo>
                  <a:lnTo>
                    <a:pt x="216" y="74"/>
                  </a:lnTo>
                  <a:lnTo>
                    <a:pt x="104" y="93"/>
                  </a:lnTo>
                  <a:lnTo>
                    <a:pt x="32" y="10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2800" y="2867400"/>
              <a:ext cx="29520" cy="246240"/>
            </a:xfrm>
            <a:custGeom>
              <a:avLst/>
              <a:gdLst/>
              <a:ahLst/>
              <a:rect l="l" t="t" r="r" b="b"/>
              <a:pathLst>
                <a:path w="59" h="419">
                  <a:moveTo>
                    <a:pt x="0" y="10"/>
                  </a:moveTo>
                  <a:lnTo>
                    <a:pt x="21" y="419"/>
                  </a:lnTo>
                  <a:lnTo>
                    <a:pt x="43" y="399"/>
                  </a:lnTo>
                  <a:lnTo>
                    <a:pt x="59" y="50"/>
                  </a:lnTo>
                  <a:lnTo>
                    <a:pt x="51" y="14"/>
                  </a:lnTo>
                  <a:lnTo>
                    <a:pt x="3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39920" y="2656440"/>
              <a:ext cx="29160" cy="104400"/>
            </a:xfrm>
            <a:custGeom>
              <a:avLst/>
              <a:gdLst/>
              <a:ahLst/>
              <a:rect l="l" t="t" r="r" b="b"/>
              <a:pathLst>
                <a:path w="61" h="178">
                  <a:moveTo>
                    <a:pt x="0" y="23"/>
                  </a:moveTo>
                  <a:lnTo>
                    <a:pt x="12" y="178"/>
                  </a:lnTo>
                  <a:lnTo>
                    <a:pt x="36" y="148"/>
                  </a:lnTo>
                  <a:lnTo>
                    <a:pt x="61" y="63"/>
                  </a:lnTo>
                  <a:lnTo>
                    <a:pt x="59" y="17"/>
                  </a:lnTo>
                  <a:lnTo>
                    <a:pt x="38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11680" y="2469960"/>
              <a:ext cx="177120" cy="148680"/>
            </a:xfrm>
            <a:custGeom>
              <a:avLst/>
              <a:gdLst/>
              <a:ahLst/>
              <a:rect l="l" t="t" r="r" b="b"/>
              <a:pathLst>
                <a:path w="362" h="254">
                  <a:moveTo>
                    <a:pt x="135" y="184"/>
                  </a:moveTo>
                  <a:lnTo>
                    <a:pt x="51" y="134"/>
                  </a:lnTo>
                  <a:lnTo>
                    <a:pt x="13" y="100"/>
                  </a:lnTo>
                  <a:lnTo>
                    <a:pt x="0" y="78"/>
                  </a:lnTo>
                  <a:lnTo>
                    <a:pt x="15" y="36"/>
                  </a:lnTo>
                  <a:lnTo>
                    <a:pt x="59" y="4"/>
                  </a:lnTo>
                  <a:lnTo>
                    <a:pt x="127" y="0"/>
                  </a:lnTo>
                  <a:lnTo>
                    <a:pt x="199" y="24"/>
                  </a:lnTo>
                  <a:lnTo>
                    <a:pt x="271" y="79"/>
                  </a:lnTo>
                  <a:lnTo>
                    <a:pt x="334" y="159"/>
                  </a:lnTo>
                  <a:lnTo>
                    <a:pt x="362" y="214"/>
                  </a:lnTo>
                  <a:lnTo>
                    <a:pt x="343" y="241"/>
                  </a:lnTo>
                  <a:lnTo>
                    <a:pt x="315" y="254"/>
                  </a:lnTo>
                  <a:lnTo>
                    <a:pt x="264" y="241"/>
                  </a:lnTo>
                  <a:lnTo>
                    <a:pt x="248" y="214"/>
                  </a:lnTo>
                  <a:lnTo>
                    <a:pt x="286" y="199"/>
                  </a:lnTo>
                  <a:lnTo>
                    <a:pt x="250" y="140"/>
                  </a:lnTo>
                  <a:lnTo>
                    <a:pt x="193" y="93"/>
                  </a:lnTo>
                  <a:lnTo>
                    <a:pt x="120" y="70"/>
                  </a:lnTo>
                  <a:lnTo>
                    <a:pt x="93" y="78"/>
                  </a:lnTo>
                  <a:lnTo>
                    <a:pt x="106" y="100"/>
                  </a:lnTo>
                  <a:lnTo>
                    <a:pt x="152" y="134"/>
                  </a:lnTo>
                  <a:lnTo>
                    <a:pt x="169" y="178"/>
                  </a:lnTo>
                  <a:lnTo>
                    <a:pt x="135" y="184"/>
                  </a:lnTo>
                  <a:lnTo>
                    <a:pt x="135" y="184"/>
                  </a:lnTo>
                  <a:lnTo>
                    <a:pt x="1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41720" y="2515680"/>
              <a:ext cx="38880" cy="74880"/>
            </a:xfrm>
            <a:custGeom>
              <a:avLst/>
              <a:gdLst/>
              <a:ahLst/>
              <a:rect l="l" t="t" r="r" b="b"/>
              <a:pathLst>
                <a:path w="82" h="128">
                  <a:moveTo>
                    <a:pt x="0" y="17"/>
                  </a:moveTo>
                  <a:lnTo>
                    <a:pt x="15" y="81"/>
                  </a:lnTo>
                  <a:lnTo>
                    <a:pt x="44" y="128"/>
                  </a:lnTo>
                  <a:lnTo>
                    <a:pt x="70" y="123"/>
                  </a:lnTo>
                  <a:lnTo>
                    <a:pt x="82" y="73"/>
                  </a:lnTo>
                  <a:lnTo>
                    <a:pt x="68" y="22"/>
                  </a:lnTo>
                  <a:lnTo>
                    <a:pt x="34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3640" y="2542680"/>
              <a:ext cx="27000" cy="3744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0" y="8"/>
                  </a:moveTo>
                  <a:lnTo>
                    <a:pt x="6" y="57"/>
                  </a:lnTo>
                  <a:lnTo>
                    <a:pt x="29" y="64"/>
                  </a:lnTo>
                  <a:lnTo>
                    <a:pt x="51" y="61"/>
                  </a:lnTo>
                  <a:lnTo>
                    <a:pt x="57" y="36"/>
                  </a:lnTo>
                  <a:lnTo>
                    <a:pt x="42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14360" y="3252240"/>
              <a:ext cx="39240" cy="138240"/>
            </a:xfrm>
            <a:custGeom>
              <a:avLst/>
              <a:gdLst/>
              <a:ahLst/>
              <a:rect l="l" t="t" r="r" b="b"/>
              <a:pathLst>
                <a:path w="80" h="235">
                  <a:moveTo>
                    <a:pt x="0" y="17"/>
                  </a:moveTo>
                  <a:lnTo>
                    <a:pt x="17" y="124"/>
                  </a:lnTo>
                  <a:lnTo>
                    <a:pt x="38" y="228"/>
                  </a:lnTo>
                  <a:lnTo>
                    <a:pt x="68" y="235"/>
                  </a:lnTo>
                  <a:lnTo>
                    <a:pt x="80" y="209"/>
                  </a:lnTo>
                  <a:lnTo>
                    <a:pt x="80" y="144"/>
                  </a:lnTo>
                  <a:lnTo>
                    <a:pt x="70" y="67"/>
                  </a:lnTo>
                  <a:lnTo>
                    <a:pt x="63" y="17"/>
                  </a:lnTo>
                  <a:lnTo>
                    <a:pt x="32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27360" y="3253320"/>
              <a:ext cx="51480" cy="59760"/>
            </a:xfrm>
            <a:custGeom>
              <a:avLst/>
              <a:gdLst/>
              <a:ahLst/>
              <a:rect l="l" t="t" r="r" b="b"/>
              <a:pathLst>
                <a:path w="106" h="103">
                  <a:moveTo>
                    <a:pt x="0" y="38"/>
                  </a:moveTo>
                  <a:lnTo>
                    <a:pt x="17" y="10"/>
                  </a:lnTo>
                  <a:lnTo>
                    <a:pt x="55" y="0"/>
                  </a:lnTo>
                  <a:lnTo>
                    <a:pt x="87" y="10"/>
                  </a:lnTo>
                  <a:lnTo>
                    <a:pt x="106" y="38"/>
                  </a:lnTo>
                  <a:lnTo>
                    <a:pt x="100" y="78"/>
                  </a:lnTo>
                  <a:lnTo>
                    <a:pt x="79" y="99"/>
                  </a:lnTo>
                  <a:lnTo>
                    <a:pt x="45" y="103"/>
                  </a:lnTo>
                  <a:lnTo>
                    <a:pt x="7" y="7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21280" y="3167640"/>
              <a:ext cx="87120" cy="60840"/>
            </a:xfrm>
            <a:custGeom>
              <a:avLst/>
              <a:gdLst/>
              <a:ahLst/>
              <a:rect l="l" t="t" r="r" b="b"/>
              <a:pathLst>
                <a:path w="178" h="104">
                  <a:moveTo>
                    <a:pt x="13" y="12"/>
                  </a:moveTo>
                  <a:lnTo>
                    <a:pt x="41" y="0"/>
                  </a:lnTo>
                  <a:lnTo>
                    <a:pt x="77" y="6"/>
                  </a:lnTo>
                  <a:lnTo>
                    <a:pt x="125" y="27"/>
                  </a:lnTo>
                  <a:lnTo>
                    <a:pt x="170" y="67"/>
                  </a:lnTo>
                  <a:lnTo>
                    <a:pt x="178" y="104"/>
                  </a:lnTo>
                  <a:lnTo>
                    <a:pt x="140" y="97"/>
                  </a:lnTo>
                  <a:lnTo>
                    <a:pt x="72" y="86"/>
                  </a:lnTo>
                  <a:lnTo>
                    <a:pt x="26" y="70"/>
                  </a:lnTo>
                  <a:lnTo>
                    <a:pt x="0" y="46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99760" y="3367080"/>
              <a:ext cx="52560" cy="7128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9" y="53"/>
                  </a:moveTo>
                  <a:lnTo>
                    <a:pt x="34" y="11"/>
                  </a:lnTo>
                  <a:lnTo>
                    <a:pt x="72" y="0"/>
                  </a:lnTo>
                  <a:lnTo>
                    <a:pt x="100" y="19"/>
                  </a:lnTo>
                  <a:lnTo>
                    <a:pt x="108" y="49"/>
                  </a:lnTo>
                  <a:lnTo>
                    <a:pt x="108" y="81"/>
                  </a:lnTo>
                  <a:lnTo>
                    <a:pt x="93" y="104"/>
                  </a:lnTo>
                  <a:lnTo>
                    <a:pt x="49" y="123"/>
                  </a:lnTo>
                  <a:lnTo>
                    <a:pt x="13" y="123"/>
                  </a:lnTo>
                  <a:lnTo>
                    <a:pt x="0" y="98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6920" y="3273480"/>
              <a:ext cx="141840" cy="509760"/>
            </a:xfrm>
            <a:custGeom>
              <a:avLst/>
              <a:gdLst/>
              <a:ahLst/>
              <a:rect l="l" t="t" r="r" b="b"/>
              <a:pathLst>
                <a:path w="290" h="870">
                  <a:moveTo>
                    <a:pt x="70" y="0"/>
                  </a:moveTo>
                  <a:lnTo>
                    <a:pt x="38" y="93"/>
                  </a:lnTo>
                  <a:lnTo>
                    <a:pt x="19" y="199"/>
                  </a:lnTo>
                  <a:lnTo>
                    <a:pt x="5" y="336"/>
                  </a:lnTo>
                  <a:lnTo>
                    <a:pt x="0" y="446"/>
                  </a:lnTo>
                  <a:lnTo>
                    <a:pt x="13" y="518"/>
                  </a:lnTo>
                  <a:lnTo>
                    <a:pt x="36" y="594"/>
                  </a:lnTo>
                  <a:lnTo>
                    <a:pt x="68" y="654"/>
                  </a:lnTo>
                  <a:lnTo>
                    <a:pt x="123" y="728"/>
                  </a:lnTo>
                  <a:lnTo>
                    <a:pt x="201" y="802"/>
                  </a:lnTo>
                  <a:lnTo>
                    <a:pt x="280" y="870"/>
                  </a:lnTo>
                  <a:lnTo>
                    <a:pt x="290" y="800"/>
                  </a:lnTo>
                  <a:lnTo>
                    <a:pt x="220" y="723"/>
                  </a:lnTo>
                  <a:lnTo>
                    <a:pt x="166" y="666"/>
                  </a:lnTo>
                  <a:lnTo>
                    <a:pt x="132" y="613"/>
                  </a:lnTo>
                  <a:lnTo>
                    <a:pt x="108" y="567"/>
                  </a:lnTo>
                  <a:lnTo>
                    <a:pt x="81" y="487"/>
                  </a:lnTo>
                  <a:lnTo>
                    <a:pt x="76" y="412"/>
                  </a:lnTo>
                  <a:lnTo>
                    <a:pt x="70" y="256"/>
                  </a:lnTo>
                  <a:lnTo>
                    <a:pt x="76" y="156"/>
                  </a:lnTo>
                  <a:lnTo>
                    <a:pt x="89" y="63"/>
                  </a:lnTo>
                  <a:lnTo>
                    <a:pt x="98" y="1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69600" y="3216960"/>
              <a:ext cx="81000" cy="622800"/>
            </a:xfrm>
            <a:custGeom>
              <a:avLst/>
              <a:gdLst/>
              <a:ahLst/>
              <a:rect l="l" t="t" r="r" b="b"/>
              <a:pathLst>
                <a:path w="165" h="1061">
                  <a:moveTo>
                    <a:pt x="17" y="34"/>
                  </a:moveTo>
                  <a:lnTo>
                    <a:pt x="55" y="165"/>
                  </a:lnTo>
                  <a:lnTo>
                    <a:pt x="80" y="365"/>
                  </a:lnTo>
                  <a:lnTo>
                    <a:pt x="102" y="555"/>
                  </a:lnTo>
                  <a:lnTo>
                    <a:pt x="91" y="731"/>
                  </a:lnTo>
                  <a:lnTo>
                    <a:pt x="34" y="987"/>
                  </a:lnTo>
                  <a:lnTo>
                    <a:pt x="0" y="1061"/>
                  </a:lnTo>
                  <a:lnTo>
                    <a:pt x="36" y="1046"/>
                  </a:lnTo>
                  <a:lnTo>
                    <a:pt x="98" y="947"/>
                  </a:lnTo>
                  <a:lnTo>
                    <a:pt x="134" y="860"/>
                  </a:lnTo>
                  <a:lnTo>
                    <a:pt x="165" y="697"/>
                  </a:lnTo>
                  <a:lnTo>
                    <a:pt x="165" y="451"/>
                  </a:lnTo>
                  <a:lnTo>
                    <a:pt x="144" y="240"/>
                  </a:lnTo>
                  <a:lnTo>
                    <a:pt x="98" y="70"/>
                  </a:lnTo>
                  <a:lnTo>
                    <a:pt x="55" y="0"/>
                  </a:lnTo>
                  <a:lnTo>
                    <a:pt x="21" y="7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04880" y="3720240"/>
              <a:ext cx="652320" cy="481680"/>
            </a:xfrm>
            <a:custGeom>
              <a:avLst/>
              <a:gdLst/>
              <a:ahLst/>
              <a:rect l="l" t="t" r="r" b="b"/>
              <a:pathLst>
                <a:path w="1332" h="821">
                  <a:moveTo>
                    <a:pt x="0" y="338"/>
                  </a:moveTo>
                  <a:lnTo>
                    <a:pt x="44" y="315"/>
                  </a:lnTo>
                  <a:lnTo>
                    <a:pt x="123" y="300"/>
                  </a:lnTo>
                  <a:lnTo>
                    <a:pt x="243" y="249"/>
                  </a:lnTo>
                  <a:lnTo>
                    <a:pt x="356" y="188"/>
                  </a:lnTo>
                  <a:lnTo>
                    <a:pt x="453" y="124"/>
                  </a:lnTo>
                  <a:lnTo>
                    <a:pt x="550" y="40"/>
                  </a:lnTo>
                  <a:lnTo>
                    <a:pt x="599" y="0"/>
                  </a:lnTo>
                  <a:lnTo>
                    <a:pt x="627" y="17"/>
                  </a:lnTo>
                  <a:lnTo>
                    <a:pt x="612" y="67"/>
                  </a:lnTo>
                  <a:lnTo>
                    <a:pt x="555" y="209"/>
                  </a:lnTo>
                  <a:lnTo>
                    <a:pt x="462" y="342"/>
                  </a:lnTo>
                  <a:lnTo>
                    <a:pt x="415" y="372"/>
                  </a:lnTo>
                  <a:lnTo>
                    <a:pt x="476" y="448"/>
                  </a:lnTo>
                  <a:lnTo>
                    <a:pt x="603" y="561"/>
                  </a:lnTo>
                  <a:lnTo>
                    <a:pt x="694" y="639"/>
                  </a:lnTo>
                  <a:lnTo>
                    <a:pt x="781" y="704"/>
                  </a:lnTo>
                  <a:lnTo>
                    <a:pt x="834" y="724"/>
                  </a:lnTo>
                  <a:lnTo>
                    <a:pt x="881" y="734"/>
                  </a:lnTo>
                  <a:lnTo>
                    <a:pt x="940" y="734"/>
                  </a:lnTo>
                  <a:lnTo>
                    <a:pt x="993" y="723"/>
                  </a:lnTo>
                  <a:lnTo>
                    <a:pt x="1067" y="683"/>
                  </a:lnTo>
                  <a:lnTo>
                    <a:pt x="1124" y="647"/>
                  </a:lnTo>
                  <a:lnTo>
                    <a:pt x="1181" y="569"/>
                  </a:lnTo>
                  <a:lnTo>
                    <a:pt x="1230" y="470"/>
                  </a:lnTo>
                  <a:lnTo>
                    <a:pt x="1298" y="336"/>
                  </a:lnTo>
                  <a:lnTo>
                    <a:pt x="1313" y="321"/>
                  </a:lnTo>
                  <a:lnTo>
                    <a:pt x="1332" y="307"/>
                  </a:lnTo>
                  <a:lnTo>
                    <a:pt x="1327" y="414"/>
                  </a:lnTo>
                  <a:lnTo>
                    <a:pt x="1300" y="525"/>
                  </a:lnTo>
                  <a:lnTo>
                    <a:pt x="1279" y="569"/>
                  </a:lnTo>
                  <a:lnTo>
                    <a:pt x="1306" y="579"/>
                  </a:lnTo>
                  <a:lnTo>
                    <a:pt x="1321" y="616"/>
                  </a:lnTo>
                  <a:lnTo>
                    <a:pt x="1308" y="662"/>
                  </a:lnTo>
                  <a:lnTo>
                    <a:pt x="1260" y="723"/>
                  </a:lnTo>
                  <a:lnTo>
                    <a:pt x="1186" y="766"/>
                  </a:lnTo>
                  <a:lnTo>
                    <a:pt x="1095" y="797"/>
                  </a:lnTo>
                  <a:lnTo>
                    <a:pt x="1018" y="815"/>
                  </a:lnTo>
                  <a:lnTo>
                    <a:pt x="929" y="821"/>
                  </a:lnTo>
                  <a:lnTo>
                    <a:pt x="843" y="814"/>
                  </a:lnTo>
                  <a:lnTo>
                    <a:pt x="716" y="755"/>
                  </a:lnTo>
                  <a:lnTo>
                    <a:pt x="563" y="639"/>
                  </a:lnTo>
                  <a:lnTo>
                    <a:pt x="440" y="510"/>
                  </a:lnTo>
                  <a:lnTo>
                    <a:pt x="277" y="328"/>
                  </a:lnTo>
                  <a:lnTo>
                    <a:pt x="250" y="309"/>
                  </a:lnTo>
                  <a:lnTo>
                    <a:pt x="222" y="315"/>
                  </a:lnTo>
                  <a:lnTo>
                    <a:pt x="178" y="345"/>
                  </a:lnTo>
                  <a:lnTo>
                    <a:pt x="131" y="357"/>
                  </a:lnTo>
                  <a:lnTo>
                    <a:pt x="66" y="364"/>
                  </a:lnTo>
                  <a:lnTo>
                    <a:pt x="23" y="362"/>
                  </a:lnTo>
                  <a:lnTo>
                    <a:pt x="2" y="355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21320" y="4029840"/>
              <a:ext cx="110520" cy="39600"/>
            </a:xfrm>
            <a:custGeom>
              <a:avLst/>
              <a:gdLst/>
              <a:ahLst/>
              <a:rect l="l" t="t" r="r" b="b"/>
              <a:pathLst>
                <a:path w="228" h="69">
                  <a:moveTo>
                    <a:pt x="0" y="0"/>
                  </a:moveTo>
                  <a:lnTo>
                    <a:pt x="84" y="2"/>
                  </a:lnTo>
                  <a:lnTo>
                    <a:pt x="165" y="12"/>
                  </a:lnTo>
                  <a:lnTo>
                    <a:pt x="205" y="23"/>
                  </a:lnTo>
                  <a:lnTo>
                    <a:pt x="228" y="52"/>
                  </a:lnTo>
                  <a:lnTo>
                    <a:pt x="205" y="69"/>
                  </a:lnTo>
                  <a:lnTo>
                    <a:pt x="171" y="52"/>
                  </a:lnTo>
                  <a:lnTo>
                    <a:pt x="99" y="50"/>
                  </a:lnTo>
                  <a:lnTo>
                    <a:pt x="42" y="48"/>
                  </a:lnTo>
                  <a:lnTo>
                    <a:pt x="8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47760" y="4182120"/>
              <a:ext cx="91800" cy="348120"/>
            </a:xfrm>
            <a:custGeom>
              <a:avLst/>
              <a:gdLst/>
              <a:ahLst/>
              <a:rect l="l" t="t" r="r" b="b"/>
              <a:pathLst>
                <a:path w="187" h="595">
                  <a:moveTo>
                    <a:pt x="148" y="0"/>
                  </a:moveTo>
                  <a:lnTo>
                    <a:pt x="106" y="93"/>
                  </a:lnTo>
                  <a:lnTo>
                    <a:pt x="55" y="228"/>
                  </a:lnTo>
                  <a:lnTo>
                    <a:pt x="13" y="370"/>
                  </a:lnTo>
                  <a:lnTo>
                    <a:pt x="0" y="487"/>
                  </a:lnTo>
                  <a:lnTo>
                    <a:pt x="0" y="595"/>
                  </a:lnTo>
                  <a:lnTo>
                    <a:pt x="28" y="580"/>
                  </a:lnTo>
                  <a:lnTo>
                    <a:pt x="47" y="438"/>
                  </a:lnTo>
                  <a:lnTo>
                    <a:pt x="85" y="303"/>
                  </a:lnTo>
                  <a:lnTo>
                    <a:pt x="119" y="201"/>
                  </a:lnTo>
                  <a:lnTo>
                    <a:pt x="170" y="85"/>
                  </a:lnTo>
                  <a:lnTo>
                    <a:pt x="187" y="28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85280" y="4149360"/>
              <a:ext cx="945720" cy="574560"/>
            </a:xfrm>
            <a:custGeom>
              <a:avLst/>
              <a:gdLst/>
              <a:ahLst/>
              <a:rect l="l" t="t" r="r" b="b"/>
              <a:pathLst>
                <a:path w="1929" h="980">
                  <a:moveTo>
                    <a:pt x="1774" y="13"/>
                  </a:moveTo>
                  <a:lnTo>
                    <a:pt x="1768" y="125"/>
                  </a:lnTo>
                  <a:lnTo>
                    <a:pt x="1758" y="301"/>
                  </a:lnTo>
                  <a:lnTo>
                    <a:pt x="1762" y="510"/>
                  </a:lnTo>
                  <a:lnTo>
                    <a:pt x="1774" y="664"/>
                  </a:lnTo>
                  <a:lnTo>
                    <a:pt x="1768" y="700"/>
                  </a:lnTo>
                  <a:lnTo>
                    <a:pt x="1704" y="715"/>
                  </a:lnTo>
                  <a:lnTo>
                    <a:pt x="1613" y="726"/>
                  </a:lnTo>
                  <a:lnTo>
                    <a:pt x="1506" y="764"/>
                  </a:lnTo>
                  <a:lnTo>
                    <a:pt x="1332" y="796"/>
                  </a:lnTo>
                  <a:lnTo>
                    <a:pt x="1110" y="804"/>
                  </a:lnTo>
                  <a:lnTo>
                    <a:pt x="790" y="819"/>
                  </a:lnTo>
                  <a:lnTo>
                    <a:pt x="652" y="832"/>
                  </a:lnTo>
                  <a:lnTo>
                    <a:pt x="620" y="821"/>
                  </a:lnTo>
                  <a:lnTo>
                    <a:pt x="595" y="772"/>
                  </a:lnTo>
                  <a:lnTo>
                    <a:pt x="614" y="749"/>
                  </a:lnTo>
                  <a:lnTo>
                    <a:pt x="654" y="713"/>
                  </a:lnTo>
                  <a:lnTo>
                    <a:pt x="674" y="669"/>
                  </a:lnTo>
                  <a:lnTo>
                    <a:pt x="663" y="629"/>
                  </a:lnTo>
                  <a:lnTo>
                    <a:pt x="595" y="607"/>
                  </a:lnTo>
                  <a:lnTo>
                    <a:pt x="496" y="607"/>
                  </a:lnTo>
                  <a:lnTo>
                    <a:pt x="422" y="637"/>
                  </a:lnTo>
                  <a:lnTo>
                    <a:pt x="350" y="718"/>
                  </a:lnTo>
                  <a:lnTo>
                    <a:pt x="320" y="762"/>
                  </a:lnTo>
                  <a:lnTo>
                    <a:pt x="369" y="798"/>
                  </a:lnTo>
                  <a:lnTo>
                    <a:pt x="407" y="728"/>
                  </a:lnTo>
                  <a:lnTo>
                    <a:pt x="449" y="692"/>
                  </a:lnTo>
                  <a:lnTo>
                    <a:pt x="500" y="679"/>
                  </a:lnTo>
                  <a:lnTo>
                    <a:pt x="561" y="669"/>
                  </a:lnTo>
                  <a:lnTo>
                    <a:pt x="578" y="675"/>
                  </a:lnTo>
                  <a:lnTo>
                    <a:pt x="568" y="703"/>
                  </a:lnTo>
                  <a:lnTo>
                    <a:pt x="386" y="811"/>
                  </a:lnTo>
                  <a:lnTo>
                    <a:pt x="358" y="827"/>
                  </a:lnTo>
                  <a:lnTo>
                    <a:pt x="322" y="817"/>
                  </a:lnTo>
                  <a:lnTo>
                    <a:pt x="276" y="806"/>
                  </a:lnTo>
                  <a:lnTo>
                    <a:pt x="146" y="821"/>
                  </a:lnTo>
                  <a:lnTo>
                    <a:pt x="28" y="853"/>
                  </a:lnTo>
                  <a:lnTo>
                    <a:pt x="4" y="885"/>
                  </a:lnTo>
                  <a:lnTo>
                    <a:pt x="0" y="918"/>
                  </a:lnTo>
                  <a:lnTo>
                    <a:pt x="23" y="940"/>
                  </a:lnTo>
                  <a:lnTo>
                    <a:pt x="93" y="961"/>
                  </a:lnTo>
                  <a:lnTo>
                    <a:pt x="193" y="980"/>
                  </a:lnTo>
                  <a:lnTo>
                    <a:pt x="307" y="980"/>
                  </a:lnTo>
                  <a:lnTo>
                    <a:pt x="436" y="967"/>
                  </a:lnTo>
                  <a:lnTo>
                    <a:pt x="620" y="959"/>
                  </a:lnTo>
                  <a:lnTo>
                    <a:pt x="830" y="948"/>
                  </a:lnTo>
                  <a:lnTo>
                    <a:pt x="1065" y="931"/>
                  </a:lnTo>
                  <a:lnTo>
                    <a:pt x="1271" y="914"/>
                  </a:lnTo>
                  <a:lnTo>
                    <a:pt x="1455" y="919"/>
                  </a:lnTo>
                  <a:lnTo>
                    <a:pt x="1592" y="938"/>
                  </a:lnTo>
                  <a:lnTo>
                    <a:pt x="1662" y="940"/>
                  </a:lnTo>
                  <a:lnTo>
                    <a:pt x="1719" y="933"/>
                  </a:lnTo>
                  <a:lnTo>
                    <a:pt x="1768" y="904"/>
                  </a:lnTo>
                  <a:lnTo>
                    <a:pt x="1796" y="859"/>
                  </a:lnTo>
                  <a:lnTo>
                    <a:pt x="1844" y="845"/>
                  </a:lnTo>
                  <a:lnTo>
                    <a:pt x="1908" y="832"/>
                  </a:lnTo>
                  <a:lnTo>
                    <a:pt x="1929" y="791"/>
                  </a:lnTo>
                  <a:lnTo>
                    <a:pt x="1914" y="730"/>
                  </a:lnTo>
                  <a:lnTo>
                    <a:pt x="1876" y="707"/>
                  </a:lnTo>
                  <a:lnTo>
                    <a:pt x="1840" y="633"/>
                  </a:lnTo>
                  <a:lnTo>
                    <a:pt x="1823" y="482"/>
                  </a:lnTo>
                  <a:lnTo>
                    <a:pt x="1817" y="322"/>
                  </a:lnTo>
                  <a:lnTo>
                    <a:pt x="1823" y="216"/>
                  </a:lnTo>
                  <a:lnTo>
                    <a:pt x="1838" y="119"/>
                  </a:lnTo>
                  <a:lnTo>
                    <a:pt x="1844" y="47"/>
                  </a:lnTo>
                  <a:lnTo>
                    <a:pt x="1825" y="19"/>
                  </a:lnTo>
                  <a:lnTo>
                    <a:pt x="1789" y="0"/>
                  </a:lnTo>
                  <a:lnTo>
                    <a:pt x="1774" y="13"/>
                  </a:lnTo>
                  <a:lnTo>
                    <a:pt x="1774" y="13"/>
                  </a:lnTo>
                  <a:lnTo>
                    <a:pt x="177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44920" y="4206960"/>
              <a:ext cx="276480" cy="363240"/>
            </a:xfrm>
            <a:custGeom>
              <a:avLst/>
              <a:gdLst/>
              <a:ahLst/>
              <a:rect l="l" t="t" r="r" b="b"/>
              <a:pathLst>
                <a:path w="565" h="619">
                  <a:moveTo>
                    <a:pt x="0" y="55"/>
                  </a:moveTo>
                  <a:lnTo>
                    <a:pt x="175" y="202"/>
                  </a:lnTo>
                  <a:lnTo>
                    <a:pt x="298" y="322"/>
                  </a:lnTo>
                  <a:lnTo>
                    <a:pt x="408" y="430"/>
                  </a:lnTo>
                  <a:lnTo>
                    <a:pt x="487" y="536"/>
                  </a:lnTo>
                  <a:lnTo>
                    <a:pt x="546" y="619"/>
                  </a:lnTo>
                  <a:lnTo>
                    <a:pt x="565" y="599"/>
                  </a:lnTo>
                  <a:lnTo>
                    <a:pt x="519" y="500"/>
                  </a:lnTo>
                  <a:lnTo>
                    <a:pt x="396" y="347"/>
                  </a:lnTo>
                  <a:lnTo>
                    <a:pt x="239" y="178"/>
                  </a:lnTo>
                  <a:lnTo>
                    <a:pt x="68" y="19"/>
                  </a:lnTo>
                  <a:lnTo>
                    <a:pt x="32" y="0"/>
                  </a:lnTo>
                  <a:lnTo>
                    <a:pt x="4" y="1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74080" y="4150440"/>
              <a:ext cx="305640" cy="436320"/>
            </a:xfrm>
            <a:custGeom>
              <a:avLst/>
              <a:gdLst/>
              <a:ahLst/>
              <a:rect l="l" t="t" r="r" b="b"/>
              <a:pathLst>
                <a:path w="623" h="745">
                  <a:moveTo>
                    <a:pt x="0" y="47"/>
                  </a:moveTo>
                  <a:lnTo>
                    <a:pt x="146" y="184"/>
                  </a:lnTo>
                  <a:lnTo>
                    <a:pt x="235" y="265"/>
                  </a:lnTo>
                  <a:lnTo>
                    <a:pt x="326" y="358"/>
                  </a:lnTo>
                  <a:lnTo>
                    <a:pt x="443" y="506"/>
                  </a:lnTo>
                  <a:lnTo>
                    <a:pt x="567" y="688"/>
                  </a:lnTo>
                  <a:lnTo>
                    <a:pt x="603" y="745"/>
                  </a:lnTo>
                  <a:lnTo>
                    <a:pt x="623" y="705"/>
                  </a:lnTo>
                  <a:lnTo>
                    <a:pt x="527" y="540"/>
                  </a:lnTo>
                  <a:lnTo>
                    <a:pt x="364" y="337"/>
                  </a:lnTo>
                  <a:lnTo>
                    <a:pt x="278" y="239"/>
                  </a:lnTo>
                  <a:lnTo>
                    <a:pt x="131" y="91"/>
                  </a:lnTo>
                  <a:lnTo>
                    <a:pt x="32" y="0"/>
                  </a:lnTo>
                  <a:lnTo>
                    <a:pt x="4" y="11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99640" y="4087080"/>
              <a:ext cx="334080" cy="500760"/>
            </a:xfrm>
            <a:custGeom>
              <a:avLst/>
              <a:gdLst/>
              <a:ahLst/>
              <a:rect l="l" t="t" r="r" b="b"/>
              <a:pathLst>
                <a:path w="682" h="855">
                  <a:moveTo>
                    <a:pt x="0" y="44"/>
                  </a:moveTo>
                  <a:lnTo>
                    <a:pt x="161" y="205"/>
                  </a:lnTo>
                  <a:lnTo>
                    <a:pt x="290" y="354"/>
                  </a:lnTo>
                  <a:lnTo>
                    <a:pt x="436" y="517"/>
                  </a:lnTo>
                  <a:lnTo>
                    <a:pt x="533" y="650"/>
                  </a:lnTo>
                  <a:lnTo>
                    <a:pt x="608" y="800"/>
                  </a:lnTo>
                  <a:lnTo>
                    <a:pt x="639" y="855"/>
                  </a:lnTo>
                  <a:lnTo>
                    <a:pt x="667" y="849"/>
                  </a:lnTo>
                  <a:lnTo>
                    <a:pt x="682" y="817"/>
                  </a:lnTo>
                  <a:lnTo>
                    <a:pt x="661" y="764"/>
                  </a:lnTo>
                  <a:lnTo>
                    <a:pt x="572" y="608"/>
                  </a:lnTo>
                  <a:lnTo>
                    <a:pt x="389" y="373"/>
                  </a:lnTo>
                  <a:lnTo>
                    <a:pt x="299" y="282"/>
                  </a:lnTo>
                  <a:lnTo>
                    <a:pt x="371" y="244"/>
                  </a:lnTo>
                  <a:lnTo>
                    <a:pt x="461" y="174"/>
                  </a:lnTo>
                  <a:lnTo>
                    <a:pt x="307" y="104"/>
                  </a:lnTo>
                  <a:lnTo>
                    <a:pt x="229" y="197"/>
                  </a:lnTo>
                  <a:lnTo>
                    <a:pt x="95" y="47"/>
                  </a:lnTo>
                  <a:lnTo>
                    <a:pt x="42" y="0"/>
                  </a:lnTo>
                  <a:lnTo>
                    <a:pt x="13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8600" y="4215240"/>
              <a:ext cx="429120" cy="365760"/>
            </a:xfrm>
            <a:custGeom>
              <a:avLst/>
              <a:gdLst/>
              <a:ahLst/>
              <a:rect l="l" t="t" r="r" b="b"/>
              <a:pathLst>
                <a:path w="876" h="624">
                  <a:moveTo>
                    <a:pt x="522" y="624"/>
                  </a:moveTo>
                  <a:lnTo>
                    <a:pt x="400" y="565"/>
                  </a:lnTo>
                  <a:lnTo>
                    <a:pt x="271" y="512"/>
                  </a:lnTo>
                  <a:lnTo>
                    <a:pt x="107" y="464"/>
                  </a:lnTo>
                  <a:lnTo>
                    <a:pt x="0" y="430"/>
                  </a:lnTo>
                  <a:lnTo>
                    <a:pt x="0" y="398"/>
                  </a:lnTo>
                  <a:lnTo>
                    <a:pt x="25" y="368"/>
                  </a:lnTo>
                  <a:lnTo>
                    <a:pt x="101" y="328"/>
                  </a:lnTo>
                  <a:lnTo>
                    <a:pt x="292" y="222"/>
                  </a:lnTo>
                  <a:lnTo>
                    <a:pt x="493" y="108"/>
                  </a:lnTo>
                  <a:lnTo>
                    <a:pt x="673" y="42"/>
                  </a:lnTo>
                  <a:lnTo>
                    <a:pt x="781" y="9"/>
                  </a:lnTo>
                  <a:lnTo>
                    <a:pt x="876" y="0"/>
                  </a:lnTo>
                  <a:lnTo>
                    <a:pt x="859" y="34"/>
                  </a:lnTo>
                  <a:lnTo>
                    <a:pt x="711" y="83"/>
                  </a:lnTo>
                  <a:lnTo>
                    <a:pt x="577" y="127"/>
                  </a:lnTo>
                  <a:lnTo>
                    <a:pt x="393" y="222"/>
                  </a:lnTo>
                  <a:lnTo>
                    <a:pt x="192" y="332"/>
                  </a:lnTo>
                  <a:lnTo>
                    <a:pt x="116" y="375"/>
                  </a:lnTo>
                  <a:lnTo>
                    <a:pt x="108" y="390"/>
                  </a:lnTo>
                  <a:lnTo>
                    <a:pt x="188" y="411"/>
                  </a:lnTo>
                  <a:lnTo>
                    <a:pt x="372" y="472"/>
                  </a:lnTo>
                  <a:lnTo>
                    <a:pt x="486" y="529"/>
                  </a:lnTo>
                  <a:lnTo>
                    <a:pt x="567" y="563"/>
                  </a:lnTo>
                  <a:lnTo>
                    <a:pt x="522" y="624"/>
                  </a:lnTo>
                  <a:lnTo>
                    <a:pt x="522" y="624"/>
                  </a:lnTo>
                  <a:lnTo>
                    <a:pt x="522" y="6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19400" y="4044960"/>
              <a:ext cx="444960" cy="247320"/>
            </a:xfrm>
            <a:custGeom>
              <a:avLst/>
              <a:gdLst/>
              <a:ahLst/>
              <a:rect l="l" t="t" r="r" b="b"/>
              <a:pathLst>
                <a:path w="908" h="423">
                  <a:moveTo>
                    <a:pt x="0" y="396"/>
                  </a:moveTo>
                  <a:lnTo>
                    <a:pt x="137" y="303"/>
                  </a:lnTo>
                  <a:lnTo>
                    <a:pt x="279" y="222"/>
                  </a:lnTo>
                  <a:lnTo>
                    <a:pt x="411" y="155"/>
                  </a:lnTo>
                  <a:lnTo>
                    <a:pt x="571" y="87"/>
                  </a:lnTo>
                  <a:lnTo>
                    <a:pt x="737" y="32"/>
                  </a:lnTo>
                  <a:lnTo>
                    <a:pt x="908" y="0"/>
                  </a:lnTo>
                  <a:lnTo>
                    <a:pt x="889" y="28"/>
                  </a:lnTo>
                  <a:lnTo>
                    <a:pt x="698" y="95"/>
                  </a:lnTo>
                  <a:lnTo>
                    <a:pt x="429" y="214"/>
                  </a:lnTo>
                  <a:lnTo>
                    <a:pt x="175" y="349"/>
                  </a:lnTo>
                  <a:lnTo>
                    <a:pt x="59" y="423"/>
                  </a:lnTo>
                  <a:lnTo>
                    <a:pt x="21" y="419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12560" y="4102200"/>
              <a:ext cx="469440" cy="274320"/>
            </a:xfrm>
            <a:custGeom>
              <a:avLst/>
              <a:gdLst/>
              <a:ahLst/>
              <a:rect l="l" t="t" r="r" b="b"/>
              <a:pathLst>
                <a:path w="959" h="469">
                  <a:moveTo>
                    <a:pt x="0" y="433"/>
                  </a:moveTo>
                  <a:lnTo>
                    <a:pt x="176" y="332"/>
                  </a:lnTo>
                  <a:lnTo>
                    <a:pt x="426" y="199"/>
                  </a:lnTo>
                  <a:lnTo>
                    <a:pt x="625" y="107"/>
                  </a:lnTo>
                  <a:lnTo>
                    <a:pt x="817" y="44"/>
                  </a:lnTo>
                  <a:lnTo>
                    <a:pt x="959" y="0"/>
                  </a:lnTo>
                  <a:lnTo>
                    <a:pt x="953" y="29"/>
                  </a:lnTo>
                  <a:lnTo>
                    <a:pt x="857" y="82"/>
                  </a:lnTo>
                  <a:lnTo>
                    <a:pt x="584" y="186"/>
                  </a:lnTo>
                  <a:lnTo>
                    <a:pt x="335" y="306"/>
                  </a:lnTo>
                  <a:lnTo>
                    <a:pt x="112" y="419"/>
                  </a:lnTo>
                  <a:lnTo>
                    <a:pt x="57" y="467"/>
                  </a:lnTo>
                  <a:lnTo>
                    <a:pt x="23" y="469"/>
                  </a:lnTo>
                  <a:lnTo>
                    <a:pt x="0" y="459"/>
                  </a:lnTo>
                  <a:lnTo>
                    <a:pt x="0" y="433"/>
                  </a:lnTo>
                  <a:lnTo>
                    <a:pt x="0" y="43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80280" y="2773440"/>
              <a:ext cx="746640" cy="94680"/>
            </a:xfrm>
            <a:custGeom>
              <a:avLst/>
              <a:gdLst/>
              <a:ahLst/>
              <a:rect l="l" t="t" r="r" b="b"/>
              <a:pathLst>
                <a:path w="1524" h="163">
                  <a:moveTo>
                    <a:pt x="0" y="127"/>
                  </a:moveTo>
                  <a:lnTo>
                    <a:pt x="53" y="99"/>
                  </a:lnTo>
                  <a:lnTo>
                    <a:pt x="229" y="76"/>
                  </a:lnTo>
                  <a:lnTo>
                    <a:pt x="474" y="48"/>
                  </a:lnTo>
                  <a:lnTo>
                    <a:pt x="731" y="25"/>
                  </a:lnTo>
                  <a:lnTo>
                    <a:pt x="1073" y="6"/>
                  </a:lnTo>
                  <a:lnTo>
                    <a:pt x="1380" y="0"/>
                  </a:lnTo>
                  <a:lnTo>
                    <a:pt x="1524" y="12"/>
                  </a:lnTo>
                  <a:lnTo>
                    <a:pt x="1467" y="40"/>
                  </a:lnTo>
                  <a:lnTo>
                    <a:pt x="1171" y="67"/>
                  </a:lnTo>
                  <a:lnTo>
                    <a:pt x="711" y="101"/>
                  </a:lnTo>
                  <a:lnTo>
                    <a:pt x="333" y="133"/>
                  </a:lnTo>
                  <a:lnTo>
                    <a:pt x="57" y="163"/>
                  </a:lnTo>
                  <a:lnTo>
                    <a:pt x="9" y="158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2360" y="2507400"/>
              <a:ext cx="26280" cy="3744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7" y="6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32" y="65"/>
                  </a:lnTo>
                  <a:lnTo>
                    <a:pt x="55" y="46"/>
                  </a:lnTo>
                  <a:lnTo>
                    <a:pt x="55" y="17"/>
                  </a:lnTo>
                  <a:lnTo>
                    <a:pt x="32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4200" y="2642400"/>
              <a:ext cx="74160" cy="100800"/>
            </a:xfrm>
            <a:custGeom>
              <a:avLst/>
              <a:gdLst/>
              <a:ahLst/>
              <a:rect l="l" t="t" r="r" b="b"/>
              <a:pathLst>
                <a:path w="152" h="172">
                  <a:moveTo>
                    <a:pt x="0" y="161"/>
                  </a:moveTo>
                  <a:lnTo>
                    <a:pt x="76" y="30"/>
                  </a:lnTo>
                  <a:lnTo>
                    <a:pt x="106" y="2"/>
                  </a:lnTo>
                  <a:lnTo>
                    <a:pt x="135" y="0"/>
                  </a:lnTo>
                  <a:lnTo>
                    <a:pt x="152" y="17"/>
                  </a:lnTo>
                  <a:lnTo>
                    <a:pt x="133" y="53"/>
                  </a:lnTo>
                  <a:lnTo>
                    <a:pt x="51" y="146"/>
                  </a:lnTo>
                  <a:lnTo>
                    <a:pt x="29" y="172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39800" y="2966040"/>
              <a:ext cx="164520" cy="84240"/>
            </a:xfrm>
            <a:custGeom>
              <a:avLst/>
              <a:gdLst/>
              <a:ahLst/>
              <a:rect l="l" t="t" r="r" b="b"/>
              <a:pathLst>
                <a:path w="338" h="144">
                  <a:moveTo>
                    <a:pt x="4" y="89"/>
                  </a:moveTo>
                  <a:lnTo>
                    <a:pt x="27" y="59"/>
                  </a:lnTo>
                  <a:lnTo>
                    <a:pt x="103" y="25"/>
                  </a:lnTo>
                  <a:lnTo>
                    <a:pt x="190" y="8"/>
                  </a:lnTo>
                  <a:lnTo>
                    <a:pt x="283" y="0"/>
                  </a:lnTo>
                  <a:lnTo>
                    <a:pt x="338" y="12"/>
                  </a:lnTo>
                  <a:lnTo>
                    <a:pt x="306" y="53"/>
                  </a:lnTo>
                  <a:lnTo>
                    <a:pt x="182" y="104"/>
                  </a:lnTo>
                  <a:lnTo>
                    <a:pt x="105" y="133"/>
                  </a:lnTo>
                  <a:lnTo>
                    <a:pt x="67" y="144"/>
                  </a:lnTo>
                  <a:lnTo>
                    <a:pt x="18" y="133"/>
                  </a:lnTo>
                  <a:lnTo>
                    <a:pt x="0" y="112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6680" y="2565000"/>
              <a:ext cx="72360" cy="51480"/>
            </a:xfrm>
            <a:custGeom>
              <a:avLst/>
              <a:gdLst/>
              <a:ahLst/>
              <a:rect l="l" t="t" r="r" b="b"/>
              <a:pathLst>
                <a:path w="150" h="87">
                  <a:moveTo>
                    <a:pt x="150" y="0"/>
                  </a:moveTo>
                  <a:lnTo>
                    <a:pt x="66" y="17"/>
                  </a:lnTo>
                  <a:lnTo>
                    <a:pt x="11" y="43"/>
                  </a:lnTo>
                  <a:lnTo>
                    <a:pt x="0" y="70"/>
                  </a:lnTo>
                  <a:lnTo>
                    <a:pt x="17" y="87"/>
                  </a:lnTo>
                  <a:lnTo>
                    <a:pt x="51" y="83"/>
                  </a:lnTo>
                  <a:lnTo>
                    <a:pt x="85" y="57"/>
                  </a:lnTo>
                  <a:lnTo>
                    <a:pt x="142" y="38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34040" y="3177000"/>
              <a:ext cx="55440" cy="597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63"/>
                  </a:moveTo>
                  <a:lnTo>
                    <a:pt x="101" y="23"/>
                  </a:lnTo>
                  <a:lnTo>
                    <a:pt x="63" y="0"/>
                  </a:lnTo>
                  <a:lnTo>
                    <a:pt x="29" y="6"/>
                  </a:lnTo>
                  <a:lnTo>
                    <a:pt x="6" y="27"/>
                  </a:lnTo>
                  <a:lnTo>
                    <a:pt x="0" y="52"/>
                  </a:lnTo>
                  <a:lnTo>
                    <a:pt x="6" y="84"/>
                  </a:lnTo>
                  <a:lnTo>
                    <a:pt x="34" y="103"/>
                  </a:lnTo>
                  <a:lnTo>
                    <a:pt x="68" y="95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39040" y="3417480"/>
              <a:ext cx="507600" cy="99720"/>
            </a:xfrm>
            <a:custGeom>
              <a:avLst/>
              <a:gdLst/>
              <a:ahLst/>
              <a:rect l="l" t="t" r="r" b="b"/>
              <a:pathLst>
                <a:path w="1037" h="168">
                  <a:moveTo>
                    <a:pt x="55" y="157"/>
                  </a:moveTo>
                  <a:lnTo>
                    <a:pt x="9" y="151"/>
                  </a:lnTo>
                  <a:lnTo>
                    <a:pt x="0" y="129"/>
                  </a:lnTo>
                  <a:lnTo>
                    <a:pt x="63" y="112"/>
                  </a:lnTo>
                  <a:lnTo>
                    <a:pt x="447" y="93"/>
                  </a:lnTo>
                  <a:lnTo>
                    <a:pt x="616" y="70"/>
                  </a:lnTo>
                  <a:lnTo>
                    <a:pt x="828" y="38"/>
                  </a:lnTo>
                  <a:lnTo>
                    <a:pt x="1037" y="0"/>
                  </a:lnTo>
                  <a:lnTo>
                    <a:pt x="1033" y="24"/>
                  </a:lnTo>
                  <a:lnTo>
                    <a:pt x="794" y="81"/>
                  </a:lnTo>
                  <a:lnTo>
                    <a:pt x="517" y="138"/>
                  </a:lnTo>
                  <a:lnTo>
                    <a:pt x="328" y="155"/>
                  </a:lnTo>
                  <a:lnTo>
                    <a:pt x="148" y="168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16280" y="3553560"/>
              <a:ext cx="554760" cy="100800"/>
            </a:xfrm>
            <a:custGeom>
              <a:avLst/>
              <a:gdLst/>
              <a:ahLst/>
              <a:rect l="l" t="t" r="r" b="b"/>
              <a:pathLst>
                <a:path w="1131" h="173">
                  <a:moveTo>
                    <a:pt x="2" y="133"/>
                  </a:moveTo>
                  <a:lnTo>
                    <a:pt x="30" y="104"/>
                  </a:lnTo>
                  <a:lnTo>
                    <a:pt x="299" y="76"/>
                  </a:lnTo>
                  <a:lnTo>
                    <a:pt x="648" y="51"/>
                  </a:lnTo>
                  <a:lnTo>
                    <a:pt x="970" y="13"/>
                  </a:lnTo>
                  <a:lnTo>
                    <a:pt x="1127" y="0"/>
                  </a:lnTo>
                  <a:lnTo>
                    <a:pt x="1131" y="23"/>
                  </a:lnTo>
                  <a:lnTo>
                    <a:pt x="940" y="80"/>
                  </a:lnTo>
                  <a:lnTo>
                    <a:pt x="703" y="127"/>
                  </a:lnTo>
                  <a:lnTo>
                    <a:pt x="256" y="169"/>
                  </a:lnTo>
                  <a:lnTo>
                    <a:pt x="47" y="173"/>
                  </a:lnTo>
                  <a:lnTo>
                    <a:pt x="0" y="155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47560" y="4576320"/>
              <a:ext cx="642960" cy="98280"/>
            </a:xfrm>
            <a:custGeom>
              <a:avLst/>
              <a:gdLst/>
              <a:ahLst/>
              <a:rect l="l" t="t" r="r" b="b"/>
              <a:pathLst>
                <a:path w="1314" h="169">
                  <a:moveTo>
                    <a:pt x="4" y="21"/>
                  </a:moveTo>
                  <a:lnTo>
                    <a:pt x="0" y="45"/>
                  </a:lnTo>
                  <a:lnTo>
                    <a:pt x="4" y="81"/>
                  </a:lnTo>
                  <a:lnTo>
                    <a:pt x="29" y="116"/>
                  </a:lnTo>
                  <a:lnTo>
                    <a:pt x="108" y="144"/>
                  </a:lnTo>
                  <a:lnTo>
                    <a:pt x="235" y="167"/>
                  </a:lnTo>
                  <a:lnTo>
                    <a:pt x="379" y="167"/>
                  </a:lnTo>
                  <a:lnTo>
                    <a:pt x="616" y="155"/>
                  </a:lnTo>
                  <a:lnTo>
                    <a:pt x="720" y="146"/>
                  </a:lnTo>
                  <a:lnTo>
                    <a:pt x="825" y="146"/>
                  </a:lnTo>
                  <a:lnTo>
                    <a:pt x="900" y="161"/>
                  </a:lnTo>
                  <a:lnTo>
                    <a:pt x="1031" y="169"/>
                  </a:lnTo>
                  <a:lnTo>
                    <a:pt x="1130" y="163"/>
                  </a:lnTo>
                  <a:lnTo>
                    <a:pt x="1232" y="144"/>
                  </a:lnTo>
                  <a:lnTo>
                    <a:pt x="1293" y="127"/>
                  </a:lnTo>
                  <a:lnTo>
                    <a:pt x="1314" y="95"/>
                  </a:lnTo>
                  <a:lnTo>
                    <a:pt x="1308" y="45"/>
                  </a:lnTo>
                  <a:lnTo>
                    <a:pt x="1262" y="2"/>
                  </a:lnTo>
                  <a:lnTo>
                    <a:pt x="1209" y="0"/>
                  </a:lnTo>
                  <a:lnTo>
                    <a:pt x="1135" y="19"/>
                  </a:lnTo>
                  <a:lnTo>
                    <a:pt x="933" y="25"/>
                  </a:lnTo>
                  <a:lnTo>
                    <a:pt x="696" y="36"/>
                  </a:lnTo>
                  <a:lnTo>
                    <a:pt x="442" y="47"/>
                  </a:lnTo>
                  <a:lnTo>
                    <a:pt x="311" y="42"/>
                  </a:lnTo>
                  <a:lnTo>
                    <a:pt x="178" y="21"/>
                  </a:lnTo>
                  <a:lnTo>
                    <a:pt x="38" y="1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10440" y="4435560"/>
              <a:ext cx="170280" cy="137160"/>
            </a:xfrm>
            <a:custGeom>
              <a:avLst/>
              <a:gdLst/>
              <a:ahLst/>
              <a:rect l="l" t="t" r="r" b="b"/>
              <a:pathLst>
                <a:path w="349" h="235">
                  <a:moveTo>
                    <a:pt x="349" y="91"/>
                  </a:moveTo>
                  <a:lnTo>
                    <a:pt x="286" y="122"/>
                  </a:lnTo>
                  <a:lnTo>
                    <a:pt x="243" y="91"/>
                  </a:lnTo>
                  <a:lnTo>
                    <a:pt x="193" y="70"/>
                  </a:lnTo>
                  <a:lnTo>
                    <a:pt x="154" y="68"/>
                  </a:lnTo>
                  <a:lnTo>
                    <a:pt x="123" y="99"/>
                  </a:lnTo>
                  <a:lnTo>
                    <a:pt x="93" y="139"/>
                  </a:lnTo>
                  <a:lnTo>
                    <a:pt x="95" y="167"/>
                  </a:lnTo>
                  <a:lnTo>
                    <a:pt x="157" y="169"/>
                  </a:lnTo>
                  <a:lnTo>
                    <a:pt x="216" y="173"/>
                  </a:lnTo>
                  <a:lnTo>
                    <a:pt x="284" y="152"/>
                  </a:lnTo>
                  <a:lnTo>
                    <a:pt x="341" y="135"/>
                  </a:lnTo>
                  <a:lnTo>
                    <a:pt x="343" y="167"/>
                  </a:lnTo>
                  <a:lnTo>
                    <a:pt x="326" y="186"/>
                  </a:lnTo>
                  <a:lnTo>
                    <a:pt x="248" y="218"/>
                  </a:lnTo>
                  <a:lnTo>
                    <a:pt x="163" y="231"/>
                  </a:lnTo>
                  <a:lnTo>
                    <a:pt x="95" y="235"/>
                  </a:lnTo>
                  <a:lnTo>
                    <a:pt x="49" y="224"/>
                  </a:lnTo>
                  <a:lnTo>
                    <a:pt x="0" y="195"/>
                  </a:lnTo>
                  <a:lnTo>
                    <a:pt x="0" y="167"/>
                  </a:lnTo>
                  <a:lnTo>
                    <a:pt x="44" y="114"/>
                  </a:lnTo>
                  <a:lnTo>
                    <a:pt x="89" y="25"/>
                  </a:lnTo>
                  <a:lnTo>
                    <a:pt x="127" y="0"/>
                  </a:lnTo>
                  <a:lnTo>
                    <a:pt x="188" y="6"/>
                  </a:lnTo>
                  <a:lnTo>
                    <a:pt x="273" y="48"/>
                  </a:lnTo>
                  <a:lnTo>
                    <a:pt x="349" y="91"/>
                  </a:lnTo>
                  <a:lnTo>
                    <a:pt x="349" y="91"/>
                  </a:lnTo>
                  <a:lnTo>
                    <a:pt x="34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36840" y="4140000"/>
              <a:ext cx="345960" cy="425520"/>
            </a:xfrm>
            <a:custGeom>
              <a:avLst/>
              <a:gdLst/>
              <a:ahLst/>
              <a:rect l="l" t="t" r="r" b="b"/>
              <a:pathLst>
                <a:path w="707" h="726">
                  <a:moveTo>
                    <a:pt x="0" y="716"/>
                  </a:moveTo>
                  <a:lnTo>
                    <a:pt x="66" y="595"/>
                  </a:lnTo>
                  <a:lnTo>
                    <a:pt x="156" y="472"/>
                  </a:lnTo>
                  <a:lnTo>
                    <a:pt x="294" y="320"/>
                  </a:lnTo>
                  <a:lnTo>
                    <a:pt x="415" y="188"/>
                  </a:lnTo>
                  <a:lnTo>
                    <a:pt x="569" y="70"/>
                  </a:lnTo>
                  <a:lnTo>
                    <a:pt x="677" y="0"/>
                  </a:lnTo>
                  <a:lnTo>
                    <a:pt x="707" y="34"/>
                  </a:lnTo>
                  <a:lnTo>
                    <a:pt x="663" y="72"/>
                  </a:lnTo>
                  <a:lnTo>
                    <a:pt x="504" y="182"/>
                  </a:lnTo>
                  <a:lnTo>
                    <a:pt x="322" y="360"/>
                  </a:lnTo>
                  <a:lnTo>
                    <a:pt x="186" y="510"/>
                  </a:lnTo>
                  <a:lnTo>
                    <a:pt x="66" y="665"/>
                  </a:lnTo>
                  <a:lnTo>
                    <a:pt x="29" y="726"/>
                  </a:lnTo>
                  <a:lnTo>
                    <a:pt x="0" y="716"/>
                  </a:lnTo>
                  <a:lnTo>
                    <a:pt x="0" y="716"/>
                  </a:lnTo>
                  <a:lnTo>
                    <a:pt x="0" y="7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85000" y="4040280"/>
              <a:ext cx="388080" cy="532440"/>
            </a:xfrm>
            <a:custGeom>
              <a:avLst/>
              <a:gdLst/>
              <a:ahLst/>
              <a:rect l="l" t="t" r="r" b="b"/>
              <a:pathLst>
                <a:path w="790" h="908">
                  <a:moveTo>
                    <a:pt x="0" y="908"/>
                  </a:moveTo>
                  <a:lnTo>
                    <a:pt x="49" y="772"/>
                  </a:lnTo>
                  <a:lnTo>
                    <a:pt x="142" y="609"/>
                  </a:lnTo>
                  <a:lnTo>
                    <a:pt x="267" y="432"/>
                  </a:lnTo>
                  <a:lnTo>
                    <a:pt x="430" y="264"/>
                  </a:lnTo>
                  <a:lnTo>
                    <a:pt x="608" y="105"/>
                  </a:lnTo>
                  <a:lnTo>
                    <a:pt x="745" y="0"/>
                  </a:lnTo>
                  <a:lnTo>
                    <a:pt x="790" y="36"/>
                  </a:lnTo>
                  <a:lnTo>
                    <a:pt x="690" y="108"/>
                  </a:lnTo>
                  <a:lnTo>
                    <a:pt x="532" y="252"/>
                  </a:lnTo>
                  <a:lnTo>
                    <a:pt x="366" y="408"/>
                  </a:lnTo>
                  <a:lnTo>
                    <a:pt x="214" y="605"/>
                  </a:lnTo>
                  <a:lnTo>
                    <a:pt x="121" y="755"/>
                  </a:lnTo>
                  <a:lnTo>
                    <a:pt x="64" y="840"/>
                  </a:lnTo>
                  <a:lnTo>
                    <a:pt x="32" y="899"/>
                  </a:lnTo>
                  <a:lnTo>
                    <a:pt x="0" y="908"/>
                  </a:lnTo>
                  <a:lnTo>
                    <a:pt x="0" y="908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27040" y="3921840"/>
              <a:ext cx="452520" cy="657720"/>
            </a:xfrm>
            <a:custGeom>
              <a:avLst/>
              <a:gdLst/>
              <a:ahLst/>
              <a:rect l="l" t="t" r="r" b="b"/>
              <a:pathLst>
                <a:path w="925" h="1123">
                  <a:moveTo>
                    <a:pt x="0" y="1090"/>
                  </a:moveTo>
                  <a:lnTo>
                    <a:pt x="86" y="889"/>
                  </a:lnTo>
                  <a:lnTo>
                    <a:pt x="218" y="679"/>
                  </a:lnTo>
                  <a:lnTo>
                    <a:pt x="385" y="450"/>
                  </a:lnTo>
                  <a:lnTo>
                    <a:pt x="531" y="296"/>
                  </a:lnTo>
                  <a:lnTo>
                    <a:pt x="675" y="167"/>
                  </a:lnTo>
                  <a:lnTo>
                    <a:pt x="813" y="57"/>
                  </a:lnTo>
                  <a:lnTo>
                    <a:pt x="893" y="0"/>
                  </a:lnTo>
                  <a:lnTo>
                    <a:pt x="925" y="12"/>
                  </a:lnTo>
                  <a:lnTo>
                    <a:pt x="925" y="48"/>
                  </a:lnTo>
                  <a:lnTo>
                    <a:pt x="831" y="116"/>
                  </a:lnTo>
                  <a:lnTo>
                    <a:pt x="635" y="268"/>
                  </a:lnTo>
                  <a:lnTo>
                    <a:pt x="480" y="438"/>
                  </a:lnTo>
                  <a:lnTo>
                    <a:pt x="359" y="571"/>
                  </a:lnTo>
                  <a:lnTo>
                    <a:pt x="262" y="711"/>
                  </a:lnTo>
                  <a:lnTo>
                    <a:pt x="158" y="882"/>
                  </a:lnTo>
                  <a:lnTo>
                    <a:pt x="86" y="1020"/>
                  </a:lnTo>
                  <a:lnTo>
                    <a:pt x="36" y="1096"/>
                  </a:lnTo>
                  <a:lnTo>
                    <a:pt x="12" y="1123"/>
                  </a:lnTo>
                  <a:lnTo>
                    <a:pt x="0" y="1090"/>
                  </a:lnTo>
                  <a:lnTo>
                    <a:pt x="0" y="1090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0120" y="4078080"/>
              <a:ext cx="63720" cy="36360"/>
            </a:xfrm>
            <a:custGeom>
              <a:avLst/>
              <a:gdLst/>
              <a:ahLst/>
              <a:rect l="l" t="t" r="r" b="b"/>
              <a:pathLst>
                <a:path w="130" h="60">
                  <a:moveTo>
                    <a:pt x="17" y="0"/>
                  </a:moveTo>
                  <a:lnTo>
                    <a:pt x="113" y="0"/>
                  </a:lnTo>
                  <a:lnTo>
                    <a:pt x="130" y="60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60440" y="3654360"/>
              <a:ext cx="552600" cy="570960"/>
            </a:xfrm>
            <a:custGeom>
              <a:avLst/>
              <a:gdLst/>
              <a:ahLst/>
              <a:rect l="l" t="t" r="r" b="b"/>
              <a:pathLst>
                <a:path w="1128" h="974">
                  <a:moveTo>
                    <a:pt x="2" y="623"/>
                  </a:moveTo>
                  <a:lnTo>
                    <a:pt x="0" y="697"/>
                  </a:lnTo>
                  <a:lnTo>
                    <a:pt x="13" y="767"/>
                  </a:lnTo>
                  <a:lnTo>
                    <a:pt x="78" y="849"/>
                  </a:lnTo>
                  <a:lnTo>
                    <a:pt x="134" y="909"/>
                  </a:lnTo>
                  <a:lnTo>
                    <a:pt x="203" y="923"/>
                  </a:lnTo>
                  <a:lnTo>
                    <a:pt x="286" y="911"/>
                  </a:lnTo>
                  <a:lnTo>
                    <a:pt x="330" y="894"/>
                  </a:lnTo>
                  <a:lnTo>
                    <a:pt x="352" y="894"/>
                  </a:lnTo>
                  <a:lnTo>
                    <a:pt x="404" y="923"/>
                  </a:lnTo>
                  <a:lnTo>
                    <a:pt x="502" y="974"/>
                  </a:lnTo>
                  <a:lnTo>
                    <a:pt x="584" y="871"/>
                  </a:lnTo>
                  <a:lnTo>
                    <a:pt x="496" y="811"/>
                  </a:lnTo>
                  <a:lnTo>
                    <a:pt x="417" y="777"/>
                  </a:lnTo>
                  <a:lnTo>
                    <a:pt x="468" y="739"/>
                  </a:lnTo>
                  <a:lnTo>
                    <a:pt x="578" y="638"/>
                  </a:lnTo>
                  <a:lnTo>
                    <a:pt x="701" y="513"/>
                  </a:lnTo>
                  <a:lnTo>
                    <a:pt x="822" y="390"/>
                  </a:lnTo>
                  <a:lnTo>
                    <a:pt x="947" y="244"/>
                  </a:lnTo>
                  <a:lnTo>
                    <a:pt x="982" y="225"/>
                  </a:lnTo>
                  <a:lnTo>
                    <a:pt x="1046" y="227"/>
                  </a:lnTo>
                  <a:lnTo>
                    <a:pt x="1109" y="221"/>
                  </a:lnTo>
                  <a:lnTo>
                    <a:pt x="1128" y="202"/>
                  </a:lnTo>
                  <a:lnTo>
                    <a:pt x="1088" y="191"/>
                  </a:lnTo>
                  <a:lnTo>
                    <a:pt x="942" y="157"/>
                  </a:lnTo>
                  <a:lnTo>
                    <a:pt x="843" y="132"/>
                  </a:lnTo>
                  <a:lnTo>
                    <a:pt x="733" y="72"/>
                  </a:lnTo>
                  <a:lnTo>
                    <a:pt x="646" y="22"/>
                  </a:lnTo>
                  <a:lnTo>
                    <a:pt x="612" y="0"/>
                  </a:lnTo>
                  <a:lnTo>
                    <a:pt x="572" y="5"/>
                  </a:lnTo>
                  <a:lnTo>
                    <a:pt x="563" y="28"/>
                  </a:lnTo>
                  <a:lnTo>
                    <a:pt x="578" y="75"/>
                  </a:lnTo>
                  <a:lnTo>
                    <a:pt x="612" y="140"/>
                  </a:lnTo>
                  <a:lnTo>
                    <a:pt x="712" y="307"/>
                  </a:lnTo>
                  <a:lnTo>
                    <a:pt x="739" y="318"/>
                  </a:lnTo>
                  <a:lnTo>
                    <a:pt x="758" y="329"/>
                  </a:lnTo>
                  <a:lnTo>
                    <a:pt x="747" y="363"/>
                  </a:lnTo>
                  <a:lnTo>
                    <a:pt x="584" y="521"/>
                  </a:lnTo>
                  <a:lnTo>
                    <a:pt x="434" y="657"/>
                  </a:lnTo>
                  <a:lnTo>
                    <a:pt x="318" y="743"/>
                  </a:lnTo>
                  <a:lnTo>
                    <a:pt x="271" y="756"/>
                  </a:lnTo>
                  <a:lnTo>
                    <a:pt x="231" y="760"/>
                  </a:lnTo>
                  <a:lnTo>
                    <a:pt x="197" y="756"/>
                  </a:lnTo>
                  <a:lnTo>
                    <a:pt x="157" y="744"/>
                  </a:lnTo>
                  <a:lnTo>
                    <a:pt x="117" y="707"/>
                  </a:lnTo>
                  <a:lnTo>
                    <a:pt x="81" y="655"/>
                  </a:lnTo>
                  <a:lnTo>
                    <a:pt x="61" y="629"/>
                  </a:lnTo>
                  <a:lnTo>
                    <a:pt x="40" y="617"/>
                  </a:lnTo>
                  <a:lnTo>
                    <a:pt x="15" y="617"/>
                  </a:lnTo>
                  <a:lnTo>
                    <a:pt x="2" y="623"/>
                  </a:lnTo>
                  <a:lnTo>
                    <a:pt x="2" y="623"/>
                  </a:lnTo>
                  <a:lnTo>
                    <a:pt x="2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40720" y="3869280"/>
              <a:ext cx="177120" cy="13356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0" y="40"/>
                  </a:moveTo>
                  <a:lnTo>
                    <a:pt x="53" y="86"/>
                  </a:lnTo>
                  <a:lnTo>
                    <a:pt x="146" y="154"/>
                  </a:lnTo>
                  <a:lnTo>
                    <a:pt x="218" y="201"/>
                  </a:lnTo>
                  <a:lnTo>
                    <a:pt x="277" y="228"/>
                  </a:lnTo>
                  <a:lnTo>
                    <a:pt x="324" y="222"/>
                  </a:lnTo>
                  <a:lnTo>
                    <a:pt x="356" y="190"/>
                  </a:lnTo>
                  <a:lnTo>
                    <a:pt x="362" y="156"/>
                  </a:lnTo>
                  <a:lnTo>
                    <a:pt x="301" y="148"/>
                  </a:lnTo>
                  <a:lnTo>
                    <a:pt x="224" y="124"/>
                  </a:lnTo>
                  <a:lnTo>
                    <a:pt x="146" y="78"/>
                  </a:lnTo>
                  <a:lnTo>
                    <a:pt x="127" y="34"/>
                  </a:lnTo>
                  <a:lnTo>
                    <a:pt x="98" y="8"/>
                  </a:lnTo>
                  <a:lnTo>
                    <a:pt x="62" y="0"/>
                  </a:lnTo>
                  <a:lnTo>
                    <a:pt x="28" y="0"/>
                  </a:lnTo>
                  <a:lnTo>
                    <a:pt x="6" y="1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95400" y="3918240"/>
              <a:ext cx="387000" cy="340920"/>
            </a:xfrm>
            <a:custGeom>
              <a:avLst/>
              <a:gdLst/>
              <a:ahLst/>
              <a:rect l="l" t="t" r="r" b="b"/>
              <a:pathLst>
                <a:path w="790" h="582">
                  <a:moveTo>
                    <a:pt x="11" y="0"/>
                  </a:moveTo>
                  <a:lnTo>
                    <a:pt x="64" y="5"/>
                  </a:lnTo>
                  <a:lnTo>
                    <a:pt x="106" y="17"/>
                  </a:lnTo>
                  <a:lnTo>
                    <a:pt x="227" y="93"/>
                  </a:lnTo>
                  <a:lnTo>
                    <a:pt x="386" y="216"/>
                  </a:lnTo>
                  <a:lnTo>
                    <a:pt x="564" y="356"/>
                  </a:lnTo>
                  <a:lnTo>
                    <a:pt x="733" y="513"/>
                  </a:lnTo>
                  <a:lnTo>
                    <a:pt x="790" y="572"/>
                  </a:lnTo>
                  <a:lnTo>
                    <a:pt x="767" y="582"/>
                  </a:lnTo>
                  <a:lnTo>
                    <a:pt x="617" y="468"/>
                  </a:lnTo>
                  <a:lnTo>
                    <a:pt x="428" y="324"/>
                  </a:lnTo>
                  <a:lnTo>
                    <a:pt x="225" y="180"/>
                  </a:lnTo>
                  <a:lnTo>
                    <a:pt x="117" y="110"/>
                  </a:lnTo>
                  <a:lnTo>
                    <a:pt x="22" y="64"/>
                  </a:lnTo>
                  <a:lnTo>
                    <a:pt x="0" y="3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73800" y="3997080"/>
              <a:ext cx="386280" cy="283680"/>
            </a:xfrm>
            <a:custGeom>
              <a:avLst/>
              <a:gdLst/>
              <a:ahLst/>
              <a:rect l="l" t="t" r="r" b="b"/>
              <a:pathLst>
                <a:path w="788" h="484">
                  <a:moveTo>
                    <a:pt x="6" y="21"/>
                  </a:moveTo>
                  <a:lnTo>
                    <a:pt x="28" y="0"/>
                  </a:lnTo>
                  <a:lnTo>
                    <a:pt x="63" y="6"/>
                  </a:lnTo>
                  <a:lnTo>
                    <a:pt x="203" y="78"/>
                  </a:lnTo>
                  <a:lnTo>
                    <a:pt x="406" y="207"/>
                  </a:lnTo>
                  <a:lnTo>
                    <a:pt x="660" y="383"/>
                  </a:lnTo>
                  <a:lnTo>
                    <a:pt x="788" y="476"/>
                  </a:lnTo>
                  <a:lnTo>
                    <a:pt x="751" y="484"/>
                  </a:lnTo>
                  <a:lnTo>
                    <a:pt x="542" y="351"/>
                  </a:lnTo>
                  <a:lnTo>
                    <a:pt x="317" y="207"/>
                  </a:lnTo>
                  <a:lnTo>
                    <a:pt x="173" y="131"/>
                  </a:lnTo>
                  <a:lnTo>
                    <a:pt x="64" y="78"/>
                  </a:lnTo>
                  <a:lnTo>
                    <a:pt x="25" y="67"/>
                  </a:lnTo>
                  <a:lnTo>
                    <a:pt x="0" y="5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82800" y="4117680"/>
              <a:ext cx="338040" cy="192240"/>
            </a:xfrm>
            <a:custGeom>
              <a:avLst/>
              <a:gdLst/>
              <a:ahLst/>
              <a:rect l="l" t="t" r="r" b="b"/>
              <a:pathLst>
                <a:path w="690" h="328">
                  <a:moveTo>
                    <a:pt x="0" y="21"/>
                  </a:moveTo>
                  <a:lnTo>
                    <a:pt x="28" y="0"/>
                  </a:lnTo>
                  <a:lnTo>
                    <a:pt x="129" y="23"/>
                  </a:lnTo>
                  <a:lnTo>
                    <a:pt x="305" y="87"/>
                  </a:lnTo>
                  <a:lnTo>
                    <a:pt x="472" y="176"/>
                  </a:lnTo>
                  <a:lnTo>
                    <a:pt x="680" y="294"/>
                  </a:lnTo>
                  <a:lnTo>
                    <a:pt x="690" y="328"/>
                  </a:lnTo>
                  <a:lnTo>
                    <a:pt x="650" y="322"/>
                  </a:lnTo>
                  <a:lnTo>
                    <a:pt x="534" y="265"/>
                  </a:lnTo>
                  <a:lnTo>
                    <a:pt x="332" y="167"/>
                  </a:lnTo>
                  <a:lnTo>
                    <a:pt x="193" y="114"/>
                  </a:lnTo>
                  <a:lnTo>
                    <a:pt x="49" y="76"/>
                  </a:lnTo>
                  <a:lnTo>
                    <a:pt x="6" y="4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49400" y="4320720"/>
              <a:ext cx="303840" cy="218880"/>
            </a:xfrm>
            <a:custGeom>
              <a:avLst/>
              <a:gdLst/>
              <a:ahLst/>
              <a:rect l="l" t="t" r="r" b="b"/>
              <a:pathLst>
                <a:path w="620" h="373">
                  <a:moveTo>
                    <a:pt x="620" y="47"/>
                  </a:moveTo>
                  <a:lnTo>
                    <a:pt x="446" y="99"/>
                  </a:lnTo>
                  <a:lnTo>
                    <a:pt x="294" y="161"/>
                  </a:lnTo>
                  <a:lnTo>
                    <a:pt x="167" y="237"/>
                  </a:lnTo>
                  <a:lnTo>
                    <a:pt x="88" y="294"/>
                  </a:lnTo>
                  <a:lnTo>
                    <a:pt x="23" y="373"/>
                  </a:lnTo>
                  <a:lnTo>
                    <a:pt x="0" y="305"/>
                  </a:lnTo>
                  <a:lnTo>
                    <a:pt x="74" y="237"/>
                  </a:lnTo>
                  <a:lnTo>
                    <a:pt x="175" y="161"/>
                  </a:lnTo>
                  <a:lnTo>
                    <a:pt x="323" y="85"/>
                  </a:lnTo>
                  <a:lnTo>
                    <a:pt x="469" y="23"/>
                  </a:lnTo>
                  <a:lnTo>
                    <a:pt x="561" y="0"/>
                  </a:lnTo>
                  <a:lnTo>
                    <a:pt x="601" y="2"/>
                  </a:lnTo>
                  <a:lnTo>
                    <a:pt x="618" y="23"/>
                  </a:lnTo>
                  <a:lnTo>
                    <a:pt x="620" y="47"/>
                  </a:lnTo>
                  <a:lnTo>
                    <a:pt x="620" y="47"/>
                  </a:lnTo>
                  <a:lnTo>
                    <a:pt x="62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98400" y="2423160"/>
              <a:ext cx="356400" cy="177120"/>
            </a:xfrm>
            <a:custGeom>
              <a:avLst/>
              <a:gdLst/>
              <a:ahLst/>
              <a:rect l="l" t="t" r="r" b="b"/>
              <a:pathLst>
                <a:path w="728" h="302">
                  <a:moveTo>
                    <a:pt x="0" y="281"/>
                  </a:moveTo>
                  <a:lnTo>
                    <a:pt x="11" y="252"/>
                  </a:lnTo>
                  <a:lnTo>
                    <a:pt x="118" y="184"/>
                  </a:lnTo>
                  <a:lnTo>
                    <a:pt x="250" y="93"/>
                  </a:lnTo>
                  <a:lnTo>
                    <a:pt x="301" y="63"/>
                  </a:lnTo>
                  <a:lnTo>
                    <a:pt x="341" y="57"/>
                  </a:lnTo>
                  <a:lnTo>
                    <a:pt x="394" y="68"/>
                  </a:lnTo>
                  <a:lnTo>
                    <a:pt x="423" y="80"/>
                  </a:lnTo>
                  <a:lnTo>
                    <a:pt x="457" y="70"/>
                  </a:lnTo>
                  <a:lnTo>
                    <a:pt x="508" y="57"/>
                  </a:lnTo>
                  <a:lnTo>
                    <a:pt x="555" y="34"/>
                  </a:lnTo>
                  <a:lnTo>
                    <a:pt x="595" y="15"/>
                  </a:lnTo>
                  <a:lnTo>
                    <a:pt x="646" y="6"/>
                  </a:lnTo>
                  <a:lnTo>
                    <a:pt x="682" y="0"/>
                  </a:lnTo>
                  <a:lnTo>
                    <a:pt x="713" y="12"/>
                  </a:lnTo>
                  <a:lnTo>
                    <a:pt x="728" y="34"/>
                  </a:lnTo>
                  <a:lnTo>
                    <a:pt x="692" y="63"/>
                  </a:lnTo>
                  <a:lnTo>
                    <a:pt x="578" y="103"/>
                  </a:lnTo>
                  <a:lnTo>
                    <a:pt x="474" y="139"/>
                  </a:lnTo>
                  <a:lnTo>
                    <a:pt x="434" y="165"/>
                  </a:lnTo>
                  <a:lnTo>
                    <a:pt x="400" y="173"/>
                  </a:lnTo>
                  <a:lnTo>
                    <a:pt x="377" y="161"/>
                  </a:lnTo>
                  <a:lnTo>
                    <a:pt x="347" y="139"/>
                  </a:lnTo>
                  <a:lnTo>
                    <a:pt x="313" y="131"/>
                  </a:lnTo>
                  <a:lnTo>
                    <a:pt x="250" y="154"/>
                  </a:lnTo>
                  <a:lnTo>
                    <a:pt x="116" y="243"/>
                  </a:lnTo>
                  <a:lnTo>
                    <a:pt x="44" y="294"/>
                  </a:lnTo>
                  <a:lnTo>
                    <a:pt x="11" y="302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80920" y="2446560"/>
              <a:ext cx="229320" cy="195480"/>
            </a:xfrm>
            <a:custGeom>
              <a:avLst/>
              <a:gdLst/>
              <a:ahLst/>
              <a:rect l="l" t="t" r="r" b="b"/>
              <a:pathLst>
                <a:path w="468" h="334">
                  <a:moveTo>
                    <a:pt x="379" y="13"/>
                  </a:moveTo>
                  <a:lnTo>
                    <a:pt x="356" y="30"/>
                  </a:lnTo>
                  <a:lnTo>
                    <a:pt x="356" y="51"/>
                  </a:lnTo>
                  <a:lnTo>
                    <a:pt x="367" y="74"/>
                  </a:lnTo>
                  <a:lnTo>
                    <a:pt x="329" y="104"/>
                  </a:lnTo>
                  <a:lnTo>
                    <a:pt x="235" y="167"/>
                  </a:lnTo>
                  <a:lnTo>
                    <a:pt x="200" y="191"/>
                  </a:lnTo>
                  <a:lnTo>
                    <a:pt x="127" y="203"/>
                  </a:lnTo>
                  <a:lnTo>
                    <a:pt x="79" y="214"/>
                  </a:lnTo>
                  <a:lnTo>
                    <a:pt x="49" y="237"/>
                  </a:lnTo>
                  <a:lnTo>
                    <a:pt x="5" y="252"/>
                  </a:lnTo>
                  <a:lnTo>
                    <a:pt x="0" y="277"/>
                  </a:lnTo>
                  <a:lnTo>
                    <a:pt x="15" y="299"/>
                  </a:lnTo>
                  <a:lnTo>
                    <a:pt x="79" y="305"/>
                  </a:lnTo>
                  <a:lnTo>
                    <a:pt x="149" y="313"/>
                  </a:lnTo>
                  <a:lnTo>
                    <a:pt x="183" y="330"/>
                  </a:lnTo>
                  <a:lnTo>
                    <a:pt x="235" y="334"/>
                  </a:lnTo>
                  <a:lnTo>
                    <a:pt x="257" y="318"/>
                  </a:lnTo>
                  <a:lnTo>
                    <a:pt x="269" y="282"/>
                  </a:lnTo>
                  <a:lnTo>
                    <a:pt x="276" y="241"/>
                  </a:lnTo>
                  <a:lnTo>
                    <a:pt x="299" y="212"/>
                  </a:lnTo>
                  <a:lnTo>
                    <a:pt x="350" y="178"/>
                  </a:lnTo>
                  <a:lnTo>
                    <a:pt x="409" y="146"/>
                  </a:lnTo>
                  <a:lnTo>
                    <a:pt x="449" y="110"/>
                  </a:lnTo>
                  <a:lnTo>
                    <a:pt x="468" y="76"/>
                  </a:lnTo>
                  <a:lnTo>
                    <a:pt x="466" y="40"/>
                  </a:lnTo>
                  <a:lnTo>
                    <a:pt x="441" y="11"/>
                  </a:lnTo>
                  <a:lnTo>
                    <a:pt x="407" y="0"/>
                  </a:lnTo>
                  <a:lnTo>
                    <a:pt x="379" y="13"/>
                  </a:lnTo>
                  <a:lnTo>
                    <a:pt x="379" y="13"/>
                  </a:lnTo>
                  <a:lnTo>
                    <a:pt x="37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28960" y="3158640"/>
              <a:ext cx="148680" cy="61920"/>
            </a:xfrm>
            <a:custGeom>
              <a:avLst/>
              <a:gdLst/>
              <a:ahLst/>
              <a:rect l="l" t="t" r="r" b="b"/>
              <a:pathLst>
                <a:path w="305" h="106">
                  <a:moveTo>
                    <a:pt x="0" y="44"/>
                  </a:moveTo>
                  <a:lnTo>
                    <a:pt x="70" y="21"/>
                  </a:lnTo>
                  <a:lnTo>
                    <a:pt x="155" y="4"/>
                  </a:lnTo>
                  <a:lnTo>
                    <a:pt x="227" y="0"/>
                  </a:lnTo>
                  <a:lnTo>
                    <a:pt x="295" y="10"/>
                  </a:lnTo>
                  <a:lnTo>
                    <a:pt x="305" y="44"/>
                  </a:lnTo>
                  <a:lnTo>
                    <a:pt x="282" y="78"/>
                  </a:lnTo>
                  <a:lnTo>
                    <a:pt x="197" y="95"/>
                  </a:lnTo>
                  <a:lnTo>
                    <a:pt x="85" y="106"/>
                  </a:lnTo>
                  <a:lnTo>
                    <a:pt x="24" y="95"/>
                  </a:lnTo>
                  <a:lnTo>
                    <a:pt x="7" y="7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89720" y="3313080"/>
              <a:ext cx="66600" cy="558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49"/>
                  </a:moveTo>
                  <a:lnTo>
                    <a:pt x="25" y="24"/>
                  </a:lnTo>
                  <a:lnTo>
                    <a:pt x="42" y="5"/>
                  </a:lnTo>
                  <a:lnTo>
                    <a:pt x="70" y="0"/>
                  </a:lnTo>
                  <a:lnTo>
                    <a:pt x="104" y="0"/>
                  </a:lnTo>
                  <a:lnTo>
                    <a:pt x="136" y="30"/>
                  </a:lnTo>
                  <a:lnTo>
                    <a:pt x="127" y="70"/>
                  </a:lnTo>
                  <a:lnTo>
                    <a:pt x="102" y="92"/>
                  </a:lnTo>
                  <a:lnTo>
                    <a:pt x="42" y="94"/>
                  </a:lnTo>
                  <a:lnTo>
                    <a:pt x="15" y="7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82080" y="3474000"/>
              <a:ext cx="79920" cy="284760"/>
            </a:xfrm>
            <a:custGeom>
              <a:avLst/>
              <a:gdLst/>
              <a:ahLst/>
              <a:rect l="l" t="t" r="r" b="b"/>
              <a:pathLst>
                <a:path w="163" h="487">
                  <a:moveTo>
                    <a:pt x="0" y="0"/>
                  </a:moveTo>
                  <a:lnTo>
                    <a:pt x="23" y="125"/>
                  </a:lnTo>
                  <a:lnTo>
                    <a:pt x="63" y="280"/>
                  </a:lnTo>
                  <a:lnTo>
                    <a:pt x="85" y="343"/>
                  </a:lnTo>
                  <a:lnTo>
                    <a:pt x="108" y="396"/>
                  </a:lnTo>
                  <a:lnTo>
                    <a:pt x="129" y="437"/>
                  </a:lnTo>
                  <a:lnTo>
                    <a:pt x="140" y="487"/>
                  </a:lnTo>
                  <a:lnTo>
                    <a:pt x="163" y="454"/>
                  </a:lnTo>
                  <a:lnTo>
                    <a:pt x="156" y="388"/>
                  </a:lnTo>
                  <a:lnTo>
                    <a:pt x="133" y="282"/>
                  </a:lnTo>
                  <a:lnTo>
                    <a:pt x="93" y="166"/>
                  </a:lnTo>
                  <a:lnTo>
                    <a:pt x="65" y="47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73080" y="3064680"/>
              <a:ext cx="93960" cy="401040"/>
            </a:xfrm>
            <a:custGeom>
              <a:avLst/>
              <a:gdLst/>
              <a:ahLst/>
              <a:rect l="l" t="t" r="r" b="b"/>
              <a:pathLst>
                <a:path w="193" h="684">
                  <a:moveTo>
                    <a:pt x="118" y="15"/>
                  </a:moveTo>
                  <a:lnTo>
                    <a:pt x="70" y="91"/>
                  </a:lnTo>
                  <a:lnTo>
                    <a:pt x="27" y="197"/>
                  </a:lnTo>
                  <a:lnTo>
                    <a:pt x="10" y="265"/>
                  </a:lnTo>
                  <a:lnTo>
                    <a:pt x="0" y="345"/>
                  </a:lnTo>
                  <a:lnTo>
                    <a:pt x="6" y="449"/>
                  </a:lnTo>
                  <a:lnTo>
                    <a:pt x="32" y="591"/>
                  </a:lnTo>
                  <a:lnTo>
                    <a:pt x="48" y="684"/>
                  </a:lnTo>
                  <a:lnTo>
                    <a:pt x="66" y="667"/>
                  </a:lnTo>
                  <a:lnTo>
                    <a:pt x="66" y="540"/>
                  </a:lnTo>
                  <a:lnTo>
                    <a:pt x="65" y="409"/>
                  </a:lnTo>
                  <a:lnTo>
                    <a:pt x="89" y="271"/>
                  </a:lnTo>
                  <a:lnTo>
                    <a:pt x="133" y="172"/>
                  </a:lnTo>
                  <a:lnTo>
                    <a:pt x="192" y="80"/>
                  </a:lnTo>
                  <a:lnTo>
                    <a:pt x="193" y="40"/>
                  </a:lnTo>
                  <a:lnTo>
                    <a:pt x="180" y="15"/>
                  </a:lnTo>
                  <a:lnTo>
                    <a:pt x="154" y="0"/>
                  </a:lnTo>
                  <a:lnTo>
                    <a:pt x="118" y="15"/>
                  </a:lnTo>
                  <a:lnTo>
                    <a:pt x="118" y="15"/>
                  </a:lnTo>
                  <a:lnTo>
                    <a:pt x="1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28880" y="3202920"/>
              <a:ext cx="201960" cy="479520"/>
            </a:xfrm>
            <a:custGeom>
              <a:avLst/>
              <a:gdLst/>
              <a:ahLst/>
              <a:rect l="l" t="t" r="r" b="b"/>
              <a:pathLst>
                <a:path w="411" h="817">
                  <a:moveTo>
                    <a:pt x="0" y="733"/>
                  </a:moveTo>
                  <a:lnTo>
                    <a:pt x="89" y="622"/>
                  </a:lnTo>
                  <a:lnTo>
                    <a:pt x="187" y="485"/>
                  </a:lnTo>
                  <a:lnTo>
                    <a:pt x="248" y="377"/>
                  </a:lnTo>
                  <a:lnTo>
                    <a:pt x="297" y="254"/>
                  </a:lnTo>
                  <a:lnTo>
                    <a:pt x="320" y="188"/>
                  </a:lnTo>
                  <a:lnTo>
                    <a:pt x="337" y="68"/>
                  </a:lnTo>
                  <a:lnTo>
                    <a:pt x="343" y="0"/>
                  </a:lnTo>
                  <a:lnTo>
                    <a:pt x="411" y="4"/>
                  </a:lnTo>
                  <a:lnTo>
                    <a:pt x="398" y="61"/>
                  </a:lnTo>
                  <a:lnTo>
                    <a:pt x="381" y="174"/>
                  </a:lnTo>
                  <a:lnTo>
                    <a:pt x="350" y="303"/>
                  </a:lnTo>
                  <a:lnTo>
                    <a:pt x="297" y="426"/>
                  </a:lnTo>
                  <a:lnTo>
                    <a:pt x="225" y="544"/>
                  </a:lnTo>
                  <a:lnTo>
                    <a:pt x="112" y="697"/>
                  </a:lnTo>
                  <a:lnTo>
                    <a:pt x="26" y="817"/>
                  </a:lnTo>
                  <a:lnTo>
                    <a:pt x="0" y="733"/>
                  </a:lnTo>
                  <a:lnTo>
                    <a:pt x="0" y="733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85680" y="2649240"/>
              <a:ext cx="246960" cy="532440"/>
            </a:xfrm>
            <a:custGeom>
              <a:avLst/>
              <a:gdLst/>
              <a:ahLst/>
              <a:rect l="l" t="t" r="r" b="b"/>
              <a:pathLst>
                <a:path w="504" h="908">
                  <a:moveTo>
                    <a:pt x="28" y="4"/>
                  </a:moveTo>
                  <a:lnTo>
                    <a:pt x="66" y="0"/>
                  </a:lnTo>
                  <a:lnTo>
                    <a:pt x="108" y="15"/>
                  </a:lnTo>
                  <a:lnTo>
                    <a:pt x="189" y="83"/>
                  </a:lnTo>
                  <a:lnTo>
                    <a:pt x="310" y="246"/>
                  </a:lnTo>
                  <a:lnTo>
                    <a:pt x="384" y="377"/>
                  </a:lnTo>
                  <a:lnTo>
                    <a:pt x="458" y="574"/>
                  </a:lnTo>
                  <a:lnTo>
                    <a:pt x="492" y="783"/>
                  </a:lnTo>
                  <a:lnTo>
                    <a:pt x="504" y="908"/>
                  </a:lnTo>
                  <a:lnTo>
                    <a:pt x="426" y="902"/>
                  </a:lnTo>
                  <a:lnTo>
                    <a:pt x="415" y="788"/>
                  </a:lnTo>
                  <a:lnTo>
                    <a:pt x="392" y="673"/>
                  </a:lnTo>
                  <a:lnTo>
                    <a:pt x="360" y="521"/>
                  </a:lnTo>
                  <a:lnTo>
                    <a:pt x="305" y="394"/>
                  </a:lnTo>
                  <a:lnTo>
                    <a:pt x="257" y="292"/>
                  </a:lnTo>
                  <a:lnTo>
                    <a:pt x="201" y="207"/>
                  </a:lnTo>
                  <a:lnTo>
                    <a:pt x="142" y="136"/>
                  </a:lnTo>
                  <a:lnTo>
                    <a:pt x="62" y="80"/>
                  </a:lnTo>
                  <a:lnTo>
                    <a:pt x="17" y="55"/>
                  </a:lnTo>
                  <a:lnTo>
                    <a:pt x="0" y="2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_</cp:lastModifiedBy>
  <dcterms:modified xsi:type="dcterms:W3CDTF">2003-04-04T20:46:47Z</dcterms:modified>
  <cp:revision>227</cp:revision>
  <dc:subject/>
  <dc:title>Analyzing Operating Activ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92763016</vt:r8>
  </property>
  <property fmtid="{D5CDD505-2E9C-101B-9397-08002B2CF9AE}" pid="3" name="_AuthorEmail">
    <vt:lpwstr>r.f.halsey@verizon.net</vt:lpwstr>
  </property>
  <property fmtid="{D5CDD505-2E9C-101B-9397-08002B2CF9AE}" pid="4" name="_AuthorEmailDisplayName">
    <vt:lpwstr>Robert Halsey</vt:lpwstr>
  </property>
  <property fmtid="{D5CDD505-2E9C-101B-9397-08002B2CF9AE}" pid="5" name="_EmailSubject">
    <vt:lpwstr>ppt slides for chs 4-6</vt:lpwstr>
  </property>
</Properties>
</file>