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19C-30D1-4DBE-AEF3-DA0E9382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612-448D-438F-BCF8-FBF7FBF6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1F8-64D6-449B-9E3E-961731F3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22B-4748-4A6B-BFD4-CB11EBD9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C7E-75C0-458C-BB71-B232A15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012-C40C-4662-B20F-D81578A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B2B-DE29-4ACA-948C-BA2C7AC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A6B-55BD-46A3-B40C-3C37A2FE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3D7-D26A-4360-BFB7-6FB75EE6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046-2714-4D8B-B1D2-5DFD96E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A5E-837D-4D6D-A89F-9E75A7F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A95-0893-4C2A-8BDC-34C6C3E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50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, Inc. ©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B3EF9B2C-C531-4D00-B028-21F0C0C9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58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590920"/>
            <a:ext cx="6858000" cy="67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TRATEGIC MANAGEMENT &amp; BUSINESS POLICY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3352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OMAS L. WHEELEN       J. DAVID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380880"/>
            <a:ext cx="48769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457200"/>
            <a:ext cx="277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al Scanning and Industr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29536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56C-7669-4FE2-8F50-E99D6D2FE6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graphic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324480" cy="25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88E-3F22-48C0-B26F-E8C8658914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tional Sociocultural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907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8 Current Trend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environment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health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ing senior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 of the Generation Y boom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ining mas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pace and location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household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iversity of workforce &amp;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9A5-5D1B-40A3-B3E1-F298280BD3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tional Societ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337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58B-41A1-42DC-A2A5-A02CDF2A54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ing the 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46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DFB-66C0-4CFE-BF2C-879BD5D051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ic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usiness eth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ument that there is no such thing … it is an oxym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2F2-F44C-4DA9-8091-FA6D9D75D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ical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rporate practi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 write-downs and restatements of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lassification of expenses as capital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rating corporate assets for person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D86-37F7-411A-8B1C-3266F7915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Strateg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rategic myopia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ngness to reject unfamiliar as well as nega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2D9-16E8-4549-9A4A-A716892878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s Prior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86400" cy="49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FC7-41E9-4511-AC83-B8038AD7C7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zing the 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00200" y="1198440"/>
            <a:ext cx="640080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462-8867-4426-92A2-57A169D5F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reat of New Entrant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699-5A1C-4CA9-9EB9-786EB5B0CD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vironmental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etal environmen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c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itical-legal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ocultural forces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0DF-CB4A-4B6E-9434-C49C14FD2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ivalry Among Existing Firm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industr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r servic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exit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ri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871-5488-4535-B830-67EC4C636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er’s Approach to Industr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eat of Substitute Products 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rgaining Power of Bu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rgaining Power of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ative Power of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69F-D1D2-4A22-81DA-093F746DE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ragmented Industr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minant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FE0-6A3A-4E75-8D38-933F8E789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7621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solidated Industr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ted by a few large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246-2900-43B4-A270-CA2184D9A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tional Risk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inuum of International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4678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177-CB7F-4405-AE60-5DEABAE6A3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789120"/>
            <a:ext cx="6095880" cy="53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F7D-58D2-43D9-BC43-3D6FFCA99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219320"/>
            <a:ext cx="64767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ral Typ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514440" y="1257480"/>
            <a:ext cx="184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E67-9C0B-4144-BC94-E97A79A5BC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etitive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68580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business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thering information on a company’s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EBE-C30A-4E2D-9555-59492689C7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8580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recasting Techniqu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phi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ario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E0E-9126-4DB5-845C-615D52BB24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hesis of External Factors -- 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349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943-43DE-4CB3-BFC6-4894C8A5EA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onomic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te exchange of materials, money, energy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F8F-09F4-4F3C-8D66-07EBF76D5A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ologic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te problem-solving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A37-028C-4A68-ABCB-39ED1C4F29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litical-leg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e power; provide 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CCA-A99C-4569-B580-8BB91AFC4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ocultural Forc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te values, mores, and custom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E59-85B9-4F35-A10D-87AAE5B36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ask environmen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s or groups that directly affect a corporation and are affected b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D6A-0A03-4E55-98C8-F839445A5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ustry Analysi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-depth examination of key factors within a corporation’s tas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48C-792C-417B-BECE-63DE71BA43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572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 in Societ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53080" cy="40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BE0-47D2-42CC-816E-0C4A0C205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5Z</dcterms:created>
  <dc:creator>A Valued MWSU Customer</dc:creator>
  <dc:description/>
  <dc:language>en-US</dc:language>
  <cp:lastModifiedBy>image</cp:lastModifiedBy>
  <dcterms:modified xsi:type="dcterms:W3CDTF">2007-04-13T14:41:52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4569511</vt:r8>
  </property>
  <property fmtid="{D5CDD505-2E9C-101B-9397-08002B2CF9AE}" pid="3" name="_AuthorEmail">
    <vt:lpwstr>Richard_Gomes@prenhall.com</vt:lpwstr>
  </property>
  <property fmtid="{D5CDD505-2E9C-101B-9397-08002B2CF9AE}" pid="4" name="_AuthorEmailDisplayName">
    <vt:lpwstr>Gomes, Richard</vt:lpwstr>
  </property>
  <property fmtid="{D5CDD505-2E9C-101B-9397-08002B2CF9AE}" pid="5" name="_EmailSubject">
    <vt:lpwstr>Wheelen PPTS</vt:lpwstr>
  </property>
  <property fmtid="{D5CDD505-2E9C-101B-9397-08002B2CF9AE}" pid="6" name="_ReviewingToolsShownOnce">
    <vt:lpwstr/>
  </property>
</Properties>
</file>