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CC9-1133-446F-B06B-0088795E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671-2E23-4FAE-9CC2-9F371EF2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CB8-EB41-4AD4-915B-A2C675C0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41E-6C59-4ADC-AC2B-D080A6E2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0DF-C134-4638-9B92-BE990145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831-AA92-4C67-B3C4-722B46C5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E43-463D-42DB-A008-1CB18BD4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F03-4686-4DC7-B09D-5BB04FFA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063-7FF4-4D9E-95B4-C8FE9024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6B4-E7A3-41D1-B183-2C26FEA8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9AB-DE08-4431-90A8-9B612C85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C38-42A4-4810-98F4-AFAAA95F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350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6C5DE51B-9D6E-42C3-8DB1-7C0ADF06D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58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590920"/>
            <a:ext cx="6858000" cy="67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TRATEGIC MANAGEMENT &amp; BUSINESS POLICY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3352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OMAS L. WHEELEN       J. DAVID HU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380880"/>
            <a:ext cx="48769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457200"/>
            <a:ext cx="277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4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al Scanning and Industr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295360" cy="24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155-3D25-4848-8CE1-367AE25621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graphic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6324480" cy="254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A40-2F6B-4E83-8566-CC7B175B36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tional Sociocultural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9907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8 Current Trend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environment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ing health consci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ing seniors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ct of the Generation Y boom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ining mass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pace and location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household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iversity of workforce &amp;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2A5-F26A-4339-9BB1-FFF1B86E45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ational Societ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337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77D-A696-47A5-8C6B-2C539F460A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nning the Tas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543800" cy="465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7D0-2EC6-414D-8F70-C7E991FE42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ical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usiness eth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gument that there is no such thing … it is an oxym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FAE-7A6B-4702-964F-CE8591833D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ical Decision 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rporate practi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ive write-downs and restatements of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lassification of expenses as capital expendi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rating corporate assets for personal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EC8-75C5-408C-9F5D-A17A8FC91F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Strategic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trategic myopia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ingness to reject unfamiliar as well as negat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46E-A541-48C4-9FD0-8F7CD4EE13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sues Prior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486400" cy="49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529-8038-4D64-BF52-522D4FF829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zing the Tas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00200" y="1198440"/>
            <a:ext cx="640080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62A-1D81-41C8-9C82-A463FA7D25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er’s Approach to Indust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hreat of New Entrant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89E-26E7-4C91-A894-4673097D97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vironmental 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ocietal environment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conomic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chnological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litical-legal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ocultural forces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AFE-9F0E-44BB-99C3-0A5F9F0ADF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er’s Approach to Indust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ivalry Among Existing Firm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ompet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industry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or servic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 of exit 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ty of ri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7AE-ECE1-4D43-937D-765A37F86F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er’s Approach to Indust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reat of Substitute Products o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argaining Power of Bu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argaining Power of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lative Power of Other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AE6-7B68-4BD7-A7A6-5220502E07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ragmented Industry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ominant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8A1-0F43-42EA-8B01-B99CD6BCC3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nsolidated Industry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ted by a few large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D0F3-8AA2-499D-9D46-623B2DBCB8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tional Risk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838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ntinuum of International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46784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40B7-6915-432F-B3A3-4D3445083A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tegic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789120"/>
            <a:ext cx="6095880" cy="53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11A-C38D-4021-9FA7-B0AF339A03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tegic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p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219320"/>
            <a:ext cx="64767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neral Typ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514440" y="1257480"/>
            <a:ext cx="1843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12F-AC74-4A79-B920-0DBC4BA35F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etitive 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685800"/>
            <a:ext cx="8076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business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athering information on a company’s 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940-F2AB-40B6-817A-ABAA4C7BED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685800"/>
            <a:ext cx="8076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orecasting Techniqu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phi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stic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nario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5DA-F72D-41BA-8361-53EF8EDCA1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hesis of External Factors -- E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77120" cy="349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881-7D73-436E-9320-9A19D0B31A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conomic For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te exchange of materials, money, energy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FE8-F33F-49E9-8E9C-0913071570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echnological For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te problem-solving i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680-364D-459E-A4A3-9EBDDF1823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olitical-legal For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ate power; provide laws and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74F-C4B8-4FA9-95CD-38D6C72882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ociocultural For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te values, mores, and customs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2AE-AE66-4803-AB60-8FBC985C92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ask environment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s or groups that directly affect a corporation and are affected by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0B3-83AE-4DC5-8111-5C89102BED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ustry Analysi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-depth examination of key factors within a corporation’s tas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DF5-453A-4B78-938D-19BE01D97F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ables in 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553080" cy="40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7DE-0056-4338-9948-AE8B99649D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5Z</dcterms:created>
  <dc:creator>A Valued MWSU Customer</dc:creator>
  <dc:description/>
  <dc:language>en-US</dc:language>
  <cp:lastModifiedBy>image</cp:lastModifiedBy>
  <dcterms:modified xsi:type="dcterms:W3CDTF">2007-04-13T14:41:52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74569511</vt:r8>
  </property>
  <property fmtid="{D5CDD505-2E9C-101B-9397-08002B2CF9AE}" pid="3" name="_AuthorEmail">
    <vt:lpwstr>Richard_Gomes@prenhall.com</vt:lpwstr>
  </property>
  <property fmtid="{D5CDD505-2E9C-101B-9397-08002B2CF9AE}" pid="4" name="_AuthorEmailDisplayName">
    <vt:lpwstr>Gomes, Richard</vt:lpwstr>
  </property>
  <property fmtid="{D5CDD505-2E9C-101B-9397-08002B2CF9AE}" pid="5" name="_EmailSubject">
    <vt:lpwstr>Wheelen PPTS</vt:lpwstr>
  </property>
  <property fmtid="{D5CDD505-2E9C-101B-9397-08002B2CF9AE}" pid="6" name="_ReviewingToolsShownOnce">
    <vt:lpwstr/>
  </property>
</Properties>
</file>