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EB9-D709-45D4-834B-DA46EDF7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6ED-1FEE-4B78-AFEA-DBDA1F7B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DE1-4441-41D7-88B8-A156ECE5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7D3-8538-4AA4-A397-A0F27BC4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281B-EFEC-4C13-AD21-D74E16D5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7070-2976-49A2-8D0A-5C248162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6993-6117-4843-970B-8782ED9A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2240-FBCD-4B69-9CFE-7D65B3EB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D3E3-E320-4660-A6EE-2D5EE91D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AC1B-27ED-45E7-8D5A-D80A5F43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9DCA-AE60-472C-ABD7-C0682189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292-B498-4EA4-A77A-931BF5C8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51A8-65D8-42F2-98FC-5A6A5458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B2FF-70A2-413F-87C1-E7BBA6F0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C645-A014-42C4-BA53-71E263E1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53FE-DEDA-4CC8-AB9F-49C81635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6782-C8FC-4A7D-8D50-84BC0664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DD6-FAC4-4825-A4D2-65A316AA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30C-A7F7-4AB1-A504-BFEF9706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997-9028-4967-8FB4-D1E16234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2B7-D2F3-4375-A595-5668CE66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E46-2067-4BB0-8709-62D5D73A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C5E-6BEA-416A-AD4C-0494BB5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A18-90BD-4BD0-A80B-67EF165A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DBFF-6BCC-4624-B20F-9D28B44E23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5D97-7CF2-4D02-84A3-E7C736CEE0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asplus.com/crunch/creditcrunch.htm#0804fsf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8487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ndments to IFRS 7 Financial Instruments: Disclosures - Credit Crisis</a:t>
            </a: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cussion of this topic ranged over three days of the September 2008 IASB mee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ff introduced the session by highlighting the purpose of this session was a response to recommendations made by constituents, notably the </a:t>
            </a:r>
            <a:r>
              <a:rPr b="0" lang="en-US" sz="2800" spc="-1" strike="noStrike" u="sng">
                <a:solidFill>
                  <a:srgbClr val="fac458"/>
                </a:solidFill>
                <a:uFillTx/>
                <a:latin typeface="Arial"/>
                <a:hlinkClick r:id="rId1"/>
              </a:rPr>
              <a:t>Financial Stability Forum (FSF)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 The two main recommendations by the FSF we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ounting and disclosure for off-balance sheet vehic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en standards to achieve better disclosures about valuations, methodologies and uncertainties associated with valu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SF also recommended that the Board address these issues on an 'accelerated' bas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pose of this session was to seek the Board's guidance on the basis by which the staff should develop proposals to amend IFRS 7 in relation to fair value measurement and liquidity risk. Also, the input from this session on off-balance sheet vehicles will be incorporated in the exposure draft on Consolidation expected later this y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1136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839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3055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Appendix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446120"/>
            <a:ext cx="80773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28600" y="647640"/>
            <a:ext cx="85345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3:24:09Z</dcterms:created>
  <dc:creator>Portege_2</dc:creator>
  <dc:description/>
  <dc:language>en-US</dc:language>
  <cp:lastModifiedBy>Portege_2</cp:lastModifiedBy>
  <dcterms:modified xsi:type="dcterms:W3CDTF">2009-06-23T00:01:23Z</dcterms:modified>
  <cp:revision>4</cp:revision>
  <dc:subject/>
  <dc:title>Slide 1</dc:title>
</cp:coreProperties>
</file>