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44F7A-6EA9-49D6-8AEA-12C21A22F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ACCF3-0164-4B0A-9BEE-288043908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7C478-03C3-4348-9D43-FE7A2491D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CAB1A-A05D-4985-B79B-81A225101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BB378-AABE-4C69-B115-B47E80770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2F0AB-1F3F-4FD4-9BC8-B45ABC92E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69EA5-1887-49DB-B548-11B620046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6F4EA-1C9A-4D60-8636-10B785AE2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17665-12BD-4B73-A8EA-6123432B8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16302-111F-4794-ACD7-2AAEB8691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BF921-7377-4CFA-AF33-084C2266E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31B9E-83C7-4608-9510-260E4E658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EFE2E-DBA5-4647-B943-A195C224B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B87D7-C586-4F5D-8B66-BA1B73704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7F1CC-7A77-4EDC-95A6-DA1149B6D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B66BA-E84A-4D5A-BFFD-B2E5C9336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4243D-F5DB-4D1C-9D7A-E596FC8A5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D7BF6-0E28-4A88-8C32-6AF7EC090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762D0-49D1-451C-A385-8C2EB08A6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CD35D-D39E-4D80-A4A0-8D0299281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35251-824A-4565-90DC-8B210B0BC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4EC25-CC1C-4E97-8786-C6C27C514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762F7-34ED-46F4-9D4C-B2D749CB0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74DC-5F8C-43F6-A3A7-015B7098A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4712-2392-40BC-A5A8-9FA0F12D4DF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0CF3-F2E5-4801-958C-9002D993C80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60958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IFRS 6 Exploration for and Evaluation of</a:t>
            </a:r>
            <a:br>
              <a:rPr sz="2800"/>
            </a:br>
            <a:r>
              <a:rPr b="1" lang="en-US" sz="2800" spc="-1" strike="noStrike">
                <a:solidFill>
                  <a:srgbClr val="ccecff"/>
                </a:solidFill>
                <a:latin typeface="Arial"/>
              </a:rPr>
              <a:t>Mineral Resources</a:t>
            </a:r>
            <a:br>
              <a:rPr sz="2800"/>
            </a:br>
            <a:br>
              <a:rPr sz="2800"/>
            </a:br>
            <a:r>
              <a:rPr b="0" lang="en-US" sz="2800" spc="-1" strike="noStrike">
                <a:solidFill>
                  <a:srgbClr val="ccecff"/>
                </a:solidFill>
                <a:latin typeface="Arial"/>
              </a:rPr>
              <a:t>The International Accounting Standards Board (IASB) issued International Financial Reporting</a:t>
            </a:r>
            <a:br>
              <a:rPr sz="2800"/>
            </a:br>
            <a:r>
              <a:rPr b="0" lang="en-US" sz="2800" spc="-1" strike="noStrike">
                <a:solidFill>
                  <a:srgbClr val="ccecff"/>
                </a:solidFill>
                <a:latin typeface="Arial"/>
              </a:rPr>
              <a:t>Standard (IFRS) 6 Exploration for and Evaluation of Mineral Resources on 9 December</a:t>
            </a:r>
            <a:br>
              <a:rPr sz="2800"/>
            </a:br>
            <a:r>
              <a:rPr b="0" lang="en-US" sz="2800" spc="-1" strike="noStrike">
                <a:solidFill>
                  <a:srgbClr val="ccecff"/>
                </a:solidFill>
                <a:latin typeface="Arial"/>
              </a:rPr>
              <a:t>2004. The Standard, which is effective from 1 January 2006 (with earlier application</a:t>
            </a:r>
            <a:br>
              <a:rPr sz="2800"/>
            </a:br>
            <a:r>
              <a:rPr b="0" lang="en-US" sz="2800" spc="-1" strike="noStrike">
                <a:solidFill>
                  <a:srgbClr val="ccecff"/>
                </a:solidFill>
                <a:latin typeface="Arial"/>
              </a:rPr>
              <a:t>encouraged), applies to expenditures incurred by an entity in connection with the search for</a:t>
            </a:r>
            <a:br>
              <a:rPr sz="2800"/>
            </a:br>
            <a:r>
              <a:rPr b="0" lang="en-US" sz="2800" spc="-1" strike="noStrike">
                <a:solidFill>
                  <a:srgbClr val="ccecff"/>
                </a:solidFill>
                <a:latin typeface="Arial"/>
              </a:rPr>
              <a:t>mineral resources.</a:t>
            </a:r>
            <a:br>
              <a:rPr sz="2800"/>
            </a:br>
            <a:endParaRPr b="0" lang="en-US" sz="2800" spc="-1" strike="noStrike">
              <a:solidFill>
                <a:srgbClr val="cce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33520" y="761760"/>
            <a:ext cx="822960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FRS 6:</a:t>
            </a:r>
            <a:endParaRPr b="0" lang="en-US" sz="36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mits entities to continue to use their existing accounting policies for exploration and evaluation assets, provided that such policies result in information that is relevant and reliable; an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quires entities to assess any exploration and evaluation assets for impairment when facts and circumstances suggest that the carrying amount of the assets may exceed their recoverable amount. The recognition of impairment in respect of such assets is varied from that in IAS 36 Impairment of Assets but, once an impairment has been identified, it is measured in accordance with IAS 36.</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ope</a:t>
            </a:r>
            <a:endParaRPr b="0" lang="en-US" sz="4400" spc="-1" strike="noStrike">
              <a:solidFill>
                <a:srgbClr val="ccecff"/>
              </a:solidFill>
              <a:latin typeface="Arial"/>
            </a:endParaRPr>
          </a:p>
        </p:txBody>
      </p:sp>
      <p:sp>
        <p:nvSpPr>
          <p:cNvPr id="159"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Arial"/>
              </a:rPr>
              <a:t>IFRS 6 applies to exploration and evaluation expenditures, i.e. to expenditures incurred by an entity in connection with the exploration for and evaluation of mineral resources (including minerals, oil, natural gas and similar non-regenerative resources). Affected activities include the search for mineral resources, as well as the determination of the technical feasibility and commercial viability of extracting those resource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hanges in accounting policies</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tities may change their accounting policies for exploration and evaluation expenditures if the change makes the financial statements more relevant to the economic decision-making needs of users and no less reliable, or more reliable and no less relevant to those needs, judged using the criteria in IAS 8.</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RS 6 specifically states that, in order to justify a change in accounting policy for exploration and evaluation expenditures, the entity is required to demonstrate that the change brings its financial statements closer to meeting the criteria in IAS 8. However, the change need not achieve full compliance with those criteria.</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ssets to be measured at cost at recognition</a:t>
            </a:r>
            <a:endParaRPr b="0" lang="en-US" sz="40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they are first recognised in the balance sheet, exploration and evaluation assets are required to be measured at cost. The expenditures to be included in the cost of such assets are determined by the entity as a matter of accounting policy, which should be applied consistently. In making this determination, the entity should consider the degree to which the expenditures can be associated with finding specific mineral resource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ssets to be measured at cost at recognition</a:t>
            </a:r>
            <a:endParaRPr b="0" lang="en-US" sz="4000" spc="-1" strike="noStrike">
              <a:solidFill>
                <a:srgbClr val="ccecff"/>
              </a:solidFill>
              <a:latin typeface="Arial"/>
            </a:endParaRPr>
          </a:p>
        </p:txBody>
      </p:sp>
      <p:sp>
        <p:nvSpPr>
          <p:cNvPr id="165"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RS 6 lists the following as examples of expenditures that might be included in the initial measurement of exploration and evaluation assets (the list is not exhaustive): acquisition of rights to explore; topographical, geological, geochemical and geophysical studies; exploratory drilling; trenching; sampling; and activities in relation to evaluating the technical feasibility and commercial viability of extracting a mineral resourc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mpairment</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cause of the difficulty in obtaining the information necessary to estimate future cash flows from exploration and evaluation assets, IFRS 6 modifies the rules of IAS 36 as regards the circumstances in which such assets are required to be assessed for impairment. A detailed impairment test is required in two circumstanc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when the technical feasibility and commercial viability of extracting a mineral resource become demonstrable, at which point the asset falls outside the scope of IFRS 6 and is reclassified in the financial statements; and</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when facts and circumstances suggest that the asset's carrying amount may exceed its recoverable amount.</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Presentation</a:t>
            </a:r>
            <a:endParaRPr b="0" lang="en-US" sz="4400" spc="-1" strike="noStrike">
              <a:solidFill>
                <a:srgbClr val="ccecff"/>
              </a:solidFill>
              <a:latin typeface="Arial"/>
            </a:endParaRPr>
          </a:p>
        </p:txBody>
      </p:sp>
      <p:sp>
        <p:nvSpPr>
          <p:cNvPr id="169" name="PlaceHolder 2"/>
          <p:cNvSpPr>
            <a:spLocks noGrp="1"/>
          </p:cNvSpPr>
          <p:nvPr>
            <p:ph/>
          </p:nvPr>
        </p:nvSpPr>
        <p:spPr>
          <a:xfrm>
            <a:off x="380880" y="202212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Arial"/>
              </a:rPr>
              <a:t>Entities are required to classify exploration and evaluation assets as tangible or intangible, according to the nature of the assets. Examples of assets to be classified as tangible assets are vehicles and drilling rigs. Intangible assets will include items such as drilling rights.</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23:29:52Z</dcterms:created>
  <dc:creator>Portege_2</dc:creator>
  <dc:description/>
  <dc:language>en-US</dc:language>
  <cp:lastModifiedBy>Portege_2</cp:lastModifiedBy>
  <dcterms:modified xsi:type="dcterms:W3CDTF">2009-06-22T23:44:20Z</dcterms:modified>
  <cp:revision>5</cp:revision>
  <dc:subject/>
  <dc:title>IFRS 6 Exploration for and Evaluation of Mineral Resources  The International Accounting Standards Board (IASB) issued International Financial Reporting Standard (IFRS) 6 Exploration for and Evaluation of Mineral Resources on 9 December 2004. The Standard, which is effective from 1 January 2006 (with earlier application encouraged), applies to expenditures incurred by an entity in connection with the search for mineral resources. </dc:title>
</cp:coreProperties>
</file>