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E36-66BB-4FDF-8672-55BFAD0B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9AA5-FB30-4E45-9FF0-66C35FEC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112-1180-4743-ADAB-6DD85671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C19-7C27-453D-9F65-0D689214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789-F4B5-4F07-9B54-BEB4B5AB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D5DB-ADCB-4F0F-BC49-5928A464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FC3-57DD-4F3E-81F1-0703D4A0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FF6-8CF8-4566-BCDA-FADCFB5C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A87-CC40-4A98-B500-9E4E3F3E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1798-2424-451E-990C-5980A69F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F36A-9B37-4590-86F8-8D312D47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5641-AC57-4C70-BC4A-037D060F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350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EE1AEB7C-9125-4900-BC08-B2F68A142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58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590920"/>
            <a:ext cx="6858000" cy="673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TRATEGIC MANAGEMENT &amp; BUSINESS POLICY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3352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OMAS L. WHEELEN       J. DAVID HU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380880"/>
            <a:ext cx="48769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86400" y="457200"/>
            <a:ext cx="277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B 4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gamatan Lingkungan da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alisis Indust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15000" y="4114800"/>
            <a:ext cx="2295360" cy="24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E627-78D0-4A98-8408-0BD4E18AF3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sk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ask environment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ements or groups that directly affect a corporation and are affected by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B7E-0F23-4AF3-9EBD-C02EC807AB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sk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dustry Analysi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-depth examination of key factors within a corporation’s task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E43B-0BB1-4F8C-A6F6-2A09EF4619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ables in Societ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553080" cy="406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97F-8DE5-4B76-AEB8-CC895B3515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mographic Tr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6324480" cy="254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F3B-E6E8-4F6F-B9B4-3D1B5992BE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tional Sociocultural Tr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99072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8 Current Trend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environmental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ing health consciou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ing seniors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act of the Generation Y boom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ining mass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pace and location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household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diversity of workforce &amp;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1E8-5307-4F94-AC30-2F5C3D59B7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ational Societ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91320" cy="337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C78-3A2D-42B9-94CC-C848B5005D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anning the Task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543800" cy="465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A387-1246-45F9-A22D-D7B8399C4B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ical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37160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usiness ethic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gument that there is no such thing … it is an oxymo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E622-5297-4229-985A-15E177FF23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ical Decision M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37160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rporate practic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ive write-downs and restatements of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classification of expenses as capital expendi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rating corporate assets for personal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48B6-C12F-4F60-BDF5-2154DB3193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Strategic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37160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trategic myopia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ingness to reject unfamiliar as well as negativ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8D8C-15BC-47D6-9B81-07BF4A7B25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juan Pembelaja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etelah mempelajari Bab 4, anda akan memaham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ngkungan perus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&gt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putusan jk panjang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pek lingkungan yg penting secara strat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alisis industr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&gt; kekuatan persain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matangan industri =&gt; kekuatan persai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ustri internas. =&gt;koordinasi, respo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ategic group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y success factors, industry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etitive intel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ustry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AS Table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9D9-C20F-4470-A221-1C9BBE41CE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sues Priority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486400" cy="494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44E-388E-425E-A264-CED324DF3E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zing the Task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00200" y="1198440"/>
            <a:ext cx="6400800" cy="486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E5E-7D19-4327-B4BB-A8E869AE08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er’s Approach to Industr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76212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hreat of New Entrant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4538-FD61-4836-ADA2-EE7E77A166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er’s Approach to Industr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76212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ivalry Among Existing Firm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compet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of industry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or servic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fix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 of exit b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ty of ri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1E28-1E08-4D21-B54A-CB5633C65A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er’s Approach to Industr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76212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hreat of Substitute Products o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argaining Power of Bu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argaining Power of 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lative Power of Other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9E4A-BF20-4213-BE8C-55BA82CBA8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y 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76212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Fragmented Industry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ominant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92B-54C6-45D2-901E-8653AAFCF6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y 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76212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nsolidated Industry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ated by a few large fi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EAE-94F9-45EB-8E01-E14CFCBEFD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ational Risk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8380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ntinuum of International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46784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C20-A30D-4B02-A02C-F8B22FCCC0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ategic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789120"/>
            <a:ext cx="6095880" cy="538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A24D-E372-4FA9-BF09-5FA9D472FC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ategic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p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219320"/>
            <a:ext cx="647676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neral Type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514440" y="1257480"/>
            <a:ext cx="1843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376-CD1B-438E-B63F-3A1DB0DDCC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ntingnya adaptasi lingkun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480"/>
            <a:ext cx="76197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Ketidak pastian lingkung mening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Lingkungan semakin kompl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Lingkungan semakin cepat berub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Lingkungan glob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erkembagnan teknolog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Masih bisa dibuat strategi jangka panja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da peluang karena lingungan semakin tidak pasti? Bersaing dengan kreativi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5D23-99F7-44EA-8860-CFE0B8B0D1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etitive Intelli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685800"/>
            <a:ext cx="8076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alled </a:t>
            </a:r>
            <a:r>
              <a:rPr b="0" i="1" lang="en-US" sz="2800" spc="-1" strike="noStrike">
                <a:solidFill>
                  <a:srgbClr val="990000"/>
                </a:solidFill>
                <a:latin typeface="Arial"/>
              </a:rPr>
              <a:t>business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athering information on a company’s compet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E79A-FE27-437E-A6F0-45D47DDD96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685800"/>
            <a:ext cx="8076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Forecasting Techniqu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p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t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phi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stical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enario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6B8-75BF-4A18-BEBB-8047B2CC7B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thesis of External Factors -- EF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477120" cy="349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B19-C224-45A5-8B15-0BDED081BDA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oh adaptasi lingkun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Keinginan lingk. vs yg dihasilkan peru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Kebutuhan perush. vs yg ada di lingku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ntucky Fried Chicken =&gt; K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ubahan logo Toy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ldwin locomotive kalah dari GE dan 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abung vakum, kalah oleh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Eastman Koda: chemical =&gt;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30E-C603-490F-827A-19BC5CBC22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vironmental Sc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ocietal environment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conomic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chnological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litical-legal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ocultural forces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A91-3C36-4CFA-8630-98A5163262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ciet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conomic Forc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te exchange of materials, money, energy 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0F9-71DB-42E5-BB2B-7BDC151620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ciet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echnological Forc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rate problem-solving in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DFF-7E84-4846-B5A8-558357762E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ciet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olitical-legal Forc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cate power; provide laws and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A81-6CBE-4B5D-9699-29A6C0D87E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ciet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ociocultural Forc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te values, mores, and customs of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2F7-DCC4-429A-8418-223A6543A1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42:05Z</dcterms:created>
  <dc:creator>A Valued MWSU Customer</dc:creator>
  <dc:description/>
  <dc:language>en-US</dc:language>
  <cp:lastModifiedBy>mch</cp:lastModifiedBy>
  <dcterms:modified xsi:type="dcterms:W3CDTF">2009-10-04T06:33:30Z</dcterms:modified>
  <cp:revision>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74569511</vt:r8>
  </property>
  <property fmtid="{D5CDD505-2E9C-101B-9397-08002B2CF9AE}" pid="3" name="_AuthorEmail">
    <vt:lpwstr>Richard_Gomes@prenhall.com</vt:lpwstr>
  </property>
  <property fmtid="{D5CDD505-2E9C-101B-9397-08002B2CF9AE}" pid="4" name="_AuthorEmailDisplayName">
    <vt:lpwstr>Gomes, Richard</vt:lpwstr>
  </property>
  <property fmtid="{D5CDD505-2E9C-101B-9397-08002B2CF9AE}" pid="5" name="_EmailSubject">
    <vt:lpwstr>Wheelen PPTS</vt:lpwstr>
  </property>
  <property fmtid="{D5CDD505-2E9C-101B-9397-08002B2CF9AE}" pid="6" name="_ReviewingToolsShownOnce">
    <vt:lpwstr/>
  </property>
</Properties>
</file>