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EA4B-031C-4800-8113-3CFD60407B8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44FF-7A1C-45BA-90F5-B4F15022002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922500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922500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922500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922500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613040"/>
            <a:ext cx="50292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DACC-0780-4FD3-A1A0-D4E27233C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D96F-1408-4F09-8F29-BC1C7A1D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4E50-BE3C-4282-AA43-2A3C117C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28BD-DDE3-4CE2-8D75-EA5182E2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5122-BC2E-4892-8E7C-359A3651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6448-4A2D-4C69-AA8A-2EB7ED5C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34AF-A032-405F-A902-E69F4CEF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CE17-D204-4696-935C-ED3E709D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6D5B-31A0-416D-A7D9-83DA0A28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6AA8-3B2C-46C5-9C66-DE3A44E7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79A5-C2D5-44C5-B4B5-6D1161CF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7329-1671-40E0-B37F-8E8B3941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D31B-0979-4E5A-B791-C9BDFDAF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F0DE-B987-4A0A-8E7E-56704EC2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447F-29B8-4651-817D-A95C2F8F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D3A9-0640-43B9-B602-E11971B0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0095-7B56-413F-90FD-C4A963F6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731A-0CC2-4C58-8DAA-E2B89641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0E62-4DCA-4B53-B692-BEDAF6ED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258E-BC6B-4A21-8260-D4A6652A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B714-5678-413A-B90B-AB05D0E9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1A97-D1A9-4A8A-9154-D6552A94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563D-AD9D-455D-AAD5-FCE18539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430E-99A2-4FF1-8DA3-D28C5685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7BAE-215D-42AA-BEA2-B217F7C975F3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A7FD-84B0-4DFD-A5F2-FCE8E699C382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6993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 Black"/>
              </a:rPr>
              <a:t>ANALYSING OPERATING ACTIVITI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50560" y="2997000"/>
            <a:ext cx="71276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Magister Akuntans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Universitas Mercu Bu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Disusun Oleh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Ahalik (5550812000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Eko Hadi Siswanto (5550811002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Bramanditto (5550811000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4280-2A2B-4758-A1B9-B4A163F75C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 Black"/>
              </a:rPr>
              <a:t>Special Items – Asset Impairment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24360"/>
          </a:xfrm>
          <a:prstGeom prst="rect">
            <a:avLst/>
          </a:prstGeom>
          <a:noFill/>
          <a:ln w="38160">
            <a:solidFill>
              <a:srgbClr val="7e9ce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 u="sng">
                <a:solidFill>
                  <a:srgbClr val="0000ff"/>
                </a:solidFill>
                <a:uFillTx/>
                <a:latin typeface="Arial"/>
              </a:rPr>
              <a:t>Impairment of Long-Lived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air value (market value or value in use) &lt; carrying val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asons for impair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cline in demand for asset outpu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echnological obsolescen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hanges in business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 u="sng">
                <a:solidFill>
                  <a:srgbClr val="0000ff"/>
                </a:solidFill>
                <a:uFillTx/>
                <a:latin typeface="Arial"/>
              </a:rPr>
              <a:t>Accounting for Impair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 at the lower of market and co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losure about determination of amou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losure about probable impairmen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 in determining when and how much to write-of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lan required for asset dispo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E1A8-5128-4E42-A26C-43F03DF63F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777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 Black"/>
              </a:rPr>
              <a:t>Special Items – Restructuring Charge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38160">
            <a:solidFill>
              <a:srgbClr val="7e9ce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 u="sng">
                <a:solidFill>
                  <a:srgbClr val="0000ff"/>
                </a:solidFill>
                <a:uFillTx/>
                <a:latin typeface="Arial"/>
              </a:rPr>
              <a:t>Restructuring 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- Costs related to major change in business and strategy, inclu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ve reorganiz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sting business uni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ing contracts and joint ventu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ntinuing product lin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 turnov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-offs combined with investments in assets, technology or manp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ccounting for Restructuring 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a provision (liability) for estimated cos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 estimated costs to current income as a special it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costs are charged against the provision when incur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D89D-9050-40DB-8981-F3E971561B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24000" y="1413000"/>
            <a:ext cx="8610480" cy="5477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新細明體"/>
              </a:rPr>
              <a:t>Earnings Management with Special Charges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—An Illu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buClr>
                <a:srgbClr val="cccc00"/>
              </a:buClr>
              <a:buSzPct val="120000"/>
              <a:buFont typeface="Arial"/>
              <a:buChar char="•"/>
              <a:tabLst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Company earns $2 per share in perpetu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buClr>
                <a:srgbClr val="cccc00"/>
              </a:buClr>
              <a:buSzPct val="120000"/>
              <a:buFont typeface="Arial"/>
              <a:buChar char="•"/>
              <a:tabLst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Cost of capital is 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buClr>
                <a:srgbClr val="cccc00"/>
              </a:buClr>
              <a:buSzPct val="120000"/>
              <a:buFont typeface="Arial"/>
              <a:buChar char="•"/>
              <a:tabLst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Company valuation is $20 ($2/0.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buClr>
                <a:srgbClr val="cccc00"/>
              </a:buClr>
              <a:buSzPct val="120000"/>
              <a:buFont typeface="Arial"/>
              <a:buChar char="•"/>
              <a:tabLst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Company overstates recurring earnings by $1 per share for 4 periods and then reverses this with a single charge in the fourth ye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buClr>
                <a:srgbClr val="cccc00"/>
              </a:buClr>
              <a:buSzPct val="120000"/>
              <a:buFont typeface="Arial"/>
              <a:buChar char="•"/>
              <a:tabLst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新細明體"/>
              </a:rPr>
              <a:t>($ per share)</a:t>
            </a: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新細明體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新細明體"/>
              </a:rPr>
              <a:t>Year 1</a:t>
            </a: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新細明體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新細明體"/>
              </a:rPr>
              <a:t>Year 2</a:t>
            </a: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新細明體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新細明體"/>
              </a:rPr>
              <a:t>Year 3</a:t>
            </a: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新細明體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新細明體"/>
              </a:rPr>
              <a:t>Year 4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Recurring earnings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$2 + $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$2 + $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$2 + $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$2 + $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Special charge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	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新細明體"/>
              </a:rPr>
              <a:t>--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	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新細明體"/>
              </a:rPr>
              <a:t>--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	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新細明體"/>
              </a:rPr>
              <a:t>--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	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新細明體"/>
              </a:rPr>
              <a:t>  (4)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Net Income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$3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$3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$3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$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新細明體"/>
              </a:rPr>
              <a:t>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新細明體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新細明體"/>
              </a:rPr>
              <a:t>(1) </a:t>
            </a: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新細明體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Suggests permanent component of $3 per share and a transitory component of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$(4) per share in Yea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新細明體"/>
              </a:rPr>
              <a:t>(2)</a:t>
            </a: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新細明體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Company stock is valued at $26 ([$3 / 0.10] - $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新細明體"/>
              </a:rPr>
              <a:t>(3)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Ignoring special charges (as some analysts advise) yields stock valued at $30 ($3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新細明體"/>
              </a:rPr>
              <a:t>/0.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tabLst>
                <a:tab algn="l" pos="0"/>
                <a:tab algn="l" pos="227160"/>
                <a:tab algn="l" pos="453960"/>
                <a:tab algn="l" pos="2286000"/>
                <a:tab algn="l" pos="3662280"/>
                <a:tab algn="l" pos="4965840"/>
                <a:tab algn="l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463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新細明體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3505320"/>
            <a:ext cx="7315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4572000"/>
            <a:ext cx="7315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441972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38480" y="441972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81680" y="441972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34120" y="4419720"/>
            <a:ext cx="30456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7427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 Black"/>
              </a:rPr>
              <a:t>Analysing Special Items 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 Black"/>
              </a:rPr>
              <a:t>                     – Earnings Management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C513-FB2E-4A22-8BFC-E10766DA1987}" type="slidenum">
              <a:t>12</a:t>
            </a:fld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7427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 Black"/>
              </a:rPr>
              <a:t>Analysing Special Items 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 Black"/>
              </a:rPr>
              <a:t>      – Income Statement Adjustment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968720"/>
          </a:xfrm>
          <a:prstGeom prst="rect">
            <a:avLst/>
          </a:prstGeom>
          <a:noFill/>
          <a:ln w="38160">
            <a:solidFill>
              <a:srgbClr val="7e9ce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Permanent Income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t impairment -- understatement of past expe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A $40 million drug manufacturing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10000"/>
              </a:lnSpc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reciated over 8 years on a straight-line basis with no salvage val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10000"/>
              </a:lnSpc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apped at the end of the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ear due to the introduction of a competing, revolutionary produ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10000"/>
              </a:lnSpc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 million impairment charge reported at the end of year 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is and Adjust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10000"/>
              </a:lnSpc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estimated the economic life of the machi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10000"/>
              </a:lnSpc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 deprecation expenses assuming a 4-year useful lif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10000"/>
              </a:lnSpc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ate past and current earn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E5DF-D523-4DF1-9E01-95735C3260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7427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 Black"/>
              </a:rPr>
              <a:t>Analysing Special Items 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 Black"/>
              </a:rPr>
              <a:t>      – Income Statement Adjustment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24360"/>
          </a:xfrm>
          <a:prstGeom prst="rect">
            <a:avLst/>
          </a:prstGeom>
          <a:noFill/>
          <a:ln w="38160">
            <a:solidFill>
              <a:srgbClr val="7e9ce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 u="sng">
                <a:solidFill>
                  <a:srgbClr val="0000ff"/>
                </a:solidFill>
                <a:uFillTx/>
                <a:latin typeface="Arial"/>
              </a:rPr>
              <a:t>Permanent Income Calculation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structuring charges -- investments for improved future profi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.g. Streamlining procurement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10000"/>
              </a:lnSpc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$4.2 million severance compensation paid to laid-off work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10000"/>
              </a:lnSpc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$1.3 million/year cost saving due to 20% reduction in workfo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nalysis and Adjust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10000"/>
              </a:lnSpc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imilar to an investment which can generate future economic benefits – reduced cos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10000"/>
              </a:lnSpc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llocate $4.2 million over current and future peri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 u="sng">
                <a:solidFill>
                  <a:srgbClr val="0000ff"/>
                </a:solidFill>
                <a:uFillTx/>
                <a:latin typeface="Arial"/>
              </a:rPr>
              <a:t>Economic Income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re amount of special charges is includ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BFFD-57DA-4F90-94E3-DD8382734C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 Black"/>
              </a:rPr>
              <a:t>Analysing Special Items 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 Black"/>
              </a:rPr>
              <a:t>             – Balance Sheet Adjustment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518000"/>
          </a:xfrm>
          <a:prstGeom prst="rect">
            <a:avLst/>
          </a:prstGeom>
          <a:noFill/>
          <a:ln w="38160">
            <a:solidFill>
              <a:srgbClr val="7e9ce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Assets Impair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reflect business reality by reporting assets closer to net realisable valu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sheet may be conservatively distorted since asset write-ups are not permit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7F8A-D622-4693-947D-7571EC3459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Revenue and Gain Recognitio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897440"/>
          </a:xfrm>
          <a:prstGeom prst="rect">
            <a:avLst/>
          </a:prstGeom>
          <a:noFill/>
          <a:ln w="38160">
            <a:solidFill>
              <a:srgbClr val="7e9ce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w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revenue prematurely/belatedl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revenue prior to reasonable certainty of realisation and cancel/reverse in latter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9934-CD65-496D-A5DE-235882F517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Research and Development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  -- Accounting for research &amp; development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78360"/>
          </a:xfrm>
          <a:prstGeom prst="rect">
            <a:avLst/>
          </a:prstGeom>
          <a:noFill/>
          <a:ln w="38160">
            <a:solidFill>
              <a:srgbClr val="7e9ce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 u="sng">
                <a:solidFill>
                  <a:srgbClr val="0000ff"/>
                </a:solidFill>
                <a:uFillTx/>
                <a:latin typeface="Arial"/>
              </a:rPr>
              <a:t>Accounting for R&amp;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e R&amp;D costs when incurr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alise costs of materials, equipment, and facilities with alternative future us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alise intangibles purchased from others for R&amp;D activities with alternative future u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OW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benefits are usually created from R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20000"/>
              </a:lnSpc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te R&amp;D asse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20000"/>
              </a:lnSpc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irs earnings useful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often rewards a stock price for R&amp;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unting ignores experiences of many ongoing R&amp;D activiti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s to serve needs and interests of many analy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B09-5042-437D-9E14-1BE9CB8C4B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Research and Development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          -- Analysing research &amp; development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38160">
            <a:solidFill>
              <a:srgbClr val="7e9ce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ssess the Quality and Potential Value of R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 R&amp;D expens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research perform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D outlays by categor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feasibilit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viabilit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of R&amp;D projec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/failure experience with R&amp;D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6D70-2D69-40BB-B53F-0CE306B375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 Black"/>
              </a:rPr>
              <a:t>THE END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9BBD-E6F7-477C-9C19-3D2B4D3172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 Black"/>
              </a:rPr>
              <a:t>Overview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4824360"/>
          </a:xfrm>
          <a:prstGeom prst="rect">
            <a:avLst/>
          </a:prstGeom>
          <a:noFill/>
          <a:ln w="38160">
            <a:solidFill>
              <a:srgbClr val="7e9ce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07800" y="1743120"/>
            <a:ext cx="8511480" cy="4637880"/>
            <a:chOff x="307800" y="1743120"/>
            <a:chExt cx="8511480" cy="4637880"/>
          </a:xfrm>
        </p:grpSpPr>
        <p:cxnSp>
          <p:nvCxnSpPr>
            <p:cNvPr id="161" name="_s30752"/>
            <p:cNvCxnSpPr>
              <a:stCxn id="162" idx="1"/>
              <a:endCxn id="163" idx="2"/>
            </p:cNvCxnSpPr>
            <p:nvPr/>
          </p:nvCxnSpPr>
          <p:spPr>
            <a:xfrm rot="10800000">
              <a:off x="1218960" y="3120480"/>
              <a:ext cx="289440" cy="1351080"/>
            </a:xfrm>
            <a:prstGeom prst="bentConnector2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164" name="_s30750"/>
            <p:cNvCxnSpPr>
              <a:stCxn id="165" idx="1"/>
              <a:endCxn id="163" idx="2"/>
            </p:cNvCxnSpPr>
            <p:nvPr/>
          </p:nvCxnSpPr>
          <p:spPr>
            <a:xfrm rot="10800000">
              <a:off x="1218960" y="3119760"/>
              <a:ext cx="289440" cy="532800"/>
            </a:xfrm>
            <a:prstGeom prst="bentConnector2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166" name="_s30748"/>
            <p:cNvCxnSpPr>
              <a:stCxn id="167" idx="0"/>
              <a:endCxn id="168" idx="2"/>
            </p:cNvCxnSpPr>
            <p:nvPr/>
          </p:nvCxnSpPr>
          <p:spPr>
            <a:xfrm flipV="1">
              <a:off x="7907760" y="3120120"/>
              <a:ext cx="2880" cy="244800"/>
            </a:xfrm>
            <a:prstGeom prst="bentConnector2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169" name="_s30746"/>
            <p:cNvCxnSpPr>
              <a:stCxn id="170" idx="1"/>
              <a:endCxn id="171" idx="2"/>
            </p:cNvCxnSpPr>
            <p:nvPr/>
          </p:nvCxnSpPr>
          <p:spPr>
            <a:xfrm rot="10800000">
              <a:off x="3650760" y="3119760"/>
              <a:ext cx="289440" cy="2988720"/>
            </a:xfrm>
            <a:prstGeom prst="bentConnector2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172" name="_s30744"/>
            <p:cNvCxnSpPr>
              <a:stCxn id="173" idx="1"/>
              <a:endCxn id="171" idx="2"/>
            </p:cNvCxnSpPr>
            <p:nvPr/>
          </p:nvCxnSpPr>
          <p:spPr>
            <a:xfrm rot="10800000">
              <a:off x="3650760" y="3119760"/>
              <a:ext cx="289440" cy="2170080"/>
            </a:xfrm>
            <a:prstGeom prst="bentConnector2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174" name="_s30742"/>
            <p:cNvCxnSpPr>
              <a:stCxn id="175" idx="1"/>
              <a:endCxn id="171" idx="2"/>
            </p:cNvCxnSpPr>
            <p:nvPr/>
          </p:nvCxnSpPr>
          <p:spPr>
            <a:xfrm rot="10800000">
              <a:off x="3650760" y="3120480"/>
              <a:ext cx="289440" cy="1351080"/>
            </a:xfrm>
            <a:prstGeom prst="bentConnector2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176" name="_s30740"/>
            <p:cNvCxnSpPr>
              <a:stCxn id="177" idx="1"/>
              <a:endCxn id="171" idx="2"/>
            </p:cNvCxnSpPr>
            <p:nvPr/>
          </p:nvCxnSpPr>
          <p:spPr>
            <a:xfrm rot="10800000">
              <a:off x="3650760" y="3119760"/>
              <a:ext cx="289440" cy="532800"/>
            </a:xfrm>
            <a:prstGeom prst="bentConnector2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178" name="_s30738"/>
            <p:cNvCxnSpPr>
              <a:stCxn id="168" idx="0"/>
              <a:endCxn id="179" idx="2"/>
            </p:cNvCxnSpPr>
            <p:nvPr/>
          </p:nvCxnSpPr>
          <p:spPr>
            <a:xfrm flipV="1" rot="16200000">
              <a:off x="6114240" y="754200"/>
              <a:ext cx="244800" cy="3342240"/>
            </a:xfrm>
            <a:prstGeom prst="bentConnector3">
              <a:avLst>
                <a:gd name="adj1" fmla="val 46686"/>
              </a:avLst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180" name="_s30735"/>
            <p:cNvCxnSpPr>
              <a:stCxn id="181" idx="0"/>
              <a:endCxn id="179" idx="2"/>
            </p:cNvCxnSpPr>
            <p:nvPr/>
          </p:nvCxnSpPr>
          <p:spPr>
            <a:xfrm flipV="1" rot="16200000">
              <a:off x="5051160" y="1817280"/>
              <a:ext cx="244800" cy="1216440"/>
            </a:xfrm>
            <a:prstGeom prst="bentConnector3">
              <a:avLst>
                <a:gd name="adj1" fmla="val 46686"/>
              </a:avLst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182" name="_s30734"/>
            <p:cNvCxnSpPr>
              <a:stCxn id="171" idx="0"/>
              <a:endCxn id="179" idx="2"/>
            </p:cNvCxnSpPr>
            <p:nvPr/>
          </p:nvCxnSpPr>
          <p:spPr>
            <a:xfrm flipH="1" flipV="1" rot="5400000">
              <a:off x="3986280" y="1968120"/>
              <a:ext cx="244800" cy="915120"/>
            </a:xfrm>
            <a:prstGeom prst="bentConnector3">
              <a:avLst>
                <a:gd name="adj1" fmla="val 46686"/>
              </a:avLst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183" name="_s30733"/>
            <p:cNvCxnSpPr>
              <a:stCxn id="163" idx="0"/>
              <a:endCxn id="179" idx="2"/>
            </p:cNvCxnSpPr>
            <p:nvPr/>
          </p:nvCxnSpPr>
          <p:spPr>
            <a:xfrm flipH="1" flipV="1" rot="5400000">
              <a:off x="2770200" y="752040"/>
              <a:ext cx="244800" cy="3346920"/>
            </a:xfrm>
            <a:prstGeom prst="bentConnector3">
              <a:avLst>
                <a:gd name="adj1" fmla="val 46686"/>
              </a:avLst>
            </a:prstGeom>
            <a:ln w="9360">
              <a:solidFill>
                <a:srgbClr val="808080"/>
              </a:solidFill>
              <a:miter/>
            </a:ln>
          </p:spPr>
        </p:cxnSp>
        <p:sp>
          <p:nvSpPr>
            <p:cNvPr id="179" name="_s30729"/>
            <p:cNvSpPr/>
            <p:nvPr/>
          </p:nvSpPr>
          <p:spPr>
            <a:xfrm>
              <a:off x="3651480" y="1743120"/>
              <a:ext cx="1823760" cy="5454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pera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30730"/>
            <p:cNvSpPr/>
            <p:nvPr/>
          </p:nvSpPr>
          <p:spPr>
            <a:xfrm>
              <a:off x="307800" y="2561400"/>
              <a:ext cx="1823760" cy="5454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7e9c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lternative Inco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30731"/>
            <p:cNvSpPr/>
            <p:nvPr/>
          </p:nvSpPr>
          <p:spPr>
            <a:xfrm>
              <a:off x="2739600" y="2561400"/>
              <a:ext cx="1823760" cy="5454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7e9c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n-Recur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te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30732"/>
            <p:cNvSpPr/>
            <p:nvPr/>
          </p:nvSpPr>
          <p:spPr>
            <a:xfrm>
              <a:off x="4867560" y="2561400"/>
              <a:ext cx="1823760" cy="5454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7e9c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venue &amp; G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30737"/>
            <p:cNvSpPr/>
            <p:nvPr/>
          </p:nvSpPr>
          <p:spPr>
            <a:xfrm>
              <a:off x="6995520" y="2561400"/>
              <a:ext cx="1823760" cy="5454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7e9c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ferred Charg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30739"/>
            <p:cNvSpPr/>
            <p:nvPr/>
          </p:nvSpPr>
          <p:spPr>
            <a:xfrm>
              <a:off x="3955680" y="3380040"/>
              <a:ext cx="1823760" cy="5454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traordinar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te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30741"/>
            <p:cNvSpPr/>
            <p:nvPr/>
          </p:nvSpPr>
          <p:spPr>
            <a:xfrm>
              <a:off x="3955680" y="4198680"/>
              <a:ext cx="1823760" cy="5454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scontinu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30743"/>
            <p:cNvSpPr/>
            <p:nvPr/>
          </p:nvSpPr>
          <p:spPr>
            <a:xfrm>
              <a:off x="3955680" y="5017320"/>
              <a:ext cx="1823760" cy="5454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counting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ang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30745"/>
            <p:cNvSpPr/>
            <p:nvPr/>
          </p:nvSpPr>
          <p:spPr>
            <a:xfrm>
              <a:off x="3955680" y="5835600"/>
              <a:ext cx="1823760" cy="5454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pecial ite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30747"/>
            <p:cNvSpPr/>
            <p:nvPr/>
          </p:nvSpPr>
          <p:spPr>
            <a:xfrm>
              <a:off x="6995520" y="3380040"/>
              <a:ext cx="1823760" cy="543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earch &amp;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30749"/>
            <p:cNvSpPr/>
            <p:nvPr/>
          </p:nvSpPr>
          <p:spPr>
            <a:xfrm>
              <a:off x="1523520" y="3380040"/>
              <a:ext cx="1823760" cy="5454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perating vs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noperating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30751"/>
            <p:cNvSpPr/>
            <p:nvPr/>
          </p:nvSpPr>
          <p:spPr>
            <a:xfrm>
              <a:off x="1523520" y="4198680"/>
              <a:ext cx="1823760" cy="5454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curring v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nrecur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6B46-22A8-4816-9E93-E41E37EACB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 Black"/>
              </a:rPr>
              <a:t>Alternative Income Classification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4038480" cy="4824360"/>
          </a:xfrm>
          <a:prstGeom prst="rect">
            <a:avLst/>
          </a:prstGeom>
          <a:noFill/>
          <a:ln w="38160">
            <a:solidFill>
              <a:srgbClr val="7e9ce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99"/>
                </a:solidFill>
                <a:latin typeface="Arial"/>
              </a:rPr>
              <a:t>Recurring vs. Nonre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omprehensive In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xy of economic incom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s changes to equity, 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 those from owner activit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Net In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 line measure of income.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ontinuing In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ordinary item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unting chang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ntinued op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ore In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ludes all nonrecurring 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2920" y="1699920"/>
            <a:ext cx="4038840" cy="4824360"/>
          </a:xfrm>
          <a:prstGeom prst="rect">
            <a:avLst/>
          </a:prstGeom>
          <a:noFill/>
          <a:ln w="38160">
            <a:solidFill>
              <a:srgbClr val="7e9ce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99"/>
                </a:solidFill>
                <a:latin typeface="Arial"/>
              </a:rPr>
              <a:t>Operating vs. Nonope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Operating In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nue not related to operation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ng revenue and expens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ntinued op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Nonoperating In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s all components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d in the operating inc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97C2-1972-46CD-BE0A-DD8155FD66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 Black"/>
              </a:rPr>
              <a:t>Nonrecurring Item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07280" cy="4537080"/>
          </a:xfrm>
          <a:prstGeom prst="rect">
            <a:avLst/>
          </a:prstGeom>
          <a:noFill/>
          <a:ln w="38160">
            <a:solidFill>
              <a:srgbClr val="7e9ce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39640" y="1773360"/>
            <a:ext cx="7992720" cy="4410720"/>
            <a:chOff x="539640" y="1773360"/>
            <a:chExt cx="7992720" cy="4410720"/>
          </a:xfrm>
        </p:grpSpPr>
        <p:cxnSp>
          <p:nvCxnSpPr>
            <p:cNvPr id="190" name="_s42051"/>
            <p:cNvCxnSpPr>
              <a:stCxn id="191" idx="1"/>
              <a:endCxn id="192" idx="2"/>
            </p:cNvCxnSpPr>
            <p:nvPr/>
          </p:nvCxnSpPr>
          <p:spPr>
            <a:xfrm rot="10800000">
              <a:off x="6783120" y="3777480"/>
              <a:ext cx="250200" cy="2005560"/>
            </a:xfrm>
            <a:prstGeom prst="bentConnector2">
              <a:avLst/>
            </a:prstGeom>
            <a:ln w="38160">
              <a:solidFill>
                <a:srgbClr val="ebeb99"/>
              </a:solidFill>
              <a:miter/>
            </a:ln>
          </p:spPr>
        </p:cxnSp>
        <p:cxnSp>
          <p:nvCxnSpPr>
            <p:cNvPr id="193" name="_s42049"/>
            <p:cNvCxnSpPr>
              <a:stCxn id="194" idx="1"/>
              <a:endCxn id="195" idx="2"/>
            </p:cNvCxnSpPr>
            <p:nvPr/>
          </p:nvCxnSpPr>
          <p:spPr>
            <a:xfrm rot="10800000">
              <a:off x="4788000" y="3777480"/>
              <a:ext cx="248400" cy="2005560"/>
            </a:xfrm>
            <a:prstGeom prst="bentConnector2">
              <a:avLst/>
            </a:prstGeom>
            <a:ln w="38160">
              <a:solidFill>
                <a:srgbClr val="ebeb99"/>
              </a:solidFill>
              <a:miter/>
            </a:ln>
          </p:spPr>
        </p:cxnSp>
        <p:cxnSp>
          <p:nvCxnSpPr>
            <p:cNvPr id="196" name="_s42047"/>
            <p:cNvCxnSpPr>
              <a:stCxn id="197" idx="1"/>
              <a:endCxn id="195" idx="2"/>
            </p:cNvCxnSpPr>
            <p:nvPr/>
          </p:nvCxnSpPr>
          <p:spPr>
            <a:xfrm rot="10800000">
              <a:off x="4788000" y="3777480"/>
              <a:ext cx="248400" cy="802440"/>
            </a:xfrm>
            <a:prstGeom prst="bentConnector2">
              <a:avLst/>
            </a:prstGeom>
            <a:ln w="38160">
              <a:solidFill>
                <a:srgbClr val="ebeb99"/>
              </a:solidFill>
              <a:miter/>
            </a:ln>
          </p:spPr>
        </p:cxnSp>
        <p:cxnSp>
          <p:nvCxnSpPr>
            <p:cNvPr id="198" name="_s42024"/>
            <p:cNvCxnSpPr>
              <a:stCxn id="199" idx="1"/>
              <a:endCxn id="192" idx="2"/>
            </p:cNvCxnSpPr>
            <p:nvPr/>
          </p:nvCxnSpPr>
          <p:spPr>
            <a:xfrm rot="10800000">
              <a:off x="6783120" y="3777480"/>
              <a:ext cx="250200" cy="802440"/>
            </a:xfrm>
            <a:prstGeom prst="bentConnector2">
              <a:avLst/>
            </a:prstGeom>
            <a:ln w="38160">
              <a:solidFill>
                <a:srgbClr val="ebeb99"/>
              </a:solidFill>
              <a:miter/>
            </a:ln>
          </p:spPr>
        </p:cxnSp>
        <p:cxnSp>
          <p:nvCxnSpPr>
            <p:cNvPr id="200" name="_s42029"/>
            <p:cNvCxnSpPr>
              <a:stCxn id="192" idx="0"/>
              <a:endCxn id="201" idx="2"/>
            </p:cNvCxnSpPr>
            <p:nvPr/>
          </p:nvCxnSpPr>
          <p:spPr>
            <a:xfrm flipV="1" rot="16200000">
              <a:off x="5208480" y="1400760"/>
              <a:ext cx="401400" cy="2748600"/>
            </a:xfrm>
            <a:prstGeom prst="bentConnector3">
              <a:avLst>
                <a:gd name="adj1" fmla="val 28456"/>
              </a:avLst>
            </a:prstGeom>
            <a:ln w="38160">
              <a:solidFill>
                <a:srgbClr val="cccc00"/>
              </a:solidFill>
              <a:miter/>
            </a:ln>
          </p:spPr>
        </p:cxnSp>
        <p:cxnSp>
          <p:nvCxnSpPr>
            <p:cNvPr id="202" name="_s42030"/>
            <p:cNvCxnSpPr>
              <a:stCxn id="195" idx="0"/>
              <a:endCxn id="201" idx="2"/>
            </p:cNvCxnSpPr>
            <p:nvPr/>
          </p:nvCxnSpPr>
          <p:spPr>
            <a:xfrm flipV="1" rot="16200000">
              <a:off x="4210920" y="2398320"/>
              <a:ext cx="401400" cy="753480"/>
            </a:xfrm>
            <a:prstGeom prst="bentConnector3">
              <a:avLst>
                <a:gd name="adj1" fmla="val 28456"/>
              </a:avLst>
            </a:prstGeom>
            <a:ln w="38160">
              <a:solidFill>
                <a:srgbClr val="cccc00"/>
              </a:solidFill>
              <a:miter/>
            </a:ln>
          </p:spPr>
        </p:cxnSp>
        <p:cxnSp>
          <p:nvCxnSpPr>
            <p:cNvPr id="203" name="_s42031"/>
            <p:cNvCxnSpPr>
              <a:stCxn id="204" idx="0"/>
              <a:endCxn id="201" idx="2"/>
            </p:cNvCxnSpPr>
            <p:nvPr/>
          </p:nvCxnSpPr>
          <p:spPr>
            <a:xfrm flipH="1" flipV="1" rot="5400000">
              <a:off x="3335760" y="2275920"/>
              <a:ext cx="401400" cy="998280"/>
            </a:xfrm>
            <a:prstGeom prst="bentConnector3">
              <a:avLst>
                <a:gd name="adj1" fmla="val 28456"/>
              </a:avLst>
            </a:prstGeom>
            <a:ln w="38160">
              <a:solidFill>
                <a:srgbClr val="cccc00"/>
              </a:solidFill>
              <a:miter/>
            </a:ln>
          </p:spPr>
        </p:cxnSp>
        <p:cxnSp>
          <p:nvCxnSpPr>
            <p:cNvPr id="205" name="_s42032"/>
            <p:cNvCxnSpPr>
              <a:stCxn id="206" idx="0"/>
              <a:endCxn id="201" idx="2"/>
            </p:cNvCxnSpPr>
            <p:nvPr/>
          </p:nvCxnSpPr>
          <p:spPr>
            <a:xfrm flipH="1" flipV="1" rot="5400000">
              <a:off x="2461320" y="1401480"/>
              <a:ext cx="401400" cy="2747160"/>
            </a:xfrm>
            <a:prstGeom prst="bentConnector3">
              <a:avLst>
                <a:gd name="adj1" fmla="val 28456"/>
              </a:avLst>
            </a:prstGeom>
            <a:ln w="38160">
              <a:solidFill>
                <a:srgbClr val="cccc00"/>
              </a:solidFill>
              <a:miter/>
            </a:ln>
          </p:spPr>
        </p:cxnSp>
        <p:sp>
          <p:nvSpPr>
            <p:cNvPr id="201" name="_s42033"/>
            <p:cNvSpPr/>
            <p:nvPr/>
          </p:nvSpPr>
          <p:spPr>
            <a:xfrm>
              <a:off x="3286080" y="1773360"/>
              <a:ext cx="1498680" cy="80172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nrecur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te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42034"/>
            <p:cNvSpPr/>
            <p:nvPr/>
          </p:nvSpPr>
          <p:spPr>
            <a:xfrm>
              <a:off x="539640" y="2976120"/>
              <a:ext cx="1498680" cy="8017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Extraordinar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Item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42035"/>
            <p:cNvSpPr/>
            <p:nvPr/>
          </p:nvSpPr>
          <p:spPr>
            <a:xfrm>
              <a:off x="2288160" y="2976120"/>
              <a:ext cx="1498680" cy="80172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ontinue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42036"/>
            <p:cNvSpPr/>
            <p:nvPr/>
          </p:nvSpPr>
          <p:spPr>
            <a:xfrm>
              <a:off x="4037040" y="2976120"/>
              <a:ext cx="1498680" cy="8017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ccount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hang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42037"/>
            <p:cNvSpPr/>
            <p:nvPr/>
          </p:nvSpPr>
          <p:spPr>
            <a:xfrm>
              <a:off x="6034320" y="2976120"/>
              <a:ext cx="1498680" cy="80172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pec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harg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42042"/>
            <p:cNvSpPr/>
            <p:nvPr/>
          </p:nvSpPr>
          <p:spPr>
            <a:xfrm>
              <a:off x="7033680" y="4179240"/>
              <a:ext cx="1498680" cy="79920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sse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mpairmen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42046"/>
            <p:cNvSpPr/>
            <p:nvPr/>
          </p:nvSpPr>
          <p:spPr>
            <a:xfrm>
              <a:off x="5036400" y="4179240"/>
              <a:ext cx="1497240" cy="80172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ccounting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inciple chan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42048"/>
            <p:cNvSpPr/>
            <p:nvPr/>
          </p:nvSpPr>
          <p:spPr>
            <a:xfrm>
              <a:off x="5036400" y="5382360"/>
              <a:ext cx="1497240" cy="80172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ccounti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stimate chan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42050"/>
            <p:cNvSpPr/>
            <p:nvPr/>
          </p:nvSpPr>
          <p:spPr>
            <a:xfrm>
              <a:off x="7033680" y="5382360"/>
              <a:ext cx="1497240" cy="801720"/>
            </a:xfrm>
            <a:prstGeom prst="roundRect">
              <a:avLst>
                <a:gd name="adj" fmla="val 16667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tructuri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harg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5D0A-0084-4A11-BB6F-CA771FC737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 Black"/>
              </a:rPr>
              <a:t>Extraordinary Items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 Black"/>
              </a:rPr>
              <a:t> -- Accounting for extraordinary item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38160">
            <a:solidFill>
              <a:srgbClr val="7e9ce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Recognition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usual nature,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equent occurr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Disclosure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d separately, net of ta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continuing inc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42920" y="1700280"/>
            <a:ext cx="4038840" cy="4411440"/>
          </a:xfrm>
          <a:prstGeom prst="rect">
            <a:avLst/>
          </a:prstGeom>
          <a:noFill/>
          <a:ln w="38160">
            <a:solidFill>
              <a:srgbClr val="7e9ce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Examples of Extraordinary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disaste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opri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retirement of deb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Examples NOT Reported as Extraordinary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10000"/>
              </a:lnSpc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-down/off of asse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10000"/>
              </a:lnSpc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sal of business segme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10000"/>
              </a:lnSpc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/abandonment of PP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10000"/>
              </a:lnSpc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k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10000"/>
              </a:lnSpc>
              <a:spcBef>
                <a:spcPts val="45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ment of accruals on long-term contr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A0BD-51DB-48E7-9E91-AFAFB50476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 Black"/>
              </a:rPr>
              <a:t>Extraordinary Items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 Black"/>
              </a:rPr>
              <a:t>         -- Analysing extraordinary item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38160">
            <a:solidFill>
              <a:srgbClr val="7e9ce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EXCLUDE whe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parison analysi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ermanent income calcula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INCLUDE whe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perating income calculation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conomic income calcula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ther implication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veal risk exposure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ssibility of recurren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8207-3739-4D0B-91F8-342520DC47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920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 Black"/>
              </a:rPr>
              <a:t>Discontinued Operations</a:t>
            </a:r>
            <a:br>
              <a:rPr sz="2600"/>
            </a:br>
            <a:r>
              <a:rPr b="1" lang="en-US" sz="2600" spc="-1" strike="noStrike">
                <a:solidFill>
                  <a:srgbClr val="330066"/>
                </a:solidFill>
                <a:latin typeface="Arial Black"/>
              </a:rPr>
              <a:t>-- Accounting for discontinued operations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608360"/>
          </a:xfrm>
          <a:prstGeom prst="rect">
            <a:avLst/>
          </a:prstGeom>
          <a:noFill/>
          <a:ln w="38160">
            <a:solidFill>
              <a:srgbClr val="7e9ce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84360" y="1773360"/>
          <a:ext cx="7848360" cy="4311360"/>
        </p:xfrm>
        <a:graphic>
          <a:graphicData uri="http://schemas.openxmlformats.org/drawingml/2006/table">
            <a:tbl>
              <a:tblPr/>
              <a:tblGrid>
                <a:gridCol w="5472000"/>
                <a:gridCol w="1224000"/>
                <a:gridCol w="1152360"/>
              </a:tblGrid>
              <a:tr h="601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mart lower portion of income state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income (loss) from continuing operatio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 extraordinary i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(2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s from discontinued operations, net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x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s on disposal of discontinued operations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of tax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4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ordinary i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income (los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(22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(57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3851280" y="3284640"/>
            <a:ext cx="266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76360" y="4076640"/>
            <a:ext cx="504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71640" y="5300640"/>
            <a:ext cx="374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00360" y="5734080"/>
            <a:ext cx="381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95640" y="4869000"/>
            <a:ext cx="432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42920" y="1700280"/>
            <a:ext cx="5545080" cy="1154160"/>
          </a:xfrm>
          <a:prstGeom prst="wedgeRoundRectCallout">
            <a:avLst>
              <a:gd name="adj1" fmla="val 56439"/>
              <a:gd name="adj2" fmla="val 1678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perating income/loss from discontinued operations for the current and past two years are reported separately, net of taxes.</a:t>
            </a:r>
            <a:r>
              <a:rPr b="1" lang="en-US" sz="1800" spc="-1" strike="noStrike">
                <a:solidFill>
                  <a:srgbClr val="51009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11280" y="1700280"/>
            <a:ext cx="4321440" cy="1154160"/>
          </a:xfrm>
          <a:prstGeom prst="wedgeRoundRectCallout">
            <a:avLst>
              <a:gd name="adj1" fmla="val 48532"/>
              <a:gd name="adj2" fmla="val 22826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ains/losses on disposal of the discontinued operations are reported separately, net of taxes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FF1-0826-47C6-892A-E041540AEC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 Black"/>
              </a:rPr>
              <a:t>Discontinued Operations</a:t>
            </a:r>
            <a:br>
              <a:rPr sz="2600"/>
            </a:br>
            <a:r>
              <a:rPr b="1" lang="en-US" sz="2600" spc="-1" strike="noStrike">
                <a:solidFill>
                  <a:srgbClr val="330066"/>
                </a:solidFill>
                <a:latin typeface="Arial Black"/>
              </a:rPr>
              <a:t>       -- Analysing discontinued operations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920000" cy="4392720"/>
          </a:xfrm>
          <a:prstGeom prst="rect">
            <a:avLst/>
          </a:prstGeom>
          <a:noFill/>
          <a:ln w="38160">
            <a:solidFill>
              <a:srgbClr val="7e9ce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0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Balance Sheet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assets and liabilities of the discontinued opera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cumulative gains/losses from discontinued oper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Information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1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atement for the current and prior two yea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1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ated summary inform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1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voluntary disclos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7348-DA4D-428E-A048-AFCD466017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 Black"/>
              </a:rPr>
              <a:t>Accounting Changes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 Black"/>
              </a:rPr>
              <a:t>-- Accounting for accounting change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4038480" cy="4824360"/>
          </a:xfrm>
          <a:prstGeom prst="rect">
            <a:avLst/>
          </a:prstGeom>
          <a:noFill/>
          <a:ln w="38160">
            <a:solidFill>
              <a:srgbClr val="7e9ce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ccounting Principl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straight-line to accelerated depreci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losure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10000"/>
              </a:lnSpc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e and justification for chan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10000"/>
              </a:lnSpc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s of change on current income and EP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10000"/>
              </a:lnSpc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ch-up’ adjustment – cumulative effect on income and 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2920" y="1699920"/>
            <a:ext cx="4038840" cy="4824360"/>
          </a:xfrm>
          <a:prstGeom prst="rect">
            <a:avLst/>
          </a:prstGeom>
          <a:noFill/>
          <a:ln w="38160">
            <a:solidFill>
              <a:srgbClr val="7e9ce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ccounting Est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useful life of assets, inventory obsolescence, pension assumptions, uncollectible receiv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losure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10000"/>
              </a:lnSpc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etroactive restat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10000"/>
              </a:lnSpc>
              <a:spcBef>
                <a:spcPts val="499"/>
              </a:spcBef>
              <a:buClr>
                <a:srgbClr val="7e9ce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spective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10000"/>
              </a:lnSpc>
              <a:spcBef>
                <a:spcPts val="425"/>
              </a:spcBef>
              <a:buClr>
                <a:srgbClr val="7e9ce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s of change on net income and income before extraordinary items (include EPS) for the current period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F59A-003A-4D7C-BF6B-D893DC9241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3:12:16Z</dcterms:created>
  <dc:creator>Blue</dc:creator>
  <dc:description/>
  <dc:language>en-US</dc:language>
  <cp:lastModifiedBy>ichwan</cp:lastModifiedBy>
  <dcterms:modified xsi:type="dcterms:W3CDTF">2009-06-20T01:49:03Z</dcterms:modified>
  <cp:revision>57</cp:revision>
  <dc:subject/>
  <dc:title>Slide 1</dc:title>
</cp:coreProperties>
</file>