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7747-78D1-4E9D-B037-E5549247A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411768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7807-1DE8-4B43-B301-9DC76952C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D26D-1D5E-4CD4-B7B0-86EAA1E54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F4BD-2446-4A58-9612-62694D790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7D2A-BDF8-47C6-A3E9-9F4CE5042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784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411768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784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06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0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FCA6-7F5E-4601-93CE-BDC563081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F2E9-7E7D-41DD-9F23-7B4518F37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447D-748D-408F-9DF2-771F3AEEC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7D6B-24C5-4527-9156-227DA9967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7002-0125-4842-B395-7AF001638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825A-6CCE-41D6-9A71-CF8A4B4D8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E3CB-504C-4975-A72D-8C07559A4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12760" y="0"/>
            <a:ext cx="3587760" cy="5241960"/>
          </a:xfrm>
          <a:custGeom>
            <a:avLst/>
            <a:gdLst/>
            <a:ahLst/>
            <a:rect l="l" t="t" r="r" b="b"/>
            <a:pathLst>
              <a:path w="2260" h="3302">
                <a:moveTo>
                  <a:pt x="840" y="0"/>
                </a:moveTo>
                <a:cubicBezTo>
                  <a:pt x="0" y="0"/>
                  <a:pt x="134" y="0"/>
                  <a:pt x="134" y="0"/>
                </a:cubicBezTo>
                <a:cubicBezTo>
                  <a:pt x="134" y="0"/>
                  <a:pt x="134" y="2366"/>
                  <a:pt x="134" y="3302"/>
                </a:cubicBezTo>
                <a:cubicBezTo>
                  <a:pt x="2016" y="2945"/>
                  <a:pt x="2260" y="1160"/>
                  <a:pt x="840" y="0"/>
                </a:cubicBezTo>
                <a:close/>
              </a:path>
            </a:pathLst>
          </a:custGeom>
          <a:solidFill>
            <a:srgbClr val="f9dd8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50800" y="-11160"/>
            <a:ext cx="8585280" cy="6873840"/>
          </a:xfrm>
          <a:custGeom>
            <a:avLst/>
            <a:gdLst/>
            <a:ahLst/>
            <a:rect l="l" t="t" r="r" b="b"/>
            <a:pathLst>
              <a:path w="5408" h="4330">
                <a:moveTo>
                  <a:pt x="1402" y="4330"/>
                </a:moveTo>
                <a:cubicBezTo>
                  <a:pt x="2242" y="4330"/>
                  <a:pt x="5408" y="4327"/>
                  <a:pt x="5408" y="4327"/>
                </a:cubicBezTo>
                <a:cubicBezTo>
                  <a:pt x="5408" y="4327"/>
                  <a:pt x="5406" y="950"/>
                  <a:pt x="5406" y="14"/>
                </a:cubicBezTo>
                <a:cubicBezTo>
                  <a:pt x="4004" y="0"/>
                  <a:pt x="2700" y="0"/>
                  <a:pt x="1839" y="0"/>
                </a:cubicBezTo>
                <a:cubicBezTo>
                  <a:pt x="0" y="2193"/>
                  <a:pt x="687" y="3845"/>
                  <a:pt x="1402" y="4330"/>
                </a:cubicBezTo>
                <a:close/>
              </a:path>
            </a:pathLst>
          </a:custGeom>
          <a:solidFill>
            <a:srgbClr val="3a5482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0" y="3505320"/>
            <a:ext cx="4586400" cy="3381120"/>
          </a:xfrm>
          <a:custGeom>
            <a:avLst/>
            <a:gdLst/>
            <a:ahLst/>
            <a:rect l="l" t="t" r="r" b="b"/>
            <a:pathLst>
              <a:path w="2889" h="2130">
                <a:moveTo>
                  <a:pt x="0" y="2126"/>
                </a:moveTo>
                <a:cubicBezTo>
                  <a:pt x="841" y="2126"/>
                  <a:pt x="2889" y="2130"/>
                  <a:pt x="2889" y="2130"/>
                </a:cubicBezTo>
                <a:cubicBezTo>
                  <a:pt x="2889" y="2130"/>
                  <a:pt x="2881" y="1034"/>
                  <a:pt x="2880" y="98"/>
                </a:cubicBezTo>
                <a:cubicBezTo>
                  <a:pt x="1687" y="0"/>
                  <a:pt x="186" y="430"/>
                  <a:pt x="0" y="2126"/>
                </a:cubicBezTo>
                <a:close/>
              </a:path>
            </a:pathLst>
          </a:custGeom>
          <a:solidFill>
            <a:srgbClr val="99c311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2600" y="3129120"/>
            <a:ext cx="3708360" cy="3735360"/>
          </a:xfrm>
          <a:custGeom>
            <a:avLst/>
            <a:gdLst/>
            <a:ahLst/>
            <a:rect l="l" t="t" r="r" b="b"/>
            <a:pathLst>
              <a:path w="2336" h="2353">
                <a:moveTo>
                  <a:pt x="0" y="0"/>
                </a:moveTo>
                <a:cubicBezTo>
                  <a:pt x="0" y="840"/>
                  <a:pt x="7" y="2350"/>
                  <a:pt x="7" y="2350"/>
                </a:cubicBezTo>
                <a:cubicBezTo>
                  <a:pt x="7" y="2350"/>
                  <a:pt x="1360" y="2353"/>
                  <a:pt x="2296" y="2353"/>
                </a:cubicBezTo>
                <a:cubicBezTo>
                  <a:pt x="2336" y="1193"/>
                  <a:pt x="1720" y="130"/>
                  <a:pt x="0" y="0"/>
                </a:cubicBezTo>
                <a:close/>
              </a:path>
            </a:pathLst>
          </a:custGeom>
          <a:solidFill>
            <a:srgbClr val="367d82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5649480" y="-11160"/>
            <a:ext cx="3481560" cy="3503880"/>
          </a:xfrm>
          <a:custGeom>
            <a:avLst/>
            <a:gdLst/>
            <a:ahLst/>
            <a:rect l="l" t="t" r="r" b="b"/>
            <a:pathLst>
              <a:path w="2193" h="2207">
                <a:moveTo>
                  <a:pt x="1714" y="0"/>
                </a:moveTo>
                <a:cubicBezTo>
                  <a:pt x="874" y="0"/>
                  <a:pt x="0" y="0"/>
                  <a:pt x="0" y="0"/>
                </a:cubicBezTo>
                <a:cubicBezTo>
                  <a:pt x="0" y="0"/>
                  <a:pt x="0" y="936"/>
                  <a:pt x="0" y="1872"/>
                </a:cubicBezTo>
                <a:cubicBezTo>
                  <a:pt x="985" y="2207"/>
                  <a:pt x="2193" y="1568"/>
                  <a:pt x="1714" y="0"/>
                </a:cubicBezTo>
                <a:close/>
              </a:path>
            </a:pathLst>
          </a:custGeom>
          <a:solidFill>
            <a:srgbClr val="bbe0e3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65160" y="-36360"/>
            <a:ext cx="5641920" cy="3074760"/>
          </a:xfrm>
          <a:custGeom>
            <a:avLst/>
            <a:gdLst/>
            <a:ahLst/>
            <a:rect l="l" t="t" r="r" b="b"/>
            <a:pathLst>
              <a:path w="3554" h="1937">
                <a:moveTo>
                  <a:pt x="2304" y="1856"/>
                </a:moveTo>
                <a:cubicBezTo>
                  <a:pt x="2799" y="1775"/>
                  <a:pt x="3554" y="1402"/>
                  <a:pt x="3497" y="15"/>
                </a:cubicBezTo>
                <a:cubicBezTo>
                  <a:pt x="3496" y="0"/>
                  <a:pt x="936" y="15"/>
                  <a:pt x="0" y="15"/>
                </a:cubicBezTo>
                <a:cubicBezTo>
                  <a:pt x="357" y="1897"/>
                  <a:pt x="1809" y="1937"/>
                  <a:pt x="2304" y="1856"/>
                </a:cubicBezTo>
                <a:close/>
              </a:path>
            </a:pathLst>
          </a:custGeom>
          <a:solidFill>
            <a:srgbClr val="fe9758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90920" y="3786120"/>
            <a:ext cx="5665680" cy="3103560"/>
          </a:xfrm>
          <a:custGeom>
            <a:avLst/>
            <a:gdLst/>
            <a:ahLst/>
            <a:rect l="l" t="t" r="r" b="b"/>
            <a:pathLst>
              <a:path w="3569" h="1955">
                <a:moveTo>
                  <a:pt x="470" y="1947"/>
                </a:moveTo>
                <a:cubicBezTo>
                  <a:pt x="1311" y="1947"/>
                  <a:pt x="3569" y="1955"/>
                  <a:pt x="3569" y="1955"/>
                </a:cubicBezTo>
                <a:cubicBezTo>
                  <a:pt x="3569" y="1955"/>
                  <a:pt x="3528" y="812"/>
                  <a:pt x="2287" y="333"/>
                </a:cubicBezTo>
                <a:cubicBezTo>
                  <a:pt x="1322" y="0"/>
                  <a:pt x="0" y="739"/>
                  <a:pt x="470" y="1947"/>
                </a:cubicBezTo>
                <a:close/>
              </a:path>
            </a:pathLst>
          </a:custGeom>
          <a:solidFill>
            <a:srgbClr val="82b181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ldNum" idx="1"/>
          </p:nvPr>
        </p:nvSpPr>
        <p:spPr>
          <a:xfrm>
            <a:off x="700992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FEED3AC-051A-4CCB-92A9-7339ACAB03E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212760" y="0"/>
            <a:ext cx="3587760" cy="5241960"/>
          </a:xfrm>
          <a:custGeom>
            <a:avLst/>
            <a:gdLst/>
            <a:ahLst/>
            <a:rect l="l" t="t" r="r" b="b"/>
            <a:pathLst>
              <a:path w="2260" h="3302">
                <a:moveTo>
                  <a:pt x="840" y="0"/>
                </a:moveTo>
                <a:cubicBezTo>
                  <a:pt x="0" y="0"/>
                  <a:pt x="134" y="0"/>
                  <a:pt x="134" y="0"/>
                </a:cubicBezTo>
                <a:cubicBezTo>
                  <a:pt x="134" y="0"/>
                  <a:pt x="134" y="2366"/>
                  <a:pt x="134" y="3302"/>
                </a:cubicBezTo>
                <a:cubicBezTo>
                  <a:pt x="2016" y="2945"/>
                  <a:pt x="2260" y="1160"/>
                  <a:pt x="840" y="0"/>
                </a:cubicBezTo>
                <a:close/>
              </a:path>
            </a:pathLst>
          </a:custGeom>
          <a:solidFill>
            <a:srgbClr val="f9dd8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0800" y="-11160"/>
            <a:ext cx="8585280" cy="6873840"/>
          </a:xfrm>
          <a:custGeom>
            <a:avLst/>
            <a:gdLst/>
            <a:ahLst/>
            <a:rect l="l" t="t" r="r" b="b"/>
            <a:pathLst>
              <a:path w="5408" h="4330">
                <a:moveTo>
                  <a:pt x="1402" y="4330"/>
                </a:moveTo>
                <a:cubicBezTo>
                  <a:pt x="2242" y="4330"/>
                  <a:pt x="5408" y="4327"/>
                  <a:pt x="5408" y="4327"/>
                </a:cubicBezTo>
                <a:cubicBezTo>
                  <a:pt x="5408" y="4327"/>
                  <a:pt x="5406" y="950"/>
                  <a:pt x="5406" y="14"/>
                </a:cubicBezTo>
                <a:cubicBezTo>
                  <a:pt x="4004" y="0"/>
                  <a:pt x="2700" y="0"/>
                  <a:pt x="1839" y="0"/>
                </a:cubicBezTo>
                <a:cubicBezTo>
                  <a:pt x="0" y="2193"/>
                  <a:pt x="687" y="3845"/>
                  <a:pt x="1402" y="4330"/>
                </a:cubicBezTo>
                <a:close/>
              </a:path>
            </a:pathLst>
          </a:custGeom>
          <a:solidFill>
            <a:srgbClr val="3a5482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505320"/>
            <a:ext cx="4586400" cy="3381120"/>
          </a:xfrm>
          <a:custGeom>
            <a:avLst/>
            <a:gdLst/>
            <a:ahLst/>
            <a:rect l="l" t="t" r="r" b="b"/>
            <a:pathLst>
              <a:path w="2889" h="2130">
                <a:moveTo>
                  <a:pt x="0" y="2126"/>
                </a:moveTo>
                <a:cubicBezTo>
                  <a:pt x="841" y="2126"/>
                  <a:pt x="2889" y="2130"/>
                  <a:pt x="2889" y="2130"/>
                </a:cubicBezTo>
                <a:cubicBezTo>
                  <a:pt x="2889" y="2130"/>
                  <a:pt x="2881" y="1034"/>
                  <a:pt x="2880" y="98"/>
                </a:cubicBezTo>
                <a:cubicBezTo>
                  <a:pt x="1687" y="0"/>
                  <a:pt x="186" y="430"/>
                  <a:pt x="0" y="2126"/>
                </a:cubicBezTo>
                <a:close/>
              </a:path>
            </a:pathLst>
          </a:custGeom>
          <a:solidFill>
            <a:srgbClr val="99c311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2600" y="3129120"/>
            <a:ext cx="3708360" cy="3735360"/>
          </a:xfrm>
          <a:custGeom>
            <a:avLst/>
            <a:gdLst/>
            <a:ahLst/>
            <a:rect l="l" t="t" r="r" b="b"/>
            <a:pathLst>
              <a:path w="2336" h="2353">
                <a:moveTo>
                  <a:pt x="0" y="0"/>
                </a:moveTo>
                <a:cubicBezTo>
                  <a:pt x="0" y="840"/>
                  <a:pt x="7" y="2350"/>
                  <a:pt x="7" y="2350"/>
                </a:cubicBezTo>
                <a:cubicBezTo>
                  <a:pt x="7" y="2350"/>
                  <a:pt x="1360" y="2353"/>
                  <a:pt x="2296" y="2353"/>
                </a:cubicBezTo>
                <a:cubicBezTo>
                  <a:pt x="2336" y="1193"/>
                  <a:pt x="1720" y="130"/>
                  <a:pt x="0" y="0"/>
                </a:cubicBezTo>
                <a:close/>
              </a:path>
            </a:pathLst>
          </a:custGeom>
          <a:solidFill>
            <a:srgbClr val="367d82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649480" y="-11160"/>
            <a:ext cx="3481560" cy="3503880"/>
          </a:xfrm>
          <a:custGeom>
            <a:avLst/>
            <a:gdLst/>
            <a:ahLst/>
            <a:rect l="l" t="t" r="r" b="b"/>
            <a:pathLst>
              <a:path w="2193" h="2207">
                <a:moveTo>
                  <a:pt x="1714" y="0"/>
                </a:moveTo>
                <a:cubicBezTo>
                  <a:pt x="874" y="0"/>
                  <a:pt x="0" y="0"/>
                  <a:pt x="0" y="0"/>
                </a:cubicBezTo>
                <a:cubicBezTo>
                  <a:pt x="0" y="0"/>
                  <a:pt x="0" y="936"/>
                  <a:pt x="0" y="1872"/>
                </a:cubicBezTo>
                <a:cubicBezTo>
                  <a:pt x="985" y="2207"/>
                  <a:pt x="2193" y="1568"/>
                  <a:pt x="1714" y="0"/>
                </a:cubicBezTo>
                <a:close/>
              </a:path>
            </a:pathLst>
          </a:custGeom>
          <a:solidFill>
            <a:srgbClr val="bbe0e3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65160" y="-36360"/>
            <a:ext cx="5641920" cy="3074760"/>
          </a:xfrm>
          <a:custGeom>
            <a:avLst/>
            <a:gdLst/>
            <a:ahLst/>
            <a:rect l="l" t="t" r="r" b="b"/>
            <a:pathLst>
              <a:path w="3554" h="1937">
                <a:moveTo>
                  <a:pt x="2304" y="1856"/>
                </a:moveTo>
                <a:cubicBezTo>
                  <a:pt x="2799" y="1775"/>
                  <a:pt x="3554" y="1402"/>
                  <a:pt x="3497" y="15"/>
                </a:cubicBezTo>
                <a:cubicBezTo>
                  <a:pt x="3496" y="0"/>
                  <a:pt x="936" y="15"/>
                  <a:pt x="0" y="15"/>
                </a:cubicBezTo>
                <a:cubicBezTo>
                  <a:pt x="357" y="1897"/>
                  <a:pt x="1809" y="1937"/>
                  <a:pt x="2304" y="1856"/>
                </a:cubicBezTo>
                <a:close/>
              </a:path>
            </a:pathLst>
          </a:custGeom>
          <a:solidFill>
            <a:srgbClr val="fe9758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90920" y="3786120"/>
            <a:ext cx="5665680" cy="3103560"/>
          </a:xfrm>
          <a:custGeom>
            <a:avLst/>
            <a:gdLst/>
            <a:ahLst/>
            <a:rect l="l" t="t" r="r" b="b"/>
            <a:pathLst>
              <a:path w="3569" h="1955">
                <a:moveTo>
                  <a:pt x="470" y="1947"/>
                </a:moveTo>
                <a:cubicBezTo>
                  <a:pt x="1311" y="1947"/>
                  <a:pt x="3569" y="1955"/>
                  <a:pt x="3569" y="1955"/>
                </a:cubicBezTo>
                <a:cubicBezTo>
                  <a:pt x="3569" y="1955"/>
                  <a:pt x="3528" y="812"/>
                  <a:pt x="2287" y="333"/>
                </a:cubicBezTo>
                <a:cubicBezTo>
                  <a:pt x="1322" y="0"/>
                  <a:pt x="0" y="739"/>
                  <a:pt x="470" y="1947"/>
                </a:cubicBezTo>
                <a:close/>
              </a:path>
            </a:pathLst>
          </a:custGeom>
          <a:solidFill>
            <a:srgbClr val="82b181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914400"/>
            <a:ext cx="7696080" cy="5181480"/>
          </a:xfrm>
          <a:prstGeom prst="rect">
            <a:avLst/>
          </a:prstGeom>
          <a:solidFill>
            <a:srgbClr val="3a6382">
              <a:alpha val="91000"/>
            </a:srgbClr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1371240"/>
            <a:ext cx="41911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3925800" cy="502920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3733920" y="659916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© 2008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7216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724280" y="5943600"/>
            <a:ext cx="3886200" cy="609480"/>
          </a:xfrm>
          <a:prstGeom prst="rect">
            <a:avLst/>
          </a:prstGeom>
          <a:solidFill>
            <a:srgbClr val="f8cb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11120" indent="-1311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  Yudhi Herliansy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69608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ELITIAN KUALITA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44B0-66E2-4F8B-97C8-1D15287FE69B}" type="slidenum">
              <a:t>1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676520"/>
            <a:ext cx="2895840" cy="914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entuk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al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1600200"/>
            <a:ext cx="2590920" cy="914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kni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3048120"/>
            <a:ext cx="2895480" cy="11430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entuk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i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200400"/>
            <a:ext cx="4267440" cy="990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entukan Instr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ambila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876920"/>
            <a:ext cx="4038480" cy="11430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entukan Met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ambila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5334120"/>
            <a:ext cx="2895480" cy="11430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Menentuk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nik Ana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205740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36232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03848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56386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39625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55ED-38DA-43C1-BF26-E64E04BBE6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. Menentukan Masala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lah tidak bermakna G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2748-23DF-4D6E-945C-2EDE55FCE1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. Teknik Samp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asanya nonprob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i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w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5F99-DA79-4176-9420-AD99108519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. Menentukan Jenis D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k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4727-87DD-440C-8178-1378B649E6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. Menentukan Instrume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engambilan Da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wanc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eliti sendi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0317-4F54-4A10-BCA9-0B0BA1DA13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. Menentukan Metod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engambilan Da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57200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wanc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jian dok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F743-FFD9-4F51-85D4-1A36B79FDB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963720" y="1036800"/>
          <a:ext cx="7218360" cy="55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036800"/>
                    <a:ext cx="721836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455B-0453-44F7-975E-FCB7B4B24644}" type="slidenum">
              <a:t>16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erti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76920"/>
          </a:xfrm>
          <a:prstGeom prst="rect">
            <a:avLst/>
          </a:prstGeom>
          <a:solidFill>
            <a:srgbClr val="ffcc00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atu proses yang ingin mendapatkan pemahaman yang lebih baik mengenai kompleksitas yang ada dalam interaksi manusia (Marshal, 199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kus utama penelitian kualitatif adala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Proses memerlukan waktu dan kondisi yang berubah ubah sehingga berdampak pada desain riset dan cara-cara dalam melakukannya yg dpt berubah atau fleksi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523E-044A-4636-8966-C831CEE353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647960"/>
          </a:xfrm>
          <a:prstGeom prst="rect">
            <a:avLst/>
          </a:prstGeom>
          <a:solidFill>
            <a:srgbClr val="ffcc00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elitian kualitatif menekankan pemahaman yang mendalam ttg masalah yg ingin diteliti.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Oleh karena itu peneliti harus dekat dengan objek yang ditel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hkan peneliti hendaknya berbaur menjadi satu dengan objek yang diteliti sehingga peneliti mendapat pemahaman persoalan dari sudut pandang yang ditel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9F0C-1E7A-4B80-97B3-A5D758634A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534520" cy="3733920"/>
          </a:xfrm>
          <a:prstGeom prst="rect">
            <a:avLst/>
          </a:prstGeom>
          <a:solidFill>
            <a:srgbClr val="ffcc00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rbaur berarti peneliti melakukan interaksi langsung dengan objek yang diteliti dalam upaya memahami masalah yang kompl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salah harus dipandang secara holistik dan tidak di fragmentasi dalam pecahan atau bagian2 tert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94CF-1169-46F6-8774-CB6205B9C2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i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57200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mahami makna yg melandasi tingkah laku partisi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ndiskripsi latar dan interaksi partisi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akukan eksplorasi untu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ngidentifikasi informasi b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mahami keadaan yang terbats dan ingin mengetahui secara mendalam dan ri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iskripsikan fenomena untuk menciptakan teori b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5C8F-3BDA-4C1B-88D9-93498C8671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ORI PENELITIAN KUALITATI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2361960"/>
          </a:xfrm>
          <a:prstGeom prst="rect">
            <a:avLst/>
          </a:prstGeom>
          <a:solidFill>
            <a:srgbClr val="ffcc00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028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 FENOMENOLO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8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8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INTERAKSI SIMBO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D3F5-7077-41E2-AF79-BD6ED36A9D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. FENOMENOLOG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pelajari fenomena atau gejala-gejala prilaku. Dimana prilaku itu merupakan  realisasi dari pandangan atau pemikiran, prilaku adalah kenyataan yg subyektif dan interpreta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E6BF-9CF3-4823-B10B-9BE82A043D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. INTERAKSI SIMBOLI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erangkan prilaku dengan menggunakan analisis mak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E918-D4EC-4B8E-B779-1B4DBD6960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2514600"/>
            <a:ext cx="8534160" cy="1752480"/>
          </a:xfrm>
          <a:prstGeom prst="rect">
            <a:avLst/>
          </a:prstGeom>
          <a:solidFill>
            <a:srgbClr val="ffcc00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AIN PENELITIAN KUALITA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CAB3-70F2-4ABF-9B34-7BCC0F0461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4T22:32:30Z</dcterms:created>
  <dc:creator>Jon A. Booker</dc:creator>
  <dc:description/>
  <cp:keywords/>
  <dc:language>en-US</dc:language>
  <cp:lastModifiedBy>user</cp:lastModifiedBy>
  <cp:lastPrinted>2001-01-17T16:52:16Z</cp:lastPrinted>
  <dcterms:modified xsi:type="dcterms:W3CDTF">2008-12-09T13:02:12Z</dcterms:modified>
  <cp:revision>88</cp:revision>
  <dc:subject>Chapter 1 Hilton</dc:subject>
  <dc:title>Managerial Accounting Overview</dc:title>
</cp:coreProperties>
</file>