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1.png" ContentType="image/png"/>
  <Override PartName="/ppt/media/image17.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9.jpeg" ContentType="image/jpeg"/>
  <Override PartName="/ppt/media/image1.jpeg" ContentType="image/jpeg"/>
  <Override PartName="/ppt/media/image3.png" ContentType="image/png"/>
  <Override PartName="/ppt/media/image6.jpeg" ContentType="image/jpeg"/>
  <Override PartName="/ppt/media/image13.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2825"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923400" y="701280"/>
            <a:ext cx="5007240" cy="3467160"/>
          </a:xfrm>
          <a:prstGeom prst="rect">
            <a:avLst/>
          </a:prstGeom>
          <a:solidFill>
            <a:srgbClr val="ffffff"/>
          </a:solid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2"/>
          <p:cNvSpPr>
            <a:spLocks noGrp="1"/>
          </p:cNvSpPr>
          <p:nvPr>
            <p:ph type="body"/>
          </p:nvPr>
        </p:nvSpPr>
        <p:spPr>
          <a:xfrm>
            <a:off x="914400" y="4406400"/>
            <a:ext cx="5029200" cy="4178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915840" y="695160"/>
            <a:ext cx="5026320" cy="3481560"/>
          </a:xfrm>
          <a:prstGeom prst="rect">
            <a:avLst/>
          </a:prstGeom>
          <a:ln w="0">
            <a:noFill/>
          </a:ln>
        </p:spPr>
      </p:sp>
      <p:sp>
        <p:nvSpPr>
          <p:cNvPr id="1494" name="PlaceHolder 2"/>
          <p:cNvSpPr>
            <a:spLocks noGrp="1"/>
          </p:cNvSpPr>
          <p:nvPr>
            <p:ph type="body"/>
          </p:nvPr>
        </p:nvSpPr>
        <p:spPr>
          <a:xfrm>
            <a:off x="914400" y="4406400"/>
            <a:ext cx="5029200" cy="4178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y (main mater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915840" y="695160"/>
            <a:ext cx="5026320" cy="3481560"/>
          </a:xfrm>
          <a:prstGeom prst="rect">
            <a:avLst/>
          </a:prstGeom>
          <a:ln w="0">
            <a:noFill/>
          </a:ln>
        </p:spPr>
      </p:sp>
      <p:sp>
        <p:nvSpPr>
          <p:cNvPr id="1496" name="PlaceHolder 2"/>
          <p:cNvSpPr>
            <a:spLocks noGrp="1"/>
          </p:cNvSpPr>
          <p:nvPr>
            <p:ph type="body"/>
          </p:nvPr>
        </p:nvSpPr>
        <p:spPr>
          <a:xfrm>
            <a:off x="914400" y="4406400"/>
            <a:ext cx="5029200" cy="4178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y (main mater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917640" y="695160"/>
            <a:ext cx="5024520" cy="3480120"/>
          </a:xfrm>
          <a:prstGeom prst="rect">
            <a:avLst/>
          </a:prstGeom>
          <a:ln w="0">
            <a:noFill/>
          </a:ln>
        </p:spPr>
      </p:sp>
      <p:sp>
        <p:nvSpPr>
          <p:cNvPr id="1498" name="PlaceHolder 2"/>
          <p:cNvSpPr>
            <a:spLocks noGrp="1"/>
          </p:cNvSpPr>
          <p:nvPr>
            <p:ph type="body"/>
          </p:nvPr>
        </p:nvSpPr>
        <p:spPr>
          <a:xfrm>
            <a:off x="684360" y="4406400"/>
            <a:ext cx="5489280" cy="41785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am persaingan global ini, kite harus mempunyai daya saing yang tinggi. Hal ini dapat dilihat dari formula CA=V-C, dimana untuk mempunyai daya saing yg tingg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a harus mempunyai value  yg tinggi dan cost yg rendah. Value ini dpt terindikasi dari produk kualitas yg tinggi, OTD, comp.price, after sales service,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mping itu, cost pun harus diturunkan dgn kegiatan CR, cost saving, VA/VE, tight budget, d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915840" y="695160"/>
            <a:ext cx="5026320" cy="3481560"/>
          </a:xfrm>
          <a:prstGeom prst="rect">
            <a:avLst/>
          </a:prstGeom>
          <a:ln w="0">
            <a:noFill/>
          </a:ln>
        </p:spPr>
      </p:sp>
      <p:sp>
        <p:nvSpPr>
          <p:cNvPr id="1500" name="PlaceHolder 2"/>
          <p:cNvSpPr>
            <a:spLocks noGrp="1"/>
          </p:cNvSpPr>
          <p:nvPr>
            <p:ph type="body"/>
          </p:nvPr>
        </p:nvSpPr>
        <p:spPr>
          <a:xfrm>
            <a:off x="914400" y="4408560"/>
            <a:ext cx="5029200" cy="41767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次にＵＫでのアベンシスの例でみてみ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これは極端な例ですが、結局、生技側ではこの失敗を繰り返さな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合言葉になってこの活動がスタートしています。</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S PGothic"/>
                <a:ea typeface="MS PGothic"/>
              </a:rPr>
              <a:t>ただここでも「しくみ」というものが全然できていない</a:t>
            </a: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PGothic"/>
                <a:ea typeface="MS PGothic"/>
              </a:rPr>
              <a:t>そして、我々経理としては格好いい話しをする前に</a:t>
            </a: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PGothic"/>
                <a:ea typeface="MS PGothic"/>
              </a:rPr>
              <a:t>とにかく最低限見積を正しく行うことをしなければならないということです。</a:t>
            </a: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PGothic"/>
                <a:ea typeface="MS PGothic"/>
              </a:rPr>
              <a:t>そして、それは現地の原価は現地が云云と言う前に我々で正しく見積るしくみを</a:t>
            </a: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PGothic"/>
                <a:ea typeface="MS PGothic"/>
              </a:rPr>
              <a:t>造らねばならないという使命感にもとづくものでした</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917640" y="695160"/>
            <a:ext cx="5025960" cy="3481560"/>
          </a:xfrm>
          <a:prstGeom prst="rect">
            <a:avLst/>
          </a:prstGeom>
          <a:ln w="0">
            <a:noFill/>
          </a:ln>
        </p:spPr>
      </p:sp>
      <p:sp>
        <p:nvSpPr>
          <p:cNvPr id="1492" name="PlaceHolder 2"/>
          <p:cNvSpPr>
            <a:spLocks noGrp="1"/>
          </p:cNvSpPr>
          <p:nvPr>
            <p:ph type="body"/>
          </p:nvPr>
        </p:nvSpPr>
        <p:spPr>
          <a:xfrm>
            <a:off x="1143000" y="4408560"/>
            <a:ext cx="4572000" cy="4176720"/>
          </a:xfrm>
          <a:prstGeom prst="rect">
            <a:avLst/>
          </a:prstGeom>
          <a:noFill/>
          <a:ln w="12600">
            <a:solidFill>
              <a:srgbClr val="000000"/>
            </a:solidFill>
            <a:miter/>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si Toyota saat ini mempunyai 51 perusahaan di 26 negara dan mempunyai 170 importir/distributor di 140 negar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hingga, kalau di lihat dari mapping gambar, maka dapat dilihat bahwa Toyota telah berkembangan menjadi perusahaan yang global yang lintas bahasa dan lintas kult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4009A-002C-49A2-BE8B-8C5697B2E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431640" y="99072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31640" y="372276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E6525F-8FC9-4F01-8893-B622DEEF1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3164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506520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810201-2D36-4A13-AF36-580017AEE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43164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8876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54624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3164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8876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54624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432933-CD89-49E6-BD4C-41B76C8044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A75B8-D869-4A86-8784-7CE9BEDA4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431640" y="990720"/>
            <a:ext cx="9042480" cy="5230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87CFC-4124-4234-AAA0-BCD6A93EB8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31640" y="990720"/>
            <a:ext cx="904248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5E5F-2A2A-41A0-8AEF-DBAD42503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43164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06520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699A6-89D7-4C71-BBED-0DE4180957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0891-900B-4EB1-8C46-D7B3B705D3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98760" y="88560"/>
            <a:ext cx="822168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8EC1-E3B8-4259-A976-EDE5DCF8CC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6520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3164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CF4C-9F1C-4792-9C5A-79423C9DD8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431640" y="990720"/>
            <a:ext cx="9042480" cy="5230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43424-A37F-44B4-A65E-E756E37DE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43164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506520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E9DE-4A76-4C29-9037-F310FE875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31640" y="372276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F9CA-0CA7-4A13-9AC5-1049256744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431640" y="99072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31640" y="372276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B0D21-4774-4553-B2B0-BAC7B3D51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3164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506520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1EE12-70EE-409C-BECA-0079BE538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43164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48876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546240" y="99072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3164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48876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546240" y="3722760"/>
            <a:ext cx="29113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FCC0E-3672-4842-8702-6D2818DCA8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31640" y="990720"/>
            <a:ext cx="904248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ED63A-04A7-444E-87DA-F48ED7574A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43164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06520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8AB5C9-DB3A-4E45-A1C9-00DFD7C3B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7086A57F-4D3B-4F2D-BC3B-EEFD103F7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8760" y="88560"/>
            <a:ext cx="822168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289C509-2575-42AA-B542-839C1296C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6520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3164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FB1065-C92B-4F06-A1AA-0064A8EE8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431640" y="990720"/>
            <a:ext cx="4412520" cy="5230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065200" y="372276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870C74-2210-4B22-B3D0-B188279F8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43164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5200" y="990720"/>
            <a:ext cx="441252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31640" y="3722760"/>
            <a:ext cx="9042480" cy="249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98BA5A-135A-4E79-9DE5-42B532FE9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toyota.com/"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toyota.com/" TargetMode="External"/><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890640" y="1401840"/>
            <a:ext cx="8074080" cy="4378320"/>
          </a:xfrm>
          <a:prstGeom prst="rect">
            <a:avLst/>
          </a:prstGeom>
          <a:ln w="0">
            <a:noFill/>
          </a:ln>
        </p:spPr>
      </p:pic>
      <p:sp>
        <p:nvSpPr>
          <p:cNvPr id="1" name="PlaceHolder 1"/>
          <p:cNvSpPr>
            <a:spLocks noGrp="1"/>
          </p:cNvSpPr>
          <p:nvPr>
            <p:ph type="body"/>
          </p:nvPr>
        </p:nvSpPr>
        <p:spPr>
          <a:xfrm>
            <a:off x="431640" y="990720"/>
            <a:ext cx="9042480" cy="5230800"/>
          </a:xfrm>
          <a:prstGeom prst="rect">
            <a:avLst/>
          </a:prstGeom>
          <a:noFill/>
          <a:ln w="0">
            <a:noFill/>
          </a:ln>
        </p:spPr>
        <p:txBody>
          <a:bodyPr lIns="90360" rIns="90360" tIns="44280" bIns="442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0"/>
            <a:ext cx="9902880" cy="743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1598760" y="88560"/>
            <a:ext cx="822168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 name="" descr="">
            <a:hlinkClick r:id="rId3"/>
          </p:cNvPr>
          <p:cNvPicPr/>
          <p:nvPr/>
        </p:nvPicPr>
        <p:blipFill>
          <a:blip r:embed="rId4"/>
          <a:stretch/>
        </p:blipFill>
        <p:spPr>
          <a:xfrm>
            <a:off x="71280" y="41400"/>
            <a:ext cx="890640" cy="633240"/>
          </a:xfrm>
          <a:prstGeom prst="rect">
            <a:avLst/>
          </a:prstGeom>
          <a:ln w="0">
            <a:noFill/>
          </a:ln>
        </p:spPr>
      </p:pic>
      <p:sp>
        <p:nvSpPr>
          <p:cNvPr id="5" name="Base" hidden="1"/>
          <p:cNvSpPr/>
          <p:nvPr/>
        </p:nvSpPr>
        <p:spPr>
          <a:xfrm>
            <a:off x="1650960" y="1228680"/>
            <a:ext cx="6600960" cy="440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7593120" y="6381360"/>
            <a:ext cx="23097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a:t>
            </a:r>
            <a:fld id="{7865B34B-98E4-4C6C-9011-778D4D893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3409920"/>
            <a:ext cx="9902880" cy="34480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523880" y="3581280"/>
            <a:ext cx="6850080" cy="13305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ftr" idx="2"/>
          </p:nvPr>
        </p:nvSpPr>
        <p:spPr>
          <a:xfrm>
            <a:off x="63360" y="6324480"/>
            <a:ext cx="31356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
          <p:cNvSpPr/>
          <p:nvPr/>
        </p:nvSpPr>
        <p:spPr>
          <a:xfrm>
            <a:off x="0" y="0"/>
            <a:ext cx="9902880" cy="3429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a:hlinkClick r:id="rId2"/>
          </p:cNvPr>
          <p:cNvPicPr/>
          <p:nvPr/>
        </p:nvPicPr>
        <p:blipFill>
          <a:blip r:embed="rId3"/>
          <a:stretch/>
        </p:blipFill>
        <p:spPr>
          <a:xfrm>
            <a:off x="198360" y="196920"/>
            <a:ext cx="1481040" cy="1054080"/>
          </a:xfrm>
          <a:prstGeom prst="rect">
            <a:avLst/>
          </a:prstGeom>
          <a:ln w="0">
            <a:noFill/>
          </a:ln>
        </p:spPr>
      </p:pic>
      <p:sp>
        <p:nvSpPr>
          <p:cNvPr id="48" name="PlaceHolder 3"/>
          <p:cNvSpPr>
            <a:spLocks noGrp="1"/>
          </p:cNvSpPr>
          <p:nvPr>
            <p:ph type="sldNum" idx="3"/>
          </p:nvPr>
        </p:nvSpPr>
        <p:spPr>
          <a:xfrm>
            <a:off x="7593120" y="6381360"/>
            <a:ext cx="23097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a:t>
            </a:r>
            <a:fld id="{BD499AC1-0F8B-42DF-B86C-BB8B24C12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8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502800" y="3906720"/>
            <a:ext cx="2543040" cy="50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MADE DANA M. TANGKA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KTUR</a:t>
            </a:r>
            <a:endParaRPr b="0" lang="en-US" sz="1400" spc="-1" strike="noStrike">
              <a:solidFill>
                <a:srgbClr val="000000"/>
              </a:solidFill>
              <a:latin typeface="Times New Roman"/>
            </a:endParaRPr>
          </a:p>
        </p:txBody>
      </p:sp>
      <p:sp>
        <p:nvSpPr>
          <p:cNvPr id="90" name=""/>
          <p:cNvSpPr/>
          <p:nvPr/>
        </p:nvSpPr>
        <p:spPr>
          <a:xfrm>
            <a:off x="1748880" y="4502160"/>
            <a:ext cx="6544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T. TOYOTA MOTOR MANUFACTURING INDONESIA</a:t>
            </a:r>
            <a:endParaRPr b="0" lang="en-US" sz="2000" spc="-1" strike="noStrike">
              <a:solidFill>
                <a:srgbClr val="000000"/>
              </a:solidFill>
              <a:latin typeface="Times New Roman"/>
            </a:endParaRPr>
          </a:p>
        </p:txBody>
      </p:sp>
      <p:sp>
        <p:nvSpPr>
          <p:cNvPr id="91" name=""/>
          <p:cNvSpPr/>
          <p:nvPr/>
        </p:nvSpPr>
        <p:spPr>
          <a:xfrm>
            <a:off x="1455840" y="5742000"/>
            <a:ext cx="6937200" cy="1013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as Mercu Buana  </a:t>
            </a:r>
            <a:endParaRPr b="0" lang="en-US" sz="20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karta, 24 Mei 2009</a:t>
            </a:r>
            <a:endParaRPr b="0" lang="en-US" sz="1800" spc="-1" strike="noStrike">
              <a:solidFill>
                <a:srgbClr val="000000"/>
              </a:solidFill>
              <a:latin typeface="Times New Roman"/>
            </a:endParaRPr>
          </a:p>
        </p:txBody>
      </p:sp>
      <p:sp>
        <p:nvSpPr>
          <p:cNvPr id="92" name=""/>
          <p:cNvSpPr/>
          <p:nvPr/>
        </p:nvSpPr>
        <p:spPr>
          <a:xfrm>
            <a:off x="3181680" y="361800"/>
            <a:ext cx="3617280" cy="7034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YOTA WAY</a:t>
            </a:r>
            <a:endParaRPr b="0" lang="en-US" sz="4000" spc="-1" strike="noStrike">
              <a:solidFill>
                <a:srgbClr val="000000"/>
              </a:solidFill>
              <a:latin typeface="Times New Roman"/>
            </a:endParaRPr>
          </a:p>
        </p:txBody>
      </p:sp>
      <p:sp>
        <p:nvSpPr>
          <p:cNvPr id="93" name=""/>
          <p:cNvSpPr/>
          <p:nvPr/>
        </p:nvSpPr>
        <p:spPr>
          <a:xfrm>
            <a:off x="15840" y="1476360"/>
            <a:ext cx="9831600" cy="1140840"/>
          </a:xfrm>
          <a:prstGeom prst="roundRect">
            <a:avLst>
              <a:gd name="adj" fmla="val 16667"/>
            </a:avLst>
          </a:prstGeom>
          <a:gradFill rotWithShape="0">
            <a:gsLst>
              <a:gs pos="0">
                <a:srgbClr val="af83db"/>
              </a:gs>
              <a:gs pos="50000">
                <a:srgbClr val="cc99ff"/>
              </a:gs>
              <a:gs pos="100000">
                <a:srgbClr val="af83db"/>
              </a:gs>
            </a:gsLst>
            <a:lin ang="5400000"/>
          </a:gradFill>
          <a:ln w="0">
            <a:noFill/>
          </a:ln>
        </p:spPr>
        <p:style>
          <a:lnRef idx="0"/>
          <a:fillRef idx="0"/>
          <a:effectRef idx="0"/>
          <a:fontRef idx="minor"/>
        </p:style>
        <p:txBody>
          <a:bodyPr lIns="90000" rIns="90000" tIns="46800" bIns="46800" anchor="t">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 OF QUALITY COST </a:t>
            </a:r>
            <a:endParaRPr b="0" lang="en-US" sz="32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OYOTA</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7113565-3A69-434A-A728-7DB99783CFB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fltVal val="0"/>
                                          </p:val>
                                        </p:tav>
                                        <p:tav tm="100000">
                                          <p:val>
                                            <p:strVal val="#ppt_w"/>
                                          </p:val>
                                        </p:tav>
                                      </p:tavLst>
                                    </p:anim>
                                    <p:anim calcmode="lin" valueType="num">
                                      <p:cBhvr additive="repl">
                                        <p:cTn id="8" dur="1000" fill="hold"/>
                                        <p:tgtEl>
                                          <p:spTgt spid="89"/>
                                        </p:tgtEl>
                                        <p:attrNameLst>
                                          <p:attrName>ppt_h</p:attrName>
                                        </p:attrNameLst>
                                      </p:cBhvr>
                                      <p:tavLst>
                                        <p:tav tm="0">
                                          <p:val>
                                            <p:fltVal val="0"/>
                                          </p:val>
                                        </p:tav>
                                        <p:tav tm="100000">
                                          <p:val>
                                            <p:strVal val="#ppt_h"/>
                                          </p:val>
                                        </p:tav>
                                      </p:tavLst>
                                    </p:anim>
                                    <p:animEffect filter="fade" transition="in">
                                      <p:cBhvr additive="repl">
                                        <p:cTn id="9" dur="1000"/>
                                        <p:tgtEl>
                                          <p:spTgt spid="89"/>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repl">
                                        <p:cTn id="13" dur="1000" fill="hold"/>
                                        <p:tgtEl>
                                          <p:spTgt spid="90"/>
                                        </p:tgtEl>
                                        <p:attrNameLst>
                                          <p:attrName>ppt_w</p:attrName>
                                        </p:attrNameLst>
                                      </p:cBhvr>
                                      <p:tavLst>
                                        <p:tav tm="0">
                                          <p:val>
                                            <p:fltVal val="0"/>
                                          </p:val>
                                        </p:tav>
                                        <p:tav tm="100000">
                                          <p:val>
                                            <p:strVal val="#ppt_w"/>
                                          </p:val>
                                        </p:tav>
                                      </p:tavLst>
                                    </p:anim>
                                    <p:anim calcmode="lin" valueType="num">
                                      <p:cBhvr additive="repl">
                                        <p:cTn id="14" dur="1000" fill="hold"/>
                                        <p:tgtEl>
                                          <p:spTgt spid="90"/>
                                        </p:tgtEl>
                                        <p:attrNameLst>
                                          <p:attrName>ppt_h</p:attrName>
                                        </p:attrNameLst>
                                      </p:cBhvr>
                                      <p:tavLst>
                                        <p:tav tm="0">
                                          <p:val>
                                            <p:fltVal val="0"/>
                                          </p:val>
                                        </p:tav>
                                        <p:tav tm="100000">
                                          <p:val>
                                            <p:strVal val="#ppt_h"/>
                                          </p:val>
                                        </p:tav>
                                      </p:tavLst>
                                    </p:anim>
                                    <p:animEffect filter="fade" transition="in">
                                      <p:cBhvr additive="repl">
                                        <p:cTn id="15" dur="1000"/>
                                        <p:tgtEl>
                                          <p:spTgt spid="90"/>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repl">
                                        <p:cTn id="19" dur="1000" fill="hold"/>
                                        <p:tgtEl>
                                          <p:spTgt spid="91"/>
                                        </p:tgtEl>
                                        <p:attrNameLst>
                                          <p:attrName>ppt_w</p:attrName>
                                        </p:attrNameLst>
                                      </p:cBhvr>
                                      <p:tavLst>
                                        <p:tav tm="0">
                                          <p:val>
                                            <p:fltVal val="0"/>
                                          </p:val>
                                        </p:tav>
                                        <p:tav tm="100000">
                                          <p:val>
                                            <p:strVal val="#ppt_w"/>
                                          </p:val>
                                        </p:tav>
                                      </p:tavLst>
                                    </p:anim>
                                    <p:anim calcmode="lin" valueType="num">
                                      <p:cBhvr additive="repl">
                                        <p:cTn id="20" dur="1000" fill="hold"/>
                                        <p:tgtEl>
                                          <p:spTgt spid="91"/>
                                        </p:tgtEl>
                                        <p:attrNameLst>
                                          <p:attrName>ppt_h</p:attrName>
                                        </p:attrNameLst>
                                      </p:cBhvr>
                                      <p:tavLst>
                                        <p:tav tm="0">
                                          <p:val>
                                            <p:fltVal val="0"/>
                                          </p:val>
                                        </p:tav>
                                        <p:tav tm="100000">
                                          <p:val>
                                            <p:strVal val="#ppt_h"/>
                                          </p:val>
                                        </p:tav>
                                      </p:tavLst>
                                    </p:anim>
                                    <p:animEffect filter="fade" transition="in">
                                      <p:cBhvr additive="repl">
                                        <p:cTn id="21" dur="1000"/>
                                        <p:tgtEl>
                                          <p:spTgt spid="91"/>
                                        </p:tgtEl>
                                      </p:cBhvr>
                                    </p:animEffect>
                                  </p:childTnLst>
                                </p:cTn>
                              </p:par>
                            </p:childTnLst>
                          </p:cTn>
                        </p:par>
                        <p:par>
                          <p:cTn id="22" fill="hold">
                            <p:stCondLst>
                              <p:cond delay="3000"/>
                            </p:stCondLst>
                            <p:childTnLst>
                              <p:par>
                                <p:cTn id="23" nodeType="afterEffect" fill="hold" presetClass="entr" presetID="53">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repl">
                                        <p:cTn id="25" dur="1000" fill="hold"/>
                                        <p:tgtEl>
                                          <p:spTgt spid="93"/>
                                        </p:tgtEl>
                                        <p:attrNameLst>
                                          <p:attrName>ppt_w</p:attrName>
                                        </p:attrNameLst>
                                      </p:cBhvr>
                                      <p:tavLst>
                                        <p:tav tm="0">
                                          <p:val>
                                            <p:fltVal val="0"/>
                                          </p:val>
                                        </p:tav>
                                        <p:tav tm="100000">
                                          <p:val>
                                            <p:strVal val="#ppt_w"/>
                                          </p:val>
                                        </p:tav>
                                      </p:tavLst>
                                    </p:anim>
                                    <p:anim calcmode="lin" valueType="num">
                                      <p:cBhvr additive="repl">
                                        <p:cTn id="26" dur="1000" fill="hold"/>
                                        <p:tgtEl>
                                          <p:spTgt spid="93"/>
                                        </p:tgtEl>
                                        <p:attrNameLst>
                                          <p:attrName>ppt_h</p:attrName>
                                        </p:attrNameLst>
                                      </p:cBhvr>
                                      <p:tavLst>
                                        <p:tav tm="0">
                                          <p:val>
                                            <p:fltVal val="0"/>
                                          </p:val>
                                        </p:tav>
                                        <p:tav tm="100000">
                                          <p:val>
                                            <p:strVal val="#ppt_h"/>
                                          </p:val>
                                        </p:tav>
                                      </p:tavLst>
                                    </p:anim>
                                    <p:animEffect filter="fade" transition="in">
                                      <p:cBhvr additive="repl">
                                        <p:cTn id="2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354720" y="3352680"/>
            <a:ext cx="2062080" cy="457200"/>
          </a:xfrm>
          <a:prstGeom prst="roundRect">
            <a:avLst>
              <a:gd name="adj" fmla="val 50000"/>
            </a:avLst>
          </a:prstGeom>
          <a:solidFill>
            <a:srgbClr val="99330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ill Sans MT"/>
                <a:ea typeface="Times New Roman (Arabic)"/>
              </a:rPr>
              <a:t>Muda of …</a:t>
            </a:r>
            <a:endParaRPr b="0" lang="en-US" sz="1800" spc="-1" strike="noStrike">
              <a:solidFill>
                <a:srgbClr val="000000"/>
              </a:solidFill>
              <a:latin typeface="Times New Roman"/>
            </a:endParaRPr>
          </a:p>
        </p:txBody>
      </p:sp>
      <p:sp>
        <p:nvSpPr>
          <p:cNvPr id="472" name=""/>
          <p:cNvSpPr/>
          <p:nvPr/>
        </p:nvSpPr>
        <p:spPr>
          <a:xfrm>
            <a:off x="4373640" y="2933640"/>
            <a:ext cx="1073160" cy="1562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86080" y="2057400"/>
            <a:ext cx="1484280" cy="18669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228760" y="2514600"/>
            <a:ext cx="1071720" cy="1981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300480" y="2971800"/>
            <a:ext cx="1073160" cy="228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3465360" y="5105520"/>
            <a:ext cx="1073160" cy="761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238400" y="3581280"/>
            <a:ext cx="2392200" cy="1638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60560" y="3505320"/>
            <a:ext cx="1071720" cy="1562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639880" y="4572000"/>
            <a:ext cx="1073160" cy="1523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373640" y="4495680"/>
            <a:ext cx="107316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86200" y="4876920"/>
            <a:ext cx="2559240" cy="761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7520" y="668160"/>
            <a:ext cx="7781760" cy="609840"/>
          </a:xfrm>
          <a:prstGeom prst="roundRect">
            <a:avLst>
              <a:gd name="adj" fmla="val 50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31800" y="649440"/>
            <a:ext cx="773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Gill Sans MT"/>
                <a:ea typeface="Times New Roman (Arabic)"/>
              </a:rPr>
              <a:t> </a:t>
            </a:r>
            <a:r>
              <a:rPr b="1" lang="en-US" sz="3200" spc="-1" strike="noStrike">
                <a:solidFill>
                  <a:srgbClr val="4d4d4d"/>
                </a:solidFill>
                <a:latin typeface="Gill Sans MT"/>
                <a:ea typeface="Times New Roman (Arabic)"/>
              </a:rPr>
              <a:t>There are several types of Muda</a:t>
            </a:r>
            <a:endParaRPr b="0" lang="en-US" sz="3200" spc="-1" strike="noStrike">
              <a:solidFill>
                <a:srgbClr val="000000"/>
              </a:solidFill>
              <a:latin typeface="Times New Roman"/>
            </a:endParaRPr>
          </a:p>
        </p:txBody>
      </p:sp>
      <p:sp>
        <p:nvSpPr>
          <p:cNvPr id="484" name=""/>
          <p:cNvSpPr/>
          <p:nvPr/>
        </p:nvSpPr>
        <p:spPr>
          <a:xfrm>
            <a:off x="3052800" y="3124080"/>
            <a:ext cx="2228760" cy="457200"/>
          </a:xfrm>
          <a:prstGeom prst="roundRect">
            <a:avLst>
              <a:gd name="adj" fmla="val 50000"/>
            </a:avLst>
          </a:prstGeom>
          <a:solidFill>
            <a:srgbClr val="99330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ill Sans MT"/>
                <a:ea typeface="Times New Roman (Arabic)"/>
              </a:rPr>
              <a:t>Muda of motion</a:t>
            </a:r>
            <a:endParaRPr b="0" lang="en-US" sz="1800" spc="-1" strike="noStrike">
              <a:solidFill>
                <a:srgbClr val="000000"/>
              </a:solidFill>
              <a:latin typeface="Times New Roman"/>
            </a:endParaRPr>
          </a:p>
        </p:txBody>
      </p:sp>
      <p:sp>
        <p:nvSpPr>
          <p:cNvPr id="485" name=""/>
          <p:cNvSpPr/>
          <p:nvPr/>
        </p:nvSpPr>
        <p:spPr>
          <a:xfrm>
            <a:off x="5942160" y="3048120"/>
            <a:ext cx="2062080" cy="457200"/>
          </a:xfrm>
          <a:prstGeom prst="roundRect">
            <a:avLst>
              <a:gd name="adj" fmla="val 50000"/>
            </a:avLst>
          </a:prstGeom>
          <a:solidFill>
            <a:srgbClr val="99330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ill Sans MT"/>
                <a:ea typeface="Times New Roman (Arabic)"/>
              </a:rPr>
              <a:t>Muda of …</a:t>
            </a:r>
            <a:endParaRPr b="0" lang="en-US" sz="1800" spc="-1" strike="noStrike">
              <a:solidFill>
                <a:srgbClr val="000000"/>
              </a:solidFill>
              <a:latin typeface="Times New Roman"/>
            </a:endParaRPr>
          </a:p>
        </p:txBody>
      </p:sp>
      <p:sp>
        <p:nvSpPr>
          <p:cNvPr id="486" name=""/>
          <p:cNvSpPr/>
          <p:nvPr/>
        </p:nvSpPr>
        <p:spPr>
          <a:xfrm>
            <a:off x="5529240" y="2666880"/>
            <a:ext cx="2062080" cy="457200"/>
          </a:xfrm>
          <a:prstGeom prst="roundRect">
            <a:avLst>
              <a:gd name="adj" fmla="val 50000"/>
            </a:avLst>
          </a:prstGeom>
          <a:solidFill>
            <a:srgbClr val="99330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ill Sans MT"/>
                <a:ea typeface="Times New Roman (Arabic)"/>
              </a:rPr>
              <a:t>Muda of …</a:t>
            </a:r>
            <a:endParaRPr b="0" lang="en-US" sz="1800" spc="-1" strike="noStrike">
              <a:solidFill>
                <a:srgbClr val="000000"/>
              </a:solidFill>
              <a:latin typeface="Times New Roman"/>
            </a:endParaRPr>
          </a:p>
        </p:txBody>
      </p:sp>
      <p:sp>
        <p:nvSpPr>
          <p:cNvPr id="487" name=""/>
          <p:cNvSpPr/>
          <p:nvPr/>
        </p:nvSpPr>
        <p:spPr>
          <a:xfrm>
            <a:off x="4125960" y="4572000"/>
            <a:ext cx="2558880" cy="457200"/>
          </a:xfrm>
          <a:prstGeom prst="roundRect">
            <a:avLst>
              <a:gd name="adj" fmla="val 50000"/>
            </a:avLst>
          </a:prstGeom>
          <a:solidFill>
            <a:srgbClr val="99330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ill Sans MT"/>
                <a:ea typeface="Times New Roman (Arabic)"/>
              </a:rPr>
              <a:t>Muda of processing</a:t>
            </a:r>
            <a:endParaRPr b="0" lang="en-US" sz="1800" spc="-1" strike="noStrike">
              <a:solidFill>
                <a:srgbClr val="000000"/>
              </a:solidFill>
              <a:latin typeface="Times New Roman"/>
            </a:endParaRPr>
          </a:p>
        </p:txBody>
      </p:sp>
      <p:pic>
        <p:nvPicPr>
          <p:cNvPr id="488" name="" descr=""/>
          <p:cNvPicPr/>
          <p:nvPr/>
        </p:nvPicPr>
        <p:blipFill>
          <a:blip r:embed="rId1"/>
          <a:srcRect l="0" t="3691" r="24287" b="18641"/>
          <a:stretch/>
        </p:blipFill>
        <p:spPr>
          <a:xfrm>
            <a:off x="743040" y="1554120"/>
            <a:ext cx="7756560" cy="4711680"/>
          </a:xfrm>
          <a:prstGeom prst="rect">
            <a:avLst/>
          </a:prstGeom>
          <a:ln w="0">
            <a:noFill/>
          </a:ln>
        </p:spPr>
      </p:pic>
      <p:sp>
        <p:nvSpPr>
          <p:cNvPr id="489" name=""/>
          <p:cNvSpPr/>
          <p:nvPr/>
        </p:nvSpPr>
        <p:spPr>
          <a:xfrm>
            <a:off x="7839000" y="1600200"/>
            <a:ext cx="1733760" cy="1295280"/>
          </a:xfrm>
          <a:prstGeom prst="cloudCallout">
            <a:avLst>
              <a:gd name="adj1" fmla="val -54564"/>
              <a:gd name="adj2" fmla="val 52083"/>
            </a:avLst>
          </a:prstGeom>
          <a:solidFill>
            <a:srgbClr val="3333cc"/>
          </a:solidFill>
          <a:ln w="9360">
            <a:solidFill>
              <a:srgbClr val="c0c0c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8107200" y="1828800"/>
            <a:ext cx="138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Gill Sans MT"/>
                <a:ea typeface="Times New Roman (Arabic)"/>
              </a:rPr>
              <a:t>Increase Cost</a:t>
            </a:r>
            <a:endParaRPr b="0" lang="en-US" sz="2000" spc="-1" strike="noStrike">
              <a:solidFill>
                <a:srgbClr val="000000"/>
              </a:solidFill>
              <a:latin typeface="Times New Roman"/>
            </a:endParaRPr>
          </a:p>
        </p:txBody>
      </p:sp>
      <p:sp>
        <p:nvSpPr>
          <p:cNvPr id="491" name=""/>
          <p:cNvSpPr/>
          <p:nvPr/>
        </p:nvSpPr>
        <p:spPr>
          <a:xfrm>
            <a:off x="4341960" y="6172200"/>
            <a:ext cx="561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abic)"/>
              </a:rPr>
              <a:t>[ </a:t>
            </a:r>
            <a:r>
              <a:rPr b="1" lang="en-US" sz="2400" spc="-1" strike="noStrike">
                <a:solidFill>
                  <a:srgbClr val="ff0000"/>
                </a:solidFill>
                <a:latin typeface="Gill Sans MT"/>
                <a:ea typeface="Times New Roman (Arabic)"/>
              </a:rPr>
              <a:t>Muda of over-production</a:t>
            </a:r>
            <a:r>
              <a:rPr b="1" lang="en-US" sz="2400" spc="-1" strike="noStrike">
                <a:solidFill>
                  <a:srgbClr val="000000"/>
                </a:solidFill>
                <a:latin typeface="Gill Sans MT"/>
                <a:ea typeface="Times New Roman (Arabic)"/>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5343A6E-8697-4BDF-856A-52AFEB668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92" name=""/>
          <p:cNvCxnSpPr>
            <a:stCxn id="493" idx="3"/>
            <a:endCxn id="494" idx="1"/>
          </p:cNvCxnSpPr>
          <p:nvPr/>
        </p:nvCxnSpPr>
        <p:spPr>
          <a:xfrm flipV="1">
            <a:off x="6523200" y="1847160"/>
            <a:ext cx="1318320" cy="2043720"/>
          </a:xfrm>
          <a:prstGeom prst="bentConnector3">
            <a:avLst>
              <a:gd name="adj1" fmla="val 49986"/>
            </a:avLst>
          </a:prstGeom>
          <a:ln w="57240">
            <a:solidFill>
              <a:srgbClr val="cc6600"/>
            </a:solidFill>
            <a:miter/>
            <a:tailEnd len="med" type="triangle" w="med"/>
          </a:ln>
        </p:spPr>
      </p:cxnSp>
      <p:sp>
        <p:nvSpPr>
          <p:cNvPr id="495" name=""/>
          <p:cNvSpPr/>
          <p:nvPr/>
        </p:nvSpPr>
        <p:spPr>
          <a:xfrm>
            <a:off x="303120" y="1908000"/>
            <a:ext cx="2681280" cy="8337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Realization embodying “Customer First” discipline</a:t>
            </a:r>
            <a:endParaRPr b="0" lang="en-US" sz="1800" spc="-1" strike="noStrike">
              <a:solidFill>
                <a:srgbClr val="000000"/>
              </a:solidFill>
              <a:latin typeface="Times New Roman"/>
            </a:endParaRPr>
          </a:p>
        </p:txBody>
      </p:sp>
      <p:sp>
        <p:nvSpPr>
          <p:cNvPr id="496" name=""/>
          <p:cNvSpPr/>
          <p:nvPr/>
        </p:nvSpPr>
        <p:spPr>
          <a:xfrm>
            <a:off x="324000" y="3198960"/>
            <a:ext cx="2660400" cy="13269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Providing customers with well made products at reasonable price in a timely manner</a:t>
            </a:r>
            <a:endParaRPr b="0" lang="en-US" sz="1800" spc="-1" strike="noStrike">
              <a:solidFill>
                <a:srgbClr val="000000"/>
              </a:solidFill>
              <a:latin typeface="Times New Roman"/>
            </a:endParaRPr>
          </a:p>
        </p:txBody>
      </p:sp>
      <p:sp>
        <p:nvSpPr>
          <p:cNvPr id="497" name=""/>
          <p:cNvSpPr/>
          <p:nvPr/>
        </p:nvSpPr>
        <p:spPr>
          <a:xfrm>
            <a:off x="385920" y="5010120"/>
            <a:ext cx="2557440" cy="13269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Taking back the investigation promptly in the limited capital resource</a:t>
            </a:r>
            <a:endParaRPr b="0" lang="en-US" sz="1800" spc="-1" strike="noStrike">
              <a:solidFill>
                <a:srgbClr val="000000"/>
              </a:solidFill>
              <a:latin typeface="Times New Roman"/>
            </a:endParaRPr>
          </a:p>
        </p:txBody>
      </p:sp>
      <p:sp>
        <p:nvSpPr>
          <p:cNvPr id="493" name=""/>
          <p:cNvSpPr/>
          <p:nvPr/>
        </p:nvSpPr>
        <p:spPr>
          <a:xfrm>
            <a:off x="3521160" y="3321000"/>
            <a:ext cx="2971800" cy="10803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Elimination of waste         </a:t>
            </a:r>
            <a:r>
              <a:rPr b="1" lang="en-US" sz="1800" spc="-1" strike="noStrike">
                <a:solidFill>
                  <a:srgbClr val="000000"/>
                </a:solidFill>
                <a:latin typeface="Gill Sans MT"/>
                <a:ea typeface="Times New Roman (Arabic)"/>
              </a:rPr>
              <a:t>Muda</a:t>
            </a:r>
            <a:r>
              <a:rPr b="0" lang="en-US" sz="1800" spc="-1" strike="noStrike">
                <a:solidFill>
                  <a:srgbClr val="000000"/>
                </a:solidFill>
                <a:latin typeface="Gill Sans MT"/>
                <a:ea typeface="Times New Roman (Arabic)"/>
              </a:rPr>
              <a:t> (Non-value Added )   </a:t>
            </a:r>
            <a:r>
              <a:rPr b="1" lang="en-US" sz="1800" spc="-1" strike="noStrike">
                <a:solidFill>
                  <a:srgbClr val="000000"/>
                </a:solidFill>
                <a:latin typeface="Gill Sans MT"/>
                <a:ea typeface="Times New Roman (Arabic)"/>
              </a:rPr>
              <a:t>Mura</a:t>
            </a:r>
            <a:r>
              <a:rPr b="0" lang="en-US" sz="1800" spc="-1" strike="noStrike">
                <a:solidFill>
                  <a:srgbClr val="000000"/>
                </a:solidFill>
                <a:latin typeface="Gill Sans MT"/>
                <a:ea typeface="Times New Roman (Arabic)"/>
              </a:rPr>
              <a:t> (Uneverness)              </a:t>
            </a:r>
            <a:r>
              <a:rPr b="1" lang="en-US" sz="1800" spc="-1" strike="noStrike">
                <a:solidFill>
                  <a:srgbClr val="000000"/>
                </a:solidFill>
                <a:latin typeface="Gill Sans MT"/>
                <a:ea typeface="Times New Roman (Arabic)"/>
              </a:rPr>
              <a:t>Muri</a:t>
            </a:r>
            <a:r>
              <a:rPr b="0" lang="en-US" sz="1800" spc="-1" strike="noStrike">
                <a:solidFill>
                  <a:srgbClr val="000000"/>
                </a:solidFill>
                <a:latin typeface="Gill Sans MT"/>
                <a:ea typeface="Times New Roman (Arabic)"/>
              </a:rPr>
              <a:t> (Overburden)       </a:t>
            </a:r>
            <a:endParaRPr b="0" lang="en-US" sz="1800" spc="-1" strike="noStrike">
              <a:solidFill>
                <a:srgbClr val="000000"/>
              </a:solidFill>
              <a:latin typeface="Times New Roman"/>
            </a:endParaRPr>
          </a:p>
        </p:txBody>
      </p:sp>
      <p:sp>
        <p:nvSpPr>
          <p:cNvPr id="498" name=""/>
          <p:cNvSpPr/>
          <p:nvPr/>
        </p:nvSpPr>
        <p:spPr>
          <a:xfrm>
            <a:off x="6272280" y="2343240"/>
            <a:ext cx="1814400" cy="3405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Timely</a:t>
            </a:r>
            <a:endParaRPr b="0" lang="en-US" sz="1800" spc="-1" strike="noStrike">
              <a:solidFill>
                <a:srgbClr val="000000"/>
              </a:solidFill>
              <a:latin typeface="Times New Roman"/>
            </a:endParaRPr>
          </a:p>
        </p:txBody>
      </p:sp>
      <p:sp>
        <p:nvSpPr>
          <p:cNvPr id="494" name=""/>
          <p:cNvSpPr/>
          <p:nvPr/>
        </p:nvSpPr>
        <p:spPr>
          <a:xfrm>
            <a:off x="7866000" y="1581120"/>
            <a:ext cx="1706760" cy="477720"/>
          </a:xfrm>
          <a:prstGeom prst="rect">
            <a:avLst/>
          </a:prstGeom>
          <a:solidFill>
            <a:srgbClr val="990000"/>
          </a:solidFill>
          <a:ln w="57240">
            <a:solidFill>
              <a:srgbClr val="ff9933"/>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ill Sans MT"/>
                <a:ea typeface="Times New Roman (Arabic)"/>
              </a:rPr>
              <a:t>J.I.T</a:t>
            </a:r>
            <a:endParaRPr b="0" lang="en-US" sz="2800" spc="-1" strike="noStrike">
              <a:solidFill>
                <a:srgbClr val="000000"/>
              </a:solidFill>
              <a:latin typeface="Times New Roman"/>
            </a:endParaRPr>
          </a:p>
        </p:txBody>
      </p:sp>
      <p:sp>
        <p:nvSpPr>
          <p:cNvPr id="499" name=""/>
          <p:cNvSpPr/>
          <p:nvPr/>
        </p:nvSpPr>
        <p:spPr>
          <a:xfrm>
            <a:off x="7853400" y="5924520"/>
            <a:ext cx="1692360" cy="477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ill Sans MT"/>
                <a:ea typeface="Times New Roman (Arabic)"/>
              </a:rPr>
              <a:t>Jidoka</a:t>
            </a:r>
            <a:endParaRPr b="0" lang="en-US" sz="2800" spc="-1" strike="noStrike">
              <a:solidFill>
                <a:srgbClr val="000000"/>
              </a:solidFill>
              <a:latin typeface="Times New Roman"/>
            </a:endParaRPr>
          </a:p>
        </p:txBody>
      </p:sp>
      <p:cxnSp>
        <p:nvCxnSpPr>
          <p:cNvPr id="500" name=""/>
          <p:cNvCxnSpPr>
            <a:stCxn id="495" idx="2"/>
            <a:endCxn id="496" idx="0"/>
          </p:cNvCxnSpPr>
          <p:nvPr/>
        </p:nvCxnSpPr>
        <p:spPr>
          <a:xfrm>
            <a:off x="1644120" y="2828880"/>
            <a:ext cx="11880" cy="342000"/>
          </a:xfrm>
          <a:prstGeom prst="straightConnector1">
            <a:avLst/>
          </a:prstGeom>
          <a:ln w="57240">
            <a:solidFill>
              <a:srgbClr val="cc6600"/>
            </a:solidFill>
            <a:miter/>
            <a:tailEnd len="med" type="triangle" w="med"/>
          </a:ln>
        </p:spPr>
      </p:cxnSp>
      <p:cxnSp>
        <p:nvCxnSpPr>
          <p:cNvPr id="501" name=""/>
          <p:cNvCxnSpPr>
            <a:stCxn id="497" idx="0"/>
            <a:endCxn id="496" idx="2"/>
          </p:cNvCxnSpPr>
          <p:nvPr/>
        </p:nvCxnSpPr>
        <p:spPr>
          <a:xfrm flipH="1" flipV="1">
            <a:off x="1654920" y="4614120"/>
            <a:ext cx="10440" cy="367560"/>
          </a:xfrm>
          <a:prstGeom prst="straightConnector1">
            <a:avLst/>
          </a:prstGeom>
          <a:ln w="57240">
            <a:solidFill>
              <a:srgbClr val="cc6600"/>
            </a:solidFill>
            <a:miter/>
            <a:tailEnd len="med" type="triangle" w="med"/>
          </a:ln>
        </p:spPr>
      </p:cxnSp>
      <p:cxnSp>
        <p:nvCxnSpPr>
          <p:cNvPr id="502" name=""/>
          <p:cNvCxnSpPr>
            <a:stCxn id="496" idx="3"/>
            <a:endCxn id="493" idx="1"/>
          </p:cNvCxnSpPr>
          <p:nvPr/>
        </p:nvCxnSpPr>
        <p:spPr>
          <a:xfrm flipV="1">
            <a:off x="3014640" y="3890160"/>
            <a:ext cx="480240" cy="2520"/>
          </a:xfrm>
          <a:prstGeom prst="straightConnector1">
            <a:avLst/>
          </a:prstGeom>
          <a:ln w="57240">
            <a:solidFill>
              <a:srgbClr val="cc6600"/>
            </a:solidFill>
            <a:miter/>
          </a:ln>
        </p:spPr>
      </p:cxnSp>
      <p:cxnSp>
        <p:nvCxnSpPr>
          <p:cNvPr id="503" name=""/>
          <p:cNvCxnSpPr>
            <a:stCxn id="493" idx="3"/>
            <a:endCxn id="499" idx="1"/>
          </p:cNvCxnSpPr>
          <p:nvPr/>
        </p:nvCxnSpPr>
        <p:spPr>
          <a:xfrm>
            <a:off x="6523200" y="3890520"/>
            <a:ext cx="1334160" cy="2272680"/>
          </a:xfrm>
          <a:prstGeom prst="bentConnector3">
            <a:avLst>
              <a:gd name="adj1" fmla="val 48906"/>
            </a:avLst>
          </a:prstGeom>
          <a:ln w="57240">
            <a:solidFill>
              <a:srgbClr val="cc6600"/>
            </a:solidFill>
            <a:miter/>
            <a:tailEnd len="med" type="triangle" w="med"/>
          </a:ln>
        </p:spPr>
      </p:cxnSp>
      <p:sp>
        <p:nvSpPr>
          <p:cNvPr id="504" name=""/>
          <p:cNvSpPr/>
          <p:nvPr/>
        </p:nvSpPr>
        <p:spPr>
          <a:xfrm>
            <a:off x="6059520" y="4933800"/>
            <a:ext cx="2247840" cy="587160"/>
          </a:xfrm>
          <a:prstGeom prst="rect">
            <a:avLst/>
          </a:prstGeom>
          <a:solidFill>
            <a:srgbClr val="ffff66"/>
          </a:solidFill>
          <a:ln w="57240">
            <a:solidFill>
              <a:srgbClr val="cc66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Well-made product at reasonable cost</a:t>
            </a:r>
            <a:endParaRPr b="0" lang="en-US" sz="1800" spc="-1" strike="noStrike">
              <a:solidFill>
                <a:srgbClr val="000000"/>
              </a:solidFill>
              <a:latin typeface="Times New Roman"/>
            </a:endParaRPr>
          </a:p>
        </p:txBody>
      </p:sp>
      <p:sp>
        <p:nvSpPr>
          <p:cNvPr id="505" name=""/>
          <p:cNvSpPr/>
          <p:nvPr/>
        </p:nvSpPr>
        <p:spPr>
          <a:xfrm>
            <a:off x="247680" y="836640"/>
            <a:ext cx="8197920" cy="533520"/>
          </a:xfrm>
          <a:prstGeom prst="roundRect">
            <a:avLst>
              <a:gd name="adj" fmla="val 50000"/>
            </a:avLst>
          </a:prstGeom>
          <a:solidFill>
            <a:srgbClr val="ff99cc"/>
          </a:solidFill>
          <a:ln w="57240">
            <a:solidFill>
              <a:srgbClr val="c0c0c0"/>
            </a:solidFill>
            <a:miter/>
          </a:ln>
        </p:spPr>
        <p:style>
          <a:lnRef idx="0"/>
          <a:fillRef idx="0"/>
          <a:effectRef idx="0"/>
          <a:fontRef idx="minor"/>
        </p:style>
        <p:txBody>
          <a:bodyPr wrap="none" lIns="90000" rIns="90000" tIns="46800" bIns="46800" anchor="ctr">
            <a:noAutofit/>
          </a:bodyPr>
          <a:p>
            <a:pPr marL="623880" indent="-623880" algn="ct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ill Sans MT"/>
                <a:ea typeface="Times New Roman (Arabic)"/>
              </a:rPr>
              <a:t>f. Summary of TOYOTA Production System</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BB1EA57-6DB6-4C0C-B03C-CEBC61421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98760" y="88560"/>
            <a:ext cx="576720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TPS ROLE IN MANUFACTURING</a:t>
            </a:r>
            <a:endParaRPr b="1" lang="en-US" sz="2400" spc="-1" strike="noStrike">
              <a:solidFill>
                <a:srgbClr val="ffffff"/>
              </a:solidFill>
              <a:latin typeface="Arial"/>
            </a:endParaRPr>
          </a:p>
        </p:txBody>
      </p:sp>
      <p:sp>
        <p:nvSpPr>
          <p:cNvPr id="507" name=""/>
          <p:cNvSpPr/>
          <p:nvPr/>
        </p:nvSpPr>
        <p:spPr>
          <a:xfrm>
            <a:off x="4368960" y="1484280"/>
            <a:ext cx="1830240" cy="3708360"/>
          </a:xfrm>
          <a:prstGeom prst="rect">
            <a:avLst/>
          </a:prstGeom>
          <a:gradFill rotWithShape="0">
            <a:gsLst>
              <a:gs pos="0">
                <a:srgbClr val="009900"/>
              </a:gs>
              <a:gs pos="50000">
                <a:srgbClr val="00ff00"/>
              </a:gs>
              <a:gs pos="100000">
                <a:srgbClr val="009900"/>
              </a:gs>
            </a:gsLst>
            <a:lin ang="108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yo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08" name=""/>
          <p:cNvSpPr/>
          <p:nvPr/>
        </p:nvSpPr>
        <p:spPr>
          <a:xfrm>
            <a:off x="1671480" y="1555920"/>
            <a:ext cx="2027520" cy="36180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N</a:t>
            </a:r>
            <a:endParaRPr b="0" lang="en-US" sz="1600" spc="-1" strike="noStrike">
              <a:solidFill>
                <a:srgbClr val="000000"/>
              </a:solidFill>
              <a:latin typeface="Times New Roman"/>
            </a:endParaRPr>
          </a:p>
        </p:txBody>
      </p:sp>
      <p:sp>
        <p:nvSpPr>
          <p:cNvPr id="509" name=""/>
          <p:cNvSpPr/>
          <p:nvPr/>
        </p:nvSpPr>
        <p:spPr>
          <a:xfrm>
            <a:off x="1671480" y="2421000"/>
            <a:ext cx="2027520" cy="36180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TERIAL</a:t>
            </a:r>
            <a:endParaRPr b="0" lang="en-US" sz="1600" spc="-1" strike="noStrike">
              <a:solidFill>
                <a:srgbClr val="000000"/>
              </a:solidFill>
              <a:latin typeface="Times New Roman"/>
            </a:endParaRPr>
          </a:p>
        </p:txBody>
      </p:sp>
      <p:sp>
        <p:nvSpPr>
          <p:cNvPr id="510" name=""/>
          <p:cNvSpPr/>
          <p:nvPr/>
        </p:nvSpPr>
        <p:spPr>
          <a:xfrm>
            <a:off x="1703520" y="3487680"/>
            <a:ext cx="2027160" cy="36216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CHINERY</a:t>
            </a:r>
            <a:endParaRPr b="0" lang="en-US" sz="1600" spc="-1" strike="noStrike">
              <a:solidFill>
                <a:srgbClr val="000000"/>
              </a:solidFill>
              <a:latin typeface="Times New Roman"/>
            </a:endParaRPr>
          </a:p>
        </p:txBody>
      </p:sp>
      <p:sp>
        <p:nvSpPr>
          <p:cNvPr id="511" name=""/>
          <p:cNvSpPr/>
          <p:nvPr/>
        </p:nvSpPr>
        <p:spPr>
          <a:xfrm>
            <a:off x="6737400" y="1590840"/>
            <a:ext cx="2027160" cy="36180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QUALITY</a:t>
            </a:r>
            <a:endParaRPr b="0" lang="en-US" sz="1600" spc="-1" strike="noStrike">
              <a:solidFill>
                <a:srgbClr val="000000"/>
              </a:solidFill>
              <a:latin typeface="Times New Roman"/>
            </a:endParaRPr>
          </a:p>
        </p:txBody>
      </p:sp>
      <p:sp>
        <p:nvSpPr>
          <p:cNvPr id="512" name=""/>
          <p:cNvSpPr/>
          <p:nvPr/>
        </p:nvSpPr>
        <p:spPr>
          <a:xfrm>
            <a:off x="6737400" y="2455920"/>
            <a:ext cx="2027160" cy="36180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QUANTITY</a:t>
            </a:r>
            <a:endParaRPr b="0" lang="en-US" sz="1600" spc="-1" strike="noStrike">
              <a:solidFill>
                <a:srgbClr val="000000"/>
              </a:solidFill>
              <a:latin typeface="Times New Roman"/>
            </a:endParaRPr>
          </a:p>
        </p:txBody>
      </p:sp>
      <p:sp>
        <p:nvSpPr>
          <p:cNvPr id="513" name=""/>
          <p:cNvSpPr/>
          <p:nvPr/>
        </p:nvSpPr>
        <p:spPr>
          <a:xfrm>
            <a:off x="6770520" y="3522600"/>
            <a:ext cx="2027520" cy="36216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COST</a:t>
            </a:r>
            <a:endParaRPr b="0" lang="en-US" sz="1600" spc="-1" strike="noStrike">
              <a:solidFill>
                <a:srgbClr val="000000"/>
              </a:solidFill>
              <a:latin typeface="Times New Roman"/>
            </a:endParaRPr>
          </a:p>
        </p:txBody>
      </p:sp>
      <p:sp>
        <p:nvSpPr>
          <p:cNvPr id="514" name=""/>
          <p:cNvSpPr/>
          <p:nvPr/>
        </p:nvSpPr>
        <p:spPr>
          <a:xfrm>
            <a:off x="6775560" y="4614840"/>
            <a:ext cx="2027160" cy="361800"/>
          </a:xfrm>
          <a:prstGeom prst="roundRect">
            <a:avLst>
              <a:gd name="adj" fmla="val 16667"/>
            </a:avLst>
          </a:prstGeom>
          <a:gradFill rotWithShape="0">
            <a:gsLst>
              <a:gs pos="0">
                <a:srgbClr val="c0c0c0"/>
              </a:gs>
              <a:gs pos="50000">
                <a:srgbClr val="3333cc"/>
              </a:gs>
              <a:gs pos="100000">
                <a:srgbClr val="c0c0c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SAFETY</a:t>
            </a:r>
            <a:endParaRPr b="0" lang="en-US" sz="1600" spc="-1" strike="noStrike">
              <a:solidFill>
                <a:srgbClr val="000000"/>
              </a:solidFill>
              <a:latin typeface="Times New Roman"/>
            </a:endParaRPr>
          </a:p>
        </p:txBody>
      </p:sp>
      <p:sp>
        <p:nvSpPr>
          <p:cNvPr id="515" name=""/>
          <p:cNvSpPr/>
          <p:nvPr/>
        </p:nvSpPr>
        <p:spPr>
          <a:xfrm>
            <a:off x="3743280" y="1700280"/>
            <a:ext cx="5446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75800" y="1868400"/>
            <a:ext cx="185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or Productivity)</a:t>
            </a:r>
            <a:endParaRPr b="0" lang="en-US" sz="1600" spc="-1" strike="noStrike">
              <a:solidFill>
                <a:srgbClr val="000000"/>
              </a:solidFill>
              <a:latin typeface="Times New Roman"/>
            </a:endParaRPr>
          </a:p>
        </p:txBody>
      </p:sp>
      <p:sp>
        <p:nvSpPr>
          <p:cNvPr id="517" name=""/>
          <p:cNvSpPr/>
          <p:nvPr/>
        </p:nvSpPr>
        <p:spPr>
          <a:xfrm>
            <a:off x="1686960" y="2809800"/>
            <a:ext cx="205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 Productivity)</a:t>
            </a:r>
            <a:endParaRPr b="0" lang="en-US" sz="1600" spc="-1" strike="noStrike">
              <a:solidFill>
                <a:srgbClr val="000000"/>
              </a:solidFill>
              <a:latin typeface="Times New Roman"/>
            </a:endParaRPr>
          </a:p>
        </p:txBody>
      </p:sp>
      <p:sp>
        <p:nvSpPr>
          <p:cNvPr id="518" name=""/>
          <p:cNvSpPr/>
          <p:nvPr/>
        </p:nvSpPr>
        <p:spPr>
          <a:xfrm>
            <a:off x="1725480" y="3878280"/>
            <a:ext cx="208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e Productivity)</a:t>
            </a:r>
            <a:endParaRPr b="0" lang="en-US" sz="1600" spc="-1" strike="noStrike">
              <a:solidFill>
                <a:srgbClr val="000000"/>
              </a:solidFill>
              <a:latin typeface="Times New Roman"/>
            </a:endParaRPr>
          </a:p>
        </p:txBody>
      </p:sp>
      <p:sp>
        <p:nvSpPr>
          <p:cNvPr id="519" name=""/>
          <p:cNvSpPr/>
          <p:nvPr/>
        </p:nvSpPr>
        <p:spPr>
          <a:xfrm>
            <a:off x="6748200" y="1982880"/>
            <a:ext cx="199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meet standards)</a:t>
            </a:r>
            <a:endParaRPr b="0" lang="en-US" sz="1600" spc="-1" strike="noStrike">
              <a:solidFill>
                <a:srgbClr val="000000"/>
              </a:solidFill>
              <a:latin typeface="Times New Roman"/>
            </a:endParaRPr>
          </a:p>
        </p:txBody>
      </p:sp>
      <p:sp>
        <p:nvSpPr>
          <p:cNvPr id="520" name=""/>
          <p:cNvSpPr/>
          <p:nvPr/>
        </p:nvSpPr>
        <p:spPr>
          <a:xfrm>
            <a:off x="6756120" y="2797200"/>
            <a:ext cx="199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produce requi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olume)</a:t>
            </a:r>
            <a:endParaRPr b="0" lang="en-US" sz="1600" spc="-1" strike="noStrike">
              <a:solidFill>
                <a:srgbClr val="000000"/>
              </a:solidFill>
              <a:latin typeface="Times New Roman"/>
            </a:endParaRPr>
          </a:p>
        </p:txBody>
      </p:sp>
      <p:sp>
        <p:nvSpPr>
          <p:cNvPr id="521" name=""/>
          <p:cNvSpPr/>
          <p:nvPr/>
        </p:nvSpPr>
        <p:spPr>
          <a:xfrm>
            <a:off x="6790680" y="3890880"/>
            <a:ext cx="2084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le to lower as mu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possible)</a:t>
            </a:r>
            <a:endParaRPr b="0" lang="en-US" sz="1600" spc="-1" strike="noStrike">
              <a:solidFill>
                <a:srgbClr val="000000"/>
              </a:solidFill>
              <a:latin typeface="Times New Roman"/>
            </a:endParaRPr>
          </a:p>
        </p:txBody>
      </p:sp>
      <p:grpSp>
        <p:nvGrpSpPr>
          <p:cNvPr id="522" name=""/>
          <p:cNvGrpSpPr/>
          <p:nvPr/>
        </p:nvGrpSpPr>
        <p:grpSpPr>
          <a:xfrm>
            <a:off x="6232680" y="1808280"/>
            <a:ext cx="474480" cy="2987640"/>
            <a:chOff x="6232680" y="1808280"/>
            <a:chExt cx="474480" cy="2987640"/>
          </a:xfrm>
        </p:grpSpPr>
        <p:sp>
          <p:nvSpPr>
            <p:cNvPr id="523" name=""/>
            <p:cNvSpPr/>
            <p:nvPr/>
          </p:nvSpPr>
          <p:spPr>
            <a:xfrm>
              <a:off x="6232680" y="1808280"/>
              <a:ext cx="4744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32680" y="2671920"/>
              <a:ext cx="4744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32680" y="3716280"/>
              <a:ext cx="4744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32680" y="4795920"/>
              <a:ext cx="4744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2069280" y="5227560"/>
            <a:ext cx="52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ance of </a:t>
            </a:r>
            <a:r>
              <a:rPr b="0" lang="en-US" sz="1600" spc="-1" strike="noStrike" u="sng">
                <a:solidFill>
                  <a:srgbClr val="000000"/>
                </a:solidFill>
                <a:uFillTx/>
                <a:latin typeface="Times New Roman"/>
              </a:rPr>
              <a:t>labor Productivity</a:t>
            </a:r>
            <a:r>
              <a:rPr b="0" lang="en-US" sz="1600" spc="-1" strike="noStrike">
                <a:solidFill>
                  <a:srgbClr val="000000"/>
                </a:solidFill>
                <a:latin typeface="Times New Roman"/>
              </a:rPr>
              <a:t> in performing cost reduction</a:t>
            </a:r>
            <a:endParaRPr b="0" lang="en-US" sz="1600" spc="-1" strike="noStrike">
              <a:solidFill>
                <a:srgbClr val="000000"/>
              </a:solidFill>
              <a:latin typeface="Times New Roman"/>
            </a:endParaRPr>
          </a:p>
        </p:txBody>
      </p:sp>
      <p:sp>
        <p:nvSpPr>
          <p:cNvPr id="528" name=""/>
          <p:cNvSpPr/>
          <p:nvPr/>
        </p:nvSpPr>
        <p:spPr>
          <a:xfrm>
            <a:off x="3890880" y="5624640"/>
            <a:ext cx="1365480" cy="325440"/>
          </a:xfrm>
          <a:prstGeom prst="downArrow">
            <a:avLst>
              <a:gd name="adj1" fmla="val 50000"/>
              <a:gd name="adj2" fmla="val 25000"/>
            </a:avLst>
          </a:prstGeom>
          <a:solidFill>
            <a:srgbClr val="3333cc"/>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29" name=""/>
          <p:cNvSpPr/>
          <p:nvPr/>
        </p:nvSpPr>
        <p:spPr>
          <a:xfrm>
            <a:off x="4745880" y="5943600"/>
            <a:ext cx="281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to do the best meth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to produce in efficient way</a:t>
            </a:r>
            <a:endParaRPr b="0" lang="en-US" sz="1600" spc="-1" strike="noStrike">
              <a:solidFill>
                <a:srgbClr val="000000"/>
              </a:solidFill>
              <a:latin typeface="Times New Roman"/>
            </a:endParaRPr>
          </a:p>
        </p:txBody>
      </p:sp>
      <p:sp>
        <p:nvSpPr>
          <p:cNvPr id="530" name=""/>
          <p:cNvSpPr/>
          <p:nvPr/>
        </p:nvSpPr>
        <p:spPr>
          <a:xfrm>
            <a:off x="855720" y="1197000"/>
            <a:ext cx="8813880" cy="5472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743280" y="2565360"/>
            <a:ext cx="5446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743280" y="3645000"/>
            <a:ext cx="544680" cy="0"/>
          </a:xfrm>
          <a:prstGeom prst="line">
            <a:avLst/>
          </a:prstGeom>
          <a:ln cap="sq"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640691-8EF8-4B82-A9F1-533D89B68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663200" y="837720"/>
            <a:ext cx="8239320" cy="2086200"/>
          </a:xfrm>
          <a:prstGeom prst="rect">
            <a:avLst/>
          </a:prstGeom>
          <a:noFill/>
          <a:ln w="0">
            <a:noFill/>
          </a:ln>
        </p:spPr>
        <p:txBody>
          <a:bodyPr lIns="90360" rIns="90360" tIns="44280" bIns="442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aim is to deliver superior products that reflect the needs of customer on a timely basis. In order to achieve this, all personnel from top management to entry level employees collaborate to fully demonstrate their best of unique abilities at every stage of business, from planning and design to production, sales and to achieve the ultimate goal, that is “ t</a:t>
            </a:r>
            <a:r>
              <a:rPr b="1" lang="en-US" sz="1600" spc="-1" strike="noStrike">
                <a:solidFill>
                  <a:srgbClr val="000000"/>
                </a:solidFill>
                <a:latin typeface="Arial"/>
              </a:rPr>
              <a:t>o create better</a:t>
            </a:r>
            <a:r>
              <a:rPr b="0" lang="en-US" sz="1600" spc="-1" strike="noStrike">
                <a:solidFill>
                  <a:srgbClr val="000000"/>
                </a:solidFill>
                <a:latin typeface="Arial"/>
              </a:rPr>
              <a:t> </a:t>
            </a:r>
            <a:r>
              <a:rPr b="1" lang="en-US" sz="1600" spc="-1" strike="noStrike">
                <a:solidFill>
                  <a:srgbClr val="000000"/>
                </a:solidFill>
                <a:latin typeface="Arial"/>
              </a:rPr>
              <a:t>products /</a:t>
            </a:r>
            <a:r>
              <a:rPr b="0" lang="en-US" sz="1600" spc="-1" strike="noStrike">
                <a:solidFill>
                  <a:srgbClr val="000000"/>
                </a:solidFill>
                <a:latin typeface="Arial"/>
              </a:rPr>
              <a:t> </a:t>
            </a:r>
            <a:r>
              <a:rPr b="1" lang="en-US" sz="1600" spc="-1" strike="noStrike">
                <a:solidFill>
                  <a:srgbClr val="000000"/>
                </a:solidFill>
                <a:latin typeface="Arial"/>
              </a:rPr>
              <a:t>cars</a:t>
            </a:r>
            <a:r>
              <a:rPr b="0" lang="en-US" sz="1600" spc="-1" strike="noStrike">
                <a:solidFill>
                  <a:srgbClr val="000000"/>
                </a:solidFill>
                <a:latin typeface="Arial"/>
              </a:rPr>
              <a:t> “.  TQM activities serve as the foundation for achieving that goal, and the entire business process is engaged in TQM activities.</a:t>
            </a:r>
            <a:endParaRPr b="0" lang="en-US" sz="1600" spc="-1" strike="noStrike">
              <a:solidFill>
                <a:srgbClr val="000000"/>
              </a:solidFill>
              <a:latin typeface="Arial"/>
            </a:endParaRPr>
          </a:p>
        </p:txBody>
      </p:sp>
      <p:sp>
        <p:nvSpPr>
          <p:cNvPr id="534" name=""/>
          <p:cNvSpPr/>
          <p:nvPr/>
        </p:nvSpPr>
        <p:spPr>
          <a:xfrm>
            <a:off x="1843200" y="249120"/>
            <a:ext cx="73198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2. Total Quality Management </a:t>
            </a:r>
            <a:endParaRPr b="0" lang="en-US" sz="3200" spc="-1" strike="noStrike">
              <a:solidFill>
                <a:srgbClr val="000000"/>
              </a:solidFill>
              <a:latin typeface="Times New Roman"/>
            </a:endParaRPr>
          </a:p>
        </p:txBody>
      </p:sp>
      <p:sp>
        <p:nvSpPr>
          <p:cNvPr id="535" name=""/>
          <p:cNvSpPr/>
          <p:nvPr/>
        </p:nvSpPr>
        <p:spPr>
          <a:xfrm>
            <a:off x="387360" y="3643200"/>
            <a:ext cx="25131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QM Concept</a:t>
            </a:r>
            <a:endParaRPr b="0" lang="en-US" sz="2000" spc="-1" strike="noStrike">
              <a:solidFill>
                <a:srgbClr val="000000"/>
              </a:solidFill>
              <a:latin typeface="Times New Roman"/>
            </a:endParaRPr>
          </a:p>
        </p:txBody>
      </p:sp>
      <p:sp>
        <p:nvSpPr>
          <p:cNvPr id="536" name=""/>
          <p:cNvSpPr/>
          <p:nvPr/>
        </p:nvSpPr>
        <p:spPr>
          <a:xfrm>
            <a:off x="5408640" y="3200400"/>
            <a:ext cx="4341960" cy="2819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QM activities are initiated from the fundamental perspective of “ Customer First “ and they are based on “ Creativity and innovation “ as well as, “ Respect for the individual and Participation by all “.</a:t>
            </a:r>
            <a:endParaRPr b="0" lang="en-US" sz="2400" spc="-1" strike="noStrike">
              <a:solidFill>
                <a:srgbClr val="000000"/>
              </a:solidFill>
              <a:latin typeface="Times New Roman"/>
            </a:endParaRPr>
          </a:p>
        </p:txBody>
      </p:sp>
      <p:grpSp>
        <p:nvGrpSpPr>
          <p:cNvPr id="537" name=""/>
          <p:cNvGrpSpPr/>
          <p:nvPr/>
        </p:nvGrpSpPr>
        <p:grpSpPr>
          <a:xfrm>
            <a:off x="1066680" y="3276720"/>
            <a:ext cx="4265640" cy="3276360"/>
            <a:chOff x="1066680" y="3276720"/>
            <a:chExt cx="4265640" cy="3276360"/>
          </a:xfrm>
        </p:grpSpPr>
        <p:sp>
          <p:nvSpPr>
            <p:cNvPr id="538" name=""/>
            <p:cNvSpPr/>
            <p:nvPr/>
          </p:nvSpPr>
          <p:spPr>
            <a:xfrm>
              <a:off x="1066680" y="3276720"/>
              <a:ext cx="4265640" cy="3276360"/>
            </a:xfrm>
            <a:prstGeom prst="triangle">
              <a:avLst>
                <a:gd name="adj" fmla="val 50000"/>
              </a:avLst>
            </a:prstGeom>
            <a:gradFill rotWithShape="0">
              <a:gsLst>
                <a:gs pos="0">
                  <a:srgbClr val="75752f"/>
                </a:gs>
                <a:gs pos="50000">
                  <a:srgbClr val="ffff66"/>
                </a:gs>
                <a:gs pos="100000">
                  <a:srgbClr val="75752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08960" y="4800600"/>
              <a:ext cx="1980360" cy="1752480"/>
            </a:xfrm>
            <a:prstGeom prst="flowChartMerg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89840" y="4114800"/>
              <a:ext cx="1370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cus 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stomer</a:t>
              </a:r>
              <a:endParaRPr b="0" lang="en-US" sz="2000" spc="-1" strike="noStrike">
                <a:solidFill>
                  <a:srgbClr val="000000"/>
                </a:solidFill>
                <a:latin typeface="Times New Roman"/>
              </a:endParaRPr>
            </a:p>
          </p:txBody>
        </p:sp>
        <p:sp>
          <p:nvSpPr>
            <p:cNvPr id="541" name=""/>
            <p:cNvSpPr/>
            <p:nvPr/>
          </p:nvSpPr>
          <p:spPr>
            <a:xfrm>
              <a:off x="1447200" y="5943600"/>
              <a:ext cx="1370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inuo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AIZEN</a:t>
              </a:r>
              <a:endParaRPr b="0" lang="en-US" sz="1800" spc="-1" strike="noStrike">
                <a:solidFill>
                  <a:srgbClr val="000000"/>
                </a:solidFill>
                <a:latin typeface="Times New Roman"/>
              </a:endParaRPr>
            </a:p>
          </p:txBody>
        </p:sp>
        <p:sp>
          <p:nvSpPr>
            <p:cNvPr id="542" name=""/>
            <p:cNvSpPr/>
            <p:nvPr/>
          </p:nvSpPr>
          <p:spPr>
            <a:xfrm>
              <a:off x="3503880" y="5867280"/>
              <a:ext cx="1523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rticipation</a:t>
              </a:r>
              <a:endParaRPr b="0" lang="en-US" sz="1800" spc="-1" strike="noStrike">
                <a:solidFill>
                  <a:srgbClr val="000000"/>
                </a:solidFill>
                <a:latin typeface="Times New Roman"/>
              </a:endParaRPr>
            </a:p>
          </p:txBody>
        </p:sp>
        <p:sp>
          <p:nvSpPr>
            <p:cNvPr id="543" name=""/>
            <p:cNvSpPr/>
            <p:nvPr/>
          </p:nvSpPr>
          <p:spPr>
            <a:xfrm>
              <a:off x="2437560" y="4952880"/>
              <a:ext cx="1447200" cy="609840"/>
            </a:xfrm>
            <a:prstGeom prst="rect">
              <a:avLst/>
            </a:prstGeom>
            <a:solidFill>
              <a:srgbClr val="00ffff"/>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Q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vitie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DC0371B9-78CF-4A23-9FFE-8162AD011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0" y="0"/>
            <a:ext cx="9902520" cy="6858000"/>
            <a:chOff x="0" y="0"/>
            <a:chExt cx="9902520" cy="6858000"/>
          </a:xfrm>
        </p:grpSpPr>
        <p:sp>
          <p:nvSpPr>
            <p:cNvPr id="545" name=""/>
            <p:cNvSpPr/>
            <p:nvPr/>
          </p:nvSpPr>
          <p:spPr>
            <a:xfrm>
              <a:off x="0" y="0"/>
              <a:ext cx="685440" cy="6858000"/>
            </a:xfrm>
            <a:prstGeom prst="rect">
              <a:avLst/>
            </a:prstGeom>
            <a:gradFill rotWithShape="0">
              <a:gsLst>
                <a:gs pos="0">
                  <a:srgbClr val="00336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4560" y="0"/>
              <a:ext cx="0" cy="617220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5440" y="453960"/>
              <a:ext cx="9217080" cy="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63000" y="96840"/>
              <a:ext cx="1013760" cy="1001880"/>
              <a:chOff x="63000" y="96840"/>
              <a:chExt cx="1013760" cy="1001880"/>
            </a:xfrm>
          </p:grpSpPr>
          <p:sp>
            <p:nvSpPr>
              <p:cNvPr id="549" name=""/>
              <p:cNvSpPr/>
              <p:nvPr/>
            </p:nvSpPr>
            <p:spPr>
              <a:xfrm>
                <a:off x="69480" y="101160"/>
                <a:ext cx="1003680" cy="990720"/>
              </a:xfrm>
              <a:custGeom>
                <a:avLst/>
                <a:gdLst/>
                <a:ahLst/>
                <a:rect l="l" t="t" r="r" b="b"/>
                <a:pathLst>
                  <a:path w="12952" h="12953">
                    <a:moveTo>
                      <a:pt x="2850" y="11843"/>
                    </a:moveTo>
                    <a:lnTo>
                      <a:pt x="3417" y="12185"/>
                    </a:lnTo>
                    <a:lnTo>
                      <a:pt x="4004" y="12463"/>
                    </a:lnTo>
                    <a:lnTo>
                      <a:pt x="4608" y="12679"/>
                    </a:lnTo>
                    <a:lnTo>
                      <a:pt x="5223" y="12831"/>
                    </a:lnTo>
                    <a:lnTo>
                      <a:pt x="5845" y="12923"/>
                    </a:lnTo>
                    <a:lnTo>
                      <a:pt x="6469" y="12953"/>
                    </a:lnTo>
                    <a:lnTo>
                      <a:pt x="7090" y="12924"/>
                    </a:lnTo>
                    <a:lnTo>
                      <a:pt x="7705" y="12834"/>
                    </a:lnTo>
                    <a:lnTo>
                      <a:pt x="8309" y="12688"/>
                    </a:lnTo>
                    <a:lnTo>
                      <a:pt x="8897" y="12484"/>
                    </a:lnTo>
                    <a:lnTo>
                      <a:pt x="9465" y="12223"/>
                    </a:lnTo>
                    <a:lnTo>
                      <a:pt x="10008" y="11907"/>
                    </a:lnTo>
                    <a:lnTo>
                      <a:pt x="10521" y="11536"/>
                    </a:lnTo>
                    <a:lnTo>
                      <a:pt x="11001" y="11111"/>
                    </a:lnTo>
                    <a:lnTo>
                      <a:pt x="11442" y="10634"/>
                    </a:lnTo>
                    <a:lnTo>
                      <a:pt x="11841" y="10104"/>
                    </a:lnTo>
                    <a:lnTo>
                      <a:pt x="12183" y="9537"/>
                    </a:lnTo>
                    <a:lnTo>
                      <a:pt x="12463" y="8949"/>
                    </a:lnTo>
                    <a:lnTo>
                      <a:pt x="12677" y="8345"/>
                    </a:lnTo>
                    <a:lnTo>
                      <a:pt x="12830" y="7731"/>
                    </a:lnTo>
                    <a:lnTo>
                      <a:pt x="12922" y="7109"/>
                    </a:lnTo>
                    <a:lnTo>
                      <a:pt x="12952" y="6485"/>
                    </a:lnTo>
                    <a:lnTo>
                      <a:pt x="12922" y="5863"/>
                    </a:lnTo>
                    <a:lnTo>
                      <a:pt x="12834" y="5247"/>
                    </a:lnTo>
                    <a:lnTo>
                      <a:pt x="12687" y="4643"/>
                    </a:lnTo>
                    <a:lnTo>
                      <a:pt x="12483" y="4056"/>
                    </a:lnTo>
                    <a:lnTo>
                      <a:pt x="12221" y="3488"/>
                    </a:lnTo>
                    <a:lnTo>
                      <a:pt x="11906" y="2945"/>
                    </a:lnTo>
                    <a:lnTo>
                      <a:pt x="11535" y="2431"/>
                    </a:lnTo>
                    <a:lnTo>
                      <a:pt x="11109" y="1952"/>
                    </a:lnTo>
                    <a:lnTo>
                      <a:pt x="10632" y="1511"/>
                    </a:lnTo>
                    <a:lnTo>
                      <a:pt x="10103" y="1113"/>
                    </a:lnTo>
                    <a:lnTo>
                      <a:pt x="9535" y="770"/>
                    </a:lnTo>
                    <a:lnTo>
                      <a:pt x="8947" y="490"/>
                    </a:lnTo>
                    <a:lnTo>
                      <a:pt x="8343" y="275"/>
                    </a:lnTo>
                    <a:lnTo>
                      <a:pt x="7729" y="122"/>
                    </a:lnTo>
                    <a:lnTo>
                      <a:pt x="7107" y="31"/>
                    </a:lnTo>
                    <a:lnTo>
                      <a:pt x="6483" y="0"/>
                    </a:lnTo>
                    <a:lnTo>
                      <a:pt x="5862" y="30"/>
                    </a:lnTo>
                    <a:lnTo>
                      <a:pt x="5246" y="119"/>
                    </a:lnTo>
                    <a:lnTo>
                      <a:pt x="4642" y="266"/>
                    </a:lnTo>
                    <a:lnTo>
                      <a:pt x="4054" y="470"/>
                    </a:lnTo>
                    <a:lnTo>
                      <a:pt x="3487" y="730"/>
                    </a:lnTo>
                    <a:lnTo>
                      <a:pt x="2943" y="1047"/>
                    </a:lnTo>
                    <a:lnTo>
                      <a:pt x="2430" y="1418"/>
                    </a:lnTo>
                    <a:lnTo>
                      <a:pt x="1951" y="1842"/>
                    </a:lnTo>
                    <a:lnTo>
                      <a:pt x="1509" y="2321"/>
                    </a:lnTo>
                    <a:lnTo>
                      <a:pt x="1112" y="2851"/>
                    </a:lnTo>
                    <a:lnTo>
                      <a:pt x="768" y="3418"/>
                    </a:lnTo>
                    <a:lnTo>
                      <a:pt x="489" y="4006"/>
                    </a:lnTo>
                    <a:lnTo>
                      <a:pt x="274" y="4609"/>
                    </a:lnTo>
                    <a:lnTo>
                      <a:pt x="121" y="5224"/>
                    </a:lnTo>
                    <a:lnTo>
                      <a:pt x="29" y="5846"/>
                    </a:lnTo>
                    <a:lnTo>
                      <a:pt x="0" y="6470"/>
                    </a:lnTo>
                    <a:lnTo>
                      <a:pt x="29" y="7092"/>
                    </a:lnTo>
                    <a:lnTo>
                      <a:pt x="118" y="7706"/>
                    </a:lnTo>
                    <a:lnTo>
                      <a:pt x="264" y="8310"/>
                    </a:lnTo>
                    <a:lnTo>
                      <a:pt x="469" y="8898"/>
                    </a:lnTo>
                    <a:lnTo>
                      <a:pt x="730" y="9466"/>
                    </a:lnTo>
                    <a:lnTo>
                      <a:pt x="1046" y="10009"/>
                    </a:lnTo>
                    <a:lnTo>
                      <a:pt x="1417" y="10522"/>
                    </a:lnTo>
                    <a:lnTo>
                      <a:pt x="1842" y="11002"/>
                    </a:lnTo>
                    <a:lnTo>
                      <a:pt x="2319" y="11444"/>
                    </a:lnTo>
                    <a:lnTo>
                      <a:pt x="2850" y="11843"/>
                    </a:lnTo>
                    <a:close/>
                  </a:path>
                </a:pathLst>
              </a:custGeom>
              <a:solidFill>
                <a:srgbClr val="0c26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8480" y="104040"/>
                <a:ext cx="990720" cy="977760"/>
              </a:xfrm>
              <a:custGeom>
                <a:avLst/>
                <a:gdLst/>
                <a:ahLst/>
                <a:rect l="l" t="t" r="r" b="b"/>
                <a:pathLst>
                  <a:path w="12791" h="12791">
                    <a:moveTo>
                      <a:pt x="2815" y="11694"/>
                    </a:moveTo>
                    <a:lnTo>
                      <a:pt x="3374" y="12032"/>
                    </a:lnTo>
                    <a:lnTo>
                      <a:pt x="3955" y="12307"/>
                    </a:lnTo>
                    <a:lnTo>
                      <a:pt x="4551" y="12520"/>
                    </a:lnTo>
                    <a:lnTo>
                      <a:pt x="5158" y="12671"/>
                    </a:lnTo>
                    <a:lnTo>
                      <a:pt x="5772" y="12761"/>
                    </a:lnTo>
                    <a:lnTo>
                      <a:pt x="6388" y="12791"/>
                    </a:lnTo>
                    <a:lnTo>
                      <a:pt x="7003" y="12762"/>
                    </a:lnTo>
                    <a:lnTo>
                      <a:pt x="7610" y="12674"/>
                    </a:lnTo>
                    <a:lnTo>
                      <a:pt x="8206" y="12529"/>
                    </a:lnTo>
                    <a:lnTo>
                      <a:pt x="8787" y="12327"/>
                    </a:lnTo>
                    <a:lnTo>
                      <a:pt x="9347" y="12070"/>
                    </a:lnTo>
                    <a:lnTo>
                      <a:pt x="9884" y="11757"/>
                    </a:lnTo>
                    <a:lnTo>
                      <a:pt x="10391" y="11391"/>
                    </a:lnTo>
                    <a:lnTo>
                      <a:pt x="10864" y="10972"/>
                    </a:lnTo>
                    <a:lnTo>
                      <a:pt x="11300" y="10500"/>
                    </a:lnTo>
                    <a:lnTo>
                      <a:pt x="11694" y="9977"/>
                    </a:lnTo>
                    <a:lnTo>
                      <a:pt x="12032" y="9417"/>
                    </a:lnTo>
                    <a:lnTo>
                      <a:pt x="12308" y="8836"/>
                    </a:lnTo>
                    <a:lnTo>
                      <a:pt x="12520" y="8240"/>
                    </a:lnTo>
                    <a:lnTo>
                      <a:pt x="12671" y="7633"/>
                    </a:lnTo>
                    <a:lnTo>
                      <a:pt x="12762" y="7019"/>
                    </a:lnTo>
                    <a:lnTo>
                      <a:pt x="12791" y="6403"/>
                    </a:lnTo>
                    <a:lnTo>
                      <a:pt x="12762" y="5788"/>
                    </a:lnTo>
                    <a:lnTo>
                      <a:pt x="12674" y="5181"/>
                    </a:lnTo>
                    <a:lnTo>
                      <a:pt x="12529" y="4585"/>
                    </a:lnTo>
                    <a:lnTo>
                      <a:pt x="12328" y="4004"/>
                    </a:lnTo>
                    <a:lnTo>
                      <a:pt x="12069" y="3444"/>
                    </a:lnTo>
                    <a:lnTo>
                      <a:pt x="11758" y="2907"/>
                    </a:lnTo>
                    <a:lnTo>
                      <a:pt x="11391" y="2400"/>
                    </a:lnTo>
                    <a:lnTo>
                      <a:pt x="10971" y="1927"/>
                    </a:lnTo>
                    <a:lnTo>
                      <a:pt x="10500" y="1491"/>
                    </a:lnTo>
                    <a:lnTo>
                      <a:pt x="9977" y="1098"/>
                    </a:lnTo>
                    <a:lnTo>
                      <a:pt x="9416" y="759"/>
                    </a:lnTo>
                    <a:lnTo>
                      <a:pt x="8835" y="484"/>
                    </a:lnTo>
                    <a:lnTo>
                      <a:pt x="8240" y="271"/>
                    </a:lnTo>
                    <a:lnTo>
                      <a:pt x="7632" y="120"/>
                    </a:lnTo>
                    <a:lnTo>
                      <a:pt x="7019" y="30"/>
                    </a:lnTo>
                    <a:lnTo>
                      <a:pt x="6402" y="0"/>
                    </a:lnTo>
                    <a:lnTo>
                      <a:pt x="5789" y="29"/>
                    </a:lnTo>
                    <a:lnTo>
                      <a:pt x="5180" y="117"/>
                    </a:lnTo>
                    <a:lnTo>
                      <a:pt x="4584" y="261"/>
                    </a:lnTo>
                    <a:lnTo>
                      <a:pt x="4004" y="463"/>
                    </a:lnTo>
                    <a:lnTo>
                      <a:pt x="3443" y="721"/>
                    </a:lnTo>
                    <a:lnTo>
                      <a:pt x="2906" y="1033"/>
                    </a:lnTo>
                    <a:lnTo>
                      <a:pt x="2399" y="1400"/>
                    </a:lnTo>
                    <a:lnTo>
                      <a:pt x="1926" y="1819"/>
                    </a:lnTo>
                    <a:lnTo>
                      <a:pt x="1490" y="2291"/>
                    </a:lnTo>
                    <a:lnTo>
                      <a:pt x="1097" y="2815"/>
                    </a:lnTo>
                    <a:lnTo>
                      <a:pt x="758" y="3374"/>
                    </a:lnTo>
                    <a:lnTo>
                      <a:pt x="483" y="3954"/>
                    </a:lnTo>
                    <a:lnTo>
                      <a:pt x="270" y="4551"/>
                    </a:lnTo>
                    <a:lnTo>
                      <a:pt x="119" y="5158"/>
                    </a:lnTo>
                    <a:lnTo>
                      <a:pt x="30" y="5771"/>
                    </a:lnTo>
                    <a:lnTo>
                      <a:pt x="0" y="6388"/>
                    </a:lnTo>
                    <a:lnTo>
                      <a:pt x="29" y="7002"/>
                    </a:lnTo>
                    <a:lnTo>
                      <a:pt x="117" y="7609"/>
                    </a:lnTo>
                    <a:lnTo>
                      <a:pt x="261" y="8206"/>
                    </a:lnTo>
                    <a:lnTo>
                      <a:pt x="463" y="8786"/>
                    </a:lnTo>
                    <a:lnTo>
                      <a:pt x="721" y="9346"/>
                    </a:lnTo>
                    <a:lnTo>
                      <a:pt x="1033" y="9883"/>
                    </a:lnTo>
                    <a:lnTo>
                      <a:pt x="1400" y="10390"/>
                    </a:lnTo>
                    <a:lnTo>
                      <a:pt x="1819" y="10863"/>
                    </a:lnTo>
                    <a:lnTo>
                      <a:pt x="2291" y="11299"/>
                    </a:lnTo>
                    <a:lnTo>
                      <a:pt x="2815" y="11694"/>
                    </a:lnTo>
                    <a:close/>
                  </a:path>
                </a:pathLst>
              </a:custGeom>
              <a:solidFill>
                <a:srgbClr val="0e2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87840" y="105840"/>
                <a:ext cx="978840" cy="966960"/>
              </a:xfrm>
              <a:custGeom>
                <a:avLst/>
                <a:gdLst/>
                <a:ahLst/>
                <a:rect l="l" t="t" r="r" b="b"/>
                <a:pathLst>
                  <a:path w="12632" h="12630">
                    <a:moveTo>
                      <a:pt x="2780" y="11547"/>
                    </a:moveTo>
                    <a:lnTo>
                      <a:pt x="3333" y="11881"/>
                    </a:lnTo>
                    <a:lnTo>
                      <a:pt x="3906" y="12153"/>
                    </a:lnTo>
                    <a:lnTo>
                      <a:pt x="4495" y="12363"/>
                    </a:lnTo>
                    <a:lnTo>
                      <a:pt x="5094" y="12512"/>
                    </a:lnTo>
                    <a:lnTo>
                      <a:pt x="5700" y="12600"/>
                    </a:lnTo>
                    <a:lnTo>
                      <a:pt x="6309" y="12630"/>
                    </a:lnTo>
                    <a:lnTo>
                      <a:pt x="6916" y="12601"/>
                    </a:lnTo>
                    <a:lnTo>
                      <a:pt x="7515" y="12515"/>
                    </a:lnTo>
                    <a:lnTo>
                      <a:pt x="8104" y="12372"/>
                    </a:lnTo>
                    <a:lnTo>
                      <a:pt x="8677" y="12172"/>
                    </a:lnTo>
                    <a:lnTo>
                      <a:pt x="9231" y="11918"/>
                    </a:lnTo>
                    <a:lnTo>
                      <a:pt x="9761" y="11610"/>
                    </a:lnTo>
                    <a:lnTo>
                      <a:pt x="10261" y="11247"/>
                    </a:lnTo>
                    <a:lnTo>
                      <a:pt x="10729" y="10834"/>
                    </a:lnTo>
                    <a:lnTo>
                      <a:pt x="11160" y="10368"/>
                    </a:lnTo>
                    <a:lnTo>
                      <a:pt x="11549" y="9851"/>
                    </a:lnTo>
                    <a:lnTo>
                      <a:pt x="11882" y="9297"/>
                    </a:lnTo>
                    <a:lnTo>
                      <a:pt x="12155" y="8724"/>
                    </a:lnTo>
                    <a:lnTo>
                      <a:pt x="12364" y="8137"/>
                    </a:lnTo>
                    <a:lnTo>
                      <a:pt x="12513" y="7537"/>
                    </a:lnTo>
                    <a:lnTo>
                      <a:pt x="12602" y="6931"/>
                    </a:lnTo>
                    <a:lnTo>
                      <a:pt x="12632" y="6322"/>
                    </a:lnTo>
                    <a:lnTo>
                      <a:pt x="12602" y="5716"/>
                    </a:lnTo>
                    <a:lnTo>
                      <a:pt x="12516" y="5116"/>
                    </a:lnTo>
                    <a:lnTo>
                      <a:pt x="12373" y="4527"/>
                    </a:lnTo>
                    <a:lnTo>
                      <a:pt x="12174" y="3954"/>
                    </a:lnTo>
                    <a:lnTo>
                      <a:pt x="11919" y="3401"/>
                    </a:lnTo>
                    <a:lnTo>
                      <a:pt x="11610" y="2871"/>
                    </a:lnTo>
                    <a:lnTo>
                      <a:pt x="11249" y="2370"/>
                    </a:lnTo>
                    <a:lnTo>
                      <a:pt x="10834" y="1903"/>
                    </a:lnTo>
                    <a:lnTo>
                      <a:pt x="10369" y="1472"/>
                    </a:lnTo>
                    <a:lnTo>
                      <a:pt x="9853" y="1084"/>
                    </a:lnTo>
                    <a:lnTo>
                      <a:pt x="9299" y="749"/>
                    </a:lnTo>
                    <a:lnTo>
                      <a:pt x="8726" y="477"/>
                    </a:lnTo>
                    <a:lnTo>
                      <a:pt x="8138" y="267"/>
                    </a:lnTo>
                    <a:lnTo>
                      <a:pt x="7539" y="118"/>
                    </a:lnTo>
                    <a:lnTo>
                      <a:pt x="6932" y="28"/>
                    </a:lnTo>
                    <a:lnTo>
                      <a:pt x="6323" y="0"/>
                    </a:lnTo>
                    <a:lnTo>
                      <a:pt x="5717" y="28"/>
                    </a:lnTo>
                    <a:lnTo>
                      <a:pt x="5118" y="115"/>
                    </a:lnTo>
                    <a:lnTo>
                      <a:pt x="4529" y="258"/>
                    </a:lnTo>
                    <a:lnTo>
                      <a:pt x="3955" y="457"/>
                    </a:lnTo>
                    <a:lnTo>
                      <a:pt x="3401" y="712"/>
                    </a:lnTo>
                    <a:lnTo>
                      <a:pt x="2872" y="1020"/>
                    </a:lnTo>
                    <a:lnTo>
                      <a:pt x="2371" y="1382"/>
                    </a:lnTo>
                    <a:lnTo>
                      <a:pt x="1903" y="1796"/>
                    </a:lnTo>
                    <a:lnTo>
                      <a:pt x="1472" y="2262"/>
                    </a:lnTo>
                    <a:lnTo>
                      <a:pt x="1084" y="2780"/>
                    </a:lnTo>
                    <a:lnTo>
                      <a:pt x="750" y="3332"/>
                    </a:lnTo>
                    <a:lnTo>
                      <a:pt x="477" y="3905"/>
                    </a:lnTo>
                    <a:lnTo>
                      <a:pt x="268" y="4494"/>
                    </a:lnTo>
                    <a:lnTo>
                      <a:pt x="119" y="5094"/>
                    </a:lnTo>
                    <a:lnTo>
                      <a:pt x="30" y="5700"/>
                    </a:lnTo>
                    <a:lnTo>
                      <a:pt x="0" y="6308"/>
                    </a:lnTo>
                    <a:lnTo>
                      <a:pt x="29" y="6915"/>
                    </a:lnTo>
                    <a:lnTo>
                      <a:pt x="116" y="7515"/>
                    </a:lnTo>
                    <a:lnTo>
                      <a:pt x="259" y="8104"/>
                    </a:lnTo>
                    <a:lnTo>
                      <a:pt x="458" y="8677"/>
                    </a:lnTo>
                    <a:lnTo>
                      <a:pt x="712" y="9230"/>
                    </a:lnTo>
                    <a:lnTo>
                      <a:pt x="1021" y="9760"/>
                    </a:lnTo>
                    <a:lnTo>
                      <a:pt x="1383" y="10261"/>
                    </a:lnTo>
                    <a:lnTo>
                      <a:pt x="1797" y="10727"/>
                    </a:lnTo>
                    <a:lnTo>
                      <a:pt x="2262" y="11158"/>
                    </a:lnTo>
                    <a:lnTo>
                      <a:pt x="2780" y="11547"/>
                    </a:lnTo>
                    <a:close/>
                  </a:path>
                </a:pathLst>
              </a:custGeom>
              <a:solidFill>
                <a:srgbClr val="0f2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97920" y="108360"/>
                <a:ext cx="965880" cy="954000"/>
              </a:xfrm>
              <a:custGeom>
                <a:avLst/>
                <a:gdLst/>
                <a:ahLst/>
                <a:rect l="l" t="t" r="r" b="b"/>
                <a:pathLst>
                  <a:path w="12472" h="12470">
                    <a:moveTo>
                      <a:pt x="2744" y="11401"/>
                    </a:moveTo>
                    <a:lnTo>
                      <a:pt x="3290" y="11731"/>
                    </a:lnTo>
                    <a:lnTo>
                      <a:pt x="3856" y="11999"/>
                    </a:lnTo>
                    <a:lnTo>
                      <a:pt x="4437" y="12206"/>
                    </a:lnTo>
                    <a:lnTo>
                      <a:pt x="5029" y="12354"/>
                    </a:lnTo>
                    <a:lnTo>
                      <a:pt x="5627" y="12441"/>
                    </a:lnTo>
                    <a:lnTo>
                      <a:pt x="6228" y="12470"/>
                    </a:lnTo>
                    <a:lnTo>
                      <a:pt x="6828" y="12441"/>
                    </a:lnTo>
                    <a:lnTo>
                      <a:pt x="7420" y="12356"/>
                    </a:lnTo>
                    <a:lnTo>
                      <a:pt x="8000" y="12214"/>
                    </a:lnTo>
                    <a:lnTo>
                      <a:pt x="8567" y="12018"/>
                    </a:lnTo>
                    <a:lnTo>
                      <a:pt x="9113" y="11767"/>
                    </a:lnTo>
                    <a:lnTo>
                      <a:pt x="9636" y="11462"/>
                    </a:lnTo>
                    <a:lnTo>
                      <a:pt x="10131" y="11106"/>
                    </a:lnTo>
                    <a:lnTo>
                      <a:pt x="10592" y="10696"/>
                    </a:lnTo>
                    <a:lnTo>
                      <a:pt x="11017" y="10236"/>
                    </a:lnTo>
                    <a:lnTo>
                      <a:pt x="11401" y="9727"/>
                    </a:lnTo>
                    <a:lnTo>
                      <a:pt x="11731" y="9180"/>
                    </a:lnTo>
                    <a:lnTo>
                      <a:pt x="12000" y="8614"/>
                    </a:lnTo>
                    <a:lnTo>
                      <a:pt x="12207" y="8033"/>
                    </a:lnTo>
                    <a:lnTo>
                      <a:pt x="12355" y="7441"/>
                    </a:lnTo>
                    <a:lnTo>
                      <a:pt x="12442" y="6843"/>
                    </a:lnTo>
                    <a:lnTo>
                      <a:pt x="12472" y="6242"/>
                    </a:lnTo>
                    <a:lnTo>
                      <a:pt x="12443" y="5644"/>
                    </a:lnTo>
                    <a:lnTo>
                      <a:pt x="12357" y="5051"/>
                    </a:lnTo>
                    <a:lnTo>
                      <a:pt x="12215" y="4470"/>
                    </a:lnTo>
                    <a:lnTo>
                      <a:pt x="12019" y="3903"/>
                    </a:lnTo>
                    <a:lnTo>
                      <a:pt x="11768" y="3357"/>
                    </a:lnTo>
                    <a:lnTo>
                      <a:pt x="11464" y="2835"/>
                    </a:lnTo>
                    <a:lnTo>
                      <a:pt x="11107" y="2341"/>
                    </a:lnTo>
                    <a:lnTo>
                      <a:pt x="10697" y="1878"/>
                    </a:lnTo>
                    <a:lnTo>
                      <a:pt x="10237" y="1453"/>
                    </a:lnTo>
                    <a:lnTo>
                      <a:pt x="9728" y="1070"/>
                    </a:lnTo>
                    <a:lnTo>
                      <a:pt x="9181" y="740"/>
                    </a:lnTo>
                    <a:lnTo>
                      <a:pt x="8615" y="471"/>
                    </a:lnTo>
                    <a:lnTo>
                      <a:pt x="8034" y="263"/>
                    </a:lnTo>
                    <a:lnTo>
                      <a:pt x="7442" y="117"/>
                    </a:lnTo>
                    <a:lnTo>
                      <a:pt x="6844" y="28"/>
                    </a:lnTo>
                    <a:lnTo>
                      <a:pt x="6243" y="0"/>
                    </a:lnTo>
                    <a:lnTo>
                      <a:pt x="5644" y="28"/>
                    </a:lnTo>
                    <a:lnTo>
                      <a:pt x="5052" y="113"/>
                    </a:lnTo>
                    <a:lnTo>
                      <a:pt x="4471" y="255"/>
                    </a:lnTo>
                    <a:lnTo>
                      <a:pt x="3904" y="451"/>
                    </a:lnTo>
                    <a:lnTo>
                      <a:pt x="3358" y="703"/>
                    </a:lnTo>
                    <a:lnTo>
                      <a:pt x="2836" y="1007"/>
                    </a:lnTo>
                    <a:lnTo>
                      <a:pt x="2341" y="1365"/>
                    </a:lnTo>
                    <a:lnTo>
                      <a:pt x="1879" y="1774"/>
                    </a:lnTo>
                    <a:lnTo>
                      <a:pt x="1454" y="2234"/>
                    </a:lnTo>
                    <a:lnTo>
                      <a:pt x="1071" y="2745"/>
                    </a:lnTo>
                    <a:lnTo>
                      <a:pt x="740" y="3290"/>
                    </a:lnTo>
                    <a:lnTo>
                      <a:pt x="471" y="3855"/>
                    </a:lnTo>
                    <a:lnTo>
                      <a:pt x="264" y="4437"/>
                    </a:lnTo>
                    <a:lnTo>
                      <a:pt x="117" y="5029"/>
                    </a:lnTo>
                    <a:lnTo>
                      <a:pt x="29" y="5628"/>
                    </a:lnTo>
                    <a:lnTo>
                      <a:pt x="0" y="6228"/>
                    </a:lnTo>
                    <a:lnTo>
                      <a:pt x="29" y="6827"/>
                    </a:lnTo>
                    <a:lnTo>
                      <a:pt x="114" y="7419"/>
                    </a:lnTo>
                    <a:lnTo>
                      <a:pt x="255" y="8000"/>
                    </a:lnTo>
                    <a:lnTo>
                      <a:pt x="452" y="8566"/>
                    </a:lnTo>
                    <a:lnTo>
                      <a:pt x="703" y="9112"/>
                    </a:lnTo>
                    <a:lnTo>
                      <a:pt x="1008" y="9635"/>
                    </a:lnTo>
                    <a:lnTo>
                      <a:pt x="1364" y="10130"/>
                    </a:lnTo>
                    <a:lnTo>
                      <a:pt x="1774" y="10592"/>
                    </a:lnTo>
                    <a:lnTo>
                      <a:pt x="2234" y="11017"/>
                    </a:lnTo>
                    <a:lnTo>
                      <a:pt x="2744" y="11401"/>
                    </a:lnTo>
                    <a:close/>
                  </a:path>
                </a:pathLst>
              </a:custGeom>
              <a:solidFill>
                <a:srgbClr val="112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07280" y="111240"/>
                <a:ext cx="952560" cy="941400"/>
              </a:xfrm>
              <a:custGeom>
                <a:avLst/>
                <a:gdLst/>
                <a:ahLst/>
                <a:rect l="l" t="t" r="r" b="b"/>
                <a:pathLst>
                  <a:path w="12310" h="12310">
                    <a:moveTo>
                      <a:pt x="2709" y="11254"/>
                    </a:moveTo>
                    <a:lnTo>
                      <a:pt x="3248" y="11580"/>
                    </a:lnTo>
                    <a:lnTo>
                      <a:pt x="3806" y="11844"/>
                    </a:lnTo>
                    <a:lnTo>
                      <a:pt x="4380" y="12050"/>
                    </a:lnTo>
                    <a:lnTo>
                      <a:pt x="4964" y="12194"/>
                    </a:lnTo>
                    <a:lnTo>
                      <a:pt x="5555" y="12281"/>
                    </a:lnTo>
                    <a:lnTo>
                      <a:pt x="6148" y="12310"/>
                    </a:lnTo>
                    <a:lnTo>
                      <a:pt x="6740" y="12281"/>
                    </a:lnTo>
                    <a:lnTo>
                      <a:pt x="7324" y="12197"/>
                    </a:lnTo>
                    <a:lnTo>
                      <a:pt x="7897" y="12057"/>
                    </a:lnTo>
                    <a:lnTo>
                      <a:pt x="8456" y="11863"/>
                    </a:lnTo>
                    <a:lnTo>
                      <a:pt x="8997" y="11616"/>
                    </a:lnTo>
                    <a:lnTo>
                      <a:pt x="9512" y="11315"/>
                    </a:lnTo>
                    <a:lnTo>
                      <a:pt x="10000" y="10962"/>
                    </a:lnTo>
                    <a:lnTo>
                      <a:pt x="10456" y="10558"/>
                    </a:lnTo>
                    <a:lnTo>
                      <a:pt x="10875" y="10104"/>
                    </a:lnTo>
                    <a:lnTo>
                      <a:pt x="11255" y="9601"/>
                    </a:lnTo>
                    <a:lnTo>
                      <a:pt x="11580" y="9061"/>
                    </a:lnTo>
                    <a:lnTo>
                      <a:pt x="11845" y="8503"/>
                    </a:lnTo>
                    <a:lnTo>
                      <a:pt x="12050" y="7929"/>
                    </a:lnTo>
                    <a:lnTo>
                      <a:pt x="12194" y="7345"/>
                    </a:lnTo>
                    <a:lnTo>
                      <a:pt x="12282" y="6754"/>
                    </a:lnTo>
                    <a:lnTo>
                      <a:pt x="12310" y="6161"/>
                    </a:lnTo>
                    <a:lnTo>
                      <a:pt x="12282" y="5570"/>
                    </a:lnTo>
                    <a:lnTo>
                      <a:pt x="12198" y="4985"/>
                    </a:lnTo>
                    <a:lnTo>
                      <a:pt x="12057" y="4412"/>
                    </a:lnTo>
                    <a:lnTo>
                      <a:pt x="11864" y="3853"/>
                    </a:lnTo>
                    <a:lnTo>
                      <a:pt x="11616" y="3313"/>
                    </a:lnTo>
                    <a:lnTo>
                      <a:pt x="11315" y="2798"/>
                    </a:lnTo>
                    <a:lnTo>
                      <a:pt x="10962" y="2310"/>
                    </a:lnTo>
                    <a:lnTo>
                      <a:pt x="10558" y="1854"/>
                    </a:lnTo>
                    <a:lnTo>
                      <a:pt x="10104" y="1435"/>
                    </a:lnTo>
                    <a:lnTo>
                      <a:pt x="9601" y="1056"/>
                    </a:lnTo>
                    <a:lnTo>
                      <a:pt x="9062" y="730"/>
                    </a:lnTo>
                    <a:lnTo>
                      <a:pt x="8503" y="464"/>
                    </a:lnTo>
                    <a:lnTo>
                      <a:pt x="7930" y="260"/>
                    </a:lnTo>
                    <a:lnTo>
                      <a:pt x="7346" y="114"/>
                    </a:lnTo>
                    <a:lnTo>
                      <a:pt x="6755" y="28"/>
                    </a:lnTo>
                    <a:lnTo>
                      <a:pt x="6162" y="0"/>
                    </a:lnTo>
                    <a:lnTo>
                      <a:pt x="5571" y="28"/>
                    </a:lnTo>
                    <a:lnTo>
                      <a:pt x="4988" y="112"/>
                    </a:lnTo>
                    <a:lnTo>
                      <a:pt x="4413" y="251"/>
                    </a:lnTo>
                    <a:lnTo>
                      <a:pt x="3855" y="446"/>
                    </a:lnTo>
                    <a:lnTo>
                      <a:pt x="3315" y="694"/>
                    </a:lnTo>
                    <a:lnTo>
                      <a:pt x="2800" y="995"/>
                    </a:lnTo>
                    <a:lnTo>
                      <a:pt x="2312" y="1348"/>
                    </a:lnTo>
                    <a:lnTo>
                      <a:pt x="1856" y="1751"/>
                    </a:lnTo>
                    <a:lnTo>
                      <a:pt x="1437" y="2205"/>
                    </a:lnTo>
                    <a:lnTo>
                      <a:pt x="1058" y="2709"/>
                    </a:lnTo>
                    <a:lnTo>
                      <a:pt x="732" y="3248"/>
                    </a:lnTo>
                    <a:lnTo>
                      <a:pt x="466" y="3806"/>
                    </a:lnTo>
                    <a:lnTo>
                      <a:pt x="261" y="4379"/>
                    </a:lnTo>
                    <a:lnTo>
                      <a:pt x="116" y="4964"/>
                    </a:lnTo>
                    <a:lnTo>
                      <a:pt x="29" y="5555"/>
                    </a:lnTo>
                    <a:lnTo>
                      <a:pt x="0" y="6148"/>
                    </a:lnTo>
                    <a:lnTo>
                      <a:pt x="29" y="6738"/>
                    </a:lnTo>
                    <a:lnTo>
                      <a:pt x="113" y="7323"/>
                    </a:lnTo>
                    <a:lnTo>
                      <a:pt x="252" y="7897"/>
                    </a:lnTo>
                    <a:lnTo>
                      <a:pt x="447" y="8456"/>
                    </a:lnTo>
                    <a:lnTo>
                      <a:pt x="695" y="8995"/>
                    </a:lnTo>
                    <a:lnTo>
                      <a:pt x="996" y="9512"/>
                    </a:lnTo>
                    <a:lnTo>
                      <a:pt x="1347" y="10000"/>
                    </a:lnTo>
                    <a:lnTo>
                      <a:pt x="1751" y="10456"/>
                    </a:lnTo>
                    <a:lnTo>
                      <a:pt x="2205" y="10875"/>
                    </a:lnTo>
                    <a:lnTo>
                      <a:pt x="2709" y="11254"/>
                    </a:lnTo>
                    <a:close/>
                  </a:path>
                </a:pathLst>
              </a:custGeom>
              <a:solidFill>
                <a:srgbClr val="132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16640" y="113040"/>
                <a:ext cx="940680" cy="930240"/>
              </a:xfrm>
              <a:custGeom>
                <a:avLst/>
                <a:gdLst/>
                <a:ahLst/>
                <a:rect l="l" t="t" r="r" b="b"/>
                <a:pathLst>
                  <a:path w="12148" h="12149">
                    <a:moveTo>
                      <a:pt x="2673" y="11109"/>
                    </a:moveTo>
                    <a:lnTo>
                      <a:pt x="3205" y="11430"/>
                    </a:lnTo>
                    <a:lnTo>
                      <a:pt x="3756" y="11691"/>
                    </a:lnTo>
                    <a:lnTo>
                      <a:pt x="4322" y="11893"/>
                    </a:lnTo>
                    <a:lnTo>
                      <a:pt x="4898" y="12036"/>
                    </a:lnTo>
                    <a:lnTo>
                      <a:pt x="5482" y="12122"/>
                    </a:lnTo>
                    <a:lnTo>
                      <a:pt x="6067" y="12149"/>
                    </a:lnTo>
                    <a:lnTo>
                      <a:pt x="6650" y="12122"/>
                    </a:lnTo>
                    <a:lnTo>
                      <a:pt x="7228" y="12039"/>
                    </a:lnTo>
                    <a:lnTo>
                      <a:pt x="7793" y="11901"/>
                    </a:lnTo>
                    <a:lnTo>
                      <a:pt x="8345" y="11709"/>
                    </a:lnTo>
                    <a:lnTo>
                      <a:pt x="8878" y="11465"/>
                    </a:lnTo>
                    <a:lnTo>
                      <a:pt x="9387" y="11168"/>
                    </a:lnTo>
                    <a:lnTo>
                      <a:pt x="9869" y="10820"/>
                    </a:lnTo>
                    <a:lnTo>
                      <a:pt x="10319" y="10422"/>
                    </a:lnTo>
                    <a:lnTo>
                      <a:pt x="10733" y="9974"/>
                    </a:lnTo>
                    <a:lnTo>
                      <a:pt x="11107" y="9478"/>
                    </a:lnTo>
                    <a:lnTo>
                      <a:pt x="11428" y="8945"/>
                    </a:lnTo>
                    <a:lnTo>
                      <a:pt x="11690" y="8393"/>
                    </a:lnTo>
                    <a:lnTo>
                      <a:pt x="11892" y="7828"/>
                    </a:lnTo>
                    <a:lnTo>
                      <a:pt x="12034" y="7251"/>
                    </a:lnTo>
                    <a:lnTo>
                      <a:pt x="12120" y="6667"/>
                    </a:lnTo>
                    <a:lnTo>
                      <a:pt x="12148" y="6082"/>
                    </a:lnTo>
                    <a:lnTo>
                      <a:pt x="12120" y="5499"/>
                    </a:lnTo>
                    <a:lnTo>
                      <a:pt x="12037" y="4922"/>
                    </a:lnTo>
                    <a:lnTo>
                      <a:pt x="11899" y="4356"/>
                    </a:lnTo>
                    <a:lnTo>
                      <a:pt x="11708" y="3804"/>
                    </a:lnTo>
                    <a:lnTo>
                      <a:pt x="11463" y="3272"/>
                    </a:lnTo>
                    <a:lnTo>
                      <a:pt x="11167" y="2762"/>
                    </a:lnTo>
                    <a:lnTo>
                      <a:pt x="10819" y="2281"/>
                    </a:lnTo>
                    <a:lnTo>
                      <a:pt x="10420" y="1830"/>
                    </a:lnTo>
                    <a:lnTo>
                      <a:pt x="9972" y="1416"/>
                    </a:lnTo>
                    <a:lnTo>
                      <a:pt x="9475" y="1043"/>
                    </a:lnTo>
                    <a:lnTo>
                      <a:pt x="8943" y="721"/>
                    </a:lnTo>
                    <a:lnTo>
                      <a:pt x="8392" y="460"/>
                    </a:lnTo>
                    <a:lnTo>
                      <a:pt x="7826" y="258"/>
                    </a:lnTo>
                    <a:lnTo>
                      <a:pt x="7249" y="114"/>
                    </a:lnTo>
                    <a:lnTo>
                      <a:pt x="6666" y="29"/>
                    </a:lnTo>
                    <a:lnTo>
                      <a:pt x="6081" y="0"/>
                    </a:lnTo>
                    <a:lnTo>
                      <a:pt x="5498" y="28"/>
                    </a:lnTo>
                    <a:lnTo>
                      <a:pt x="4921" y="112"/>
                    </a:lnTo>
                    <a:lnTo>
                      <a:pt x="4355" y="249"/>
                    </a:lnTo>
                    <a:lnTo>
                      <a:pt x="3803" y="442"/>
                    </a:lnTo>
                    <a:lnTo>
                      <a:pt x="3271" y="686"/>
                    </a:lnTo>
                    <a:lnTo>
                      <a:pt x="2762" y="983"/>
                    </a:lnTo>
                    <a:lnTo>
                      <a:pt x="2280" y="1330"/>
                    </a:lnTo>
                    <a:lnTo>
                      <a:pt x="1829" y="1729"/>
                    </a:lnTo>
                    <a:lnTo>
                      <a:pt x="1416" y="2178"/>
                    </a:lnTo>
                    <a:lnTo>
                      <a:pt x="1043" y="2675"/>
                    </a:lnTo>
                    <a:lnTo>
                      <a:pt x="720" y="3207"/>
                    </a:lnTo>
                    <a:lnTo>
                      <a:pt x="459" y="3757"/>
                    </a:lnTo>
                    <a:lnTo>
                      <a:pt x="257" y="4324"/>
                    </a:lnTo>
                    <a:lnTo>
                      <a:pt x="113" y="4900"/>
                    </a:lnTo>
                    <a:lnTo>
                      <a:pt x="28" y="5484"/>
                    </a:lnTo>
                    <a:lnTo>
                      <a:pt x="0" y="6068"/>
                    </a:lnTo>
                    <a:lnTo>
                      <a:pt x="27" y="6652"/>
                    </a:lnTo>
                    <a:lnTo>
                      <a:pt x="111" y="7228"/>
                    </a:lnTo>
                    <a:lnTo>
                      <a:pt x="248" y="7795"/>
                    </a:lnTo>
                    <a:lnTo>
                      <a:pt x="440" y="8347"/>
                    </a:lnTo>
                    <a:lnTo>
                      <a:pt x="685" y="8879"/>
                    </a:lnTo>
                    <a:lnTo>
                      <a:pt x="982" y="9388"/>
                    </a:lnTo>
                    <a:lnTo>
                      <a:pt x="1330" y="9870"/>
                    </a:lnTo>
                    <a:lnTo>
                      <a:pt x="1728" y="10320"/>
                    </a:lnTo>
                    <a:lnTo>
                      <a:pt x="2176" y="10734"/>
                    </a:lnTo>
                    <a:lnTo>
                      <a:pt x="2673" y="11109"/>
                    </a:lnTo>
                    <a:close/>
                  </a:path>
                </a:pathLst>
              </a:custGeom>
              <a:solidFill>
                <a:srgbClr val="152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26000" y="115920"/>
                <a:ext cx="928440" cy="917640"/>
              </a:xfrm>
              <a:custGeom>
                <a:avLst/>
                <a:gdLst/>
                <a:ahLst/>
                <a:rect l="l" t="t" r="r" b="b"/>
                <a:pathLst>
                  <a:path w="11988" h="11989">
                    <a:moveTo>
                      <a:pt x="2638" y="10961"/>
                    </a:moveTo>
                    <a:lnTo>
                      <a:pt x="3163" y="11277"/>
                    </a:lnTo>
                    <a:lnTo>
                      <a:pt x="3707" y="11536"/>
                    </a:lnTo>
                    <a:lnTo>
                      <a:pt x="4265" y="11735"/>
                    </a:lnTo>
                    <a:lnTo>
                      <a:pt x="4834" y="11877"/>
                    </a:lnTo>
                    <a:lnTo>
                      <a:pt x="5410" y="11961"/>
                    </a:lnTo>
                    <a:lnTo>
                      <a:pt x="5987" y="11989"/>
                    </a:lnTo>
                    <a:lnTo>
                      <a:pt x="6562" y="11961"/>
                    </a:lnTo>
                    <a:lnTo>
                      <a:pt x="7132" y="11879"/>
                    </a:lnTo>
                    <a:lnTo>
                      <a:pt x="7690" y="11743"/>
                    </a:lnTo>
                    <a:lnTo>
                      <a:pt x="8235" y="11554"/>
                    </a:lnTo>
                    <a:lnTo>
                      <a:pt x="8760" y="11313"/>
                    </a:lnTo>
                    <a:lnTo>
                      <a:pt x="9263" y="11020"/>
                    </a:lnTo>
                    <a:lnTo>
                      <a:pt x="9738" y="10677"/>
                    </a:lnTo>
                    <a:lnTo>
                      <a:pt x="10182" y="10283"/>
                    </a:lnTo>
                    <a:lnTo>
                      <a:pt x="10591" y="9842"/>
                    </a:lnTo>
                    <a:lnTo>
                      <a:pt x="10959" y="9352"/>
                    </a:lnTo>
                    <a:lnTo>
                      <a:pt x="11276" y="8827"/>
                    </a:lnTo>
                    <a:lnTo>
                      <a:pt x="11535" y="8283"/>
                    </a:lnTo>
                    <a:lnTo>
                      <a:pt x="11733" y="7724"/>
                    </a:lnTo>
                    <a:lnTo>
                      <a:pt x="11876" y="7155"/>
                    </a:lnTo>
                    <a:lnTo>
                      <a:pt x="11960" y="6580"/>
                    </a:lnTo>
                    <a:lnTo>
                      <a:pt x="11988" y="6001"/>
                    </a:lnTo>
                    <a:lnTo>
                      <a:pt x="11960" y="5426"/>
                    </a:lnTo>
                    <a:lnTo>
                      <a:pt x="11878" y="4858"/>
                    </a:lnTo>
                    <a:lnTo>
                      <a:pt x="11742" y="4298"/>
                    </a:lnTo>
                    <a:lnTo>
                      <a:pt x="11553" y="3754"/>
                    </a:lnTo>
                    <a:lnTo>
                      <a:pt x="11311" y="3229"/>
                    </a:lnTo>
                    <a:lnTo>
                      <a:pt x="11019" y="2726"/>
                    </a:lnTo>
                    <a:lnTo>
                      <a:pt x="10676" y="2251"/>
                    </a:lnTo>
                    <a:lnTo>
                      <a:pt x="10282" y="1806"/>
                    </a:lnTo>
                    <a:lnTo>
                      <a:pt x="9840" y="1398"/>
                    </a:lnTo>
                    <a:lnTo>
                      <a:pt x="9350" y="1030"/>
                    </a:lnTo>
                    <a:lnTo>
                      <a:pt x="8825" y="713"/>
                    </a:lnTo>
                    <a:lnTo>
                      <a:pt x="8281" y="454"/>
                    </a:lnTo>
                    <a:lnTo>
                      <a:pt x="7722" y="254"/>
                    </a:lnTo>
                    <a:lnTo>
                      <a:pt x="7154" y="113"/>
                    </a:lnTo>
                    <a:lnTo>
                      <a:pt x="6578" y="29"/>
                    </a:lnTo>
                    <a:lnTo>
                      <a:pt x="6001" y="0"/>
                    </a:lnTo>
                    <a:lnTo>
                      <a:pt x="5425" y="28"/>
                    </a:lnTo>
                    <a:lnTo>
                      <a:pt x="4856" y="111"/>
                    </a:lnTo>
                    <a:lnTo>
                      <a:pt x="4297" y="246"/>
                    </a:lnTo>
                    <a:lnTo>
                      <a:pt x="3753" y="435"/>
                    </a:lnTo>
                    <a:lnTo>
                      <a:pt x="3227" y="676"/>
                    </a:lnTo>
                    <a:lnTo>
                      <a:pt x="2725" y="970"/>
                    </a:lnTo>
                    <a:lnTo>
                      <a:pt x="2249" y="1313"/>
                    </a:lnTo>
                    <a:lnTo>
                      <a:pt x="1806" y="1705"/>
                    </a:lnTo>
                    <a:lnTo>
                      <a:pt x="1397" y="2148"/>
                    </a:lnTo>
                    <a:lnTo>
                      <a:pt x="1029" y="2639"/>
                    </a:lnTo>
                    <a:lnTo>
                      <a:pt x="711" y="3163"/>
                    </a:lnTo>
                    <a:lnTo>
                      <a:pt x="453" y="3707"/>
                    </a:lnTo>
                    <a:lnTo>
                      <a:pt x="254" y="4265"/>
                    </a:lnTo>
                    <a:lnTo>
                      <a:pt x="113" y="4835"/>
                    </a:lnTo>
                    <a:lnTo>
                      <a:pt x="29" y="5410"/>
                    </a:lnTo>
                    <a:lnTo>
                      <a:pt x="0" y="5988"/>
                    </a:lnTo>
                    <a:lnTo>
                      <a:pt x="27" y="6563"/>
                    </a:lnTo>
                    <a:lnTo>
                      <a:pt x="109" y="7132"/>
                    </a:lnTo>
                    <a:lnTo>
                      <a:pt x="245" y="7692"/>
                    </a:lnTo>
                    <a:lnTo>
                      <a:pt x="435" y="8236"/>
                    </a:lnTo>
                    <a:lnTo>
                      <a:pt x="676" y="8761"/>
                    </a:lnTo>
                    <a:lnTo>
                      <a:pt x="968" y="9264"/>
                    </a:lnTo>
                    <a:lnTo>
                      <a:pt x="1312" y="9739"/>
                    </a:lnTo>
                    <a:lnTo>
                      <a:pt x="1705" y="10182"/>
                    </a:lnTo>
                    <a:lnTo>
                      <a:pt x="2147" y="10592"/>
                    </a:lnTo>
                    <a:lnTo>
                      <a:pt x="2638" y="10961"/>
                    </a:lnTo>
                    <a:close/>
                  </a:path>
                </a:pathLst>
              </a:custGeom>
              <a:solidFill>
                <a:srgbClr val="173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35360" y="118800"/>
                <a:ext cx="916560" cy="904320"/>
              </a:xfrm>
              <a:custGeom>
                <a:avLst/>
                <a:gdLst/>
                <a:ahLst/>
                <a:rect l="l" t="t" r="r" b="b"/>
                <a:pathLst>
                  <a:path w="11827" h="11827">
                    <a:moveTo>
                      <a:pt x="2603" y="10813"/>
                    </a:moveTo>
                    <a:lnTo>
                      <a:pt x="3120" y="11125"/>
                    </a:lnTo>
                    <a:lnTo>
                      <a:pt x="3657" y="11381"/>
                    </a:lnTo>
                    <a:lnTo>
                      <a:pt x="4208" y="11577"/>
                    </a:lnTo>
                    <a:lnTo>
                      <a:pt x="4769" y="11716"/>
                    </a:lnTo>
                    <a:lnTo>
                      <a:pt x="5337" y="11799"/>
                    </a:lnTo>
                    <a:lnTo>
                      <a:pt x="5907" y="11827"/>
                    </a:lnTo>
                    <a:lnTo>
                      <a:pt x="6474" y="11799"/>
                    </a:lnTo>
                    <a:lnTo>
                      <a:pt x="7037" y="11719"/>
                    </a:lnTo>
                    <a:lnTo>
                      <a:pt x="7587" y="11585"/>
                    </a:lnTo>
                    <a:lnTo>
                      <a:pt x="8124" y="11399"/>
                    </a:lnTo>
                    <a:lnTo>
                      <a:pt x="8643" y="11160"/>
                    </a:lnTo>
                    <a:lnTo>
                      <a:pt x="9139" y="10871"/>
                    </a:lnTo>
                    <a:lnTo>
                      <a:pt x="9607" y="10532"/>
                    </a:lnTo>
                    <a:lnTo>
                      <a:pt x="10045" y="10144"/>
                    </a:lnTo>
                    <a:lnTo>
                      <a:pt x="10448" y="9708"/>
                    </a:lnTo>
                    <a:lnTo>
                      <a:pt x="10813" y="9225"/>
                    </a:lnTo>
                    <a:lnTo>
                      <a:pt x="11126" y="8706"/>
                    </a:lnTo>
                    <a:lnTo>
                      <a:pt x="11381" y="8170"/>
                    </a:lnTo>
                    <a:lnTo>
                      <a:pt x="11577" y="7619"/>
                    </a:lnTo>
                    <a:lnTo>
                      <a:pt x="11717" y="7058"/>
                    </a:lnTo>
                    <a:lnTo>
                      <a:pt x="11800" y="6490"/>
                    </a:lnTo>
                    <a:lnTo>
                      <a:pt x="11827" y="5921"/>
                    </a:lnTo>
                    <a:lnTo>
                      <a:pt x="11800" y="5353"/>
                    </a:lnTo>
                    <a:lnTo>
                      <a:pt x="11719" y="4792"/>
                    </a:lnTo>
                    <a:lnTo>
                      <a:pt x="11585" y="4240"/>
                    </a:lnTo>
                    <a:lnTo>
                      <a:pt x="11399" y="3703"/>
                    </a:lnTo>
                    <a:lnTo>
                      <a:pt x="11161" y="3184"/>
                    </a:lnTo>
                    <a:lnTo>
                      <a:pt x="10871" y="2689"/>
                    </a:lnTo>
                    <a:lnTo>
                      <a:pt x="10532" y="2220"/>
                    </a:lnTo>
                    <a:lnTo>
                      <a:pt x="10144" y="1782"/>
                    </a:lnTo>
                    <a:lnTo>
                      <a:pt x="9708" y="1379"/>
                    </a:lnTo>
                    <a:lnTo>
                      <a:pt x="9225" y="1016"/>
                    </a:lnTo>
                    <a:lnTo>
                      <a:pt x="8706" y="702"/>
                    </a:lnTo>
                    <a:lnTo>
                      <a:pt x="8170" y="447"/>
                    </a:lnTo>
                    <a:lnTo>
                      <a:pt x="7619" y="250"/>
                    </a:lnTo>
                    <a:lnTo>
                      <a:pt x="7058" y="111"/>
                    </a:lnTo>
                    <a:lnTo>
                      <a:pt x="6490" y="28"/>
                    </a:lnTo>
                    <a:lnTo>
                      <a:pt x="5921" y="0"/>
                    </a:lnTo>
                    <a:lnTo>
                      <a:pt x="5353" y="27"/>
                    </a:lnTo>
                    <a:lnTo>
                      <a:pt x="4791" y="108"/>
                    </a:lnTo>
                    <a:lnTo>
                      <a:pt x="4240" y="242"/>
                    </a:lnTo>
                    <a:lnTo>
                      <a:pt x="3703" y="429"/>
                    </a:lnTo>
                    <a:lnTo>
                      <a:pt x="3184" y="667"/>
                    </a:lnTo>
                    <a:lnTo>
                      <a:pt x="2689" y="956"/>
                    </a:lnTo>
                    <a:lnTo>
                      <a:pt x="2220" y="1294"/>
                    </a:lnTo>
                    <a:lnTo>
                      <a:pt x="1782" y="1682"/>
                    </a:lnTo>
                    <a:lnTo>
                      <a:pt x="1379" y="2118"/>
                    </a:lnTo>
                    <a:lnTo>
                      <a:pt x="1015" y="2603"/>
                    </a:lnTo>
                    <a:lnTo>
                      <a:pt x="702" y="3120"/>
                    </a:lnTo>
                    <a:lnTo>
                      <a:pt x="447" y="3656"/>
                    </a:lnTo>
                    <a:lnTo>
                      <a:pt x="250" y="4208"/>
                    </a:lnTo>
                    <a:lnTo>
                      <a:pt x="111" y="4769"/>
                    </a:lnTo>
                    <a:lnTo>
                      <a:pt x="28" y="5337"/>
                    </a:lnTo>
                    <a:lnTo>
                      <a:pt x="0" y="5907"/>
                    </a:lnTo>
                    <a:lnTo>
                      <a:pt x="27" y="6474"/>
                    </a:lnTo>
                    <a:lnTo>
                      <a:pt x="108" y="7036"/>
                    </a:lnTo>
                    <a:lnTo>
                      <a:pt x="242" y="7587"/>
                    </a:lnTo>
                    <a:lnTo>
                      <a:pt x="428" y="8124"/>
                    </a:lnTo>
                    <a:lnTo>
                      <a:pt x="667" y="8643"/>
                    </a:lnTo>
                    <a:lnTo>
                      <a:pt x="956" y="9138"/>
                    </a:lnTo>
                    <a:lnTo>
                      <a:pt x="1294" y="9607"/>
                    </a:lnTo>
                    <a:lnTo>
                      <a:pt x="1682" y="10045"/>
                    </a:lnTo>
                    <a:lnTo>
                      <a:pt x="2118" y="10448"/>
                    </a:lnTo>
                    <a:lnTo>
                      <a:pt x="2603" y="10813"/>
                    </a:lnTo>
                    <a:close/>
                  </a:path>
                </a:pathLst>
              </a:custGeom>
              <a:solidFill>
                <a:srgbClr val="193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44720" y="120240"/>
                <a:ext cx="903240" cy="892800"/>
              </a:xfrm>
              <a:custGeom>
                <a:avLst/>
                <a:gdLst/>
                <a:ahLst/>
                <a:rect l="l" t="t" r="r" b="b"/>
                <a:pathLst>
                  <a:path w="11668" h="11666">
                    <a:moveTo>
                      <a:pt x="2569" y="10666"/>
                    </a:moveTo>
                    <a:lnTo>
                      <a:pt x="3079" y="10974"/>
                    </a:lnTo>
                    <a:lnTo>
                      <a:pt x="3608" y="11225"/>
                    </a:lnTo>
                    <a:lnTo>
                      <a:pt x="4152" y="11420"/>
                    </a:lnTo>
                    <a:lnTo>
                      <a:pt x="4706" y="11557"/>
                    </a:lnTo>
                    <a:lnTo>
                      <a:pt x="5266" y="11640"/>
                    </a:lnTo>
                    <a:lnTo>
                      <a:pt x="5827" y="11666"/>
                    </a:lnTo>
                    <a:lnTo>
                      <a:pt x="6387" y="11640"/>
                    </a:lnTo>
                    <a:lnTo>
                      <a:pt x="6941" y="11560"/>
                    </a:lnTo>
                    <a:lnTo>
                      <a:pt x="7486" y="11428"/>
                    </a:lnTo>
                    <a:lnTo>
                      <a:pt x="8015" y="11243"/>
                    </a:lnTo>
                    <a:lnTo>
                      <a:pt x="8526" y="11009"/>
                    </a:lnTo>
                    <a:lnTo>
                      <a:pt x="9015" y="10724"/>
                    </a:lnTo>
                    <a:lnTo>
                      <a:pt x="9478" y="10390"/>
                    </a:lnTo>
                    <a:lnTo>
                      <a:pt x="9911" y="10007"/>
                    </a:lnTo>
                    <a:lnTo>
                      <a:pt x="10308" y="9576"/>
                    </a:lnTo>
                    <a:lnTo>
                      <a:pt x="10667" y="9100"/>
                    </a:lnTo>
                    <a:lnTo>
                      <a:pt x="10976" y="8589"/>
                    </a:lnTo>
                    <a:lnTo>
                      <a:pt x="11227" y="8059"/>
                    </a:lnTo>
                    <a:lnTo>
                      <a:pt x="11420" y="7515"/>
                    </a:lnTo>
                    <a:lnTo>
                      <a:pt x="11558" y="6962"/>
                    </a:lnTo>
                    <a:lnTo>
                      <a:pt x="11640" y="6402"/>
                    </a:lnTo>
                    <a:lnTo>
                      <a:pt x="11668" y="5840"/>
                    </a:lnTo>
                    <a:lnTo>
                      <a:pt x="11640" y="5279"/>
                    </a:lnTo>
                    <a:lnTo>
                      <a:pt x="11560" y="4726"/>
                    </a:lnTo>
                    <a:lnTo>
                      <a:pt x="11429" y="4182"/>
                    </a:lnTo>
                    <a:lnTo>
                      <a:pt x="11245" y="3653"/>
                    </a:lnTo>
                    <a:lnTo>
                      <a:pt x="11010" y="3142"/>
                    </a:lnTo>
                    <a:lnTo>
                      <a:pt x="10725" y="2653"/>
                    </a:lnTo>
                    <a:lnTo>
                      <a:pt x="10390" y="2190"/>
                    </a:lnTo>
                    <a:lnTo>
                      <a:pt x="10007" y="1757"/>
                    </a:lnTo>
                    <a:lnTo>
                      <a:pt x="9577" y="1360"/>
                    </a:lnTo>
                    <a:lnTo>
                      <a:pt x="9100" y="1002"/>
                    </a:lnTo>
                    <a:lnTo>
                      <a:pt x="8589" y="692"/>
                    </a:lnTo>
                    <a:lnTo>
                      <a:pt x="8060" y="441"/>
                    </a:lnTo>
                    <a:lnTo>
                      <a:pt x="7516" y="247"/>
                    </a:lnTo>
                    <a:lnTo>
                      <a:pt x="6962" y="110"/>
                    </a:lnTo>
                    <a:lnTo>
                      <a:pt x="6402" y="28"/>
                    </a:lnTo>
                    <a:lnTo>
                      <a:pt x="5841" y="0"/>
                    </a:lnTo>
                    <a:lnTo>
                      <a:pt x="5281" y="27"/>
                    </a:lnTo>
                    <a:lnTo>
                      <a:pt x="4727" y="106"/>
                    </a:lnTo>
                    <a:lnTo>
                      <a:pt x="4182" y="239"/>
                    </a:lnTo>
                    <a:lnTo>
                      <a:pt x="3653" y="423"/>
                    </a:lnTo>
                    <a:lnTo>
                      <a:pt x="3142" y="658"/>
                    </a:lnTo>
                    <a:lnTo>
                      <a:pt x="2653" y="943"/>
                    </a:lnTo>
                    <a:lnTo>
                      <a:pt x="2190" y="1277"/>
                    </a:lnTo>
                    <a:lnTo>
                      <a:pt x="1757" y="1660"/>
                    </a:lnTo>
                    <a:lnTo>
                      <a:pt x="1360" y="2090"/>
                    </a:lnTo>
                    <a:lnTo>
                      <a:pt x="1002" y="2567"/>
                    </a:lnTo>
                    <a:lnTo>
                      <a:pt x="692" y="3078"/>
                    </a:lnTo>
                    <a:lnTo>
                      <a:pt x="441" y="3607"/>
                    </a:lnTo>
                    <a:lnTo>
                      <a:pt x="248" y="4150"/>
                    </a:lnTo>
                    <a:lnTo>
                      <a:pt x="110" y="4704"/>
                    </a:lnTo>
                    <a:lnTo>
                      <a:pt x="28" y="5265"/>
                    </a:lnTo>
                    <a:lnTo>
                      <a:pt x="0" y="5826"/>
                    </a:lnTo>
                    <a:lnTo>
                      <a:pt x="28" y="6386"/>
                    </a:lnTo>
                    <a:lnTo>
                      <a:pt x="108" y="6940"/>
                    </a:lnTo>
                    <a:lnTo>
                      <a:pt x="239" y="7484"/>
                    </a:lnTo>
                    <a:lnTo>
                      <a:pt x="423" y="8014"/>
                    </a:lnTo>
                    <a:lnTo>
                      <a:pt x="658" y="8525"/>
                    </a:lnTo>
                    <a:lnTo>
                      <a:pt x="943" y="9014"/>
                    </a:lnTo>
                    <a:lnTo>
                      <a:pt x="1278" y="9476"/>
                    </a:lnTo>
                    <a:lnTo>
                      <a:pt x="1661" y="9909"/>
                    </a:lnTo>
                    <a:lnTo>
                      <a:pt x="2091" y="10307"/>
                    </a:lnTo>
                    <a:lnTo>
                      <a:pt x="2569" y="10666"/>
                    </a:lnTo>
                    <a:close/>
                  </a:path>
                </a:pathLst>
              </a:custGeom>
              <a:solidFill>
                <a:srgbClr val="1b3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53720" y="123480"/>
                <a:ext cx="891360" cy="880560"/>
              </a:xfrm>
              <a:custGeom>
                <a:avLst/>
                <a:gdLst/>
                <a:ahLst/>
                <a:rect l="l" t="t" r="r" b="b"/>
                <a:pathLst>
                  <a:path w="11505" h="11506">
                    <a:moveTo>
                      <a:pt x="2532" y="10519"/>
                    </a:moveTo>
                    <a:lnTo>
                      <a:pt x="3036" y="10823"/>
                    </a:lnTo>
                    <a:lnTo>
                      <a:pt x="3558" y="11071"/>
                    </a:lnTo>
                    <a:lnTo>
                      <a:pt x="4093" y="11262"/>
                    </a:lnTo>
                    <a:lnTo>
                      <a:pt x="4640" y="11398"/>
                    </a:lnTo>
                    <a:lnTo>
                      <a:pt x="5192" y="11479"/>
                    </a:lnTo>
                    <a:lnTo>
                      <a:pt x="5747" y="11506"/>
                    </a:lnTo>
                    <a:lnTo>
                      <a:pt x="6298" y="11479"/>
                    </a:lnTo>
                    <a:lnTo>
                      <a:pt x="6845" y="11400"/>
                    </a:lnTo>
                    <a:lnTo>
                      <a:pt x="7382" y="11270"/>
                    </a:lnTo>
                    <a:lnTo>
                      <a:pt x="7904" y="11089"/>
                    </a:lnTo>
                    <a:lnTo>
                      <a:pt x="8408" y="10857"/>
                    </a:lnTo>
                    <a:lnTo>
                      <a:pt x="8890" y="10577"/>
                    </a:lnTo>
                    <a:lnTo>
                      <a:pt x="9346" y="10246"/>
                    </a:lnTo>
                    <a:lnTo>
                      <a:pt x="9773" y="9869"/>
                    </a:lnTo>
                    <a:lnTo>
                      <a:pt x="10165" y="9444"/>
                    </a:lnTo>
                    <a:lnTo>
                      <a:pt x="10519" y="8975"/>
                    </a:lnTo>
                    <a:lnTo>
                      <a:pt x="10823" y="8470"/>
                    </a:lnTo>
                    <a:lnTo>
                      <a:pt x="11071" y="7948"/>
                    </a:lnTo>
                    <a:lnTo>
                      <a:pt x="11262" y="7412"/>
                    </a:lnTo>
                    <a:lnTo>
                      <a:pt x="11398" y="6865"/>
                    </a:lnTo>
                    <a:lnTo>
                      <a:pt x="11479" y="6314"/>
                    </a:lnTo>
                    <a:lnTo>
                      <a:pt x="11505" y="5759"/>
                    </a:lnTo>
                    <a:lnTo>
                      <a:pt x="11479" y="5207"/>
                    </a:lnTo>
                    <a:lnTo>
                      <a:pt x="11400" y="4661"/>
                    </a:lnTo>
                    <a:lnTo>
                      <a:pt x="11269" y="4124"/>
                    </a:lnTo>
                    <a:lnTo>
                      <a:pt x="11089" y="3602"/>
                    </a:lnTo>
                    <a:lnTo>
                      <a:pt x="10857" y="3098"/>
                    </a:lnTo>
                    <a:lnTo>
                      <a:pt x="10576" y="2615"/>
                    </a:lnTo>
                    <a:lnTo>
                      <a:pt x="10246" y="2159"/>
                    </a:lnTo>
                    <a:lnTo>
                      <a:pt x="9868" y="1733"/>
                    </a:lnTo>
                    <a:lnTo>
                      <a:pt x="9444" y="1341"/>
                    </a:lnTo>
                    <a:lnTo>
                      <a:pt x="8974" y="988"/>
                    </a:lnTo>
                    <a:lnTo>
                      <a:pt x="8470" y="683"/>
                    </a:lnTo>
                    <a:lnTo>
                      <a:pt x="7948" y="435"/>
                    </a:lnTo>
                    <a:lnTo>
                      <a:pt x="7412" y="244"/>
                    </a:lnTo>
                    <a:lnTo>
                      <a:pt x="6866" y="108"/>
                    </a:lnTo>
                    <a:lnTo>
                      <a:pt x="6313" y="27"/>
                    </a:lnTo>
                    <a:lnTo>
                      <a:pt x="5759" y="0"/>
                    </a:lnTo>
                    <a:lnTo>
                      <a:pt x="5208" y="27"/>
                    </a:lnTo>
                    <a:lnTo>
                      <a:pt x="4661" y="105"/>
                    </a:lnTo>
                    <a:lnTo>
                      <a:pt x="4124" y="236"/>
                    </a:lnTo>
                    <a:lnTo>
                      <a:pt x="3602" y="418"/>
                    </a:lnTo>
                    <a:lnTo>
                      <a:pt x="3098" y="649"/>
                    </a:lnTo>
                    <a:lnTo>
                      <a:pt x="2616" y="930"/>
                    </a:lnTo>
                    <a:lnTo>
                      <a:pt x="2160" y="1260"/>
                    </a:lnTo>
                    <a:lnTo>
                      <a:pt x="1733" y="1637"/>
                    </a:lnTo>
                    <a:lnTo>
                      <a:pt x="1341" y="2061"/>
                    </a:lnTo>
                    <a:lnTo>
                      <a:pt x="988" y="2532"/>
                    </a:lnTo>
                    <a:lnTo>
                      <a:pt x="683" y="3035"/>
                    </a:lnTo>
                    <a:lnTo>
                      <a:pt x="435" y="3557"/>
                    </a:lnTo>
                    <a:lnTo>
                      <a:pt x="244" y="4094"/>
                    </a:lnTo>
                    <a:lnTo>
                      <a:pt x="108" y="4639"/>
                    </a:lnTo>
                    <a:lnTo>
                      <a:pt x="27" y="5192"/>
                    </a:lnTo>
                    <a:lnTo>
                      <a:pt x="0" y="5746"/>
                    </a:lnTo>
                    <a:lnTo>
                      <a:pt x="26" y="6299"/>
                    </a:lnTo>
                    <a:lnTo>
                      <a:pt x="106" y="6845"/>
                    </a:lnTo>
                    <a:lnTo>
                      <a:pt x="235" y="7381"/>
                    </a:lnTo>
                    <a:lnTo>
                      <a:pt x="417" y="7904"/>
                    </a:lnTo>
                    <a:lnTo>
                      <a:pt x="649" y="8408"/>
                    </a:lnTo>
                    <a:lnTo>
                      <a:pt x="930" y="8891"/>
                    </a:lnTo>
                    <a:lnTo>
                      <a:pt x="1259" y="9347"/>
                    </a:lnTo>
                    <a:lnTo>
                      <a:pt x="1637" y="9773"/>
                    </a:lnTo>
                    <a:lnTo>
                      <a:pt x="2061" y="10165"/>
                    </a:lnTo>
                    <a:lnTo>
                      <a:pt x="2532" y="10519"/>
                    </a:lnTo>
                    <a:close/>
                  </a:path>
                </a:pathLst>
              </a:custGeom>
              <a:solidFill>
                <a:srgbClr val="1c3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63080" y="126000"/>
                <a:ext cx="879480" cy="867600"/>
              </a:xfrm>
              <a:custGeom>
                <a:avLst/>
                <a:gdLst/>
                <a:ahLst/>
                <a:rect l="l" t="t" r="r" b="b"/>
                <a:pathLst>
                  <a:path w="11344" h="11345">
                    <a:moveTo>
                      <a:pt x="2496" y="10372"/>
                    </a:moveTo>
                    <a:lnTo>
                      <a:pt x="2992" y="10672"/>
                    </a:lnTo>
                    <a:lnTo>
                      <a:pt x="3507" y="10917"/>
                    </a:lnTo>
                    <a:lnTo>
                      <a:pt x="4035" y="11106"/>
                    </a:lnTo>
                    <a:lnTo>
                      <a:pt x="4574" y="11239"/>
                    </a:lnTo>
                    <a:lnTo>
                      <a:pt x="5119" y="11319"/>
                    </a:lnTo>
                    <a:lnTo>
                      <a:pt x="5665" y="11345"/>
                    </a:lnTo>
                    <a:lnTo>
                      <a:pt x="6209" y="11320"/>
                    </a:lnTo>
                    <a:lnTo>
                      <a:pt x="6748" y="11242"/>
                    </a:lnTo>
                    <a:lnTo>
                      <a:pt x="7278" y="11113"/>
                    </a:lnTo>
                    <a:lnTo>
                      <a:pt x="7792" y="10934"/>
                    </a:lnTo>
                    <a:lnTo>
                      <a:pt x="8290" y="10705"/>
                    </a:lnTo>
                    <a:lnTo>
                      <a:pt x="8765" y="10429"/>
                    </a:lnTo>
                    <a:lnTo>
                      <a:pt x="9215" y="10103"/>
                    </a:lnTo>
                    <a:lnTo>
                      <a:pt x="9636" y="9731"/>
                    </a:lnTo>
                    <a:lnTo>
                      <a:pt x="10022" y="9314"/>
                    </a:lnTo>
                    <a:lnTo>
                      <a:pt x="10371" y="8850"/>
                    </a:lnTo>
                    <a:lnTo>
                      <a:pt x="10671" y="8353"/>
                    </a:lnTo>
                    <a:lnTo>
                      <a:pt x="10916" y="7838"/>
                    </a:lnTo>
                    <a:lnTo>
                      <a:pt x="11104" y="7309"/>
                    </a:lnTo>
                    <a:lnTo>
                      <a:pt x="11238" y="6771"/>
                    </a:lnTo>
                    <a:lnTo>
                      <a:pt x="11318" y="6225"/>
                    </a:lnTo>
                    <a:lnTo>
                      <a:pt x="11344" y="5679"/>
                    </a:lnTo>
                    <a:lnTo>
                      <a:pt x="11319" y="5135"/>
                    </a:lnTo>
                    <a:lnTo>
                      <a:pt x="11241" y="4596"/>
                    </a:lnTo>
                    <a:lnTo>
                      <a:pt x="11111" y="4066"/>
                    </a:lnTo>
                    <a:lnTo>
                      <a:pt x="10933" y="3552"/>
                    </a:lnTo>
                    <a:lnTo>
                      <a:pt x="10704" y="3054"/>
                    </a:lnTo>
                    <a:lnTo>
                      <a:pt x="10428" y="2579"/>
                    </a:lnTo>
                    <a:lnTo>
                      <a:pt x="10102" y="2129"/>
                    </a:lnTo>
                    <a:lnTo>
                      <a:pt x="9730" y="1708"/>
                    </a:lnTo>
                    <a:lnTo>
                      <a:pt x="9311" y="1322"/>
                    </a:lnTo>
                    <a:lnTo>
                      <a:pt x="8848" y="974"/>
                    </a:lnTo>
                    <a:lnTo>
                      <a:pt x="8350" y="673"/>
                    </a:lnTo>
                    <a:lnTo>
                      <a:pt x="7836" y="428"/>
                    </a:lnTo>
                    <a:lnTo>
                      <a:pt x="7307" y="240"/>
                    </a:lnTo>
                    <a:lnTo>
                      <a:pt x="6768" y="106"/>
                    </a:lnTo>
                    <a:lnTo>
                      <a:pt x="6224" y="27"/>
                    </a:lnTo>
                    <a:lnTo>
                      <a:pt x="5678" y="0"/>
                    </a:lnTo>
                    <a:lnTo>
                      <a:pt x="5133" y="25"/>
                    </a:lnTo>
                    <a:lnTo>
                      <a:pt x="4594" y="104"/>
                    </a:lnTo>
                    <a:lnTo>
                      <a:pt x="4066" y="233"/>
                    </a:lnTo>
                    <a:lnTo>
                      <a:pt x="3551" y="411"/>
                    </a:lnTo>
                    <a:lnTo>
                      <a:pt x="3054" y="640"/>
                    </a:lnTo>
                    <a:lnTo>
                      <a:pt x="2579" y="916"/>
                    </a:lnTo>
                    <a:lnTo>
                      <a:pt x="2129" y="1242"/>
                    </a:lnTo>
                    <a:lnTo>
                      <a:pt x="1708" y="1614"/>
                    </a:lnTo>
                    <a:lnTo>
                      <a:pt x="1322" y="2033"/>
                    </a:lnTo>
                    <a:lnTo>
                      <a:pt x="973" y="2497"/>
                    </a:lnTo>
                    <a:lnTo>
                      <a:pt x="673" y="2994"/>
                    </a:lnTo>
                    <a:lnTo>
                      <a:pt x="428" y="3508"/>
                    </a:lnTo>
                    <a:lnTo>
                      <a:pt x="240" y="4036"/>
                    </a:lnTo>
                    <a:lnTo>
                      <a:pt x="106" y="4575"/>
                    </a:lnTo>
                    <a:lnTo>
                      <a:pt x="26" y="5120"/>
                    </a:lnTo>
                    <a:lnTo>
                      <a:pt x="0" y="5666"/>
                    </a:lnTo>
                    <a:lnTo>
                      <a:pt x="25" y="6210"/>
                    </a:lnTo>
                    <a:lnTo>
                      <a:pt x="103" y="6749"/>
                    </a:lnTo>
                    <a:lnTo>
                      <a:pt x="231" y="7278"/>
                    </a:lnTo>
                    <a:lnTo>
                      <a:pt x="411" y="7793"/>
                    </a:lnTo>
                    <a:lnTo>
                      <a:pt x="639" y="8290"/>
                    </a:lnTo>
                    <a:lnTo>
                      <a:pt x="916" y="8766"/>
                    </a:lnTo>
                    <a:lnTo>
                      <a:pt x="1241" y="9216"/>
                    </a:lnTo>
                    <a:lnTo>
                      <a:pt x="1612" y="9636"/>
                    </a:lnTo>
                    <a:lnTo>
                      <a:pt x="2031" y="10023"/>
                    </a:lnTo>
                    <a:lnTo>
                      <a:pt x="2496" y="10372"/>
                    </a:lnTo>
                    <a:close/>
                  </a:path>
                </a:pathLst>
              </a:custGeom>
              <a:solidFill>
                <a:srgbClr val="1e3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2440" y="127800"/>
                <a:ext cx="866160" cy="855720"/>
              </a:xfrm>
              <a:custGeom>
                <a:avLst/>
                <a:gdLst/>
                <a:ahLst/>
                <a:rect l="l" t="t" r="r" b="b"/>
                <a:pathLst>
                  <a:path w="11185" h="11184">
                    <a:moveTo>
                      <a:pt x="2461" y="10226"/>
                    </a:moveTo>
                    <a:lnTo>
                      <a:pt x="2950" y="10521"/>
                    </a:lnTo>
                    <a:lnTo>
                      <a:pt x="3458" y="10761"/>
                    </a:lnTo>
                    <a:lnTo>
                      <a:pt x="3979" y="10947"/>
                    </a:lnTo>
                    <a:lnTo>
                      <a:pt x="4509" y="11079"/>
                    </a:lnTo>
                    <a:lnTo>
                      <a:pt x="5046" y="11158"/>
                    </a:lnTo>
                    <a:lnTo>
                      <a:pt x="5585" y="11184"/>
                    </a:lnTo>
                    <a:lnTo>
                      <a:pt x="6122" y="11159"/>
                    </a:lnTo>
                    <a:lnTo>
                      <a:pt x="6654" y="11082"/>
                    </a:lnTo>
                    <a:lnTo>
                      <a:pt x="7175" y="10955"/>
                    </a:lnTo>
                    <a:lnTo>
                      <a:pt x="7683" y="10778"/>
                    </a:lnTo>
                    <a:lnTo>
                      <a:pt x="8173" y="10554"/>
                    </a:lnTo>
                    <a:lnTo>
                      <a:pt x="8642" y="10281"/>
                    </a:lnTo>
                    <a:lnTo>
                      <a:pt x="9086" y="9961"/>
                    </a:lnTo>
                    <a:lnTo>
                      <a:pt x="9500" y="9594"/>
                    </a:lnTo>
                    <a:lnTo>
                      <a:pt x="9881" y="9182"/>
                    </a:lnTo>
                    <a:lnTo>
                      <a:pt x="10226" y="8725"/>
                    </a:lnTo>
                    <a:lnTo>
                      <a:pt x="10521" y="8234"/>
                    </a:lnTo>
                    <a:lnTo>
                      <a:pt x="10762" y="7726"/>
                    </a:lnTo>
                    <a:lnTo>
                      <a:pt x="10948" y="7205"/>
                    </a:lnTo>
                    <a:lnTo>
                      <a:pt x="11080" y="6675"/>
                    </a:lnTo>
                    <a:lnTo>
                      <a:pt x="11158" y="6138"/>
                    </a:lnTo>
                    <a:lnTo>
                      <a:pt x="11185" y="5599"/>
                    </a:lnTo>
                    <a:lnTo>
                      <a:pt x="11158" y="5062"/>
                    </a:lnTo>
                    <a:lnTo>
                      <a:pt x="11082" y="4531"/>
                    </a:lnTo>
                    <a:lnTo>
                      <a:pt x="10955" y="4010"/>
                    </a:lnTo>
                    <a:lnTo>
                      <a:pt x="10779" y="3502"/>
                    </a:lnTo>
                    <a:lnTo>
                      <a:pt x="10553" y="3012"/>
                    </a:lnTo>
                    <a:lnTo>
                      <a:pt x="10280" y="2543"/>
                    </a:lnTo>
                    <a:lnTo>
                      <a:pt x="9960" y="2098"/>
                    </a:lnTo>
                    <a:lnTo>
                      <a:pt x="9593" y="1685"/>
                    </a:lnTo>
                    <a:lnTo>
                      <a:pt x="9181" y="1303"/>
                    </a:lnTo>
                    <a:lnTo>
                      <a:pt x="8724" y="960"/>
                    </a:lnTo>
                    <a:lnTo>
                      <a:pt x="8234" y="663"/>
                    </a:lnTo>
                    <a:lnTo>
                      <a:pt x="7726" y="423"/>
                    </a:lnTo>
                    <a:lnTo>
                      <a:pt x="7206" y="237"/>
                    </a:lnTo>
                    <a:lnTo>
                      <a:pt x="6674" y="105"/>
                    </a:lnTo>
                    <a:lnTo>
                      <a:pt x="6137" y="26"/>
                    </a:lnTo>
                    <a:lnTo>
                      <a:pt x="5598" y="0"/>
                    </a:lnTo>
                    <a:lnTo>
                      <a:pt x="5061" y="26"/>
                    </a:lnTo>
                    <a:lnTo>
                      <a:pt x="4531" y="103"/>
                    </a:lnTo>
                    <a:lnTo>
                      <a:pt x="4009" y="229"/>
                    </a:lnTo>
                    <a:lnTo>
                      <a:pt x="3502" y="406"/>
                    </a:lnTo>
                    <a:lnTo>
                      <a:pt x="3012" y="631"/>
                    </a:lnTo>
                    <a:lnTo>
                      <a:pt x="2543" y="905"/>
                    </a:lnTo>
                    <a:lnTo>
                      <a:pt x="2098" y="1225"/>
                    </a:lnTo>
                    <a:lnTo>
                      <a:pt x="1685" y="1591"/>
                    </a:lnTo>
                    <a:lnTo>
                      <a:pt x="1303" y="2004"/>
                    </a:lnTo>
                    <a:lnTo>
                      <a:pt x="960" y="2462"/>
                    </a:lnTo>
                    <a:lnTo>
                      <a:pt x="663" y="2951"/>
                    </a:lnTo>
                    <a:lnTo>
                      <a:pt x="423" y="3458"/>
                    </a:lnTo>
                    <a:lnTo>
                      <a:pt x="237" y="3979"/>
                    </a:lnTo>
                    <a:lnTo>
                      <a:pt x="105" y="4510"/>
                    </a:lnTo>
                    <a:lnTo>
                      <a:pt x="26" y="5047"/>
                    </a:lnTo>
                    <a:lnTo>
                      <a:pt x="0" y="5586"/>
                    </a:lnTo>
                    <a:lnTo>
                      <a:pt x="25" y="6123"/>
                    </a:lnTo>
                    <a:lnTo>
                      <a:pt x="103" y="6654"/>
                    </a:lnTo>
                    <a:lnTo>
                      <a:pt x="229" y="7176"/>
                    </a:lnTo>
                    <a:lnTo>
                      <a:pt x="406" y="7683"/>
                    </a:lnTo>
                    <a:lnTo>
                      <a:pt x="630" y="8173"/>
                    </a:lnTo>
                    <a:lnTo>
                      <a:pt x="903" y="8642"/>
                    </a:lnTo>
                    <a:lnTo>
                      <a:pt x="1223" y="9086"/>
                    </a:lnTo>
                    <a:lnTo>
                      <a:pt x="1590" y="9499"/>
                    </a:lnTo>
                    <a:lnTo>
                      <a:pt x="2003" y="9881"/>
                    </a:lnTo>
                    <a:lnTo>
                      <a:pt x="2461" y="10226"/>
                    </a:lnTo>
                    <a:close/>
                  </a:path>
                </a:pathLst>
              </a:custGeom>
              <a:solidFill>
                <a:srgbClr val="203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81800" y="130680"/>
                <a:ext cx="854280" cy="843840"/>
              </a:xfrm>
              <a:custGeom>
                <a:avLst/>
                <a:gdLst/>
                <a:ahLst/>
                <a:rect l="l" t="t" r="r" b="b"/>
                <a:pathLst>
                  <a:path w="11024" h="11024">
                    <a:moveTo>
                      <a:pt x="2426" y="10079"/>
                    </a:moveTo>
                    <a:lnTo>
                      <a:pt x="2909" y="10370"/>
                    </a:lnTo>
                    <a:lnTo>
                      <a:pt x="3408" y="10607"/>
                    </a:lnTo>
                    <a:lnTo>
                      <a:pt x="3922" y="10791"/>
                    </a:lnTo>
                    <a:lnTo>
                      <a:pt x="4445" y="10921"/>
                    </a:lnTo>
                    <a:lnTo>
                      <a:pt x="4974" y="10998"/>
                    </a:lnTo>
                    <a:lnTo>
                      <a:pt x="5506" y="11024"/>
                    </a:lnTo>
                    <a:lnTo>
                      <a:pt x="6034" y="10998"/>
                    </a:lnTo>
                    <a:lnTo>
                      <a:pt x="6558" y="10923"/>
                    </a:lnTo>
                    <a:lnTo>
                      <a:pt x="7072" y="10797"/>
                    </a:lnTo>
                    <a:lnTo>
                      <a:pt x="7573" y="10624"/>
                    </a:lnTo>
                    <a:lnTo>
                      <a:pt x="8055" y="10402"/>
                    </a:lnTo>
                    <a:lnTo>
                      <a:pt x="8518" y="10133"/>
                    </a:lnTo>
                    <a:lnTo>
                      <a:pt x="8955" y="9817"/>
                    </a:lnTo>
                    <a:lnTo>
                      <a:pt x="9363" y="9456"/>
                    </a:lnTo>
                    <a:lnTo>
                      <a:pt x="9739" y="9050"/>
                    </a:lnTo>
                    <a:lnTo>
                      <a:pt x="10078" y="8599"/>
                    </a:lnTo>
                    <a:lnTo>
                      <a:pt x="10370" y="8115"/>
                    </a:lnTo>
                    <a:lnTo>
                      <a:pt x="10608" y="7616"/>
                    </a:lnTo>
                    <a:lnTo>
                      <a:pt x="10791" y="7102"/>
                    </a:lnTo>
                    <a:lnTo>
                      <a:pt x="10920" y="6579"/>
                    </a:lnTo>
                    <a:lnTo>
                      <a:pt x="10998" y="6050"/>
                    </a:lnTo>
                    <a:lnTo>
                      <a:pt x="11024" y="5518"/>
                    </a:lnTo>
                    <a:lnTo>
                      <a:pt x="10999" y="4990"/>
                    </a:lnTo>
                    <a:lnTo>
                      <a:pt x="10923" y="4466"/>
                    </a:lnTo>
                    <a:lnTo>
                      <a:pt x="10798" y="3952"/>
                    </a:lnTo>
                    <a:lnTo>
                      <a:pt x="10625" y="3452"/>
                    </a:lnTo>
                    <a:lnTo>
                      <a:pt x="10403" y="2969"/>
                    </a:lnTo>
                    <a:lnTo>
                      <a:pt x="10134" y="2506"/>
                    </a:lnTo>
                    <a:lnTo>
                      <a:pt x="9818" y="2070"/>
                    </a:lnTo>
                    <a:lnTo>
                      <a:pt x="9455" y="1661"/>
                    </a:lnTo>
                    <a:lnTo>
                      <a:pt x="9049" y="1285"/>
                    </a:lnTo>
                    <a:lnTo>
                      <a:pt x="8598" y="947"/>
                    </a:lnTo>
                    <a:lnTo>
                      <a:pt x="8115" y="655"/>
                    </a:lnTo>
                    <a:lnTo>
                      <a:pt x="7615" y="416"/>
                    </a:lnTo>
                    <a:lnTo>
                      <a:pt x="7102" y="234"/>
                    </a:lnTo>
                    <a:lnTo>
                      <a:pt x="6578" y="104"/>
                    </a:lnTo>
                    <a:lnTo>
                      <a:pt x="6049" y="26"/>
                    </a:lnTo>
                    <a:lnTo>
                      <a:pt x="5518" y="0"/>
                    </a:lnTo>
                    <a:lnTo>
                      <a:pt x="4989" y="25"/>
                    </a:lnTo>
                    <a:lnTo>
                      <a:pt x="4465" y="101"/>
                    </a:lnTo>
                    <a:lnTo>
                      <a:pt x="3952" y="226"/>
                    </a:lnTo>
                    <a:lnTo>
                      <a:pt x="3451" y="399"/>
                    </a:lnTo>
                    <a:lnTo>
                      <a:pt x="2968" y="622"/>
                    </a:lnTo>
                    <a:lnTo>
                      <a:pt x="2506" y="891"/>
                    </a:lnTo>
                    <a:lnTo>
                      <a:pt x="2069" y="1206"/>
                    </a:lnTo>
                    <a:lnTo>
                      <a:pt x="1661" y="1569"/>
                    </a:lnTo>
                    <a:lnTo>
                      <a:pt x="1284" y="1975"/>
                    </a:lnTo>
                    <a:lnTo>
                      <a:pt x="946" y="2427"/>
                    </a:lnTo>
                    <a:lnTo>
                      <a:pt x="654" y="2909"/>
                    </a:lnTo>
                    <a:lnTo>
                      <a:pt x="417" y="3409"/>
                    </a:lnTo>
                    <a:lnTo>
                      <a:pt x="233" y="3922"/>
                    </a:lnTo>
                    <a:lnTo>
                      <a:pt x="103" y="4446"/>
                    </a:lnTo>
                    <a:lnTo>
                      <a:pt x="25" y="4975"/>
                    </a:lnTo>
                    <a:lnTo>
                      <a:pt x="0" y="5505"/>
                    </a:lnTo>
                    <a:lnTo>
                      <a:pt x="25" y="6035"/>
                    </a:lnTo>
                    <a:lnTo>
                      <a:pt x="101" y="6559"/>
                    </a:lnTo>
                    <a:lnTo>
                      <a:pt x="226" y="7072"/>
                    </a:lnTo>
                    <a:lnTo>
                      <a:pt x="400" y="7573"/>
                    </a:lnTo>
                    <a:lnTo>
                      <a:pt x="622" y="8056"/>
                    </a:lnTo>
                    <a:lnTo>
                      <a:pt x="891" y="8518"/>
                    </a:lnTo>
                    <a:lnTo>
                      <a:pt x="1207" y="8955"/>
                    </a:lnTo>
                    <a:lnTo>
                      <a:pt x="1568" y="9363"/>
                    </a:lnTo>
                    <a:lnTo>
                      <a:pt x="1974" y="9739"/>
                    </a:lnTo>
                    <a:lnTo>
                      <a:pt x="2426" y="10079"/>
                    </a:lnTo>
                    <a:close/>
                  </a:path>
                </a:pathLst>
              </a:custGeom>
              <a:solidFill>
                <a:srgbClr val="223b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91160" y="133200"/>
                <a:ext cx="842400" cy="831240"/>
              </a:xfrm>
              <a:custGeom>
                <a:avLst/>
                <a:gdLst/>
                <a:ahLst/>
                <a:rect l="l" t="t" r="r" b="b"/>
                <a:pathLst>
                  <a:path w="10863" h="10862">
                    <a:moveTo>
                      <a:pt x="2391" y="9931"/>
                    </a:moveTo>
                    <a:lnTo>
                      <a:pt x="2866" y="10218"/>
                    </a:lnTo>
                    <a:lnTo>
                      <a:pt x="3359" y="10452"/>
                    </a:lnTo>
                    <a:lnTo>
                      <a:pt x="3865" y="10633"/>
                    </a:lnTo>
                    <a:lnTo>
                      <a:pt x="4381" y="10760"/>
                    </a:lnTo>
                    <a:lnTo>
                      <a:pt x="4902" y="10837"/>
                    </a:lnTo>
                    <a:lnTo>
                      <a:pt x="5425" y="10862"/>
                    </a:lnTo>
                    <a:lnTo>
                      <a:pt x="5947" y="10838"/>
                    </a:lnTo>
                    <a:lnTo>
                      <a:pt x="6463" y="10763"/>
                    </a:lnTo>
                    <a:lnTo>
                      <a:pt x="6969" y="10640"/>
                    </a:lnTo>
                    <a:lnTo>
                      <a:pt x="7462" y="10469"/>
                    </a:lnTo>
                    <a:lnTo>
                      <a:pt x="7938" y="10250"/>
                    </a:lnTo>
                    <a:lnTo>
                      <a:pt x="8393" y="9984"/>
                    </a:lnTo>
                    <a:lnTo>
                      <a:pt x="8824" y="9674"/>
                    </a:lnTo>
                    <a:lnTo>
                      <a:pt x="9227" y="9318"/>
                    </a:lnTo>
                    <a:lnTo>
                      <a:pt x="9597" y="8917"/>
                    </a:lnTo>
                    <a:lnTo>
                      <a:pt x="9932" y="8472"/>
                    </a:lnTo>
                    <a:lnTo>
                      <a:pt x="10219" y="7996"/>
                    </a:lnTo>
                    <a:lnTo>
                      <a:pt x="10453" y="7504"/>
                    </a:lnTo>
                    <a:lnTo>
                      <a:pt x="10633" y="6998"/>
                    </a:lnTo>
                    <a:lnTo>
                      <a:pt x="10761" y="6481"/>
                    </a:lnTo>
                    <a:lnTo>
                      <a:pt x="10838" y="5960"/>
                    </a:lnTo>
                    <a:lnTo>
                      <a:pt x="10863" y="5437"/>
                    </a:lnTo>
                    <a:lnTo>
                      <a:pt x="10839" y="4915"/>
                    </a:lnTo>
                    <a:lnTo>
                      <a:pt x="10764" y="4400"/>
                    </a:lnTo>
                    <a:lnTo>
                      <a:pt x="10641" y="3894"/>
                    </a:lnTo>
                    <a:lnTo>
                      <a:pt x="10470" y="3400"/>
                    </a:lnTo>
                    <a:lnTo>
                      <a:pt x="10251" y="2924"/>
                    </a:lnTo>
                    <a:lnTo>
                      <a:pt x="9985" y="2469"/>
                    </a:lnTo>
                    <a:lnTo>
                      <a:pt x="9674" y="2039"/>
                    </a:lnTo>
                    <a:lnTo>
                      <a:pt x="9318" y="1636"/>
                    </a:lnTo>
                    <a:lnTo>
                      <a:pt x="8918" y="1266"/>
                    </a:lnTo>
                    <a:lnTo>
                      <a:pt x="8473" y="932"/>
                    </a:lnTo>
                    <a:lnTo>
                      <a:pt x="7997" y="644"/>
                    </a:lnTo>
                    <a:lnTo>
                      <a:pt x="7505" y="410"/>
                    </a:lnTo>
                    <a:lnTo>
                      <a:pt x="6999" y="229"/>
                    </a:lnTo>
                    <a:lnTo>
                      <a:pt x="6482" y="102"/>
                    </a:lnTo>
                    <a:lnTo>
                      <a:pt x="5961" y="25"/>
                    </a:lnTo>
                    <a:lnTo>
                      <a:pt x="5438" y="0"/>
                    </a:lnTo>
                    <a:lnTo>
                      <a:pt x="4916" y="24"/>
                    </a:lnTo>
                    <a:lnTo>
                      <a:pt x="4400" y="99"/>
                    </a:lnTo>
                    <a:lnTo>
                      <a:pt x="3894" y="222"/>
                    </a:lnTo>
                    <a:lnTo>
                      <a:pt x="3401" y="393"/>
                    </a:lnTo>
                    <a:lnTo>
                      <a:pt x="2925" y="612"/>
                    </a:lnTo>
                    <a:lnTo>
                      <a:pt x="2470" y="878"/>
                    </a:lnTo>
                    <a:lnTo>
                      <a:pt x="2039" y="1188"/>
                    </a:lnTo>
                    <a:lnTo>
                      <a:pt x="1636" y="1544"/>
                    </a:lnTo>
                    <a:lnTo>
                      <a:pt x="1266" y="1945"/>
                    </a:lnTo>
                    <a:lnTo>
                      <a:pt x="932" y="2391"/>
                    </a:lnTo>
                    <a:lnTo>
                      <a:pt x="644" y="2866"/>
                    </a:lnTo>
                    <a:lnTo>
                      <a:pt x="410" y="3358"/>
                    </a:lnTo>
                    <a:lnTo>
                      <a:pt x="230" y="3864"/>
                    </a:lnTo>
                    <a:lnTo>
                      <a:pt x="102" y="4381"/>
                    </a:lnTo>
                    <a:lnTo>
                      <a:pt x="26" y="4902"/>
                    </a:lnTo>
                    <a:lnTo>
                      <a:pt x="0" y="5425"/>
                    </a:lnTo>
                    <a:lnTo>
                      <a:pt x="26" y="5947"/>
                    </a:lnTo>
                    <a:lnTo>
                      <a:pt x="100" y="6462"/>
                    </a:lnTo>
                    <a:lnTo>
                      <a:pt x="223" y="6968"/>
                    </a:lnTo>
                    <a:lnTo>
                      <a:pt x="395" y="7461"/>
                    </a:lnTo>
                    <a:lnTo>
                      <a:pt x="612" y="7938"/>
                    </a:lnTo>
                    <a:lnTo>
                      <a:pt x="878" y="8393"/>
                    </a:lnTo>
                    <a:lnTo>
                      <a:pt x="1190" y="8823"/>
                    </a:lnTo>
                    <a:lnTo>
                      <a:pt x="1546" y="9226"/>
                    </a:lnTo>
                    <a:lnTo>
                      <a:pt x="1947" y="9596"/>
                    </a:lnTo>
                    <a:lnTo>
                      <a:pt x="2391" y="9931"/>
                    </a:lnTo>
                    <a:close/>
                  </a:path>
                </a:pathLst>
              </a:custGeom>
              <a:solidFill>
                <a:srgbClr val="243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01240" y="135360"/>
                <a:ext cx="828000" cy="819000"/>
              </a:xfrm>
              <a:custGeom>
                <a:avLst/>
                <a:gdLst/>
                <a:ahLst/>
                <a:rect l="l" t="t" r="r" b="b"/>
                <a:pathLst>
                  <a:path w="10702" h="10702">
                    <a:moveTo>
                      <a:pt x="2355" y="9784"/>
                    </a:moveTo>
                    <a:lnTo>
                      <a:pt x="2823" y="10067"/>
                    </a:lnTo>
                    <a:lnTo>
                      <a:pt x="3309" y="10298"/>
                    </a:lnTo>
                    <a:lnTo>
                      <a:pt x="3807" y="10475"/>
                    </a:lnTo>
                    <a:lnTo>
                      <a:pt x="4316" y="10602"/>
                    </a:lnTo>
                    <a:lnTo>
                      <a:pt x="4829" y="10677"/>
                    </a:lnTo>
                    <a:lnTo>
                      <a:pt x="5345" y="10702"/>
                    </a:lnTo>
                    <a:lnTo>
                      <a:pt x="5859" y="10677"/>
                    </a:lnTo>
                    <a:lnTo>
                      <a:pt x="6367" y="10604"/>
                    </a:lnTo>
                    <a:lnTo>
                      <a:pt x="6866" y="10483"/>
                    </a:lnTo>
                    <a:lnTo>
                      <a:pt x="7352" y="10314"/>
                    </a:lnTo>
                    <a:lnTo>
                      <a:pt x="7821" y="10099"/>
                    </a:lnTo>
                    <a:lnTo>
                      <a:pt x="8269" y="9837"/>
                    </a:lnTo>
                    <a:lnTo>
                      <a:pt x="8694" y="9530"/>
                    </a:lnTo>
                    <a:lnTo>
                      <a:pt x="9091" y="9179"/>
                    </a:lnTo>
                    <a:lnTo>
                      <a:pt x="9456" y="8784"/>
                    </a:lnTo>
                    <a:lnTo>
                      <a:pt x="9785" y="8347"/>
                    </a:lnTo>
                    <a:lnTo>
                      <a:pt x="10068" y="7878"/>
                    </a:lnTo>
                    <a:lnTo>
                      <a:pt x="10299" y="7392"/>
                    </a:lnTo>
                    <a:lnTo>
                      <a:pt x="10476" y="6894"/>
                    </a:lnTo>
                    <a:lnTo>
                      <a:pt x="10602" y="6385"/>
                    </a:lnTo>
                    <a:lnTo>
                      <a:pt x="10677" y="5872"/>
                    </a:lnTo>
                    <a:lnTo>
                      <a:pt x="10702" y="5356"/>
                    </a:lnTo>
                    <a:lnTo>
                      <a:pt x="10677" y="4843"/>
                    </a:lnTo>
                    <a:lnTo>
                      <a:pt x="10604" y="4335"/>
                    </a:lnTo>
                    <a:lnTo>
                      <a:pt x="10483" y="3836"/>
                    </a:lnTo>
                    <a:lnTo>
                      <a:pt x="10314" y="3350"/>
                    </a:lnTo>
                    <a:lnTo>
                      <a:pt x="10099" y="2882"/>
                    </a:lnTo>
                    <a:lnTo>
                      <a:pt x="9837" y="2433"/>
                    </a:lnTo>
                    <a:lnTo>
                      <a:pt x="9530" y="2008"/>
                    </a:lnTo>
                    <a:lnTo>
                      <a:pt x="9179" y="1611"/>
                    </a:lnTo>
                    <a:lnTo>
                      <a:pt x="8785" y="1247"/>
                    </a:lnTo>
                    <a:lnTo>
                      <a:pt x="8348" y="918"/>
                    </a:lnTo>
                    <a:lnTo>
                      <a:pt x="7879" y="634"/>
                    </a:lnTo>
                    <a:lnTo>
                      <a:pt x="7393" y="404"/>
                    </a:lnTo>
                    <a:lnTo>
                      <a:pt x="6895" y="226"/>
                    </a:lnTo>
                    <a:lnTo>
                      <a:pt x="6386" y="100"/>
                    </a:lnTo>
                    <a:lnTo>
                      <a:pt x="5873" y="24"/>
                    </a:lnTo>
                    <a:lnTo>
                      <a:pt x="5357" y="0"/>
                    </a:lnTo>
                    <a:lnTo>
                      <a:pt x="4843" y="24"/>
                    </a:lnTo>
                    <a:lnTo>
                      <a:pt x="4335" y="97"/>
                    </a:lnTo>
                    <a:lnTo>
                      <a:pt x="3836" y="219"/>
                    </a:lnTo>
                    <a:lnTo>
                      <a:pt x="3350" y="388"/>
                    </a:lnTo>
                    <a:lnTo>
                      <a:pt x="2881" y="602"/>
                    </a:lnTo>
                    <a:lnTo>
                      <a:pt x="2433" y="864"/>
                    </a:lnTo>
                    <a:lnTo>
                      <a:pt x="2007" y="1171"/>
                    </a:lnTo>
                    <a:lnTo>
                      <a:pt x="1611" y="1522"/>
                    </a:lnTo>
                    <a:lnTo>
                      <a:pt x="1246" y="1917"/>
                    </a:lnTo>
                    <a:lnTo>
                      <a:pt x="918" y="2355"/>
                    </a:lnTo>
                    <a:lnTo>
                      <a:pt x="634" y="2823"/>
                    </a:lnTo>
                    <a:lnTo>
                      <a:pt x="404" y="3309"/>
                    </a:lnTo>
                    <a:lnTo>
                      <a:pt x="227" y="3808"/>
                    </a:lnTo>
                    <a:lnTo>
                      <a:pt x="100" y="4316"/>
                    </a:lnTo>
                    <a:lnTo>
                      <a:pt x="25" y="4829"/>
                    </a:lnTo>
                    <a:lnTo>
                      <a:pt x="0" y="5345"/>
                    </a:lnTo>
                    <a:lnTo>
                      <a:pt x="25" y="5858"/>
                    </a:lnTo>
                    <a:lnTo>
                      <a:pt x="98" y="6366"/>
                    </a:lnTo>
                    <a:lnTo>
                      <a:pt x="219" y="6865"/>
                    </a:lnTo>
                    <a:lnTo>
                      <a:pt x="388" y="7351"/>
                    </a:lnTo>
                    <a:lnTo>
                      <a:pt x="604" y="7820"/>
                    </a:lnTo>
                    <a:lnTo>
                      <a:pt x="865" y="8268"/>
                    </a:lnTo>
                    <a:lnTo>
                      <a:pt x="1172" y="8693"/>
                    </a:lnTo>
                    <a:lnTo>
                      <a:pt x="1523" y="9090"/>
                    </a:lnTo>
                    <a:lnTo>
                      <a:pt x="1917" y="9455"/>
                    </a:lnTo>
                    <a:lnTo>
                      <a:pt x="2355" y="9784"/>
                    </a:lnTo>
                    <a:close/>
                  </a:path>
                </a:pathLst>
              </a:custGeom>
              <a:solidFill>
                <a:srgbClr val="263f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0600" y="137880"/>
                <a:ext cx="816120" cy="806400"/>
              </a:xfrm>
              <a:custGeom>
                <a:avLst/>
                <a:gdLst/>
                <a:ahLst/>
                <a:rect l="l" t="t" r="r" b="b"/>
                <a:pathLst>
                  <a:path w="10540" h="10542">
                    <a:moveTo>
                      <a:pt x="2319" y="9638"/>
                    </a:moveTo>
                    <a:lnTo>
                      <a:pt x="2781" y="9917"/>
                    </a:lnTo>
                    <a:lnTo>
                      <a:pt x="3259" y="10143"/>
                    </a:lnTo>
                    <a:lnTo>
                      <a:pt x="3750" y="10319"/>
                    </a:lnTo>
                    <a:lnTo>
                      <a:pt x="4250" y="10443"/>
                    </a:lnTo>
                    <a:lnTo>
                      <a:pt x="4756" y="10517"/>
                    </a:lnTo>
                    <a:lnTo>
                      <a:pt x="5264" y="10542"/>
                    </a:lnTo>
                    <a:lnTo>
                      <a:pt x="5770" y="10517"/>
                    </a:lnTo>
                    <a:lnTo>
                      <a:pt x="6271" y="10445"/>
                    </a:lnTo>
                    <a:lnTo>
                      <a:pt x="6762" y="10326"/>
                    </a:lnTo>
                    <a:lnTo>
                      <a:pt x="7240" y="10160"/>
                    </a:lnTo>
                    <a:lnTo>
                      <a:pt x="7703" y="9948"/>
                    </a:lnTo>
                    <a:lnTo>
                      <a:pt x="8144" y="9690"/>
                    </a:lnTo>
                    <a:lnTo>
                      <a:pt x="8562" y="9389"/>
                    </a:lnTo>
                    <a:lnTo>
                      <a:pt x="8953" y="9043"/>
                    </a:lnTo>
                    <a:lnTo>
                      <a:pt x="9311" y="8654"/>
                    </a:lnTo>
                    <a:lnTo>
                      <a:pt x="9637" y="8223"/>
                    </a:lnTo>
                    <a:lnTo>
                      <a:pt x="9915" y="7761"/>
                    </a:lnTo>
                    <a:lnTo>
                      <a:pt x="10142" y="7283"/>
                    </a:lnTo>
                    <a:lnTo>
                      <a:pt x="10317" y="6791"/>
                    </a:lnTo>
                    <a:lnTo>
                      <a:pt x="10441" y="6292"/>
                    </a:lnTo>
                    <a:lnTo>
                      <a:pt x="10516" y="5786"/>
                    </a:lnTo>
                    <a:lnTo>
                      <a:pt x="10540" y="5278"/>
                    </a:lnTo>
                    <a:lnTo>
                      <a:pt x="10516" y="4772"/>
                    </a:lnTo>
                    <a:lnTo>
                      <a:pt x="10444" y="4271"/>
                    </a:lnTo>
                    <a:lnTo>
                      <a:pt x="10324" y="3780"/>
                    </a:lnTo>
                    <a:lnTo>
                      <a:pt x="10159" y="3300"/>
                    </a:lnTo>
                    <a:lnTo>
                      <a:pt x="9946" y="2839"/>
                    </a:lnTo>
                    <a:lnTo>
                      <a:pt x="9689" y="2397"/>
                    </a:lnTo>
                    <a:lnTo>
                      <a:pt x="9387" y="1979"/>
                    </a:lnTo>
                    <a:lnTo>
                      <a:pt x="9041" y="1588"/>
                    </a:lnTo>
                    <a:lnTo>
                      <a:pt x="8652" y="1229"/>
                    </a:lnTo>
                    <a:lnTo>
                      <a:pt x="8222" y="905"/>
                    </a:lnTo>
                    <a:lnTo>
                      <a:pt x="7759" y="626"/>
                    </a:lnTo>
                    <a:lnTo>
                      <a:pt x="7281" y="398"/>
                    </a:lnTo>
                    <a:lnTo>
                      <a:pt x="6790" y="224"/>
                    </a:lnTo>
                    <a:lnTo>
                      <a:pt x="6290" y="99"/>
                    </a:lnTo>
                    <a:lnTo>
                      <a:pt x="5784" y="25"/>
                    </a:lnTo>
                    <a:lnTo>
                      <a:pt x="5276" y="0"/>
                    </a:lnTo>
                    <a:lnTo>
                      <a:pt x="4770" y="24"/>
                    </a:lnTo>
                    <a:lnTo>
                      <a:pt x="4269" y="96"/>
                    </a:lnTo>
                    <a:lnTo>
                      <a:pt x="3778" y="216"/>
                    </a:lnTo>
                    <a:lnTo>
                      <a:pt x="3299" y="382"/>
                    </a:lnTo>
                    <a:lnTo>
                      <a:pt x="2837" y="595"/>
                    </a:lnTo>
                    <a:lnTo>
                      <a:pt x="2396" y="852"/>
                    </a:lnTo>
                    <a:lnTo>
                      <a:pt x="1978" y="1154"/>
                    </a:lnTo>
                    <a:lnTo>
                      <a:pt x="1587" y="1500"/>
                    </a:lnTo>
                    <a:lnTo>
                      <a:pt x="1228" y="1890"/>
                    </a:lnTo>
                    <a:lnTo>
                      <a:pt x="904" y="2321"/>
                    </a:lnTo>
                    <a:lnTo>
                      <a:pt x="625" y="2783"/>
                    </a:lnTo>
                    <a:lnTo>
                      <a:pt x="398" y="3261"/>
                    </a:lnTo>
                    <a:lnTo>
                      <a:pt x="223" y="3752"/>
                    </a:lnTo>
                    <a:lnTo>
                      <a:pt x="98" y="4252"/>
                    </a:lnTo>
                    <a:lnTo>
                      <a:pt x="24" y="4758"/>
                    </a:lnTo>
                    <a:lnTo>
                      <a:pt x="0" y="5266"/>
                    </a:lnTo>
                    <a:lnTo>
                      <a:pt x="24" y="5772"/>
                    </a:lnTo>
                    <a:lnTo>
                      <a:pt x="96" y="6273"/>
                    </a:lnTo>
                    <a:lnTo>
                      <a:pt x="215" y="6764"/>
                    </a:lnTo>
                    <a:lnTo>
                      <a:pt x="381" y="7242"/>
                    </a:lnTo>
                    <a:lnTo>
                      <a:pt x="594" y="7705"/>
                    </a:lnTo>
                    <a:lnTo>
                      <a:pt x="851" y="8146"/>
                    </a:lnTo>
                    <a:lnTo>
                      <a:pt x="1153" y="8564"/>
                    </a:lnTo>
                    <a:lnTo>
                      <a:pt x="1499" y="8955"/>
                    </a:lnTo>
                    <a:lnTo>
                      <a:pt x="1888" y="9313"/>
                    </a:lnTo>
                    <a:lnTo>
                      <a:pt x="2319" y="9638"/>
                    </a:lnTo>
                    <a:close/>
                  </a:path>
                </a:pathLst>
              </a:custGeom>
              <a:solidFill>
                <a:srgbClr val="28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19960" y="140760"/>
                <a:ext cx="803880" cy="794520"/>
              </a:xfrm>
              <a:custGeom>
                <a:avLst/>
                <a:gdLst/>
                <a:ahLst/>
                <a:rect l="l" t="t" r="r" b="b"/>
                <a:pathLst>
                  <a:path w="10380" h="10381">
                    <a:moveTo>
                      <a:pt x="2283" y="9490"/>
                    </a:moveTo>
                    <a:lnTo>
                      <a:pt x="2737" y="9765"/>
                    </a:lnTo>
                    <a:lnTo>
                      <a:pt x="3208" y="9988"/>
                    </a:lnTo>
                    <a:lnTo>
                      <a:pt x="3692" y="10161"/>
                    </a:lnTo>
                    <a:lnTo>
                      <a:pt x="4185" y="10284"/>
                    </a:lnTo>
                    <a:lnTo>
                      <a:pt x="4684" y="10357"/>
                    </a:lnTo>
                    <a:lnTo>
                      <a:pt x="5183" y="10381"/>
                    </a:lnTo>
                    <a:lnTo>
                      <a:pt x="5682" y="10357"/>
                    </a:lnTo>
                    <a:lnTo>
                      <a:pt x="6175" y="10287"/>
                    </a:lnTo>
                    <a:lnTo>
                      <a:pt x="6659" y="10169"/>
                    </a:lnTo>
                    <a:lnTo>
                      <a:pt x="7130" y="10005"/>
                    </a:lnTo>
                    <a:lnTo>
                      <a:pt x="7585" y="9796"/>
                    </a:lnTo>
                    <a:lnTo>
                      <a:pt x="8020" y="9543"/>
                    </a:lnTo>
                    <a:lnTo>
                      <a:pt x="8432" y="9245"/>
                    </a:lnTo>
                    <a:lnTo>
                      <a:pt x="8816" y="8905"/>
                    </a:lnTo>
                    <a:lnTo>
                      <a:pt x="9170" y="8522"/>
                    </a:lnTo>
                    <a:lnTo>
                      <a:pt x="9490" y="8098"/>
                    </a:lnTo>
                    <a:lnTo>
                      <a:pt x="9764" y="7643"/>
                    </a:lnTo>
                    <a:lnTo>
                      <a:pt x="9988" y="7172"/>
                    </a:lnTo>
                    <a:lnTo>
                      <a:pt x="10160" y="6688"/>
                    </a:lnTo>
                    <a:lnTo>
                      <a:pt x="10282" y="6195"/>
                    </a:lnTo>
                    <a:lnTo>
                      <a:pt x="10356" y="5696"/>
                    </a:lnTo>
                    <a:lnTo>
                      <a:pt x="10380" y="5197"/>
                    </a:lnTo>
                    <a:lnTo>
                      <a:pt x="10356" y="4698"/>
                    </a:lnTo>
                    <a:lnTo>
                      <a:pt x="10284" y="4206"/>
                    </a:lnTo>
                    <a:lnTo>
                      <a:pt x="10166" y="3721"/>
                    </a:lnTo>
                    <a:lnTo>
                      <a:pt x="10003" y="3250"/>
                    </a:lnTo>
                    <a:lnTo>
                      <a:pt x="9794" y="2795"/>
                    </a:lnTo>
                    <a:lnTo>
                      <a:pt x="9541" y="2360"/>
                    </a:lnTo>
                    <a:lnTo>
                      <a:pt x="9244" y="1948"/>
                    </a:lnTo>
                    <a:lnTo>
                      <a:pt x="8903" y="1564"/>
                    </a:lnTo>
                    <a:lnTo>
                      <a:pt x="8521" y="1210"/>
                    </a:lnTo>
                    <a:lnTo>
                      <a:pt x="8096" y="891"/>
                    </a:lnTo>
                    <a:lnTo>
                      <a:pt x="7641" y="616"/>
                    </a:lnTo>
                    <a:lnTo>
                      <a:pt x="7170" y="393"/>
                    </a:lnTo>
                    <a:lnTo>
                      <a:pt x="6687" y="219"/>
                    </a:lnTo>
                    <a:lnTo>
                      <a:pt x="6193" y="97"/>
                    </a:lnTo>
                    <a:lnTo>
                      <a:pt x="5696" y="24"/>
                    </a:lnTo>
                    <a:lnTo>
                      <a:pt x="5195" y="0"/>
                    </a:lnTo>
                    <a:lnTo>
                      <a:pt x="4698" y="24"/>
                    </a:lnTo>
                    <a:lnTo>
                      <a:pt x="4204" y="95"/>
                    </a:lnTo>
                    <a:lnTo>
                      <a:pt x="3721" y="213"/>
                    </a:lnTo>
                    <a:lnTo>
                      <a:pt x="3250" y="377"/>
                    </a:lnTo>
                    <a:lnTo>
                      <a:pt x="2795" y="585"/>
                    </a:lnTo>
                    <a:lnTo>
                      <a:pt x="2359" y="839"/>
                    </a:lnTo>
                    <a:lnTo>
                      <a:pt x="1947" y="1137"/>
                    </a:lnTo>
                    <a:lnTo>
                      <a:pt x="1564" y="1477"/>
                    </a:lnTo>
                    <a:lnTo>
                      <a:pt x="1210" y="1860"/>
                    </a:lnTo>
                    <a:lnTo>
                      <a:pt x="891" y="2285"/>
                    </a:lnTo>
                    <a:lnTo>
                      <a:pt x="615" y="2739"/>
                    </a:lnTo>
                    <a:lnTo>
                      <a:pt x="392" y="3210"/>
                    </a:lnTo>
                    <a:lnTo>
                      <a:pt x="219" y="3693"/>
                    </a:lnTo>
                    <a:lnTo>
                      <a:pt x="96" y="4187"/>
                    </a:lnTo>
                    <a:lnTo>
                      <a:pt x="23" y="4684"/>
                    </a:lnTo>
                    <a:lnTo>
                      <a:pt x="0" y="5185"/>
                    </a:lnTo>
                    <a:lnTo>
                      <a:pt x="23" y="5683"/>
                    </a:lnTo>
                    <a:lnTo>
                      <a:pt x="94" y="6176"/>
                    </a:lnTo>
                    <a:lnTo>
                      <a:pt x="212" y="6659"/>
                    </a:lnTo>
                    <a:lnTo>
                      <a:pt x="376" y="7130"/>
                    </a:lnTo>
                    <a:lnTo>
                      <a:pt x="584" y="7585"/>
                    </a:lnTo>
                    <a:lnTo>
                      <a:pt x="837" y="8021"/>
                    </a:lnTo>
                    <a:lnTo>
                      <a:pt x="1135" y="8433"/>
                    </a:lnTo>
                    <a:lnTo>
                      <a:pt x="1475" y="8816"/>
                    </a:lnTo>
                    <a:lnTo>
                      <a:pt x="1858" y="9170"/>
                    </a:lnTo>
                    <a:lnTo>
                      <a:pt x="2283" y="9490"/>
                    </a:lnTo>
                    <a:close/>
                  </a:path>
                </a:pathLst>
              </a:custGeom>
              <a:solidFill>
                <a:srgbClr val="2a4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9320" y="142560"/>
                <a:ext cx="790920" cy="782280"/>
              </a:xfrm>
              <a:custGeom>
                <a:avLst/>
                <a:gdLst/>
                <a:ahLst/>
                <a:rect l="l" t="t" r="r" b="b"/>
                <a:pathLst>
                  <a:path w="10220" h="10221">
                    <a:moveTo>
                      <a:pt x="2249" y="9344"/>
                    </a:moveTo>
                    <a:lnTo>
                      <a:pt x="2696" y="9614"/>
                    </a:lnTo>
                    <a:lnTo>
                      <a:pt x="3160" y="9834"/>
                    </a:lnTo>
                    <a:lnTo>
                      <a:pt x="3637" y="10004"/>
                    </a:lnTo>
                    <a:lnTo>
                      <a:pt x="4122" y="10125"/>
                    </a:lnTo>
                    <a:lnTo>
                      <a:pt x="4612" y="10196"/>
                    </a:lnTo>
                    <a:lnTo>
                      <a:pt x="5104" y="10221"/>
                    </a:lnTo>
                    <a:lnTo>
                      <a:pt x="5595" y="10197"/>
                    </a:lnTo>
                    <a:lnTo>
                      <a:pt x="6081" y="10127"/>
                    </a:lnTo>
                    <a:lnTo>
                      <a:pt x="6557" y="10011"/>
                    </a:lnTo>
                    <a:lnTo>
                      <a:pt x="7021" y="9850"/>
                    </a:lnTo>
                    <a:lnTo>
                      <a:pt x="7469" y="9644"/>
                    </a:lnTo>
                    <a:lnTo>
                      <a:pt x="7898" y="9395"/>
                    </a:lnTo>
                    <a:lnTo>
                      <a:pt x="8303" y="9102"/>
                    </a:lnTo>
                    <a:lnTo>
                      <a:pt x="8681" y="8766"/>
                    </a:lnTo>
                    <a:lnTo>
                      <a:pt x="9030" y="8390"/>
                    </a:lnTo>
                    <a:lnTo>
                      <a:pt x="9345" y="7972"/>
                    </a:lnTo>
                    <a:lnTo>
                      <a:pt x="9615" y="7525"/>
                    </a:lnTo>
                    <a:lnTo>
                      <a:pt x="9835" y="7060"/>
                    </a:lnTo>
                    <a:lnTo>
                      <a:pt x="10004" y="6584"/>
                    </a:lnTo>
                    <a:lnTo>
                      <a:pt x="10125" y="6099"/>
                    </a:lnTo>
                    <a:lnTo>
                      <a:pt x="10196" y="5609"/>
                    </a:lnTo>
                    <a:lnTo>
                      <a:pt x="10220" y="5117"/>
                    </a:lnTo>
                    <a:lnTo>
                      <a:pt x="10196" y="4626"/>
                    </a:lnTo>
                    <a:lnTo>
                      <a:pt x="10127" y="4141"/>
                    </a:lnTo>
                    <a:lnTo>
                      <a:pt x="10010" y="3664"/>
                    </a:lnTo>
                    <a:lnTo>
                      <a:pt x="9850" y="3200"/>
                    </a:lnTo>
                    <a:lnTo>
                      <a:pt x="9643" y="2752"/>
                    </a:lnTo>
                    <a:lnTo>
                      <a:pt x="9395" y="2323"/>
                    </a:lnTo>
                    <a:lnTo>
                      <a:pt x="9101" y="1918"/>
                    </a:lnTo>
                    <a:lnTo>
                      <a:pt x="8766" y="1540"/>
                    </a:lnTo>
                    <a:lnTo>
                      <a:pt x="8390" y="1191"/>
                    </a:lnTo>
                    <a:lnTo>
                      <a:pt x="7972" y="877"/>
                    </a:lnTo>
                    <a:lnTo>
                      <a:pt x="7525" y="606"/>
                    </a:lnTo>
                    <a:lnTo>
                      <a:pt x="7060" y="386"/>
                    </a:lnTo>
                    <a:lnTo>
                      <a:pt x="6584" y="216"/>
                    </a:lnTo>
                    <a:lnTo>
                      <a:pt x="6099" y="96"/>
                    </a:lnTo>
                    <a:lnTo>
                      <a:pt x="5609" y="24"/>
                    </a:lnTo>
                    <a:lnTo>
                      <a:pt x="5117" y="0"/>
                    </a:lnTo>
                    <a:lnTo>
                      <a:pt x="4625" y="24"/>
                    </a:lnTo>
                    <a:lnTo>
                      <a:pt x="4141" y="94"/>
                    </a:lnTo>
                    <a:lnTo>
                      <a:pt x="3664" y="210"/>
                    </a:lnTo>
                    <a:lnTo>
                      <a:pt x="3200" y="370"/>
                    </a:lnTo>
                    <a:lnTo>
                      <a:pt x="2752" y="576"/>
                    </a:lnTo>
                    <a:lnTo>
                      <a:pt x="2324" y="826"/>
                    </a:lnTo>
                    <a:lnTo>
                      <a:pt x="1919" y="1119"/>
                    </a:lnTo>
                    <a:lnTo>
                      <a:pt x="1540" y="1453"/>
                    </a:lnTo>
                    <a:lnTo>
                      <a:pt x="1192" y="1831"/>
                    </a:lnTo>
                    <a:lnTo>
                      <a:pt x="878" y="2250"/>
                    </a:lnTo>
                    <a:lnTo>
                      <a:pt x="607" y="2696"/>
                    </a:lnTo>
                    <a:lnTo>
                      <a:pt x="387" y="3161"/>
                    </a:lnTo>
                    <a:lnTo>
                      <a:pt x="217" y="3637"/>
                    </a:lnTo>
                    <a:lnTo>
                      <a:pt x="97" y="4122"/>
                    </a:lnTo>
                    <a:lnTo>
                      <a:pt x="24" y="4612"/>
                    </a:lnTo>
                    <a:lnTo>
                      <a:pt x="0" y="5104"/>
                    </a:lnTo>
                    <a:lnTo>
                      <a:pt x="23" y="5595"/>
                    </a:lnTo>
                    <a:lnTo>
                      <a:pt x="93" y="6080"/>
                    </a:lnTo>
                    <a:lnTo>
                      <a:pt x="209" y="6556"/>
                    </a:lnTo>
                    <a:lnTo>
                      <a:pt x="371" y="7021"/>
                    </a:lnTo>
                    <a:lnTo>
                      <a:pt x="576" y="7468"/>
                    </a:lnTo>
                    <a:lnTo>
                      <a:pt x="826" y="7897"/>
                    </a:lnTo>
                    <a:lnTo>
                      <a:pt x="1118" y="8302"/>
                    </a:lnTo>
                    <a:lnTo>
                      <a:pt x="1454" y="8680"/>
                    </a:lnTo>
                    <a:lnTo>
                      <a:pt x="1831" y="9029"/>
                    </a:lnTo>
                    <a:lnTo>
                      <a:pt x="2249" y="9344"/>
                    </a:lnTo>
                    <a:close/>
                  </a:path>
                </a:pathLst>
              </a:custGeom>
              <a:solidFill>
                <a:srgbClr val="2c46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8320" y="145440"/>
                <a:ext cx="779040" cy="769320"/>
              </a:xfrm>
              <a:custGeom>
                <a:avLst/>
                <a:gdLst/>
                <a:ahLst/>
                <a:rect l="l" t="t" r="r" b="b"/>
                <a:pathLst>
                  <a:path w="10059" h="10060">
                    <a:moveTo>
                      <a:pt x="2215" y="9198"/>
                    </a:moveTo>
                    <a:lnTo>
                      <a:pt x="2655" y="9464"/>
                    </a:lnTo>
                    <a:lnTo>
                      <a:pt x="3111" y="9681"/>
                    </a:lnTo>
                    <a:lnTo>
                      <a:pt x="3580" y="9847"/>
                    </a:lnTo>
                    <a:lnTo>
                      <a:pt x="4057" y="9966"/>
                    </a:lnTo>
                    <a:lnTo>
                      <a:pt x="4540" y="10037"/>
                    </a:lnTo>
                    <a:lnTo>
                      <a:pt x="5024" y="10060"/>
                    </a:lnTo>
                    <a:lnTo>
                      <a:pt x="5507" y="10037"/>
                    </a:lnTo>
                    <a:lnTo>
                      <a:pt x="5984" y="9969"/>
                    </a:lnTo>
                    <a:lnTo>
                      <a:pt x="6453" y="9854"/>
                    </a:lnTo>
                    <a:lnTo>
                      <a:pt x="6910" y="9695"/>
                    </a:lnTo>
                    <a:lnTo>
                      <a:pt x="7351" y="9493"/>
                    </a:lnTo>
                    <a:lnTo>
                      <a:pt x="7772" y="9248"/>
                    </a:lnTo>
                    <a:lnTo>
                      <a:pt x="8172" y="8960"/>
                    </a:lnTo>
                    <a:lnTo>
                      <a:pt x="8544" y="8629"/>
                    </a:lnTo>
                    <a:lnTo>
                      <a:pt x="8887" y="8258"/>
                    </a:lnTo>
                    <a:lnTo>
                      <a:pt x="9197" y="7848"/>
                    </a:lnTo>
                    <a:lnTo>
                      <a:pt x="9463" y="7407"/>
                    </a:lnTo>
                    <a:lnTo>
                      <a:pt x="9680" y="6949"/>
                    </a:lnTo>
                    <a:lnTo>
                      <a:pt x="9847" y="6481"/>
                    </a:lnTo>
                    <a:lnTo>
                      <a:pt x="9966" y="6003"/>
                    </a:lnTo>
                    <a:lnTo>
                      <a:pt x="10036" y="5521"/>
                    </a:lnTo>
                    <a:lnTo>
                      <a:pt x="10059" y="5036"/>
                    </a:lnTo>
                    <a:lnTo>
                      <a:pt x="10036" y="4553"/>
                    </a:lnTo>
                    <a:lnTo>
                      <a:pt x="9968" y="4075"/>
                    </a:lnTo>
                    <a:lnTo>
                      <a:pt x="9853" y="3606"/>
                    </a:lnTo>
                    <a:lnTo>
                      <a:pt x="9695" y="3150"/>
                    </a:lnTo>
                    <a:lnTo>
                      <a:pt x="9493" y="2709"/>
                    </a:lnTo>
                    <a:lnTo>
                      <a:pt x="9247" y="2287"/>
                    </a:lnTo>
                    <a:lnTo>
                      <a:pt x="8959" y="1888"/>
                    </a:lnTo>
                    <a:lnTo>
                      <a:pt x="8628" y="1515"/>
                    </a:lnTo>
                    <a:lnTo>
                      <a:pt x="8257" y="1173"/>
                    </a:lnTo>
                    <a:lnTo>
                      <a:pt x="7847" y="863"/>
                    </a:lnTo>
                    <a:lnTo>
                      <a:pt x="7406" y="597"/>
                    </a:lnTo>
                    <a:lnTo>
                      <a:pt x="6950" y="380"/>
                    </a:lnTo>
                    <a:lnTo>
                      <a:pt x="6481" y="213"/>
                    </a:lnTo>
                    <a:lnTo>
                      <a:pt x="6003" y="94"/>
                    </a:lnTo>
                    <a:lnTo>
                      <a:pt x="5520" y="24"/>
                    </a:lnTo>
                    <a:lnTo>
                      <a:pt x="5036" y="0"/>
                    </a:lnTo>
                    <a:lnTo>
                      <a:pt x="4552" y="24"/>
                    </a:lnTo>
                    <a:lnTo>
                      <a:pt x="4075" y="92"/>
                    </a:lnTo>
                    <a:lnTo>
                      <a:pt x="3606" y="206"/>
                    </a:lnTo>
                    <a:lnTo>
                      <a:pt x="3149" y="365"/>
                    </a:lnTo>
                    <a:lnTo>
                      <a:pt x="2709" y="567"/>
                    </a:lnTo>
                    <a:lnTo>
                      <a:pt x="2287" y="812"/>
                    </a:lnTo>
                    <a:lnTo>
                      <a:pt x="1888" y="1100"/>
                    </a:lnTo>
                    <a:lnTo>
                      <a:pt x="1515" y="1431"/>
                    </a:lnTo>
                    <a:lnTo>
                      <a:pt x="1173" y="1802"/>
                    </a:lnTo>
                    <a:lnTo>
                      <a:pt x="863" y="2213"/>
                    </a:lnTo>
                    <a:lnTo>
                      <a:pt x="596" y="2654"/>
                    </a:lnTo>
                    <a:lnTo>
                      <a:pt x="381" y="3111"/>
                    </a:lnTo>
                    <a:lnTo>
                      <a:pt x="213" y="3580"/>
                    </a:lnTo>
                    <a:lnTo>
                      <a:pt x="95" y="4057"/>
                    </a:lnTo>
                    <a:lnTo>
                      <a:pt x="23" y="4539"/>
                    </a:lnTo>
                    <a:lnTo>
                      <a:pt x="0" y="5024"/>
                    </a:lnTo>
                    <a:lnTo>
                      <a:pt x="23" y="5507"/>
                    </a:lnTo>
                    <a:lnTo>
                      <a:pt x="93" y="5985"/>
                    </a:lnTo>
                    <a:lnTo>
                      <a:pt x="206" y="6454"/>
                    </a:lnTo>
                    <a:lnTo>
                      <a:pt x="365" y="6910"/>
                    </a:lnTo>
                    <a:lnTo>
                      <a:pt x="568" y="7351"/>
                    </a:lnTo>
                    <a:lnTo>
                      <a:pt x="813" y="7773"/>
                    </a:lnTo>
                    <a:lnTo>
                      <a:pt x="1101" y="8172"/>
                    </a:lnTo>
                    <a:lnTo>
                      <a:pt x="1431" y="8545"/>
                    </a:lnTo>
                    <a:lnTo>
                      <a:pt x="1802" y="8887"/>
                    </a:lnTo>
                    <a:lnTo>
                      <a:pt x="2215" y="9198"/>
                    </a:lnTo>
                    <a:close/>
                  </a:path>
                </a:pathLst>
              </a:custGeom>
              <a:solidFill>
                <a:srgbClr val="2f4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47680" y="147960"/>
                <a:ext cx="766800" cy="757440"/>
              </a:xfrm>
              <a:custGeom>
                <a:avLst/>
                <a:gdLst/>
                <a:ahLst/>
                <a:rect l="l" t="t" r="r" b="b"/>
                <a:pathLst>
                  <a:path w="9899" h="9899">
                    <a:moveTo>
                      <a:pt x="2179" y="9051"/>
                    </a:moveTo>
                    <a:lnTo>
                      <a:pt x="2611" y="9313"/>
                    </a:lnTo>
                    <a:lnTo>
                      <a:pt x="3061" y="9525"/>
                    </a:lnTo>
                    <a:lnTo>
                      <a:pt x="3522" y="9690"/>
                    </a:lnTo>
                    <a:lnTo>
                      <a:pt x="3992" y="9807"/>
                    </a:lnTo>
                    <a:lnTo>
                      <a:pt x="4467" y="9876"/>
                    </a:lnTo>
                    <a:lnTo>
                      <a:pt x="4944" y="9899"/>
                    </a:lnTo>
                    <a:lnTo>
                      <a:pt x="5419" y="9876"/>
                    </a:lnTo>
                    <a:lnTo>
                      <a:pt x="5889" y="9808"/>
                    </a:lnTo>
                    <a:lnTo>
                      <a:pt x="6350" y="9696"/>
                    </a:lnTo>
                    <a:lnTo>
                      <a:pt x="6800" y="9540"/>
                    </a:lnTo>
                    <a:lnTo>
                      <a:pt x="7234" y="9340"/>
                    </a:lnTo>
                    <a:lnTo>
                      <a:pt x="7649" y="9099"/>
                    </a:lnTo>
                    <a:lnTo>
                      <a:pt x="8042" y="8815"/>
                    </a:lnTo>
                    <a:lnTo>
                      <a:pt x="8408" y="8491"/>
                    </a:lnTo>
                    <a:lnTo>
                      <a:pt x="8745" y="8125"/>
                    </a:lnTo>
                    <a:lnTo>
                      <a:pt x="9051" y="7721"/>
                    </a:lnTo>
                    <a:lnTo>
                      <a:pt x="9312" y="7287"/>
                    </a:lnTo>
                    <a:lnTo>
                      <a:pt x="9525" y="6838"/>
                    </a:lnTo>
                    <a:lnTo>
                      <a:pt x="9689" y="6377"/>
                    </a:lnTo>
                    <a:lnTo>
                      <a:pt x="9806" y="5908"/>
                    </a:lnTo>
                    <a:lnTo>
                      <a:pt x="9876" y="5432"/>
                    </a:lnTo>
                    <a:lnTo>
                      <a:pt x="9899" y="4955"/>
                    </a:lnTo>
                    <a:lnTo>
                      <a:pt x="9877" y="4480"/>
                    </a:lnTo>
                    <a:lnTo>
                      <a:pt x="9809" y="4010"/>
                    </a:lnTo>
                    <a:lnTo>
                      <a:pt x="9696" y="3549"/>
                    </a:lnTo>
                    <a:lnTo>
                      <a:pt x="9540" y="3100"/>
                    </a:lnTo>
                    <a:lnTo>
                      <a:pt x="9341" y="2666"/>
                    </a:lnTo>
                    <a:lnTo>
                      <a:pt x="9099" y="2251"/>
                    </a:lnTo>
                    <a:lnTo>
                      <a:pt x="8816" y="1858"/>
                    </a:lnTo>
                    <a:lnTo>
                      <a:pt x="8491" y="1492"/>
                    </a:lnTo>
                    <a:lnTo>
                      <a:pt x="8126" y="1155"/>
                    </a:lnTo>
                    <a:lnTo>
                      <a:pt x="7722" y="851"/>
                    </a:lnTo>
                    <a:lnTo>
                      <a:pt x="7288" y="588"/>
                    </a:lnTo>
                    <a:lnTo>
                      <a:pt x="6838" y="374"/>
                    </a:lnTo>
                    <a:lnTo>
                      <a:pt x="6377" y="211"/>
                    </a:lnTo>
                    <a:lnTo>
                      <a:pt x="5907" y="94"/>
                    </a:lnTo>
                    <a:lnTo>
                      <a:pt x="5432" y="23"/>
                    </a:lnTo>
                    <a:lnTo>
                      <a:pt x="4954" y="0"/>
                    </a:lnTo>
                    <a:lnTo>
                      <a:pt x="4479" y="23"/>
                    </a:lnTo>
                    <a:lnTo>
                      <a:pt x="4009" y="90"/>
                    </a:lnTo>
                    <a:lnTo>
                      <a:pt x="3548" y="203"/>
                    </a:lnTo>
                    <a:lnTo>
                      <a:pt x="3099" y="359"/>
                    </a:lnTo>
                    <a:lnTo>
                      <a:pt x="2665" y="558"/>
                    </a:lnTo>
                    <a:lnTo>
                      <a:pt x="2250" y="799"/>
                    </a:lnTo>
                    <a:lnTo>
                      <a:pt x="1858" y="1083"/>
                    </a:lnTo>
                    <a:lnTo>
                      <a:pt x="1491" y="1408"/>
                    </a:lnTo>
                    <a:lnTo>
                      <a:pt x="1154" y="1773"/>
                    </a:lnTo>
                    <a:lnTo>
                      <a:pt x="850" y="2178"/>
                    </a:lnTo>
                    <a:lnTo>
                      <a:pt x="587" y="2611"/>
                    </a:lnTo>
                    <a:lnTo>
                      <a:pt x="374" y="3061"/>
                    </a:lnTo>
                    <a:lnTo>
                      <a:pt x="210" y="3522"/>
                    </a:lnTo>
                    <a:lnTo>
                      <a:pt x="93" y="3992"/>
                    </a:lnTo>
                    <a:lnTo>
                      <a:pt x="24" y="4467"/>
                    </a:lnTo>
                    <a:lnTo>
                      <a:pt x="0" y="4944"/>
                    </a:lnTo>
                    <a:lnTo>
                      <a:pt x="23" y="5420"/>
                    </a:lnTo>
                    <a:lnTo>
                      <a:pt x="91" y="5889"/>
                    </a:lnTo>
                    <a:lnTo>
                      <a:pt x="203" y="6351"/>
                    </a:lnTo>
                    <a:lnTo>
                      <a:pt x="360" y="6801"/>
                    </a:lnTo>
                    <a:lnTo>
                      <a:pt x="558" y="7234"/>
                    </a:lnTo>
                    <a:lnTo>
                      <a:pt x="800" y="7650"/>
                    </a:lnTo>
                    <a:lnTo>
                      <a:pt x="1084" y="8042"/>
                    </a:lnTo>
                    <a:lnTo>
                      <a:pt x="1408" y="8409"/>
                    </a:lnTo>
                    <a:lnTo>
                      <a:pt x="1774" y="8746"/>
                    </a:lnTo>
                    <a:lnTo>
                      <a:pt x="2179" y="9051"/>
                    </a:lnTo>
                    <a:close/>
                  </a:path>
                </a:pathLst>
              </a:custGeom>
              <a:solidFill>
                <a:srgbClr val="314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57040" y="150120"/>
                <a:ext cx="754920" cy="745560"/>
              </a:xfrm>
              <a:custGeom>
                <a:avLst/>
                <a:gdLst/>
                <a:ahLst/>
                <a:rect l="l" t="t" r="r" b="b"/>
                <a:pathLst>
                  <a:path w="9739" h="9738">
                    <a:moveTo>
                      <a:pt x="2144" y="8903"/>
                    </a:moveTo>
                    <a:lnTo>
                      <a:pt x="2570" y="9161"/>
                    </a:lnTo>
                    <a:lnTo>
                      <a:pt x="3011" y="9370"/>
                    </a:lnTo>
                    <a:lnTo>
                      <a:pt x="3465" y="9532"/>
                    </a:lnTo>
                    <a:lnTo>
                      <a:pt x="3928" y="9646"/>
                    </a:lnTo>
                    <a:lnTo>
                      <a:pt x="4394" y="9715"/>
                    </a:lnTo>
                    <a:lnTo>
                      <a:pt x="4864" y="9738"/>
                    </a:lnTo>
                    <a:lnTo>
                      <a:pt x="5331" y="9715"/>
                    </a:lnTo>
                    <a:lnTo>
                      <a:pt x="5793" y="9648"/>
                    </a:lnTo>
                    <a:lnTo>
                      <a:pt x="6247" y="9538"/>
                    </a:lnTo>
                    <a:lnTo>
                      <a:pt x="6690" y="9385"/>
                    </a:lnTo>
                    <a:lnTo>
                      <a:pt x="7116" y="9188"/>
                    </a:lnTo>
                    <a:lnTo>
                      <a:pt x="7524" y="8951"/>
                    </a:lnTo>
                    <a:lnTo>
                      <a:pt x="7910" y="8672"/>
                    </a:lnTo>
                    <a:lnTo>
                      <a:pt x="8271" y="8353"/>
                    </a:lnTo>
                    <a:lnTo>
                      <a:pt x="8603" y="7993"/>
                    </a:lnTo>
                    <a:lnTo>
                      <a:pt x="8903" y="7596"/>
                    </a:lnTo>
                    <a:lnTo>
                      <a:pt x="9160" y="7168"/>
                    </a:lnTo>
                    <a:lnTo>
                      <a:pt x="9370" y="6727"/>
                    </a:lnTo>
                    <a:lnTo>
                      <a:pt x="9532" y="6273"/>
                    </a:lnTo>
                    <a:lnTo>
                      <a:pt x="9647" y="5811"/>
                    </a:lnTo>
                    <a:lnTo>
                      <a:pt x="9715" y="5343"/>
                    </a:lnTo>
                    <a:lnTo>
                      <a:pt x="9739" y="4874"/>
                    </a:lnTo>
                    <a:lnTo>
                      <a:pt x="9716" y="4406"/>
                    </a:lnTo>
                    <a:lnTo>
                      <a:pt x="9649" y="3944"/>
                    </a:lnTo>
                    <a:lnTo>
                      <a:pt x="9539" y="3490"/>
                    </a:lnTo>
                    <a:lnTo>
                      <a:pt x="9385" y="3048"/>
                    </a:lnTo>
                    <a:lnTo>
                      <a:pt x="9189" y="2622"/>
                    </a:lnTo>
                    <a:lnTo>
                      <a:pt x="8951" y="2213"/>
                    </a:lnTo>
                    <a:lnTo>
                      <a:pt x="8672" y="1827"/>
                    </a:lnTo>
                    <a:lnTo>
                      <a:pt x="8352" y="1466"/>
                    </a:lnTo>
                    <a:lnTo>
                      <a:pt x="7993" y="1134"/>
                    </a:lnTo>
                    <a:lnTo>
                      <a:pt x="7595" y="836"/>
                    </a:lnTo>
                    <a:lnTo>
                      <a:pt x="7168" y="577"/>
                    </a:lnTo>
                    <a:lnTo>
                      <a:pt x="6727" y="368"/>
                    </a:lnTo>
                    <a:lnTo>
                      <a:pt x="6273" y="205"/>
                    </a:lnTo>
                    <a:lnTo>
                      <a:pt x="5810" y="90"/>
                    </a:lnTo>
                    <a:lnTo>
                      <a:pt x="5344" y="22"/>
                    </a:lnTo>
                    <a:lnTo>
                      <a:pt x="4875" y="0"/>
                    </a:lnTo>
                    <a:lnTo>
                      <a:pt x="4407" y="22"/>
                    </a:lnTo>
                    <a:lnTo>
                      <a:pt x="3945" y="88"/>
                    </a:lnTo>
                    <a:lnTo>
                      <a:pt x="3491" y="199"/>
                    </a:lnTo>
                    <a:lnTo>
                      <a:pt x="3048" y="353"/>
                    </a:lnTo>
                    <a:lnTo>
                      <a:pt x="2622" y="549"/>
                    </a:lnTo>
                    <a:lnTo>
                      <a:pt x="2214" y="787"/>
                    </a:lnTo>
                    <a:lnTo>
                      <a:pt x="1828" y="1065"/>
                    </a:lnTo>
                    <a:lnTo>
                      <a:pt x="1468" y="1384"/>
                    </a:lnTo>
                    <a:lnTo>
                      <a:pt x="1136" y="1743"/>
                    </a:lnTo>
                    <a:lnTo>
                      <a:pt x="837" y="2142"/>
                    </a:lnTo>
                    <a:lnTo>
                      <a:pt x="579" y="2568"/>
                    </a:lnTo>
                    <a:lnTo>
                      <a:pt x="369" y="3010"/>
                    </a:lnTo>
                    <a:lnTo>
                      <a:pt x="207" y="3464"/>
                    </a:lnTo>
                    <a:lnTo>
                      <a:pt x="92" y="3926"/>
                    </a:lnTo>
                    <a:lnTo>
                      <a:pt x="23" y="4394"/>
                    </a:lnTo>
                    <a:lnTo>
                      <a:pt x="0" y="4863"/>
                    </a:lnTo>
                    <a:lnTo>
                      <a:pt x="23" y="5330"/>
                    </a:lnTo>
                    <a:lnTo>
                      <a:pt x="90" y="5793"/>
                    </a:lnTo>
                    <a:lnTo>
                      <a:pt x="199" y="6247"/>
                    </a:lnTo>
                    <a:lnTo>
                      <a:pt x="353" y="6689"/>
                    </a:lnTo>
                    <a:lnTo>
                      <a:pt x="549" y="7116"/>
                    </a:lnTo>
                    <a:lnTo>
                      <a:pt x="787" y="7524"/>
                    </a:lnTo>
                    <a:lnTo>
                      <a:pt x="1066" y="7910"/>
                    </a:lnTo>
                    <a:lnTo>
                      <a:pt x="1386" y="8271"/>
                    </a:lnTo>
                    <a:lnTo>
                      <a:pt x="1745" y="8603"/>
                    </a:lnTo>
                    <a:lnTo>
                      <a:pt x="2144" y="8903"/>
                    </a:lnTo>
                    <a:close/>
                  </a:path>
                </a:pathLst>
              </a:custGeom>
              <a:solidFill>
                <a:srgbClr val="334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66400" y="152640"/>
                <a:ext cx="741600" cy="732600"/>
              </a:xfrm>
              <a:custGeom>
                <a:avLst/>
                <a:gdLst/>
                <a:ahLst/>
                <a:rect l="l" t="t" r="r" b="b"/>
                <a:pathLst>
                  <a:path w="9577" h="9577">
                    <a:moveTo>
                      <a:pt x="2108" y="8755"/>
                    </a:moveTo>
                    <a:lnTo>
                      <a:pt x="2527" y="9008"/>
                    </a:lnTo>
                    <a:lnTo>
                      <a:pt x="2961" y="9215"/>
                    </a:lnTo>
                    <a:lnTo>
                      <a:pt x="3408" y="9374"/>
                    </a:lnTo>
                    <a:lnTo>
                      <a:pt x="3862" y="9488"/>
                    </a:lnTo>
                    <a:lnTo>
                      <a:pt x="4322" y="9555"/>
                    </a:lnTo>
                    <a:lnTo>
                      <a:pt x="4784" y="9577"/>
                    </a:lnTo>
                    <a:lnTo>
                      <a:pt x="5243" y="9555"/>
                    </a:lnTo>
                    <a:lnTo>
                      <a:pt x="5698" y="9490"/>
                    </a:lnTo>
                    <a:lnTo>
                      <a:pt x="6144" y="9380"/>
                    </a:lnTo>
                    <a:lnTo>
                      <a:pt x="6579" y="9230"/>
                    </a:lnTo>
                    <a:lnTo>
                      <a:pt x="6999" y="9037"/>
                    </a:lnTo>
                    <a:lnTo>
                      <a:pt x="7400" y="8803"/>
                    </a:lnTo>
                    <a:lnTo>
                      <a:pt x="7779" y="8529"/>
                    </a:lnTo>
                    <a:lnTo>
                      <a:pt x="8135" y="8214"/>
                    </a:lnTo>
                    <a:lnTo>
                      <a:pt x="8461" y="7861"/>
                    </a:lnTo>
                    <a:lnTo>
                      <a:pt x="8755" y="7470"/>
                    </a:lnTo>
                    <a:lnTo>
                      <a:pt x="9008" y="7050"/>
                    </a:lnTo>
                    <a:lnTo>
                      <a:pt x="9215" y="6615"/>
                    </a:lnTo>
                    <a:lnTo>
                      <a:pt x="9374" y="6169"/>
                    </a:lnTo>
                    <a:lnTo>
                      <a:pt x="9488" y="5715"/>
                    </a:lnTo>
                    <a:lnTo>
                      <a:pt x="9555" y="5255"/>
                    </a:lnTo>
                    <a:lnTo>
                      <a:pt x="9577" y="4793"/>
                    </a:lnTo>
                    <a:lnTo>
                      <a:pt x="9555" y="4334"/>
                    </a:lnTo>
                    <a:lnTo>
                      <a:pt x="9490" y="3879"/>
                    </a:lnTo>
                    <a:lnTo>
                      <a:pt x="9380" y="3433"/>
                    </a:lnTo>
                    <a:lnTo>
                      <a:pt x="9230" y="2998"/>
                    </a:lnTo>
                    <a:lnTo>
                      <a:pt x="9037" y="2578"/>
                    </a:lnTo>
                    <a:lnTo>
                      <a:pt x="8803" y="2177"/>
                    </a:lnTo>
                    <a:lnTo>
                      <a:pt x="8529" y="1796"/>
                    </a:lnTo>
                    <a:lnTo>
                      <a:pt x="8214" y="1442"/>
                    </a:lnTo>
                    <a:lnTo>
                      <a:pt x="7861" y="1116"/>
                    </a:lnTo>
                    <a:lnTo>
                      <a:pt x="7470" y="822"/>
                    </a:lnTo>
                    <a:lnTo>
                      <a:pt x="7050" y="568"/>
                    </a:lnTo>
                    <a:lnTo>
                      <a:pt x="6615" y="361"/>
                    </a:lnTo>
                    <a:lnTo>
                      <a:pt x="6169" y="203"/>
                    </a:lnTo>
                    <a:lnTo>
                      <a:pt x="5715" y="89"/>
                    </a:lnTo>
                    <a:lnTo>
                      <a:pt x="5256" y="22"/>
                    </a:lnTo>
                    <a:lnTo>
                      <a:pt x="4794" y="0"/>
                    </a:lnTo>
                    <a:lnTo>
                      <a:pt x="4334" y="22"/>
                    </a:lnTo>
                    <a:lnTo>
                      <a:pt x="3880" y="88"/>
                    </a:lnTo>
                    <a:lnTo>
                      <a:pt x="3433" y="197"/>
                    </a:lnTo>
                    <a:lnTo>
                      <a:pt x="2999" y="348"/>
                    </a:lnTo>
                    <a:lnTo>
                      <a:pt x="2579" y="540"/>
                    </a:lnTo>
                    <a:lnTo>
                      <a:pt x="2177" y="774"/>
                    </a:lnTo>
                    <a:lnTo>
                      <a:pt x="1797" y="1048"/>
                    </a:lnTo>
                    <a:lnTo>
                      <a:pt x="1443" y="1362"/>
                    </a:lnTo>
                    <a:lnTo>
                      <a:pt x="1117" y="1715"/>
                    </a:lnTo>
                    <a:lnTo>
                      <a:pt x="822" y="2107"/>
                    </a:lnTo>
                    <a:lnTo>
                      <a:pt x="568" y="2526"/>
                    </a:lnTo>
                    <a:lnTo>
                      <a:pt x="362" y="2961"/>
                    </a:lnTo>
                    <a:lnTo>
                      <a:pt x="203" y="3407"/>
                    </a:lnTo>
                    <a:lnTo>
                      <a:pt x="90" y="3861"/>
                    </a:lnTo>
                    <a:lnTo>
                      <a:pt x="23" y="4321"/>
                    </a:lnTo>
                    <a:lnTo>
                      <a:pt x="0" y="4783"/>
                    </a:lnTo>
                    <a:lnTo>
                      <a:pt x="22" y="5243"/>
                    </a:lnTo>
                    <a:lnTo>
                      <a:pt x="88" y="5697"/>
                    </a:lnTo>
                    <a:lnTo>
                      <a:pt x="196" y="6143"/>
                    </a:lnTo>
                    <a:lnTo>
                      <a:pt x="347" y="6578"/>
                    </a:lnTo>
                    <a:lnTo>
                      <a:pt x="540" y="6998"/>
                    </a:lnTo>
                    <a:lnTo>
                      <a:pt x="774" y="7400"/>
                    </a:lnTo>
                    <a:lnTo>
                      <a:pt x="1048" y="7779"/>
                    </a:lnTo>
                    <a:lnTo>
                      <a:pt x="1362" y="8135"/>
                    </a:lnTo>
                    <a:lnTo>
                      <a:pt x="1715" y="8461"/>
                    </a:lnTo>
                    <a:lnTo>
                      <a:pt x="2108" y="8755"/>
                    </a:lnTo>
                    <a:close/>
                  </a:path>
                </a:pathLst>
              </a:custGeom>
              <a:solidFill>
                <a:srgbClr val="354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75760" y="155520"/>
                <a:ext cx="729360" cy="720000"/>
              </a:xfrm>
              <a:custGeom>
                <a:avLst/>
                <a:gdLst/>
                <a:ahLst/>
                <a:rect l="l" t="t" r="r" b="b"/>
                <a:pathLst>
                  <a:path w="9417" h="9417">
                    <a:moveTo>
                      <a:pt x="2073" y="8609"/>
                    </a:moveTo>
                    <a:lnTo>
                      <a:pt x="2484" y="8857"/>
                    </a:lnTo>
                    <a:lnTo>
                      <a:pt x="2912" y="9060"/>
                    </a:lnTo>
                    <a:lnTo>
                      <a:pt x="3351" y="9217"/>
                    </a:lnTo>
                    <a:lnTo>
                      <a:pt x="3797" y="9328"/>
                    </a:lnTo>
                    <a:lnTo>
                      <a:pt x="4249" y="9394"/>
                    </a:lnTo>
                    <a:lnTo>
                      <a:pt x="4703" y="9417"/>
                    </a:lnTo>
                    <a:lnTo>
                      <a:pt x="5155" y="9395"/>
                    </a:lnTo>
                    <a:lnTo>
                      <a:pt x="5602" y="9330"/>
                    </a:lnTo>
                    <a:lnTo>
                      <a:pt x="6041" y="9223"/>
                    </a:lnTo>
                    <a:lnTo>
                      <a:pt x="6469" y="9075"/>
                    </a:lnTo>
                    <a:lnTo>
                      <a:pt x="6881" y="8885"/>
                    </a:lnTo>
                    <a:lnTo>
                      <a:pt x="7276" y="8655"/>
                    </a:lnTo>
                    <a:lnTo>
                      <a:pt x="7649" y="8385"/>
                    </a:lnTo>
                    <a:lnTo>
                      <a:pt x="7998" y="8077"/>
                    </a:lnTo>
                    <a:lnTo>
                      <a:pt x="8319" y="7729"/>
                    </a:lnTo>
                    <a:lnTo>
                      <a:pt x="8609" y="7345"/>
                    </a:lnTo>
                    <a:lnTo>
                      <a:pt x="8858" y="6932"/>
                    </a:lnTo>
                    <a:lnTo>
                      <a:pt x="9061" y="6505"/>
                    </a:lnTo>
                    <a:lnTo>
                      <a:pt x="9217" y="6066"/>
                    </a:lnTo>
                    <a:lnTo>
                      <a:pt x="9329" y="5619"/>
                    </a:lnTo>
                    <a:lnTo>
                      <a:pt x="9395" y="5167"/>
                    </a:lnTo>
                    <a:lnTo>
                      <a:pt x="9417" y="4713"/>
                    </a:lnTo>
                    <a:lnTo>
                      <a:pt x="9396" y="4262"/>
                    </a:lnTo>
                    <a:lnTo>
                      <a:pt x="9331" y="3814"/>
                    </a:lnTo>
                    <a:lnTo>
                      <a:pt x="9223" y="3375"/>
                    </a:lnTo>
                    <a:lnTo>
                      <a:pt x="9076" y="2948"/>
                    </a:lnTo>
                    <a:lnTo>
                      <a:pt x="8885" y="2535"/>
                    </a:lnTo>
                    <a:lnTo>
                      <a:pt x="8656" y="2140"/>
                    </a:lnTo>
                    <a:lnTo>
                      <a:pt x="8386" y="1767"/>
                    </a:lnTo>
                    <a:lnTo>
                      <a:pt x="8077" y="1418"/>
                    </a:lnTo>
                    <a:lnTo>
                      <a:pt x="7730" y="1097"/>
                    </a:lnTo>
                    <a:lnTo>
                      <a:pt x="7345" y="808"/>
                    </a:lnTo>
                    <a:lnTo>
                      <a:pt x="6932" y="558"/>
                    </a:lnTo>
                    <a:lnTo>
                      <a:pt x="6505" y="355"/>
                    </a:lnTo>
                    <a:lnTo>
                      <a:pt x="6066" y="199"/>
                    </a:lnTo>
                    <a:lnTo>
                      <a:pt x="5619" y="88"/>
                    </a:lnTo>
                    <a:lnTo>
                      <a:pt x="5168" y="22"/>
                    </a:lnTo>
                    <a:lnTo>
                      <a:pt x="4714" y="0"/>
                    </a:lnTo>
                    <a:lnTo>
                      <a:pt x="4262" y="21"/>
                    </a:lnTo>
                    <a:lnTo>
                      <a:pt x="3814" y="86"/>
                    </a:lnTo>
                    <a:lnTo>
                      <a:pt x="3375" y="192"/>
                    </a:lnTo>
                    <a:lnTo>
                      <a:pt x="2948" y="341"/>
                    </a:lnTo>
                    <a:lnTo>
                      <a:pt x="2535" y="530"/>
                    </a:lnTo>
                    <a:lnTo>
                      <a:pt x="2141" y="760"/>
                    </a:lnTo>
                    <a:lnTo>
                      <a:pt x="1768" y="1030"/>
                    </a:lnTo>
                    <a:lnTo>
                      <a:pt x="1419" y="1339"/>
                    </a:lnTo>
                    <a:lnTo>
                      <a:pt x="1098" y="1686"/>
                    </a:lnTo>
                    <a:lnTo>
                      <a:pt x="809" y="2072"/>
                    </a:lnTo>
                    <a:lnTo>
                      <a:pt x="559" y="2483"/>
                    </a:lnTo>
                    <a:lnTo>
                      <a:pt x="356" y="2910"/>
                    </a:lnTo>
                    <a:lnTo>
                      <a:pt x="200" y="3350"/>
                    </a:lnTo>
                    <a:lnTo>
                      <a:pt x="88" y="3796"/>
                    </a:lnTo>
                    <a:lnTo>
                      <a:pt x="22" y="4249"/>
                    </a:lnTo>
                    <a:lnTo>
                      <a:pt x="0" y="4702"/>
                    </a:lnTo>
                    <a:lnTo>
                      <a:pt x="21" y="5155"/>
                    </a:lnTo>
                    <a:lnTo>
                      <a:pt x="86" y="5601"/>
                    </a:lnTo>
                    <a:lnTo>
                      <a:pt x="193" y="6040"/>
                    </a:lnTo>
                    <a:lnTo>
                      <a:pt x="341" y="6469"/>
                    </a:lnTo>
                    <a:lnTo>
                      <a:pt x="531" y="6881"/>
                    </a:lnTo>
                    <a:lnTo>
                      <a:pt x="761" y="7275"/>
                    </a:lnTo>
                    <a:lnTo>
                      <a:pt x="1031" y="7649"/>
                    </a:lnTo>
                    <a:lnTo>
                      <a:pt x="1339" y="7997"/>
                    </a:lnTo>
                    <a:lnTo>
                      <a:pt x="1687" y="8318"/>
                    </a:lnTo>
                    <a:lnTo>
                      <a:pt x="2073" y="8609"/>
                    </a:lnTo>
                    <a:close/>
                  </a:path>
                </a:pathLst>
              </a:custGeom>
              <a:solidFill>
                <a:srgbClr val="3750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85120" y="157320"/>
                <a:ext cx="717480" cy="708840"/>
              </a:xfrm>
              <a:custGeom>
                <a:avLst/>
                <a:gdLst/>
                <a:ahLst/>
                <a:rect l="l" t="t" r="r" b="b"/>
                <a:pathLst>
                  <a:path w="9256" h="9255">
                    <a:moveTo>
                      <a:pt x="2036" y="8462"/>
                    </a:moveTo>
                    <a:lnTo>
                      <a:pt x="2441" y="8706"/>
                    </a:lnTo>
                    <a:lnTo>
                      <a:pt x="2861" y="8905"/>
                    </a:lnTo>
                    <a:lnTo>
                      <a:pt x="3292" y="9059"/>
                    </a:lnTo>
                    <a:lnTo>
                      <a:pt x="3732" y="9169"/>
                    </a:lnTo>
                    <a:lnTo>
                      <a:pt x="4176" y="9234"/>
                    </a:lnTo>
                    <a:lnTo>
                      <a:pt x="4621" y="9255"/>
                    </a:lnTo>
                    <a:lnTo>
                      <a:pt x="5066" y="9234"/>
                    </a:lnTo>
                    <a:lnTo>
                      <a:pt x="5506" y="9171"/>
                    </a:lnTo>
                    <a:lnTo>
                      <a:pt x="5938" y="9066"/>
                    </a:lnTo>
                    <a:lnTo>
                      <a:pt x="6357" y="8920"/>
                    </a:lnTo>
                    <a:lnTo>
                      <a:pt x="6762" y="8734"/>
                    </a:lnTo>
                    <a:lnTo>
                      <a:pt x="7151" y="8507"/>
                    </a:lnTo>
                    <a:lnTo>
                      <a:pt x="7518" y="8243"/>
                    </a:lnTo>
                    <a:lnTo>
                      <a:pt x="7861" y="7940"/>
                    </a:lnTo>
                    <a:lnTo>
                      <a:pt x="8176" y="7599"/>
                    </a:lnTo>
                    <a:lnTo>
                      <a:pt x="8461" y="7220"/>
                    </a:lnTo>
                    <a:lnTo>
                      <a:pt x="8706" y="6814"/>
                    </a:lnTo>
                    <a:lnTo>
                      <a:pt x="8906" y="6394"/>
                    </a:lnTo>
                    <a:lnTo>
                      <a:pt x="9060" y="5962"/>
                    </a:lnTo>
                    <a:lnTo>
                      <a:pt x="9168" y="5523"/>
                    </a:lnTo>
                    <a:lnTo>
                      <a:pt x="9233" y="5079"/>
                    </a:lnTo>
                    <a:lnTo>
                      <a:pt x="9256" y="4634"/>
                    </a:lnTo>
                    <a:lnTo>
                      <a:pt x="9234" y="4189"/>
                    </a:lnTo>
                    <a:lnTo>
                      <a:pt x="9170" y="3749"/>
                    </a:lnTo>
                    <a:lnTo>
                      <a:pt x="9065" y="3318"/>
                    </a:lnTo>
                    <a:lnTo>
                      <a:pt x="8920" y="2898"/>
                    </a:lnTo>
                    <a:lnTo>
                      <a:pt x="8734" y="2492"/>
                    </a:lnTo>
                    <a:lnTo>
                      <a:pt x="8507" y="2104"/>
                    </a:lnTo>
                    <a:lnTo>
                      <a:pt x="8242" y="1737"/>
                    </a:lnTo>
                    <a:lnTo>
                      <a:pt x="7938" y="1393"/>
                    </a:lnTo>
                    <a:lnTo>
                      <a:pt x="7597" y="1078"/>
                    </a:lnTo>
                    <a:lnTo>
                      <a:pt x="7219" y="794"/>
                    </a:lnTo>
                    <a:lnTo>
                      <a:pt x="6812" y="548"/>
                    </a:lnTo>
                    <a:lnTo>
                      <a:pt x="6393" y="349"/>
                    </a:lnTo>
                    <a:lnTo>
                      <a:pt x="5962" y="195"/>
                    </a:lnTo>
                    <a:lnTo>
                      <a:pt x="5523" y="87"/>
                    </a:lnTo>
                    <a:lnTo>
                      <a:pt x="5079" y="22"/>
                    </a:lnTo>
                    <a:lnTo>
                      <a:pt x="4632" y="0"/>
                    </a:lnTo>
                    <a:lnTo>
                      <a:pt x="4189" y="21"/>
                    </a:lnTo>
                    <a:lnTo>
                      <a:pt x="3749" y="85"/>
                    </a:lnTo>
                    <a:lnTo>
                      <a:pt x="3317" y="190"/>
                    </a:lnTo>
                    <a:lnTo>
                      <a:pt x="2897" y="336"/>
                    </a:lnTo>
                    <a:lnTo>
                      <a:pt x="2491" y="522"/>
                    </a:lnTo>
                    <a:lnTo>
                      <a:pt x="2104" y="748"/>
                    </a:lnTo>
                    <a:lnTo>
                      <a:pt x="1736" y="1013"/>
                    </a:lnTo>
                    <a:lnTo>
                      <a:pt x="1394" y="1316"/>
                    </a:lnTo>
                    <a:lnTo>
                      <a:pt x="1078" y="1657"/>
                    </a:lnTo>
                    <a:lnTo>
                      <a:pt x="794" y="2037"/>
                    </a:lnTo>
                    <a:lnTo>
                      <a:pt x="549" y="2442"/>
                    </a:lnTo>
                    <a:lnTo>
                      <a:pt x="350" y="2861"/>
                    </a:lnTo>
                    <a:lnTo>
                      <a:pt x="196" y="3293"/>
                    </a:lnTo>
                    <a:lnTo>
                      <a:pt x="86" y="3732"/>
                    </a:lnTo>
                    <a:lnTo>
                      <a:pt x="21" y="4177"/>
                    </a:lnTo>
                    <a:lnTo>
                      <a:pt x="0" y="4622"/>
                    </a:lnTo>
                    <a:lnTo>
                      <a:pt x="21" y="5066"/>
                    </a:lnTo>
                    <a:lnTo>
                      <a:pt x="84" y="5506"/>
                    </a:lnTo>
                    <a:lnTo>
                      <a:pt x="189" y="5938"/>
                    </a:lnTo>
                    <a:lnTo>
                      <a:pt x="335" y="6358"/>
                    </a:lnTo>
                    <a:lnTo>
                      <a:pt x="521" y="6763"/>
                    </a:lnTo>
                    <a:lnTo>
                      <a:pt x="747" y="7151"/>
                    </a:lnTo>
                    <a:lnTo>
                      <a:pt x="1012" y="7519"/>
                    </a:lnTo>
                    <a:lnTo>
                      <a:pt x="1315" y="7861"/>
                    </a:lnTo>
                    <a:lnTo>
                      <a:pt x="1656" y="8177"/>
                    </a:lnTo>
                    <a:lnTo>
                      <a:pt x="2036" y="8462"/>
                    </a:lnTo>
                    <a:close/>
                  </a:path>
                </a:pathLst>
              </a:custGeom>
              <a:solidFill>
                <a:srgbClr val="3953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94480" y="159840"/>
                <a:ext cx="704520" cy="696240"/>
              </a:xfrm>
              <a:custGeom>
                <a:avLst/>
                <a:gdLst/>
                <a:ahLst/>
                <a:rect l="l" t="t" r="r" b="b"/>
                <a:pathLst>
                  <a:path w="9096" h="9095">
                    <a:moveTo>
                      <a:pt x="2002" y="8316"/>
                    </a:moveTo>
                    <a:lnTo>
                      <a:pt x="2400" y="8556"/>
                    </a:lnTo>
                    <a:lnTo>
                      <a:pt x="2812" y="8752"/>
                    </a:lnTo>
                    <a:lnTo>
                      <a:pt x="3236" y="8903"/>
                    </a:lnTo>
                    <a:lnTo>
                      <a:pt x="3668" y="9010"/>
                    </a:lnTo>
                    <a:lnTo>
                      <a:pt x="4105" y="9074"/>
                    </a:lnTo>
                    <a:lnTo>
                      <a:pt x="4543" y="9095"/>
                    </a:lnTo>
                    <a:lnTo>
                      <a:pt x="4980" y="9074"/>
                    </a:lnTo>
                    <a:lnTo>
                      <a:pt x="5411" y="9012"/>
                    </a:lnTo>
                    <a:lnTo>
                      <a:pt x="5836" y="8909"/>
                    </a:lnTo>
                    <a:lnTo>
                      <a:pt x="6248" y="8766"/>
                    </a:lnTo>
                    <a:lnTo>
                      <a:pt x="6647" y="8582"/>
                    </a:lnTo>
                    <a:lnTo>
                      <a:pt x="7028" y="8361"/>
                    </a:lnTo>
                    <a:lnTo>
                      <a:pt x="7389" y="8100"/>
                    </a:lnTo>
                    <a:lnTo>
                      <a:pt x="7726" y="7801"/>
                    </a:lnTo>
                    <a:lnTo>
                      <a:pt x="8035" y="7466"/>
                    </a:lnTo>
                    <a:lnTo>
                      <a:pt x="8316" y="7095"/>
                    </a:lnTo>
                    <a:lnTo>
                      <a:pt x="8556" y="6696"/>
                    </a:lnTo>
                    <a:lnTo>
                      <a:pt x="8752" y="6283"/>
                    </a:lnTo>
                    <a:lnTo>
                      <a:pt x="8904" y="5859"/>
                    </a:lnTo>
                    <a:lnTo>
                      <a:pt x="9010" y="5428"/>
                    </a:lnTo>
                    <a:lnTo>
                      <a:pt x="9075" y="4991"/>
                    </a:lnTo>
                    <a:lnTo>
                      <a:pt x="9096" y="4553"/>
                    </a:lnTo>
                    <a:lnTo>
                      <a:pt x="9075" y="4116"/>
                    </a:lnTo>
                    <a:lnTo>
                      <a:pt x="9012" y="3684"/>
                    </a:lnTo>
                    <a:lnTo>
                      <a:pt x="8909" y="3260"/>
                    </a:lnTo>
                    <a:lnTo>
                      <a:pt x="8766" y="2848"/>
                    </a:lnTo>
                    <a:lnTo>
                      <a:pt x="8583" y="2449"/>
                    </a:lnTo>
                    <a:lnTo>
                      <a:pt x="8360" y="2067"/>
                    </a:lnTo>
                    <a:lnTo>
                      <a:pt x="8100" y="1707"/>
                    </a:lnTo>
                    <a:lnTo>
                      <a:pt x="7801" y="1370"/>
                    </a:lnTo>
                    <a:lnTo>
                      <a:pt x="7466" y="1059"/>
                    </a:lnTo>
                    <a:lnTo>
                      <a:pt x="7094" y="780"/>
                    </a:lnTo>
                    <a:lnTo>
                      <a:pt x="6696" y="539"/>
                    </a:lnTo>
                    <a:lnTo>
                      <a:pt x="6283" y="343"/>
                    </a:lnTo>
                    <a:lnTo>
                      <a:pt x="5860" y="192"/>
                    </a:lnTo>
                    <a:lnTo>
                      <a:pt x="5428" y="85"/>
                    </a:lnTo>
                    <a:lnTo>
                      <a:pt x="4991" y="21"/>
                    </a:lnTo>
                    <a:lnTo>
                      <a:pt x="4553" y="0"/>
                    </a:lnTo>
                    <a:lnTo>
                      <a:pt x="4117" y="21"/>
                    </a:lnTo>
                    <a:lnTo>
                      <a:pt x="3685" y="82"/>
                    </a:lnTo>
                    <a:lnTo>
                      <a:pt x="3261" y="186"/>
                    </a:lnTo>
                    <a:lnTo>
                      <a:pt x="2848" y="329"/>
                    </a:lnTo>
                    <a:lnTo>
                      <a:pt x="2450" y="513"/>
                    </a:lnTo>
                    <a:lnTo>
                      <a:pt x="2068" y="734"/>
                    </a:lnTo>
                    <a:lnTo>
                      <a:pt x="1708" y="995"/>
                    </a:lnTo>
                    <a:lnTo>
                      <a:pt x="1371" y="1293"/>
                    </a:lnTo>
                    <a:lnTo>
                      <a:pt x="1060" y="1629"/>
                    </a:lnTo>
                    <a:lnTo>
                      <a:pt x="780" y="2001"/>
                    </a:lnTo>
                    <a:lnTo>
                      <a:pt x="539" y="2399"/>
                    </a:lnTo>
                    <a:lnTo>
                      <a:pt x="344" y="2811"/>
                    </a:lnTo>
                    <a:lnTo>
                      <a:pt x="193" y="3236"/>
                    </a:lnTo>
                    <a:lnTo>
                      <a:pt x="85" y="3667"/>
                    </a:lnTo>
                    <a:lnTo>
                      <a:pt x="21" y="4104"/>
                    </a:lnTo>
                    <a:lnTo>
                      <a:pt x="0" y="4542"/>
                    </a:lnTo>
                    <a:lnTo>
                      <a:pt x="21" y="4979"/>
                    </a:lnTo>
                    <a:lnTo>
                      <a:pt x="83" y="5411"/>
                    </a:lnTo>
                    <a:lnTo>
                      <a:pt x="186" y="5835"/>
                    </a:lnTo>
                    <a:lnTo>
                      <a:pt x="330" y="6247"/>
                    </a:lnTo>
                    <a:lnTo>
                      <a:pt x="514" y="6646"/>
                    </a:lnTo>
                    <a:lnTo>
                      <a:pt x="735" y="7028"/>
                    </a:lnTo>
                    <a:lnTo>
                      <a:pt x="995" y="7388"/>
                    </a:lnTo>
                    <a:lnTo>
                      <a:pt x="1294" y="7725"/>
                    </a:lnTo>
                    <a:lnTo>
                      <a:pt x="1630" y="8035"/>
                    </a:lnTo>
                    <a:lnTo>
                      <a:pt x="2002" y="8316"/>
                    </a:lnTo>
                    <a:close/>
                  </a:path>
                </a:pathLst>
              </a:custGeom>
              <a:solidFill>
                <a:srgbClr val="3b55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03480" y="162720"/>
                <a:ext cx="692280" cy="683280"/>
              </a:xfrm>
              <a:custGeom>
                <a:avLst/>
                <a:gdLst/>
                <a:ahLst/>
                <a:rect l="l" t="t" r="r" b="b"/>
                <a:pathLst>
                  <a:path w="8935" h="8936">
                    <a:moveTo>
                      <a:pt x="1967" y="8169"/>
                    </a:moveTo>
                    <a:lnTo>
                      <a:pt x="2357" y="8405"/>
                    </a:lnTo>
                    <a:lnTo>
                      <a:pt x="2763" y="8598"/>
                    </a:lnTo>
                    <a:lnTo>
                      <a:pt x="3179" y="8746"/>
                    </a:lnTo>
                    <a:lnTo>
                      <a:pt x="3603" y="8852"/>
                    </a:lnTo>
                    <a:lnTo>
                      <a:pt x="4032" y="8914"/>
                    </a:lnTo>
                    <a:lnTo>
                      <a:pt x="4462" y="8936"/>
                    </a:lnTo>
                    <a:lnTo>
                      <a:pt x="4892" y="8915"/>
                    </a:lnTo>
                    <a:lnTo>
                      <a:pt x="5316" y="8854"/>
                    </a:lnTo>
                    <a:lnTo>
                      <a:pt x="5732" y="8753"/>
                    </a:lnTo>
                    <a:lnTo>
                      <a:pt x="6138" y="8611"/>
                    </a:lnTo>
                    <a:lnTo>
                      <a:pt x="6529" y="8432"/>
                    </a:lnTo>
                    <a:lnTo>
                      <a:pt x="6903" y="8214"/>
                    </a:lnTo>
                    <a:lnTo>
                      <a:pt x="7258" y="7958"/>
                    </a:lnTo>
                    <a:lnTo>
                      <a:pt x="7589" y="7664"/>
                    </a:lnTo>
                    <a:lnTo>
                      <a:pt x="7893" y="7335"/>
                    </a:lnTo>
                    <a:lnTo>
                      <a:pt x="8168" y="6970"/>
                    </a:lnTo>
                    <a:lnTo>
                      <a:pt x="8404" y="6579"/>
                    </a:lnTo>
                    <a:lnTo>
                      <a:pt x="8597" y="6173"/>
                    </a:lnTo>
                    <a:lnTo>
                      <a:pt x="8746" y="5757"/>
                    </a:lnTo>
                    <a:lnTo>
                      <a:pt x="8851" y="5333"/>
                    </a:lnTo>
                    <a:lnTo>
                      <a:pt x="8914" y="4904"/>
                    </a:lnTo>
                    <a:lnTo>
                      <a:pt x="8935" y="4474"/>
                    </a:lnTo>
                    <a:lnTo>
                      <a:pt x="8915" y="4044"/>
                    </a:lnTo>
                    <a:lnTo>
                      <a:pt x="8853" y="3620"/>
                    </a:lnTo>
                    <a:lnTo>
                      <a:pt x="8752" y="3204"/>
                    </a:lnTo>
                    <a:lnTo>
                      <a:pt x="8611" y="2798"/>
                    </a:lnTo>
                    <a:lnTo>
                      <a:pt x="8431" y="2407"/>
                    </a:lnTo>
                    <a:lnTo>
                      <a:pt x="8213" y="2032"/>
                    </a:lnTo>
                    <a:lnTo>
                      <a:pt x="7957" y="1678"/>
                    </a:lnTo>
                    <a:lnTo>
                      <a:pt x="7663" y="1347"/>
                    </a:lnTo>
                    <a:lnTo>
                      <a:pt x="7334" y="1042"/>
                    </a:lnTo>
                    <a:lnTo>
                      <a:pt x="6969" y="768"/>
                    </a:lnTo>
                    <a:lnTo>
                      <a:pt x="6578" y="531"/>
                    </a:lnTo>
                    <a:lnTo>
                      <a:pt x="6172" y="339"/>
                    </a:lnTo>
                    <a:lnTo>
                      <a:pt x="5756" y="190"/>
                    </a:lnTo>
                    <a:lnTo>
                      <a:pt x="5332" y="84"/>
                    </a:lnTo>
                    <a:lnTo>
                      <a:pt x="4903" y="22"/>
                    </a:lnTo>
                    <a:lnTo>
                      <a:pt x="4473" y="0"/>
                    </a:lnTo>
                    <a:lnTo>
                      <a:pt x="4043" y="22"/>
                    </a:lnTo>
                    <a:lnTo>
                      <a:pt x="3619" y="82"/>
                    </a:lnTo>
                    <a:lnTo>
                      <a:pt x="3202" y="184"/>
                    </a:lnTo>
                    <a:lnTo>
                      <a:pt x="2797" y="325"/>
                    </a:lnTo>
                    <a:lnTo>
                      <a:pt x="2406" y="504"/>
                    </a:lnTo>
                    <a:lnTo>
                      <a:pt x="2031" y="723"/>
                    </a:lnTo>
                    <a:lnTo>
                      <a:pt x="1677" y="978"/>
                    </a:lnTo>
                    <a:lnTo>
                      <a:pt x="1346" y="1272"/>
                    </a:lnTo>
                    <a:lnTo>
                      <a:pt x="1041" y="1601"/>
                    </a:lnTo>
                    <a:lnTo>
                      <a:pt x="767" y="1967"/>
                    </a:lnTo>
                    <a:lnTo>
                      <a:pt x="530" y="2357"/>
                    </a:lnTo>
                    <a:lnTo>
                      <a:pt x="337" y="2763"/>
                    </a:lnTo>
                    <a:lnTo>
                      <a:pt x="190" y="3179"/>
                    </a:lnTo>
                    <a:lnTo>
                      <a:pt x="83" y="3603"/>
                    </a:lnTo>
                    <a:lnTo>
                      <a:pt x="21" y="4033"/>
                    </a:lnTo>
                    <a:lnTo>
                      <a:pt x="0" y="4463"/>
                    </a:lnTo>
                    <a:lnTo>
                      <a:pt x="21" y="4892"/>
                    </a:lnTo>
                    <a:lnTo>
                      <a:pt x="82" y="5316"/>
                    </a:lnTo>
                    <a:lnTo>
                      <a:pt x="183" y="5733"/>
                    </a:lnTo>
                    <a:lnTo>
                      <a:pt x="325" y="6139"/>
                    </a:lnTo>
                    <a:lnTo>
                      <a:pt x="504" y="6530"/>
                    </a:lnTo>
                    <a:lnTo>
                      <a:pt x="722" y="6904"/>
                    </a:lnTo>
                    <a:lnTo>
                      <a:pt x="978" y="7258"/>
                    </a:lnTo>
                    <a:lnTo>
                      <a:pt x="1272" y="7590"/>
                    </a:lnTo>
                    <a:lnTo>
                      <a:pt x="1601" y="7894"/>
                    </a:lnTo>
                    <a:lnTo>
                      <a:pt x="1967" y="8169"/>
                    </a:lnTo>
                    <a:close/>
                  </a:path>
                </a:pathLst>
              </a:custGeom>
              <a:solidFill>
                <a:srgbClr val="3e57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13560" y="164520"/>
                <a:ext cx="679680" cy="671400"/>
              </a:xfrm>
              <a:custGeom>
                <a:avLst/>
                <a:gdLst/>
                <a:ahLst/>
                <a:rect l="l" t="t" r="r" b="b"/>
                <a:pathLst>
                  <a:path w="8773" h="8775">
                    <a:moveTo>
                      <a:pt x="1931" y="8022"/>
                    </a:moveTo>
                    <a:lnTo>
                      <a:pt x="2315" y="8254"/>
                    </a:lnTo>
                    <a:lnTo>
                      <a:pt x="2713" y="8443"/>
                    </a:lnTo>
                    <a:lnTo>
                      <a:pt x="3121" y="8589"/>
                    </a:lnTo>
                    <a:lnTo>
                      <a:pt x="3538" y="8693"/>
                    </a:lnTo>
                    <a:lnTo>
                      <a:pt x="3959" y="8755"/>
                    </a:lnTo>
                    <a:lnTo>
                      <a:pt x="4382" y="8775"/>
                    </a:lnTo>
                    <a:lnTo>
                      <a:pt x="4803" y="8755"/>
                    </a:lnTo>
                    <a:lnTo>
                      <a:pt x="5219" y="8694"/>
                    </a:lnTo>
                    <a:lnTo>
                      <a:pt x="5628" y="8595"/>
                    </a:lnTo>
                    <a:lnTo>
                      <a:pt x="6026" y="8456"/>
                    </a:lnTo>
                    <a:lnTo>
                      <a:pt x="6411" y="8280"/>
                    </a:lnTo>
                    <a:lnTo>
                      <a:pt x="6779" y="8066"/>
                    </a:lnTo>
                    <a:lnTo>
                      <a:pt x="7127" y="7814"/>
                    </a:lnTo>
                    <a:lnTo>
                      <a:pt x="7451" y="7527"/>
                    </a:lnTo>
                    <a:lnTo>
                      <a:pt x="7751" y="7203"/>
                    </a:lnTo>
                    <a:lnTo>
                      <a:pt x="8021" y="6844"/>
                    </a:lnTo>
                    <a:lnTo>
                      <a:pt x="8253" y="6460"/>
                    </a:lnTo>
                    <a:lnTo>
                      <a:pt x="8442" y="6062"/>
                    </a:lnTo>
                    <a:lnTo>
                      <a:pt x="8587" y="5653"/>
                    </a:lnTo>
                    <a:lnTo>
                      <a:pt x="8692" y="5237"/>
                    </a:lnTo>
                    <a:lnTo>
                      <a:pt x="8753" y="4816"/>
                    </a:lnTo>
                    <a:lnTo>
                      <a:pt x="8773" y="4393"/>
                    </a:lnTo>
                    <a:lnTo>
                      <a:pt x="8753" y="3972"/>
                    </a:lnTo>
                    <a:lnTo>
                      <a:pt x="8694" y="3555"/>
                    </a:lnTo>
                    <a:lnTo>
                      <a:pt x="8594" y="3146"/>
                    </a:lnTo>
                    <a:lnTo>
                      <a:pt x="8456" y="2747"/>
                    </a:lnTo>
                    <a:lnTo>
                      <a:pt x="8279" y="2364"/>
                    </a:lnTo>
                    <a:lnTo>
                      <a:pt x="8064" y="1996"/>
                    </a:lnTo>
                    <a:lnTo>
                      <a:pt x="7813" y="1647"/>
                    </a:lnTo>
                    <a:lnTo>
                      <a:pt x="7525" y="1323"/>
                    </a:lnTo>
                    <a:lnTo>
                      <a:pt x="7201" y="1023"/>
                    </a:lnTo>
                    <a:lnTo>
                      <a:pt x="6843" y="754"/>
                    </a:lnTo>
                    <a:lnTo>
                      <a:pt x="6458" y="521"/>
                    </a:lnTo>
                    <a:lnTo>
                      <a:pt x="6060" y="332"/>
                    </a:lnTo>
                    <a:lnTo>
                      <a:pt x="5651" y="186"/>
                    </a:lnTo>
                    <a:lnTo>
                      <a:pt x="5235" y="83"/>
                    </a:lnTo>
                    <a:lnTo>
                      <a:pt x="4814" y="22"/>
                    </a:lnTo>
                    <a:lnTo>
                      <a:pt x="4391" y="0"/>
                    </a:lnTo>
                    <a:lnTo>
                      <a:pt x="3970" y="21"/>
                    </a:lnTo>
                    <a:lnTo>
                      <a:pt x="3554" y="81"/>
                    </a:lnTo>
                    <a:lnTo>
                      <a:pt x="3144" y="180"/>
                    </a:lnTo>
                    <a:lnTo>
                      <a:pt x="2747" y="319"/>
                    </a:lnTo>
                    <a:lnTo>
                      <a:pt x="2362" y="496"/>
                    </a:lnTo>
                    <a:lnTo>
                      <a:pt x="1994" y="709"/>
                    </a:lnTo>
                    <a:lnTo>
                      <a:pt x="1646" y="960"/>
                    </a:lnTo>
                    <a:lnTo>
                      <a:pt x="1321" y="1248"/>
                    </a:lnTo>
                    <a:lnTo>
                      <a:pt x="1022" y="1572"/>
                    </a:lnTo>
                    <a:lnTo>
                      <a:pt x="753" y="1931"/>
                    </a:lnTo>
                    <a:lnTo>
                      <a:pt x="520" y="2315"/>
                    </a:lnTo>
                    <a:lnTo>
                      <a:pt x="331" y="2713"/>
                    </a:lnTo>
                    <a:lnTo>
                      <a:pt x="186" y="3122"/>
                    </a:lnTo>
                    <a:lnTo>
                      <a:pt x="81" y="3538"/>
                    </a:lnTo>
                    <a:lnTo>
                      <a:pt x="20" y="3960"/>
                    </a:lnTo>
                    <a:lnTo>
                      <a:pt x="0" y="4382"/>
                    </a:lnTo>
                    <a:lnTo>
                      <a:pt x="20" y="4803"/>
                    </a:lnTo>
                    <a:lnTo>
                      <a:pt x="79" y="5220"/>
                    </a:lnTo>
                    <a:lnTo>
                      <a:pt x="179" y="5629"/>
                    </a:lnTo>
                    <a:lnTo>
                      <a:pt x="317" y="6028"/>
                    </a:lnTo>
                    <a:lnTo>
                      <a:pt x="494" y="6413"/>
                    </a:lnTo>
                    <a:lnTo>
                      <a:pt x="709" y="6781"/>
                    </a:lnTo>
                    <a:lnTo>
                      <a:pt x="960" y="7128"/>
                    </a:lnTo>
                    <a:lnTo>
                      <a:pt x="1248" y="7453"/>
                    </a:lnTo>
                    <a:lnTo>
                      <a:pt x="1572" y="7752"/>
                    </a:lnTo>
                    <a:lnTo>
                      <a:pt x="1931" y="8022"/>
                    </a:lnTo>
                    <a:close/>
                  </a:path>
                </a:pathLst>
              </a:custGeom>
              <a:solidFill>
                <a:srgbClr val="405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23280" y="167400"/>
                <a:ext cx="666360" cy="659520"/>
              </a:xfrm>
              <a:custGeom>
                <a:avLst/>
                <a:gdLst/>
                <a:ahLst/>
                <a:rect l="l" t="t" r="r" b="b"/>
                <a:pathLst>
                  <a:path w="8612" h="8613">
                    <a:moveTo>
                      <a:pt x="1895" y="7876"/>
                    </a:moveTo>
                    <a:lnTo>
                      <a:pt x="2272" y="8103"/>
                    </a:lnTo>
                    <a:lnTo>
                      <a:pt x="2663" y="8288"/>
                    </a:lnTo>
                    <a:lnTo>
                      <a:pt x="3064" y="8432"/>
                    </a:lnTo>
                    <a:lnTo>
                      <a:pt x="3473" y="8532"/>
                    </a:lnTo>
                    <a:lnTo>
                      <a:pt x="3886" y="8593"/>
                    </a:lnTo>
                    <a:lnTo>
                      <a:pt x="4301" y="8613"/>
                    </a:lnTo>
                    <a:lnTo>
                      <a:pt x="4715" y="8594"/>
                    </a:lnTo>
                    <a:lnTo>
                      <a:pt x="5124" y="8535"/>
                    </a:lnTo>
                    <a:lnTo>
                      <a:pt x="5525" y="8437"/>
                    </a:lnTo>
                    <a:lnTo>
                      <a:pt x="5916" y="8302"/>
                    </a:lnTo>
                    <a:lnTo>
                      <a:pt x="6293" y="8129"/>
                    </a:lnTo>
                    <a:lnTo>
                      <a:pt x="6655" y="7918"/>
                    </a:lnTo>
                    <a:lnTo>
                      <a:pt x="6996" y="7671"/>
                    </a:lnTo>
                    <a:lnTo>
                      <a:pt x="7315" y="7389"/>
                    </a:lnTo>
                    <a:lnTo>
                      <a:pt x="7608" y="7071"/>
                    </a:lnTo>
                    <a:lnTo>
                      <a:pt x="7874" y="6719"/>
                    </a:lnTo>
                    <a:lnTo>
                      <a:pt x="8102" y="6341"/>
                    </a:lnTo>
                    <a:lnTo>
                      <a:pt x="8287" y="5951"/>
                    </a:lnTo>
                    <a:lnTo>
                      <a:pt x="8430" y="5550"/>
                    </a:lnTo>
                    <a:lnTo>
                      <a:pt x="8531" y="5141"/>
                    </a:lnTo>
                    <a:lnTo>
                      <a:pt x="8592" y="4728"/>
                    </a:lnTo>
                    <a:lnTo>
                      <a:pt x="8612" y="4313"/>
                    </a:lnTo>
                    <a:lnTo>
                      <a:pt x="8593" y="3900"/>
                    </a:lnTo>
                    <a:lnTo>
                      <a:pt x="8533" y="3490"/>
                    </a:lnTo>
                    <a:lnTo>
                      <a:pt x="8436" y="3088"/>
                    </a:lnTo>
                    <a:lnTo>
                      <a:pt x="8301" y="2697"/>
                    </a:lnTo>
                    <a:lnTo>
                      <a:pt x="8127" y="2320"/>
                    </a:lnTo>
                    <a:lnTo>
                      <a:pt x="7917" y="1958"/>
                    </a:lnTo>
                    <a:lnTo>
                      <a:pt x="7670" y="1617"/>
                    </a:lnTo>
                    <a:lnTo>
                      <a:pt x="7387" y="1298"/>
                    </a:lnTo>
                    <a:lnTo>
                      <a:pt x="7069" y="1005"/>
                    </a:lnTo>
                    <a:lnTo>
                      <a:pt x="6718" y="740"/>
                    </a:lnTo>
                    <a:lnTo>
                      <a:pt x="6340" y="512"/>
                    </a:lnTo>
                    <a:lnTo>
                      <a:pt x="5949" y="326"/>
                    </a:lnTo>
                    <a:lnTo>
                      <a:pt x="5548" y="183"/>
                    </a:lnTo>
                    <a:lnTo>
                      <a:pt x="5139" y="81"/>
                    </a:lnTo>
                    <a:lnTo>
                      <a:pt x="4725" y="20"/>
                    </a:lnTo>
                    <a:lnTo>
                      <a:pt x="4311" y="0"/>
                    </a:lnTo>
                    <a:lnTo>
                      <a:pt x="3897" y="20"/>
                    </a:lnTo>
                    <a:lnTo>
                      <a:pt x="3489" y="79"/>
                    </a:lnTo>
                    <a:lnTo>
                      <a:pt x="3087" y="177"/>
                    </a:lnTo>
                    <a:lnTo>
                      <a:pt x="2696" y="313"/>
                    </a:lnTo>
                    <a:lnTo>
                      <a:pt x="2318" y="486"/>
                    </a:lnTo>
                    <a:lnTo>
                      <a:pt x="1957" y="697"/>
                    </a:lnTo>
                    <a:lnTo>
                      <a:pt x="1616" y="943"/>
                    </a:lnTo>
                    <a:lnTo>
                      <a:pt x="1297" y="1225"/>
                    </a:lnTo>
                    <a:lnTo>
                      <a:pt x="1003" y="1543"/>
                    </a:lnTo>
                    <a:lnTo>
                      <a:pt x="739" y="1896"/>
                    </a:lnTo>
                    <a:lnTo>
                      <a:pt x="510" y="2272"/>
                    </a:lnTo>
                    <a:lnTo>
                      <a:pt x="325" y="2663"/>
                    </a:lnTo>
                    <a:lnTo>
                      <a:pt x="182" y="3065"/>
                    </a:lnTo>
                    <a:lnTo>
                      <a:pt x="81" y="3474"/>
                    </a:lnTo>
                    <a:lnTo>
                      <a:pt x="20" y="3887"/>
                    </a:lnTo>
                    <a:lnTo>
                      <a:pt x="0" y="4303"/>
                    </a:lnTo>
                    <a:lnTo>
                      <a:pt x="19" y="4716"/>
                    </a:lnTo>
                    <a:lnTo>
                      <a:pt x="78" y="5125"/>
                    </a:lnTo>
                    <a:lnTo>
                      <a:pt x="176" y="5527"/>
                    </a:lnTo>
                    <a:lnTo>
                      <a:pt x="311" y="5917"/>
                    </a:lnTo>
                    <a:lnTo>
                      <a:pt x="485" y="6296"/>
                    </a:lnTo>
                    <a:lnTo>
                      <a:pt x="695" y="6656"/>
                    </a:lnTo>
                    <a:lnTo>
                      <a:pt x="942" y="6997"/>
                    </a:lnTo>
                    <a:lnTo>
                      <a:pt x="1224" y="7316"/>
                    </a:lnTo>
                    <a:lnTo>
                      <a:pt x="1542" y="7610"/>
                    </a:lnTo>
                    <a:lnTo>
                      <a:pt x="1895" y="7876"/>
                    </a:lnTo>
                    <a:close/>
                  </a:path>
                </a:pathLst>
              </a:custGeom>
              <a:solidFill>
                <a:srgbClr val="425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32640" y="170280"/>
                <a:ext cx="654120" cy="646200"/>
              </a:xfrm>
              <a:custGeom>
                <a:avLst/>
                <a:gdLst/>
                <a:ahLst/>
                <a:rect l="l" t="t" r="r" b="b"/>
                <a:pathLst>
                  <a:path w="8451" h="8452">
                    <a:moveTo>
                      <a:pt x="1859" y="7728"/>
                    </a:moveTo>
                    <a:lnTo>
                      <a:pt x="2229" y="7951"/>
                    </a:lnTo>
                    <a:lnTo>
                      <a:pt x="2612" y="8133"/>
                    </a:lnTo>
                    <a:lnTo>
                      <a:pt x="3006" y="8273"/>
                    </a:lnTo>
                    <a:lnTo>
                      <a:pt x="3407" y="8373"/>
                    </a:lnTo>
                    <a:lnTo>
                      <a:pt x="3813" y="8433"/>
                    </a:lnTo>
                    <a:lnTo>
                      <a:pt x="4221" y="8452"/>
                    </a:lnTo>
                    <a:lnTo>
                      <a:pt x="4627" y="8433"/>
                    </a:lnTo>
                    <a:lnTo>
                      <a:pt x="5027" y="8375"/>
                    </a:lnTo>
                    <a:lnTo>
                      <a:pt x="5422" y="8278"/>
                    </a:lnTo>
                    <a:lnTo>
                      <a:pt x="5806" y="8145"/>
                    </a:lnTo>
                    <a:lnTo>
                      <a:pt x="6176" y="7975"/>
                    </a:lnTo>
                    <a:lnTo>
                      <a:pt x="6530" y="7769"/>
                    </a:lnTo>
                    <a:lnTo>
                      <a:pt x="6866" y="7527"/>
                    </a:lnTo>
                    <a:lnTo>
                      <a:pt x="7178" y="7250"/>
                    </a:lnTo>
                    <a:lnTo>
                      <a:pt x="7466" y="6939"/>
                    </a:lnTo>
                    <a:lnTo>
                      <a:pt x="7727" y="6593"/>
                    </a:lnTo>
                    <a:lnTo>
                      <a:pt x="7950" y="6222"/>
                    </a:lnTo>
                    <a:lnTo>
                      <a:pt x="8132" y="5840"/>
                    </a:lnTo>
                    <a:lnTo>
                      <a:pt x="8272" y="5445"/>
                    </a:lnTo>
                    <a:lnTo>
                      <a:pt x="8372" y="5044"/>
                    </a:lnTo>
                    <a:lnTo>
                      <a:pt x="8432" y="4638"/>
                    </a:lnTo>
                    <a:lnTo>
                      <a:pt x="8451" y="4231"/>
                    </a:lnTo>
                    <a:lnTo>
                      <a:pt x="8432" y="3825"/>
                    </a:lnTo>
                    <a:lnTo>
                      <a:pt x="8374" y="3424"/>
                    </a:lnTo>
                    <a:lnTo>
                      <a:pt x="8277" y="3030"/>
                    </a:lnTo>
                    <a:lnTo>
                      <a:pt x="8144" y="2646"/>
                    </a:lnTo>
                    <a:lnTo>
                      <a:pt x="7974" y="2275"/>
                    </a:lnTo>
                    <a:lnTo>
                      <a:pt x="7768" y="1921"/>
                    </a:lnTo>
                    <a:lnTo>
                      <a:pt x="7526" y="1586"/>
                    </a:lnTo>
                    <a:lnTo>
                      <a:pt x="7249" y="1273"/>
                    </a:lnTo>
                    <a:lnTo>
                      <a:pt x="6938" y="985"/>
                    </a:lnTo>
                    <a:lnTo>
                      <a:pt x="6592" y="725"/>
                    </a:lnTo>
                    <a:lnTo>
                      <a:pt x="6221" y="501"/>
                    </a:lnTo>
                    <a:lnTo>
                      <a:pt x="5839" y="319"/>
                    </a:lnTo>
                    <a:lnTo>
                      <a:pt x="5444" y="179"/>
                    </a:lnTo>
                    <a:lnTo>
                      <a:pt x="5043" y="79"/>
                    </a:lnTo>
                    <a:lnTo>
                      <a:pt x="4637" y="19"/>
                    </a:lnTo>
                    <a:lnTo>
                      <a:pt x="4230" y="0"/>
                    </a:lnTo>
                    <a:lnTo>
                      <a:pt x="3825" y="19"/>
                    </a:lnTo>
                    <a:lnTo>
                      <a:pt x="3423" y="77"/>
                    </a:lnTo>
                    <a:lnTo>
                      <a:pt x="3029" y="173"/>
                    </a:lnTo>
                    <a:lnTo>
                      <a:pt x="2645" y="306"/>
                    </a:lnTo>
                    <a:lnTo>
                      <a:pt x="2275" y="476"/>
                    </a:lnTo>
                    <a:lnTo>
                      <a:pt x="1921" y="683"/>
                    </a:lnTo>
                    <a:lnTo>
                      <a:pt x="1585" y="925"/>
                    </a:lnTo>
                    <a:lnTo>
                      <a:pt x="1272" y="1201"/>
                    </a:lnTo>
                    <a:lnTo>
                      <a:pt x="984" y="1513"/>
                    </a:lnTo>
                    <a:lnTo>
                      <a:pt x="725" y="1860"/>
                    </a:lnTo>
                    <a:lnTo>
                      <a:pt x="501" y="2229"/>
                    </a:lnTo>
                    <a:lnTo>
                      <a:pt x="319" y="2613"/>
                    </a:lnTo>
                    <a:lnTo>
                      <a:pt x="179" y="3007"/>
                    </a:lnTo>
                    <a:lnTo>
                      <a:pt x="79" y="3408"/>
                    </a:lnTo>
                    <a:lnTo>
                      <a:pt x="19" y="3815"/>
                    </a:lnTo>
                    <a:lnTo>
                      <a:pt x="0" y="4222"/>
                    </a:lnTo>
                    <a:lnTo>
                      <a:pt x="19" y="4628"/>
                    </a:lnTo>
                    <a:lnTo>
                      <a:pt x="76" y="5029"/>
                    </a:lnTo>
                    <a:lnTo>
                      <a:pt x="173" y="5423"/>
                    </a:lnTo>
                    <a:lnTo>
                      <a:pt x="306" y="5807"/>
                    </a:lnTo>
                    <a:lnTo>
                      <a:pt x="476" y="6177"/>
                    </a:lnTo>
                    <a:lnTo>
                      <a:pt x="682" y="6531"/>
                    </a:lnTo>
                    <a:lnTo>
                      <a:pt x="925" y="6867"/>
                    </a:lnTo>
                    <a:lnTo>
                      <a:pt x="1201" y="7179"/>
                    </a:lnTo>
                    <a:lnTo>
                      <a:pt x="1513" y="7467"/>
                    </a:lnTo>
                    <a:lnTo>
                      <a:pt x="1859" y="7728"/>
                    </a:lnTo>
                    <a:close/>
                  </a:path>
                </a:pathLst>
              </a:custGeom>
              <a:solidFill>
                <a:srgbClr val="445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1640" y="171720"/>
                <a:ext cx="642240" cy="634680"/>
              </a:xfrm>
              <a:custGeom>
                <a:avLst/>
                <a:gdLst/>
                <a:ahLst/>
                <a:rect l="l" t="t" r="r" b="b"/>
                <a:pathLst>
                  <a:path w="8292" h="8293">
                    <a:moveTo>
                      <a:pt x="1825" y="7582"/>
                    </a:moveTo>
                    <a:lnTo>
                      <a:pt x="2188" y="7801"/>
                    </a:lnTo>
                    <a:lnTo>
                      <a:pt x="2564" y="7979"/>
                    </a:lnTo>
                    <a:lnTo>
                      <a:pt x="2950" y="8118"/>
                    </a:lnTo>
                    <a:lnTo>
                      <a:pt x="3344" y="8215"/>
                    </a:lnTo>
                    <a:lnTo>
                      <a:pt x="3742" y="8273"/>
                    </a:lnTo>
                    <a:lnTo>
                      <a:pt x="4142" y="8293"/>
                    </a:lnTo>
                    <a:lnTo>
                      <a:pt x="4540" y="8274"/>
                    </a:lnTo>
                    <a:lnTo>
                      <a:pt x="4933" y="8217"/>
                    </a:lnTo>
                    <a:lnTo>
                      <a:pt x="5320" y="8123"/>
                    </a:lnTo>
                    <a:lnTo>
                      <a:pt x="5696" y="7992"/>
                    </a:lnTo>
                    <a:lnTo>
                      <a:pt x="6060" y="7825"/>
                    </a:lnTo>
                    <a:lnTo>
                      <a:pt x="6407" y="7622"/>
                    </a:lnTo>
                    <a:lnTo>
                      <a:pt x="6736" y="7385"/>
                    </a:lnTo>
                    <a:lnTo>
                      <a:pt x="7043" y="7113"/>
                    </a:lnTo>
                    <a:lnTo>
                      <a:pt x="7326" y="6808"/>
                    </a:lnTo>
                    <a:lnTo>
                      <a:pt x="7581" y="6469"/>
                    </a:lnTo>
                    <a:lnTo>
                      <a:pt x="7800" y="6105"/>
                    </a:lnTo>
                    <a:lnTo>
                      <a:pt x="7979" y="5729"/>
                    </a:lnTo>
                    <a:lnTo>
                      <a:pt x="8117" y="5342"/>
                    </a:lnTo>
                    <a:lnTo>
                      <a:pt x="8215" y="4949"/>
                    </a:lnTo>
                    <a:lnTo>
                      <a:pt x="8272" y="4551"/>
                    </a:lnTo>
                    <a:lnTo>
                      <a:pt x="8292" y="4151"/>
                    </a:lnTo>
                    <a:lnTo>
                      <a:pt x="8273" y="3754"/>
                    </a:lnTo>
                    <a:lnTo>
                      <a:pt x="8216" y="3359"/>
                    </a:lnTo>
                    <a:lnTo>
                      <a:pt x="8122" y="2973"/>
                    </a:lnTo>
                    <a:lnTo>
                      <a:pt x="7992" y="2597"/>
                    </a:lnTo>
                    <a:lnTo>
                      <a:pt x="7825" y="2234"/>
                    </a:lnTo>
                    <a:lnTo>
                      <a:pt x="7622" y="1886"/>
                    </a:lnTo>
                    <a:lnTo>
                      <a:pt x="7384" y="1556"/>
                    </a:lnTo>
                    <a:lnTo>
                      <a:pt x="7112" y="1250"/>
                    </a:lnTo>
                    <a:lnTo>
                      <a:pt x="6807" y="967"/>
                    </a:lnTo>
                    <a:lnTo>
                      <a:pt x="6468" y="712"/>
                    </a:lnTo>
                    <a:lnTo>
                      <a:pt x="6104" y="492"/>
                    </a:lnTo>
                    <a:lnTo>
                      <a:pt x="5728" y="314"/>
                    </a:lnTo>
                    <a:lnTo>
                      <a:pt x="5342" y="175"/>
                    </a:lnTo>
                    <a:lnTo>
                      <a:pt x="4949" y="78"/>
                    </a:lnTo>
                    <a:lnTo>
                      <a:pt x="4550" y="20"/>
                    </a:lnTo>
                    <a:lnTo>
                      <a:pt x="4150" y="0"/>
                    </a:lnTo>
                    <a:lnTo>
                      <a:pt x="3753" y="19"/>
                    </a:lnTo>
                    <a:lnTo>
                      <a:pt x="3360" y="77"/>
                    </a:lnTo>
                    <a:lnTo>
                      <a:pt x="2973" y="170"/>
                    </a:lnTo>
                    <a:lnTo>
                      <a:pt x="2596" y="301"/>
                    </a:lnTo>
                    <a:lnTo>
                      <a:pt x="2233" y="468"/>
                    </a:lnTo>
                    <a:lnTo>
                      <a:pt x="1885" y="671"/>
                    </a:lnTo>
                    <a:lnTo>
                      <a:pt x="1556" y="908"/>
                    </a:lnTo>
                    <a:lnTo>
                      <a:pt x="1249" y="1180"/>
                    </a:lnTo>
                    <a:lnTo>
                      <a:pt x="966" y="1485"/>
                    </a:lnTo>
                    <a:lnTo>
                      <a:pt x="712" y="1825"/>
                    </a:lnTo>
                    <a:lnTo>
                      <a:pt x="492" y="2188"/>
                    </a:lnTo>
                    <a:lnTo>
                      <a:pt x="314" y="2564"/>
                    </a:lnTo>
                    <a:lnTo>
                      <a:pt x="175" y="2951"/>
                    </a:lnTo>
                    <a:lnTo>
                      <a:pt x="78" y="3344"/>
                    </a:lnTo>
                    <a:lnTo>
                      <a:pt x="20" y="3742"/>
                    </a:lnTo>
                    <a:lnTo>
                      <a:pt x="0" y="4142"/>
                    </a:lnTo>
                    <a:lnTo>
                      <a:pt x="19" y="4540"/>
                    </a:lnTo>
                    <a:lnTo>
                      <a:pt x="77" y="4934"/>
                    </a:lnTo>
                    <a:lnTo>
                      <a:pt x="170" y="5321"/>
                    </a:lnTo>
                    <a:lnTo>
                      <a:pt x="301" y="5697"/>
                    </a:lnTo>
                    <a:lnTo>
                      <a:pt x="468" y="6061"/>
                    </a:lnTo>
                    <a:lnTo>
                      <a:pt x="671" y="6408"/>
                    </a:lnTo>
                    <a:lnTo>
                      <a:pt x="908" y="6737"/>
                    </a:lnTo>
                    <a:lnTo>
                      <a:pt x="1180" y="7044"/>
                    </a:lnTo>
                    <a:lnTo>
                      <a:pt x="1485" y="7327"/>
                    </a:lnTo>
                    <a:lnTo>
                      <a:pt x="1825" y="7582"/>
                    </a:lnTo>
                    <a:close/>
                  </a:path>
                </a:pathLst>
              </a:custGeom>
              <a:solidFill>
                <a:srgbClr val="476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51000" y="174600"/>
                <a:ext cx="629280" cy="622440"/>
              </a:xfrm>
              <a:custGeom>
                <a:avLst/>
                <a:gdLst/>
                <a:ahLst/>
                <a:rect l="l" t="t" r="r" b="b"/>
                <a:pathLst>
                  <a:path w="8131" h="8131">
                    <a:moveTo>
                      <a:pt x="1789" y="7433"/>
                    </a:moveTo>
                    <a:lnTo>
                      <a:pt x="2146" y="7648"/>
                    </a:lnTo>
                    <a:lnTo>
                      <a:pt x="2515" y="7823"/>
                    </a:lnTo>
                    <a:lnTo>
                      <a:pt x="2893" y="7958"/>
                    </a:lnTo>
                    <a:lnTo>
                      <a:pt x="3280" y="8055"/>
                    </a:lnTo>
                    <a:lnTo>
                      <a:pt x="3670" y="8112"/>
                    </a:lnTo>
                    <a:lnTo>
                      <a:pt x="4061" y="8131"/>
                    </a:lnTo>
                    <a:lnTo>
                      <a:pt x="4452" y="8112"/>
                    </a:lnTo>
                    <a:lnTo>
                      <a:pt x="4838" y="8057"/>
                    </a:lnTo>
                    <a:lnTo>
                      <a:pt x="5217" y="7965"/>
                    </a:lnTo>
                    <a:lnTo>
                      <a:pt x="5586" y="7837"/>
                    </a:lnTo>
                    <a:lnTo>
                      <a:pt x="5942" y="7673"/>
                    </a:lnTo>
                    <a:lnTo>
                      <a:pt x="6283" y="7474"/>
                    </a:lnTo>
                    <a:lnTo>
                      <a:pt x="6605" y="7242"/>
                    </a:lnTo>
                    <a:lnTo>
                      <a:pt x="6907" y="6975"/>
                    </a:lnTo>
                    <a:lnTo>
                      <a:pt x="7184" y="6675"/>
                    </a:lnTo>
                    <a:lnTo>
                      <a:pt x="7435" y="6343"/>
                    </a:lnTo>
                    <a:lnTo>
                      <a:pt x="7649" y="5986"/>
                    </a:lnTo>
                    <a:lnTo>
                      <a:pt x="7824" y="5617"/>
                    </a:lnTo>
                    <a:lnTo>
                      <a:pt x="7960" y="5239"/>
                    </a:lnTo>
                    <a:lnTo>
                      <a:pt x="8055" y="4852"/>
                    </a:lnTo>
                    <a:lnTo>
                      <a:pt x="8112" y="4462"/>
                    </a:lnTo>
                    <a:lnTo>
                      <a:pt x="8131" y="4071"/>
                    </a:lnTo>
                    <a:lnTo>
                      <a:pt x="8113" y="3680"/>
                    </a:lnTo>
                    <a:lnTo>
                      <a:pt x="8057" y="3293"/>
                    </a:lnTo>
                    <a:lnTo>
                      <a:pt x="7964" y="2915"/>
                    </a:lnTo>
                    <a:lnTo>
                      <a:pt x="7836" y="2546"/>
                    </a:lnTo>
                    <a:lnTo>
                      <a:pt x="7673" y="2189"/>
                    </a:lnTo>
                    <a:lnTo>
                      <a:pt x="7474" y="1849"/>
                    </a:lnTo>
                    <a:lnTo>
                      <a:pt x="7241" y="1525"/>
                    </a:lnTo>
                    <a:lnTo>
                      <a:pt x="6974" y="1225"/>
                    </a:lnTo>
                    <a:lnTo>
                      <a:pt x="6674" y="947"/>
                    </a:lnTo>
                    <a:lnTo>
                      <a:pt x="6343" y="697"/>
                    </a:lnTo>
                    <a:lnTo>
                      <a:pt x="5987" y="482"/>
                    </a:lnTo>
                    <a:lnTo>
                      <a:pt x="5618" y="307"/>
                    </a:lnTo>
                    <a:lnTo>
                      <a:pt x="5238" y="171"/>
                    </a:lnTo>
                    <a:lnTo>
                      <a:pt x="4852" y="75"/>
                    </a:lnTo>
                    <a:lnTo>
                      <a:pt x="4462" y="19"/>
                    </a:lnTo>
                    <a:lnTo>
                      <a:pt x="4071" y="0"/>
                    </a:lnTo>
                    <a:lnTo>
                      <a:pt x="3681" y="18"/>
                    </a:lnTo>
                    <a:lnTo>
                      <a:pt x="3295" y="74"/>
                    </a:lnTo>
                    <a:lnTo>
                      <a:pt x="2915" y="167"/>
                    </a:lnTo>
                    <a:lnTo>
                      <a:pt x="2546" y="294"/>
                    </a:lnTo>
                    <a:lnTo>
                      <a:pt x="2190" y="458"/>
                    </a:lnTo>
                    <a:lnTo>
                      <a:pt x="1849" y="657"/>
                    </a:lnTo>
                    <a:lnTo>
                      <a:pt x="1527" y="890"/>
                    </a:lnTo>
                    <a:lnTo>
                      <a:pt x="1226" y="1157"/>
                    </a:lnTo>
                    <a:lnTo>
                      <a:pt x="949" y="1456"/>
                    </a:lnTo>
                    <a:lnTo>
                      <a:pt x="699" y="1789"/>
                    </a:lnTo>
                    <a:lnTo>
                      <a:pt x="483" y="2145"/>
                    </a:lnTo>
                    <a:lnTo>
                      <a:pt x="307" y="2514"/>
                    </a:lnTo>
                    <a:lnTo>
                      <a:pt x="172" y="2893"/>
                    </a:lnTo>
                    <a:lnTo>
                      <a:pt x="77" y="3279"/>
                    </a:lnTo>
                    <a:lnTo>
                      <a:pt x="19" y="3669"/>
                    </a:lnTo>
                    <a:lnTo>
                      <a:pt x="0" y="4061"/>
                    </a:lnTo>
                    <a:lnTo>
                      <a:pt x="19" y="4451"/>
                    </a:lnTo>
                    <a:lnTo>
                      <a:pt x="75" y="4837"/>
                    </a:lnTo>
                    <a:lnTo>
                      <a:pt x="167" y="5217"/>
                    </a:lnTo>
                    <a:lnTo>
                      <a:pt x="295" y="5585"/>
                    </a:lnTo>
                    <a:lnTo>
                      <a:pt x="458" y="5942"/>
                    </a:lnTo>
                    <a:lnTo>
                      <a:pt x="657" y="6282"/>
                    </a:lnTo>
                    <a:lnTo>
                      <a:pt x="890" y="6605"/>
                    </a:lnTo>
                    <a:lnTo>
                      <a:pt x="1157" y="6906"/>
                    </a:lnTo>
                    <a:lnTo>
                      <a:pt x="1457" y="7182"/>
                    </a:lnTo>
                    <a:lnTo>
                      <a:pt x="1789" y="7433"/>
                    </a:lnTo>
                    <a:close/>
                  </a:path>
                </a:pathLst>
              </a:custGeom>
              <a:solidFill>
                <a:srgbClr val="496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60360" y="177480"/>
                <a:ext cx="617040" cy="609840"/>
              </a:xfrm>
              <a:custGeom>
                <a:avLst/>
                <a:gdLst/>
                <a:ahLst/>
                <a:rect l="l" t="t" r="r" b="b"/>
                <a:pathLst>
                  <a:path w="7971" h="7971">
                    <a:moveTo>
                      <a:pt x="1755" y="7287"/>
                    </a:moveTo>
                    <a:lnTo>
                      <a:pt x="2103" y="7498"/>
                    </a:lnTo>
                    <a:lnTo>
                      <a:pt x="2465" y="7669"/>
                    </a:lnTo>
                    <a:lnTo>
                      <a:pt x="2837" y="7802"/>
                    </a:lnTo>
                    <a:lnTo>
                      <a:pt x="3215" y="7895"/>
                    </a:lnTo>
                    <a:lnTo>
                      <a:pt x="3597" y="7952"/>
                    </a:lnTo>
                    <a:lnTo>
                      <a:pt x="3982" y="7971"/>
                    </a:lnTo>
                    <a:lnTo>
                      <a:pt x="4363" y="7952"/>
                    </a:lnTo>
                    <a:lnTo>
                      <a:pt x="4742" y="7897"/>
                    </a:lnTo>
                    <a:lnTo>
                      <a:pt x="5114" y="7807"/>
                    </a:lnTo>
                    <a:lnTo>
                      <a:pt x="5475" y="7682"/>
                    </a:lnTo>
                    <a:lnTo>
                      <a:pt x="5825" y="7521"/>
                    </a:lnTo>
                    <a:lnTo>
                      <a:pt x="6159" y="7327"/>
                    </a:lnTo>
                    <a:lnTo>
                      <a:pt x="6475" y="7098"/>
                    </a:lnTo>
                    <a:lnTo>
                      <a:pt x="6770" y="6837"/>
                    </a:lnTo>
                    <a:lnTo>
                      <a:pt x="7041" y="6542"/>
                    </a:lnTo>
                    <a:lnTo>
                      <a:pt x="7287" y="6217"/>
                    </a:lnTo>
                    <a:lnTo>
                      <a:pt x="7498" y="5867"/>
                    </a:lnTo>
                    <a:lnTo>
                      <a:pt x="7669" y="5506"/>
                    </a:lnTo>
                    <a:lnTo>
                      <a:pt x="7802" y="5135"/>
                    </a:lnTo>
                    <a:lnTo>
                      <a:pt x="7895" y="4756"/>
                    </a:lnTo>
                    <a:lnTo>
                      <a:pt x="7951" y="4373"/>
                    </a:lnTo>
                    <a:lnTo>
                      <a:pt x="7971" y="3990"/>
                    </a:lnTo>
                    <a:lnTo>
                      <a:pt x="7953" y="3607"/>
                    </a:lnTo>
                    <a:lnTo>
                      <a:pt x="7897" y="3228"/>
                    </a:lnTo>
                    <a:lnTo>
                      <a:pt x="7807" y="2857"/>
                    </a:lnTo>
                    <a:lnTo>
                      <a:pt x="7681" y="2496"/>
                    </a:lnTo>
                    <a:lnTo>
                      <a:pt x="7521" y="2146"/>
                    </a:lnTo>
                    <a:lnTo>
                      <a:pt x="7326" y="1812"/>
                    </a:lnTo>
                    <a:lnTo>
                      <a:pt x="7099" y="1497"/>
                    </a:lnTo>
                    <a:lnTo>
                      <a:pt x="6837" y="1201"/>
                    </a:lnTo>
                    <a:lnTo>
                      <a:pt x="6543" y="929"/>
                    </a:lnTo>
                    <a:lnTo>
                      <a:pt x="6218" y="684"/>
                    </a:lnTo>
                    <a:lnTo>
                      <a:pt x="5868" y="473"/>
                    </a:lnTo>
                    <a:lnTo>
                      <a:pt x="5506" y="301"/>
                    </a:lnTo>
                    <a:lnTo>
                      <a:pt x="5135" y="169"/>
                    </a:lnTo>
                    <a:lnTo>
                      <a:pt x="4757" y="74"/>
                    </a:lnTo>
                    <a:lnTo>
                      <a:pt x="4374" y="18"/>
                    </a:lnTo>
                    <a:lnTo>
                      <a:pt x="3990" y="0"/>
                    </a:lnTo>
                    <a:lnTo>
                      <a:pt x="3608" y="18"/>
                    </a:lnTo>
                    <a:lnTo>
                      <a:pt x="3229" y="72"/>
                    </a:lnTo>
                    <a:lnTo>
                      <a:pt x="2858" y="163"/>
                    </a:lnTo>
                    <a:lnTo>
                      <a:pt x="2496" y="289"/>
                    </a:lnTo>
                    <a:lnTo>
                      <a:pt x="2147" y="450"/>
                    </a:lnTo>
                    <a:lnTo>
                      <a:pt x="1812" y="644"/>
                    </a:lnTo>
                    <a:lnTo>
                      <a:pt x="1496" y="872"/>
                    </a:lnTo>
                    <a:lnTo>
                      <a:pt x="1202" y="1133"/>
                    </a:lnTo>
                    <a:lnTo>
                      <a:pt x="930" y="1428"/>
                    </a:lnTo>
                    <a:lnTo>
                      <a:pt x="685" y="1754"/>
                    </a:lnTo>
                    <a:lnTo>
                      <a:pt x="474" y="2103"/>
                    </a:lnTo>
                    <a:lnTo>
                      <a:pt x="301" y="2464"/>
                    </a:lnTo>
                    <a:lnTo>
                      <a:pt x="169" y="2836"/>
                    </a:lnTo>
                    <a:lnTo>
                      <a:pt x="75" y="3215"/>
                    </a:lnTo>
                    <a:lnTo>
                      <a:pt x="19" y="3597"/>
                    </a:lnTo>
                    <a:lnTo>
                      <a:pt x="0" y="3981"/>
                    </a:lnTo>
                    <a:lnTo>
                      <a:pt x="19" y="4364"/>
                    </a:lnTo>
                    <a:lnTo>
                      <a:pt x="73" y="4742"/>
                    </a:lnTo>
                    <a:lnTo>
                      <a:pt x="163" y="5113"/>
                    </a:lnTo>
                    <a:lnTo>
                      <a:pt x="290" y="5476"/>
                    </a:lnTo>
                    <a:lnTo>
                      <a:pt x="450" y="5824"/>
                    </a:lnTo>
                    <a:lnTo>
                      <a:pt x="645" y="6159"/>
                    </a:lnTo>
                    <a:lnTo>
                      <a:pt x="872" y="6475"/>
                    </a:lnTo>
                    <a:lnTo>
                      <a:pt x="1134" y="6770"/>
                    </a:lnTo>
                    <a:lnTo>
                      <a:pt x="1428" y="7042"/>
                    </a:lnTo>
                    <a:lnTo>
                      <a:pt x="1755" y="7287"/>
                    </a:lnTo>
                    <a:close/>
                  </a:path>
                </a:pathLst>
              </a:custGeom>
              <a:solidFill>
                <a:srgbClr val="4b6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69720" y="179280"/>
                <a:ext cx="605160" cy="597600"/>
              </a:xfrm>
              <a:custGeom>
                <a:avLst/>
                <a:gdLst/>
                <a:ahLst/>
                <a:rect l="l" t="t" r="r" b="b"/>
                <a:pathLst>
                  <a:path w="7809" h="7808">
                    <a:moveTo>
                      <a:pt x="1719" y="7139"/>
                    </a:moveTo>
                    <a:lnTo>
                      <a:pt x="2060" y="7346"/>
                    </a:lnTo>
                    <a:lnTo>
                      <a:pt x="2414" y="7514"/>
                    </a:lnTo>
                    <a:lnTo>
                      <a:pt x="2779" y="7643"/>
                    </a:lnTo>
                    <a:lnTo>
                      <a:pt x="3149" y="7736"/>
                    </a:lnTo>
                    <a:lnTo>
                      <a:pt x="3524" y="7790"/>
                    </a:lnTo>
                    <a:lnTo>
                      <a:pt x="3900" y="7808"/>
                    </a:lnTo>
                    <a:lnTo>
                      <a:pt x="4274" y="7790"/>
                    </a:lnTo>
                    <a:lnTo>
                      <a:pt x="4645" y="7737"/>
                    </a:lnTo>
                    <a:lnTo>
                      <a:pt x="5009" y="7649"/>
                    </a:lnTo>
                    <a:lnTo>
                      <a:pt x="5364" y="7525"/>
                    </a:lnTo>
                    <a:lnTo>
                      <a:pt x="5706" y="7368"/>
                    </a:lnTo>
                    <a:lnTo>
                      <a:pt x="6034" y="7178"/>
                    </a:lnTo>
                    <a:lnTo>
                      <a:pt x="6343" y="6953"/>
                    </a:lnTo>
                    <a:lnTo>
                      <a:pt x="6632" y="6697"/>
                    </a:lnTo>
                    <a:lnTo>
                      <a:pt x="6898" y="6409"/>
                    </a:lnTo>
                    <a:lnTo>
                      <a:pt x="7140" y="6090"/>
                    </a:lnTo>
                    <a:lnTo>
                      <a:pt x="7346" y="5748"/>
                    </a:lnTo>
                    <a:lnTo>
                      <a:pt x="7514" y="5394"/>
                    </a:lnTo>
                    <a:lnTo>
                      <a:pt x="7643" y="5029"/>
                    </a:lnTo>
                    <a:lnTo>
                      <a:pt x="7736" y="4659"/>
                    </a:lnTo>
                    <a:lnTo>
                      <a:pt x="7791" y="4284"/>
                    </a:lnTo>
                    <a:lnTo>
                      <a:pt x="7809" y="3908"/>
                    </a:lnTo>
                    <a:lnTo>
                      <a:pt x="7791" y="3533"/>
                    </a:lnTo>
                    <a:lnTo>
                      <a:pt x="7738" y="3162"/>
                    </a:lnTo>
                    <a:lnTo>
                      <a:pt x="7649" y="2799"/>
                    </a:lnTo>
                    <a:lnTo>
                      <a:pt x="7525" y="2444"/>
                    </a:lnTo>
                    <a:lnTo>
                      <a:pt x="7368" y="2102"/>
                    </a:lnTo>
                    <a:lnTo>
                      <a:pt x="7178" y="1775"/>
                    </a:lnTo>
                    <a:lnTo>
                      <a:pt x="6955" y="1465"/>
                    </a:lnTo>
                    <a:lnTo>
                      <a:pt x="6698" y="1177"/>
                    </a:lnTo>
                    <a:lnTo>
                      <a:pt x="6410" y="910"/>
                    </a:lnTo>
                    <a:lnTo>
                      <a:pt x="6091" y="671"/>
                    </a:lnTo>
                    <a:lnTo>
                      <a:pt x="5749" y="463"/>
                    </a:lnTo>
                    <a:lnTo>
                      <a:pt x="5394" y="294"/>
                    </a:lnTo>
                    <a:lnTo>
                      <a:pt x="5030" y="165"/>
                    </a:lnTo>
                    <a:lnTo>
                      <a:pt x="4659" y="72"/>
                    </a:lnTo>
                    <a:lnTo>
                      <a:pt x="4285" y="18"/>
                    </a:lnTo>
                    <a:lnTo>
                      <a:pt x="3909" y="0"/>
                    </a:lnTo>
                    <a:lnTo>
                      <a:pt x="3533" y="17"/>
                    </a:lnTo>
                    <a:lnTo>
                      <a:pt x="3163" y="71"/>
                    </a:lnTo>
                    <a:lnTo>
                      <a:pt x="2799" y="159"/>
                    </a:lnTo>
                    <a:lnTo>
                      <a:pt x="2445" y="283"/>
                    </a:lnTo>
                    <a:lnTo>
                      <a:pt x="2102" y="440"/>
                    </a:lnTo>
                    <a:lnTo>
                      <a:pt x="1775" y="630"/>
                    </a:lnTo>
                    <a:lnTo>
                      <a:pt x="1466" y="853"/>
                    </a:lnTo>
                    <a:lnTo>
                      <a:pt x="1177" y="1110"/>
                    </a:lnTo>
                    <a:lnTo>
                      <a:pt x="911" y="1398"/>
                    </a:lnTo>
                    <a:lnTo>
                      <a:pt x="670" y="1718"/>
                    </a:lnTo>
                    <a:lnTo>
                      <a:pt x="463" y="2059"/>
                    </a:lnTo>
                    <a:lnTo>
                      <a:pt x="295" y="2414"/>
                    </a:lnTo>
                    <a:lnTo>
                      <a:pt x="165" y="2778"/>
                    </a:lnTo>
                    <a:lnTo>
                      <a:pt x="73" y="3149"/>
                    </a:lnTo>
                    <a:lnTo>
                      <a:pt x="18" y="3523"/>
                    </a:lnTo>
                    <a:lnTo>
                      <a:pt x="0" y="3899"/>
                    </a:lnTo>
                    <a:lnTo>
                      <a:pt x="18" y="4274"/>
                    </a:lnTo>
                    <a:lnTo>
                      <a:pt x="72" y="4645"/>
                    </a:lnTo>
                    <a:lnTo>
                      <a:pt x="160" y="5009"/>
                    </a:lnTo>
                    <a:lnTo>
                      <a:pt x="284" y="5364"/>
                    </a:lnTo>
                    <a:lnTo>
                      <a:pt x="441" y="5706"/>
                    </a:lnTo>
                    <a:lnTo>
                      <a:pt x="631" y="6034"/>
                    </a:lnTo>
                    <a:lnTo>
                      <a:pt x="854" y="6343"/>
                    </a:lnTo>
                    <a:lnTo>
                      <a:pt x="1111" y="6632"/>
                    </a:lnTo>
                    <a:lnTo>
                      <a:pt x="1399" y="6898"/>
                    </a:lnTo>
                    <a:lnTo>
                      <a:pt x="1719" y="7139"/>
                    </a:lnTo>
                    <a:close/>
                  </a:path>
                </a:pathLst>
              </a:custGeom>
              <a:solidFill>
                <a:srgbClr val="4e6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8720" y="182160"/>
                <a:ext cx="592200" cy="585000"/>
              </a:xfrm>
              <a:custGeom>
                <a:avLst/>
                <a:gdLst/>
                <a:ahLst/>
                <a:rect l="l" t="t" r="r" b="b"/>
                <a:pathLst>
                  <a:path w="7648" h="7650">
                    <a:moveTo>
                      <a:pt x="1684" y="6994"/>
                    </a:moveTo>
                    <a:lnTo>
                      <a:pt x="2018" y="7196"/>
                    </a:lnTo>
                    <a:lnTo>
                      <a:pt x="2365" y="7360"/>
                    </a:lnTo>
                    <a:lnTo>
                      <a:pt x="2721" y="7487"/>
                    </a:lnTo>
                    <a:lnTo>
                      <a:pt x="3084" y="7577"/>
                    </a:lnTo>
                    <a:lnTo>
                      <a:pt x="3452" y="7631"/>
                    </a:lnTo>
                    <a:lnTo>
                      <a:pt x="3820" y="7650"/>
                    </a:lnTo>
                    <a:lnTo>
                      <a:pt x="4186" y="7631"/>
                    </a:lnTo>
                    <a:lnTo>
                      <a:pt x="4550" y="7579"/>
                    </a:lnTo>
                    <a:lnTo>
                      <a:pt x="4906" y="7492"/>
                    </a:lnTo>
                    <a:lnTo>
                      <a:pt x="5254" y="7372"/>
                    </a:lnTo>
                    <a:lnTo>
                      <a:pt x="5589" y="7218"/>
                    </a:lnTo>
                    <a:lnTo>
                      <a:pt x="5910" y="7031"/>
                    </a:lnTo>
                    <a:lnTo>
                      <a:pt x="6213" y="6812"/>
                    </a:lnTo>
                    <a:lnTo>
                      <a:pt x="6497" y="6561"/>
                    </a:lnTo>
                    <a:lnTo>
                      <a:pt x="6757" y="6279"/>
                    </a:lnTo>
                    <a:lnTo>
                      <a:pt x="6993" y="5967"/>
                    </a:lnTo>
                    <a:lnTo>
                      <a:pt x="7195" y="5631"/>
                    </a:lnTo>
                    <a:lnTo>
                      <a:pt x="7360" y="5284"/>
                    </a:lnTo>
                    <a:lnTo>
                      <a:pt x="7486" y="4928"/>
                    </a:lnTo>
                    <a:lnTo>
                      <a:pt x="7577" y="4565"/>
                    </a:lnTo>
                    <a:lnTo>
                      <a:pt x="7631" y="4198"/>
                    </a:lnTo>
                    <a:lnTo>
                      <a:pt x="7648" y="3829"/>
                    </a:lnTo>
                    <a:lnTo>
                      <a:pt x="7631" y="3462"/>
                    </a:lnTo>
                    <a:lnTo>
                      <a:pt x="7578" y="3099"/>
                    </a:lnTo>
                    <a:lnTo>
                      <a:pt x="7492" y="2742"/>
                    </a:lnTo>
                    <a:lnTo>
                      <a:pt x="7370" y="2395"/>
                    </a:lnTo>
                    <a:lnTo>
                      <a:pt x="7216" y="2060"/>
                    </a:lnTo>
                    <a:lnTo>
                      <a:pt x="7030" y="1739"/>
                    </a:lnTo>
                    <a:lnTo>
                      <a:pt x="6811" y="1436"/>
                    </a:lnTo>
                    <a:lnTo>
                      <a:pt x="6560" y="1153"/>
                    </a:lnTo>
                    <a:lnTo>
                      <a:pt x="6279" y="893"/>
                    </a:lnTo>
                    <a:lnTo>
                      <a:pt x="5966" y="658"/>
                    </a:lnTo>
                    <a:lnTo>
                      <a:pt x="5630" y="455"/>
                    </a:lnTo>
                    <a:lnTo>
                      <a:pt x="5284" y="290"/>
                    </a:lnTo>
                    <a:lnTo>
                      <a:pt x="4927" y="162"/>
                    </a:lnTo>
                    <a:lnTo>
                      <a:pt x="4564" y="72"/>
                    </a:lnTo>
                    <a:lnTo>
                      <a:pt x="4197" y="18"/>
                    </a:lnTo>
                    <a:lnTo>
                      <a:pt x="3828" y="0"/>
                    </a:lnTo>
                    <a:lnTo>
                      <a:pt x="3461" y="18"/>
                    </a:lnTo>
                    <a:lnTo>
                      <a:pt x="3098" y="70"/>
                    </a:lnTo>
                    <a:lnTo>
                      <a:pt x="2742" y="157"/>
                    </a:lnTo>
                    <a:lnTo>
                      <a:pt x="2394" y="277"/>
                    </a:lnTo>
                    <a:lnTo>
                      <a:pt x="2059" y="431"/>
                    </a:lnTo>
                    <a:lnTo>
                      <a:pt x="1738" y="618"/>
                    </a:lnTo>
                    <a:lnTo>
                      <a:pt x="1435" y="837"/>
                    </a:lnTo>
                    <a:lnTo>
                      <a:pt x="1152" y="1088"/>
                    </a:lnTo>
                    <a:lnTo>
                      <a:pt x="892" y="1370"/>
                    </a:lnTo>
                    <a:lnTo>
                      <a:pt x="657" y="1684"/>
                    </a:lnTo>
                    <a:lnTo>
                      <a:pt x="454" y="2018"/>
                    </a:lnTo>
                    <a:lnTo>
                      <a:pt x="289" y="2365"/>
                    </a:lnTo>
                    <a:lnTo>
                      <a:pt x="161" y="2722"/>
                    </a:lnTo>
                    <a:lnTo>
                      <a:pt x="71" y="3085"/>
                    </a:lnTo>
                    <a:lnTo>
                      <a:pt x="18" y="3453"/>
                    </a:lnTo>
                    <a:lnTo>
                      <a:pt x="0" y="3820"/>
                    </a:lnTo>
                    <a:lnTo>
                      <a:pt x="18" y="4188"/>
                    </a:lnTo>
                    <a:lnTo>
                      <a:pt x="70" y="4551"/>
                    </a:lnTo>
                    <a:lnTo>
                      <a:pt x="157" y="4908"/>
                    </a:lnTo>
                    <a:lnTo>
                      <a:pt x="277" y="5254"/>
                    </a:lnTo>
                    <a:lnTo>
                      <a:pt x="431" y="5590"/>
                    </a:lnTo>
                    <a:lnTo>
                      <a:pt x="619" y="5910"/>
                    </a:lnTo>
                    <a:lnTo>
                      <a:pt x="838" y="6213"/>
                    </a:lnTo>
                    <a:lnTo>
                      <a:pt x="1088" y="6497"/>
                    </a:lnTo>
                    <a:lnTo>
                      <a:pt x="1370" y="6758"/>
                    </a:lnTo>
                    <a:lnTo>
                      <a:pt x="1684" y="6994"/>
                    </a:lnTo>
                    <a:close/>
                  </a:path>
                </a:pathLst>
              </a:custGeom>
              <a:solidFill>
                <a:srgbClr val="506b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88080" y="184680"/>
                <a:ext cx="579960" cy="573120"/>
              </a:xfrm>
              <a:custGeom>
                <a:avLst/>
                <a:gdLst/>
                <a:ahLst/>
                <a:rect l="l" t="t" r="r" b="b"/>
                <a:pathLst>
                  <a:path w="7489" h="7488">
                    <a:moveTo>
                      <a:pt x="1649" y="6846"/>
                    </a:moveTo>
                    <a:lnTo>
                      <a:pt x="1976" y="7044"/>
                    </a:lnTo>
                    <a:lnTo>
                      <a:pt x="2315" y="7205"/>
                    </a:lnTo>
                    <a:lnTo>
                      <a:pt x="2665" y="7330"/>
                    </a:lnTo>
                    <a:lnTo>
                      <a:pt x="3020" y="7418"/>
                    </a:lnTo>
                    <a:lnTo>
                      <a:pt x="3380" y="7470"/>
                    </a:lnTo>
                    <a:lnTo>
                      <a:pt x="3740" y="7488"/>
                    </a:lnTo>
                    <a:lnTo>
                      <a:pt x="4099" y="7471"/>
                    </a:lnTo>
                    <a:lnTo>
                      <a:pt x="4455" y="7419"/>
                    </a:lnTo>
                    <a:lnTo>
                      <a:pt x="4804" y="7334"/>
                    </a:lnTo>
                    <a:lnTo>
                      <a:pt x="5144" y="7216"/>
                    </a:lnTo>
                    <a:lnTo>
                      <a:pt x="5473" y="7066"/>
                    </a:lnTo>
                    <a:lnTo>
                      <a:pt x="5787" y="6883"/>
                    </a:lnTo>
                    <a:lnTo>
                      <a:pt x="6083" y="6668"/>
                    </a:lnTo>
                    <a:lnTo>
                      <a:pt x="6361" y="6423"/>
                    </a:lnTo>
                    <a:lnTo>
                      <a:pt x="6616" y="6146"/>
                    </a:lnTo>
                    <a:lnTo>
                      <a:pt x="6846" y="5840"/>
                    </a:lnTo>
                    <a:lnTo>
                      <a:pt x="7044" y="5512"/>
                    </a:lnTo>
                    <a:lnTo>
                      <a:pt x="7206" y="5173"/>
                    </a:lnTo>
                    <a:lnTo>
                      <a:pt x="7330" y="4823"/>
                    </a:lnTo>
                    <a:lnTo>
                      <a:pt x="7418" y="4468"/>
                    </a:lnTo>
                    <a:lnTo>
                      <a:pt x="7470" y="4108"/>
                    </a:lnTo>
                    <a:lnTo>
                      <a:pt x="7489" y="3748"/>
                    </a:lnTo>
                    <a:lnTo>
                      <a:pt x="7472" y="3389"/>
                    </a:lnTo>
                    <a:lnTo>
                      <a:pt x="7421" y="3033"/>
                    </a:lnTo>
                    <a:lnTo>
                      <a:pt x="7335" y="2684"/>
                    </a:lnTo>
                    <a:lnTo>
                      <a:pt x="7217" y="2344"/>
                    </a:lnTo>
                    <a:lnTo>
                      <a:pt x="7067" y="2015"/>
                    </a:lnTo>
                    <a:lnTo>
                      <a:pt x="6884" y="1702"/>
                    </a:lnTo>
                    <a:lnTo>
                      <a:pt x="6669" y="1405"/>
                    </a:lnTo>
                    <a:lnTo>
                      <a:pt x="6423" y="1128"/>
                    </a:lnTo>
                    <a:lnTo>
                      <a:pt x="6148" y="872"/>
                    </a:lnTo>
                    <a:lnTo>
                      <a:pt x="5842" y="643"/>
                    </a:lnTo>
                    <a:lnTo>
                      <a:pt x="5513" y="444"/>
                    </a:lnTo>
                    <a:lnTo>
                      <a:pt x="5173" y="282"/>
                    </a:lnTo>
                    <a:lnTo>
                      <a:pt x="4824" y="158"/>
                    </a:lnTo>
                    <a:lnTo>
                      <a:pt x="4469" y="70"/>
                    </a:lnTo>
                    <a:lnTo>
                      <a:pt x="4109" y="17"/>
                    </a:lnTo>
                    <a:lnTo>
                      <a:pt x="3749" y="0"/>
                    </a:lnTo>
                    <a:lnTo>
                      <a:pt x="3389" y="17"/>
                    </a:lnTo>
                    <a:lnTo>
                      <a:pt x="3033" y="68"/>
                    </a:lnTo>
                    <a:lnTo>
                      <a:pt x="2684" y="153"/>
                    </a:lnTo>
                    <a:lnTo>
                      <a:pt x="2344" y="271"/>
                    </a:lnTo>
                    <a:lnTo>
                      <a:pt x="2017" y="422"/>
                    </a:lnTo>
                    <a:lnTo>
                      <a:pt x="1702" y="605"/>
                    </a:lnTo>
                    <a:lnTo>
                      <a:pt x="1405" y="818"/>
                    </a:lnTo>
                    <a:lnTo>
                      <a:pt x="1128" y="1064"/>
                    </a:lnTo>
                    <a:lnTo>
                      <a:pt x="873" y="1340"/>
                    </a:lnTo>
                    <a:lnTo>
                      <a:pt x="643" y="1647"/>
                    </a:lnTo>
                    <a:lnTo>
                      <a:pt x="444" y="1975"/>
                    </a:lnTo>
                    <a:lnTo>
                      <a:pt x="283" y="2314"/>
                    </a:lnTo>
                    <a:lnTo>
                      <a:pt x="158" y="2664"/>
                    </a:lnTo>
                    <a:lnTo>
                      <a:pt x="70" y="3019"/>
                    </a:lnTo>
                    <a:lnTo>
                      <a:pt x="18" y="3378"/>
                    </a:lnTo>
                    <a:lnTo>
                      <a:pt x="0" y="3740"/>
                    </a:lnTo>
                    <a:lnTo>
                      <a:pt x="18" y="4099"/>
                    </a:lnTo>
                    <a:lnTo>
                      <a:pt x="69" y="4454"/>
                    </a:lnTo>
                    <a:lnTo>
                      <a:pt x="154" y="4804"/>
                    </a:lnTo>
                    <a:lnTo>
                      <a:pt x="272" y="5143"/>
                    </a:lnTo>
                    <a:lnTo>
                      <a:pt x="423" y="5471"/>
                    </a:lnTo>
                    <a:lnTo>
                      <a:pt x="606" y="5786"/>
                    </a:lnTo>
                    <a:lnTo>
                      <a:pt x="821" y="6083"/>
                    </a:lnTo>
                    <a:lnTo>
                      <a:pt x="1066" y="6360"/>
                    </a:lnTo>
                    <a:lnTo>
                      <a:pt x="1342" y="6615"/>
                    </a:lnTo>
                    <a:lnTo>
                      <a:pt x="1649" y="6846"/>
                    </a:lnTo>
                    <a:close/>
                  </a:path>
                </a:pathLst>
              </a:custGeom>
              <a:solidFill>
                <a:srgbClr val="526e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97440" y="186480"/>
                <a:ext cx="568080" cy="560880"/>
              </a:xfrm>
              <a:custGeom>
                <a:avLst/>
                <a:gdLst/>
                <a:ahLst/>
                <a:rect l="l" t="t" r="r" b="b"/>
                <a:pathLst>
                  <a:path w="7328" h="7326">
                    <a:moveTo>
                      <a:pt x="1613" y="6698"/>
                    </a:moveTo>
                    <a:lnTo>
                      <a:pt x="1933" y="6891"/>
                    </a:lnTo>
                    <a:lnTo>
                      <a:pt x="2266" y="7049"/>
                    </a:lnTo>
                    <a:lnTo>
                      <a:pt x="2607" y="7171"/>
                    </a:lnTo>
                    <a:lnTo>
                      <a:pt x="2956" y="7257"/>
                    </a:lnTo>
                    <a:lnTo>
                      <a:pt x="3306" y="7309"/>
                    </a:lnTo>
                    <a:lnTo>
                      <a:pt x="3659" y="7326"/>
                    </a:lnTo>
                    <a:lnTo>
                      <a:pt x="4011" y="7309"/>
                    </a:lnTo>
                    <a:lnTo>
                      <a:pt x="4360" y="7259"/>
                    </a:lnTo>
                    <a:lnTo>
                      <a:pt x="4701" y="7176"/>
                    </a:lnTo>
                    <a:lnTo>
                      <a:pt x="5034" y="7062"/>
                    </a:lnTo>
                    <a:lnTo>
                      <a:pt x="5355" y="6914"/>
                    </a:lnTo>
                    <a:lnTo>
                      <a:pt x="5662" y="6735"/>
                    </a:lnTo>
                    <a:lnTo>
                      <a:pt x="5953" y="6525"/>
                    </a:lnTo>
                    <a:lnTo>
                      <a:pt x="6225" y="6284"/>
                    </a:lnTo>
                    <a:lnTo>
                      <a:pt x="6473" y="6014"/>
                    </a:lnTo>
                    <a:lnTo>
                      <a:pt x="6700" y="5716"/>
                    </a:lnTo>
                    <a:lnTo>
                      <a:pt x="6893" y="5395"/>
                    </a:lnTo>
                    <a:lnTo>
                      <a:pt x="7051" y="5062"/>
                    </a:lnTo>
                    <a:lnTo>
                      <a:pt x="7173" y="4721"/>
                    </a:lnTo>
                    <a:lnTo>
                      <a:pt x="7259" y="4372"/>
                    </a:lnTo>
                    <a:lnTo>
                      <a:pt x="7311" y="4021"/>
                    </a:lnTo>
                    <a:lnTo>
                      <a:pt x="7328" y="3668"/>
                    </a:lnTo>
                    <a:lnTo>
                      <a:pt x="7311" y="3316"/>
                    </a:lnTo>
                    <a:lnTo>
                      <a:pt x="7261" y="2968"/>
                    </a:lnTo>
                    <a:lnTo>
                      <a:pt x="7178" y="2626"/>
                    </a:lnTo>
                    <a:lnTo>
                      <a:pt x="7062" y="2294"/>
                    </a:lnTo>
                    <a:lnTo>
                      <a:pt x="6915" y="1973"/>
                    </a:lnTo>
                    <a:lnTo>
                      <a:pt x="6736" y="1665"/>
                    </a:lnTo>
                    <a:lnTo>
                      <a:pt x="6526" y="1375"/>
                    </a:lnTo>
                    <a:lnTo>
                      <a:pt x="6285" y="1103"/>
                    </a:lnTo>
                    <a:lnTo>
                      <a:pt x="6015" y="854"/>
                    </a:lnTo>
                    <a:lnTo>
                      <a:pt x="5717" y="629"/>
                    </a:lnTo>
                    <a:lnTo>
                      <a:pt x="5395" y="434"/>
                    </a:lnTo>
                    <a:lnTo>
                      <a:pt x="5063" y="277"/>
                    </a:lnTo>
                    <a:lnTo>
                      <a:pt x="4721" y="155"/>
                    </a:lnTo>
                    <a:lnTo>
                      <a:pt x="4373" y="69"/>
                    </a:lnTo>
                    <a:lnTo>
                      <a:pt x="4022" y="17"/>
                    </a:lnTo>
                    <a:lnTo>
                      <a:pt x="3669" y="0"/>
                    </a:lnTo>
                    <a:lnTo>
                      <a:pt x="3317" y="17"/>
                    </a:lnTo>
                    <a:lnTo>
                      <a:pt x="2968" y="66"/>
                    </a:lnTo>
                    <a:lnTo>
                      <a:pt x="2627" y="149"/>
                    </a:lnTo>
                    <a:lnTo>
                      <a:pt x="2294" y="265"/>
                    </a:lnTo>
                    <a:lnTo>
                      <a:pt x="1973" y="412"/>
                    </a:lnTo>
                    <a:lnTo>
                      <a:pt x="1666" y="592"/>
                    </a:lnTo>
                    <a:lnTo>
                      <a:pt x="1376" y="801"/>
                    </a:lnTo>
                    <a:lnTo>
                      <a:pt x="1104" y="1041"/>
                    </a:lnTo>
                    <a:lnTo>
                      <a:pt x="855" y="1312"/>
                    </a:lnTo>
                    <a:lnTo>
                      <a:pt x="630" y="1612"/>
                    </a:lnTo>
                    <a:lnTo>
                      <a:pt x="435" y="1932"/>
                    </a:lnTo>
                    <a:lnTo>
                      <a:pt x="278" y="2265"/>
                    </a:lnTo>
                    <a:lnTo>
                      <a:pt x="155" y="2606"/>
                    </a:lnTo>
                    <a:lnTo>
                      <a:pt x="69" y="2954"/>
                    </a:lnTo>
                    <a:lnTo>
                      <a:pt x="17" y="3306"/>
                    </a:lnTo>
                    <a:lnTo>
                      <a:pt x="0" y="3659"/>
                    </a:lnTo>
                    <a:lnTo>
                      <a:pt x="17" y="4010"/>
                    </a:lnTo>
                    <a:lnTo>
                      <a:pt x="67" y="4358"/>
                    </a:lnTo>
                    <a:lnTo>
                      <a:pt x="150" y="4699"/>
                    </a:lnTo>
                    <a:lnTo>
                      <a:pt x="266" y="5032"/>
                    </a:lnTo>
                    <a:lnTo>
                      <a:pt x="414" y="5353"/>
                    </a:lnTo>
                    <a:lnTo>
                      <a:pt x="592" y="5660"/>
                    </a:lnTo>
                    <a:lnTo>
                      <a:pt x="803" y="5951"/>
                    </a:lnTo>
                    <a:lnTo>
                      <a:pt x="1043" y="6223"/>
                    </a:lnTo>
                    <a:lnTo>
                      <a:pt x="1313" y="6472"/>
                    </a:lnTo>
                    <a:lnTo>
                      <a:pt x="1613" y="6698"/>
                    </a:lnTo>
                    <a:close/>
                  </a:path>
                </a:pathLst>
              </a:custGeom>
              <a:solidFill>
                <a:srgbClr val="557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6800" y="189360"/>
                <a:ext cx="555840" cy="548280"/>
              </a:xfrm>
              <a:custGeom>
                <a:avLst/>
                <a:gdLst/>
                <a:ahLst/>
                <a:rect l="l" t="t" r="r" b="b"/>
                <a:pathLst>
                  <a:path w="7167" h="7167">
                    <a:moveTo>
                      <a:pt x="1577" y="6552"/>
                    </a:moveTo>
                    <a:lnTo>
                      <a:pt x="1891" y="6741"/>
                    </a:lnTo>
                    <a:lnTo>
                      <a:pt x="2216" y="6896"/>
                    </a:lnTo>
                    <a:lnTo>
                      <a:pt x="2550" y="7015"/>
                    </a:lnTo>
                    <a:lnTo>
                      <a:pt x="2890" y="7100"/>
                    </a:lnTo>
                    <a:lnTo>
                      <a:pt x="3233" y="7150"/>
                    </a:lnTo>
                    <a:lnTo>
                      <a:pt x="3579" y="7167"/>
                    </a:lnTo>
                    <a:lnTo>
                      <a:pt x="3923" y="7151"/>
                    </a:lnTo>
                    <a:lnTo>
                      <a:pt x="4264" y="7102"/>
                    </a:lnTo>
                    <a:lnTo>
                      <a:pt x="4597" y="7020"/>
                    </a:lnTo>
                    <a:lnTo>
                      <a:pt x="4923" y="6907"/>
                    </a:lnTo>
                    <a:lnTo>
                      <a:pt x="5236" y="6763"/>
                    </a:lnTo>
                    <a:lnTo>
                      <a:pt x="5537" y="6588"/>
                    </a:lnTo>
                    <a:lnTo>
                      <a:pt x="5821" y="6383"/>
                    </a:lnTo>
                    <a:lnTo>
                      <a:pt x="6087" y="6148"/>
                    </a:lnTo>
                    <a:lnTo>
                      <a:pt x="6331" y="5883"/>
                    </a:lnTo>
                    <a:lnTo>
                      <a:pt x="6552" y="5591"/>
                    </a:lnTo>
                    <a:lnTo>
                      <a:pt x="6742" y="5276"/>
                    </a:lnTo>
                    <a:lnTo>
                      <a:pt x="6896" y="4951"/>
                    </a:lnTo>
                    <a:lnTo>
                      <a:pt x="7015" y="4617"/>
                    </a:lnTo>
                    <a:lnTo>
                      <a:pt x="7100" y="4277"/>
                    </a:lnTo>
                    <a:lnTo>
                      <a:pt x="7150" y="3934"/>
                    </a:lnTo>
                    <a:lnTo>
                      <a:pt x="7167" y="3588"/>
                    </a:lnTo>
                    <a:lnTo>
                      <a:pt x="7150" y="3244"/>
                    </a:lnTo>
                    <a:lnTo>
                      <a:pt x="7101" y="2904"/>
                    </a:lnTo>
                    <a:lnTo>
                      <a:pt x="7020" y="2570"/>
                    </a:lnTo>
                    <a:lnTo>
                      <a:pt x="6906" y="2245"/>
                    </a:lnTo>
                    <a:lnTo>
                      <a:pt x="6763" y="1931"/>
                    </a:lnTo>
                    <a:lnTo>
                      <a:pt x="6587" y="1630"/>
                    </a:lnTo>
                    <a:lnTo>
                      <a:pt x="6382" y="1346"/>
                    </a:lnTo>
                    <a:lnTo>
                      <a:pt x="6147" y="1080"/>
                    </a:lnTo>
                    <a:lnTo>
                      <a:pt x="5883" y="836"/>
                    </a:lnTo>
                    <a:lnTo>
                      <a:pt x="5590" y="616"/>
                    </a:lnTo>
                    <a:lnTo>
                      <a:pt x="5276" y="426"/>
                    </a:lnTo>
                    <a:lnTo>
                      <a:pt x="4950" y="271"/>
                    </a:lnTo>
                    <a:lnTo>
                      <a:pt x="4616" y="152"/>
                    </a:lnTo>
                    <a:lnTo>
                      <a:pt x="4276" y="67"/>
                    </a:lnTo>
                    <a:lnTo>
                      <a:pt x="3932" y="17"/>
                    </a:lnTo>
                    <a:lnTo>
                      <a:pt x="3586" y="0"/>
                    </a:lnTo>
                    <a:lnTo>
                      <a:pt x="3243" y="16"/>
                    </a:lnTo>
                    <a:lnTo>
                      <a:pt x="2903" y="66"/>
                    </a:lnTo>
                    <a:lnTo>
                      <a:pt x="2569" y="147"/>
                    </a:lnTo>
                    <a:lnTo>
                      <a:pt x="2244" y="260"/>
                    </a:lnTo>
                    <a:lnTo>
                      <a:pt x="1929" y="404"/>
                    </a:lnTo>
                    <a:lnTo>
                      <a:pt x="1629" y="579"/>
                    </a:lnTo>
                    <a:lnTo>
                      <a:pt x="1345" y="784"/>
                    </a:lnTo>
                    <a:lnTo>
                      <a:pt x="1079" y="1019"/>
                    </a:lnTo>
                    <a:lnTo>
                      <a:pt x="836" y="1284"/>
                    </a:lnTo>
                    <a:lnTo>
                      <a:pt x="616" y="1577"/>
                    </a:lnTo>
                    <a:lnTo>
                      <a:pt x="426" y="1891"/>
                    </a:lnTo>
                    <a:lnTo>
                      <a:pt x="272" y="2216"/>
                    </a:lnTo>
                    <a:lnTo>
                      <a:pt x="151" y="2550"/>
                    </a:lnTo>
                    <a:lnTo>
                      <a:pt x="67" y="2890"/>
                    </a:lnTo>
                    <a:lnTo>
                      <a:pt x="16" y="3234"/>
                    </a:lnTo>
                    <a:lnTo>
                      <a:pt x="0" y="3580"/>
                    </a:lnTo>
                    <a:lnTo>
                      <a:pt x="16" y="3923"/>
                    </a:lnTo>
                    <a:lnTo>
                      <a:pt x="65" y="4263"/>
                    </a:lnTo>
                    <a:lnTo>
                      <a:pt x="147" y="4598"/>
                    </a:lnTo>
                    <a:lnTo>
                      <a:pt x="260" y="4924"/>
                    </a:lnTo>
                    <a:lnTo>
                      <a:pt x="403" y="5237"/>
                    </a:lnTo>
                    <a:lnTo>
                      <a:pt x="579" y="5538"/>
                    </a:lnTo>
                    <a:lnTo>
                      <a:pt x="784" y="5822"/>
                    </a:lnTo>
                    <a:lnTo>
                      <a:pt x="1019" y="6088"/>
                    </a:lnTo>
                    <a:lnTo>
                      <a:pt x="1284" y="6331"/>
                    </a:lnTo>
                    <a:lnTo>
                      <a:pt x="1577" y="6552"/>
                    </a:lnTo>
                    <a:close/>
                  </a:path>
                </a:pathLst>
              </a:custGeom>
              <a:solidFill>
                <a:srgbClr val="577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6160" y="191880"/>
                <a:ext cx="542520" cy="535320"/>
              </a:xfrm>
              <a:custGeom>
                <a:avLst/>
                <a:gdLst/>
                <a:ahLst/>
                <a:rect l="l" t="t" r="r" b="b"/>
                <a:pathLst>
                  <a:path w="7005" h="7006">
                    <a:moveTo>
                      <a:pt x="1541" y="6405"/>
                    </a:moveTo>
                    <a:lnTo>
                      <a:pt x="1847" y="6590"/>
                    </a:lnTo>
                    <a:lnTo>
                      <a:pt x="2165" y="6741"/>
                    </a:lnTo>
                    <a:lnTo>
                      <a:pt x="2492" y="6857"/>
                    </a:lnTo>
                    <a:lnTo>
                      <a:pt x="2824" y="6940"/>
                    </a:lnTo>
                    <a:lnTo>
                      <a:pt x="3161" y="6990"/>
                    </a:lnTo>
                    <a:lnTo>
                      <a:pt x="3498" y="7006"/>
                    </a:lnTo>
                    <a:lnTo>
                      <a:pt x="3834" y="6990"/>
                    </a:lnTo>
                    <a:lnTo>
                      <a:pt x="4167" y="6942"/>
                    </a:lnTo>
                    <a:lnTo>
                      <a:pt x="4494" y="6862"/>
                    </a:lnTo>
                    <a:lnTo>
                      <a:pt x="4812" y="6752"/>
                    </a:lnTo>
                    <a:lnTo>
                      <a:pt x="5120" y="6611"/>
                    </a:lnTo>
                    <a:lnTo>
                      <a:pt x="5413" y="6439"/>
                    </a:lnTo>
                    <a:lnTo>
                      <a:pt x="5690" y="6238"/>
                    </a:lnTo>
                    <a:lnTo>
                      <a:pt x="5950" y="6009"/>
                    </a:lnTo>
                    <a:lnTo>
                      <a:pt x="6189" y="5750"/>
                    </a:lnTo>
                    <a:lnTo>
                      <a:pt x="6405" y="5465"/>
                    </a:lnTo>
                    <a:lnTo>
                      <a:pt x="6590" y="5157"/>
                    </a:lnTo>
                    <a:lnTo>
                      <a:pt x="6741" y="4839"/>
                    </a:lnTo>
                    <a:lnTo>
                      <a:pt x="6857" y="4513"/>
                    </a:lnTo>
                    <a:lnTo>
                      <a:pt x="6940" y="4181"/>
                    </a:lnTo>
                    <a:lnTo>
                      <a:pt x="6990" y="3845"/>
                    </a:lnTo>
                    <a:lnTo>
                      <a:pt x="7005" y="3507"/>
                    </a:lnTo>
                    <a:lnTo>
                      <a:pt x="6990" y="3171"/>
                    </a:lnTo>
                    <a:lnTo>
                      <a:pt x="6942" y="2839"/>
                    </a:lnTo>
                    <a:lnTo>
                      <a:pt x="6862" y="2512"/>
                    </a:lnTo>
                    <a:lnTo>
                      <a:pt x="6751" y="2193"/>
                    </a:lnTo>
                    <a:lnTo>
                      <a:pt x="6610" y="1887"/>
                    </a:lnTo>
                    <a:lnTo>
                      <a:pt x="6439" y="1593"/>
                    </a:lnTo>
                    <a:lnTo>
                      <a:pt x="6238" y="1315"/>
                    </a:lnTo>
                    <a:lnTo>
                      <a:pt x="6008" y="1056"/>
                    </a:lnTo>
                    <a:lnTo>
                      <a:pt x="5750" y="817"/>
                    </a:lnTo>
                    <a:lnTo>
                      <a:pt x="5464" y="602"/>
                    </a:lnTo>
                    <a:lnTo>
                      <a:pt x="5157" y="416"/>
                    </a:lnTo>
                    <a:lnTo>
                      <a:pt x="4839" y="265"/>
                    </a:lnTo>
                    <a:lnTo>
                      <a:pt x="4512" y="149"/>
                    </a:lnTo>
                    <a:lnTo>
                      <a:pt x="4180" y="66"/>
                    </a:lnTo>
                    <a:lnTo>
                      <a:pt x="3844" y="17"/>
                    </a:lnTo>
                    <a:lnTo>
                      <a:pt x="3507" y="0"/>
                    </a:lnTo>
                    <a:lnTo>
                      <a:pt x="3170" y="16"/>
                    </a:lnTo>
                    <a:lnTo>
                      <a:pt x="2838" y="65"/>
                    </a:lnTo>
                    <a:lnTo>
                      <a:pt x="2511" y="144"/>
                    </a:lnTo>
                    <a:lnTo>
                      <a:pt x="2193" y="254"/>
                    </a:lnTo>
                    <a:lnTo>
                      <a:pt x="1886" y="396"/>
                    </a:lnTo>
                    <a:lnTo>
                      <a:pt x="1592" y="567"/>
                    </a:lnTo>
                    <a:lnTo>
                      <a:pt x="1315" y="767"/>
                    </a:lnTo>
                    <a:lnTo>
                      <a:pt x="1055" y="996"/>
                    </a:lnTo>
                    <a:lnTo>
                      <a:pt x="816" y="1255"/>
                    </a:lnTo>
                    <a:lnTo>
                      <a:pt x="601" y="1542"/>
                    </a:lnTo>
                    <a:lnTo>
                      <a:pt x="415" y="1848"/>
                    </a:lnTo>
                    <a:lnTo>
                      <a:pt x="264" y="2166"/>
                    </a:lnTo>
                    <a:lnTo>
                      <a:pt x="148" y="2492"/>
                    </a:lnTo>
                    <a:lnTo>
                      <a:pt x="65" y="2825"/>
                    </a:lnTo>
                    <a:lnTo>
                      <a:pt x="17" y="3162"/>
                    </a:lnTo>
                    <a:lnTo>
                      <a:pt x="0" y="3499"/>
                    </a:lnTo>
                    <a:lnTo>
                      <a:pt x="16" y="3835"/>
                    </a:lnTo>
                    <a:lnTo>
                      <a:pt x="64" y="4168"/>
                    </a:lnTo>
                    <a:lnTo>
                      <a:pt x="143" y="4495"/>
                    </a:lnTo>
                    <a:lnTo>
                      <a:pt x="254" y="4813"/>
                    </a:lnTo>
                    <a:lnTo>
                      <a:pt x="395" y="5120"/>
                    </a:lnTo>
                    <a:lnTo>
                      <a:pt x="566" y="5413"/>
                    </a:lnTo>
                    <a:lnTo>
                      <a:pt x="766" y="5691"/>
                    </a:lnTo>
                    <a:lnTo>
                      <a:pt x="996" y="5950"/>
                    </a:lnTo>
                    <a:lnTo>
                      <a:pt x="1254" y="6190"/>
                    </a:lnTo>
                    <a:lnTo>
                      <a:pt x="1541" y="6405"/>
                    </a:lnTo>
                    <a:close/>
                  </a:path>
                </a:pathLst>
              </a:custGeom>
              <a:solidFill>
                <a:srgbClr val="5a76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6240" y="194040"/>
                <a:ext cx="529920" cy="524160"/>
              </a:xfrm>
              <a:custGeom>
                <a:avLst/>
                <a:gdLst/>
                <a:ahLst/>
                <a:rect l="l" t="t" r="r" b="b"/>
                <a:pathLst>
                  <a:path w="6845" h="6844">
                    <a:moveTo>
                      <a:pt x="1506" y="6259"/>
                    </a:moveTo>
                    <a:lnTo>
                      <a:pt x="1806" y="6439"/>
                    </a:lnTo>
                    <a:lnTo>
                      <a:pt x="2116" y="6586"/>
                    </a:lnTo>
                    <a:lnTo>
                      <a:pt x="2435" y="6700"/>
                    </a:lnTo>
                    <a:lnTo>
                      <a:pt x="2760" y="6781"/>
                    </a:lnTo>
                    <a:lnTo>
                      <a:pt x="3088" y="6828"/>
                    </a:lnTo>
                    <a:lnTo>
                      <a:pt x="3419" y="6844"/>
                    </a:lnTo>
                    <a:lnTo>
                      <a:pt x="3747" y="6829"/>
                    </a:lnTo>
                    <a:lnTo>
                      <a:pt x="4071" y="6783"/>
                    </a:lnTo>
                    <a:lnTo>
                      <a:pt x="4391" y="6704"/>
                    </a:lnTo>
                    <a:lnTo>
                      <a:pt x="4702" y="6597"/>
                    </a:lnTo>
                    <a:lnTo>
                      <a:pt x="5002" y="6458"/>
                    </a:lnTo>
                    <a:lnTo>
                      <a:pt x="5289" y="6292"/>
                    </a:lnTo>
                    <a:lnTo>
                      <a:pt x="5560" y="6096"/>
                    </a:lnTo>
                    <a:lnTo>
                      <a:pt x="5814" y="5871"/>
                    </a:lnTo>
                    <a:lnTo>
                      <a:pt x="6047" y="5619"/>
                    </a:lnTo>
                    <a:lnTo>
                      <a:pt x="6258" y="5339"/>
                    </a:lnTo>
                    <a:lnTo>
                      <a:pt x="6439" y="5038"/>
                    </a:lnTo>
                    <a:lnTo>
                      <a:pt x="6586" y="4728"/>
                    </a:lnTo>
                    <a:lnTo>
                      <a:pt x="6700" y="4409"/>
                    </a:lnTo>
                    <a:lnTo>
                      <a:pt x="6780" y="4085"/>
                    </a:lnTo>
                    <a:lnTo>
                      <a:pt x="6829" y="3756"/>
                    </a:lnTo>
                    <a:lnTo>
                      <a:pt x="6845" y="3427"/>
                    </a:lnTo>
                    <a:lnTo>
                      <a:pt x="6829" y="3097"/>
                    </a:lnTo>
                    <a:lnTo>
                      <a:pt x="6782" y="2773"/>
                    </a:lnTo>
                    <a:lnTo>
                      <a:pt x="6705" y="2454"/>
                    </a:lnTo>
                    <a:lnTo>
                      <a:pt x="6596" y="2142"/>
                    </a:lnTo>
                    <a:lnTo>
                      <a:pt x="6459" y="1843"/>
                    </a:lnTo>
                    <a:lnTo>
                      <a:pt x="6291" y="1556"/>
                    </a:lnTo>
                    <a:lnTo>
                      <a:pt x="6096" y="1284"/>
                    </a:lnTo>
                    <a:lnTo>
                      <a:pt x="5871" y="1031"/>
                    </a:lnTo>
                    <a:lnTo>
                      <a:pt x="5618" y="798"/>
                    </a:lnTo>
                    <a:lnTo>
                      <a:pt x="5339" y="588"/>
                    </a:lnTo>
                    <a:lnTo>
                      <a:pt x="5039" y="406"/>
                    </a:lnTo>
                    <a:lnTo>
                      <a:pt x="4727" y="259"/>
                    </a:lnTo>
                    <a:lnTo>
                      <a:pt x="4408" y="145"/>
                    </a:lnTo>
                    <a:lnTo>
                      <a:pt x="4084" y="64"/>
                    </a:lnTo>
                    <a:lnTo>
                      <a:pt x="3756" y="16"/>
                    </a:lnTo>
                    <a:lnTo>
                      <a:pt x="3426" y="0"/>
                    </a:lnTo>
                    <a:lnTo>
                      <a:pt x="3098" y="15"/>
                    </a:lnTo>
                    <a:lnTo>
                      <a:pt x="2772" y="63"/>
                    </a:lnTo>
                    <a:lnTo>
                      <a:pt x="2453" y="140"/>
                    </a:lnTo>
                    <a:lnTo>
                      <a:pt x="2143" y="248"/>
                    </a:lnTo>
                    <a:lnTo>
                      <a:pt x="1843" y="385"/>
                    </a:lnTo>
                    <a:lnTo>
                      <a:pt x="1556" y="553"/>
                    </a:lnTo>
                    <a:lnTo>
                      <a:pt x="1285" y="749"/>
                    </a:lnTo>
                    <a:lnTo>
                      <a:pt x="1031" y="973"/>
                    </a:lnTo>
                    <a:lnTo>
                      <a:pt x="798" y="1225"/>
                    </a:lnTo>
                    <a:lnTo>
                      <a:pt x="588" y="1506"/>
                    </a:lnTo>
                    <a:lnTo>
                      <a:pt x="406" y="1805"/>
                    </a:lnTo>
                    <a:lnTo>
                      <a:pt x="258" y="2116"/>
                    </a:lnTo>
                    <a:lnTo>
                      <a:pt x="144" y="2435"/>
                    </a:lnTo>
                    <a:lnTo>
                      <a:pt x="64" y="2759"/>
                    </a:lnTo>
                    <a:lnTo>
                      <a:pt x="16" y="3088"/>
                    </a:lnTo>
                    <a:lnTo>
                      <a:pt x="0" y="3418"/>
                    </a:lnTo>
                    <a:lnTo>
                      <a:pt x="16" y="3747"/>
                    </a:lnTo>
                    <a:lnTo>
                      <a:pt x="62" y="4072"/>
                    </a:lnTo>
                    <a:lnTo>
                      <a:pt x="140" y="4391"/>
                    </a:lnTo>
                    <a:lnTo>
                      <a:pt x="249" y="4702"/>
                    </a:lnTo>
                    <a:lnTo>
                      <a:pt x="386" y="5002"/>
                    </a:lnTo>
                    <a:lnTo>
                      <a:pt x="553" y="5289"/>
                    </a:lnTo>
                    <a:lnTo>
                      <a:pt x="749" y="5560"/>
                    </a:lnTo>
                    <a:lnTo>
                      <a:pt x="974" y="5814"/>
                    </a:lnTo>
                    <a:lnTo>
                      <a:pt x="1226" y="6047"/>
                    </a:lnTo>
                    <a:lnTo>
                      <a:pt x="1506" y="6259"/>
                    </a:lnTo>
                    <a:close/>
                  </a:path>
                </a:pathLst>
              </a:custGeom>
              <a:solidFill>
                <a:srgbClr val="5c7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5600" y="196560"/>
                <a:ext cx="517680" cy="511560"/>
              </a:xfrm>
              <a:custGeom>
                <a:avLst/>
                <a:gdLst/>
                <a:ahLst/>
                <a:rect l="l" t="t" r="r" b="b"/>
                <a:pathLst>
                  <a:path w="6684" h="6684">
                    <a:moveTo>
                      <a:pt x="1471" y="6112"/>
                    </a:moveTo>
                    <a:lnTo>
                      <a:pt x="1764" y="6288"/>
                    </a:lnTo>
                    <a:lnTo>
                      <a:pt x="2067" y="6432"/>
                    </a:lnTo>
                    <a:lnTo>
                      <a:pt x="2378" y="6542"/>
                    </a:lnTo>
                    <a:lnTo>
                      <a:pt x="2695" y="6621"/>
                    </a:lnTo>
                    <a:lnTo>
                      <a:pt x="3016" y="6669"/>
                    </a:lnTo>
                    <a:lnTo>
                      <a:pt x="3338" y="6684"/>
                    </a:lnTo>
                    <a:lnTo>
                      <a:pt x="3659" y="6669"/>
                    </a:lnTo>
                    <a:lnTo>
                      <a:pt x="3976" y="6623"/>
                    </a:lnTo>
                    <a:lnTo>
                      <a:pt x="4287" y="6547"/>
                    </a:lnTo>
                    <a:lnTo>
                      <a:pt x="4592" y="6441"/>
                    </a:lnTo>
                    <a:lnTo>
                      <a:pt x="4885" y="6307"/>
                    </a:lnTo>
                    <a:lnTo>
                      <a:pt x="5165" y="6144"/>
                    </a:lnTo>
                    <a:lnTo>
                      <a:pt x="5430" y="5952"/>
                    </a:lnTo>
                    <a:lnTo>
                      <a:pt x="5678" y="5733"/>
                    </a:lnTo>
                    <a:lnTo>
                      <a:pt x="5906" y="5487"/>
                    </a:lnTo>
                    <a:lnTo>
                      <a:pt x="6112" y="5213"/>
                    </a:lnTo>
                    <a:lnTo>
                      <a:pt x="6288" y="4920"/>
                    </a:lnTo>
                    <a:lnTo>
                      <a:pt x="6432" y="4617"/>
                    </a:lnTo>
                    <a:lnTo>
                      <a:pt x="6542" y="4306"/>
                    </a:lnTo>
                    <a:lnTo>
                      <a:pt x="6621" y="3989"/>
                    </a:lnTo>
                    <a:lnTo>
                      <a:pt x="6669" y="3668"/>
                    </a:lnTo>
                    <a:lnTo>
                      <a:pt x="6684" y="3346"/>
                    </a:lnTo>
                    <a:lnTo>
                      <a:pt x="6669" y="3025"/>
                    </a:lnTo>
                    <a:lnTo>
                      <a:pt x="6623" y="2708"/>
                    </a:lnTo>
                    <a:lnTo>
                      <a:pt x="6547" y="2396"/>
                    </a:lnTo>
                    <a:lnTo>
                      <a:pt x="6441" y="2092"/>
                    </a:lnTo>
                    <a:lnTo>
                      <a:pt x="6307" y="1800"/>
                    </a:lnTo>
                    <a:lnTo>
                      <a:pt x="6144" y="1519"/>
                    </a:lnTo>
                    <a:lnTo>
                      <a:pt x="5952" y="1255"/>
                    </a:lnTo>
                    <a:lnTo>
                      <a:pt x="5733" y="1007"/>
                    </a:lnTo>
                    <a:lnTo>
                      <a:pt x="5487" y="779"/>
                    </a:lnTo>
                    <a:lnTo>
                      <a:pt x="5213" y="574"/>
                    </a:lnTo>
                    <a:lnTo>
                      <a:pt x="4920" y="397"/>
                    </a:lnTo>
                    <a:lnTo>
                      <a:pt x="4617" y="252"/>
                    </a:lnTo>
                    <a:lnTo>
                      <a:pt x="4306" y="142"/>
                    </a:lnTo>
                    <a:lnTo>
                      <a:pt x="3989" y="63"/>
                    </a:lnTo>
                    <a:lnTo>
                      <a:pt x="3668" y="15"/>
                    </a:lnTo>
                    <a:lnTo>
                      <a:pt x="3346" y="0"/>
                    </a:lnTo>
                    <a:lnTo>
                      <a:pt x="3025" y="15"/>
                    </a:lnTo>
                    <a:lnTo>
                      <a:pt x="2708" y="61"/>
                    </a:lnTo>
                    <a:lnTo>
                      <a:pt x="2396" y="137"/>
                    </a:lnTo>
                    <a:lnTo>
                      <a:pt x="2092" y="243"/>
                    </a:lnTo>
                    <a:lnTo>
                      <a:pt x="1800" y="376"/>
                    </a:lnTo>
                    <a:lnTo>
                      <a:pt x="1519" y="540"/>
                    </a:lnTo>
                    <a:lnTo>
                      <a:pt x="1254" y="732"/>
                    </a:lnTo>
                    <a:lnTo>
                      <a:pt x="1007" y="951"/>
                    </a:lnTo>
                    <a:lnTo>
                      <a:pt x="779" y="1197"/>
                    </a:lnTo>
                    <a:lnTo>
                      <a:pt x="574" y="1470"/>
                    </a:lnTo>
                    <a:lnTo>
                      <a:pt x="396" y="1763"/>
                    </a:lnTo>
                    <a:lnTo>
                      <a:pt x="252" y="2066"/>
                    </a:lnTo>
                    <a:lnTo>
                      <a:pt x="141" y="2377"/>
                    </a:lnTo>
                    <a:lnTo>
                      <a:pt x="63" y="2695"/>
                    </a:lnTo>
                    <a:lnTo>
                      <a:pt x="15" y="3016"/>
                    </a:lnTo>
                    <a:lnTo>
                      <a:pt x="0" y="3338"/>
                    </a:lnTo>
                    <a:lnTo>
                      <a:pt x="15" y="3659"/>
                    </a:lnTo>
                    <a:lnTo>
                      <a:pt x="61" y="3976"/>
                    </a:lnTo>
                    <a:lnTo>
                      <a:pt x="137" y="4288"/>
                    </a:lnTo>
                    <a:lnTo>
                      <a:pt x="242" y="4592"/>
                    </a:lnTo>
                    <a:lnTo>
                      <a:pt x="377" y="4885"/>
                    </a:lnTo>
                    <a:lnTo>
                      <a:pt x="540" y="5165"/>
                    </a:lnTo>
                    <a:lnTo>
                      <a:pt x="731" y="5430"/>
                    </a:lnTo>
                    <a:lnTo>
                      <a:pt x="950" y="5678"/>
                    </a:lnTo>
                    <a:lnTo>
                      <a:pt x="1197" y="5906"/>
                    </a:lnTo>
                    <a:lnTo>
                      <a:pt x="1471" y="6112"/>
                    </a:lnTo>
                    <a:close/>
                  </a:path>
                </a:pathLst>
              </a:custGeom>
              <a:solidFill>
                <a:srgbClr val="5f7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4960" y="199440"/>
                <a:ext cx="504720" cy="498600"/>
              </a:xfrm>
              <a:custGeom>
                <a:avLst/>
                <a:gdLst/>
                <a:ahLst/>
                <a:rect l="l" t="t" r="r" b="b"/>
                <a:pathLst>
                  <a:path w="6523" h="6523">
                    <a:moveTo>
                      <a:pt x="1436" y="5964"/>
                    </a:moveTo>
                    <a:lnTo>
                      <a:pt x="1721" y="6136"/>
                    </a:lnTo>
                    <a:lnTo>
                      <a:pt x="2017" y="6276"/>
                    </a:lnTo>
                    <a:lnTo>
                      <a:pt x="2321" y="6385"/>
                    </a:lnTo>
                    <a:lnTo>
                      <a:pt x="2630" y="6462"/>
                    </a:lnTo>
                    <a:lnTo>
                      <a:pt x="2944" y="6508"/>
                    </a:lnTo>
                    <a:lnTo>
                      <a:pt x="3258" y="6523"/>
                    </a:lnTo>
                    <a:lnTo>
                      <a:pt x="3571" y="6508"/>
                    </a:lnTo>
                    <a:lnTo>
                      <a:pt x="3881" y="6464"/>
                    </a:lnTo>
                    <a:lnTo>
                      <a:pt x="4185" y="6390"/>
                    </a:lnTo>
                    <a:lnTo>
                      <a:pt x="4481" y="6287"/>
                    </a:lnTo>
                    <a:lnTo>
                      <a:pt x="4767" y="6156"/>
                    </a:lnTo>
                    <a:lnTo>
                      <a:pt x="5040" y="5997"/>
                    </a:lnTo>
                    <a:lnTo>
                      <a:pt x="5299" y="5810"/>
                    </a:lnTo>
                    <a:lnTo>
                      <a:pt x="5541" y="5596"/>
                    </a:lnTo>
                    <a:lnTo>
                      <a:pt x="5763" y="5356"/>
                    </a:lnTo>
                    <a:lnTo>
                      <a:pt x="5964" y="5089"/>
                    </a:lnTo>
                    <a:lnTo>
                      <a:pt x="6136" y="4803"/>
                    </a:lnTo>
                    <a:lnTo>
                      <a:pt x="6277" y="4506"/>
                    </a:lnTo>
                    <a:lnTo>
                      <a:pt x="6385" y="4202"/>
                    </a:lnTo>
                    <a:lnTo>
                      <a:pt x="6462" y="3893"/>
                    </a:lnTo>
                    <a:lnTo>
                      <a:pt x="6507" y="3579"/>
                    </a:lnTo>
                    <a:lnTo>
                      <a:pt x="6523" y="3266"/>
                    </a:lnTo>
                    <a:lnTo>
                      <a:pt x="6509" y="2952"/>
                    </a:lnTo>
                    <a:lnTo>
                      <a:pt x="6464" y="2643"/>
                    </a:lnTo>
                    <a:lnTo>
                      <a:pt x="6389" y="2339"/>
                    </a:lnTo>
                    <a:lnTo>
                      <a:pt x="6286" y="2042"/>
                    </a:lnTo>
                    <a:lnTo>
                      <a:pt x="6156" y="1756"/>
                    </a:lnTo>
                    <a:lnTo>
                      <a:pt x="5996" y="1483"/>
                    </a:lnTo>
                    <a:lnTo>
                      <a:pt x="5809" y="1225"/>
                    </a:lnTo>
                    <a:lnTo>
                      <a:pt x="5595" y="982"/>
                    </a:lnTo>
                    <a:lnTo>
                      <a:pt x="5355" y="760"/>
                    </a:lnTo>
                    <a:lnTo>
                      <a:pt x="5088" y="560"/>
                    </a:lnTo>
                    <a:lnTo>
                      <a:pt x="4802" y="387"/>
                    </a:lnTo>
                    <a:lnTo>
                      <a:pt x="4506" y="247"/>
                    </a:lnTo>
                    <a:lnTo>
                      <a:pt x="4202" y="138"/>
                    </a:lnTo>
                    <a:lnTo>
                      <a:pt x="3892" y="61"/>
                    </a:lnTo>
                    <a:lnTo>
                      <a:pt x="3580" y="15"/>
                    </a:lnTo>
                    <a:lnTo>
                      <a:pt x="3265" y="0"/>
                    </a:lnTo>
                    <a:lnTo>
                      <a:pt x="2952" y="15"/>
                    </a:lnTo>
                    <a:lnTo>
                      <a:pt x="2642" y="60"/>
                    </a:lnTo>
                    <a:lnTo>
                      <a:pt x="2338" y="134"/>
                    </a:lnTo>
                    <a:lnTo>
                      <a:pt x="2042" y="236"/>
                    </a:lnTo>
                    <a:lnTo>
                      <a:pt x="1756" y="368"/>
                    </a:lnTo>
                    <a:lnTo>
                      <a:pt x="1482" y="527"/>
                    </a:lnTo>
                    <a:lnTo>
                      <a:pt x="1224" y="713"/>
                    </a:lnTo>
                    <a:lnTo>
                      <a:pt x="982" y="927"/>
                    </a:lnTo>
                    <a:lnTo>
                      <a:pt x="759" y="1168"/>
                    </a:lnTo>
                    <a:lnTo>
                      <a:pt x="559" y="1435"/>
                    </a:lnTo>
                    <a:lnTo>
                      <a:pt x="386" y="1720"/>
                    </a:lnTo>
                    <a:lnTo>
                      <a:pt x="246" y="2017"/>
                    </a:lnTo>
                    <a:lnTo>
                      <a:pt x="137" y="2321"/>
                    </a:lnTo>
                    <a:lnTo>
                      <a:pt x="61" y="2630"/>
                    </a:lnTo>
                    <a:lnTo>
                      <a:pt x="15" y="2944"/>
                    </a:lnTo>
                    <a:lnTo>
                      <a:pt x="0" y="3257"/>
                    </a:lnTo>
                    <a:lnTo>
                      <a:pt x="15" y="3571"/>
                    </a:lnTo>
                    <a:lnTo>
                      <a:pt x="60" y="3881"/>
                    </a:lnTo>
                    <a:lnTo>
                      <a:pt x="134" y="4185"/>
                    </a:lnTo>
                    <a:lnTo>
                      <a:pt x="237" y="4481"/>
                    </a:lnTo>
                    <a:lnTo>
                      <a:pt x="368" y="4767"/>
                    </a:lnTo>
                    <a:lnTo>
                      <a:pt x="527" y="5040"/>
                    </a:lnTo>
                    <a:lnTo>
                      <a:pt x="715" y="5299"/>
                    </a:lnTo>
                    <a:lnTo>
                      <a:pt x="928" y="5541"/>
                    </a:lnTo>
                    <a:lnTo>
                      <a:pt x="1169" y="5763"/>
                    </a:lnTo>
                    <a:lnTo>
                      <a:pt x="1436" y="5964"/>
                    </a:lnTo>
                    <a:close/>
                  </a:path>
                </a:pathLst>
              </a:custGeom>
              <a:solidFill>
                <a:srgbClr val="617e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53960" y="201600"/>
                <a:ext cx="492480" cy="487440"/>
              </a:xfrm>
              <a:custGeom>
                <a:avLst/>
                <a:gdLst/>
                <a:ahLst/>
                <a:rect l="l" t="t" r="r" b="b"/>
                <a:pathLst>
                  <a:path w="6364" h="6362">
                    <a:moveTo>
                      <a:pt x="1401" y="5817"/>
                    </a:moveTo>
                    <a:lnTo>
                      <a:pt x="1680" y="5985"/>
                    </a:lnTo>
                    <a:lnTo>
                      <a:pt x="1968" y="6122"/>
                    </a:lnTo>
                    <a:lnTo>
                      <a:pt x="2265" y="6228"/>
                    </a:lnTo>
                    <a:lnTo>
                      <a:pt x="2567" y="6303"/>
                    </a:lnTo>
                    <a:lnTo>
                      <a:pt x="2872" y="6348"/>
                    </a:lnTo>
                    <a:lnTo>
                      <a:pt x="3179" y="6362"/>
                    </a:lnTo>
                    <a:lnTo>
                      <a:pt x="3484" y="6349"/>
                    </a:lnTo>
                    <a:lnTo>
                      <a:pt x="3786" y="6305"/>
                    </a:lnTo>
                    <a:lnTo>
                      <a:pt x="4083" y="6233"/>
                    </a:lnTo>
                    <a:lnTo>
                      <a:pt x="4372" y="6132"/>
                    </a:lnTo>
                    <a:lnTo>
                      <a:pt x="4650" y="6004"/>
                    </a:lnTo>
                    <a:lnTo>
                      <a:pt x="4917" y="5849"/>
                    </a:lnTo>
                    <a:lnTo>
                      <a:pt x="5170" y="5666"/>
                    </a:lnTo>
                    <a:lnTo>
                      <a:pt x="5405" y="5458"/>
                    </a:lnTo>
                    <a:lnTo>
                      <a:pt x="5622" y="5223"/>
                    </a:lnTo>
                    <a:lnTo>
                      <a:pt x="5819" y="4963"/>
                    </a:lnTo>
                    <a:lnTo>
                      <a:pt x="5987" y="4684"/>
                    </a:lnTo>
                    <a:lnTo>
                      <a:pt x="6124" y="4396"/>
                    </a:lnTo>
                    <a:lnTo>
                      <a:pt x="6229" y="4099"/>
                    </a:lnTo>
                    <a:lnTo>
                      <a:pt x="6305" y="3797"/>
                    </a:lnTo>
                    <a:lnTo>
                      <a:pt x="6349" y="3491"/>
                    </a:lnTo>
                    <a:lnTo>
                      <a:pt x="6364" y="3185"/>
                    </a:lnTo>
                    <a:lnTo>
                      <a:pt x="6349" y="2880"/>
                    </a:lnTo>
                    <a:lnTo>
                      <a:pt x="6306" y="2578"/>
                    </a:lnTo>
                    <a:lnTo>
                      <a:pt x="6233" y="2281"/>
                    </a:lnTo>
                    <a:lnTo>
                      <a:pt x="6133" y="1992"/>
                    </a:lnTo>
                    <a:lnTo>
                      <a:pt x="6005" y="1714"/>
                    </a:lnTo>
                    <a:lnTo>
                      <a:pt x="5850" y="1447"/>
                    </a:lnTo>
                    <a:lnTo>
                      <a:pt x="5668" y="1194"/>
                    </a:lnTo>
                    <a:lnTo>
                      <a:pt x="5458" y="959"/>
                    </a:lnTo>
                    <a:lnTo>
                      <a:pt x="5223" y="742"/>
                    </a:lnTo>
                    <a:lnTo>
                      <a:pt x="4964" y="546"/>
                    </a:lnTo>
                    <a:lnTo>
                      <a:pt x="4685" y="377"/>
                    </a:lnTo>
                    <a:lnTo>
                      <a:pt x="4396" y="240"/>
                    </a:lnTo>
                    <a:lnTo>
                      <a:pt x="4100" y="134"/>
                    </a:lnTo>
                    <a:lnTo>
                      <a:pt x="3798" y="59"/>
                    </a:lnTo>
                    <a:lnTo>
                      <a:pt x="3493" y="15"/>
                    </a:lnTo>
                    <a:lnTo>
                      <a:pt x="3186" y="0"/>
                    </a:lnTo>
                    <a:lnTo>
                      <a:pt x="2880" y="14"/>
                    </a:lnTo>
                    <a:lnTo>
                      <a:pt x="2578" y="57"/>
                    </a:lnTo>
                    <a:lnTo>
                      <a:pt x="2282" y="130"/>
                    </a:lnTo>
                    <a:lnTo>
                      <a:pt x="1993" y="231"/>
                    </a:lnTo>
                    <a:lnTo>
                      <a:pt x="1714" y="358"/>
                    </a:lnTo>
                    <a:lnTo>
                      <a:pt x="1447" y="513"/>
                    </a:lnTo>
                    <a:lnTo>
                      <a:pt x="1195" y="696"/>
                    </a:lnTo>
                    <a:lnTo>
                      <a:pt x="959" y="905"/>
                    </a:lnTo>
                    <a:lnTo>
                      <a:pt x="742" y="1140"/>
                    </a:lnTo>
                    <a:lnTo>
                      <a:pt x="547" y="1400"/>
                    </a:lnTo>
                    <a:lnTo>
                      <a:pt x="378" y="1679"/>
                    </a:lnTo>
                    <a:lnTo>
                      <a:pt x="241" y="1967"/>
                    </a:lnTo>
                    <a:lnTo>
                      <a:pt x="135" y="2263"/>
                    </a:lnTo>
                    <a:lnTo>
                      <a:pt x="60" y="2565"/>
                    </a:lnTo>
                    <a:lnTo>
                      <a:pt x="15" y="2871"/>
                    </a:lnTo>
                    <a:lnTo>
                      <a:pt x="0" y="3177"/>
                    </a:lnTo>
                    <a:lnTo>
                      <a:pt x="15" y="3483"/>
                    </a:lnTo>
                    <a:lnTo>
                      <a:pt x="59" y="3786"/>
                    </a:lnTo>
                    <a:lnTo>
                      <a:pt x="131" y="4081"/>
                    </a:lnTo>
                    <a:lnTo>
                      <a:pt x="232" y="4370"/>
                    </a:lnTo>
                    <a:lnTo>
                      <a:pt x="360" y="4649"/>
                    </a:lnTo>
                    <a:lnTo>
                      <a:pt x="515" y="4916"/>
                    </a:lnTo>
                    <a:lnTo>
                      <a:pt x="698" y="5169"/>
                    </a:lnTo>
                    <a:lnTo>
                      <a:pt x="906" y="5404"/>
                    </a:lnTo>
                    <a:lnTo>
                      <a:pt x="1141" y="5620"/>
                    </a:lnTo>
                    <a:lnTo>
                      <a:pt x="1401" y="5817"/>
                    </a:lnTo>
                    <a:close/>
                  </a:path>
                </a:pathLst>
              </a:custGeom>
              <a:solidFill>
                <a:srgbClr val="648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63320" y="204120"/>
                <a:ext cx="480600" cy="474840"/>
              </a:xfrm>
              <a:custGeom>
                <a:avLst/>
                <a:gdLst/>
                <a:ahLst/>
                <a:rect l="l" t="t" r="r" b="b"/>
                <a:pathLst>
                  <a:path w="6201" h="6202">
                    <a:moveTo>
                      <a:pt x="1365" y="5670"/>
                    </a:moveTo>
                    <a:lnTo>
                      <a:pt x="1636" y="5834"/>
                    </a:lnTo>
                    <a:lnTo>
                      <a:pt x="1917" y="5968"/>
                    </a:lnTo>
                    <a:lnTo>
                      <a:pt x="2207" y="6071"/>
                    </a:lnTo>
                    <a:lnTo>
                      <a:pt x="2501" y="6143"/>
                    </a:lnTo>
                    <a:lnTo>
                      <a:pt x="2798" y="6187"/>
                    </a:lnTo>
                    <a:lnTo>
                      <a:pt x="3096" y="6202"/>
                    </a:lnTo>
                    <a:lnTo>
                      <a:pt x="3394" y="6188"/>
                    </a:lnTo>
                    <a:lnTo>
                      <a:pt x="3689" y="6145"/>
                    </a:lnTo>
                    <a:lnTo>
                      <a:pt x="3978" y="6075"/>
                    </a:lnTo>
                    <a:lnTo>
                      <a:pt x="4259" y="5977"/>
                    </a:lnTo>
                    <a:lnTo>
                      <a:pt x="4532" y="5852"/>
                    </a:lnTo>
                    <a:lnTo>
                      <a:pt x="4791" y="5701"/>
                    </a:lnTo>
                    <a:lnTo>
                      <a:pt x="5037" y="5524"/>
                    </a:lnTo>
                    <a:lnTo>
                      <a:pt x="5266" y="5319"/>
                    </a:lnTo>
                    <a:lnTo>
                      <a:pt x="5478" y="5091"/>
                    </a:lnTo>
                    <a:lnTo>
                      <a:pt x="5669" y="4838"/>
                    </a:lnTo>
                    <a:lnTo>
                      <a:pt x="5833" y="4566"/>
                    </a:lnTo>
                    <a:lnTo>
                      <a:pt x="5967" y="4284"/>
                    </a:lnTo>
                    <a:lnTo>
                      <a:pt x="6070" y="3995"/>
                    </a:lnTo>
                    <a:lnTo>
                      <a:pt x="6142" y="3700"/>
                    </a:lnTo>
                    <a:lnTo>
                      <a:pt x="6186" y="3403"/>
                    </a:lnTo>
                    <a:lnTo>
                      <a:pt x="6201" y="3104"/>
                    </a:lnTo>
                    <a:lnTo>
                      <a:pt x="6186" y="2806"/>
                    </a:lnTo>
                    <a:lnTo>
                      <a:pt x="6144" y="2513"/>
                    </a:lnTo>
                    <a:lnTo>
                      <a:pt x="6073" y="2224"/>
                    </a:lnTo>
                    <a:lnTo>
                      <a:pt x="5975" y="1942"/>
                    </a:lnTo>
                    <a:lnTo>
                      <a:pt x="5851" y="1670"/>
                    </a:lnTo>
                    <a:lnTo>
                      <a:pt x="5699" y="1411"/>
                    </a:lnTo>
                    <a:lnTo>
                      <a:pt x="5521" y="1164"/>
                    </a:lnTo>
                    <a:lnTo>
                      <a:pt x="5318" y="934"/>
                    </a:lnTo>
                    <a:lnTo>
                      <a:pt x="5090" y="723"/>
                    </a:lnTo>
                    <a:lnTo>
                      <a:pt x="4837" y="532"/>
                    </a:lnTo>
                    <a:lnTo>
                      <a:pt x="4565" y="368"/>
                    </a:lnTo>
                    <a:lnTo>
                      <a:pt x="4283" y="234"/>
                    </a:lnTo>
                    <a:lnTo>
                      <a:pt x="3995" y="131"/>
                    </a:lnTo>
                    <a:lnTo>
                      <a:pt x="3700" y="58"/>
                    </a:lnTo>
                    <a:lnTo>
                      <a:pt x="3403" y="15"/>
                    </a:lnTo>
                    <a:lnTo>
                      <a:pt x="3104" y="0"/>
                    </a:lnTo>
                    <a:lnTo>
                      <a:pt x="2806" y="15"/>
                    </a:lnTo>
                    <a:lnTo>
                      <a:pt x="2512" y="57"/>
                    </a:lnTo>
                    <a:lnTo>
                      <a:pt x="2223" y="127"/>
                    </a:lnTo>
                    <a:lnTo>
                      <a:pt x="1941" y="225"/>
                    </a:lnTo>
                    <a:lnTo>
                      <a:pt x="1669" y="350"/>
                    </a:lnTo>
                    <a:lnTo>
                      <a:pt x="1409" y="502"/>
                    </a:lnTo>
                    <a:lnTo>
                      <a:pt x="1163" y="679"/>
                    </a:lnTo>
                    <a:lnTo>
                      <a:pt x="933" y="882"/>
                    </a:lnTo>
                    <a:lnTo>
                      <a:pt x="722" y="1111"/>
                    </a:lnTo>
                    <a:lnTo>
                      <a:pt x="532" y="1365"/>
                    </a:lnTo>
                    <a:lnTo>
                      <a:pt x="367" y="1636"/>
                    </a:lnTo>
                    <a:lnTo>
                      <a:pt x="233" y="1918"/>
                    </a:lnTo>
                    <a:lnTo>
                      <a:pt x="130" y="2207"/>
                    </a:lnTo>
                    <a:lnTo>
                      <a:pt x="58" y="2501"/>
                    </a:lnTo>
                    <a:lnTo>
                      <a:pt x="14" y="2799"/>
                    </a:lnTo>
                    <a:lnTo>
                      <a:pt x="0" y="3098"/>
                    </a:lnTo>
                    <a:lnTo>
                      <a:pt x="13" y="3395"/>
                    </a:lnTo>
                    <a:lnTo>
                      <a:pt x="56" y="3690"/>
                    </a:lnTo>
                    <a:lnTo>
                      <a:pt x="126" y="3979"/>
                    </a:lnTo>
                    <a:lnTo>
                      <a:pt x="224" y="4261"/>
                    </a:lnTo>
                    <a:lnTo>
                      <a:pt x="349" y="4532"/>
                    </a:lnTo>
                    <a:lnTo>
                      <a:pt x="500" y="4792"/>
                    </a:lnTo>
                    <a:lnTo>
                      <a:pt x="678" y="5038"/>
                    </a:lnTo>
                    <a:lnTo>
                      <a:pt x="882" y="5267"/>
                    </a:lnTo>
                    <a:lnTo>
                      <a:pt x="1110" y="5479"/>
                    </a:lnTo>
                    <a:lnTo>
                      <a:pt x="1365" y="5670"/>
                    </a:lnTo>
                    <a:close/>
                  </a:path>
                </a:pathLst>
              </a:custGeom>
              <a:solidFill>
                <a:srgbClr val="6683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73040" y="207000"/>
                <a:ext cx="467280" cy="461880"/>
              </a:xfrm>
              <a:custGeom>
                <a:avLst/>
                <a:gdLst/>
                <a:ahLst/>
                <a:rect l="l" t="t" r="r" b="b"/>
                <a:pathLst>
                  <a:path w="6040" h="6041">
                    <a:moveTo>
                      <a:pt x="1329" y="5523"/>
                    </a:moveTo>
                    <a:lnTo>
                      <a:pt x="1593" y="5683"/>
                    </a:lnTo>
                    <a:lnTo>
                      <a:pt x="1867" y="5813"/>
                    </a:lnTo>
                    <a:lnTo>
                      <a:pt x="2148" y="5914"/>
                    </a:lnTo>
                    <a:lnTo>
                      <a:pt x="2435" y="5985"/>
                    </a:lnTo>
                    <a:lnTo>
                      <a:pt x="2726" y="6026"/>
                    </a:lnTo>
                    <a:lnTo>
                      <a:pt x="3017" y="6041"/>
                    </a:lnTo>
                    <a:lnTo>
                      <a:pt x="3306" y="6027"/>
                    </a:lnTo>
                    <a:lnTo>
                      <a:pt x="3593" y="5986"/>
                    </a:lnTo>
                    <a:lnTo>
                      <a:pt x="3875" y="5917"/>
                    </a:lnTo>
                    <a:lnTo>
                      <a:pt x="4149" y="5822"/>
                    </a:lnTo>
                    <a:lnTo>
                      <a:pt x="4414" y="5700"/>
                    </a:lnTo>
                    <a:lnTo>
                      <a:pt x="4667" y="5553"/>
                    </a:lnTo>
                    <a:lnTo>
                      <a:pt x="4906" y="5380"/>
                    </a:lnTo>
                    <a:lnTo>
                      <a:pt x="5129" y="5182"/>
                    </a:lnTo>
                    <a:lnTo>
                      <a:pt x="5336" y="4959"/>
                    </a:lnTo>
                    <a:lnTo>
                      <a:pt x="5522" y="4712"/>
                    </a:lnTo>
                    <a:lnTo>
                      <a:pt x="5681" y="4448"/>
                    </a:lnTo>
                    <a:lnTo>
                      <a:pt x="5812" y="4173"/>
                    </a:lnTo>
                    <a:lnTo>
                      <a:pt x="5912" y="3892"/>
                    </a:lnTo>
                    <a:lnTo>
                      <a:pt x="5984" y="3605"/>
                    </a:lnTo>
                    <a:lnTo>
                      <a:pt x="6027" y="3315"/>
                    </a:lnTo>
                    <a:lnTo>
                      <a:pt x="6040" y="3024"/>
                    </a:lnTo>
                    <a:lnTo>
                      <a:pt x="6027" y="2734"/>
                    </a:lnTo>
                    <a:lnTo>
                      <a:pt x="5985" y="2447"/>
                    </a:lnTo>
                    <a:lnTo>
                      <a:pt x="5917" y="2165"/>
                    </a:lnTo>
                    <a:lnTo>
                      <a:pt x="5821" y="1891"/>
                    </a:lnTo>
                    <a:lnTo>
                      <a:pt x="5700" y="1626"/>
                    </a:lnTo>
                    <a:lnTo>
                      <a:pt x="5552" y="1373"/>
                    </a:lnTo>
                    <a:lnTo>
                      <a:pt x="5379" y="1134"/>
                    </a:lnTo>
                    <a:lnTo>
                      <a:pt x="5181" y="910"/>
                    </a:lnTo>
                    <a:lnTo>
                      <a:pt x="4958" y="703"/>
                    </a:lnTo>
                    <a:lnTo>
                      <a:pt x="4711" y="518"/>
                    </a:lnTo>
                    <a:lnTo>
                      <a:pt x="4447" y="358"/>
                    </a:lnTo>
                    <a:lnTo>
                      <a:pt x="4172" y="228"/>
                    </a:lnTo>
                    <a:lnTo>
                      <a:pt x="3891" y="127"/>
                    </a:lnTo>
                    <a:lnTo>
                      <a:pt x="3605" y="56"/>
                    </a:lnTo>
                    <a:lnTo>
                      <a:pt x="3315" y="14"/>
                    </a:lnTo>
                    <a:lnTo>
                      <a:pt x="3023" y="0"/>
                    </a:lnTo>
                    <a:lnTo>
                      <a:pt x="2733" y="14"/>
                    </a:lnTo>
                    <a:lnTo>
                      <a:pt x="2447" y="55"/>
                    </a:lnTo>
                    <a:lnTo>
                      <a:pt x="2165" y="123"/>
                    </a:lnTo>
                    <a:lnTo>
                      <a:pt x="1891" y="219"/>
                    </a:lnTo>
                    <a:lnTo>
                      <a:pt x="1626" y="340"/>
                    </a:lnTo>
                    <a:lnTo>
                      <a:pt x="1372" y="488"/>
                    </a:lnTo>
                    <a:lnTo>
                      <a:pt x="1133" y="661"/>
                    </a:lnTo>
                    <a:lnTo>
                      <a:pt x="910" y="859"/>
                    </a:lnTo>
                    <a:lnTo>
                      <a:pt x="704" y="1082"/>
                    </a:lnTo>
                    <a:lnTo>
                      <a:pt x="519" y="1330"/>
                    </a:lnTo>
                    <a:lnTo>
                      <a:pt x="358" y="1593"/>
                    </a:lnTo>
                    <a:lnTo>
                      <a:pt x="228" y="1868"/>
                    </a:lnTo>
                    <a:lnTo>
                      <a:pt x="127" y="2149"/>
                    </a:lnTo>
                    <a:lnTo>
                      <a:pt x="56" y="2436"/>
                    </a:lnTo>
                    <a:lnTo>
                      <a:pt x="14" y="2725"/>
                    </a:lnTo>
                    <a:lnTo>
                      <a:pt x="0" y="3017"/>
                    </a:lnTo>
                    <a:lnTo>
                      <a:pt x="14" y="3307"/>
                    </a:lnTo>
                    <a:lnTo>
                      <a:pt x="54" y="3594"/>
                    </a:lnTo>
                    <a:lnTo>
                      <a:pt x="123" y="3876"/>
                    </a:lnTo>
                    <a:lnTo>
                      <a:pt x="218" y="4150"/>
                    </a:lnTo>
                    <a:lnTo>
                      <a:pt x="340" y="4415"/>
                    </a:lnTo>
                    <a:lnTo>
                      <a:pt x="487" y="4668"/>
                    </a:lnTo>
                    <a:lnTo>
                      <a:pt x="660" y="4907"/>
                    </a:lnTo>
                    <a:lnTo>
                      <a:pt x="858" y="5131"/>
                    </a:lnTo>
                    <a:lnTo>
                      <a:pt x="1081" y="5337"/>
                    </a:lnTo>
                    <a:lnTo>
                      <a:pt x="1329" y="5523"/>
                    </a:lnTo>
                    <a:close/>
                  </a:path>
                </a:pathLst>
              </a:custGeom>
              <a:solidFill>
                <a:srgbClr val="698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82040" y="208800"/>
                <a:ext cx="455040" cy="450000"/>
              </a:xfrm>
              <a:custGeom>
                <a:avLst/>
                <a:gdLst/>
                <a:ahLst/>
                <a:rect l="l" t="t" r="r" b="b"/>
                <a:pathLst>
                  <a:path w="5880" h="5880">
                    <a:moveTo>
                      <a:pt x="1294" y="5376"/>
                    </a:moveTo>
                    <a:lnTo>
                      <a:pt x="1551" y="5531"/>
                    </a:lnTo>
                    <a:lnTo>
                      <a:pt x="1818" y="5657"/>
                    </a:lnTo>
                    <a:lnTo>
                      <a:pt x="2092" y="5755"/>
                    </a:lnTo>
                    <a:lnTo>
                      <a:pt x="2371" y="5824"/>
                    </a:lnTo>
                    <a:lnTo>
                      <a:pt x="2653" y="5866"/>
                    </a:lnTo>
                    <a:lnTo>
                      <a:pt x="2936" y="5880"/>
                    </a:lnTo>
                    <a:lnTo>
                      <a:pt x="3219" y="5866"/>
                    </a:lnTo>
                    <a:lnTo>
                      <a:pt x="3499" y="5825"/>
                    </a:lnTo>
                    <a:lnTo>
                      <a:pt x="3772" y="5759"/>
                    </a:lnTo>
                    <a:lnTo>
                      <a:pt x="4040" y="5666"/>
                    </a:lnTo>
                    <a:lnTo>
                      <a:pt x="4297" y="5548"/>
                    </a:lnTo>
                    <a:lnTo>
                      <a:pt x="4544" y="5404"/>
                    </a:lnTo>
                    <a:lnTo>
                      <a:pt x="4776" y="5235"/>
                    </a:lnTo>
                    <a:lnTo>
                      <a:pt x="4994" y="5043"/>
                    </a:lnTo>
                    <a:lnTo>
                      <a:pt x="5194" y="4826"/>
                    </a:lnTo>
                    <a:lnTo>
                      <a:pt x="5376" y="4586"/>
                    </a:lnTo>
                    <a:lnTo>
                      <a:pt x="5531" y="4327"/>
                    </a:lnTo>
                    <a:lnTo>
                      <a:pt x="5658" y="4061"/>
                    </a:lnTo>
                    <a:lnTo>
                      <a:pt x="5756" y="3787"/>
                    </a:lnTo>
                    <a:lnTo>
                      <a:pt x="5826" y="3508"/>
                    </a:lnTo>
                    <a:lnTo>
                      <a:pt x="5867" y="3226"/>
                    </a:lnTo>
                    <a:lnTo>
                      <a:pt x="5880" y="2942"/>
                    </a:lnTo>
                    <a:lnTo>
                      <a:pt x="5867" y="2661"/>
                    </a:lnTo>
                    <a:lnTo>
                      <a:pt x="5827" y="2381"/>
                    </a:lnTo>
                    <a:lnTo>
                      <a:pt x="5760" y="2107"/>
                    </a:lnTo>
                    <a:lnTo>
                      <a:pt x="5667" y="1840"/>
                    </a:lnTo>
                    <a:lnTo>
                      <a:pt x="5549" y="1583"/>
                    </a:lnTo>
                    <a:lnTo>
                      <a:pt x="5405" y="1336"/>
                    </a:lnTo>
                    <a:lnTo>
                      <a:pt x="5237" y="1103"/>
                    </a:lnTo>
                    <a:lnTo>
                      <a:pt x="5044" y="885"/>
                    </a:lnTo>
                    <a:lnTo>
                      <a:pt x="4827" y="685"/>
                    </a:lnTo>
                    <a:lnTo>
                      <a:pt x="4587" y="505"/>
                    </a:lnTo>
                    <a:lnTo>
                      <a:pt x="4329" y="348"/>
                    </a:lnTo>
                    <a:lnTo>
                      <a:pt x="4062" y="222"/>
                    </a:lnTo>
                    <a:lnTo>
                      <a:pt x="3789" y="124"/>
                    </a:lnTo>
                    <a:lnTo>
                      <a:pt x="3509" y="54"/>
                    </a:lnTo>
                    <a:lnTo>
                      <a:pt x="3227" y="12"/>
                    </a:lnTo>
                    <a:lnTo>
                      <a:pt x="2944" y="0"/>
                    </a:lnTo>
                    <a:lnTo>
                      <a:pt x="2662" y="12"/>
                    </a:lnTo>
                    <a:lnTo>
                      <a:pt x="2382" y="53"/>
                    </a:lnTo>
                    <a:lnTo>
                      <a:pt x="2108" y="120"/>
                    </a:lnTo>
                    <a:lnTo>
                      <a:pt x="1841" y="212"/>
                    </a:lnTo>
                    <a:lnTo>
                      <a:pt x="1584" y="330"/>
                    </a:lnTo>
                    <a:lnTo>
                      <a:pt x="1337" y="475"/>
                    </a:lnTo>
                    <a:lnTo>
                      <a:pt x="1103" y="643"/>
                    </a:lnTo>
                    <a:lnTo>
                      <a:pt x="885" y="835"/>
                    </a:lnTo>
                    <a:lnTo>
                      <a:pt x="686" y="1052"/>
                    </a:lnTo>
                    <a:lnTo>
                      <a:pt x="505" y="1293"/>
                    </a:lnTo>
                    <a:lnTo>
                      <a:pt x="349" y="1551"/>
                    </a:lnTo>
                    <a:lnTo>
                      <a:pt x="222" y="1818"/>
                    </a:lnTo>
                    <a:lnTo>
                      <a:pt x="124" y="2092"/>
                    </a:lnTo>
                    <a:lnTo>
                      <a:pt x="55" y="2370"/>
                    </a:lnTo>
                    <a:lnTo>
                      <a:pt x="14" y="2653"/>
                    </a:lnTo>
                    <a:lnTo>
                      <a:pt x="0" y="2936"/>
                    </a:lnTo>
                    <a:lnTo>
                      <a:pt x="14" y="3219"/>
                    </a:lnTo>
                    <a:lnTo>
                      <a:pt x="54" y="3498"/>
                    </a:lnTo>
                    <a:lnTo>
                      <a:pt x="120" y="3771"/>
                    </a:lnTo>
                    <a:lnTo>
                      <a:pt x="212" y="4039"/>
                    </a:lnTo>
                    <a:lnTo>
                      <a:pt x="332" y="4297"/>
                    </a:lnTo>
                    <a:lnTo>
                      <a:pt x="475" y="4543"/>
                    </a:lnTo>
                    <a:lnTo>
                      <a:pt x="643" y="4776"/>
                    </a:lnTo>
                    <a:lnTo>
                      <a:pt x="835" y="4994"/>
                    </a:lnTo>
                    <a:lnTo>
                      <a:pt x="1052" y="5194"/>
                    </a:lnTo>
                    <a:lnTo>
                      <a:pt x="1294" y="5376"/>
                    </a:lnTo>
                    <a:close/>
                  </a:path>
                </a:pathLst>
              </a:custGeom>
              <a:solidFill>
                <a:srgbClr val="6b89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91400" y="211320"/>
                <a:ext cx="443160" cy="437760"/>
              </a:xfrm>
              <a:custGeom>
                <a:avLst/>
                <a:gdLst/>
                <a:ahLst/>
                <a:rect l="l" t="t" r="r" b="b"/>
                <a:pathLst>
                  <a:path w="5720" h="5721">
                    <a:moveTo>
                      <a:pt x="1260" y="5231"/>
                    </a:moveTo>
                    <a:lnTo>
                      <a:pt x="1510" y="5382"/>
                    </a:lnTo>
                    <a:lnTo>
                      <a:pt x="1769" y="5505"/>
                    </a:lnTo>
                    <a:lnTo>
                      <a:pt x="2036" y="5600"/>
                    </a:lnTo>
                    <a:lnTo>
                      <a:pt x="2307" y="5668"/>
                    </a:lnTo>
                    <a:lnTo>
                      <a:pt x="2581" y="5707"/>
                    </a:lnTo>
                    <a:lnTo>
                      <a:pt x="2857" y="5721"/>
                    </a:lnTo>
                    <a:lnTo>
                      <a:pt x="3131" y="5708"/>
                    </a:lnTo>
                    <a:lnTo>
                      <a:pt x="3403" y="5669"/>
                    </a:lnTo>
                    <a:lnTo>
                      <a:pt x="3670" y="5604"/>
                    </a:lnTo>
                    <a:lnTo>
                      <a:pt x="3929" y="5514"/>
                    </a:lnTo>
                    <a:lnTo>
                      <a:pt x="4180" y="5399"/>
                    </a:lnTo>
                    <a:lnTo>
                      <a:pt x="4419" y="5258"/>
                    </a:lnTo>
                    <a:lnTo>
                      <a:pt x="4646" y="5095"/>
                    </a:lnTo>
                    <a:lnTo>
                      <a:pt x="4858" y="4908"/>
                    </a:lnTo>
                    <a:lnTo>
                      <a:pt x="5053" y="4696"/>
                    </a:lnTo>
                    <a:lnTo>
                      <a:pt x="5230" y="4463"/>
                    </a:lnTo>
                    <a:lnTo>
                      <a:pt x="5380" y="4212"/>
                    </a:lnTo>
                    <a:lnTo>
                      <a:pt x="5504" y="3953"/>
                    </a:lnTo>
                    <a:lnTo>
                      <a:pt x="5598" y="3686"/>
                    </a:lnTo>
                    <a:lnTo>
                      <a:pt x="5666" y="3415"/>
                    </a:lnTo>
                    <a:lnTo>
                      <a:pt x="5706" y="3140"/>
                    </a:lnTo>
                    <a:lnTo>
                      <a:pt x="5720" y="2864"/>
                    </a:lnTo>
                    <a:lnTo>
                      <a:pt x="5707" y="2590"/>
                    </a:lnTo>
                    <a:lnTo>
                      <a:pt x="5668" y="2318"/>
                    </a:lnTo>
                    <a:lnTo>
                      <a:pt x="5603" y="2052"/>
                    </a:lnTo>
                    <a:lnTo>
                      <a:pt x="5512" y="1792"/>
                    </a:lnTo>
                    <a:lnTo>
                      <a:pt x="5397" y="1542"/>
                    </a:lnTo>
                    <a:lnTo>
                      <a:pt x="5257" y="1302"/>
                    </a:lnTo>
                    <a:lnTo>
                      <a:pt x="5093" y="1075"/>
                    </a:lnTo>
                    <a:lnTo>
                      <a:pt x="4906" y="863"/>
                    </a:lnTo>
                    <a:lnTo>
                      <a:pt x="4695" y="668"/>
                    </a:lnTo>
                    <a:lnTo>
                      <a:pt x="4462" y="493"/>
                    </a:lnTo>
                    <a:lnTo>
                      <a:pt x="4211" y="341"/>
                    </a:lnTo>
                    <a:lnTo>
                      <a:pt x="3952" y="217"/>
                    </a:lnTo>
                    <a:lnTo>
                      <a:pt x="3685" y="122"/>
                    </a:lnTo>
                    <a:lnTo>
                      <a:pt x="3414" y="55"/>
                    </a:lnTo>
                    <a:lnTo>
                      <a:pt x="3138" y="14"/>
                    </a:lnTo>
                    <a:lnTo>
                      <a:pt x="2863" y="0"/>
                    </a:lnTo>
                    <a:lnTo>
                      <a:pt x="2589" y="14"/>
                    </a:lnTo>
                    <a:lnTo>
                      <a:pt x="2317" y="54"/>
                    </a:lnTo>
                    <a:lnTo>
                      <a:pt x="2051" y="118"/>
                    </a:lnTo>
                    <a:lnTo>
                      <a:pt x="1790" y="208"/>
                    </a:lnTo>
                    <a:lnTo>
                      <a:pt x="1541" y="324"/>
                    </a:lnTo>
                    <a:lnTo>
                      <a:pt x="1300" y="463"/>
                    </a:lnTo>
                    <a:lnTo>
                      <a:pt x="1074" y="627"/>
                    </a:lnTo>
                    <a:lnTo>
                      <a:pt x="861" y="815"/>
                    </a:lnTo>
                    <a:lnTo>
                      <a:pt x="667" y="1025"/>
                    </a:lnTo>
                    <a:lnTo>
                      <a:pt x="491" y="1260"/>
                    </a:lnTo>
                    <a:lnTo>
                      <a:pt x="339" y="1510"/>
                    </a:lnTo>
                    <a:lnTo>
                      <a:pt x="216" y="1769"/>
                    </a:lnTo>
                    <a:lnTo>
                      <a:pt x="121" y="2036"/>
                    </a:lnTo>
                    <a:lnTo>
                      <a:pt x="54" y="2307"/>
                    </a:lnTo>
                    <a:lnTo>
                      <a:pt x="14" y="2583"/>
                    </a:lnTo>
                    <a:lnTo>
                      <a:pt x="0" y="2858"/>
                    </a:lnTo>
                    <a:lnTo>
                      <a:pt x="14" y="3132"/>
                    </a:lnTo>
                    <a:lnTo>
                      <a:pt x="52" y="3404"/>
                    </a:lnTo>
                    <a:lnTo>
                      <a:pt x="117" y="3670"/>
                    </a:lnTo>
                    <a:lnTo>
                      <a:pt x="207" y="3931"/>
                    </a:lnTo>
                    <a:lnTo>
                      <a:pt x="323" y="4181"/>
                    </a:lnTo>
                    <a:lnTo>
                      <a:pt x="463" y="4421"/>
                    </a:lnTo>
                    <a:lnTo>
                      <a:pt x="626" y="4647"/>
                    </a:lnTo>
                    <a:lnTo>
                      <a:pt x="814" y="4860"/>
                    </a:lnTo>
                    <a:lnTo>
                      <a:pt x="1025" y="5054"/>
                    </a:lnTo>
                    <a:lnTo>
                      <a:pt x="1260" y="5231"/>
                    </a:lnTo>
                    <a:close/>
                  </a:path>
                </a:pathLst>
              </a:custGeom>
              <a:solidFill>
                <a:srgbClr val="6e8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0760" y="214200"/>
                <a:ext cx="431280" cy="425160"/>
              </a:xfrm>
              <a:custGeom>
                <a:avLst/>
                <a:gdLst/>
                <a:ahLst/>
                <a:rect l="l" t="t" r="r" b="b"/>
                <a:pathLst>
                  <a:path w="5559" h="5560">
                    <a:moveTo>
                      <a:pt x="1224" y="5084"/>
                    </a:moveTo>
                    <a:lnTo>
                      <a:pt x="1466" y="5231"/>
                    </a:lnTo>
                    <a:lnTo>
                      <a:pt x="1719" y="5351"/>
                    </a:lnTo>
                    <a:lnTo>
                      <a:pt x="1978" y="5443"/>
                    </a:lnTo>
                    <a:lnTo>
                      <a:pt x="2241" y="5508"/>
                    </a:lnTo>
                    <a:lnTo>
                      <a:pt x="2508" y="5548"/>
                    </a:lnTo>
                    <a:lnTo>
                      <a:pt x="2776" y="5560"/>
                    </a:lnTo>
                    <a:lnTo>
                      <a:pt x="3043" y="5548"/>
                    </a:lnTo>
                    <a:lnTo>
                      <a:pt x="3308" y="5509"/>
                    </a:lnTo>
                    <a:lnTo>
                      <a:pt x="3566" y="5447"/>
                    </a:lnTo>
                    <a:lnTo>
                      <a:pt x="3819" y="5359"/>
                    </a:lnTo>
                    <a:lnTo>
                      <a:pt x="4062" y="5247"/>
                    </a:lnTo>
                    <a:lnTo>
                      <a:pt x="4295" y="5112"/>
                    </a:lnTo>
                    <a:lnTo>
                      <a:pt x="4516" y="4952"/>
                    </a:lnTo>
                    <a:lnTo>
                      <a:pt x="4722" y="4769"/>
                    </a:lnTo>
                    <a:lnTo>
                      <a:pt x="4912" y="4564"/>
                    </a:lnTo>
                    <a:lnTo>
                      <a:pt x="5083" y="4338"/>
                    </a:lnTo>
                    <a:lnTo>
                      <a:pt x="5230" y="4094"/>
                    </a:lnTo>
                    <a:lnTo>
                      <a:pt x="5350" y="3841"/>
                    </a:lnTo>
                    <a:lnTo>
                      <a:pt x="5442" y="3583"/>
                    </a:lnTo>
                    <a:lnTo>
                      <a:pt x="5507" y="3319"/>
                    </a:lnTo>
                    <a:lnTo>
                      <a:pt x="5547" y="3052"/>
                    </a:lnTo>
                    <a:lnTo>
                      <a:pt x="5559" y="2785"/>
                    </a:lnTo>
                    <a:lnTo>
                      <a:pt x="5547" y="2518"/>
                    </a:lnTo>
                    <a:lnTo>
                      <a:pt x="5508" y="2253"/>
                    </a:lnTo>
                    <a:lnTo>
                      <a:pt x="5446" y="1995"/>
                    </a:lnTo>
                    <a:lnTo>
                      <a:pt x="5358" y="1742"/>
                    </a:lnTo>
                    <a:lnTo>
                      <a:pt x="5246" y="1498"/>
                    </a:lnTo>
                    <a:lnTo>
                      <a:pt x="5111" y="1265"/>
                    </a:lnTo>
                    <a:lnTo>
                      <a:pt x="4951" y="1044"/>
                    </a:lnTo>
                    <a:lnTo>
                      <a:pt x="4768" y="839"/>
                    </a:lnTo>
                    <a:lnTo>
                      <a:pt x="4563" y="649"/>
                    </a:lnTo>
                    <a:lnTo>
                      <a:pt x="4337" y="479"/>
                    </a:lnTo>
                    <a:lnTo>
                      <a:pt x="4093" y="331"/>
                    </a:lnTo>
                    <a:lnTo>
                      <a:pt x="3840" y="211"/>
                    </a:lnTo>
                    <a:lnTo>
                      <a:pt x="3582" y="118"/>
                    </a:lnTo>
                    <a:lnTo>
                      <a:pt x="3318" y="54"/>
                    </a:lnTo>
                    <a:lnTo>
                      <a:pt x="3051" y="14"/>
                    </a:lnTo>
                    <a:lnTo>
                      <a:pt x="2783" y="0"/>
                    </a:lnTo>
                    <a:lnTo>
                      <a:pt x="2517" y="13"/>
                    </a:lnTo>
                    <a:lnTo>
                      <a:pt x="2252" y="51"/>
                    </a:lnTo>
                    <a:lnTo>
                      <a:pt x="1994" y="114"/>
                    </a:lnTo>
                    <a:lnTo>
                      <a:pt x="1741" y="202"/>
                    </a:lnTo>
                    <a:lnTo>
                      <a:pt x="1497" y="314"/>
                    </a:lnTo>
                    <a:lnTo>
                      <a:pt x="1264" y="450"/>
                    </a:lnTo>
                    <a:lnTo>
                      <a:pt x="1043" y="608"/>
                    </a:lnTo>
                    <a:lnTo>
                      <a:pt x="838" y="791"/>
                    </a:lnTo>
                    <a:lnTo>
                      <a:pt x="648" y="996"/>
                    </a:lnTo>
                    <a:lnTo>
                      <a:pt x="478" y="1224"/>
                    </a:lnTo>
                    <a:lnTo>
                      <a:pt x="330" y="1467"/>
                    </a:lnTo>
                    <a:lnTo>
                      <a:pt x="211" y="1719"/>
                    </a:lnTo>
                    <a:lnTo>
                      <a:pt x="118" y="1979"/>
                    </a:lnTo>
                    <a:lnTo>
                      <a:pt x="52" y="2242"/>
                    </a:lnTo>
                    <a:lnTo>
                      <a:pt x="13" y="2509"/>
                    </a:lnTo>
                    <a:lnTo>
                      <a:pt x="0" y="2777"/>
                    </a:lnTo>
                    <a:lnTo>
                      <a:pt x="13" y="3044"/>
                    </a:lnTo>
                    <a:lnTo>
                      <a:pt x="51" y="3309"/>
                    </a:lnTo>
                    <a:lnTo>
                      <a:pt x="114" y="3568"/>
                    </a:lnTo>
                    <a:lnTo>
                      <a:pt x="201" y="3820"/>
                    </a:lnTo>
                    <a:lnTo>
                      <a:pt x="314" y="4063"/>
                    </a:lnTo>
                    <a:lnTo>
                      <a:pt x="449" y="4297"/>
                    </a:lnTo>
                    <a:lnTo>
                      <a:pt x="608" y="4517"/>
                    </a:lnTo>
                    <a:lnTo>
                      <a:pt x="791" y="4724"/>
                    </a:lnTo>
                    <a:lnTo>
                      <a:pt x="995" y="4913"/>
                    </a:lnTo>
                    <a:lnTo>
                      <a:pt x="1224" y="5084"/>
                    </a:lnTo>
                    <a:close/>
                  </a:path>
                </a:pathLst>
              </a:custGeom>
              <a:solidFill>
                <a:srgbClr val="708f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10120" y="216000"/>
                <a:ext cx="417960" cy="412920"/>
              </a:xfrm>
              <a:custGeom>
                <a:avLst/>
                <a:gdLst/>
                <a:ahLst/>
                <a:rect l="l" t="t" r="r" b="b"/>
                <a:pathLst>
                  <a:path w="5399" h="5399">
                    <a:moveTo>
                      <a:pt x="1189" y="4936"/>
                    </a:moveTo>
                    <a:lnTo>
                      <a:pt x="1425" y="5079"/>
                    </a:lnTo>
                    <a:lnTo>
                      <a:pt x="1670" y="5195"/>
                    </a:lnTo>
                    <a:lnTo>
                      <a:pt x="1922" y="5285"/>
                    </a:lnTo>
                    <a:lnTo>
                      <a:pt x="2178" y="5349"/>
                    </a:lnTo>
                    <a:lnTo>
                      <a:pt x="2436" y="5386"/>
                    </a:lnTo>
                    <a:lnTo>
                      <a:pt x="2697" y="5399"/>
                    </a:lnTo>
                    <a:lnTo>
                      <a:pt x="2956" y="5386"/>
                    </a:lnTo>
                    <a:lnTo>
                      <a:pt x="3212" y="5350"/>
                    </a:lnTo>
                    <a:lnTo>
                      <a:pt x="3464" y="5288"/>
                    </a:lnTo>
                    <a:lnTo>
                      <a:pt x="3709" y="5203"/>
                    </a:lnTo>
                    <a:lnTo>
                      <a:pt x="3946" y="5095"/>
                    </a:lnTo>
                    <a:lnTo>
                      <a:pt x="4171" y="4963"/>
                    </a:lnTo>
                    <a:lnTo>
                      <a:pt x="4386" y="4808"/>
                    </a:lnTo>
                    <a:lnTo>
                      <a:pt x="4586" y="4631"/>
                    </a:lnTo>
                    <a:lnTo>
                      <a:pt x="4769" y="4431"/>
                    </a:lnTo>
                    <a:lnTo>
                      <a:pt x="4935" y="4211"/>
                    </a:lnTo>
                    <a:lnTo>
                      <a:pt x="5078" y="3974"/>
                    </a:lnTo>
                    <a:lnTo>
                      <a:pt x="5195" y="3730"/>
                    </a:lnTo>
                    <a:lnTo>
                      <a:pt x="5284" y="3478"/>
                    </a:lnTo>
                    <a:lnTo>
                      <a:pt x="5348" y="3221"/>
                    </a:lnTo>
                    <a:lnTo>
                      <a:pt x="5386" y="2963"/>
                    </a:lnTo>
                    <a:lnTo>
                      <a:pt x="5399" y="2703"/>
                    </a:lnTo>
                    <a:lnTo>
                      <a:pt x="5386" y="2443"/>
                    </a:lnTo>
                    <a:lnTo>
                      <a:pt x="5349" y="2187"/>
                    </a:lnTo>
                    <a:lnTo>
                      <a:pt x="5288" y="1936"/>
                    </a:lnTo>
                    <a:lnTo>
                      <a:pt x="5202" y="1691"/>
                    </a:lnTo>
                    <a:lnTo>
                      <a:pt x="5094" y="1455"/>
                    </a:lnTo>
                    <a:lnTo>
                      <a:pt x="4962" y="1228"/>
                    </a:lnTo>
                    <a:lnTo>
                      <a:pt x="4808" y="1013"/>
                    </a:lnTo>
                    <a:lnTo>
                      <a:pt x="4630" y="814"/>
                    </a:lnTo>
                    <a:lnTo>
                      <a:pt x="4432" y="630"/>
                    </a:lnTo>
                    <a:lnTo>
                      <a:pt x="4211" y="464"/>
                    </a:lnTo>
                    <a:lnTo>
                      <a:pt x="3974" y="320"/>
                    </a:lnTo>
                    <a:lnTo>
                      <a:pt x="3730" y="204"/>
                    </a:lnTo>
                    <a:lnTo>
                      <a:pt x="3478" y="114"/>
                    </a:lnTo>
                    <a:lnTo>
                      <a:pt x="3222" y="50"/>
                    </a:lnTo>
                    <a:lnTo>
                      <a:pt x="2962" y="13"/>
                    </a:lnTo>
                    <a:lnTo>
                      <a:pt x="2703" y="0"/>
                    </a:lnTo>
                    <a:lnTo>
                      <a:pt x="2443" y="12"/>
                    </a:lnTo>
                    <a:lnTo>
                      <a:pt x="2187" y="49"/>
                    </a:lnTo>
                    <a:lnTo>
                      <a:pt x="1935" y="111"/>
                    </a:lnTo>
                    <a:lnTo>
                      <a:pt x="1690" y="196"/>
                    </a:lnTo>
                    <a:lnTo>
                      <a:pt x="1454" y="304"/>
                    </a:lnTo>
                    <a:lnTo>
                      <a:pt x="1227" y="436"/>
                    </a:lnTo>
                    <a:lnTo>
                      <a:pt x="1014" y="590"/>
                    </a:lnTo>
                    <a:lnTo>
                      <a:pt x="814" y="768"/>
                    </a:lnTo>
                    <a:lnTo>
                      <a:pt x="630" y="967"/>
                    </a:lnTo>
                    <a:lnTo>
                      <a:pt x="464" y="1188"/>
                    </a:lnTo>
                    <a:lnTo>
                      <a:pt x="320" y="1424"/>
                    </a:lnTo>
                    <a:lnTo>
                      <a:pt x="205" y="1669"/>
                    </a:lnTo>
                    <a:lnTo>
                      <a:pt x="114" y="1920"/>
                    </a:lnTo>
                    <a:lnTo>
                      <a:pt x="50" y="2178"/>
                    </a:lnTo>
                    <a:lnTo>
                      <a:pt x="13" y="2437"/>
                    </a:lnTo>
                    <a:lnTo>
                      <a:pt x="0" y="2696"/>
                    </a:lnTo>
                    <a:lnTo>
                      <a:pt x="13" y="2956"/>
                    </a:lnTo>
                    <a:lnTo>
                      <a:pt x="49" y="3212"/>
                    </a:lnTo>
                    <a:lnTo>
                      <a:pt x="111" y="3464"/>
                    </a:lnTo>
                    <a:lnTo>
                      <a:pt x="196" y="3709"/>
                    </a:lnTo>
                    <a:lnTo>
                      <a:pt x="305" y="3945"/>
                    </a:lnTo>
                    <a:lnTo>
                      <a:pt x="436" y="4172"/>
                    </a:lnTo>
                    <a:lnTo>
                      <a:pt x="592" y="4386"/>
                    </a:lnTo>
                    <a:lnTo>
                      <a:pt x="768" y="4585"/>
                    </a:lnTo>
                    <a:lnTo>
                      <a:pt x="968" y="4769"/>
                    </a:lnTo>
                    <a:lnTo>
                      <a:pt x="1189" y="4936"/>
                    </a:lnTo>
                    <a:close/>
                  </a:path>
                </a:pathLst>
              </a:custGeom>
              <a:solidFill>
                <a:srgbClr val="739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19120" y="218880"/>
                <a:ext cx="406080" cy="401040"/>
              </a:xfrm>
              <a:custGeom>
                <a:avLst/>
                <a:gdLst/>
                <a:ahLst/>
                <a:rect l="l" t="t" r="r" b="b"/>
                <a:pathLst>
                  <a:path w="5237" h="5238">
                    <a:moveTo>
                      <a:pt x="1152" y="4789"/>
                    </a:moveTo>
                    <a:lnTo>
                      <a:pt x="1381" y="4928"/>
                    </a:lnTo>
                    <a:lnTo>
                      <a:pt x="1619" y="5040"/>
                    </a:lnTo>
                    <a:lnTo>
                      <a:pt x="1862" y="5127"/>
                    </a:lnTo>
                    <a:lnTo>
                      <a:pt x="2111" y="5189"/>
                    </a:lnTo>
                    <a:lnTo>
                      <a:pt x="2363" y="5225"/>
                    </a:lnTo>
                    <a:lnTo>
                      <a:pt x="2615" y="5238"/>
                    </a:lnTo>
                    <a:lnTo>
                      <a:pt x="2867" y="5226"/>
                    </a:lnTo>
                    <a:lnTo>
                      <a:pt x="3116" y="5190"/>
                    </a:lnTo>
                    <a:lnTo>
                      <a:pt x="3359" y="5131"/>
                    </a:lnTo>
                    <a:lnTo>
                      <a:pt x="3597" y="5049"/>
                    </a:lnTo>
                    <a:lnTo>
                      <a:pt x="3827" y="4942"/>
                    </a:lnTo>
                    <a:lnTo>
                      <a:pt x="4047" y="4815"/>
                    </a:lnTo>
                    <a:lnTo>
                      <a:pt x="4254" y="4665"/>
                    </a:lnTo>
                    <a:lnTo>
                      <a:pt x="4448" y="4494"/>
                    </a:lnTo>
                    <a:lnTo>
                      <a:pt x="4626" y="4300"/>
                    </a:lnTo>
                    <a:lnTo>
                      <a:pt x="4788" y="4087"/>
                    </a:lnTo>
                    <a:lnTo>
                      <a:pt x="4926" y="3857"/>
                    </a:lnTo>
                    <a:lnTo>
                      <a:pt x="5039" y="3619"/>
                    </a:lnTo>
                    <a:lnTo>
                      <a:pt x="5126" y="3374"/>
                    </a:lnTo>
                    <a:lnTo>
                      <a:pt x="5188" y="3126"/>
                    </a:lnTo>
                    <a:lnTo>
                      <a:pt x="5225" y="2875"/>
                    </a:lnTo>
                    <a:lnTo>
                      <a:pt x="5237" y="2623"/>
                    </a:lnTo>
                    <a:lnTo>
                      <a:pt x="5225" y="2371"/>
                    </a:lnTo>
                    <a:lnTo>
                      <a:pt x="5189" y="2122"/>
                    </a:lnTo>
                    <a:lnTo>
                      <a:pt x="5130" y="1878"/>
                    </a:lnTo>
                    <a:lnTo>
                      <a:pt x="5047" y="1641"/>
                    </a:lnTo>
                    <a:lnTo>
                      <a:pt x="4942" y="1411"/>
                    </a:lnTo>
                    <a:lnTo>
                      <a:pt x="4813" y="1191"/>
                    </a:lnTo>
                    <a:lnTo>
                      <a:pt x="4664" y="984"/>
                    </a:lnTo>
                    <a:lnTo>
                      <a:pt x="4492" y="789"/>
                    </a:lnTo>
                    <a:lnTo>
                      <a:pt x="4299" y="610"/>
                    </a:lnTo>
                    <a:lnTo>
                      <a:pt x="4085" y="450"/>
                    </a:lnTo>
                    <a:lnTo>
                      <a:pt x="3856" y="311"/>
                    </a:lnTo>
                    <a:lnTo>
                      <a:pt x="3617" y="198"/>
                    </a:lnTo>
                    <a:lnTo>
                      <a:pt x="3374" y="111"/>
                    </a:lnTo>
                    <a:lnTo>
                      <a:pt x="3125" y="49"/>
                    </a:lnTo>
                    <a:lnTo>
                      <a:pt x="2873" y="13"/>
                    </a:lnTo>
                    <a:lnTo>
                      <a:pt x="2621" y="0"/>
                    </a:lnTo>
                    <a:lnTo>
                      <a:pt x="2369" y="12"/>
                    </a:lnTo>
                    <a:lnTo>
                      <a:pt x="2121" y="48"/>
                    </a:lnTo>
                    <a:lnTo>
                      <a:pt x="1877" y="108"/>
                    </a:lnTo>
                    <a:lnTo>
                      <a:pt x="1639" y="189"/>
                    </a:lnTo>
                    <a:lnTo>
                      <a:pt x="1409" y="296"/>
                    </a:lnTo>
                    <a:lnTo>
                      <a:pt x="1189" y="423"/>
                    </a:lnTo>
                    <a:lnTo>
                      <a:pt x="982" y="573"/>
                    </a:lnTo>
                    <a:lnTo>
                      <a:pt x="788" y="744"/>
                    </a:lnTo>
                    <a:lnTo>
                      <a:pt x="610" y="938"/>
                    </a:lnTo>
                    <a:lnTo>
                      <a:pt x="449" y="1153"/>
                    </a:lnTo>
                    <a:lnTo>
                      <a:pt x="310" y="1381"/>
                    </a:lnTo>
                    <a:lnTo>
                      <a:pt x="197" y="1619"/>
                    </a:lnTo>
                    <a:lnTo>
                      <a:pt x="110" y="1863"/>
                    </a:lnTo>
                    <a:lnTo>
                      <a:pt x="49" y="2112"/>
                    </a:lnTo>
                    <a:lnTo>
                      <a:pt x="11" y="2363"/>
                    </a:lnTo>
                    <a:lnTo>
                      <a:pt x="0" y="2615"/>
                    </a:lnTo>
                    <a:lnTo>
                      <a:pt x="11" y="2867"/>
                    </a:lnTo>
                    <a:lnTo>
                      <a:pt x="47" y="3116"/>
                    </a:lnTo>
                    <a:lnTo>
                      <a:pt x="106" y="3361"/>
                    </a:lnTo>
                    <a:lnTo>
                      <a:pt x="189" y="3598"/>
                    </a:lnTo>
                    <a:lnTo>
                      <a:pt x="294" y="3827"/>
                    </a:lnTo>
                    <a:lnTo>
                      <a:pt x="423" y="4047"/>
                    </a:lnTo>
                    <a:lnTo>
                      <a:pt x="573" y="4255"/>
                    </a:lnTo>
                    <a:lnTo>
                      <a:pt x="744" y="4449"/>
                    </a:lnTo>
                    <a:lnTo>
                      <a:pt x="937" y="4628"/>
                    </a:lnTo>
                    <a:lnTo>
                      <a:pt x="1152" y="4789"/>
                    </a:lnTo>
                    <a:close/>
                  </a:path>
                </a:pathLst>
              </a:custGeom>
              <a:solidFill>
                <a:srgbClr val="769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29560" y="221760"/>
                <a:ext cx="393120" cy="388440"/>
              </a:xfrm>
              <a:custGeom>
                <a:avLst/>
                <a:gdLst/>
                <a:ahLst/>
                <a:rect l="l" t="t" r="r" b="b"/>
                <a:pathLst>
                  <a:path w="5076" h="5077">
                    <a:moveTo>
                      <a:pt x="1117" y="4643"/>
                    </a:moveTo>
                    <a:lnTo>
                      <a:pt x="1339" y="4777"/>
                    </a:lnTo>
                    <a:lnTo>
                      <a:pt x="1569" y="4886"/>
                    </a:lnTo>
                    <a:lnTo>
                      <a:pt x="1806" y="4970"/>
                    </a:lnTo>
                    <a:lnTo>
                      <a:pt x="2046" y="5030"/>
                    </a:lnTo>
                    <a:lnTo>
                      <a:pt x="2291" y="5066"/>
                    </a:lnTo>
                    <a:lnTo>
                      <a:pt x="2535" y="5077"/>
                    </a:lnTo>
                    <a:lnTo>
                      <a:pt x="2779" y="5066"/>
                    </a:lnTo>
                    <a:lnTo>
                      <a:pt x="3020" y="5031"/>
                    </a:lnTo>
                    <a:lnTo>
                      <a:pt x="3256" y="4973"/>
                    </a:lnTo>
                    <a:lnTo>
                      <a:pt x="3487" y="4893"/>
                    </a:lnTo>
                    <a:lnTo>
                      <a:pt x="3710" y="4790"/>
                    </a:lnTo>
                    <a:lnTo>
                      <a:pt x="3923" y="4667"/>
                    </a:lnTo>
                    <a:lnTo>
                      <a:pt x="4124" y="4521"/>
                    </a:lnTo>
                    <a:lnTo>
                      <a:pt x="4312" y="4354"/>
                    </a:lnTo>
                    <a:lnTo>
                      <a:pt x="4485" y="4167"/>
                    </a:lnTo>
                    <a:lnTo>
                      <a:pt x="4641" y="3960"/>
                    </a:lnTo>
                    <a:lnTo>
                      <a:pt x="4775" y="3737"/>
                    </a:lnTo>
                    <a:lnTo>
                      <a:pt x="4885" y="3507"/>
                    </a:lnTo>
                    <a:lnTo>
                      <a:pt x="4969" y="3270"/>
                    </a:lnTo>
                    <a:lnTo>
                      <a:pt x="5029" y="3030"/>
                    </a:lnTo>
                    <a:lnTo>
                      <a:pt x="5065" y="2785"/>
                    </a:lnTo>
                    <a:lnTo>
                      <a:pt x="5076" y="2541"/>
                    </a:lnTo>
                    <a:lnTo>
                      <a:pt x="5065" y="2297"/>
                    </a:lnTo>
                    <a:lnTo>
                      <a:pt x="5031" y="2056"/>
                    </a:lnTo>
                    <a:lnTo>
                      <a:pt x="4972" y="1820"/>
                    </a:lnTo>
                    <a:lnTo>
                      <a:pt x="4892" y="1589"/>
                    </a:lnTo>
                    <a:lnTo>
                      <a:pt x="4790" y="1366"/>
                    </a:lnTo>
                    <a:lnTo>
                      <a:pt x="4666" y="1154"/>
                    </a:lnTo>
                    <a:lnTo>
                      <a:pt x="4520" y="953"/>
                    </a:lnTo>
                    <a:lnTo>
                      <a:pt x="4354" y="764"/>
                    </a:lnTo>
                    <a:lnTo>
                      <a:pt x="4167" y="591"/>
                    </a:lnTo>
                    <a:lnTo>
                      <a:pt x="3960" y="436"/>
                    </a:lnTo>
                    <a:lnTo>
                      <a:pt x="3737" y="301"/>
                    </a:lnTo>
                    <a:lnTo>
                      <a:pt x="3507" y="191"/>
                    </a:lnTo>
                    <a:lnTo>
                      <a:pt x="3270" y="107"/>
                    </a:lnTo>
                    <a:lnTo>
                      <a:pt x="3029" y="48"/>
                    </a:lnTo>
                    <a:lnTo>
                      <a:pt x="2785" y="12"/>
                    </a:lnTo>
                    <a:lnTo>
                      <a:pt x="2541" y="0"/>
                    </a:lnTo>
                    <a:lnTo>
                      <a:pt x="2297" y="12"/>
                    </a:lnTo>
                    <a:lnTo>
                      <a:pt x="2056" y="47"/>
                    </a:lnTo>
                    <a:lnTo>
                      <a:pt x="1819" y="104"/>
                    </a:lnTo>
                    <a:lnTo>
                      <a:pt x="1589" y="184"/>
                    </a:lnTo>
                    <a:lnTo>
                      <a:pt x="1366" y="286"/>
                    </a:lnTo>
                    <a:lnTo>
                      <a:pt x="1153" y="410"/>
                    </a:lnTo>
                    <a:lnTo>
                      <a:pt x="952" y="556"/>
                    </a:lnTo>
                    <a:lnTo>
                      <a:pt x="764" y="722"/>
                    </a:lnTo>
                    <a:lnTo>
                      <a:pt x="591" y="909"/>
                    </a:lnTo>
                    <a:lnTo>
                      <a:pt x="436" y="1117"/>
                    </a:lnTo>
                    <a:lnTo>
                      <a:pt x="301" y="1340"/>
                    </a:lnTo>
                    <a:lnTo>
                      <a:pt x="191" y="1569"/>
                    </a:lnTo>
                    <a:lnTo>
                      <a:pt x="107" y="1806"/>
                    </a:lnTo>
                    <a:lnTo>
                      <a:pt x="48" y="2048"/>
                    </a:lnTo>
                    <a:lnTo>
                      <a:pt x="12" y="2291"/>
                    </a:lnTo>
                    <a:lnTo>
                      <a:pt x="0" y="2536"/>
                    </a:lnTo>
                    <a:lnTo>
                      <a:pt x="12" y="2779"/>
                    </a:lnTo>
                    <a:lnTo>
                      <a:pt x="46" y="3020"/>
                    </a:lnTo>
                    <a:lnTo>
                      <a:pt x="104" y="3257"/>
                    </a:lnTo>
                    <a:lnTo>
                      <a:pt x="184" y="3488"/>
                    </a:lnTo>
                    <a:lnTo>
                      <a:pt x="286" y="3710"/>
                    </a:lnTo>
                    <a:lnTo>
                      <a:pt x="409" y="3923"/>
                    </a:lnTo>
                    <a:lnTo>
                      <a:pt x="555" y="4125"/>
                    </a:lnTo>
                    <a:lnTo>
                      <a:pt x="722" y="4313"/>
                    </a:lnTo>
                    <a:lnTo>
                      <a:pt x="909" y="4485"/>
                    </a:lnTo>
                    <a:lnTo>
                      <a:pt x="1117" y="4643"/>
                    </a:lnTo>
                    <a:close/>
                  </a:path>
                </a:pathLst>
              </a:custGeom>
              <a:solidFill>
                <a:srgbClr val="789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38920" y="223200"/>
                <a:ext cx="379800" cy="376560"/>
              </a:xfrm>
              <a:custGeom>
                <a:avLst/>
                <a:gdLst/>
                <a:ahLst/>
                <a:rect l="l" t="t" r="r" b="b"/>
                <a:pathLst>
                  <a:path w="4917" h="4917">
                    <a:moveTo>
                      <a:pt x="1082" y="4495"/>
                    </a:moveTo>
                    <a:lnTo>
                      <a:pt x="1297" y="4624"/>
                    </a:lnTo>
                    <a:lnTo>
                      <a:pt x="1520" y="4731"/>
                    </a:lnTo>
                    <a:lnTo>
                      <a:pt x="1749" y="4813"/>
                    </a:lnTo>
                    <a:lnTo>
                      <a:pt x="1983" y="4870"/>
                    </a:lnTo>
                    <a:lnTo>
                      <a:pt x="2219" y="4905"/>
                    </a:lnTo>
                    <a:lnTo>
                      <a:pt x="2456" y="4917"/>
                    </a:lnTo>
                    <a:lnTo>
                      <a:pt x="2692" y="4905"/>
                    </a:lnTo>
                    <a:lnTo>
                      <a:pt x="2926" y="4872"/>
                    </a:lnTo>
                    <a:lnTo>
                      <a:pt x="3154" y="4816"/>
                    </a:lnTo>
                    <a:lnTo>
                      <a:pt x="3377" y="4738"/>
                    </a:lnTo>
                    <a:lnTo>
                      <a:pt x="3593" y="4639"/>
                    </a:lnTo>
                    <a:lnTo>
                      <a:pt x="3800" y="4519"/>
                    </a:lnTo>
                    <a:lnTo>
                      <a:pt x="3994" y="4379"/>
                    </a:lnTo>
                    <a:lnTo>
                      <a:pt x="4176" y="4217"/>
                    </a:lnTo>
                    <a:lnTo>
                      <a:pt x="4343" y="4037"/>
                    </a:lnTo>
                    <a:lnTo>
                      <a:pt x="4495" y="3836"/>
                    </a:lnTo>
                    <a:lnTo>
                      <a:pt x="4625" y="3620"/>
                    </a:lnTo>
                    <a:lnTo>
                      <a:pt x="4731" y="3397"/>
                    </a:lnTo>
                    <a:lnTo>
                      <a:pt x="4812" y="3168"/>
                    </a:lnTo>
                    <a:lnTo>
                      <a:pt x="4870" y="2934"/>
                    </a:lnTo>
                    <a:lnTo>
                      <a:pt x="4905" y="2698"/>
                    </a:lnTo>
                    <a:lnTo>
                      <a:pt x="4917" y="2461"/>
                    </a:lnTo>
                    <a:lnTo>
                      <a:pt x="4905" y="2225"/>
                    </a:lnTo>
                    <a:lnTo>
                      <a:pt x="4871" y="1991"/>
                    </a:lnTo>
                    <a:lnTo>
                      <a:pt x="4816" y="1763"/>
                    </a:lnTo>
                    <a:lnTo>
                      <a:pt x="4738" y="1539"/>
                    </a:lnTo>
                    <a:lnTo>
                      <a:pt x="4639" y="1324"/>
                    </a:lnTo>
                    <a:lnTo>
                      <a:pt x="4519" y="1117"/>
                    </a:lnTo>
                    <a:lnTo>
                      <a:pt x="4379" y="923"/>
                    </a:lnTo>
                    <a:lnTo>
                      <a:pt x="4217" y="740"/>
                    </a:lnTo>
                    <a:lnTo>
                      <a:pt x="4037" y="573"/>
                    </a:lnTo>
                    <a:lnTo>
                      <a:pt x="3836" y="422"/>
                    </a:lnTo>
                    <a:lnTo>
                      <a:pt x="3620" y="291"/>
                    </a:lnTo>
                    <a:lnTo>
                      <a:pt x="3397" y="186"/>
                    </a:lnTo>
                    <a:lnTo>
                      <a:pt x="3168" y="104"/>
                    </a:lnTo>
                    <a:lnTo>
                      <a:pt x="2934" y="47"/>
                    </a:lnTo>
                    <a:lnTo>
                      <a:pt x="2698" y="12"/>
                    </a:lnTo>
                    <a:lnTo>
                      <a:pt x="2461" y="0"/>
                    </a:lnTo>
                    <a:lnTo>
                      <a:pt x="2225" y="12"/>
                    </a:lnTo>
                    <a:lnTo>
                      <a:pt x="1991" y="46"/>
                    </a:lnTo>
                    <a:lnTo>
                      <a:pt x="1763" y="101"/>
                    </a:lnTo>
                    <a:lnTo>
                      <a:pt x="1539" y="179"/>
                    </a:lnTo>
                    <a:lnTo>
                      <a:pt x="1324" y="277"/>
                    </a:lnTo>
                    <a:lnTo>
                      <a:pt x="1117" y="398"/>
                    </a:lnTo>
                    <a:lnTo>
                      <a:pt x="923" y="538"/>
                    </a:lnTo>
                    <a:lnTo>
                      <a:pt x="740" y="700"/>
                    </a:lnTo>
                    <a:lnTo>
                      <a:pt x="573" y="880"/>
                    </a:lnTo>
                    <a:lnTo>
                      <a:pt x="422" y="1082"/>
                    </a:lnTo>
                    <a:lnTo>
                      <a:pt x="291" y="1297"/>
                    </a:lnTo>
                    <a:lnTo>
                      <a:pt x="186" y="1520"/>
                    </a:lnTo>
                    <a:lnTo>
                      <a:pt x="104" y="1749"/>
                    </a:lnTo>
                    <a:lnTo>
                      <a:pt x="47" y="1983"/>
                    </a:lnTo>
                    <a:lnTo>
                      <a:pt x="12" y="2219"/>
                    </a:lnTo>
                    <a:lnTo>
                      <a:pt x="0" y="2456"/>
                    </a:lnTo>
                    <a:lnTo>
                      <a:pt x="12" y="2692"/>
                    </a:lnTo>
                    <a:lnTo>
                      <a:pt x="46" y="2926"/>
                    </a:lnTo>
                    <a:lnTo>
                      <a:pt x="101" y="3154"/>
                    </a:lnTo>
                    <a:lnTo>
                      <a:pt x="179" y="3377"/>
                    </a:lnTo>
                    <a:lnTo>
                      <a:pt x="277" y="3593"/>
                    </a:lnTo>
                    <a:lnTo>
                      <a:pt x="398" y="3799"/>
                    </a:lnTo>
                    <a:lnTo>
                      <a:pt x="538" y="3994"/>
                    </a:lnTo>
                    <a:lnTo>
                      <a:pt x="700" y="4176"/>
                    </a:lnTo>
                    <a:lnTo>
                      <a:pt x="880" y="4343"/>
                    </a:lnTo>
                    <a:lnTo>
                      <a:pt x="1082" y="4495"/>
                    </a:lnTo>
                    <a:close/>
                  </a:path>
                </a:pathLst>
              </a:custGeom>
              <a:solidFill>
                <a:srgbClr val="7b9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8280" y="226080"/>
                <a:ext cx="367920" cy="363600"/>
              </a:xfrm>
              <a:custGeom>
                <a:avLst/>
                <a:gdLst/>
                <a:ahLst/>
                <a:rect l="l" t="t" r="r" b="b"/>
                <a:pathLst>
                  <a:path w="4755" h="4755">
                    <a:moveTo>
                      <a:pt x="1046" y="4347"/>
                    </a:moveTo>
                    <a:lnTo>
                      <a:pt x="1255" y="4472"/>
                    </a:lnTo>
                    <a:lnTo>
                      <a:pt x="1470" y="4574"/>
                    </a:lnTo>
                    <a:lnTo>
                      <a:pt x="1692" y="4654"/>
                    </a:lnTo>
                    <a:lnTo>
                      <a:pt x="1918" y="4710"/>
                    </a:lnTo>
                    <a:lnTo>
                      <a:pt x="2146" y="4743"/>
                    </a:lnTo>
                    <a:lnTo>
                      <a:pt x="2375" y="4755"/>
                    </a:lnTo>
                    <a:lnTo>
                      <a:pt x="2604" y="4744"/>
                    </a:lnTo>
                    <a:lnTo>
                      <a:pt x="2829" y="4712"/>
                    </a:lnTo>
                    <a:lnTo>
                      <a:pt x="3051" y="4657"/>
                    </a:lnTo>
                    <a:lnTo>
                      <a:pt x="3267" y="4583"/>
                    </a:lnTo>
                    <a:lnTo>
                      <a:pt x="3475" y="4487"/>
                    </a:lnTo>
                    <a:lnTo>
                      <a:pt x="3675" y="4371"/>
                    </a:lnTo>
                    <a:lnTo>
                      <a:pt x="3864" y="4234"/>
                    </a:lnTo>
                    <a:lnTo>
                      <a:pt x="4040" y="4079"/>
                    </a:lnTo>
                    <a:lnTo>
                      <a:pt x="4202" y="3904"/>
                    </a:lnTo>
                    <a:lnTo>
                      <a:pt x="4348" y="3709"/>
                    </a:lnTo>
                    <a:lnTo>
                      <a:pt x="4474" y="3501"/>
                    </a:lnTo>
                    <a:lnTo>
                      <a:pt x="4576" y="3285"/>
                    </a:lnTo>
                    <a:lnTo>
                      <a:pt x="4654" y="3063"/>
                    </a:lnTo>
                    <a:lnTo>
                      <a:pt x="4711" y="2837"/>
                    </a:lnTo>
                    <a:lnTo>
                      <a:pt x="4745" y="2609"/>
                    </a:lnTo>
                    <a:lnTo>
                      <a:pt x="4755" y="2380"/>
                    </a:lnTo>
                    <a:lnTo>
                      <a:pt x="4745" y="2152"/>
                    </a:lnTo>
                    <a:lnTo>
                      <a:pt x="4712" y="1926"/>
                    </a:lnTo>
                    <a:lnTo>
                      <a:pt x="4659" y="1704"/>
                    </a:lnTo>
                    <a:lnTo>
                      <a:pt x="4583" y="1488"/>
                    </a:lnTo>
                    <a:lnTo>
                      <a:pt x="4488" y="1280"/>
                    </a:lnTo>
                    <a:lnTo>
                      <a:pt x="4372" y="1080"/>
                    </a:lnTo>
                    <a:lnTo>
                      <a:pt x="4236" y="892"/>
                    </a:lnTo>
                    <a:lnTo>
                      <a:pt x="4079" y="715"/>
                    </a:lnTo>
                    <a:lnTo>
                      <a:pt x="3904" y="554"/>
                    </a:lnTo>
                    <a:lnTo>
                      <a:pt x="3710" y="408"/>
                    </a:lnTo>
                    <a:lnTo>
                      <a:pt x="3501" y="282"/>
                    </a:lnTo>
                    <a:lnTo>
                      <a:pt x="3285" y="180"/>
                    </a:lnTo>
                    <a:lnTo>
                      <a:pt x="3064" y="100"/>
                    </a:lnTo>
                    <a:lnTo>
                      <a:pt x="2839" y="44"/>
                    </a:lnTo>
                    <a:lnTo>
                      <a:pt x="2610" y="11"/>
                    </a:lnTo>
                    <a:lnTo>
                      <a:pt x="2380" y="0"/>
                    </a:lnTo>
                    <a:lnTo>
                      <a:pt x="2152" y="11"/>
                    </a:lnTo>
                    <a:lnTo>
                      <a:pt x="1927" y="42"/>
                    </a:lnTo>
                    <a:lnTo>
                      <a:pt x="1704" y="97"/>
                    </a:lnTo>
                    <a:lnTo>
                      <a:pt x="1489" y="172"/>
                    </a:lnTo>
                    <a:lnTo>
                      <a:pt x="1280" y="268"/>
                    </a:lnTo>
                    <a:lnTo>
                      <a:pt x="1081" y="384"/>
                    </a:lnTo>
                    <a:lnTo>
                      <a:pt x="892" y="520"/>
                    </a:lnTo>
                    <a:lnTo>
                      <a:pt x="717" y="676"/>
                    </a:lnTo>
                    <a:lnTo>
                      <a:pt x="554" y="851"/>
                    </a:lnTo>
                    <a:lnTo>
                      <a:pt x="408" y="1046"/>
                    </a:lnTo>
                    <a:lnTo>
                      <a:pt x="282" y="1253"/>
                    </a:lnTo>
                    <a:lnTo>
                      <a:pt x="180" y="1469"/>
                    </a:lnTo>
                    <a:lnTo>
                      <a:pt x="101" y="1691"/>
                    </a:lnTo>
                    <a:lnTo>
                      <a:pt x="45" y="1917"/>
                    </a:lnTo>
                    <a:lnTo>
                      <a:pt x="12" y="2145"/>
                    </a:lnTo>
                    <a:lnTo>
                      <a:pt x="0" y="2374"/>
                    </a:lnTo>
                    <a:lnTo>
                      <a:pt x="11" y="2602"/>
                    </a:lnTo>
                    <a:lnTo>
                      <a:pt x="44" y="2829"/>
                    </a:lnTo>
                    <a:lnTo>
                      <a:pt x="98" y="3050"/>
                    </a:lnTo>
                    <a:lnTo>
                      <a:pt x="172" y="3266"/>
                    </a:lnTo>
                    <a:lnTo>
                      <a:pt x="268" y="3474"/>
                    </a:lnTo>
                    <a:lnTo>
                      <a:pt x="384" y="3674"/>
                    </a:lnTo>
                    <a:lnTo>
                      <a:pt x="520" y="3862"/>
                    </a:lnTo>
                    <a:lnTo>
                      <a:pt x="676" y="4039"/>
                    </a:lnTo>
                    <a:lnTo>
                      <a:pt x="852" y="4200"/>
                    </a:lnTo>
                    <a:lnTo>
                      <a:pt x="1046" y="4347"/>
                    </a:lnTo>
                    <a:close/>
                  </a:path>
                </a:pathLst>
              </a:custGeom>
              <a:solidFill>
                <a:srgbClr val="7e9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57280" y="228960"/>
                <a:ext cx="356040" cy="351720"/>
              </a:xfrm>
              <a:custGeom>
                <a:avLst/>
                <a:gdLst/>
                <a:ahLst/>
                <a:rect l="l" t="t" r="r" b="b"/>
                <a:pathLst>
                  <a:path w="4595" h="4594">
                    <a:moveTo>
                      <a:pt x="1012" y="4201"/>
                    </a:moveTo>
                    <a:lnTo>
                      <a:pt x="1213" y="4322"/>
                    </a:lnTo>
                    <a:lnTo>
                      <a:pt x="1422" y="4421"/>
                    </a:lnTo>
                    <a:lnTo>
                      <a:pt x="1635" y="4498"/>
                    </a:lnTo>
                    <a:lnTo>
                      <a:pt x="1853" y="4552"/>
                    </a:lnTo>
                    <a:lnTo>
                      <a:pt x="2075" y="4584"/>
                    </a:lnTo>
                    <a:lnTo>
                      <a:pt x="2296" y="4594"/>
                    </a:lnTo>
                    <a:lnTo>
                      <a:pt x="2516" y="4584"/>
                    </a:lnTo>
                    <a:lnTo>
                      <a:pt x="2735" y="4553"/>
                    </a:lnTo>
                    <a:lnTo>
                      <a:pt x="2948" y="4500"/>
                    </a:lnTo>
                    <a:lnTo>
                      <a:pt x="3157" y="4428"/>
                    </a:lnTo>
                    <a:lnTo>
                      <a:pt x="3359" y="4335"/>
                    </a:lnTo>
                    <a:lnTo>
                      <a:pt x="3551" y="4223"/>
                    </a:lnTo>
                    <a:lnTo>
                      <a:pt x="3733" y="4092"/>
                    </a:lnTo>
                    <a:lnTo>
                      <a:pt x="3903" y="3941"/>
                    </a:lnTo>
                    <a:lnTo>
                      <a:pt x="4060" y="3772"/>
                    </a:lnTo>
                    <a:lnTo>
                      <a:pt x="4202" y="3585"/>
                    </a:lnTo>
                    <a:lnTo>
                      <a:pt x="4323" y="3383"/>
                    </a:lnTo>
                    <a:lnTo>
                      <a:pt x="4422" y="3174"/>
                    </a:lnTo>
                    <a:lnTo>
                      <a:pt x="4498" y="2961"/>
                    </a:lnTo>
                    <a:lnTo>
                      <a:pt x="4553" y="2742"/>
                    </a:lnTo>
                    <a:lnTo>
                      <a:pt x="4585" y="2521"/>
                    </a:lnTo>
                    <a:lnTo>
                      <a:pt x="4595" y="2299"/>
                    </a:lnTo>
                    <a:lnTo>
                      <a:pt x="4585" y="2079"/>
                    </a:lnTo>
                    <a:lnTo>
                      <a:pt x="4554" y="1861"/>
                    </a:lnTo>
                    <a:lnTo>
                      <a:pt x="4501" y="1647"/>
                    </a:lnTo>
                    <a:lnTo>
                      <a:pt x="4428" y="1438"/>
                    </a:lnTo>
                    <a:lnTo>
                      <a:pt x="4336" y="1236"/>
                    </a:lnTo>
                    <a:lnTo>
                      <a:pt x="4224" y="1044"/>
                    </a:lnTo>
                    <a:lnTo>
                      <a:pt x="4092" y="862"/>
                    </a:lnTo>
                    <a:lnTo>
                      <a:pt x="3941" y="692"/>
                    </a:lnTo>
                    <a:lnTo>
                      <a:pt x="3772" y="535"/>
                    </a:lnTo>
                    <a:lnTo>
                      <a:pt x="3585" y="394"/>
                    </a:lnTo>
                    <a:lnTo>
                      <a:pt x="3383" y="272"/>
                    </a:lnTo>
                    <a:lnTo>
                      <a:pt x="3175" y="173"/>
                    </a:lnTo>
                    <a:lnTo>
                      <a:pt x="2961" y="97"/>
                    </a:lnTo>
                    <a:lnTo>
                      <a:pt x="2742" y="42"/>
                    </a:lnTo>
                    <a:lnTo>
                      <a:pt x="2522" y="10"/>
                    </a:lnTo>
                    <a:lnTo>
                      <a:pt x="2301" y="0"/>
                    </a:lnTo>
                    <a:lnTo>
                      <a:pt x="2080" y="10"/>
                    </a:lnTo>
                    <a:lnTo>
                      <a:pt x="1862" y="41"/>
                    </a:lnTo>
                    <a:lnTo>
                      <a:pt x="1648" y="93"/>
                    </a:lnTo>
                    <a:lnTo>
                      <a:pt x="1439" y="166"/>
                    </a:lnTo>
                    <a:lnTo>
                      <a:pt x="1238" y="258"/>
                    </a:lnTo>
                    <a:lnTo>
                      <a:pt x="1045" y="371"/>
                    </a:lnTo>
                    <a:lnTo>
                      <a:pt x="863" y="502"/>
                    </a:lnTo>
                    <a:lnTo>
                      <a:pt x="692" y="653"/>
                    </a:lnTo>
                    <a:lnTo>
                      <a:pt x="536" y="823"/>
                    </a:lnTo>
                    <a:lnTo>
                      <a:pt x="395" y="1011"/>
                    </a:lnTo>
                    <a:lnTo>
                      <a:pt x="273" y="1212"/>
                    </a:lnTo>
                    <a:lnTo>
                      <a:pt x="174" y="1420"/>
                    </a:lnTo>
                    <a:lnTo>
                      <a:pt x="97" y="1634"/>
                    </a:lnTo>
                    <a:lnTo>
                      <a:pt x="43" y="1853"/>
                    </a:lnTo>
                    <a:lnTo>
                      <a:pt x="11" y="2073"/>
                    </a:lnTo>
                    <a:lnTo>
                      <a:pt x="0" y="2295"/>
                    </a:lnTo>
                    <a:lnTo>
                      <a:pt x="11" y="2515"/>
                    </a:lnTo>
                    <a:lnTo>
                      <a:pt x="43" y="2733"/>
                    </a:lnTo>
                    <a:lnTo>
                      <a:pt x="95" y="2948"/>
                    </a:lnTo>
                    <a:lnTo>
                      <a:pt x="167" y="3156"/>
                    </a:lnTo>
                    <a:lnTo>
                      <a:pt x="260" y="3358"/>
                    </a:lnTo>
                    <a:lnTo>
                      <a:pt x="372" y="3551"/>
                    </a:lnTo>
                    <a:lnTo>
                      <a:pt x="503" y="3732"/>
                    </a:lnTo>
                    <a:lnTo>
                      <a:pt x="654" y="3902"/>
                    </a:lnTo>
                    <a:lnTo>
                      <a:pt x="824" y="4060"/>
                    </a:lnTo>
                    <a:lnTo>
                      <a:pt x="1012" y="4201"/>
                    </a:lnTo>
                    <a:close/>
                  </a:path>
                </a:pathLst>
              </a:custGeom>
              <a:solidFill>
                <a:srgbClr val="80a2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6640" y="230760"/>
                <a:ext cx="342720" cy="339480"/>
              </a:xfrm>
              <a:custGeom>
                <a:avLst/>
                <a:gdLst/>
                <a:ahLst/>
                <a:rect l="l" t="t" r="r" b="b"/>
                <a:pathLst>
                  <a:path w="4434" h="4435">
                    <a:moveTo>
                      <a:pt x="975" y="4055"/>
                    </a:moveTo>
                    <a:lnTo>
                      <a:pt x="1169" y="4172"/>
                    </a:lnTo>
                    <a:lnTo>
                      <a:pt x="1370" y="4267"/>
                    </a:lnTo>
                    <a:lnTo>
                      <a:pt x="1577" y="4341"/>
                    </a:lnTo>
                    <a:lnTo>
                      <a:pt x="1788" y="4393"/>
                    </a:lnTo>
                    <a:lnTo>
                      <a:pt x="2000" y="4424"/>
                    </a:lnTo>
                    <a:lnTo>
                      <a:pt x="2214" y="4435"/>
                    </a:lnTo>
                    <a:lnTo>
                      <a:pt x="2427" y="4424"/>
                    </a:lnTo>
                    <a:lnTo>
                      <a:pt x="2637" y="4394"/>
                    </a:lnTo>
                    <a:lnTo>
                      <a:pt x="2844" y="4343"/>
                    </a:lnTo>
                    <a:lnTo>
                      <a:pt x="3045" y="4274"/>
                    </a:lnTo>
                    <a:lnTo>
                      <a:pt x="3240" y="4185"/>
                    </a:lnTo>
                    <a:lnTo>
                      <a:pt x="3426" y="4077"/>
                    </a:lnTo>
                    <a:lnTo>
                      <a:pt x="3601" y="3950"/>
                    </a:lnTo>
                    <a:lnTo>
                      <a:pt x="3765" y="3804"/>
                    </a:lnTo>
                    <a:lnTo>
                      <a:pt x="3916" y="3641"/>
                    </a:lnTo>
                    <a:lnTo>
                      <a:pt x="4053" y="3460"/>
                    </a:lnTo>
                    <a:lnTo>
                      <a:pt x="4170" y="3265"/>
                    </a:lnTo>
                    <a:lnTo>
                      <a:pt x="4266" y="3065"/>
                    </a:lnTo>
                    <a:lnTo>
                      <a:pt x="4339" y="2857"/>
                    </a:lnTo>
                    <a:lnTo>
                      <a:pt x="4391" y="2647"/>
                    </a:lnTo>
                    <a:lnTo>
                      <a:pt x="4423" y="2434"/>
                    </a:lnTo>
                    <a:lnTo>
                      <a:pt x="4434" y="2220"/>
                    </a:lnTo>
                    <a:lnTo>
                      <a:pt x="4423" y="2008"/>
                    </a:lnTo>
                    <a:lnTo>
                      <a:pt x="4393" y="1797"/>
                    </a:lnTo>
                    <a:lnTo>
                      <a:pt x="4342" y="1590"/>
                    </a:lnTo>
                    <a:lnTo>
                      <a:pt x="4272" y="1389"/>
                    </a:lnTo>
                    <a:lnTo>
                      <a:pt x="4183" y="1195"/>
                    </a:lnTo>
                    <a:lnTo>
                      <a:pt x="4076" y="1009"/>
                    </a:lnTo>
                    <a:lnTo>
                      <a:pt x="3948" y="833"/>
                    </a:lnTo>
                    <a:lnTo>
                      <a:pt x="3802" y="668"/>
                    </a:lnTo>
                    <a:lnTo>
                      <a:pt x="3639" y="517"/>
                    </a:lnTo>
                    <a:lnTo>
                      <a:pt x="3458" y="381"/>
                    </a:lnTo>
                    <a:lnTo>
                      <a:pt x="3263" y="263"/>
                    </a:lnTo>
                    <a:lnTo>
                      <a:pt x="3062" y="168"/>
                    </a:lnTo>
                    <a:lnTo>
                      <a:pt x="2855" y="94"/>
                    </a:lnTo>
                    <a:lnTo>
                      <a:pt x="2645" y="42"/>
                    </a:lnTo>
                    <a:lnTo>
                      <a:pt x="2432" y="10"/>
                    </a:lnTo>
                    <a:lnTo>
                      <a:pt x="2218" y="0"/>
                    </a:lnTo>
                    <a:lnTo>
                      <a:pt x="2006" y="10"/>
                    </a:lnTo>
                    <a:lnTo>
                      <a:pt x="1795" y="41"/>
                    </a:lnTo>
                    <a:lnTo>
                      <a:pt x="1589" y="91"/>
                    </a:lnTo>
                    <a:lnTo>
                      <a:pt x="1387" y="161"/>
                    </a:lnTo>
                    <a:lnTo>
                      <a:pt x="1193" y="251"/>
                    </a:lnTo>
                    <a:lnTo>
                      <a:pt x="1007" y="358"/>
                    </a:lnTo>
                    <a:lnTo>
                      <a:pt x="831" y="486"/>
                    </a:lnTo>
                    <a:lnTo>
                      <a:pt x="667" y="631"/>
                    </a:lnTo>
                    <a:lnTo>
                      <a:pt x="516" y="795"/>
                    </a:lnTo>
                    <a:lnTo>
                      <a:pt x="380" y="977"/>
                    </a:lnTo>
                    <a:lnTo>
                      <a:pt x="262" y="1170"/>
                    </a:lnTo>
                    <a:lnTo>
                      <a:pt x="166" y="1371"/>
                    </a:lnTo>
                    <a:lnTo>
                      <a:pt x="93" y="1578"/>
                    </a:lnTo>
                    <a:lnTo>
                      <a:pt x="41" y="1789"/>
                    </a:lnTo>
                    <a:lnTo>
                      <a:pt x="9" y="2001"/>
                    </a:lnTo>
                    <a:lnTo>
                      <a:pt x="0" y="2215"/>
                    </a:lnTo>
                    <a:lnTo>
                      <a:pt x="9" y="2428"/>
                    </a:lnTo>
                    <a:lnTo>
                      <a:pt x="40" y="2638"/>
                    </a:lnTo>
                    <a:lnTo>
                      <a:pt x="90" y="2846"/>
                    </a:lnTo>
                    <a:lnTo>
                      <a:pt x="160" y="3046"/>
                    </a:lnTo>
                    <a:lnTo>
                      <a:pt x="249" y="3241"/>
                    </a:lnTo>
                    <a:lnTo>
                      <a:pt x="358" y="3427"/>
                    </a:lnTo>
                    <a:lnTo>
                      <a:pt x="484" y="3602"/>
                    </a:lnTo>
                    <a:lnTo>
                      <a:pt x="630" y="3767"/>
                    </a:lnTo>
                    <a:lnTo>
                      <a:pt x="794" y="3918"/>
                    </a:lnTo>
                    <a:lnTo>
                      <a:pt x="975" y="4055"/>
                    </a:lnTo>
                    <a:close/>
                  </a:path>
                </a:pathLst>
              </a:custGeom>
              <a:solidFill>
                <a:srgbClr val="83a5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76000" y="233640"/>
                <a:ext cx="330840" cy="326880"/>
              </a:xfrm>
              <a:custGeom>
                <a:avLst/>
                <a:gdLst/>
                <a:ahLst/>
                <a:rect l="l" t="t" r="r" b="b"/>
                <a:pathLst>
                  <a:path w="4272" h="4273">
                    <a:moveTo>
                      <a:pt x="941" y="3908"/>
                    </a:moveTo>
                    <a:lnTo>
                      <a:pt x="1128" y="4020"/>
                    </a:lnTo>
                    <a:lnTo>
                      <a:pt x="1321" y="4112"/>
                    </a:lnTo>
                    <a:lnTo>
                      <a:pt x="1520" y="4183"/>
                    </a:lnTo>
                    <a:lnTo>
                      <a:pt x="1723" y="4233"/>
                    </a:lnTo>
                    <a:lnTo>
                      <a:pt x="1928" y="4264"/>
                    </a:lnTo>
                    <a:lnTo>
                      <a:pt x="2134" y="4273"/>
                    </a:lnTo>
                    <a:lnTo>
                      <a:pt x="2340" y="4264"/>
                    </a:lnTo>
                    <a:lnTo>
                      <a:pt x="2543" y="4234"/>
                    </a:lnTo>
                    <a:lnTo>
                      <a:pt x="2742" y="4185"/>
                    </a:lnTo>
                    <a:lnTo>
                      <a:pt x="2935" y="4118"/>
                    </a:lnTo>
                    <a:lnTo>
                      <a:pt x="3123" y="4032"/>
                    </a:lnTo>
                    <a:lnTo>
                      <a:pt x="3302" y="3928"/>
                    </a:lnTo>
                    <a:lnTo>
                      <a:pt x="3471" y="3805"/>
                    </a:lnTo>
                    <a:lnTo>
                      <a:pt x="3629" y="3665"/>
                    </a:lnTo>
                    <a:lnTo>
                      <a:pt x="3775" y="3508"/>
                    </a:lnTo>
                    <a:lnTo>
                      <a:pt x="3907" y="3333"/>
                    </a:lnTo>
                    <a:lnTo>
                      <a:pt x="4019" y="3145"/>
                    </a:lnTo>
                    <a:lnTo>
                      <a:pt x="4111" y="2952"/>
                    </a:lnTo>
                    <a:lnTo>
                      <a:pt x="4182" y="2753"/>
                    </a:lnTo>
                    <a:lnTo>
                      <a:pt x="4232" y="2550"/>
                    </a:lnTo>
                    <a:lnTo>
                      <a:pt x="4263" y="2345"/>
                    </a:lnTo>
                    <a:lnTo>
                      <a:pt x="4272" y="2139"/>
                    </a:lnTo>
                    <a:lnTo>
                      <a:pt x="4263" y="1933"/>
                    </a:lnTo>
                    <a:lnTo>
                      <a:pt x="4233" y="1730"/>
                    </a:lnTo>
                    <a:lnTo>
                      <a:pt x="4185" y="1530"/>
                    </a:lnTo>
                    <a:lnTo>
                      <a:pt x="4117" y="1337"/>
                    </a:lnTo>
                    <a:lnTo>
                      <a:pt x="4031" y="1150"/>
                    </a:lnTo>
                    <a:lnTo>
                      <a:pt x="3927" y="970"/>
                    </a:lnTo>
                    <a:lnTo>
                      <a:pt x="3805" y="801"/>
                    </a:lnTo>
                    <a:lnTo>
                      <a:pt x="3664" y="643"/>
                    </a:lnTo>
                    <a:lnTo>
                      <a:pt x="3507" y="497"/>
                    </a:lnTo>
                    <a:lnTo>
                      <a:pt x="3333" y="366"/>
                    </a:lnTo>
                    <a:lnTo>
                      <a:pt x="3146" y="253"/>
                    </a:lnTo>
                    <a:lnTo>
                      <a:pt x="2951" y="161"/>
                    </a:lnTo>
                    <a:lnTo>
                      <a:pt x="2752" y="90"/>
                    </a:lnTo>
                    <a:lnTo>
                      <a:pt x="2549" y="40"/>
                    </a:lnTo>
                    <a:lnTo>
                      <a:pt x="2344" y="9"/>
                    </a:lnTo>
                    <a:lnTo>
                      <a:pt x="2139" y="0"/>
                    </a:lnTo>
                    <a:lnTo>
                      <a:pt x="1934" y="9"/>
                    </a:lnTo>
                    <a:lnTo>
                      <a:pt x="1731" y="39"/>
                    </a:lnTo>
                    <a:lnTo>
                      <a:pt x="1532" y="88"/>
                    </a:lnTo>
                    <a:lnTo>
                      <a:pt x="1337" y="155"/>
                    </a:lnTo>
                    <a:lnTo>
                      <a:pt x="1150" y="241"/>
                    </a:lnTo>
                    <a:lnTo>
                      <a:pt x="971" y="345"/>
                    </a:lnTo>
                    <a:lnTo>
                      <a:pt x="801" y="467"/>
                    </a:lnTo>
                    <a:lnTo>
                      <a:pt x="643" y="608"/>
                    </a:lnTo>
                    <a:lnTo>
                      <a:pt x="497" y="765"/>
                    </a:lnTo>
                    <a:lnTo>
                      <a:pt x="367" y="940"/>
                    </a:lnTo>
                    <a:lnTo>
                      <a:pt x="253" y="1127"/>
                    </a:lnTo>
                    <a:lnTo>
                      <a:pt x="161" y="1321"/>
                    </a:lnTo>
                    <a:lnTo>
                      <a:pt x="90" y="1520"/>
                    </a:lnTo>
                    <a:lnTo>
                      <a:pt x="40" y="1723"/>
                    </a:lnTo>
                    <a:lnTo>
                      <a:pt x="9" y="1928"/>
                    </a:lnTo>
                    <a:lnTo>
                      <a:pt x="0" y="2133"/>
                    </a:lnTo>
                    <a:lnTo>
                      <a:pt x="9" y="2338"/>
                    </a:lnTo>
                    <a:lnTo>
                      <a:pt x="39" y="2541"/>
                    </a:lnTo>
                    <a:lnTo>
                      <a:pt x="87" y="2741"/>
                    </a:lnTo>
                    <a:lnTo>
                      <a:pt x="155" y="2935"/>
                    </a:lnTo>
                    <a:lnTo>
                      <a:pt x="241" y="3123"/>
                    </a:lnTo>
                    <a:lnTo>
                      <a:pt x="345" y="3302"/>
                    </a:lnTo>
                    <a:lnTo>
                      <a:pt x="468" y="3472"/>
                    </a:lnTo>
                    <a:lnTo>
                      <a:pt x="608" y="3630"/>
                    </a:lnTo>
                    <a:lnTo>
                      <a:pt x="765" y="3776"/>
                    </a:lnTo>
                    <a:lnTo>
                      <a:pt x="941" y="3908"/>
                    </a:lnTo>
                    <a:close/>
                  </a:path>
                </a:pathLst>
              </a:custGeom>
              <a:solidFill>
                <a:srgbClr val="86a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85360" y="236160"/>
                <a:ext cx="318960" cy="313920"/>
              </a:xfrm>
              <a:custGeom>
                <a:avLst/>
                <a:gdLst/>
                <a:ahLst/>
                <a:rect l="l" t="t" r="r" b="b"/>
                <a:pathLst>
                  <a:path w="4112" h="4112">
                    <a:moveTo>
                      <a:pt x="905" y="3760"/>
                    </a:moveTo>
                    <a:lnTo>
                      <a:pt x="1084" y="3868"/>
                    </a:lnTo>
                    <a:lnTo>
                      <a:pt x="1270" y="3956"/>
                    </a:lnTo>
                    <a:lnTo>
                      <a:pt x="1463" y="4025"/>
                    </a:lnTo>
                    <a:lnTo>
                      <a:pt x="1657" y="4073"/>
                    </a:lnTo>
                    <a:lnTo>
                      <a:pt x="1855" y="4102"/>
                    </a:lnTo>
                    <a:lnTo>
                      <a:pt x="2054" y="4112"/>
                    </a:lnTo>
                    <a:lnTo>
                      <a:pt x="2251" y="4103"/>
                    </a:lnTo>
                    <a:lnTo>
                      <a:pt x="2446" y="4074"/>
                    </a:lnTo>
                    <a:lnTo>
                      <a:pt x="2639" y="4028"/>
                    </a:lnTo>
                    <a:lnTo>
                      <a:pt x="2825" y="3963"/>
                    </a:lnTo>
                    <a:lnTo>
                      <a:pt x="3005" y="3880"/>
                    </a:lnTo>
                    <a:lnTo>
                      <a:pt x="3178" y="3780"/>
                    </a:lnTo>
                    <a:lnTo>
                      <a:pt x="3340" y="3662"/>
                    </a:lnTo>
                    <a:lnTo>
                      <a:pt x="3493" y="3527"/>
                    </a:lnTo>
                    <a:lnTo>
                      <a:pt x="3634" y="3376"/>
                    </a:lnTo>
                    <a:lnTo>
                      <a:pt x="3760" y="3208"/>
                    </a:lnTo>
                    <a:lnTo>
                      <a:pt x="3869" y="3027"/>
                    </a:lnTo>
                    <a:lnTo>
                      <a:pt x="3957" y="2841"/>
                    </a:lnTo>
                    <a:lnTo>
                      <a:pt x="4025" y="2649"/>
                    </a:lnTo>
                    <a:lnTo>
                      <a:pt x="4074" y="2454"/>
                    </a:lnTo>
                    <a:lnTo>
                      <a:pt x="4103" y="2256"/>
                    </a:lnTo>
                    <a:lnTo>
                      <a:pt x="4112" y="2058"/>
                    </a:lnTo>
                    <a:lnTo>
                      <a:pt x="4104" y="1861"/>
                    </a:lnTo>
                    <a:lnTo>
                      <a:pt x="4075" y="1665"/>
                    </a:lnTo>
                    <a:lnTo>
                      <a:pt x="4028" y="1473"/>
                    </a:lnTo>
                    <a:lnTo>
                      <a:pt x="3963" y="1287"/>
                    </a:lnTo>
                    <a:lnTo>
                      <a:pt x="3880" y="1106"/>
                    </a:lnTo>
                    <a:lnTo>
                      <a:pt x="3780" y="934"/>
                    </a:lnTo>
                    <a:lnTo>
                      <a:pt x="3662" y="771"/>
                    </a:lnTo>
                    <a:lnTo>
                      <a:pt x="3527" y="618"/>
                    </a:lnTo>
                    <a:lnTo>
                      <a:pt x="3375" y="478"/>
                    </a:lnTo>
                    <a:lnTo>
                      <a:pt x="3207" y="352"/>
                    </a:lnTo>
                    <a:lnTo>
                      <a:pt x="3027" y="243"/>
                    </a:lnTo>
                    <a:lnTo>
                      <a:pt x="2841" y="155"/>
                    </a:lnTo>
                    <a:lnTo>
                      <a:pt x="2648" y="87"/>
                    </a:lnTo>
                    <a:lnTo>
                      <a:pt x="2454" y="38"/>
                    </a:lnTo>
                    <a:lnTo>
                      <a:pt x="2256" y="9"/>
                    </a:lnTo>
                    <a:lnTo>
                      <a:pt x="2058" y="0"/>
                    </a:lnTo>
                    <a:lnTo>
                      <a:pt x="1860" y="9"/>
                    </a:lnTo>
                    <a:lnTo>
                      <a:pt x="1665" y="37"/>
                    </a:lnTo>
                    <a:lnTo>
                      <a:pt x="1473" y="84"/>
                    </a:lnTo>
                    <a:lnTo>
                      <a:pt x="1286" y="148"/>
                    </a:lnTo>
                    <a:lnTo>
                      <a:pt x="1107" y="231"/>
                    </a:lnTo>
                    <a:lnTo>
                      <a:pt x="934" y="332"/>
                    </a:lnTo>
                    <a:lnTo>
                      <a:pt x="772" y="450"/>
                    </a:lnTo>
                    <a:lnTo>
                      <a:pt x="619" y="585"/>
                    </a:lnTo>
                    <a:lnTo>
                      <a:pt x="478" y="736"/>
                    </a:lnTo>
                    <a:lnTo>
                      <a:pt x="353" y="905"/>
                    </a:lnTo>
                    <a:lnTo>
                      <a:pt x="243" y="1085"/>
                    </a:lnTo>
                    <a:lnTo>
                      <a:pt x="155" y="1271"/>
                    </a:lnTo>
                    <a:lnTo>
                      <a:pt x="86" y="1463"/>
                    </a:lnTo>
                    <a:lnTo>
                      <a:pt x="38" y="1658"/>
                    </a:lnTo>
                    <a:lnTo>
                      <a:pt x="10" y="1856"/>
                    </a:lnTo>
                    <a:lnTo>
                      <a:pt x="0" y="2053"/>
                    </a:lnTo>
                    <a:lnTo>
                      <a:pt x="8" y="2251"/>
                    </a:lnTo>
                    <a:lnTo>
                      <a:pt x="37" y="2447"/>
                    </a:lnTo>
                    <a:lnTo>
                      <a:pt x="84" y="2638"/>
                    </a:lnTo>
                    <a:lnTo>
                      <a:pt x="149" y="2825"/>
                    </a:lnTo>
                    <a:lnTo>
                      <a:pt x="232" y="3005"/>
                    </a:lnTo>
                    <a:lnTo>
                      <a:pt x="332" y="3177"/>
                    </a:lnTo>
                    <a:lnTo>
                      <a:pt x="450" y="3340"/>
                    </a:lnTo>
                    <a:lnTo>
                      <a:pt x="585" y="3493"/>
                    </a:lnTo>
                    <a:lnTo>
                      <a:pt x="736" y="3633"/>
                    </a:lnTo>
                    <a:lnTo>
                      <a:pt x="905" y="3760"/>
                    </a:lnTo>
                    <a:close/>
                  </a:path>
                </a:pathLst>
              </a:custGeom>
              <a:solidFill>
                <a:srgbClr val="89a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94360" y="237960"/>
                <a:ext cx="305640" cy="302760"/>
              </a:xfrm>
              <a:custGeom>
                <a:avLst/>
                <a:gdLst/>
                <a:ahLst/>
                <a:rect l="l" t="t" r="r" b="b"/>
                <a:pathLst>
                  <a:path w="3952" h="3953">
                    <a:moveTo>
                      <a:pt x="870" y="3614"/>
                    </a:moveTo>
                    <a:lnTo>
                      <a:pt x="1042" y="3718"/>
                    </a:lnTo>
                    <a:lnTo>
                      <a:pt x="1222" y="3803"/>
                    </a:lnTo>
                    <a:lnTo>
                      <a:pt x="1406" y="3869"/>
                    </a:lnTo>
                    <a:lnTo>
                      <a:pt x="1594" y="3916"/>
                    </a:lnTo>
                    <a:lnTo>
                      <a:pt x="1783" y="3943"/>
                    </a:lnTo>
                    <a:lnTo>
                      <a:pt x="1973" y="3953"/>
                    </a:lnTo>
                    <a:lnTo>
                      <a:pt x="2163" y="3943"/>
                    </a:lnTo>
                    <a:lnTo>
                      <a:pt x="2351" y="3917"/>
                    </a:lnTo>
                    <a:lnTo>
                      <a:pt x="2535" y="3872"/>
                    </a:lnTo>
                    <a:lnTo>
                      <a:pt x="2714" y="3809"/>
                    </a:lnTo>
                    <a:lnTo>
                      <a:pt x="2888" y="3730"/>
                    </a:lnTo>
                    <a:lnTo>
                      <a:pt x="3053" y="3633"/>
                    </a:lnTo>
                    <a:lnTo>
                      <a:pt x="3210" y="3520"/>
                    </a:lnTo>
                    <a:lnTo>
                      <a:pt x="3356" y="3391"/>
                    </a:lnTo>
                    <a:lnTo>
                      <a:pt x="3490" y="3245"/>
                    </a:lnTo>
                    <a:lnTo>
                      <a:pt x="3613" y="3083"/>
                    </a:lnTo>
                    <a:lnTo>
                      <a:pt x="3717" y="2910"/>
                    </a:lnTo>
                    <a:lnTo>
                      <a:pt x="3802" y="2730"/>
                    </a:lnTo>
                    <a:lnTo>
                      <a:pt x="3868" y="2547"/>
                    </a:lnTo>
                    <a:lnTo>
                      <a:pt x="3915" y="2358"/>
                    </a:lnTo>
                    <a:lnTo>
                      <a:pt x="3942" y="2169"/>
                    </a:lnTo>
                    <a:lnTo>
                      <a:pt x="3952" y="1979"/>
                    </a:lnTo>
                    <a:lnTo>
                      <a:pt x="3942" y="1789"/>
                    </a:lnTo>
                    <a:lnTo>
                      <a:pt x="3916" y="1601"/>
                    </a:lnTo>
                    <a:lnTo>
                      <a:pt x="3871" y="1418"/>
                    </a:lnTo>
                    <a:lnTo>
                      <a:pt x="3808" y="1238"/>
                    </a:lnTo>
                    <a:lnTo>
                      <a:pt x="3728" y="1065"/>
                    </a:lnTo>
                    <a:lnTo>
                      <a:pt x="3632" y="899"/>
                    </a:lnTo>
                    <a:lnTo>
                      <a:pt x="3519" y="741"/>
                    </a:lnTo>
                    <a:lnTo>
                      <a:pt x="3389" y="596"/>
                    </a:lnTo>
                    <a:lnTo>
                      <a:pt x="3244" y="461"/>
                    </a:lnTo>
                    <a:lnTo>
                      <a:pt x="3082" y="340"/>
                    </a:lnTo>
                    <a:lnTo>
                      <a:pt x="2909" y="234"/>
                    </a:lnTo>
                    <a:lnTo>
                      <a:pt x="2729" y="149"/>
                    </a:lnTo>
                    <a:lnTo>
                      <a:pt x="2545" y="84"/>
                    </a:lnTo>
                    <a:lnTo>
                      <a:pt x="2357" y="38"/>
                    </a:lnTo>
                    <a:lnTo>
                      <a:pt x="2168" y="10"/>
                    </a:lnTo>
                    <a:lnTo>
                      <a:pt x="1978" y="0"/>
                    </a:lnTo>
                    <a:lnTo>
                      <a:pt x="1787" y="10"/>
                    </a:lnTo>
                    <a:lnTo>
                      <a:pt x="1600" y="37"/>
                    </a:lnTo>
                    <a:lnTo>
                      <a:pt x="1415" y="82"/>
                    </a:lnTo>
                    <a:lnTo>
                      <a:pt x="1237" y="144"/>
                    </a:lnTo>
                    <a:lnTo>
                      <a:pt x="1063" y="224"/>
                    </a:lnTo>
                    <a:lnTo>
                      <a:pt x="897" y="320"/>
                    </a:lnTo>
                    <a:lnTo>
                      <a:pt x="741" y="433"/>
                    </a:lnTo>
                    <a:lnTo>
                      <a:pt x="594" y="563"/>
                    </a:lnTo>
                    <a:lnTo>
                      <a:pt x="460" y="708"/>
                    </a:lnTo>
                    <a:lnTo>
                      <a:pt x="339" y="870"/>
                    </a:lnTo>
                    <a:lnTo>
                      <a:pt x="234" y="1042"/>
                    </a:lnTo>
                    <a:lnTo>
                      <a:pt x="149" y="1222"/>
                    </a:lnTo>
                    <a:lnTo>
                      <a:pt x="83" y="1406"/>
                    </a:lnTo>
                    <a:lnTo>
                      <a:pt x="36" y="1594"/>
                    </a:lnTo>
                    <a:lnTo>
                      <a:pt x="9" y="1783"/>
                    </a:lnTo>
                    <a:lnTo>
                      <a:pt x="0" y="1975"/>
                    </a:lnTo>
                    <a:lnTo>
                      <a:pt x="9" y="2164"/>
                    </a:lnTo>
                    <a:lnTo>
                      <a:pt x="36" y="2352"/>
                    </a:lnTo>
                    <a:lnTo>
                      <a:pt x="81" y="2536"/>
                    </a:lnTo>
                    <a:lnTo>
                      <a:pt x="143" y="2716"/>
                    </a:lnTo>
                    <a:lnTo>
                      <a:pt x="222" y="2888"/>
                    </a:lnTo>
                    <a:lnTo>
                      <a:pt x="319" y="3054"/>
                    </a:lnTo>
                    <a:lnTo>
                      <a:pt x="433" y="3211"/>
                    </a:lnTo>
                    <a:lnTo>
                      <a:pt x="561" y="3357"/>
                    </a:lnTo>
                    <a:lnTo>
                      <a:pt x="708" y="3492"/>
                    </a:lnTo>
                    <a:lnTo>
                      <a:pt x="870" y="3614"/>
                    </a:lnTo>
                    <a:close/>
                  </a:path>
                </a:pathLst>
              </a:custGeom>
              <a:solidFill>
                <a:srgbClr val="8ca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3720" y="240840"/>
                <a:ext cx="293760" cy="290160"/>
              </a:xfrm>
              <a:custGeom>
                <a:avLst/>
                <a:gdLst/>
                <a:ahLst/>
                <a:rect l="l" t="t" r="r" b="b"/>
                <a:pathLst>
                  <a:path w="3791" h="3792">
                    <a:moveTo>
                      <a:pt x="835" y="3467"/>
                    </a:moveTo>
                    <a:lnTo>
                      <a:pt x="1001" y="3567"/>
                    </a:lnTo>
                    <a:lnTo>
                      <a:pt x="1173" y="3649"/>
                    </a:lnTo>
                    <a:lnTo>
                      <a:pt x="1349" y="3712"/>
                    </a:lnTo>
                    <a:lnTo>
                      <a:pt x="1529" y="3756"/>
                    </a:lnTo>
                    <a:lnTo>
                      <a:pt x="1711" y="3784"/>
                    </a:lnTo>
                    <a:lnTo>
                      <a:pt x="1894" y="3792"/>
                    </a:lnTo>
                    <a:lnTo>
                      <a:pt x="2075" y="3784"/>
                    </a:lnTo>
                    <a:lnTo>
                      <a:pt x="2256" y="3758"/>
                    </a:lnTo>
                    <a:lnTo>
                      <a:pt x="2433" y="3715"/>
                    </a:lnTo>
                    <a:lnTo>
                      <a:pt x="2605" y="3655"/>
                    </a:lnTo>
                    <a:lnTo>
                      <a:pt x="2771" y="3579"/>
                    </a:lnTo>
                    <a:lnTo>
                      <a:pt x="2930" y="3486"/>
                    </a:lnTo>
                    <a:lnTo>
                      <a:pt x="3080" y="3378"/>
                    </a:lnTo>
                    <a:lnTo>
                      <a:pt x="3220" y="3253"/>
                    </a:lnTo>
                    <a:lnTo>
                      <a:pt x="3350" y="3113"/>
                    </a:lnTo>
                    <a:lnTo>
                      <a:pt x="3467" y="2959"/>
                    </a:lnTo>
                    <a:lnTo>
                      <a:pt x="3567" y="2792"/>
                    </a:lnTo>
                    <a:lnTo>
                      <a:pt x="3649" y="2620"/>
                    </a:lnTo>
                    <a:lnTo>
                      <a:pt x="3712" y="2443"/>
                    </a:lnTo>
                    <a:lnTo>
                      <a:pt x="3756" y="2264"/>
                    </a:lnTo>
                    <a:lnTo>
                      <a:pt x="3783" y="2082"/>
                    </a:lnTo>
                    <a:lnTo>
                      <a:pt x="3791" y="1899"/>
                    </a:lnTo>
                    <a:lnTo>
                      <a:pt x="3783" y="1717"/>
                    </a:lnTo>
                    <a:lnTo>
                      <a:pt x="3757" y="1536"/>
                    </a:lnTo>
                    <a:lnTo>
                      <a:pt x="3714" y="1360"/>
                    </a:lnTo>
                    <a:lnTo>
                      <a:pt x="3654" y="1188"/>
                    </a:lnTo>
                    <a:lnTo>
                      <a:pt x="3578" y="1022"/>
                    </a:lnTo>
                    <a:lnTo>
                      <a:pt x="3485" y="862"/>
                    </a:lnTo>
                    <a:lnTo>
                      <a:pt x="3377" y="713"/>
                    </a:lnTo>
                    <a:lnTo>
                      <a:pt x="3252" y="572"/>
                    </a:lnTo>
                    <a:lnTo>
                      <a:pt x="3112" y="443"/>
                    </a:lnTo>
                    <a:lnTo>
                      <a:pt x="2958" y="327"/>
                    </a:lnTo>
                    <a:lnTo>
                      <a:pt x="2791" y="226"/>
                    </a:lnTo>
                    <a:lnTo>
                      <a:pt x="2619" y="144"/>
                    </a:lnTo>
                    <a:lnTo>
                      <a:pt x="2442" y="81"/>
                    </a:lnTo>
                    <a:lnTo>
                      <a:pt x="2263" y="36"/>
                    </a:lnTo>
                    <a:lnTo>
                      <a:pt x="2081" y="10"/>
                    </a:lnTo>
                    <a:lnTo>
                      <a:pt x="1898" y="0"/>
                    </a:lnTo>
                    <a:lnTo>
                      <a:pt x="1716" y="9"/>
                    </a:lnTo>
                    <a:lnTo>
                      <a:pt x="1536" y="35"/>
                    </a:lnTo>
                    <a:lnTo>
                      <a:pt x="1359" y="78"/>
                    </a:lnTo>
                    <a:lnTo>
                      <a:pt x="1187" y="139"/>
                    </a:lnTo>
                    <a:lnTo>
                      <a:pt x="1021" y="214"/>
                    </a:lnTo>
                    <a:lnTo>
                      <a:pt x="862" y="306"/>
                    </a:lnTo>
                    <a:lnTo>
                      <a:pt x="712" y="415"/>
                    </a:lnTo>
                    <a:lnTo>
                      <a:pt x="571" y="539"/>
                    </a:lnTo>
                    <a:lnTo>
                      <a:pt x="441" y="680"/>
                    </a:lnTo>
                    <a:lnTo>
                      <a:pt x="326" y="835"/>
                    </a:lnTo>
                    <a:lnTo>
                      <a:pt x="225" y="1001"/>
                    </a:lnTo>
                    <a:lnTo>
                      <a:pt x="143" y="1173"/>
                    </a:lnTo>
                    <a:lnTo>
                      <a:pt x="80" y="1349"/>
                    </a:lnTo>
                    <a:lnTo>
                      <a:pt x="35" y="1530"/>
                    </a:lnTo>
                    <a:lnTo>
                      <a:pt x="9" y="1712"/>
                    </a:lnTo>
                    <a:lnTo>
                      <a:pt x="0" y="1895"/>
                    </a:lnTo>
                    <a:lnTo>
                      <a:pt x="9" y="2077"/>
                    </a:lnTo>
                    <a:lnTo>
                      <a:pt x="35" y="2256"/>
                    </a:lnTo>
                    <a:lnTo>
                      <a:pt x="78" y="2433"/>
                    </a:lnTo>
                    <a:lnTo>
                      <a:pt x="138" y="2605"/>
                    </a:lnTo>
                    <a:lnTo>
                      <a:pt x="214" y="2772"/>
                    </a:lnTo>
                    <a:lnTo>
                      <a:pt x="306" y="2930"/>
                    </a:lnTo>
                    <a:lnTo>
                      <a:pt x="415" y="3080"/>
                    </a:lnTo>
                    <a:lnTo>
                      <a:pt x="539" y="3220"/>
                    </a:lnTo>
                    <a:lnTo>
                      <a:pt x="680" y="3350"/>
                    </a:lnTo>
                    <a:lnTo>
                      <a:pt x="835" y="3467"/>
                    </a:lnTo>
                    <a:close/>
                  </a:path>
                </a:pathLst>
              </a:custGeom>
              <a:solidFill>
                <a:srgbClr val="8e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3080" y="243360"/>
                <a:ext cx="281520" cy="277200"/>
              </a:xfrm>
              <a:custGeom>
                <a:avLst/>
                <a:gdLst/>
                <a:ahLst/>
                <a:rect l="l" t="t" r="r" b="b"/>
                <a:pathLst>
                  <a:path w="3631" h="3632">
                    <a:moveTo>
                      <a:pt x="799" y="3320"/>
                    </a:moveTo>
                    <a:lnTo>
                      <a:pt x="957" y="3416"/>
                    </a:lnTo>
                    <a:lnTo>
                      <a:pt x="1122" y="3495"/>
                    </a:lnTo>
                    <a:lnTo>
                      <a:pt x="1292" y="3555"/>
                    </a:lnTo>
                    <a:lnTo>
                      <a:pt x="1464" y="3598"/>
                    </a:lnTo>
                    <a:lnTo>
                      <a:pt x="1639" y="3623"/>
                    </a:lnTo>
                    <a:lnTo>
                      <a:pt x="1813" y="3632"/>
                    </a:lnTo>
                    <a:lnTo>
                      <a:pt x="1987" y="3623"/>
                    </a:lnTo>
                    <a:lnTo>
                      <a:pt x="2161" y="3599"/>
                    </a:lnTo>
                    <a:lnTo>
                      <a:pt x="2330" y="3557"/>
                    </a:lnTo>
                    <a:lnTo>
                      <a:pt x="2495" y="3500"/>
                    </a:lnTo>
                    <a:lnTo>
                      <a:pt x="2654" y="3427"/>
                    </a:lnTo>
                    <a:lnTo>
                      <a:pt x="2806" y="3338"/>
                    </a:lnTo>
                    <a:lnTo>
                      <a:pt x="2951" y="3234"/>
                    </a:lnTo>
                    <a:lnTo>
                      <a:pt x="3085" y="3115"/>
                    </a:lnTo>
                    <a:lnTo>
                      <a:pt x="3208" y="2981"/>
                    </a:lnTo>
                    <a:lnTo>
                      <a:pt x="3321" y="2833"/>
                    </a:lnTo>
                    <a:lnTo>
                      <a:pt x="3416" y="2674"/>
                    </a:lnTo>
                    <a:lnTo>
                      <a:pt x="3494" y="2509"/>
                    </a:lnTo>
                    <a:lnTo>
                      <a:pt x="3554" y="2340"/>
                    </a:lnTo>
                    <a:lnTo>
                      <a:pt x="3597" y="2167"/>
                    </a:lnTo>
                    <a:lnTo>
                      <a:pt x="3623" y="1992"/>
                    </a:lnTo>
                    <a:lnTo>
                      <a:pt x="3631" y="1818"/>
                    </a:lnTo>
                    <a:lnTo>
                      <a:pt x="3623" y="1644"/>
                    </a:lnTo>
                    <a:lnTo>
                      <a:pt x="3598" y="1472"/>
                    </a:lnTo>
                    <a:lnTo>
                      <a:pt x="3557" y="1302"/>
                    </a:lnTo>
                    <a:lnTo>
                      <a:pt x="3499" y="1138"/>
                    </a:lnTo>
                    <a:lnTo>
                      <a:pt x="3426" y="978"/>
                    </a:lnTo>
                    <a:lnTo>
                      <a:pt x="3338" y="826"/>
                    </a:lnTo>
                    <a:lnTo>
                      <a:pt x="3233" y="682"/>
                    </a:lnTo>
                    <a:lnTo>
                      <a:pt x="3114" y="548"/>
                    </a:lnTo>
                    <a:lnTo>
                      <a:pt x="2980" y="424"/>
                    </a:lnTo>
                    <a:lnTo>
                      <a:pt x="2833" y="313"/>
                    </a:lnTo>
                    <a:lnTo>
                      <a:pt x="2673" y="216"/>
                    </a:lnTo>
                    <a:lnTo>
                      <a:pt x="2508" y="138"/>
                    </a:lnTo>
                    <a:lnTo>
                      <a:pt x="2339" y="78"/>
                    </a:lnTo>
                    <a:lnTo>
                      <a:pt x="2167" y="34"/>
                    </a:lnTo>
                    <a:lnTo>
                      <a:pt x="1993" y="9"/>
                    </a:lnTo>
                    <a:lnTo>
                      <a:pt x="1818" y="0"/>
                    </a:lnTo>
                    <a:lnTo>
                      <a:pt x="1644" y="9"/>
                    </a:lnTo>
                    <a:lnTo>
                      <a:pt x="1472" y="34"/>
                    </a:lnTo>
                    <a:lnTo>
                      <a:pt x="1302" y="75"/>
                    </a:lnTo>
                    <a:lnTo>
                      <a:pt x="1137" y="132"/>
                    </a:lnTo>
                    <a:lnTo>
                      <a:pt x="979" y="205"/>
                    </a:lnTo>
                    <a:lnTo>
                      <a:pt x="827" y="294"/>
                    </a:lnTo>
                    <a:lnTo>
                      <a:pt x="682" y="398"/>
                    </a:lnTo>
                    <a:lnTo>
                      <a:pt x="548" y="517"/>
                    </a:lnTo>
                    <a:lnTo>
                      <a:pt x="425" y="651"/>
                    </a:lnTo>
                    <a:lnTo>
                      <a:pt x="313" y="800"/>
                    </a:lnTo>
                    <a:lnTo>
                      <a:pt x="216" y="958"/>
                    </a:lnTo>
                    <a:lnTo>
                      <a:pt x="139" y="1123"/>
                    </a:lnTo>
                    <a:lnTo>
                      <a:pt x="78" y="1292"/>
                    </a:lnTo>
                    <a:lnTo>
                      <a:pt x="34" y="1465"/>
                    </a:lnTo>
                    <a:lnTo>
                      <a:pt x="9" y="1639"/>
                    </a:lnTo>
                    <a:lnTo>
                      <a:pt x="0" y="1814"/>
                    </a:lnTo>
                    <a:lnTo>
                      <a:pt x="9" y="1988"/>
                    </a:lnTo>
                    <a:lnTo>
                      <a:pt x="34" y="2160"/>
                    </a:lnTo>
                    <a:lnTo>
                      <a:pt x="75" y="2329"/>
                    </a:lnTo>
                    <a:lnTo>
                      <a:pt x="132" y="2494"/>
                    </a:lnTo>
                    <a:lnTo>
                      <a:pt x="206" y="2654"/>
                    </a:lnTo>
                    <a:lnTo>
                      <a:pt x="294" y="2806"/>
                    </a:lnTo>
                    <a:lnTo>
                      <a:pt x="397" y="2950"/>
                    </a:lnTo>
                    <a:lnTo>
                      <a:pt x="516" y="3084"/>
                    </a:lnTo>
                    <a:lnTo>
                      <a:pt x="650" y="3208"/>
                    </a:lnTo>
                    <a:lnTo>
                      <a:pt x="799" y="3320"/>
                    </a:lnTo>
                    <a:close/>
                  </a:path>
                </a:pathLst>
              </a:custGeom>
              <a:solidFill>
                <a:srgbClr val="91b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22440" y="245520"/>
                <a:ext cx="269640" cy="266040"/>
              </a:xfrm>
              <a:custGeom>
                <a:avLst/>
                <a:gdLst/>
                <a:ahLst/>
                <a:rect l="l" t="t" r="r" b="b"/>
                <a:pathLst>
                  <a:path w="3470" h="3471">
                    <a:moveTo>
                      <a:pt x="764" y="3174"/>
                    </a:moveTo>
                    <a:lnTo>
                      <a:pt x="915" y="3266"/>
                    </a:lnTo>
                    <a:lnTo>
                      <a:pt x="1072" y="3340"/>
                    </a:lnTo>
                    <a:lnTo>
                      <a:pt x="1234" y="3398"/>
                    </a:lnTo>
                    <a:lnTo>
                      <a:pt x="1399" y="3438"/>
                    </a:lnTo>
                    <a:lnTo>
                      <a:pt x="1566" y="3463"/>
                    </a:lnTo>
                    <a:lnTo>
                      <a:pt x="1733" y="3471"/>
                    </a:lnTo>
                    <a:lnTo>
                      <a:pt x="1899" y="3463"/>
                    </a:lnTo>
                    <a:lnTo>
                      <a:pt x="2064" y="3439"/>
                    </a:lnTo>
                    <a:lnTo>
                      <a:pt x="2226" y="3400"/>
                    </a:lnTo>
                    <a:lnTo>
                      <a:pt x="2383" y="3345"/>
                    </a:lnTo>
                    <a:lnTo>
                      <a:pt x="2535" y="3275"/>
                    </a:lnTo>
                    <a:lnTo>
                      <a:pt x="2681" y="3190"/>
                    </a:lnTo>
                    <a:lnTo>
                      <a:pt x="2818" y="3092"/>
                    </a:lnTo>
                    <a:lnTo>
                      <a:pt x="2947" y="2977"/>
                    </a:lnTo>
                    <a:lnTo>
                      <a:pt x="3065" y="2849"/>
                    </a:lnTo>
                    <a:lnTo>
                      <a:pt x="3172" y="2708"/>
                    </a:lnTo>
                    <a:lnTo>
                      <a:pt x="3263" y="2555"/>
                    </a:lnTo>
                    <a:lnTo>
                      <a:pt x="3338" y="2397"/>
                    </a:lnTo>
                    <a:lnTo>
                      <a:pt x="3396" y="2236"/>
                    </a:lnTo>
                    <a:lnTo>
                      <a:pt x="3437" y="2071"/>
                    </a:lnTo>
                    <a:lnTo>
                      <a:pt x="3461" y="1905"/>
                    </a:lnTo>
                    <a:lnTo>
                      <a:pt x="3470" y="1737"/>
                    </a:lnTo>
                    <a:lnTo>
                      <a:pt x="3461" y="1571"/>
                    </a:lnTo>
                    <a:lnTo>
                      <a:pt x="3438" y="1407"/>
                    </a:lnTo>
                    <a:lnTo>
                      <a:pt x="3398" y="1245"/>
                    </a:lnTo>
                    <a:lnTo>
                      <a:pt x="3343" y="1087"/>
                    </a:lnTo>
                    <a:lnTo>
                      <a:pt x="3273" y="935"/>
                    </a:lnTo>
                    <a:lnTo>
                      <a:pt x="3189" y="790"/>
                    </a:lnTo>
                    <a:lnTo>
                      <a:pt x="3089" y="652"/>
                    </a:lnTo>
                    <a:lnTo>
                      <a:pt x="2975" y="523"/>
                    </a:lnTo>
                    <a:lnTo>
                      <a:pt x="2848" y="405"/>
                    </a:lnTo>
                    <a:lnTo>
                      <a:pt x="2706" y="299"/>
                    </a:lnTo>
                    <a:lnTo>
                      <a:pt x="2554" y="206"/>
                    </a:lnTo>
                    <a:lnTo>
                      <a:pt x="2397" y="132"/>
                    </a:lnTo>
                    <a:lnTo>
                      <a:pt x="2235" y="73"/>
                    </a:lnTo>
                    <a:lnTo>
                      <a:pt x="2071" y="33"/>
                    </a:lnTo>
                    <a:lnTo>
                      <a:pt x="1904" y="9"/>
                    </a:lnTo>
                    <a:lnTo>
                      <a:pt x="1737" y="0"/>
                    </a:lnTo>
                    <a:lnTo>
                      <a:pt x="1570" y="9"/>
                    </a:lnTo>
                    <a:lnTo>
                      <a:pt x="1405" y="32"/>
                    </a:lnTo>
                    <a:lnTo>
                      <a:pt x="1244" y="71"/>
                    </a:lnTo>
                    <a:lnTo>
                      <a:pt x="1086" y="127"/>
                    </a:lnTo>
                    <a:lnTo>
                      <a:pt x="934" y="197"/>
                    </a:lnTo>
                    <a:lnTo>
                      <a:pt x="788" y="281"/>
                    </a:lnTo>
                    <a:lnTo>
                      <a:pt x="651" y="381"/>
                    </a:lnTo>
                    <a:lnTo>
                      <a:pt x="523" y="494"/>
                    </a:lnTo>
                    <a:lnTo>
                      <a:pt x="405" y="622"/>
                    </a:lnTo>
                    <a:lnTo>
                      <a:pt x="298" y="764"/>
                    </a:lnTo>
                    <a:lnTo>
                      <a:pt x="206" y="916"/>
                    </a:lnTo>
                    <a:lnTo>
                      <a:pt x="131" y="1074"/>
                    </a:lnTo>
                    <a:lnTo>
                      <a:pt x="73" y="1235"/>
                    </a:lnTo>
                    <a:lnTo>
                      <a:pt x="33" y="1400"/>
                    </a:lnTo>
                    <a:lnTo>
                      <a:pt x="8" y="1567"/>
                    </a:lnTo>
                    <a:lnTo>
                      <a:pt x="0" y="1734"/>
                    </a:lnTo>
                    <a:lnTo>
                      <a:pt x="8" y="1901"/>
                    </a:lnTo>
                    <a:lnTo>
                      <a:pt x="32" y="2066"/>
                    </a:lnTo>
                    <a:lnTo>
                      <a:pt x="71" y="2227"/>
                    </a:lnTo>
                    <a:lnTo>
                      <a:pt x="125" y="2385"/>
                    </a:lnTo>
                    <a:lnTo>
                      <a:pt x="195" y="2537"/>
                    </a:lnTo>
                    <a:lnTo>
                      <a:pt x="280" y="2682"/>
                    </a:lnTo>
                    <a:lnTo>
                      <a:pt x="379" y="2820"/>
                    </a:lnTo>
                    <a:lnTo>
                      <a:pt x="493" y="2949"/>
                    </a:lnTo>
                    <a:lnTo>
                      <a:pt x="622" y="3067"/>
                    </a:lnTo>
                    <a:lnTo>
                      <a:pt x="764" y="3174"/>
                    </a:lnTo>
                    <a:close/>
                  </a:path>
                </a:pathLst>
              </a:custGeom>
              <a:solidFill>
                <a:srgbClr val="94b9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1800" y="248040"/>
                <a:ext cx="256320" cy="253440"/>
              </a:xfrm>
              <a:custGeom>
                <a:avLst/>
                <a:gdLst/>
                <a:ahLst/>
                <a:rect l="l" t="t" r="r" b="b"/>
                <a:pathLst>
                  <a:path w="3308" h="3308">
                    <a:moveTo>
                      <a:pt x="728" y="3026"/>
                    </a:moveTo>
                    <a:lnTo>
                      <a:pt x="873" y="3113"/>
                    </a:lnTo>
                    <a:lnTo>
                      <a:pt x="1023" y="3184"/>
                    </a:lnTo>
                    <a:lnTo>
                      <a:pt x="1177" y="3239"/>
                    </a:lnTo>
                    <a:lnTo>
                      <a:pt x="1334" y="3278"/>
                    </a:lnTo>
                    <a:lnTo>
                      <a:pt x="1492" y="3301"/>
                    </a:lnTo>
                    <a:lnTo>
                      <a:pt x="1652" y="3308"/>
                    </a:lnTo>
                    <a:lnTo>
                      <a:pt x="1811" y="3301"/>
                    </a:lnTo>
                    <a:lnTo>
                      <a:pt x="1969" y="3279"/>
                    </a:lnTo>
                    <a:lnTo>
                      <a:pt x="2123" y="3241"/>
                    </a:lnTo>
                    <a:lnTo>
                      <a:pt x="2273" y="3189"/>
                    </a:lnTo>
                    <a:lnTo>
                      <a:pt x="2418" y="3122"/>
                    </a:lnTo>
                    <a:lnTo>
                      <a:pt x="2557" y="3042"/>
                    </a:lnTo>
                    <a:lnTo>
                      <a:pt x="2687" y="2947"/>
                    </a:lnTo>
                    <a:lnTo>
                      <a:pt x="2811" y="2838"/>
                    </a:lnTo>
                    <a:lnTo>
                      <a:pt x="2923" y="2717"/>
                    </a:lnTo>
                    <a:lnTo>
                      <a:pt x="3025" y="2582"/>
                    </a:lnTo>
                    <a:lnTo>
                      <a:pt x="3113" y="2437"/>
                    </a:lnTo>
                    <a:lnTo>
                      <a:pt x="3184" y="2287"/>
                    </a:lnTo>
                    <a:lnTo>
                      <a:pt x="3239" y="2132"/>
                    </a:lnTo>
                    <a:lnTo>
                      <a:pt x="3277" y="1975"/>
                    </a:lnTo>
                    <a:lnTo>
                      <a:pt x="3301" y="1816"/>
                    </a:lnTo>
                    <a:lnTo>
                      <a:pt x="3308" y="1656"/>
                    </a:lnTo>
                    <a:lnTo>
                      <a:pt x="3301" y="1497"/>
                    </a:lnTo>
                    <a:lnTo>
                      <a:pt x="3279" y="1341"/>
                    </a:lnTo>
                    <a:lnTo>
                      <a:pt x="3241" y="1185"/>
                    </a:lnTo>
                    <a:lnTo>
                      <a:pt x="3188" y="1036"/>
                    </a:lnTo>
                    <a:lnTo>
                      <a:pt x="3122" y="890"/>
                    </a:lnTo>
                    <a:lnTo>
                      <a:pt x="3041" y="752"/>
                    </a:lnTo>
                    <a:lnTo>
                      <a:pt x="2947" y="621"/>
                    </a:lnTo>
                    <a:lnTo>
                      <a:pt x="2838" y="498"/>
                    </a:lnTo>
                    <a:lnTo>
                      <a:pt x="2716" y="385"/>
                    </a:lnTo>
                    <a:lnTo>
                      <a:pt x="2581" y="284"/>
                    </a:lnTo>
                    <a:lnTo>
                      <a:pt x="2435" y="196"/>
                    </a:lnTo>
                    <a:lnTo>
                      <a:pt x="2286" y="124"/>
                    </a:lnTo>
                    <a:lnTo>
                      <a:pt x="2131" y="70"/>
                    </a:lnTo>
                    <a:lnTo>
                      <a:pt x="1974" y="31"/>
                    </a:lnTo>
                    <a:lnTo>
                      <a:pt x="1816" y="8"/>
                    </a:lnTo>
                    <a:lnTo>
                      <a:pt x="1656" y="0"/>
                    </a:lnTo>
                    <a:lnTo>
                      <a:pt x="1498" y="8"/>
                    </a:lnTo>
                    <a:lnTo>
                      <a:pt x="1340" y="31"/>
                    </a:lnTo>
                    <a:lnTo>
                      <a:pt x="1186" y="68"/>
                    </a:lnTo>
                    <a:lnTo>
                      <a:pt x="1035" y="120"/>
                    </a:lnTo>
                    <a:lnTo>
                      <a:pt x="891" y="186"/>
                    </a:lnTo>
                    <a:lnTo>
                      <a:pt x="751" y="267"/>
                    </a:lnTo>
                    <a:lnTo>
                      <a:pt x="621" y="362"/>
                    </a:lnTo>
                    <a:lnTo>
                      <a:pt x="498" y="470"/>
                    </a:lnTo>
                    <a:lnTo>
                      <a:pt x="385" y="592"/>
                    </a:lnTo>
                    <a:lnTo>
                      <a:pt x="284" y="728"/>
                    </a:lnTo>
                    <a:lnTo>
                      <a:pt x="195" y="873"/>
                    </a:lnTo>
                    <a:lnTo>
                      <a:pt x="124" y="1023"/>
                    </a:lnTo>
                    <a:lnTo>
                      <a:pt x="69" y="1177"/>
                    </a:lnTo>
                    <a:lnTo>
                      <a:pt x="31" y="1334"/>
                    </a:lnTo>
                    <a:lnTo>
                      <a:pt x="7" y="1494"/>
                    </a:lnTo>
                    <a:lnTo>
                      <a:pt x="0" y="1652"/>
                    </a:lnTo>
                    <a:lnTo>
                      <a:pt x="7" y="1812"/>
                    </a:lnTo>
                    <a:lnTo>
                      <a:pt x="30" y="1969"/>
                    </a:lnTo>
                    <a:lnTo>
                      <a:pt x="67" y="2123"/>
                    </a:lnTo>
                    <a:lnTo>
                      <a:pt x="120" y="2273"/>
                    </a:lnTo>
                    <a:lnTo>
                      <a:pt x="186" y="2418"/>
                    </a:lnTo>
                    <a:lnTo>
                      <a:pt x="267" y="2557"/>
                    </a:lnTo>
                    <a:lnTo>
                      <a:pt x="361" y="2688"/>
                    </a:lnTo>
                    <a:lnTo>
                      <a:pt x="470" y="2811"/>
                    </a:lnTo>
                    <a:lnTo>
                      <a:pt x="592" y="2924"/>
                    </a:lnTo>
                    <a:lnTo>
                      <a:pt x="728" y="3026"/>
                    </a:lnTo>
                    <a:close/>
                  </a:path>
                </a:pathLst>
              </a:custGeom>
              <a:solidFill>
                <a:srgbClr val="97b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41880" y="250920"/>
                <a:ext cx="243360" cy="240480"/>
              </a:xfrm>
              <a:custGeom>
                <a:avLst/>
                <a:gdLst/>
                <a:ahLst/>
                <a:rect l="l" t="t" r="r" b="b"/>
                <a:pathLst>
                  <a:path w="3148" h="3149">
                    <a:moveTo>
                      <a:pt x="693" y="2879"/>
                    </a:moveTo>
                    <a:lnTo>
                      <a:pt x="830" y="2962"/>
                    </a:lnTo>
                    <a:lnTo>
                      <a:pt x="973" y="3030"/>
                    </a:lnTo>
                    <a:lnTo>
                      <a:pt x="1120" y="3082"/>
                    </a:lnTo>
                    <a:lnTo>
                      <a:pt x="1269" y="3119"/>
                    </a:lnTo>
                    <a:lnTo>
                      <a:pt x="1420" y="3141"/>
                    </a:lnTo>
                    <a:lnTo>
                      <a:pt x="1572" y="3149"/>
                    </a:lnTo>
                    <a:lnTo>
                      <a:pt x="1723" y="3141"/>
                    </a:lnTo>
                    <a:lnTo>
                      <a:pt x="1873" y="3120"/>
                    </a:lnTo>
                    <a:lnTo>
                      <a:pt x="2020" y="3084"/>
                    </a:lnTo>
                    <a:lnTo>
                      <a:pt x="2162" y="3034"/>
                    </a:lnTo>
                    <a:lnTo>
                      <a:pt x="2301" y="2970"/>
                    </a:lnTo>
                    <a:lnTo>
                      <a:pt x="2432" y="2894"/>
                    </a:lnTo>
                    <a:lnTo>
                      <a:pt x="2558" y="2803"/>
                    </a:lnTo>
                    <a:lnTo>
                      <a:pt x="2674" y="2700"/>
                    </a:lnTo>
                    <a:lnTo>
                      <a:pt x="2781" y="2584"/>
                    </a:lnTo>
                    <a:lnTo>
                      <a:pt x="2879" y="2456"/>
                    </a:lnTo>
                    <a:lnTo>
                      <a:pt x="2962" y="2317"/>
                    </a:lnTo>
                    <a:lnTo>
                      <a:pt x="3029" y="2175"/>
                    </a:lnTo>
                    <a:lnTo>
                      <a:pt x="3081" y="2028"/>
                    </a:lnTo>
                    <a:lnTo>
                      <a:pt x="3118" y="1878"/>
                    </a:lnTo>
                    <a:lnTo>
                      <a:pt x="3141" y="1727"/>
                    </a:lnTo>
                    <a:lnTo>
                      <a:pt x="3148" y="1575"/>
                    </a:lnTo>
                    <a:lnTo>
                      <a:pt x="3141" y="1424"/>
                    </a:lnTo>
                    <a:lnTo>
                      <a:pt x="3119" y="1275"/>
                    </a:lnTo>
                    <a:lnTo>
                      <a:pt x="3083" y="1128"/>
                    </a:lnTo>
                    <a:lnTo>
                      <a:pt x="3033" y="985"/>
                    </a:lnTo>
                    <a:lnTo>
                      <a:pt x="2970" y="847"/>
                    </a:lnTo>
                    <a:lnTo>
                      <a:pt x="2894" y="715"/>
                    </a:lnTo>
                    <a:lnTo>
                      <a:pt x="2803" y="590"/>
                    </a:lnTo>
                    <a:lnTo>
                      <a:pt x="2700" y="474"/>
                    </a:lnTo>
                    <a:lnTo>
                      <a:pt x="2584" y="367"/>
                    </a:lnTo>
                    <a:lnTo>
                      <a:pt x="2456" y="270"/>
                    </a:lnTo>
                    <a:lnTo>
                      <a:pt x="2318" y="186"/>
                    </a:lnTo>
                    <a:lnTo>
                      <a:pt x="2175" y="119"/>
                    </a:lnTo>
                    <a:lnTo>
                      <a:pt x="2028" y="67"/>
                    </a:lnTo>
                    <a:lnTo>
                      <a:pt x="1879" y="30"/>
                    </a:lnTo>
                    <a:lnTo>
                      <a:pt x="1728" y="7"/>
                    </a:lnTo>
                    <a:lnTo>
                      <a:pt x="1576" y="0"/>
                    </a:lnTo>
                    <a:lnTo>
                      <a:pt x="1425" y="7"/>
                    </a:lnTo>
                    <a:lnTo>
                      <a:pt x="1275" y="29"/>
                    </a:lnTo>
                    <a:lnTo>
                      <a:pt x="1128" y="65"/>
                    </a:lnTo>
                    <a:lnTo>
                      <a:pt x="986" y="115"/>
                    </a:lnTo>
                    <a:lnTo>
                      <a:pt x="847" y="177"/>
                    </a:lnTo>
                    <a:lnTo>
                      <a:pt x="716" y="254"/>
                    </a:lnTo>
                    <a:lnTo>
                      <a:pt x="590" y="344"/>
                    </a:lnTo>
                    <a:lnTo>
                      <a:pt x="474" y="448"/>
                    </a:lnTo>
                    <a:lnTo>
                      <a:pt x="367" y="563"/>
                    </a:lnTo>
                    <a:lnTo>
                      <a:pt x="270" y="693"/>
                    </a:lnTo>
                    <a:lnTo>
                      <a:pt x="186" y="830"/>
                    </a:lnTo>
                    <a:lnTo>
                      <a:pt x="118" y="974"/>
                    </a:lnTo>
                    <a:lnTo>
                      <a:pt x="66" y="1120"/>
                    </a:lnTo>
                    <a:lnTo>
                      <a:pt x="29" y="1269"/>
                    </a:lnTo>
                    <a:lnTo>
                      <a:pt x="7" y="1421"/>
                    </a:lnTo>
                    <a:lnTo>
                      <a:pt x="0" y="1572"/>
                    </a:lnTo>
                    <a:lnTo>
                      <a:pt x="7" y="1723"/>
                    </a:lnTo>
                    <a:lnTo>
                      <a:pt x="29" y="1873"/>
                    </a:lnTo>
                    <a:lnTo>
                      <a:pt x="65" y="2020"/>
                    </a:lnTo>
                    <a:lnTo>
                      <a:pt x="114" y="2162"/>
                    </a:lnTo>
                    <a:lnTo>
                      <a:pt x="178" y="2300"/>
                    </a:lnTo>
                    <a:lnTo>
                      <a:pt x="254" y="2432"/>
                    </a:lnTo>
                    <a:lnTo>
                      <a:pt x="345" y="2558"/>
                    </a:lnTo>
                    <a:lnTo>
                      <a:pt x="448" y="2674"/>
                    </a:lnTo>
                    <a:lnTo>
                      <a:pt x="564" y="2781"/>
                    </a:lnTo>
                    <a:lnTo>
                      <a:pt x="693" y="2879"/>
                    </a:lnTo>
                    <a:close/>
                  </a:path>
                </a:pathLst>
              </a:custGeom>
              <a:solidFill>
                <a:srgbClr val="9ac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51240" y="253800"/>
                <a:ext cx="231480" cy="228600"/>
              </a:xfrm>
              <a:custGeom>
                <a:avLst/>
                <a:gdLst/>
                <a:ahLst/>
                <a:rect l="l" t="t" r="r" b="b"/>
                <a:pathLst>
                  <a:path w="2987" h="2987">
                    <a:moveTo>
                      <a:pt x="657" y="2731"/>
                    </a:moveTo>
                    <a:lnTo>
                      <a:pt x="788" y="2810"/>
                    </a:lnTo>
                    <a:lnTo>
                      <a:pt x="923" y="2874"/>
                    </a:lnTo>
                    <a:lnTo>
                      <a:pt x="1062" y="2923"/>
                    </a:lnTo>
                    <a:lnTo>
                      <a:pt x="1205" y="2958"/>
                    </a:lnTo>
                    <a:lnTo>
                      <a:pt x="1348" y="2980"/>
                    </a:lnTo>
                    <a:lnTo>
                      <a:pt x="1492" y="2987"/>
                    </a:lnTo>
                    <a:lnTo>
                      <a:pt x="1635" y="2980"/>
                    </a:lnTo>
                    <a:lnTo>
                      <a:pt x="1777" y="2960"/>
                    </a:lnTo>
                    <a:lnTo>
                      <a:pt x="1916" y="2926"/>
                    </a:lnTo>
                    <a:lnTo>
                      <a:pt x="2052" y="2879"/>
                    </a:lnTo>
                    <a:lnTo>
                      <a:pt x="2183" y="2818"/>
                    </a:lnTo>
                    <a:lnTo>
                      <a:pt x="2308" y="2745"/>
                    </a:lnTo>
                    <a:lnTo>
                      <a:pt x="2426" y="2660"/>
                    </a:lnTo>
                    <a:lnTo>
                      <a:pt x="2537" y="2562"/>
                    </a:lnTo>
                    <a:lnTo>
                      <a:pt x="2639" y="2451"/>
                    </a:lnTo>
                    <a:lnTo>
                      <a:pt x="2731" y="2330"/>
                    </a:lnTo>
                    <a:lnTo>
                      <a:pt x="2810" y="2198"/>
                    </a:lnTo>
                    <a:lnTo>
                      <a:pt x="2874" y="2063"/>
                    </a:lnTo>
                    <a:lnTo>
                      <a:pt x="2924" y="1924"/>
                    </a:lnTo>
                    <a:lnTo>
                      <a:pt x="2959" y="1782"/>
                    </a:lnTo>
                    <a:lnTo>
                      <a:pt x="2980" y="1638"/>
                    </a:lnTo>
                    <a:lnTo>
                      <a:pt x="2987" y="1495"/>
                    </a:lnTo>
                    <a:lnTo>
                      <a:pt x="2980" y="1351"/>
                    </a:lnTo>
                    <a:lnTo>
                      <a:pt x="2960" y="1210"/>
                    </a:lnTo>
                    <a:lnTo>
                      <a:pt x="2926" y="1070"/>
                    </a:lnTo>
                    <a:lnTo>
                      <a:pt x="2879" y="934"/>
                    </a:lnTo>
                    <a:lnTo>
                      <a:pt x="2819" y="804"/>
                    </a:lnTo>
                    <a:lnTo>
                      <a:pt x="2746" y="678"/>
                    </a:lnTo>
                    <a:lnTo>
                      <a:pt x="2660" y="560"/>
                    </a:lnTo>
                    <a:lnTo>
                      <a:pt x="2562" y="450"/>
                    </a:lnTo>
                    <a:lnTo>
                      <a:pt x="2452" y="348"/>
                    </a:lnTo>
                    <a:lnTo>
                      <a:pt x="2331" y="256"/>
                    </a:lnTo>
                    <a:lnTo>
                      <a:pt x="2199" y="176"/>
                    </a:lnTo>
                    <a:lnTo>
                      <a:pt x="2064" y="113"/>
                    </a:lnTo>
                    <a:lnTo>
                      <a:pt x="1924" y="63"/>
                    </a:lnTo>
                    <a:lnTo>
                      <a:pt x="1782" y="28"/>
                    </a:lnTo>
                    <a:lnTo>
                      <a:pt x="1639" y="6"/>
                    </a:lnTo>
                    <a:lnTo>
                      <a:pt x="1495" y="0"/>
                    </a:lnTo>
                    <a:lnTo>
                      <a:pt x="1351" y="6"/>
                    </a:lnTo>
                    <a:lnTo>
                      <a:pt x="1210" y="26"/>
                    </a:lnTo>
                    <a:lnTo>
                      <a:pt x="1071" y="61"/>
                    </a:lnTo>
                    <a:lnTo>
                      <a:pt x="935" y="107"/>
                    </a:lnTo>
                    <a:lnTo>
                      <a:pt x="804" y="168"/>
                    </a:lnTo>
                    <a:lnTo>
                      <a:pt x="679" y="240"/>
                    </a:lnTo>
                    <a:lnTo>
                      <a:pt x="561" y="326"/>
                    </a:lnTo>
                    <a:lnTo>
                      <a:pt x="450" y="424"/>
                    </a:lnTo>
                    <a:lnTo>
                      <a:pt x="348" y="535"/>
                    </a:lnTo>
                    <a:lnTo>
                      <a:pt x="256" y="657"/>
                    </a:lnTo>
                    <a:lnTo>
                      <a:pt x="177" y="788"/>
                    </a:lnTo>
                    <a:lnTo>
                      <a:pt x="113" y="923"/>
                    </a:lnTo>
                    <a:lnTo>
                      <a:pt x="63" y="1062"/>
                    </a:lnTo>
                    <a:lnTo>
                      <a:pt x="28" y="1203"/>
                    </a:lnTo>
                    <a:lnTo>
                      <a:pt x="7" y="1347"/>
                    </a:lnTo>
                    <a:lnTo>
                      <a:pt x="0" y="1491"/>
                    </a:lnTo>
                    <a:lnTo>
                      <a:pt x="7" y="1635"/>
                    </a:lnTo>
                    <a:lnTo>
                      <a:pt x="28" y="1776"/>
                    </a:lnTo>
                    <a:lnTo>
                      <a:pt x="61" y="1916"/>
                    </a:lnTo>
                    <a:lnTo>
                      <a:pt x="109" y="2052"/>
                    </a:lnTo>
                    <a:lnTo>
                      <a:pt x="168" y="2182"/>
                    </a:lnTo>
                    <a:lnTo>
                      <a:pt x="242" y="2308"/>
                    </a:lnTo>
                    <a:lnTo>
                      <a:pt x="327" y="2426"/>
                    </a:lnTo>
                    <a:lnTo>
                      <a:pt x="424" y="2536"/>
                    </a:lnTo>
                    <a:lnTo>
                      <a:pt x="535" y="2638"/>
                    </a:lnTo>
                    <a:lnTo>
                      <a:pt x="657" y="2731"/>
                    </a:lnTo>
                    <a:close/>
                  </a:path>
                </a:pathLst>
              </a:custGeom>
              <a:solidFill>
                <a:srgbClr val="9dc3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60600" y="255600"/>
                <a:ext cx="218520" cy="216360"/>
              </a:xfrm>
              <a:custGeom>
                <a:avLst/>
                <a:gdLst/>
                <a:ahLst/>
                <a:rect l="l" t="t" r="r" b="b"/>
                <a:pathLst>
                  <a:path w="2826" h="2827">
                    <a:moveTo>
                      <a:pt x="622" y="2584"/>
                    </a:moveTo>
                    <a:lnTo>
                      <a:pt x="746" y="2659"/>
                    </a:lnTo>
                    <a:lnTo>
                      <a:pt x="874" y="2719"/>
                    </a:lnTo>
                    <a:lnTo>
                      <a:pt x="1005" y="2767"/>
                    </a:lnTo>
                    <a:lnTo>
                      <a:pt x="1140" y="2800"/>
                    </a:lnTo>
                    <a:lnTo>
                      <a:pt x="1275" y="2820"/>
                    </a:lnTo>
                    <a:lnTo>
                      <a:pt x="1411" y="2827"/>
                    </a:lnTo>
                    <a:lnTo>
                      <a:pt x="1547" y="2820"/>
                    </a:lnTo>
                    <a:lnTo>
                      <a:pt x="1681" y="2801"/>
                    </a:lnTo>
                    <a:lnTo>
                      <a:pt x="1813" y="2768"/>
                    </a:lnTo>
                    <a:lnTo>
                      <a:pt x="1942" y="2723"/>
                    </a:lnTo>
                    <a:lnTo>
                      <a:pt x="2066" y="2667"/>
                    </a:lnTo>
                    <a:lnTo>
                      <a:pt x="2184" y="2598"/>
                    </a:lnTo>
                    <a:lnTo>
                      <a:pt x="2297" y="2517"/>
                    </a:lnTo>
                    <a:lnTo>
                      <a:pt x="2401" y="2424"/>
                    </a:lnTo>
                    <a:lnTo>
                      <a:pt x="2498" y="2319"/>
                    </a:lnTo>
                    <a:lnTo>
                      <a:pt x="2585" y="2205"/>
                    </a:lnTo>
                    <a:lnTo>
                      <a:pt x="2659" y="2080"/>
                    </a:lnTo>
                    <a:lnTo>
                      <a:pt x="2720" y="1952"/>
                    </a:lnTo>
                    <a:lnTo>
                      <a:pt x="2767" y="1821"/>
                    </a:lnTo>
                    <a:lnTo>
                      <a:pt x="2801" y="1686"/>
                    </a:lnTo>
                    <a:lnTo>
                      <a:pt x="2820" y="1551"/>
                    </a:lnTo>
                    <a:lnTo>
                      <a:pt x="2826" y="1415"/>
                    </a:lnTo>
                    <a:lnTo>
                      <a:pt x="2820" y="1279"/>
                    </a:lnTo>
                    <a:lnTo>
                      <a:pt x="2801" y="1145"/>
                    </a:lnTo>
                    <a:lnTo>
                      <a:pt x="2769" y="1013"/>
                    </a:lnTo>
                    <a:lnTo>
                      <a:pt x="2724" y="884"/>
                    </a:lnTo>
                    <a:lnTo>
                      <a:pt x="2667" y="760"/>
                    </a:lnTo>
                    <a:lnTo>
                      <a:pt x="2599" y="642"/>
                    </a:lnTo>
                    <a:lnTo>
                      <a:pt x="2517" y="529"/>
                    </a:lnTo>
                    <a:lnTo>
                      <a:pt x="2424" y="425"/>
                    </a:lnTo>
                    <a:lnTo>
                      <a:pt x="2320" y="328"/>
                    </a:lnTo>
                    <a:lnTo>
                      <a:pt x="2205" y="242"/>
                    </a:lnTo>
                    <a:lnTo>
                      <a:pt x="2081" y="167"/>
                    </a:lnTo>
                    <a:lnTo>
                      <a:pt x="1952" y="106"/>
                    </a:lnTo>
                    <a:lnTo>
                      <a:pt x="1822" y="59"/>
                    </a:lnTo>
                    <a:lnTo>
                      <a:pt x="1687" y="25"/>
                    </a:lnTo>
                    <a:lnTo>
                      <a:pt x="1552" y="6"/>
                    </a:lnTo>
                    <a:lnTo>
                      <a:pt x="1415" y="0"/>
                    </a:lnTo>
                    <a:lnTo>
                      <a:pt x="1279" y="6"/>
                    </a:lnTo>
                    <a:lnTo>
                      <a:pt x="1145" y="25"/>
                    </a:lnTo>
                    <a:lnTo>
                      <a:pt x="1014" y="57"/>
                    </a:lnTo>
                    <a:lnTo>
                      <a:pt x="885" y="102"/>
                    </a:lnTo>
                    <a:lnTo>
                      <a:pt x="761" y="159"/>
                    </a:lnTo>
                    <a:lnTo>
                      <a:pt x="643" y="227"/>
                    </a:lnTo>
                    <a:lnTo>
                      <a:pt x="530" y="309"/>
                    </a:lnTo>
                    <a:lnTo>
                      <a:pt x="426" y="402"/>
                    </a:lnTo>
                    <a:lnTo>
                      <a:pt x="329" y="506"/>
                    </a:lnTo>
                    <a:lnTo>
                      <a:pt x="243" y="622"/>
                    </a:lnTo>
                    <a:lnTo>
                      <a:pt x="167" y="745"/>
                    </a:lnTo>
                    <a:lnTo>
                      <a:pt x="107" y="874"/>
                    </a:lnTo>
                    <a:lnTo>
                      <a:pt x="60" y="1004"/>
                    </a:lnTo>
                    <a:lnTo>
                      <a:pt x="26" y="1139"/>
                    </a:lnTo>
                    <a:lnTo>
                      <a:pt x="7" y="1274"/>
                    </a:lnTo>
                    <a:lnTo>
                      <a:pt x="0" y="1411"/>
                    </a:lnTo>
                    <a:lnTo>
                      <a:pt x="7" y="1547"/>
                    </a:lnTo>
                    <a:lnTo>
                      <a:pt x="26" y="1681"/>
                    </a:lnTo>
                    <a:lnTo>
                      <a:pt x="58" y="1812"/>
                    </a:lnTo>
                    <a:lnTo>
                      <a:pt x="103" y="1941"/>
                    </a:lnTo>
                    <a:lnTo>
                      <a:pt x="160" y="2065"/>
                    </a:lnTo>
                    <a:lnTo>
                      <a:pt x="228" y="2183"/>
                    </a:lnTo>
                    <a:lnTo>
                      <a:pt x="310" y="2296"/>
                    </a:lnTo>
                    <a:lnTo>
                      <a:pt x="402" y="2400"/>
                    </a:lnTo>
                    <a:lnTo>
                      <a:pt x="506" y="2497"/>
                    </a:lnTo>
                    <a:lnTo>
                      <a:pt x="622" y="2584"/>
                    </a:lnTo>
                    <a:close/>
                  </a:path>
                </a:pathLst>
              </a:custGeom>
              <a:solidFill>
                <a:srgbClr val="a0c7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69600" y="258120"/>
                <a:ext cx="206280" cy="203760"/>
              </a:xfrm>
              <a:custGeom>
                <a:avLst/>
                <a:gdLst/>
                <a:ahLst/>
                <a:rect l="l" t="t" r="r" b="b"/>
                <a:pathLst>
                  <a:path w="2666" h="2665">
                    <a:moveTo>
                      <a:pt x="586" y="2437"/>
                    </a:moveTo>
                    <a:lnTo>
                      <a:pt x="702" y="2507"/>
                    </a:lnTo>
                    <a:lnTo>
                      <a:pt x="823" y="2565"/>
                    </a:lnTo>
                    <a:lnTo>
                      <a:pt x="948" y="2608"/>
                    </a:lnTo>
                    <a:lnTo>
                      <a:pt x="1074" y="2640"/>
                    </a:lnTo>
                    <a:lnTo>
                      <a:pt x="1203" y="2658"/>
                    </a:lnTo>
                    <a:lnTo>
                      <a:pt x="1332" y="2665"/>
                    </a:lnTo>
                    <a:lnTo>
                      <a:pt x="1459" y="2660"/>
                    </a:lnTo>
                    <a:lnTo>
                      <a:pt x="1586" y="2640"/>
                    </a:lnTo>
                    <a:lnTo>
                      <a:pt x="1710" y="2611"/>
                    </a:lnTo>
                    <a:lnTo>
                      <a:pt x="1831" y="2568"/>
                    </a:lnTo>
                    <a:lnTo>
                      <a:pt x="1948" y="2515"/>
                    </a:lnTo>
                    <a:lnTo>
                      <a:pt x="2060" y="2450"/>
                    </a:lnTo>
                    <a:lnTo>
                      <a:pt x="2166" y="2374"/>
                    </a:lnTo>
                    <a:lnTo>
                      <a:pt x="2265" y="2286"/>
                    </a:lnTo>
                    <a:lnTo>
                      <a:pt x="2355" y="2188"/>
                    </a:lnTo>
                    <a:lnTo>
                      <a:pt x="2438" y="2079"/>
                    </a:lnTo>
                    <a:lnTo>
                      <a:pt x="2509" y="1962"/>
                    </a:lnTo>
                    <a:lnTo>
                      <a:pt x="2566" y="1841"/>
                    </a:lnTo>
                    <a:lnTo>
                      <a:pt x="2610" y="1717"/>
                    </a:lnTo>
                    <a:lnTo>
                      <a:pt x="2641" y="1590"/>
                    </a:lnTo>
                    <a:lnTo>
                      <a:pt x="2659" y="1462"/>
                    </a:lnTo>
                    <a:lnTo>
                      <a:pt x="2666" y="1334"/>
                    </a:lnTo>
                    <a:lnTo>
                      <a:pt x="2659" y="1206"/>
                    </a:lnTo>
                    <a:lnTo>
                      <a:pt x="2641" y="1080"/>
                    </a:lnTo>
                    <a:lnTo>
                      <a:pt x="2612" y="955"/>
                    </a:lnTo>
                    <a:lnTo>
                      <a:pt x="2569" y="834"/>
                    </a:lnTo>
                    <a:lnTo>
                      <a:pt x="2516" y="717"/>
                    </a:lnTo>
                    <a:lnTo>
                      <a:pt x="2450" y="606"/>
                    </a:lnTo>
                    <a:lnTo>
                      <a:pt x="2375" y="500"/>
                    </a:lnTo>
                    <a:lnTo>
                      <a:pt x="2286" y="402"/>
                    </a:lnTo>
                    <a:lnTo>
                      <a:pt x="2189" y="311"/>
                    </a:lnTo>
                    <a:lnTo>
                      <a:pt x="2080" y="229"/>
                    </a:lnTo>
                    <a:lnTo>
                      <a:pt x="1963" y="158"/>
                    </a:lnTo>
                    <a:lnTo>
                      <a:pt x="1842" y="101"/>
                    </a:lnTo>
                    <a:lnTo>
                      <a:pt x="1718" y="56"/>
                    </a:lnTo>
                    <a:lnTo>
                      <a:pt x="1591" y="25"/>
                    </a:lnTo>
                    <a:lnTo>
                      <a:pt x="1462" y="6"/>
                    </a:lnTo>
                    <a:lnTo>
                      <a:pt x="1334" y="0"/>
                    </a:lnTo>
                    <a:lnTo>
                      <a:pt x="1206" y="6"/>
                    </a:lnTo>
                    <a:lnTo>
                      <a:pt x="1080" y="24"/>
                    </a:lnTo>
                    <a:lnTo>
                      <a:pt x="955" y="54"/>
                    </a:lnTo>
                    <a:lnTo>
                      <a:pt x="834" y="96"/>
                    </a:lnTo>
                    <a:lnTo>
                      <a:pt x="717" y="150"/>
                    </a:lnTo>
                    <a:lnTo>
                      <a:pt x="606" y="214"/>
                    </a:lnTo>
                    <a:lnTo>
                      <a:pt x="500" y="291"/>
                    </a:lnTo>
                    <a:lnTo>
                      <a:pt x="401" y="378"/>
                    </a:lnTo>
                    <a:lnTo>
                      <a:pt x="311" y="477"/>
                    </a:lnTo>
                    <a:lnTo>
                      <a:pt x="229" y="587"/>
                    </a:lnTo>
                    <a:lnTo>
                      <a:pt x="158" y="702"/>
                    </a:lnTo>
                    <a:lnTo>
                      <a:pt x="101" y="824"/>
                    </a:lnTo>
                    <a:lnTo>
                      <a:pt x="56" y="948"/>
                    </a:lnTo>
                    <a:lnTo>
                      <a:pt x="25" y="1074"/>
                    </a:lnTo>
                    <a:lnTo>
                      <a:pt x="6" y="1202"/>
                    </a:lnTo>
                    <a:lnTo>
                      <a:pt x="0" y="1331"/>
                    </a:lnTo>
                    <a:lnTo>
                      <a:pt x="6" y="1458"/>
                    </a:lnTo>
                    <a:lnTo>
                      <a:pt x="24" y="1585"/>
                    </a:lnTo>
                    <a:lnTo>
                      <a:pt x="55" y="1709"/>
                    </a:lnTo>
                    <a:lnTo>
                      <a:pt x="96" y="1830"/>
                    </a:lnTo>
                    <a:lnTo>
                      <a:pt x="151" y="1947"/>
                    </a:lnTo>
                    <a:lnTo>
                      <a:pt x="215" y="2059"/>
                    </a:lnTo>
                    <a:lnTo>
                      <a:pt x="291" y="2165"/>
                    </a:lnTo>
                    <a:lnTo>
                      <a:pt x="379" y="2264"/>
                    </a:lnTo>
                    <a:lnTo>
                      <a:pt x="477" y="2354"/>
                    </a:lnTo>
                    <a:lnTo>
                      <a:pt x="586" y="2437"/>
                    </a:lnTo>
                    <a:close/>
                  </a:path>
                </a:pathLst>
              </a:custGeom>
              <a:solidFill>
                <a:srgbClr val="a3c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78960" y="261000"/>
                <a:ext cx="194040" cy="190800"/>
              </a:xfrm>
              <a:custGeom>
                <a:avLst/>
                <a:gdLst/>
                <a:ahLst/>
                <a:rect l="l" t="t" r="r" b="b"/>
                <a:pathLst>
                  <a:path w="2504" h="2504">
                    <a:moveTo>
                      <a:pt x="552" y="2289"/>
                    </a:moveTo>
                    <a:lnTo>
                      <a:pt x="661" y="2355"/>
                    </a:lnTo>
                    <a:lnTo>
                      <a:pt x="775" y="2410"/>
                    </a:lnTo>
                    <a:lnTo>
                      <a:pt x="891" y="2451"/>
                    </a:lnTo>
                    <a:lnTo>
                      <a:pt x="1010" y="2481"/>
                    </a:lnTo>
                    <a:lnTo>
                      <a:pt x="1130" y="2499"/>
                    </a:lnTo>
                    <a:lnTo>
                      <a:pt x="1251" y="2504"/>
                    </a:lnTo>
                    <a:lnTo>
                      <a:pt x="1371" y="2499"/>
                    </a:lnTo>
                    <a:lnTo>
                      <a:pt x="1490" y="2482"/>
                    </a:lnTo>
                    <a:lnTo>
                      <a:pt x="1607" y="2453"/>
                    </a:lnTo>
                    <a:lnTo>
                      <a:pt x="1721" y="2414"/>
                    </a:lnTo>
                    <a:lnTo>
                      <a:pt x="1830" y="2364"/>
                    </a:lnTo>
                    <a:lnTo>
                      <a:pt x="1936" y="2302"/>
                    </a:lnTo>
                    <a:lnTo>
                      <a:pt x="2035" y="2231"/>
                    </a:lnTo>
                    <a:lnTo>
                      <a:pt x="2127" y="2149"/>
                    </a:lnTo>
                    <a:lnTo>
                      <a:pt x="2212" y="2057"/>
                    </a:lnTo>
                    <a:lnTo>
                      <a:pt x="2290" y="1955"/>
                    </a:lnTo>
                    <a:lnTo>
                      <a:pt x="2356" y="1844"/>
                    </a:lnTo>
                    <a:lnTo>
                      <a:pt x="2410" y="1730"/>
                    </a:lnTo>
                    <a:lnTo>
                      <a:pt x="2451" y="1613"/>
                    </a:lnTo>
                    <a:lnTo>
                      <a:pt x="2481" y="1495"/>
                    </a:lnTo>
                    <a:lnTo>
                      <a:pt x="2499" y="1374"/>
                    </a:lnTo>
                    <a:lnTo>
                      <a:pt x="2504" y="1254"/>
                    </a:lnTo>
                    <a:lnTo>
                      <a:pt x="2499" y="1133"/>
                    </a:lnTo>
                    <a:lnTo>
                      <a:pt x="2482" y="1015"/>
                    </a:lnTo>
                    <a:lnTo>
                      <a:pt x="2453" y="898"/>
                    </a:lnTo>
                    <a:lnTo>
                      <a:pt x="2414" y="784"/>
                    </a:lnTo>
                    <a:lnTo>
                      <a:pt x="2364" y="674"/>
                    </a:lnTo>
                    <a:lnTo>
                      <a:pt x="2302" y="568"/>
                    </a:lnTo>
                    <a:lnTo>
                      <a:pt x="2231" y="469"/>
                    </a:lnTo>
                    <a:lnTo>
                      <a:pt x="2149" y="377"/>
                    </a:lnTo>
                    <a:lnTo>
                      <a:pt x="2057" y="292"/>
                    </a:lnTo>
                    <a:lnTo>
                      <a:pt x="1955" y="215"/>
                    </a:lnTo>
                    <a:lnTo>
                      <a:pt x="1844" y="148"/>
                    </a:lnTo>
                    <a:lnTo>
                      <a:pt x="1731" y="94"/>
                    </a:lnTo>
                    <a:lnTo>
                      <a:pt x="1615" y="53"/>
                    </a:lnTo>
                    <a:lnTo>
                      <a:pt x="1496" y="23"/>
                    </a:lnTo>
                    <a:lnTo>
                      <a:pt x="1375" y="5"/>
                    </a:lnTo>
                    <a:lnTo>
                      <a:pt x="1254" y="0"/>
                    </a:lnTo>
                    <a:lnTo>
                      <a:pt x="1134" y="5"/>
                    </a:lnTo>
                    <a:lnTo>
                      <a:pt x="1015" y="22"/>
                    </a:lnTo>
                    <a:lnTo>
                      <a:pt x="898" y="51"/>
                    </a:lnTo>
                    <a:lnTo>
                      <a:pt x="784" y="90"/>
                    </a:lnTo>
                    <a:lnTo>
                      <a:pt x="675" y="140"/>
                    </a:lnTo>
                    <a:lnTo>
                      <a:pt x="570" y="202"/>
                    </a:lnTo>
                    <a:lnTo>
                      <a:pt x="471" y="274"/>
                    </a:lnTo>
                    <a:lnTo>
                      <a:pt x="377" y="356"/>
                    </a:lnTo>
                    <a:lnTo>
                      <a:pt x="292" y="448"/>
                    </a:lnTo>
                    <a:lnTo>
                      <a:pt x="216" y="551"/>
                    </a:lnTo>
                    <a:lnTo>
                      <a:pt x="149" y="661"/>
                    </a:lnTo>
                    <a:lnTo>
                      <a:pt x="94" y="775"/>
                    </a:lnTo>
                    <a:lnTo>
                      <a:pt x="53" y="890"/>
                    </a:lnTo>
                    <a:lnTo>
                      <a:pt x="23" y="1010"/>
                    </a:lnTo>
                    <a:lnTo>
                      <a:pt x="5" y="1130"/>
                    </a:lnTo>
                    <a:lnTo>
                      <a:pt x="0" y="1251"/>
                    </a:lnTo>
                    <a:lnTo>
                      <a:pt x="5" y="1371"/>
                    </a:lnTo>
                    <a:lnTo>
                      <a:pt x="22" y="1490"/>
                    </a:lnTo>
                    <a:lnTo>
                      <a:pt x="51" y="1607"/>
                    </a:lnTo>
                    <a:lnTo>
                      <a:pt x="90" y="1721"/>
                    </a:lnTo>
                    <a:lnTo>
                      <a:pt x="140" y="1830"/>
                    </a:lnTo>
                    <a:lnTo>
                      <a:pt x="202" y="1935"/>
                    </a:lnTo>
                    <a:lnTo>
                      <a:pt x="274" y="2034"/>
                    </a:lnTo>
                    <a:lnTo>
                      <a:pt x="356" y="2127"/>
                    </a:lnTo>
                    <a:lnTo>
                      <a:pt x="448" y="2212"/>
                    </a:lnTo>
                    <a:lnTo>
                      <a:pt x="552" y="2289"/>
                    </a:lnTo>
                    <a:close/>
                  </a:path>
                </a:pathLst>
              </a:custGeom>
              <a:solidFill>
                <a:srgbClr val="a6c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88680" y="262800"/>
                <a:ext cx="181080" cy="179640"/>
              </a:xfrm>
              <a:custGeom>
                <a:avLst/>
                <a:gdLst/>
                <a:ahLst/>
                <a:rect l="l" t="t" r="r" b="b"/>
                <a:pathLst>
                  <a:path w="2344" h="2346">
                    <a:moveTo>
                      <a:pt x="517" y="2145"/>
                    </a:moveTo>
                    <a:lnTo>
                      <a:pt x="619" y="2206"/>
                    </a:lnTo>
                    <a:lnTo>
                      <a:pt x="725" y="2256"/>
                    </a:lnTo>
                    <a:lnTo>
                      <a:pt x="835" y="2296"/>
                    </a:lnTo>
                    <a:lnTo>
                      <a:pt x="946" y="2323"/>
                    </a:lnTo>
                    <a:lnTo>
                      <a:pt x="1059" y="2340"/>
                    </a:lnTo>
                    <a:lnTo>
                      <a:pt x="1172" y="2346"/>
                    </a:lnTo>
                    <a:lnTo>
                      <a:pt x="1284" y="2340"/>
                    </a:lnTo>
                    <a:lnTo>
                      <a:pt x="1395" y="2324"/>
                    </a:lnTo>
                    <a:lnTo>
                      <a:pt x="1504" y="2298"/>
                    </a:lnTo>
                    <a:lnTo>
                      <a:pt x="1611" y="2261"/>
                    </a:lnTo>
                    <a:lnTo>
                      <a:pt x="1714" y="2214"/>
                    </a:lnTo>
                    <a:lnTo>
                      <a:pt x="1812" y="2156"/>
                    </a:lnTo>
                    <a:lnTo>
                      <a:pt x="1904" y="2089"/>
                    </a:lnTo>
                    <a:lnTo>
                      <a:pt x="1991" y="2012"/>
                    </a:lnTo>
                    <a:lnTo>
                      <a:pt x="2071" y="1926"/>
                    </a:lnTo>
                    <a:lnTo>
                      <a:pt x="2143" y="1830"/>
                    </a:lnTo>
                    <a:lnTo>
                      <a:pt x="2205" y="1727"/>
                    </a:lnTo>
                    <a:lnTo>
                      <a:pt x="2256" y="1621"/>
                    </a:lnTo>
                    <a:lnTo>
                      <a:pt x="2294" y="1511"/>
                    </a:lnTo>
                    <a:lnTo>
                      <a:pt x="2323" y="1399"/>
                    </a:lnTo>
                    <a:lnTo>
                      <a:pt x="2339" y="1288"/>
                    </a:lnTo>
                    <a:lnTo>
                      <a:pt x="2344" y="1174"/>
                    </a:lnTo>
                    <a:lnTo>
                      <a:pt x="2339" y="1061"/>
                    </a:lnTo>
                    <a:lnTo>
                      <a:pt x="2323" y="951"/>
                    </a:lnTo>
                    <a:lnTo>
                      <a:pt x="2296" y="841"/>
                    </a:lnTo>
                    <a:lnTo>
                      <a:pt x="2260" y="734"/>
                    </a:lnTo>
                    <a:lnTo>
                      <a:pt x="2212" y="632"/>
                    </a:lnTo>
                    <a:lnTo>
                      <a:pt x="2155" y="533"/>
                    </a:lnTo>
                    <a:lnTo>
                      <a:pt x="2088" y="441"/>
                    </a:lnTo>
                    <a:lnTo>
                      <a:pt x="2011" y="353"/>
                    </a:lnTo>
                    <a:lnTo>
                      <a:pt x="1925" y="274"/>
                    </a:lnTo>
                    <a:lnTo>
                      <a:pt x="1830" y="202"/>
                    </a:lnTo>
                    <a:lnTo>
                      <a:pt x="1726" y="140"/>
                    </a:lnTo>
                    <a:lnTo>
                      <a:pt x="1620" y="90"/>
                    </a:lnTo>
                    <a:lnTo>
                      <a:pt x="1511" y="50"/>
                    </a:lnTo>
                    <a:lnTo>
                      <a:pt x="1399" y="23"/>
                    </a:lnTo>
                    <a:lnTo>
                      <a:pt x="1286" y="6"/>
                    </a:lnTo>
                    <a:lnTo>
                      <a:pt x="1174" y="0"/>
                    </a:lnTo>
                    <a:lnTo>
                      <a:pt x="1061" y="6"/>
                    </a:lnTo>
                    <a:lnTo>
                      <a:pt x="950" y="22"/>
                    </a:lnTo>
                    <a:lnTo>
                      <a:pt x="841" y="48"/>
                    </a:lnTo>
                    <a:lnTo>
                      <a:pt x="735" y="86"/>
                    </a:lnTo>
                    <a:lnTo>
                      <a:pt x="631" y="132"/>
                    </a:lnTo>
                    <a:lnTo>
                      <a:pt x="534" y="190"/>
                    </a:lnTo>
                    <a:lnTo>
                      <a:pt x="440" y="257"/>
                    </a:lnTo>
                    <a:lnTo>
                      <a:pt x="353" y="333"/>
                    </a:lnTo>
                    <a:lnTo>
                      <a:pt x="273" y="419"/>
                    </a:lnTo>
                    <a:lnTo>
                      <a:pt x="202" y="516"/>
                    </a:lnTo>
                    <a:lnTo>
                      <a:pt x="139" y="618"/>
                    </a:lnTo>
                    <a:lnTo>
                      <a:pt x="88" y="724"/>
                    </a:lnTo>
                    <a:lnTo>
                      <a:pt x="50" y="834"/>
                    </a:lnTo>
                    <a:lnTo>
                      <a:pt x="21" y="946"/>
                    </a:lnTo>
                    <a:lnTo>
                      <a:pt x="5" y="1058"/>
                    </a:lnTo>
                    <a:lnTo>
                      <a:pt x="0" y="1171"/>
                    </a:lnTo>
                    <a:lnTo>
                      <a:pt x="5" y="1284"/>
                    </a:lnTo>
                    <a:lnTo>
                      <a:pt x="21" y="1395"/>
                    </a:lnTo>
                    <a:lnTo>
                      <a:pt x="48" y="1504"/>
                    </a:lnTo>
                    <a:lnTo>
                      <a:pt x="85" y="1611"/>
                    </a:lnTo>
                    <a:lnTo>
                      <a:pt x="132" y="1713"/>
                    </a:lnTo>
                    <a:lnTo>
                      <a:pt x="189" y="1812"/>
                    </a:lnTo>
                    <a:lnTo>
                      <a:pt x="256" y="1904"/>
                    </a:lnTo>
                    <a:lnTo>
                      <a:pt x="334" y="1992"/>
                    </a:lnTo>
                    <a:lnTo>
                      <a:pt x="420" y="2071"/>
                    </a:lnTo>
                    <a:lnTo>
                      <a:pt x="517" y="2145"/>
                    </a:lnTo>
                    <a:close/>
                  </a:path>
                </a:pathLst>
              </a:custGeom>
              <a:solidFill>
                <a:srgbClr val="a9d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7320" y="1001160"/>
                <a:ext cx="291960" cy="93600"/>
              </a:xfrm>
              <a:custGeom>
                <a:avLst/>
                <a:gdLst/>
                <a:ahLst/>
                <a:rect l="l" t="t" r="r" b="b"/>
                <a:pathLst>
                  <a:path w="3769" h="1229">
                    <a:moveTo>
                      <a:pt x="0" y="1200"/>
                    </a:moveTo>
                    <a:lnTo>
                      <a:pt x="54" y="1219"/>
                    </a:lnTo>
                    <a:lnTo>
                      <a:pt x="143" y="1229"/>
                    </a:lnTo>
                    <a:lnTo>
                      <a:pt x="263" y="1228"/>
                    </a:lnTo>
                    <a:lnTo>
                      <a:pt x="413" y="1217"/>
                    </a:lnTo>
                    <a:lnTo>
                      <a:pt x="590" y="1194"/>
                    </a:lnTo>
                    <a:lnTo>
                      <a:pt x="793" y="1159"/>
                    </a:lnTo>
                    <a:lnTo>
                      <a:pt x="1021" y="1112"/>
                    </a:lnTo>
                    <a:lnTo>
                      <a:pt x="1268" y="1050"/>
                    </a:lnTo>
                    <a:lnTo>
                      <a:pt x="1535" y="975"/>
                    </a:lnTo>
                    <a:lnTo>
                      <a:pt x="1819" y="885"/>
                    </a:lnTo>
                    <a:lnTo>
                      <a:pt x="2119" y="780"/>
                    </a:lnTo>
                    <a:lnTo>
                      <a:pt x="2430" y="659"/>
                    </a:lnTo>
                    <a:lnTo>
                      <a:pt x="2755" y="521"/>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600" y="1091520"/>
                <a:ext cx="1800" cy="324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a:off x="808200" y="999720"/>
                <a:ext cx="1800" cy="3240"/>
              </a:xfrm>
              <a:custGeom>
                <a:avLst/>
                <a:gdLst/>
                <a:ahLst/>
                <a:rect l="l" t="t" r="r" b="b"/>
                <a:pathLst>
                  <a:path w="24" h="40">
                    <a:moveTo>
                      <a:pt x="0" y="0"/>
                    </a:moveTo>
                    <a:lnTo>
                      <a:pt x="24"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9" name=""/>
              <p:cNvSpPr/>
              <p:nvPr/>
            </p:nvSpPr>
            <p:spPr>
              <a:xfrm>
                <a:off x="809280" y="794520"/>
                <a:ext cx="224640" cy="206280"/>
              </a:xfrm>
              <a:custGeom>
                <a:avLst/>
                <a:gdLst/>
                <a:ahLst/>
                <a:rect l="l" t="t" r="r" b="b"/>
                <a:pathLst>
                  <a:path w="2896" h="2695">
                    <a:moveTo>
                      <a:pt x="0" y="2695"/>
                    </a:moveTo>
                    <a:lnTo>
                      <a:pt x="335" y="2490"/>
                    </a:lnTo>
                    <a:lnTo>
                      <a:pt x="649" y="2280"/>
                    </a:lnTo>
                    <a:lnTo>
                      <a:pt x="944" y="2069"/>
                    </a:lnTo>
                    <a:lnTo>
                      <a:pt x="1217" y="1856"/>
                    </a:lnTo>
                    <a:lnTo>
                      <a:pt x="1470" y="1646"/>
                    </a:lnTo>
                    <a:lnTo>
                      <a:pt x="1703" y="1438"/>
                    </a:lnTo>
                    <a:lnTo>
                      <a:pt x="1916" y="1236"/>
                    </a:lnTo>
                    <a:lnTo>
                      <a:pt x="2107" y="1042"/>
                    </a:lnTo>
                    <a:lnTo>
                      <a:pt x="2277" y="857"/>
                    </a:lnTo>
                    <a:lnTo>
                      <a:pt x="2428" y="683"/>
                    </a:lnTo>
                    <a:lnTo>
                      <a:pt x="2558" y="524"/>
                    </a:lnTo>
                    <a:lnTo>
                      <a:pt x="2666" y="379"/>
                    </a:lnTo>
                    <a:lnTo>
                      <a:pt x="2754" y="253"/>
                    </a:lnTo>
                    <a:lnTo>
                      <a:pt x="2822" y="147"/>
                    </a:lnTo>
                    <a:lnTo>
                      <a:pt x="2869" y="60"/>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08200" y="999720"/>
                <a:ext cx="1800" cy="3240"/>
              </a:xfrm>
              <a:custGeom>
                <a:avLst/>
                <a:gdLst/>
                <a:ahLst/>
                <a:rect l="l" t="t" r="r" b="b"/>
                <a:pathLst>
                  <a:path w="24" h="40">
                    <a:moveTo>
                      <a:pt x="24" y="40"/>
                    </a:moveTo>
                    <a:lnTo>
                      <a:pt x="0" y="0"/>
                    </a:lnTo>
                    <a:lnTo>
                      <a:pt x="24" y="4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1032480" y="794520"/>
                <a:ext cx="3600" cy="720"/>
              </a:xfrm>
              <a:custGeom>
                <a:avLst/>
                <a:gdLst/>
                <a:ahLst/>
                <a:rect l="l" t="t" r="r" b="b"/>
                <a:pathLst>
                  <a:path w="45" h="12">
                    <a:moveTo>
                      <a:pt x="0" y="0"/>
                    </a:moveTo>
                    <a:lnTo>
                      <a:pt x="45" y="12"/>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22" name=""/>
              <p:cNvSpPr/>
              <p:nvPr/>
            </p:nvSpPr>
            <p:spPr>
              <a:xfrm>
                <a:off x="825120" y="345600"/>
                <a:ext cx="251640" cy="684720"/>
              </a:xfrm>
              <a:custGeom>
                <a:avLst/>
                <a:gdLst/>
                <a:ahLst/>
                <a:rect l="l" t="t" r="r" b="b"/>
                <a:pathLst>
                  <a:path w="3257" h="8952">
                    <a:moveTo>
                      <a:pt x="0" y="8952"/>
                    </a:moveTo>
                    <a:lnTo>
                      <a:pt x="561" y="8586"/>
                    </a:lnTo>
                    <a:lnTo>
                      <a:pt x="1073" y="8174"/>
                    </a:lnTo>
                    <a:lnTo>
                      <a:pt x="1535" y="7719"/>
                    </a:lnTo>
                    <a:lnTo>
                      <a:pt x="1945" y="7225"/>
                    </a:lnTo>
                    <a:lnTo>
                      <a:pt x="2301" y="6700"/>
                    </a:lnTo>
                    <a:lnTo>
                      <a:pt x="2603" y="6145"/>
                    </a:lnTo>
                    <a:lnTo>
                      <a:pt x="2850" y="5566"/>
                    </a:lnTo>
                    <a:lnTo>
                      <a:pt x="3040" y="4966"/>
                    </a:lnTo>
                    <a:lnTo>
                      <a:pt x="3172" y="4352"/>
                    </a:lnTo>
                    <a:lnTo>
                      <a:pt x="3244" y="3727"/>
                    </a:lnTo>
                    <a:lnTo>
                      <a:pt x="3257" y="3095"/>
                    </a:lnTo>
                    <a:lnTo>
                      <a:pt x="3207" y="2462"/>
                    </a:lnTo>
                    <a:lnTo>
                      <a:pt x="3095" y="1831"/>
                    </a:lnTo>
                    <a:lnTo>
                      <a:pt x="2920" y="1207"/>
                    </a:lnTo>
                    <a:lnTo>
                      <a:pt x="2679" y="595"/>
                    </a:lnTo>
                    <a:lnTo>
                      <a:pt x="2373" y="0"/>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22240" y="1029600"/>
                <a:ext cx="3240" cy="3600"/>
              </a:xfrm>
              <a:custGeom>
                <a:avLst/>
                <a:gdLst/>
                <a:ahLst/>
                <a:rect l="l" t="t" r="r" b="b"/>
                <a:pathLst>
                  <a:path w="43" h="52">
                    <a:moveTo>
                      <a:pt x="43" y="40"/>
                    </a:moveTo>
                    <a:lnTo>
                      <a:pt x="23" y="52"/>
                    </a:lnTo>
                    <a:lnTo>
                      <a:pt x="0" y="11"/>
                    </a:lnTo>
                    <a:lnTo>
                      <a:pt x="20" y="0"/>
                    </a:lnTo>
                    <a:lnTo>
                      <a:pt x="43"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4" name=""/>
              <p:cNvSpPr/>
              <p:nvPr/>
            </p:nvSpPr>
            <p:spPr>
              <a:xfrm>
                <a:off x="1006560" y="343800"/>
                <a:ext cx="3240" cy="2520"/>
              </a:xfrm>
              <a:custGeom>
                <a:avLst/>
                <a:gdLst/>
                <a:ahLst/>
                <a:rect l="l" t="t" r="r" b="b"/>
                <a:pathLst>
                  <a:path w="52" h="43">
                    <a:moveTo>
                      <a:pt x="11" y="43"/>
                    </a:moveTo>
                    <a:lnTo>
                      <a:pt x="0" y="23"/>
                    </a:lnTo>
                    <a:lnTo>
                      <a:pt x="40" y="0"/>
                    </a:lnTo>
                    <a:lnTo>
                      <a:pt x="52" y="20"/>
                    </a:lnTo>
                    <a:lnTo>
                      <a:pt x="11" y="43"/>
                    </a:lnTo>
                    <a:close/>
                  </a:path>
                </a:pathLst>
              </a:custGeom>
              <a:solidFill>
                <a:srgbClr val="1f61a9"/>
              </a:solidFill>
              <a:ln w="0">
                <a:solidFill>
                  <a:srgbClr val="1f61a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5" name=""/>
              <p:cNvSpPr/>
              <p:nvPr/>
            </p:nvSpPr>
            <p:spPr>
              <a:xfrm>
                <a:off x="315720" y="96840"/>
                <a:ext cx="693360" cy="248760"/>
              </a:xfrm>
              <a:custGeom>
                <a:avLst/>
                <a:gdLst/>
                <a:ahLst/>
                <a:rect l="l" t="t" r="r" b="b"/>
                <a:pathLst>
                  <a:path w="8954" h="3258">
                    <a:moveTo>
                      <a:pt x="8954" y="3258"/>
                    </a:moveTo>
                    <a:lnTo>
                      <a:pt x="8587" y="2695"/>
                    </a:lnTo>
                    <a:lnTo>
                      <a:pt x="8174" y="2183"/>
                    </a:lnTo>
                    <a:lnTo>
                      <a:pt x="7719" y="1721"/>
                    </a:lnTo>
                    <a:lnTo>
                      <a:pt x="7227" y="1311"/>
                    </a:lnTo>
                    <a:lnTo>
                      <a:pt x="6701" y="955"/>
                    </a:lnTo>
                    <a:lnTo>
                      <a:pt x="6146" y="653"/>
                    </a:lnTo>
                    <a:lnTo>
                      <a:pt x="5566" y="406"/>
                    </a:lnTo>
                    <a:lnTo>
                      <a:pt x="4968" y="217"/>
                    </a:lnTo>
                    <a:lnTo>
                      <a:pt x="4352" y="85"/>
                    </a:lnTo>
                    <a:lnTo>
                      <a:pt x="3727" y="12"/>
                    </a:lnTo>
                    <a:lnTo>
                      <a:pt x="3096" y="0"/>
                    </a:lnTo>
                    <a:lnTo>
                      <a:pt x="2462" y="49"/>
                    </a:lnTo>
                    <a:lnTo>
                      <a:pt x="1832" y="161"/>
                    </a:lnTo>
                    <a:lnTo>
                      <a:pt x="1208" y="337"/>
                    </a:lnTo>
                    <a:lnTo>
                      <a:pt x="595" y="578"/>
                    </a:lnTo>
                    <a:lnTo>
                      <a:pt x="0" y="886"/>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007280" y="344520"/>
                <a:ext cx="3600" cy="3600"/>
              </a:xfrm>
              <a:custGeom>
                <a:avLst/>
                <a:gdLst/>
                <a:ahLst/>
                <a:rect l="l" t="t" r="r" b="b"/>
                <a:pathLst>
                  <a:path w="52" h="43">
                    <a:moveTo>
                      <a:pt x="41" y="0"/>
                    </a:moveTo>
                    <a:lnTo>
                      <a:pt x="52" y="20"/>
                    </a:lnTo>
                    <a:lnTo>
                      <a:pt x="12" y="43"/>
                    </a:lnTo>
                    <a:lnTo>
                      <a:pt x="0" y="23"/>
                    </a:lnTo>
                    <a:lnTo>
                      <a:pt x="41" y="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7" name=""/>
              <p:cNvSpPr/>
              <p:nvPr/>
            </p:nvSpPr>
            <p:spPr>
              <a:xfrm>
                <a:off x="312840" y="162720"/>
                <a:ext cx="3600" cy="3600"/>
              </a:xfrm>
              <a:custGeom>
                <a:avLst/>
                <a:gdLst/>
                <a:ahLst/>
                <a:rect l="l" t="t" r="r" b="b"/>
                <a:pathLst>
                  <a:path w="44" h="52">
                    <a:moveTo>
                      <a:pt x="44" y="40"/>
                    </a:moveTo>
                    <a:lnTo>
                      <a:pt x="23" y="52"/>
                    </a:lnTo>
                    <a:lnTo>
                      <a:pt x="0" y="11"/>
                    </a:lnTo>
                    <a:lnTo>
                      <a:pt x="20" y="0"/>
                    </a:lnTo>
                    <a:lnTo>
                      <a:pt x="44"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8" name=""/>
              <p:cNvSpPr/>
              <p:nvPr/>
            </p:nvSpPr>
            <p:spPr>
              <a:xfrm>
                <a:off x="63000" y="164520"/>
                <a:ext cx="252720" cy="685080"/>
              </a:xfrm>
              <a:custGeom>
                <a:avLst/>
                <a:gdLst/>
                <a:ahLst/>
                <a:rect l="l" t="t" r="r" b="b"/>
                <a:pathLst>
                  <a:path w="3257" h="8952">
                    <a:moveTo>
                      <a:pt x="3257" y="0"/>
                    </a:moveTo>
                    <a:lnTo>
                      <a:pt x="2695" y="364"/>
                    </a:lnTo>
                    <a:lnTo>
                      <a:pt x="2182" y="777"/>
                    </a:lnTo>
                    <a:lnTo>
                      <a:pt x="1721" y="1232"/>
                    </a:lnTo>
                    <a:lnTo>
                      <a:pt x="1311" y="1725"/>
                    </a:lnTo>
                    <a:lnTo>
                      <a:pt x="954" y="2250"/>
                    </a:lnTo>
                    <a:lnTo>
                      <a:pt x="652" y="2805"/>
                    </a:lnTo>
                    <a:lnTo>
                      <a:pt x="406" y="3385"/>
                    </a:lnTo>
                    <a:lnTo>
                      <a:pt x="216" y="3984"/>
                    </a:lnTo>
                    <a:lnTo>
                      <a:pt x="85" y="4599"/>
                    </a:lnTo>
                    <a:lnTo>
                      <a:pt x="11" y="5224"/>
                    </a:lnTo>
                    <a:lnTo>
                      <a:pt x="0" y="5855"/>
                    </a:lnTo>
                    <a:lnTo>
                      <a:pt x="49" y="6489"/>
                    </a:lnTo>
                    <a:lnTo>
                      <a:pt x="160" y="7119"/>
                    </a:lnTo>
                    <a:lnTo>
                      <a:pt x="337" y="7743"/>
                    </a:lnTo>
                    <a:lnTo>
                      <a:pt x="577" y="8356"/>
                    </a:lnTo>
                    <a:lnTo>
                      <a:pt x="885" y="895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4640" y="162000"/>
                <a:ext cx="2520" cy="3600"/>
              </a:xfrm>
              <a:custGeom>
                <a:avLst/>
                <a:gdLst/>
                <a:ahLst/>
                <a:rect l="l" t="t" r="r" b="b"/>
                <a:pathLst>
                  <a:path w="44" h="52">
                    <a:moveTo>
                      <a:pt x="0" y="12"/>
                    </a:moveTo>
                    <a:lnTo>
                      <a:pt x="20" y="0"/>
                    </a:lnTo>
                    <a:lnTo>
                      <a:pt x="44" y="40"/>
                    </a:lnTo>
                    <a:lnTo>
                      <a:pt x="24"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0" name=""/>
              <p:cNvSpPr/>
              <p:nvPr/>
            </p:nvSpPr>
            <p:spPr>
              <a:xfrm>
                <a:off x="129600" y="848880"/>
                <a:ext cx="4320" cy="2880"/>
              </a:xfrm>
              <a:custGeom>
                <a:avLst/>
                <a:gdLst/>
                <a:ahLst/>
                <a:rect l="l" t="t" r="r" b="b"/>
                <a:pathLst>
                  <a:path w="52" h="44">
                    <a:moveTo>
                      <a:pt x="40" y="0"/>
                    </a:moveTo>
                    <a:lnTo>
                      <a:pt x="52" y="21"/>
                    </a:lnTo>
                    <a:lnTo>
                      <a:pt x="12" y="44"/>
                    </a:lnTo>
                    <a:lnTo>
                      <a:pt x="0" y="24"/>
                    </a:lnTo>
                    <a:lnTo>
                      <a:pt x="40" y="0"/>
                    </a:lnTo>
                    <a:close/>
                  </a:path>
                </a:pathLst>
              </a:custGeom>
              <a:solidFill>
                <a:srgbClr val="1f61a9"/>
              </a:solidFill>
              <a:ln w="0">
                <a:solidFill>
                  <a:srgbClr val="1f61a9"/>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131400" y="849960"/>
                <a:ext cx="693360" cy="248760"/>
              </a:xfrm>
              <a:custGeom>
                <a:avLst/>
                <a:gdLst/>
                <a:ahLst/>
                <a:rect l="l" t="t" r="r" b="b"/>
                <a:pathLst>
                  <a:path w="8953" h="3256">
                    <a:moveTo>
                      <a:pt x="0" y="0"/>
                    </a:moveTo>
                    <a:lnTo>
                      <a:pt x="365" y="561"/>
                    </a:lnTo>
                    <a:lnTo>
                      <a:pt x="777" y="1074"/>
                    </a:lnTo>
                    <a:lnTo>
                      <a:pt x="1232" y="1535"/>
                    </a:lnTo>
                    <a:lnTo>
                      <a:pt x="1726" y="1944"/>
                    </a:lnTo>
                    <a:lnTo>
                      <a:pt x="2251" y="2302"/>
                    </a:lnTo>
                    <a:lnTo>
                      <a:pt x="2806" y="2603"/>
                    </a:lnTo>
                    <a:lnTo>
                      <a:pt x="3385" y="2850"/>
                    </a:lnTo>
                    <a:lnTo>
                      <a:pt x="3985" y="3039"/>
                    </a:lnTo>
                    <a:lnTo>
                      <a:pt x="4599" y="3171"/>
                    </a:lnTo>
                    <a:lnTo>
                      <a:pt x="5224" y="3245"/>
                    </a:lnTo>
                    <a:lnTo>
                      <a:pt x="5856" y="3256"/>
                    </a:lnTo>
                    <a:lnTo>
                      <a:pt x="6489" y="3207"/>
                    </a:lnTo>
                    <a:lnTo>
                      <a:pt x="7120" y="3096"/>
                    </a:lnTo>
                    <a:lnTo>
                      <a:pt x="7744" y="2919"/>
                    </a:lnTo>
                    <a:lnTo>
                      <a:pt x="8356" y="2679"/>
                    </a:lnTo>
                    <a:lnTo>
                      <a:pt x="8953" y="237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28880" y="847080"/>
                <a:ext cx="4320" cy="3240"/>
              </a:xfrm>
              <a:custGeom>
                <a:avLst/>
                <a:gdLst/>
                <a:ahLst/>
                <a:rect l="l" t="t" r="r" b="b"/>
                <a:pathLst>
                  <a:path w="52" h="44">
                    <a:moveTo>
                      <a:pt x="12" y="44"/>
                    </a:moveTo>
                    <a:lnTo>
                      <a:pt x="0" y="24"/>
                    </a:lnTo>
                    <a:lnTo>
                      <a:pt x="41" y="0"/>
                    </a:lnTo>
                    <a:lnTo>
                      <a:pt x="52" y="20"/>
                    </a:lnTo>
                    <a:lnTo>
                      <a:pt x="12" y="44"/>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824040" y="1028880"/>
                <a:ext cx="3600" cy="3240"/>
              </a:xfrm>
              <a:custGeom>
                <a:avLst/>
                <a:gdLst/>
                <a:ahLst/>
                <a:rect l="l" t="t" r="r" b="b"/>
                <a:pathLst>
                  <a:path w="44" h="52">
                    <a:moveTo>
                      <a:pt x="0" y="12"/>
                    </a:moveTo>
                    <a:lnTo>
                      <a:pt x="20" y="0"/>
                    </a:lnTo>
                    <a:lnTo>
                      <a:pt x="44" y="40"/>
                    </a:lnTo>
                    <a:lnTo>
                      <a:pt x="23"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825840" y="396000"/>
                <a:ext cx="178560" cy="635400"/>
              </a:xfrm>
              <a:custGeom>
                <a:avLst/>
                <a:gdLst/>
                <a:ahLst/>
                <a:rect l="l" t="t" r="r" b="b"/>
                <a:pathLst>
                  <a:path w="2309" h="8312">
                    <a:moveTo>
                      <a:pt x="0" y="8312"/>
                    </a:moveTo>
                    <a:lnTo>
                      <a:pt x="447" y="8013"/>
                    </a:lnTo>
                    <a:lnTo>
                      <a:pt x="847" y="7665"/>
                    </a:lnTo>
                    <a:lnTo>
                      <a:pt x="1201" y="7273"/>
                    </a:lnTo>
                    <a:lnTo>
                      <a:pt x="1508" y="6840"/>
                    </a:lnTo>
                    <a:lnTo>
                      <a:pt x="1765" y="6370"/>
                    </a:lnTo>
                    <a:lnTo>
                      <a:pt x="1974" y="5868"/>
                    </a:lnTo>
                    <a:lnTo>
                      <a:pt x="2134" y="5339"/>
                    </a:lnTo>
                    <a:lnTo>
                      <a:pt x="2243" y="4786"/>
                    </a:lnTo>
                    <a:lnTo>
                      <a:pt x="2302" y="4212"/>
                    </a:lnTo>
                    <a:lnTo>
                      <a:pt x="2309" y="3623"/>
                    </a:lnTo>
                    <a:lnTo>
                      <a:pt x="2266" y="3024"/>
                    </a:lnTo>
                    <a:lnTo>
                      <a:pt x="2168" y="2417"/>
                    </a:lnTo>
                    <a:lnTo>
                      <a:pt x="2018" y="1806"/>
                    </a:lnTo>
                    <a:lnTo>
                      <a:pt x="1814" y="1197"/>
                    </a:lnTo>
                    <a:lnTo>
                      <a:pt x="1555" y="593"/>
                    </a:lnTo>
                    <a:lnTo>
                      <a:pt x="1242"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2332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6" name=""/>
              <p:cNvSpPr/>
              <p:nvPr/>
            </p:nvSpPr>
            <p:spPr>
              <a:xfrm>
                <a:off x="919080" y="393120"/>
                <a:ext cx="4320" cy="252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7" name=""/>
              <p:cNvSpPr/>
              <p:nvPr/>
            </p:nvSpPr>
            <p:spPr>
              <a:xfrm>
                <a:off x="314640" y="118800"/>
                <a:ext cx="606600" cy="277200"/>
              </a:xfrm>
              <a:custGeom>
                <a:avLst/>
                <a:gdLst/>
                <a:ahLst/>
                <a:rect l="l" t="t" r="r" b="b"/>
                <a:pathLst>
                  <a:path w="7837" h="3616">
                    <a:moveTo>
                      <a:pt x="7837" y="3616"/>
                    </a:moveTo>
                    <a:lnTo>
                      <a:pt x="7475" y="3050"/>
                    </a:lnTo>
                    <a:lnTo>
                      <a:pt x="7080" y="2526"/>
                    </a:lnTo>
                    <a:lnTo>
                      <a:pt x="6651" y="2047"/>
                    </a:lnTo>
                    <a:lnTo>
                      <a:pt x="6196" y="1614"/>
                    </a:lnTo>
                    <a:lnTo>
                      <a:pt x="5717" y="1230"/>
                    </a:lnTo>
                    <a:lnTo>
                      <a:pt x="5217" y="895"/>
                    </a:lnTo>
                    <a:lnTo>
                      <a:pt x="4703" y="610"/>
                    </a:lnTo>
                    <a:lnTo>
                      <a:pt x="4175" y="377"/>
                    </a:lnTo>
                    <a:lnTo>
                      <a:pt x="3640" y="198"/>
                    </a:lnTo>
                    <a:lnTo>
                      <a:pt x="3101" y="74"/>
                    </a:lnTo>
                    <a:lnTo>
                      <a:pt x="2562" y="8"/>
                    </a:lnTo>
                    <a:lnTo>
                      <a:pt x="2026" y="0"/>
                    </a:lnTo>
                    <a:lnTo>
                      <a:pt x="1497" y="51"/>
                    </a:lnTo>
                    <a:lnTo>
                      <a:pt x="981" y="164"/>
                    </a:lnTo>
                    <a:lnTo>
                      <a:pt x="480" y="340"/>
                    </a:lnTo>
                    <a:lnTo>
                      <a:pt x="0" y="581"/>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920160" y="395280"/>
                <a:ext cx="4320" cy="252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9" name=""/>
              <p:cNvSpPr/>
              <p:nvPr/>
            </p:nvSpPr>
            <p:spPr>
              <a:xfrm>
                <a:off x="31212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0" name=""/>
              <p:cNvSpPr/>
              <p:nvPr/>
            </p:nvSpPr>
            <p:spPr>
              <a:xfrm>
                <a:off x="135360" y="163800"/>
                <a:ext cx="179280" cy="635400"/>
              </a:xfrm>
              <a:custGeom>
                <a:avLst/>
                <a:gdLst/>
                <a:ahLst/>
                <a:rect l="l" t="t" r="r" b="b"/>
                <a:pathLst>
                  <a:path w="2311" h="8312">
                    <a:moveTo>
                      <a:pt x="2311" y="0"/>
                    </a:moveTo>
                    <a:lnTo>
                      <a:pt x="1863" y="299"/>
                    </a:lnTo>
                    <a:lnTo>
                      <a:pt x="1462" y="647"/>
                    </a:lnTo>
                    <a:lnTo>
                      <a:pt x="1109" y="1039"/>
                    </a:lnTo>
                    <a:lnTo>
                      <a:pt x="803" y="1471"/>
                    </a:lnTo>
                    <a:lnTo>
                      <a:pt x="545" y="1941"/>
                    </a:lnTo>
                    <a:lnTo>
                      <a:pt x="335" y="2443"/>
                    </a:lnTo>
                    <a:lnTo>
                      <a:pt x="176" y="2973"/>
                    </a:lnTo>
                    <a:lnTo>
                      <a:pt x="66" y="3526"/>
                    </a:lnTo>
                    <a:lnTo>
                      <a:pt x="8" y="4099"/>
                    </a:lnTo>
                    <a:lnTo>
                      <a:pt x="0" y="4688"/>
                    </a:lnTo>
                    <a:lnTo>
                      <a:pt x="45" y="5288"/>
                    </a:lnTo>
                    <a:lnTo>
                      <a:pt x="142" y="5895"/>
                    </a:lnTo>
                    <a:lnTo>
                      <a:pt x="292" y="6505"/>
                    </a:lnTo>
                    <a:lnTo>
                      <a:pt x="496" y="7114"/>
                    </a:lnTo>
                    <a:lnTo>
                      <a:pt x="754" y="7718"/>
                    </a:lnTo>
                    <a:lnTo>
                      <a:pt x="1069" y="8312"/>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1356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2" name=""/>
              <p:cNvSpPr/>
              <p:nvPr/>
            </p:nvSpPr>
            <p:spPr>
              <a:xfrm>
                <a:off x="217080" y="798480"/>
                <a:ext cx="3240" cy="324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218160" y="799200"/>
                <a:ext cx="607680" cy="277200"/>
              </a:xfrm>
              <a:custGeom>
                <a:avLst/>
                <a:gdLst/>
                <a:ahLst/>
                <a:rect l="l" t="t" r="r" b="b"/>
                <a:pathLst>
                  <a:path w="7837" h="3616">
                    <a:moveTo>
                      <a:pt x="0" y="0"/>
                    </a:moveTo>
                    <a:lnTo>
                      <a:pt x="360" y="566"/>
                    </a:lnTo>
                    <a:lnTo>
                      <a:pt x="756" y="1090"/>
                    </a:lnTo>
                    <a:lnTo>
                      <a:pt x="1184" y="1568"/>
                    </a:lnTo>
                    <a:lnTo>
                      <a:pt x="1639" y="2001"/>
                    </a:lnTo>
                    <a:lnTo>
                      <a:pt x="2119" y="2386"/>
                    </a:lnTo>
                    <a:lnTo>
                      <a:pt x="2618" y="2721"/>
                    </a:lnTo>
                    <a:lnTo>
                      <a:pt x="3133" y="3006"/>
                    </a:lnTo>
                    <a:lnTo>
                      <a:pt x="3660" y="3238"/>
                    </a:lnTo>
                    <a:lnTo>
                      <a:pt x="4196" y="3417"/>
                    </a:lnTo>
                    <a:lnTo>
                      <a:pt x="4735" y="3541"/>
                    </a:lnTo>
                    <a:lnTo>
                      <a:pt x="5274" y="3607"/>
                    </a:lnTo>
                    <a:lnTo>
                      <a:pt x="5810" y="3616"/>
                    </a:lnTo>
                    <a:lnTo>
                      <a:pt x="6338" y="3565"/>
                    </a:lnTo>
                    <a:lnTo>
                      <a:pt x="6855" y="3451"/>
                    </a:lnTo>
                    <a:lnTo>
                      <a:pt x="7356" y="3276"/>
                    </a:lnTo>
                    <a:lnTo>
                      <a:pt x="7837" y="3035"/>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16000" y="797400"/>
                <a:ext cx="3600" cy="288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5" name=""/>
              <p:cNvSpPr/>
              <p:nvPr/>
            </p:nvSpPr>
            <p:spPr>
              <a:xfrm>
                <a:off x="82512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6" name=""/>
              <p:cNvSpPr/>
              <p:nvPr/>
            </p:nvSpPr>
            <p:spPr>
              <a:xfrm>
                <a:off x="767520" y="484200"/>
                <a:ext cx="125640" cy="547200"/>
              </a:xfrm>
              <a:custGeom>
                <a:avLst/>
                <a:gdLst/>
                <a:ahLst/>
                <a:rect l="l" t="t" r="r" b="b"/>
                <a:pathLst>
                  <a:path w="1617" h="7154">
                    <a:moveTo>
                      <a:pt x="750" y="7154"/>
                    </a:moveTo>
                    <a:lnTo>
                      <a:pt x="993" y="6974"/>
                    </a:lnTo>
                    <a:lnTo>
                      <a:pt x="1196" y="6740"/>
                    </a:lnTo>
                    <a:lnTo>
                      <a:pt x="1359" y="6458"/>
                    </a:lnTo>
                    <a:lnTo>
                      <a:pt x="1482" y="6132"/>
                    </a:lnTo>
                    <a:lnTo>
                      <a:pt x="1566" y="5764"/>
                    </a:lnTo>
                    <a:lnTo>
                      <a:pt x="1610" y="5357"/>
                    </a:lnTo>
                    <a:lnTo>
                      <a:pt x="1617" y="4917"/>
                    </a:lnTo>
                    <a:lnTo>
                      <a:pt x="1585" y="4446"/>
                    </a:lnTo>
                    <a:lnTo>
                      <a:pt x="1516" y="3947"/>
                    </a:lnTo>
                    <a:lnTo>
                      <a:pt x="1408" y="3425"/>
                    </a:lnTo>
                    <a:lnTo>
                      <a:pt x="1264" y="2883"/>
                    </a:lnTo>
                    <a:lnTo>
                      <a:pt x="1083" y="2325"/>
                    </a:lnTo>
                    <a:lnTo>
                      <a:pt x="865" y="1753"/>
                    </a:lnTo>
                    <a:lnTo>
                      <a:pt x="612" y="1174"/>
                    </a:lnTo>
                    <a:lnTo>
                      <a:pt x="323" y="587"/>
                    </a:lnTo>
                    <a:lnTo>
                      <a:pt x="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2332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8" name=""/>
              <p:cNvSpPr/>
              <p:nvPr/>
            </p:nvSpPr>
            <p:spPr>
              <a:xfrm>
                <a:off x="764640" y="481320"/>
                <a:ext cx="4320" cy="3600"/>
              </a:xfrm>
              <a:custGeom>
                <a:avLst/>
                <a:gdLst/>
                <a:ahLst/>
                <a:rect l="l" t="t" r="r" b="b"/>
                <a:pathLst>
                  <a:path w="52" h="44">
                    <a:moveTo>
                      <a:pt x="11" y="44"/>
                    </a:moveTo>
                    <a:lnTo>
                      <a:pt x="0" y="23"/>
                    </a:lnTo>
                    <a:lnTo>
                      <a:pt x="40" y="0"/>
                    </a:lnTo>
                    <a:lnTo>
                      <a:pt x="52" y="20"/>
                    </a:lnTo>
                    <a:lnTo>
                      <a:pt x="11" y="44"/>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9" name=""/>
              <p:cNvSpPr/>
              <p:nvPr/>
            </p:nvSpPr>
            <p:spPr>
              <a:xfrm>
                <a:off x="314640" y="149040"/>
                <a:ext cx="452520" cy="335160"/>
              </a:xfrm>
              <a:custGeom>
                <a:avLst/>
                <a:gdLst/>
                <a:ahLst/>
                <a:rect l="l" t="t" r="r" b="b"/>
                <a:pathLst>
                  <a:path w="5845" h="4379">
                    <a:moveTo>
                      <a:pt x="5845" y="4379"/>
                    </a:moveTo>
                    <a:lnTo>
                      <a:pt x="5494" y="3806"/>
                    </a:lnTo>
                    <a:lnTo>
                      <a:pt x="5128" y="3265"/>
                    </a:lnTo>
                    <a:lnTo>
                      <a:pt x="4750" y="2758"/>
                    </a:lnTo>
                    <a:lnTo>
                      <a:pt x="4362" y="2287"/>
                    </a:lnTo>
                    <a:lnTo>
                      <a:pt x="3966" y="1853"/>
                    </a:lnTo>
                    <a:lnTo>
                      <a:pt x="3566" y="1460"/>
                    </a:lnTo>
                    <a:lnTo>
                      <a:pt x="3166" y="1108"/>
                    </a:lnTo>
                    <a:lnTo>
                      <a:pt x="2767" y="801"/>
                    </a:lnTo>
                    <a:lnTo>
                      <a:pt x="2373" y="539"/>
                    </a:lnTo>
                    <a:lnTo>
                      <a:pt x="1988" y="326"/>
                    </a:lnTo>
                    <a:lnTo>
                      <a:pt x="1612" y="165"/>
                    </a:lnTo>
                    <a:lnTo>
                      <a:pt x="1251" y="55"/>
                    </a:lnTo>
                    <a:lnTo>
                      <a:pt x="905" y="0"/>
                    </a:lnTo>
                    <a:lnTo>
                      <a:pt x="580" y="2"/>
                    </a:lnTo>
                    <a:lnTo>
                      <a:pt x="277" y="64"/>
                    </a:lnTo>
                    <a:lnTo>
                      <a:pt x="0" y="186"/>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65720" y="483120"/>
                <a:ext cx="4320" cy="3600"/>
              </a:xfrm>
              <a:custGeom>
                <a:avLst/>
                <a:gdLst/>
                <a:ahLst/>
                <a:rect l="l" t="t" r="r" b="b"/>
                <a:pathLst>
                  <a:path w="52" h="44">
                    <a:moveTo>
                      <a:pt x="41" y="0"/>
                    </a:moveTo>
                    <a:lnTo>
                      <a:pt x="52" y="20"/>
                    </a:lnTo>
                    <a:lnTo>
                      <a:pt x="12" y="44"/>
                    </a:lnTo>
                    <a:lnTo>
                      <a:pt x="0" y="24"/>
                    </a:lnTo>
                    <a:lnTo>
                      <a:pt x="41"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1" name=""/>
              <p:cNvSpPr/>
              <p:nvPr/>
            </p:nvSpPr>
            <p:spPr>
              <a:xfrm>
                <a:off x="31212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2" name=""/>
              <p:cNvSpPr/>
              <p:nvPr/>
            </p:nvSpPr>
            <p:spPr>
              <a:xfrm>
                <a:off x="247680" y="163800"/>
                <a:ext cx="125640" cy="547200"/>
              </a:xfrm>
              <a:custGeom>
                <a:avLst/>
                <a:gdLst/>
                <a:ahLst/>
                <a:rect l="l" t="t" r="r" b="b"/>
                <a:pathLst>
                  <a:path w="1618" h="7155">
                    <a:moveTo>
                      <a:pt x="868" y="0"/>
                    </a:moveTo>
                    <a:lnTo>
                      <a:pt x="624" y="180"/>
                    </a:lnTo>
                    <a:lnTo>
                      <a:pt x="421" y="413"/>
                    </a:lnTo>
                    <a:lnTo>
                      <a:pt x="258" y="694"/>
                    </a:lnTo>
                    <a:lnTo>
                      <a:pt x="135" y="1022"/>
                    </a:lnTo>
                    <a:lnTo>
                      <a:pt x="51" y="1390"/>
                    </a:lnTo>
                    <a:lnTo>
                      <a:pt x="6" y="1796"/>
                    </a:lnTo>
                    <a:lnTo>
                      <a:pt x="0" y="2237"/>
                    </a:lnTo>
                    <a:lnTo>
                      <a:pt x="32" y="2708"/>
                    </a:lnTo>
                    <a:lnTo>
                      <a:pt x="102" y="3206"/>
                    </a:lnTo>
                    <a:lnTo>
                      <a:pt x="208" y="3728"/>
                    </a:lnTo>
                    <a:lnTo>
                      <a:pt x="353" y="4271"/>
                    </a:lnTo>
                    <a:lnTo>
                      <a:pt x="534" y="4829"/>
                    </a:lnTo>
                    <a:lnTo>
                      <a:pt x="752" y="5401"/>
                    </a:lnTo>
                    <a:lnTo>
                      <a:pt x="1005" y="5980"/>
                    </a:lnTo>
                    <a:lnTo>
                      <a:pt x="1294" y="6567"/>
                    </a:lnTo>
                    <a:lnTo>
                      <a:pt x="1618" y="7155"/>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1356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4" name=""/>
              <p:cNvSpPr/>
              <p:nvPr/>
            </p:nvSpPr>
            <p:spPr>
              <a:xfrm>
                <a:off x="371520" y="710280"/>
                <a:ext cx="3240" cy="2520"/>
              </a:xfrm>
              <a:custGeom>
                <a:avLst/>
                <a:gdLst/>
                <a:ahLst/>
                <a:rect l="l" t="t" r="r" b="b"/>
                <a:pathLst>
                  <a:path w="52" h="44">
                    <a:moveTo>
                      <a:pt x="40" y="0"/>
                    </a:moveTo>
                    <a:lnTo>
                      <a:pt x="52" y="20"/>
                    </a:lnTo>
                    <a:lnTo>
                      <a:pt x="12" y="44"/>
                    </a:lnTo>
                    <a:lnTo>
                      <a:pt x="0" y="23"/>
                    </a:lnTo>
                    <a:lnTo>
                      <a:pt x="4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 name=""/>
              <p:cNvSpPr/>
              <p:nvPr/>
            </p:nvSpPr>
            <p:spPr>
              <a:xfrm>
                <a:off x="373320" y="711000"/>
                <a:ext cx="452520" cy="334800"/>
              </a:xfrm>
              <a:custGeom>
                <a:avLst/>
                <a:gdLst/>
                <a:ahLst/>
                <a:rect l="l" t="t" r="r" b="b"/>
                <a:pathLst>
                  <a:path w="5845" h="4377">
                    <a:moveTo>
                      <a:pt x="0" y="0"/>
                    </a:moveTo>
                    <a:lnTo>
                      <a:pt x="350" y="572"/>
                    </a:lnTo>
                    <a:lnTo>
                      <a:pt x="716" y="1113"/>
                    </a:lnTo>
                    <a:lnTo>
                      <a:pt x="1095" y="1620"/>
                    </a:lnTo>
                    <a:lnTo>
                      <a:pt x="1483" y="2091"/>
                    </a:lnTo>
                    <a:lnTo>
                      <a:pt x="1879" y="2524"/>
                    </a:lnTo>
                    <a:lnTo>
                      <a:pt x="2278" y="2919"/>
                    </a:lnTo>
                    <a:lnTo>
                      <a:pt x="2678" y="3270"/>
                    </a:lnTo>
                    <a:lnTo>
                      <a:pt x="3077" y="3577"/>
                    </a:lnTo>
                    <a:lnTo>
                      <a:pt x="3471" y="3838"/>
                    </a:lnTo>
                    <a:lnTo>
                      <a:pt x="3857" y="4051"/>
                    </a:lnTo>
                    <a:lnTo>
                      <a:pt x="4232" y="4214"/>
                    </a:lnTo>
                    <a:lnTo>
                      <a:pt x="4594" y="4323"/>
                    </a:lnTo>
                    <a:lnTo>
                      <a:pt x="4938" y="4377"/>
                    </a:lnTo>
                    <a:lnTo>
                      <a:pt x="5264" y="4375"/>
                    </a:lnTo>
                    <a:lnTo>
                      <a:pt x="5567" y="4314"/>
                    </a:lnTo>
                    <a:lnTo>
                      <a:pt x="5845" y="4192"/>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70440" y="708480"/>
                <a:ext cx="3600" cy="3240"/>
              </a:xfrm>
              <a:custGeom>
                <a:avLst/>
                <a:gdLst/>
                <a:ahLst/>
                <a:rect l="l" t="t" r="r" b="b"/>
                <a:pathLst>
                  <a:path w="52" h="43">
                    <a:moveTo>
                      <a:pt x="12" y="43"/>
                    </a:moveTo>
                    <a:lnTo>
                      <a:pt x="0" y="23"/>
                    </a:lnTo>
                    <a:lnTo>
                      <a:pt x="41" y="0"/>
                    </a:lnTo>
                    <a:lnTo>
                      <a:pt x="52" y="20"/>
                    </a:lnTo>
                    <a:lnTo>
                      <a:pt x="12" y="43"/>
                    </a:lnTo>
                    <a:close/>
                  </a:path>
                </a:pathLst>
              </a:custGeom>
              <a:solidFill>
                <a:srgbClr val="a9d1e5"/>
              </a:solidFill>
              <a:ln w="0">
                <a:solidFill>
                  <a:srgbClr val="a9d1e5"/>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7" name=""/>
              <p:cNvSpPr/>
              <p:nvPr/>
            </p:nvSpPr>
            <p:spPr>
              <a:xfrm>
                <a:off x="82512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8" name=""/>
              <p:cNvSpPr/>
              <p:nvPr/>
            </p:nvSpPr>
            <p:spPr>
              <a:xfrm flipH="1" flipV="1">
                <a:off x="315720" y="165600"/>
                <a:ext cx="508320" cy="864000"/>
              </a:xfrm>
              <a:prstGeom prst="line">
                <a:avLst/>
              </a:prstGeom>
              <a:ln w="6480">
                <a:solidFill>
                  <a:srgbClr val="d4e8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34280" y="703800"/>
                <a:ext cx="492840" cy="164160"/>
              </a:xfrm>
              <a:custGeom>
                <a:avLst/>
                <a:gdLst/>
                <a:ahLst/>
                <a:rect l="l" t="t" r="r" b="b"/>
                <a:pathLst>
                  <a:path w="6360" h="2154">
                    <a:moveTo>
                      <a:pt x="0" y="1959"/>
                    </a:moveTo>
                    <a:lnTo>
                      <a:pt x="159" y="2053"/>
                    </a:lnTo>
                    <a:lnTo>
                      <a:pt x="357" y="2116"/>
                    </a:lnTo>
                    <a:lnTo>
                      <a:pt x="594" y="2150"/>
                    </a:lnTo>
                    <a:lnTo>
                      <a:pt x="869" y="2154"/>
                    </a:lnTo>
                    <a:lnTo>
                      <a:pt x="1178" y="2128"/>
                    </a:lnTo>
                    <a:lnTo>
                      <a:pt x="1520" y="2073"/>
                    </a:lnTo>
                    <a:lnTo>
                      <a:pt x="1894" y="1989"/>
                    </a:lnTo>
                    <a:lnTo>
                      <a:pt x="2297" y="1876"/>
                    </a:lnTo>
                    <a:lnTo>
                      <a:pt x="2727" y="1736"/>
                    </a:lnTo>
                    <a:lnTo>
                      <a:pt x="3183" y="1567"/>
                    </a:lnTo>
                    <a:lnTo>
                      <a:pt x="3664" y="1372"/>
                    </a:lnTo>
                    <a:lnTo>
                      <a:pt x="4165" y="1149"/>
                    </a:lnTo>
                    <a:lnTo>
                      <a:pt x="4689" y="900"/>
                    </a:lnTo>
                    <a:lnTo>
                      <a:pt x="5230" y="626"/>
                    </a:lnTo>
                    <a:lnTo>
                      <a:pt x="5787" y="325"/>
                    </a:lnTo>
                    <a:lnTo>
                      <a:pt x="636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33560" y="851760"/>
                <a:ext cx="1800" cy="2520"/>
              </a:xfrm>
              <a:custGeom>
                <a:avLst/>
                <a:gdLst/>
                <a:ahLst/>
                <a:rect l="l" t="t" r="r" b="b"/>
                <a:pathLst>
                  <a:path w="30" h="36">
                    <a:moveTo>
                      <a:pt x="0" y="36"/>
                    </a:moveTo>
                    <a:lnTo>
                      <a:pt x="30" y="0"/>
                    </a:lnTo>
                    <a:lnTo>
                      <a:pt x="0" y="36"/>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1" name=""/>
              <p:cNvSpPr/>
              <p:nvPr/>
            </p:nvSpPr>
            <p:spPr>
              <a:xfrm>
                <a:off x="626040" y="702000"/>
                <a:ext cx="1800" cy="252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2" name=""/>
              <p:cNvSpPr/>
              <p:nvPr/>
            </p:nvSpPr>
            <p:spPr>
              <a:xfrm>
                <a:off x="627120" y="349200"/>
                <a:ext cx="384480" cy="354600"/>
              </a:xfrm>
              <a:custGeom>
                <a:avLst/>
                <a:gdLst/>
                <a:ahLst/>
                <a:rect l="l" t="t" r="r" b="b"/>
                <a:pathLst>
                  <a:path w="4970" h="4633">
                    <a:moveTo>
                      <a:pt x="0" y="4633"/>
                    </a:moveTo>
                    <a:lnTo>
                      <a:pt x="563" y="4294"/>
                    </a:lnTo>
                    <a:lnTo>
                      <a:pt x="1096" y="3957"/>
                    </a:lnTo>
                    <a:lnTo>
                      <a:pt x="1597" y="3622"/>
                    </a:lnTo>
                    <a:lnTo>
                      <a:pt x="2064" y="3290"/>
                    </a:lnTo>
                    <a:lnTo>
                      <a:pt x="2500" y="2964"/>
                    </a:lnTo>
                    <a:lnTo>
                      <a:pt x="2902" y="2643"/>
                    </a:lnTo>
                    <a:lnTo>
                      <a:pt x="3270" y="2328"/>
                    </a:lnTo>
                    <a:lnTo>
                      <a:pt x="3603" y="2022"/>
                    </a:lnTo>
                    <a:lnTo>
                      <a:pt x="3901" y="1725"/>
                    </a:lnTo>
                    <a:lnTo>
                      <a:pt x="4164" y="1438"/>
                    </a:lnTo>
                    <a:lnTo>
                      <a:pt x="4391" y="1163"/>
                    </a:lnTo>
                    <a:lnTo>
                      <a:pt x="4582" y="900"/>
                    </a:lnTo>
                    <a:lnTo>
                      <a:pt x="4736" y="652"/>
                    </a:lnTo>
                    <a:lnTo>
                      <a:pt x="4852" y="418"/>
                    </a:lnTo>
                    <a:lnTo>
                      <a:pt x="4929" y="200"/>
                    </a:lnTo>
                    <a:lnTo>
                      <a:pt x="497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26040" y="702000"/>
                <a:ext cx="1800" cy="252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 name=""/>
              <p:cNvSpPr/>
              <p:nvPr/>
            </p:nvSpPr>
            <p:spPr>
              <a:xfrm>
                <a:off x="1010160" y="348120"/>
                <a:ext cx="3600" cy="720"/>
              </a:xfrm>
              <a:custGeom>
                <a:avLst/>
                <a:gdLst/>
                <a:ahLst/>
                <a:rect l="l" t="t" r="r" b="b"/>
                <a:pathLst>
                  <a:path w="47" h="4">
                    <a:moveTo>
                      <a:pt x="0" y="0"/>
                    </a:moveTo>
                    <a:lnTo>
                      <a:pt x="47" y="4"/>
                    </a:lnTo>
                    <a:lnTo>
                      <a:pt x="0" y="0"/>
                    </a:lnTo>
                    <a:close/>
                  </a:path>
                </a:pathLst>
              </a:custGeom>
              <a:solidFill>
                <a:srgbClr val="a9d1e5"/>
              </a:solidFill>
              <a:ln w="0">
                <a:solidFill>
                  <a:srgbClr val="a9d1e5"/>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5" name=""/>
              <p:cNvSpPr/>
              <p:nvPr/>
            </p:nvSpPr>
            <p:spPr>
              <a:xfrm>
                <a:off x="280440" y="866160"/>
                <a:ext cx="448920" cy="149400"/>
              </a:xfrm>
              <a:custGeom>
                <a:avLst/>
                <a:gdLst/>
                <a:ahLst/>
                <a:rect l="l" t="t" r="r" b="b"/>
                <a:pathLst>
                  <a:path w="5804" h="1962">
                    <a:moveTo>
                      <a:pt x="0" y="1819"/>
                    </a:moveTo>
                    <a:lnTo>
                      <a:pt x="78" y="1892"/>
                    </a:lnTo>
                    <a:lnTo>
                      <a:pt x="209" y="1940"/>
                    </a:lnTo>
                    <a:lnTo>
                      <a:pt x="392" y="1962"/>
                    </a:lnTo>
                    <a:lnTo>
                      <a:pt x="622" y="1960"/>
                    </a:lnTo>
                    <a:lnTo>
                      <a:pt x="895" y="1933"/>
                    </a:lnTo>
                    <a:lnTo>
                      <a:pt x="1208" y="1881"/>
                    </a:lnTo>
                    <a:lnTo>
                      <a:pt x="1559" y="1803"/>
                    </a:lnTo>
                    <a:lnTo>
                      <a:pt x="1941" y="1701"/>
                    </a:lnTo>
                    <a:lnTo>
                      <a:pt x="2355" y="1573"/>
                    </a:lnTo>
                    <a:lnTo>
                      <a:pt x="2795" y="1422"/>
                    </a:lnTo>
                    <a:lnTo>
                      <a:pt x="3258" y="1246"/>
                    </a:lnTo>
                    <a:lnTo>
                      <a:pt x="3741" y="1045"/>
                    </a:lnTo>
                    <a:lnTo>
                      <a:pt x="4241" y="820"/>
                    </a:lnTo>
                    <a:lnTo>
                      <a:pt x="4753" y="571"/>
                    </a:lnTo>
                    <a:lnTo>
                      <a:pt x="5275" y="298"/>
                    </a:lnTo>
                    <a:lnTo>
                      <a:pt x="5804"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78640" y="1004040"/>
                <a:ext cx="2520" cy="1440"/>
              </a:xfrm>
              <a:custGeom>
                <a:avLst/>
                <a:gdLst/>
                <a:ahLst/>
                <a:rect l="l" t="t" r="r" b="b"/>
                <a:pathLst>
                  <a:path w="40" h="24">
                    <a:moveTo>
                      <a:pt x="0" y="24"/>
                    </a:moveTo>
                    <a:lnTo>
                      <a:pt x="40"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728280" y="864360"/>
                <a:ext cx="1800" cy="2880"/>
              </a:xfrm>
              <a:custGeom>
                <a:avLst/>
                <a:gdLst/>
                <a:ahLst/>
                <a:rect l="l" t="t" r="r" b="b"/>
                <a:pathLst>
                  <a:path w="23" h="40">
                    <a:moveTo>
                      <a:pt x="0" y="0"/>
                    </a:moveTo>
                    <a:lnTo>
                      <a:pt x="23"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8" name=""/>
              <p:cNvSpPr/>
              <p:nvPr/>
            </p:nvSpPr>
            <p:spPr>
              <a:xfrm>
                <a:off x="729360" y="547560"/>
                <a:ext cx="345600" cy="318600"/>
              </a:xfrm>
              <a:custGeom>
                <a:avLst/>
                <a:gdLst/>
                <a:ahLst/>
                <a:rect l="l" t="t" r="r" b="b"/>
                <a:pathLst>
                  <a:path w="4456" h="4164">
                    <a:moveTo>
                      <a:pt x="0" y="4164"/>
                    </a:moveTo>
                    <a:lnTo>
                      <a:pt x="517" y="3849"/>
                    </a:lnTo>
                    <a:lnTo>
                      <a:pt x="1012" y="3529"/>
                    </a:lnTo>
                    <a:lnTo>
                      <a:pt x="1481" y="3205"/>
                    </a:lnTo>
                    <a:lnTo>
                      <a:pt x="1922" y="2881"/>
                    </a:lnTo>
                    <a:lnTo>
                      <a:pt x="2333" y="2559"/>
                    </a:lnTo>
                    <a:lnTo>
                      <a:pt x="2714" y="2241"/>
                    </a:lnTo>
                    <a:lnTo>
                      <a:pt x="3062" y="1933"/>
                    </a:lnTo>
                    <a:lnTo>
                      <a:pt x="3376" y="1635"/>
                    </a:lnTo>
                    <a:lnTo>
                      <a:pt x="3652" y="1351"/>
                    </a:lnTo>
                    <a:lnTo>
                      <a:pt x="3892" y="1083"/>
                    </a:lnTo>
                    <a:lnTo>
                      <a:pt x="4092" y="837"/>
                    </a:lnTo>
                    <a:lnTo>
                      <a:pt x="4249" y="612"/>
                    </a:lnTo>
                    <a:lnTo>
                      <a:pt x="4364" y="413"/>
                    </a:lnTo>
                    <a:lnTo>
                      <a:pt x="4433" y="242"/>
                    </a:lnTo>
                    <a:lnTo>
                      <a:pt x="4456" y="104"/>
                    </a:lnTo>
                    <a:lnTo>
                      <a:pt x="4431"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28280" y="864360"/>
                <a:ext cx="1800" cy="2880"/>
              </a:xfrm>
              <a:custGeom>
                <a:avLst/>
                <a:gdLst/>
                <a:ahLst/>
                <a:rect l="l" t="t" r="r" b="b"/>
                <a:pathLst>
                  <a:path w="23" h="40">
                    <a:moveTo>
                      <a:pt x="23" y="40"/>
                    </a:moveTo>
                    <a:lnTo>
                      <a:pt x="0" y="0"/>
                    </a:lnTo>
                    <a:lnTo>
                      <a:pt x="23" y="4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a:off x="1071360" y="546840"/>
                <a:ext cx="2880" cy="1440"/>
              </a:xfrm>
              <a:custGeom>
                <a:avLst/>
                <a:gdLst/>
                <a:ahLst/>
                <a:rect l="l" t="t" r="r" b="b"/>
                <a:pathLst>
                  <a:path w="41" h="24">
                    <a:moveTo>
                      <a:pt x="0" y="24"/>
                    </a:moveTo>
                    <a:lnTo>
                      <a:pt x="41"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64800" y="502560"/>
                <a:ext cx="449640" cy="149400"/>
              </a:xfrm>
              <a:custGeom>
                <a:avLst/>
                <a:gdLst/>
                <a:ahLst/>
                <a:rect l="l" t="t" r="r" b="b"/>
                <a:pathLst>
                  <a:path w="5803" h="1963">
                    <a:moveTo>
                      <a:pt x="0" y="1818"/>
                    </a:moveTo>
                    <a:lnTo>
                      <a:pt x="78" y="1891"/>
                    </a:lnTo>
                    <a:lnTo>
                      <a:pt x="210" y="1939"/>
                    </a:lnTo>
                    <a:lnTo>
                      <a:pt x="393" y="1963"/>
                    </a:lnTo>
                    <a:lnTo>
                      <a:pt x="622" y="1960"/>
                    </a:lnTo>
                    <a:lnTo>
                      <a:pt x="895" y="1933"/>
                    </a:lnTo>
                    <a:lnTo>
                      <a:pt x="1208" y="1880"/>
                    </a:lnTo>
                    <a:lnTo>
                      <a:pt x="1559" y="1803"/>
                    </a:lnTo>
                    <a:lnTo>
                      <a:pt x="1941" y="1701"/>
                    </a:lnTo>
                    <a:lnTo>
                      <a:pt x="2355" y="1573"/>
                    </a:lnTo>
                    <a:lnTo>
                      <a:pt x="2795" y="1423"/>
                    </a:lnTo>
                    <a:lnTo>
                      <a:pt x="3259" y="1246"/>
                    </a:lnTo>
                    <a:lnTo>
                      <a:pt x="3741" y="1045"/>
                    </a:lnTo>
                    <a:lnTo>
                      <a:pt x="4240" y="820"/>
                    </a:lnTo>
                    <a:lnTo>
                      <a:pt x="4752" y="571"/>
                    </a:lnTo>
                    <a:lnTo>
                      <a:pt x="5274" y="298"/>
                    </a:lnTo>
                    <a:lnTo>
                      <a:pt x="5803"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3720" y="64044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513720" y="500760"/>
                <a:ext cx="1440" cy="360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4" name=""/>
              <p:cNvSpPr/>
              <p:nvPr/>
            </p:nvSpPr>
            <p:spPr>
              <a:xfrm>
                <a:off x="514440" y="183960"/>
                <a:ext cx="344880" cy="318600"/>
              </a:xfrm>
              <a:custGeom>
                <a:avLst/>
                <a:gdLst/>
                <a:ahLst/>
                <a:rect l="l" t="t" r="r" b="b"/>
                <a:pathLst>
                  <a:path w="4457" h="4164">
                    <a:moveTo>
                      <a:pt x="0" y="4164"/>
                    </a:moveTo>
                    <a:lnTo>
                      <a:pt x="517" y="3849"/>
                    </a:lnTo>
                    <a:lnTo>
                      <a:pt x="1012" y="3529"/>
                    </a:lnTo>
                    <a:lnTo>
                      <a:pt x="1481" y="3205"/>
                    </a:lnTo>
                    <a:lnTo>
                      <a:pt x="1922" y="2881"/>
                    </a:lnTo>
                    <a:lnTo>
                      <a:pt x="2334" y="2559"/>
                    </a:lnTo>
                    <a:lnTo>
                      <a:pt x="2715" y="2241"/>
                    </a:lnTo>
                    <a:lnTo>
                      <a:pt x="3063" y="1933"/>
                    </a:lnTo>
                    <a:lnTo>
                      <a:pt x="3376" y="1635"/>
                    </a:lnTo>
                    <a:lnTo>
                      <a:pt x="3654" y="1351"/>
                    </a:lnTo>
                    <a:lnTo>
                      <a:pt x="3893" y="1083"/>
                    </a:lnTo>
                    <a:lnTo>
                      <a:pt x="4092" y="837"/>
                    </a:lnTo>
                    <a:lnTo>
                      <a:pt x="4250" y="612"/>
                    </a:lnTo>
                    <a:lnTo>
                      <a:pt x="4365" y="414"/>
                    </a:lnTo>
                    <a:lnTo>
                      <a:pt x="4434" y="242"/>
                    </a:lnTo>
                    <a:lnTo>
                      <a:pt x="4457" y="104"/>
                    </a:lnTo>
                    <a:lnTo>
                      <a:pt x="4432"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13720" y="500760"/>
                <a:ext cx="1440" cy="360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6" name=""/>
              <p:cNvSpPr/>
              <p:nvPr/>
            </p:nvSpPr>
            <p:spPr>
              <a:xfrm>
                <a:off x="856800" y="18288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105480" y="304200"/>
                <a:ext cx="291600" cy="94680"/>
              </a:xfrm>
              <a:custGeom>
                <a:avLst/>
                <a:gdLst/>
                <a:ahLst/>
                <a:rect l="l" t="t" r="r" b="b"/>
                <a:pathLst>
                  <a:path w="3769" h="1227">
                    <a:moveTo>
                      <a:pt x="0" y="1199"/>
                    </a:moveTo>
                    <a:lnTo>
                      <a:pt x="54" y="1218"/>
                    </a:lnTo>
                    <a:lnTo>
                      <a:pt x="143" y="1227"/>
                    </a:lnTo>
                    <a:lnTo>
                      <a:pt x="263" y="1227"/>
                    </a:lnTo>
                    <a:lnTo>
                      <a:pt x="413" y="1216"/>
                    </a:lnTo>
                    <a:lnTo>
                      <a:pt x="590" y="1193"/>
                    </a:lnTo>
                    <a:lnTo>
                      <a:pt x="793" y="1158"/>
                    </a:lnTo>
                    <a:lnTo>
                      <a:pt x="1021" y="1110"/>
                    </a:lnTo>
                    <a:lnTo>
                      <a:pt x="1268" y="1050"/>
                    </a:lnTo>
                    <a:lnTo>
                      <a:pt x="1535" y="974"/>
                    </a:lnTo>
                    <a:lnTo>
                      <a:pt x="1819" y="885"/>
                    </a:lnTo>
                    <a:lnTo>
                      <a:pt x="2119" y="780"/>
                    </a:lnTo>
                    <a:lnTo>
                      <a:pt x="2430" y="659"/>
                    </a:lnTo>
                    <a:lnTo>
                      <a:pt x="2755" y="520"/>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04400" y="395280"/>
                <a:ext cx="1800" cy="252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9" name=""/>
              <p:cNvSpPr/>
              <p:nvPr/>
            </p:nvSpPr>
            <p:spPr>
              <a:xfrm>
                <a:off x="396720" y="303120"/>
                <a:ext cx="1800" cy="2520"/>
              </a:xfrm>
              <a:custGeom>
                <a:avLst/>
                <a:gdLst/>
                <a:ahLst/>
                <a:rect l="l" t="t" r="r" b="b"/>
                <a:pathLst>
                  <a:path w="24" h="41">
                    <a:moveTo>
                      <a:pt x="0" y="0"/>
                    </a:moveTo>
                    <a:lnTo>
                      <a:pt x="24" y="41"/>
                    </a:lnTo>
                    <a:lnTo>
                      <a:pt x="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 name=""/>
              <p:cNvSpPr/>
              <p:nvPr/>
            </p:nvSpPr>
            <p:spPr>
              <a:xfrm>
                <a:off x="397440" y="98640"/>
                <a:ext cx="223920" cy="205560"/>
              </a:xfrm>
              <a:custGeom>
                <a:avLst/>
                <a:gdLst/>
                <a:ahLst/>
                <a:rect l="l" t="t" r="r" b="b"/>
                <a:pathLst>
                  <a:path w="2896" h="2696">
                    <a:moveTo>
                      <a:pt x="0" y="2696"/>
                    </a:moveTo>
                    <a:lnTo>
                      <a:pt x="334" y="2490"/>
                    </a:lnTo>
                    <a:lnTo>
                      <a:pt x="648" y="2281"/>
                    </a:lnTo>
                    <a:lnTo>
                      <a:pt x="943" y="2069"/>
                    </a:lnTo>
                    <a:lnTo>
                      <a:pt x="1216" y="1858"/>
                    </a:lnTo>
                    <a:lnTo>
                      <a:pt x="1469" y="1646"/>
                    </a:lnTo>
                    <a:lnTo>
                      <a:pt x="1702" y="1439"/>
                    </a:lnTo>
                    <a:lnTo>
                      <a:pt x="1915" y="1237"/>
                    </a:lnTo>
                    <a:lnTo>
                      <a:pt x="2106" y="1042"/>
                    </a:lnTo>
                    <a:lnTo>
                      <a:pt x="2277" y="857"/>
                    </a:lnTo>
                    <a:lnTo>
                      <a:pt x="2427" y="684"/>
                    </a:lnTo>
                    <a:lnTo>
                      <a:pt x="2557" y="525"/>
                    </a:lnTo>
                    <a:lnTo>
                      <a:pt x="2666" y="380"/>
                    </a:lnTo>
                    <a:lnTo>
                      <a:pt x="2754" y="254"/>
                    </a:lnTo>
                    <a:lnTo>
                      <a:pt x="2822" y="146"/>
                    </a:lnTo>
                    <a:lnTo>
                      <a:pt x="2869" y="61"/>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6720" y="303120"/>
                <a:ext cx="1800" cy="2520"/>
              </a:xfrm>
              <a:custGeom>
                <a:avLst/>
                <a:gdLst/>
                <a:ahLst/>
                <a:rect l="l" t="t" r="r" b="b"/>
                <a:pathLst>
                  <a:path w="24" h="41">
                    <a:moveTo>
                      <a:pt x="24" y="41"/>
                    </a:moveTo>
                    <a:lnTo>
                      <a:pt x="0" y="0"/>
                    </a:lnTo>
                    <a:lnTo>
                      <a:pt x="24" y="41"/>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2" name=""/>
              <p:cNvSpPr/>
              <p:nvPr/>
            </p:nvSpPr>
            <p:spPr>
              <a:xfrm>
                <a:off x="619560" y="97560"/>
                <a:ext cx="3600" cy="720"/>
              </a:xfrm>
              <a:custGeom>
                <a:avLst/>
                <a:gdLst/>
                <a:ahLst/>
                <a:rect l="l" t="t" r="r" b="b"/>
                <a:pathLst>
                  <a:path w="44" h="13">
                    <a:moveTo>
                      <a:pt x="0" y="0"/>
                    </a:moveTo>
                    <a:lnTo>
                      <a:pt x="44" y="13"/>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pic>
          <p:nvPicPr>
            <p:cNvPr id="683" name="" descr=""/>
            <p:cNvPicPr/>
            <p:nvPr/>
          </p:nvPicPr>
          <p:blipFill>
            <a:blip r:embed="rId1"/>
            <a:stretch/>
          </p:blipFill>
          <p:spPr>
            <a:xfrm>
              <a:off x="75960" y="6261120"/>
              <a:ext cx="532800" cy="520560"/>
            </a:xfrm>
            <a:prstGeom prst="rect">
              <a:avLst/>
            </a:prstGeom>
            <a:ln w="0">
              <a:noFill/>
            </a:ln>
          </p:spPr>
        </p:pic>
        <p:sp>
          <p:nvSpPr>
            <p:cNvPr id="684" name=""/>
            <p:cNvSpPr/>
            <p:nvPr/>
          </p:nvSpPr>
          <p:spPr>
            <a:xfrm>
              <a:off x="2152080" y="6521400"/>
              <a:ext cx="18360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5" name="PlaceHolder 1"/>
          <p:cNvSpPr>
            <a:spLocks noGrp="1"/>
          </p:cNvSpPr>
          <p:nvPr>
            <p:ph/>
          </p:nvPr>
        </p:nvSpPr>
        <p:spPr>
          <a:xfrm>
            <a:off x="1066320" y="2895120"/>
            <a:ext cx="8759880" cy="3048120"/>
          </a:xfrm>
          <a:prstGeom prst="rect">
            <a:avLst/>
          </a:prstGeom>
          <a:noFill/>
          <a:ln w="0">
            <a:noFill/>
          </a:ln>
        </p:spPr>
        <p:txBody>
          <a:bodyPr lIns="90360" rIns="90360" tIns="44280" bIns="442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oyota Quality Assurance</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for building quality into the work process</a:t>
            </a:r>
            <a:endParaRPr b="0" lang="en-US" sz="2000" spc="-1" strike="noStrike">
              <a:solidFill>
                <a:srgbClr val="000000"/>
              </a:solidFill>
              <a:latin typeface="Arial"/>
            </a:endParaRPr>
          </a:p>
          <a:p>
            <a:pPr marL="457200" indent="-45720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for assuring quality with rigorous inspection</a:t>
            </a:r>
            <a:endParaRPr b="0" lang="en-US" sz="2000" spc="-1" strike="noStrike">
              <a:solidFill>
                <a:srgbClr val="000000"/>
              </a:solidFill>
              <a:latin typeface="Arial"/>
            </a:endParaRPr>
          </a:p>
          <a:p>
            <a:pPr marL="457200" indent="-45720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for auditing that  (1)    and   (2)   are  executed correctly.</a:t>
            </a:r>
            <a:endParaRPr b="0" lang="en-US" sz="2000" spc="-1" strike="noStrike">
              <a:solidFill>
                <a:srgbClr val="000000"/>
              </a:solidFill>
              <a:latin typeface="Arial"/>
            </a:endParaRPr>
          </a:p>
          <a:p>
            <a:pPr lvl="4" marL="213372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
          <p:cNvSpPr/>
          <p:nvPr/>
        </p:nvSpPr>
        <p:spPr>
          <a:xfrm>
            <a:off x="6780240" y="548640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Quality Audits )</a:t>
            </a:r>
            <a:endParaRPr b="0" lang="en-US" sz="2400" spc="-1" strike="noStrike">
              <a:solidFill>
                <a:srgbClr val="000000"/>
              </a:solidFill>
              <a:latin typeface="Times New Roman"/>
            </a:endParaRPr>
          </a:p>
        </p:txBody>
      </p:sp>
      <p:sp>
        <p:nvSpPr>
          <p:cNvPr id="687" name=""/>
          <p:cNvSpPr/>
          <p:nvPr/>
        </p:nvSpPr>
        <p:spPr>
          <a:xfrm>
            <a:off x="1143000" y="838080"/>
            <a:ext cx="8302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Sebelum menerapkan TQM, banyak perusahaan yang mengintroduksi TQC terlebih dahulu, seperti halnya Toyota Motor Corp. di Japan mengintroduksi TQC pada tahun 1961.</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FF69F68-3C8A-4578-A63D-348D9281A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685800" cy="6858000"/>
          </a:xfrm>
          <a:prstGeom prst="rect">
            <a:avLst/>
          </a:prstGeom>
          <a:gradFill rotWithShape="0">
            <a:gsLst>
              <a:gs pos="0">
                <a:srgbClr val="00336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9" name="" descr=""/>
          <p:cNvPicPr/>
          <p:nvPr/>
        </p:nvPicPr>
        <p:blipFill>
          <a:blip r:embed="rId1"/>
          <a:stretch/>
        </p:blipFill>
        <p:spPr>
          <a:xfrm>
            <a:off x="76320" y="6261120"/>
            <a:ext cx="533160" cy="520560"/>
          </a:xfrm>
          <a:prstGeom prst="rect">
            <a:avLst/>
          </a:prstGeom>
          <a:ln w="0">
            <a:noFill/>
          </a:ln>
        </p:spPr>
      </p:pic>
      <p:sp>
        <p:nvSpPr>
          <p:cNvPr id="690" name=""/>
          <p:cNvSpPr/>
          <p:nvPr/>
        </p:nvSpPr>
        <p:spPr>
          <a:xfrm>
            <a:off x="304920" y="0"/>
            <a:ext cx="0" cy="617220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228600"/>
            <a:ext cx="9217080" cy="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63360" y="96840"/>
            <a:ext cx="1014480" cy="1001880"/>
            <a:chOff x="63360" y="96840"/>
            <a:chExt cx="1014480" cy="1001880"/>
          </a:xfrm>
        </p:grpSpPr>
        <p:sp>
          <p:nvSpPr>
            <p:cNvPr id="693" name=""/>
            <p:cNvSpPr/>
            <p:nvPr/>
          </p:nvSpPr>
          <p:spPr>
            <a:xfrm>
              <a:off x="69840" y="101160"/>
              <a:ext cx="1004040" cy="990720"/>
            </a:xfrm>
            <a:custGeom>
              <a:avLst/>
              <a:gdLst/>
              <a:ahLst/>
              <a:rect l="l" t="t" r="r" b="b"/>
              <a:pathLst>
                <a:path w="12952" h="12953">
                  <a:moveTo>
                    <a:pt x="2850" y="11843"/>
                  </a:moveTo>
                  <a:lnTo>
                    <a:pt x="3417" y="12185"/>
                  </a:lnTo>
                  <a:lnTo>
                    <a:pt x="4004" y="12463"/>
                  </a:lnTo>
                  <a:lnTo>
                    <a:pt x="4608" y="12679"/>
                  </a:lnTo>
                  <a:lnTo>
                    <a:pt x="5223" y="12831"/>
                  </a:lnTo>
                  <a:lnTo>
                    <a:pt x="5845" y="12923"/>
                  </a:lnTo>
                  <a:lnTo>
                    <a:pt x="6469" y="12953"/>
                  </a:lnTo>
                  <a:lnTo>
                    <a:pt x="7090" y="12924"/>
                  </a:lnTo>
                  <a:lnTo>
                    <a:pt x="7705" y="12834"/>
                  </a:lnTo>
                  <a:lnTo>
                    <a:pt x="8309" y="12688"/>
                  </a:lnTo>
                  <a:lnTo>
                    <a:pt x="8897" y="12484"/>
                  </a:lnTo>
                  <a:lnTo>
                    <a:pt x="9465" y="12223"/>
                  </a:lnTo>
                  <a:lnTo>
                    <a:pt x="10008" y="11907"/>
                  </a:lnTo>
                  <a:lnTo>
                    <a:pt x="10521" y="11536"/>
                  </a:lnTo>
                  <a:lnTo>
                    <a:pt x="11001" y="11111"/>
                  </a:lnTo>
                  <a:lnTo>
                    <a:pt x="11442" y="10634"/>
                  </a:lnTo>
                  <a:lnTo>
                    <a:pt x="11841" y="10104"/>
                  </a:lnTo>
                  <a:lnTo>
                    <a:pt x="12183" y="9537"/>
                  </a:lnTo>
                  <a:lnTo>
                    <a:pt x="12463" y="8949"/>
                  </a:lnTo>
                  <a:lnTo>
                    <a:pt x="12677" y="8345"/>
                  </a:lnTo>
                  <a:lnTo>
                    <a:pt x="12830" y="7731"/>
                  </a:lnTo>
                  <a:lnTo>
                    <a:pt x="12922" y="7109"/>
                  </a:lnTo>
                  <a:lnTo>
                    <a:pt x="12952" y="6485"/>
                  </a:lnTo>
                  <a:lnTo>
                    <a:pt x="12922" y="5863"/>
                  </a:lnTo>
                  <a:lnTo>
                    <a:pt x="12834" y="5247"/>
                  </a:lnTo>
                  <a:lnTo>
                    <a:pt x="12687" y="4643"/>
                  </a:lnTo>
                  <a:lnTo>
                    <a:pt x="12483" y="4056"/>
                  </a:lnTo>
                  <a:lnTo>
                    <a:pt x="12221" y="3488"/>
                  </a:lnTo>
                  <a:lnTo>
                    <a:pt x="11906" y="2945"/>
                  </a:lnTo>
                  <a:lnTo>
                    <a:pt x="11535" y="2431"/>
                  </a:lnTo>
                  <a:lnTo>
                    <a:pt x="11109" y="1952"/>
                  </a:lnTo>
                  <a:lnTo>
                    <a:pt x="10632" y="1511"/>
                  </a:lnTo>
                  <a:lnTo>
                    <a:pt x="10103" y="1113"/>
                  </a:lnTo>
                  <a:lnTo>
                    <a:pt x="9535" y="770"/>
                  </a:lnTo>
                  <a:lnTo>
                    <a:pt x="8947" y="490"/>
                  </a:lnTo>
                  <a:lnTo>
                    <a:pt x="8343" y="275"/>
                  </a:lnTo>
                  <a:lnTo>
                    <a:pt x="7729" y="122"/>
                  </a:lnTo>
                  <a:lnTo>
                    <a:pt x="7107" y="31"/>
                  </a:lnTo>
                  <a:lnTo>
                    <a:pt x="6483" y="0"/>
                  </a:lnTo>
                  <a:lnTo>
                    <a:pt x="5862" y="30"/>
                  </a:lnTo>
                  <a:lnTo>
                    <a:pt x="5246" y="119"/>
                  </a:lnTo>
                  <a:lnTo>
                    <a:pt x="4642" y="266"/>
                  </a:lnTo>
                  <a:lnTo>
                    <a:pt x="4054" y="470"/>
                  </a:lnTo>
                  <a:lnTo>
                    <a:pt x="3487" y="730"/>
                  </a:lnTo>
                  <a:lnTo>
                    <a:pt x="2943" y="1047"/>
                  </a:lnTo>
                  <a:lnTo>
                    <a:pt x="2430" y="1418"/>
                  </a:lnTo>
                  <a:lnTo>
                    <a:pt x="1951" y="1842"/>
                  </a:lnTo>
                  <a:lnTo>
                    <a:pt x="1509" y="2321"/>
                  </a:lnTo>
                  <a:lnTo>
                    <a:pt x="1112" y="2851"/>
                  </a:lnTo>
                  <a:lnTo>
                    <a:pt x="768" y="3418"/>
                  </a:lnTo>
                  <a:lnTo>
                    <a:pt x="489" y="4006"/>
                  </a:lnTo>
                  <a:lnTo>
                    <a:pt x="274" y="4609"/>
                  </a:lnTo>
                  <a:lnTo>
                    <a:pt x="121" y="5224"/>
                  </a:lnTo>
                  <a:lnTo>
                    <a:pt x="29" y="5846"/>
                  </a:lnTo>
                  <a:lnTo>
                    <a:pt x="0" y="6470"/>
                  </a:lnTo>
                  <a:lnTo>
                    <a:pt x="29" y="7092"/>
                  </a:lnTo>
                  <a:lnTo>
                    <a:pt x="118" y="7706"/>
                  </a:lnTo>
                  <a:lnTo>
                    <a:pt x="264" y="8310"/>
                  </a:lnTo>
                  <a:lnTo>
                    <a:pt x="469" y="8898"/>
                  </a:lnTo>
                  <a:lnTo>
                    <a:pt x="730" y="9466"/>
                  </a:lnTo>
                  <a:lnTo>
                    <a:pt x="1046" y="10009"/>
                  </a:lnTo>
                  <a:lnTo>
                    <a:pt x="1417" y="10522"/>
                  </a:lnTo>
                  <a:lnTo>
                    <a:pt x="1842" y="11002"/>
                  </a:lnTo>
                  <a:lnTo>
                    <a:pt x="2319" y="11444"/>
                  </a:lnTo>
                  <a:lnTo>
                    <a:pt x="2850" y="11843"/>
                  </a:lnTo>
                  <a:close/>
                </a:path>
              </a:pathLst>
            </a:custGeom>
            <a:solidFill>
              <a:srgbClr val="0c26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8840" y="104040"/>
              <a:ext cx="991080" cy="977760"/>
            </a:xfrm>
            <a:custGeom>
              <a:avLst/>
              <a:gdLst/>
              <a:ahLst/>
              <a:rect l="l" t="t" r="r" b="b"/>
              <a:pathLst>
                <a:path w="12791" h="12791">
                  <a:moveTo>
                    <a:pt x="2815" y="11694"/>
                  </a:moveTo>
                  <a:lnTo>
                    <a:pt x="3374" y="12032"/>
                  </a:lnTo>
                  <a:lnTo>
                    <a:pt x="3955" y="12307"/>
                  </a:lnTo>
                  <a:lnTo>
                    <a:pt x="4551" y="12520"/>
                  </a:lnTo>
                  <a:lnTo>
                    <a:pt x="5158" y="12671"/>
                  </a:lnTo>
                  <a:lnTo>
                    <a:pt x="5772" y="12761"/>
                  </a:lnTo>
                  <a:lnTo>
                    <a:pt x="6388" y="12791"/>
                  </a:lnTo>
                  <a:lnTo>
                    <a:pt x="7003" y="12762"/>
                  </a:lnTo>
                  <a:lnTo>
                    <a:pt x="7610" y="12674"/>
                  </a:lnTo>
                  <a:lnTo>
                    <a:pt x="8206" y="12529"/>
                  </a:lnTo>
                  <a:lnTo>
                    <a:pt x="8787" y="12327"/>
                  </a:lnTo>
                  <a:lnTo>
                    <a:pt x="9347" y="12070"/>
                  </a:lnTo>
                  <a:lnTo>
                    <a:pt x="9884" y="11757"/>
                  </a:lnTo>
                  <a:lnTo>
                    <a:pt x="10391" y="11391"/>
                  </a:lnTo>
                  <a:lnTo>
                    <a:pt x="10864" y="10972"/>
                  </a:lnTo>
                  <a:lnTo>
                    <a:pt x="11300" y="10500"/>
                  </a:lnTo>
                  <a:lnTo>
                    <a:pt x="11694" y="9977"/>
                  </a:lnTo>
                  <a:lnTo>
                    <a:pt x="12032" y="9417"/>
                  </a:lnTo>
                  <a:lnTo>
                    <a:pt x="12308" y="8836"/>
                  </a:lnTo>
                  <a:lnTo>
                    <a:pt x="12520" y="8240"/>
                  </a:lnTo>
                  <a:lnTo>
                    <a:pt x="12671" y="7633"/>
                  </a:lnTo>
                  <a:lnTo>
                    <a:pt x="12762" y="7019"/>
                  </a:lnTo>
                  <a:lnTo>
                    <a:pt x="12791" y="6403"/>
                  </a:lnTo>
                  <a:lnTo>
                    <a:pt x="12762" y="5788"/>
                  </a:lnTo>
                  <a:lnTo>
                    <a:pt x="12674" y="5181"/>
                  </a:lnTo>
                  <a:lnTo>
                    <a:pt x="12529" y="4585"/>
                  </a:lnTo>
                  <a:lnTo>
                    <a:pt x="12328" y="4004"/>
                  </a:lnTo>
                  <a:lnTo>
                    <a:pt x="12069" y="3444"/>
                  </a:lnTo>
                  <a:lnTo>
                    <a:pt x="11758" y="2907"/>
                  </a:lnTo>
                  <a:lnTo>
                    <a:pt x="11391" y="2400"/>
                  </a:lnTo>
                  <a:lnTo>
                    <a:pt x="10971" y="1927"/>
                  </a:lnTo>
                  <a:lnTo>
                    <a:pt x="10500" y="1491"/>
                  </a:lnTo>
                  <a:lnTo>
                    <a:pt x="9977" y="1098"/>
                  </a:lnTo>
                  <a:lnTo>
                    <a:pt x="9416" y="759"/>
                  </a:lnTo>
                  <a:lnTo>
                    <a:pt x="8835" y="484"/>
                  </a:lnTo>
                  <a:lnTo>
                    <a:pt x="8240" y="271"/>
                  </a:lnTo>
                  <a:lnTo>
                    <a:pt x="7632" y="120"/>
                  </a:lnTo>
                  <a:lnTo>
                    <a:pt x="7019" y="30"/>
                  </a:lnTo>
                  <a:lnTo>
                    <a:pt x="6402" y="0"/>
                  </a:lnTo>
                  <a:lnTo>
                    <a:pt x="5789" y="29"/>
                  </a:lnTo>
                  <a:lnTo>
                    <a:pt x="5180" y="117"/>
                  </a:lnTo>
                  <a:lnTo>
                    <a:pt x="4584" y="261"/>
                  </a:lnTo>
                  <a:lnTo>
                    <a:pt x="4004" y="463"/>
                  </a:lnTo>
                  <a:lnTo>
                    <a:pt x="3443" y="721"/>
                  </a:lnTo>
                  <a:lnTo>
                    <a:pt x="2906" y="1033"/>
                  </a:lnTo>
                  <a:lnTo>
                    <a:pt x="2399" y="1400"/>
                  </a:lnTo>
                  <a:lnTo>
                    <a:pt x="1926" y="1819"/>
                  </a:lnTo>
                  <a:lnTo>
                    <a:pt x="1490" y="2291"/>
                  </a:lnTo>
                  <a:lnTo>
                    <a:pt x="1097" y="2815"/>
                  </a:lnTo>
                  <a:lnTo>
                    <a:pt x="758" y="3374"/>
                  </a:lnTo>
                  <a:lnTo>
                    <a:pt x="483" y="3954"/>
                  </a:lnTo>
                  <a:lnTo>
                    <a:pt x="270" y="4551"/>
                  </a:lnTo>
                  <a:lnTo>
                    <a:pt x="119" y="5158"/>
                  </a:lnTo>
                  <a:lnTo>
                    <a:pt x="30" y="5771"/>
                  </a:lnTo>
                  <a:lnTo>
                    <a:pt x="0" y="6388"/>
                  </a:lnTo>
                  <a:lnTo>
                    <a:pt x="29" y="7002"/>
                  </a:lnTo>
                  <a:lnTo>
                    <a:pt x="117" y="7609"/>
                  </a:lnTo>
                  <a:lnTo>
                    <a:pt x="261" y="8206"/>
                  </a:lnTo>
                  <a:lnTo>
                    <a:pt x="463" y="8786"/>
                  </a:lnTo>
                  <a:lnTo>
                    <a:pt x="721" y="9346"/>
                  </a:lnTo>
                  <a:lnTo>
                    <a:pt x="1033" y="9883"/>
                  </a:lnTo>
                  <a:lnTo>
                    <a:pt x="1400" y="10390"/>
                  </a:lnTo>
                  <a:lnTo>
                    <a:pt x="1819" y="10863"/>
                  </a:lnTo>
                  <a:lnTo>
                    <a:pt x="2291" y="11299"/>
                  </a:lnTo>
                  <a:lnTo>
                    <a:pt x="2815" y="11694"/>
                  </a:lnTo>
                  <a:close/>
                </a:path>
              </a:pathLst>
            </a:custGeom>
            <a:solidFill>
              <a:srgbClr val="0e2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200" y="105840"/>
              <a:ext cx="978840" cy="966960"/>
            </a:xfrm>
            <a:custGeom>
              <a:avLst/>
              <a:gdLst/>
              <a:ahLst/>
              <a:rect l="l" t="t" r="r" b="b"/>
              <a:pathLst>
                <a:path w="12632" h="12630">
                  <a:moveTo>
                    <a:pt x="2780" y="11547"/>
                  </a:moveTo>
                  <a:lnTo>
                    <a:pt x="3333" y="11881"/>
                  </a:lnTo>
                  <a:lnTo>
                    <a:pt x="3906" y="12153"/>
                  </a:lnTo>
                  <a:lnTo>
                    <a:pt x="4495" y="12363"/>
                  </a:lnTo>
                  <a:lnTo>
                    <a:pt x="5094" y="12512"/>
                  </a:lnTo>
                  <a:lnTo>
                    <a:pt x="5700" y="12600"/>
                  </a:lnTo>
                  <a:lnTo>
                    <a:pt x="6309" y="12630"/>
                  </a:lnTo>
                  <a:lnTo>
                    <a:pt x="6916" y="12601"/>
                  </a:lnTo>
                  <a:lnTo>
                    <a:pt x="7515" y="12515"/>
                  </a:lnTo>
                  <a:lnTo>
                    <a:pt x="8104" y="12372"/>
                  </a:lnTo>
                  <a:lnTo>
                    <a:pt x="8677" y="12172"/>
                  </a:lnTo>
                  <a:lnTo>
                    <a:pt x="9231" y="11918"/>
                  </a:lnTo>
                  <a:lnTo>
                    <a:pt x="9761" y="11610"/>
                  </a:lnTo>
                  <a:lnTo>
                    <a:pt x="10261" y="11247"/>
                  </a:lnTo>
                  <a:lnTo>
                    <a:pt x="10729" y="10834"/>
                  </a:lnTo>
                  <a:lnTo>
                    <a:pt x="11160" y="10368"/>
                  </a:lnTo>
                  <a:lnTo>
                    <a:pt x="11549" y="9851"/>
                  </a:lnTo>
                  <a:lnTo>
                    <a:pt x="11882" y="9297"/>
                  </a:lnTo>
                  <a:lnTo>
                    <a:pt x="12155" y="8724"/>
                  </a:lnTo>
                  <a:lnTo>
                    <a:pt x="12364" y="8137"/>
                  </a:lnTo>
                  <a:lnTo>
                    <a:pt x="12513" y="7537"/>
                  </a:lnTo>
                  <a:lnTo>
                    <a:pt x="12602" y="6931"/>
                  </a:lnTo>
                  <a:lnTo>
                    <a:pt x="12632" y="6322"/>
                  </a:lnTo>
                  <a:lnTo>
                    <a:pt x="12602" y="5716"/>
                  </a:lnTo>
                  <a:lnTo>
                    <a:pt x="12516" y="5116"/>
                  </a:lnTo>
                  <a:lnTo>
                    <a:pt x="12373" y="4527"/>
                  </a:lnTo>
                  <a:lnTo>
                    <a:pt x="12174" y="3954"/>
                  </a:lnTo>
                  <a:lnTo>
                    <a:pt x="11919" y="3401"/>
                  </a:lnTo>
                  <a:lnTo>
                    <a:pt x="11610" y="2871"/>
                  </a:lnTo>
                  <a:lnTo>
                    <a:pt x="11249" y="2370"/>
                  </a:lnTo>
                  <a:lnTo>
                    <a:pt x="10834" y="1903"/>
                  </a:lnTo>
                  <a:lnTo>
                    <a:pt x="10369" y="1472"/>
                  </a:lnTo>
                  <a:lnTo>
                    <a:pt x="9853" y="1084"/>
                  </a:lnTo>
                  <a:lnTo>
                    <a:pt x="9299" y="749"/>
                  </a:lnTo>
                  <a:lnTo>
                    <a:pt x="8726" y="477"/>
                  </a:lnTo>
                  <a:lnTo>
                    <a:pt x="8138" y="267"/>
                  </a:lnTo>
                  <a:lnTo>
                    <a:pt x="7539" y="118"/>
                  </a:lnTo>
                  <a:lnTo>
                    <a:pt x="6932" y="28"/>
                  </a:lnTo>
                  <a:lnTo>
                    <a:pt x="6323" y="0"/>
                  </a:lnTo>
                  <a:lnTo>
                    <a:pt x="5717" y="28"/>
                  </a:lnTo>
                  <a:lnTo>
                    <a:pt x="5118" y="115"/>
                  </a:lnTo>
                  <a:lnTo>
                    <a:pt x="4529" y="258"/>
                  </a:lnTo>
                  <a:lnTo>
                    <a:pt x="3955" y="457"/>
                  </a:lnTo>
                  <a:lnTo>
                    <a:pt x="3401" y="712"/>
                  </a:lnTo>
                  <a:lnTo>
                    <a:pt x="2872" y="1020"/>
                  </a:lnTo>
                  <a:lnTo>
                    <a:pt x="2371" y="1382"/>
                  </a:lnTo>
                  <a:lnTo>
                    <a:pt x="1903" y="1796"/>
                  </a:lnTo>
                  <a:lnTo>
                    <a:pt x="1472" y="2262"/>
                  </a:lnTo>
                  <a:lnTo>
                    <a:pt x="1084" y="2780"/>
                  </a:lnTo>
                  <a:lnTo>
                    <a:pt x="750" y="3332"/>
                  </a:lnTo>
                  <a:lnTo>
                    <a:pt x="477" y="3905"/>
                  </a:lnTo>
                  <a:lnTo>
                    <a:pt x="268" y="4494"/>
                  </a:lnTo>
                  <a:lnTo>
                    <a:pt x="119" y="5094"/>
                  </a:lnTo>
                  <a:lnTo>
                    <a:pt x="30" y="5700"/>
                  </a:lnTo>
                  <a:lnTo>
                    <a:pt x="0" y="6308"/>
                  </a:lnTo>
                  <a:lnTo>
                    <a:pt x="29" y="6915"/>
                  </a:lnTo>
                  <a:lnTo>
                    <a:pt x="116" y="7515"/>
                  </a:lnTo>
                  <a:lnTo>
                    <a:pt x="259" y="8104"/>
                  </a:lnTo>
                  <a:lnTo>
                    <a:pt x="458" y="8677"/>
                  </a:lnTo>
                  <a:lnTo>
                    <a:pt x="712" y="9230"/>
                  </a:lnTo>
                  <a:lnTo>
                    <a:pt x="1021" y="9760"/>
                  </a:lnTo>
                  <a:lnTo>
                    <a:pt x="1383" y="10261"/>
                  </a:lnTo>
                  <a:lnTo>
                    <a:pt x="1797" y="10727"/>
                  </a:lnTo>
                  <a:lnTo>
                    <a:pt x="2262" y="11158"/>
                  </a:lnTo>
                  <a:lnTo>
                    <a:pt x="2780" y="11547"/>
                  </a:lnTo>
                  <a:close/>
                </a:path>
              </a:pathLst>
            </a:custGeom>
            <a:solidFill>
              <a:srgbClr val="0f2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98280" y="108360"/>
              <a:ext cx="966240" cy="954000"/>
            </a:xfrm>
            <a:custGeom>
              <a:avLst/>
              <a:gdLst/>
              <a:ahLst/>
              <a:rect l="l" t="t" r="r" b="b"/>
              <a:pathLst>
                <a:path w="12472" h="12470">
                  <a:moveTo>
                    <a:pt x="2744" y="11401"/>
                  </a:moveTo>
                  <a:lnTo>
                    <a:pt x="3290" y="11731"/>
                  </a:lnTo>
                  <a:lnTo>
                    <a:pt x="3856" y="11999"/>
                  </a:lnTo>
                  <a:lnTo>
                    <a:pt x="4437" y="12206"/>
                  </a:lnTo>
                  <a:lnTo>
                    <a:pt x="5029" y="12354"/>
                  </a:lnTo>
                  <a:lnTo>
                    <a:pt x="5627" y="12441"/>
                  </a:lnTo>
                  <a:lnTo>
                    <a:pt x="6228" y="12470"/>
                  </a:lnTo>
                  <a:lnTo>
                    <a:pt x="6828" y="12441"/>
                  </a:lnTo>
                  <a:lnTo>
                    <a:pt x="7420" y="12356"/>
                  </a:lnTo>
                  <a:lnTo>
                    <a:pt x="8000" y="12214"/>
                  </a:lnTo>
                  <a:lnTo>
                    <a:pt x="8567" y="12018"/>
                  </a:lnTo>
                  <a:lnTo>
                    <a:pt x="9113" y="11767"/>
                  </a:lnTo>
                  <a:lnTo>
                    <a:pt x="9636" y="11462"/>
                  </a:lnTo>
                  <a:lnTo>
                    <a:pt x="10131" y="11106"/>
                  </a:lnTo>
                  <a:lnTo>
                    <a:pt x="10592" y="10696"/>
                  </a:lnTo>
                  <a:lnTo>
                    <a:pt x="11017" y="10236"/>
                  </a:lnTo>
                  <a:lnTo>
                    <a:pt x="11401" y="9727"/>
                  </a:lnTo>
                  <a:lnTo>
                    <a:pt x="11731" y="9180"/>
                  </a:lnTo>
                  <a:lnTo>
                    <a:pt x="12000" y="8614"/>
                  </a:lnTo>
                  <a:lnTo>
                    <a:pt x="12207" y="8033"/>
                  </a:lnTo>
                  <a:lnTo>
                    <a:pt x="12355" y="7441"/>
                  </a:lnTo>
                  <a:lnTo>
                    <a:pt x="12442" y="6843"/>
                  </a:lnTo>
                  <a:lnTo>
                    <a:pt x="12472" y="6242"/>
                  </a:lnTo>
                  <a:lnTo>
                    <a:pt x="12443" y="5644"/>
                  </a:lnTo>
                  <a:lnTo>
                    <a:pt x="12357" y="5051"/>
                  </a:lnTo>
                  <a:lnTo>
                    <a:pt x="12215" y="4470"/>
                  </a:lnTo>
                  <a:lnTo>
                    <a:pt x="12019" y="3903"/>
                  </a:lnTo>
                  <a:lnTo>
                    <a:pt x="11768" y="3357"/>
                  </a:lnTo>
                  <a:lnTo>
                    <a:pt x="11464" y="2835"/>
                  </a:lnTo>
                  <a:lnTo>
                    <a:pt x="11107" y="2341"/>
                  </a:lnTo>
                  <a:lnTo>
                    <a:pt x="10697" y="1878"/>
                  </a:lnTo>
                  <a:lnTo>
                    <a:pt x="10237" y="1453"/>
                  </a:lnTo>
                  <a:lnTo>
                    <a:pt x="9728" y="1070"/>
                  </a:lnTo>
                  <a:lnTo>
                    <a:pt x="9181" y="740"/>
                  </a:lnTo>
                  <a:lnTo>
                    <a:pt x="8615" y="471"/>
                  </a:lnTo>
                  <a:lnTo>
                    <a:pt x="8034" y="263"/>
                  </a:lnTo>
                  <a:lnTo>
                    <a:pt x="7442" y="117"/>
                  </a:lnTo>
                  <a:lnTo>
                    <a:pt x="6844" y="28"/>
                  </a:lnTo>
                  <a:lnTo>
                    <a:pt x="6243" y="0"/>
                  </a:lnTo>
                  <a:lnTo>
                    <a:pt x="5644" y="28"/>
                  </a:lnTo>
                  <a:lnTo>
                    <a:pt x="5052" y="113"/>
                  </a:lnTo>
                  <a:lnTo>
                    <a:pt x="4471" y="255"/>
                  </a:lnTo>
                  <a:lnTo>
                    <a:pt x="3904" y="451"/>
                  </a:lnTo>
                  <a:lnTo>
                    <a:pt x="3358" y="703"/>
                  </a:lnTo>
                  <a:lnTo>
                    <a:pt x="2836" y="1007"/>
                  </a:lnTo>
                  <a:lnTo>
                    <a:pt x="2341" y="1365"/>
                  </a:lnTo>
                  <a:lnTo>
                    <a:pt x="1879" y="1774"/>
                  </a:lnTo>
                  <a:lnTo>
                    <a:pt x="1454" y="2234"/>
                  </a:lnTo>
                  <a:lnTo>
                    <a:pt x="1071" y="2745"/>
                  </a:lnTo>
                  <a:lnTo>
                    <a:pt x="740" y="3290"/>
                  </a:lnTo>
                  <a:lnTo>
                    <a:pt x="471" y="3855"/>
                  </a:lnTo>
                  <a:lnTo>
                    <a:pt x="264" y="4437"/>
                  </a:lnTo>
                  <a:lnTo>
                    <a:pt x="117" y="5029"/>
                  </a:lnTo>
                  <a:lnTo>
                    <a:pt x="29" y="5628"/>
                  </a:lnTo>
                  <a:lnTo>
                    <a:pt x="0" y="6228"/>
                  </a:lnTo>
                  <a:lnTo>
                    <a:pt x="29" y="6827"/>
                  </a:lnTo>
                  <a:lnTo>
                    <a:pt x="114" y="7419"/>
                  </a:lnTo>
                  <a:lnTo>
                    <a:pt x="255" y="8000"/>
                  </a:lnTo>
                  <a:lnTo>
                    <a:pt x="452" y="8566"/>
                  </a:lnTo>
                  <a:lnTo>
                    <a:pt x="703" y="9112"/>
                  </a:lnTo>
                  <a:lnTo>
                    <a:pt x="1008" y="9635"/>
                  </a:lnTo>
                  <a:lnTo>
                    <a:pt x="1364" y="10130"/>
                  </a:lnTo>
                  <a:lnTo>
                    <a:pt x="1774" y="10592"/>
                  </a:lnTo>
                  <a:lnTo>
                    <a:pt x="2234" y="11017"/>
                  </a:lnTo>
                  <a:lnTo>
                    <a:pt x="2744" y="11401"/>
                  </a:lnTo>
                  <a:close/>
                </a:path>
              </a:pathLst>
            </a:custGeom>
            <a:solidFill>
              <a:srgbClr val="112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07640" y="111240"/>
              <a:ext cx="952920" cy="941400"/>
            </a:xfrm>
            <a:custGeom>
              <a:avLst/>
              <a:gdLst/>
              <a:ahLst/>
              <a:rect l="l" t="t" r="r" b="b"/>
              <a:pathLst>
                <a:path w="12310" h="12310">
                  <a:moveTo>
                    <a:pt x="2709" y="11254"/>
                  </a:moveTo>
                  <a:lnTo>
                    <a:pt x="3248" y="11580"/>
                  </a:lnTo>
                  <a:lnTo>
                    <a:pt x="3806" y="11844"/>
                  </a:lnTo>
                  <a:lnTo>
                    <a:pt x="4380" y="12050"/>
                  </a:lnTo>
                  <a:lnTo>
                    <a:pt x="4964" y="12194"/>
                  </a:lnTo>
                  <a:lnTo>
                    <a:pt x="5555" y="12281"/>
                  </a:lnTo>
                  <a:lnTo>
                    <a:pt x="6148" y="12310"/>
                  </a:lnTo>
                  <a:lnTo>
                    <a:pt x="6740" y="12281"/>
                  </a:lnTo>
                  <a:lnTo>
                    <a:pt x="7324" y="12197"/>
                  </a:lnTo>
                  <a:lnTo>
                    <a:pt x="7897" y="12057"/>
                  </a:lnTo>
                  <a:lnTo>
                    <a:pt x="8456" y="11863"/>
                  </a:lnTo>
                  <a:lnTo>
                    <a:pt x="8997" y="11616"/>
                  </a:lnTo>
                  <a:lnTo>
                    <a:pt x="9512" y="11315"/>
                  </a:lnTo>
                  <a:lnTo>
                    <a:pt x="10000" y="10962"/>
                  </a:lnTo>
                  <a:lnTo>
                    <a:pt x="10456" y="10558"/>
                  </a:lnTo>
                  <a:lnTo>
                    <a:pt x="10875" y="10104"/>
                  </a:lnTo>
                  <a:lnTo>
                    <a:pt x="11255" y="9601"/>
                  </a:lnTo>
                  <a:lnTo>
                    <a:pt x="11580" y="9061"/>
                  </a:lnTo>
                  <a:lnTo>
                    <a:pt x="11845" y="8503"/>
                  </a:lnTo>
                  <a:lnTo>
                    <a:pt x="12050" y="7929"/>
                  </a:lnTo>
                  <a:lnTo>
                    <a:pt x="12194" y="7345"/>
                  </a:lnTo>
                  <a:lnTo>
                    <a:pt x="12282" y="6754"/>
                  </a:lnTo>
                  <a:lnTo>
                    <a:pt x="12310" y="6161"/>
                  </a:lnTo>
                  <a:lnTo>
                    <a:pt x="12282" y="5570"/>
                  </a:lnTo>
                  <a:lnTo>
                    <a:pt x="12198" y="4985"/>
                  </a:lnTo>
                  <a:lnTo>
                    <a:pt x="12057" y="4412"/>
                  </a:lnTo>
                  <a:lnTo>
                    <a:pt x="11864" y="3853"/>
                  </a:lnTo>
                  <a:lnTo>
                    <a:pt x="11616" y="3313"/>
                  </a:lnTo>
                  <a:lnTo>
                    <a:pt x="11315" y="2798"/>
                  </a:lnTo>
                  <a:lnTo>
                    <a:pt x="10962" y="2310"/>
                  </a:lnTo>
                  <a:lnTo>
                    <a:pt x="10558" y="1854"/>
                  </a:lnTo>
                  <a:lnTo>
                    <a:pt x="10104" y="1435"/>
                  </a:lnTo>
                  <a:lnTo>
                    <a:pt x="9601" y="1056"/>
                  </a:lnTo>
                  <a:lnTo>
                    <a:pt x="9062" y="730"/>
                  </a:lnTo>
                  <a:lnTo>
                    <a:pt x="8503" y="464"/>
                  </a:lnTo>
                  <a:lnTo>
                    <a:pt x="7930" y="260"/>
                  </a:lnTo>
                  <a:lnTo>
                    <a:pt x="7346" y="114"/>
                  </a:lnTo>
                  <a:lnTo>
                    <a:pt x="6755" y="28"/>
                  </a:lnTo>
                  <a:lnTo>
                    <a:pt x="6162" y="0"/>
                  </a:lnTo>
                  <a:lnTo>
                    <a:pt x="5571" y="28"/>
                  </a:lnTo>
                  <a:lnTo>
                    <a:pt x="4988" y="112"/>
                  </a:lnTo>
                  <a:lnTo>
                    <a:pt x="4413" y="251"/>
                  </a:lnTo>
                  <a:lnTo>
                    <a:pt x="3855" y="446"/>
                  </a:lnTo>
                  <a:lnTo>
                    <a:pt x="3315" y="694"/>
                  </a:lnTo>
                  <a:lnTo>
                    <a:pt x="2800" y="995"/>
                  </a:lnTo>
                  <a:lnTo>
                    <a:pt x="2312" y="1348"/>
                  </a:lnTo>
                  <a:lnTo>
                    <a:pt x="1856" y="1751"/>
                  </a:lnTo>
                  <a:lnTo>
                    <a:pt x="1437" y="2205"/>
                  </a:lnTo>
                  <a:lnTo>
                    <a:pt x="1058" y="2709"/>
                  </a:lnTo>
                  <a:lnTo>
                    <a:pt x="732" y="3248"/>
                  </a:lnTo>
                  <a:lnTo>
                    <a:pt x="466" y="3806"/>
                  </a:lnTo>
                  <a:lnTo>
                    <a:pt x="261" y="4379"/>
                  </a:lnTo>
                  <a:lnTo>
                    <a:pt x="116" y="4964"/>
                  </a:lnTo>
                  <a:lnTo>
                    <a:pt x="29" y="5555"/>
                  </a:lnTo>
                  <a:lnTo>
                    <a:pt x="0" y="6148"/>
                  </a:lnTo>
                  <a:lnTo>
                    <a:pt x="29" y="6738"/>
                  </a:lnTo>
                  <a:lnTo>
                    <a:pt x="113" y="7323"/>
                  </a:lnTo>
                  <a:lnTo>
                    <a:pt x="252" y="7897"/>
                  </a:lnTo>
                  <a:lnTo>
                    <a:pt x="447" y="8456"/>
                  </a:lnTo>
                  <a:lnTo>
                    <a:pt x="695" y="8995"/>
                  </a:lnTo>
                  <a:lnTo>
                    <a:pt x="996" y="9512"/>
                  </a:lnTo>
                  <a:lnTo>
                    <a:pt x="1347" y="10000"/>
                  </a:lnTo>
                  <a:lnTo>
                    <a:pt x="1751" y="10456"/>
                  </a:lnTo>
                  <a:lnTo>
                    <a:pt x="2205" y="10875"/>
                  </a:lnTo>
                  <a:lnTo>
                    <a:pt x="2709" y="11254"/>
                  </a:lnTo>
                  <a:close/>
                </a:path>
              </a:pathLst>
            </a:custGeom>
            <a:solidFill>
              <a:srgbClr val="132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17000" y="113040"/>
              <a:ext cx="940680" cy="930240"/>
            </a:xfrm>
            <a:custGeom>
              <a:avLst/>
              <a:gdLst/>
              <a:ahLst/>
              <a:rect l="l" t="t" r="r" b="b"/>
              <a:pathLst>
                <a:path w="12148" h="12149">
                  <a:moveTo>
                    <a:pt x="2673" y="11109"/>
                  </a:moveTo>
                  <a:lnTo>
                    <a:pt x="3205" y="11430"/>
                  </a:lnTo>
                  <a:lnTo>
                    <a:pt x="3756" y="11691"/>
                  </a:lnTo>
                  <a:lnTo>
                    <a:pt x="4322" y="11893"/>
                  </a:lnTo>
                  <a:lnTo>
                    <a:pt x="4898" y="12036"/>
                  </a:lnTo>
                  <a:lnTo>
                    <a:pt x="5482" y="12122"/>
                  </a:lnTo>
                  <a:lnTo>
                    <a:pt x="6067" y="12149"/>
                  </a:lnTo>
                  <a:lnTo>
                    <a:pt x="6650" y="12122"/>
                  </a:lnTo>
                  <a:lnTo>
                    <a:pt x="7228" y="12039"/>
                  </a:lnTo>
                  <a:lnTo>
                    <a:pt x="7793" y="11901"/>
                  </a:lnTo>
                  <a:lnTo>
                    <a:pt x="8345" y="11709"/>
                  </a:lnTo>
                  <a:lnTo>
                    <a:pt x="8878" y="11465"/>
                  </a:lnTo>
                  <a:lnTo>
                    <a:pt x="9387" y="11168"/>
                  </a:lnTo>
                  <a:lnTo>
                    <a:pt x="9869" y="10820"/>
                  </a:lnTo>
                  <a:lnTo>
                    <a:pt x="10319" y="10422"/>
                  </a:lnTo>
                  <a:lnTo>
                    <a:pt x="10733" y="9974"/>
                  </a:lnTo>
                  <a:lnTo>
                    <a:pt x="11107" y="9478"/>
                  </a:lnTo>
                  <a:lnTo>
                    <a:pt x="11428" y="8945"/>
                  </a:lnTo>
                  <a:lnTo>
                    <a:pt x="11690" y="8393"/>
                  </a:lnTo>
                  <a:lnTo>
                    <a:pt x="11892" y="7828"/>
                  </a:lnTo>
                  <a:lnTo>
                    <a:pt x="12034" y="7251"/>
                  </a:lnTo>
                  <a:lnTo>
                    <a:pt x="12120" y="6667"/>
                  </a:lnTo>
                  <a:lnTo>
                    <a:pt x="12148" y="6082"/>
                  </a:lnTo>
                  <a:lnTo>
                    <a:pt x="12120" y="5499"/>
                  </a:lnTo>
                  <a:lnTo>
                    <a:pt x="12037" y="4922"/>
                  </a:lnTo>
                  <a:lnTo>
                    <a:pt x="11899" y="4356"/>
                  </a:lnTo>
                  <a:lnTo>
                    <a:pt x="11708" y="3804"/>
                  </a:lnTo>
                  <a:lnTo>
                    <a:pt x="11463" y="3272"/>
                  </a:lnTo>
                  <a:lnTo>
                    <a:pt x="11167" y="2762"/>
                  </a:lnTo>
                  <a:lnTo>
                    <a:pt x="10819" y="2281"/>
                  </a:lnTo>
                  <a:lnTo>
                    <a:pt x="10420" y="1830"/>
                  </a:lnTo>
                  <a:lnTo>
                    <a:pt x="9972" y="1416"/>
                  </a:lnTo>
                  <a:lnTo>
                    <a:pt x="9475" y="1043"/>
                  </a:lnTo>
                  <a:lnTo>
                    <a:pt x="8943" y="721"/>
                  </a:lnTo>
                  <a:lnTo>
                    <a:pt x="8392" y="460"/>
                  </a:lnTo>
                  <a:lnTo>
                    <a:pt x="7826" y="258"/>
                  </a:lnTo>
                  <a:lnTo>
                    <a:pt x="7249" y="114"/>
                  </a:lnTo>
                  <a:lnTo>
                    <a:pt x="6666" y="29"/>
                  </a:lnTo>
                  <a:lnTo>
                    <a:pt x="6081" y="0"/>
                  </a:lnTo>
                  <a:lnTo>
                    <a:pt x="5498" y="28"/>
                  </a:lnTo>
                  <a:lnTo>
                    <a:pt x="4921" y="112"/>
                  </a:lnTo>
                  <a:lnTo>
                    <a:pt x="4355" y="249"/>
                  </a:lnTo>
                  <a:lnTo>
                    <a:pt x="3803" y="442"/>
                  </a:lnTo>
                  <a:lnTo>
                    <a:pt x="3271" y="686"/>
                  </a:lnTo>
                  <a:lnTo>
                    <a:pt x="2762" y="983"/>
                  </a:lnTo>
                  <a:lnTo>
                    <a:pt x="2280" y="1330"/>
                  </a:lnTo>
                  <a:lnTo>
                    <a:pt x="1829" y="1729"/>
                  </a:lnTo>
                  <a:lnTo>
                    <a:pt x="1416" y="2178"/>
                  </a:lnTo>
                  <a:lnTo>
                    <a:pt x="1043" y="2675"/>
                  </a:lnTo>
                  <a:lnTo>
                    <a:pt x="720" y="3207"/>
                  </a:lnTo>
                  <a:lnTo>
                    <a:pt x="459" y="3757"/>
                  </a:lnTo>
                  <a:lnTo>
                    <a:pt x="257" y="4324"/>
                  </a:lnTo>
                  <a:lnTo>
                    <a:pt x="113" y="4900"/>
                  </a:lnTo>
                  <a:lnTo>
                    <a:pt x="28" y="5484"/>
                  </a:lnTo>
                  <a:lnTo>
                    <a:pt x="0" y="6068"/>
                  </a:lnTo>
                  <a:lnTo>
                    <a:pt x="27" y="6652"/>
                  </a:lnTo>
                  <a:lnTo>
                    <a:pt x="111" y="7228"/>
                  </a:lnTo>
                  <a:lnTo>
                    <a:pt x="248" y="7795"/>
                  </a:lnTo>
                  <a:lnTo>
                    <a:pt x="440" y="8347"/>
                  </a:lnTo>
                  <a:lnTo>
                    <a:pt x="685" y="8879"/>
                  </a:lnTo>
                  <a:lnTo>
                    <a:pt x="982" y="9388"/>
                  </a:lnTo>
                  <a:lnTo>
                    <a:pt x="1330" y="9870"/>
                  </a:lnTo>
                  <a:lnTo>
                    <a:pt x="1728" y="10320"/>
                  </a:lnTo>
                  <a:lnTo>
                    <a:pt x="2176" y="10734"/>
                  </a:lnTo>
                  <a:lnTo>
                    <a:pt x="2673" y="11109"/>
                  </a:lnTo>
                  <a:close/>
                </a:path>
              </a:pathLst>
            </a:custGeom>
            <a:solidFill>
              <a:srgbClr val="152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26360" y="115920"/>
              <a:ext cx="928800" cy="917640"/>
            </a:xfrm>
            <a:custGeom>
              <a:avLst/>
              <a:gdLst/>
              <a:ahLst/>
              <a:rect l="l" t="t" r="r" b="b"/>
              <a:pathLst>
                <a:path w="11988" h="11989">
                  <a:moveTo>
                    <a:pt x="2638" y="10961"/>
                  </a:moveTo>
                  <a:lnTo>
                    <a:pt x="3163" y="11277"/>
                  </a:lnTo>
                  <a:lnTo>
                    <a:pt x="3707" y="11536"/>
                  </a:lnTo>
                  <a:lnTo>
                    <a:pt x="4265" y="11735"/>
                  </a:lnTo>
                  <a:lnTo>
                    <a:pt x="4834" y="11877"/>
                  </a:lnTo>
                  <a:lnTo>
                    <a:pt x="5410" y="11961"/>
                  </a:lnTo>
                  <a:lnTo>
                    <a:pt x="5987" y="11989"/>
                  </a:lnTo>
                  <a:lnTo>
                    <a:pt x="6562" y="11961"/>
                  </a:lnTo>
                  <a:lnTo>
                    <a:pt x="7132" y="11879"/>
                  </a:lnTo>
                  <a:lnTo>
                    <a:pt x="7690" y="11743"/>
                  </a:lnTo>
                  <a:lnTo>
                    <a:pt x="8235" y="11554"/>
                  </a:lnTo>
                  <a:lnTo>
                    <a:pt x="8760" y="11313"/>
                  </a:lnTo>
                  <a:lnTo>
                    <a:pt x="9263" y="11020"/>
                  </a:lnTo>
                  <a:lnTo>
                    <a:pt x="9738" y="10677"/>
                  </a:lnTo>
                  <a:lnTo>
                    <a:pt x="10182" y="10283"/>
                  </a:lnTo>
                  <a:lnTo>
                    <a:pt x="10591" y="9842"/>
                  </a:lnTo>
                  <a:lnTo>
                    <a:pt x="10959" y="9352"/>
                  </a:lnTo>
                  <a:lnTo>
                    <a:pt x="11276" y="8827"/>
                  </a:lnTo>
                  <a:lnTo>
                    <a:pt x="11535" y="8283"/>
                  </a:lnTo>
                  <a:lnTo>
                    <a:pt x="11733" y="7724"/>
                  </a:lnTo>
                  <a:lnTo>
                    <a:pt x="11876" y="7155"/>
                  </a:lnTo>
                  <a:lnTo>
                    <a:pt x="11960" y="6580"/>
                  </a:lnTo>
                  <a:lnTo>
                    <a:pt x="11988" y="6001"/>
                  </a:lnTo>
                  <a:lnTo>
                    <a:pt x="11960" y="5426"/>
                  </a:lnTo>
                  <a:lnTo>
                    <a:pt x="11878" y="4858"/>
                  </a:lnTo>
                  <a:lnTo>
                    <a:pt x="11742" y="4298"/>
                  </a:lnTo>
                  <a:lnTo>
                    <a:pt x="11553" y="3754"/>
                  </a:lnTo>
                  <a:lnTo>
                    <a:pt x="11311" y="3229"/>
                  </a:lnTo>
                  <a:lnTo>
                    <a:pt x="11019" y="2726"/>
                  </a:lnTo>
                  <a:lnTo>
                    <a:pt x="10676" y="2251"/>
                  </a:lnTo>
                  <a:lnTo>
                    <a:pt x="10282" y="1806"/>
                  </a:lnTo>
                  <a:lnTo>
                    <a:pt x="9840" y="1398"/>
                  </a:lnTo>
                  <a:lnTo>
                    <a:pt x="9350" y="1030"/>
                  </a:lnTo>
                  <a:lnTo>
                    <a:pt x="8825" y="713"/>
                  </a:lnTo>
                  <a:lnTo>
                    <a:pt x="8281" y="454"/>
                  </a:lnTo>
                  <a:lnTo>
                    <a:pt x="7722" y="254"/>
                  </a:lnTo>
                  <a:lnTo>
                    <a:pt x="7154" y="113"/>
                  </a:lnTo>
                  <a:lnTo>
                    <a:pt x="6578" y="29"/>
                  </a:lnTo>
                  <a:lnTo>
                    <a:pt x="6001" y="0"/>
                  </a:lnTo>
                  <a:lnTo>
                    <a:pt x="5425" y="28"/>
                  </a:lnTo>
                  <a:lnTo>
                    <a:pt x="4856" y="111"/>
                  </a:lnTo>
                  <a:lnTo>
                    <a:pt x="4297" y="246"/>
                  </a:lnTo>
                  <a:lnTo>
                    <a:pt x="3753" y="435"/>
                  </a:lnTo>
                  <a:lnTo>
                    <a:pt x="3227" y="676"/>
                  </a:lnTo>
                  <a:lnTo>
                    <a:pt x="2725" y="970"/>
                  </a:lnTo>
                  <a:lnTo>
                    <a:pt x="2249" y="1313"/>
                  </a:lnTo>
                  <a:lnTo>
                    <a:pt x="1806" y="1705"/>
                  </a:lnTo>
                  <a:lnTo>
                    <a:pt x="1397" y="2148"/>
                  </a:lnTo>
                  <a:lnTo>
                    <a:pt x="1029" y="2639"/>
                  </a:lnTo>
                  <a:lnTo>
                    <a:pt x="711" y="3163"/>
                  </a:lnTo>
                  <a:lnTo>
                    <a:pt x="453" y="3707"/>
                  </a:lnTo>
                  <a:lnTo>
                    <a:pt x="254" y="4265"/>
                  </a:lnTo>
                  <a:lnTo>
                    <a:pt x="113" y="4835"/>
                  </a:lnTo>
                  <a:lnTo>
                    <a:pt x="29" y="5410"/>
                  </a:lnTo>
                  <a:lnTo>
                    <a:pt x="0" y="5988"/>
                  </a:lnTo>
                  <a:lnTo>
                    <a:pt x="27" y="6563"/>
                  </a:lnTo>
                  <a:lnTo>
                    <a:pt x="109" y="7132"/>
                  </a:lnTo>
                  <a:lnTo>
                    <a:pt x="245" y="7692"/>
                  </a:lnTo>
                  <a:lnTo>
                    <a:pt x="435" y="8236"/>
                  </a:lnTo>
                  <a:lnTo>
                    <a:pt x="676" y="8761"/>
                  </a:lnTo>
                  <a:lnTo>
                    <a:pt x="968" y="9264"/>
                  </a:lnTo>
                  <a:lnTo>
                    <a:pt x="1312" y="9739"/>
                  </a:lnTo>
                  <a:lnTo>
                    <a:pt x="1705" y="10182"/>
                  </a:lnTo>
                  <a:lnTo>
                    <a:pt x="2147" y="10592"/>
                  </a:lnTo>
                  <a:lnTo>
                    <a:pt x="2638" y="10961"/>
                  </a:lnTo>
                  <a:close/>
                </a:path>
              </a:pathLst>
            </a:custGeom>
            <a:solidFill>
              <a:srgbClr val="173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35720" y="118800"/>
              <a:ext cx="916920" cy="904320"/>
            </a:xfrm>
            <a:custGeom>
              <a:avLst/>
              <a:gdLst/>
              <a:ahLst/>
              <a:rect l="l" t="t" r="r" b="b"/>
              <a:pathLst>
                <a:path w="11827" h="11827">
                  <a:moveTo>
                    <a:pt x="2603" y="10813"/>
                  </a:moveTo>
                  <a:lnTo>
                    <a:pt x="3120" y="11125"/>
                  </a:lnTo>
                  <a:lnTo>
                    <a:pt x="3657" y="11381"/>
                  </a:lnTo>
                  <a:lnTo>
                    <a:pt x="4208" y="11577"/>
                  </a:lnTo>
                  <a:lnTo>
                    <a:pt x="4769" y="11716"/>
                  </a:lnTo>
                  <a:lnTo>
                    <a:pt x="5337" y="11799"/>
                  </a:lnTo>
                  <a:lnTo>
                    <a:pt x="5907" y="11827"/>
                  </a:lnTo>
                  <a:lnTo>
                    <a:pt x="6474" y="11799"/>
                  </a:lnTo>
                  <a:lnTo>
                    <a:pt x="7037" y="11719"/>
                  </a:lnTo>
                  <a:lnTo>
                    <a:pt x="7587" y="11585"/>
                  </a:lnTo>
                  <a:lnTo>
                    <a:pt x="8124" y="11399"/>
                  </a:lnTo>
                  <a:lnTo>
                    <a:pt x="8643" y="11160"/>
                  </a:lnTo>
                  <a:lnTo>
                    <a:pt x="9139" y="10871"/>
                  </a:lnTo>
                  <a:lnTo>
                    <a:pt x="9607" y="10532"/>
                  </a:lnTo>
                  <a:lnTo>
                    <a:pt x="10045" y="10144"/>
                  </a:lnTo>
                  <a:lnTo>
                    <a:pt x="10448" y="9708"/>
                  </a:lnTo>
                  <a:lnTo>
                    <a:pt x="10813" y="9225"/>
                  </a:lnTo>
                  <a:lnTo>
                    <a:pt x="11126" y="8706"/>
                  </a:lnTo>
                  <a:lnTo>
                    <a:pt x="11381" y="8170"/>
                  </a:lnTo>
                  <a:lnTo>
                    <a:pt x="11577" y="7619"/>
                  </a:lnTo>
                  <a:lnTo>
                    <a:pt x="11717" y="7058"/>
                  </a:lnTo>
                  <a:lnTo>
                    <a:pt x="11800" y="6490"/>
                  </a:lnTo>
                  <a:lnTo>
                    <a:pt x="11827" y="5921"/>
                  </a:lnTo>
                  <a:lnTo>
                    <a:pt x="11800" y="5353"/>
                  </a:lnTo>
                  <a:lnTo>
                    <a:pt x="11719" y="4792"/>
                  </a:lnTo>
                  <a:lnTo>
                    <a:pt x="11585" y="4240"/>
                  </a:lnTo>
                  <a:lnTo>
                    <a:pt x="11399" y="3703"/>
                  </a:lnTo>
                  <a:lnTo>
                    <a:pt x="11161" y="3184"/>
                  </a:lnTo>
                  <a:lnTo>
                    <a:pt x="10871" y="2689"/>
                  </a:lnTo>
                  <a:lnTo>
                    <a:pt x="10532" y="2220"/>
                  </a:lnTo>
                  <a:lnTo>
                    <a:pt x="10144" y="1782"/>
                  </a:lnTo>
                  <a:lnTo>
                    <a:pt x="9708" y="1379"/>
                  </a:lnTo>
                  <a:lnTo>
                    <a:pt x="9225" y="1016"/>
                  </a:lnTo>
                  <a:lnTo>
                    <a:pt x="8706" y="702"/>
                  </a:lnTo>
                  <a:lnTo>
                    <a:pt x="8170" y="447"/>
                  </a:lnTo>
                  <a:lnTo>
                    <a:pt x="7619" y="250"/>
                  </a:lnTo>
                  <a:lnTo>
                    <a:pt x="7058" y="111"/>
                  </a:lnTo>
                  <a:lnTo>
                    <a:pt x="6490" y="28"/>
                  </a:lnTo>
                  <a:lnTo>
                    <a:pt x="5921" y="0"/>
                  </a:lnTo>
                  <a:lnTo>
                    <a:pt x="5353" y="27"/>
                  </a:lnTo>
                  <a:lnTo>
                    <a:pt x="4791" y="108"/>
                  </a:lnTo>
                  <a:lnTo>
                    <a:pt x="4240" y="242"/>
                  </a:lnTo>
                  <a:lnTo>
                    <a:pt x="3703" y="429"/>
                  </a:lnTo>
                  <a:lnTo>
                    <a:pt x="3184" y="667"/>
                  </a:lnTo>
                  <a:lnTo>
                    <a:pt x="2689" y="956"/>
                  </a:lnTo>
                  <a:lnTo>
                    <a:pt x="2220" y="1294"/>
                  </a:lnTo>
                  <a:lnTo>
                    <a:pt x="1782" y="1682"/>
                  </a:lnTo>
                  <a:lnTo>
                    <a:pt x="1379" y="2118"/>
                  </a:lnTo>
                  <a:lnTo>
                    <a:pt x="1015" y="2603"/>
                  </a:lnTo>
                  <a:lnTo>
                    <a:pt x="702" y="3120"/>
                  </a:lnTo>
                  <a:lnTo>
                    <a:pt x="447" y="3656"/>
                  </a:lnTo>
                  <a:lnTo>
                    <a:pt x="250" y="4208"/>
                  </a:lnTo>
                  <a:lnTo>
                    <a:pt x="111" y="4769"/>
                  </a:lnTo>
                  <a:lnTo>
                    <a:pt x="28" y="5337"/>
                  </a:lnTo>
                  <a:lnTo>
                    <a:pt x="0" y="5907"/>
                  </a:lnTo>
                  <a:lnTo>
                    <a:pt x="27" y="6474"/>
                  </a:lnTo>
                  <a:lnTo>
                    <a:pt x="108" y="7036"/>
                  </a:lnTo>
                  <a:lnTo>
                    <a:pt x="242" y="7587"/>
                  </a:lnTo>
                  <a:lnTo>
                    <a:pt x="428" y="8124"/>
                  </a:lnTo>
                  <a:lnTo>
                    <a:pt x="667" y="8643"/>
                  </a:lnTo>
                  <a:lnTo>
                    <a:pt x="956" y="9138"/>
                  </a:lnTo>
                  <a:lnTo>
                    <a:pt x="1294" y="9607"/>
                  </a:lnTo>
                  <a:lnTo>
                    <a:pt x="1682" y="10045"/>
                  </a:lnTo>
                  <a:lnTo>
                    <a:pt x="2118" y="10448"/>
                  </a:lnTo>
                  <a:lnTo>
                    <a:pt x="2603" y="10813"/>
                  </a:lnTo>
                  <a:close/>
                </a:path>
              </a:pathLst>
            </a:custGeom>
            <a:solidFill>
              <a:srgbClr val="193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45080" y="120240"/>
              <a:ext cx="903600" cy="892800"/>
            </a:xfrm>
            <a:custGeom>
              <a:avLst/>
              <a:gdLst/>
              <a:ahLst/>
              <a:rect l="l" t="t" r="r" b="b"/>
              <a:pathLst>
                <a:path w="11668" h="11666">
                  <a:moveTo>
                    <a:pt x="2569" y="10666"/>
                  </a:moveTo>
                  <a:lnTo>
                    <a:pt x="3079" y="10974"/>
                  </a:lnTo>
                  <a:lnTo>
                    <a:pt x="3608" y="11225"/>
                  </a:lnTo>
                  <a:lnTo>
                    <a:pt x="4152" y="11420"/>
                  </a:lnTo>
                  <a:lnTo>
                    <a:pt x="4706" y="11557"/>
                  </a:lnTo>
                  <a:lnTo>
                    <a:pt x="5266" y="11640"/>
                  </a:lnTo>
                  <a:lnTo>
                    <a:pt x="5827" y="11666"/>
                  </a:lnTo>
                  <a:lnTo>
                    <a:pt x="6387" y="11640"/>
                  </a:lnTo>
                  <a:lnTo>
                    <a:pt x="6941" y="11560"/>
                  </a:lnTo>
                  <a:lnTo>
                    <a:pt x="7486" y="11428"/>
                  </a:lnTo>
                  <a:lnTo>
                    <a:pt x="8015" y="11243"/>
                  </a:lnTo>
                  <a:lnTo>
                    <a:pt x="8526" y="11009"/>
                  </a:lnTo>
                  <a:lnTo>
                    <a:pt x="9015" y="10724"/>
                  </a:lnTo>
                  <a:lnTo>
                    <a:pt x="9478" y="10390"/>
                  </a:lnTo>
                  <a:lnTo>
                    <a:pt x="9911" y="10007"/>
                  </a:lnTo>
                  <a:lnTo>
                    <a:pt x="10308" y="9576"/>
                  </a:lnTo>
                  <a:lnTo>
                    <a:pt x="10667" y="9100"/>
                  </a:lnTo>
                  <a:lnTo>
                    <a:pt x="10976" y="8589"/>
                  </a:lnTo>
                  <a:lnTo>
                    <a:pt x="11227" y="8059"/>
                  </a:lnTo>
                  <a:lnTo>
                    <a:pt x="11420" y="7515"/>
                  </a:lnTo>
                  <a:lnTo>
                    <a:pt x="11558" y="6962"/>
                  </a:lnTo>
                  <a:lnTo>
                    <a:pt x="11640" y="6402"/>
                  </a:lnTo>
                  <a:lnTo>
                    <a:pt x="11668" y="5840"/>
                  </a:lnTo>
                  <a:lnTo>
                    <a:pt x="11640" y="5279"/>
                  </a:lnTo>
                  <a:lnTo>
                    <a:pt x="11560" y="4726"/>
                  </a:lnTo>
                  <a:lnTo>
                    <a:pt x="11429" y="4182"/>
                  </a:lnTo>
                  <a:lnTo>
                    <a:pt x="11245" y="3653"/>
                  </a:lnTo>
                  <a:lnTo>
                    <a:pt x="11010" y="3142"/>
                  </a:lnTo>
                  <a:lnTo>
                    <a:pt x="10725" y="2653"/>
                  </a:lnTo>
                  <a:lnTo>
                    <a:pt x="10390" y="2190"/>
                  </a:lnTo>
                  <a:lnTo>
                    <a:pt x="10007" y="1757"/>
                  </a:lnTo>
                  <a:lnTo>
                    <a:pt x="9577" y="1360"/>
                  </a:lnTo>
                  <a:lnTo>
                    <a:pt x="9100" y="1002"/>
                  </a:lnTo>
                  <a:lnTo>
                    <a:pt x="8589" y="692"/>
                  </a:lnTo>
                  <a:lnTo>
                    <a:pt x="8060" y="441"/>
                  </a:lnTo>
                  <a:lnTo>
                    <a:pt x="7516" y="247"/>
                  </a:lnTo>
                  <a:lnTo>
                    <a:pt x="6962" y="110"/>
                  </a:lnTo>
                  <a:lnTo>
                    <a:pt x="6402" y="28"/>
                  </a:lnTo>
                  <a:lnTo>
                    <a:pt x="5841" y="0"/>
                  </a:lnTo>
                  <a:lnTo>
                    <a:pt x="5281" y="27"/>
                  </a:lnTo>
                  <a:lnTo>
                    <a:pt x="4727" y="106"/>
                  </a:lnTo>
                  <a:lnTo>
                    <a:pt x="4182" y="239"/>
                  </a:lnTo>
                  <a:lnTo>
                    <a:pt x="3653" y="423"/>
                  </a:lnTo>
                  <a:lnTo>
                    <a:pt x="3142" y="658"/>
                  </a:lnTo>
                  <a:lnTo>
                    <a:pt x="2653" y="943"/>
                  </a:lnTo>
                  <a:lnTo>
                    <a:pt x="2190" y="1277"/>
                  </a:lnTo>
                  <a:lnTo>
                    <a:pt x="1757" y="1660"/>
                  </a:lnTo>
                  <a:lnTo>
                    <a:pt x="1360" y="2090"/>
                  </a:lnTo>
                  <a:lnTo>
                    <a:pt x="1002" y="2567"/>
                  </a:lnTo>
                  <a:lnTo>
                    <a:pt x="692" y="3078"/>
                  </a:lnTo>
                  <a:lnTo>
                    <a:pt x="441" y="3607"/>
                  </a:lnTo>
                  <a:lnTo>
                    <a:pt x="248" y="4150"/>
                  </a:lnTo>
                  <a:lnTo>
                    <a:pt x="110" y="4704"/>
                  </a:lnTo>
                  <a:lnTo>
                    <a:pt x="28" y="5265"/>
                  </a:lnTo>
                  <a:lnTo>
                    <a:pt x="0" y="5826"/>
                  </a:lnTo>
                  <a:lnTo>
                    <a:pt x="28" y="6386"/>
                  </a:lnTo>
                  <a:lnTo>
                    <a:pt x="108" y="6940"/>
                  </a:lnTo>
                  <a:lnTo>
                    <a:pt x="239" y="7484"/>
                  </a:lnTo>
                  <a:lnTo>
                    <a:pt x="423" y="8014"/>
                  </a:lnTo>
                  <a:lnTo>
                    <a:pt x="658" y="8525"/>
                  </a:lnTo>
                  <a:lnTo>
                    <a:pt x="943" y="9014"/>
                  </a:lnTo>
                  <a:lnTo>
                    <a:pt x="1278" y="9476"/>
                  </a:lnTo>
                  <a:lnTo>
                    <a:pt x="1661" y="9909"/>
                  </a:lnTo>
                  <a:lnTo>
                    <a:pt x="2091" y="10307"/>
                  </a:lnTo>
                  <a:lnTo>
                    <a:pt x="2569" y="10666"/>
                  </a:lnTo>
                  <a:close/>
                </a:path>
              </a:pathLst>
            </a:custGeom>
            <a:solidFill>
              <a:srgbClr val="1b3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4440" y="123480"/>
              <a:ext cx="891720" cy="880560"/>
            </a:xfrm>
            <a:custGeom>
              <a:avLst/>
              <a:gdLst/>
              <a:ahLst/>
              <a:rect l="l" t="t" r="r" b="b"/>
              <a:pathLst>
                <a:path w="11505" h="11506">
                  <a:moveTo>
                    <a:pt x="2532" y="10519"/>
                  </a:moveTo>
                  <a:lnTo>
                    <a:pt x="3036" y="10823"/>
                  </a:lnTo>
                  <a:lnTo>
                    <a:pt x="3558" y="11071"/>
                  </a:lnTo>
                  <a:lnTo>
                    <a:pt x="4093" y="11262"/>
                  </a:lnTo>
                  <a:lnTo>
                    <a:pt x="4640" y="11398"/>
                  </a:lnTo>
                  <a:lnTo>
                    <a:pt x="5192" y="11479"/>
                  </a:lnTo>
                  <a:lnTo>
                    <a:pt x="5747" y="11506"/>
                  </a:lnTo>
                  <a:lnTo>
                    <a:pt x="6298" y="11479"/>
                  </a:lnTo>
                  <a:lnTo>
                    <a:pt x="6845" y="11400"/>
                  </a:lnTo>
                  <a:lnTo>
                    <a:pt x="7382" y="11270"/>
                  </a:lnTo>
                  <a:lnTo>
                    <a:pt x="7904" y="11089"/>
                  </a:lnTo>
                  <a:lnTo>
                    <a:pt x="8408" y="10857"/>
                  </a:lnTo>
                  <a:lnTo>
                    <a:pt x="8890" y="10577"/>
                  </a:lnTo>
                  <a:lnTo>
                    <a:pt x="9346" y="10246"/>
                  </a:lnTo>
                  <a:lnTo>
                    <a:pt x="9773" y="9869"/>
                  </a:lnTo>
                  <a:lnTo>
                    <a:pt x="10165" y="9444"/>
                  </a:lnTo>
                  <a:lnTo>
                    <a:pt x="10519" y="8975"/>
                  </a:lnTo>
                  <a:lnTo>
                    <a:pt x="10823" y="8470"/>
                  </a:lnTo>
                  <a:lnTo>
                    <a:pt x="11071" y="7948"/>
                  </a:lnTo>
                  <a:lnTo>
                    <a:pt x="11262" y="7412"/>
                  </a:lnTo>
                  <a:lnTo>
                    <a:pt x="11398" y="6865"/>
                  </a:lnTo>
                  <a:lnTo>
                    <a:pt x="11479" y="6314"/>
                  </a:lnTo>
                  <a:lnTo>
                    <a:pt x="11505" y="5759"/>
                  </a:lnTo>
                  <a:lnTo>
                    <a:pt x="11479" y="5207"/>
                  </a:lnTo>
                  <a:lnTo>
                    <a:pt x="11400" y="4661"/>
                  </a:lnTo>
                  <a:lnTo>
                    <a:pt x="11269" y="4124"/>
                  </a:lnTo>
                  <a:lnTo>
                    <a:pt x="11089" y="3602"/>
                  </a:lnTo>
                  <a:lnTo>
                    <a:pt x="10857" y="3098"/>
                  </a:lnTo>
                  <a:lnTo>
                    <a:pt x="10576" y="2615"/>
                  </a:lnTo>
                  <a:lnTo>
                    <a:pt x="10246" y="2159"/>
                  </a:lnTo>
                  <a:lnTo>
                    <a:pt x="9868" y="1733"/>
                  </a:lnTo>
                  <a:lnTo>
                    <a:pt x="9444" y="1341"/>
                  </a:lnTo>
                  <a:lnTo>
                    <a:pt x="8974" y="988"/>
                  </a:lnTo>
                  <a:lnTo>
                    <a:pt x="8470" y="683"/>
                  </a:lnTo>
                  <a:lnTo>
                    <a:pt x="7948" y="435"/>
                  </a:lnTo>
                  <a:lnTo>
                    <a:pt x="7412" y="244"/>
                  </a:lnTo>
                  <a:lnTo>
                    <a:pt x="6866" y="108"/>
                  </a:lnTo>
                  <a:lnTo>
                    <a:pt x="6313" y="27"/>
                  </a:lnTo>
                  <a:lnTo>
                    <a:pt x="5759" y="0"/>
                  </a:lnTo>
                  <a:lnTo>
                    <a:pt x="5208" y="27"/>
                  </a:lnTo>
                  <a:lnTo>
                    <a:pt x="4661" y="105"/>
                  </a:lnTo>
                  <a:lnTo>
                    <a:pt x="4124" y="236"/>
                  </a:lnTo>
                  <a:lnTo>
                    <a:pt x="3602" y="418"/>
                  </a:lnTo>
                  <a:lnTo>
                    <a:pt x="3098" y="649"/>
                  </a:lnTo>
                  <a:lnTo>
                    <a:pt x="2616" y="930"/>
                  </a:lnTo>
                  <a:lnTo>
                    <a:pt x="2160" y="1260"/>
                  </a:lnTo>
                  <a:lnTo>
                    <a:pt x="1733" y="1637"/>
                  </a:lnTo>
                  <a:lnTo>
                    <a:pt x="1341" y="2061"/>
                  </a:lnTo>
                  <a:lnTo>
                    <a:pt x="988" y="2532"/>
                  </a:lnTo>
                  <a:lnTo>
                    <a:pt x="683" y="3035"/>
                  </a:lnTo>
                  <a:lnTo>
                    <a:pt x="435" y="3557"/>
                  </a:lnTo>
                  <a:lnTo>
                    <a:pt x="244" y="4094"/>
                  </a:lnTo>
                  <a:lnTo>
                    <a:pt x="108" y="4639"/>
                  </a:lnTo>
                  <a:lnTo>
                    <a:pt x="27" y="5192"/>
                  </a:lnTo>
                  <a:lnTo>
                    <a:pt x="0" y="5746"/>
                  </a:lnTo>
                  <a:lnTo>
                    <a:pt x="26" y="6299"/>
                  </a:lnTo>
                  <a:lnTo>
                    <a:pt x="106" y="6845"/>
                  </a:lnTo>
                  <a:lnTo>
                    <a:pt x="235" y="7381"/>
                  </a:lnTo>
                  <a:lnTo>
                    <a:pt x="417" y="7904"/>
                  </a:lnTo>
                  <a:lnTo>
                    <a:pt x="649" y="8408"/>
                  </a:lnTo>
                  <a:lnTo>
                    <a:pt x="930" y="8891"/>
                  </a:lnTo>
                  <a:lnTo>
                    <a:pt x="1259" y="9347"/>
                  </a:lnTo>
                  <a:lnTo>
                    <a:pt x="1637" y="9773"/>
                  </a:lnTo>
                  <a:lnTo>
                    <a:pt x="2061" y="10165"/>
                  </a:lnTo>
                  <a:lnTo>
                    <a:pt x="2532" y="10519"/>
                  </a:lnTo>
                  <a:close/>
                </a:path>
              </a:pathLst>
            </a:custGeom>
            <a:solidFill>
              <a:srgbClr val="1c3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63440" y="126000"/>
              <a:ext cx="879840" cy="867600"/>
            </a:xfrm>
            <a:custGeom>
              <a:avLst/>
              <a:gdLst/>
              <a:ahLst/>
              <a:rect l="l" t="t" r="r" b="b"/>
              <a:pathLst>
                <a:path w="11344" h="11345">
                  <a:moveTo>
                    <a:pt x="2496" y="10372"/>
                  </a:moveTo>
                  <a:lnTo>
                    <a:pt x="2992" y="10672"/>
                  </a:lnTo>
                  <a:lnTo>
                    <a:pt x="3507" y="10917"/>
                  </a:lnTo>
                  <a:lnTo>
                    <a:pt x="4035" y="11106"/>
                  </a:lnTo>
                  <a:lnTo>
                    <a:pt x="4574" y="11239"/>
                  </a:lnTo>
                  <a:lnTo>
                    <a:pt x="5119" y="11319"/>
                  </a:lnTo>
                  <a:lnTo>
                    <a:pt x="5665" y="11345"/>
                  </a:lnTo>
                  <a:lnTo>
                    <a:pt x="6209" y="11320"/>
                  </a:lnTo>
                  <a:lnTo>
                    <a:pt x="6748" y="11242"/>
                  </a:lnTo>
                  <a:lnTo>
                    <a:pt x="7278" y="11113"/>
                  </a:lnTo>
                  <a:lnTo>
                    <a:pt x="7792" y="10934"/>
                  </a:lnTo>
                  <a:lnTo>
                    <a:pt x="8290" y="10705"/>
                  </a:lnTo>
                  <a:lnTo>
                    <a:pt x="8765" y="10429"/>
                  </a:lnTo>
                  <a:lnTo>
                    <a:pt x="9215" y="10103"/>
                  </a:lnTo>
                  <a:lnTo>
                    <a:pt x="9636" y="9731"/>
                  </a:lnTo>
                  <a:lnTo>
                    <a:pt x="10022" y="9314"/>
                  </a:lnTo>
                  <a:lnTo>
                    <a:pt x="10371" y="8850"/>
                  </a:lnTo>
                  <a:lnTo>
                    <a:pt x="10671" y="8353"/>
                  </a:lnTo>
                  <a:lnTo>
                    <a:pt x="10916" y="7838"/>
                  </a:lnTo>
                  <a:lnTo>
                    <a:pt x="11104" y="7309"/>
                  </a:lnTo>
                  <a:lnTo>
                    <a:pt x="11238" y="6771"/>
                  </a:lnTo>
                  <a:lnTo>
                    <a:pt x="11318" y="6225"/>
                  </a:lnTo>
                  <a:lnTo>
                    <a:pt x="11344" y="5679"/>
                  </a:lnTo>
                  <a:lnTo>
                    <a:pt x="11319" y="5135"/>
                  </a:lnTo>
                  <a:lnTo>
                    <a:pt x="11241" y="4596"/>
                  </a:lnTo>
                  <a:lnTo>
                    <a:pt x="11111" y="4066"/>
                  </a:lnTo>
                  <a:lnTo>
                    <a:pt x="10933" y="3552"/>
                  </a:lnTo>
                  <a:lnTo>
                    <a:pt x="10704" y="3054"/>
                  </a:lnTo>
                  <a:lnTo>
                    <a:pt x="10428" y="2579"/>
                  </a:lnTo>
                  <a:lnTo>
                    <a:pt x="10102" y="2129"/>
                  </a:lnTo>
                  <a:lnTo>
                    <a:pt x="9730" y="1708"/>
                  </a:lnTo>
                  <a:lnTo>
                    <a:pt x="9311" y="1322"/>
                  </a:lnTo>
                  <a:lnTo>
                    <a:pt x="8848" y="974"/>
                  </a:lnTo>
                  <a:lnTo>
                    <a:pt x="8350" y="673"/>
                  </a:lnTo>
                  <a:lnTo>
                    <a:pt x="7836" y="428"/>
                  </a:lnTo>
                  <a:lnTo>
                    <a:pt x="7307" y="240"/>
                  </a:lnTo>
                  <a:lnTo>
                    <a:pt x="6768" y="106"/>
                  </a:lnTo>
                  <a:lnTo>
                    <a:pt x="6224" y="27"/>
                  </a:lnTo>
                  <a:lnTo>
                    <a:pt x="5678" y="0"/>
                  </a:lnTo>
                  <a:lnTo>
                    <a:pt x="5133" y="25"/>
                  </a:lnTo>
                  <a:lnTo>
                    <a:pt x="4594" y="104"/>
                  </a:lnTo>
                  <a:lnTo>
                    <a:pt x="4066" y="233"/>
                  </a:lnTo>
                  <a:lnTo>
                    <a:pt x="3551" y="411"/>
                  </a:lnTo>
                  <a:lnTo>
                    <a:pt x="3054" y="640"/>
                  </a:lnTo>
                  <a:lnTo>
                    <a:pt x="2579" y="916"/>
                  </a:lnTo>
                  <a:lnTo>
                    <a:pt x="2129" y="1242"/>
                  </a:lnTo>
                  <a:lnTo>
                    <a:pt x="1708" y="1614"/>
                  </a:lnTo>
                  <a:lnTo>
                    <a:pt x="1322" y="2033"/>
                  </a:lnTo>
                  <a:lnTo>
                    <a:pt x="973" y="2497"/>
                  </a:lnTo>
                  <a:lnTo>
                    <a:pt x="673" y="2994"/>
                  </a:lnTo>
                  <a:lnTo>
                    <a:pt x="428" y="3508"/>
                  </a:lnTo>
                  <a:lnTo>
                    <a:pt x="240" y="4036"/>
                  </a:lnTo>
                  <a:lnTo>
                    <a:pt x="106" y="4575"/>
                  </a:lnTo>
                  <a:lnTo>
                    <a:pt x="26" y="5120"/>
                  </a:lnTo>
                  <a:lnTo>
                    <a:pt x="0" y="5666"/>
                  </a:lnTo>
                  <a:lnTo>
                    <a:pt x="25" y="6210"/>
                  </a:lnTo>
                  <a:lnTo>
                    <a:pt x="103" y="6749"/>
                  </a:lnTo>
                  <a:lnTo>
                    <a:pt x="231" y="7278"/>
                  </a:lnTo>
                  <a:lnTo>
                    <a:pt x="411" y="7793"/>
                  </a:lnTo>
                  <a:lnTo>
                    <a:pt x="639" y="8290"/>
                  </a:lnTo>
                  <a:lnTo>
                    <a:pt x="916" y="8766"/>
                  </a:lnTo>
                  <a:lnTo>
                    <a:pt x="1241" y="9216"/>
                  </a:lnTo>
                  <a:lnTo>
                    <a:pt x="1612" y="9636"/>
                  </a:lnTo>
                  <a:lnTo>
                    <a:pt x="2031" y="10023"/>
                  </a:lnTo>
                  <a:lnTo>
                    <a:pt x="2496" y="10372"/>
                  </a:lnTo>
                  <a:close/>
                </a:path>
              </a:pathLst>
            </a:custGeom>
            <a:solidFill>
              <a:srgbClr val="1e3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72800" y="127800"/>
              <a:ext cx="866520" cy="855720"/>
            </a:xfrm>
            <a:custGeom>
              <a:avLst/>
              <a:gdLst/>
              <a:ahLst/>
              <a:rect l="l" t="t" r="r" b="b"/>
              <a:pathLst>
                <a:path w="11185" h="11184">
                  <a:moveTo>
                    <a:pt x="2461" y="10226"/>
                  </a:moveTo>
                  <a:lnTo>
                    <a:pt x="2950" y="10521"/>
                  </a:lnTo>
                  <a:lnTo>
                    <a:pt x="3458" y="10761"/>
                  </a:lnTo>
                  <a:lnTo>
                    <a:pt x="3979" y="10947"/>
                  </a:lnTo>
                  <a:lnTo>
                    <a:pt x="4509" y="11079"/>
                  </a:lnTo>
                  <a:lnTo>
                    <a:pt x="5046" y="11158"/>
                  </a:lnTo>
                  <a:lnTo>
                    <a:pt x="5585" y="11184"/>
                  </a:lnTo>
                  <a:lnTo>
                    <a:pt x="6122" y="11159"/>
                  </a:lnTo>
                  <a:lnTo>
                    <a:pt x="6654" y="11082"/>
                  </a:lnTo>
                  <a:lnTo>
                    <a:pt x="7175" y="10955"/>
                  </a:lnTo>
                  <a:lnTo>
                    <a:pt x="7683" y="10778"/>
                  </a:lnTo>
                  <a:lnTo>
                    <a:pt x="8173" y="10554"/>
                  </a:lnTo>
                  <a:lnTo>
                    <a:pt x="8642" y="10281"/>
                  </a:lnTo>
                  <a:lnTo>
                    <a:pt x="9086" y="9961"/>
                  </a:lnTo>
                  <a:lnTo>
                    <a:pt x="9500" y="9594"/>
                  </a:lnTo>
                  <a:lnTo>
                    <a:pt x="9881" y="9182"/>
                  </a:lnTo>
                  <a:lnTo>
                    <a:pt x="10226" y="8725"/>
                  </a:lnTo>
                  <a:lnTo>
                    <a:pt x="10521" y="8234"/>
                  </a:lnTo>
                  <a:lnTo>
                    <a:pt x="10762" y="7726"/>
                  </a:lnTo>
                  <a:lnTo>
                    <a:pt x="10948" y="7205"/>
                  </a:lnTo>
                  <a:lnTo>
                    <a:pt x="11080" y="6675"/>
                  </a:lnTo>
                  <a:lnTo>
                    <a:pt x="11158" y="6138"/>
                  </a:lnTo>
                  <a:lnTo>
                    <a:pt x="11185" y="5599"/>
                  </a:lnTo>
                  <a:lnTo>
                    <a:pt x="11158" y="5062"/>
                  </a:lnTo>
                  <a:lnTo>
                    <a:pt x="11082" y="4531"/>
                  </a:lnTo>
                  <a:lnTo>
                    <a:pt x="10955" y="4010"/>
                  </a:lnTo>
                  <a:lnTo>
                    <a:pt x="10779" y="3502"/>
                  </a:lnTo>
                  <a:lnTo>
                    <a:pt x="10553" y="3012"/>
                  </a:lnTo>
                  <a:lnTo>
                    <a:pt x="10280" y="2543"/>
                  </a:lnTo>
                  <a:lnTo>
                    <a:pt x="9960" y="2098"/>
                  </a:lnTo>
                  <a:lnTo>
                    <a:pt x="9593" y="1685"/>
                  </a:lnTo>
                  <a:lnTo>
                    <a:pt x="9181" y="1303"/>
                  </a:lnTo>
                  <a:lnTo>
                    <a:pt x="8724" y="960"/>
                  </a:lnTo>
                  <a:lnTo>
                    <a:pt x="8234" y="663"/>
                  </a:lnTo>
                  <a:lnTo>
                    <a:pt x="7726" y="423"/>
                  </a:lnTo>
                  <a:lnTo>
                    <a:pt x="7206" y="237"/>
                  </a:lnTo>
                  <a:lnTo>
                    <a:pt x="6674" y="105"/>
                  </a:lnTo>
                  <a:lnTo>
                    <a:pt x="6137" y="26"/>
                  </a:lnTo>
                  <a:lnTo>
                    <a:pt x="5598" y="0"/>
                  </a:lnTo>
                  <a:lnTo>
                    <a:pt x="5061" y="26"/>
                  </a:lnTo>
                  <a:lnTo>
                    <a:pt x="4531" y="103"/>
                  </a:lnTo>
                  <a:lnTo>
                    <a:pt x="4009" y="229"/>
                  </a:lnTo>
                  <a:lnTo>
                    <a:pt x="3502" y="406"/>
                  </a:lnTo>
                  <a:lnTo>
                    <a:pt x="3012" y="631"/>
                  </a:lnTo>
                  <a:lnTo>
                    <a:pt x="2543" y="905"/>
                  </a:lnTo>
                  <a:lnTo>
                    <a:pt x="2098" y="1225"/>
                  </a:lnTo>
                  <a:lnTo>
                    <a:pt x="1685" y="1591"/>
                  </a:lnTo>
                  <a:lnTo>
                    <a:pt x="1303" y="2004"/>
                  </a:lnTo>
                  <a:lnTo>
                    <a:pt x="960" y="2462"/>
                  </a:lnTo>
                  <a:lnTo>
                    <a:pt x="663" y="2951"/>
                  </a:lnTo>
                  <a:lnTo>
                    <a:pt x="423" y="3458"/>
                  </a:lnTo>
                  <a:lnTo>
                    <a:pt x="237" y="3979"/>
                  </a:lnTo>
                  <a:lnTo>
                    <a:pt x="105" y="4510"/>
                  </a:lnTo>
                  <a:lnTo>
                    <a:pt x="26" y="5047"/>
                  </a:lnTo>
                  <a:lnTo>
                    <a:pt x="0" y="5586"/>
                  </a:lnTo>
                  <a:lnTo>
                    <a:pt x="25" y="6123"/>
                  </a:lnTo>
                  <a:lnTo>
                    <a:pt x="103" y="6654"/>
                  </a:lnTo>
                  <a:lnTo>
                    <a:pt x="229" y="7176"/>
                  </a:lnTo>
                  <a:lnTo>
                    <a:pt x="406" y="7683"/>
                  </a:lnTo>
                  <a:lnTo>
                    <a:pt x="630" y="8173"/>
                  </a:lnTo>
                  <a:lnTo>
                    <a:pt x="903" y="8642"/>
                  </a:lnTo>
                  <a:lnTo>
                    <a:pt x="1223" y="9086"/>
                  </a:lnTo>
                  <a:lnTo>
                    <a:pt x="1590" y="9499"/>
                  </a:lnTo>
                  <a:lnTo>
                    <a:pt x="2003" y="9881"/>
                  </a:lnTo>
                  <a:lnTo>
                    <a:pt x="2461" y="10226"/>
                  </a:lnTo>
                  <a:close/>
                </a:path>
              </a:pathLst>
            </a:custGeom>
            <a:solidFill>
              <a:srgbClr val="203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2160" y="130680"/>
              <a:ext cx="854640" cy="843840"/>
            </a:xfrm>
            <a:custGeom>
              <a:avLst/>
              <a:gdLst/>
              <a:ahLst/>
              <a:rect l="l" t="t" r="r" b="b"/>
              <a:pathLst>
                <a:path w="11024" h="11024">
                  <a:moveTo>
                    <a:pt x="2426" y="10079"/>
                  </a:moveTo>
                  <a:lnTo>
                    <a:pt x="2909" y="10370"/>
                  </a:lnTo>
                  <a:lnTo>
                    <a:pt x="3408" y="10607"/>
                  </a:lnTo>
                  <a:lnTo>
                    <a:pt x="3922" y="10791"/>
                  </a:lnTo>
                  <a:lnTo>
                    <a:pt x="4445" y="10921"/>
                  </a:lnTo>
                  <a:lnTo>
                    <a:pt x="4974" y="10998"/>
                  </a:lnTo>
                  <a:lnTo>
                    <a:pt x="5506" y="11024"/>
                  </a:lnTo>
                  <a:lnTo>
                    <a:pt x="6034" y="10998"/>
                  </a:lnTo>
                  <a:lnTo>
                    <a:pt x="6558" y="10923"/>
                  </a:lnTo>
                  <a:lnTo>
                    <a:pt x="7072" y="10797"/>
                  </a:lnTo>
                  <a:lnTo>
                    <a:pt x="7573" y="10624"/>
                  </a:lnTo>
                  <a:lnTo>
                    <a:pt x="8055" y="10402"/>
                  </a:lnTo>
                  <a:lnTo>
                    <a:pt x="8518" y="10133"/>
                  </a:lnTo>
                  <a:lnTo>
                    <a:pt x="8955" y="9817"/>
                  </a:lnTo>
                  <a:lnTo>
                    <a:pt x="9363" y="9456"/>
                  </a:lnTo>
                  <a:lnTo>
                    <a:pt x="9739" y="9050"/>
                  </a:lnTo>
                  <a:lnTo>
                    <a:pt x="10078" y="8599"/>
                  </a:lnTo>
                  <a:lnTo>
                    <a:pt x="10370" y="8115"/>
                  </a:lnTo>
                  <a:lnTo>
                    <a:pt x="10608" y="7616"/>
                  </a:lnTo>
                  <a:lnTo>
                    <a:pt x="10791" y="7102"/>
                  </a:lnTo>
                  <a:lnTo>
                    <a:pt x="10920" y="6579"/>
                  </a:lnTo>
                  <a:lnTo>
                    <a:pt x="10998" y="6050"/>
                  </a:lnTo>
                  <a:lnTo>
                    <a:pt x="11024" y="5518"/>
                  </a:lnTo>
                  <a:lnTo>
                    <a:pt x="10999" y="4990"/>
                  </a:lnTo>
                  <a:lnTo>
                    <a:pt x="10923" y="4466"/>
                  </a:lnTo>
                  <a:lnTo>
                    <a:pt x="10798" y="3952"/>
                  </a:lnTo>
                  <a:lnTo>
                    <a:pt x="10625" y="3452"/>
                  </a:lnTo>
                  <a:lnTo>
                    <a:pt x="10403" y="2969"/>
                  </a:lnTo>
                  <a:lnTo>
                    <a:pt x="10134" y="2506"/>
                  </a:lnTo>
                  <a:lnTo>
                    <a:pt x="9818" y="2070"/>
                  </a:lnTo>
                  <a:lnTo>
                    <a:pt x="9455" y="1661"/>
                  </a:lnTo>
                  <a:lnTo>
                    <a:pt x="9049" y="1285"/>
                  </a:lnTo>
                  <a:lnTo>
                    <a:pt x="8598" y="947"/>
                  </a:lnTo>
                  <a:lnTo>
                    <a:pt x="8115" y="655"/>
                  </a:lnTo>
                  <a:lnTo>
                    <a:pt x="7615" y="416"/>
                  </a:lnTo>
                  <a:lnTo>
                    <a:pt x="7102" y="234"/>
                  </a:lnTo>
                  <a:lnTo>
                    <a:pt x="6578" y="104"/>
                  </a:lnTo>
                  <a:lnTo>
                    <a:pt x="6049" y="26"/>
                  </a:lnTo>
                  <a:lnTo>
                    <a:pt x="5518" y="0"/>
                  </a:lnTo>
                  <a:lnTo>
                    <a:pt x="4989" y="25"/>
                  </a:lnTo>
                  <a:lnTo>
                    <a:pt x="4465" y="101"/>
                  </a:lnTo>
                  <a:lnTo>
                    <a:pt x="3952" y="226"/>
                  </a:lnTo>
                  <a:lnTo>
                    <a:pt x="3451" y="399"/>
                  </a:lnTo>
                  <a:lnTo>
                    <a:pt x="2968" y="622"/>
                  </a:lnTo>
                  <a:lnTo>
                    <a:pt x="2506" y="891"/>
                  </a:lnTo>
                  <a:lnTo>
                    <a:pt x="2069" y="1206"/>
                  </a:lnTo>
                  <a:lnTo>
                    <a:pt x="1661" y="1569"/>
                  </a:lnTo>
                  <a:lnTo>
                    <a:pt x="1284" y="1975"/>
                  </a:lnTo>
                  <a:lnTo>
                    <a:pt x="946" y="2427"/>
                  </a:lnTo>
                  <a:lnTo>
                    <a:pt x="654" y="2909"/>
                  </a:lnTo>
                  <a:lnTo>
                    <a:pt x="417" y="3409"/>
                  </a:lnTo>
                  <a:lnTo>
                    <a:pt x="233" y="3922"/>
                  </a:lnTo>
                  <a:lnTo>
                    <a:pt x="103" y="4446"/>
                  </a:lnTo>
                  <a:lnTo>
                    <a:pt x="25" y="4975"/>
                  </a:lnTo>
                  <a:lnTo>
                    <a:pt x="0" y="5505"/>
                  </a:lnTo>
                  <a:lnTo>
                    <a:pt x="25" y="6035"/>
                  </a:lnTo>
                  <a:lnTo>
                    <a:pt x="101" y="6559"/>
                  </a:lnTo>
                  <a:lnTo>
                    <a:pt x="226" y="7072"/>
                  </a:lnTo>
                  <a:lnTo>
                    <a:pt x="400" y="7573"/>
                  </a:lnTo>
                  <a:lnTo>
                    <a:pt x="622" y="8056"/>
                  </a:lnTo>
                  <a:lnTo>
                    <a:pt x="891" y="8518"/>
                  </a:lnTo>
                  <a:lnTo>
                    <a:pt x="1207" y="8955"/>
                  </a:lnTo>
                  <a:lnTo>
                    <a:pt x="1568" y="9363"/>
                  </a:lnTo>
                  <a:lnTo>
                    <a:pt x="1974" y="9739"/>
                  </a:lnTo>
                  <a:lnTo>
                    <a:pt x="2426" y="10079"/>
                  </a:lnTo>
                  <a:close/>
                </a:path>
              </a:pathLst>
            </a:custGeom>
            <a:solidFill>
              <a:srgbClr val="223b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1520" y="133200"/>
              <a:ext cx="842400" cy="831240"/>
            </a:xfrm>
            <a:custGeom>
              <a:avLst/>
              <a:gdLst/>
              <a:ahLst/>
              <a:rect l="l" t="t" r="r" b="b"/>
              <a:pathLst>
                <a:path w="10863" h="10862">
                  <a:moveTo>
                    <a:pt x="2391" y="9931"/>
                  </a:moveTo>
                  <a:lnTo>
                    <a:pt x="2866" y="10218"/>
                  </a:lnTo>
                  <a:lnTo>
                    <a:pt x="3359" y="10452"/>
                  </a:lnTo>
                  <a:lnTo>
                    <a:pt x="3865" y="10633"/>
                  </a:lnTo>
                  <a:lnTo>
                    <a:pt x="4381" y="10760"/>
                  </a:lnTo>
                  <a:lnTo>
                    <a:pt x="4902" y="10837"/>
                  </a:lnTo>
                  <a:lnTo>
                    <a:pt x="5425" y="10862"/>
                  </a:lnTo>
                  <a:lnTo>
                    <a:pt x="5947" y="10838"/>
                  </a:lnTo>
                  <a:lnTo>
                    <a:pt x="6463" y="10763"/>
                  </a:lnTo>
                  <a:lnTo>
                    <a:pt x="6969" y="10640"/>
                  </a:lnTo>
                  <a:lnTo>
                    <a:pt x="7462" y="10469"/>
                  </a:lnTo>
                  <a:lnTo>
                    <a:pt x="7938" y="10250"/>
                  </a:lnTo>
                  <a:lnTo>
                    <a:pt x="8393" y="9984"/>
                  </a:lnTo>
                  <a:lnTo>
                    <a:pt x="8824" y="9674"/>
                  </a:lnTo>
                  <a:lnTo>
                    <a:pt x="9227" y="9318"/>
                  </a:lnTo>
                  <a:lnTo>
                    <a:pt x="9597" y="8917"/>
                  </a:lnTo>
                  <a:lnTo>
                    <a:pt x="9932" y="8472"/>
                  </a:lnTo>
                  <a:lnTo>
                    <a:pt x="10219" y="7996"/>
                  </a:lnTo>
                  <a:lnTo>
                    <a:pt x="10453" y="7504"/>
                  </a:lnTo>
                  <a:lnTo>
                    <a:pt x="10633" y="6998"/>
                  </a:lnTo>
                  <a:lnTo>
                    <a:pt x="10761" y="6481"/>
                  </a:lnTo>
                  <a:lnTo>
                    <a:pt x="10838" y="5960"/>
                  </a:lnTo>
                  <a:lnTo>
                    <a:pt x="10863" y="5437"/>
                  </a:lnTo>
                  <a:lnTo>
                    <a:pt x="10839" y="4915"/>
                  </a:lnTo>
                  <a:lnTo>
                    <a:pt x="10764" y="4400"/>
                  </a:lnTo>
                  <a:lnTo>
                    <a:pt x="10641" y="3894"/>
                  </a:lnTo>
                  <a:lnTo>
                    <a:pt x="10470" y="3400"/>
                  </a:lnTo>
                  <a:lnTo>
                    <a:pt x="10251" y="2924"/>
                  </a:lnTo>
                  <a:lnTo>
                    <a:pt x="9985" y="2469"/>
                  </a:lnTo>
                  <a:lnTo>
                    <a:pt x="9674" y="2039"/>
                  </a:lnTo>
                  <a:lnTo>
                    <a:pt x="9318" y="1636"/>
                  </a:lnTo>
                  <a:lnTo>
                    <a:pt x="8918" y="1266"/>
                  </a:lnTo>
                  <a:lnTo>
                    <a:pt x="8473" y="932"/>
                  </a:lnTo>
                  <a:lnTo>
                    <a:pt x="7997" y="644"/>
                  </a:lnTo>
                  <a:lnTo>
                    <a:pt x="7505" y="410"/>
                  </a:lnTo>
                  <a:lnTo>
                    <a:pt x="6999" y="229"/>
                  </a:lnTo>
                  <a:lnTo>
                    <a:pt x="6482" y="102"/>
                  </a:lnTo>
                  <a:lnTo>
                    <a:pt x="5961" y="25"/>
                  </a:lnTo>
                  <a:lnTo>
                    <a:pt x="5438" y="0"/>
                  </a:lnTo>
                  <a:lnTo>
                    <a:pt x="4916" y="24"/>
                  </a:lnTo>
                  <a:lnTo>
                    <a:pt x="4400" y="99"/>
                  </a:lnTo>
                  <a:lnTo>
                    <a:pt x="3894" y="222"/>
                  </a:lnTo>
                  <a:lnTo>
                    <a:pt x="3401" y="393"/>
                  </a:lnTo>
                  <a:lnTo>
                    <a:pt x="2925" y="612"/>
                  </a:lnTo>
                  <a:lnTo>
                    <a:pt x="2470" y="878"/>
                  </a:lnTo>
                  <a:lnTo>
                    <a:pt x="2039" y="1188"/>
                  </a:lnTo>
                  <a:lnTo>
                    <a:pt x="1636" y="1544"/>
                  </a:lnTo>
                  <a:lnTo>
                    <a:pt x="1266" y="1945"/>
                  </a:lnTo>
                  <a:lnTo>
                    <a:pt x="932" y="2391"/>
                  </a:lnTo>
                  <a:lnTo>
                    <a:pt x="644" y="2866"/>
                  </a:lnTo>
                  <a:lnTo>
                    <a:pt x="410" y="3358"/>
                  </a:lnTo>
                  <a:lnTo>
                    <a:pt x="230" y="3864"/>
                  </a:lnTo>
                  <a:lnTo>
                    <a:pt x="102" y="4381"/>
                  </a:lnTo>
                  <a:lnTo>
                    <a:pt x="26" y="4902"/>
                  </a:lnTo>
                  <a:lnTo>
                    <a:pt x="0" y="5425"/>
                  </a:lnTo>
                  <a:lnTo>
                    <a:pt x="26" y="5947"/>
                  </a:lnTo>
                  <a:lnTo>
                    <a:pt x="100" y="6462"/>
                  </a:lnTo>
                  <a:lnTo>
                    <a:pt x="223" y="6968"/>
                  </a:lnTo>
                  <a:lnTo>
                    <a:pt x="395" y="7461"/>
                  </a:lnTo>
                  <a:lnTo>
                    <a:pt x="612" y="7938"/>
                  </a:lnTo>
                  <a:lnTo>
                    <a:pt x="878" y="8393"/>
                  </a:lnTo>
                  <a:lnTo>
                    <a:pt x="1190" y="8823"/>
                  </a:lnTo>
                  <a:lnTo>
                    <a:pt x="1546" y="9226"/>
                  </a:lnTo>
                  <a:lnTo>
                    <a:pt x="1947" y="9596"/>
                  </a:lnTo>
                  <a:lnTo>
                    <a:pt x="2391" y="9931"/>
                  </a:lnTo>
                  <a:close/>
                </a:path>
              </a:pathLst>
            </a:custGeom>
            <a:solidFill>
              <a:srgbClr val="243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01600" y="135360"/>
              <a:ext cx="828360" cy="819000"/>
            </a:xfrm>
            <a:custGeom>
              <a:avLst/>
              <a:gdLst/>
              <a:ahLst/>
              <a:rect l="l" t="t" r="r" b="b"/>
              <a:pathLst>
                <a:path w="10702" h="10702">
                  <a:moveTo>
                    <a:pt x="2355" y="9784"/>
                  </a:moveTo>
                  <a:lnTo>
                    <a:pt x="2823" y="10067"/>
                  </a:lnTo>
                  <a:lnTo>
                    <a:pt x="3309" y="10298"/>
                  </a:lnTo>
                  <a:lnTo>
                    <a:pt x="3807" y="10475"/>
                  </a:lnTo>
                  <a:lnTo>
                    <a:pt x="4316" y="10602"/>
                  </a:lnTo>
                  <a:lnTo>
                    <a:pt x="4829" y="10677"/>
                  </a:lnTo>
                  <a:lnTo>
                    <a:pt x="5345" y="10702"/>
                  </a:lnTo>
                  <a:lnTo>
                    <a:pt x="5859" y="10677"/>
                  </a:lnTo>
                  <a:lnTo>
                    <a:pt x="6367" y="10604"/>
                  </a:lnTo>
                  <a:lnTo>
                    <a:pt x="6866" y="10483"/>
                  </a:lnTo>
                  <a:lnTo>
                    <a:pt x="7352" y="10314"/>
                  </a:lnTo>
                  <a:lnTo>
                    <a:pt x="7821" y="10099"/>
                  </a:lnTo>
                  <a:lnTo>
                    <a:pt x="8269" y="9837"/>
                  </a:lnTo>
                  <a:lnTo>
                    <a:pt x="8694" y="9530"/>
                  </a:lnTo>
                  <a:lnTo>
                    <a:pt x="9091" y="9179"/>
                  </a:lnTo>
                  <a:lnTo>
                    <a:pt x="9456" y="8784"/>
                  </a:lnTo>
                  <a:lnTo>
                    <a:pt x="9785" y="8347"/>
                  </a:lnTo>
                  <a:lnTo>
                    <a:pt x="10068" y="7878"/>
                  </a:lnTo>
                  <a:lnTo>
                    <a:pt x="10299" y="7392"/>
                  </a:lnTo>
                  <a:lnTo>
                    <a:pt x="10476" y="6894"/>
                  </a:lnTo>
                  <a:lnTo>
                    <a:pt x="10602" y="6385"/>
                  </a:lnTo>
                  <a:lnTo>
                    <a:pt x="10677" y="5872"/>
                  </a:lnTo>
                  <a:lnTo>
                    <a:pt x="10702" y="5356"/>
                  </a:lnTo>
                  <a:lnTo>
                    <a:pt x="10677" y="4843"/>
                  </a:lnTo>
                  <a:lnTo>
                    <a:pt x="10604" y="4335"/>
                  </a:lnTo>
                  <a:lnTo>
                    <a:pt x="10483" y="3836"/>
                  </a:lnTo>
                  <a:lnTo>
                    <a:pt x="10314" y="3350"/>
                  </a:lnTo>
                  <a:lnTo>
                    <a:pt x="10099" y="2882"/>
                  </a:lnTo>
                  <a:lnTo>
                    <a:pt x="9837" y="2433"/>
                  </a:lnTo>
                  <a:lnTo>
                    <a:pt x="9530" y="2008"/>
                  </a:lnTo>
                  <a:lnTo>
                    <a:pt x="9179" y="1611"/>
                  </a:lnTo>
                  <a:lnTo>
                    <a:pt x="8785" y="1247"/>
                  </a:lnTo>
                  <a:lnTo>
                    <a:pt x="8348" y="918"/>
                  </a:lnTo>
                  <a:lnTo>
                    <a:pt x="7879" y="634"/>
                  </a:lnTo>
                  <a:lnTo>
                    <a:pt x="7393" y="404"/>
                  </a:lnTo>
                  <a:lnTo>
                    <a:pt x="6895" y="226"/>
                  </a:lnTo>
                  <a:lnTo>
                    <a:pt x="6386" y="100"/>
                  </a:lnTo>
                  <a:lnTo>
                    <a:pt x="5873" y="24"/>
                  </a:lnTo>
                  <a:lnTo>
                    <a:pt x="5357" y="0"/>
                  </a:lnTo>
                  <a:lnTo>
                    <a:pt x="4843" y="24"/>
                  </a:lnTo>
                  <a:lnTo>
                    <a:pt x="4335" y="97"/>
                  </a:lnTo>
                  <a:lnTo>
                    <a:pt x="3836" y="219"/>
                  </a:lnTo>
                  <a:lnTo>
                    <a:pt x="3350" y="388"/>
                  </a:lnTo>
                  <a:lnTo>
                    <a:pt x="2881" y="602"/>
                  </a:lnTo>
                  <a:lnTo>
                    <a:pt x="2433" y="864"/>
                  </a:lnTo>
                  <a:lnTo>
                    <a:pt x="2007" y="1171"/>
                  </a:lnTo>
                  <a:lnTo>
                    <a:pt x="1611" y="1522"/>
                  </a:lnTo>
                  <a:lnTo>
                    <a:pt x="1246" y="1917"/>
                  </a:lnTo>
                  <a:lnTo>
                    <a:pt x="918" y="2355"/>
                  </a:lnTo>
                  <a:lnTo>
                    <a:pt x="634" y="2823"/>
                  </a:lnTo>
                  <a:lnTo>
                    <a:pt x="404" y="3309"/>
                  </a:lnTo>
                  <a:lnTo>
                    <a:pt x="227" y="3808"/>
                  </a:lnTo>
                  <a:lnTo>
                    <a:pt x="100" y="4316"/>
                  </a:lnTo>
                  <a:lnTo>
                    <a:pt x="25" y="4829"/>
                  </a:lnTo>
                  <a:lnTo>
                    <a:pt x="0" y="5345"/>
                  </a:lnTo>
                  <a:lnTo>
                    <a:pt x="25" y="5858"/>
                  </a:lnTo>
                  <a:lnTo>
                    <a:pt x="98" y="6366"/>
                  </a:lnTo>
                  <a:lnTo>
                    <a:pt x="219" y="6865"/>
                  </a:lnTo>
                  <a:lnTo>
                    <a:pt x="388" y="7351"/>
                  </a:lnTo>
                  <a:lnTo>
                    <a:pt x="604" y="7820"/>
                  </a:lnTo>
                  <a:lnTo>
                    <a:pt x="865" y="8268"/>
                  </a:lnTo>
                  <a:lnTo>
                    <a:pt x="1172" y="8693"/>
                  </a:lnTo>
                  <a:lnTo>
                    <a:pt x="1523" y="9090"/>
                  </a:lnTo>
                  <a:lnTo>
                    <a:pt x="1917" y="9455"/>
                  </a:lnTo>
                  <a:lnTo>
                    <a:pt x="2355" y="9784"/>
                  </a:lnTo>
                  <a:close/>
                </a:path>
              </a:pathLst>
            </a:custGeom>
            <a:solidFill>
              <a:srgbClr val="263f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10960" y="137880"/>
              <a:ext cx="816480" cy="806400"/>
            </a:xfrm>
            <a:custGeom>
              <a:avLst/>
              <a:gdLst/>
              <a:ahLst/>
              <a:rect l="l" t="t" r="r" b="b"/>
              <a:pathLst>
                <a:path w="10540" h="10542">
                  <a:moveTo>
                    <a:pt x="2319" y="9638"/>
                  </a:moveTo>
                  <a:lnTo>
                    <a:pt x="2781" y="9917"/>
                  </a:lnTo>
                  <a:lnTo>
                    <a:pt x="3259" y="10143"/>
                  </a:lnTo>
                  <a:lnTo>
                    <a:pt x="3750" y="10319"/>
                  </a:lnTo>
                  <a:lnTo>
                    <a:pt x="4250" y="10443"/>
                  </a:lnTo>
                  <a:lnTo>
                    <a:pt x="4756" y="10517"/>
                  </a:lnTo>
                  <a:lnTo>
                    <a:pt x="5264" y="10542"/>
                  </a:lnTo>
                  <a:lnTo>
                    <a:pt x="5770" y="10517"/>
                  </a:lnTo>
                  <a:lnTo>
                    <a:pt x="6271" y="10445"/>
                  </a:lnTo>
                  <a:lnTo>
                    <a:pt x="6762" y="10326"/>
                  </a:lnTo>
                  <a:lnTo>
                    <a:pt x="7240" y="10160"/>
                  </a:lnTo>
                  <a:lnTo>
                    <a:pt x="7703" y="9948"/>
                  </a:lnTo>
                  <a:lnTo>
                    <a:pt x="8144" y="9690"/>
                  </a:lnTo>
                  <a:lnTo>
                    <a:pt x="8562" y="9389"/>
                  </a:lnTo>
                  <a:lnTo>
                    <a:pt x="8953" y="9043"/>
                  </a:lnTo>
                  <a:lnTo>
                    <a:pt x="9311" y="8654"/>
                  </a:lnTo>
                  <a:lnTo>
                    <a:pt x="9637" y="8223"/>
                  </a:lnTo>
                  <a:lnTo>
                    <a:pt x="9915" y="7761"/>
                  </a:lnTo>
                  <a:lnTo>
                    <a:pt x="10142" y="7283"/>
                  </a:lnTo>
                  <a:lnTo>
                    <a:pt x="10317" y="6791"/>
                  </a:lnTo>
                  <a:lnTo>
                    <a:pt x="10441" y="6292"/>
                  </a:lnTo>
                  <a:lnTo>
                    <a:pt x="10516" y="5786"/>
                  </a:lnTo>
                  <a:lnTo>
                    <a:pt x="10540" y="5278"/>
                  </a:lnTo>
                  <a:lnTo>
                    <a:pt x="10516" y="4772"/>
                  </a:lnTo>
                  <a:lnTo>
                    <a:pt x="10444" y="4271"/>
                  </a:lnTo>
                  <a:lnTo>
                    <a:pt x="10324" y="3780"/>
                  </a:lnTo>
                  <a:lnTo>
                    <a:pt x="10159" y="3300"/>
                  </a:lnTo>
                  <a:lnTo>
                    <a:pt x="9946" y="2839"/>
                  </a:lnTo>
                  <a:lnTo>
                    <a:pt x="9689" y="2397"/>
                  </a:lnTo>
                  <a:lnTo>
                    <a:pt x="9387" y="1979"/>
                  </a:lnTo>
                  <a:lnTo>
                    <a:pt x="9041" y="1588"/>
                  </a:lnTo>
                  <a:lnTo>
                    <a:pt x="8652" y="1229"/>
                  </a:lnTo>
                  <a:lnTo>
                    <a:pt x="8222" y="905"/>
                  </a:lnTo>
                  <a:lnTo>
                    <a:pt x="7759" y="626"/>
                  </a:lnTo>
                  <a:lnTo>
                    <a:pt x="7281" y="398"/>
                  </a:lnTo>
                  <a:lnTo>
                    <a:pt x="6790" y="224"/>
                  </a:lnTo>
                  <a:lnTo>
                    <a:pt x="6290" y="99"/>
                  </a:lnTo>
                  <a:lnTo>
                    <a:pt x="5784" y="25"/>
                  </a:lnTo>
                  <a:lnTo>
                    <a:pt x="5276" y="0"/>
                  </a:lnTo>
                  <a:lnTo>
                    <a:pt x="4770" y="24"/>
                  </a:lnTo>
                  <a:lnTo>
                    <a:pt x="4269" y="96"/>
                  </a:lnTo>
                  <a:lnTo>
                    <a:pt x="3778" y="216"/>
                  </a:lnTo>
                  <a:lnTo>
                    <a:pt x="3299" y="382"/>
                  </a:lnTo>
                  <a:lnTo>
                    <a:pt x="2837" y="595"/>
                  </a:lnTo>
                  <a:lnTo>
                    <a:pt x="2396" y="852"/>
                  </a:lnTo>
                  <a:lnTo>
                    <a:pt x="1978" y="1154"/>
                  </a:lnTo>
                  <a:lnTo>
                    <a:pt x="1587" y="1500"/>
                  </a:lnTo>
                  <a:lnTo>
                    <a:pt x="1228" y="1890"/>
                  </a:lnTo>
                  <a:lnTo>
                    <a:pt x="904" y="2321"/>
                  </a:lnTo>
                  <a:lnTo>
                    <a:pt x="625" y="2783"/>
                  </a:lnTo>
                  <a:lnTo>
                    <a:pt x="398" y="3261"/>
                  </a:lnTo>
                  <a:lnTo>
                    <a:pt x="223" y="3752"/>
                  </a:lnTo>
                  <a:lnTo>
                    <a:pt x="98" y="4252"/>
                  </a:lnTo>
                  <a:lnTo>
                    <a:pt x="24" y="4758"/>
                  </a:lnTo>
                  <a:lnTo>
                    <a:pt x="0" y="5266"/>
                  </a:lnTo>
                  <a:lnTo>
                    <a:pt x="24" y="5772"/>
                  </a:lnTo>
                  <a:lnTo>
                    <a:pt x="96" y="6273"/>
                  </a:lnTo>
                  <a:lnTo>
                    <a:pt x="215" y="6764"/>
                  </a:lnTo>
                  <a:lnTo>
                    <a:pt x="381" y="7242"/>
                  </a:lnTo>
                  <a:lnTo>
                    <a:pt x="594" y="7705"/>
                  </a:lnTo>
                  <a:lnTo>
                    <a:pt x="851" y="8146"/>
                  </a:lnTo>
                  <a:lnTo>
                    <a:pt x="1153" y="8564"/>
                  </a:lnTo>
                  <a:lnTo>
                    <a:pt x="1499" y="8955"/>
                  </a:lnTo>
                  <a:lnTo>
                    <a:pt x="1888" y="9313"/>
                  </a:lnTo>
                  <a:lnTo>
                    <a:pt x="2319" y="9638"/>
                  </a:lnTo>
                  <a:close/>
                </a:path>
              </a:pathLst>
            </a:custGeom>
            <a:solidFill>
              <a:srgbClr val="28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20320" y="140760"/>
              <a:ext cx="804240" cy="794520"/>
            </a:xfrm>
            <a:custGeom>
              <a:avLst/>
              <a:gdLst/>
              <a:ahLst/>
              <a:rect l="l" t="t" r="r" b="b"/>
              <a:pathLst>
                <a:path w="10380" h="10381">
                  <a:moveTo>
                    <a:pt x="2283" y="9490"/>
                  </a:moveTo>
                  <a:lnTo>
                    <a:pt x="2737" y="9765"/>
                  </a:lnTo>
                  <a:lnTo>
                    <a:pt x="3208" y="9988"/>
                  </a:lnTo>
                  <a:lnTo>
                    <a:pt x="3692" y="10161"/>
                  </a:lnTo>
                  <a:lnTo>
                    <a:pt x="4185" y="10284"/>
                  </a:lnTo>
                  <a:lnTo>
                    <a:pt x="4684" y="10357"/>
                  </a:lnTo>
                  <a:lnTo>
                    <a:pt x="5183" y="10381"/>
                  </a:lnTo>
                  <a:lnTo>
                    <a:pt x="5682" y="10357"/>
                  </a:lnTo>
                  <a:lnTo>
                    <a:pt x="6175" y="10287"/>
                  </a:lnTo>
                  <a:lnTo>
                    <a:pt x="6659" y="10169"/>
                  </a:lnTo>
                  <a:lnTo>
                    <a:pt x="7130" y="10005"/>
                  </a:lnTo>
                  <a:lnTo>
                    <a:pt x="7585" y="9796"/>
                  </a:lnTo>
                  <a:lnTo>
                    <a:pt x="8020" y="9543"/>
                  </a:lnTo>
                  <a:lnTo>
                    <a:pt x="8432" y="9245"/>
                  </a:lnTo>
                  <a:lnTo>
                    <a:pt x="8816" y="8905"/>
                  </a:lnTo>
                  <a:lnTo>
                    <a:pt x="9170" y="8522"/>
                  </a:lnTo>
                  <a:lnTo>
                    <a:pt x="9490" y="8098"/>
                  </a:lnTo>
                  <a:lnTo>
                    <a:pt x="9764" y="7643"/>
                  </a:lnTo>
                  <a:lnTo>
                    <a:pt x="9988" y="7172"/>
                  </a:lnTo>
                  <a:lnTo>
                    <a:pt x="10160" y="6688"/>
                  </a:lnTo>
                  <a:lnTo>
                    <a:pt x="10282" y="6195"/>
                  </a:lnTo>
                  <a:lnTo>
                    <a:pt x="10356" y="5696"/>
                  </a:lnTo>
                  <a:lnTo>
                    <a:pt x="10380" y="5197"/>
                  </a:lnTo>
                  <a:lnTo>
                    <a:pt x="10356" y="4698"/>
                  </a:lnTo>
                  <a:lnTo>
                    <a:pt x="10284" y="4206"/>
                  </a:lnTo>
                  <a:lnTo>
                    <a:pt x="10166" y="3721"/>
                  </a:lnTo>
                  <a:lnTo>
                    <a:pt x="10003" y="3250"/>
                  </a:lnTo>
                  <a:lnTo>
                    <a:pt x="9794" y="2795"/>
                  </a:lnTo>
                  <a:lnTo>
                    <a:pt x="9541" y="2360"/>
                  </a:lnTo>
                  <a:lnTo>
                    <a:pt x="9244" y="1948"/>
                  </a:lnTo>
                  <a:lnTo>
                    <a:pt x="8903" y="1564"/>
                  </a:lnTo>
                  <a:lnTo>
                    <a:pt x="8521" y="1210"/>
                  </a:lnTo>
                  <a:lnTo>
                    <a:pt x="8096" y="891"/>
                  </a:lnTo>
                  <a:lnTo>
                    <a:pt x="7641" y="616"/>
                  </a:lnTo>
                  <a:lnTo>
                    <a:pt x="7170" y="393"/>
                  </a:lnTo>
                  <a:lnTo>
                    <a:pt x="6687" y="219"/>
                  </a:lnTo>
                  <a:lnTo>
                    <a:pt x="6193" y="97"/>
                  </a:lnTo>
                  <a:lnTo>
                    <a:pt x="5696" y="24"/>
                  </a:lnTo>
                  <a:lnTo>
                    <a:pt x="5195" y="0"/>
                  </a:lnTo>
                  <a:lnTo>
                    <a:pt x="4698" y="24"/>
                  </a:lnTo>
                  <a:lnTo>
                    <a:pt x="4204" y="95"/>
                  </a:lnTo>
                  <a:lnTo>
                    <a:pt x="3721" y="213"/>
                  </a:lnTo>
                  <a:lnTo>
                    <a:pt x="3250" y="377"/>
                  </a:lnTo>
                  <a:lnTo>
                    <a:pt x="2795" y="585"/>
                  </a:lnTo>
                  <a:lnTo>
                    <a:pt x="2359" y="839"/>
                  </a:lnTo>
                  <a:lnTo>
                    <a:pt x="1947" y="1137"/>
                  </a:lnTo>
                  <a:lnTo>
                    <a:pt x="1564" y="1477"/>
                  </a:lnTo>
                  <a:lnTo>
                    <a:pt x="1210" y="1860"/>
                  </a:lnTo>
                  <a:lnTo>
                    <a:pt x="891" y="2285"/>
                  </a:lnTo>
                  <a:lnTo>
                    <a:pt x="615" y="2739"/>
                  </a:lnTo>
                  <a:lnTo>
                    <a:pt x="392" y="3210"/>
                  </a:lnTo>
                  <a:lnTo>
                    <a:pt x="219" y="3693"/>
                  </a:lnTo>
                  <a:lnTo>
                    <a:pt x="96" y="4187"/>
                  </a:lnTo>
                  <a:lnTo>
                    <a:pt x="23" y="4684"/>
                  </a:lnTo>
                  <a:lnTo>
                    <a:pt x="0" y="5185"/>
                  </a:lnTo>
                  <a:lnTo>
                    <a:pt x="23" y="5683"/>
                  </a:lnTo>
                  <a:lnTo>
                    <a:pt x="94" y="6176"/>
                  </a:lnTo>
                  <a:lnTo>
                    <a:pt x="212" y="6659"/>
                  </a:lnTo>
                  <a:lnTo>
                    <a:pt x="376" y="7130"/>
                  </a:lnTo>
                  <a:lnTo>
                    <a:pt x="584" y="7585"/>
                  </a:lnTo>
                  <a:lnTo>
                    <a:pt x="837" y="8021"/>
                  </a:lnTo>
                  <a:lnTo>
                    <a:pt x="1135" y="8433"/>
                  </a:lnTo>
                  <a:lnTo>
                    <a:pt x="1475" y="8816"/>
                  </a:lnTo>
                  <a:lnTo>
                    <a:pt x="1858" y="9170"/>
                  </a:lnTo>
                  <a:lnTo>
                    <a:pt x="2283" y="9490"/>
                  </a:lnTo>
                  <a:close/>
                </a:path>
              </a:pathLst>
            </a:custGeom>
            <a:solidFill>
              <a:srgbClr val="2a4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29680" y="142560"/>
              <a:ext cx="791280" cy="782280"/>
            </a:xfrm>
            <a:custGeom>
              <a:avLst/>
              <a:gdLst/>
              <a:ahLst/>
              <a:rect l="l" t="t" r="r" b="b"/>
              <a:pathLst>
                <a:path w="10220" h="10221">
                  <a:moveTo>
                    <a:pt x="2249" y="9344"/>
                  </a:moveTo>
                  <a:lnTo>
                    <a:pt x="2696" y="9614"/>
                  </a:lnTo>
                  <a:lnTo>
                    <a:pt x="3160" y="9834"/>
                  </a:lnTo>
                  <a:lnTo>
                    <a:pt x="3637" y="10004"/>
                  </a:lnTo>
                  <a:lnTo>
                    <a:pt x="4122" y="10125"/>
                  </a:lnTo>
                  <a:lnTo>
                    <a:pt x="4612" y="10196"/>
                  </a:lnTo>
                  <a:lnTo>
                    <a:pt x="5104" y="10221"/>
                  </a:lnTo>
                  <a:lnTo>
                    <a:pt x="5595" y="10197"/>
                  </a:lnTo>
                  <a:lnTo>
                    <a:pt x="6081" y="10127"/>
                  </a:lnTo>
                  <a:lnTo>
                    <a:pt x="6557" y="10011"/>
                  </a:lnTo>
                  <a:lnTo>
                    <a:pt x="7021" y="9850"/>
                  </a:lnTo>
                  <a:lnTo>
                    <a:pt x="7469" y="9644"/>
                  </a:lnTo>
                  <a:lnTo>
                    <a:pt x="7898" y="9395"/>
                  </a:lnTo>
                  <a:lnTo>
                    <a:pt x="8303" y="9102"/>
                  </a:lnTo>
                  <a:lnTo>
                    <a:pt x="8681" y="8766"/>
                  </a:lnTo>
                  <a:lnTo>
                    <a:pt x="9030" y="8390"/>
                  </a:lnTo>
                  <a:lnTo>
                    <a:pt x="9345" y="7972"/>
                  </a:lnTo>
                  <a:lnTo>
                    <a:pt x="9615" y="7525"/>
                  </a:lnTo>
                  <a:lnTo>
                    <a:pt x="9835" y="7060"/>
                  </a:lnTo>
                  <a:lnTo>
                    <a:pt x="10004" y="6584"/>
                  </a:lnTo>
                  <a:lnTo>
                    <a:pt x="10125" y="6099"/>
                  </a:lnTo>
                  <a:lnTo>
                    <a:pt x="10196" y="5609"/>
                  </a:lnTo>
                  <a:lnTo>
                    <a:pt x="10220" y="5117"/>
                  </a:lnTo>
                  <a:lnTo>
                    <a:pt x="10196" y="4626"/>
                  </a:lnTo>
                  <a:lnTo>
                    <a:pt x="10127" y="4141"/>
                  </a:lnTo>
                  <a:lnTo>
                    <a:pt x="10010" y="3664"/>
                  </a:lnTo>
                  <a:lnTo>
                    <a:pt x="9850" y="3200"/>
                  </a:lnTo>
                  <a:lnTo>
                    <a:pt x="9643" y="2752"/>
                  </a:lnTo>
                  <a:lnTo>
                    <a:pt x="9395" y="2323"/>
                  </a:lnTo>
                  <a:lnTo>
                    <a:pt x="9101" y="1918"/>
                  </a:lnTo>
                  <a:lnTo>
                    <a:pt x="8766" y="1540"/>
                  </a:lnTo>
                  <a:lnTo>
                    <a:pt x="8390" y="1191"/>
                  </a:lnTo>
                  <a:lnTo>
                    <a:pt x="7972" y="877"/>
                  </a:lnTo>
                  <a:lnTo>
                    <a:pt x="7525" y="606"/>
                  </a:lnTo>
                  <a:lnTo>
                    <a:pt x="7060" y="386"/>
                  </a:lnTo>
                  <a:lnTo>
                    <a:pt x="6584" y="216"/>
                  </a:lnTo>
                  <a:lnTo>
                    <a:pt x="6099" y="96"/>
                  </a:lnTo>
                  <a:lnTo>
                    <a:pt x="5609" y="24"/>
                  </a:lnTo>
                  <a:lnTo>
                    <a:pt x="5117" y="0"/>
                  </a:lnTo>
                  <a:lnTo>
                    <a:pt x="4625" y="24"/>
                  </a:lnTo>
                  <a:lnTo>
                    <a:pt x="4141" y="94"/>
                  </a:lnTo>
                  <a:lnTo>
                    <a:pt x="3664" y="210"/>
                  </a:lnTo>
                  <a:lnTo>
                    <a:pt x="3200" y="370"/>
                  </a:lnTo>
                  <a:lnTo>
                    <a:pt x="2752" y="576"/>
                  </a:lnTo>
                  <a:lnTo>
                    <a:pt x="2324" y="826"/>
                  </a:lnTo>
                  <a:lnTo>
                    <a:pt x="1919" y="1119"/>
                  </a:lnTo>
                  <a:lnTo>
                    <a:pt x="1540" y="1453"/>
                  </a:lnTo>
                  <a:lnTo>
                    <a:pt x="1192" y="1831"/>
                  </a:lnTo>
                  <a:lnTo>
                    <a:pt x="878" y="2250"/>
                  </a:lnTo>
                  <a:lnTo>
                    <a:pt x="607" y="2696"/>
                  </a:lnTo>
                  <a:lnTo>
                    <a:pt x="387" y="3161"/>
                  </a:lnTo>
                  <a:lnTo>
                    <a:pt x="217" y="3637"/>
                  </a:lnTo>
                  <a:lnTo>
                    <a:pt x="97" y="4122"/>
                  </a:lnTo>
                  <a:lnTo>
                    <a:pt x="24" y="4612"/>
                  </a:lnTo>
                  <a:lnTo>
                    <a:pt x="0" y="5104"/>
                  </a:lnTo>
                  <a:lnTo>
                    <a:pt x="23" y="5595"/>
                  </a:lnTo>
                  <a:lnTo>
                    <a:pt x="93" y="6080"/>
                  </a:lnTo>
                  <a:lnTo>
                    <a:pt x="209" y="6556"/>
                  </a:lnTo>
                  <a:lnTo>
                    <a:pt x="371" y="7021"/>
                  </a:lnTo>
                  <a:lnTo>
                    <a:pt x="576" y="7468"/>
                  </a:lnTo>
                  <a:lnTo>
                    <a:pt x="826" y="7897"/>
                  </a:lnTo>
                  <a:lnTo>
                    <a:pt x="1118" y="8302"/>
                  </a:lnTo>
                  <a:lnTo>
                    <a:pt x="1454" y="8680"/>
                  </a:lnTo>
                  <a:lnTo>
                    <a:pt x="1831" y="9029"/>
                  </a:lnTo>
                  <a:lnTo>
                    <a:pt x="2249" y="9344"/>
                  </a:lnTo>
                  <a:close/>
                </a:path>
              </a:pathLst>
            </a:custGeom>
            <a:solidFill>
              <a:srgbClr val="2c46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38680" y="145440"/>
              <a:ext cx="779400" cy="769320"/>
            </a:xfrm>
            <a:custGeom>
              <a:avLst/>
              <a:gdLst/>
              <a:ahLst/>
              <a:rect l="l" t="t" r="r" b="b"/>
              <a:pathLst>
                <a:path w="10059" h="10060">
                  <a:moveTo>
                    <a:pt x="2215" y="9198"/>
                  </a:moveTo>
                  <a:lnTo>
                    <a:pt x="2655" y="9464"/>
                  </a:lnTo>
                  <a:lnTo>
                    <a:pt x="3111" y="9681"/>
                  </a:lnTo>
                  <a:lnTo>
                    <a:pt x="3580" y="9847"/>
                  </a:lnTo>
                  <a:lnTo>
                    <a:pt x="4057" y="9966"/>
                  </a:lnTo>
                  <a:lnTo>
                    <a:pt x="4540" y="10037"/>
                  </a:lnTo>
                  <a:lnTo>
                    <a:pt x="5024" y="10060"/>
                  </a:lnTo>
                  <a:lnTo>
                    <a:pt x="5507" y="10037"/>
                  </a:lnTo>
                  <a:lnTo>
                    <a:pt x="5984" y="9969"/>
                  </a:lnTo>
                  <a:lnTo>
                    <a:pt x="6453" y="9854"/>
                  </a:lnTo>
                  <a:lnTo>
                    <a:pt x="6910" y="9695"/>
                  </a:lnTo>
                  <a:lnTo>
                    <a:pt x="7351" y="9493"/>
                  </a:lnTo>
                  <a:lnTo>
                    <a:pt x="7772" y="9248"/>
                  </a:lnTo>
                  <a:lnTo>
                    <a:pt x="8172" y="8960"/>
                  </a:lnTo>
                  <a:lnTo>
                    <a:pt x="8544" y="8629"/>
                  </a:lnTo>
                  <a:lnTo>
                    <a:pt x="8887" y="8258"/>
                  </a:lnTo>
                  <a:lnTo>
                    <a:pt x="9197" y="7848"/>
                  </a:lnTo>
                  <a:lnTo>
                    <a:pt x="9463" y="7407"/>
                  </a:lnTo>
                  <a:lnTo>
                    <a:pt x="9680" y="6949"/>
                  </a:lnTo>
                  <a:lnTo>
                    <a:pt x="9847" y="6481"/>
                  </a:lnTo>
                  <a:lnTo>
                    <a:pt x="9966" y="6003"/>
                  </a:lnTo>
                  <a:lnTo>
                    <a:pt x="10036" y="5521"/>
                  </a:lnTo>
                  <a:lnTo>
                    <a:pt x="10059" y="5036"/>
                  </a:lnTo>
                  <a:lnTo>
                    <a:pt x="10036" y="4553"/>
                  </a:lnTo>
                  <a:lnTo>
                    <a:pt x="9968" y="4075"/>
                  </a:lnTo>
                  <a:lnTo>
                    <a:pt x="9853" y="3606"/>
                  </a:lnTo>
                  <a:lnTo>
                    <a:pt x="9695" y="3150"/>
                  </a:lnTo>
                  <a:lnTo>
                    <a:pt x="9493" y="2709"/>
                  </a:lnTo>
                  <a:lnTo>
                    <a:pt x="9247" y="2287"/>
                  </a:lnTo>
                  <a:lnTo>
                    <a:pt x="8959" y="1888"/>
                  </a:lnTo>
                  <a:lnTo>
                    <a:pt x="8628" y="1515"/>
                  </a:lnTo>
                  <a:lnTo>
                    <a:pt x="8257" y="1173"/>
                  </a:lnTo>
                  <a:lnTo>
                    <a:pt x="7847" y="863"/>
                  </a:lnTo>
                  <a:lnTo>
                    <a:pt x="7406" y="597"/>
                  </a:lnTo>
                  <a:lnTo>
                    <a:pt x="6950" y="380"/>
                  </a:lnTo>
                  <a:lnTo>
                    <a:pt x="6481" y="213"/>
                  </a:lnTo>
                  <a:lnTo>
                    <a:pt x="6003" y="94"/>
                  </a:lnTo>
                  <a:lnTo>
                    <a:pt x="5520" y="24"/>
                  </a:lnTo>
                  <a:lnTo>
                    <a:pt x="5036" y="0"/>
                  </a:lnTo>
                  <a:lnTo>
                    <a:pt x="4552" y="24"/>
                  </a:lnTo>
                  <a:lnTo>
                    <a:pt x="4075" y="92"/>
                  </a:lnTo>
                  <a:lnTo>
                    <a:pt x="3606" y="206"/>
                  </a:lnTo>
                  <a:lnTo>
                    <a:pt x="3149" y="365"/>
                  </a:lnTo>
                  <a:lnTo>
                    <a:pt x="2709" y="567"/>
                  </a:lnTo>
                  <a:lnTo>
                    <a:pt x="2287" y="812"/>
                  </a:lnTo>
                  <a:lnTo>
                    <a:pt x="1888" y="1100"/>
                  </a:lnTo>
                  <a:lnTo>
                    <a:pt x="1515" y="1431"/>
                  </a:lnTo>
                  <a:lnTo>
                    <a:pt x="1173" y="1802"/>
                  </a:lnTo>
                  <a:lnTo>
                    <a:pt x="863" y="2213"/>
                  </a:lnTo>
                  <a:lnTo>
                    <a:pt x="596" y="2654"/>
                  </a:lnTo>
                  <a:lnTo>
                    <a:pt x="381" y="3111"/>
                  </a:lnTo>
                  <a:lnTo>
                    <a:pt x="213" y="3580"/>
                  </a:lnTo>
                  <a:lnTo>
                    <a:pt x="95" y="4057"/>
                  </a:lnTo>
                  <a:lnTo>
                    <a:pt x="23" y="4539"/>
                  </a:lnTo>
                  <a:lnTo>
                    <a:pt x="0" y="5024"/>
                  </a:lnTo>
                  <a:lnTo>
                    <a:pt x="23" y="5507"/>
                  </a:lnTo>
                  <a:lnTo>
                    <a:pt x="93" y="5985"/>
                  </a:lnTo>
                  <a:lnTo>
                    <a:pt x="206" y="6454"/>
                  </a:lnTo>
                  <a:lnTo>
                    <a:pt x="365" y="6910"/>
                  </a:lnTo>
                  <a:lnTo>
                    <a:pt x="568" y="7351"/>
                  </a:lnTo>
                  <a:lnTo>
                    <a:pt x="813" y="7773"/>
                  </a:lnTo>
                  <a:lnTo>
                    <a:pt x="1101" y="8172"/>
                  </a:lnTo>
                  <a:lnTo>
                    <a:pt x="1431" y="8545"/>
                  </a:lnTo>
                  <a:lnTo>
                    <a:pt x="1802" y="8887"/>
                  </a:lnTo>
                  <a:lnTo>
                    <a:pt x="2215" y="9198"/>
                  </a:lnTo>
                  <a:close/>
                </a:path>
              </a:pathLst>
            </a:custGeom>
            <a:solidFill>
              <a:srgbClr val="2f4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48040" y="147960"/>
              <a:ext cx="767160" cy="757440"/>
            </a:xfrm>
            <a:custGeom>
              <a:avLst/>
              <a:gdLst/>
              <a:ahLst/>
              <a:rect l="l" t="t" r="r" b="b"/>
              <a:pathLst>
                <a:path w="9899" h="9899">
                  <a:moveTo>
                    <a:pt x="2179" y="9051"/>
                  </a:moveTo>
                  <a:lnTo>
                    <a:pt x="2611" y="9313"/>
                  </a:lnTo>
                  <a:lnTo>
                    <a:pt x="3061" y="9525"/>
                  </a:lnTo>
                  <a:lnTo>
                    <a:pt x="3522" y="9690"/>
                  </a:lnTo>
                  <a:lnTo>
                    <a:pt x="3992" y="9807"/>
                  </a:lnTo>
                  <a:lnTo>
                    <a:pt x="4467" y="9876"/>
                  </a:lnTo>
                  <a:lnTo>
                    <a:pt x="4944" y="9899"/>
                  </a:lnTo>
                  <a:lnTo>
                    <a:pt x="5419" y="9876"/>
                  </a:lnTo>
                  <a:lnTo>
                    <a:pt x="5889" y="9808"/>
                  </a:lnTo>
                  <a:lnTo>
                    <a:pt x="6350" y="9696"/>
                  </a:lnTo>
                  <a:lnTo>
                    <a:pt x="6800" y="9540"/>
                  </a:lnTo>
                  <a:lnTo>
                    <a:pt x="7234" y="9340"/>
                  </a:lnTo>
                  <a:lnTo>
                    <a:pt x="7649" y="9099"/>
                  </a:lnTo>
                  <a:lnTo>
                    <a:pt x="8042" y="8815"/>
                  </a:lnTo>
                  <a:lnTo>
                    <a:pt x="8408" y="8491"/>
                  </a:lnTo>
                  <a:lnTo>
                    <a:pt x="8745" y="8125"/>
                  </a:lnTo>
                  <a:lnTo>
                    <a:pt x="9051" y="7721"/>
                  </a:lnTo>
                  <a:lnTo>
                    <a:pt x="9312" y="7287"/>
                  </a:lnTo>
                  <a:lnTo>
                    <a:pt x="9525" y="6838"/>
                  </a:lnTo>
                  <a:lnTo>
                    <a:pt x="9689" y="6377"/>
                  </a:lnTo>
                  <a:lnTo>
                    <a:pt x="9806" y="5908"/>
                  </a:lnTo>
                  <a:lnTo>
                    <a:pt x="9876" y="5432"/>
                  </a:lnTo>
                  <a:lnTo>
                    <a:pt x="9899" y="4955"/>
                  </a:lnTo>
                  <a:lnTo>
                    <a:pt x="9877" y="4480"/>
                  </a:lnTo>
                  <a:lnTo>
                    <a:pt x="9809" y="4010"/>
                  </a:lnTo>
                  <a:lnTo>
                    <a:pt x="9696" y="3549"/>
                  </a:lnTo>
                  <a:lnTo>
                    <a:pt x="9540" y="3100"/>
                  </a:lnTo>
                  <a:lnTo>
                    <a:pt x="9341" y="2666"/>
                  </a:lnTo>
                  <a:lnTo>
                    <a:pt x="9099" y="2251"/>
                  </a:lnTo>
                  <a:lnTo>
                    <a:pt x="8816" y="1858"/>
                  </a:lnTo>
                  <a:lnTo>
                    <a:pt x="8491" y="1492"/>
                  </a:lnTo>
                  <a:lnTo>
                    <a:pt x="8126" y="1155"/>
                  </a:lnTo>
                  <a:lnTo>
                    <a:pt x="7722" y="851"/>
                  </a:lnTo>
                  <a:lnTo>
                    <a:pt x="7288" y="588"/>
                  </a:lnTo>
                  <a:lnTo>
                    <a:pt x="6838" y="374"/>
                  </a:lnTo>
                  <a:lnTo>
                    <a:pt x="6377" y="211"/>
                  </a:lnTo>
                  <a:lnTo>
                    <a:pt x="5907" y="94"/>
                  </a:lnTo>
                  <a:lnTo>
                    <a:pt x="5432" y="23"/>
                  </a:lnTo>
                  <a:lnTo>
                    <a:pt x="4954" y="0"/>
                  </a:lnTo>
                  <a:lnTo>
                    <a:pt x="4479" y="23"/>
                  </a:lnTo>
                  <a:lnTo>
                    <a:pt x="4009" y="90"/>
                  </a:lnTo>
                  <a:lnTo>
                    <a:pt x="3548" y="203"/>
                  </a:lnTo>
                  <a:lnTo>
                    <a:pt x="3099" y="359"/>
                  </a:lnTo>
                  <a:lnTo>
                    <a:pt x="2665" y="558"/>
                  </a:lnTo>
                  <a:lnTo>
                    <a:pt x="2250" y="799"/>
                  </a:lnTo>
                  <a:lnTo>
                    <a:pt x="1858" y="1083"/>
                  </a:lnTo>
                  <a:lnTo>
                    <a:pt x="1491" y="1408"/>
                  </a:lnTo>
                  <a:lnTo>
                    <a:pt x="1154" y="1773"/>
                  </a:lnTo>
                  <a:lnTo>
                    <a:pt x="850" y="2178"/>
                  </a:lnTo>
                  <a:lnTo>
                    <a:pt x="587" y="2611"/>
                  </a:lnTo>
                  <a:lnTo>
                    <a:pt x="374" y="3061"/>
                  </a:lnTo>
                  <a:lnTo>
                    <a:pt x="210" y="3522"/>
                  </a:lnTo>
                  <a:lnTo>
                    <a:pt x="93" y="3992"/>
                  </a:lnTo>
                  <a:lnTo>
                    <a:pt x="24" y="4467"/>
                  </a:lnTo>
                  <a:lnTo>
                    <a:pt x="0" y="4944"/>
                  </a:lnTo>
                  <a:lnTo>
                    <a:pt x="23" y="5420"/>
                  </a:lnTo>
                  <a:lnTo>
                    <a:pt x="91" y="5889"/>
                  </a:lnTo>
                  <a:lnTo>
                    <a:pt x="203" y="6351"/>
                  </a:lnTo>
                  <a:lnTo>
                    <a:pt x="360" y="6801"/>
                  </a:lnTo>
                  <a:lnTo>
                    <a:pt x="558" y="7234"/>
                  </a:lnTo>
                  <a:lnTo>
                    <a:pt x="800" y="7650"/>
                  </a:lnTo>
                  <a:lnTo>
                    <a:pt x="1084" y="8042"/>
                  </a:lnTo>
                  <a:lnTo>
                    <a:pt x="1408" y="8409"/>
                  </a:lnTo>
                  <a:lnTo>
                    <a:pt x="1774" y="8746"/>
                  </a:lnTo>
                  <a:lnTo>
                    <a:pt x="2179" y="9051"/>
                  </a:lnTo>
                  <a:close/>
                </a:path>
              </a:pathLst>
            </a:custGeom>
            <a:solidFill>
              <a:srgbClr val="314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57400" y="150120"/>
              <a:ext cx="754920" cy="745560"/>
            </a:xfrm>
            <a:custGeom>
              <a:avLst/>
              <a:gdLst/>
              <a:ahLst/>
              <a:rect l="l" t="t" r="r" b="b"/>
              <a:pathLst>
                <a:path w="9739" h="9738">
                  <a:moveTo>
                    <a:pt x="2144" y="8903"/>
                  </a:moveTo>
                  <a:lnTo>
                    <a:pt x="2570" y="9161"/>
                  </a:lnTo>
                  <a:lnTo>
                    <a:pt x="3011" y="9370"/>
                  </a:lnTo>
                  <a:lnTo>
                    <a:pt x="3465" y="9532"/>
                  </a:lnTo>
                  <a:lnTo>
                    <a:pt x="3928" y="9646"/>
                  </a:lnTo>
                  <a:lnTo>
                    <a:pt x="4394" y="9715"/>
                  </a:lnTo>
                  <a:lnTo>
                    <a:pt x="4864" y="9738"/>
                  </a:lnTo>
                  <a:lnTo>
                    <a:pt x="5331" y="9715"/>
                  </a:lnTo>
                  <a:lnTo>
                    <a:pt x="5793" y="9648"/>
                  </a:lnTo>
                  <a:lnTo>
                    <a:pt x="6247" y="9538"/>
                  </a:lnTo>
                  <a:lnTo>
                    <a:pt x="6690" y="9385"/>
                  </a:lnTo>
                  <a:lnTo>
                    <a:pt x="7116" y="9188"/>
                  </a:lnTo>
                  <a:lnTo>
                    <a:pt x="7524" y="8951"/>
                  </a:lnTo>
                  <a:lnTo>
                    <a:pt x="7910" y="8672"/>
                  </a:lnTo>
                  <a:lnTo>
                    <a:pt x="8271" y="8353"/>
                  </a:lnTo>
                  <a:lnTo>
                    <a:pt x="8603" y="7993"/>
                  </a:lnTo>
                  <a:lnTo>
                    <a:pt x="8903" y="7596"/>
                  </a:lnTo>
                  <a:lnTo>
                    <a:pt x="9160" y="7168"/>
                  </a:lnTo>
                  <a:lnTo>
                    <a:pt x="9370" y="6727"/>
                  </a:lnTo>
                  <a:lnTo>
                    <a:pt x="9532" y="6273"/>
                  </a:lnTo>
                  <a:lnTo>
                    <a:pt x="9647" y="5811"/>
                  </a:lnTo>
                  <a:lnTo>
                    <a:pt x="9715" y="5343"/>
                  </a:lnTo>
                  <a:lnTo>
                    <a:pt x="9739" y="4874"/>
                  </a:lnTo>
                  <a:lnTo>
                    <a:pt x="9716" y="4406"/>
                  </a:lnTo>
                  <a:lnTo>
                    <a:pt x="9649" y="3944"/>
                  </a:lnTo>
                  <a:lnTo>
                    <a:pt x="9539" y="3490"/>
                  </a:lnTo>
                  <a:lnTo>
                    <a:pt x="9385" y="3048"/>
                  </a:lnTo>
                  <a:lnTo>
                    <a:pt x="9189" y="2622"/>
                  </a:lnTo>
                  <a:lnTo>
                    <a:pt x="8951" y="2213"/>
                  </a:lnTo>
                  <a:lnTo>
                    <a:pt x="8672" y="1827"/>
                  </a:lnTo>
                  <a:lnTo>
                    <a:pt x="8352" y="1466"/>
                  </a:lnTo>
                  <a:lnTo>
                    <a:pt x="7993" y="1134"/>
                  </a:lnTo>
                  <a:lnTo>
                    <a:pt x="7595" y="836"/>
                  </a:lnTo>
                  <a:lnTo>
                    <a:pt x="7168" y="577"/>
                  </a:lnTo>
                  <a:lnTo>
                    <a:pt x="6727" y="368"/>
                  </a:lnTo>
                  <a:lnTo>
                    <a:pt x="6273" y="205"/>
                  </a:lnTo>
                  <a:lnTo>
                    <a:pt x="5810" y="90"/>
                  </a:lnTo>
                  <a:lnTo>
                    <a:pt x="5344" y="22"/>
                  </a:lnTo>
                  <a:lnTo>
                    <a:pt x="4875" y="0"/>
                  </a:lnTo>
                  <a:lnTo>
                    <a:pt x="4407" y="22"/>
                  </a:lnTo>
                  <a:lnTo>
                    <a:pt x="3945" y="88"/>
                  </a:lnTo>
                  <a:lnTo>
                    <a:pt x="3491" y="199"/>
                  </a:lnTo>
                  <a:lnTo>
                    <a:pt x="3048" y="353"/>
                  </a:lnTo>
                  <a:lnTo>
                    <a:pt x="2622" y="549"/>
                  </a:lnTo>
                  <a:lnTo>
                    <a:pt x="2214" y="787"/>
                  </a:lnTo>
                  <a:lnTo>
                    <a:pt x="1828" y="1065"/>
                  </a:lnTo>
                  <a:lnTo>
                    <a:pt x="1468" y="1384"/>
                  </a:lnTo>
                  <a:lnTo>
                    <a:pt x="1136" y="1743"/>
                  </a:lnTo>
                  <a:lnTo>
                    <a:pt x="837" y="2142"/>
                  </a:lnTo>
                  <a:lnTo>
                    <a:pt x="579" y="2568"/>
                  </a:lnTo>
                  <a:lnTo>
                    <a:pt x="369" y="3010"/>
                  </a:lnTo>
                  <a:lnTo>
                    <a:pt x="207" y="3464"/>
                  </a:lnTo>
                  <a:lnTo>
                    <a:pt x="92" y="3926"/>
                  </a:lnTo>
                  <a:lnTo>
                    <a:pt x="23" y="4394"/>
                  </a:lnTo>
                  <a:lnTo>
                    <a:pt x="0" y="4863"/>
                  </a:lnTo>
                  <a:lnTo>
                    <a:pt x="23" y="5330"/>
                  </a:lnTo>
                  <a:lnTo>
                    <a:pt x="90" y="5793"/>
                  </a:lnTo>
                  <a:lnTo>
                    <a:pt x="199" y="6247"/>
                  </a:lnTo>
                  <a:lnTo>
                    <a:pt x="353" y="6689"/>
                  </a:lnTo>
                  <a:lnTo>
                    <a:pt x="549" y="7116"/>
                  </a:lnTo>
                  <a:lnTo>
                    <a:pt x="787" y="7524"/>
                  </a:lnTo>
                  <a:lnTo>
                    <a:pt x="1066" y="7910"/>
                  </a:lnTo>
                  <a:lnTo>
                    <a:pt x="1386" y="8271"/>
                  </a:lnTo>
                  <a:lnTo>
                    <a:pt x="1745" y="8603"/>
                  </a:lnTo>
                  <a:lnTo>
                    <a:pt x="2144" y="8903"/>
                  </a:lnTo>
                  <a:close/>
                </a:path>
              </a:pathLst>
            </a:custGeom>
            <a:solidFill>
              <a:srgbClr val="334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66760" y="152640"/>
              <a:ext cx="741960" cy="732600"/>
            </a:xfrm>
            <a:custGeom>
              <a:avLst/>
              <a:gdLst/>
              <a:ahLst/>
              <a:rect l="l" t="t" r="r" b="b"/>
              <a:pathLst>
                <a:path w="9577" h="9577">
                  <a:moveTo>
                    <a:pt x="2108" y="8755"/>
                  </a:moveTo>
                  <a:lnTo>
                    <a:pt x="2527" y="9008"/>
                  </a:lnTo>
                  <a:lnTo>
                    <a:pt x="2961" y="9215"/>
                  </a:lnTo>
                  <a:lnTo>
                    <a:pt x="3408" y="9374"/>
                  </a:lnTo>
                  <a:lnTo>
                    <a:pt x="3862" y="9488"/>
                  </a:lnTo>
                  <a:lnTo>
                    <a:pt x="4322" y="9555"/>
                  </a:lnTo>
                  <a:lnTo>
                    <a:pt x="4784" y="9577"/>
                  </a:lnTo>
                  <a:lnTo>
                    <a:pt x="5243" y="9555"/>
                  </a:lnTo>
                  <a:lnTo>
                    <a:pt x="5698" y="9490"/>
                  </a:lnTo>
                  <a:lnTo>
                    <a:pt x="6144" y="9380"/>
                  </a:lnTo>
                  <a:lnTo>
                    <a:pt x="6579" y="9230"/>
                  </a:lnTo>
                  <a:lnTo>
                    <a:pt x="6999" y="9037"/>
                  </a:lnTo>
                  <a:lnTo>
                    <a:pt x="7400" y="8803"/>
                  </a:lnTo>
                  <a:lnTo>
                    <a:pt x="7779" y="8529"/>
                  </a:lnTo>
                  <a:lnTo>
                    <a:pt x="8135" y="8214"/>
                  </a:lnTo>
                  <a:lnTo>
                    <a:pt x="8461" y="7861"/>
                  </a:lnTo>
                  <a:lnTo>
                    <a:pt x="8755" y="7470"/>
                  </a:lnTo>
                  <a:lnTo>
                    <a:pt x="9008" y="7050"/>
                  </a:lnTo>
                  <a:lnTo>
                    <a:pt x="9215" y="6615"/>
                  </a:lnTo>
                  <a:lnTo>
                    <a:pt x="9374" y="6169"/>
                  </a:lnTo>
                  <a:lnTo>
                    <a:pt x="9488" y="5715"/>
                  </a:lnTo>
                  <a:lnTo>
                    <a:pt x="9555" y="5255"/>
                  </a:lnTo>
                  <a:lnTo>
                    <a:pt x="9577" y="4793"/>
                  </a:lnTo>
                  <a:lnTo>
                    <a:pt x="9555" y="4334"/>
                  </a:lnTo>
                  <a:lnTo>
                    <a:pt x="9490" y="3879"/>
                  </a:lnTo>
                  <a:lnTo>
                    <a:pt x="9380" y="3433"/>
                  </a:lnTo>
                  <a:lnTo>
                    <a:pt x="9230" y="2998"/>
                  </a:lnTo>
                  <a:lnTo>
                    <a:pt x="9037" y="2578"/>
                  </a:lnTo>
                  <a:lnTo>
                    <a:pt x="8803" y="2177"/>
                  </a:lnTo>
                  <a:lnTo>
                    <a:pt x="8529" y="1796"/>
                  </a:lnTo>
                  <a:lnTo>
                    <a:pt x="8214" y="1442"/>
                  </a:lnTo>
                  <a:lnTo>
                    <a:pt x="7861" y="1116"/>
                  </a:lnTo>
                  <a:lnTo>
                    <a:pt x="7470" y="822"/>
                  </a:lnTo>
                  <a:lnTo>
                    <a:pt x="7050" y="568"/>
                  </a:lnTo>
                  <a:lnTo>
                    <a:pt x="6615" y="361"/>
                  </a:lnTo>
                  <a:lnTo>
                    <a:pt x="6169" y="203"/>
                  </a:lnTo>
                  <a:lnTo>
                    <a:pt x="5715" y="89"/>
                  </a:lnTo>
                  <a:lnTo>
                    <a:pt x="5256" y="22"/>
                  </a:lnTo>
                  <a:lnTo>
                    <a:pt x="4794" y="0"/>
                  </a:lnTo>
                  <a:lnTo>
                    <a:pt x="4334" y="22"/>
                  </a:lnTo>
                  <a:lnTo>
                    <a:pt x="3880" y="88"/>
                  </a:lnTo>
                  <a:lnTo>
                    <a:pt x="3433" y="197"/>
                  </a:lnTo>
                  <a:lnTo>
                    <a:pt x="2999" y="348"/>
                  </a:lnTo>
                  <a:lnTo>
                    <a:pt x="2579" y="540"/>
                  </a:lnTo>
                  <a:lnTo>
                    <a:pt x="2177" y="774"/>
                  </a:lnTo>
                  <a:lnTo>
                    <a:pt x="1797" y="1048"/>
                  </a:lnTo>
                  <a:lnTo>
                    <a:pt x="1443" y="1362"/>
                  </a:lnTo>
                  <a:lnTo>
                    <a:pt x="1117" y="1715"/>
                  </a:lnTo>
                  <a:lnTo>
                    <a:pt x="822" y="2107"/>
                  </a:lnTo>
                  <a:lnTo>
                    <a:pt x="568" y="2526"/>
                  </a:lnTo>
                  <a:lnTo>
                    <a:pt x="362" y="2961"/>
                  </a:lnTo>
                  <a:lnTo>
                    <a:pt x="203" y="3407"/>
                  </a:lnTo>
                  <a:lnTo>
                    <a:pt x="90" y="3861"/>
                  </a:lnTo>
                  <a:lnTo>
                    <a:pt x="23" y="4321"/>
                  </a:lnTo>
                  <a:lnTo>
                    <a:pt x="0" y="4783"/>
                  </a:lnTo>
                  <a:lnTo>
                    <a:pt x="22" y="5243"/>
                  </a:lnTo>
                  <a:lnTo>
                    <a:pt x="88" y="5697"/>
                  </a:lnTo>
                  <a:lnTo>
                    <a:pt x="196" y="6143"/>
                  </a:lnTo>
                  <a:lnTo>
                    <a:pt x="347" y="6578"/>
                  </a:lnTo>
                  <a:lnTo>
                    <a:pt x="540" y="6998"/>
                  </a:lnTo>
                  <a:lnTo>
                    <a:pt x="774" y="7400"/>
                  </a:lnTo>
                  <a:lnTo>
                    <a:pt x="1048" y="7779"/>
                  </a:lnTo>
                  <a:lnTo>
                    <a:pt x="1362" y="8135"/>
                  </a:lnTo>
                  <a:lnTo>
                    <a:pt x="1715" y="8461"/>
                  </a:lnTo>
                  <a:lnTo>
                    <a:pt x="2108" y="8755"/>
                  </a:lnTo>
                  <a:close/>
                </a:path>
              </a:pathLst>
            </a:custGeom>
            <a:solidFill>
              <a:srgbClr val="354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76120" y="155520"/>
              <a:ext cx="729720" cy="720000"/>
            </a:xfrm>
            <a:custGeom>
              <a:avLst/>
              <a:gdLst/>
              <a:ahLst/>
              <a:rect l="l" t="t" r="r" b="b"/>
              <a:pathLst>
                <a:path w="9417" h="9417">
                  <a:moveTo>
                    <a:pt x="2073" y="8609"/>
                  </a:moveTo>
                  <a:lnTo>
                    <a:pt x="2484" y="8857"/>
                  </a:lnTo>
                  <a:lnTo>
                    <a:pt x="2912" y="9060"/>
                  </a:lnTo>
                  <a:lnTo>
                    <a:pt x="3351" y="9217"/>
                  </a:lnTo>
                  <a:lnTo>
                    <a:pt x="3797" y="9328"/>
                  </a:lnTo>
                  <a:lnTo>
                    <a:pt x="4249" y="9394"/>
                  </a:lnTo>
                  <a:lnTo>
                    <a:pt x="4703" y="9417"/>
                  </a:lnTo>
                  <a:lnTo>
                    <a:pt x="5155" y="9395"/>
                  </a:lnTo>
                  <a:lnTo>
                    <a:pt x="5602" y="9330"/>
                  </a:lnTo>
                  <a:lnTo>
                    <a:pt x="6041" y="9223"/>
                  </a:lnTo>
                  <a:lnTo>
                    <a:pt x="6469" y="9075"/>
                  </a:lnTo>
                  <a:lnTo>
                    <a:pt x="6881" y="8885"/>
                  </a:lnTo>
                  <a:lnTo>
                    <a:pt x="7276" y="8655"/>
                  </a:lnTo>
                  <a:lnTo>
                    <a:pt x="7649" y="8385"/>
                  </a:lnTo>
                  <a:lnTo>
                    <a:pt x="7998" y="8077"/>
                  </a:lnTo>
                  <a:lnTo>
                    <a:pt x="8319" y="7729"/>
                  </a:lnTo>
                  <a:lnTo>
                    <a:pt x="8609" y="7345"/>
                  </a:lnTo>
                  <a:lnTo>
                    <a:pt x="8858" y="6932"/>
                  </a:lnTo>
                  <a:lnTo>
                    <a:pt x="9061" y="6505"/>
                  </a:lnTo>
                  <a:lnTo>
                    <a:pt x="9217" y="6066"/>
                  </a:lnTo>
                  <a:lnTo>
                    <a:pt x="9329" y="5619"/>
                  </a:lnTo>
                  <a:lnTo>
                    <a:pt x="9395" y="5167"/>
                  </a:lnTo>
                  <a:lnTo>
                    <a:pt x="9417" y="4713"/>
                  </a:lnTo>
                  <a:lnTo>
                    <a:pt x="9396" y="4262"/>
                  </a:lnTo>
                  <a:lnTo>
                    <a:pt x="9331" y="3814"/>
                  </a:lnTo>
                  <a:lnTo>
                    <a:pt x="9223" y="3375"/>
                  </a:lnTo>
                  <a:lnTo>
                    <a:pt x="9076" y="2948"/>
                  </a:lnTo>
                  <a:lnTo>
                    <a:pt x="8885" y="2535"/>
                  </a:lnTo>
                  <a:lnTo>
                    <a:pt x="8656" y="2140"/>
                  </a:lnTo>
                  <a:lnTo>
                    <a:pt x="8386" y="1767"/>
                  </a:lnTo>
                  <a:lnTo>
                    <a:pt x="8077" y="1418"/>
                  </a:lnTo>
                  <a:lnTo>
                    <a:pt x="7730" y="1097"/>
                  </a:lnTo>
                  <a:lnTo>
                    <a:pt x="7345" y="808"/>
                  </a:lnTo>
                  <a:lnTo>
                    <a:pt x="6932" y="558"/>
                  </a:lnTo>
                  <a:lnTo>
                    <a:pt x="6505" y="355"/>
                  </a:lnTo>
                  <a:lnTo>
                    <a:pt x="6066" y="199"/>
                  </a:lnTo>
                  <a:lnTo>
                    <a:pt x="5619" y="88"/>
                  </a:lnTo>
                  <a:lnTo>
                    <a:pt x="5168" y="22"/>
                  </a:lnTo>
                  <a:lnTo>
                    <a:pt x="4714" y="0"/>
                  </a:lnTo>
                  <a:lnTo>
                    <a:pt x="4262" y="21"/>
                  </a:lnTo>
                  <a:lnTo>
                    <a:pt x="3814" y="86"/>
                  </a:lnTo>
                  <a:lnTo>
                    <a:pt x="3375" y="192"/>
                  </a:lnTo>
                  <a:lnTo>
                    <a:pt x="2948" y="341"/>
                  </a:lnTo>
                  <a:lnTo>
                    <a:pt x="2535" y="530"/>
                  </a:lnTo>
                  <a:lnTo>
                    <a:pt x="2141" y="760"/>
                  </a:lnTo>
                  <a:lnTo>
                    <a:pt x="1768" y="1030"/>
                  </a:lnTo>
                  <a:lnTo>
                    <a:pt x="1419" y="1339"/>
                  </a:lnTo>
                  <a:lnTo>
                    <a:pt x="1098" y="1686"/>
                  </a:lnTo>
                  <a:lnTo>
                    <a:pt x="809" y="2072"/>
                  </a:lnTo>
                  <a:lnTo>
                    <a:pt x="559" y="2483"/>
                  </a:lnTo>
                  <a:lnTo>
                    <a:pt x="356" y="2910"/>
                  </a:lnTo>
                  <a:lnTo>
                    <a:pt x="200" y="3350"/>
                  </a:lnTo>
                  <a:lnTo>
                    <a:pt x="88" y="3796"/>
                  </a:lnTo>
                  <a:lnTo>
                    <a:pt x="22" y="4249"/>
                  </a:lnTo>
                  <a:lnTo>
                    <a:pt x="0" y="4702"/>
                  </a:lnTo>
                  <a:lnTo>
                    <a:pt x="21" y="5155"/>
                  </a:lnTo>
                  <a:lnTo>
                    <a:pt x="86" y="5601"/>
                  </a:lnTo>
                  <a:lnTo>
                    <a:pt x="193" y="6040"/>
                  </a:lnTo>
                  <a:lnTo>
                    <a:pt x="341" y="6469"/>
                  </a:lnTo>
                  <a:lnTo>
                    <a:pt x="531" y="6881"/>
                  </a:lnTo>
                  <a:lnTo>
                    <a:pt x="761" y="7275"/>
                  </a:lnTo>
                  <a:lnTo>
                    <a:pt x="1031" y="7649"/>
                  </a:lnTo>
                  <a:lnTo>
                    <a:pt x="1339" y="7997"/>
                  </a:lnTo>
                  <a:lnTo>
                    <a:pt x="1687" y="8318"/>
                  </a:lnTo>
                  <a:lnTo>
                    <a:pt x="2073" y="8609"/>
                  </a:lnTo>
                  <a:close/>
                </a:path>
              </a:pathLst>
            </a:custGeom>
            <a:solidFill>
              <a:srgbClr val="3750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85480" y="157320"/>
              <a:ext cx="717840" cy="708840"/>
            </a:xfrm>
            <a:custGeom>
              <a:avLst/>
              <a:gdLst/>
              <a:ahLst/>
              <a:rect l="l" t="t" r="r" b="b"/>
              <a:pathLst>
                <a:path w="9256" h="9255">
                  <a:moveTo>
                    <a:pt x="2036" y="8462"/>
                  </a:moveTo>
                  <a:lnTo>
                    <a:pt x="2441" y="8706"/>
                  </a:lnTo>
                  <a:lnTo>
                    <a:pt x="2861" y="8905"/>
                  </a:lnTo>
                  <a:lnTo>
                    <a:pt x="3292" y="9059"/>
                  </a:lnTo>
                  <a:lnTo>
                    <a:pt x="3732" y="9169"/>
                  </a:lnTo>
                  <a:lnTo>
                    <a:pt x="4176" y="9234"/>
                  </a:lnTo>
                  <a:lnTo>
                    <a:pt x="4621" y="9255"/>
                  </a:lnTo>
                  <a:lnTo>
                    <a:pt x="5066" y="9234"/>
                  </a:lnTo>
                  <a:lnTo>
                    <a:pt x="5506" y="9171"/>
                  </a:lnTo>
                  <a:lnTo>
                    <a:pt x="5938" y="9066"/>
                  </a:lnTo>
                  <a:lnTo>
                    <a:pt x="6357" y="8920"/>
                  </a:lnTo>
                  <a:lnTo>
                    <a:pt x="6762" y="8734"/>
                  </a:lnTo>
                  <a:lnTo>
                    <a:pt x="7151" y="8507"/>
                  </a:lnTo>
                  <a:lnTo>
                    <a:pt x="7518" y="8243"/>
                  </a:lnTo>
                  <a:lnTo>
                    <a:pt x="7861" y="7940"/>
                  </a:lnTo>
                  <a:lnTo>
                    <a:pt x="8176" y="7599"/>
                  </a:lnTo>
                  <a:lnTo>
                    <a:pt x="8461" y="7220"/>
                  </a:lnTo>
                  <a:lnTo>
                    <a:pt x="8706" y="6814"/>
                  </a:lnTo>
                  <a:lnTo>
                    <a:pt x="8906" y="6394"/>
                  </a:lnTo>
                  <a:lnTo>
                    <a:pt x="9060" y="5962"/>
                  </a:lnTo>
                  <a:lnTo>
                    <a:pt x="9168" y="5523"/>
                  </a:lnTo>
                  <a:lnTo>
                    <a:pt x="9233" y="5079"/>
                  </a:lnTo>
                  <a:lnTo>
                    <a:pt x="9256" y="4634"/>
                  </a:lnTo>
                  <a:lnTo>
                    <a:pt x="9234" y="4189"/>
                  </a:lnTo>
                  <a:lnTo>
                    <a:pt x="9170" y="3749"/>
                  </a:lnTo>
                  <a:lnTo>
                    <a:pt x="9065" y="3318"/>
                  </a:lnTo>
                  <a:lnTo>
                    <a:pt x="8920" y="2898"/>
                  </a:lnTo>
                  <a:lnTo>
                    <a:pt x="8734" y="2492"/>
                  </a:lnTo>
                  <a:lnTo>
                    <a:pt x="8507" y="2104"/>
                  </a:lnTo>
                  <a:lnTo>
                    <a:pt x="8242" y="1737"/>
                  </a:lnTo>
                  <a:lnTo>
                    <a:pt x="7938" y="1393"/>
                  </a:lnTo>
                  <a:lnTo>
                    <a:pt x="7597" y="1078"/>
                  </a:lnTo>
                  <a:lnTo>
                    <a:pt x="7219" y="794"/>
                  </a:lnTo>
                  <a:lnTo>
                    <a:pt x="6812" y="548"/>
                  </a:lnTo>
                  <a:lnTo>
                    <a:pt x="6393" y="349"/>
                  </a:lnTo>
                  <a:lnTo>
                    <a:pt x="5962" y="195"/>
                  </a:lnTo>
                  <a:lnTo>
                    <a:pt x="5523" y="87"/>
                  </a:lnTo>
                  <a:lnTo>
                    <a:pt x="5079" y="22"/>
                  </a:lnTo>
                  <a:lnTo>
                    <a:pt x="4632" y="0"/>
                  </a:lnTo>
                  <a:lnTo>
                    <a:pt x="4189" y="21"/>
                  </a:lnTo>
                  <a:lnTo>
                    <a:pt x="3749" y="85"/>
                  </a:lnTo>
                  <a:lnTo>
                    <a:pt x="3317" y="190"/>
                  </a:lnTo>
                  <a:lnTo>
                    <a:pt x="2897" y="336"/>
                  </a:lnTo>
                  <a:lnTo>
                    <a:pt x="2491" y="522"/>
                  </a:lnTo>
                  <a:lnTo>
                    <a:pt x="2104" y="748"/>
                  </a:lnTo>
                  <a:lnTo>
                    <a:pt x="1736" y="1013"/>
                  </a:lnTo>
                  <a:lnTo>
                    <a:pt x="1394" y="1316"/>
                  </a:lnTo>
                  <a:lnTo>
                    <a:pt x="1078" y="1657"/>
                  </a:lnTo>
                  <a:lnTo>
                    <a:pt x="794" y="2037"/>
                  </a:lnTo>
                  <a:lnTo>
                    <a:pt x="549" y="2442"/>
                  </a:lnTo>
                  <a:lnTo>
                    <a:pt x="350" y="2861"/>
                  </a:lnTo>
                  <a:lnTo>
                    <a:pt x="196" y="3293"/>
                  </a:lnTo>
                  <a:lnTo>
                    <a:pt x="86" y="3732"/>
                  </a:lnTo>
                  <a:lnTo>
                    <a:pt x="21" y="4177"/>
                  </a:lnTo>
                  <a:lnTo>
                    <a:pt x="0" y="4622"/>
                  </a:lnTo>
                  <a:lnTo>
                    <a:pt x="21" y="5066"/>
                  </a:lnTo>
                  <a:lnTo>
                    <a:pt x="84" y="5506"/>
                  </a:lnTo>
                  <a:lnTo>
                    <a:pt x="189" y="5938"/>
                  </a:lnTo>
                  <a:lnTo>
                    <a:pt x="335" y="6358"/>
                  </a:lnTo>
                  <a:lnTo>
                    <a:pt x="521" y="6763"/>
                  </a:lnTo>
                  <a:lnTo>
                    <a:pt x="747" y="7151"/>
                  </a:lnTo>
                  <a:lnTo>
                    <a:pt x="1012" y="7519"/>
                  </a:lnTo>
                  <a:lnTo>
                    <a:pt x="1315" y="7861"/>
                  </a:lnTo>
                  <a:lnTo>
                    <a:pt x="1656" y="8177"/>
                  </a:lnTo>
                  <a:lnTo>
                    <a:pt x="2036" y="8462"/>
                  </a:lnTo>
                  <a:close/>
                </a:path>
              </a:pathLst>
            </a:custGeom>
            <a:solidFill>
              <a:srgbClr val="3953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94840" y="159840"/>
              <a:ext cx="704520" cy="696240"/>
            </a:xfrm>
            <a:custGeom>
              <a:avLst/>
              <a:gdLst/>
              <a:ahLst/>
              <a:rect l="l" t="t" r="r" b="b"/>
              <a:pathLst>
                <a:path w="9096" h="9095">
                  <a:moveTo>
                    <a:pt x="2002" y="8316"/>
                  </a:moveTo>
                  <a:lnTo>
                    <a:pt x="2400" y="8556"/>
                  </a:lnTo>
                  <a:lnTo>
                    <a:pt x="2812" y="8752"/>
                  </a:lnTo>
                  <a:lnTo>
                    <a:pt x="3236" y="8903"/>
                  </a:lnTo>
                  <a:lnTo>
                    <a:pt x="3668" y="9010"/>
                  </a:lnTo>
                  <a:lnTo>
                    <a:pt x="4105" y="9074"/>
                  </a:lnTo>
                  <a:lnTo>
                    <a:pt x="4543" y="9095"/>
                  </a:lnTo>
                  <a:lnTo>
                    <a:pt x="4980" y="9074"/>
                  </a:lnTo>
                  <a:lnTo>
                    <a:pt x="5411" y="9012"/>
                  </a:lnTo>
                  <a:lnTo>
                    <a:pt x="5836" y="8909"/>
                  </a:lnTo>
                  <a:lnTo>
                    <a:pt x="6248" y="8766"/>
                  </a:lnTo>
                  <a:lnTo>
                    <a:pt x="6647" y="8582"/>
                  </a:lnTo>
                  <a:lnTo>
                    <a:pt x="7028" y="8361"/>
                  </a:lnTo>
                  <a:lnTo>
                    <a:pt x="7389" y="8100"/>
                  </a:lnTo>
                  <a:lnTo>
                    <a:pt x="7726" y="7801"/>
                  </a:lnTo>
                  <a:lnTo>
                    <a:pt x="8035" y="7466"/>
                  </a:lnTo>
                  <a:lnTo>
                    <a:pt x="8316" y="7095"/>
                  </a:lnTo>
                  <a:lnTo>
                    <a:pt x="8556" y="6696"/>
                  </a:lnTo>
                  <a:lnTo>
                    <a:pt x="8752" y="6283"/>
                  </a:lnTo>
                  <a:lnTo>
                    <a:pt x="8904" y="5859"/>
                  </a:lnTo>
                  <a:lnTo>
                    <a:pt x="9010" y="5428"/>
                  </a:lnTo>
                  <a:lnTo>
                    <a:pt x="9075" y="4991"/>
                  </a:lnTo>
                  <a:lnTo>
                    <a:pt x="9096" y="4553"/>
                  </a:lnTo>
                  <a:lnTo>
                    <a:pt x="9075" y="4116"/>
                  </a:lnTo>
                  <a:lnTo>
                    <a:pt x="9012" y="3684"/>
                  </a:lnTo>
                  <a:lnTo>
                    <a:pt x="8909" y="3260"/>
                  </a:lnTo>
                  <a:lnTo>
                    <a:pt x="8766" y="2848"/>
                  </a:lnTo>
                  <a:lnTo>
                    <a:pt x="8583" y="2449"/>
                  </a:lnTo>
                  <a:lnTo>
                    <a:pt x="8360" y="2067"/>
                  </a:lnTo>
                  <a:lnTo>
                    <a:pt x="8100" y="1707"/>
                  </a:lnTo>
                  <a:lnTo>
                    <a:pt x="7801" y="1370"/>
                  </a:lnTo>
                  <a:lnTo>
                    <a:pt x="7466" y="1059"/>
                  </a:lnTo>
                  <a:lnTo>
                    <a:pt x="7094" y="780"/>
                  </a:lnTo>
                  <a:lnTo>
                    <a:pt x="6696" y="539"/>
                  </a:lnTo>
                  <a:lnTo>
                    <a:pt x="6283" y="343"/>
                  </a:lnTo>
                  <a:lnTo>
                    <a:pt x="5860" y="192"/>
                  </a:lnTo>
                  <a:lnTo>
                    <a:pt x="5428" y="85"/>
                  </a:lnTo>
                  <a:lnTo>
                    <a:pt x="4991" y="21"/>
                  </a:lnTo>
                  <a:lnTo>
                    <a:pt x="4553" y="0"/>
                  </a:lnTo>
                  <a:lnTo>
                    <a:pt x="4117" y="21"/>
                  </a:lnTo>
                  <a:lnTo>
                    <a:pt x="3685" y="82"/>
                  </a:lnTo>
                  <a:lnTo>
                    <a:pt x="3261" y="186"/>
                  </a:lnTo>
                  <a:lnTo>
                    <a:pt x="2848" y="329"/>
                  </a:lnTo>
                  <a:lnTo>
                    <a:pt x="2450" y="513"/>
                  </a:lnTo>
                  <a:lnTo>
                    <a:pt x="2068" y="734"/>
                  </a:lnTo>
                  <a:lnTo>
                    <a:pt x="1708" y="995"/>
                  </a:lnTo>
                  <a:lnTo>
                    <a:pt x="1371" y="1293"/>
                  </a:lnTo>
                  <a:lnTo>
                    <a:pt x="1060" y="1629"/>
                  </a:lnTo>
                  <a:lnTo>
                    <a:pt x="780" y="2001"/>
                  </a:lnTo>
                  <a:lnTo>
                    <a:pt x="539" y="2399"/>
                  </a:lnTo>
                  <a:lnTo>
                    <a:pt x="344" y="2811"/>
                  </a:lnTo>
                  <a:lnTo>
                    <a:pt x="193" y="3236"/>
                  </a:lnTo>
                  <a:lnTo>
                    <a:pt x="85" y="3667"/>
                  </a:lnTo>
                  <a:lnTo>
                    <a:pt x="21" y="4104"/>
                  </a:lnTo>
                  <a:lnTo>
                    <a:pt x="0" y="4542"/>
                  </a:lnTo>
                  <a:lnTo>
                    <a:pt x="21" y="4979"/>
                  </a:lnTo>
                  <a:lnTo>
                    <a:pt x="83" y="5411"/>
                  </a:lnTo>
                  <a:lnTo>
                    <a:pt x="186" y="5835"/>
                  </a:lnTo>
                  <a:lnTo>
                    <a:pt x="330" y="6247"/>
                  </a:lnTo>
                  <a:lnTo>
                    <a:pt x="514" y="6646"/>
                  </a:lnTo>
                  <a:lnTo>
                    <a:pt x="735" y="7028"/>
                  </a:lnTo>
                  <a:lnTo>
                    <a:pt x="995" y="7388"/>
                  </a:lnTo>
                  <a:lnTo>
                    <a:pt x="1294" y="7725"/>
                  </a:lnTo>
                  <a:lnTo>
                    <a:pt x="1630" y="8035"/>
                  </a:lnTo>
                  <a:lnTo>
                    <a:pt x="2002" y="8316"/>
                  </a:lnTo>
                  <a:close/>
                </a:path>
              </a:pathLst>
            </a:custGeom>
            <a:solidFill>
              <a:srgbClr val="3b55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04200" y="162720"/>
              <a:ext cx="692640" cy="683280"/>
            </a:xfrm>
            <a:custGeom>
              <a:avLst/>
              <a:gdLst/>
              <a:ahLst/>
              <a:rect l="l" t="t" r="r" b="b"/>
              <a:pathLst>
                <a:path w="8935" h="8936">
                  <a:moveTo>
                    <a:pt x="1967" y="8169"/>
                  </a:moveTo>
                  <a:lnTo>
                    <a:pt x="2357" y="8405"/>
                  </a:lnTo>
                  <a:lnTo>
                    <a:pt x="2763" y="8598"/>
                  </a:lnTo>
                  <a:lnTo>
                    <a:pt x="3179" y="8746"/>
                  </a:lnTo>
                  <a:lnTo>
                    <a:pt x="3603" y="8852"/>
                  </a:lnTo>
                  <a:lnTo>
                    <a:pt x="4032" y="8914"/>
                  </a:lnTo>
                  <a:lnTo>
                    <a:pt x="4462" y="8936"/>
                  </a:lnTo>
                  <a:lnTo>
                    <a:pt x="4892" y="8915"/>
                  </a:lnTo>
                  <a:lnTo>
                    <a:pt x="5316" y="8854"/>
                  </a:lnTo>
                  <a:lnTo>
                    <a:pt x="5732" y="8753"/>
                  </a:lnTo>
                  <a:lnTo>
                    <a:pt x="6138" y="8611"/>
                  </a:lnTo>
                  <a:lnTo>
                    <a:pt x="6529" y="8432"/>
                  </a:lnTo>
                  <a:lnTo>
                    <a:pt x="6903" y="8214"/>
                  </a:lnTo>
                  <a:lnTo>
                    <a:pt x="7258" y="7958"/>
                  </a:lnTo>
                  <a:lnTo>
                    <a:pt x="7589" y="7664"/>
                  </a:lnTo>
                  <a:lnTo>
                    <a:pt x="7893" y="7335"/>
                  </a:lnTo>
                  <a:lnTo>
                    <a:pt x="8168" y="6970"/>
                  </a:lnTo>
                  <a:lnTo>
                    <a:pt x="8404" y="6579"/>
                  </a:lnTo>
                  <a:lnTo>
                    <a:pt x="8597" y="6173"/>
                  </a:lnTo>
                  <a:lnTo>
                    <a:pt x="8746" y="5757"/>
                  </a:lnTo>
                  <a:lnTo>
                    <a:pt x="8851" y="5333"/>
                  </a:lnTo>
                  <a:lnTo>
                    <a:pt x="8914" y="4904"/>
                  </a:lnTo>
                  <a:lnTo>
                    <a:pt x="8935" y="4474"/>
                  </a:lnTo>
                  <a:lnTo>
                    <a:pt x="8915" y="4044"/>
                  </a:lnTo>
                  <a:lnTo>
                    <a:pt x="8853" y="3620"/>
                  </a:lnTo>
                  <a:lnTo>
                    <a:pt x="8752" y="3204"/>
                  </a:lnTo>
                  <a:lnTo>
                    <a:pt x="8611" y="2798"/>
                  </a:lnTo>
                  <a:lnTo>
                    <a:pt x="8431" y="2407"/>
                  </a:lnTo>
                  <a:lnTo>
                    <a:pt x="8213" y="2032"/>
                  </a:lnTo>
                  <a:lnTo>
                    <a:pt x="7957" y="1678"/>
                  </a:lnTo>
                  <a:lnTo>
                    <a:pt x="7663" y="1347"/>
                  </a:lnTo>
                  <a:lnTo>
                    <a:pt x="7334" y="1042"/>
                  </a:lnTo>
                  <a:lnTo>
                    <a:pt x="6969" y="768"/>
                  </a:lnTo>
                  <a:lnTo>
                    <a:pt x="6578" y="531"/>
                  </a:lnTo>
                  <a:lnTo>
                    <a:pt x="6172" y="339"/>
                  </a:lnTo>
                  <a:lnTo>
                    <a:pt x="5756" y="190"/>
                  </a:lnTo>
                  <a:lnTo>
                    <a:pt x="5332" y="84"/>
                  </a:lnTo>
                  <a:lnTo>
                    <a:pt x="4903" y="22"/>
                  </a:lnTo>
                  <a:lnTo>
                    <a:pt x="4473" y="0"/>
                  </a:lnTo>
                  <a:lnTo>
                    <a:pt x="4043" y="22"/>
                  </a:lnTo>
                  <a:lnTo>
                    <a:pt x="3619" y="82"/>
                  </a:lnTo>
                  <a:lnTo>
                    <a:pt x="3202" y="184"/>
                  </a:lnTo>
                  <a:lnTo>
                    <a:pt x="2797" y="325"/>
                  </a:lnTo>
                  <a:lnTo>
                    <a:pt x="2406" y="504"/>
                  </a:lnTo>
                  <a:lnTo>
                    <a:pt x="2031" y="723"/>
                  </a:lnTo>
                  <a:lnTo>
                    <a:pt x="1677" y="978"/>
                  </a:lnTo>
                  <a:lnTo>
                    <a:pt x="1346" y="1272"/>
                  </a:lnTo>
                  <a:lnTo>
                    <a:pt x="1041" y="1601"/>
                  </a:lnTo>
                  <a:lnTo>
                    <a:pt x="767" y="1967"/>
                  </a:lnTo>
                  <a:lnTo>
                    <a:pt x="530" y="2357"/>
                  </a:lnTo>
                  <a:lnTo>
                    <a:pt x="337" y="2763"/>
                  </a:lnTo>
                  <a:lnTo>
                    <a:pt x="190" y="3179"/>
                  </a:lnTo>
                  <a:lnTo>
                    <a:pt x="83" y="3603"/>
                  </a:lnTo>
                  <a:lnTo>
                    <a:pt x="21" y="4033"/>
                  </a:lnTo>
                  <a:lnTo>
                    <a:pt x="0" y="4463"/>
                  </a:lnTo>
                  <a:lnTo>
                    <a:pt x="21" y="4892"/>
                  </a:lnTo>
                  <a:lnTo>
                    <a:pt x="82" y="5316"/>
                  </a:lnTo>
                  <a:lnTo>
                    <a:pt x="183" y="5733"/>
                  </a:lnTo>
                  <a:lnTo>
                    <a:pt x="325" y="6139"/>
                  </a:lnTo>
                  <a:lnTo>
                    <a:pt x="504" y="6530"/>
                  </a:lnTo>
                  <a:lnTo>
                    <a:pt x="722" y="6904"/>
                  </a:lnTo>
                  <a:lnTo>
                    <a:pt x="978" y="7258"/>
                  </a:lnTo>
                  <a:lnTo>
                    <a:pt x="1272" y="7590"/>
                  </a:lnTo>
                  <a:lnTo>
                    <a:pt x="1601" y="7894"/>
                  </a:lnTo>
                  <a:lnTo>
                    <a:pt x="1967" y="8169"/>
                  </a:lnTo>
                  <a:close/>
                </a:path>
              </a:pathLst>
            </a:custGeom>
            <a:solidFill>
              <a:srgbClr val="3e57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4280" y="164520"/>
              <a:ext cx="679680" cy="671400"/>
            </a:xfrm>
            <a:custGeom>
              <a:avLst/>
              <a:gdLst/>
              <a:ahLst/>
              <a:rect l="l" t="t" r="r" b="b"/>
              <a:pathLst>
                <a:path w="8773" h="8775">
                  <a:moveTo>
                    <a:pt x="1931" y="8022"/>
                  </a:moveTo>
                  <a:lnTo>
                    <a:pt x="2315" y="8254"/>
                  </a:lnTo>
                  <a:lnTo>
                    <a:pt x="2713" y="8443"/>
                  </a:lnTo>
                  <a:lnTo>
                    <a:pt x="3121" y="8589"/>
                  </a:lnTo>
                  <a:lnTo>
                    <a:pt x="3538" y="8693"/>
                  </a:lnTo>
                  <a:lnTo>
                    <a:pt x="3959" y="8755"/>
                  </a:lnTo>
                  <a:lnTo>
                    <a:pt x="4382" y="8775"/>
                  </a:lnTo>
                  <a:lnTo>
                    <a:pt x="4803" y="8755"/>
                  </a:lnTo>
                  <a:lnTo>
                    <a:pt x="5219" y="8694"/>
                  </a:lnTo>
                  <a:lnTo>
                    <a:pt x="5628" y="8595"/>
                  </a:lnTo>
                  <a:lnTo>
                    <a:pt x="6026" y="8456"/>
                  </a:lnTo>
                  <a:lnTo>
                    <a:pt x="6411" y="8280"/>
                  </a:lnTo>
                  <a:lnTo>
                    <a:pt x="6779" y="8066"/>
                  </a:lnTo>
                  <a:lnTo>
                    <a:pt x="7127" y="7814"/>
                  </a:lnTo>
                  <a:lnTo>
                    <a:pt x="7451" y="7527"/>
                  </a:lnTo>
                  <a:lnTo>
                    <a:pt x="7751" y="7203"/>
                  </a:lnTo>
                  <a:lnTo>
                    <a:pt x="8021" y="6844"/>
                  </a:lnTo>
                  <a:lnTo>
                    <a:pt x="8253" y="6460"/>
                  </a:lnTo>
                  <a:lnTo>
                    <a:pt x="8442" y="6062"/>
                  </a:lnTo>
                  <a:lnTo>
                    <a:pt x="8587" y="5653"/>
                  </a:lnTo>
                  <a:lnTo>
                    <a:pt x="8692" y="5237"/>
                  </a:lnTo>
                  <a:lnTo>
                    <a:pt x="8753" y="4816"/>
                  </a:lnTo>
                  <a:lnTo>
                    <a:pt x="8773" y="4393"/>
                  </a:lnTo>
                  <a:lnTo>
                    <a:pt x="8753" y="3972"/>
                  </a:lnTo>
                  <a:lnTo>
                    <a:pt x="8694" y="3555"/>
                  </a:lnTo>
                  <a:lnTo>
                    <a:pt x="8594" y="3146"/>
                  </a:lnTo>
                  <a:lnTo>
                    <a:pt x="8456" y="2747"/>
                  </a:lnTo>
                  <a:lnTo>
                    <a:pt x="8279" y="2364"/>
                  </a:lnTo>
                  <a:lnTo>
                    <a:pt x="8064" y="1996"/>
                  </a:lnTo>
                  <a:lnTo>
                    <a:pt x="7813" y="1647"/>
                  </a:lnTo>
                  <a:lnTo>
                    <a:pt x="7525" y="1323"/>
                  </a:lnTo>
                  <a:lnTo>
                    <a:pt x="7201" y="1023"/>
                  </a:lnTo>
                  <a:lnTo>
                    <a:pt x="6843" y="754"/>
                  </a:lnTo>
                  <a:lnTo>
                    <a:pt x="6458" y="521"/>
                  </a:lnTo>
                  <a:lnTo>
                    <a:pt x="6060" y="332"/>
                  </a:lnTo>
                  <a:lnTo>
                    <a:pt x="5651" y="186"/>
                  </a:lnTo>
                  <a:lnTo>
                    <a:pt x="5235" y="83"/>
                  </a:lnTo>
                  <a:lnTo>
                    <a:pt x="4814" y="22"/>
                  </a:lnTo>
                  <a:lnTo>
                    <a:pt x="4391" y="0"/>
                  </a:lnTo>
                  <a:lnTo>
                    <a:pt x="3970" y="21"/>
                  </a:lnTo>
                  <a:lnTo>
                    <a:pt x="3554" y="81"/>
                  </a:lnTo>
                  <a:lnTo>
                    <a:pt x="3144" y="180"/>
                  </a:lnTo>
                  <a:lnTo>
                    <a:pt x="2747" y="319"/>
                  </a:lnTo>
                  <a:lnTo>
                    <a:pt x="2362" y="496"/>
                  </a:lnTo>
                  <a:lnTo>
                    <a:pt x="1994" y="709"/>
                  </a:lnTo>
                  <a:lnTo>
                    <a:pt x="1646" y="960"/>
                  </a:lnTo>
                  <a:lnTo>
                    <a:pt x="1321" y="1248"/>
                  </a:lnTo>
                  <a:lnTo>
                    <a:pt x="1022" y="1572"/>
                  </a:lnTo>
                  <a:lnTo>
                    <a:pt x="753" y="1931"/>
                  </a:lnTo>
                  <a:lnTo>
                    <a:pt x="520" y="2315"/>
                  </a:lnTo>
                  <a:lnTo>
                    <a:pt x="331" y="2713"/>
                  </a:lnTo>
                  <a:lnTo>
                    <a:pt x="186" y="3122"/>
                  </a:lnTo>
                  <a:lnTo>
                    <a:pt x="81" y="3538"/>
                  </a:lnTo>
                  <a:lnTo>
                    <a:pt x="20" y="3960"/>
                  </a:lnTo>
                  <a:lnTo>
                    <a:pt x="0" y="4382"/>
                  </a:lnTo>
                  <a:lnTo>
                    <a:pt x="20" y="4803"/>
                  </a:lnTo>
                  <a:lnTo>
                    <a:pt x="79" y="5220"/>
                  </a:lnTo>
                  <a:lnTo>
                    <a:pt x="179" y="5629"/>
                  </a:lnTo>
                  <a:lnTo>
                    <a:pt x="317" y="6028"/>
                  </a:lnTo>
                  <a:lnTo>
                    <a:pt x="494" y="6413"/>
                  </a:lnTo>
                  <a:lnTo>
                    <a:pt x="709" y="6781"/>
                  </a:lnTo>
                  <a:lnTo>
                    <a:pt x="960" y="7128"/>
                  </a:lnTo>
                  <a:lnTo>
                    <a:pt x="1248" y="7453"/>
                  </a:lnTo>
                  <a:lnTo>
                    <a:pt x="1572" y="7752"/>
                  </a:lnTo>
                  <a:lnTo>
                    <a:pt x="1931" y="8022"/>
                  </a:lnTo>
                  <a:close/>
                </a:path>
              </a:pathLst>
            </a:custGeom>
            <a:solidFill>
              <a:srgbClr val="405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23640" y="167400"/>
              <a:ext cx="666360" cy="659520"/>
            </a:xfrm>
            <a:custGeom>
              <a:avLst/>
              <a:gdLst/>
              <a:ahLst/>
              <a:rect l="l" t="t" r="r" b="b"/>
              <a:pathLst>
                <a:path w="8612" h="8613">
                  <a:moveTo>
                    <a:pt x="1895" y="7876"/>
                  </a:moveTo>
                  <a:lnTo>
                    <a:pt x="2272" y="8103"/>
                  </a:lnTo>
                  <a:lnTo>
                    <a:pt x="2663" y="8288"/>
                  </a:lnTo>
                  <a:lnTo>
                    <a:pt x="3064" y="8432"/>
                  </a:lnTo>
                  <a:lnTo>
                    <a:pt x="3473" y="8532"/>
                  </a:lnTo>
                  <a:lnTo>
                    <a:pt x="3886" y="8593"/>
                  </a:lnTo>
                  <a:lnTo>
                    <a:pt x="4301" y="8613"/>
                  </a:lnTo>
                  <a:lnTo>
                    <a:pt x="4715" y="8594"/>
                  </a:lnTo>
                  <a:lnTo>
                    <a:pt x="5124" y="8535"/>
                  </a:lnTo>
                  <a:lnTo>
                    <a:pt x="5525" y="8437"/>
                  </a:lnTo>
                  <a:lnTo>
                    <a:pt x="5916" y="8302"/>
                  </a:lnTo>
                  <a:lnTo>
                    <a:pt x="6293" y="8129"/>
                  </a:lnTo>
                  <a:lnTo>
                    <a:pt x="6655" y="7918"/>
                  </a:lnTo>
                  <a:lnTo>
                    <a:pt x="6996" y="7671"/>
                  </a:lnTo>
                  <a:lnTo>
                    <a:pt x="7315" y="7389"/>
                  </a:lnTo>
                  <a:lnTo>
                    <a:pt x="7608" y="7071"/>
                  </a:lnTo>
                  <a:lnTo>
                    <a:pt x="7874" y="6719"/>
                  </a:lnTo>
                  <a:lnTo>
                    <a:pt x="8102" y="6341"/>
                  </a:lnTo>
                  <a:lnTo>
                    <a:pt x="8287" y="5951"/>
                  </a:lnTo>
                  <a:lnTo>
                    <a:pt x="8430" y="5550"/>
                  </a:lnTo>
                  <a:lnTo>
                    <a:pt x="8531" y="5141"/>
                  </a:lnTo>
                  <a:lnTo>
                    <a:pt x="8592" y="4728"/>
                  </a:lnTo>
                  <a:lnTo>
                    <a:pt x="8612" y="4313"/>
                  </a:lnTo>
                  <a:lnTo>
                    <a:pt x="8593" y="3900"/>
                  </a:lnTo>
                  <a:lnTo>
                    <a:pt x="8533" y="3490"/>
                  </a:lnTo>
                  <a:lnTo>
                    <a:pt x="8436" y="3088"/>
                  </a:lnTo>
                  <a:lnTo>
                    <a:pt x="8301" y="2697"/>
                  </a:lnTo>
                  <a:lnTo>
                    <a:pt x="8127" y="2320"/>
                  </a:lnTo>
                  <a:lnTo>
                    <a:pt x="7917" y="1958"/>
                  </a:lnTo>
                  <a:lnTo>
                    <a:pt x="7670" y="1617"/>
                  </a:lnTo>
                  <a:lnTo>
                    <a:pt x="7387" y="1298"/>
                  </a:lnTo>
                  <a:lnTo>
                    <a:pt x="7069" y="1005"/>
                  </a:lnTo>
                  <a:lnTo>
                    <a:pt x="6718" y="740"/>
                  </a:lnTo>
                  <a:lnTo>
                    <a:pt x="6340" y="512"/>
                  </a:lnTo>
                  <a:lnTo>
                    <a:pt x="5949" y="326"/>
                  </a:lnTo>
                  <a:lnTo>
                    <a:pt x="5548" y="183"/>
                  </a:lnTo>
                  <a:lnTo>
                    <a:pt x="5139" y="81"/>
                  </a:lnTo>
                  <a:lnTo>
                    <a:pt x="4725" y="20"/>
                  </a:lnTo>
                  <a:lnTo>
                    <a:pt x="4311" y="0"/>
                  </a:lnTo>
                  <a:lnTo>
                    <a:pt x="3897" y="20"/>
                  </a:lnTo>
                  <a:lnTo>
                    <a:pt x="3489" y="79"/>
                  </a:lnTo>
                  <a:lnTo>
                    <a:pt x="3087" y="177"/>
                  </a:lnTo>
                  <a:lnTo>
                    <a:pt x="2696" y="313"/>
                  </a:lnTo>
                  <a:lnTo>
                    <a:pt x="2318" y="486"/>
                  </a:lnTo>
                  <a:lnTo>
                    <a:pt x="1957" y="697"/>
                  </a:lnTo>
                  <a:lnTo>
                    <a:pt x="1616" y="943"/>
                  </a:lnTo>
                  <a:lnTo>
                    <a:pt x="1297" y="1225"/>
                  </a:lnTo>
                  <a:lnTo>
                    <a:pt x="1003" y="1543"/>
                  </a:lnTo>
                  <a:lnTo>
                    <a:pt x="739" y="1896"/>
                  </a:lnTo>
                  <a:lnTo>
                    <a:pt x="510" y="2272"/>
                  </a:lnTo>
                  <a:lnTo>
                    <a:pt x="325" y="2663"/>
                  </a:lnTo>
                  <a:lnTo>
                    <a:pt x="182" y="3065"/>
                  </a:lnTo>
                  <a:lnTo>
                    <a:pt x="81" y="3474"/>
                  </a:lnTo>
                  <a:lnTo>
                    <a:pt x="20" y="3887"/>
                  </a:lnTo>
                  <a:lnTo>
                    <a:pt x="0" y="4303"/>
                  </a:lnTo>
                  <a:lnTo>
                    <a:pt x="19" y="4716"/>
                  </a:lnTo>
                  <a:lnTo>
                    <a:pt x="78" y="5125"/>
                  </a:lnTo>
                  <a:lnTo>
                    <a:pt x="176" y="5527"/>
                  </a:lnTo>
                  <a:lnTo>
                    <a:pt x="311" y="5917"/>
                  </a:lnTo>
                  <a:lnTo>
                    <a:pt x="485" y="6296"/>
                  </a:lnTo>
                  <a:lnTo>
                    <a:pt x="695" y="6656"/>
                  </a:lnTo>
                  <a:lnTo>
                    <a:pt x="942" y="6997"/>
                  </a:lnTo>
                  <a:lnTo>
                    <a:pt x="1224" y="7316"/>
                  </a:lnTo>
                  <a:lnTo>
                    <a:pt x="1542" y="7610"/>
                  </a:lnTo>
                  <a:lnTo>
                    <a:pt x="1895" y="7876"/>
                  </a:lnTo>
                  <a:close/>
                </a:path>
              </a:pathLst>
            </a:custGeom>
            <a:solidFill>
              <a:srgbClr val="425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33000" y="170280"/>
              <a:ext cx="654480" cy="646200"/>
            </a:xfrm>
            <a:custGeom>
              <a:avLst/>
              <a:gdLst/>
              <a:ahLst/>
              <a:rect l="l" t="t" r="r" b="b"/>
              <a:pathLst>
                <a:path w="8451" h="8452">
                  <a:moveTo>
                    <a:pt x="1859" y="7728"/>
                  </a:moveTo>
                  <a:lnTo>
                    <a:pt x="2229" y="7951"/>
                  </a:lnTo>
                  <a:lnTo>
                    <a:pt x="2612" y="8133"/>
                  </a:lnTo>
                  <a:lnTo>
                    <a:pt x="3006" y="8273"/>
                  </a:lnTo>
                  <a:lnTo>
                    <a:pt x="3407" y="8373"/>
                  </a:lnTo>
                  <a:lnTo>
                    <a:pt x="3813" y="8433"/>
                  </a:lnTo>
                  <a:lnTo>
                    <a:pt x="4221" y="8452"/>
                  </a:lnTo>
                  <a:lnTo>
                    <a:pt x="4627" y="8433"/>
                  </a:lnTo>
                  <a:lnTo>
                    <a:pt x="5027" y="8375"/>
                  </a:lnTo>
                  <a:lnTo>
                    <a:pt x="5422" y="8278"/>
                  </a:lnTo>
                  <a:lnTo>
                    <a:pt x="5806" y="8145"/>
                  </a:lnTo>
                  <a:lnTo>
                    <a:pt x="6176" y="7975"/>
                  </a:lnTo>
                  <a:lnTo>
                    <a:pt x="6530" y="7769"/>
                  </a:lnTo>
                  <a:lnTo>
                    <a:pt x="6866" y="7527"/>
                  </a:lnTo>
                  <a:lnTo>
                    <a:pt x="7178" y="7250"/>
                  </a:lnTo>
                  <a:lnTo>
                    <a:pt x="7466" y="6939"/>
                  </a:lnTo>
                  <a:lnTo>
                    <a:pt x="7727" y="6593"/>
                  </a:lnTo>
                  <a:lnTo>
                    <a:pt x="7950" y="6222"/>
                  </a:lnTo>
                  <a:lnTo>
                    <a:pt x="8132" y="5840"/>
                  </a:lnTo>
                  <a:lnTo>
                    <a:pt x="8272" y="5445"/>
                  </a:lnTo>
                  <a:lnTo>
                    <a:pt x="8372" y="5044"/>
                  </a:lnTo>
                  <a:lnTo>
                    <a:pt x="8432" y="4638"/>
                  </a:lnTo>
                  <a:lnTo>
                    <a:pt x="8451" y="4231"/>
                  </a:lnTo>
                  <a:lnTo>
                    <a:pt x="8432" y="3825"/>
                  </a:lnTo>
                  <a:lnTo>
                    <a:pt x="8374" y="3424"/>
                  </a:lnTo>
                  <a:lnTo>
                    <a:pt x="8277" y="3030"/>
                  </a:lnTo>
                  <a:lnTo>
                    <a:pt x="8144" y="2646"/>
                  </a:lnTo>
                  <a:lnTo>
                    <a:pt x="7974" y="2275"/>
                  </a:lnTo>
                  <a:lnTo>
                    <a:pt x="7768" y="1921"/>
                  </a:lnTo>
                  <a:lnTo>
                    <a:pt x="7526" y="1586"/>
                  </a:lnTo>
                  <a:lnTo>
                    <a:pt x="7249" y="1273"/>
                  </a:lnTo>
                  <a:lnTo>
                    <a:pt x="6938" y="985"/>
                  </a:lnTo>
                  <a:lnTo>
                    <a:pt x="6592" y="725"/>
                  </a:lnTo>
                  <a:lnTo>
                    <a:pt x="6221" y="501"/>
                  </a:lnTo>
                  <a:lnTo>
                    <a:pt x="5839" y="319"/>
                  </a:lnTo>
                  <a:lnTo>
                    <a:pt x="5444" y="179"/>
                  </a:lnTo>
                  <a:lnTo>
                    <a:pt x="5043" y="79"/>
                  </a:lnTo>
                  <a:lnTo>
                    <a:pt x="4637" y="19"/>
                  </a:lnTo>
                  <a:lnTo>
                    <a:pt x="4230" y="0"/>
                  </a:lnTo>
                  <a:lnTo>
                    <a:pt x="3825" y="19"/>
                  </a:lnTo>
                  <a:lnTo>
                    <a:pt x="3423" y="77"/>
                  </a:lnTo>
                  <a:lnTo>
                    <a:pt x="3029" y="173"/>
                  </a:lnTo>
                  <a:lnTo>
                    <a:pt x="2645" y="306"/>
                  </a:lnTo>
                  <a:lnTo>
                    <a:pt x="2275" y="476"/>
                  </a:lnTo>
                  <a:lnTo>
                    <a:pt x="1921" y="683"/>
                  </a:lnTo>
                  <a:lnTo>
                    <a:pt x="1585" y="925"/>
                  </a:lnTo>
                  <a:lnTo>
                    <a:pt x="1272" y="1201"/>
                  </a:lnTo>
                  <a:lnTo>
                    <a:pt x="984" y="1513"/>
                  </a:lnTo>
                  <a:lnTo>
                    <a:pt x="725" y="1860"/>
                  </a:lnTo>
                  <a:lnTo>
                    <a:pt x="501" y="2229"/>
                  </a:lnTo>
                  <a:lnTo>
                    <a:pt x="319" y="2613"/>
                  </a:lnTo>
                  <a:lnTo>
                    <a:pt x="179" y="3007"/>
                  </a:lnTo>
                  <a:lnTo>
                    <a:pt x="79" y="3408"/>
                  </a:lnTo>
                  <a:lnTo>
                    <a:pt x="19" y="3815"/>
                  </a:lnTo>
                  <a:lnTo>
                    <a:pt x="0" y="4222"/>
                  </a:lnTo>
                  <a:lnTo>
                    <a:pt x="19" y="4628"/>
                  </a:lnTo>
                  <a:lnTo>
                    <a:pt x="76" y="5029"/>
                  </a:lnTo>
                  <a:lnTo>
                    <a:pt x="173" y="5423"/>
                  </a:lnTo>
                  <a:lnTo>
                    <a:pt x="306" y="5807"/>
                  </a:lnTo>
                  <a:lnTo>
                    <a:pt x="476" y="6177"/>
                  </a:lnTo>
                  <a:lnTo>
                    <a:pt x="682" y="6531"/>
                  </a:lnTo>
                  <a:lnTo>
                    <a:pt x="925" y="6867"/>
                  </a:lnTo>
                  <a:lnTo>
                    <a:pt x="1201" y="7179"/>
                  </a:lnTo>
                  <a:lnTo>
                    <a:pt x="1513" y="7467"/>
                  </a:lnTo>
                  <a:lnTo>
                    <a:pt x="1859" y="7728"/>
                  </a:lnTo>
                  <a:close/>
                </a:path>
              </a:pathLst>
            </a:custGeom>
            <a:solidFill>
              <a:srgbClr val="445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360" y="171720"/>
              <a:ext cx="642600" cy="634680"/>
            </a:xfrm>
            <a:custGeom>
              <a:avLst/>
              <a:gdLst/>
              <a:ahLst/>
              <a:rect l="l" t="t" r="r" b="b"/>
              <a:pathLst>
                <a:path w="8292" h="8293">
                  <a:moveTo>
                    <a:pt x="1825" y="7582"/>
                  </a:moveTo>
                  <a:lnTo>
                    <a:pt x="2188" y="7801"/>
                  </a:lnTo>
                  <a:lnTo>
                    <a:pt x="2564" y="7979"/>
                  </a:lnTo>
                  <a:lnTo>
                    <a:pt x="2950" y="8118"/>
                  </a:lnTo>
                  <a:lnTo>
                    <a:pt x="3344" y="8215"/>
                  </a:lnTo>
                  <a:lnTo>
                    <a:pt x="3742" y="8273"/>
                  </a:lnTo>
                  <a:lnTo>
                    <a:pt x="4142" y="8293"/>
                  </a:lnTo>
                  <a:lnTo>
                    <a:pt x="4540" y="8274"/>
                  </a:lnTo>
                  <a:lnTo>
                    <a:pt x="4933" y="8217"/>
                  </a:lnTo>
                  <a:lnTo>
                    <a:pt x="5320" y="8123"/>
                  </a:lnTo>
                  <a:lnTo>
                    <a:pt x="5696" y="7992"/>
                  </a:lnTo>
                  <a:lnTo>
                    <a:pt x="6060" y="7825"/>
                  </a:lnTo>
                  <a:lnTo>
                    <a:pt x="6407" y="7622"/>
                  </a:lnTo>
                  <a:lnTo>
                    <a:pt x="6736" y="7385"/>
                  </a:lnTo>
                  <a:lnTo>
                    <a:pt x="7043" y="7113"/>
                  </a:lnTo>
                  <a:lnTo>
                    <a:pt x="7326" y="6808"/>
                  </a:lnTo>
                  <a:lnTo>
                    <a:pt x="7581" y="6469"/>
                  </a:lnTo>
                  <a:lnTo>
                    <a:pt x="7800" y="6105"/>
                  </a:lnTo>
                  <a:lnTo>
                    <a:pt x="7979" y="5729"/>
                  </a:lnTo>
                  <a:lnTo>
                    <a:pt x="8117" y="5342"/>
                  </a:lnTo>
                  <a:lnTo>
                    <a:pt x="8215" y="4949"/>
                  </a:lnTo>
                  <a:lnTo>
                    <a:pt x="8272" y="4551"/>
                  </a:lnTo>
                  <a:lnTo>
                    <a:pt x="8292" y="4151"/>
                  </a:lnTo>
                  <a:lnTo>
                    <a:pt x="8273" y="3754"/>
                  </a:lnTo>
                  <a:lnTo>
                    <a:pt x="8216" y="3359"/>
                  </a:lnTo>
                  <a:lnTo>
                    <a:pt x="8122" y="2973"/>
                  </a:lnTo>
                  <a:lnTo>
                    <a:pt x="7992" y="2597"/>
                  </a:lnTo>
                  <a:lnTo>
                    <a:pt x="7825" y="2234"/>
                  </a:lnTo>
                  <a:lnTo>
                    <a:pt x="7622" y="1886"/>
                  </a:lnTo>
                  <a:lnTo>
                    <a:pt x="7384" y="1556"/>
                  </a:lnTo>
                  <a:lnTo>
                    <a:pt x="7112" y="1250"/>
                  </a:lnTo>
                  <a:lnTo>
                    <a:pt x="6807" y="967"/>
                  </a:lnTo>
                  <a:lnTo>
                    <a:pt x="6468" y="712"/>
                  </a:lnTo>
                  <a:lnTo>
                    <a:pt x="6104" y="492"/>
                  </a:lnTo>
                  <a:lnTo>
                    <a:pt x="5728" y="314"/>
                  </a:lnTo>
                  <a:lnTo>
                    <a:pt x="5342" y="175"/>
                  </a:lnTo>
                  <a:lnTo>
                    <a:pt x="4949" y="78"/>
                  </a:lnTo>
                  <a:lnTo>
                    <a:pt x="4550" y="20"/>
                  </a:lnTo>
                  <a:lnTo>
                    <a:pt x="4150" y="0"/>
                  </a:lnTo>
                  <a:lnTo>
                    <a:pt x="3753" y="19"/>
                  </a:lnTo>
                  <a:lnTo>
                    <a:pt x="3360" y="77"/>
                  </a:lnTo>
                  <a:lnTo>
                    <a:pt x="2973" y="170"/>
                  </a:lnTo>
                  <a:lnTo>
                    <a:pt x="2596" y="301"/>
                  </a:lnTo>
                  <a:lnTo>
                    <a:pt x="2233" y="468"/>
                  </a:lnTo>
                  <a:lnTo>
                    <a:pt x="1885" y="671"/>
                  </a:lnTo>
                  <a:lnTo>
                    <a:pt x="1556" y="908"/>
                  </a:lnTo>
                  <a:lnTo>
                    <a:pt x="1249" y="1180"/>
                  </a:lnTo>
                  <a:lnTo>
                    <a:pt x="966" y="1485"/>
                  </a:lnTo>
                  <a:lnTo>
                    <a:pt x="712" y="1825"/>
                  </a:lnTo>
                  <a:lnTo>
                    <a:pt x="492" y="2188"/>
                  </a:lnTo>
                  <a:lnTo>
                    <a:pt x="314" y="2564"/>
                  </a:lnTo>
                  <a:lnTo>
                    <a:pt x="175" y="2951"/>
                  </a:lnTo>
                  <a:lnTo>
                    <a:pt x="78" y="3344"/>
                  </a:lnTo>
                  <a:lnTo>
                    <a:pt x="20" y="3742"/>
                  </a:lnTo>
                  <a:lnTo>
                    <a:pt x="0" y="4142"/>
                  </a:lnTo>
                  <a:lnTo>
                    <a:pt x="19" y="4540"/>
                  </a:lnTo>
                  <a:lnTo>
                    <a:pt x="77" y="4934"/>
                  </a:lnTo>
                  <a:lnTo>
                    <a:pt x="170" y="5321"/>
                  </a:lnTo>
                  <a:lnTo>
                    <a:pt x="301" y="5697"/>
                  </a:lnTo>
                  <a:lnTo>
                    <a:pt x="468" y="6061"/>
                  </a:lnTo>
                  <a:lnTo>
                    <a:pt x="671" y="6408"/>
                  </a:lnTo>
                  <a:lnTo>
                    <a:pt x="908" y="6737"/>
                  </a:lnTo>
                  <a:lnTo>
                    <a:pt x="1180" y="7044"/>
                  </a:lnTo>
                  <a:lnTo>
                    <a:pt x="1485" y="7327"/>
                  </a:lnTo>
                  <a:lnTo>
                    <a:pt x="1825" y="7582"/>
                  </a:lnTo>
                  <a:close/>
                </a:path>
              </a:pathLst>
            </a:custGeom>
            <a:solidFill>
              <a:srgbClr val="476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51360" y="174600"/>
              <a:ext cx="629280" cy="622440"/>
            </a:xfrm>
            <a:custGeom>
              <a:avLst/>
              <a:gdLst/>
              <a:ahLst/>
              <a:rect l="l" t="t" r="r" b="b"/>
              <a:pathLst>
                <a:path w="8131" h="8131">
                  <a:moveTo>
                    <a:pt x="1789" y="7433"/>
                  </a:moveTo>
                  <a:lnTo>
                    <a:pt x="2146" y="7648"/>
                  </a:lnTo>
                  <a:lnTo>
                    <a:pt x="2515" y="7823"/>
                  </a:lnTo>
                  <a:lnTo>
                    <a:pt x="2893" y="7958"/>
                  </a:lnTo>
                  <a:lnTo>
                    <a:pt x="3280" y="8055"/>
                  </a:lnTo>
                  <a:lnTo>
                    <a:pt x="3670" y="8112"/>
                  </a:lnTo>
                  <a:lnTo>
                    <a:pt x="4061" y="8131"/>
                  </a:lnTo>
                  <a:lnTo>
                    <a:pt x="4452" y="8112"/>
                  </a:lnTo>
                  <a:lnTo>
                    <a:pt x="4838" y="8057"/>
                  </a:lnTo>
                  <a:lnTo>
                    <a:pt x="5217" y="7965"/>
                  </a:lnTo>
                  <a:lnTo>
                    <a:pt x="5586" y="7837"/>
                  </a:lnTo>
                  <a:lnTo>
                    <a:pt x="5942" y="7673"/>
                  </a:lnTo>
                  <a:lnTo>
                    <a:pt x="6283" y="7474"/>
                  </a:lnTo>
                  <a:lnTo>
                    <a:pt x="6605" y="7242"/>
                  </a:lnTo>
                  <a:lnTo>
                    <a:pt x="6907" y="6975"/>
                  </a:lnTo>
                  <a:lnTo>
                    <a:pt x="7184" y="6675"/>
                  </a:lnTo>
                  <a:lnTo>
                    <a:pt x="7435" y="6343"/>
                  </a:lnTo>
                  <a:lnTo>
                    <a:pt x="7649" y="5986"/>
                  </a:lnTo>
                  <a:lnTo>
                    <a:pt x="7824" y="5617"/>
                  </a:lnTo>
                  <a:lnTo>
                    <a:pt x="7960" y="5239"/>
                  </a:lnTo>
                  <a:lnTo>
                    <a:pt x="8055" y="4852"/>
                  </a:lnTo>
                  <a:lnTo>
                    <a:pt x="8112" y="4462"/>
                  </a:lnTo>
                  <a:lnTo>
                    <a:pt x="8131" y="4071"/>
                  </a:lnTo>
                  <a:lnTo>
                    <a:pt x="8113" y="3680"/>
                  </a:lnTo>
                  <a:lnTo>
                    <a:pt x="8057" y="3293"/>
                  </a:lnTo>
                  <a:lnTo>
                    <a:pt x="7964" y="2915"/>
                  </a:lnTo>
                  <a:lnTo>
                    <a:pt x="7836" y="2546"/>
                  </a:lnTo>
                  <a:lnTo>
                    <a:pt x="7673" y="2189"/>
                  </a:lnTo>
                  <a:lnTo>
                    <a:pt x="7474" y="1849"/>
                  </a:lnTo>
                  <a:lnTo>
                    <a:pt x="7241" y="1525"/>
                  </a:lnTo>
                  <a:lnTo>
                    <a:pt x="6974" y="1225"/>
                  </a:lnTo>
                  <a:lnTo>
                    <a:pt x="6674" y="947"/>
                  </a:lnTo>
                  <a:lnTo>
                    <a:pt x="6343" y="697"/>
                  </a:lnTo>
                  <a:lnTo>
                    <a:pt x="5987" y="482"/>
                  </a:lnTo>
                  <a:lnTo>
                    <a:pt x="5618" y="307"/>
                  </a:lnTo>
                  <a:lnTo>
                    <a:pt x="5238" y="171"/>
                  </a:lnTo>
                  <a:lnTo>
                    <a:pt x="4852" y="75"/>
                  </a:lnTo>
                  <a:lnTo>
                    <a:pt x="4462" y="19"/>
                  </a:lnTo>
                  <a:lnTo>
                    <a:pt x="4071" y="0"/>
                  </a:lnTo>
                  <a:lnTo>
                    <a:pt x="3681" y="18"/>
                  </a:lnTo>
                  <a:lnTo>
                    <a:pt x="3295" y="74"/>
                  </a:lnTo>
                  <a:lnTo>
                    <a:pt x="2915" y="167"/>
                  </a:lnTo>
                  <a:lnTo>
                    <a:pt x="2546" y="294"/>
                  </a:lnTo>
                  <a:lnTo>
                    <a:pt x="2190" y="458"/>
                  </a:lnTo>
                  <a:lnTo>
                    <a:pt x="1849" y="657"/>
                  </a:lnTo>
                  <a:lnTo>
                    <a:pt x="1527" y="890"/>
                  </a:lnTo>
                  <a:lnTo>
                    <a:pt x="1226" y="1157"/>
                  </a:lnTo>
                  <a:lnTo>
                    <a:pt x="949" y="1456"/>
                  </a:lnTo>
                  <a:lnTo>
                    <a:pt x="699" y="1789"/>
                  </a:lnTo>
                  <a:lnTo>
                    <a:pt x="483" y="2145"/>
                  </a:lnTo>
                  <a:lnTo>
                    <a:pt x="307" y="2514"/>
                  </a:lnTo>
                  <a:lnTo>
                    <a:pt x="172" y="2893"/>
                  </a:lnTo>
                  <a:lnTo>
                    <a:pt x="77" y="3279"/>
                  </a:lnTo>
                  <a:lnTo>
                    <a:pt x="19" y="3669"/>
                  </a:lnTo>
                  <a:lnTo>
                    <a:pt x="0" y="4061"/>
                  </a:lnTo>
                  <a:lnTo>
                    <a:pt x="19" y="4451"/>
                  </a:lnTo>
                  <a:lnTo>
                    <a:pt x="75" y="4837"/>
                  </a:lnTo>
                  <a:lnTo>
                    <a:pt x="167" y="5217"/>
                  </a:lnTo>
                  <a:lnTo>
                    <a:pt x="295" y="5585"/>
                  </a:lnTo>
                  <a:lnTo>
                    <a:pt x="458" y="5942"/>
                  </a:lnTo>
                  <a:lnTo>
                    <a:pt x="657" y="6282"/>
                  </a:lnTo>
                  <a:lnTo>
                    <a:pt x="890" y="6605"/>
                  </a:lnTo>
                  <a:lnTo>
                    <a:pt x="1157" y="6906"/>
                  </a:lnTo>
                  <a:lnTo>
                    <a:pt x="1457" y="7182"/>
                  </a:lnTo>
                  <a:lnTo>
                    <a:pt x="1789" y="7433"/>
                  </a:lnTo>
                  <a:close/>
                </a:path>
              </a:pathLst>
            </a:custGeom>
            <a:solidFill>
              <a:srgbClr val="496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60720" y="177480"/>
              <a:ext cx="617400" cy="609840"/>
            </a:xfrm>
            <a:custGeom>
              <a:avLst/>
              <a:gdLst/>
              <a:ahLst/>
              <a:rect l="l" t="t" r="r" b="b"/>
              <a:pathLst>
                <a:path w="7971" h="7971">
                  <a:moveTo>
                    <a:pt x="1755" y="7287"/>
                  </a:moveTo>
                  <a:lnTo>
                    <a:pt x="2103" y="7498"/>
                  </a:lnTo>
                  <a:lnTo>
                    <a:pt x="2465" y="7669"/>
                  </a:lnTo>
                  <a:lnTo>
                    <a:pt x="2837" y="7802"/>
                  </a:lnTo>
                  <a:lnTo>
                    <a:pt x="3215" y="7895"/>
                  </a:lnTo>
                  <a:lnTo>
                    <a:pt x="3597" y="7952"/>
                  </a:lnTo>
                  <a:lnTo>
                    <a:pt x="3982" y="7971"/>
                  </a:lnTo>
                  <a:lnTo>
                    <a:pt x="4363" y="7952"/>
                  </a:lnTo>
                  <a:lnTo>
                    <a:pt x="4742" y="7897"/>
                  </a:lnTo>
                  <a:lnTo>
                    <a:pt x="5114" y="7807"/>
                  </a:lnTo>
                  <a:lnTo>
                    <a:pt x="5475" y="7682"/>
                  </a:lnTo>
                  <a:lnTo>
                    <a:pt x="5825" y="7521"/>
                  </a:lnTo>
                  <a:lnTo>
                    <a:pt x="6159" y="7327"/>
                  </a:lnTo>
                  <a:lnTo>
                    <a:pt x="6475" y="7098"/>
                  </a:lnTo>
                  <a:lnTo>
                    <a:pt x="6770" y="6837"/>
                  </a:lnTo>
                  <a:lnTo>
                    <a:pt x="7041" y="6542"/>
                  </a:lnTo>
                  <a:lnTo>
                    <a:pt x="7287" y="6217"/>
                  </a:lnTo>
                  <a:lnTo>
                    <a:pt x="7498" y="5867"/>
                  </a:lnTo>
                  <a:lnTo>
                    <a:pt x="7669" y="5506"/>
                  </a:lnTo>
                  <a:lnTo>
                    <a:pt x="7802" y="5135"/>
                  </a:lnTo>
                  <a:lnTo>
                    <a:pt x="7895" y="4756"/>
                  </a:lnTo>
                  <a:lnTo>
                    <a:pt x="7951" y="4373"/>
                  </a:lnTo>
                  <a:lnTo>
                    <a:pt x="7971" y="3990"/>
                  </a:lnTo>
                  <a:lnTo>
                    <a:pt x="7953" y="3607"/>
                  </a:lnTo>
                  <a:lnTo>
                    <a:pt x="7897" y="3228"/>
                  </a:lnTo>
                  <a:lnTo>
                    <a:pt x="7807" y="2857"/>
                  </a:lnTo>
                  <a:lnTo>
                    <a:pt x="7681" y="2496"/>
                  </a:lnTo>
                  <a:lnTo>
                    <a:pt x="7521" y="2146"/>
                  </a:lnTo>
                  <a:lnTo>
                    <a:pt x="7326" y="1812"/>
                  </a:lnTo>
                  <a:lnTo>
                    <a:pt x="7099" y="1497"/>
                  </a:lnTo>
                  <a:lnTo>
                    <a:pt x="6837" y="1201"/>
                  </a:lnTo>
                  <a:lnTo>
                    <a:pt x="6543" y="929"/>
                  </a:lnTo>
                  <a:lnTo>
                    <a:pt x="6218" y="684"/>
                  </a:lnTo>
                  <a:lnTo>
                    <a:pt x="5868" y="473"/>
                  </a:lnTo>
                  <a:lnTo>
                    <a:pt x="5506" y="301"/>
                  </a:lnTo>
                  <a:lnTo>
                    <a:pt x="5135" y="169"/>
                  </a:lnTo>
                  <a:lnTo>
                    <a:pt x="4757" y="74"/>
                  </a:lnTo>
                  <a:lnTo>
                    <a:pt x="4374" y="18"/>
                  </a:lnTo>
                  <a:lnTo>
                    <a:pt x="3990" y="0"/>
                  </a:lnTo>
                  <a:lnTo>
                    <a:pt x="3608" y="18"/>
                  </a:lnTo>
                  <a:lnTo>
                    <a:pt x="3229" y="72"/>
                  </a:lnTo>
                  <a:lnTo>
                    <a:pt x="2858" y="163"/>
                  </a:lnTo>
                  <a:lnTo>
                    <a:pt x="2496" y="289"/>
                  </a:lnTo>
                  <a:lnTo>
                    <a:pt x="2147" y="450"/>
                  </a:lnTo>
                  <a:lnTo>
                    <a:pt x="1812" y="644"/>
                  </a:lnTo>
                  <a:lnTo>
                    <a:pt x="1496" y="872"/>
                  </a:lnTo>
                  <a:lnTo>
                    <a:pt x="1202" y="1133"/>
                  </a:lnTo>
                  <a:lnTo>
                    <a:pt x="930" y="1428"/>
                  </a:lnTo>
                  <a:lnTo>
                    <a:pt x="685" y="1754"/>
                  </a:lnTo>
                  <a:lnTo>
                    <a:pt x="474" y="2103"/>
                  </a:lnTo>
                  <a:lnTo>
                    <a:pt x="301" y="2464"/>
                  </a:lnTo>
                  <a:lnTo>
                    <a:pt x="169" y="2836"/>
                  </a:lnTo>
                  <a:lnTo>
                    <a:pt x="75" y="3215"/>
                  </a:lnTo>
                  <a:lnTo>
                    <a:pt x="19" y="3597"/>
                  </a:lnTo>
                  <a:lnTo>
                    <a:pt x="0" y="3981"/>
                  </a:lnTo>
                  <a:lnTo>
                    <a:pt x="19" y="4364"/>
                  </a:lnTo>
                  <a:lnTo>
                    <a:pt x="73" y="4742"/>
                  </a:lnTo>
                  <a:lnTo>
                    <a:pt x="163" y="5113"/>
                  </a:lnTo>
                  <a:lnTo>
                    <a:pt x="290" y="5476"/>
                  </a:lnTo>
                  <a:lnTo>
                    <a:pt x="450" y="5824"/>
                  </a:lnTo>
                  <a:lnTo>
                    <a:pt x="645" y="6159"/>
                  </a:lnTo>
                  <a:lnTo>
                    <a:pt x="872" y="6475"/>
                  </a:lnTo>
                  <a:lnTo>
                    <a:pt x="1134" y="6770"/>
                  </a:lnTo>
                  <a:lnTo>
                    <a:pt x="1428" y="7042"/>
                  </a:lnTo>
                  <a:lnTo>
                    <a:pt x="1755" y="7287"/>
                  </a:lnTo>
                  <a:close/>
                </a:path>
              </a:pathLst>
            </a:custGeom>
            <a:solidFill>
              <a:srgbClr val="4b6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70080" y="179280"/>
              <a:ext cx="605160" cy="597600"/>
            </a:xfrm>
            <a:custGeom>
              <a:avLst/>
              <a:gdLst/>
              <a:ahLst/>
              <a:rect l="l" t="t" r="r" b="b"/>
              <a:pathLst>
                <a:path w="7809" h="7808">
                  <a:moveTo>
                    <a:pt x="1719" y="7139"/>
                  </a:moveTo>
                  <a:lnTo>
                    <a:pt x="2060" y="7346"/>
                  </a:lnTo>
                  <a:lnTo>
                    <a:pt x="2414" y="7514"/>
                  </a:lnTo>
                  <a:lnTo>
                    <a:pt x="2779" y="7643"/>
                  </a:lnTo>
                  <a:lnTo>
                    <a:pt x="3149" y="7736"/>
                  </a:lnTo>
                  <a:lnTo>
                    <a:pt x="3524" y="7790"/>
                  </a:lnTo>
                  <a:lnTo>
                    <a:pt x="3900" y="7808"/>
                  </a:lnTo>
                  <a:lnTo>
                    <a:pt x="4274" y="7790"/>
                  </a:lnTo>
                  <a:lnTo>
                    <a:pt x="4645" y="7737"/>
                  </a:lnTo>
                  <a:lnTo>
                    <a:pt x="5009" y="7649"/>
                  </a:lnTo>
                  <a:lnTo>
                    <a:pt x="5364" y="7525"/>
                  </a:lnTo>
                  <a:lnTo>
                    <a:pt x="5706" y="7368"/>
                  </a:lnTo>
                  <a:lnTo>
                    <a:pt x="6034" y="7178"/>
                  </a:lnTo>
                  <a:lnTo>
                    <a:pt x="6343" y="6953"/>
                  </a:lnTo>
                  <a:lnTo>
                    <a:pt x="6632" y="6697"/>
                  </a:lnTo>
                  <a:lnTo>
                    <a:pt x="6898" y="6409"/>
                  </a:lnTo>
                  <a:lnTo>
                    <a:pt x="7140" y="6090"/>
                  </a:lnTo>
                  <a:lnTo>
                    <a:pt x="7346" y="5748"/>
                  </a:lnTo>
                  <a:lnTo>
                    <a:pt x="7514" y="5394"/>
                  </a:lnTo>
                  <a:lnTo>
                    <a:pt x="7643" y="5029"/>
                  </a:lnTo>
                  <a:lnTo>
                    <a:pt x="7736" y="4659"/>
                  </a:lnTo>
                  <a:lnTo>
                    <a:pt x="7791" y="4284"/>
                  </a:lnTo>
                  <a:lnTo>
                    <a:pt x="7809" y="3908"/>
                  </a:lnTo>
                  <a:lnTo>
                    <a:pt x="7791" y="3533"/>
                  </a:lnTo>
                  <a:lnTo>
                    <a:pt x="7738" y="3162"/>
                  </a:lnTo>
                  <a:lnTo>
                    <a:pt x="7649" y="2799"/>
                  </a:lnTo>
                  <a:lnTo>
                    <a:pt x="7525" y="2444"/>
                  </a:lnTo>
                  <a:lnTo>
                    <a:pt x="7368" y="2102"/>
                  </a:lnTo>
                  <a:lnTo>
                    <a:pt x="7178" y="1775"/>
                  </a:lnTo>
                  <a:lnTo>
                    <a:pt x="6955" y="1465"/>
                  </a:lnTo>
                  <a:lnTo>
                    <a:pt x="6698" y="1177"/>
                  </a:lnTo>
                  <a:lnTo>
                    <a:pt x="6410" y="910"/>
                  </a:lnTo>
                  <a:lnTo>
                    <a:pt x="6091" y="671"/>
                  </a:lnTo>
                  <a:lnTo>
                    <a:pt x="5749" y="463"/>
                  </a:lnTo>
                  <a:lnTo>
                    <a:pt x="5394" y="294"/>
                  </a:lnTo>
                  <a:lnTo>
                    <a:pt x="5030" y="165"/>
                  </a:lnTo>
                  <a:lnTo>
                    <a:pt x="4659" y="72"/>
                  </a:lnTo>
                  <a:lnTo>
                    <a:pt x="4285" y="18"/>
                  </a:lnTo>
                  <a:lnTo>
                    <a:pt x="3909" y="0"/>
                  </a:lnTo>
                  <a:lnTo>
                    <a:pt x="3533" y="17"/>
                  </a:lnTo>
                  <a:lnTo>
                    <a:pt x="3163" y="71"/>
                  </a:lnTo>
                  <a:lnTo>
                    <a:pt x="2799" y="159"/>
                  </a:lnTo>
                  <a:lnTo>
                    <a:pt x="2445" y="283"/>
                  </a:lnTo>
                  <a:lnTo>
                    <a:pt x="2102" y="440"/>
                  </a:lnTo>
                  <a:lnTo>
                    <a:pt x="1775" y="630"/>
                  </a:lnTo>
                  <a:lnTo>
                    <a:pt x="1466" y="853"/>
                  </a:lnTo>
                  <a:lnTo>
                    <a:pt x="1177" y="1110"/>
                  </a:lnTo>
                  <a:lnTo>
                    <a:pt x="911" y="1398"/>
                  </a:lnTo>
                  <a:lnTo>
                    <a:pt x="670" y="1718"/>
                  </a:lnTo>
                  <a:lnTo>
                    <a:pt x="463" y="2059"/>
                  </a:lnTo>
                  <a:lnTo>
                    <a:pt x="295" y="2414"/>
                  </a:lnTo>
                  <a:lnTo>
                    <a:pt x="165" y="2778"/>
                  </a:lnTo>
                  <a:lnTo>
                    <a:pt x="73" y="3149"/>
                  </a:lnTo>
                  <a:lnTo>
                    <a:pt x="18" y="3523"/>
                  </a:lnTo>
                  <a:lnTo>
                    <a:pt x="0" y="3899"/>
                  </a:lnTo>
                  <a:lnTo>
                    <a:pt x="18" y="4274"/>
                  </a:lnTo>
                  <a:lnTo>
                    <a:pt x="72" y="4645"/>
                  </a:lnTo>
                  <a:lnTo>
                    <a:pt x="160" y="5009"/>
                  </a:lnTo>
                  <a:lnTo>
                    <a:pt x="284" y="5364"/>
                  </a:lnTo>
                  <a:lnTo>
                    <a:pt x="441" y="5706"/>
                  </a:lnTo>
                  <a:lnTo>
                    <a:pt x="631" y="6034"/>
                  </a:lnTo>
                  <a:lnTo>
                    <a:pt x="854" y="6343"/>
                  </a:lnTo>
                  <a:lnTo>
                    <a:pt x="1111" y="6632"/>
                  </a:lnTo>
                  <a:lnTo>
                    <a:pt x="1399" y="6898"/>
                  </a:lnTo>
                  <a:lnTo>
                    <a:pt x="1719" y="7139"/>
                  </a:lnTo>
                  <a:close/>
                </a:path>
              </a:pathLst>
            </a:custGeom>
            <a:solidFill>
              <a:srgbClr val="4e6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9440" y="182160"/>
              <a:ext cx="592200" cy="585000"/>
            </a:xfrm>
            <a:custGeom>
              <a:avLst/>
              <a:gdLst/>
              <a:ahLst/>
              <a:rect l="l" t="t" r="r" b="b"/>
              <a:pathLst>
                <a:path w="7648" h="7650">
                  <a:moveTo>
                    <a:pt x="1684" y="6994"/>
                  </a:moveTo>
                  <a:lnTo>
                    <a:pt x="2018" y="7196"/>
                  </a:lnTo>
                  <a:lnTo>
                    <a:pt x="2365" y="7360"/>
                  </a:lnTo>
                  <a:lnTo>
                    <a:pt x="2721" y="7487"/>
                  </a:lnTo>
                  <a:lnTo>
                    <a:pt x="3084" y="7577"/>
                  </a:lnTo>
                  <a:lnTo>
                    <a:pt x="3452" y="7631"/>
                  </a:lnTo>
                  <a:lnTo>
                    <a:pt x="3820" y="7650"/>
                  </a:lnTo>
                  <a:lnTo>
                    <a:pt x="4186" y="7631"/>
                  </a:lnTo>
                  <a:lnTo>
                    <a:pt x="4550" y="7579"/>
                  </a:lnTo>
                  <a:lnTo>
                    <a:pt x="4906" y="7492"/>
                  </a:lnTo>
                  <a:lnTo>
                    <a:pt x="5254" y="7372"/>
                  </a:lnTo>
                  <a:lnTo>
                    <a:pt x="5589" y="7218"/>
                  </a:lnTo>
                  <a:lnTo>
                    <a:pt x="5910" y="7031"/>
                  </a:lnTo>
                  <a:lnTo>
                    <a:pt x="6213" y="6812"/>
                  </a:lnTo>
                  <a:lnTo>
                    <a:pt x="6497" y="6561"/>
                  </a:lnTo>
                  <a:lnTo>
                    <a:pt x="6757" y="6279"/>
                  </a:lnTo>
                  <a:lnTo>
                    <a:pt x="6993" y="5967"/>
                  </a:lnTo>
                  <a:lnTo>
                    <a:pt x="7195" y="5631"/>
                  </a:lnTo>
                  <a:lnTo>
                    <a:pt x="7360" y="5284"/>
                  </a:lnTo>
                  <a:lnTo>
                    <a:pt x="7486" y="4928"/>
                  </a:lnTo>
                  <a:lnTo>
                    <a:pt x="7577" y="4565"/>
                  </a:lnTo>
                  <a:lnTo>
                    <a:pt x="7631" y="4198"/>
                  </a:lnTo>
                  <a:lnTo>
                    <a:pt x="7648" y="3829"/>
                  </a:lnTo>
                  <a:lnTo>
                    <a:pt x="7631" y="3462"/>
                  </a:lnTo>
                  <a:lnTo>
                    <a:pt x="7578" y="3099"/>
                  </a:lnTo>
                  <a:lnTo>
                    <a:pt x="7492" y="2742"/>
                  </a:lnTo>
                  <a:lnTo>
                    <a:pt x="7370" y="2395"/>
                  </a:lnTo>
                  <a:lnTo>
                    <a:pt x="7216" y="2060"/>
                  </a:lnTo>
                  <a:lnTo>
                    <a:pt x="7030" y="1739"/>
                  </a:lnTo>
                  <a:lnTo>
                    <a:pt x="6811" y="1436"/>
                  </a:lnTo>
                  <a:lnTo>
                    <a:pt x="6560" y="1153"/>
                  </a:lnTo>
                  <a:lnTo>
                    <a:pt x="6279" y="893"/>
                  </a:lnTo>
                  <a:lnTo>
                    <a:pt x="5966" y="658"/>
                  </a:lnTo>
                  <a:lnTo>
                    <a:pt x="5630" y="455"/>
                  </a:lnTo>
                  <a:lnTo>
                    <a:pt x="5284" y="290"/>
                  </a:lnTo>
                  <a:lnTo>
                    <a:pt x="4927" y="162"/>
                  </a:lnTo>
                  <a:lnTo>
                    <a:pt x="4564" y="72"/>
                  </a:lnTo>
                  <a:lnTo>
                    <a:pt x="4197" y="18"/>
                  </a:lnTo>
                  <a:lnTo>
                    <a:pt x="3828" y="0"/>
                  </a:lnTo>
                  <a:lnTo>
                    <a:pt x="3461" y="18"/>
                  </a:lnTo>
                  <a:lnTo>
                    <a:pt x="3098" y="70"/>
                  </a:lnTo>
                  <a:lnTo>
                    <a:pt x="2742" y="157"/>
                  </a:lnTo>
                  <a:lnTo>
                    <a:pt x="2394" y="277"/>
                  </a:lnTo>
                  <a:lnTo>
                    <a:pt x="2059" y="431"/>
                  </a:lnTo>
                  <a:lnTo>
                    <a:pt x="1738" y="618"/>
                  </a:lnTo>
                  <a:lnTo>
                    <a:pt x="1435" y="837"/>
                  </a:lnTo>
                  <a:lnTo>
                    <a:pt x="1152" y="1088"/>
                  </a:lnTo>
                  <a:lnTo>
                    <a:pt x="892" y="1370"/>
                  </a:lnTo>
                  <a:lnTo>
                    <a:pt x="657" y="1684"/>
                  </a:lnTo>
                  <a:lnTo>
                    <a:pt x="454" y="2018"/>
                  </a:lnTo>
                  <a:lnTo>
                    <a:pt x="289" y="2365"/>
                  </a:lnTo>
                  <a:lnTo>
                    <a:pt x="161" y="2722"/>
                  </a:lnTo>
                  <a:lnTo>
                    <a:pt x="71" y="3085"/>
                  </a:lnTo>
                  <a:lnTo>
                    <a:pt x="18" y="3453"/>
                  </a:lnTo>
                  <a:lnTo>
                    <a:pt x="0" y="3820"/>
                  </a:lnTo>
                  <a:lnTo>
                    <a:pt x="18" y="4188"/>
                  </a:lnTo>
                  <a:lnTo>
                    <a:pt x="70" y="4551"/>
                  </a:lnTo>
                  <a:lnTo>
                    <a:pt x="157" y="4908"/>
                  </a:lnTo>
                  <a:lnTo>
                    <a:pt x="277" y="5254"/>
                  </a:lnTo>
                  <a:lnTo>
                    <a:pt x="431" y="5590"/>
                  </a:lnTo>
                  <a:lnTo>
                    <a:pt x="619" y="5910"/>
                  </a:lnTo>
                  <a:lnTo>
                    <a:pt x="838" y="6213"/>
                  </a:lnTo>
                  <a:lnTo>
                    <a:pt x="1088" y="6497"/>
                  </a:lnTo>
                  <a:lnTo>
                    <a:pt x="1370" y="6758"/>
                  </a:lnTo>
                  <a:lnTo>
                    <a:pt x="1684" y="6994"/>
                  </a:lnTo>
                  <a:close/>
                </a:path>
              </a:pathLst>
            </a:custGeom>
            <a:solidFill>
              <a:srgbClr val="506b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88440" y="184680"/>
              <a:ext cx="580320" cy="573120"/>
            </a:xfrm>
            <a:custGeom>
              <a:avLst/>
              <a:gdLst/>
              <a:ahLst/>
              <a:rect l="l" t="t" r="r" b="b"/>
              <a:pathLst>
                <a:path w="7489" h="7488">
                  <a:moveTo>
                    <a:pt x="1649" y="6846"/>
                  </a:moveTo>
                  <a:lnTo>
                    <a:pt x="1976" y="7044"/>
                  </a:lnTo>
                  <a:lnTo>
                    <a:pt x="2315" y="7205"/>
                  </a:lnTo>
                  <a:lnTo>
                    <a:pt x="2665" y="7330"/>
                  </a:lnTo>
                  <a:lnTo>
                    <a:pt x="3020" y="7418"/>
                  </a:lnTo>
                  <a:lnTo>
                    <a:pt x="3380" y="7470"/>
                  </a:lnTo>
                  <a:lnTo>
                    <a:pt x="3740" y="7488"/>
                  </a:lnTo>
                  <a:lnTo>
                    <a:pt x="4099" y="7471"/>
                  </a:lnTo>
                  <a:lnTo>
                    <a:pt x="4455" y="7419"/>
                  </a:lnTo>
                  <a:lnTo>
                    <a:pt x="4804" y="7334"/>
                  </a:lnTo>
                  <a:lnTo>
                    <a:pt x="5144" y="7216"/>
                  </a:lnTo>
                  <a:lnTo>
                    <a:pt x="5473" y="7066"/>
                  </a:lnTo>
                  <a:lnTo>
                    <a:pt x="5787" y="6883"/>
                  </a:lnTo>
                  <a:lnTo>
                    <a:pt x="6083" y="6668"/>
                  </a:lnTo>
                  <a:lnTo>
                    <a:pt x="6361" y="6423"/>
                  </a:lnTo>
                  <a:lnTo>
                    <a:pt x="6616" y="6146"/>
                  </a:lnTo>
                  <a:lnTo>
                    <a:pt x="6846" y="5840"/>
                  </a:lnTo>
                  <a:lnTo>
                    <a:pt x="7044" y="5512"/>
                  </a:lnTo>
                  <a:lnTo>
                    <a:pt x="7206" y="5173"/>
                  </a:lnTo>
                  <a:lnTo>
                    <a:pt x="7330" y="4823"/>
                  </a:lnTo>
                  <a:lnTo>
                    <a:pt x="7418" y="4468"/>
                  </a:lnTo>
                  <a:lnTo>
                    <a:pt x="7470" y="4108"/>
                  </a:lnTo>
                  <a:lnTo>
                    <a:pt x="7489" y="3748"/>
                  </a:lnTo>
                  <a:lnTo>
                    <a:pt x="7472" y="3389"/>
                  </a:lnTo>
                  <a:lnTo>
                    <a:pt x="7421" y="3033"/>
                  </a:lnTo>
                  <a:lnTo>
                    <a:pt x="7335" y="2684"/>
                  </a:lnTo>
                  <a:lnTo>
                    <a:pt x="7217" y="2344"/>
                  </a:lnTo>
                  <a:lnTo>
                    <a:pt x="7067" y="2015"/>
                  </a:lnTo>
                  <a:lnTo>
                    <a:pt x="6884" y="1702"/>
                  </a:lnTo>
                  <a:lnTo>
                    <a:pt x="6669" y="1405"/>
                  </a:lnTo>
                  <a:lnTo>
                    <a:pt x="6423" y="1128"/>
                  </a:lnTo>
                  <a:lnTo>
                    <a:pt x="6148" y="872"/>
                  </a:lnTo>
                  <a:lnTo>
                    <a:pt x="5842" y="643"/>
                  </a:lnTo>
                  <a:lnTo>
                    <a:pt x="5513" y="444"/>
                  </a:lnTo>
                  <a:lnTo>
                    <a:pt x="5173" y="282"/>
                  </a:lnTo>
                  <a:lnTo>
                    <a:pt x="4824" y="158"/>
                  </a:lnTo>
                  <a:lnTo>
                    <a:pt x="4469" y="70"/>
                  </a:lnTo>
                  <a:lnTo>
                    <a:pt x="4109" y="17"/>
                  </a:lnTo>
                  <a:lnTo>
                    <a:pt x="3749" y="0"/>
                  </a:lnTo>
                  <a:lnTo>
                    <a:pt x="3389" y="17"/>
                  </a:lnTo>
                  <a:lnTo>
                    <a:pt x="3033" y="68"/>
                  </a:lnTo>
                  <a:lnTo>
                    <a:pt x="2684" y="153"/>
                  </a:lnTo>
                  <a:lnTo>
                    <a:pt x="2344" y="271"/>
                  </a:lnTo>
                  <a:lnTo>
                    <a:pt x="2017" y="422"/>
                  </a:lnTo>
                  <a:lnTo>
                    <a:pt x="1702" y="605"/>
                  </a:lnTo>
                  <a:lnTo>
                    <a:pt x="1405" y="818"/>
                  </a:lnTo>
                  <a:lnTo>
                    <a:pt x="1128" y="1064"/>
                  </a:lnTo>
                  <a:lnTo>
                    <a:pt x="873" y="1340"/>
                  </a:lnTo>
                  <a:lnTo>
                    <a:pt x="643" y="1647"/>
                  </a:lnTo>
                  <a:lnTo>
                    <a:pt x="444" y="1975"/>
                  </a:lnTo>
                  <a:lnTo>
                    <a:pt x="283" y="2314"/>
                  </a:lnTo>
                  <a:lnTo>
                    <a:pt x="158" y="2664"/>
                  </a:lnTo>
                  <a:lnTo>
                    <a:pt x="70" y="3019"/>
                  </a:lnTo>
                  <a:lnTo>
                    <a:pt x="18" y="3378"/>
                  </a:lnTo>
                  <a:lnTo>
                    <a:pt x="0" y="3740"/>
                  </a:lnTo>
                  <a:lnTo>
                    <a:pt x="18" y="4099"/>
                  </a:lnTo>
                  <a:lnTo>
                    <a:pt x="69" y="4454"/>
                  </a:lnTo>
                  <a:lnTo>
                    <a:pt x="154" y="4804"/>
                  </a:lnTo>
                  <a:lnTo>
                    <a:pt x="272" y="5143"/>
                  </a:lnTo>
                  <a:lnTo>
                    <a:pt x="423" y="5471"/>
                  </a:lnTo>
                  <a:lnTo>
                    <a:pt x="606" y="5786"/>
                  </a:lnTo>
                  <a:lnTo>
                    <a:pt x="821" y="6083"/>
                  </a:lnTo>
                  <a:lnTo>
                    <a:pt x="1066" y="6360"/>
                  </a:lnTo>
                  <a:lnTo>
                    <a:pt x="1342" y="6615"/>
                  </a:lnTo>
                  <a:lnTo>
                    <a:pt x="1649" y="6846"/>
                  </a:lnTo>
                  <a:close/>
                </a:path>
              </a:pathLst>
            </a:custGeom>
            <a:solidFill>
              <a:srgbClr val="526e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7800" y="186480"/>
              <a:ext cx="568080" cy="560880"/>
            </a:xfrm>
            <a:custGeom>
              <a:avLst/>
              <a:gdLst/>
              <a:ahLst/>
              <a:rect l="l" t="t" r="r" b="b"/>
              <a:pathLst>
                <a:path w="7328" h="7326">
                  <a:moveTo>
                    <a:pt x="1613" y="6698"/>
                  </a:moveTo>
                  <a:lnTo>
                    <a:pt x="1933" y="6891"/>
                  </a:lnTo>
                  <a:lnTo>
                    <a:pt x="2266" y="7049"/>
                  </a:lnTo>
                  <a:lnTo>
                    <a:pt x="2607" y="7171"/>
                  </a:lnTo>
                  <a:lnTo>
                    <a:pt x="2956" y="7257"/>
                  </a:lnTo>
                  <a:lnTo>
                    <a:pt x="3306" y="7309"/>
                  </a:lnTo>
                  <a:lnTo>
                    <a:pt x="3659" y="7326"/>
                  </a:lnTo>
                  <a:lnTo>
                    <a:pt x="4011" y="7309"/>
                  </a:lnTo>
                  <a:lnTo>
                    <a:pt x="4360" y="7259"/>
                  </a:lnTo>
                  <a:lnTo>
                    <a:pt x="4701" y="7176"/>
                  </a:lnTo>
                  <a:lnTo>
                    <a:pt x="5034" y="7062"/>
                  </a:lnTo>
                  <a:lnTo>
                    <a:pt x="5355" y="6914"/>
                  </a:lnTo>
                  <a:lnTo>
                    <a:pt x="5662" y="6735"/>
                  </a:lnTo>
                  <a:lnTo>
                    <a:pt x="5953" y="6525"/>
                  </a:lnTo>
                  <a:lnTo>
                    <a:pt x="6225" y="6284"/>
                  </a:lnTo>
                  <a:lnTo>
                    <a:pt x="6473" y="6014"/>
                  </a:lnTo>
                  <a:lnTo>
                    <a:pt x="6700" y="5716"/>
                  </a:lnTo>
                  <a:lnTo>
                    <a:pt x="6893" y="5395"/>
                  </a:lnTo>
                  <a:lnTo>
                    <a:pt x="7051" y="5062"/>
                  </a:lnTo>
                  <a:lnTo>
                    <a:pt x="7173" y="4721"/>
                  </a:lnTo>
                  <a:lnTo>
                    <a:pt x="7259" y="4372"/>
                  </a:lnTo>
                  <a:lnTo>
                    <a:pt x="7311" y="4021"/>
                  </a:lnTo>
                  <a:lnTo>
                    <a:pt x="7328" y="3668"/>
                  </a:lnTo>
                  <a:lnTo>
                    <a:pt x="7311" y="3316"/>
                  </a:lnTo>
                  <a:lnTo>
                    <a:pt x="7261" y="2968"/>
                  </a:lnTo>
                  <a:lnTo>
                    <a:pt x="7178" y="2626"/>
                  </a:lnTo>
                  <a:lnTo>
                    <a:pt x="7062" y="2294"/>
                  </a:lnTo>
                  <a:lnTo>
                    <a:pt x="6915" y="1973"/>
                  </a:lnTo>
                  <a:lnTo>
                    <a:pt x="6736" y="1665"/>
                  </a:lnTo>
                  <a:lnTo>
                    <a:pt x="6526" y="1375"/>
                  </a:lnTo>
                  <a:lnTo>
                    <a:pt x="6285" y="1103"/>
                  </a:lnTo>
                  <a:lnTo>
                    <a:pt x="6015" y="854"/>
                  </a:lnTo>
                  <a:lnTo>
                    <a:pt x="5717" y="629"/>
                  </a:lnTo>
                  <a:lnTo>
                    <a:pt x="5395" y="434"/>
                  </a:lnTo>
                  <a:lnTo>
                    <a:pt x="5063" y="277"/>
                  </a:lnTo>
                  <a:lnTo>
                    <a:pt x="4721" y="155"/>
                  </a:lnTo>
                  <a:lnTo>
                    <a:pt x="4373" y="69"/>
                  </a:lnTo>
                  <a:lnTo>
                    <a:pt x="4022" y="17"/>
                  </a:lnTo>
                  <a:lnTo>
                    <a:pt x="3669" y="0"/>
                  </a:lnTo>
                  <a:lnTo>
                    <a:pt x="3317" y="17"/>
                  </a:lnTo>
                  <a:lnTo>
                    <a:pt x="2968" y="66"/>
                  </a:lnTo>
                  <a:lnTo>
                    <a:pt x="2627" y="149"/>
                  </a:lnTo>
                  <a:lnTo>
                    <a:pt x="2294" y="265"/>
                  </a:lnTo>
                  <a:lnTo>
                    <a:pt x="1973" y="412"/>
                  </a:lnTo>
                  <a:lnTo>
                    <a:pt x="1666" y="592"/>
                  </a:lnTo>
                  <a:lnTo>
                    <a:pt x="1376" y="801"/>
                  </a:lnTo>
                  <a:lnTo>
                    <a:pt x="1104" y="1041"/>
                  </a:lnTo>
                  <a:lnTo>
                    <a:pt x="855" y="1312"/>
                  </a:lnTo>
                  <a:lnTo>
                    <a:pt x="630" y="1612"/>
                  </a:lnTo>
                  <a:lnTo>
                    <a:pt x="435" y="1932"/>
                  </a:lnTo>
                  <a:lnTo>
                    <a:pt x="278" y="2265"/>
                  </a:lnTo>
                  <a:lnTo>
                    <a:pt x="155" y="2606"/>
                  </a:lnTo>
                  <a:lnTo>
                    <a:pt x="69" y="2954"/>
                  </a:lnTo>
                  <a:lnTo>
                    <a:pt x="17" y="3306"/>
                  </a:lnTo>
                  <a:lnTo>
                    <a:pt x="0" y="3659"/>
                  </a:lnTo>
                  <a:lnTo>
                    <a:pt x="17" y="4010"/>
                  </a:lnTo>
                  <a:lnTo>
                    <a:pt x="67" y="4358"/>
                  </a:lnTo>
                  <a:lnTo>
                    <a:pt x="150" y="4699"/>
                  </a:lnTo>
                  <a:lnTo>
                    <a:pt x="266" y="5032"/>
                  </a:lnTo>
                  <a:lnTo>
                    <a:pt x="414" y="5353"/>
                  </a:lnTo>
                  <a:lnTo>
                    <a:pt x="592" y="5660"/>
                  </a:lnTo>
                  <a:lnTo>
                    <a:pt x="803" y="5951"/>
                  </a:lnTo>
                  <a:lnTo>
                    <a:pt x="1043" y="6223"/>
                  </a:lnTo>
                  <a:lnTo>
                    <a:pt x="1313" y="6472"/>
                  </a:lnTo>
                  <a:lnTo>
                    <a:pt x="1613" y="6698"/>
                  </a:lnTo>
                  <a:close/>
                </a:path>
              </a:pathLst>
            </a:custGeom>
            <a:solidFill>
              <a:srgbClr val="557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7160" y="189360"/>
              <a:ext cx="555840" cy="548280"/>
            </a:xfrm>
            <a:custGeom>
              <a:avLst/>
              <a:gdLst/>
              <a:ahLst/>
              <a:rect l="l" t="t" r="r" b="b"/>
              <a:pathLst>
                <a:path w="7167" h="7167">
                  <a:moveTo>
                    <a:pt x="1577" y="6552"/>
                  </a:moveTo>
                  <a:lnTo>
                    <a:pt x="1891" y="6741"/>
                  </a:lnTo>
                  <a:lnTo>
                    <a:pt x="2216" y="6896"/>
                  </a:lnTo>
                  <a:lnTo>
                    <a:pt x="2550" y="7015"/>
                  </a:lnTo>
                  <a:lnTo>
                    <a:pt x="2890" y="7100"/>
                  </a:lnTo>
                  <a:lnTo>
                    <a:pt x="3233" y="7150"/>
                  </a:lnTo>
                  <a:lnTo>
                    <a:pt x="3579" y="7167"/>
                  </a:lnTo>
                  <a:lnTo>
                    <a:pt x="3923" y="7151"/>
                  </a:lnTo>
                  <a:lnTo>
                    <a:pt x="4264" y="7102"/>
                  </a:lnTo>
                  <a:lnTo>
                    <a:pt x="4597" y="7020"/>
                  </a:lnTo>
                  <a:lnTo>
                    <a:pt x="4923" y="6907"/>
                  </a:lnTo>
                  <a:lnTo>
                    <a:pt x="5236" y="6763"/>
                  </a:lnTo>
                  <a:lnTo>
                    <a:pt x="5537" y="6588"/>
                  </a:lnTo>
                  <a:lnTo>
                    <a:pt x="5821" y="6383"/>
                  </a:lnTo>
                  <a:lnTo>
                    <a:pt x="6087" y="6148"/>
                  </a:lnTo>
                  <a:lnTo>
                    <a:pt x="6331" y="5883"/>
                  </a:lnTo>
                  <a:lnTo>
                    <a:pt x="6552" y="5591"/>
                  </a:lnTo>
                  <a:lnTo>
                    <a:pt x="6742" y="5276"/>
                  </a:lnTo>
                  <a:lnTo>
                    <a:pt x="6896" y="4951"/>
                  </a:lnTo>
                  <a:lnTo>
                    <a:pt x="7015" y="4617"/>
                  </a:lnTo>
                  <a:lnTo>
                    <a:pt x="7100" y="4277"/>
                  </a:lnTo>
                  <a:lnTo>
                    <a:pt x="7150" y="3934"/>
                  </a:lnTo>
                  <a:lnTo>
                    <a:pt x="7167" y="3588"/>
                  </a:lnTo>
                  <a:lnTo>
                    <a:pt x="7150" y="3244"/>
                  </a:lnTo>
                  <a:lnTo>
                    <a:pt x="7101" y="2904"/>
                  </a:lnTo>
                  <a:lnTo>
                    <a:pt x="7020" y="2570"/>
                  </a:lnTo>
                  <a:lnTo>
                    <a:pt x="6906" y="2245"/>
                  </a:lnTo>
                  <a:lnTo>
                    <a:pt x="6763" y="1931"/>
                  </a:lnTo>
                  <a:lnTo>
                    <a:pt x="6587" y="1630"/>
                  </a:lnTo>
                  <a:lnTo>
                    <a:pt x="6382" y="1346"/>
                  </a:lnTo>
                  <a:lnTo>
                    <a:pt x="6147" y="1080"/>
                  </a:lnTo>
                  <a:lnTo>
                    <a:pt x="5883" y="836"/>
                  </a:lnTo>
                  <a:lnTo>
                    <a:pt x="5590" y="616"/>
                  </a:lnTo>
                  <a:lnTo>
                    <a:pt x="5276" y="426"/>
                  </a:lnTo>
                  <a:lnTo>
                    <a:pt x="4950" y="271"/>
                  </a:lnTo>
                  <a:lnTo>
                    <a:pt x="4616" y="152"/>
                  </a:lnTo>
                  <a:lnTo>
                    <a:pt x="4276" y="67"/>
                  </a:lnTo>
                  <a:lnTo>
                    <a:pt x="3932" y="17"/>
                  </a:lnTo>
                  <a:lnTo>
                    <a:pt x="3586" y="0"/>
                  </a:lnTo>
                  <a:lnTo>
                    <a:pt x="3243" y="16"/>
                  </a:lnTo>
                  <a:lnTo>
                    <a:pt x="2903" y="66"/>
                  </a:lnTo>
                  <a:lnTo>
                    <a:pt x="2569" y="147"/>
                  </a:lnTo>
                  <a:lnTo>
                    <a:pt x="2244" y="260"/>
                  </a:lnTo>
                  <a:lnTo>
                    <a:pt x="1929" y="404"/>
                  </a:lnTo>
                  <a:lnTo>
                    <a:pt x="1629" y="579"/>
                  </a:lnTo>
                  <a:lnTo>
                    <a:pt x="1345" y="784"/>
                  </a:lnTo>
                  <a:lnTo>
                    <a:pt x="1079" y="1019"/>
                  </a:lnTo>
                  <a:lnTo>
                    <a:pt x="836" y="1284"/>
                  </a:lnTo>
                  <a:lnTo>
                    <a:pt x="616" y="1577"/>
                  </a:lnTo>
                  <a:lnTo>
                    <a:pt x="426" y="1891"/>
                  </a:lnTo>
                  <a:lnTo>
                    <a:pt x="272" y="2216"/>
                  </a:lnTo>
                  <a:lnTo>
                    <a:pt x="151" y="2550"/>
                  </a:lnTo>
                  <a:lnTo>
                    <a:pt x="67" y="2890"/>
                  </a:lnTo>
                  <a:lnTo>
                    <a:pt x="16" y="3234"/>
                  </a:lnTo>
                  <a:lnTo>
                    <a:pt x="0" y="3580"/>
                  </a:lnTo>
                  <a:lnTo>
                    <a:pt x="16" y="3923"/>
                  </a:lnTo>
                  <a:lnTo>
                    <a:pt x="65" y="4263"/>
                  </a:lnTo>
                  <a:lnTo>
                    <a:pt x="147" y="4598"/>
                  </a:lnTo>
                  <a:lnTo>
                    <a:pt x="260" y="4924"/>
                  </a:lnTo>
                  <a:lnTo>
                    <a:pt x="403" y="5237"/>
                  </a:lnTo>
                  <a:lnTo>
                    <a:pt x="579" y="5538"/>
                  </a:lnTo>
                  <a:lnTo>
                    <a:pt x="784" y="5822"/>
                  </a:lnTo>
                  <a:lnTo>
                    <a:pt x="1019" y="6088"/>
                  </a:lnTo>
                  <a:lnTo>
                    <a:pt x="1284" y="6331"/>
                  </a:lnTo>
                  <a:lnTo>
                    <a:pt x="1577" y="6552"/>
                  </a:lnTo>
                  <a:close/>
                </a:path>
              </a:pathLst>
            </a:custGeom>
            <a:solidFill>
              <a:srgbClr val="577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6520" y="191880"/>
              <a:ext cx="542880" cy="535320"/>
            </a:xfrm>
            <a:custGeom>
              <a:avLst/>
              <a:gdLst/>
              <a:ahLst/>
              <a:rect l="l" t="t" r="r" b="b"/>
              <a:pathLst>
                <a:path w="7005" h="7006">
                  <a:moveTo>
                    <a:pt x="1541" y="6405"/>
                  </a:moveTo>
                  <a:lnTo>
                    <a:pt x="1847" y="6590"/>
                  </a:lnTo>
                  <a:lnTo>
                    <a:pt x="2165" y="6741"/>
                  </a:lnTo>
                  <a:lnTo>
                    <a:pt x="2492" y="6857"/>
                  </a:lnTo>
                  <a:lnTo>
                    <a:pt x="2824" y="6940"/>
                  </a:lnTo>
                  <a:lnTo>
                    <a:pt x="3161" y="6990"/>
                  </a:lnTo>
                  <a:lnTo>
                    <a:pt x="3498" y="7006"/>
                  </a:lnTo>
                  <a:lnTo>
                    <a:pt x="3834" y="6990"/>
                  </a:lnTo>
                  <a:lnTo>
                    <a:pt x="4167" y="6942"/>
                  </a:lnTo>
                  <a:lnTo>
                    <a:pt x="4494" y="6862"/>
                  </a:lnTo>
                  <a:lnTo>
                    <a:pt x="4812" y="6752"/>
                  </a:lnTo>
                  <a:lnTo>
                    <a:pt x="5120" y="6611"/>
                  </a:lnTo>
                  <a:lnTo>
                    <a:pt x="5413" y="6439"/>
                  </a:lnTo>
                  <a:lnTo>
                    <a:pt x="5690" y="6238"/>
                  </a:lnTo>
                  <a:lnTo>
                    <a:pt x="5950" y="6009"/>
                  </a:lnTo>
                  <a:lnTo>
                    <a:pt x="6189" y="5750"/>
                  </a:lnTo>
                  <a:lnTo>
                    <a:pt x="6405" y="5465"/>
                  </a:lnTo>
                  <a:lnTo>
                    <a:pt x="6590" y="5157"/>
                  </a:lnTo>
                  <a:lnTo>
                    <a:pt x="6741" y="4839"/>
                  </a:lnTo>
                  <a:lnTo>
                    <a:pt x="6857" y="4513"/>
                  </a:lnTo>
                  <a:lnTo>
                    <a:pt x="6940" y="4181"/>
                  </a:lnTo>
                  <a:lnTo>
                    <a:pt x="6990" y="3845"/>
                  </a:lnTo>
                  <a:lnTo>
                    <a:pt x="7005" y="3507"/>
                  </a:lnTo>
                  <a:lnTo>
                    <a:pt x="6990" y="3171"/>
                  </a:lnTo>
                  <a:lnTo>
                    <a:pt x="6942" y="2839"/>
                  </a:lnTo>
                  <a:lnTo>
                    <a:pt x="6862" y="2512"/>
                  </a:lnTo>
                  <a:lnTo>
                    <a:pt x="6751" y="2193"/>
                  </a:lnTo>
                  <a:lnTo>
                    <a:pt x="6610" y="1887"/>
                  </a:lnTo>
                  <a:lnTo>
                    <a:pt x="6439" y="1593"/>
                  </a:lnTo>
                  <a:lnTo>
                    <a:pt x="6238" y="1315"/>
                  </a:lnTo>
                  <a:lnTo>
                    <a:pt x="6008" y="1056"/>
                  </a:lnTo>
                  <a:lnTo>
                    <a:pt x="5750" y="817"/>
                  </a:lnTo>
                  <a:lnTo>
                    <a:pt x="5464" y="602"/>
                  </a:lnTo>
                  <a:lnTo>
                    <a:pt x="5157" y="416"/>
                  </a:lnTo>
                  <a:lnTo>
                    <a:pt x="4839" y="265"/>
                  </a:lnTo>
                  <a:lnTo>
                    <a:pt x="4512" y="149"/>
                  </a:lnTo>
                  <a:lnTo>
                    <a:pt x="4180" y="66"/>
                  </a:lnTo>
                  <a:lnTo>
                    <a:pt x="3844" y="17"/>
                  </a:lnTo>
                  <a:lnTo>
                    <a:pt x="3507" y="0"/>
                  </a:lnTo>
                  <a:lnTo>
                    <a:pt x="3170" y="16"/>
                  </a:lnTo>
                  <a:lnTo>
                    <a:pt x="2838" y="65"/>
                  </a:lnTo>
                  <a:lnTo>
                    <a:pt x="2511" y="144"/>
                  </a:lnTo>
                  <a:lnTo>
                    <a:pt x="2193" y="254"/>
                  </a:lnTo>
                  <a:lnTo>
                    <a:pt x="1886" y="396"/>
                  </a:lnTo>
                  <a:lnTo>
                    <a:pt x="1592" y="567"/>
                  </a:lnTo>
                  <a:lnTo>
                    <a:pt x="1315" y="767"/>
                  </a:lnTo>
                  <a:lnTo>
                    <a:pt x="1055" y="996"/>
                  </a:lnTo>
                  <a:lnTo>
                    <a:pt x="816" y="1255"/>
                  </a:lnTo>
                  <a:lnTo>
                    <a:pt x="601" y="1542"/>
                  </a:lnTo>
                  <a:lnTo>
                    <a:pt x="415" y="1848"/>
                  </a:lnTo>
                  <a:lnTo>
                    <a:pt x="264" y="2166"/>
                  </a:lnTo>
                  <a:lnTo>
                    <a:pt x="148" y="2492"/>
                  </a:lnTo>
                  <a:lnTo>
                    <a:pt x="65" y="2825"/>
                  </a:lnTo>
                  <a:lnTo>
                    <a:pt x="17" y="3162"/>
                  </a:lnTo>
                  <a:lnTo>
                    <a:pt x="0" y="3499"/>
                  </a:lnTo>
                  <a:lnTo>
                    <a:pt x="16" y="3835"/>
                  </a:lnTo>
                  <a:lnTo>
                    <a:pt x="64" y="4168"/>
                  </a:lnTo>
                  <a:lnTo>
                    <a:pt x="143" y="4495"/>
                  </a:lnTo>
                  <a:lnTo>
                    <a:pt x="254" y="4813"/>
                  </a:lnTo>
                  <a:lnTo>
                    <a:pt x="395" y="5120"/>
                  </a:lnTo>
                  <a:lnTo>
                    <a:pt x="566" y="5413"/>
                  </a:lnTo>
                  <a:lnTo>
                    <a:pt x="766" y="5691"/>
                  </a:lnTo>
                  <a:lnTo>
                    <a:pt x="996" y="5950"/>
                  </a:lnTo>
                  <a:lnTo>
                    <a:pt x="1254" y="6190"/>
                  </a:lnTo>
                  <a:lnTo>
                    <a:pt x="1541" y="6405"/>
                  </a:lnTo>
                  <a:close/>
                </a:path>
              </a:pathLst>
            </a:custGeom>
            <a:solidFill>
              <a:srgbClr val="5a76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26600" y="194040"/>
              <a:ext cx="529920" cy="524160"/>
            </a:xfrm>
            <a:custGeom>
              <a:avLst/>
              <a:gdLst/>
              <a:ahLst/>
              <a:rect l="l" t="t" r="r" b="b"/>
              <a:pathLst>
                <a:path w="6845" h="6844">
                  <a:moveTo>
                    <a:pt x="1506" y="6259"/>
                  </a:moveTo>
                  <a:lnTo>
                    <a:pt x="1806" y="6439"/>
                  </a:lnTo>
                  <a:lnTo>
                    <a:pt x="2116" y="6586"/>
                  </a:lnTo>
                  <a:lnTo>
                    <a:pt x="2435" y="6700"/>
                  </a:lnTo>
                  <a:lnTo>
                    <a:pt x="2760" y="6781"/>
                  </a:lnTo>
                  <a:lnTo>
                    <a:pt x="3088" y="6828"/>
                  </a:lnTo>
                  <a:lnTo>
                    <a:pt x="3419" y="6844"/>
                  </a:lnTo>
                  <a:lnTo>
                    <a:pt x="3747" y="6829"/>
                  </a:lnTo>
                  <a:lnTo>
                    <a:pt x="4071" y="6783"/>
                  </a:lnTo>
                  <a:lnTo>
                    <a:pt x="4391" y="6704"/>
                  </a:lnTo>
                  <a:lnTo>
                    <a:pt x="4702" y="6597"/>
                  </a:lnTo>
                  <a:lnTo>
                    <a:pt x="5002" y="6458"/>
                  </a:lnTo>
                  <a:lnTo>
                    <a:pt x="5289" y="6292"/>
                  </a:lnTo>
                  <a:lnTo>
                    <a:pt x="5560" y="6096"/>
                  </a:lnTo>
                  <a:lnTo>
                    <a:pt x="5814" y="5871"/>
                  </a:lnTo>
                  <a:lnTo>
                    <a:pt x="6047" y="5619"/>
                  </a:lnTo>
                  <a:lnTo>
                    <a:pt x="6258" y="5339"/>
                  </a:lnTo>
                  <a:lnTo>
                    <a:pt x="6439" y="5038"/>
                  </a:lnTo>
                  <a:lnTo>
                    <a:pt x="6586" y="4728"/>
                  </a:lnTo>
                  <a:lnTo>
                    <a:pt x="6700" y="4409"/>
                  </a:lnTo>
                  <a:lnTo>
                    <a:pt x="6780" y="4085"/>
                  </a:lnTo>
                  <a:lnTo>
                    <a:pt x="6829" y="3756"/>
                  </a:lnTo>
                  <a:lnTo>
                    <a:pt x="6845" y="3427"/>
                  </a:lnTo>
                  <a:lnTo>
                    <a:pt x="6829" y="3097"/>
                  </a:lnTo>
                  <a:lnTo>
                    <a:pt x="6782" y="2773"/>
                  </a:lnTo>
                  <a:lnTo>
                    <a:pt x="6705" y="2454"/>
                  </a:lnTo>
                  <a:lnTo>
                    <a:pt x="6596" y="2142"/>
                  </a:lnTo>
                  <a:lnTo>
                    <a:pt x="6459" y="1843"/>
                  </a:lnTo>
                  <a:lnTo>
                    <a:pt x="6291" y="1556"/>
                  </a:lnTo>
                  <a:lnTo>
                    <a:pt x="6096" y="1284"/>
                  </a:lnTo>
                  <a:lnTo>
                    <a:pt x="5871" y="1031"/>
                  </a:lnTo>
                  <a:lnTo>
                    <a:pt x="5618" y="798"/>
                  </a:lnTo>
                  <a:lnTo>
                    <a:pt x="5339" y="588"/>
                  </a:lnTo>
                  <a:lnTo>
                    <a:pt x="5039" y="406"/>
                  </a:lnTo>
                  <a:lnTo>
                    <a:pt x="4727" y="259"/>
                  </a:lnTo>
                  <a:lnTo>
                    <a:pt x="4408" y="145"/>
                  </a:lnTo>
                  <a:lnTo>
                    <a:pt x="4084" y="64"/>
                  </a:lnTo>
                  <a:lnTo>
                    <a:pt x="3756" y="16"/>
                  </a:lnTo>
                  <a:lnTo>
                    <a:pt x="3426" y="0"/>
                  </a:lnTo>
                  <a:lnTo>
                    <a:pt x="3098" y="15"/>
                  </a:lnTo>
                  <a:lnTo>
                    <a:pt x="2772" y="63"/>
                  </a:lnTo>
                  <a:lnTo>
                    <a:pt x="2453" y="140"/>
                  </a:lnTo>
                  <a:lnTo>
                    <a:pt x="2143" y="248"/>
                  </a:lnTo>
                  <a:lnTo>
                    <a:pt x="1843" y="385"/>
                  </a:lnTo>
                  <a:lnTo>
                    <a:pt x="1556" y="553"/>
                  </a:lnTo>
                  <a:lnTo>
                    <a:pt x="1285" y="749"/>
                  </a:lnTo>
                  <a:lnTo>
                    <a:pt x="1031" y="973"/>
                  </a:lnTo>
                  <a:lnTo>
                    <a:pt x="798" y="1225"/>
                  </a:lnTo>
                  <a:lnTo>
                    <a:pt x="588" y="1506"/>
                  </a:lnTo>
                  <a:lnTo>
                    <a:pt x="406" y="1805"/>
                  </a:lnTo>
                  <a:lnTo>
                    <a:pt x="258" y="2116"/>
                  </a:lnTo>
                  <a:lnTo>
                    <a:pt x="144" y="2435"/>
                  </a:lnTo>
                  <a:lnTo>
                    <a:pt x="64" y="2759"/>
                  </a:lnTo>
                  <a:lnTo>
                    <a:pt x="16" y="3088"/>
                  </a:lnTo>
                  <a:lnTo>
                    <a:pt x="0" y="3418"/>
                  </a:lnTo>
                  <a:lnTo>
                    <a:pt x="16" y="3747"/>
                  </a:lnTo>
                  <a:lnTo>
                    <a:pt x="62" y="4072"/>
                  </a:lnTo>
                  <a:lnTo>
                    <a:pt x="140" y="4391"/>
                  </a:lnTo>
                  <a:lnTo>
                    <a:pt x="249" y="4702"/>
                  </a:lnTo>
                  <a:lnTo>
                    <a:pt x="386" y="5002"/>
                  </a:lnTo>
                  <a:lnTo>
                    <a:pt x="553" y="5289"/>
                  </a:lnTo>
                  <a:lnTo>
                    <a:pt x="749" y="5560"/>
                  </a:lnTo>
                  <a:lnTo>
                    <a:pt x="974" y="5814"/>
                  </a:lnTo>
                  <a:lnTo>
                    <a:pt x="1226" y="6047"/>
                  </a:lnTo>
                  <a:lnTo>
                    <a:pt x="1506" y="6259"/>
                  </a:lnTo>
                  <a:close/>
                </a:path>
              </a:pathLst>
            </a:custGeom>
            <a:solidFill>
              <a:srgbClr val="5c7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35960" y="196560"/>
              <a:ext cx="517680" cy="511560"/>
            </a:xfrm>
            <a:custGeom>
              <a:avLst/>
              <a:gdLst/>
              <a:ahLst/>
              <a:rect l="l" t="t" r="r" b="b"/>
              <a:pathLst>
                <a:path w="6684" h="6684">
                  <a:moveTo>
                    <a:pt x="1471" y="6112"/>
                  </a:moveTo>
                  <a:lnTo>
                    <a:pt x="1764" y="6288"/>
                  </a:lnTo>
                  <a:lnTo>
                    <a:pt x="2067" y="6432"/>
                  </a:lnTo>
                  <a:lnTo>
                    <a:pt x="2378" y="6542"/>
                  </a:lnTo>
                  <a:lnTo>
                    <a:pt x="2695" y="6621"/>
                  </a:lnTo>
                  <a:lnTo>
                    <a:pt x="3016" y="6669"/>
                  </a:lnTo>
                  <a:lnTo>
                    <a:pt x="3338" y="6684"/>
                  </a:lnTo>
                  <a:lnTo>
                    <a:pt x="3659" y="6669"/>
                  </a:lnTo>
                  <a:lnTo>
                    <a:pt x="3976" y="6623"/>
                  </a:lnTo>
                  <a:lnTo>
                    <a:pt x="4287" y="6547"/>
                  </a:lnTo>
                  <a:lnTo>
                    <a:pt x="4592" y="6441"/>
                  </a:lnTo>
                  <a:lnTo>
                    <a:pt x="4885" y="6307"/>
                  </a:lnTo>
                  <a:lnTo>
                    <a:pt x="5165" y="6144"/>
                  </a:lnTo>
                  <a:lnTo>
                    <a:pt x="5430" y="5952"/>
                  </a:lnTo>
                  <a:lnTo>
                    <a:pt x="5678" y="5733"/>
                  </a:lnTo>
                  <a:lnTo>
                    <a:pt x="5906" y="5487"/>
                  </a:lnTo>
                  <a:lnTo>
                    <a:pt x="6112" y="5213"/>
                  </a:lnTo>
                  <a:lnTo>
                    <a:pt x="6288" y="4920"/>
                  </a:lnTo>
                  <a:lnTo>
                    <a:pt x="6432" y="4617"/>
                  </a:lnTo>
                  <a:lnTo>
                    <a:pt x="6542" y="4306"/>
                  </a:lnTo>
                  <a:lnTo>
                    <a:pt x="6621" y="3989"/>
                  </a:lnTo>
                  <a:lnTo>
                    <a:pt x="6669" y="3668"/>
                  </a:lnTo>
                  <a:lnTo>
                    <a:pt x="6684" y="3346"/>
                  </a:lnTo>
                  <a:lnTo>
                    <a:pt x="6669" y="3025"/>
                  </a:lnTo>
                  <a:lnTo>
                    <a:pt x="6623" y="2708"/>
                  </a:lnTo>
                  <a:lnTo>
                    <a:pt x="6547" y="2396"/>
                  </a:lnTo>
                  <a:lnTo>
                    <a:pt x="6441" y="2092"/>
                  </a:lnTo>
                  <a:lnTo>
                    <a:pt x="6307" y="1800"/>
                  </a:lnTo>
                  <a:lnTo>
                    <a:pt x="6144" y="1519"/>
                  </a:lnTo>
                  <a:lnTo>
                    <a:pt x="5952" y="1255"/>
                  </a:lnTo>
                  <a:lnTo>
                    <a:pt x="5733" y="1007"/>
                  </a:lnTo>
                  <a:lnTo>
                    <a:pt x="5487" y="779"/>
                  </a:lnTo>
                  <a:lnTo>
                    <a:pt x="5213" y="574"/>
                  </a:lnTo>
                  <a:lnTo>
                    <a:pt x="4920" y="397"/>
                  </a:lnTo>
                  <a:lnTo>
                    <a:pt x="4617" y="252"/>
                  </a:lnTo>
                  <a:lnTo>
                    <a:pt x="4306" y="142"/>
                  </a:lnTo>
                  <a:lnTo>
                    <a:pt x="3989" y="63"/>
                  </a:lnTo>
                  <a:lnTo>
                    <a:pt x="3668" y="15"/>
                  </a:lnTo>
                  <a:lnTo>
                    <a:pt x="3346" y="0"/>
                  </a:lnTo>
                  <a:lnTo>
                    <a:pt x="3025" y="15"/>
                  </a:lnTo>
                  <a:lnTo>
                    <a:pt x="2708" y="61"/>
                  </a:lnTo>
                  <a:lnTo>
                    <a:pt x="2396" y="137"/>
                  </a:lnTo>
                  <a:lnTo>
                    <a:pt x="2092" y="243"/>
                  </a:lnTo>
                  <a:lnTo>
                    <a:pt x="1800" y="376"/>
                  </a:lnTo>
                  <a:lnTo>
                    <a:pt x="1519" y="540"/>
                  </a:lnTo>
                  <a:lnTo>
                    <a:pt x="1254" y="732"/>
                  </a:lnTo>
                  <a:lnTo>
                    <a:pt x="1007" y="951"/>
                  </a:lnTo>
                  <a:lnTo>
                    <a:pt x="779" y="1197"/>
                  </a:lnTo>
                  <a:lnTo>
                    <a:pt x="574" y="1470"/>
                  </a:lnTo>
                  <a:lnTo>
                    <a:pt x="396" y="1763"/>
                  </a:lnTo>
                  <a:lnTo>
                    <a:pt x="252" y="2066"/>
                  </a:lnTo>
                  <a:lnTo>
                    <a:pt x="141" y="2377"/>
                  </a:lnTo>
                  <a:lnTo>
                    <a:pt x="63" y="2695"/>
                  </a:lnTo>
                  <a:lnTo>
                    <a:pt x="15" y="3016"/>
                  </a:lnTo>
                  <a:lnTo>
                    <a:pt x="0" y="3338"/>
                  </a:lnTo>
                  <a:lnTo>
                    <a:pt x="15" y="3659"/>
                  </a:lnTo>
                  <a:lnTo>
                    <a:pt x="61" y="3976"/>
                  </a:lnTo>
                  <a:lnTo>
                    <a:pt x="137" y="4288"/>
                  </a:lnTo>
                  <a:lnTo>
                    <a:pt x="242" y="4592"/>
                  </a:lnTo>
                  <a:lnTo>
                    <a:pt x="377" y="4885"/>
                  </a:lnTo>
                  <a:lnTo>
                    <a:pt x="540" y="5165"/>
                  </a:lnTo>
                  <a:lnTo>
                    <a:pt x="731" y="5430"/>
                  </a:lnTo>
                  <a:lnTo>
                    <a:pt x="950" y="5678"/>
                  </a:lnTo>
                  <a:lnTo>
                    <a:pt x="1197" y="5906"/>
                  </a:lnTo>
                  <a:lnTo>
                    <a:pt x="1471" y="6112"/>
                  </a:lnTo>
                  <a:close/>
                </a:path>
              </a:pathLst>
            </a:custGeom>
            <a:solidFill>
              <a:srgbClr val="5f7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5320" y="199440"/>
              <a:ext cx="505080" cy="498600"/>
            </a:xfrm>
            <a:custGeom>
              <a:avLst/>
              <a:gdLst/>
              <a:ahLst/>
              <a:rect l="l" t="t" r="r" b="b"/>
              <a:pathLst>
                <a:path w="6523" h="6523">
                  <a:moveTo>
                    <a:pt x="1436" y="5964"/>
                  </a:moveTo>
                  <a:lnTo>
                    <a:pt x="1721" y="6136"/>
                  </a:lnTo>
                  <a:lnTo>
                    <a:pt x="2017" y="6276"/>
                  </a:lnTo>
                  <a:lnTo>
                    <a:pt x="2321" y="6385"/>
                  </a:lnTo>
                  <a:lnTo>
                    <a:pt x="2630" y="6462"/>
                  </a:lnTo>
                  <a:lnTo>
                    <a:pt x="2944" y="6508"/>
                  </a:lnTo>
                  <a:lnTo>
                    <a:pt x="3258" y="6523"/>
                  </a:lnTo>
                  <a:lnTo>
                    <a:pt x="3571" y="6508"/>
                  </a:lnTo>
                  <a:lnTo>
                    <a:pt x="3881" y="6464"/>
                  </a:lnTo>
                  <a:lnTo>
                    <a:pt x="4185" y="6390"/>
                  </a:lnTo>
                  <a:lnTo>
                    <a:pt x="4481" y="6287"/>
                  </a:lnTo>
                  <a:lnTo>
                    <a:pt x="4767" y="6156"/>
                  </a:lnTo>
                  <a:lnTo>
                    <a:pt x="5040" y="5997"/>
                  </a:lnTo>
                  <a:lnTo>
                    <a:pt x="5299" y="5810"/>
                  </a:lnTo>
                  <a:lnTo>
                    <a:pt x="5541" y="5596"/>
                  </a:lnTo>
                  <a:lnTo>
                    <a:pt x="5763" y="5356"/>
                  </a:lnTo>
                  <a:lnTo>
                    <a:pt x="5964" y="5089"/>
                  </a:lnTo>
                  <a:lnTo>
                    <a:pt x="6136" y="4803"/>
                  </a:lnTo>
                  <a:lnTo>
                    <a:pt x="6277" y="4506"/>
                  </a:lnTo>
                  <a:lnTo>
                    <a:pt x="6385" y="4202"/>
                  </a:lnTo>
                  <a:lnTo>
                    <a:pt x="6462" y="3893"/>
                  </a:lnTo>
                  <a:lnTo>
                    <a:pt x="6507" y="3579"/>
                  </a:lnTo>
                  <a:lnTo>
                    <a:pt x="6523" y="3266"/>
                  </a:lnTo>
                  <a:lnTo>
                    <a:pt x="6509" y="2952"/>
                  </a:lnTo>
                  <a:lnTo>
                    <a:pt x="6464" y="2643"/>
                  </a:lnTo>
                  <a:lnTo>
                    <a:pt x="6389" y="2339"/>
                  </a:lnTo>
                  <a:lnTo>
                    <a:pt x="6286" y="2042"/>
                  </a:lnTo>
                  <a:lnTo>
                    <a:pt x="6156" y="1756"/>
                  </a:lnTo>
                  <a:lnTo>
                    <a:pt x="5996" y="1483"/>
                  </a:lnTo>
                  <a:lnTo>
                    <a:pt x="5809" y="1225"/>
                  </a:lnTo>
                  <a:lnTo>
                    <a:pt x="5595" y="982"/>
                  </a:lnTo>
                  <a:lnTo>
                    <a:pt x="5355" y="760"/>
                  </a:lnTo>
                  <a:lnTo>
                    <a:pt x="5088" y="560"/>
                  </a:lnTo>
                  <a:lnTo>
                    <a:pt x="4802" y="387"/>
                  </a:lnTo>
                  <a:lnTo>
                    <a:pt x="4506" y="247"/>
                  </a:lnTo>
                  <a:lnTo>
                    <a:pt x="4202" y="138"/>
                  </a:lnTo>
                  <a:lnTo>
                    <a:pt x="3892" y="61"/>
                  </a:lnTo>
                  <a:lnTo>
                    <a:pt x="3580" y="15"/>
                  </a:lnTo>
                  <a:lnTo>
                    <a:pt x="3265" y="0"/>
                  </a:lnTo>
                  <a:lnTo>
                    <a:pt x="2952" y="15"/>
                  </a:lnTo>
                  <a:lnTo>
                    <a:pt x="2642" y="60"/>
                  </a:lnTo>
                  <a:lnTo>
                    <a:pt x="2338" y="134"/>
                  </a:lnTo>
                  <a:lnTo>
                    <a:pt x="2042" y="236"/>
                  </a:lnTo>
                  <a:lnTo>
                    <a:pt x="1756" y="368"/>
                  </a:lnTo>
                  <a:lnTo>
                    <a:pt x="1482" y="527"/>
                  </a:lnTo>
                  <a:lnTo>
                    <a:pt x="1224" y="713"/>
                  </a:lnTo>
                  <a:lnTo>
                    <a:pt x="982" y="927"/>
                  </a:lnTo>
                  <a:lnTo>
                    <a:pt x="759" y="1168"/>
                  </a:lnTo>
                  <a:lnTo>
                    <a:pt x="559" y="1435"/>
                  </a:lnTo>
                  <a:lnTo>
                    <a:pt x="386" y="1720"/>
                  </a:lnTo>
                  <a:lnTo>
                    <a:pt x="246" y="2017"/>
                  </a:lnTo>
                  <a:lnTo>
                    <a:pt x="137" y="2321"/>
                  </a:lnTo>
                  <a:lnTo>
                    <a:pt x="61" y="2630"/>
                  </a:lnTo>
                  <a:lnTo>
                    <a:pt x="15" y="2944"/>
                  </a:lnTo>
                  <a:lnTo>
                    <a:pt x="0" y="3257"/>
                  </a:lnTo>
                  <a:lnTo>
                    <a:pt x="15" y="3571"/>
                  </a:lnTo>
                  <a:lnTo>
                    <a:pt x="60" y="3881"/>
                  </a:lnTo>
                  <a:lnTo>
                    <a:pt x="134" y="4185"/>
                  </a:lnTo>
                  <a:lnTo>
                    <a:pt x="237" y="4481"/>
                  </a:lnTo>
                  <a:lnTo>
                    <a:pt x="368" y="4767"/>
                  </a:lnTo>
                  <a:lnTo>
                    <a:pt x="527" y="5040"/>
                  </a:lnTo>
                  <a:lnTo>
                    <a:pt x="715" y="5299"/>
                  </a:lnTo>
                  <a:lnTo>
                    <a:pt x="928" y="5541"/>
                  </a:lnTo>
                  <a:lnTo>
                    <a:pt x="1169" y="5763"/>
                  </a:lnTo>
                  <a:lnTo>
                    <a:pt x="1436" y="5964"/>
                  </a:lnTo>
                  <a:close/>
                </a:path>
              </a:pathLst>
            </a:custGeom>
            <a:solidFill>
              <a:srgbClr val="617e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4680" y="201600"/>
              <a:ext cx="492840" cy="487440"/>
            </a:xfrm>
            <a:custGeom>
              <a:avLst/>
              <a:gdLst/>
              <a:ahLst/>
              <a:rect l="l" t="t" r="r" b="b"/>
              <a:pathLst>
                <a:path w="6364" h="6362">
                  <a:moveTo>
                    <a:pt x="1401" y="5817"/>
                  </a:moveTo>
                  <a:lnTo>
                    <a:pt x="1680" y="5985"/>
                  </a:lnTo>
                  <a:lnTo>
                    <a:pt x="1968" y="6122"/>
                  </a:lnTo>
                  <a:lnTo>
                    <a:pt x="2265" y="6228"/>
                  </a:lnTo>
                  <a:lnTo>
                    <a:pt x="2567" y="6303"/>
                  </a:lnTo>
                  <a:lnTo>
                    <a:pt x="2872" y="6348"/>
                  </a:lnTo>
                  <a:lnTo>
                    <a:pt x="3179" y="6362"/>
                  </a:lnTo>
                  <a:lnTo>
                    <a:pt x="3484" y="6349"/>
                  </a:lnTo>
                  <a:lnTo>
                    <a:pt x="3786" y="6305"/>
                  </a:lnTo>
                  <a:lnTo>
                    <a:pt x="4083" y="6233"/>
                  </a:lnTo>
                  <a:lnTo>
                    <a:pt x="4372" y="6132"/>
                  </a:lnTo>
                  <a:lnTo>
                    <a:pt x="4650" y="6004"/>
                  </a:lnTo>
                  <a:lnTo>
                    <a:pt x="4917" y="5849"/>
                  </a:lnTo>
                  <a:lnTo>
                    <a:pt x="5170" y="5666"/>
                  </a:lnTo>
                  <a:lnTo>
                    <a:pt x="5405" y="5458"/>
                  </a:lnTo>
                  <a:lnTo>
                    <a:pt x="5622" y="5223"/>
                  </a:lnTo>
                  <a:lnTo>
                    <a:pt x="5819" y="4963"/>
                  </a:lnTo>
                  <a:lnTo>
                    <a:pt x="5987" y="4684"/>
                  </a:lnTo>
                  <a:lnTo>
                    <a:pt x="6124" y="4396"/>
                  </a:lnTo>
                  <a:lnTo>
                    <a:pt x="6229" y="4099"/>
                  </a:lnTo>
                  <a:lnTo>
                    <a:pt x="6305" y="3797"/>
                  </a:lnTo>
                  <a:lnTo>
                    <a:pt x="6349" y="3491"/>
                  </a:lnTo>
                  <a:lnTo>
                    <a:pt x="6364" y="3185"/>
                  </a:lnTo>
                  <a:lnTo>
                    <a:pt x="6349" y="2880"/>
                  </a:lnTo>
                  <a:lnTo>
                    <a:pt x="6306" y="2578"/>
                  </a:lnTo>
                  <a:lnTo>
                    <a:pt x="6233" y="2281"/>
                  </a:lnTo>
                  <a:lnTo>
                    <a:pt x="6133" y="1992"/>
                  </a:lnTo>
                  <a:lnTo>
                    <a:pt x="6005" y="1714"/>
                  </a:lnTo>
                  <a:lnTo>
                    <a:pt x="5850" y="1447"/>
                  </a:lnTo>
                  <a:lnTo>
                    <a:pt x="5668" y="1194"/>
                  </a:lnTo>
                  <a:lnTo>
                    <a:pt x="5458" y="959"/>
                  </a:lnTo>
                  <a:lnTo>
                    <a:pt x="5223" y="742"/>
                  </a:lnTo>
                  <a:lnTo>
                    <a:pt x="4964" y="546"/>
                  </a:lnTo>
                  <a:lnTo>
                    <a:pt x="4685" y="377"/>
                  </a:lnTo>
                  <a:lnTo>
                    <a:pt x="4396" y="240"/>
                  </a:lnTo>
                  <a:lnTo>
                    <a:pt x="4100" y="134"/>
                  </a:lnTo>
                  <a:lnTo>
                    <a:pt x="3798" y="59"/>
                  </a:lnTo>
                  <a:lnTo>
                    <a:pt x="3493" y="15"/>
                  </a:lnTo>
                  <a:lnTo>
                    <a:pt x="3186" y="0"/>
                  </a:lnTo>
                  <a:lnTo>
                    <a:pt x="2880" y="14"/>
                  </a:lnTo>
                  <a:lnTo>
                    <a:pt x="2578" y="57"/>
                  </a:lnTo>
                  <a:lnTo>
                    <a:pt x="2282" y="130"/>
                  </a:lnTo>
                  <a:lnTo>
                    <a:pt x="1993" y="231"/>
                  </a:lnTo>
                  <a:lnTo>
                    <a:pt x="1714" y="358"/>
                  </a:lnTo>
                  <a:lnTo>
                    <a:pt x="1447" y="513"/>
                  </a:lnTo>
                  <a:lnTo>
                    <a:pt x="1195" y="696"/>
                  </a:lnTo>
                  <a:lnTo>
                    <a:pt x="959" y="905"/>
                  </a:lnTo>
                  <a:lnTo>
                    <a:pt x="742" y="1140"/>
                  </a:lnTo>
                  <a:lnTo>
                    <a:pt x="547" y="1400"/>
                  </a:lnTo>
                  <a:lnTo>
                    <a:pt x="378" y="1679"/>
                  </a:lnTo>
                  <a:lnTo>
                    <a:pt x="241" y="1967"/>
                  </a:lnTo>
                  <a:lnTo>
                    <a:pt x="135" y="2263"/>
                  </a:lnTo>
                  <a:lnTo>
                    <a:pt x="60" y="2565"/>
                  </a:lnTo>
                  <a:lnTo>
                    <a:pt x="15" y="2871"/>
                  </a:lnTo>
                  <a:lnTo>
                    <a:pt x="0" y="3177"/>
                  </a:lnTo>
                  <a:lnTo>
                    <a:pt x="15" y="3483"/>
                  </a:lnTo>
                  <a:lnTo>
                    <a:pt x="59" y="3786"/>
                  </a:lnTo>
                  <a:lnTo>
                    <a:pt x="131" y="4081"/>
                  </a:lnTo>
                  <a:lnTo>
                    <a:pt x="232" y="4370"/>
                  </a:lnTo>
                  <a:lnTo>
                    <a:pt x="360" y="4649"/>
                  </a:lnTo>
                  <a:lnTo>
                    <a:pt x="515" y="4916"/>
                  </a:lnTo>
                  <a:lnTo>
                    <a:pt x="698" y="5169"/>
                  </a:lnTo>
                  <a:lnTo>
                    <a:pt x="906" y="5404"/>
                  </a:lnTo>
                  <a:lnTo>
                    <a:pt x="1141" y="5620"/>
                  </a:lnTo>
                  <a:lnTo>
                    <a:pt x="1401" y="5817"/>
                  </a:lnTo>
                  <a:close/>
                </a:path>
              </a:pathLst>
            </a:custGeom>
            <a:solidFill>
              <a:srgbClr val="648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4040" y="204120"/>
              <a:ext cx="480600" cy="474840"/>
            </a:xfrm>
            <a:custGeom>
              <a:avLst/>
              <a:gdLst/>
              <a:ahLst/>
              <a:rect l="l" t="t" r="r" b="b"/>
              <a:pathLst>
                <a:path w="6201" h="6202">
                  <a:moveTo>
                    <a:pt x="1365" y="5670"/>
                  </a:moveTo>
                  <a:lnTo>
                    <a:pt x="1636" y="5834"/>
                  </a:lnTo>
                  <a:lnTo>
                    <a:pt x="1917" y="5968"/>
                  </a:lnTo>
                  <a:lnTo>
                    <a:pt x="2207" y="6071"/>
                  </a:lnTo>
                  <a:lnTo>
                    <a:pt x="2501" y="6143"/>
                  </a:lnTo>
                  <a:lnTo>
                    <a:pt x="2798" y="6187"/>
                  </a:lnTo>
                  <a:lnTo>
                    <a:pt x="3096" y="6202"/>
                  </a:lnTo>
                  <a:lnTo>
                    <a:pt x="3394" y="6188"/>
                  </a:lnTo>
                  <a:lnTo>
                    <a:pt x="3689" y="6145"/>
                  </a:lnTo>
                  <a:lnTo>
                    <a:pt x="3978" y="6075"/>
                  </a:lnTo>
                  <a:lnTo>
                    <a:pt x="4259" y="5977"/>
                  </a:lnTo>
                  <a:lnTo>
                    <a:pt x="4532" y="5852"/>
                  </a:lnTo>
                  <a:lnTo>
                    <a:pt x="4791" y="5701"/>
                  </a:lnTo>
                  <a:lnTo>
                    <a:pt x="5037" y="5524"/>
                  </a:lnTo>
                  <a:lnTo>
                    <a:pt x="5266" y="5319"/>
                  </a:lnTo>
                  <a:lnTo>
                    <a:pt x="5478" y="5091"/>
                  </a:lnTo>
                  <a:lnTo>
                    <a:pt x="5669" y="4838"/>
                  </a:lnTo>
                  <a:lnTo>
                    <a:pt x="5833" y="4566"/>
                  </a:lnTo>
                  <a:lnTo>
                    <a:pt x="5967" y="4284"/>
                  </a:lnTo>
                  <a:lnTo>
                    <a:pt x="6070" y="3995"/>
                  </a:lnTo>
                  <a:lnTo>
                    <a:pt x="6142" y="3700"/>
                  </a:lnTo>
                  <a:lnTo>
                    <a:pt x="6186" y="3403"/>
                  </a:lnTo>
                  <a:lnTo>
                    <a:pt x="6201" y="3104"/>
                  </a:lnTo>
                  <a:lnTo>
                    <a:pt x="6186" y="2806"/>
                  </a:lnTo>
                  <a:lnTo>
                    <a:pt x="6144" y="2513"/>
                  </a:lnTo>
                  <a:lnTo>
                    <a:pt x="6073" y="2224"/>
                  </a:lnTo>
                  <a:lnTo>
                    <a:pt x="5975" y="1942"/>
                  </a:lnTo>
                  <a:lnTo>
                    <a:pt x="5851" y="1670"/>
                  </a:lnTo>
                  <a:lnTo>
                    <a:pt x="5699" y="1411"/>
                  </a:lnTo>
                  <a:lnTo>
                    <a:pt x="5521" y="1164"/>
                  </a:lnTo>
                  <a:lnTo>
                    <a:pt x="5318" y="934"/>
                  </a:lnTo>
                  <a:lnTo>
                    <a:pt x="5090" y="723"/>
                  </a:lnTo>
                  <a:lnTo>
                    <a:pt x="4837" y="532"/>
                  </a:lnTo>
                  <a:lnTo>
                    <a:pt x="4565" y="368"/>
                  </a:lnTo>
                  <a:lnTo>
                    <a:pt x="4283" y="234"/>
                  </a:lnTo>
                  <a:lnTo>
                    <a:pt x="3995" y="131"/>
                  </a:lnTo>
                  <a:lnTo>
                    <a:pt x="3700" y="58"/>
                  </a:lnTo>
                  <a:lnTo>
                    <a:pt x="3403" y="15"/>
                  </a:lnTo>
                  <a:lnTo>
                    <a:pt x="3104" y="0"/>
                  </a:lnTo>
                  <a:lnTo>
                    <a:pt x="2806" y="15"/>
                  </a:lnTo>
                  <a:lnTo>
                    <a:pt x="2512" y="57"/>
                  </a:lnTo>
                  <a:lnTo>
                    <a:pt x="2223" y="127"/>
                  </a:lnTo>
                  <a:lnTo>
                    <a:pt x="1941" y="225"/>
                  </a:lnTo>
                  <a:lnTo>
                    <a:pt x="1669" y="350"/>
                  </a:lnTo>
                  <a:lnTo>
                    <a:pt x="1409" y="502"/>
                  </a:lnTo>
                  <a:lnTo>
                    <a:pt x="1163" y="679"/>
                  </a:lnTo>
                  <a:lnTo>
                    <a:pt x="933" y="882"/>
                  </a:lnTo>
                  <a:lnTo>
                    <a:pt x="722" y="1111"/>
                  </a:lnTo>
                  <a:lnTo>
                    <a:pt x="532" y="1365"/>
                  </a:lnTo>
                  <a:lnTo>
                    <a:pt x="367" y="1636"/>
                  </a:lnTo>
                  <a:lnTo>
                    <a:pt x="233" y="1918"/>
                  </a:lnTo>
                  <a:lnTo>
                    <a:pt x="130" y="2207"/>
                  </a:lnTo>
                  <a:lnTo>
                    <a:pt x="58" y="2501"/>
                  </a:lnTo>
                  <a:lnTo>
                    <a:pt x="14" y="2799"/>
                  </a:lnTo>
                  <a:lnTo>
                    <a:pt x="0" y="3098"/>
                  </a:lnTo>
                  <a:lnTo>
                    <a:pt x="13" y="3395"/>
                  </a:lnTo>
                  <a:lnTo>
                    <a:pt x="56" y="3690"/>
                  </a:lnTo>
                  <a:lnTo>
                    <a:pt x="126" y="3979"/>
                  </a:lnTo>
                  <a:lnTo>
                    <a:pt x="224" y="4261"/>
                  </a:lnTo>
                  <a:lnTo>
                    <a:pt x="349" y="4532"/>
                  </a:lnTo>
                  <a:lnTo>
                    <a:pt x="500" y="4792"/>
                  </a:lnTo>
                  <a:lnTo>
                    <a:pt x="678" y="5038"/>
                  </a:lnTo>
                  <a:lnTo>
                    <a:pt x="882" y="5267"/>
                  </a:lnTo>
                  <a:lnTo>
                    <a:pt x="1110" y="5479"/>
                  </a:lnTo>
                  <a:lnTo>
                    <a:pt x="1365" y="5670"/>
                  </a:lnTo>
                  <a:close/>
                </a:path>
              </a:pathLst>
            </a:custGeom>
            <a:solidFill>
              <a:srgbClr val="6683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73400" y="207000"/>
              <a:ext cx="467640" cy="461880"/>
            </a:xfrm>
            <a:custGeom>
              <a:avLst/>
              <a:gdLst/>
              <a:ahLst/>
              <a:rect l="l" t="t" r="r" b="b"/>
              <a:pathLst>
                <a:path w="6040" h="6041">
                  <a:moveTo>
                    <a:pt x="1329" y="5523"/>
                  </a:moveTo>
                  <a:lnTo>
                    <a:pt x="1593" y="5683"/>
                  </a:lnTo>
                  <a:lnTo>
                    <a:pt x="1867" y="5813"/>
                  </a:lnTo>
                  <a:lnTo>
                    <a:pt x="2148" y="5914"/>
                  </a:lnTo>
                  <a:lnTo>
                    <a:pt x="2435" y="5985"/>
                  </a:lnTo>
                  <a:lnTo>
                    <a:pt x="2726" y="6026"/>
                  </a:lnTo>
                  <a:lnTo>
                    <a:pt x="3017" y="6041"/>
                  </a:lnTo>
                  <a:lnTo>
                    <a:pt x="3306" y="6027"/>
                  </a:lnTo>
                  <a:lnTo>
                    <a:pt x="3593" y="5986"/>
                  </a:lnTo>
                  <a:lnTo>
                    <a:pt x="3875" y="5917"/>
                  </a:lnTo>
                  <a:lnTo>
                    <a:pt x="4149" y="5822"/>
                  </a:lnTo>
                  <a:lnTo>
                    <a:pt x="4414" y="5700"/>
                  </a:lnTo>
                  <a:lnTo>
                    <a:pt x="4667" y="5553"/>
                  </a:lnTo>
                  <a:lnTo>
                    <a:pt x="4906" y="5380"/>
                  </a:lnTo>
                  <a:lnTo>
                    <a:pt x="5129" y="5182"/>
                  </a:lnTo>
                  <a:lnTo>
                    <a:pt x="5336" y="4959"/>
                  </a:lnTo>
                  <a:lnTo>
                    <a:pt x="5522" y="4712"/>
                  </a:lnTo>
                  <a:lnTo>
                    <a:pt x="5681" y="4448"/>
                  </a:lnTo>
                  <a:lnTo>
                    <a:pt x="5812" y="4173"/>
                  </a:lnTo>
                  <a:lnTo>
                    <a:pt x="5912" y="3892"/>
                  </a:lnTo>
                  <a:lnTo>
                    <a:pt x="5984" y="3605"/>
                  </a:lnTo>
                  <a:lnTo>
                    <a:pt x="6027" y="3315"/>
                  </a:lnTo>
                  <a:lnTo>
                    <a:pt x="6040" y="3024"/>
                  </a:lnTo>
                  <a:lnTo>
                    <a:pt x="6027" y="2734"/>
                  </a:lnTo>
                  <a:lnTo>
                    <a:pt x="5985" y="2447"/>
                  </a:lnTo>
                  <a:lnTo>
                    <a:pt x="5917" y="2165"/>
                  </a:lnTo>
                  <a:lnTo>
                    <a:pt x="5821" y="1891"/>
                  </a:lnTo>
                  <a:lnTo>
                    <a:pt x="5700" y="1626"/>
                  </a:lnTo>
                  <a:lnTo>
                    <a:pt x="5552" y="1373"/>
                  </a:lnTo>
                  <a:lnTo>
                    <a:pt x="5379" y="1134"/>
                  </a:lnTo>
                  <a:lnTo>
                    <a:pt x="5181" y="910"/>
                  </a:lnTo>
                  <a:lnTo>
                    <a:pt x="4958" y="703"/>
                  </a:lnTo>
                  <a:lnTo>
                    <a:pt x="4711" y="518"/>
                  </a:lnTo>
                  <a:lnTo>
                    <a:pt x="4447" y="358"/>
                  </a:lnTo>
                  <a:lnTo>
                    <a:pt x="4172" y="228"/>
                  </a:lnTo>
                  <a:lnTo>
                    <a:pt x="3891" y="127"/>
                  </a:lnTo>
                  <a:lnTo>
                    <a:pt x="3605" y="56"/>
                  </a:lnTo>
                  <a:lnTo>
                    <a:pt x="3315" y="14"/>
                  </a:lnTo>
                  <a:lnTo>
                    <a:pt x="3023" y="0"/>
                  </a:lnTo>
                  <a:lnTo>
                    <a:pt x="2733" y="14"/>
                  </a:lnTo>
                  <a:lnTo>
                    <a:pt x="2447" y="55"/>
                  </a:lnTo>
                  <a:lnTo>
                    <a:pt x="2165" y="123"/>
                  </a:lnTo>
                  <a:lnTo>
                    <a:pt x="1891" y="219"/>
                  </a:lnTo>
                  <a:lnTo>
                    <a:pt x="1626" y="340"/>
                  </a:lnTo>
                  <a:lnTo>
                    <a:pt x="1372" y="488"/>
                  </a:lnTo>
                  <a:lnTo>
                    <a:pt x="1133" y="661"/>
                  </a:lnTo>
                  <a:lnTo>
                    <a:pt x="910" y="859"/>
                  </a:lnTo>
                  <a:lnTo>
                    <a:pt x="704" y="1082"/>
                  </a:lnTo>
                  <a:lnTo>
                    <a:pt x="519" y="1330"/>
                  </a:lnTo>
                  <a:lnTo>
                    <a:pt x="358" y="1593"/>
                  </a:lnTo>
                  <a:lnTo>
                    <a:pt x="228" y="1868"/>
                  </a:lnTo>
                  <a:lnTo>
                    <a:pt x="127" y="2149"/>
                  </a:lnTo>
                  <a:lnTo>
                    <a:pt x="56" y="2436"/>
                  </a:lnTo>
                  <a:lnTo>
                    <a:pt x="14" y="2725"/>
                  </a:lnTo>
                  <a:lnTo>
                    <a:pt x="0" y="3017"/>
                  </a:lnTo>
                  <a:lnTo>
                    <a:pt x="14" y="3307"/>
                  </a:lnTo>
                  <a:lnTo>
                    <a:pt x="54" y="3594"/>
                  </a:lnTo>
                  <a:lnTo>
                    <a:pt x="123" y="3876"/>
                  </a:lnTo>
                  <a:lnTo>
                    <a:pt x="218" y="4150"/>
                  </a:lnTo>
                  <a:lnTo>
                    <a:pt x="340" y="4415"/>
                  </a:lnTo>
                  <a:lnTo>
                    <a:pt x="487" y="4668"/>
                  </a:lnTo>
                  <a:lnTo>
                    <a:pt x="660" y="4907"/>
                  </a:lnTo>
                  <a:lnTo>
                    <a:pt x="858" y="5131"/>
                  </a:lnTo>
                  <a:lnTo>
                    <a:pt x="1081" y="5337"/>
                  </a:lnTo>
                  <a:lnTo>
                    <a:pt x="1329" y="5523"/>
                  </a:lnTo>
                  <a:close/>
                </a:path>
              </a:pathLst>
            </a:custGeom>
            <a:solidFill>
              <a:srgbClr val="698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82760" y="208800"/>
              <a:ext cx="455400" cy="450000"/>
            </a:xfrm>
            <a:custGeom>
              <a:avLst/>
              <a:gdLst/>
              <a:ahLst/>
              <a:rect l="l" t="t" r="r" b="b"/>
              <a:pathLst>
                <a:path w="5880" h="5880">
                  <a:moveTo>
                    <a:pt x="1294" y="5376"/>
                  </a:moveTo>
                  <a:lnTo>
                    <a:pt x="1551" y="5531"/>
                  </a:lnTo>
                  <a:lnTo>
                    <a:pt x="1818" y="5657"/>
                  </a:lnTo>
                  <a:lnTo>
                    <a:pt x="2092" y="5755"/>
                  </a:lnTo>
                  <a:lnTo>
                    <a:pt x="2371" y="5824"/>
                  </a:lnTo>
                  <a:lnTo>
                    <a:pt x="2653" y="5866"/>
                  </a:lnTo>
                  <a:lnTo>
                    <a:pt x="2936" y="5880"/>
                  </a:lnTo>
                  <a:lnTo>
                    <a:pt x="3219" y="5866"/>
                  </a:lnTo>
                  <a:lnTo>
                    <a:pt x="3499" y="5825"/>
                  </a:lnTo>
                  <a:lnTo>
                    <a:pt x="3772" y="5759"/>
                  </a:lnTo>
                  <a:lnTo>
                    <a:pt x="4040" y="5666"/>
                  </a:lnTo>
                  <a:lnTo>
                    <a:pt x="4297" y="5548"/>
                  </a:lnTo>
                  <a:lnTo>
                    <a:pt x="4544" y="5404"/>
                  </a:lnTo>
                  <a:lnTo>
                    <a:pt x="4776" y="5235"/>
                  </a:lnTo>
                  <a:lnTo>
                    <a:pt x="4994" y="5043"/>
                  </a:lnTo>
                  <a:lnTo>
                    <a:pt x="5194" y="4826"/>
                  </a:lnTo>
                  <a:lnTo>
                    <a:pt x="5376" y="4586"/>
                  </a:lnTo>
                  <a:lnTo>
                    <a:pt x="5531" y="4327"/>
                  </a:lnTo>
                  <a:lnTo>
                    <a:pt x="5658" y="4061"/>
                  </a:lnTo>
                  <a:lnTo>
                    <a:pt x="5756" y="3787"/>
                  </a:lnTo>
                  <a:lnTo>
                    <a:pt x="5826" y="3508"/>
                  </a:lnTo>
                  <a:lnTo>
                    <a:pt x="5867" y="3226"/>
                  </a:lnTo>
                  <a:lnTo>
                    <a:pt x="5880" y="2942"/>
                  </a:lnTo>
                  <a:lnTo>
                    <a:pt x="5867" y="2661"/>
                  </a:lnTo>
                  <a:lnTo>
                    <a:pt x="5827" y="2381"/>
                  </a:lnTo>
                  <a:lnTo>
                    <a:pt x="5760" y="2107"/>
                  </a:lnTo>
                  <a:lnTo>
                    <a:pt x="5667" y="1840"/>
                  </a:lnTo>
                  <a:lnTo>
                    <a:pt x="5549" y="1583"/>
                  </a:lnTo>
                  <a:lnTo>
                    <a:pt x="5405" y="1336"/>
                  </a:lnTo>
                  <a:lnTo>
                    <a:pt x="5237" y="1103"/>
                  </a:lnTo>
                  <a:lnTo>
                    <a:pt x="5044" y="885"/>
                  </a:lnTo>
                  <a:lnTo>
                    <a:pt x="4827" y="685"/>
                  </a:lnTo>
                  <a:lnTo>
                    <a:pt x="4587" y="505"/>
                  </a:lnTo>
                  <a:lnTo>
                    <a:pt x="4329" y="348"/>
                  </a:lnTo>
                  <a:lnTo>
                    <a:pt x="4062" y="222"/>
                  </a:lnTo>
                  <a:lnTo>
                    <a:pt x="3789" y="124"/>
                  </a:lnTo>
                  <a:lnTo>
                    <a:pt x="3509" y="54"/>
                  </a:lnTo>
                  <a:lnTo>
                    <a:pt x="3227" y="12"/>
                  </a:lnTo>
                  <a:lnTo>
                    <a:pt x="2944" y="0"/>
                  </a:lnTo>
                  <a:lnTo>
                    <a:pt x="2662" y="12"/>
                  </a:lnTo>
                  <a:lnTo>
                    <a:pt x="2382" y="53"/>
                  </a:lnTo>
                  <a:lnTo>
                    <a:pt x="2108" y="120"/>
                  </a:lnTo>
                  <a:lnTo>
                    <a:pt x="1841" y="212"/>
                  </a:lnTo>
                  <a:lnTo>
                    <a:pt x="1584" y="330"/>
                  </a:lnTo>
                  <a:lnTo>
                    <a:pt x="1337" y="475"/>
                  </a:lnTo>
                  <a:lnTo>
                    <a:pt x="1103" y="643"/>
                  </a:lnTo>
                  <a:lnTo>
                    <a:pt x="885" y="835"/>
                  </a:lnTo>
                  <a:lnTo>
                    <a:pt x="686" y="1052"/>
                  </a:lnTo>
                  <a:lnTo>
                    <a:pt x="505" y="1293"/>
                  </a:lnTo>
                  <a:lnTo>
                    <a:pt x="349" y="1551"/>
                  </a:lnTo>
                  <a:lnTo>
                    <a:pt x="222" y="1818"/>
                  </a:lnTo>
                  <a:lnTo>
                    <a:pt x="124" y="2092"/>
                  </a:lnTo>
                  <a:lnTo>
                    <a:pt x="55" y="2370"/>
                  </a:lnTo>
                  <a:lnTo>
                    <a:pt x="14" y="2653"/>
                  </a:lnTo>
                  <a:lnTo>
                    <a:pt x="0" y="2936"/>
                  </a:lnTo>
                  <a:lnTo>
                    <a:pt x="14" y="3219"/>
                  </a:lnTo>
                  <a:lnTo>
                    <a:pt x="54" y="3498"/>
                  </a:lnTo>
                  <a:lnTo>
                    <a:pt x="120" y="3771"/>
                  </a:lnTo>
                  <a:lnTo>
                    <a:pt x="212" y="4039"/>
                  </a:lnTo>
                  <a:lnTo>
                    <a:pt x="332" y="4297"/>
                  </a:lnTo>
                  <a:lnTo>
                    <a:pt x="475" y="4543"/>
                  </a:lnTo>
                  <a:lnTo>
                    <a:pt x="643" y="4776"/>
                  </a:lnTo>
                  <a:lnTo>
                    <a:pt x="835" y="4994"/>
                  </a:lnTo>
                  <a:lnTo>
                    <a:pt x="1052" y="5194"/>
                  </a:lnTo>
                  <a:lnTo>
                    <a:pt x="1294" y="5376"/>
                  </a:lnTo>
                  <a:close/>
                </a:path>
              </a:pathLst>
            </a:custGeom>
            <a:solidFill>
              <a:srgbClr val="6b89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91760" y="211320"/>
              <a:ext cx="443160" cy="437760"/>
            </a:xfrm>
            <a:custGeom>
              <a:avLst/>
              <a:gdLst/>
              <a:ahLst/>
              <a:rect l="l" t="t" r="r" b="b"/>
              <a:pathLst>
                <a:path w="5720" h="5721">
                  <a:moveTo>
                    <a:pt x="1260" y="5231"/>
                  </a:moveTo>
                  <a:lnTo>
                    <a:pt x="1510" y="5382"/>
                  </a:lnTo>
                  <a:lnTo>
                    <a:pt x="1769" y="5505"/>
                  </a:lnTo>
                  <a:lnTo>
                    <a:pt x="2036" y="5600"/>
                  </a:lnTo>
                  <a:lnTo>
                    <a:pt x="2307" y="5668"/>
                  </a:lnTo>
                  <a:lnTo>
                    <a:pt x="2581" y="5707"/>
                  </a:lnTo>
                  <a:lnTo>
                    <a:pt x="2857" y="5721"/>
                  </a:lnTo>
                  <a:lnTo>
                    <a:pt x="3131" y="5708"/>
                  </a:lnTo>
                  <a:lnTo>
                    <a:pt x="3403" y="5669"/>
                  </a:lnTo>
                  <a:lnTo>
                    <a:pt x="3670" y="5604"/>
                  </a:lnTo>
                  <a:lnTo>
                    <a:pt x="3929" y="5514"/>
                  </a:lnTo>
                  <a:lnTo>
                    <a:pt x="4180" y="5399"/>
                  </a:lnTo>
                  <a:lnTo>
                    <a:pt x="4419" y="5258"/>
                  </a:lnTo>
                  <a:lnTo>
                    <a:pt x="4646" y="5095"/>
                  </a:lnTo>
                  <a:lnTo>
                    <a:pt x="4858" y="4908"/>
                  </a:lnTo>
                  <a:lnTo>
                    <a:pt x="5053" y="4696"/>
                  </a:lnTo>
                  <a:lnTo>
                    <a:pt x="5230" y="4463"/>
                  </a:lnTo>
                  <a:lnTo>
                    <a:pt x="5380" y="4212"/>
                  </a:lnTo>
                  <a:lnTo>
                    <a:pt x="5504" y="3953"/>
                  </a:lnTo>
                  <a:lnTo>
                    <a:pt x="5598" y="3686"/>
                  </a:lnTo>
                  <a:lnTo>
                    <a:pt x="5666" y="3415"/>
                  </a:lnTo>
                  <a:lnTo>
                    <a:pt x="5706" y="3140"/>
                  </a:lnTo>
                  <a:lnTo>
                    <a:pt x="5720" y="2864"/>
                  </a:lnTo>
                  <a:lnTo>
                    <a:pt x="5707" y="2590"/>
                  </a:lnTo>
                  <a:lnTo>
                    <a:pt x="5668" y="2318"/>
                  </a:lnTo>
                  <a:lnTo>
                    <a:pt x="5603" y="2052"/>
                  </a:lnTo>
                  <a:lnTo>
                    <a:pt x="5512" y="1792"/>
                  </a:lnTo>
                  <a:lnTo>
                    <a:pt x="5397" y="1542"/>
                  </a:lnTo>
                  <a:lnTo>
                    <a:pt x="5257" y="1302"/>
                  </a:lnTo>
                  <a:lnTo>
                    <a:pt x="5093" y="1075"/>
                  </a:lnTo>
                  <a:lnTo>
                    <a:pt x="4906" y="863"/>
                  </a:lnTo>
                  <a:lnTo>
                    <a:pt x="4695" y="668"/>
                  </a:lnTo>
                  <a:lnTo>
                    <a:pt x="4462" y="493"/>
                  </a:lnTo>
                  <a:lnTo>
                    <a:pt x="4211" y="341"/>
                  </a:lnTo>
                  <a:lnTo>
                    <a:pt x="3952" y="217"/>
                  </a:lnTo>
                  <a:lnTo>
                    <a:pt x="3685" y="122"/>
                  </a:lnTo>
                  <a:lnTo>
                    <a:pt x="3414" y="55"/>
                  </a:lnTo>
                  <a:lnTo>
                    <a:pt x="3138" y="14"/>
                  </a:lnTo>
                  <a:lnTo>
                    <a:pt x="2863" y="0"/>
                  </a:lnTo>
                  <a:lnTo>
                    <a:pt x="2589" y="14"/>
                  </a:lnTo>
                  <a:lnTo>
                    <a:pt x="2317" y="54"/>
                  </a:lnTo>
                  <a:lnTo>
                    <a:pt x="2051" y="118"/>
                  </a:lnTo>
                  <a:lnTo>
                    <a:pt x="1790" y="208"/>
                  </a:lnTo>
                  <a:lnTo>
                    <a:pt x="1541" y="324"/>
                  </a:lnTo>
                  <a:lnTo>
                    <a:pt x="1300" y="463"/>
                  </a:lnTo>
                  <a:lnTo>
                    <a:pt x="1074" y="627"/>
                  </a:lnTo>
                  <a:lnTo>
                    <a:pt x="861" y="815"/>
                  </a:lnTo>
                  <a:lnTo>
                    <a:pt x="667" y="1025"/>
                  </a:lnTo>
                  <a:lnTo>
                    <a:pt x="491" y="1260"/>
                  </a:lnTo>
                  <a:lnTo>
                    <a:pt x="339" y="1510"/>
                  </a:lnTo>
                  <a:lnTo>
                    <a:pt x="216" y="1769"/>
                  </a:lnTo>
                  <a:lnTo>
                    <a:pt x="121" y="2036"/>
                  </a:lnTo>
                  <a:lnTo>
                    <a:pt x="54" y="2307"/>
                  </a:lnTo>
                  <a:lnTo>
                    <a:pt x="14" y="2583"/>
                  </a:lnTo>
                  <a:lnTo>
                    <a:pt x="0" y="2858"/>
                  </a:lnTo>
                  <a:lnTo>
                    <a:pt x="14" y="3132"/>
                  </a:lnTo>
                  <a:lnTo>
                    <a:pt x="52" y="3404"/>
                  </a:lnTo>
                  <a:lnTo>
                    <a:pt x="117" y="3670"/>
                  </a:lnTo>
                  <a:lnTo>
                    <a:pt x="207" y="3931"/>
                  </a:lnTo>
                  <a:lnTo>
                    <a:pt x="323" y="4181"/>
                  </a:lnTo>
                  <a:lnTo>
                    <a:pt x="463" y="4421"/>
                  </a:lnTo>
                  <a:lnTo>
                    <a:pt x="626" y="4647"/>
                  </a:lnTo>
                  <a:lnTo>
                    <a:pt x="814" y="4860"/>
                  </a:lnTo>
                  <a:lnTo>
                    <a:pt x="1025" y="5054"/>
                  </a:lnTo>
                  <a:lnTo>
                    <a:pt x="1260" y="5231"/>
                  </a:lnTo>
                  <a:close/>
                </a:path>
              </a:pathLst>
            </a:custGeom>
            <a:solidFill>
              <a:srgbClr val="6e8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01120" y="214200"/>
              <a:ext cx="431280" cy="425160"/>
            </a:xfrm>
            <a:custGeom>
              <a:avLst/>
              <a:gdLst/>
              <a:ahLst/>
              <a:rect l="l" t="t" r="r" b="b"/>
              <a:pathLst>
                <a:path w="5559" h="5560">
                  <a:moveTo>
                    <a:pt x="1224" y="5084"/>
                  </a:moveTo>
                  <a:lnTo>
                    <a:pt x="1466" y="5231"/>
                  </a:lnTo>
                  <a:lnTo>
                    <a:pt x="1719" y="5351"/>
                  </a:lnTo>
                  <a:lnTo>
                    <a:pt x="1978" y="5443"/>
                  </a:lnTo>
                  <a:lnTo>
                    <a:pt x="2241" y="5508"/>
                  </a:lnTo>
                  <a:lnTo>
                    <a:pt x="2508" y="5548"/>
                  </a:lnTo>
                  <a:lnTo>
                    <a:pt x="2776" y="5560"/>
                  </a:lnTo>
                  <a:lnTo>
                    <a:pt x="3043" y="5548"/>
                  </a:lnTo>
                  <a:lnTo>
                    <a:pt x="3308" y="5509"/>
                  </a:lnTo>
                  <a:lnTo>
                    <a:pt x="3566" y="5447"/>
                  </a:lnTo>
                  <a:lnTo>
                    <a:pt x="3819" y="5359"/>
                  </a:lnTo>
                  <a:lnTo>
                    <a:pt x="4062" y="5247"/>
                  </a:lnTo>
                  <a:lnTo>
                    <a:pt x="4295" y="5112"/>
                  </a:lnTo>
                  <a:lnTo>
                    <a:pt x="4516" y="4952"/>
                  </a:lnTo>
                  <a:lnTo>
                    <a:pt x="4722" y="4769"/>
                  </a:lnTo>
                  <a:lnTo>
                    <a:pt x="4912" y="4564"/>
                  </a:lnTo>
                  <a:lnTo>
                    <a:pt x="5083" y="4338"/>
                  </a:lnTo>
                  <a:lnTo>
                    <a:pt x="5230" y="4094"/>
                  </a:lnTo>
                  <a:lnTo>
                    <a:pt x="5350" y="3841"/>
                  </a:lnTo>
                  <a:lnTo>
                    <a:pt x="5442" y="3583"/>
                  </a:lnTo>
                  <a:lnTo>
                    <a:pt x="5507" y="3319"/>
                  </a:lnTo>
                  <a:lnTo>
                    <a:pt x="5547" y="3052"/>
                  </a:lnTo>
                  <a:lnTo>
                    <a:pt x="5559" y="2785"/>
                  </a:lnTo>
                  <a:lnTo>
                    <a:pt x="5547" y="2518"/>
                  </a:lnTo>
                  <a:lnTo>
                    <a:pt x="5508" y="2253"/>
                  </a:lnTo>
                  <a:lnTo>
                    <a:pt x="5446" y="1995"/>
                  </a:lnTo>
                  <a:lnTo>
                    <a:pt x="5358" y="1742"/>
                  </a:lnTo>
                  <a:lnTo>
                    <a:pt x="5246" y="1498"/>
                  </a:lnTo>
                  <a:lnTo>
                    <a:pt x="5111" y="1265"/>
                  </a:lnTo>
                  <a:lnTo>
                    <a:pt x="4951" y="1044"/>
                  </a:lnTo>
                  <a:lnTo>
                    <a:pt x="4768" y="839"/>
                  </a:lnTo>
                  <a:lnTo>
                    <a:pt x="4563" y="649"/>
                  </a:lnTo>
                  <a:lnTo>
                    <a:pt x="4337" y="479"/>
                  </a:lnTo>
                  <a:lnTo>
                    <a:pt x="4093" y="331"/>
                  </a:lnTo>
                  <a:lnTo>
                    <a:pt x="3840" y="211"/>
                  </a:lnTo>
                  <a:lnTo>
                    <a:pt x="3582" y="118"/>
                  </a:lnTo>
                  <a:lnTo>
                    <a:pt x="3318" y="54"/>
                  </a:lnTo>
                  <a:lnTo>
                    <a:pt x="3051" y="14"/>
                  </a:lnTo>
                  <a:lnTo>
                    <a:pt x="2783" y="0"/>
                  </a:lnTo>
                  <a:lnTo>
                    <a:pt x="2517" y="13"/>
                  </a:lnTo>
                  <a:lnTo>
                    <a:pt x="2252" y="51"/>
                  </a:lnTo>
                  <a:lnTo>
                    <a:pt x="1994" y="114"/>
                  </a:lnTo>
                  <a:lnTo>
                    <a:pt x="1741" y="202"/>
                  </a:lnTo>
                  <a:lnTo>
                    <a:pt x="1497" y="314"/>
                  </a:lnTo>
                  <a:lnTo>
                    <a:pt x="1264" y="450"/>
                  </a:lnTo>
                  <a:lnTo>
                    <a:pt x="1043" y="608"/>
                  </a:lnTo>
                  <a:lnTo>
                    <a:pt x="838" y="791"/>
                  </a:lnTo>
                  <a:lnTo>
                    <a:pt x="648" y="996"/>
                  </a:lnTo>
                  <a:lnTo>
                    <a:pt x="478" y="1224"/>
                  </a:lnTo>
                  <a:lnTo>
                    <a:pt x="330" y="1467"/>
                  </a:lnTo>
                  <a:lnTo>
                    <a:pt x="211" y="1719"/>
                  </a:lnTo>
                  <a:lnTo>
                    <a:pt x="118" y="1979"/>
                  </a:lnTo>
                  <a:lnTo>
                    <a:pt x="52" y="2242"/>
                  </a:lnTo>
                  <a:lnTo>
                    <a:pt x="13" y="2509"/>
                  </a:lnTo>
                  <a:lnTo>
                    <a:pt x="0" y="2777"/>
                  </a:lnTo>
                  <a:lnTo>
                    <a:pt x="13" y="3044"/>
                  </a:lnTo>
                  <a:lnTo>
                    <a:pt x="51" y="3309"/>
                  </a:lnTo>
                  <a:lnTo>
                    <a:pt x="114" y="3568"/>
                  </a:lnTo>
                  <a:lnTo>
                    <a:pt x="201" y="3820"/>
                  </a:lnTo>
                  <a:lnTo>
                    <a:pt x="314" y="4063"/>
                  </a:lnTo>
                  <a:lnTo>
                    <a:pt x="449" y="4297"/>
                  </a:lnTo>
                  <a:lnTo>
                    <a:pt x="608" y="4517"/>
                  </a:lnTo>
                  <a:lnTo>
                    <a:pt x="791" y="4724"/>
                  </a:lnTo>
                  <a:lnTo>
                    <a:pt x="995" y="4913"/>
                  </a:lnTo>
                  <a:lnTo>
                    <a:pt x="1224" y="5084"/>
                  </a:lnTo>
                  <a:close/>
                </a:path>
              </a:pathLst>
            </a:custGeom>
            <a:solidFill>
              <a:srgbClr val="708f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0480" y="216000"/>
              <a:ext cx="418320" cy="412920"/>
            </a:xfrm>
            <a:custGeom>
              <a:avLst/>
              <a:gdLst/>
              <a:ahLst/>
              <a:rect l="l" t="t" r="r" b="b"/>
              <a:pathLst>
                <a:path w="5399" h="5399">
                  <a:moveTo>
                    <a:pt x="1189" y="4936"/>
                  </a:moveTo>
                  <a:lnTo>
                    <a:pt x="1425" y="5079"/>
                  </a:lnTo>
                  <a:lnTo>
                    <a:pt x="1670" y="5195"/>
                  </a:lnTo>
                  <a:lnTo>
                    <a:pt x="1922" y="5285"/>
                  </a:lnTo>
                  <a:lnTo>
                    <a:pt x="2178" y="5349"/>
                  </a:lnTo>
                  <a:lnTo>
                    <a:pt x="2436" y="5386"/>
                  </a:lnTo>
                  <a:lnTo>
                    <a:pt x="2697" y="5399"/>
                  </a:lnTo>
                  <a:lnTo>
                    <a:pt x="2956" y="5386"/>
                  </a:lnTo>
                  <a:lnTo>
                    <a:pt x="3212" y="5350"/>
                  </a:lnTo>
                  <a:lnTo>
                    <a:pt x="3464" y="5288"/>
                  </a:lnTo>
                  <a:lnTo>
                    <a:pt x="3709" y="5203"/>
                  </a:lnTo>
                  <a:lnTo>
                    <a:pt x="3946" y="5095"/>
                  </a:lnTo>
                  <a:lnTo>
                    <a:pt x="4171" y="4963"/>
                  </a:lnTo>
                  <a:lnTo>
                    <a:pt x="4386" y="4808"/>
                  </a:lnTo>
                  <a:lnTo>
                    <a:pt x="4586" y="4631"/>
                  </a:lnTo>
                  <a:lnTo>
                    <a:pt x="4769" y="4431"/>
                  </a:lnTo>
                  <a:lnTo>
                    <a:pt x="4935" y="4211"/>
                  </a:lnTo>
                  <a:lnTo>
                    <a:pt x="5078" y="3974"/>
                  </a:lnTo>
                  <a:lnTo>
                    <a:pt x="5195" y="3730"/>
                  </a:lnTo>
                  <a:lnTo>
                    <a:pt x="5284" y="3478"/>
                  </a:lnTo>
                  <a:lnTo>
                    <a:pt x="5348" y="3221"/>
                  </a:lnTo>
                  <a:lnTo>
                    <a:pt x="5386" y="2963"/>
                  </a:lnTo>
                  <a:lnTo>
                    <a:pt x="5399" y="2703"/>
                  </a:lnTo>
                  <a:lnTo>
                    <a:pt x="5386" y="2443"/>
                  </a:lnTo>
                  <a:lnTo>
                    <a:pt x="5349" y="2187"/>
                  </a:lnTo>
                  <a:lnTo>
                    <a:pt x="5288" y="1936"/>
                  </a:lnTo>
                  <a:lnTo>
                    <a:pt x="5202" y="1691"/>
                  </a:lnTo>
                  <a:lnTo>
                    <a:pt x="5094" y="1455"/>
                  </a:lnTo>
                  <a:lnTo>
                    <a:pt x="4962" y="1228"/>
                  </a:lnTo>
                  <a:lnTo>
                    <a:pt x="4808" y="1013"/>
                  </a:lnTo>
                  <a:lnTo>
                    <a:pt x="4630" y="814"/>
                  </a:lnTo>
                  <a:lnTo>
                    <a:pt x="4432" y="630"/>
                  </a:lnTo>
                  <a:lnTo>
                    <a:pt x="4211" y="464"/>
                  </a:lnTo>
                  <a:lnTo>
                    <a:pt x="3974" y="320"/>
                  </a:lnTo>
                  <a:lnTo>
                    <a:pt x="3730" y="204"/>
                  </a:lnTo>
                  <a:lnTo>
                    <a:pt x="3478" y="114"/>
                  </a:lnTo>
                  <a:lnTo>
                    <a:pt x="3222" y="50"/>
                  </a:lnTo>
                  <a:lnTo>
                    <a:pt x="2962" y="13"/>
                  </a:lnTo>
                  <a:lnTo>
                    <a:pt x="2703" y="0"/>
                  </a:lnTo>
                  <a:lnTo>
                    <a:pt x="2443" y="12"/>
                  </a:lnTo>
                  <a:lnTo>
                    <a:pt x="2187" y="49"/>
                  </a:lnTo>
                  <a:lnTo>
                    <a:pt x="1935" y="111"/>
                  </a:lnTo>
                  <a:lnTo>
                    <a:pt x="1690" y="196"/>
                  </a:lnTo>
                  <a:lnTo>
                    <a:pt x="1454" y="304"/>
                  </a:lnTo>
                  <a:lnTo>
                    <a:pt x="1227" y="436"/>
                  </a:lnTo>
                  <a:lnTo>
                    <a:pt x="1014" y="590"/>
                  </a:lnTo>
                  <a:lnTo>
                    <a:pt x="814" y="768"/>
                  </a:lnTo>
                  <a:lnTo>
                    <a:pt x="630" y="967"/>
                  </a:lnTo>
                  <a:lnTo>
                    <a:pt x="464" y="1188"/>
                  </a:lnTo>
                  <a:lnTo>
                    <a:pt x="320" y="1424"/>
                  </a:lnTo>
                  <a:lnTo>
                    <a:pt x="205" y="1669"/>
                  </a:lnTo>
                  <a:lnTo>
                    <a:pt x="114" y="1920"/>
                  </a:lnTo>
                  <a:lnTo>
                    <a:pt x="50" y="2178"/>
                  </a:lnTo>
                  <a:lnTo>
                    <a:pt x="13" y="2437"/>
                  </a:lnTo>
                  <a:lnTo>
                    <a:pt x="0" y="2696"/>
                  </a:lnTo>
                  <a:lnTo>
                    <a:pt x="13" y="2956"/>
                  </a:lnTo>
                  <a:lnTo>
                    <a:pt x="49" y="3212"/>
                  </a:lnTo>
                  <a:lnTo>
                    <a:pt x="111" y="3464"/>
                  </a:lnTo>
                  <a:lnTo>
                    <a:pt x="196" y="3709"/>
                  </a:lnTo>
                  <a:lnTo>
                    <a:pt x="305" y="3945"/>
                  </a:lnTo>
                  <a:lnTo>
                    <a:pt x="436" y="4172"/>
                  </a:lnTo>
                  <a:lnTo>
                    <a:pt x="592" y="4386"/>
                  </a:lnTo>
                  <a:lnTo>
                    <a:pt x="768" y="4585"/>
                  </a:lnTo>
                  <a:lnTo>
                    <a:pt x="968" y="4769"/>
                  </a:lnTo>
                  <a:lnTo>
                    <a:pt x="1189" y="4936"/>
                  </a:lnTo>
                  <a:close/>
                </a:path>
              </a:pathLst>
            </a:custGeom>
            <a:solidFill>
              <a:srgbClr val="739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19840" y="218880"/>
              <a:ext cx="406080" cy="401040"/>
            </a:xfrm>
            <a:custGeom>
              <a:avLst/>
              <a:gdLst/>
              <a:ahLst/>
              <a:rect l="l" t="t" r="r" b="b"/>
              <a:pathLst>
                <a:path w="5237" h="5238">
                  <a:moveTo>
                    <a:pt x="1152" y="4789"/>
                  </a:moveTo>
                  <a:lnTo>
                    <a:pt x="1381" y="4928"/>
                  </a:lnTo>
                  <a:lnTo>
                    <a:pt x="1619" y="5040"/>
                  </a:lnTo>
                  <a:lnTo>
                    <a:pt x="1862" y="5127"/>
                  </a:lnTo>
                  <a:lnTo>
                    <a:pt x="2111" y="5189"/>
                  </a:lnTo>
                  <a:lnTo>
                    <a:pt x="2363" y="5225"/>
                  </a:lnTo>
                  <a:lnTo>
                    <a:pt x="2615" y="5238"/>
                  </a:lnTo>
                  <a:lnTo>
                    <a:pt x="2867" y="5226"/>
                  </a:lnTo>
                  <a:lnTo>
                    <a:pt x="3116" y="5190"/>
                  </a:lnTo>
                  <a:lnTo>
                    <a:pt x="3359" y="5131"/>
                  </a:lnTo>
                  <a:lnTo>
                    <a:pt x="3597" y="5049"/>
                  </a:lnTo>
                  <a:lnTo>
                    <a:pt x="3827" y="4942"/>
                  </a:lnTo>
                  <a:lnTo>
                    <a:pt x="4047" y="4815"/>
                  </a:lnTo>
                  <a:lnTo>
                    <a:pt x="4254" y="4665"/>
                  </a:lnTo>
                  <a:lnTo>
                    <a:pt x="4448" y="4494"/>
                  </a:lnTo>
                  <a:lnTo>
                    <a:pt x="4626" y="4300"/>
                  </a:lnTo>
                  <a:lnTo>
                    <a:pt x="4788" y="4087"/>
                  </a:lnTo>
                  <a:lnTo>
                    <a:pt x="4926" y="3857"/>
                  </a:lnTo>
                  <a:lnTo>
                    <a:pt x="5039" y="3619"/>
                  </a:lnTo>
                  <a:lnTo>
                    <a:pt x="5126" y="3374"/>
                  </a:lnTo>
                  <a:lnTo>
                    <a:pt x="5188" y="3126"/>
                  </a:lnTo>
                  <a:lnTo>
                    <a:pt x="5225" y="2875"/>
                  </a:lnTo>
                  <a:lnTo>
                    <a:pt x="5237" y="2623"/>
                  </a:lnTo>
                  <a:lnTo>
                    <a:pt x="5225" y="2371"/>
                  </a:lnTo>
                  <a:lnTo>
                    <a:pt x="5189" y="2122"/>
                  </a:lnTo>
                  <a:lnTo>
                    <a:pt x="5130" y="1878"/>
                  </a:lnTo>
                  <a:lnTo>
                    <a:pt x="5047" y="1641"/>
                  </a:lnTo>
                  <a:lnTo>
                    <a:pt x="4942" y="1411"/>
                  </a:lnTo>
                  <a:lnTo>
                    <a:pt x="4813" y="1191"/>
                  </a:lnTo>
                  <a:lnTo>
                    <a:pt x="4664" y="984"/>
                  </a:lnTo>
                  <a:lnTo>
                    <a:pt x="4492" y="789"/>
                  </a:lnTo>
                  <a:lnTo>
                    <a:pt x="4299" y="610"/>
                  </a:lnTo>
                  <a:lnTo>
                    <a:pt x="4085" y="450"/>
                  </a:lnTo>
                  <a:lnTo>
                    <a:pt x="3856" y="311"/>
                  </a:lnTo>
                  <a:lnTo>
                    <a:pt x="3617" y="198"/>
                  </a:lnTo>
                  <a:lnTo>
                    <a:pt x="3374" y="111"/>
                  </a:lnTo>
                  <a:lnTo>
                    <a:pt x="3125" y="49"/>
                  </a:lnTo>
                  <a:lnTo>
                    <a:pt x="2873" y="13"/>
                  </a:lnTo>
                  <a:lnTo>
                    <a:pt x="2621" y="0"/>
                  </a:lnTo>
                  <a:lnTo>
                    <a:pt x="2369" y="12"/>
                  </a:lnTo>
                  <a:lnTo>
                    <a:pt x="2121" y="48"/>
                  </a:lnTo>
                  <a:lnTo>
                    <a:pt x="1877" y="108"/>
                  </a:lnTo>
                  <a:lnTo>
                    <a:pt x="1639" y="189"/>
                  </a:lnTo>
                  <a:lnTo>
                    <a:pt x="1409" y="296"/>
                  </a:lnTo>
                  <a:lnTo>
                    <a:pt x="1189" y="423"/>
                  </a:lnTo>
                  <a:lnTo>
                    <a:pt x="982" y="573"/>
                  </a:lnTo>
                  <a:lnTo>
                    <a:pt x="788" y="744"/>
                  </a:lnTo>
                  <a:lnTo>
                    <a:pt x="610" y="938"/>
                  </a:lnTo>
                  <a:lnTo>
                    <a:pt x="449" y="1153"/>
                  </a:lnTo>
                  <a:lnTo>
                    <a:pt x="310" y="1381"/>
                  </a:lnTo>
                  <a:lnTo>
                    <a:pt x="197" y="1619"/>
                  </a:lnTo>
                  <a:lnTo>
                    <a:pt x="110" y="1863"/>
                  </a:lnTo>
                  <a:lnTo>
                    <a:pt x="49" y="2112"/>
                  </a:lnTo>
                  <a:lnTo>
                    <a:pt x="11" y="2363"/>
                  </a:lnTo>
                  <a:lnTo>
                    <a:pt x="0" y="2615"/>
                  </a:lnTo>
                  <a:lnTo>
                    <a:pt x="11" y="2867"/>
                  </a:lnTo>
                  <a:lnTo>
                    <a:pt x="47" y="3116"/>
                  </a:lnTo>
                  <a:lnTo>
                    <a:pt x="106" y="3361"/>
                  </a:lnTo>
                  <a:lnTo>
                    <a:pt x="189" y="3598"/>
                  </a:lnTo>
                  <a:lnTo>
                    <a:pt x="294" y="3827"/>
                  </a:lnTo>
                  <a:lnTo>
                    <a:pt x="423" y="4047"/>
                  </a:lnTo>
                  <a:lnTo>
                    <a:pt x="573" y="4255"/>
                  </a:lnTo>
                  <a:lnTo>
                    <a:pt x="744" y="4449"/>
                  </a:lnTo>
                  <a:lnTo>
                    <a:pt x="937" y="4628"/>
                  </a:lnTo>
                  <a:lnTo>
                    <a:pt x="1152" y="4789"/>
                  </a:lnTo>
                  <a:close/>
                </a:path>
              </a:pathLst>
            </a:custGeom>
            <a:solidFill>
              <a:srgbClr val="769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0280" y="221760"/>
              <a:ext cx="393120" cy="388440"/>
            </a:xfrm>
            <a:custGeom>
              <a:avLst/>
              <a:gdLst/>
              <a:ahLst/>
              <a:rect l="l" t="t" r="r" b="b"/>
              <a:pathLst>
                <a:path w="5076" h="5077">
                  <a:moveTo>
                    <a:pt x="1117" y="4643"/>
                  </a:moveTo>
                  <a:lnTo>
                    <a:pt x="1339" y="4777"/>
                  </a:lnTo>
                  <a:lnTo>
                    <a:pt x="1569" y="4886"/>
                  </a:lnTo>
                  <a:lnTo>
                    <a:pt x="1806" y="4970"/>
                  </a:lnTo>
                  <a:lnTo>
                    <a:pt x="2046" y="5030"/>
                  </a:lnTo>
                  <a:lnTo>
                    <a:pt x="2291" y="5066"/>
                  </a:lnTo>
                  <a:lnTo>
                    <a:pt x="2535" y="5077"/>
                  </a:lnTo>
                  <a:lnTo>
                    <a:pt x="2779" y="5066"/>
                  </a:lnTo>
                  <a:lnTo>
                    <a:pt x="3020" y="5031"/>
                  </a:lnTo>
                  <a:lnTo>
                    <a:pt x="3256" y="4973"/>
                  </a:lnTo>
                  <a:lnTo>
                    <a:pt x="3487" y="4893"/>
                  </a:lnTo>
                  <a:lnTo>
                    <a:pt x="3710" y="4790"/>
                  </a:lnTo>
                  <a:lnTo>
                    <a:pt x="3923" y="4667"/>
                  </a:lnTo>
                  <a:lnTo>
                    <a:pt x="4124" y="4521"/>
                  </a:lnTo>
                  <a:lnTo>
                    <a:pt x="4312" y="4354"/>
                  </a:lnTo>
                  <a:lnTo>
                    <a:pt x="4485" y="4167"/>
                  </a:lnTo>
                  <a:lnTo>
                    <a:pt x="4641" y="3960"/>
                  </a:lnTo>
                  <a:lnTo>
                    <a:pt x="4775" y="3737"/>
                  </a:lnTo>
                  <a:lnTo>
                    <a:pt x="4885" y="3507"/>
                  </a:lnTo>
                  <a:lnTo>
                    <a:pt x="4969" y="3270"/>
                  </a:lnTo>
                  <a:lnTo>
                    <a:pt x="5029" y="3030"/>
                  </a:lnTo>
                  <a:lnTo>
                    <a:pt x="5065" y="2785"/>
                  </a:lnTo>
                  <a:lnTo>
                    <a:pt x="5076" y="2541"/>
                  </a:lnTo>
                  <a:lnTo>
                    <a:pt x="5065" y="2297"/>
                  </a:lnTo>
                  <a:lnTo>
                    <a:pt x="5031" y="2056"/>
                  </a:lnTo>
                  <a:lnTo>
                    <a:pt x="4972" y="1820"/>
                  </a:lnTo>
                  <a:lnTo>
                    <a:pt x="4892" y="1589"/>
                  </a:lnTo>
                  <a:lnTo>
                    <a:pt x="4790" y="1366"/>
                  </a:lnTo>
                  <a:lnTo>
                    <a:pt x="4666" y="1154"/>
                  </a:lnTo>
                  <a:lnTo>
                    <a:pt x="4520" y="953"/>
                  </a:lnTo>
                  <a:lnTo>
                    <a:pt x="4354" y="764"/>
                  </a:lnTo>
                  <a:lnTo>
                    <a:pt x="4167" y="591"/>
                  </a:lnTo>
                  <a:lnTo>
                    <a:pt x="3960" y="436"/>
                  </a:lnTo>
                  <a:lnTo>
                    <a:pt x="3737" y="301"/>
                  </a:lnTo>
                  <a:lnTo>
                    <a:pt x="3507" y="191"/>
                  </a:lnTo>
                  <a:lnTo>
                    <a:pt x="3270" y="107"/>
                  </a:lnTo>
                  <a:lnTo>
                    <a:pt x="3029" y="48"/>
                  </a:lnTo>
                  <a:lnTo>
                    <a:pt x="2785" y="12"/>
                  </a:lnTo>
                  <a:lnTo>
                    <a:pt x="2541" y="0"/>
                  </a:lnTo>
                  <a:lnTo>
                    <a:pt x="2297" y="12"/>
                  </a:lnTo>
                  <a:lnTo>
                    <a:pt x="2056" y="47"/>
                  </a:lnTo>
                  <a:lnTo>
                    <a:pt x="1819" y="104"/>
                  </a:lnTo>
                  <a:lnTo>
                    <a:pt x="1589" y="184"/>
                  </a:lnTo>
                  <a:lnTo>
                    <a:pt x="1366" y="286"/>
                  </a:lnTo>
                  <a:lnTo>
                    <a:pt x="1153" y="410"/>
                  </a:lnTo>
                  <a:lnTo>
                    <a:pt x="952" y="556"/>
                  </a:lnTo>
                  <a:lnTo>
                    <a:pt x="764" y="722"/>
                  </a:lnTo>
                  <a:lnTo>
                    <a:pt x="591" y="909"/>
                  </a:lnTo>
                  <a:lnTo>
                    <a:pt x="436" y="1117"/>
                  </a:lnTo>
                  <a:lnTo>
                    <a:pt x="301" y="1340"/>
                  </a:lnTo>
                  <a:lnTo>
                    <a:pt x="191" y="1569"/>
                  </a:lnTo>
                  <a:lnTo>
                    <a:pt x="107" y="1806"/>
                  </a:lnTo>
                  <a:lnTo>
                    <a:pt x="48" y="2048"/>
                  </a:lnTo>
                  <a:lnTo>
                    <a:pt x="12" y="2291"/>
                  </a:lnTo>
                  <a:lnTo>
                    <a:pt x="0" y="2536"/>
                  </a:lnTo>
                  <a:lnTo>
                    <a:pt x="12" y="2779"/>
                  </a:lnTo>
                  <a:lnTo>
                    <a:pt x="46" y="3020"/>
                  </a:lnTo>
                  <a:lnTo>
                    <a:pt x="104" y="3257"/>
                  </a:lnTo>
                  <a:lnTo>
                    <a:pt x="184" y="3488"/>
                  </a:lnTo>
                  <a:lnTo>
                    <a:pt x="286" y="3710"/>
                  </a:lnTo>
                  <a:lnTo>
                    <a:pt x="409" y="3923"/>
                  </a:lnTo>
                  <a:lnTo>
                    <a:pt x="555" y="4125"/>
                  </a:lnTo>
                  <a:lnTo>
                    <a:pt x="722" y="4313"/>
                  </a:lnTo>
                  <a:lnTo>
                    <a:pt x="909" y="4485"/>
                  </a:lnTo>
                  <a:lnTo>
                    <a:pt x="1117" y="4643"/>
                  </a:lnTo>
                  <a:close/>
                </a:path>
              </a:pathLst>
            </a:custGeom>
            <a:solidFill>
              <a:srgbClr val="789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9280" y="223200"/>
              <a:ext cx="380160" cy="376560"/>
            </a:xfrm>
            <a:custGeom>
              <a:avLst/>
              <a:gdLst/>
              <a:ahLst/>
              <a:rect l="l" t="t" r="r" b="b"/>
              <a:pathLst>
                <a:path w="4917" h="4917">
                  <a:moveTo>
                    <a:pt x="1082" y="4495"/>
                  </a:moveTo>
                  <a:lnTo>
                    <a:pt x="1297" y="4624"/>
                  </a:lnTo>
                  <a:lnTo>
                    <a:pt x="1520" y="4731"/>
                  </a:lnTo>
                  <a:lnTo>
                    <a:pt x="1749" y="4813"/>
                  </a:lnTo>
                  <a:lnTo>
                    <a:pt x="1983" y="4870"/>
                  </a:lnTo>
                  <a:lnTo>
                    <a:pt x="2219" y="4905"/>
                  </a:lnTo>
                  <a:lnTo>
                    <a:pt x="2456" y="4917"/>
                  </a:lnTo>
                  <a:lnTo>
                    <a:pt x="2692" y="4905"/>
                  </a:lnTo>
                  <a:lnTo>
                    <a:pt x="2926" y="4872"/>
                  </a:lnTo>
                  <a:lnTo>
                    <a:pt x="3154" y="4816"/>
                  </a:lnTo>
                  <a:lnTo>
                    <a:pt x="3377" y="4738"/>
                  </a:lnTo>
                  <a:lnTo>
                    <a:pt x="3593" y="4639"/>
                  </a:lnTo>
                  <a:lnTo>
                    <a:pt x="3800" y="4519"/>
                  </a:lnTo>
                  <a:lnTo>
                    <a:pt x="3994" y="4379"/>
                  </a:lnTo>
                  <a:lnTo>
                    <a:pt x="4176" y="4217"/>
                  </a:lnTo>
                  <a:lnTo>
                    <a:pt x="4343" y="4037"/>
                  </a:lnTo>
                  <a:lnTo>
                    <a:pt x="4495" y="3836"/>
                  </a:lnTo>
                  <a:lnTo>
                    <a:pt x="4625" y="3620"/>
                  </a:lnTo>
                  <a:lnTo>
                    <a:pt x="4731" y="3397"/>
                  </a:lnTo>
                  <a:lnTo>
                    <a:pt x="4812" y="3168"/>
                  </a:lnTo>
                  <a:lnTo>
                    <a:pt x="4870" y="2934"/>
                  </a:lnTo>
                  <a:lnTo>
                    <a:pt x="4905" y="2698"/>
                  </a:lnTo>
                  <a:lnTo>
                    <a:pt x="4917" y="2461"/>
                  </a:lnTo>
                  <a:lnTo>
                    <a:pt x="4905" y="2225"/>
                  </a:lnTo>
                  <a:lnTo>
                    <a:pt x="4871" y="1991"/>
                  </a:lnTo>
                  <a:lnTo>
                    <a:pt x="4816" y="1763"/>
                  </a:lnTo>
                  <a:lnTo>
                    <a:pt x="4738" y="1539"/>
                  </a:lnTo>
                  <a:lnTo>
                    <a:pt x="4639" y="1324"/>
                  </a:lnTo>
                  <a:lnTo>
                    <a:pt x="4519" y="1117"/>
                  </a:lnTo>
                  <a:lnTo>
                    <a:pt x="4379" y="923"/>
                  </a:lnTo>
                  <a:lnTo>
                    <a:pt x="4217" y="740"/>
                  </a:lnTo>
                  <a:lnTo>
                    <a:pt x="4037" y="573"/>
                  </a:lnTo>
                  <a:lnTo>
                    <a:pt x="3836" y="422"/>
                  </a:lnTo>
                  <a:lnTo>
                    <a:pt x="3620" y="291"/>
                  </a:lnTo>
                  <a:lnTo>
                    <a:pt x="3397" y="186"/>
                  </a:lnTo>
                  <a:lnTo>
                    <a:pt x="3168" y="104"/>
                  </a:lnTo>
                  <a:lnTo>
                    <a:pt x="2934" y="47"/>
                  </a:lnTo>
                  <a:lnTo>
                    <a:pt x="2698" y="12"/>
                  </a:lnTo>
                  <a:lnTo>
                    <a:pt x="2461" y="0"/>
                  </a:lnTo>
                  <a:lnTo>
                    <a:pt x="2225" y="12"/>
                  </a:lnTo>
                  <a:lnTo>
                    <a:pt x="1991" y="46"/>
                  </a:lnTo>
                  <a:lnTo>
                    <a:pt x="1763" y="101"/>
                  </a:lnTo>
                  <a:lnTo>
                    <a:pt x="1539" y="179"/>
                  </a:lnTo>
                  <a:lnTo>
                    <a:pt x="1324" y="277"/>
                  </a:lnTo>
                  <a:lnTo>
                    <a:pt x="1117" y="398"/>
                  </a:lnTo>
                  <a:lnTo>
                    <a:pt x="923" y="538"/>
                  </a:lnTo>
                  <a:lnTo>
                    <a:pt x="740" y="700"/>
                  </a:lnTo>
                  <a:lnTo>
                    <a:pt x="573" y="880"/>
                  </a:lnTo>
                  <a:lnTo>
                    <a:pt x="422" y="1082"/>
                  </a:lnTo>
                  <a:lnTo>
                    <a:pt x="291" y="1297"/>
                  </a:lnTo>
                  <a:lnTo>
                    <a:pt x="186" y="1520"/>
                  </a:lnTo>
                  <a:lnTo>
                    <a:pt x="104" y="1749"/>
                  </a:lnTo>
                  <a:lnTo>
                    <a:pt x="47" y="1983"/>
                  </a:lnTo>
                  <a:lnTo>
                    <a:pt x="12" y="2219"/>
                  </a:lnTo>
                  <a:lnTo>
                    <a:pt x="0" y="2456"/>
                  </a:lnTo>
                  <a:lnTo>
                    <a:pt x="12" y="2692"/>
                  </a:lnTo>
                  <a:lnTo>
                    <a:pt x="46" y="2926"/>
                  </a:lnTo>
                  <a:lnTo>
                    <a:pt x="101" y="3154"/>
                  </a:lnTo>
                  <a:lnTo>
                    <a:pt x="179" y="3377"/>
                  </a:lnTo>
                  <a:lnTo>
                    <a:pt x="277" y="3593"/>
                  </a:lnTo>
                  <a:lnTo>
                    <a:pt x="398" y="3799"/>
                  </a:lnTo>
                  <a:lnTo>
                    <a:pt x="538" y="3994"/>
                  </a:lnTo>
                  <a:lnTo>
                    <a:pt x="700" y="4176"/>
                  </a:lnTo>
                  <a:lnTo>
                    <a:pt x="880" y="4343"/>
                  </a:lnTo>
                  <a:lnTo>
                    <a:pt x="1082" y="4495"/>
                  </a:lnTo>
                  <a:close/>
                </a:path>
              </a:pathLst>
            </a:custGeom>
            <a:solidFill>
              <a:srgbClr val="7b9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48640" y="226080"/>
              <a:ext cx="367920" cy="363600"/>
            </a:xfrm>
            <a:custGeom>
              <a:avLst/>
              <a:gdLst/>
              <a:ahLst/>
              <a:rect l="l" t="t" r="r" b="b"/>
              <a:pathLst>
                <a:path w="4755" h="4755">
                  <a:moveTo>
                    <a:pt x="1046" y="4347"/>
                  </a:moveTo>
                  <a:lnTo>
                    <a:pt x="1255" y="4472"/>
                  </a:lnTo>
                  <a:lnTo>
                    <a:pt x="1470" y="4574"/>
                  </a:lnTo>
                  <a:lnTo>
                    <a:pt x="1692" y="4654"/>
                  </a:lnTo>
                  <a:lnTo>
                    <a:pt x="1918" y="4710"/>
                  </a:lnTo>
                  <a:lnTo>
                    <a:pt x="2146" y="4743"/>
                  </a:lnTo>
                  <a:lnTo>
                    <a:pt x="2375" y="4755"/>
                  </a:lnTo>
                  <a:lnTo>
                    <a:pt x="2604" y="4744"/>
                  </a:lnTo>
                  <a:lnTo>
                    <a:pt x="2829" y="4712"/>
                  </a:lnTo>
                  <a:lnTo>
                    <a:pt x="3051" y="4657"/>
                  </a:lnTo>
                  <a:lnTo>
                    <a:pt x="3267" y="4583"/>
                  </a:lnTo>
                  <a:lnTo>
                    <a:pt x="3475" y="4487"/>
                  </a:lnTo>
                  <a:lnTo>
                    <a:pt x="3675" y="4371"/>
                  </a:lnTo>
                  <a:lnTo>
                    <a:pt x="3864" y="4234"/>
                  </a:lnTo>
                  <a:lnTo>
                    <a:pt x="4040" y="4079"/>
                  </a:lnTo>
                  <a:lnTo>
                    <a:pt x="4202" y="3904"/>
                  </a:lnTo>
                  <a:lnTo>
                    <a:pt x="4348" y="3709"/>
                  </a:lnTo>
                  <a:lnTo>
                    <a:pt x="4474" y="3501"/>
                  </a:lnTo>
                  <a:lnTo>
                    <a:pt x="4576" y="3285"/>
                  </a:lnTo>
                  <a:lnTo>
                    <a:pt x="4654" y="3063"/>
                  </a:lnTo>
                  <a:lnTo>
                    <a:pt x="4711" y="2837"/>
                  </a:lnTo>
                  <a:lnTo>
                    <a:pt x="4745" y="2609"/>
                  </a:lnTo>
                  <a:lnTo>
                    <a:pt x="4755" y="2380"/>
                  </a:lnTo>
                  <a:lnTo>
                    <a:pt x="4745" y="2152"/>
                  </a:lnTo>
                  <a:lnTo>
                    <a:pt x="4712" y="1926"/>
                  </a:lnTo>
                  <a:lnTo>
                    <a:pt x="4659" y="1704"/>
                  </a:lnTo>
                  <a:lnTo>
                    <a:pt x="4583" y="1488"/>
                  </a:lnTo>
                  <a:lnTo>
                    <a:pt x="4488" y="1280"/>
                  </a:lnTo>
                  <a:lnTo>
                    <a:pt x="4372" y="1080"/>
                  </a:lnTo>
                  <a:lnTo>
                    <a:pt x="4236" y="892"/>
                  </a:lnTo>
                  <a:lnTo>
                    <a:pt x="4079" y="715"/>
                  </a:lnTo>
                  <a:lnTo>
                    <a:pt x="3904" y="554"/>
                  </a:lnTo>
                  <a:lnTo>
                    <a:pt x="3710" y="408"/>
                  </a:lnTo>
                  <a:lnTo>
                    <a:pt x="3501" y="282"/>
                  </a:lnTo>
                  <a:lnTo>
                    <a:pt x="3285" y="180"/>
                  </a:lnTo>
                  <a:lnTo>
                    <a:pt x="3064" y="100"/>
                  </a:lnTo>
                  <a:lnTo>
                    <a:pt x="2839" y="44"/>
                  </a:lnTo>
                  <a:lnTo>
                    <a:pt x="2610" y="11"/>
                  </a:lnTo>
                  <a:lnTo>
                    <a:pt x="2380" y="0"/>
                  </a:lnTo>
                  <a:lnTo>
                    <a:pt x="2152" y="11"/>
                  </a:lnTo>
                  <a:lnTo>
                    <a:pt x="1927" y="42"/>
                  </a:lnTo>
                  <a:lnTo>
                    <a:pt x="1704" y="97"/>
                  </a:lnTo>
                  <a:lnTo>
                    <a:pt x="1489" y="172"/>
                  </a:lnTo>
                  <a:lnTo>
                    <a:pt x="1280" y="268"/>
                  </a:lnTo>
                  <a:lnTo>
                    <a:pt x="1081" y="384"/>
                  </a:lnTo>
                  <a:lnTo>
                    <a:pt x="892" y="520"/>
                  </a:lnTo>
                  <a:lnTo>
                    <a:pt x="717" y="676"/>
                  </a:lnTo>
                  <a:lnTo>
                    <a:pt x="554" y="851"/>
                  </a:lnTo>
                  <a:lnTo>
                    <a:pt x="408" y="1046"/>
                  </a:lnTo>
                  <a:lnTo>
                    <a:pt x="282" y="1253"/>
                  </a:lnTo>
                  <a:lnTo>
                    <a:pt x="180" y="1469"/>
                  </a:lnTo>
                  <a:lnTo>
                    <a:pt x="101" y="1691"/>
                  </a:lnTo>
                  <a:lnTo>
                    <a:pt x="45" y="1917"/>
                  </a:lnTo>
                  <a:lnTo>
                    <a:pt x="12" y="2145"/>
                  </a:lnTo>
                  <a:lnTo>
                    <a:pt x="0" y="2374"/>
                  </a:lnTo>
                  <a:lnTo>
                    <a:pt x="11" y="2602"/>
                  </a:lnTo>
                  <a:lnTo>
                    <a:pt x="44" y="2829"/>
                  </a:lnTo>
                  <a:lnTo>
                    <a:pt x="98" y="3050"/>
                  </a:lnTo>
                  <a:lnTo>
                    <a:pt x="172" y="3266"/>
                  </a:lnTo>
                  <a:lnTo>
                    <a:pt x="268" y="3474"/>
                  </a:lnTo>
                  <a:lnTo>
                    <a:pt x="384" y="3674"/>
                  </a:lnTo>
                  <a:lnTo>
                    <a:pt x="520" y="3862"/>
                  </a:lnTo>
                  <a:lnTo>
                    <a:pt x="676" y="4039"/>
                  </a:lnTo>
                  <a:lnTo>
                    <a:pt x="852" y="4200"/>
                  </a:lnTo>
                  <a:lnTo>
                    <a:pt x="1046" y="4347"/>
                  </a:lnTo>
                  <a:close/>
                </a:path>
              </a:pathLst>
            </a:custGeom>
            <a:solidFill>
              <a:srgbClr val="7e9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58000" y="228960"/>
              <a:ext cx="356040" cy="351720"/>
            </a:xfrm>
            <a:custGeom>
              <a:avLst/>
              <a:gdLst/>
              <a:ahLst/>
              <a:rect l="l" t="t" r="r" b="b"/>
              <a:pathLst>
                <a:path w="4595" h="4594">
                  <a:moveTo>
                    <a:pt x="1012" y="4201"/>
                  </a:moveTo>
                  <a:lnTo>
                    <a:pt x="1213" y="4322"/>
                  </a:lnTo>
                  <a:lnTo>
                    <a:pt x="1422" y="4421"/>
                  </a:lnTo>
                  <a:lnTo>
                    <a:pt x="1635" y="4498"/>
                  </a:lnTo>
                  <a:lnTo>
                    <a:pt x="1853" y="4552"/>
                  </a:lnTo>
                  <a:lnTo>
                    <a:pt x="2075" y="4584"/>
                  </a:lnTo>
                  <a:lnTo>
                    <a:pt x="2296" y="4594"/>
                  </a:lnTo>
                  <a:lnTo>
                    <a:pt x="2516" y="4584"/>
                  </a:lnTo>
                  <a:lnTo>
                    <a:pt x="2735" y="4553"/>
                  </a:lnTo>
                  <a:lnTo>
                    <a:pt x="2948" y="4500"/>
                  </a:lnTo>
                  <a:lnTo>
                    <a:pt x="3157" y="4428"/>
                  </a:lnTo>
                  <a:lnTo>
                    <a:pt x="3359" y="4335"/>
                  </a:lnTo>
                  <a:lnTo>
                    <a:pt x="3551" y="4223"/>
                  </a:lnTo>
                  <a:lnTo>
                    <a:pt x="3733" y="4092"/>
                  </a:lnTo>
                  <a:lnTo>
                    <a:pt x="3903" y="3941"/>
                  </a:lnTo>
                  <a:lnTo>
                    <a:pt x="4060" y="3772"/>
                  </a:lnTo>
                  <a:lnTo>
                    <a:pt x="4202" y="3585"/>
                  </a:lnTo>
                  <a:lnTo>
                    <a:pt x="4323" y="3383"/>
                  </a:lnTo>
                  <a:lnTo>
                    <a:pt x="4422" y="3174"/>
                  </a:lnTo>
                  <a:lnTo>
                    <a:pt x="4498" y="2961"/>
                  </a:lnTo>
                  <a:lnTo>
                    <a:pt x="4553" y="2742"/>
                  </a:lnTo>
                  <a:lnTo>
                    <a:pt x="4585" y="2521"/>
                  </a:lnTo>
                  <a:lnTo>
                    <a:pt x="4595" y="2299"/>
                  </a:lnTo>
                  <a:lnTo>
                    <a:pt x="4585" y="2079"/>
                  </a:lnTo>
                  <a:lnTo>
                    <a:pt x="4554" y="1861"/>
                  </a:lnTo>
                  <a:lnTo>
                    <a:pt x="4501" y="1647"/>
                  </a:lnTo>
                  <a:lnTo>
                    <a:pt x="4428" y="1438"/>
                  </a:lnTo>
                  <a:lnTo>
                    <a:pt x="4336" y="1236"/>
                  </a:lnTo>
                  <a:lnTo>
                    <a:pt x="4224" y="1044"/>
                  </a:lnTo>
                  <a:lnTo>
                    <a:pt x="4092" y="862"/>
                  </a:lnTo>
                  <a:lnTo>
                    <a:pt x="3941" y="692"/>
                  </a:lnTo>
                  <a:lnTo>
                    <a:pt x="3772" y="535"/>
                  </a:lnTo>
                  <a:lnTo>
                    <a:pt x="3585" y="394"/>
                  </a:lnTo>
                  <a:lnTo>
                    <a:pt x="3383" y="272"/>
                  </a:lnTo>
                  <a:lnTo>
                    <a:pt x="3175" y="173"/>
                  </a:lnTo>
                  <a:lnTo>
                    <a:pt x="2961" y="97"/>
                  </a:lnTo>
                  <a:lnTo>
                    <a:pt x="2742" y="42"/>
                  </a:lnTo>
                  <a:lnTo>
                    <a:pt x="2522" y="10"/>
                  </a:lnTo>
                  <a:lnTo>
                    <a:pt x="2301" y="0"/>
                  </a:lnTo>
                  <a:lnTo>
                    <a:pt x="2080" y="10"/>
                  </a:lnTo>
                  <a:lnTo>
                    <a:pt x="1862" y="41"/>
                  </a:lnTo>
                  <a:lnTo>
                    <a:pt x="1648" y="93"/>
                  </a:lnTo>
                  <a:lnTo>
                    <a:pt x="1439" y="166"/>
                  </a:lnTo>
                  <a:lnTo>
                    <a:pt x="1238" y="258"/>
                  </a:lnTo>
                  <a:lnTo>
                    <a:pt x="1045" y="371"/>
                  </a:lnTo>
                  <a:lnTo>
                    <a:pt x="863" y="502"/>
                  </a:lnTo>
                  <a:lnTo>
                    <a:pt x="692" y="653"/>
                  </a:lnTo>
                  <a:lnTo>
                    <a:pt x="536" y="823"/>
                  </a:lnTo>
                  <a:lnTo>
                    <a:pt x="395" y="1011"/>
                  </a:lnTo>
                  <a:lnTo>
                    <a:pt x="273" y="1212"/>
                  </a:lnTo>
                  <a:lnTo>
                    <a:pt x="174" y="1420"/>
                  </a:lnTo>
                  <a:lnTo>
                    <a:pt x="97" y="1634"/>
                  </a:lnTo>
                  <a:lnTo>
                    <a:pt x="43" y="1853"/>
                  </a:lnTo>
                  <a:lnTo>
                    <a:pt x="11" y="2073"/>
                  </a:lnTo>
                  <a:lnTo>
                    <a:pt x="0" y="2295"/>
                  </a:lnTo>
                  <a:lnTo>
                    <a:pt x="11" y="2515"/>
                  </a:lnTo>
                  <a:lnTo>
                    <a:pt x="43" y="2733"/>
                  </a:lnTo>
                  <a:lnTo>
                    <a:pt x="95" y="2948"/>
                  </a:lnTo>
                  <a:lnTo>
                    <a:pt x="167" y="3156"/>
                  </a:lnTo>
                  <a:lnTo>
                    <a:pt x="260" y="3358"/>
                  </a:lnTo>
                  <a:lnTo>
                    <a:pt x="372" y="3551"/>
                  </a:lnTo>
                  <a:lnTo>
                    <a:pt x="503" y="3732"/>
                  </a:lnTo>
                  <a:lnTo>
                    <a:pt x="654" y="3902"/>
                  </a:lnTo>
                  <a:lnTo>
                    <a:pt x="824" y="4060"/>
                  </a:lnTo>
                  <a:lnTo>
                    <a:pt x="1012" y="4201"/>
                  </a:lnTo>
                  <a:close/>
                </a:path>
              </a:pathLst>
            </a:custGeom>
            <a:solidFill>
              <a:srgbClr val="80a2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7360" y="230760"/>
              <a:ext cx="343080" cy="339480"/>
            </a:xfrm>
            <a:custGeom>
              <a:avLst/>
              <a:gdLst/>
              <a:ahLst/>
              <a:rect l="l" t="t" r="r" b="b"/>
              <a:pathLst>
                <a:path w="4434" h="4435">
                  <a:moveTo>
                    <a:pt x="975" y="4055"/>
                  </a:moveTo>
                  <a:lnTo>
                    <a:pt x="1169" y="4172"/>
                  </a:lnTo>
                  <a:lnTo>
                    <a:pt x="1370" y="4267"/>
                  </a:lnTo>
                  <a:lnTo>
                    <a:pt x="1577" y="4341"/>
                  </a:lnTo>
                  <a:lnTo>
                    <a:pt x="1788" y="4393"/>
                  </a:lnTo>
                  <a:lnTo>
                    <a:pt x="2000" y="4424"/>
                  </a:lnTo>
                  <a:lnTo>
                    <a:pt x="2214" y="4435"/>
                  </a:lnTo>
                  <a:lnTo>
                    <a:pt x="2427" y="4424"/>
                  </a:lnTo>
                  <a:lnTo>
                    <a:pt x="2637" y="4394"/>
                  </a:lnTo>
                  <a:lnTo>
                    <a:pt x="2844" y="4343"/>
                  </a:lnTo>
                  <a:lnTo>
                    <a:pt x="3045" y="4274"/>
                  </a:lnTo>
                  <a:lnTo>
                    <a:pt x="3240" y="4185"/>
                  </a:lnTo>
                  <a:lnTo>
                    <a:pt x="3426" y="4077"/>
                  </a:lnTo>
                  <a:lnTo>
                    <a:pt x="3601" y="3950"/>
                  </a:lnTo>
                  <a:lnTo>
                    <a:pt x="3765" y="3804"/>
                  </a:lnTo>
                  <a:lnTo>
                    <a:pt x="3916" y="3641"/>
                  </a:lnTo>
                  <a:lnTo>
                    <a:pt x="4053" y="3460"/>
                  </a:lnTo>
                  <a:lnTo>
                    <a:pt x="4170" y="3265"/>
                  </a:lnTo>
                  <a:lnTo>
                    <a:pt x="4266" y="3065"/>
                  </a:lnTo>
                  <a:lnTo>
                    <a:pt x="4339" y="2857"/>
                  </a:lnTo>
                  <a:lnTo>
                    <a:pt x="4391" y="2647"/>
                  </a:lnTo>
                  <a:lnTo>
                    <a:pt x="4423" y="2434"/>
                  </a:lnTo>
                  <a:lnTo>
                    <a:pt x="4434" y="2220"/>
                  </a:lnTo>
                  <a:lnTo>
                    <a:pt x="4423" y="2008"/>
                  </a:lnTo>
                  <a:lnTo>
                    <a:pt x="4393" y="1797"/>
                  </a:lnTo>
                  <a:lnTo>
                    <a:pt x="4342" y="1590"/>
                  </a:lnTo>
                  <a:lnTo>
                    <a:pt x="4272" y="1389"/>
                  </a:lnTo>
                  <a:lnTo>
                    <a:pt x="4183" y="1195"/>
                  </a:lnTo>
                  <a:lnTo>
                    <a:pt x="4076" y="1009"/>
                  </a:lnTo>
                  <a:lnTo>
                    <a:pt x="3948" y="833"/>
                  </a:lnTo>
                  <a:lnTo>
                    <a:pt x="3802" y="668"/>
                  </a:lnTo>
                  <a:lnTo>
                    <a:pt x="3639" y="517"/>
                  </a:lnTo>
                  <a:lnTo>
                    <a:pt x="3458" y="381"/>
                  </a:lnTo>
                  <a:lnTo>
                    <a:pt x="3263" y="263"/>
                  </a:lnTo>
                  <a:lnTo>
                    <a:pt x="3062" y="168"/>
                  </a:lnTo>
                  <a:lnTo>
                    <a:pt x="2855" y="94"/>
                  </a:lnTo>
                  <a:lnTo>
                    <a:pt x="2645" y="42"/>
                  </a:lnTo>
                  <a:lnTo>
                    <a:pt x="2432" y="10"/>
                  </a:lnTo>
                  <a:lnTo>
                    <a:pt x="2218" y="0"/>
                  </a:lnTo>
                  <a:lnTo>
                    <a:pt x="2006" y="10"/>
                  </a:lnTo>
                  <a:lnTo>
                    <a:pt x="1795" y="41"/>
                  </a:lnTo>
                  <a:lnTo>
                    <a:pt x="1589" y="91"/>
                  </a:lnTo>
                  <a:lnTo>
                    <a:pt x="1387" y="161"/>
                  </a:lnTo>
                  <a:lnTo>
                    <a:pt x="1193" y="251"/>
                  </a:lnTo>
                  <a:lnTo>
                    <a:pt x="1007" y="358"/>
                  </a:lnTo>
                  <a:lnTo>
                    <a:pt x="831" y="486"/>
                  </a:lnTo>
                  <a:lnTo>
                    <a:pt x="667" y="631"/>
                  </a:lnTo>
                  <a:lnTo>
                    <a:pt x="516" y="795"/>
                  </a:lnTo>
                  <a:lnTo>
                    <a:pt x="380" y="977"/>
                  </a:lnTo>
                  <a:lnTo>
                    <a:pt x="262" y="1170"/>
                  </a:lnTo>
                  <a:lnTo>
                    <a:pt x="166" y="1371"/>
                  </a:lnTo>
                  <a:lnTo>
                    <a:pt x="93" y="1578"/>
                  </a:lnTo>
                  <a:lnTo>
                    <a:pt x="41" y="1789"/>
                  </a:lnTo>
                  <a:lnTo>
                    <a:pt x="9" y="2001"/>
                  </a:lnTo>
                  <a:lnTo>
                    <a:pt x="0" y="2215"/>
                  </a:lnTo>
                  <a:lnTo>
                    <a:pt x="9" y="2428"/>
                  </a:lnTo>
                  <a:lnTo>
                    <a:pt x="40" y="2638"/>
                  </a:lnTo>
                  <a:lnTo>
                    <a:pt x="90" y="2846"/>
                  </a:lnTo>
                  <a:lnTo>
                    <a:pt x="160" y="3046"/>
                  </a:lnTo>
                  <a:lnTo>
                    <a:pt x="249" y="3241"/>
                  </a:lnTo>
                  <a:lnTo>
                    <a:pt x="358" y="3427"/>
                  </a:lnTo>
                  <a:lnTo>
                    <a:pt x="484" y="3602"/>
                  </a:lnTo>
                  <a:lnTo>
                    <a:pt x="630" y="3767"/>
                  </a:lnTo>
                  <a:lnTo>
                    <a:pt x="794" y="3918"/>
                  </a:lnTo>
                  <a:lnTo>
                    <a:pt x="975" y="4055"/>
                  </a:lnTo>
                  <a:close/>
                </a:path>
              </a:pathLst>
            </a:custGeom>
            <a:solidFill>
              <a:srgbClr val="83a5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6360" y="233640"/>
              <a:ext cx="330840" cy="326880"/>
            </a:xfrm>
            <a:custGeom>
              <a:avLst/>
              <a:gdLst/>
              <a:ahLst/>
              <a:rect l="l" t="t" r="r" b="b"/>
              <a:pathLst>
                <a:path w="4272" h="4273">
                  <a:moveTo>
                    <a:pt x="941" y="3908"/>
                  </a:moveTo>
                  <a:lnTo>
                    <a:pt x="1128" y="4020"/>
                  </a:lnTo>
                  <a:lnTo>
                    <a:pt x="1321" y="4112"/>
                  </a:lnTo>
                  <a:lnTo>
                    <a:pt x="1520" y="4183"/>
                  </a:lnTo>
                  <a:lnTo>
                    <a:pt x="1723" y="4233"/>
                  </a:lnTo>
                  <a:lnTo>
                    <a:pt x="1928" y="4264"/>
                  </a:lnTo>
                  <a:lnTo>
                    <a:pt x="2134" y="4273"/>
                  </a:lnTo>
                  <a:lnTo>
                    <a:pt x="2340" y="4264"/>
                  </a:lnTo>
                  <a:lnTo>
                    <a:pt x="2543" y="4234"/>
                  </a:lnTo>
                  <a:lnTo>
                    <a:pt x="2742" y="4185"/>
                  </a:lnTo>
                  <a:lnTo>
                    <a:pt x="2935" y="4118"/>
                  </a:lnTo>
                  <a:lnTo>
                    <a:pt x="3123" y="4032"/>
                  </a:lnTo>
                  <a:lnTo>
                    <a:pt x="3302" y="3928"/>
                  </a:lnTo>
                  <a:lnTo>
                    <a:pt x="3471" y="3805"/>
                  </a:lnTo>
                  <a:lnTo>
                    <a:pt x="3629" y="3665"/>
                  </a:lnTo>
                  <a:lnTo>
                    <a:pt x="3775" y="3508"/>
                  </a:lnTo>
                  <a:lnTo>
                    <a:pt x="3907" y="3333"/>
                  </a:lnTo>
                  <a:lnTo>
                    <a:pt x="4019" y="3145"/>
                  </a:lnTo>
                  <a:lnTo>
                    <a:pt x="4111" y="2952"/>
                  </a:lnTo>
                  <a:lnTo>
                    <a:pt x="4182" y="2753"/>
                  </a:lnTo>
                  <a:lnTo>
                    <a:pt x="4232" y="2550"/>
                  </a:lnTo>
                  <a:lnTo>
                    <a:pt x="4263" y="2345"/>
                  </a:lnTo>
                  <a:lnTo>
                    <a:pt x="4272" y="2139"/>
                  </a:lnTo>
                  <a:lnTo>
                    <a:pt x="4263" y="1933"/>
                  </a:lnTo>
                  <a:lnTo>
                    <a:pt x="4233" y="1730"/>
                  </a:lnTo>
                  <a:lnTo>
                    <a:pt x="4185" y="1530"/>
                  </a:lnTo>
                  <a:lnTo>
                    <a:pt x="4117" y="1337"/>
                  </a:lnTo>
                  <a:lnTo>
                    <a:pt x="4031" y="1150"/>
                  </a:lnTo>
                  <a:lnTo>
                    <a:pt x="3927" y="970"/>
                  </a:lnTo>
                  <a:lnTo>
                    <a:pt x="3805" y="801"/>
                  </a:lnTo>
                  <a:lnTo>
                    <a:pt x="3664" y="643"/>
                  </a:lnTo>
                  <a:lnTo>
                    <a:pt x="3507" y="497"/>
                  </a:lnTo>
                  <a:lnTo>
                    <a:pt x="3333" y="366"/>
                  </a:lnTo>
                  <a:lnTo>
                    <a:pt x="3146" y="253"/>
                  </a:lnTo>
                  <a:lnTo>
                    <a:pt x="2951" y="161"/>
                  </a:lnTo>
                  <a:lnTo>
                    <a:pt x="2752" y="90"/>
                  </a:lnTo>
                  <a:lnTo>
                    <a:pt x="2549" y="40"/>
                  </a:lnTo>
                  <a:lnTo>
                    <a:pt x="2344" y="9"/>
                  </a:lnTo>
                  <a:lnTo>
                    <a:pt x="2139" y="0"/>
                  </a:lnTo>
                  <a:lnTo>
                    <a:pt x="1934" y="9"/>
                  </a:lnTo>
                  <a:lnTo>
                    <a:pt x="1731" y="39"/>
                  </a:lnTo>
                  <a:lnTo>
                    <a:pt x="1532" y="88"/>
                  </a:lnTo>
                  <a:lnTo>
                    <a:pt x="1337" y="155"/>
                  </a:lnTo>
                  <a:lnTo>
                    <a:pt x="1150" y="241"/>
                  </a:lnTo>
                  <a:lnTo>
                    <a:pt x="971" y="345"/>
                  </a:lnTo>
                  <a:lnTo>
                    <a:pt x="801" y="467"/>
                  </a:lnTo>
                  <a:lnTo>
                    <a:pt x="643" y="608"/>
                  </a:lnTo>
                  <a:lnTo>
                    <a:pt x="497" y="765"/>
                  </a:lnTo>
                  <a:lnTo>
                    <a:pt x="367" y="940"/>
                  </a:lnTo>
                  <a:lnTo>
                    <a:pt x="253" y="1127"/>
                  </a:lnTo>
                  <a:lnTo>
                    <a:pt x="161" y="1321"/>
                  </a:lnTo>
                  <a:lnTo>
                    <a:pt x="90" y="1520"/>
                  </a:lnTo>
                  <a:lnTo>
                    <a:pt x="40" y="1723"/>
                  </a:lnTo>
                  <a:lnTo>
                    <a:pt x="9" y="1928"/>
                  </a:lnTo>
                  <a:lnTo>
                    <a:pt x="0" y="2133"/>
                  </a:lnTo>
                  <a:lnTo>
                    <a:pt x="9" y="2338"/>
                  </a:lnTo>
                  <a:lnTo>
                    <a:pt x="39" y="2541"/>
                  </a:lnTo>
                  <a:lnTo>
                    <a:pt x="87" y="2741"/>
                  </a:lnTo>
                  <a:lnTo>
                    <a:pt x="155" y="2935"/>
                  </a:lnTo>
                  <a:lnTo>
                    <a:pt x="241" y="3123"/>
                  </a:lnTo>
                  <a:lnTo>
                    <a:pt x="345" y="3302"/>
                  </a:lnTo>
                  <a:lnTo>
                    <a:pt x="468" y="3472"/>
                  </a:lnTo>
                  <a:lnTo>
                    <a:pt x="608" y="3630"/>
                  </a:lnTo>
                  <a:lnTo>
                    <a:pt x="765" y="3776"/>
                  </a:lnTo>
                  <a:lnTo>
                    <a:pt x="941" y="3908"/>
                  </a:lnTo>
                  <a:close/>
                </a:path>
              </a:pathLst>
            </a:custGeom>
            <a:solidFill>
              <a:srgbClr val="86a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85720" y="236160"/>
              <a:ext cx="318960" cy="313920"/>
            </a:xfrm>
            <a:custGeom>
              <a:avLst/>
              <a:gdLst/>
              <a:ahLst/>
              <a:rect l="l" t="t" r="r" b="b"/>
              <a:pathLst>
                <a:path w="4112" h="4112">
                  <a:moveTo>
                    <a:pt x="905" y="3760"/>
                  </a:moveTo>
                  <a:lnTo>
                    <a:pt x="1084" y="3868"/>
                  </a:lnTo>
                  <a:lnTo>
                    <a:pt x="1270" y="3956"/>
                  </a:lnTo>
                  <a:lnTo>
                    <a:pt x="1463" y="4025"/>
                  </a:lnTo>
                  <a:lnTo>
                    <a:pt x="1657" y="4073"/>
                  </a:lnTo>
                  <a:lnTo>
                    <a:pt x="1855" y="4102"/>
                  </a:lnTo>
                  <a:lnTo>
                    <a:pt x="2054" y="4112"/>
                  </a:lnTo>
                  <a:lnTo>
                    <a:pt x="2251" y="4103"/>
                  </a:lnTo>
                  <a:lnTo>
                    <a:pt x="2446" y="4074"/>
                  </a:lnTo>
                  <a:lnTo>
                    <a:pt x="2639" y="4028"/>
                  </a:lnTo>
                  <a:lnTo>
                    <a:pt x="2825" y="3963"/>
                  </a:lnTo>
                  <a:lnTo>
                    <a:pt x="3005" y="3880"/>
                  </a:lnTo>
                  <a:lnTo>
                    <a:pt x="3178" y="3780"/>
                  </a:lnTo>
                  <a:lnTo>
                    <a:pt x="3340" y="3662"/>
                  </a:lnTo>
                  <a:lnTo>
                    <a:pt x="3493" y="3527"/>
                  </a:lnTo>
                  <a:lnTo>
                    <a:pt x="3634" y="3376"/>
                  </a:lnTo>
                  <a:lnTo>
                    <a:pt x="3760" y="3208"/>
                  </a:lnTo>
                  <a:lnTo>
                    <a:pt x="3869" y="3027"/>
                  </a:lnTo>
                  <a:lnTo>
                    <a:pt x="3957" y="2841"/>
                  </a:lnTo>
                  <a:lnTo>
                    <a:pt x="4025" y="2649"/>
                  </a:lnTo>
                  <a:lnTo>
                    <a:pt x="4074" y="2454"/>
                  </a:lnTo>
                  <a:lnTo>
                    <a:pt x="4103" y="2256"/>
                  </a:lnTo>
                  <a:lnTo>
                    <a:pt x="4112" y="2058"/>
                  </a:lnTo>
                  <a:lnTo>
                    <a:pt x="4104" y="1861"/>
                  </a:lnTo>
                  <a:lnTo>
                    <a:pt x="4075" y="1665"/>
                  </a:lnTo>
                  <a:lnTo>
                    <a:pt x="4028" y="1473"/>
                  </a:lnTo>
                  <a:lnTo>
                    <a:pt x="3963" y="1287"/>
                  </a:lnTo>
                  <a:lnTo>
                    <a:pt x="3880" y="1106"/>
                  </a:lnTo>
                  <a:lnTo>
                    <a:pt x="3780" y="934"/>
                  </a:lnTo>
                  <a:lnTo>
                    <a:pt x="3662" y="771"/>
                  </a:lnTo>
                  <a:lnTo>
                    <a:pt x="3527" y="618"/>
                  </a:lnTo>
                  <a:lnTo>
                    <a:pt x="3375" y="478"/>
                  </a:lnTo>
                  <a:lnTo>
                    <a:pt x="3207" y="352"/>
                  </a:lnTo>
                  <a:lnTo>
                    <a:pt x="3027" y="243"/>
                  </a:lnTo>
                  <a:lnTo>
                    <a:pt x="2841" y="155"/>
                  </a:lnTo>
                  <a:lnTo>
                    <a:pt x="2648" y="87"/>
                  </a:lnTo>
                  <a:lnTo>
                    <a:pt x="2454" y="38"/>
                  </a:lnTo>
                  <a:lnTo>
                    <a:pt x="2256" y="9"/>
                  </a:lnTo>
                  <a:lnTo>
                    <a:pt x="2058" y="0"/>
                  </a:lnTo>
                  <a:lnTo>
                    <a:pt x="1860" y="9"/>
                  </a:lnTo>
                  <a:lnTo>
                    <a:pt x="1665" y="37"/>
                  </a:lnTo>
                  <a:lnTo>
                    <a:pt x="1473" y="84"/>
                  </a:lnTo>
                  <a:lnTo>
                    <a:pt x="1286" y="148"/>
                  </a:lnTo>
                  <a:lnTo>
                    <a:pt x="1107" y="231"/>
                  </a:lnTo>
                  <a:lnTo>
                    <a:pt x="934" y="332"/>
                  </a:lnTo>
                  <a:lnTo>
                    <a:pt x="772" y="450"/>
                  </a:lnTo>
                  <a:lnTo>
                    <a:pt x="619" y="585"/>
                  </a:lnTo>
                  <a:lnTo>
                    <a:pt x="478" y="736"/>
                  </a:lnTo>
                  <a:lnTo>
                    <a:pt x="353" y="905"/>
                  </a:lnTo>
                  <a:lnTo>
                    <a:pt x="243" y="1085"/>
                  </a:lnTo>
                  <a:lnTo>
                    <a:pt x="155" y="1271"/>
                  </a:lnTo>
                  <a:lnTo>
                    <a:pt x="86" y="1463"/>
                  </a:lnTo>
                  <a:lnTo>
                    <a:pt x="38" y="1658"/>
                  </a:lnTo>
                  <a:lnTo>
                    <a:pt x="10" y="1856"/>
                  </a:lnTo>
                  <a:lnTo>
                    <a:pt x="0" y="2053"/>
                  </a:lnTo>
                  <a:lnTo>
                    <a:pt x="8" y="2251"/>
                  </a:lnTo>
                  <a:lnTo>
                    <a:pt x="37" y="2447"/>
                  </a:lnTo>
                  <a:lnTo>
                    <a:pt x="84" y="2638"/>
                  </a:lnTo>
                  <a:lnTo>
                    <a:pt x="149" y="2825"/>
                  </a:lnTo>
                  <a:lnTo>
                    <a:pt x="232" y="3005"/>
                  </a:lnTo>
                  <a:lnTo>
                    <a:pt x="332" y="3177"/>
                  </a:lnTo>
                  <a:lnTo>
                    <a:pt x="450" y="3340"/>
                  </a:lnTo>
                  <a:lnTo>
                    <a:pt x="585" y="3493"/>
                  </a:lnTo>
                  <a:lnTo>
                    <a:pt x="736" y="3633"/>
                  </a:lnTo>
                  <a:lnTo>
                    <a:pt x="905" y="3760"/>
                  </a:lnTo>
                  <a:close/>
                </a:path>
              </a:pathLst>
            </a:custGeom>
            <a:solidFill>
              <a:srgbClr val="89a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95080" y="237960"/>
              <a:ext cx="306000" cy="302760"/>
            </a:xfrm>
            <a:custGeom>
              <a:avLst/>
              <a:gdLst/>
              <a:ahLst/>
              <a:rect l="l" t="t" r="r" b="b"/>
              <a:pathLst>
                <a:path w="3952" h="3953">
                  <a:moveTo>
                    <a:pt x="870" y="3614"/>
                  </a:moveTo>
                  <a:lnTo>
                    <a:pt x="1042" y="3718"/>
                  </a:lnTo>
                  <a:lnTo>
                    <a:pt x="1222" y="3803"/>
                  </a:lnTo>
                  <a:lnTo>
                    <a:pt x="1406" y="3869"/>
                  </a:lnTo>
                  <a:lnTo>
                    <a:pt x="1594" y="3916"/>
                  </a:lnTo>
                  <a:lnTo>
                    <a:pt x="1783" y="3943"/>
                  </a:lnTo>
                  <a:lnTo>
                    <a:pt x="1973" y="3953"/>
                  </a:lnTo>
                  <a:lnTo>
                    <a:pt x="2163" y="3943"/>
                  </a:lnTo>
                  <a:lnTo>
                    <a:pt x="2351" y="3917"/>
                  </a:lnTo>
                  <a:lnTo>
                    <a:pt x="2535" y="3872"/>
                  </a:lnTo>
                  <a:lnTo>
                    <a:pt x="2714" y="3809"/>
                  </a:lnTo>
                  <a:lnTo>
                    <a:pt x="2888" y="3730"/>
                  </a:lnTo>
                  <a:lnTo>
                    <a:pt x="3053" y="3633"/>
                  </a:lnTo>
                  <a:lnTo>
                    <a:pt x="3210" y="3520"/>
                  </a:lnTo>
                  <a:lnTo>
                    <a:pt x="3356" y="3391"/>
                  </a:lnTo>
                  <a:lnTo>
                    <a:pt x="3490" y="3245"/>
                  </a:lnTo>
                  <a:lnTo>
                    <a:pt x="3613" y="3083"/>
                  </a:lnTo>
                  <a:lnTo>
                    <a:pt x="3717" y="2910"/>
                  </a:lnTo>
                  <a:lnTo>
                    <a:pt x="3802" y="2730"/>
                  </a:lnTo>
                  <a:lnTo>
                    <a:pt x="3868" y="2547"/>
                  </a:lnTo>
                  <a:lnTo>
                    <a:pt x="3915" y="2358"/>
                  </a:lnTo>
                  <a:lnTo>
                    <a:pt x="3942" y="2169"/>
                  </a:lnTo>
                  <a:lnTo>
                    <a:pt x="3952" y="1979"/>
                  </a:lnTo>
                  <a:lnTo>
                    <a:pt x="3942" y="1789"/>
                  </a:lnTo>
                  <a:lnTo>
                    <a:pt x="3916" y="1601"/>
                  </a:lnTo>
                  <a:lnTo>
                    <a:pt x="3871" y="1418"/>
                  </a:lnTo>
                  <a:lnTo>
                    <a:pt x="3808" y="1238"/>
                  </a:lnTo>
                  <a:lnTo>
                    <a:pt x="3728" y="1065"/>
                  </a:lnTo>
                  <a:lnTo>
                    <a:pt x="3632" y="899"/>
                  </a:lnTo>
                  <a:lnTo>
                    <a:pt x="3519" y="741"/>
                  </a:lnTo>
                  <a:lnTo>
                    <a:pt x="3389" y="596"/>
                  </a:lnTo>
                  <a:lnTo>
                    <a:pt x="3244" y="461"/>
                  </a:lnTo>
                  <a:lnTo>
                    <a:pt x="3082" y="340"/>
                  </a:lnTo>
                  <a:lnTo>
                    <a:pt x="2909" y="234"/>
                  </a:lnTo>
                  <a:lnTo>
                    <a:pt x="2729" y="149"/>
                  </a:lnTo>
                  <a:lnTo>
                    <a:pt x="2545" y="84"/>
                  </a:lnTo>
                  <a:lnTo>
                    <a:pt x="2357" y="38"/>
                  </a:lnTo>
                  <a:lnTo>
                    <a:pt x="2168" y="10"/>
                  </a:lnTo>
                  <a:lnTo>
                    <a:pt x="1978" y="0"/>
                  </a:lnTo>
                  <a:lnTo>
                    <a:pt x="1787" y="10"/>
                  </a:lnTo>
                  <a:lnTo>
                    <a:pt x="1600" y="37"/>
                  </a:lnTo>
                  <a:lnTo>
                    <a:pt x="1415" y="82"/>
                  </a:lnTo>
                  <a:lnTo>
                    <a:pt x="1237" y="144"/>
                  </a:lnTo>
                  <a:lnTo>
                    <a:pt x="1063" y="224"/>
                  </a:lnTo>
                  <a:lnTo>
                    <a:pt x="897" y="320"/>
                  </a:lnTo>
                  <a:lnTo>
                    <a:pt x="741" y="433"/>
                  </a:lnTo>
                  <a:lnTo>
                    <a:pt x="594" y="563"/>
                  </a:lnTo>
                  <a:lnTo>
                    <a:pt x="460" y="708"/>
                  </a:lnTo>
                  <a:lnTo>
                    <a:pt x="339" y="870"/>
                  </a:lnTo>
                  <a:lnTo>
                    <a:pt x="234" y="1042"/>
                  </a:lnTo>
                  <a:lnTo>
                    <a:pt x="149" y="1222"/>
                  </a:lnTo>
                  <a:lnTo>
                    <a:pt x="83" y="1406"/>
                  </a:lnTo>
                  <a:lnTo>
                    <a:pt x="36" y="1594"/>
                  </a:lnTo>
                  <a:lnTo>
                    <a:pt x="9" y="1783"/>
                  </a:lnTo>
                  <a:lnTo>
                    <a:pt x="0" y="1975"/>
                  </a:lnTo>
                  <a:lnTo>
                    <a:pt x="9" y="2164"/>
                  </a:lnTo>
                  <a:lnTo>
                    <a:pt x="36" y="2352"/>
                  </a:lnTo>
                  <a:lnTo>
                    <a:pt x="81" y="2536"/>
                  </a:lnTo>
                  <a:lnTo>
                    <a:pt x="143" y="2716"/>
                  </a:lnTo>
                  <a:lnTo>
                    <a:pt x="222" y="2888"/>
                  </a:lnTo>
                  <a:lnTo>
                    <a:pt x="319" y="3054"/>
                  </a:lnTo>
                  <a:lnTo>
                    <a:pt x="433" y="3211"/>
                  </a:lnTo>
                  <a:lnTo>
                    <a:pt x="561" y="3357"/>
                  </a:lnTo>
                  <a:lnTo>
                    <a:pt x="708" y="3492"/>
                  </a:lnTo>
                  <a:lnTo>
                    <a:pt x="870" y="3614"/>
                  </a:lnTo>
                  <a:close/>
                </a:path>
              </a:pathLst>
            </a:custGeom>
            <a:solidFill>
              <a:srgbClr val="8ca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04440" y="240840"/>
              <a:ext cx="293760" cy="290160"/>
            </a:xfrm>
            <a:custGeom>
              <a:avLst/>
              <a:gdLst/>
              <a:ahLst/>
              <a:rect l="l" t="t" r="r" b="b"/>
              <a:pathLst>
                <a:path w="3791" h="3792">
                  <a:moveTo>
                    <a:pt x="835" y="3467"/>
                  </a:moveTo>
                  <a:lnTo>
                    <a:pt x="1001" y="3567"/>
                  </a:lnTo>
                  <a:lnTo>
                    <a:pt x="1173" y="3649"/>
                  </a:lnTo>
                  <a:lnTo>
                    <a:pt x="1349" y="3712"/>
                  </a:lnTo>
                  <a:lnTo>
                    <a:pt x="1529" y="3756"/>
                  </a:lnTo>
                  <a:lnTo>
                    <a:pt x="1711" y="3784"/>
                  </a:lnTo>
                  <a:lnTo>
                    <a:pt x="1894" y="3792"/>
                  </a:lnTo>
                  <a:lnTo>
                    <a:pt x="2075" y="3784"/>
                  </a:lnTo>
                  <a:lnTo>
                    <a:pt x="2256" y="3758"/>
                  </a:lnTo>
                  <a:lnTo>
                    <a:pt x="2433" y="3715"/>
                  </a:lnTo>
                  <a:lnTo>
                    <a:pt x="2605" y="3655"/>
                  </a:lnTo>
                  <a:lnTo>
                    <a:pt x="2771" y="3579"/>
                  </a:lnTo>
                  <a:lnTo>
                    <a:pt x="2930" y="3486"/>
                  </a:lnTo>
                  <a:lnTo>
                    <a:pt x="3080" y="3378"/>
                  </a:lnTo>
                  <a:lnTo>
                    <a:pt x="3220" y="3253"/>
                  </a:lnTo>
                  <a:lnTo>
                    <a:pt x="3350" y="3113"/>
                  </a:lnTo>
                  <a:lnTo>
                    <a:pt x="3467" y="2959"/>
                  </a:lnTo>
                  <a:lnTo>
                    <a:pt x="3567" y="2792"/>
                  </a:lnTo>
                  <a:lnTo>
                    <a:pt x="3649" y="2620"/>
                  </a:lnTo>
                  <a:lnTo>
                    <a:pt x="3712" y="2443"/>
                  </a:lnTo>
                  <a:lnTo>
                    <a:pt x="3756" y="2264"/>
                  </a:lnTo>
                  <a:lnTo>
                    <a:pt x="3783" y="2082"/>
                  </a:lnTo>
                  <a:lnTo>
                    <a:pt x="3791" y="1899"/>
                  </a:lnTo>
                  <a:lnTo>
                    <a:pt x="3783" y="1717"/>
                  </a:lnTo>
                  <a:lnTo>
                    <a:pt x="3757" y="1536"/>
                  </a:lnTo>
                  <a:lnTo>
                    <a:pt x="3714" y="1360"/>
                  </a:lnTo>
                  <a:lnTo>
                    <a:pt x="3654" y="1188"/>
                  </a:lnTo>
                  <a:lnTo>
                    <a:pt x="3578" y="1022"/>
                  </a:lnTo>
                  <a:lnTo>
                    <a:pt x="3485" y="862"/>
                  </a:lnTo>
                  <a:lnTo>
                    <a:pt x="3377" y="713"/>
                  </a:lnTo>
                  <a:lnTo>
                    <a:pt x="3252" y="572"/>
                  </a:lnTo>
                  <a:lnTo>
                    <a:pt x="3112" y="443"/>
                  </a:lnTo>
                  <a:lnTo>
                    <a:pt x="2958" y="327"/>
                  </a:lnTo>
                  <a:lnTo>
                    <a:pt x="2791" y="226"/>
                  </a:lnTo>
                  <a:lnTo>
                    <a:pt x="2619" y="144"/>
                  </a:lnTo>
                  <a:lnTo>
                    <a:pt x="2442" y="81"/>
                  </a:lnTo>
                  <a:lnTo>
                    <a:pt x="2263" y="36"/>
                  </a:lnTo>
                  <a:lnTo>
                    <a:pt x="2081" y="10"/>
                  </a:lnTo>
                  <a:lnTo>
                    <a:pt x="1898" y="0"/>
                  </a:lnTo>
                  <a:lnTo>
                    <a:pt x="1716" y="9"/>
                  </a:lnTo>
                  <a:lnTo>
                    <a:pt x="1536" y="35"/>
                  </a:lnTo>
                  <a:lnTo>
                    <a:pt x="1359" y="78"/>
                  </a:lnTo>
                  <a:lnTo>
                    <a:pt x="1187" y="139"/>
                  </a:lnTo>
                  <a:lnTo>
                    <a:pt x="1021" y="214"/>
                  </a:lnTo>
                  <a:lnTo>
                    <a:pt x="862" y="306"/>
                  </a:lnTo>
                  <a:lnTo>
                    <a:pt x="712" y="415"/>
                  </a:lnTo>
                  <a:lnTo>
                    <a:pt x="571" y="539"/>
                  </a:lnTo>
                  <a:lnTo>
                    <a:pt x="441" y="680"/>
                  </a:lnTo>
                  <a:lnTo>
                    <a:pt x="326" y="835"/>
                  </a:lnTo>
                  <a:lnTo>
                    <a:pt x="225" y="1001"/>
                  </a:lnTo>
                  <a:lnTo>
                    <a:pt x="143" y="1173"/>
                  </a:lnTo>
                  <a:lnTo>
                    <a:pt x="80" y="1349"/>
                  </a:lnTo>
                  <a:lnTo>
                    <a:pt x="35" y="1530"/>
                  </a:lnTo>
                  <a:lnTo>
                    <a:pt x="9" y="1712"/>
                  </a:lnTo>
                  <a:lnTo>
                    <a:pt x="0" y="1895"/>
                  </a:lnTo>
                  <a:lnTo>
                    <a:pt x="9" y="2077"/>
                  </a:lnTo>
                  <a:lnTo>
                    <a:pt x="35" y="2256"/>
                  </a:lnTo>
                  <a:lnTo>
                    <a:pt x="78" y="2433"/>
                  </a:lnTo>
                  <a:lnTo>
                    <a:pt x="138" y="2605"/>
                  </a:lnTo>
                  <a:lnTo>
                    <a:pt x="214" y="2772"/>
                  </a:lnTo>
                  <a:lnTo>
                    <a:pt x="306" y="2930"/>
                  </a:lnTo>
                  <a:lnTo>
                    <a:pt x="415" y="3080"/>
                  </a:lnTo>
                  <a:lnTo>
                    <a:pt x="539" y="3220"/>
                  </a:lnTo>
                  <a:lnTo>
                    <a:pt x="680" y="3350"/>
                  </a:lnTo>
                  <a:lnTo>
                    <a:pt x="835" y="3467"/>
                  </a:lnTo>
                  <a:close/>
                </a:path>
              </a:pathLst>
            </a:custGeom>
            <a:solidFill>
              <a:srgbClr val="8e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13800" y="243360"/>
              <a:ext cx="281880" cy="277200"/>
            </a:xfrm>
            <a:custGeom>
              <a:avLst/>
              <a:gdLst/>
              <a:ahLst/>
              <a:rect l="l" t="t" r="r" b="b"/>
              <a:pathLst>
                <a:path w="3631" h="3632">
                  <a:moveTo>
                    <a:pt x="799" y="3320"/>
                  </a:moveTo>
                  <a:lnTo>
                    <a:pt x="957" y="3416"/>
                  </a:lnTo>
                  <a:lnTo>
                    <a:pt x="1122" y="3495"/>
                  </a:lnTo>
                  <a:lnTo>
                    <a:pt x="1292" y="3555"/>
                  </a:lnTo>
                  <a:lnTo>
                    <a:pt x="1464" y="3598"/>
                  </a:lnTo>
                  <a:lnTo>
                    <a:pt x="1639" y="3623"/>
                  </a:lnTo>
                  <a:lnTo>
                    <a:pt x="1813" y="3632"/>
                  </a:lnTo>
                  <a:lnTo>
                    <a:pt x="1987" y="3623"/>
                  </a:lnTo>
                  <a:lnTo>
                    <a:pt x="2161" y="3599"/>
                  </a:lnTo>
                  <a:lnTo>
                    <a:pt x="2330" y="3557"/>
                  </a:lnTo>
                  <a:lnTo>
                    <a:pt x="2495" y="3500"/>
                  </a:lnTo>
                  <a:lnTo>
                    <a:pt x="2654" y="3427"/>
                  </a:lnTo>
                  <a:lnTo>
                    <a:pt x="2806" y="3338"/>
                  </a:lnTo>
                  <a:lnTo>
                    <a:pt x="2951" y="3234"/>
                  </a:lnTo>
                  <a:lnTo>
                    <a:pt x="3085" y="3115"/>
                  </a:lnTo>
                  <a:lnTo>
                    <a:pt x="3208" y="2981"/>
                  </a:lnTo>
                  <a:lnTo>
                    <a:pt x="3321" y="2833"/>
                  </a:lnTo>
                  <a:lnTo>
                    <a:pt x="3416" y="2674"/>
                  </a:lnTo>
                  <a:lnTo>
                    <a:pt x="3494" y="2509"/>
                  </a:lnTo>
                  <a:lnTo>
                    <a:pt x="3554" y="2340"/>
                  </a:lnTo>
                  <a:lnTo>
                    <a:pt x="3597" y="2167"/>
                  </a:lnTo>
                  <a:lnTo>
                    <a:pt x="3623" y="1992"/>
                  </a:lnTo>
                  <a:lnTo>
                    <a:pt x="3631" y="1818"/>
                  </a:lnTo>
                  <a:lnTo>
                    <a:pt x="3623" y="1644"/>
                  </a:lnTo>
                  <a:lnTo>
                    <a:pt x="3598" y="1472"/>
                  </a:lnTo>
                  <a:lnTo>
                    <a:pt x="3557" y="1302"/>
                  </a:lnTo>
                  <a:lnTo>
                    <a:pt x="3499" y="1138"/>
                  </a:lnTo>
                  <a:lnTo>
                    <a:pt x="3426" y="978"/>
                  </a:lnTo>
                  <a:lnTo>
                    <a:pt x="3338" y="826"/>
                  </a:lnTo>
                  <a:lnTo>
                    <a:pt x="3233" y="682"/>
                  </a:lnTo>
                  <a:lnTo>
                    <a:pt x="3114" y="548"/>
                  </a:lnTo>
                  <a:lnTo>
                    <a:pt x="2980" y="424"/>
                  </a:lnTo>
                  <a:lnTo>
                    <a:pt x="2833" y="313"/>
                  </a:lnTo>
                  <a:lnTo>
                    <a:pt x="2673" y="216"/>
                  </a:lnTo>
                  <a:lnTo>
                    <a:pt x="2508" y="138"/>
                  </a:lnTo>
                  <a:lnTo>
                    <a:pt x="2339" y="78"/>
                  </a:lnTo>
                  <a:lnTo>
                    <a:pt x="2167" y="34"/>
                  </a:lnTo>
                  <a:lnTo>
                    <a:pt x="1993" y="9"/>
                  </a:lnTo>
                  <a:lnTo>
                    <a:pt x="1818" y="0"/>
                  </a:lnTo>
                  <a:lnTo>
                    <a:pt x="1644" y="9"/>
                  </a:lnTo>
                  <a:lnTo>
                    <a:pt x="1472" y="34"/>
                  </a:lnTo>
                  <a:lnTo>
                    <a:pt x="1302" y="75"/>
                  </a:lnTo>
                  <a:lnTo>
                    <a:pt x="1137" y="132"/>
                  </a:lnTo>
                  <a:lnTo>
                    <a:pt x="979" y="205"/>
                  </a:lnTo>
                  <a:lnTo>
                    <a:pt x="827" y="294"/>
                  </a:lnTo>
                  <a:lnTo>
                    <a:pt x="682" y="398"/>
                  </a:lnTo>
                  <a:lnTo>
                    <a:pt x="548" y="517"/>
                  </a:lnTo>
                  <a:lnTo>
                    <a:pt x="425" y="651"/>
                  </a:lnTo>
                  <a:lnTo>
                    <a:pt x="313" y="800"/>
                  </a:lnTo>
                  <a:lnTo>
                    <a:pt x="216" y="958"/>
                  </a:lnTo>
                  <a:lnTo>
                    <a:pt x="139" y="1123"/>
                  </a:lnTo>
                  <a:lnTo>
                    <a:pt x="78" y="1292"/>
                  </a:lnTo>
                  <a:lnTo>
                    <a:pt x="34" y="1465"/>
                  </a:lnTo>
                  <a:lnTo>
                    <a:pt x="9" y="1639"/>
                  </a:lnTo>
                  <a:lnTo>
                    <a:pt x="0" y="1814"/>
                  </a:lnTo>
                  <a:lnTo>
                    <a:pt x="9" y="1988"/>
                  </a:lnTo>
                  <a:lnTo>
                    <a:pt x="34" y="2160"/>
                  </a:lnTo>
                  <a:lnTo>
                    <a:pt x="75" y="2329"/>
                  </a:lnTo>
                  <a:lnTo>
                    <a:pt x="132" y="2494"/>
                  </a:lnTo>
                  <a:lnTo>
                    <a:pt x="206" y="2654"/>
                  </a:lnTo>
                  <a:lnTo>
                    <a:pt x="294" y="2806"/>
                  </a:lnTo>
                  <a:lnTo>
                    <a:pt x="397" y="2950"/>
                  </a:lnTo>
                  <a:lnTo>
                    <a:pt x="516" y="3084"/>
                  </a:lnTo>
                  <a:lnTo>
                    <a:pt x="650" y="3208"/>
                  </a:lnTo>
                  <a:lnTo>
                    <a:pt x="799" y="3320"/>
                  </a:lnTo>
                  <a:close/>
                </a:path>
              </a:pathLst>
            </a:custGeom>
            <a:solidFill>
              <a:srgbClr val="91b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2800" y="245520"/>
              <a:ext cx="269640" cy="266040"/>
            </a:xfrm>
            <a:custGeom>
              <a:avLst/>
              <a:gdLst/>
              <a:ahLst/>
              <a:rect l="l" t="t" r="r" b="b"/>
              <a:pathLst>
                <a:path w="3470" h="3471">
                  <a:moveTo>
                    <a:pt x="764" y="3174"/>
                  </a:moveTo>
                  <a:lnTo>
                    <a:pt x="915" y="3266"/>
                  </a:lnTo>
                  <a:lnTo>
                    <a:pt x="1072" y="3340"/>
                  </a:lnTo>
                  <a:lnTo>
                    <a:pt x="1234" y="3398"/>
                  </a:lnTo>
                  <a:lnTo>
                    <a:pt x="1399" y="3438"/>
                  </a:lnTo>
                  <a:lnTo>
                    <a:pt x="1566" y="3463"/>
                  </a:lnTo>
                  <a:lnTo>
                    <a:pt x="1733" y="3471"/>
                  </a:lnTo>
                  <a:lnTo>
                    <a:pt x="1899" y="3463"/>
                  </a:lnTo>
                  <a:lnTo>
                    <a:pt x="2064" y="3439"/>
                  </a:lnTo>
                  <a:lnTo>
                    <a:pt x="2226" y="3400"/>
                  </a:lnTo>
                  <a:lnTo>
                    <a:pt x="2383" y="3345"/>
                  </a:lnTo>
                  <a:lnTo>
                    <a:pt x="2535" y="3275"/>
                  </a:lnTo>
                  <a:lnTo>
                    <a:pt x="2681" y="3190"/>
                  </a:lnTo>
                  <a:lnTo>
                    <a:pt x="2818" y="3092"/>
                  </a:lnTo>
                  <a:lnTo>
                    <a:pt x="2947" y="2977"/>
                  </a:lnTo>
                  <a:lnTo>
                    <a:pt x="3065" y="2849"/>
                  </a:lnTo>
                  <a:lnTo>
                    <a:pt x="3172" y="2708"/>
                  </a:lnTo>
                  <a:lnTo>
                    <a:pt x="3263" y="2555"/>
                  </a:lnTo>
                  <a:lnTo>
                    <a:pt x="3338" y="2397"/>
                  </a:lnTo>
                  <a:lnTo>
                    <a:pt x="3396" y="2236"/>
                  </a:lnTo>
                  <a:lnTo>
                    <a:pt x="3437" y="2071"/>
                  </a:lnTo>
                  <a:lnTo>
                    <a:pt x="3461" y="1905"/>
                  </a:lnTo>
                  <a:lnTo>
                    <a:pt x="3470" y="1737"/>
                  </a:lnTo>
                  <a:lnTo>
                    <a:pt x="3461" y="1571"/>
                  </a:lnTo>
                  <a:lnTo>
                    <a:pt x="3438" y="1407"/>
                  </a:lnTo>
                  <a:lnTo>
                    <a:pt x="3398" y="1245"/>
                  </a:lnTo>
                  <a:lnTo>
                    <a:pt x="3343" y="1087"/>
                  </a:lnTo>
                  <a:lnTo>
                    <a:pt x="3273" y="935"/>
                  </a:lnTo>
                  <a:lnTo>
                    <a:pt x="3189" y="790"/>
                  </a:lnTo>
                  <a:lnTo>
                    <a:pt x="3089" y="652"/>
                  </a:lnTo>
                  <a:lnTo>
                    <a:pt x="2975" y="523"/>
                  </a:lnTo>
                  <a:lnTo>
                    <a:pt x="2848" y="405"/>
                  </a:lnTo>
                  <a:lnTo>
                    <a:pt x="2706" y="299"/>
                  </a:lnTo>
                  <a:lnTo>
                    <a:pt x="2554" y="206"/>
                  </a:lnTo>
                  <a:lnTo>
                    <a:pt x="2397" y="132"/>
                  </a:lnTo>
                  <a:lnTo>
                    <a:pt x="2235" y="73"/>
                  </a:lnTo>
                  <a:lnTo>
                    <a:pt x="2071" y="33"/>
                  </a:lnTo>
                  <a:lnTo>
                    <a:pt x="1904" y="9"/>
                  </a:lnTo>
                  <a:lnTo>
                    <a:pt x="1737" y="0"/>
                  </a:lnTo>
                  <a:lnTo>
                    <a:pt x="1570" y="9"/>
                  </a:lnTo>
                  <a:lnTo>
                    <a:pt x="1405" y="32"/>
                  </a:lnTo>
                  <a:lnTo>
                    <a:pt x="1244" y="71"/>
                  </a:lnTo>
                  <a:lnTo>
                    <a:pt x="1086" y="127"/>
                  </a:lnTo>
                  <a:lnTo>
                    <a:pt x="934" y="197"/>
                  </a:lnTo>
                  <a:lnTo>
                    <a:pt x="788" y="281"/>
                  </a:lnTo>
                  <a:lnTo>
                    <a:pt x="651" y="381"/>
                  </a:lnTo>
                  <a:lnTo>
                    <a:pt x="523" y="494"/>
                  </a:lnTo>
                  <a:lnTo>
                    <a:pt x="405" y="622"/>
                  </a:lnTo>
                  <a:lnTo>
                    <a:pt x="298" y="764"/>
                  </a:lnTo>
                  <a:lnTo>
                    <a:pt x="206" y="916"/>
                  </a:lnTo>
                  <a:lnTo>
                    <a:pt x="131" y="1074"/>
                  </a:lnTo>
                  <a:lnTo>
                    <a:pt x="73" y="1235"/>
                  </a:lnTo>
                  <a:lnTo>
                    <a:pt x="33" y="1400"/>
                  </a:lnTo>
                  <a:lnTo>
                    <a:pt x="8" y="1567"/>
                  </a:lnTo>
                  <a:lnTo>
                    <a:pt x="0" y="1734"/>
                  </a:lnTo>
                  <a:lnTo>
                    <a:pt x="8" y="1901"/>
                  </a:lnTo>
                  <a:lnTo>
                    <a:pt x="32" y="2066"/>
                  </a:lnTo>
                  <a:lnTo>
                    <a:pt x="71" y="2227"/>
                  </a:lnTo>
                  <a:lnTo>
                    <a:pt x="125" y="2385"/>
                  </a:lnTo>
                  <a:lnTo>
                    <a:pt x="195" y="2537"/>
                  </a:lnTo>
                  <a:lnTo>
                    <a:pt x="280" y="2682"/>
                  </a:lnTo>
                  <a:lnTo>
                    <a:pt x="379" y="2820"/>
                  </a:lnTo>
                  <a:lnTo>
                    <a:pt x="493" y="2949"/>
                  </a:lnTo>
                  <a:lnTo>
                    <a:pt x="622" y="3067"/>
                  </a:lnTo>
                  <a:lnTo>
                    <a:pt x="764" y="3174"/>
                  </a:lnTo>
                  <a:close/>
                </a:path>
              </a:pathLst>
            </a:custGeom>
            <a:solidFill>
              <a:srgbClr val="94b9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32520" y="248040"/>
              <a:ext cx="256320" cy="253440"/>
            </a:xfrm>
            <a:custGeom>
              <a:avLst/>
              <a:gdLst/>
              <a:ahLst/>
              <a:rect l="l" t="t" r="r" b="b"/>
              <a:pathLst>
                <a:path w="3308" h="3308">
                  <a:moveTo>
                    <a:pt x="728" y="3026"/>
                  </a:moveTo>
                  <a:lnTo>
                    <a:pt x="873" y="3113"/>
                  </a:lnTo>
                  <a:lnTo>
                    <a:pt x="1023" y="3184"/>
                  </a:lnTo>
                  <a:lnTo>
                    <a:pt x="1177" y="3239"/>
                  </a:lnTo>
                  <a:lnTo>
                    <a:pt x="1334" y="3278"/>
                  </a:lnTo>
                  <a:lnTo>
                    <a:pt x="1492" y="3301"/>
                  </a:lnTo>
                  <a:lnTo>
                    <a:pt x="1652" y="3308"/>
                  </a:lnTo>
                  <a:lnTo>
                    <a:pt x="1811" y="3301"/>
                  </a:lnTo>
                  <a:lnTo>
                    <a:pt x="1969" y="3279"/>
                  </a:lnTo>
                  <a:lnTo>
                    <a:pt x="2123" y="3241"/>
                  </a:lnTo>
                  <a:lnTo>
                    <a:pt x="2273" y="3189"/>
                  </a:lnTo>
                  <a:lnTo>
                    <a:pt x="2418" y="3122"/>
                  </a:lnTo>
                  <a:lnTo>
                    <a:pt x="2557" y="3042"/>
                  </a:lnTo>
                  <a:lnTo>
                    <a:pt x="2687" y="2947"/>
                  </a:lnTo>
                  <a:lnTo>
                    <a:pt x="2811" y="2838"/>
                  </a:lnTo>
                  <a:lnTo>
                    <a:pt x="2923" y="2717"/>
                  </a:lnTo>
                  <a:lnTo>
                    <a:pt x="3025" y="2582"/>
                  </a:lnTo>
                  <a:lnTo>
                    <a:pt x="3113" y="2437"/>
                  </a:lnTo>
                  <a:lnTo>
                    <a:pt x="3184" y="2287"/>
                  </a:lnTo>
                  <a:lnTo>
                    <a:pt x="3239" y="2132"/>
                  </a:lnTo>
                  <a:lnTo>
                    <a:pt x="3277" y="1975"/>
                  </a:lnTo>
                  <a:lnTo>
                    <a:pt x="3301" y="1816"/>
                  </a:lnTo>
                  <a:lnTo>
                    <a:pt x="3308" y="1656"/>
                  </a:lnTo>
                  <a:lnTo>
                    <a:pt x="3301" y="1497"/>
                  </a:lnTo>
                  <a:lnTo>
                    <a:pt x="3279" y="1341"/>
                  </a:lnTo>
                  <a:lnTo>
                    <a:pt x="3241" y="1185"/>
                  </a:lnTo>
                  <a:lnTo>
                    <a:pt x="3188" y="1036"/>
                  </a:lnTo>
                  <a:lnTo>
                    <a:pt x="3122" y="890"/>
                  </a:lnTo>
                  <a:lnTo>
                    <a:pt x="3041" y="752"/>
                  </a:lnTo>
                  <a:lnTo>
                    <a:pt x="2947" y="621"/>
                  </a:lnTo>
                  <a:lnTo>
                    <a:pt x="2838" y="498"/>
                  </a:lnTo>
                  <a:lnTo>
                    <a:pt x="2716" y="385"/>
                  </a:lnTo>
                  <a:lnTo>
                    <a:pt x="2581" y="284"/>
                  </a:lnTo>
                  <a:lnTo>
                    <a:pt x="2435" y="196"/>
                  </a:lnTo>
                  <a:lnTo>
                    <a:pt x="2286" y="124"/>
                  </a:lnTo>
                  <a:lnTo>
                    <a:pt x="2131" y="70"/>
                  </a:lnTo>
                  <a:lnTo>
                    <a:pt x="1974" y="31"/>
                  </a:lnTo>
                  <a:lnTo>
                    <a:pt x="1816" y="8"/>
                  </a:lnTo>
                  <a:lnTo>
                    <a:pt x="1656" y="0"/>
                  </a:lnTo>
                  <a:lnTo>
                    <a:pt x="1498" y="8"/>
                  </a:lnTo>
                  <a:lnTo>
                    <a:pt x="1340" y="31"/>
                  </a:lnTo>
                  <a:lnTo>
                    <a:pt x="1186" y="68"/>
                  </a:lnTo>
                  <a:lnTo>
                    <a:pt x="1035" y="120"/>
                  </a:lnTo>
                  <a:lnTo>
                    <a:pt x="891" y="186"/>
                  </a:lnTo>
                  <a:lnTo>
                    <a:pt x="751" y="267"/>
                  </a:lnTo>
                  <a:lnTo>
                    <a:pt x="621" y="362"/>
                  </a:lnTo>
                  <a:lnTo>
                    <a:pt x="498" y="470"/>
                  </a:lnTo>
                  <a:lnTo>
                    <a:pt x="385" y="592"/>
                  </a:lnTo>
                  <a:lnTo>
                    <a:pt x="284" y="728"/>
                  </a:lnTo>
                  <a:lnTo>
                    <a:pt x="195" y="873"/>
                  </a:lnTo>
                  <a:lnTo>
                    <a:pt x="124" y="1023"/>
                  </a:lnTo>
                  <a:lnTo>
                    <a:pt x="69" y="1177"/>
                  </a:lnTo>
                  <a:lnTo>
                    <a:pt x="31" y="1334"/>
                  </a:lnTo>
                  <a:lnTo>
                    <a:pt x="7" y="1494"/>
                  </a:lnTo>
                  <a:lnTo>
                    <a:pt x="0" y="1652"/>
                  </a:lnTo>
                  <a:lnTo>
                    <a:pt x="7" y="1812"/>
                  </a:lnTo>
                  <a:lnTo>
                    <a:pt x="30" y="1969"/>
                  </a:lnTo>
                  <a:lnTo>
                    <a:pt x="67" y="2123"/>
                  </a:lnTo>
                  <a:lnTo>
                    <a:pt x="120" y="2273"/>
                  </a:lnTo>
                  <a:lnTo>
                    <a:pt x="186" y="2418"/>
                  </a:lnTo>
                  <a:lnTo>
                    <a:pt x="267" y="2557"/>
                  </a:lnTo>
                  <a:lnTo>
                    <a:pt x="361" y="2688"/>
                  </a:lnTo>
                  <a:lnTo>
                    <a:pt x="470" y="2811"/>
                  </a:lnTo>
                  <a:lnTo>
                    <a:pt x="592" y="2924"/>
                  </a:lnTo>
                  <a:lnTo>
                    <a:pt x="728" y="3026"/>
                  </a:lnTo>
                  <a:close/>
                </a:path>
              </a:pathLst>
            </a:custGeom>
            <a:solidFill>
              <a:srgbClr val="97b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2600" y="250920"/>
              <a:ext cx="243360" cy="240480"/>
            </a:xfrm>
            <a:custGeom>
              <a:avLst/>
              <a:gdLst/>
              <a:ahLst/>
              <a:rect l="l" t="t" r="r" b="b"/>
              <a:pathLst>
                <a:path w="3148" h="3149">
                  <a:moveTo>
                    <a:pt x="693" y="2879"/>
                  </a:moveTo>
                  <a:lnTo>
                    <a:pt x="830" y="2962"/>
                  </a:lnTo>
                  <a:lnTo>
                    <a:pt x="973" y="3030"/>
                  </a:lnTo>
                  <a:lnTo>
                    <a:pt x="1120" y="3082"/>
                  </a:lnTo>
                  <a:lnTo>
                    <a:pt x="1269" y="3119"/>
                  </a:lnTo>
                  <a:lnTo>
                    <a:pt x="1420" y="3141"/>
                  </a:lnTo>
                  <a:lnTo>
                    <a:pt x="1572" y="3149"/>
                  </a:lnTo>
                  <a:lnTo>
                    <a:pt x="1723" y="3141"/>
                  </a:lnTo>
                  <a:lnTo>
                    <a:pt x="1873" y="3120"/>
                  </a:lnTo>
                  <a:lnTo>
                    <a:pt x="2020" y="3084"/>
                  </a:lnTo>
                  <a:lnTo>
                    <a:pt x="2162" y="3034"/>
                  </a:lnTo>
                  <a:lnTo>
                    <a:pt x="2301" y="2970"/>
                  </a:lnTo>
                  <a:lnTo>
                    <a:pt x="2432" y="2894"/>
                  </a:lnTo>
                  <a:lnTo>
                    <a:pt x="2558" y="2803"/>
                  </a:lnTo>
                  <a:lnTo>
                    <a:pt x="2674" y="2700"/>
                  </a:lnTo>
                  <a:lnTo>
                    <a:pt x="2781" y="2584"/>
                  </a:lnTo>
                  <a:lnTo>
                    <a:pt x="2879" y="2456"/>
                  </a:lnTo>
                  <a:lnTo>
                    <a:pt x="2962" y="2317"/>
                  </a:lnTo>
                  <a:lnTo>
                    <a:pt x="3029" y="2175"/>
                  </a:lnTo>
                  <a:lnTo>
                    <a:pt x="3081" y="2028"/>
                  </a:lnTo>
                  <a:lnTo>
                    <a:pt x="3118" y="1878"/>
                  </a:lnTo>
                  <a:lnTo>
                    <a:pt x="3141" y="1727"/>
                  </a:lnTo>
                  <a:lnTo>
                    <a:pt x="3148" y="1575"/>
                  </a:lnTo>
                  <a:lnTo>
                    <a:pt x="3141" y="1424"/>
                  </a:lnTo>
                  <a:lnTo>
                    <a:pt x="3119" y="1275"/>
                  </a:lnTo>
                  <a:lnTo>
                    <a:pt x="3083" y="1128"/>
                  </a:lnTo>
                  <a:lnTo>
                    <a:pt x="3033" y="985"/>
                  </a:lnTo>
                  <a:lnTo>
                    <a:pt x="2970" y="847"/>
                  </a:lnTo>
                  <a:lnTo>
                    <a:pt x="2894" y="715"/>
                  </a:lnTo>
                  <a:lnTo>
                    <a:pt x="2803" y="590"/>
                  </a:lnTo>
                  <a:lnTo>
                    <a:pt x="2700" y="474"/>
                  </a:lnTo>
                  <a:lnTo>
                    <a:pt x="2584" y="367"/>
                  </a:lnTo>
                  <a:lnTo>
                    <a:pt x="2456" y="270"/>
                  </a:lnTo>
                  <a:lnTo>
                    <a:pt x="2318" y="186"/>
                  </a:lnTo>
                  <a:lnTo>
                    <a:pt x="2175" y="119"/>
                  </a:lnTo>
                  <a:lnTo>
                    <a:pt x="2028" y="67"/>
                  </a:lnTo>
                  <a:lnTo>
                    <a:pt x="1879" y="30"/>
                  </a:lnTo>
                  <a:lnTo>
                    <a:pt x="1728" y="7"/>
                  </a:lnTo>
                  <a:lnTo>
                    <a:pt x="1576" y="0"/>
                  </a:lnTo>
                  <a:lnTo>
                    <a:pt x="1425" y="7"/>
                  </a:lnTo>
                  <a:lnTo>
                    <a:pt x="1275" y="29"/>
                  </a:lnTo>
                  <a:lnTo>
                    <a:pt x="1128" y="65"/>
                  </a:lnTo>
                  <a:lnTo>
                    <a:pt x="986" y="115"/>
                  </a:lnTo>
                  <a:lnTo>
                    <a:pt x="847" y="177"/>
                  </a:lnTo>
                  <a:lnTo>
                    <a:pt x="716" y="254"/>
                  </a:lnTo>
                  <a:lnTo>
                    <a:pt x="590" y="344"/>
                  </a:lnTo>
                  <a:lnTo>
                    <a:pt x="474" y="448"/>
                  </a:lnTo>
                  <a:lnTo>
                    <a:pt x="367" y="563"/>
                  </a:lnTo>
                  <a:lnTo>
                    <a:pt x="270" y="693"/>
                  </a:lnTo>
                  <a:lnTo>
                    <a:pt x="186" y="830"/>
                  </a:lnTo>
                  <a:lnTo>
                    <a:pt x="118" y="974"/>
                  </a:lnTo>
                  <a:lnTo>
                    <a:pt x="66" y="1120"/>
                  </a:lnTo>
                  <a:lnTo>
                    <a:pt x="29" y="1269"/>
                  </a:lnTo>
                  <a:lnTo>
                    <a:pt x="7" y="1421"/>
                  </a:lnTo>
                  <a:lnTo>
                    <a:pt x="0" y="1572"/>
                  </a:lnTo>
                  <a:lnTo>
                    <a:pt x="7" y="1723"/>
                  </a:lnTo>
                  <a:lnTo>
                    <a:pt x="29" y="1873"/>
                  </a:lnTo>
                  <a:lnTo>
                    <a:pt x="65" y="2020"/>
                  </a:lnTo>
                  <a:lnTo>
                    <a:pt x="114" y="2162"/>
                  </a:lnTo>
                  <a:lnTo>
                    <a:pt x="178" y="2300"/>
                  </a:lnTo>
                  <a:lnTo>
                    <a:pt x="254" y="2432"/>
                  </a:lnTo>
                  <a:lnTo>
                    <a:pt x="345" y="2558"/>
                  </a:lnTo>
                  <a:lnTo>
                    <a:pt x="448" y="2674"/>
                  </a:lnTo>
                  <a:lnTo>
                    <a:pt x="564" y="2781"/>
                  </a:lnTo>
                  <a:lnTo>
                    <a:pt x="693" y="2879"/>
                  </a:lnTo>
                  <a:close/>
                </a:path>
              </a:pathLst>
            </a:custGeom>
            <a:solidFill>
              <a:srgbClr val="9ac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51960" y="253800"/>
              <a:ext cx="231480" cy="228600"/>
            </a:xfrm>
            <a:custGeom>
              <a:avLst/>
              <a:gdLst/>
              <a:ahLst/>
              <a:rect l="l" t="t" r="r" b="b"/>
              <a:pathLst>
                <a:path w="2987" h="2987">
                  <a:moveTo>
                    <a:pt x="657" y="2731"/>
                  </a:moveTo>
                  <a:lnTo>
                    <a:pt x="788" y="2810"/>
                  </a:lnTo>
                  <a:lnTo>
                    <a:pt x="923" y="2874"/>
                  </a:lnTo>
                  <a:lnTo>
                    <a:pt x="1062" y="2923"/>
                  </a:lnTo>
                  <a:lnTo>
                    <a:pt x="1205" y="2958"/>
                  </a:lnTo>
                  <a:lnTo>
                    <a:pt x="1348" y="2980"/>
                  </a:lnTo>
                  <a:lnTo>
                    <a:pt x="1492" y="2987"/>
                  </a:lnTo>
                  <a:lnTo>
                    <a:pt x="1635" y="2980"/>
                  </a:lnTo>
                  <a:lnTo>
                    <a:pt x="1777" y="2960"/>
                  </a:lnTo>
                  <a:lnTo>
                    <a:pt x="1916" y="2926"/>
                  </a:lnTo>
                  <a:lnTo>
                    <a:pt x="2052" y="2879"/>
                  </a:lnTo>
                  <a:lnTo>
                    <a:pt x="2183" y="2818"/>
                  </a:lnTo>
                  <a:lnTo>
                    <a:pt x="2308" y="2745"/>
                  </a:lnTo>
                  <a:lnTo>
                    <a:pt x="2426" y="2660"/>
                  </a:lnTo>
                  <a:lnTo>
                    <a:pt x="2537" y="2562"/>
                  </a:lnTo>
                  <a:lnTo>
                    <a:pt x="2639" y="2451"/>
                  </a:lnTo>
                  <a:lnTo>
                    <a:pt x="2731" y="2330"/>
                  </a:lnTo>
                  <a:lnTo>
                    <a:pt x="2810" y="2198"/>
                  </a:lnTo>
                  <a:lnTo>
                    <a:pt x="2874" y="2063"/>
                  </a:lnTo>
                  <a:lnTo>
                    <a:pt x="2924" y="1924"/>
                  </a:lnTo>
                  <a:lnTo>
                    <a:pt x="2959" y="1782"/>
                  </a:lnTo>
                  <a:lnTo>
                    <a:pt x="2980" y="1638"/>
                  </a:lnTo>
                  <a:lnTo>
                    <a:pt x="2987" y="1495"/>
                  </a:lnTo>
                  <a:lnTo>
                    <a:pt x="2980" y="1351"/>
                  </a:lnTo>
                  <a:lnTo>
                    <a:pt x="2960" y="1210"/>
                  </a:lnTo>
                  <a:lnTo>
                    <a:pt x="2926" y="1070"/>
                  </a:lnTo>
                  <a:lnTo>
                    <a:pt x="2879" y="934"/>
                  </a:lnTo>
                  <a:lnTo>
                    <a:pt x="2819" y="804"/>
                  </a:lnTo>
                  <a:lnTo>
                    <a:pt x="2746" y="678"/>
                  </a:lnTo>
                  <a:lnTo>
                    <a:pt x="2660" y="560"/>
                  </a:lnTo>
                  <a:lnTo>
                    <a:pt x="2562" y="450"/>
                  </a:lnTo>
                  <a:lnTo>
                    <a:pt x="2452" y="348"/>
                  </a:lnTo>
                  <a:lnTo>
                    <a:pt x="2331" y="256"/>
                  </a:lnTo>
                  <a:lnTo>
                    <a:pt x="2199" y="176"/>
                  </a:lnTo>
                  <a:lnTo>
                    <a:pt x="2064" y="113"/>
                  </a:lnTo>
                  <a:lnTo>
                    <a:pt x="1924" y="63"/>
                  </a:lnTo>
                  <a:lnTo>
                    <a:pt x="1782" y="28"/>
                  </a:lnTo>
                  <a:lnTo>
                    <a:pt x="1639" y="6"/>
                  </a:lnTo>
                  <a:lnTo>
                    <a:pt x="1495" y="0"/>
                  </a:lnTo>
                  <a:lnTo>
                    <a:pt x="1351" y="6"/>
                  </a:lnTo>
                  <a:lnTo>
                    <a:pt x="1210" y="26"/>
                  </a:lnTo>
                  <a:lnTo>
                    <a:pt x="1071" y="61"/>
                  </a:lnTo>
                  <a:lnTo>
                    <a:pt x="935" y="107"/>
                  </a:lnTo>
                  <a:lnTo>
                    <a:pt x="804" y="168"/>
                  </a:lnTo>
                  <a:lnTo>
                    <a:pt x="679" y="240"/>
                  </a:lnTo>
                  <a:lnTo>
                    <a:pt x="561" y="326"/>
                  </a:lnTo>
                  <a:lnTo>
                    <a:pt x="450" y="424"/>
                  </a:lnTo>
                  <a:lnTo>
                    <a:pt x="348" y="535"/>
                  </a:lnTo>
                  <a:lnTo>
                    <a:pt x="256" y="657"/>
                  </a:lnTo>
                  <a:lnTo>
                    <a:pt x="177" y="788"/>
                  </a:lnTo>
                  <a:lnTo>
                    <a:pt x="113" y="923"/>
                  </a:lnTo>
                  <a:lnTo>
                    <a:pt x="63" y="1062"/>
                  </a:lnTo>
                  <a:lnTo>
                    <a:pt x="28" y="1203"/>
                  </a:lnTo>
                  <a:lnTo>
                    <a:pt x="7" y="1347"/>
                  </a:lnTo>
                  <a:lnTo>
                    <a:pt x="0" y="1491"/>
                  </a:lnTo>
                  <a:lnTo>
                    <a:pt x="7" y="1635"/>
                  </a:lnTo>
                  <a:lnTo>
                    <a:pt x="28" y="1776"/>
                  </a:lnTo>
                  <a:lnTo>
                    <a:pt x="61" y="1916"/>
                  </a:lnTo>
                  <a:lnTo>
                    <a:pt x="109" y="2052"/>
                  </a:lnTo>
                  <a:lnTo>
                    <a:pt x="168" y="2182"/>
                  </a:lnTo>
                  <a:lnTo>
                    <a:pt x="242" y="2308"/>
                  </a:lnTo>
                  <a:lnTo>
                    <a:pt x="327" y="2426"/>
                  </a:lnTo>
                  <a:lnTo>
                    <a:pt x="424" y="2536"/>
                  </a:lnTo>
                  <a:lnTo>
                    <a:pt x="535" y="2638"/>
                  </a:lnTo>
                  <a:lnTo>
                    <a:pt x="657" y="2731"/>
                  </a:lnTo>
                  <a:close/>
                </a:path>
              </a:pathLst>
            </a:custGeom>
            <a:solidFill>
              <a:srgbClr val="9dc3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60960" y="255600"/>
              <a:ext cx="218520" cy="216360"/>
            </a:xfrm>
            <a:custGeom>
              <a:avLst/>
              <a:gdLst/>
              <a:ahLst/>
              <a:rect l="l" t="t" r="r" b="b"/>
              <a:pathLst>
                <a:path w="2826" h="2827">
                  <a:moveTo>
                    <a:pt x="622" y="2584"/>
                  </a:moveTo>
                  <a:lnTo>
                    <a:pt x="746" y="2659"/>
                  </a:lnTo>
                  <a:lnTo>
                    <a:pt x="874" y="2719"/>
                  </a:lnTo>
                  <a:lnTo>
                    <a:pt x="1005" y="2767"/>
                  </a:lnTo>
                  <a:lnTo>
                    <a:pt x="1140" y="2800"/>
                  </a:lnTo>
                  <a:lnTo>
                    <a:pt x="1275" y="2820"/>
                  </a:lnTo>
                  <a:lnTo>
                    <a:pt x="1411" y="2827"/>
                  </a:lnTo>
                  <a:lnTo>
                    <a:pt x="1547" y="2820"/>
                  </a:lnTo>
                  <a:lnTo>
                    <a:pt x="1681" y="2801"/>
                  </a:lnTo>
                  <a:lnTo>
                    <a:pt x="1813" y="2768"/>
                  </a:lnTo>
                  <a:lnTo>
                    <a:pt x="1942" y="2723"/>
                  </a:lnTo>
                  <a:lnTo>
                    <a:pt x="2066" y="2667"/>
                  </a:lnTo>
                  <a:lnTo>
                    <a:pt x="2184" y="2598"/>
                  </a:lnTo>
                  <a:lnTo>
                    <a:pt x="2297" y="2517"/>
                  </a:lnTo>
                  <a:lnTo>
                    <a:pt x="2401" y="2424"/>
                  </a:lnTo>
                  <a:lnTo>
                    <a:pt x="2498" y="2319"/>
                  </a:lnTo>
                  <a:lnTo>
                    <a:pt x="2585" y="2205"/>
                  </a:lnTo>
                  <a:lnTo>
                    <a:pt x="2659" y="2080"/>
                  </a:lnTo>
                  <a:lnTo>
                    <a:pt x="2720" y="1952"/>
                  </a:lnTo>
                  <a:lnTo>
                    <a:pt x="2767" y="1821"/>
                  </a:lnTo>
                  <a:lnTo>
                    <a:pt x="2801" y="1686"/>
                  </a:lnTo>
                  <a:lnTo>
                    <a:pt x="2820" y="1551"/>
                  </a:lnTo>
                  <a:lnTo>
                    <a:pt x="2826" y="1415"/>
                  </a:lnTo>
                  <a:lnTo>
                    <a:pt x="2820" y="1279"/>
                  </a:lnTo>
                  <a:lnTo>
                    <a:pt x="2801" y="1145"/>
                  </a:lnTo>
                  <a:lnTo>
                    <a:pt x="2769" y="1013"/>
                  </a:lnTo>
                  <a:lnTo>
                    <a:pt x="2724" y="884"/>
                  </a:lnTo>
                  <a:lnTo>
                    <a:pt x="2667" y="760"/>
                  </a:lnTo>
                  <a:lnTo>
                    <a:pt x="2599" y="642"/>
                  </a:lnTo>
                  <a:lnTo>
                    <a:pt x="2517" y="529"/>
                  </a:lnTo>
                  <a:lnTo>
                    <a:pt x="2424" y="425"/>
                  </a:lnTo>
                  <a:lnTo>
                    <a:pt x="2320" y="328"/>
                  </a:lnTo>
                  <a:lnTo>
                    <a:pt x="2205" y="242"/>
                  </a:lnTo>
                  <a:lnTo>
                    <a:pt x="2081" y="167"/>
                  </a:lnTo>
                  <a:lnTo>
                    <a:pt x="1952" y="106"/>
                  </a:lnTo>
                  <a:lnTo>
                    <a:pt x="1822" y="59"/>
                  </a:lnTo>
                  <a:lnTo>
                    <a:pt x="1687" y="25"/>
                  </a:lnTo>
                  <a:lnTo>
                    <a:pt x="1552" y="6"/>
                  </a:lnTo>
                  <a:lnTo>
                    <a:pt x="1415" y="0"/>
                  </a:lnTo>
                  <a:lnTo>
                    <a:pt x="1279" y="6"/>
                  </a:lnTo>
                  <a:lnTo>
                    <a:pt x="1145" y="25"/>
                  </a:lnTo>
                  <a:lnTo>
                    <a:pt x="1014" y="57"/>
                  </a:lnTo>
                  <a:lnTo>
                    <a:pt x="885" y="102"/>
                  </a:lnTo>
                  <a:lnTo>
                    <a:pt x="761" y="159"/>
                  </a:lnTo>
                  <a:lnTo>
                    <a:pt x="643" y="227"/>
                  </a:lnTo>
                  <a:lnTo>
                    <a:pt x="530" y="309"/>
                  </a:lnTo>
                  <a:lnTo>
                    <a:pt x="426" y="402"/>
                  </a:lnTo>
                  <a:lnTo>
                    <a:pt x="329" y="506"/>
                  </a:lnTo>
                  <a:lnTo>
                    <a:pt x="243" y="622"/>
                  </a:lnTo>
                  <a:lnTo>
                    <a:pt x="167" y="745"/>
                  </a:lnTo>
                  <a:lnTo>
                    <a:pt x="107" y="874"/>
                  </a:lnTo>
                  <a:lnTo>
                    <a:pt x="60" y="1004"/>
                  </a:lnTo>
                  <a:lnTo>
                    <a:pt x="26" y="1139"/>
                  </a:lnTo>
                  <a:lnTo>
                    <a:pt x="7" y="1274"/>
                  </a:lnTo>
                  <a:lnTo>
                    <a:pt x="0" y="1411"/>
                  </a:lnTo>
                  <a:lnTo>
                    <a:pt x="7" y="1547"/>
                  </a:lnTo>
                  <a:lnTo>
                    <a:pt x="26" y="1681"/>
                  </a:lnTo>
                  <a:lnTo>
                    <a:pt x="58" y="1812"/>
                  </a:lnTo>
                  <a:lnTo>
                    <a:pt x="103" y="1941"/>
                  </a:lnTo>
                  <a:lnTo>
                    <a:pt x="160" y="2065"/>
                  </a:lnTo>
                  <a:lnTo>
                    <a:pt x="228" y="2183"/>
                  </a:lnTo>
                  <a:lnTo>
                    <a:pt x="310" y="2296"/>
                  </a:lnTo>
                  <a:lnTo>
                    <a:pt x="402" y="2400"/>
                  </a:lnTo>
                  <a:lnTo>
                    <a:pt x="506" y="2497"/>
                  </a:lnTo>
                  <a:lnTo>
                    <a:pt x="622" y="2584"/>
                  </a:lnTo>
                  <a:close/>
                </a:path>
              </a:pathLst>
            </a:custGeom>
            <a:solidFill>
              <a:srgbClr val="a0c7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70320" y="258120"/>
              <a:ext cx="206280" cy="203760"/>
            </a:xfrm>
            <a:custGeom>
              <a:avLst/>
              <a:gdLst/>
              <a:ahLst/>
              <a:rect l="l" t="t" r="r" b="b"/>
              <a:pathLst>
                <a:path w="2666" h="2665">
                  <a:moveTo>
                    <a:pt x="586" y="2437"/>
                  </a:moveTo>
                  <a:lnTo>
                    <a:pt x="702" y="2507"/>
                  </a:lnTo>
                  <a:lnTo>
                    <a:pt x="823" y="2565"/>
                  </a:lnTo>
                  <a:lnTo>
                    <a:pt x="948" y="2608"/>
                  </a:lnTo>
                  <a:lnTo>
                    <a:pt x="1074" y="2640"/>
                  </a:lnTo>
                  <a:lnTo>
                    <a:pt x="1203" y="2658"/>
                  </a:lnTo>
                  <a:lnTo>
                    <a:pt x="1332" y="2665"/>
                  </a:lnTo>
                  <a:lnTo>
                    <a:pt x="1459" y="2660"/>
                  </a:lnTo>
                  <a:lnTo>
                    <a:pt x="1586" y="2640"/>
                  </a:lnTo>
                  <a:lnTo>
                    <a:pt x="1710" y="2611"/>
                  </a:lnTo>
                  <a:lnTo>
                    <a:pt x="1831" y="2568"/>
                  </a:lnTo>
                  <a:lnTo>
                    <a:pt x="1948" y="2515"/>
                  </a:lnTo>
                  <a:lnTo>
                    <a:pt x="2060" y="2450"/>
                  </a:lnTo>
                  <a:lnTo>
                    <a:pt x="2166" y="2374"/>
                  </a:lnTo>
                  <a:lnTo>
                    <a:pt x="2265" y="2286"/>
                  </a:lnTo>
                  <a:lnTo>
                    <a:pt x="2355" y="2188"/>
                  </a:lnTo>
                  <a:lnTo>
                    <a:pt x="2438" y="2079"/>
                  </a:lnTo>
                  <a:lnTo>
                    <a:pt x="2509" y="1962"/>
                  </a:lnTo>
                  <a:lnTo>
                    <a:pt x="2566" y="1841"/>
                  </a:lnTo>
                  <a:lnTo>
                    <a:pt x="2610" y="1717"/>
                  </a:lnTo>
                  <a:lnTo>
                    <a:pt x="2641" y="1590"/>
                  </a:lnTo>
                  <a:lnTo>
                    <a:pt x="2659" y="1462"/>
                  </a:lnTo>
                  <a:lnTo>
                    <a:pt x="2666" y="1334"/>
                  </a:lnTo>
                  <a:lnTo>
                    <a:pt x="2659" y="1206"/>
                  </a:lnTo>
                  <a:lnTo>
                    <a:pt x="2641" y="1080"/>
                  </a:lnTo>
                  <a:lnTo>
                    <a:pt x="2612" y="955"/>
                  </a:lnTo>
                  <a:lnTo>
                    <a:pt x="2569" y="834"/>
                  </a:lnTo>
                  <a:lnTo>
                    <a:pt x="2516" y="717"/>
                  </a:lnTo>
                  <a:lnTo>
                    <a:pt x="2450" y="606"/>
                  </a:lnTo>
                  <a:lnTo>
                    <a:pt x="2375" y="500"/>
                  </a:lnTo>
                  <a:lnTo>
                    <a:pt x="2286" y="402"/>
                  </a:lnTo>
                  <a:lnTo>
                    <a:pt x="2189" y="311"/>
                  </a:lnTo>
                  <a:lnTo>
                    <a:pt x="2080" y="229"/>
                  </a:lnTo>
                  <a:lnTo>
                    <a:pt x="1963" y="158"/>
                  </a:lnTo>
                  <a:lnTo>
                    <a:pt x="1842" y="101"/>
                  </a:lnTo>
                  <a:lnTo>
                    <a:pt x="1718" y="56"/>
                  </a:lnTo>
                  <a:lnTo>
                    <a:pt x="1591" y="25"/>
                  </a:lnTo>
                  <a:lnTo>
                    <a:pt x="1462" y="6"/>
                  </a:lnTo>
                  <a:lnTo>
                    <a:pt x="1334" y="0"/>
                  </a:lnTo>
                  <a:lnTo>
                    <a:pt x="1206" y="6"/>
                  </a:lnTo>
                  <a:lnTo>
                    <a:pt x="1080" y="24"/>
                  </a:lnTo>
                  <a:lnTo>
                    <a:pt x="955" y="54"/>
                  </a:lnTo>
                  <a:lnTo>
                    <a:pt x="834" y="96"/>
                  </a:lnTo>
                  <a:lnTo>
                    <a:pt x="717" y="150"/>
                  </a:lnTo>
                  <a:lnTo>
                    <a:pt x="606" y="214"/>
                  </a:lnTo>
                  <a:lnTo>
                    <a:pt x="500" y="291"/>
                  </a:lnTo>
                  <a:lnTo>
                    <a:pt x="401" y="378"/>
                  </a:lnTo>
                  <a:lnTo>
                    <a:pt x="311" y="477"/>
                  </a:lnTo>
                  <a:lnTo>
                    <a:pt x="229" y="587"/>
                  </a:lnTo>
                  <a:lnTo>
                    <a:pt x="158" y="702"/>
                  </a:lnTo>
                  <a:lnTo>
                    <a:pt x="101" y="824"/>
                  </a:lnTo>
                  <a:lnTo>
                    <a:pt x="56" y="948"/>
                  </a:lnTo>
                  <a:lnTo>
                    <a:pt x="25" y="1074"/>
                  </a:lnTo>
                  <a:lnTo>
                    <a:pt x="6" y="1202"/>
                  </a:lnTo>
                  <a:lnTo>
                    <a:pt x="0" y="1331"/>
                  </a:lnTo>
                  <a:lnTo>
                    <a:pt x="6" y="1458"/>
                  </a:lnTo>
                  <a:lnTo>
                    <a:pt x="24" y="1585"/>
                  </a:lnTo>
                  <a:lnTo>
                    <a:pt x="55" y="1709"/>
                  </a:lnTo>
                  <a:lnTo>
                    <a:pt x="96" y="1830"/>
                  </a:lnTo>
                  <a:lnTo>
                    <a:pt x="151" y="1947"/>
                  </a:lnTo>
                  <a:lnTo>
                    <a:pt x="215" y="2059"/>
                  </a:lnTo>
                  <a:lnTo>
                    <a:pt x="291" y="2165"/>
                  </a:lnTo>
                  <a:lnTo>
                    <a:pt x="379" y="2264"/>
                  </a:lnTo>
                  <a:lnTo>
                    <a:pt x="477" y="2354"/>
                  </a:lnTo>
                  <a:lnTo>
                    <a:pt x="586" y="2437"/>
                  </a:lnTo>
                  <a:close/>
                </a:path>
              </a:pathLst>
            </a:custGeom>
            <a:solidFill>
              <a:srgbClr val="a3c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79680" y="261000"/>
              <a:ext cx="194400" cy="190800"/>
            </a:xfrm>
            <a:custGeom>
              <a:avLst/>
              <a:gdLst/>
              <a:ahLst/>
              <a:rect l="l" t="t" r="r" b="b"/>
              <a:pathLst>
                <a:path w="2504" h="2504">
                  <a:moveTo>
                    <a:pt x="552" y="2289"/>
                  </a:moveTo>
                  <a:lnTo>
                    <a:pt x="661" y="2355"/>
                  </a:lnTo>
                  <a:lnTo>
                    <a:pt x="775" y="2410"/>
                  </a:lnTo>
                  <a:lnTo>
                    <a:pt x="891" y="2451"/>
                  </a:lnTo>
                  <a:lnTo>
                    <a:pt x="1010" y="2481"/>
                  </a:lnTo>
                  <a:lnTo>
                    <a:pt x="1130" y="2499"/>
                  </a:lnTo>
                  <a:lnTo>
                    <a:pt x="1251" y="2504"/>
                  </a:lnTo>
                  <a:lnTo>
                    <a:pt x="1371" y="2499"/>
                  </a:lnTo>
                  <a:lnTo>
                    <a:pt x="1490" y="2482"/>
                  </a:lnTo>
                  <a:lnTo>
                    <a:pt x="1607" y="2453"/>
                  </a:lnTo>
                  <a:lnTo>
                    <a:pt x="1721" y="2414"/>
                  </a:lnTo>
                  <a:lnTo>
                    <a:pt x="1830" y="2364"/>
                  </a:lnTo>
                  <a:lnTo>
                    <a:pt x="1936" y="2302"/>
                  </a:lnTo>
                  <a:lnTo>
                    <a:pt x="2035" y="2231"/>
                  </a:lnTo>
                  <a:lnTo>
                    <a:pt x="2127" y="2149"/>
                  </a:lnTo>
                  <a:lnTo>
                    <a:pt x="2212" y="2057"/>
                  </a:lnTo>
                  <a:lnTo>
                    <a:pt x="2290" y="1955"/>
                  </a:lnTo>
                  <a:lnTo>
                    <a:pt x="2356" y="1844"/>
                  </a:lnTo>
                  <a:lnTo>
                    <a:pt x="2410" y="1730"/>
                  </a:lnTo>
                  <a:lnTo>
                    <a:pt x="2451" y="1613"/>
                  </a:lnTo>
                  <a:lnTo>
                    <a:pt x="2481" y="1495"/>
                  </a:lnTo>
                  <a:lnTo>
                    <a:pt x="2499" y="1374"/>
                  </a:lnTo>
                  <a:lnTo>
                    <a:pt x="2504" y="1254"/>
                  </a:lnTo>
                  <a:lnTo>
                    <a:pt x="2499" y="1133"/>
                  </a:lnTo>
                  <a:lnTo>
                    <a:pt x="2482" y="1015"/>
                  </a:lnTo>
                  <a:lnTo>
                    <a:pt x="2453" y="898"/>
                  </a:lnTo>
                  <a:lnTo>
                    <a:pt x="2414" y="784"/>
                  </a:lnTo>
                  <a:lnTo>
                    <a:pt x="2364" y="674"/>
                  </a:lnTo>
                  <a:lnTo>
                    <a:pt x="2302" y="568"/>
                  </a:lnTo>
                  <a:lnTo>
                    <a:pt x="2231" y="469"/>
                  </a:lnTo>
                  <a:lnTo>
                    <a:pt x="2149" y="377"/>
                  </a:lnTo>
                  <a:lnTo>
                    <a:pt x="2057" y="292"/>
                  </a:lnTo>
                  <a:lnTo>
                    <a:pt x="1955" y="215"/>
                  </a:lnTo>
                  <a:lnTo>
                    <a:pt x="1844" y="148"/>
                  </a:lnTo>
                  <a:lnTo>
                    <a:pt x="1731" y="94"/>
                  </a:lnTo>
                  <a:lnTo>
                    <a:pt x="1615" y="53"/>
                  </a:lnTo>
                  <a:lnTo>
                    <a:pt x="1496" y="23"/>
                  </a:lnTo>
                  <a:lnTo>
                    <a:pt x="1375" y="5"/>
                  </a:lnTo>
                  <a:lnTo>
                    <a:pt x="1254" y="0"/>
                  </a:lnTo>
                  <a:lnTo>
                    <a:pt x="1134" y="5"/>
                  </a:lnTo>
                  <a:lnTo>
                    <a:pt x="1015" y="22"/>
                  </a:lnTo>
                  <a:lnTo>
                    <a:pt x="898" y="51"/>
                  </a:lnTo>
                  <a:lnTo>
                    <a:pt x="784" y="90"/>
                  </a:lnTo>
                  <a:lnTo>
                    <a:pt x="675" y="140"/>
                  </a:lnTo>
                  <a:lnTo>
                    <a:pt x="570" y="202"/>
                  </a:lnTo>
                  <a:lnTo>
                    <a:pt x="471" y="274"/>
                  </a:lnTo>
                  <a:lnTo>
                    <a:pt x="377" y="356"/>
                  </a:lnTo>
                  <a:lnTo>
                    <a:pt x="292" y="448"/>
                  </a:lnTo>
                  <a:lnTo>
                    <a:pt x="216" y="551"/>
                  </a:lnTo>
                  <a:lnTo>
                    <a:pt x="149" y="661"/>
                  </a:lnTo>
                  <a:lnTo>
                    <a:pt x="94" y="775"/>
                  </a:lnTo>
                  <a:lnTo>
                    <a:pt x="53" y="890"/>
                  </a:lnTo>
                  <a:lnTo>
                    <a:pt x="23" y="1010"/>
                  </a:lnTo>
                  <a:lnTo>
                    <a:pt x="5" y="1130"/>
                  </a:lnTo>
                  <a:lnTo>
                    <a:pt x="0" y="1251"/>
                  </a:lnTo>
                  <a:lnTo>
                    <a:pt x="5" y="1371"/>
                  </a:lnTo>
                  <a:lnTo>
                    <a:pt x="22" y="1490"/>
                  </a:lnTo>
                  <a:lnTo>
                    <a:pt x="51" y="1607"/>
                  </a:lnTo>
                  <a:lnTo>
                    <a:pt x="90" y="1721"/>
                  </a:lnTo>
                  <a:lnTo>
                    <a:pt x="140" y="1830"/>
                  </a:lnTo>
                  <a:lnTo>
                    <a:pt x="202" y="1935"/>
                  </a:lnTo>
                  <a:lnTo>
                    <a:pt x="274" y="2034"/>
                  </a:lnTo>
                  <a:lnTo>
                    <a:pt x="356" y="2127"/>
                  </a:lnTo>
                  <a:lnTo>
                    <a:pt x="448" y="2212"/>
                  </a:lnTo>
                  <a:lnTo>
                    <a:pt x="552" y="2289"/>
                  </a:lnTo>
                  <a:close/>
                </a:path>
              </a:pathLst>
            </a:custGeom>
            <a:solidFill>
              <a:srgbClr val="a6c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89040" y="262800"/>
              <a:ext cx="181080" cy="179640"/>
            </a:xfrm>
            <a:custGeom>
              <a:avLst/>
              <a:gdLst/>
              <a:ahLst/>
              <a:rect l="l" t="t" r="r" b="b"/>
              <a:pathLst>
                <a:path w="2344" h="2346">
                  <a:moveTo>
                    <a:pt x="517" y="2145"/>
                  </a:moveTo>
                  <a:lnTo>
                    <a:pt x="619" y="2206"/>
                  </a:lnTo>
                  <a:lnTo>
                    <a:pt x="725" y="2256"/>
                  </a:lnTo>
                  <a:lnTo>
                    <a:pt x="835" y="2296"/>
                  </a:lnTo>
                  <a:lnTo>
                    <a:pt x="946" y="2323"/>
                  </a:lnTo>
                  <a:lnTo>
                    <a:pt x="1059" y="2340"/>
                  </a:lnTo>
                  <a:lnTo>
                    <a:pt x="1172" y="2346"/>
                  </a:lnTo>
                  <a:lnTo>
                    <a:pt x="1284" y="2340"/>
                  </a:lnTo>
                  <a:lnTo>
                    <a:pt x="1395" y="2324"/>
                  </a:lnTo>
                  <a:lnTo>
                    <a:pt x="1504" y="2298"/>
                  </a:lnTo>
                  <a:lnTo>
                    <a:pt x="1611" y="2261"/>
                  </a:lnTo>
                  <a:lnTo>
                    <a:pt x="1714" y="2214"/>
                  </a:lnTo>
                  <a:lnTo>
                    <a:pt x="1812" y="2156"/>
                  </a:lnTo>
                  <a:lnTo>
                    <a:pt x="1904" y="2089"/>
                  </a:lnTo>
                  <a:lnTo>
                    <a:pt x="1991" y="2012"/>
                  </a:lnTo>
                  <a:lnTo>
                    <a:pt x="2071" y="1926"/>
                  </a:lnTo>
                  <a:lnTo>
                    <a:pt x="2143" y="1830"/>
                  </a:lnTo>
                  <a:lnTo>
                    <a:pt x="2205" y="1727"/>
                  </a:lnTo>
                  <a:lnTo>
                    <a:pt x="2256" y="1621"/>
                  </a:lnTo>
                  <a:lnTo>
                    <a:pt x="2294" y="1511"/>
                  </a:lnTo>
                  <a:lnTo>
                    <a:pt x="2323" y="1399"/>
                  </a:lnTo>
                  <a:lnTo>
                    <a:pt x="2339" y="1288"/>
                  </a:lnTo>
                  <a:lnTo>
                    <a:pt x="2344" y="1174"/>
                  </a:lnTo>
                  <a:lnTo>
                    <a:pt x="2339" y="1061"/>
                  </a:lnTo>
                  <a:lnTo>
                    <a:pt x="2323" y="951"/>
                  </a:lnTo>
                  <a:lnTo>
                    <a:pt x="2296" y="841"/>
                  </a:lnTo>
                  <a:lnTo>
                    <a:pt x="2260" y="734"/>
                  </a:lnTo>
                  <a:lnTo>
                    <a:pt x="2212" y="632"/>
                  </a:lnTo>
                  <a:lnTo>
                    <a:pt x="2155" y="533"/>
                  </a:lnTo>
                  <a:lnTo>
                    <a:pt x="2088" y="441"/>
                  </a:lnTo>
                  <a:lnTo>
                    <a:pt x="2011" y="353"/>
                  </a:lnTo>
                  <a:lnTo>
                    <a:pt x="1925" y="274"/>
                  </a:lnTo>
                  <a:lnTo>
                    <a:pt x="1830" y="202"/>
                  </a:lnTo>
                  <a:lnTo>
                    <a:pt x="1726" y="140"/>
                  </a:lnTo>
                  <a:lnTo>
                    <a:pt x="1620" y="90"/>
                  </a:lnTo>
                  <a:lnTo>
                    <a:pt x="1511" y="50"/>
                  </a:lnTo>
                  <a:lnTo>
                    <a:pt x="1399" y="23"/>
                  </a:lnTo>
                  <a:lnTo>
                    <a:pt x="1286" y="6"/>
                  </a:lnTo>
                  <a:lnTo>
                    <a:pt x="1174" y="0"/>
                  </a:lnTo>
                  <a:lnTo>
                    <a:pt x="1061" y="6"/>
                  </a:lnTo>
                  <a:lnTo>
                    <a:pt x="950" y="22"/>
                  </a:lnTo>
                  <a:lnTo>
                    <a:pt x="841" y="48"/>
                  </a:lnTo>
                  <a:lnTo>
                    <a:pt x="735" y="86"/>
                  </a:lnTo>
                  <a:lnTo>
                    <a:pt x="631" y="132"/>
                  </a:lnTo>
                  <a:lnTo>
                    <a:pt x="534" y="190"/>
                  </a:lnTo>
                  <a:lnTo>
                    <a:pt x="440" y="257"/>
                  </a:lnTo>
                  <a:lnTo>
                    <a:pt x="353" y="333"/>
                  </a:lnTo>
                  <a:lnTo>
                    <a:pt x="273" y="419"/>
                  </a:lnTo>
                  <a:lnTo>
                    <a:pt x="202" y="516"/>
                  </a:lnTo>
                  <a:lnTo>
                    <a:pt x="139" y="618"/>
                  </a:lnTo>
                  <a:lnTo>
                    <a:pt x="88" y="724"/>
                  </a:lnTo>
                  <a:lnTo>
                    <a:pt x="50" y="834"/>
                  </a:lnTo>
                  <a:lnTo>
                    <a:pt x="21" y="946"/>
                  </a:lnTo>
                  <a:lnTo>
                    <a:pt x="5" y="1058"/>
                  </a:lnTo>
                  <a:lnTo>
                    <a:pt x="0" y="1171"/>
                  </a:lnTo>
                  <a:lnTo>
                    <a:pt x="5" y="1284"/>
                  </a:lnTo>
                  <a:lnTo>
                    <a:pt x="21" y="1395"/>
                  </a:lnTo>
                  <a:lnTo>
                    <a:pt x="48" y="1504"/>
                  </a:lnTo>
                  <a:lnTo>
                    <a:pt x="85" y="1611"/>
                  </a:lnTo>
                  <a:lnTo>
                    <a:pt x="132" y="1713"/>
                  </a:lnTo>
                  <a:lnTo>
                    <a:pt x="189" y="1812"/>
                  </a:lnTo>
                  <a:lnTo>
                    <a:pt x="256" y="1904"/>
                  </a:lnTo>
                  <a:lnTo>
                    <a:pt x="334" y="1992"/>
                  </a:lnTo>
                  <a:lnTo>
                    <a:pt x="420" y="2071"/>
                  </a:lnTo>
                  <a:lnTo>
                    <a:pt x="517" y="2145"/>
                  </a:lnTo>
                  <a:close/>
                </a:path>
              </a:pathLst>
            </a:custGeom>
            <a:solidFill>
              <a:srgbClr val="a9d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18040" y="1001160"/>
              <a:ext cx="291960" cy="93600"/>
            </a:xfrm>
            <a:custGeom>
              <a:avLst/>
              <a:gdLst/>
              <a:ahLst/>
              <a:rect l="l" t="t" r="r" b="b"/>
              <a:pathLst>
                <a:path w="3769" h="1229">
                  <a:moveTo>
                    <a:pt x="0" y="1200"/>
                  </a:moveTo>
                  <a:lnTo>
                    <a:pt x="54" y="1219"/>
                  </a:lnTo>
                  <a:lnTo>
                    <a:pt x="143" y="1229"/>
                  </a:lnTo>
                  <a:lnTo>
                    <a:pt x="263" y="1228"/>
                  </a:lnTo>
                  <a:lnTo>
                    <a:pt x="413" y="1217"/>
                  </a:lnTo>
                  <a:lnTo>
                    <a:pt x="590" y="1194"/>
                  </a:lnTo>
                  <a:lnTo>
                    <a:pt x="793" y="1159"/>
                  </a:lnTo>
                  <a:lnTo>
                    <a:pt x="1021" y="1112"/>
                  </a:lnTo>
                  <a:lnTo>
                    <a:pt x="1268" y="1050"/>
                  </a:lnTo>
                  <a:lnTo>
                    <a:pt x="1535" y="975"/>
                  </a:lnTo>
                  <a:lnTo>
                    <a:pt x="1819" y="885"/>
                  </a:lnTo>
                  <a:lnTo>
                    <a:pt x="2119" y="780"/>
                  </a:lnTo>
                  <a:lnTo>
                    <a:pt x="2430" y="659"/>
                  </a:lnTo>
                  <a:lnTo>
                    <a:pt x="2755" y="521"/>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16960" y="1091520"/>
              <a:ext cx="1800" cy="324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808920" y="999720"/>
              <a:ext cx="1800" cy="3240"/>
            </a:xfrm>
            <a:custGeom>
              <a:avLst/>
              <a:gdLst/>
              <a:ahLst/>
              <a:rect l="l" t="t" r="r" b="b"/>
              <a:pathLst>
                <a:path w="24" h="40">
                  <a:moveTo>
                    <a:pt x="0" y="0"/>
                  </a:moveTo>
                  <a:lnTo>
                    <a:pt x="24"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810000" y="794520"/>
              <a:ext cx="225000" cy="206280"/>
            </a:xfrm>
            <a:custGeom>
              <a:avLst/>
              <a:gdLst/>
              <a:ahLst/>
              <a:rect l="l" t="t" r="r" b="b"/>
              <a:pathLst>
                <a:path w="2896" h="2695">
                  <a:moveTo>
                    <a:pt x="0" y="2695"/>
                  </a:moveTo>
                  <a:lnTo>
                    <a:pt x="335" y="2490"/>
                  </a:lnTo>
                  <a:lnTo>
                    <a:pt x="649" y="2280"/>
                  </a:lnTo>
                  <a:lnTo>
                    <a:pt x="944" y="2069"/>
                  </a:lnTo>
                  <a:lnTo>
                    <a:pt x="1217" y="1856"/>
                  </a:lnTo>
                  <a:lnTo>
                    <a:pt x="1470" y="1646"/>
                  </a:lnTo>
                  <a:lnTo>
                    <a:pt x="1703" y="1438"/>
                  </a:lnTo>
                  <a:lnTo>
                    <a:pt x="1916" y="1236"/>
                  </a:lnTo>
                  <a:lnTo>
                    <a:pt x="2107" y="1042"/>
                  </a:lnTo>
                  <a:lnTo>
                    <a:pt x="2277" y="857"/>
                  </a:lnTo>
                  <a:lnTo>
                    <a:pt x="2428" y="683"/>
                  </a:lnTo>
                  <a:lnTo>
                    <a:pt x="2558" y="524"/>
                  </a:lnTo>
                  <a:lnTo>
                    <a:pt x="2666" y="379"/>
                  </a:lnTo>
                  <a:lnTo>
                    <a:pt x="2754" y="253"/>
                  </a:lnTo>
                  <a:lnTo>
                    <a:pt x="2822" y="147"/>
                  </a:lnTo>
                  <a:lnTo>
                    <a:pt x="2869" y="60"/>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08920" y="999720"/>
              <a:ext cx="1800" cy="3240"/>
            </a:xfrm>
            <a:custGeom>
              <a:avLst/>
              <a:gdLst/>
              <a:ahLst/>
              <a:rect l="l" t="t" r="r" b="b"/>
              <a:pathLst>
                <a:path w="24" h="40">
                  <a:moveTo>
                    <a:pt x="24" y="40"/>
                  </a:moveTo>
                  <a:lnTo>
                    <a:pt x="0" y="0"/>
                  </a:lnTo>
                  <a:lnTo>
                    <a:pt x="24" y="4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033200" y="794520"/>
              <a:ext cx="3600" cy="720"/>
            </a:xfrm>
            <a:custGeom>
              <a:avLst/>
              <a:gdLst/>
              <a:ahLst/>
              <a:rect l="l" t="t" r="r" b="b"/>
              <a:pathLst>
                <a:path w="45" h="12">
                  <a:moveTo>
                    <a:pt x="0" y="0"/>
                  </a:moveTo>
                  <a:lnTo>
                    <a:pt x="45" y="12"/>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6" name=""/>
            <p:cNvSpPr/>
            <p:nvPr/>
          </p:nvSpPr>
          <p:spPr>
            <a:xfrm>
              <a:off x="825840" y="345600"/>
              <a:ext cx="252000" cy="684720"/>
            </a:xfrm>
            <a:custGeom>
              <a:avLst/>
              <a:gdLst/>
              <a:ahLst/>
              <a:rect l="l" t="t" r="r" b="b"/>
              <a:pathLst>
                <a:path w="3257" h="8952">
                  <a:moveTo>
                    <a:pt x="0" y="8952"/>
                  </a:moveTo>
                  <a:lnTo>
                    <a:pt x="561" y="8586"/>
                  </a:lnTo>
                  <a:lnTo>
                    <a:pt x="1073" y="8174"/>
                  </a:lnTo>
                  <a:lnTo>
                    <a:pt x="1535" y="7719"/>
                  </a:lnTo>
                  <a:lnTo>
                    <a:pt x="1945" y="7225"/>
                  </a:lnTo>
                  <a:lnTo>
                    <a:pt x="2301" y="6700"/>
                  </a:lnTo>
                  <a:lnTo>
                    <a:pt x="2603" y="6145"/>
                  </a:lnTo>
                  <a:lnTo>
                    <a:pt x="2850" y="5566"/>
                  </a:lnTo>
                  <a:lnTo>
                    <a:pt x="3040" y="4966"/>
                  </a:lnTo>
                  <a:lnTo>
                    <a:pt x="3172" y="4352"/>
                  </a:lnTo>
                  <a:lnTo>
                    <a:pt x="3244" y="3727"/>
                  </a:lnTo>
                  <a:lnTo>
                    <a:pt x="3257" y="3095"/>
                  </a:lnTo>
                  <a:lnTo>
                    <a:pt x="3207" y="2462"/>
                  </a:lnTo>
                  <a:lnTo>
                    <a:pt x="3095" y="1831"/>
                  </a:lnTo>
                  <a:lnTo>
                    <a:pt x="2920" y="1207"/>
                  </a:lnTo>
                  <a:lnTo>
                    <a:pt x="2679" y="595"/>
                  </a:lnTo>
                  <a:lnTo>
                    <a:pt x="2373" y="0"/>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822960" y="1029600"/>
              <a:ext cx="3240" cy="3600"/>
            </a:xfrm>
            <a:custGeom>
              <a:avLst/>
              <a:gdLst/>
              <a:ahLst/>
              <a:rect l="l" t="t" r="r" b="b"/>
              <a:pathLst>
                <a:path w="43" h="52">
                  <a:moveTo>
                    <a:pt x="43" y="40"/>
                  </a:moveTo>
                  <a:lnTo>
                    <a:pt x="23" y="52"/>
                  </a:lnTo>
                  <a:lnTo>
                    <a:pt x="0" y="11"/>
                  </a:lnTo>
                  <a:lnTo>
                    <a:pt x="20" y="0"/>
                  </a:lnTo>
                  <a:lnTo>
                    <a:pt x="43"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8" name=""/>
            <p:cNvSpPr/>
            <p:nvPr/>
          </p:nvSpPr>
          <p:spPr>
            <a:xfrm>
              <a:off x="1007280" y="343800"/>
              <a:ext cx="3240" cy="2520"/>
            </a:xfrm>
            <a:custGeom>
              <a:avLst/>
              <a:gdLst/>
              <a:ahLst/>
              <a:rect l="l" t="t" r="r" b="b"/>
              <a:pathLst>
                <a:path w="52" h="43">
                  <a:moveTo>
                    <a:pt x="11" y="43"/>
                  </a:moveTo>
                  <a:lnTo>
                    <a:pt x="0" y="23"/>
                  </a:lnTo>
                  <a:lnTo>
                    <a:pt x="40" y="0"/>
                  </a:lnTo>
                  <a:lnTo>
                    <a:pt x="52" y="20"/>
                  </a:lnTo>
                  <a:lnTo>
                    <a:pt x="11" y="43"/>
                  </a:lnTo>
                  <a:close/>
                </a:path>
              </a:pathLst>
            </a:custGeom>
            <a:solidFill>
              <a:srgbClr val="1f61a9"/>
            </a:solidFill>
            <a:ln w="0">
              <a:solidFill>
                <a:srgbClr val="1f61a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69" name=""/>
            <p:cNvSpPr/>
            <p:nvPr/>
          </p:nvSpPr>
          <p:spPr>
            <a:xfrm>
              <a:off x="316080" y="96840"/>
              <a:ext cx="693720" cy="248760"/>
            </a:xfrm>
            <a:custGeom>
              <a:avLst/>
              <a:gdLst/>
              <a:ahLst/>
              <a:rect l="l" t="t" r="r" b="b"/>
              <a:pathLst>
                <a:path w="8954" h="3258">
                  <a:moveTo>
                    <a:pt x="8954" y="3258"/>
                  </a:moveTo>
                  <a:lnTo>
                    <a:pt x="8587" y="2695"/>
                  </a:lnTo>
                  <a:lnTo>
                    <a:pt x="8174" y="2183"/>
                  </a:lnTo>
                  <a:lnTo>
                    <a:pt x="7719" y="1721"/>
                  </a:lnTo>
                  <a:lnTo>
                    <a:pt x="7227" y="1311"/>
                  </a:lnTo>
                  <a:lnTo>
                    <a:pt x="6701" y="955"/>
                  </a:lnTo>
                  <a:lnTo>
                    <a:pt x="6146" y="653"/>
                  </a:lnTo>
                  <a:lnTo>
                    <a:pt x="5566" y="406"/>
                  </a:lnTo>
                  <a:lnTo>
                    <a:pt x="4968" y="217"/>
                  </a:lnTo>
                  <a:lnTo>
                    <a:pt x="4352" y="85"/>
                  </a:lnTo>
                  <a:lnTo>
                    <a:pt x="3727" y="12"/>
                  </a:lnTo>
                  <a:lnTo>
                    <a:pt x="3096" y="0"/>
                  </a:lnTo>
                  <a:lnTo>
                    <a:pt x="2462" y="49"/>
                  </a:lnTo>
                  <a:lnTo>
                    <a:pt x="1832" y="161"/>
                  </a:lnTo>
                  <a:lnTo>
                    <a:pt x="1208" y="337"/>
                  </a:lnTo>
                  <a:lnTo>
                    <a:pt x="595" y="578"/>
                  </a:lnTo>
                  <a:lnTo>
                    <a:pt x="0" y="886"/>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008000" y="344520"/>
              <a:ext cx="3600" cy="3600"/>
            </a:xfrm>
            <a:custGeom>
              <a:avLst/>
              <a:gdLst/>
              <a:ahLst/>
              <a:rect l="l" t="t" r="r" b="b"/>
              <a:pathLst>
                <a:path w="52" h="43">
                  <a:moveTo>
                    <a:pt x="41" y="0"/>
                  </a:moveTo>
                  <a:lnTo>
                    <a:pt x="52" y="20"/>
                  </a:lnTo>
                  <a:lnTo>
                    <a:pt x="12" y="43"/>
                  </a:lnTo>
                  <a:lnTo>
                    <a:pt x="0" y="23"/>
                  </a:lnTo>
                  <a:lnTo>
                    <a:pt x="41" y="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1" name=""/>
            <p:cNvSpPr/>
            <p:nvPr/>
          </p:nvSpPr>
          <p:spPr>
            <a:xfrm>
              <a:off x="313200" y="162720"/>
              <a:ext cx="3600" cy="3600"/>
            </a:xfrm>
            <a:custGeom>
              <a:avLst/>
              <a:gdLst/>
              <a:ahLst/>
              <a:rect l="l" t="t" r="r" b="b"/>
              <a:pathLst>
                <a:path w="44" h="52">
                  <a:moveTo>
                    <a:pt x="44" y="40"/>
                  </a:moveTo>
                  <a:lnTo>
                    <a:pt x="23" y="52"/>
                  </a:lnTo>
                  <a:lnTo>
                    <a:pt x="0" y="11"/>
                  </a:lnTo>
                  <a:lnTo>
                    <a:pt x="20" y="0"/>
                  </a:lnTo>
                  <a:lnTo>
                    <a:pt x="44"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2" name=""/>
            <p:cNvSpPr/>
            <p:nvPr/>
          </p:nvSpPr>
          <p:spPr>
            <a:xfrm>
              <a:off x="63360" y="164520"/>
              <a:ext cx="252720" cy="685080"/>
            </a:xfrm>
            <a:custGeom>
              <a:avLst/>
              <a:gdLst/>
              <a:ahLst/>
              <a:rect l="l" t="t" r="r" b="b"/>
              <a:pathLst>
                <a:path w="3257" h="8952">
                  <a:moveTo>
                    <a:pt x="3257" y="0"/>
                  </a:moveTo>
                  <a:lnTo>
                    <a:pt x="2695" y="364"/>
                  </a:lnTo>
                  <a:lnTo>
                    <a:pt x="2182" y="777"/>
                  </a:lnTo>
                  <a:lnTo>
                    <a:pt x="1721" y="1232"/>
                  </a:lnTo>
                  <a:lnTo>
                    <a:pt x="1311" y="1725"/>
                  </a:lnTo>
                  <a:lnTo>
                    <a:pt x="954" y="2250"/>
                  </a:lnTo>
                  <a:lnTo>
                    <a:pt x="652" y="2805"/>
                  </a:lnTo>
                  <a:lnTo>
                    <a:pt x="406" y="3385"/>
                  </a:lnTo>
                  <a:lnTo>
                    <a:pt x="216" y="3984"/>
                  </a:lnTo>
                  <a:lnTo>
                    <a:pt x="85" y="4599"/>
                  </a:lnTo>
                  <a:lnTo>
                    <a:pt x="11" y="5224"/>
                  </a:lnTo>
                  <a:lnTo>
                    <a:pt x="0" y="5855"/>
                  </a:lnTo>
                  <a:lnTo>
                    <a:pt x="49" y="6489"/>
                  </a:lnTo>
                  <a:lnTo>
                    <a:pt x="160" y="7119"/>
                  </a:lnTo>
                  <a:lnTo>
                    <a:pt x="337" y="7743"/>
                  </a:lnTo>
                  <a:lnTo>
                    <a:pt x="577" y="8356"/>
                  </a:lnTo>
                  <a:lnTo>
                    <a:pt x="885" y="895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15360" y="162000"/>
              <a:ext cx="2520" cy="3600"/>
            </a:xfrm>
            <a:custGeom>
              <a:avLst/>
              <a:gdLst/>
              <a:ahLst/>
              <a:rect l="l" t="t" r="r" b="b"/>
              <a:pathLst>
                <a:path w="44" h="52">
                  <a:moveTo>
                    <a:pt x="0" y="12"/>
                  </a:moveTo>
                  <a:lnTo>
                    <a:pt x="20" y="0"/>
                  </a:lnTo>
                  <a:lnTo>
                    <a:pt x="44" y="40"/>
                  </a:lnTo>
                  <a:lnTo>
                    <a:pt x="24"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4" name=""/>
            <p:cNvSpPr/>
            <p:nvPr/>
          </p:nvSpPr>
          <p:spPr>
            <a:xfrm>
              <a:off x="129960" y="848880"/>
              <a:ext cx="4320" cy="2880"/>
            </a:xfrm>
            <a:custGeom>
              <a:avLst/>
              <a:gdLst/>
              <a:ahLst/>
              <a:rect l="l" t="t" r="r" b="b"/>
              <a:pathLst>
                <a:path w="52" h="44">
                  <a:moveTo>
                    <a:pt x="40" y="0"/>
                  </a:moveTo>
                  <a:lnTo>
                    <a:pt x="52" y="21"/>
                  </a:lnTo>
                  <a:lnTo>
                    <a:pt x="12" y="44"/>
                  </a:lnTo>
                  <a:lnTo>
                    <a:pt x="0" y="24"/>
                  </a:lnTo>
                  <a:lnTo>
                    <a:pt x="40" y="0"/>
                  </a:lnTo>
                  <a:close/>
                </a:path>
              </a:pathLst>
            </a:custGeom>
            <a:solidFill>
              <a:srgbClr val="1f61a9"/>
            </a:solidFill>
            <a:ln w="0">
              <a:solidFill>
                <a:srgbClr val="1f61a9"/>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5" name=""/>
            <p:cNvSpPr/>
            <p:nvPr/>
          </p:nvSpPr>
          <p:spPr>
            <a:xfrm>
              <a:off x="131760" y="849960"/>
              <a:ext cx="693720" cy="248760"/>
            </a:xfrm>
            <a:custGeom>
              <a:avLst/>
              <a:gdLst/>
              <a:ahLst/>
              <a:rect l="l" t="t" r="r" b="b"/>
              <a:pathLst>
                <a:path w="8953" h="3256">
                  <a:moveTo>
                    <a:pt x="0" y="0"/>
                  </a:moveTo>
                  <a:lnTo>
                    <a:pt x="365" y="561"/>
                  </a:lnTo>
                  <a:lnTo>
                    <a:pt x="777" y="1074"/>
                  </a:lnTo>
                  <a:lnTo>
                    <a:pt x="1232" y="1535"/>
                  </a:lnTo>
                  <a:lnTo>
                    <a:pt x="1726" y="1944"/>
                  </a:lnTo>
                  <a:lnTo>
                    <a:pt x="2251" y="2302"/>
                  </a:lnTo>
                  <a:lnTo>
                    <a:pt x="2806" y="2603"/>
                  </a:lnTo>
                  <a:lnTo>
                    <a:pt x="3385" y="2850"/>
                  </a:lnTo>
                  <a:lnTo>
                    <a:pt x="3985" y="3039"/>
                  </a:lnTo>
                  <a:lnTo>
                    <a:pt x="4599" y="3171"/>
                  </a:lnTo>
                  <a:lnTo>
                    <a:pt x="5224" y="3245"/>
                  </a:lnTo>
                  <a:lnTo>
                    <a:pt x="5856" y="3256"/>
                  </a:lnTo>
                  <a:lnTo>
                    <a:pt x="6489" y="3207"/>
                  </a:lnTo>
                  <a:lnTo>
                    <a:pt x="7120" y="3096"/>
                  </a:lnTo>
                  <a:lnTo>
                    <a:pt x="7744" y="2919"/>
                  </a:lnTo>
                  <a:lnTo>
                    <a:pt x="8356" y="2679"/>
                  </a:lnTo>
                  <a:lnTo>
                    <a:pt x="8953" y="237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9240" y="847080"/>
              <a:ext cx="4320" cy="3240"/>
            </a:xfrm>
            <a:custGeom>
              <a:avLst/>
              <a:gdLst/>
              <a:ahLst/>
              <a:rect l="l" t="t" r="r" b="b"/>
              <a:pathLst>
                <a:path w="52" h="44">
                  <a:moveTo>
                    <a:pt x="12" y="44"/>
                  </a:moveTo>
                  <a:lnTo>
                    <a:pt x="0" y="24"/>
                  </a:lnTo>
                  <a:lnTo>
                    <a:pt x="41" y="0"/>
                  </a:lnTo>
                  <a:lnTo>
                    <a:pt x="52" y="20"/>
                  </a:lnTo>
                  <a:lnTo>
                    <a:pt x="12" y="44"/>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824760" y="1028880"/>
              <a:ext cx="3600" cy="3240"/>
            </a:xfrm>
            <a:custGeom>
              <a:avLst/>
              <a:gdLst/>
              <a:ahLst/>
              <a:rect l="l" t="t" r="r" b="b"/>
              <a:pathLst>
                <a:path w="44" h="52">
                  <a:moveTo>
                    <a:pt x="0" y="12"/>
                  </a:moveTo>
                  <a:lnTo>
                    <a:pt x="20" y="0"/>
                  </a:lnTo>
                  <a:lnTo>
                    <a:pt x="44" y="40"/>
                  </a:lnTo>
                  <a:lnTo>
                    <a:pt x="23"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826560" y="396000"/>
              <a:ext cx="178560" cy="635400"/>
            </a:xfrm>
            <a:custGeom>
              <a:avLst/>
              <a:gdLst/>
              <a:ahLst/>
              <a:rect l="l" t="t" r="r" b="b"/>
              <a:pathLst>
                <a:path w="2309" h="8312">
                  <a:moveTo>
                    <a:pt x="0" y="8312"/>
                  </a:moveTo>
                  <a:lnTo>
                    <a:pt x="447" y="8013"/>
                  </a:lnTo>
                  <a:lnTo>
                    <a:pt x="847" y="7665"/>
                  </a:lnTo>
                  <a:lnTo>
                    <a:pt x="1201" y="7273"/>
                  </a:lnTo>
                  <a:lnTo>
                    <a:pt x="1508" y="6840"/>
                  </a:lnTo>
                  <a:lnTo>
                    <a:pt x="1765" y="6370"/>
                  </a:lnTo>
                  <a:lnTo>
                    <a:pt x="1974" y="5868"/>
                  </a:lnTo>
                  <a:lnTo>
                    <a:pt x="2134" y="5339"/>
                  </a:lnTo>
                  <a:lnTo>
                    <a:pt x="2243" y="4786"/>
                  </a:lnTo>
                  <a:lnTo>
                    <a:pt x="2302" y="4212"/>
                  </a:lnTo>
                  <a:lnTo>
                    <a:pt x="2309" y="3623"/>
                  </a:lnTo>
                  <a:lnTo>
                    <a:pt x="2266" y="3024"/>
                  </a:lnTo>
                  <a:lnTo>
                    <a:pt x="2168" y="2417"/>
                  </a:lnTo>
                  <a:lnTo>
                    <a:pt x="2018" y="1806"/>
                  </a:lnTo>
                  <a:lnTo>
                    <a:pt x="1814" y="1197"/>
                  </a:lnTo>
                  <a:lnTo>
                    <a:pt x="1555" y="593"/>
                  </a:lnTo>
                  <a:lnTo>
                    <a:pt x="1242"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 name=""/>
            <p:cNvSpPr/>
            <p:nvPr/>
          </p:nvSpPr>
          <p:spPr>
            <a:xfrm>
              <a:off x="919800" y="393120"/>
              <a:ext cx="4320" cy="252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1" name=""/>
            <p:cNvSpPr/>
            <p:nvPr/>
          </p:nvSpPr>
          <p:spPr>
            <a:xfrm>
              <a:off x="315360" y="118800"/>
              <a:ext cx="606960" cy="277200"/>
            </a:xfrm>
            <a:custGeom>
              <a:avLst/>
              <a:gdLst/>
              <a:ahLst/>
              <a:rect l="l" t="t" r="r" b="b"/>
              <a:pathLst>
                <a:path w="7837" h="3616">
                  <a:moveTo>
                    <a:pt x="7837" y="3616"/>
                  </a:moveTo>
                  <a:lnTo>
                    <a:pt x="7475" y="3050"/>
                  </a:lnTo>
                  <a:lnTo>
                    <a:pt x="7080" y="2526"/>
                  </a:lnTo>
                  <a:lnTo>
                    <a:pt x="6651" y="2047"/>
                  </a:lnTo>
                  <a:lnTo>
                    <a:pt x="6196" y="1614"/>
                  </a:lnTo>
                  <a:lnTo>
                    <a:pt x="5717" y="1230"/>
                  </a:lnTo>
                  <a:lnTo>
                    <a:pt x="5217" y="895"/>
                  </a:lnTo>
                  <a:lnTo>
                    <a:pt x="4703" y="610"/>
                  </a:lnTo>
                  <a:lnTo>
                    <a:pt x="4175" y="377"/>
                  </a:lnTo>
                  <a:lnTo>
                    <a:pt x="3640" y="198"/>
                  </a:lnTo>
                  <a:lnTo>
                    <a:pt x="3101" y="74"/>
                  </a:lnTo>
                  <a:lnTo>
                    <a:pt x="2562" y="8"/>
                  </a:lnTo>
                  <a:lnTo>
                    <a:pt x="2026" y="0"/>
                  </a:lnTo>
                  <a:lnTo>
                    <a:pt x="1497" y="51"/>
                  </a:lnTo>
                  <a:lnTo>
                    <a:pt x="981" y="164"/>
                  </a:lnTo>
                  <a:lnTo>
                    <a:pt x="480" y="340"/>
                  </a:lnTo>
                  <a:lnTo>
                    <a:pt x="0" y="581"/>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20520" y="395280"/>
              <a:ext cx="4320" cy="252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3"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4" name=""/>
            <p:cNvSpPr/>
            <p:nvPr/>
          </p:nvSpPr>
          <p:spPr>
            <a:xfrm>
              <a:off x="135720" y="163800"/>
              <a:ext cx="179280" cy="635400"/>
            </a:xfrm>
            <a:custGeom>
              <a:avLst/>
              <a:gdLst/>
              <a:ahLst/>
              <a:rect l="l" t="t" r="r" b="b"/>
              <a:pathLst>
                <a:path w="2311" h="8312">
                  <a:moveTo>
                    <a:pt x="2311" y="0"/>
                  </a:moveTo>
                  <a:lnTo>
                    <a:pt x="1863" y="299"/>
                  </a:lnTo>
                  <a:lnTo>
                    <a:pt x="1462" y="647"/>
                  </a:lnTo>
                  <a:lnTo>
                    <a:pt x="1109" y="1039"/>
                  </a:lnTo>
                  <a:lnTo>
                    <a:pt x="803" y="1471"/>
                  </a:lnTo>
                  <a:lnTo>
                    <a:pt x="545" y="1941"/>
                  </a:lnTo>
                  <a:lnTo>
                    <a:pt x="335" y="2443"/>
                  </a:lnTo>
                  <a:lnTo>
                    <a:pt x="176" y="2973"/>
                  </a:lnTo>
                  <a:lnTo>
                    <a:pt x="66" y="3526"/>
                  </a:lnTo>
                  <a:lnTo>
                    <a:pt x="8" y="4099"/>
                  </a:lnTo>
                  <a:lnTo>
                    <a:pt x="0" y="4688"/>
                  </a:lnTo>
                  <a:lnTo>
                    <a:pt x="45" y="5288"/>
                  </a:lnTo>
                  <a:lnTo>
                    <a:pt x="142" y="5895"/>
                  </a:lnTo>
                  <a:lnTo>
                    <a:pt x="292" y="6505"/>
                  </a:lnTo>
                  <a:lnTo>
                    <a:pt x="496" y="7114"/>
                  </a:lnTo>
                  <a:lnTo>
                    <a:pt x="754" y="7718"/>
                  </a:lnTo>
                  <a:lnTo>
                    <a:pt x="1069" y="8312"/>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6" name=""/>
            <p:cNvSpPr/>
            <p:nvPr/>
          </p:nvSpPr>
          <p:spPr>
            <a:xfrm>
              <a:off x="217440" y="798480"/>
              <a:ext cx="3240" cy="324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18520" y="799200"/>
              <a:ext cx="608040" cy="277200"/>
            </a:xfrm>
            <a:custGeom>
              <a:avLst/>
              <a:gdLst/>
              <a:ahLst/>
              <a:rect l="l" t="t" r="r" b="b"/>
              <a:pathLst>
                <a:path w="7837" h="3616">
                  <a:moveTo>
                    <a:pt x="0" y="0"/>
                  </a:moveTo>
                  <a:lnTo>
                    <a:pt x="360" y="566"/>
                  </a:lnTo>
                  <a:lnTo>
                    <a:pt x="756" y="1090"/>
                  </a:lnTo>
                  <a:lnTo>
                    <a:pt x="1184" y="1568"/>
                  </a:lnTo>
                  <a:lnTo>
                    <a:pt x="1639" y="2001"/>
                  </a:lnTo>
                  <a:lnTo>
                    <a:pt x="2119" y="2386"/>
                  </a:lnTo>
                  <a:lnTo>
                    <a:pt x="2618" y="2721"/>
                  </a:lnTo>
                  <a:lnTo>
                    <a:pt x="3133" y="3006"/>
                  </a:lnTo>
                  <a:lnTo>
                    <a:pt x="3660" y="3238"/>
                  </a:lnTo>
                  <a:lnTo>
                    <a:pt x="4196" y="3417"/>
                  </a:lnTo>
                  <a:lnTo>
                    <a:pt x="4735" y="3541"/>
                  </a:lnTo>
                  <a:lnTo>
                    <a:pt x="5274" y="3607"/>
                  </a:lnTo>
                  <a:lnTo>
                    <a:pt x="5810" y="3616"/>
                  </a:lnTo>
                  <a:lnTo>
                    <a:pt x="6338" y="3565"/>
                  </a:lnTo>
                  <a:lnTo>
                    <a:pt x="6855" y="3451"/>
                  </a:lnTo>
                  <a:lnTo>
                    <a:pt x="7356" y="3276"/>
                  </a:lnTo>
                  <a:lnTo>
                    <a:pt x="7837" y="3035"/>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16360" y="797400"/>
              <a:ext cx="3600" cy="288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0" name=""/>
            <p:cNvSpPr/>
            <p:nvPr/>
          </p:nvSpPr>
          <p:spPr>
            <a:xfrm>
              <a:off x="767880" y="484200"/>
              <a:ext cx="125640" cy="547200"/>
            </a:xfrm>
            <a:custGeom>
              <a:avLst/>
              <a:gdLst/>
              <a:ahLst/>
              <a:rect l="l" t="t" r="r" b="b"/>
              <a:pathLst>
                <a:path w="1617" h="7154">
                  <a:moveTo>
                    <a:pt x="750" y="7154"/>
                  </a:moveTo>
                  <a:lnTo>
                    <a:pt x="993" y="6974"/>
                  </a:lnTo>
                  <a:lnTo>
                    <a:pt x="1196" y="6740"/>
                  </a:lnTo>
                  <a:lnTo>
                    <a:pt x="1359" y="6458"/>
                  </a:lnTo>
                  <a:lnTo>
                    <a:pt x="1482" y="6132"/>
                  </a:lnTo>
                  <a:lnTo>
                    <a:pt x="1566" y="5764"/>
                  </a:lnTo>
                  <a:lnTo>
                    <a:pt x="1610" y="5357"/>
                  </a:lnTo>
                  <a:lnTo>
                    <a:pt x="1617" y="4917"/>
                  </a:lnTo>
                  <a:lnTo>
                    <a:pt x="1585" y="4446"/>
                  </a:lnTo>
                  <a:lnTo>
                    <a:pt x="1516" y="3947"/>
                  </a:lnTo>
                  <a:lnTo>
                    <a:pt x="1408" y="3425"/>
                  </a:lnTo>
                  <a:lnTo>
                    <a:pt x="1264" y="2883"/>
                  </a:lnTo>
                  <a:lnTo>
                    <a:pt x="1083" y="2325"/>
                  </a:lnTo>
                  <a:lnTo>
                    <a:pt x="865" y="1753"/>
                  </a:lnTo>
                  <a:lnTo>
                    <a:pt x="612" y="1174"/>
                  </a:lnTo>
                  <a:lnTo>
                    <a:pt x="323" y="587"/>
                  </a:lnTo>
                  <a:lnTo>
                    <a:pt x="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2" name=""/>
            <p:cNvSpPr/>
            <p:nvPr/>
          </p:nvSpPr>
          <p:spPr>
            <a:xfrm>
              <a:off x="765360" y="481320"/>
              <a:ext cx="4320" cy="3600"/>
            </a:xfrm>
            <a:custGeom>
              <a:avLst/>
              <a:gdLst/>
              <a:ahLst/>
              <a:rect l="l" t="t" r="r" b="b"/>
              <a:pathLst>
                <a:path w="52" h="44">
                  <a:moveTo>
                    <a:pt x="11" y="44"/>
                  </a:moveTo>
                  <a:lnTo>
                    <a:pt x="0" y="23"/>
                  </a:lnTo>
                  <a:lnTo>
                    <a:pt x="40" y="0"/>
                  </a:lnTo>
                  <a:lnTo>
                    <a:pt x="52" y="20"/>
                  </a:lnTo>
                  <a:lnTo>
                    <a:pt x="11" y="44"/>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3" name=""/>
            <p:cNvSpPr/>
            <p:nvPr/>
          </p:nvSpPr>
          <p:spPr>
            <a:xfrm>
              <a:off x="315360" y="149040"/>
              <a:ext cx="452520" cy="335160"/>
            </a:xfrm>
            <a:custGeom>
              <a:avLst/>
              <a:gdLst/>
              <a:ahLst/>
              <a:rect l="l" t="t" r="r" b="b"/>
              <a:pathLst>
                <a:path w="5845" h="4379">
                  <a:moveTo>
                    <a:pt x="5845" y="4379"/>
                  </a:moveTo>
                  <a:lnTo>
                    <a:pt x="5494" y="3806"/>
                  </a:lnTo>
                  <a:lnTo>
                    <a:pt x="5128" y="3265"/>
                  </a:lnTo>
                  <a:lnTo>
                    <a:pt x="4750" y="2758"/>
                  </a:lnTo>
                  <a:lnTo>
                    <a:pt x="4362" y="2287"/>
                  </a:lnTo>
                  <a:lnTo>
                    <a:pt x="3966" y="1853"/>
                  </a:lnTo>
                  <a:lnTo>
                    <a:pt x="3566" y="1460"/>
                  </a:lnTo>
                  <a:lnTo>
                    <a:pt x="3166" y="1108"/>
                  </a:lnTo>
                  <a:lnTo>
                    <a:pt x="2767" y="801"/>
                  </a:lnTo>
                  <a:lnTo>
                    <a:pt x="2373" y="539"/>
                  </a:lnTo>
                  <a:lnTo>
                    <a:pt x="1988" y="326"/>
                  </a:lnTo>
                  <a:lnTo>
                    <a:pt x="1612" y="165"/>
                  </a:lnTo>
                  <a:lnTo>
                    <a:pt x="1251" y="55"/>
                  </a:lnTo>
                  <a:lnTo>
                    <a:pt x="905" y="0"/>
                  </a:lnTo>
                  <a:lnTo>
                    <a:pt x="580" y="2"/>
                  </a:lnTo>
                  <a:lnTo>
                    <a:pt x="277" y="64"/>
                  </a:lnTo>
                  <a:lnTo>
                    <a:pt x="0" y="186"/>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66440" y="483120"/>
              <a:ext cx="4320" cy="3600"/>
            </a:xfrm>
            <a:custGeom>
              <a:avLst/>
              <a:gdLst/>
              <a:ahLst/>
              <a:rect l="l" t="t" r="r" b="b"/>
              <a:pathLst>
                <a:path w="52" h="44">
                  <a:moveTo>
                    <a:pt x="41" y="0"/>
                  </a:moveTo>
                  <a:lnTo>
                    <a:pt x="52" y="20"/>
                  </a:lnTo>
                  <a:lnTo>
                    <a:pt x="12" y="44"/>
                  </a:lnTo>
                  <a:lnTo>
                    <a:pt x="0" y="24"/>
                  </a:lnTo>
                  <a:lnTo>
                    <a:pt x="41"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5"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6" name=""/>
            <p:cNvSpPr/>
            <p:nvPr/>
          </p:nvSpPr>
          <p:spPr>
            <a:xfrm>
              <a:off x="248040" y="163800"/>
              <a:ext cx="125640" cy="547200"/>
            </a:xfrm>
            <a:custGeom>
              <a:avLst/>
              <a:gdLst/>
              <a:ahLst/>
              <a:rect l="l" t="t" r="r" b="b"/>
              <a:pathLst>
                <a:path w="1618" h="7155">
                  <a:moveTo>
                    <a:pt x="868" y="0"/>
                  </a:moveTo>
                  <a:lnTo>
                    <a:pt x="624" y="180"/>
                  </a:lnTo>
                  <a:lnTo>
                    <a:pt x="421" y="413"/>
                  </a:lnTo>
                  <a:lnTo>
                    <a:pt x="258" y="694"/>
                  </a:lnTo>
                  <a:lnTo>
                    <a:pt x="135" y="1022"/>
                  </a:lnTo>
                  <a:lnTo>
                    <a:pt x="51" y="1390"/>
                  </a:lnTo>
                  <a:lnTo>
                    <a:pt x="6" y="1796"/>
                  </a:lnTo>
                  <a:lnTo>
                    <a:pt x="0" y="2237"/>
                  </a:lnTo>
                  <a:lnTo>
                    <a:pt x="32" y="2708"/>
                  </a:lnTo>
                  <a:lnTo>
                    <a:pt x="102" y="3206"/>
                  </a:lnTo>
                  <a:lnTo>
                    <a:pt x="208" y="3728"/>
                  </a:lnTo>
                  <a:lnTo>
                    <a:pt x="353" y="4271"/>
                  </a:lnTo>
                  <a:lnTo>
                    <a:pt x="534" y="4829"/>
                  </a:lnTo>
                  <a:lnTo>
                    <a:pt x="752" y="5401"/>
                  </a:lnTo>
                  <a:lnTo>
                    <a:pt x="1005" y="5980"/>
                  </a:lnTo>
                  <a:lnTo>
                    <a:pt x="1294" y="6567"/>
                  </a:lnTo>
                  <a:lnTo>
                    <a:pt x="1618" y="7155"/>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8" name=""/>
            <p:cNvSpPr/>
            <p:nvPr/>
          </p:nvSpPr>
          <p:spPr>
            <a:xfrm>
              <a:off x="371880" y="710280"/>
              <a:ext cx="3240" cy="2520"/>
            </a:xfrm>
            <a:custGeom>
              <a:avLst/>
              <a:gdLst/>
              <a:ahLst/>
              <a:rect l="l" t="t" r="r" b="b"/>
              <a:pathLst>
                <a:path w="52" h="44">
                  <a:moveTo>
                    <a:pt x="40" y="0"/>
                  </a:moveTo>
                  <a:lnTo>
                    <a:pt x="52" y="20"/>
                  </a:lnTo>
                  <a:lnTo>
                    <a:pt x="12" y="44"/>
                  </a:lnTo>
                  <a:lnTo>
                    <a:pt x="0" y="23"/>
                  </a:lnTo>
                  <a:lnTo>
                    <a:pt x="4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9" name=""/>
            <p:cNvSpPr/>
            <p:nvPr/>
          </p:nvSpPr>
          <p:spPr>
            <a:xfrm>
              <a:off x="373680" y="711000"/>
              <a:ext cx="452520" cy="334800"/>
            </a:xfrm>
            <a:custGeom>
              <a:avLst/>
              <a:gdLst/>
              <a:ahLst/>
              <a:rect l="l" t="t" r="r" b="b"/>
              <a:pathLst>
                <a:path w="5845" h="4377">
                  <a:moveTo>
                    <a:pt x="0" y="0"/>
                  </a:moveTo>
                  <a:lnTo>
                    <a:pt x="350" y="572"/>
                  </a:lnTo>
                  <a:lnTo>
                    <a:pt x="716" y="1113"/>
                  </a:lnTo>
                  <a:lnTo>
                    <a:pt x="1095" y="1620"/>
                  </a:lnTo>
                  <a:lnTo>
                    <a:pt x="1483" y="2091"/>
                  </a:lnTo>
                  <a:lnTo>
                    <a:pt x="1879" y="2524"/>
                  </a:lnTo>
                  <a:lnTo>
                    <a:pt x="2278" y="2919"/>
                  </a:lnTo>
                  <a:lnTo>
                    <a:pt x="2678" y="3270"/>
                  </a:lnTo>
                  <a:lnTo>
                    <a:pt x="3077" y="3577"/>
                  </a:lnTo>
                  <a:lnTo>
                    <a:pt x="3471" y="3838"/>
                  </a:lnTo>
                  <a:lnTo>
                    <a:pt x="3857" y="4051"/>
                  </a:lnTo>
                  <a:lnTo>
                    <a:pt x="4232" y="4214"/>
                  </a:lnTo>
                  <a:lnTo>
                    <a:pt x="4594" y="4323"/>
                  </a:lnTo>
                  <a:lnTo>
                    <a:pt x="4938" y="4377"/>
                  </a:lnTo>
                  <a:lnTo>
                    <a:pt x="5264" y="4375"/>
                  </a:lnTo>
                  <a:lnTo>
                    <a:pt x="5567" y="4314"/>
                  </a:lnTo>
                  <a:lnTo>
                    <a:pt x="5845" y="4192"/>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70800" y="708480"/>
              <a:ext cx="3600" cy="3240"/>
            </a:xfrm>
            <a:custGeom>
              <a:avLst/>
              <a:gdLst/>
              <a:ahLst/>
              <a:rect l="l" t="t" r="r" b="b"/>
              <a:pathLst>
                <a:path w="52" h="43">
                  <a:moveTo>
                    <a:pt x="12" y="43"/>
                  </a:moveTo>
                  <a:lnTo>
                    <a:pt x="0" y="23"/>
                  </a:lnTo>
                  <a:lnTo>
                    <a:pt x="41" y="0"/>
                  </a:lnTo>
                  <a:lnTo>
                    <a:pt x="52" y="20"/>
                  </a:lnTo>
                  <a:lnTo>
                    <a:pt x="12" y="43"/>
                  </a:lnTo>
                  <a:close/>
                </a:path>
              </a:pathLst>
            </a:custGeom>
            <a:solidFill>
              <a:srgbClr val="a9d1e5"/>
            </a:solidFill>
            <a:ln w="0">
              <a:solidFill>
                <a:srgbClr val="a9d1e5"/>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2" name=""/>
            <p:cNvSpPr/>
            <p:nvPr/>
          </p:nvSpPr>
          <p:spPr>
            <a:xfrm flipH="1" flipV="1">
              <a:off x="315720" y="165600"/>
              <a:ext cx="508680" cy="864000"/>
            </a:xfrm>
            <a:prstGeom prst="line">
              <a:avLst/>
            </a:prstGeom>
            <a:ln w="6480">
              <a:solidFill>
                <a:srgbClr val="d4e8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34640" y="703800"/>
              <a:ext cx="492840" cy="164160"/>
            </a:xfrm>
            <a:custGeom>
              <a:avLst/>
              <a:gdLst/>
              <a:ahLst/>
              <a:rect l="l" t="t" r="r" b="b"/>
              <a:pathLst>
                <a:path w="6360" h="2154">
                  <a:moveTo>
                    <a:pt x="0" y="1959"/>
                  </a:moveTo>
                  <a:lnTo>
                    <a:pt x="159" y="2053"/>
                  </a:lnTo>
                  <a:lnTo>
                    <a:pt x="357" y="2116"/>
                  </a:lnTo>
                  <a:lnTo>
                    <a:pt x="594" y="2150"/>
                  </a:lnTo>
                  <a:lnTo>
                    <a:pt x="869" y="2154"/>
                  </a:lnTo>
                  <a:lnTo>
                    <a:pt x="1178" y="2128"/>
                  </a:lnTo>
                  <a:lnTo>
                    <a:pt x="1520" y="2073"/>
                  </a:lnTo>
                  <a:lnTo>
                    <a:pt x="1894" y="1989"/>
                  </a:lnTo>
                  <a:lnTo>
                    <a:pt x="2297" y="1876"/>
                  </a:lnTo>
                  <a:lnTo>
                    <a:pt x="2727" y="1736"/>
                  </a:lnTo>
                  <a:lnTo>
                    <a:pt x="3183" y="1567"/>
                  </a:lnTo>
                  <a:lnTo>
                    <a:pt x="3664" y="1372"/>
                  </a:lnTo>
                  <a:lnTo>
                    <a:pt x="4165" y="1149"/>
                  </a:lnTo>
                  <a:lnTo>
                    <a:pt x="4689" y="900"/>
                  </a:lnTo>
                  <a:lnTo>
                    <a:pt x="5230" y="626"/>
                  </a:lnTo>
                  <a:lnTo>
                    <a:pt x="5787" y="325"/>
                  </a:lnTo>
                  <a:lnTo>
                    <a:pt x="636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3920" y="851760"/>
              <a:ext cx="1800" cy="2520"/>
            </a:xfrm>
            <a:custGeom>
              <a:avLst/>
              <a:gdLst/>
              <a:ahLst/>
              <a:rect l="l" t="t" r="r" b="b"/>
              <a:pathLst>
                <a:path w="30" h="36">
                  <a:moveTo>
                    <a:pt x="0" y="36"/>
                  </a:moveTo>
                  <a:lnTo>
                    <a:pt x="30" y="0"/>
                  </a:lnTo>
                  <a:lnTo>
                    <a:pt x="0" y="36"/>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5" name=""/>
            <p:cNvSpPr/>
            <p:nvPr/>
          </p:nvSpPr>
          <p:spPr>
            <a:xfrm>
              <a:off x="626760" y="702000"/>
              <a:ext cx="1800" cy="252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6" name=""/>
            <p:cNvSpPr/>
            <p:nvPr/>
          </p:nvSpPr>
          <p:spPr>
            <a:xfrm>
              <a:off x="627840" y="349200"/>
              <a:ext cx="384840" cy="354600"/>
            </a:xfrm>
            <a:custGeom>
              <a:avLst/>
              <a:gdLst/>
              <a:ahLst/>
              <a:rect l="l" t="t" r="r" b="b"/>
              <a:pathLst>
                <a:path w="4970" h="4633">
                  <a:moveTo>
                    <a:pt x="0" y="4633"/>
                  </a:moveTo>
                  <a:lnTo>
                    <a:pt x="563" y="4294"/>
                  </a:lnTo>
                  <a:lnTo>
                    <a:pt x="1096" y="3957"/>
                  </a:lnTo>
                  <a:lnTo>
                    <a:pt x="1597" y="3622"/>
                  </a:lnTo>
                  <a:lnTo>
                    <a:pt x="2064" y="3290"/>
                  </a:lnTo>
                  <a:lnTo>
                    <a:pt x="2500" y="2964"/>
                  </a:lnTo>
                  <a:lnTo>
                    <a:pt x="2902" y="2643"/>
                  </a:lnTo>
                  <a:lnTo>
                    <a:pt x="3270" y="2328"/>
                  </a:lnTo>
                  <a:lnTo>
                    <a:pt x="3603" y="2022"/>
                  </a:lnTo>
                  <a:lnTo>
                    <a:pt x="3901" y="1725"/>
                  </a:lnTo>
                  <a:lnTo>
                    <a:pt x="4164" y="1438"/>
                  </a:lnTo>
                  <a:lnTo>
                    <a:pt x="4391" y="1163"/>
                  </a:lnTo>
                  <a:lnTo>
                    <a:pt x="4582" y="900"/>
                  </a:lnTo>
                  <a:lnTo>
                    <a:pt x="4736" y="652"/>
                  </a:lnTo>
                  <a:lnTo>
                    <a:pt x="4852" y="418"/>
                  </a:lnTo>
                  <a:lnTo>
                    <a:pt x="4929" y="200"/>
                  </a:lnTo>
                  <a:lnTo>
                    <a:pt x="497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26760" y="702000"/>
              <a:ext cx="1800" cy="252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8" name=""/>
            <p:cNvSpPr/>
            <p:nvPr/>
          </p:nvSpPr>
          <p:spPr>
            <a:xfrm>
              <a:off x="1010880" y="348120"/>
              <a:ext cx="3600" cy="720"/>
            </a:xfrm>
            <a:custGeom>
              <a:avLst/>
              <a:gdLst/>
              <a:ahLst/>
              <a:rect l="l" t="t" r="r" b="b"/>
              <a:pathLst>
                <a:path w="47" h="4">
                  <a:moveTo>
                    <a:pt x="0" y="0"/>
                  </a:moveTo>
                  <a:lnTo>
                    <a:pt x="47" y="4"/>
                  </a:lnTo>
                  <a:lnTo>
                    <a:pt x="0" y="0"/>
                  </a:lnTo>
                  <a:close/>
                </a:path>
              </a:pathLst>
            </a:custGeom>
            <a:solidFill>
              <a:srgbClr val="a9d1e5"/>
            </a:solidFill>
            <a:ln w="0">
              <a:solidFill>
                <a:srgbClr val="a9d1e5"/>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9" name=""/>
            <p:cNvSpPr/>
            <p:nvPr/>
          </p:nvSpPr>
          <p:spPr>
            <a:xfrm>
              <a:off x="280800" y="866160"/>
              <a:ext cx="448920" cy="149400"/>
            </a:xfrm>
            <a:custGeom>
              <a:avLst/>
              <a:gdLst/>
              <a:ahLst/>
              <a:rect l="l" t="t" r="r" b="b"/>
              <a:pathLst>
                <a:path w="5804" h="1962">
                  <a:moveTo>
                    <a:pt x="0" y="1819"/>
                  </a:moveTo>
                  <a:lnTo>
                    <a:pt x="78" y="1892"/>
                  </a:lnTo>
                  <a:lnTo>
                    <a:pt x="209" y="1940"/>
                  </a:lnTo>
                  <a:lnTo>
                    <a:pt x="392" y="1962"/>
                  </a:lnTo>
                  <a:lnTo>
                    <a:pt x="622" y="1960"/>
                  </a:lnTo>
                  <a:lnTo>
                    <a:pt x="895" y="1933"/>
                  </a:lnTo>
                  <a:lnTo>
                    <a:pt x="1208" y="1881"/>
                  </a:lnTo>
                  <a:lnTo>
                    <a:pt x="1559" y="1803"/>
                  </a:lnTo>
                  <a:lnTo>
                    <a:pt x="1941" y="1701"/>
                  </a:lnTo>
                  <a:lnTo>
                    <a:pt x="2355" y="1573"/>
                  </a:lnTo>
                  <a:lnTo>
                    <a:pt x="2795" y="1422"/>
                  </a:lnTo>
                  <a:lnTo>
                    <a:pt x="3258" y="1246"/>
                  </a:lnTo>
                  <a:lnTo>
                    <a:pt x="3741" y="1045"/>
                  </a:lnTo>
                  <a:lnTo>
                    <a:pt x="4241" y="820"/>
                  </a:lnTo>
                  <a:lnTo>
                    <a:pt x="4753" y="571"/>
                  </a:lnTo>
                  <a:lnTo>
                    <a:pt x="5275" y="298"/>
                  </a:lnTo>
                  <a:lnTo>
                    <a:pt x="5804"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79000" y="1004040"/>
              <a:ext cx="2520" cy="1440"/>
            </a:xfrm>
            <a:custGeom>
              <a:avLst/>
              <a:gdLst/>
              <a:ahLst/>
              <a:rect l="l" t="t" r="r" b="b"/>
              <a:pathLst>
                <a:path w="40" h="24">
                  <a:moveTo>
                    <a:pt x="0" y="24"/>
                  </a:moveTo>
                  <a:lnTo>
                    <a:pt x="40"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729000" y="864360"/>
              <a:ext cx="1800" cy="2880"/>
            </a:xfrm>
            <a:custGeom>
              <a:avLst/>
              <a:gdLst/>
              <a:ahLst/>
              <a:rect l="l" t="t" r="r" b="b"/>
              <a:pathLst>
                <a:path w="23" h="40">
                  <a:moveTo>
                    <a:pt x="0" y="0"/>
                  </a:moveTo>
                  <a:lnTo>
                    <a:pt x="23"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2" name=""/>
            <p:cNvSpPr/>
            <p:nvPr/>
          </p:nvSpPr>
          <p:spPr>
            <a:xfrm>
              <a:off x="730080" y="547560"/>
              <a:ext cx="345600" cy="318600"/>
            </a:xfrm>
            <a:custGeom>
              <a:avLst/>
              <a:gdLst/>
              <a:ahLst/>
              <a:rect l="l" t="t" r="r" b="b"/>
              <a:pathLst>
                <a:path w="4456" h="4164">
                  <a:moveTo>
                    <a:pt x="0" y="4164"/>
                  </a:moveTo>
                  <a:lnTo>
                    <a:pt x="517" y="3849"/>
                  </a:lnTo>
                  <a:lnTo>
                    <a:pt x="1012" y="3529"/>
                  </a:lnTo>
                  <a:lnTo>
                    <a:pt x="1481" y="3205"/>
                  </a:lnTo>
                  <a:lnTo>
                    <a:pt x="1922" y="2881"/>
                  </a:lnTo>
                  <a:lnTo>
                    <a:pt x="2333" y="2559"/>
                  </a:lnTo>
                  <a:lnTo>
                    <a:pt x="2714" y="2241"/>
                  </a:lnTo>
                  <a:lnTo>
                    <a:pt x="3062" y="1933"/>
                  </a:lnTo>
                  <a:lnTo>
                    <a:pt x="3376" y="1635"/>
                  </a:lnTo>
                  <a:lnTo>
                    <a:pt x="3652" y="1351"/>
                  </a:lnTo>
                  <a:lnTo>
                    <a:pt x="3892" y="1083"/>
                  </a:lnTo>
                  <a:lnTo>
                    <a:pt x="4092" y="837"/>
                  </a:lnTo>
                  <a:lnTo>
                    <a:pt x="4249" y="612"/>
                  </a:lnTo>
                  <a:lnTo>
                    <a:pt x="4364" y="413"/>
                  </a:lnTo>
                  <a:lnTo>
                    <a:pt x="4433" y="242"/>
                  </a:lnTo>
                  <a:lnTo>
                    <a:pt x="4456" y="104"/>
                  </a:lnTo>
                  <a:lnTo>
                    <a:pt x="4431"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9000" y="864360"/>
              <a:ext cx="1800" cy="2880"/>
            </a:xfrm>
            <a:custGeom>
              <a:avLst/>
              <a:gdLst/>
              <a:ahLst/>
              <a:rect l="l" t="t" r="r" b="b"/>
              <a:pathLst>
                <a:path w="23" h="40">
                  <a:moveTo>
                    <a:pt x="23" y="40"/>
                  </a:moveTo>
                  <a:lnTo>
                    <a:pt x="0" y="0"/>
                  </a:lnTo>
                  <a:lnTo>
                    <a:pt x="23" y="4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 name=""/>
            <p:cNvSpPr/>
            <p:nvPr/>
          </p:nvSpPr>
          <p:spPr>
            <a:xfrm>
              <a:off x="1072080" y="546840"/>
              <a:ext cx="2880" cy="1440"/>
            </a:xfrm>
            <a:custGeom>
              <a:avLst/>
              <a:gdLst/>
              <a:ahLst/>
              <a:rect l="l" t="t" r="r" b="b"/>
              <a:pathLst>
                <a:path w="41" h="24">
                  <a:moveTo>
                    <a:pt x="0" y="24"/>
                  </a:moveTo>
                  <a:lnTo>
                    <a:pt x="41"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65160" y="502560"/>
              <a:ext cx="450000" cy="149400"/>
            </a:xfrm>
            <a:custGeom>
              <a:avLst/>
              <a:gdLst/>
              <a:ahLst/>
              <a:rect l="l" t="t" r="r" b="b"/>
              <a:pathLst>
                <a:path w="5803" h="1963">
                  <a:moveTo>
                    <a:pt x="0" y="1818"/>
                  </a:moveTo>
                  <a:lnTo>
                    <a:pt x="78" y="1891"/>
                  </a:lnTo>
                  <a:lnTo>
                    <a:pt x="210" y="1939"/>
                  </a:lnTo>
                  <a:lnTo>
                    <a:pt x="393" y="1963"/>
                  </a:lnTo>
                  <a:lnTo>
                    <a:pt x="622" y="1960"/>
                  </a:lnTo>
                  <a:lnTo>
                    <a:pt x="895" y="1933"/>
                  </a:lnTo>
                  <a:lnTo>
                    <a:pt x="1208" y="1880"/>
                  </a:lnTo>
                  <a:lnTo>
                    <a:pt x="1559" y="1803"/>
                  </a:lnTo>
                  <a:lnTo>
                    <a:pt x="1941" y="1701"/>
                  </a:lnTo>
                  <a:lnTo>
                    <a:pt x="2355" y="1573"/>
                  </a:lnTo>
                  <a:lnTo>
                    <a:pt x="2795" y="1423"/>
                  </a:lnTo>
                  <a:lnTo>
                    <a:pt x="3259" y="1246"/>
                  </a:lnTo>
                  <a:lnTo>
                    <a:pt x="3741" y="1045"/>
                  </a:lnTo>
                  <a:lnTo>
                    <a:pt x="4240" y="820"/>
                  </a:lnTo>
                  <a:lnTo>
                    <a:pt x="4752" y="571"/>
                  </a:lnTo>
                  <a:lnTo>
                    <a:pt x="5274" y="298"/>
                  </a:lnTo>
                  <a:lnTo>
                    <a:pt x="5803"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4080" y="64044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
            <p:cNvSpPr/>
            <p:nvPr/>
          </p:nvSpPr>
          <p:spPr>
            <a:xfrm>
              <a:off x="514440" y="500760"/>
              <a:ext cx="1440" cy="360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18" name=""/>
            <p:cNvSpPr/>
            <p:nvPr/>
          </p:nvSpPr>
          <p:spPr>
            <a:xfrm>
              <a:off x="515160" y="183960"/>
              <a:ext cx="344880" cy="318600"/>
            </a:xfrm>
            <a:custGeom>
              <a:avLst/>
              <a:gdLst/>
              <a:ahLst/>
              <a:rect l="l" t="t" r="r" b="b"/>
              <a:pathLst>
                <a:path w="4457" h="4164">
                  <a:moveTo>
                    <a:pt x="0" y="4164"/>
                  </a:moveTo>
                  <a:lnTo>
                    <a:pt x="517" y="3849"/>
                  </a:lnTo>
                  <a:lnTo>
                    <a:pt x="1012" y="3529"/>
                  </a:lnTo>
                  <a:lnTo>
                    <a:pt x="1481" y="3205"/>
                  </a:lnTo>
                  <a:lnTo>
                    <a:pt x="1922" y="2881"/>
                  </a:lnTo>
                  <a:lnTo>
                    <a:pt x="2334" y="2559"/>
                  </a:lnTo>
                  <a:lnTo>
                    <a:pt x="2715" y="2241"/>
                  </a:lnTo>
                  <a:lnTo>
                    <a:pt x="3063" y="1933"/>
                  </a:lnTo>
                  <a:lnTo>
                    <a:pt x="3376" y="1635"/>
                  </a:lnTo>
                  <a:lnTo>
                    <a:pt x="3654" y="1351"/>
                  </a:lnTo>
                  <a:lnTo>
                    <a:pt x="3893" y="1083"/>
                  </a:lnTo>
                  <a:lnTo>
                    <a:pt x="4092" y="837"/>
                  </a:lnTo>
                  <a:lnTo>
                    <a:pt x="4250" y="612"/>
                  </a:lnTo>
                  <a:lnTo>
                    <a:pt x="4365" y="414"/>
                  </a:lnTo>
                  <a:lnTo>
                    <a:pt x="4434" y="242"/>
                  </a:lnTo>
                  <a:lnTo>
                    <a:pt x="4457" y="104"/>
                  </a:lnTo>
                  <a:lnTo>
                    <a:pt x="4432"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14440" y="500760"/>
              <a:ext cx="1440" cy="360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20" name=""/>
            <p:cNvSpPr/>
            <p:nvPr/>
          </p:nvSpPr>
          <p:spPr>
            <a:xfrm>
              <a:off x="857520" y="18288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05840" y="304200"/>
              <a:ext cx="291600" cy="94680"/>
            </a:xfrm>
            <a:custGeom>
              <a:avLst/>
              <a:gdLst/>
              <a:ahLst/>
              <a:rect l="l" t="t" r="r" b="b"/>
              <a:pathLst>
                <a:path w="3769" h="1227">
                  <a:moveTo>
                    <a:pt x="0" y="1199"/>
                  </a:moveTo>
                  <a:lnTo>
                    <a:pt x="54" y="1218"/>
                  </a:lnTo>
                  <a:lnTo>
                    <a:pt x="143" y="1227"/>
                  </a:lnTo>
                  <a:lnTo>
                    <a:pt x="263" y="1227"/>
                  </a:lnTo>
                  <a:lnTo>
                    <a:pt x="413" y="1216"/>
                  </a:lnTo>
                  <a:lnTo>
                    <a:pt x="590" y="1193"/>
                  </a:lnTo>
                  <a:lnTo>
                    <a:pt x="793" y="1158"/>
                  </a:lnTo>
                  <a:lnTo>
                    <a:pt x="1021" y="1110"/>
                  </a:lnTo>
                  <a:lnTo>
                    <a:pt x="1268" y="1050"/>
                  </a:lnTo>
                  <a:lnTo>
                    <a:pt x="1535" y="974"/>
                  </a:lnTo>
                  <a:lnTo>
                    <a:pt x="1819" y="885"/>
                  </a:lnTo>
                  <a:lnTo>
                    <a:pt x="2119" y="780"/>
                  </a:lnTo>
                  <a:lnTo>
                    <a:pt x="2430" y="659"/>
                  </a:lnTo>
                  <a:lnTo>
                    <a:pt x="2755" y="520"/>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04760" y="395280"/>
              <a:ext cx="1800" cy="252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3" name=""/>
            <p:cNvSpPr/>
            <p:nvPr/>
          </p:nvSpPr>
          <p:spPr>
            <a:xfrm>
              <a:off x="397080" y="303120"/>
              <a:ext cx="1800" cy="2520"/>
            </a:xfrm>
            <a:custGeom>
              <a:avLst/>
              <a:gdLst/>
              <a:ahLst/>
              <a:rect l="l" t="t" r="r" b="b"/>
              <a:pathLst>
                <a:path w="24" h="41">
                  <a:moveTo>
                    <a:pt x="0" y="0"/>
                  </a:moveTo>
                  <a:lnTo>
                    <a:pt x="24" y="41"/>
                  </a:lnTo>
                  <a:lnTo>
                    <a:pt x="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4" name=""/>
            <p:cNvSpPr/>
            <p:nvPr/>
          </p:nvSpPr>
          <p:spPr>
            <a:xfrm>
              <a:off x="397800" y="98640"/>
              <a:ext cx="223920" cy="205560"/>
            </a:xfrm>
            <a:custGeom>
              <a:avLst/>
              <a:gdLst/>
              <a:ahLst/>
              <a:rect l="l" t="t" r="r" b="b"/>
              <a:pathLst>
                <a:path w="2896" h="2696">
                  <a:moveTo>
                    <a:pt x="0" y="2696"/>
                  </a:moveTo>
                  <a:lnTo>
                    <a:pt x="334" y="2490"/>
                  </a:lnTo>
                  <a:lnTo>
                    <a:pt x="648" y="2281"/>
                  </a:lnTo>
                  <a:lnTo>
                    <a:pt x="943" y="2069"/>
                  </a:lnTo>
                  <a:lnTo>
                    <a:pt x="1216" y="1858"/>
                  </a:lnTo>
                  <a:lnTo>
                    <a:pt x="1469" y="1646"/>
                  </a:lnTo>
                  <a:lnTo>
                    <a:pt x="1702" y="1439"/>
                  </a:lnTo>
                  <a:lnTo>
                    <a:pt x="1915" y="1237"/>
                  </a:lnTo>
                  <a:lnTo>
                    <a:pt x="2106" y="1042"/>
                  </a:lnTo>
                  <a:lnTo>
                    <a:pt x="2277" y="857"/>
                  </a:lnTo>
                  <a:lnTo>
                    <a:pt x="2427" y="684"/>
                  </a:lnTo>
                  <a:lnTo>
                    <a:pt x="2557" y="525"/>
                  </a:lnTo>
                  <a:lnTo>
                    <a:pt x="2666" y="380"/>
                  </a:lnTo>
                  <a:lnTo>
                    <a:pt x="2754" y="254"/>
                  </a:lnTo>
                  <a:lnTo>
                    <a:pt x="2822" y="146"/>
                  </a:lnTo>
                  <a:lnTo>
                    <a:pt x="2869" y="61"/>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97080" y="303120"/>
              <a:ext cx="1800" cy="2520"/>
            </a:xfrm>
            <a:custGeom>
              <a:avLst/>
              <a:gdLst/>
              <a:ahLst/>
              <a:rect l="l" t="t" r="r" b="b"/>
              <a:pathLst>
                <a:path w="24" h="41">
                  <a:moveTo>
                    <a:pt x="24" y="41"/>
                  </a:moveTo>
                  <a:lnTo>
                    <a:pt x="0" y="0"/>
                  </a:lnTo>
                  <a:lnTo>
                    <a:pt x="24" y="41"/>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6" name=""/>
            <p:cNvSpPr/>
            <p:nvPr/>
          </p:nvSpPr>
          <p:spPr>
            <a:xfrm>
              <a:off x="620280" y="97560"/>
              <a:ext cx="3600" cy="720"/>
            </a:xfrm>
            <a:custGeom>
              <a:avLst/>
              <a:gdLst/>
              <a:ahLst/>
              <a:rect l="l" t="t" r="r" b="b"/>
              <a:pathLst>
                <a:path w="44" h="13">
                  <a:moveTo>
                    <a:pt x="0" y="0"/>
                  </a:moveTo>
                  <a:lnTo>
                    <a:pt x="44" y="13"/>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27" name=""/>
          <p:cNvSpPr/>
          <p:nvPr/>
        </p:nvSpPr>
        <p:spPr>
          <a:xfrm>
            <a:off x="1371600" y="304920"/>
            <a:ext cx="3732120" cy="304560"/>
          </a:xfrm>
          <a:prstGeom prst="rect">
            <a:avLst/>
          </a:prstGeom>
          <a:gradFill rotWithShape="0">
            <a:gsLst>
              <a:gs pos="0">
                <a:srgbClr val="75752f"/>
              </a:gs>
              <a:gs pos="50000">
                <a:srgbClr val="ffff66"/>
              </a:gs>
              <a:gs pos="100000">
                <a:srgbClr val="75752f"/>
              </a:gs>
            </a:gsLst>
            <a:lin ang="5400000"/>
          </a:gradFill>
          <a:ln w="93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ICS OF QUALITY ASSURANCE</a:t>
            </a:r>
            <a:endParaRPr b="0" lang="en-US" sz="1600" spc="-1" strike="noStrike">
              <a:solidFill>
                <a:srgbClr val="000000"/>
              </a:solidFill>
              <a:latin typeface="Times New Roman"/>
            </a:endParaRPr>
          </a:p>
        </p:txBody>
      </p:sp>
      <p:sp>
        <p:nvSpPr>
          <p:cNvPr id="828" name=""/>
          <p:cNvSpPr/>
          <p:nvPr/>
        </p:nvSpPr>
        <p:spPr>
          <a:xfrm>
            <a:off x="1066680" y="762120"/>
            <a:ext cx="4646880" cy="53316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ty Assurance Regulation ( Step/Items/Jobs/Supervisor)</a:t>
            </a:r>
            <a:endParaRPr b="0" lang="en-US" sz="1400" spc="-1" strike="noStrike">
              <a:solidFill>
                <a:srgbClr val="000000"/>
              </a:solidFill>
              <a:latin typeface="Times New Roman"/>
            </a:endParaRPr>
          </a:p>
        </p:txBody>
      </p:sp>
      <p:sp>
        <p:nvSpPr>
          <p:cNvPr id="829" name="PlaceHolder 1"/>
          <p:cNvSpPr>
            <a:spLocks noGrp="1"/>
          </p:cNvSpPr>
          <p:nvPr>
            <p:ph/>
          </p:nvPr>
        </p:nvSpPr>
        <p:spPr>
          <a:xfrm>
            <a:off x="5941800" y="1599840"/>
            <a:ext cx="3808440" cy="3048120"/>
          </a:xfrm>
          <a:prstGeom prst="rect">
            <a:avLst/>
          </a:prstGeom>
          <a:solidFill>
            <a:srgbClr val="00ffff"/>
          </a:solidFill>
          <a:ln w="0">
            <a:noFill/>
          </a:ln>
        </p:spPr>
        <p:txBody>
          <a:bodyPr lIns="90360" rIns="90360" tIns="44280" bIns="4428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 a management vision and implementation of policy management</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ment of control systems according to func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of new product development and quality assurance activities</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ment of a total management system for quality, cost and delivery</a:t>
            </a:r>
            <a:endParaRPr b="0" lang="en-US" sz="1400" spc="-1" strike="noStrike">
              <a:solidFill>
                <a:srgbClr val="000000"/>
              </a:solidFill>
              <a:latin typeface="Arial"/>
            </a:endParaRPr>
          </a:p>
        </p:txBody>
      </p:sp>
      <p:sp>
        <p:nvSpPr>
          <p:cNvPr id="830" name=""/>
          <p:cNvSpPr/>
          <p:nvPr/>
        </p:nvSpPr>
        <p:spPr>
          <a:xfrm>
            <a:off x="5942160" y="1143000"/>
            <a:ext cx="3808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ole and Contributions of TQC</a:t>
            </a:r>
            <a:endParaRPr b="0" lang="en-US" sz="2000" spc="-1" strike="noStrike">
              <a:solidFill>
                <a:srgbClr val="000000"/>
              </a:solidFill>
              <a:latin typeface="Times New Roman"/>
            </a:endParaRPr>
          </a:p>
        </p:txBody>
      </p:sp>
      <p:sp>
        <p:nvSpPr>
          <p:cNvPr id="831" name=""/>
          <p:cNvSpPr/>
          <p:nvPr/>
        </p:nvSpPr>
        <p:spPr>
          <a:xfrm>
            <a:off x="2152800" y="6521400"/>
            <a:ext cx="18396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
          <p:cNvGrpSpPr/>
          <p:nvPr/>
        </p:nvGrpSpPr>
        <p:grpSpPr>
          <a:xfrm>
            <a:off x="1066680" y="1447920"/>
            <a:ext cx="4570200" cy="4413600"/>
            <a:chOff x="1066680" y="1447920"/>
            <a:chExt cx="4570200" cy="4413600"/>
          </a:xfrm>
        </p:grpSpPr>
        <p:sp>
          <p:nvSpPr>
            <p:cNvPr id="833" name=""/>
            <p:cNvSpPr/>
            <p:nvPr/>
          </p:nvSpPr>
          <p:spPr>
            <a:xfrm>
              <a:off x="1103040" y="1450800"/>
              <a:ext cx="377676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t Planning</a:t>
              </a:r>
              <a:endParaRPr b="0" lang="en-US" sz="1600" spc="-1" strike="noStrike">
                <a:solidFill>
                  <a:srgbClr val="000000"/>
                </a:solidFill>
                <a:latin typeface="Times New Roman"/>
              </a:endParaRPr>
            </a:p>
          </p:txBody>
        </p:sp>
        <p:sp>
          <p:nvSpPr>
            <p:cNvPr id="834" name=""/>
            <p:cNvSpPr/>
            <p:nvPr/>
          </p:nvSpPr>
          <p:spPr>
            <a:xfrm>
              <a:off x="1066680" y="2665080"/>
              <a:ext cx="383724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tion preparation Purchas</a:t>
              </a:r>
              <a:endParaRPr b="0" lang="en-US" sz="1600" spc="-1" strike="noStrike">
                <a:solidFill>
                  <a:srgbClr val="000000"/>
                </a:solidFill>
                <a:latin typeface="Times New Roman"/>
              </a:endParaRPr>
            </a:p>
          </p:txBody>
        </p:sp>
        <p:sp>
          <p:nvSpPr>
            <p:cNvPr id="835" name=""/>
            <p:cNvSpPr/>
            <p:nvPr/>
          </p:nvSpPr>
          <p:spPr>
            <a:xfrm>
              <a:off x="1071360" y="3206160"/>
              <a:ext cx="383688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tion Inspection</a:t>
              </a:r>
              <a:endParaRPr b="0" lang="en-US" sz="1600" spc="-1" strike="noStrike">
                <a:solidFill>
                  <a:srgbClr val="000000"/>
                </a:solidFill>
                <a:latin typeface="Times New Roman"/>
              </a:endParaRPr>
            </a:p>
          </p:txBody>
        </p:sp>
        <p:sp>
          <p:nvSpPr>
            <p:cNvPr id="836" name=""/>
            <p:cNvSpPr/>
            <p:nvPr/>
          </p:nvSpPr>
          <p:spPr>
            <a:xfrm>
              <a:off x="1071360" y="3814560"/>
              <a:ext cx="383688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ation</a:t>
              </a:r>
              <a:endParaRPr b="0" lang="en-US" sz="1600" spc="-1" strike="noStrike">
                <a:solidFill>
                  <a:srgbClr val="000000"/>
                </a:solidFill>
                <a:latin typeface="Times New Roman"/>
              </a:endParaRPr>
            </a:p>
          </p:txBody>
        </p:sp>
        <p:sp>
          <p:nvSpPr>
            <p:cNvPr id="837" name=""/>
            <p:cNvSpPr/>
            <p:nvPr/>
          </p:nvSpPr>
          <p:spPr>
            <a:xfrm>
              <a:off x="1071360" y="4372200"/>
              <a:ext cx="383688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es</a:t>
              </a:r>
              <a:endParaRPr b="0" lang="en-US" sz="1600" spc="-1" strike="noStrike">
                <a:solidFill>
                  <a:srgbClr val="000000"/>
                </a:solidFill>
                <a:latin typeface="Times New Roman"/>
              </a:endParaRPr>
            </a:p>
          </p:txBody>
        </p:sp>
        <p:sp>
          <p:nvSpPr>
            <p:cNvPr id="838" name=""/>
            <p:cNvSpPr/>
            <p:nvPr/>
          </p:nvSpPr>
          <p:spPr>
            <a:xfrm>
              <a:off x="1071360" y="2056320"/>
              <a:ext cx="383688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ing</a:t>
              </a:r>
              <a:endParaRPr b="0" lang="en-US" sz="1600" spc="-1" strike="noStrike">
                <a:solidFill>
                  <a:srgbClr val="000000"/>
                </a:solidFill>
                <a:latin typeface="Times New Roman"/>
              </a:endParaRPr>
            </a:p>
          </p:txBody>
        </p:sp>
        <p:sp>
          <p:nvSpPr>
            <p:cNvPr id="839" name=""/>
            <p:cNvSpPr/>
            <p:nvPr/>
          </p:nvSpPr>
          <p:spPr>
            <a:xfrm>
              <a:off x="2671200" y="1853280"/>
              <a:ext cx="693360" cy="26208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2663280" y="2462400"/>
              <a:ext cx="693360" cy="26172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1" name=""/>
            <p:cNvSpPr/>
            <p:nvPr/>
          </p:nvSpPr>
          <p:spPr>
            <a:xfrm>
              <a:off x="2663280" y="3011760"/>
              <a:ext cx="693360" cy="26172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2" name=""/>
            <p:cNvSpPr/>
            <p:nvPr/>
          </p:nvSpPr>
          <p:spPr>
            <a:xfrm>
              <a:off x="2663280" y="3611520"/>
              <a:ext cx="693360" cy="26208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2663280" y="4220640"/>
              <a:ext cx="693360" cy="26172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4" name=""/>
            <p:cNvSpPr/>
            <p:nvPr/>
          </p:nvSpPr>
          <p:spPr>
            <a:xfrm>
              <a:off x="1071360" y="4965840"/>
              <a:ext cx="383688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ce</a:t>
              </a:r>
              <a:endParaRPr b="0" lang="en-US" sz="1600" spc="-1" strike="noStrike">
                <a:solidFill>
                  <a:srgbClr val="000000"/>
                </a:solidFill>
                <a:latin typeface="Times New Roman"/>
              </a:endParaRPr>
            </a:p>
          </p:txBody>
        </p:sp>
        <p:sp>
          <p:nvSpPr>
            <p:cNvPr id="845" name=""/>
            <p:cNvSpPr/>
            <p:nvPr/>
          </p:nvSpPr>
          <p:spPr>
            <a:xfrm>
              <a:off x="1066680" y="5524200"/>
              <a:ext cx="4494600" cy="337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ty Audit</a:t>
              </a:r>
              <a:endParaRPr b="0" lang="en-US" sz="1600" spc="-1" strike="noStrike">
                <a:solidFill>
                  <a:srgbClr val="000000"/>
                </a:solidFill>
                <a:latin typeface="Times New Roman"/>
              </a:endParaRPr>
            </a:p>
          </p:txBody>
        </p:sp>
        <p:sp>
          <p:nvSpPr>
            <p:cNvPr id="846" name=""/>
            <p:cNvSpPr/>
            <p:nvPr/>
          </p:nvSpPr>
          <p:spPr>
            <a:xfrm>
              <a:off x="2663280" y="4761360"/>
              <a:ext cx="693360" cy="26352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7" name=""/>
            <p:cNvSpPr/>
            <p:nvPr/>
          </p:nvSpPr>
          <p:spPr>
            <a:xfrm>
              <a:off x="2663280" y="5371920"/>
              <a:ext cx="693360" cy="261720"/>
            </a:xfrm>
            <a:prstGeom prst="downArrow">
              <a:avLst>
                <a:gd name="adj1" fmla="val 43250"/>
                <a:gd name="adj2" fmla="val 49463"/>
              </a:avLst>
            </a:prstGeom>
            <a:solidFill>
              <a:srgbClr val="ff66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8" name=""/>
            <p:cNvSpPr/>
            <p:nvPr/>
          </p:nvSpPr>
          <p:spPr>
            <a:xfrm>
              <a:off x="5027760" y="1447920"/>
              <a:ext cx="609120" cy="345060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rot="16200000">
              <a:off x="4386600" y="2835000"/>
              <a:ext cx="182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each Step</a:t>
              </a:r>
              <a:endParaRPr b="0" lang="en-US" sz="2000" spc="-1" strike="noStrike">
                <a:solidFill>
                  <a:srgbClr val="000000"/>
                </a:solidFill>
                <a:latin typeface="Times New Roman"/>
              </a:endParaRPr>
            </a:p>
          </p:txBody>
        </p:sp>
        <p:sp>
          <p:nvSpPr>
            <p:cNvPr id="850" name=""/>
            <p:cNvSpPr/>
            <p:nvPr/>
          </p:nvSpPr>
          <p:spPr>
            <a:xfrm flipV="1">
              <a:off x="5332680" y="4898520"/>
              <a:ext cx="0" cy="54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
          <p:cNvSpPr/>
          <p:nvPr/>
        </p:nvSpPr>
        <p:spPr>
          <a:xfrm>
            <a:off x="838080" y="5987880"/>
            <a:ext cx="891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Toyota, this basic philosophy of quality assurance was defined “ Quality Assurance Requlation “ which was implemented on daily ba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01F9BDF-BC30-4DA3-9B72-2BCAF4BF7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0" y="0"/>
            <a:ext cx="685800" cy="6858000"/>
          </a:xfrm>
          <a:prstGeom prst="rect">
            <a:avLst/>
          </a:prstGeom>
          <a:gradFill rotWithShape="0">
            <a:gsLst>
              <a:gs pos="0">
                <a:srgbClr val="00336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4920" y="0"/>
            <a:ext cx="0" cy="617220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85800" y="453960"/>
            <a:ext cx="9217080" cy="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63360" y="96840"/>
            <a:ext cx="1014480" cy="1001880"/>
            <a:chOff x="63360" y="96840"/>
            <a:chExt cx="1014480" cy="1001880"/>
          </a:xfrm>
        </p:grpSpPr>
        <p:sp>
          <p:nvSpPr>
            <p:cNvPr id="856" name=""/>
            <p:cNvSpPr/>
            <p:nvPr/>
          </p:nvSpPr>
          <p:spPr>
            <a:xfrm>
              <a:off x="69840" y="101160"/>
              <a:ext cx="1004040" cy="990720"/>
            </a:xfrm>
            <a:custGeom>
              <a:avLst/>
              <a:gdLst/>
              <a:ahLst/>
              <a:rect l="l" t="t" r="r" b="b"/>
              <a:pathLst>
                <a:path w="12952" h="12953">
                  <a:moveTo>
                    <a:pt x="2850" y="11843"/>
                  </a:moveTo>
                  <a:lnTo>
                    <a:pt x="3417" y="12185"/>
                  </a:lnTo>
                  <a:lnTo>
                    <a:pt x="4004" y="12463"/>
                  </a:lnTo>
                  <a:lnTo>
                    <a:pt x="4608" y="12679"/>
                  </a:lnTo>
                  <a:lnTo>
                    <a:pt x="5223" y="12831"/>
                  </a:lnTo>
                  <a:lnTo>
                    <a:pt x="5845" y="12923"/>
                  </a:lnTo>
                  <a:lnTo>
                    <a:pt x="6469" y="12953"/>
                  </a:lnTo>
                  <a:lnTo>
                    <a:pt x="7090" y="12924"/>
                  </a:lnTo>
                  <a:lnTo>
                    <a:pt x="7705" y="12834"/>
                  </a:lnTo>
                  <a:lnTo>
                    <a:pt x="8309" y="12688"/>
                  </a:lnTo>
                  <a:lnTo>
                    <a:pt x="8897" y="12484"/>
                  </a:lnTo>
                  <a:lnTo>
                    <a:pt x="9465" y="12223"/>
                  </a:lnTo>
                  <a:lnTo>
                    <a:pt x="10008" y="11907"/>
                  </a:lnTo>
                  <a:lnTo>
                    <a:pt x="10521" y="11536"/>
                  </a:lnTo>
                  <a:lnTo>
                    <a:pt x="11001" y="11111"/>
                  </a:lnTo>
                  <a:lnTo>
                    <a:pt x="11442" y="10634"/>
                  </a:lnTo>
                  <a:lnTo>
                    <a:pt x="11841" y="10104"/>
                  </a:lnTo>
                  <a:lnTo>
                    <a:pt x="12183" y="9537"/>
                  </a:lnTo>
                  <a:lnTo>
                    <a:pt x="12463" y="8949"/>
                  </a:lnTo>
                  <a:lnTo>
                    <a:pt x="12677" y="8345"/>
                  </a:lnTo>
                  <a:lnTo>
                    <a:pt x="12830" y="7731"/>
                  </a:lnTo>
                  <a:lnTo>
                    <a:pt x="12922" y="7109"/>
                  </a:lnTo>
                  <a:lnTo>
                    <a:pt x="12952" y="6485"/>
                  </a:lnTo>
                  <a:lnTo>
                    <a:pt x="12922" y="5863"/>
                  </a:lnTo>
                  <a:lnTo>
                    <a:pt x="12834" y="5247"/>
                  </a:lnTo>
                  <a:lnTo>
                    <a:pt x="12687" y="4643"/>
                  </a:lnTo>
                  <a:lnTo>
                    <a:pt x="12483" y="4056"/>
                  </a:lnTo>
                  <a:lnTo>
                    <a:pt x="12221" y="3488"/>
                  </a:lnTo>
                  <a:lnTo>
                    <a:pt x="11906" y="2945"/>
                  </a:lnTo>
                  <a:lnTo>
                    <a:pt x="11535" y="2431"/>
                  </a:lnTo>
                  <a:lnTo>
                    <a:pt x="11109" y="1952"/>
                  </a:lnTo>
                  <a:lnTo>
                    <a:pt x="10632" y="1511"/>
                  </a:lnTo>
                  <a:lnTo>
                    <a:pt x="10103" y="1113"/>
                  </a:lnTo>
                  <a:lnTo>
                    <a:pt x="9535" y="770"/>
                  </a:lnTo>
                  <a:lnTo>
                    <a:pt x="8947" y="490"/>
                  </a:lnTo>
                  <a:lnTo>
                    <a:pt x="8343" y="275"/>
                  </a:lnTo>
                  <a:lnTo>
                    <a:pt x="7729" y="122"/>
                  </a:lnTo>
                  <a:lnTo>
                    <a:pt x="7107" y="31"/>
                  </a:lnTo>
                  <a:lnTo>
                    <a:pt x="6483" y="0"/>
                  </a:lnTo>
                  <a:lnTo>
                    <a:pt x="5862" y="30"/>
                  </a:lnTo>
                  <a:lnTo>
                    <a:pt x="5246" y="119"/>
                  </a:lnTo>
                  <a:lnTo>
                    <a:pt x="4642" y="266"/>
                  </a:lnTo>
                  <a:lnTo>
                    <a:pt x="4054" y="470"/>
                  </a:lnTo>
                  <a:lnTo>
                    <a:pt x="3487" y="730"/>
                  </a:lnTo>
                  <a:lnTo>
                    <a:pt x="2943" y="1047"/>
                  </a:lnTo>
                  <a:lnTo>
                    <a:pt x="2430" y="1418"/>
                  </a:lnTo>
                  <a:lnTo>
                    <a:pt x="1951" y="1842"/>
                  </a:lnTo>
                  <a:lnTo>
                    <a:pt x="1509" y="2321"/>
                  </a:lnTo>
                  <a:lnTo>
                    <a:pt x="1112" y="2851"/>
                  </a:lnTo>
                  <a:lnTo>
                    <a:pt x="768" y="3418"/>
                  </a:lnTo>
                  <a:lnTo>
                    <a:pt x="489" y="4006"/>
                  </a:lnTo>
                  <a:lnTo>
                    <a:pt x="274" y="4609"/>
                  </a:lnTo>
                  <a:lnTo>
                    <a:pt x="121" y="5224"/>
                  </a:lnTo>
                  <a:lnTo>
                    <a:pt x="29" y="5846"/>
                  </a:lnTo>
                  <a:lnTo>
                    <a:pt x="0" y="6470"/>
                  </a:lnTo>
                  <a:lnTo>
                    <a:pt x="29" y="7092"/>
                  </a:lnTo>
                  <a:lnTo>
                    <a:pt x="118" y="7706"/>
                  </a:lnTo>
                  <a:lnTo>
                    <a:pt x="264" y="8310"/>
                  </a:lnTo>
                  <a:lnTo>
                    <a:pt x="469" y="8898"/>
                  </a:lnTo>
                  <a:lnTo>
                    <a:pt x="730" y="9466"/>
                  </a:lnTo>
                  <a:lnTo>
                    <a:pt x="1046" y="10009"/>
                  </a:lnTo>
                  <a:lnTo>
                    <a:pt x="1417" y="10522"/>
                  </a:lnTo>
                  <a:lnTo>
                    <a:pt x="1842" y="11002"/>
                  </a:lnTo>
                  <a:lnTo>
                    <a:pt x="2319" y="11444"/>
                  </a:lnTo>
                  <a:lnTo>
                    <a:pt x="2850" y="11843"/>
                  </a:lnTo>
                  <a:close/>
                </a:path>
              </a:pathLst>
            </a:custGeom>
            <a:solidFill>
              <a:srgbClr val="0c26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8840" y="104040"/>
              <a:ext cx="991080" cy="977760"/>
            </a:xfrm>
            <a:custGeom>
              <a:avLst/>
              <a:gdLst/>
              <a:ahLst/>
              <a:rect l="l" t="t" r="r" b="b"/>
              <a:pathLst>
                <a:path w="12791" h="12791">
                  <a:moveTo>
                    <a:pt x="2815" y="11694"/>
                  </a:moveTo>
                  <a:lnTo>
                    <a:pt x="3374" y="12032"/>
                  </a:lnTo>
                  <a:lnTo>
                    <a:pt x="3955" y="12307"/>
                  </a:lnTo>
                  <a:lnTo>
                    <a:pt x="4551" y="12520"/>
                  </a:lnTo>
                  <a:lnTo>
                    <a:pt x="5158" y="12671"/>
                  </a:lnTo>
                  <a:lnTo>
                    <a:pt x="5772" y="12761"/>
                  </a:lnTo>
                  <a:lnTo>
                    <a:pt x="6388" y="12791"/>
                  </a:lnTo>
                  <a:lnTo>
                    <a:pt x="7003" y="12762"/>
                  </a:lnTo>
                  <a:lnTo>
                    <a:pt x="7610" y="12674"/>
                  </a:lnTo>
                  <a:lnTo>
                    <a:pt x="8206" y="12529"/>
                  </a:lnTo>
                  <a:lnTo>
                    <a:pt x="8787" y="12327"/>
                  </a:lnTo>
                  <a:lnTo>
                    <a:pt x="9347" y="12070"/>
                  </a:lnTo>
                  <a:lnTo>
                    <a:pt x="9884" y="11757"/>
                  </a:lnTo>
                  <a:lnTo>
                    <a:pt x="10391" y="11391"/>
                  </a:lnTo>
                  <a:lnTo>
                    <a:pt x="10864" y="10972"/>
                  </a:lnTo>
                  <a:lnTo>
                    <a:pt x="11300" y="10500"/>
                  </a:lnTo>
                  <a:lnTo>
                    <a:pt x="11694" y="9977"/>
                  </a:lnTo>
                  <a:lnTo>
                    <a:pt x="12032" y="9417"/>
                  </a:lnTo>
                  <a:lnTo>
                    <a:pt x="12308" y="8836"/>
                  </a:lnTo>
                  <a:lnTo>
                    <a:pt x="12520" y="8240"/>
                  </a:lnTo>
                  <a:lnTo>
                    <a:pt x="12671" y="7633"/>
                  </a:lnTo>
                  <a:lnTo>
                    <a:pt x="12762" y="7019"/>
                  </a:lnTo>
                  <a:lnTo>
                    <a:pt x="12791" y="6403"/>
                  </a:lnTo>
                  <a:lnTo>
                    <a:pt x="12762" y="5788"/>
                  </a:lnTo>
                  <a:lnTo>
                    <a:pt x="12674" y="5181"/>
                  </a:lnTo>
                  <a:lnTo>
                    <a:pt x="12529" y="4585"/>
                  </a:lnTo>
                  <a:lnTo>
                    <a:pt x="12328" y="4004"/>
                  </a:lnTo>
                  <a:lnTo>
                    <a:pt x="12069" y="3444"/>
                  </a:lnTo>
                  <a:lnTo>
                    <a:pt x="11758" y="2907"/>
                  </a:lnTo>
                  <a:lnTo>
                    <a:pt x="11391" y="2400"/>
                  </a:lnTo>
                  <a:lnTo>
                    <a:pt x="10971" y="1927"/>
                  </a:lnTo>
                  <a:lnTo>
                    <a:pt x="10500" y="1491"/>
                  </a:lnTo>
                  <a:lnTo>
                    <a:pt x="9977" y="1098"/>
                  </a:lnTo>
                  <a:lnTo>
                    <a:pt x="9416" y="759"/>
                  </a:lnTo>
                  <a:lnTo>
                    <a:pt x="8835" y="484"/>
                  </a:lnTo>
                  <a:lnTo>
                    <a:pt x="8240" y="271"/>
                  </a:lnTo>
                  <a:lnTo>
                    <a:pt x="7632" y="120"/>
                  </a:lnTo>
                  <a:lnTo>
                    <a:pt x="7019" y="30"/>
                  </a:lnTo>
                  <a:lnTo>
                    <a:pt x="6402" y="0"/>
                  </a:lnTo>
                  <a:lnTo>
                    <a:pt x="5789" y="29"/>
                  </a:lnTo>
                  <a:lnTo>
                    <a:pt x="5180" y="117"/>
                  </a:lnTo>
                  <a:lnTo>
                    <a:pt x="4584" y="261"/>
                  </a:lnTo>
                  <a:lnTo>
                    <a:pt x="4004" y="463"/>
                  </a:lnTo>
                  <a:lnTo>
                    <a:pt x="3443" y="721"/>
                  </a:lnTo>
                  <a:lnTo>
                    <a:pt x="2906" y="1033"/>
                  </a:lnTo>
                  <a:lnTo>
                    <a:pt x="2399" y="1400"/>
                  </a:lnTo>
                  <a:lnTo>
                    <a:pt x="1926" y="1819"/>
                  </a:lnTo>
                  <a:lnTo>
                    <a:pt x="1490" y="2291"/>
                  </a:lnTo>
                  <a:lnTo>
                    <a:pt x="1097" y="2815"/>
                  </a:lnTo>
                  <a:lnTo>
                    <a:pt x="758" y="3374"/>
                  </a:lnTo>
                  <a:lnTo>
                    <a:pt x="483" y="3954"/>
                  </a:lnTo>
                  <a:lnTo>
                    <a:pt x="270" y="4551"/>
                  </a:lnTo>
                  <a:lnTo>
                    <a:pt x="119" y="5158"/>
                  </a:lnTo>
                  <a:lnTo>
                    <a:pt x="30" y="5771"/>
                  </a:lnTo>
                  <a:lnTo>
                    <a:pt x="0" y="6388"/>
                  </a:lnTo>
                  <a:lnTo>
                    <a:pt x="29" y="7002"/>
                  </a:lnTo>
                  <a:lnTo>
                    <a:pt x="117" y="7609"/>
                  </a:lnTo>
                  <a:lnTo>
                    <a:pt x="261" y="8206"/>
                  </a:lnTo>
                  <a:lnTo>
                    <a:pt x="463" y="8786"/>
                  </a:lnTo>
                  <a:lnTo>
                    <a:pt x="721" y="9346"/>
                  </a:lnTo>
                  <a:lnTo>
                    <a:pt x="1033" y="9883"/>
                  </a:lnTo>
                  <a:lnTo>
                    <a:pt x="1400" y="10390"/>
                  </a:lnTo>
                  <a:lnTo>
                    <a:pt x="1819" y="10863"/>
                  </a:lnTo>
                  <a:lnTo>
                    <a:pt x="2291" y="11299"/>
                  </a:lnTo>
                  <a:lnTo>
                    <a:pt x="2815" y="11694"/>
                  </a:lnTo>
                  <a:close/>
                </a:path>
              </a:pathLst>
            </a:custGeom>
            <a:solidFill>
              <a:srgbClr val="0e2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8200" y="105840"/>
              <a:ext cx="978840" cy="966960"/>
            </a:xfrm>
            <a:custGeom>
              <a:avLst/>
              <a:gdLst/>
              <a:ahLst/>
              <a:rect l="l" t="t" r="r" b="b"/>
              <a:pathLst>
                <a:path w="12632" h="12630">
                  <a:moveTo>
                    <a:pt x="2780" y="11547"/>
                  </a:moveTo>
                  <a:lnTo>
                    <a:pt x="3333" y="11881"/>
                  </a:lnTo>
                  <a:lnTo>
                    <a:pt x="3906" y="12153"/>
                  </a:lnTo>
                  <a:lnTo>
                    <a:pt x="4495" y="12363"/>
                  </a:lnTo>
                  <a:lnTo>
                    <a:pt x="5094" y="12512"/>
                  </a:lnTo>
                  <a:lnTo>
                    <a:pt x="5700" y="12600"/>
                  </a:lnTo>
                  <a:lnTo>
                    <a:pt x="6309" y="12630"/>
                  </a:lnTo>
                  <a:lnTo>
                    <a:pt x="6916" y="12601"/>
                  </a:lnTo>
                  <a:lnTo>
                    <a:pt x="7515" y="12515"/>
                  </a:lnTo>
                  <a:lnTo>
                    <a:pt x="8104" y="12372"/>
                  </a:lnTo>
                  <a:lnTo>
                    <a:pt x="8677" y="12172"/>
                  </a:lnTo>
                  <a:lnTo>
                    <a:pt x="9231" y="11918"/>
                  </a:lnTo>
                  <a:lnTo>
                    <a:pt x="9761" y="11610"/>
                  </a:lnTo>
                  <a:lnTo>
                    <a:pt x="10261" y="11247"/>
                  </a:lnTo>
                  <a:lnTo>
                    <a:pt x="10729" y="10834"/>
                  </a:lnTo>
                  <a:lnTo>
                    <a:pt x="11160" y="10368"/>
                  </a:lnTo>
                  <a:lnTo>
                    <a:pt x="11549" y="9851"/>
                  </a:lnTo>
                  <a:lnTo>
                    <a:pt x="11882" y="9297"/>
                  </a:lnTo>
                  <a:lnTo>
                    <a:pt x="12155" y="8724"/>
                  </a:lnTo>
                  <a:lnTo>
                    <a:pt x="12364" y="8137"/>
                  </a:lnTo>
                  <a:lnTo>
                    <a:pt x="12513" y="7537"/>
                  </a:lnTo>
                  <a:lnTo>
                    <a:pt x="12602" y="6931"/>
                  </a:lnTo>
                  <a:lnTo>
                    <a:pt x="12632" y="6322"/>
                  </a:lnTo>
                  <a:lnTo>
                    <a:pt x="12602" y="5716"/>
                  </a:lnTo>
                  <a:lnTo>
                    <a:pt x="12516" y="5116"/>
                  </a:lnTo>
                  <a:lnTo>
                    <a:pt x="12373" y="4527"/>
                  </a:lnTo>
                  <a:lnTo>
                    <a:pt x="12174" y="3954"/>
                  </a:lnTo>
                  <a:lnTo>
                    <a:pt x="11919" y="3401"/>
                  </a:lnTo>
                  <a:lnTo>
                    <a:pt x="11610" y="2871"/>
                  </a:lnTo>
                  <a:lnTo>
                    <a:pt x="11249" y="2370"/>
                  </a:lnTo>
                  <a:lnTo>
                    <a:pt x="10834" y="1903"/>
                  </a:lnTo>
                  <a:lnTo>
                    <a:pt x="10369" y="1472"/>
                  </a:lnTo>
                  <a:lnTo>
                    <a:pt x="9853" y="1084"/>
                  </a:lnTo>
                  <a:lnTo>
                    <a:pt x="9299" y="749"/>
                  </a:lnTo>
                  <a:lnTo>
                    <a:pt x="8726" y="477"/>
                  </a:lnTo>
                  <a:lnTo>
                    <a:pt x="8138" y="267"/>
                  </a:lnTo>
                  <a:lnTo>
                    <a:pt x="7539" y="118"/>
                  </a:lnTo>
                  <a:lnTo>
                    <a:pt x="6932" y="28"/>
                  </a:lnTo>
                  <a:lnTo>
                    <a:pt x="6323" y="0"/>
                  </a:lnTo>
                  <a:lnTo>
                    <a:pt x="5717" y="28"/>
                  </a:lnTo>
                  <a:lnTo>
                    <a:pt x="5118" y="115"/>
                  </a:lnTo>
                  <a:lnTo>
                    <a:pt x="4529" y="258"/>
                  </a:lnTo>
                  <a:lnTo>
                    <a:pt x="3955" y="457"/>
                  </a:lnTo>
                  <a:lnTo>
                    <a:pt x="3401" y="712"/>
                  </a:lnTo>
                  <a:lnTo>
                    <a:pt x="2872" y="1020"/>
                  </a:lnTo>
                  <a:lnTo>
                    <a:pt x="2371" y="1382"/>
                  </a:lnTo>
                  <a:lnTo>
                    <a:pt x="1903" y="1796"/>
                  </a:lnTo>
                  <a:lnTo>
                    <a:pt x="1472" y="2262"/>
                  </a:lnTo>
                  <a:lnTo>
                    <a:pt x="1084" y="2780"/>
                  </a:lnTo>
                  <a:lnTo>
                    <a:pt x="750" y="3332"/>
                  </a:lnTo>
                  <a:lnTo>
                    <a:pt x="477" y="3905"/>
                  </a:lnTo>
                  <a:lnTo>
                    <a:pt x="268" y="4494"/>
                  </a:lnTo>
                  <a:lnTo>
                    <a:pt x="119" y="5094"/>
                  </a:lnTo>
                  <a:lnTo>
                    <a:pt x="30" y="5700"/>
                  </a:lnTo>
                  <a:lnTo>
                    <a:pt x="0" y="6308"/>
                  </a:lnTo>
                  <a:lnTo>
                    <a:pt x="29" y="6915"/>
                  </a:lnTo>
                  <a:lnTo>
                    <a:pt x="116" y="7515"/>
                  </a:lnTo>
                  <a:lnTo>
                    <a:pt x="259" y="8104"/>
                  </a:lnTo>
                  <a:lnTo>
                    <a:pt x="458" y="8677"/>
                  </a:lnTo>
                  <a:lnTo>
                    <a:pt x="712" y="9230"/>
                  </a:lnTo>
                  <a:lnTo>
                    <a:pt x="1021" y="9760"/>
                  </a:lnTo>
                  <a:lnTo>
                    <a:pt x="1383" y="10261"/>
                  </a:lnTo>
                  <a:lnTo>
                    <a:pt x="1797" y="10727"/>
                  </a:lnTo>
                  <a:lnTo>
                    <a:pt x="2262" y="11158"/>
                  </a:lnTo>
                  <a:lnTo>
                    <a:pt x="2780" y="11547"/>
                  </a:lnTo>
                  <a:close/>
                </a:path>
              </a:pathLst>
            </a:custGeom>
            <a:solidFill>
              <a:srgbClr val="0f2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98280" y="108360"/>
              <a:ext cx="966240" cy="954000"/>
            </a:xfrm>
            <a:custGeom>
              <a:avLst/>
              <a:gdLst/>
              <a:ahLst/>
              <a:rect l="l" t="t" r="r" b="b"/>
              <a:pathLst>
                <a:path w="12472" h="12470">
                  <a:moveTo>
                    <a:pt x="2744" y="11401"/>
                  </a:moveTo>
                  <a:lnTo>
                    <a:pt x="3290" y="11731"/>
                  </a:lnTo>
                  <a:lnTo>
                    <a:pt x="3856" y="11999"/>
                  </a:lnTo>
                  <a:lnTo>
                    <a:pt x="4437" y="12206"/>
                  </a:lnTo>
                  <a:lnTo>
                    <a:pt x="5029" y="12354"/>
                  </a:lnTo>
                  <a:lnTo>
                    <a:pt x="5627" y="12441"/>
                  </a:lnTo>
                  <a:lnTo>
                    <a:pt x="6228" y="12470"/>
                  </a:lnTo>
                  <a:lnTo>
                    <a:pt x="6828" y="12441"/>
                  </a:lnTo>
                  <a:lnTo>
                    <a:pt x="7420" y="12356"/>
                  </a:lnTo>
                  <a:lnTo>
                    <a:pt x="8000" y="12214"/>
                  </a:lnTo>
                  <a:lnTo>
                    <a:pt x="8567" y="12018"/>
                  </a:lnTo>
                  <a:lnTo>
                    <a:pt x="9113" y="11767"/>
                  </a:lnTo>
                  <a:lnTo>
                    <a:pt x="9636" y="11462"/>
                  </a:lnTo>
                  <a:lnTo>
                    <a:pt x="10131" y="11106"/>
                  </a:lnTo>
                  <a:lnTo>
                    <a:pt x="10592" y="10696"/>
                  </a:lnTo>
                  <a:lnTo>
                    <a:pt x="11017" y="10236"/>
                  </a:lnTo>
                  <a:lnTo>
                    <a:pt x="11401" y="9727"/>
                  </a:lnTo>
                  <a:lnTo>
                    <a:pt x="11731" y="9180"/>
                  </a:lnTo>
                  <a:lnTo>
                    <a:pt x="12000" y="8614"/>
                  </a:lnTo>
                  <a:lnTo>
                    <a:pt x="12207" y="8033"/>
                  </a:lnTo>
                  <a:lnTo>
                    <a:pt x="12355" y="7441"/>
                  </a:lnTo>
                  <a:lnTo>
                    <a:pt x="12442" y="6843"/>
                  </a:lnTo>
                  <a:lnTo>
                    <a:pt x="12472" y="6242"/>
                  </a:lnTo>
                  <a:lnTo>
                    <a:pt x="12443" y="5644"/>
                  </a:lnTo>
                  <a:lnTo>
                    <a:pt x="12357" y="5051"/>
                  </a:lnTo>
                  <a:lnTo>
                    <a:pt x="12215" y="4470"/>
                  </a:lnTo>
                  <a:lnTo>
                    <a:pt x="12019" y="3903"/>
                  </a:lnTo>
                  <a:lnTo>
                    <a:pt x="11768" y="3357"/>
                  </a:lnTo>
                  <a:lnTo>
                    <a:pt x="11464" y="2835"/>
                  </a:lnTo>
                  <a:lnTo>
                    <a:pt x="11107" y="2341"/>
                  </a:lnTo>
                  <a:lnTo>
                    <a:pt x="10697" y="1878"/>
                  </a:lnTo>
                  <a:lnTo>
                    <a:pt x="10237" y="1453"/>
                  </a:lnTo>
                  <a:lnTo>
                    <a:pt x="9728" y="1070"/>
                  </a:lnTo>
                  <a:lnTo>
                    <a:pt x="9181" y="740"/>
                  </a:lnTo>
                  <a:lnTo>
                    <a:pt x="8615" y="471"/>
                  </a:lnTo>
                  <a:lnTo>
                    <a:pt x="8034" y="263"/>
                  </a:lnTo>
                  <a:lnTo>
                    <a:pt x="7442" y="117"/>
                  </a:lnTo>
                  <a:lnTo>
                    <a:pt x="6844" y="28"/>
                  </a:lnTo>
                  <a:lnTo>
                    <a:pt x="6243" y="0"/>
                  </a:lnTo>
                  <a:lnTo>
                    <a:pt x="5644" y="28"/>
                  </a:lnTo>
                  <a:lnTo>
                    <a:pt x="5052" y="113"/>
                  </a:lnTo>
                  <a:lnTo>
                    <a:pt x="4471" y="255"/>
                  </a:lnTo>
                  <a:lnTo>
                    <a:pt x="3904" y="451"/>
                  </a:lnTo>
                  <a:lnTo>
                    <a:pt x="3358" y="703"/>
                  </a:lnTo>
                  <a:lnTo>
                    <a:pt x="2836" y="1007"/>
                  </a:lnTo>
                  <a:lnTo>
                    <a:pt x="2341" y="1365"/>
                  </a:lnTo>
                  <a:lnTo>
                    <a:pt x="1879" y="1774"/>
                  </a:lnTo>
                  <a:lnTo>
                    <a:pt x="1454" y="2234"/>
                  </a:lnTo>
                  <a:lnTo>
                    <a:pt x="1071" y="2745"/>
                  </a:lnTo>
                  <a:lnTo>
                    <a:pt x="740" y="3290"/>
                  </a:lnTo>
                  <a:lnTo>
                    <a:pt x="471" y="3855"/>
                  </a:lnTo>
                  <a:lnTo>
                    <a:pt x="264" y="4437"/>
                  </a:lnTo>
                  <a:lnTo>
                    <a:pt x="117" y="5029"/>
                  </a:lnTo>
                  <a:lnTo>
                    <a:pt x="29" y="5628"/>
                  </a:lnTo>
                  <a:lnTo>
                    <a:pt x="0" y="6228"/>
                  </a:lnTo>
                  <a:lnTo>
                    <a:pt x="29" y="6827"/>
                  </a:lnTo>
                  <a:lnTo>
                    <a:pt x="114" y="7419"/>
                  </a:lnTo>
                  <a:lnTo>
                    <a:pt x="255" y="8000"/>
                  </a:lnTo>
                  <a:lnTo>
                    <a:pt x="452" y="8566"/>
                  </a:lnTo>
                  <a:lnTo>
                    <a:pt x="703" y="9112"/>
                  </a:lnTo>
                  <a:lnTo>
                    <a:pt x="1008" y="9635"/>
                  </a:lnTo>
                  <a:lnTo>
                    <a:pt x="1364" y="10130"/>
                  </a:lnTo>
                  <a:lnTo>
                    <a:pt x="1774" y="10592"/>
                  </a:lnTo>
                  <a:lnTo>
                    <a:pt x="2234" y="11017"/>
                  </a:lnTo>
                  <a:lnTo>
                    <a:pt x="2744" y="11401"/>
                  </a:lnTo>
                  <a:close/>
                </a:path>
              </a:pathLst>
            </a:custGeom>
            <a:solidFill>
              <a:srgbClr val="112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07640" y="111240"/>
              <a:ext cx="952920" cy="941400"/>
            </a:xfrm>
            <a:custGeom>
              <a:avLst/>
              <a:gdLst/>
              <a:ahLst/>
              <a:rect l="l" t="t" r="r" b="b"/>
              <a:pathLst>
                <a:path w="12310" h="12310">
                  <a:moveTo>
                    <a:pt x="2709" y="11254"/>
                  </a:moveTo>
                  <a:lnTo>
                    <a:pt x="3248" y="11580"/>
                  </a:lnTo>
                  <a:lnTo>
                    <a:pt x="3806" y="11844"/>
                  </a:lnTo>
                  <a:lnTo>
                    <a:pt x="4380" y="12050"/>
                  </a:lnTo>
                  <a:lnTo>
                    <a:pt x="4964" y="12194"/>
                  </a:lnTo>
                  <a:lnTo>
                    <a:pt x="5555" y="12281"/>
                  </a:lnTo>
                  <a:lnTo>
                    <a:pt x="6148" y="12310"/>
                  </a:lnTo>
                  <a:lnTo>
                    <a:pt x="6740" y="12281"/>
                  </a:lnTo>
                  <a:lnTo>
                    <a:pt x="7324" y="12197"/>
                  </a:lnTo>
                  <a:lnTo>
                    <a:pt x="7897" y="12057"/>
                  </a:lnTo>
                  <a:lnTo>
                    <a:pt x="8456" y="11863"/>
                  </a:lnTo>
                  <a:lnTo>
                    <a:pt x="8997" y="11616"/>
                  </a:lnTo>
                  <a:lnTo>
                    <a:pt x="9512" y="11315"/>
                  </a:lnTo>
                  <a:lnTo>
                    <a:pt x="10000" y="10962"/>
                  </a:lnTo>
                  <a:lnTo>
                    <a:pt x="10456" y="10558"/>
                  </a:lnTo>
                  <a:lnTo>
                    <a:pt x="10875" y="10104"/>
                  </a:lnTo>
                  <a:lnTo>
                    <a:pt x="11255" y="9601"/>
                  </a:lnTo>
                  <a:lnTo>
                    <a:pt x="11580" y="9061"/>
                  </a:lnTo>
                  <a:lnTo>
                    <a:pt x="11845" y="8503"/>
                  </a:lnTo>
                  <a:lnTo>
                    <a:pt x="12050" y="7929"/>
                  </a:lnTo>
                  <a:lnTo>
                    <a:pt x="12194" y="7345"/>
                  </a:lnTo>
                  <a:lnTo>
                    <a:pt x="12282" y="6754"/>
                  </a:lnTo>
                  <a:lnTo>
                    <a:pt x="12310" y="6161"/>
                  </a:lnTo>
                  <a:lnTo>
                    <a:pt x="12282" y="5570"/>
                  </a:lnTo>
                  <a:lnTo>
                    <a:pt x="12198" y="4985"/>
                  </a:lnTo>
                  <a:lnTo>
                    <a:pt x="12057" y="4412"/>
                  </a:lnTo>
                  <a:lnTo>
                    <a:pt x="11864" y="3853"/>
                  </a:lnTo>
                  <a:lnTo>
                    <a:pt x="11616" y="3313"/>
                  </a:lnTo>
                  <a:lnTo>
                    <a:pt x="11315" y="2798"/>
                  </a:lnTo>
                  <a:lnTo>
                    <a:pt x="10962" y="2310"/>
                  </a:lnTo>
                  <a:lnTo>
                    <a:pt x="10558" y="1854"/>
                  </a:lnTo>
                  <a:lnTo>
                    <a:pt x="10104" y="1435"/>
                  </a:lnTo>
                  <a:lnTo>
                    <a:pt x="9601" y="1056"/>
                  </a:lnTo>
                  <a:lnTo>
                    <a:pt x="9062" y="730"/>
                  </a:lnTo>
                  <a:lnTo>
                    <a:pt x="8503" y="464"/>
                  </a:lnTo>
                  <a:lnTo>
                    <a:pt x="7930" y="260"/>
                  </a:lnTo>
                  <a:lnTo>
                    <a:pt x="7346" y="114"/>
                  </a:lnTo>
                  <a:lnTo>
                    <a:pt x="6755" y="28"/>
                  </a:lnTo>
                  <a:lnTo>
                    <a:pt x="6162" y="0"/>
                  </a:lnTo>
                  <a:lnTo>
                    <a:pt x="5571" y="28"/>
                  </a:lnTo>
                  <a:lnTo>
                    <a:pt x="4988" y="112"/>
                  </a:lnTo>
                  <a:lnTo>
                    <a:pt x="4413" y="251"/>
                  </a:lnTo>
                  <a:lnTo>
                    <a:pt x="3855" y="446"/>
                  </a:lnTo>
                  <a:lnTo>
                    <a:pt x="3315" y="694"/>
                  </a:lnTo>
                  <a:lnTo>
                    <a:pt x="2800" y="995"/>
                  </a:lnTo>
                  <a:lnTo>
                    <a:pt x="2312" y="1348"/>
                  </a:lnTo>
                  <a:lnTo>
                    <a:pt x="1856" y="1751"/>
                  </a:lnTo>
                  <a:lnTo>
                    <a:pt x="1437" y="2205"/>
                  </a:lnTo>
                  <a:lnTo>
                    <a:pt x="1058" y="2709"/>
                  </a:lnTo>
                  <a:lnTo>
                    <a:pt x="732" y="3248"/>
                  </a:lnTo>
                  <a:lnTo>
                    <a:pt x="466" y="3806"/>
                  </a:lnTo>
                  <a:lnTo>
                    <a:pt x="261" y="4379"/>
                  </a:lnTo>
                  <a:lnTo>
                    <a:pt x="116" y="4964"/>
                  </a:lnTo>
                  <a:lnTo>
                    <a:pt x="29" y="5555"/>
                  </a:lnTo>
                  <a:lnTo>
                    <a:pt x="0" y="6148"/>
                  </a:lnTo>
                  <a:lnTo>
                    <a:pt x="29" y="6738"/>
                  </a:lnTo>
                  <a:lnTo>
                    <a:pt x="113" y="7323"/>
                  </a:lnTo>
                  <a:lnTo>
                    <a:pt x="252" y="7897"/>
                  </a:lnTo>
                  <a:lnTo>
                    <a:pt x="447" y="8456"/>
                  </a:lnTo>
                  <a:lnTo>
                    <a:pt x="695" y="8995"/>
                  </a:lnTo>
                  <a:lnTo>
                    <a:pt x="996" y="9512"/>
                  </a:lnTo>
                  <a:lnTo>
                    <a:pt x="1347" y="10000"/>
                  </a:lnTo>
                  <a:lnTo>
                    <a:pt x="1751" y="10456"/>
                  </a:lnTo>
                  <a:lnTo>
                    <a:pt x="2205" y="10875"/>
                  </a:lnTo>
                  <a:lnTo>
                    <a:pt x="2709" y="11254"/>
                  </a:lnTo>
                  <a:close/>
                </a:path>
              </a:pathLst>
            </a:custGeom>
            <a:solidFill>
              <a:srgbClr val="132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17000" y="113040"/>
              <a:ext cx="940680" cy="930240"/>
            </a:xfrm>
            <a:custGeom>
              <a:avLst/>
              <a:gdLst/>
              <a:ahLst/>
              <a:rect l="l" t="t" r="r" b="b"/>
              <a:pathLst>
                <a:path w="12148" h="12149">
                  <a:moveTo>
                    <a:pt x="2673" y="11109"/>
                  </a:moveTo>
                  <a:lnTo>
                    <a:pt x="3205" y="11430"/>
                  </a:lnTo>
                  <a:lnTo>
                    <a:pt x="3756" y="11691"/>
                  </a:lnTo>
                  <a:lnTo>
                    <a:pt x="4322" y="11893"/>
                  </a:lnTo>
                  <a:lnTo>
                    <a:pt x="4898" y="12036"/>
                  </a:lnTo>
                  <a:lnTo>
                    <a:pt x="5482" y="12122"/>
                  </a:lnTo>
                  <a:lnTo>
                    <a:pt x="6067" y="12149"/>
                  </a:lnTo>
                  <a:lnTo>
                    <a:pt x="6650" y="12122"/>
                  </a:lnTo>
                  <a:lnTo>
                    <a:pt x="7228" y="12039"/>
                  </a:lnTo>
                  <a:lnTo>
                    <a:pt x="7793" y="11901"/>
                  </a:lnTo>
                  <a:lnTo>
                    <a:pt x="8345" y="11709"/>
                  </a:lnTo>
                  <a:lnTo>
                    <a:pt x="8878" y="11465"/>
                  </a:lnTo>
                  <a:lnTo>
                    <a:pt x="9387" y="11168"/>
                  </a:lnTo>
                  <a:lnTo>
                    <a:pt x="9869" y="10820"/>
                  </a:lnTo>
                  <a:lnTo>
                    <a:pt x="10319" y="10422"/>
                  </a:lnTo>
                  <a:lnTo>
                    <a:pt x="10733" y="9974"/>
                  </a:lnTo>
                  <a:lnTo>
                    <a:pt x="11107" y="9478"/>
                  </a:lnTo>
                  <a:lnTo>
                    <a:pt x="11428" y="8945"/>
                  </a:lnTo>
                  <a:lnTo>
                    <a:pt x="11690" y="8393"/>
                  </a:lnTo>
                  <a:lnTo>
                    <a:pt x="11892" y="7828"/>
                  </a:lnTo>
                  <a:lnTo>
                    <a:pt x="12034" y="7251"/>
                  </a:lnTo>
                  <a:lnTo>
                    <a:pt x="12120" y="6667"/>
                  </a:lnTo>
                  <a:lnTo>
                    <a:pt x="12148" y="6082"/>
                  </a:lnTo>
                  <a:lnTo>
                    <a:pt x="12120" y="5499"/>
                  </a:lnTo>
                  <a:lnTo>
                    <a:pt x="12037" y="4922"/>
                  </a:lnTo>
                  <a:lnTo>
                    <a:pt x="11899" y="4356"/>
                  </a:lnTo>
                  <a:lnTo>
                    <a:pt x="11708" y="3804"/>
                  </a:lnTo>
                  <a:lnTo>
                    <a:pt x="11463" y="3272"/>
                  </a:lnTo>
                  <a:lnTo>
                    <a:pt x="11167" y="2762"/>
                  </a:lnTo>
                  <a:lnTo>
                    <a:pt x="10819" y="2281"/>
                  </a:lnTo>
                  <a:lnTo>
                    <a:pt x="10420" y="1830"/>
                  </a:lnTo>
                  <a:lnTo>
                    <a:pt x="9972" y="1416"/>
                  </a:lnTo>
                  <a:lnTo>
                    <a:pt x="9475" y="1043"/>
                  </a:lnTo>
                  <a:lnTo>
                    <a:pt x="8943" y="721"/>
                  </a:lnTo>
                  <a:lnTo>
                    <a:pt x="8392" y="460"/>
                  </a:lnTo>
                  <a:lnTo>
                    <a:pt x="7826" y="258"/>
                  </a:lnTo>
                  <a:lnTo>
                    <a:pt x="7249" y="114"/>
                  </a:lnTo>
                  <a:lnTo>
                    <a:pt x="6666" y="29"/>
                  </a:lnTo>
                  <a:lnTo>
                    <a:pt x="6081" y="0"/>
                  </a:lnTo>
                  <a:lnTo>
                    <a:pt x="5498" y="28"/>
                  </a:lnTo>
                  <a:lnTo>
                    <a:pt x="4921" y="112"/>
                  </a:lnTo>
                  <a:lnTo>
                    <a:pt x="4355" y="249"/>
                  </a:lnTo>
                  <a:lnTo>
                    <a:pt x="3803" y="442"/>
                  </a:lnTo>
                  <a:lnTo>
                    <a:pt x="3271" y="686"/>
                  </a:lnTo>
                  <a:lnTo>
                    <a:pt x="2762" y="983"/>
                  </a:lnTo>
                  <a:lnTo>
                    <a:pt x="2280" y="1330"/>
                  </a:lnTo>
                  <a:lnTo>
                    <a:pt x="1829" y="1729"/>
                  </a:lnTo>
                  <a:lnTo>
                    <a:pt x="1416" y="2178"/>
                  </a:lnTo>
                  <a:lnTo>
                    <a:pt x="1043" y="2675"/>
                  </a:lnTo>
                  <a:lnTo>
                    <a:pt x="720" y="3207"/>
                  </a:lnTo>
                  <a:lnTo>
                    <a:pt x="459" y="3757"/>
                  </a:lnTo>
                  <a:lnTo>
                    <a:pt x="257" y="4324"/>
                  </a:lnTo>
                  <a:lnTo>
                    <a:pt x="113" y="4900"/>
                  </a:lnTo>
                  <a:lnTo>
                    <a:pt x="28" y="5484"/>
                  </a:lnTo>
                  <a:lnTo>
                    <a:pt x="0" y="6068"/>
                  </a:lnTo>
                  <a:lnTo>
                    <a:pt x="27" y="6652"/>
                  </a:lnTo>
                  <a:lnTo>
                    <a:pt x="111" y="7228"/>
                  </a:lnTo>
                  <a:lnTo>
                    <a:pt x="248" y="7795"/>
                  </a:lnTo>
                  <a:lnTo>
                    <a:pt x="440" y="8347"/>
                  </a:lnTo>
                  <a:lnTo>
                    <a:pt x="685" y="8879"/>
                  </a:lnTo>
                  <a:lnTo>
                    <a:pt x="982" y="9388"/>
                  </a:lnTo>
                  <a:lnTo>
                    <a:pt x="1330" y="9870"/>
                  </a:lnTo>
                  <a:lnTo>
                    <a:pt x="1728" y="10320"/>
                  </a:lnTo>
                  <a:lnTo>
                    <a:pt x="2176" y="10734"/>
                  </a:lnTo>
                  <a:lnTo>
                    <a:pt x="2673" y="11109"/>
                  </a:lnTo>
                  <a:close/>
                </a:path>
              </a:pathLst>
            </a:custGeom>
            <a:solidFill>
              <a:srgbClr val="152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26360" y="115920"/>
              <a:ext cx="928800" cy="917640"/>
            </a:xfrm>
            <a:custGeom>
              <a:avLst/>
              <a:gdLst/>
              <a:ahLst/>
              <a:rect l="l" t="t" r="r" b="b"/>
              <a:pathLst>
                <a:path w="11988" h="11989">
                  <a:moveTo>
                    <a:pt x="2638" y="10961"/>
                  </a:moveTo>
                  <a:lnTo>
                    <a:pt x="3163" y="11277"/>
                  </a:lnTo>
                  <a:lnTo>
                    <a:pt x="3707" y="11536"/>
                  </a:lnTo>
                  <a:lnTo>
                    <a:pt x="4265" y="11735"/>
                  </a:lnTo>
                  <a:lnTo>
                    <a:pt x="4834" y="11877"/>
                  </a:lnTo>
                  <a:lnTo>
                    <a:pt x="5410" y="11961"/>
                  </a:lnTo>
                  <a:lnTo>
                    <a:pt x="5987" y="11989"/>
                  </a:lnTo>
                  <a:lnTo>
                    <a:pt x="6562" y="11961"/>
                  </a:lnTo>
                  <a:lnTo>
                    <a:pt x="7132" y="11879"/>
                  </a:lnTo>
                  <a:lnTo>
                    <a:pt x="7690" y="11743"/>
                  </a:lnTo>
                  <a:lnTo>
                    <a:pt x="8235" y="11554"/>
                  </a:lnTo>
                  <a:lnTo>
                    <a:pt x="8760" y="11313"/>
                  </a:lnTo>
                  <a:lnTo>
                    <a:pt x="9263" y="11020"/>
                  </a:lnTo>
                  <a:lnTo>
                    <a:pt x="9738" y="10677"/>
                  </a:lnTo>
                  <a:lnTo>
                    <a:pt x="10182" y="10283"/>
                  </a:lnTo>
                  <a:lnTo>
                    <a:pt x="10591" y="9842"/>
                  </a:lnTo>
                  <a:lnTo>
                    <a:pt x="10959" y="9352"/>
                  </a:lnTo>
                  <a:lnTo>
                    <a:pt x="11276" y="8827"/>
                  </a:lnTo>
                  <a:lnTo>
                    <a:pt x="11535" y="8283"/>
                  </a:lnTo>
                  <a:lnTo>
                    <a:pt x="11733" y="7724"/>
                  </a:lnTo>
                  <a:lnTo>
                    <a:pt x="11876" y="7155"/>
                  </a:lnTo>
                  <a:lnTo>
                    <a:pt x="11960" y="6580"/>
                  </a:lnTo>
                  <a:lnTo>
                    <a:pt x="11988" y="6001"/>
                  </a:lnTo>
                  <a:lnTo>
                    <a:pt x="11960" y="5426"/>
                  </a:lnTo>
                  <a:lnTo>
                    <a:pt x="11878" y="4858"/>
                  </a:lnTo>
                  <a:lnTo>
                    <a:pt x="11742" y="4298"/>
                  </a:lnTo>
                  <a:lnTo>
                    <a:pt x="11553" y="3754"/>
                  </a:lnTo>
                  <a:lnTo>
                    <a:pt x="11311" y="3229"/>
                  </a:lnTo>
                  <a:lnTo>
                    <a:pt x="11019" y="2726"/>
                  </a:lnTo>
                  <a:lnTo>
                    <a:pt x="10676" y="2251"/>
                  </a:lnTo>
                  <a:lnTo>
                    <a:pt x="10282" y="1806"/>
                  </a:lnTo>
                  <a:lnTo>
                    <a:pt x="9840" y="1398"/>
                  </a:lnTo>
                  <a:lnTo>
                    <a:pt x="9350" y="1030"/>
                  </a:lnTo>
                  <a:lnTo>
                    <a:pt x="8825" y="713"/>
                  </a:lnTo>
                  <a:lnTo>
                    <a:pt x="8281" y="454"/>
                  </a:lnTo>
                  <a:lnTo>
                    <a:pt x="7722" y="254"/>
                  </a:lnTo>
                  <a:lnTo>
                    <a:pt x="7154" y="113"/>
                  </a:lnTo>
                  <a:lnTo>
                    <a:pt x="6578" y="29"/>
                  </a:lnTo>
                  <a:lnTo>
                    <a:pt x="6001" y="0"/>
                  </a:lnTo>
                  <a:lnTo>
                    <a:pt x="5425" y="28"/>
                  </a:lnTo>
                  <a:lnTo>
                    <a:pt x="4856" y="111"/>
                  </a:lnTo>
                  <a:lnTo>
                    <a:pt x="4297" y="246"/>
                  </a:lnTo>
                  <a:lnTo>
                    <a:pt x="3753" y="435"/>
                  </a:lnTo>
                  <a:lnTo>
                    <a:pt x="3227" y="676"/>
                  </a:lnTo>
                  <a:lnTo>
                    <a:pt x="2725" y="970"/>
                  </a:lnTo>
                  <a:lnTo>
                    <a:pt x="2249" y="1313"/>
                  </a:lnTo>
                  <a:lnTo>
                    <a:pt x="1806" y="1705"/>
                  </a:lnTo>
                  <a:lnTo>
                    <a:pt x="1397" y="2148"/>
                  </a:lnTo>
                  <a:lnTo>
                    <a:pt x="1029" y="2639"/>
                  </a:lnTo>
                  <a:lnTo>
                    <a:pt x="711" y="3163"/>
                  </a:lnTo>
                  <a:lnTo>
                    <a:pt x="453" y="3707"/>
                  </a:lnTo>
                  <a:lnTo>
                    <a:pt x="254" y="4265"/>
                  </a:lnTo>
                  <a:lnTo>
                    <a:pt x="113" y="4835"/>
                  </a:lnTo>
                  <a:lnTo>
                    <a:pt x="29" y="5410"/>
                  </a:lnTo>
                  <a:lnTo>
                    <a:pt x="0" y="5988"/>
                  </a:lnTo>
                  <a:lnTo>
                    <a:pt x="27" y="6563"/>
                  </a:lnTo>
                  <a:lnTo>
                    <a:pt x="109" y="7132"/>
                  </a:lnTo>
                  <a:lnTo>
                    <a:pt x="245" y="7692"/>
                  </a:lnTo>
                  <a:lnTo>
                    <a:pt x="435" y="8236"/>
                  </a:lnTo>
                  <a:lnTo>
                    <a:pt x="676" y="8761"/>
                  </a:lnTo>
                  <a:lnTo>
                    <a:pt x="968" y="9264"/>
                  </a:lnTo>
                  <a:lnTo>
                    <a:pt x="1312" y="9739"/>
                  </a:lnTo>
                  <a:lnTo>
                    <a:pt x="1705" y="10182"/>
                  </a:lnTo>
                  <a:lnTo>
                    <a:pt x="2147" y="10592"/>
                  </a:lnTo>
                  <a:lnTo>
                    <a:pt x="2638" y="10961"/>
                  </a:lnTo>
                  <a:close/>
                </a:path>
              </a:pathLst>
            </a:custGeom>
            <a:solidFill>
              <a:srgbClr val="173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720" y="118800"/>
              <a:ext cx="916920" cy="904320"/>
            </a:xfrm>
            <a:custGeom>
              <a:avLst/>
              <a:gdLst/>
              <a:ahLst/>
              <a:rect l="l" t="t" r="r" b="b"/>
              <a:pathLst>
                <a:path w="11827" h="11827">
                  <a:moveTo>
                    <a:pt x="2603" y="10813"/>
                  </a:moveTo>
                  <a:lnTo>
                    <a:pt x="3120" y="11125"/>
                  </a:lnTo>
                  <a:lnTo>
                    <a:pt x="3657" y="11381"/>
                  </a:lnTo>
                  <a:lnTo>
                    <a:pt x="4208" y="11577"/>
                  </a:lnTo>
                  <a:lnTo>
                    <a:pt x="4769" y="11716"/>
                  </a:lnTo>
                  <a:lnTo>
                    <a:pt x="5337" y="11799"/>
                  </a:lnTo>
                  <a:lnTo>
                    <a:pt x="5907" y="11827"/>
                  </a:lnTo>
                  <a:lnTo>
                    <a:pt x="6474" y="11799"/>
                  </a:lnTo>
                  <a:lnTo>
                    <a:pt x="7037" y="11719"/>
                  </a:lnTo>
                  <a:lnTo>
                    <a:pt x="7587" y="11585"/>
                  </a:lnTo>
                  <a:lnTo>
                    <a:pt x="8124" y="11399"/>
                  </a:lnTo>
                  <a:lnTo>
                    <a:pt x="8643" y="11160"/>
                  </a:lnTo>
                  <a:lnTo>
                    <a:pt x="9139" y="10871"/>
                  </a:lnTo>
                  <a:lnTo>
                    <a:pt x="9607" y="10532"/>
                  </a:lnTo>
                  <a:lnTo>
                    <a:pt x="10045" y="10144"/>
                  </a:lnTo>
                  <a:lnTo>
                    <a:pt x="10448" y="9708"/>
                  </a:lnTo>
                  <a:lnTo>
                    <a:pt x="10813" y="9225"/>
                  </a:lnTo>
                  <a:lnTo>
                    <a:pt x="11126" y="8706"/>
                  </a:lnTo>
                  <a:lnTo>
                    <a:pt x="11381" y="8170"/>
                  </a:lnTo>
                  <a:lnTo>
                    <a:pt x="11577" y="7619"/>
                  </a:lnTo>
                  <a:lnTo>
                    <a:pt x="11717" y="7058"/>
                  </a:lnTo>
                  <a:lnTo>
                    <a:pt x="11800" y="6490"/>
                  </a:lnTo>
                  <a:lnTo>
                    <a:pt x="11827" y="5921"/>
                  </a:lnTo>
                  <a:lnTo>
                    <a:pt x="11800" y="5353"/>
                  </a:lnTo>
                  <a:lnTo>
                    <a:pt x="11719" y="4792"/>
                  </a:lnTo>
                  <a:lnTo>
                    <a:pt x="11585" y="4240"/>
                  </a:lnTo>
                  <a:lnTo>
                    <a:pt x="11399" y="3703"/>
                  </a:lnTo>
                  <a:lnTo>
                    <a:pt x="11161" y="3184"/>
                  </a:lnTo>
                  <a:lnTo>
                    <a:pt x="10871" y="2689"/>
                  </a:lnTo>
                  <a:lnTo>
                    <a:pt x="10532" y="2220"/>
                  </a:lnTo>
                  <a:lnTo>
                    <a:pt x="10144" y="1782"/>
                  </a:lnTo>
                  <a:lnTo>
                    <a:pt x="9708" y="1379"/>
                  </a:lnTo>
                  <a:lnTo>
                    <a:pt x="9225" y="1016"/>
                  </a:lnTo>
                  <a:lnTo>
                    <a:pt x="8706" y="702"/>
                  </a:lnTo>
                  <a:lnTo>
                    <a:pt x="8170" y="447"/>
                  </a:lnTo>
                  <a:lnTo>
                    <a:pt x="7619" y="250"/>
                  </a:lnTo>
                  <a:lnTo>
                    <a:pt x="7058" y="111"/>
                  </a:lnTo>
                  <a:lnTo>
                    <a:pt x="6490" y="28"/>
                  </a:lnTo>
                  <a:lnTo>
                    <a:pt x="5921" y="0"/>
                  </a:lnTo>
                  <a:lnTo>
                    <a:pt x="5353" y="27"/>
                  </a:lnTo>
                  <a:lnTo>
                    <a:pt x="4791" y="108"/>
                  </a:lnTo>
                  <a:lnTo>
                    <a:pt x="4240" y="242"/>
                  </a:lnTo>
                  <a:lnTo>
                    <a:pt x="3703" y="429"/>
                  </a:lnTo>
                  <a:lnTo>
                    <a:pt x="3184" y="667"/>
                  </a:lnTo>
                  <a:lnTo>
                    <a:pt x="2689" y="956"/>
                  </a:lnTo>
                  <a:lnTo>
                    <a:pt x="2220" y="1294"/>
                  </a:lnTo>
                  <a:lnTo>
                    <a:pt x="1782" y="1682"/>
                  </a:lnTo>
                  <a:lnTo>
                    <a:pt x="1379" y="2118"/>
                  </a:lnTo>
                  <a:lnTo>
                    <a:pt x="1015" y="2603"/>
                  </a:lnTo>
                  <a:lnTo>
                    <a:pt x="702" y="3120"/>
                  </a:lnTo>
                  <a:lnTo>
                    <a:pt x="447" y="3656"/>
                  </a:lnTo>
                  <a:lnTo>
                    <a:pt x="250" y="4208"/>
                  </a:lnTo>
                  <a:lnTo>
                    <a:pt x="111" y="4769"/>
                  </a:lnTo>
                  <a:lnTo>
                    <a:pt x="28" y="5337"/>
                  </a:lnTo>
                  <a:lnTo>
                    <a:pt x="0" y="5907"/>
                  </a:lnTo>
                  <a:lnTo>
                    <a:pt x="27" y="6474"/>
                  </a:lnTo>
                  <a:lnTo>
                    <a:pt x="108" y="7036"/>
                  </a:lnTo>
                  <a:lnTo>
                    <a:pt x="242" y="7587"/>
                  </a:lnTo>
                  <a:lnTo>
                    <a:pt x="428" y="8124"/>
                  </a:lnTo>
                  <a:lnTo>
                    <a:pt x="667" y="8643"/>
                  </a:lnTo>
                  <a:lnTo>
                    <a:pt x="956" y="9138"/>
                  </a:lnTo>
                  <a:lnTo>
                    <a:pt x="1294" y="9607"/>
                  </a:lnTo>
                  <a:lnTo>
                    <a:pt x="1682" y="10045"/>
                  </a:lnTo>
                  <a:lnTo>
                    <a:pt x="2118" y="10448"/>
                  </a:lnTo>
                  <a:lnTo>
                    <a:pt x="2603" y="10813"/>
                  </a:lnTo>
                  <a:close/>
                </a:path>
              </a:pathLst>
            </a:custGeom>
            <a:solidFill>
              <a:srgbClr val="193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5080" y="120240"/>
              <a:ext cx="903600" cy="892800"/>
            </a:xfrm>
            <a:custGeom>
              <a:avLst/>
              <a:gdLst/>
              <a:ahLst/>
              <a:rect l="l" t="t" r="r" b="b"/>
              <a:pathLst>
                <a:path w="11668" h="11666">
                  <a:moveTo>
                    <a:pt x="2569" y="10666"/>
                  </a:moveTo>
                  <a:lnTo>
                    <a:pt x="3079" y="10974"/>
                  </a:lnTo>
                  <a:lnTo>
                    <a:pt x="3608" y="11225"/>
                  </a:lnTo>
                  <a:lnTo>
                    <a:pt x="4152" y="11420"/>
                  </a:lnTo>
                  <a:lnTo>
                    <a:pt x="4706" y="11557"/>
                  </a:lnTo>
                  <a:lnTo>
                    <a:pt x="5266" y="11640"/>
                  </a:lnTo>
                  <a:lnTo>
                    <a:pt x="5827" y="11666"/>
                  </a:lnTo>
                  <a:lnTo>
                    <a:pt x="6387" y="11640"/>
                  </a:lnTo>
                  <a:lnTo>
                    <a:pt x="6941" y="11560"/>
                  </a:lnTo>
                  <a:lnTo>
                    <a:pt x="7486" y="11428"/>
                  </a:lnTo>
                  <a:lnTo>
                    <a:pt x="8015" y="11243"/>
                  </a:lnTo>
                  <a:lnTo>
                    <a:pt x="8526" y="11009"/>
                  </a:lnTo>
                  <a:lnTo>
                    <a:pt x="9015" y="10724"/>
                  </a:lnTo>
                  <a:lnTo>
                    <a:pt x="9478" y="10390"/>
                  </a:lnTo>
                  <a:lnTo>
                    <a:pt x="9911" y="10007"/>
                  </a:lnTo>
                  <a:lnTo>
                    <a:pt x="10308" y="9576"/>
                  </a:lnTo>
                  <a:lnTo>
                    <a:pt x="10667" y="9100"/>
                  </a:lnTo>
                  <a:lnTo>
                    <a:pt x="10976" y="8589"/>
                  </a:lnTo>
                  <a:lnTo>
                    <a:pt x="11227" y="8059"/>
                  </a:lnTo>
                  <a:lnTo>
                    <a:pt x="11420" y="7515"/>
                  </a:lnTo>
                  <a:lnTo>
                    <a:pt x="11558" y="6962"/>
                  </a:lnTo>
                  <a:lnTo>
                    <a:pt x="11640" y="6402"/>
                  </a:lnTo>
                  <a:lnTo>
                    <a:pt x="11668" y="5840"/>
                  </a:lnTo>
                  <a:lnTo>
                    <a:pt x="11640" y="5279"/>
                  </a:lnTo>
                  <a:lnTo>
                    <a:pt x="11560" y="4726"/>
                  </a:lnTo>
                  <a:lnTo>
                    <a:pt x="11429" y="4182"/>
                  </a:lnTo>
                  <a:lnTo>
                    <a:pt x="11245" y="3653"/>
                  </a:lnTo>
                  <a:lnTo>
                    <a:pt x="11010" y="3142"/>
                  </a:lnTo>
                  <a:lnTo>
                    <a:pt x="10725" y="2653"/>
                  </a:lnTo>
                  <a:lnTo>
                    <a:pt x="10390" y="2190"/>
                  </a:lnTo>
                  <a:lnTo>
                    <a:pt x="10007" y="1757"/>
                  </a:lnTo>
                  <a:lnTo>
                    <a:pt x="9577" y="1360"/>
                  </a:lnTo>
                  <a:lnTo>
                    <a:pt x="9100" y="1002"/>
                  </a:lnTo>
                  <a:lnTo>
                    <a:pt x="8589" y="692"/>
                  </a:lnTo>
                  <a:lnTo>
                    <a:pt x="8060" y="441"/>
                  </a:lnTo>
                  <a:lnTo>
                    <a:pt x="7516" y="247"/>
                  </a:lnTo>
                  <a:lnTo>
                    <a:pt x="6962" y="110"/>
                  </a:lnTo>
                  <a:lnTo>
                    <a:pt x="6402" y="28"/>
                  </a:lnTo>
                  <a:lnTo>
                    <a:pt x="5841" y="0"/>
                  </a:lnTo>
                  <a:lnTo>
                    <a:pt x="5281" y="27"/>
                  </a:lnTo>
                  <a:lnTo>
                    <a:pt x="4727" y="106"/>
                  </a:lnTo>
                  <a:lnTo>
                    <a:pt x="4182" y="239"/>
                  </a:lnTo>
                  <a:lnTo>
                    <a:pt x="3653" y="423"/>
                  </a:lnTo>
                  <a:lnTo>
                    <a:pt x="3142" y="658"/>
                  </a:lnTo>
                  <a:lnTo>
                    <a:pt x="2653" y="943"/>
                  </a:lnTo>
                  <a:lnTo>
                    <a:pt x="2190" y="1277"/>
                  </a:lnTo>
                  <a:lnTo>
                    <a:pt x="1757" y="1660"/>
                  </a:lnTo>
                  <a:lnTo>
                    <a:pt x="1360" y="2090"/>
                  </a:lnTo>
                  <a:lnTo>
                    <a:pt x="1002" y="2567"/>
                  </a:lnTo>
                  <a:lnTo>
                    <a:pt x="692" y="3078"/>
                  </a:lnTo>
                  <a:lnTo>
                    <a:pt x="441" y="3607"/>
                  </a:lnTo>
                  <a:lnTo>
                    <a:pt x="248" y="4150"/>
                  </a:lnTo>
                  <a:lnTo>
                    <a:pt x="110" y="4704"/>
                  </a:lnTo>
                  <a:lnTo>
                    <a:pt x="28" y="5265"/>
                  </a:lnTo>
                  <a:lnTo>
                    <a:pt x="0" y="5826"/>
                  </a:lnTo>
                  <a:lnTo>
                    <a:pt x="28" y="6386"/>
                  </a:lnTo>
                  <a:lnTo>
                    <a:pt x="108" y="6940"/>
                  </a:lnTo>
                  <a:lnTo>
                    <a:pt x="239" y="7484"/>
                  </a:lnTo>
                  <a:lnTo>
                    <a:pt x="423" y="8014"/>
                  </a:lnTo>
                  <a:lnTo>
                    <a:pt x="658" y="8525"/>
                  </a:lnTo>
                  <a:lnTo>
                    <a:pt x="943" y="9014"/>
                  </a:lnTo>
                  <a:lnTo>
                    <a:pt x="1278" y="9476"/>
                  </a:lnTo>
                  <a:lnTo>
                    <a:pt x="1661" y="9909"/>
                  </a:lnTo>
                  <a:lnTo>
                    <a:pt x="2091" y="10307"/>
                  </a:lnTo>
                  <a:lnTo>
                    <a:pt x="2569" y="10666"/>
                  </a:lnTo>
                  <a:close/>
                </a:path>
              </a:pathLst>
            </a:custGeom>
            <a:solidFill>
              <a:srgbClr val="1b3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54440" y="123480"/>
              <a:ext cx="891720" cy="880560"/>
            </a:xfrm>
            <a:custGeom>
              <a:avLst/>
              <a:gdLst/>
              <a:ahLst/>
              <a:rect l="l" t="t" r="r" b="b"/>
              <a:pathLst>
                <a:path w="11505" h="11506">
                  <a:moveTo>
                    <a:pt x="2532" y="10519"/>
                  </a:moveTo>
                  <a:lnTo>
                    <a:pt x="3036" y="10823"/>
                  </a:lnTo>
                  <a:lnTo>
                    <a:pt x="3558" y="11071"/>
                  </a:lnTo>
                  <a:lnTo>
                    <a:pt x="4093" y="11262"/>
                  </a:lnTo>
                  <a:lnTo>
                    <a:pt x="4640" y="11398"/>
                  </a:lnTo>
                  <a:lnTo>
                    <a:pt x="5192" y="11479"/>
                  </a:lnTo>
                  <a:lnTo>
                    <a:pt x="5747" y="11506"/>
                  </a:lnTo>
                  <a:lnTo>
                    <a:pt x="6298" y="11479"/>
                  </a:lnTo>
                  <a:lnTo>
                    <a:pt x="6845" y="11400"/>
                  </a:lnTo>
                  <a:lnTo>
                    <a:pt x="7382" y="11270"/>
                  </a:lnTo>
                  <a:lnTo>
                    <a:pt x="7904" y="11089"/>
                  </a:lnTo>
                  <a:lnTo>
                    <a:pt x="8408" y="10857"/>
                  </a:lnTo>
                  <a:lnTo>
                    <a:pt x="8890" y="10577"/>
                  </a:lnTo>
                  <a:lnTo>
                    <a:pt x="9346" y="10246"/>
                  </a:lnTo>
                  <a:lnTo>
                    <a:pt x="9773" y="9869"/>
                  </a:lnTo>
                  <a:lnTo>
                    <a:pt x="10165" y="9444"/>
                  </a:lnTo>
                  <a:lnTo>
                    <a:pt x="10519" y="8975"/>
                  </a:lnTo>
                  <a:lnTo>
                    <a:pt x="10823" y="8470"/>
                  </a:lnTo>
                  <a:lnTo>
                    <a:pt x="11071" y="7948"/>
                  </a:lnTo>
                  <a:lnTo>
                    <a:pt x="11262" y="7412"/>
                  </a:lnTo>
                  <a:lnTo>
                    <a:pt x="11398" y="6865"/>
                  </a:lnTo>
                  <a:lnTo>
                    <a:pt x="11479" y="6314"/>
                  </a:lnTo>
                  <a:lnTo>
                    <a:pt x="11505" y="5759"/>
                  </a:lnTo>
                  <a:lnTo>
                    <a:pt x="11479" y="5207"/>
                  </a:lnTo>
                  <a:lnTo>
                    <a:pt x="11400" y="4661"/>
                  </a:lnTo>
                  <a:lnTo>
                    <a:pt x="11269" y="4124"/>
                  </a:lnTo>
                  <a:lnTo>
                    <a:pt x="11089" y="3602"/>
                  </a:lnTo>
                  <a:lnTo>
                    <a:pt x="10857" y="3098"/>
                  </a:lnTo>
                  <a:lnTo>
                    <a:pt x="10576" y="2615"/>
                  </a:lnTo>
                  <a:lnTo>
                    <a:pt x="10246" y="2159"/>
                  </a:lnTo>
                  <a:lnTo>
                    <a:pt x="9868" y="1733"/>
                  </a:lnTo>
                  <a:lnTo>
                    <a:pt x="9444" y="1341"/>
                  </a:lnTo>
                  <a:lnTo>
                    <a:pt x="8974" y="988"/>
                  </a:lnTo>
                  <a:lnTo>
                    <a:pt x="8470" y="683"/>
                  </a:lnTo>
                  <a:lnTo>
                    <a:pt x="7948" y="435"/>
                  </a:lnTo>
                  <a:lnTo>
                    <a:pt x="7412" y="244"/>
                  </a:lnTo>
                  <a:lnTo>
                    <a:pt x="6866" y="108"/>
                  </a:lnTo>
                  <a:lnTo>
                    <a:pt x="6313" y="27"/>
                  </a:lnTo>
                  <a:lnTo>
                    <a:pt x="5759" y="0"/>
                  </a:lnTo>
                  <a:lnTo>
                    <a:pt x="5208" y="27"/>
                  </a:lnTo>
                  <a:lnTo>
                    <a:pt x="4661" y="105"/>
                  </a:lnTo>
                  <a:lnTo>
                    <a:pt x="4124" y="236"/>
                  </a:lnTo>
                  <a:lnTo>
                    <a:pt x="3602" y="418"/>
                  </a:lnTo>
                  <a:lnTo>
                    <a:pt x="3098" y="649"/>
                  </a:lnTo>
                  <a:lnTo>
                    <a:pt x="2616" y="930"/>
                  </a:lnTo>
                  <a:lnTo>
                    <a:pt x="2160" y="1260"/>
                  </a:lnTo>
                  <a:lnTo>
                    <a:pt x="1733" y="1637"/>
                  </a:lnTo>
                  <a:lnTo>
                    <a:pt x="1341" y="2061"/>
                  </a:lnTo>
                  <a:lnTo>
                    <a:pt x="988" y="2532"/>
                  </a:lnTo>
                  <a:lnTo>
                    <a:pt x="683" y="3035"/>
                  </a:lnTo>
                  <a:lnTo>
                    <a:pt x="435" y="3557"/>
                  </a:lnTo>
                  <a:lnTo>
                    <a:pt x="244" y="4094"/>
                  </a:lnTo>
                  <a:lnTo>
                    <a:pt x="108" y="4639"/>
                  </a:lnTo>
                  <a:lnTo>
                    <a:pt x="27" y="5192"/>
                  </a:lnTo>
                  <a:lnTo>
                    <a:pt x="0" y="5746"/>
                  </a:lnTo>
                  <a:lnTo>
                    <a:pt x="26" y="6299"/>
                  </a:lnTo>
                  <a:lnTo>
                    <a:pt x="106" y="6845"/>
                  </a:lnTo>
                  <a:lnTo>
                    <a:pt x="235" y="7381"/>
                  </a:lnTo>
                  <a:lnTo>
                    <a:pt x="417" y="7904"/>
                  </a:lnTo>
                  <a:lnTo>
                    <a:pt x="649" y="8408"/>
                  </a:lnTo>
                  <a:lnTo>
                    <a:pt x="930" y="8891"/>
                  </a:lnTo>
                  <a:lnTo>
                    <a:pt x="1259" y="9347"/>
                  </a:lnTo>
                  <a:lnTo>
                    <a:pt x="1637" y="9773"/>
                  </a:lnTo>
                  <a:lnTo>
                    <a:pt x="2061" y="10165"/>
                  </a:lnTo>
                  <a:lnTo>
                    <a:pt x="2532" y="10519"/>
                  </a:lnTo>
                  <a:close/>
                </a:path>
              </a:pathLst>
            </a:custGeom>
            <a:solidFill>
              <a:srgbClr val="1c3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63440" y="126000"/>
              <a:ext cx="879840" cy="867600"/>
            </a:xfrm>
            <a:custGeom>
              <a:avLst/>
              <a:gdLst/>
              <a:ahLst/>
              <a:rect l="l" t="t" r="r" b="b"/>
              <a:pathLst>
                <a:path w="11344" h="11345">
                  <a:moveTo>
                    <a:pt x="2496" y="10372"/>
                  </a:moveTo>
                  <a:lnTo>
                    <a:pt x="2992" y="10672"/>
                  </a:lnTo>
                  <a:lnTo>
                    <a:pt x="3507" y="10917"/>
                  </a:lnTo>
                  <a:lnTo>
                    <a:pt x="4035" y="11106"/>
                  </a:lnTo>
                  <a:lnTo>
                    <a:pt x="4574" y="11239"/>
                  </a:lnTo>
                  <a:lnTo>
                    <a:pt x="5119" y="11319"/>
                  </a:lnTo>
                  <a:lnTo>
                    <a:pt x="5665" y="11345"/>
                  </a:lnTo>
                  <a:lnTo>
                    <a:pt x="6209" y="11320"/>
                  </a:lnTo>
                  <a:lnTo>
                    <a:pt x="6748" y="11242"/>
                  </a:lnTo>
                  <a:lnTo>
                    <a:pt x="7278" y="11113"/>
                  </a:lnTo>
                  <a:lnTo>
                    <a:pt x="7792" y="10934"/>
                  </a:lnTo>
                  <a:lnTo>
                    <a:pt x="8290" y="10705"/>
                  </a:lnTo>
                  <a:lnTo>
                    <a:pt x="8765" y="10429"/>
                  </a:lnTo>
                  <a:lnTo>
                    <a:pt x="9215" y="10103"/>
                  </a:lnTo>
                  <a:lnTo>
                    <a:pt x="9636" y="9731"/>
                  </a:lnTo>
                  <a:lnTo>
                    <a:pt x="10022" y="9314"/>
                  </a:lnTo>
                  <a:lnTo>
                    <a:pt x="10371" y="8850"/>
                  </a:lnTo>
                  <a:lnTo>
                    <a:pt x="10671" y="8353"/>
                  </a:lnTo>
                  <a:lnTo>
                    <a:pt x="10916" y="7838"/>
                  </a:lnTo>
                  <a:lnTo>
                    <a:pt x="11104" y="7309"/>
                  </a:lnTo>
                  <a:lnTo>
                    <a:pt x="11238" y="6771"/>
                  </a:lnTo>
                  <a:lnTo>
                    <a:pt x="11318" y="6225"/>
                  </a:lnTo>
                  <a:lnTo>
                    <a:pt x="11344" y="5679"/>
                  </a:lnTo>
                  <a:lnTo>
                    <a:pt x="11319" y="5135"/>
                  </a:lnTo>
                  <a:lnTo>
                    <a:pt x="11241" y="4596"/>
                  </a:lnTo>
                  <a:lnTo>
                    <a:pt x="11111" y="4066"/>
                  </a:lnTo>
                  <a:lnTo>
                    <a:pt x="10933" y="3552"/>
                  </a:lnTo>
                  <a:lnTo>
                    <a:pt x="10704" y="3054"/>
                  </a:lnTo>
                  <a:lnTo>
                    <a:pt x="10428" y="2579"/>
                  </a:lnTo>
                  <a:lnTo>
                    <a:pt x="10102" y="2129"/>
                  </a:lnTo>
                  <a:lnTo>
                    <a:pt x="9730" y="1708"/>
                  </a:lnTo>
                  <a:lnTo>
                    <a:pt x="9311" y="1322"/>
                  </a:lnTo>
                  <a:lnTo>
                    <a:pt x="8848" y="974"/>
                  </a:lnTo>
                  <a:lnTo>
                    <a:pt x="8350" y="673"/>
                  </a:lnTo>
                  <a:lnTo>
                    <a:pt x="7836" y="428"/>
                  </a:lnTo>
                  <a:lnTo>
                    <a:pt x="7307" y="240"/>
                  </a:lnTo>
                  <a:lnTo>
                    <a:pt x="6768" y="106"/>
                  </a:lnTo>
                  <a:lnTo>
                    <a:pt x="6224" y="27"/>
                  </a:lnTo>
                  <a:lnTo>
                    <a:pt x="5678" y="0"/>
                  </a:lnTo>
                  <a:lnTo>
                    <a:pt x="5133" y="25"/>
                  </a:lnTo>
                  <a:lnTo>
                    <a:pt x="4594" y="104"/>
                  </a:lnTo>
                  <a:lnTo>
                    <a:pt x="4066" y="233"/>
                  </a:lnTo>
                  <a:lnTo>
                    <a:pt x="3551" y="411"/>
                  </a:lnTo>
                  <a:lnTo>
                    <a:pt x="3054" y="640"/>
                  </a:lnTo>
                  <a:lnTo>
                    <a:pt x="2579" y="916"/>
                  </a:lnTo>
                  <a:lnTo>
                    <a:pt x="2129" y="1242"/>
                  </a:lnTo>
                  <a:lnTo>
                    <a:pt x="1708" y="1614"/>
                  </a:lnTo>
                  <a:lnTo>
                    <a:pt x="1322" y="2033"/>
                  </a:lnTo>
                  <a:lnTo>
                    <a:pt x="973" y="2497"/>
                  </a:lnTo>
                  <a:lnTo>
                    <a:pt x="673" y="2994"/>
                  </a:lnTo>
                  <a:lnTo>
                    <a:pt x="428" y="3508"/>
                  </a:lnTo>
                  <a:lnTo>
                    <a:pt x="240" y="4036"/>
                  </a:lnTo>
                  <a:lnTo>
                    <a:pt x="106" y="4575"/>
                  </a:lnTo>
                  <a:lnTo>
                    <a:pt x="26" y="5120"/>
                  </a:lnTo>
                  <a:lnTo>
                    <a:pt x="0" y="5666"/>
                  </a:lnTo>
                  <a:lnTo>
                    <a:pt x="25" y="6210"/>
                  </a:lnTo>
                  <a:lnTo>
                    <a:pt x="103" y="6749"/>
                  </a:lnTo>
                  <a:lnTo>
                    <a:pt x="231" y="7278"/>
                  </a:lnTo>
                  <a:lnTo>
                    <a:pt x="411" y="7793"/>
                  </a:lnTo>
                  <a:lnTo>
                    <a:pt x="639" y="8290"/>
                  </a:lnTo>
                  <a:lnTo>
                    <a:pt x="916" y="8766"/>
                  </a:lnTo>
                  <a:lnTo>
                    <a:pt x="1241" y="9216"/>
                  </a:lnTo>
                  <a:lnTo>
                    <a:pt x="1612" y="9636"/>
                  </a:lnTo>
                  <a:lnTo>
                    <a:pt x="2031" y="10023"/>
                  </a:lnTo>
                  <a:lnTo>
                    <a:pt x="2496" y="10372"/>
                  </a:lnTo>
                  <a:close/>
                </a:path>
              </a:pathLst>
            </a:custGeom>
            <a:solidFill>
              <a:srgbClr val="1e3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72800" y="127800"/>
              <a:ext cx="866520" cy="855720"/>
            </a:xfrm>
            <a:custGeom>
              <a:avLst/>
              <a:gdLst/>
              <a:ahLst/>
              <a:rect l="l" t="t" r="r" b="b"/>
              <a:pathLst>
                <a:path w="11185" h="11184">
                  <a:moveTo>
                    <a:pt x="2461" y="10226"/>
                  </a:moveTo>
                  <a:lnTo>
                    <a:pt x="2950" y="10521"/>
                  </a:lnTo>
                  <a:lnTo>
                    <a:pt x="3458" y="10761"/>
                  </a:lnTo>
                  <a:lnTo>
                    <a:pt x="3979" y="10947"/>
                  </a:lnTo>
                  <a:lnTo>
                    <a:pt x="4509" y="11079"/>
                  </a:lnTo>
                  <a:lnTo>
                    <a:pt x="5046" y="11158"/>
                  </a:lnTo>
                  <a:lnTo>
                    <a:pt x="5585" y="11184"/>
                  </a:lnTo>
                  <a:lnTo>
                    <a:pt x="6122" y="11159"/>
                  </a:lnTo>
                  <a:lnTo>
                    <a:pt x="6654" y="11082"/>
                  </a:lnTo>
                  <a:lnTo>
                    <a:pt x="7175" y="10955"/>
                  </a:lnTo>
                  <a:lnTo>
                    <a:pt x="7683" y="10778"/>
                  </a:lnTo>
                  <a:lnTo>
                    <a:pt x="8173" y="10554"/>
                  </a:lnTo>
                  <a:lnTo>
                    <a:pt x="8642" y="10281"/>
                  </a:lnTo>
                  <a:lnTo>
                    <a:pt x="9086" y="9961"/>
                  </a:lnTo>
                  <a:lnTo>
                    <a:pt x="9500" y="9594"/>
                  </a:lnTo>
                  <a:lnTo>
                    <a:pt x="9881" y="9182"/>
                  </a:lnTo>
                  <a:lnTo>
                    <a:pt x="10226" y="8725"/>
                  </a:lnTo>
                  <a:lnTo>
                    <a:pt x="10521" y="8234"/>
                  </a:lnTo>
                  <a:lnTo>
                    <a:pt x="10762" y="7726"/>
                  </a:lnTo>
                  <a:lnTo>
                    <a:pt x="10948" y="7205"/>
                  </a:lnTo>
                  <a:lnTo>
                    <a:pt x="11080" y="6675"/>
                  </a:lnTo>
                  <a:lnTo>
                    <a:pt x="11158" y="6138"/>
                  </a:lnTo>
                  <a:lnTo>
                    <a:pt x="11185" y="5599"/>
                  </a:lnTo>
                  <a:lnTo>
                    <a:pt x="11158" y="5062"/>
                  </a:lnTo>
                  <a:lnTo>
                    <a:pt x="11082" y="4531"/>
                  </a:lnTo>
                  <a:lnTo>
                    <a:pt x="10955" y="4010"/>
                  </a:lnTo>
                  <a:lnTo>
                    <a:pt x="10779" y="3502"/>
                  </a:lnTo>
                  <a:lnTo>
                    <a:pt x="10553" y="3012"/>
                  </a:lnTo>
                  <a:lnTo>
                    <a:pt x="10280" y="2543"/>
                  </a:lnTo>
                  <a:lnTo>
                    <a:pt x="9960" y="2098"/>
                  </a:lnTo>
                  <a:lnTo>
                    <a:pt x="9593" y="1685"/>
                  </a:lnTo>
                  <a:lnTo>
                    <a:pt x="9181" y="1303"/>
                  </a:lnTo>
                  <a:lnTo>
                    <a:pt x="8724" y="960"/>
                  </a:lnTo>
                  <a:lnTo>
                    <a:pt x="8234" y="663"/>
                  </a:lnTo>
                  <a:lnTo>
                    <a:pt x="7726" y="423"/>
                  </a:lnTo>
                  <a:lnTo>
                    <a:pt x="7206" y="237"/>
                  </a:lnTo>
                  <a:lnTo>
                    <a:pt x="6674" y="105"/>
                  </a:lnTo>
                  <a:lnTo>
                    <a:pt x="6137" y="26"/>
                  </a:lnTo>
                  <a:lnTo>
                    <a:pt x="5598" y="0"/>
                  </a:lnTo>
                  <a:lnTo>
                    <a:pt x="5061" y="26"/>
                  </a:lnTo>
                  <a:lnTo>
                    <a:pt x="4531" y="103"/>
                  </a:lnTo>
                  <a:lnTo>
                    <a:pt x="4009" y="229"/>
                  </a:lnTo>
                  <a:lnTo>
                    <a:pt x="3502" y="406"/>
                  </a:lnTo>
                  <a:lnTo>
                    <a:pt x="3012" y="631"/>
                  </a:lnTo>
                  <a:lnTo>
                    <a:pt x="2543" y="905"/>
                  </a:lnTo>
                  <a:lnTo>
                    <a:pt x="2098" y="1225"/>
                  </a:lnTo>
                  <a:lnTo>
                    <a:pt x="1685" y="1591"/>
                  </a:lnTo>
                  <a:lnTo>
                    <a:pt x="1303" y="2004"/>
                  </a:lnTo>
                  <a:lnTo>
                    <a:pt x="960" y="2462"/>
                  </a:lnTo>
                  <a:lnTo>
                    <a:pt x="663" y="2951"/>
                  </a:lnTo>
                  <a:lnTo>
                    <a:pt x="423" y="3458"/>
                  </a:lnTo>
                  <a:lnTo>
                    <a:pt x="237" y="3979"/>
                  </a:lnTo>
                  <a:lnTo>
                    <a:pt x="105" y="4510"/>
                  </a:lnTo>
                  <a:lnTo>
                    <a:pt x="26" y="5047"/>
                  </a:lnTo>
                  <a:lnTo>
                    <a:pt x="0" y="5586"/>
                  </a:lnTo>
                  <a:lnTo>
                    <a:pt x="25" y="6123"/>
                  </a:lnTo>
                  <a:lnTo>
                    <a:pt x="103" y="6654"/>
                  </a:lnTo>
                  <a:lnTo>
                    <a:pt x="229" y="7176"/>
                  </a:lnTo>
                  <a:lnTo>
                    <a:pt x="406" y="7683"/>
                  </a:lnTo>
                  <a:lnTo>
                    <a:pt x="630" y="8173"/>
                  </a:lnTo>
                  <a:lnTo>
                    <a:pt x="903" y="8642"/>
                  </a:lnTo>
                  <a:lnTo>
                    <a:pt x="1223" y="9086"/>
                  </a:lnTo>
                  <a:lnTo>
                    <a:pt x="1590" y="9499"/>
                  </a:lnTo>
                  <a:lnTo>
                    <a:pt x="2003" y="9881"/>
                  </a:lnTo>
                  <a:lnTo>
                    <a:pt x="2461" y="10226"/>
                  </a:lnTo>
                  <a:close/>
                </a:path>
              </a:pathLst>
            </a:custGeom>
            <a:solidFill>
              <a:srgbClr val="203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82160" y="130680"/>
              <a:ext cx="854640" cy="843840"/>
            </a:xfrm>
            <a:custGeom>
              <a:avLst/>
              <a:gdLst/>
              <a:ahLst/>
              <a:rect l="l" t="t" r="r" b="b"/>
              <a:pathLst>
                <a:path w="11024" h="11024">
                  <a:moveTo>
                    <a:pt x="2426" y="10079"/>
                  </a:moveTo>
                  <a:lnTo>
                    <a:pt x="2909" y="10370"/>
                  </a:lnTo>
                  <a:lnTo>
                    <a:pt x="3408" y="10607"/>
                  </a:lnTo>
                  <a:lnTo>
                    <a:pt x="3922" y="10791"/>
                  </a:lnTo>
                  <a:lnTo>
                    <a:pt x="4445" y="10921"/>
                  </a:lnTo>
                  <a:lnTo>
                    <a:pt x="4974" y="10998"/>
                  </a:lnTo>
                  <a:lnTo>
                    <a:pt x="5506" y="11024"/>
                  </a:lnTo>
                  <a:lnTo>
                    <a:pt x="6034" y="10998"/>
                  </a:lnTo>
                  <a:lnTo>
                    <a:pt x="6558" y="10923"/>
                  </a:lnTo>
                  <a:lnTo>
                    <a:pt x="7072" y="10797"/>
                  </a:lnTo>
                  <a:lnTo>
                    <a:pt x="7573" y="10624"/>
                  </a:lnTo>
                  <a:lnTo>
                    <a:pt x="8055" y="10402"/>
                  </a:lnTo>
                  <a:lnTo>
                    <a:pt x="8518" y="10133"/>
                  </a:lnTo>
                  <a:lnTo>
                    <a:pt x="8955" y="9817"/>
                  </a:lnTo>
                  <a:lnTo>
                    <a:pt x="9363" y="9456"/>
                  </a:lnTo>
                  <a:lnTo>
                    <a:pt x="9739" y="9050"/>
                  </a:lnTo>
                  <a:lnTo>
                    <a:pt x="10078" y="8599"/>
                  </a:lnTo>
                  <a:lnTo>
                    <a:pt x="10370" y="8115"/>
                  </a:lnTo>
                  <a:lnTo>
                    <a:pt x="10608" y="7616"/>
                  </a:lnTo>
                  <a:lnTo>
                    <a:pt x="10791" y="7102"/>
                  </a:lnTo>
                  <a:lnTo>
                    <a:pt x="10920" y="6579"/>
                  </a:lnTo>
                  <a:lnTo>
                    <a:pt x="10998" y="6050"/>
                  </a:lnTo>
                  <a:lnTo>
                    <a:pt x="11024" y="5518"/>
                  </a:lnTo>
                  <a:lnTo>
                    <a:pt x="10999" y="4990"/>
                  </a:lnTo>
                  <a:lnTo>
                    <a:pt x="10923" y="4466"/>
                  </a:lnTo>
                  <a:lnTo>
                    <a:pt x="10798" y="3952"/>
                  </a:lnTo>
                  <a:lnTo>
                    <a:pt x="10625" y="3452"/>
                  </a:lnTo>
                  <a:lnTo>
                    <a:pt x="10403" y="2969"/>
                  </a:lnTo>
                  <a:lnTo>
                    <a:pt x="10134" y="2506"/>
                  </a:lnTo>
                  <a:lnTo>
                    <a:pt x="9818" y="2070"/>
                  </a:lnTo>
                  <a:lnTo>
                    <a:pt x="9455" y="1661"/>
                  </a:lnTo>
                  <a:lnTo>
                    <a:pt x="9049" y="1285"/>
                  </a:lnTo>
                  <a:lnTo>
                    <a:pt x="8598" y="947"/>
                  </a:lnTo>
                  <a:lnTo>
                    <a:pt x="8115" y="655"/>
                  </a:lnTo>
                  <a:lnTo>
                    <a:pt x="7615" y="416"/>
                  </a:lnTo>
                  <a:lnTo>
                    <a:pt x="7102" y="234"/>
                  </a:lnTo>
                  <a:lnTo>
                    <a:pt x="6578" y="104"/>
                  </a:lnTo>
                  <a:lnTo>
                    <a:pt x="6049" y="26"/>
                  </a:lnTo>
                  <a:lnTo>
                    <a:pt x="5518" y="0"/>
                  </a:lnTo>
                  <a:lnTo>
                    <a:pt x="4989" y="25"/>
                  </a:lnTo>
                  <a:lnTo>
                    <a:pt x="4465" y="101"/>
                  </a:lnTo>
                  <a:lnTo>
                    <a:pt x="3952" y="226"/>
                  </a:lnTo>
                  <a:lnTo>
                    <a:pt x="3451" y="399"/>
                  </a:lnTo>
                  <a:lnTo>
                    <a:pt x="2968" y="622"/>
                  </a:lnTo>
                  <a:lnTo>
                    <a:pt x="2506" y="891"/>
                  </a:lnTo>
                  <a:lnTo>
                    <a:pt x="2069" y="1206"/>
                  </a:lnTo>
                  <a:lnTo>
                    <a:pt x="1661" y="1569"/>
                  </a:lnTo>
                  <a:lnTo>
                    <a:pt x="1284" y="1975"/>
                  </a:lnTo>
                  <a:lnTo>
                    <a:pt x="946" y="2427"/>
                  </a:lnTo>
                  <a:lnTo>
                    <a:pt x="654" y="2909"/>
                  </a:lnTo>
                  <a:lnTo>
                    <a:pt x="417" y="3409"/>
                  </a:lnTo>
                  <a:lnTo>
                    <a:pt x="233" y="3922"/>
                  </a:lnTo>
                  <a:lnTo>
                    <a:pt x="103" y="4446"/>
                  </a:lnTo>
                  <a:lnTo>
                    <a:pt x="25" y="4975"/>
                  </a:lnTo>
                  <a:lnTo>
                    <a:pt x="0" y="5505"/>
                  </a:lnTo>
                  <a:lnTo>
                    <a:pt x="25" y="6035"/>
                  </a:lnTo>
                  <a:lnTo>
                    <a:pt x="101" y="6559"/>
                  </a:lnTo>
                  <a:lnTo>
                    <a:pt x="226" y="7072"/>
                  </a:lnTo>
                  <a:lnTo>
                    <a:pt x="400" y="7573"/>
                  </a:lnTo>
                  <a:lnTo>
                    <a:pt x="622" y="8056"/>
                  </a:lnTo>
                  <a:lnTo>
                    <a:pt x="891" y="8518"/>
                  </a:lnTo>
                  <a:lnTo>
                    <a:pt x="1207" y="8955"/>
                  </a:lnTo>
                  <a:lnTo>
                    <a:pt x="1568" y="9363"/>
                  </a:lnTo>
                  <a:lnTo>
                    <a:pt x="1974" y="9739"/>
                  </a:lnTo>
                  <a:lnTo>
                    <a:pt x="2426" y="10079"/>
                  </a:lnTo>
                  <a:close/>
                </a:path>
              </a:pathLst>
            </a:custGeom>
            <a:solidFill>
              <a:srgbClr val="223b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91520" y="133200"/>
              <a:ext cx="842400" cy="831240"/>
            </a:xfrm>
            <a:custGeom>
              <a:avLst/>
              <a:gdLst/>
              <a:ahLst/>
              <a:rect l="l" t="t" r="r" b="b"/>
              <a:pathLst>
                <a:path w="10863" h="10862">
                  <a:moveTo>
                    <a:pt x="2391" y="9931"/>
                  </a:moveTo>
                  <a:lnTo>
                    <a:pt x="2866" y="10218"/>
                  </a:lnTo>
                  <a:lnTo>
                    <a:pt x="3359" y="10452"/>
                  </a:lnTo>
                  <a:lnTo>
                    <a:pt x="3865" y="10633"/>
                  </a:lnTo>
                  <a:lnTo>
                    <a:pt x="4381" y="10760"/>
                  </a:lnTo>
                  <a:lnTo>
                    <a:pt x="4902" y="10837"/>
                  </a:lnTo>
                  <a:lnTo>
                    <a:pt x="5425" y="10862"/>
                  </a:lnTo>
                  <a:lnTo>
                    <a:pt x="5947" y="10838"/>
                  </a:lnTo>
                  <a:lnTo>
                    <a:pt x="6463" y="10763"/>
                  </a:lnTo>
                  <a:lnTo>
                    <a:pt x="6969" y="10640"/>
                  </a:lnTo>
                  <a:lnTo>
                    <a:pt x="7462" y="10469"/>
                  </a:lnTo>
                  <a:lnTo>
                    <a:pt x="7938" y="10250"/>
                  </a:lnTo>
                  <a:lnTo>
                    <a:pt x="8393" y="9984"/>
                  </a:lnTo>
                  <a:lnTo>
                    <a:pt x="8824" y="9674"/>
                  </a:lnTo>
                  <a:lnTo>
                    <a:pt x="9227" y="9318"/>
                  </a:lnTo>
                  <a:lnTo>
                    <a:pt x="9597" y="8917"/>
                  </a:lnTo>
                  <a:lnTo>
                    <a:pt x="9932" y="8472"/>
                  </a:lnTo>
                  <a:lnTo>
                    <a:pt x="10219" y="7996"/>
                  </a:lnTo>
                  <a:lnTo>
                    <a:pt x="10453" y="7504"/>
                  </a:lnTo>
                  <a:lnTo>
                    <a:pt x="10633" y="6998"/>
                  </a:lnTo>
                  <a:lnTo>
                    <a:pt x="10761" y="6481"/>
                  </a:lnTo>
                  <a:lnTo>
                    <a:pt x="10838" y="5960"/>
                  </a:lnTo>
                  <a:lnTo>
                    <a:pt x="10863" y="5437"/>
                  </a:lnTo>
                  <a:lnTo>
                    <a:pt x="10839" y="4915"/>
                  </a:lnTo>
                  <a:lnTo>
                    <a:pt x="10764" y="4400"/>
                  </a:lnTo>
                  <a:lnTo>
                    <a:pt x="10641" y="3894"/>
                  </a:lnTo>
                  <a:lnTo>
                    <a:pt x="10470" y="3400"/>
                  </a:lnTo>
                  <a:lnTo>
                    <a:pt x="10251" y="2924"/>
                  </a:lnTo>
                  <a:lnTo>
                    <a:pt x="9985" y="2469"/>
                  </a:lnTo>
                  <a:lnTo>
                    <a:pt x="9674" y="2039"/>
                  </a:lnTo>
                  <a:lnTo>
                    <a:pt x="9318" y="1636"/>
                  </a:lnTo>
                  <a:lnTo>
                    <a:pt x="8918" y="1266"/>
                  </a:lnTo>
                  <a:lnTo>
                    <a:pt x="8473" y="932"/>
                  </a:lnTo>
                  <a:lnTo>
                    <a:pt x="7997" y="644"/>
                  </a:lnTo>
                  <a:lnTo>
                    <a:pt x="7505" y="410"/>
                  </a:lnTo>
                  <a:lnTo>
                    <a:pt x="6999" y="229"/>
                  </a:lnTo>
                  <a:lnTo>
                    <a:pt x="6482" y="102"/>
                  </a:lnTo>
                  <a:lnTo>
                    <a:pt x="5961" y="25"/>
                  </a:lnTo>
                  <a:lnTo>
                    <a:pt x="5438" y="0"/>
                  </a:lnTo>
                  <a:lnTo>
                    <a:pt x="4916" y="24"/>
                  </a:lnTo>
                  <a:lnTo>
                    <a:pt x="4400" y="99"/>
                  </a:lnTo>
                  <a:lnTo>
                    <a:pt x="3894" y="222"/>
                  </a:lnTo>
                  <a:lnTo>
                    <a:pt x="3401" y="393"/>
                  </a:lnTo>
                  <a:lnTo>
                    <a:pt x="2925" y="612"/>
                  </a:lnTo>
                  <a:lnTo>
                    <a:pt x="2470" y="878"/>
                  </a:lnTo>
                  <a:lnTo>
                    <a:pt x="2039" y="1188"/>
                  </a:lnTo>
                  <a:lnTo>
                    <a:pt x="1636" y="1544"/>
                  </a:lnTo>
                  <a:lnTo>
                    <a:pt x="1266" y="1945"/>
                  </a:lnTo>
                  <a:lnTo>
                    <a:pt x="932" y="2391"/>
                  </a:lnTo>
                  <a:lnTo>
                    <a:pt x="644" y="2866"/>
                  </a:lnTo>
                  <a:lnTo>
                    <a:pt x="410" y="3358"/>
                  </a:lnTo>
                  <a:lnTo>
                    <a:pt x="230" y="3864"/>
                  </a:lnTo>
                  <a:lnTo>
                    <a:pt x="102" y="4381"/>
                  </a:lnTo>
                  <a:lnTo>
                    <a:pt x="26" y="4902"/>
                  </a:lnTo>
                  <a:lnTo>
                    <a:pt x="0" y="5425"/>
                  </a:lnTo>
                  <a:lnTo>
                    <a:pt x="26" y="5947"/>
                  </a:lnTo>
                  <a:lnTo>
                    <a:pt x="100" y="6462"/>
                  </a:lnTo>
                  <a:lnTo>
                    <a:pt x="223" y="6968"/>
                  </a:lnTo>
                  <a:lnTo>
                    <a:pt x="395" y="7461"/>
                  </a:lnTo>
                  <a:lnTo>
                    <a:pt x="612" y="7938"/>
                  </a:lnTo>
                  <a:lnTo>
                    <a:pt x="878" y="8393"/>
                  </a:lnTo>
                  <a:lnTo>
                    <a:pt x="1190" y="8823"/>
                  </a:lnTo>
                  <a:lnTo>
                    <a:pt x="1546" y="9226"/>
                  </a:lnTo>
                  <a:lnTo>
                    <a:pt x="1947" y="9596"/>
                  </a:lnTo>
                  <a:lnTo>
                    <a:pt x="2391" y="9931"/>
                  </a:lnTo>
                  <a:close/>
                </a:path>
              </a:pathLst>
            </a:custGeom>
            <a:solidFill>
              <a:srgbClr val="243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01600" y="135360"/>
              <a:ext cx="828360" cy="819000"/>
            </a:xfrm>
            <a:custGeom>
              <a:avLst/>
              <a:gdLst/>
              <a:ahLst/>
              <a:rect l="l" t="t" r="r" b="b"/>
              <a:pathLst>
                <a:path w="10702" h="10702">
                  <a:moveTo>
                    <a:pt x="2355" y="9784"/>
                  </a:moveTo>
                  <a:lnTo>
                    <a:pt x="2823" y="10067"/>
                  </a:lnTo>
                  <a:lnTo>
                    <a:pt x="3309" y="10298"/>
                  </a:lnTo>
                  <a:lnTo>
                    <a:pt x="3807" y="10475"/>
                  </a:lnTo>
                  <a:lnTo>
                    <a:pt x="4316" y="10602"/>
                  </a:lnTo>
                  <a:lnTo>
                    <a:pt x="4829" y="10677"/>
                  </a:lnTo>
                  <a:lnTo>
                    <a:pt x="5345" y="10702"/>
                  </a:lnTo>
                  <a:lnTo>
                    <a:pt x="5859" y="10677"/>
                  </a:lnTo>
                  <a:lnTo>
                    <a:pt x="6367" y="10604"/>
                  </a:lnTo>
                  <a:lnTo>
                    <a:pt x="6866" y="10483"/>
                  </a:lnTo>
                  <a:lnTo>
                    <a:pt x="7352" y="10314"/>
                  </a:lnTo>
                  <a:lnTo>
                    <a:pt x="7821" y="10099"/>
                  </a:lnTo>
                  <a:lnTo>
                    <a:pt x="8269" y="9837"/>
                  </a:lnTo>
                  <a:lnTo>
                    <a:pt x="8694" y="9530"/>
                  </a:lnTo>
                  <a:lnTo>
                    <a:pt x="9091" y="9179"/>
                  </a:lnTo>
                  <a:lnTo>
                    <a:pt x="9456" y="8784"/>
                  </a:lnTo>
                  <a:lnTo>
                    <a:pt x="9785" y="8347"/>
                  </a:lnTo>
                  <a:lnTo>
                    <a:pt x="10068" y="7878"/>
                  </a:lnTo>
                  <a:lnTo>
                    <a:pt x="10299" y="7392"/>
                  </a:lnTo>
                  <a:lnTo>
                    <a:pt x="10476" y="6894"/>
                  </a:lnTo>
                  <a:lnTo>
                    <a:pt x="10602" y="6385"/>
                  </a:lnTo>
                  <a:lnTo>
                    <a:pt x="10677" y="5872"/>
                  </a:lnTo>
                  <a:lnTo>
                    <a:pt x="10702" y="5356"/>
                  </a:lnTo>
                  <a:lnTo>
                    <a:pt x="10677" y="4843"/>
                  </a:lnTo>
                  <a:lnTo>
                    <a:pt x="10604" y="4335"/>
                  </a:lnTo>
                  <a:lnTo>
                    <a:pt x="10483" y="3836"/>
                  </a:lnTo>
                  <a:lnTo>
                    <a:pt x="10314" y="3350"/>
                  </a:lnTo>
                  <a:lnTo>
                    <a:pt x="10099" y="2882"/>
                  </a:lnTo>
                  <a:lnTo>
                    <a:pt x="9837" y="2433"/>
                  </a:lnTo>
                  <a:lnTo>
                    <a:pt x="9530" y="2008"/>
                  </a:lnTo>
                  <a:lnTo>
                    <a:pt x="9179" y="1611"/>
                  </a:lnTo>
                  <a:lnTo>
                    <a:pt x="8785" y="1247"/>
                  </a:lnTo>
                  <a:lnTo>
                    <a:pt x="8348" y="918"/>
                  </a:lnTo>
                  <a:lnTo>
                    <a:pt x="7879" y="634"/>
                  </a:lnTo>
                  <a:lnTo>
                    <a:pt x="7393" y="404"/>
                  </a:lnTo>
                  <a:lnTo>
                    <a:pt x="6895" y="226"/>
                  </a:lnTo>
                  <a:lnTo>
                    <a:pt x="6386" y="100"/>
                  </a:lnTo>
                  <a:lnTo>
                    <a:pt x="5873" y="24"/>
                  </a:lnTo>
                  <a:lnTo>
                    <a:pt x="5357" y="0"/>
                  </a:lnTo>
                  <a:lnTo>
                    <a:pt x="4843" y="24"/>
                  </a:lnTo>
                  <a:lnTo>
                    <a:pt x="4335" y="97"/>
                  </a:lnTo>
                  <a:lnTo>
                    <a:pt x="3836" y="219"/>
                  </a:lnTo>
                  <a:lnTo>
                    <a:pt x="3350" y="388"/>
                  </a:lnTo>
                  <a:lnTo>
                    <a:pt x="2881" y="602"/>
                  </a:lnTo>
                  <a:lnTo>
                    <a:pt x="2433" y="864"/>
                  </a:lnTo>
                  <a:lnTo>
                    <a:pt x="2007" y="1171"/>
                  </a:lnTo>
                  <a:lnTo>
                    <a:pt x="1611" y="1522"/>
                  </a:lnTo>
                  <a:lnTo>
                    <a:pt x="1246" y="1917"/>
                  </a:lnTo>
                  <a:lnTo>
                    <a:pt x="918" y="2355"/>
                  </a:lnTo>
                  <a:lnTo>
                    <a:pt x="634" y="2823"/>
                  </a:lnTo>
                  <a:lnTo>
                    <a:pt x="404" y="3309"/>
                  </a:lnTo>
                  <a:lnTo>
                    <a:pt x="227" y="3808"/>
                  </a:lnTo>
                  <a:lnTo>
                    <a:pt x="100" y="4316"/>
                  </a:lnTo>
                  <a:lnTo>
                    <a:pt x="25" y="4829"/>
                  </a:lnTo>
                  <a:lnTo>
                    <a:pt x="0" y="5345"/>
                  </a:lnTo>
                  <a:lnTo>
                    <a:pt x="25" y="5858"/>
                  </a:lnTo>
                  <a:lnTo>
                    <a:pt x="98" y="6366"/>
                  </a:lnTo>
                  <a:lnTo>
                    <a:pt x="219" y="6865"/>
                  </a:lnTo>
                  <a:lnTo>
                    <a:pt x="388" y="7351"/>
                  </a:lnTo>
                  <a:lnTo>
                    <a:pt x="604" y="7820"/>
                  </a:lnTo>
                  <a:lnTo>
                    <a:pt x="865" y="8268"/>
                  </a:lnTo>
                  <a:lnTo>
                    <a:pt x="1172" y="8693"/>
                  </a:lnTo>
                  <a:lnTo>
                    <a:pt x="1523" y="9090"/>
                  </a:lnTo>
                  <a:lnTo>
                    <a:pt x="1917" y="9455"/>
                  </a:lnTo>
                  <a:lnTo>
                    <a:pt x="2355" y="9784"/>
                  </a:lnTo>
                  <a:close/>
                </a:path>
              </a:pathLst>
            </a:custGeom>
            <a:solidFill>
              <a:srgbClr val="263f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10960" y="137880"/>
              <a:ext cx="816480" cy="806400"/>
            </a:xfrm>
            <a:custGeom>
              <a:avLst/>
              <a:gdLst/>
              <a:ahLst/>
              <a:rect l="l" t="t" r="r" b="b"/>
              <a:pathLst>
                <a:path w="10540" h="10542">
                  <a:moveTo>
                    <a:pt x="2319" y="9638"/>
                  </a:moveTo>
                  <a:lnTo>
                    <a:pt x="2781" y="9917"/>
                  </a:lnTo>
                  <a:lnTo>
                    <a:pt x="3259" y="10143"/>
                  </a:lnTo>
                  <a:lnTo>
                    <a:pt x="3750" y="10319"/>
                  </a:lnTo>
                  <a:lnTo>
                    <a:pt x="4250" y="10443"/>
                  </a:lnTo>
                  <a:lnTo>
                    <a:pt x="4756" y="10517"/>
                  </a:lnTo>
                  <a:lnTo>
                    <a:pt x="5264" y="10542"/>
                  </a:lnTo>
                  <a:lnTo>
                    <a:pt x="5770" y="10517"/>
                  </a:lnTo>
                  <a:lnTo>
                    <a:pt x="6271" y="10445"/>
                  </a:lnTo>
                  <a:lnTo>
                    <a:pt x="6762" y="10326"/>
                  </a:lnTo>
                  <a:lnTo>
                    <a:pt x="7240" y="10160"/>
                  </a:lnTo>
                  <a:lnTo>
                    <a:pt x="7703" y="9948"/>
                  </a:lnTo>
                  <a:lnTo>
                    <a:pt x="8144" y="9690"/>
                  </a:lnTo>
                  <a:lnTo>
                    <a:pt x="8562" y="9389"/>
                  </a:lnTo>
                  <a:lnTo>
                    <a:pt x="8953" y="9043"/>
                  </a:lnTo>
                  <a:lnTo>
                    <a:pt x="9311" y="8654"/>
                  </a:lnTo>
                  <a:lnTo>
                    <a:pt x="9637" y="8223"/>
                  </a:lnTo>
                  <a:lnTo>
                    <a:pt x="9915" y="7761"/>
                  </a:lnTo>
                  <a:lnTo>
                    <a:pt x="10142" y="7283"/>
                  </a:lnTo>
                  <a:lnTo>
                    <a:pt x="10317" y="6791"/>
                  </a:lnTo>
                  <a:lnTo>
                    <a:pt x="10441" y="6292"/>
                  </a:lnTo>
                  <a:lnTo>
                    <a:pt x="10516" y="5786"/>
                  </a:lnTo>
                  <a:lnTo>
                    <a:pt x="10540" y="5278"/>
                  </a:lnTo>
                  <a:lnTo>
                    <a:pt x="10516" y="4772"/>
                  </a:lnTo>
                  <a:lnTo>
                    <a:pt x="10444" y="4271"/>
                  </a:lnTo>
                  <a:lnTo>
                    <a:pt x="10324" y="3780"/>
                  </a:lnTo>
                  <a:lnTo>
                    <a:pt x="10159" y="3300"/>
                  </a:lnTo>
                  <a:lnTo>
                    <a:pt x="9946" y="2839"/>
                  </a:lnTo>
                  <a:lnTo>
                    <a:pt x="9689" y="2397"/>
                  </a:lnTo>
                  <a:lnTo>
                    <a:pt x="9387" y="1979"/>
                  </a:lnTo>
                  <a:lnTo>
                    <a:pt x="9041" y="1588"/>
                  </a:lnTo>
                  <a:lnTo>
                    <a:pt x="8652" y="1229"/>
                  </a:lnTo>
                  <a:lnTo>
                    <a:pt x="8222" y="905"/>
                  </a:lnTo>
                  <a:lnTo>
                    <a:pt x="7759" y="626"/>
                  </a:lnTo>
                  <a:lnTo>
                    <a:pt x="7281" y="398"/>
                  </a:lnTo>
                  <a:lnTo>
                    <a:pt x="6790" y="224"/>
                  </a:lnTo>
                  <a:lnTo>
                    <a:pt x="6290" y="99"/>
                  </a:lnTo>
                  <a:lnTo>
                    <a:pt x="5784" y="25"/>
                  </a:lnTo>
                  <a:lnTo>
                    <a:pt x="5276" y="0"/>
                  </a:lnTo>
                  <a:lnTo>
                    <a:pt x="4770" y="24"/>
                  </a:lnTo>
                  <a:lnTo>
                    <a:pt x="4269" y="96"/>
                  </a:lnTo>
                  <a:lnTo>
                    <a:pt x="3778" y="216"/>
                  </a:lnTo>
                  <a:lnTo>
                    <a:pt x="3299" y="382"/>
                  </a:lnTo>
                  <a:lnTo>
                    <a:pt x="2837" y="595"/>
                  </a:lnTo>
                  <a:lnTo>
                    <a:pt x="2396" y="852"/>
                  </a:lnTo>
                  <a:lnTo>
                    <a:pt x="1978" y="1154"/>
                  </a:lnTo>
                  <a:lnTo>
                    <a:pt x="1587" y="1500"/>
                  </a:lnTo>
                  <a:lnTo>
                    <a:pt x="1228" y="1890"/>
                  </a:lnTo>
                  <a:lnTo>
                    <a:pt x="904" y="2321"/>
                  </a:lnTo>
                  <a:lnTo>
                    <a:pt x="625" y="2783"/>
                  </a:lnTo>
                  <a:lnTo>
                    <a:pt x="398" y="3261"/>
                  </a:lnTo>
                  <a:lnTo>
                    <a:pt x="223" y="3752"/>
                  </a:lnTo>
                  <a:lnTo>
                    <a:pt x="98" y="4252"/>
                  </a:lnTo>
                  <a:lnTo>
                    <a:pt x="24" y="4758"/>
                  </a:lnTo>
                  <a:lnTo>
                    <a:pt x="0" y="5266"/>
                  </a:lnTo>
                  <a:lnTo>
                    <a:pt x="24" y="5772"/>
                  </a:lnTo>
                  <a:lnTo>
                    <a:pt x="96" y="6273"/>
                  </a:lnTo>
                  <a:lnTo>
                    <a:pt x="215" y="6764"/>
                  </a:lnTo>
                  <a:lnTo>
                    <a:pt x="381" y="7242"/>
                  </a:lnTo>
                  <a:lnTo>
                    <a:pt x="594" y="7705"/>
                  </a:lnTo>
                  <a:lnTo>
                    <a:pt x="851" y="8146"/>
                  </a:lnTo>
                  <a:lnTo>
                    <a:pt x="1153" y="8564"/>
                  </a:lnTo>
                  <a:lnTo>
                    <a:pt x="1499" y="8955"/>
                  </a:lnTo>
                  <a:lnTo>
                    <a:pt x="1888" y="9313"/>
                  </a:lnTo>
                  <a:lnTo>
                    <a:pt x="2319" y="9638"/>
                  </a:lnTo>
                  <a:close/>
                </a:path>
              </a:pathLst>
            </a:custGeom>
            <a:solidFill>
              <a:srgbClr val="28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20320" y="140760"/>
              <a:ext cx="804240" cy="794520"/>
            </a:xfrm>
            <a:custGeom>
              <a:avLst/>
              <a:gdLst/>
              <a:ahLst/>
              <a:rect l="l" t="t" r="r" b="b"/>
              <a:pathLst>
                <a:path w="10380" h="10381">
                  <a:moveTo>
                    <a:pt x="2283" y="9490"/>
                  </a:moveTo>
                  <a:lnTo>
                    <a:pt x="2737" y="9765"/>
                  </a:lnTo>
                  <a:lnTo>
                    <a:pt x="3208" y="9988"/>
                  </a:lnTo>
                  <a:lnTo>
                    <a:pt x="3692" y="10161"/>
                  </a:lnTo>
                  <a:lnTo>
                    <a:pt x="4185" y="10284"/>
                  </a:lnTo>
                  <a:lnTo>
                    <a:pt x="4684" y="10357"/>
                  </a:lnTo>
                  <a:lnTo>
                    <a:pt x="5183" y="10381"/>
                  </a:lnTo>
                  <a:lnTo>
                    <a:pt x="5682" y="10357"/>
                  </a:lnTo>
                  <a:lnTo>
                    <a:pt x="6175" y="10287"/>
                  </a:lnTo>
                  <a:lnTo>
                    <a:pt x="6659" y="10169"/>
                  </a:lnTo>
                  <a:lnTo>
                    <a:pt x="7130" y="10005"/>
                  </a:lnTo>
                  <a:lnTo>
                    <a:pt x="7585" y="9796"/>
                  </a:lnTo>
                  <a:lnTo>
                    <a:pt x="8020" y="9543"/>
                  </a:lnTo>
                  <a:lnTo>
                    <a:pt x="8432" y="9245"/>
                  </a:lnTo>
                  <a:lnTo>
                    <a:pt x="8816" y="8905"/>
                  </a:lnTo>
                  <a:lnTo>
                    <a:pt x="9170" y="8522"/>
                  </a:lnTo>
                  <a:lnTo>
                    <a:pt x="9490" y="8098"/>
                  </a:lnTo>
                  <a:lnTo>
                    <a:pt x="9764" y="7643"/>
                  </a:lnTo>
                  <a:lnTo>
                    <a:pt x="9988" y="7172"/>
                  </a:lnTo>
                  <a:lnTo>
                    <a:pt x="10160" y="6688"/>
                  </a:lnTo>
                  <a:lnTo>
                    <a:pt x="10282" y="6195"/>
                  </a:lnTo>
                  <a:lnTo>
                    <a:pt x="10356" y="5696"/>
                  </a:lnTo>
                  <a:lnTo>
                    <a:pt x="10380" y="5197"/>
                  </a:lnTo>
                  <a:lnTo>
                    <a:pt x="10356" y="4698"/>
                  </a:lnTo>
                  <a:lnTo>
                    <a:pt x="10284" y="4206"/>
                  </a:lnTo>
                  <a:lnTo>
                    <a:pt x="10166" y="3721"/>
                  </a:lnTo>
                  <a:lnTo>
                    <a:pt x="10003" y="3250"/>
                  </a:lnTo>
                  <a:lnTo>
                    <a:pt x="9794" y="2795"/>
                  </a:lnTo>
                  <a:lnTo>
                    <a:pt x="9541" y="2360"/>
                  </a:lnTo>
                  <a:lnTo>
                    <a:pt x="9244" y="1948"/>
                  </a:lnTo>
                  <a:lnTo>
                    <a:pt x="8903" y="1564"/>
                  </a:lnTo>
                  <a:lnTo>
                    <a:pt x="8521" y="1210"/>
                  </a:lnTo>
                  <a:lnTo>
                    <a:pt x="8096" y="891"/>
                  </a:lnTo>
                  <a:lnTo>
                    <a:pt x="7641" y="616"/>
                  </a:lnTo>
                  <a:lnTo>
                    <a:pt x="7170" y="393"/>
                  </a:lnTo>
                  <a:lnTo>
                    <a:pt x="6687" y="219"/>
                  </a:lnTo>
                  <a:lnTo>
                    <a:pt x="6193" y="97"/>
                  </a:lnTo>
                  <a:lnTo>
                    <a:pt x="5696" y="24"/>
                  </a:lnTo>
                  <a:lnTo>
                    <a:pt x="5195" y="0"/>
                  </a:lnTo>
                  <a:lnTo>
                    <a:pt x="4698" y="24"/>
                  </a:lnTo>
                  <a:lnTo>
                    <a:pt x="4204" y="95"/>
                  </a:lnTo>
                  <a:lnTo>
                    <a:pt x="3721" y="213"/>
                  </a:lnTo>
                  <a:lnTo>
                    <a:pt x="3250" y="377"/>
                  </a:lnTo>
                  <a:lnTo>
                    <a:pt x="2795" y="585"/>
                  </a:lnTo>
                  <a:lnTo>
                    <a:pt x="2359" y="839"/>
                  </a:lnTo>
                  <a:lnTo>
                    <a:pt x="1947" y="1137"/>
                  </a:lnTo>
                  <a:lnTo>
                    <a:pt x="1564" y="1477"/>
                  </a:lnTo>
                  <a:lnTo>
                    <a:pt x="1210" y="1860"/>
                  </a:lnTo>
                  <a:lnTo>
                    <a:pt x="891" y="2285"/>
                  </a:lnTo>
                  <a:lnTo>
                    <a:pt x="615" y="2739"/>
                  </a:lnTo>
                  <a:lnTo>
                    <a:pt x="392" y="3210"/>
                  </a:lnTo>
                  <a:lnTo>
                    <a:pt x="219" y="3693"/>
                  </a:lnTo>
                  <a:lnTo>
                    <a:pt x="96" y="4187"/>
                  </a:lnTo>
                  <a:lnTo>
                    <a:pt x="23" y="4684"/>
                  </a:lnTo>
                  <a:lnTo>
                    <a:pt x="0" y="5185"/>
                  </a:lnTo>
                  <a:lnTo>
                    <a:pt x="23" y="5683"/>
                  </a:lnTo>
                  <a:lnTo>
                    <a:pt x="94" y="6176"/>
                  </a:lnTo>
                  <a:lnTo>
                    <a:pt x="212" y="6659"/>
                  </a:lnTo>
                  <a:lnTo>
                    <a:pt x="376" y="7130"/>
                  </a:lnTo>
                  <a:lnTo>
                    <a:pt x="584" y="7585"/>
                  </a:lnTo>
                  <a:lnTo>
                    <a:pt x="837" y="8021"/>
                  </a:lnTo>
                  <a:lnTo>
                    <a:pt x="1135" y="8433"/>
                  </a:lnTo>
                  <a:lnTo>
                    <a:pt x="1475" y="8816"/>
                  </a:lnTo>
                  <a:lnTo>
                    <a:pt x="1858" y="9170"/>
                  </a:lnTo>
                  <a:lnTo>
                    <a:pt x="2283" y="9490"/>
                  </a:lnTo>
                  <a:close/>
                </a:path>
              </a:pathLst>
            </a:custGeom>
            <a:solidFill>
              <a:srgbClr val="2a4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29680" y="142560"/>
              <a:ext cx="791280" cy="782280"/>
            </a:xfrm>
            <a:custGeom>
              <a:avLst/>
              <a:gdLst/>
              <a:ahLst/>
              <a:rect l="l" t="t" r="r" b="b"/>
              <a:pathLst>
                <a:path w="10220" h="10221">
                  <a:moveTo>
                    <a:pt x="2249" y="9344"/>
                  </a:moveTo>
                  <a:lnTo>
                    <a:pt x="2696" y="9614"/>
                  </a:lnTo>
                  <a:lnTo>
                    <a:pt x="3160" y="9834"/>
                  </a:lnTo>
                  <a:lnTo>
                    <a:pt x="3637" y="10004"/>
                  </a:lnTo>
                  <a:lnTo>
                    <a:pt x="4122" y="10125"/>
                  </a:lnTo>
                  <a:lnTo>
                    <a:pt x="4612" y="10196"/>
                  </a:lnTo>
                  <a:lnTo>
                    <a:pt x="5104" y="10221"/>
                  </a:lnTo>
                  <a:lnTo>
                    <a:pt x="5595" y="10197"/>
                  </a:lnTo>
                  <a:lnTo>
                    <a:pt x="6081" y="10127"/>
                  </a:lnTo>
                  <a:lnTo>
                    <a:pt x="6557" y="10011"/>
                  </a:lnTo>
                  <a:lnTo>
                    <a:pt x="7021" y="9850"/>
                  </a:lnTo>
                  <a:lnTo>
                    <a:pt x="7469" y="9644"/>
                  </a:lnTo>
                  <a:lnTo>
                    <a:pt x="7898" y="9395"/>
                  </a:lnTo>
                  <a:lnTo>
                    <a:pt x="8303" y="9102"/>
                  </a:lnTo>
                  <a:lnTo>
                    <a:pt x="8681" y="8766"/>
                  </a:lnTo>
                  <a:lnTo>
                    <a:pt x="9030" y="8390"/>
                  </a:lnTo>
                  <a:lnTo>
                    <a:pt x="9345" y="7972"/>
                  </a:lnTo>
                  <a:lnTo>
                    <a:pt x="9615" y="7525"/>
                  </a:lnTo>
                  <a:lnTo>
                    <a:pt x="9835" y="7060"/>
                  </a:lnTo>
                  <a:lnTo>
                    <a:pt x="10004" y="6584"/>
                  </a:lnTo>
                  <a:lnTo>
                    <a:pt x="10125" y="6099"/>
                  </a:lnTo>
                  <a:lnTo>
                    <a:pt x="10196" y="5609"/>
                  </a:lnTo>
                  <a:lnTo>
                    <a:pt x="10220" y="5117"/>
                  </a:lnTo>
                  <a:lnTo>
                    <a:pt x="10196" y="4626"/>
                  </a:lnTo>
                  <a:lnTo>
                    <a:pt x="10127" y="4141"/>
                  </a:lnTo>
                  <a:lnTo>
                    <a:pt x="10010" y="3664"/>
                  </a:lnTo>
                  <a:lnTo>
                    <a:pt x="9850" y="3200"/>
                  </a:lnTo>
                  <a:lnTo>
                    <a:pt x="9643" y="2752"/>
                  </a:lnTo>
                  <a:lnTo>
                    <a:pt x="9395" y="2323"/>
                  </a:lnTo>
                  <a:lnTo>
                    <a:pt x="9101" y="1918"/>
                  </a:lnTo>
                  <a:lnTo>
                    <a:pt x="8766" y="1540"/>
                  </a:lnTo>
                  <a:lnTo>
                    <a:pt x="8390" y="1191"/>
                  </a:lnTo>
                  <a:lnTo>
                    <a:pt x="7972" y="877"/>
                  </a:lnTo>
                  <a:lnTo>
                    <a:pt x="7525" y="606"/>
                  </a:lnTo>
                  <a:lnTo>
                    <a:pt x="7060" y="386"/>
                  </a:lnTo>
                  <a:lnTo>
                    <a:pt x="6584" y="216"/>
                  </a:lnTo>
                  <a:lnTo>
                    <a:pt x="6099" y="96"/>
                  </a:lnTo>
                  <a:lnTo>
                    <a:pt x="5609" y="24"/>
                  </a:lnTo>
                  <a:lnTo>
                    <a:pt x="5117" y="0"/>
                  </a:lnTo>
                  <a:lnTo>
                    <a:pt x="4625" y="24"/>
                  </a:lnTo>
                  <a:lnTo>
                    <a:pt x="4141" y="94"/>
                  </a:lnTo>
                  <a:lnTo>
                    <a:pt x="3664" y="210"/>
                  </a:lnTo>
                  <a:lnTo>
                    <a:pt x="3200" y="370"/>
                  </a:lnTo>
                  <a:lnTo>
                    <a:pt x="2752" y="576"/>
                  </a:lnTo>
                  <a:lnTo>
                    <a:pt x="2324" y="826"/>
                  </a:lnTo>
                  <a:lnTo>
                    <a:pt x="1919" y="1119"/>
                  </a:lnTo>
                  <a:lnTo>
                    <a:pt x="1540" y="1453"/>
                  </a:lnTo>
                  <a:lnTo>
                    <a:pt x="1192" y="1831"/>
                  </a:lnTo>
                  <a:lnTo>
                    <a:pt x="878" y="2250"/>
                  </a:lnTo>
                  <a:lnTo>
                    <a:pt x="607" y="2696"/>
                  </a:lnTo>
                  <a:lnTo>
                    <a:pt x="387" y="3161"/>
                  </a:lnTo>
                  <a:lnTo>
                    <a:pt x="217" y="3637"/>
                  </a:lnTo>
                  <a:lnTo>
                    <a:pt x="97" y="4122"/>
                  </a:lnTo>
                  <a:lnTo>
                    <a:pt x="24" y="4612"/>
                  </a:lnTo>
                  <a:lnTo>
                    <a:pt x="0" y="5104"/>
                  </a:lnTo>
                  <a:lnTo>
                    <a:pt x="23" y="5595"/>
                  </a:lnTo>
                  <a:lnTo>
                    <a:pt x="93" y="6080"/>
                  </a:lnTo>
                  <a:lnTo>
                    <a:pt x="209" y="6556"/>
                  </a:lnTo>
                  <a:lnTo>
                    <a:pt x="371" y="7021"/>
                  </a:lnTo>
                  <a:lnTo>
                    <a:pt x="576" y="7468"/>
                  </a:lnTo>
                  <a:lnTo>
                    <a:pt x="826" y="7897"/>
                  </a:lnTo>
                  <a:lnTo>
                    <a:pt x="1118" y="8302"/>
                  </a:lnTo>
                  <a:lnTo>
                    <a:pt x="1454" y="8680"/>
                  </a:lnTo>
                  <a:lnTo>
                    <a:pt x="1831" y="9029"/>
                  </a:lnTo>
                  <a:lnTo>
                    <a:pt x="2249" y="9344"/>
                  </a:lnTo>
                  <a:close/>
                </a:path>
              </a:pathLst>
            </a:custGeom>
            <a:solidFill>
              <a:srgbClr val="2c46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38680" y="145440"/>
              <a:ext cx="779400" cy="769320"/>
            </a:xfrm>
            <a:custGeom>
              <a:avLst/>
              <a:gdLst/>
              <a:ahLst/>
              <a:rect l="l" t="t" r="r" b="b"/>
              <a:pathLst>
                <a:path w="10059" h="10060">
                  <a:moveTo>
                    <a:pt x="2215" y="9198"/>
                  </a:moveTo>
                  <a:lnTo>
                    <a:pt x="2655" y="9464"/>
                  </a:lnTo>
                  <a:lnTo>
                    <a:pt x="3111" y="9681"/>
                  </a:lnTo>
                  <a:lnTo>
                    <a:pt x="3580" y="9847"/>
                  </a:lnTo>
                  <a:lnTo>
                    <a:pt x="4057" y="9966"/>
                  </a:lnTo>
                  <a:lnTo>
                    <a:pt x="4540" y="10037"/>
                  </a:lnTo>
                  <a:lnTo>
                    <a:pt x="5024" y="10060"/>
                  </a:lnTo>
                  <a:lnTo>
                    <a:pt x="5507" y="10037"/>
                  </a:lnTo>
                  <a:lnTo>
                    <a:pt x="5984" y="9969"/>
                  </a:lnTo>
                  <a:lnTo>
                    <a:pt x="6453" y="9854"/>
                  </a:lnTo>
                  <a:lnTo>
                    <a:pt x="6910" y="9695"/>
                  </a:lnTo>
                  <a:lnTo>
                    <a:pt x="7351" y="9493"/>
                  </a:lnTo>
                  <a:lnTo>
                    <a:pt x="7772" y="9248"/>
                  </a:lnTo>
                  <a:lnTo>
                    <a:pt x="8172" y="8960"/>
                  </a:lnTo>
                  <a:lnTo>
                    <a:pt x="8544" y="8629"/>
                  </a:lnTo>
                  <a:lnTo>
                    <a:pt x="8887" y="8258"/>
                  </a:lnTo>
                  <a:lnTo>
                    <a:pt x="9197" y="7848"/>
                  </a:lnTo>
                  <a:lnTo>
                    <a:pt x="9463" y="7407"/>
                  </a:lnTo>
                  <a:lnTo>
                    <a:pt x="9680" y="6949"/>
                  </a:lnTo>
                  <a:lnTo>
                    <a:pt x="9847" y="6481"/>
                  </a:lnTo>
                  <a:lnTo>
                    <a:pt x="9966" y="6003"/>
                  </a:lnTo>
                  <a:lnTo>
                    <a:pt x="10036" y="5521"/>
                  </a:lnTo>
                  <a:lnTo>
                    <a:pt x="10059" y="5036"/>
                  </a:lnTo>
                  <a:lnTo>
                    <a:pt x="10036" y="4553"/>
                  </a:lnTo>
                  <a:lnTo>
                    <a:pt x="9968" y="4075"/>
                  </a:lnTo>
                  <a:lnTo>
                    <a:pt x="9853" y="3606"/>
                  </a:lnTo>
                  <a:lnTo>
                    <a:pt x="9695" y="3150"/>
                  </a:lnTo>
                  <a:lnTo>
                    <a:pt x="9493" y="2709"/>
                  </a:lnTo>
                  <a:lnTo>
                    <a:pt x="9247" y="2287"/>
                  </a:lnTo>
                  <a:lnTo>
                    <a:pt x="8959" y="1888"/>
                  </a:lnTo>
                  <a:lnTo>
                    <a:pt x="8628" y="1515"/>
                  </a:lnTo>
                  <a:lnTo>
                    <a:pt x="8257" y="1173"/>
                  </a:lnTo>
                  <a:lnTo>
                    <a:pt x="7847" y="863"/>
                  </a:lnTo>
                  <a:lnTo>
                    <a:pt x="7406" y="597"/>
                  </a:lnTo>
                  <a:lnTo>
                    <a:pt x="6950" y="380"/>
                  </a:lnTo>
                  <a:lnTo>
                    <a:pt x="6481" y="213"/>
                  </a:lnTo>
                  <a:lnTo>
                    <a:pt x="6003" y="94"/>
                  </a:lnTo>
                  <a:lnTo>
                    <a:pt x="5520" y="24"/>
                  </a:lnTo>
                  <a:lnTo>
                    <a:pt x="5036" y="0"/>
                  </a:lnTo>
                  <a:lnTo>
                    <a:pt x="4552" y="24"/>
                  </a:lnTo>
                  <a:lnTo>
                    <a:pt x="4075" y="92"/>
                  </a:lnTo>
                  <a:lnTo>
                    <a:pt x="3606" y="206"/>
                  </a:lnTo>
                  <a:lnTo>
                    <a:pt x="3149" y="365"/>
                  </a:lnTo>
                  <a:lnTo>
                    <a:pt x="2709" y="567"/>
                  </a:lnTo>
                  <a:lnTo>
                    <a:pt x="2287" y="812"/>
                  </a:lnTo>
                  <a:lnTo>
                    <a:pt x="1888" y="1100"/>
                  </a:lnTo>
                  <a:lnTo>
                    <a:pt x="1515" y="1431"/>
                  </a:lnTo>
                  <a:lnTo>
                    <a:pt x="1173" y="1802"/>
                  </a:lnTo>
                  <a:lnTo>
                    <a:pt x="863" y="2213"/>
                  </a:lnTo>
                  <a:lnTo>
                    <a:pt x="596" y="2654"/>
                  </a:lnTo>
                  <a:lnTo>
                    <a:pt x="381" y="3111"/>
                  </a:lnTo>
                  <a:lnTo>
                    <a:pt x="213" y="3580"/>
                  </a:lnTo>
                  <a:lnTo>
                    <a:pt x="95" y="4057"/>
                  </a:lnTo>
                  <a:lnTo>
                    <a:pt x="23" y="4539"/>
                  </a:lnTo>
                  <a:lnTo>
                    <a:pt x="0" y="5024"/>
                  </a:lnTo>
                  <a:lnTo>
                    <a:pt x="23" y="5507"/>
                  </a:lnTo>
                  <a:lnTo>
                    <a:pt x="93" y="5985"/>
                  </a:lnTo>
                  <a:lnTo>
                    <a:pt x="206" y="6454"/>
                  </a:lnTo>
                  <a:lnTo>
                    <a:pt x="365" y="6910"/>
                  </a:lnTo>
                  <a:lnTo>
                    <a:pt x="568" y="7351"/>
                  </a:lnTo>
                  <a:lnTo>
                    <a:pt x="813" y="7773"/>
                  </a:lnTo>
                  <a:lnTo>
                    <a:pt x="1101" y="8172"/>
                  </a:lnTo>
                  <a:lnTo>
                    <a:pt x="1431" y="8545"/>
                  </a:lnTo>
                  <a:lnTo>
                    <a:pt x="1802" y="8887"/>
                  </a:lnTo>
                  <a:lnTo>
                    <a:pt x="2215" y="9198"/>
                  </a:lnTo>
                  <a:close/>
                </a:path>
              </a:pathLst>
            </a:custGeom>
            <a:solidFill>
              <a:srgbClr val="2f4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8040" y="147960"/>
              <a:ext cx="767160" cy="757440"/>
            </a:xfrm>
            <a:custGeom>
              <a:avLst/>
              <a:gdLst/>
              <a:ahLst/>
              <a:rect l="l" t="t" r="r" b="b"/>
              <a:pathLst>
                <a:path w="9899" h="9899">
                  <a:moveTo>
                    <a:pt x="2179" y="9051"/>
                  </a:moveTo>
                  <a:lnTo>
                    <a:pt x="2611" y="9313"/>
                  </a:lnTo>
                  <a:lnTo>
                    <a:pt x="3061" y="9525"/>
                  </a:lnTo>
                  <a:lnTo>
                    <a:pt x="3522" y="9690"/>
                  </a:lnTo>
                  <a:lnTo>
                    <a:pt x="3992" y="9807"/>
                  </a:lnTo>
                  <a:lnTo>
                    <a:pt x="4467" y="9876"/>
                  </a:lnTo>
                  <a:lnTo>
                    <a:pt x="4944" y="9899"/>
                  </a:lnTo>
                  <a:lnTo>
                    <a:pt x="5419" y="9876"/>
                  </a:lnTo>
                  <a:lnTo>
                    <a:pt x="5889" y="9808"/>
                  </a:lnTo>
                  <a:lnTo>
                    <a:pt x="6350" y="9696"/>
                  </a:lnTo>
                  <a:lnTo>
                    <a:pt x="6800" y="9540"/>
                  </a:lnTo>
                  <a:lnTo>
                    <a:pt x="7234" y="9340"/>
                  </a:lnTo>
                  <a:lnTo>
                    <a:pt x="7649" y="9099"/>
                  </a:lnTo>
                  <a:lnTo>
                    <a:pt x="8042" y="8815"/>
                  </a:lnTo>
                  <a:lnTo>
                    <a:pt x="8408" y="8491"/>
                  </a:lnTo>
                  <a:lnTo>
                    <a:pt x="8745" y="8125"/>
                  </a:lnTo>
                  <a:lnTo>
                    <a:pt x="9051" y="7721"/>
                  </a:lnTo>
                  <a:lnTo>
                    <a:pt x="9312" y="7287"/>
                  </a:lnTo>
                  <a:lnTo>
                    <a:pt x="9525" y="6838"/>
                  </a:lnTo>
                  <a:lnTo>
                    <a:pt x="9689" y="6377"/>
                  </a:lnTo>
                  <a:lnTo>
                    <a:pt x="9806" y="5908"/>
                  </a:lnTo>
                  <a:lnTo>
                    <a:pt x="9876" y="5432"/>
                  </a:lnTo>
                  <a:lnTo>
                    <a:pt x="9899" y="4955"/>
                  </a:lnTo>
                  <a:lnTo>
                    <a:pt x="9877" y="4480"/>
                  </a:lnTo>
                  <a:lnTo>
                    <a:pt x="9809" y="4010"/>
                  </a:lnTo>
                  <a:lnTo>
                    <a:pt x="9696" y="3549"/>
                  </a:lnTo>
                  <a:lnTo>
                    <a:pt x="9540" y="3100"/>
                  </a:lnTo>
                  <a:lnTo>
                    <a:pt x="9341" y="2666"/>
                  </a:lnTo>
                  <a:lnTo>
                    <a:pt x="9099" y="2251"/>
                  </a:lnTo>
                  <a:lnTo>
                    <a:pt x="8816" y="1858"/>
                  </a:lnTo>
                  <a:lnTo>
                    <a:pt x="8491" y="1492"/>
                  </a:lnTo>
                  <a:lnTo>
                    <a:pt x="8126" y="1155"/>
                  </a:lnTo>
                  <a:lnTo>
                    <a:pt x="7722" y="851"/>
                  </a:lnTo>
                  <a:lnTo>
                    <a:pt x="7288" y="588"/>
                  </a:lnTo>
                  <a:lnTo>
                    <a:pt x="6838" y="374"/>
                  </a:lnTo>
                  <a:lnTo>
                    <a:pt x="6377" y="211"/>
                  </a:lnTo>
                  <a:lnTo>
                    <a:pt x="5907" y="94"/>
                  </a:lnTo>
                  <a:lnTo>
                    <a:pt x="5432" y="23"/>
                  </a:lnTo>
                  <a:lnTo>
                    <a:pt x="4954" y="0"/>
                  </a:lnTo>
                  <a:lnTo>
                    <a:pt x="4479" y="23"/>
                  </a:lnTo>
                  <a:lnTo>
                    <a:pt x="4009" y="90"/>
                  </a:lnTo>
                  <a:lnTo>
                    <a:pt x="3548" y="203"/>
                  </a:lnTo>
                  <a:lnTo>
                    <a:pt x="3099" y="359"/>
                  </a:lnTo>
                  <a:lnTo>
                    <a:pt x="2665" y="558"/>
                  </a:lnTo>
                  <a:lnTo>
                    <a:pt x="2250" y="799"/>
                  </a:lnTo>
                  <a:lnTo>
                    <a:pt x="1858" y="1083"/>
                  </a:lnTo>
                  <a:lnTo>
                    <a:pt x="1491" y="1408"/>
                  </a:lnTo>
                  <a:lnTo>
                    <a:pt x="1154" y="1773"/>
                  </a:lnTo>
                  <a:lnTo>
                    <a:pt x="850" y="2178"/>
                  </a:lnTo>
                  <a:lnTo>
                    <a:pt x="587" y="2611"/>
                  </a:lnTo>
                  <a:lnTo>
                    <a:pt x="374" y="3061"/>
                  </a:lnTo>
                  <a:lnTo>
                    <a:pt x="210" y="3522"/>
                  </a:lnTo>
                  <a:lnTo>
                    <a:pt x="93" y="3992"/>
                  </a:lnTo>
                  <a:lnTo>
                    <a:pt x="24" y="4467"/>
                  </a:lnTo>
                  <a:lnTo>
                    <a:pt x="0" y="4944"/>
                  </a:lnTo>
                  <a:lnTo>
                    <a:pt x="23" y="5420"/>
                  </a:lnTo>
                  <a:lnTo>
                    <a:pt x="91" y="5889"/>
                  </a:lnTo>
                  <a:lnTo>
                    <a:pt x="203" y="6351"/>
                  </a:lnTo>
                  <a:lnTo>
                    <a:pt x="360" y="6801"/>
                  </a:lnTo>
                  <a:lnTo>
                    <a:pt x="558" y="7234"/>
                  </a:lnTo>
                  <a:lnTo>
                    <a:pt x="800" y="7650"/>
                  </a:lnTo>
                  <a:lnTo>
                    <a:pt x="1084" y="8042"/>
                  </a:lnTo>
                  <a:lnTo>
                    <a:pt x="1408" y="8409"/>
                  </a:lnTo>
                  <a:lnTo>
                    <a:pt x="1774" y="8746"/>
                  </a:lnTo>
                  <a:lnTo>
                    <a:pt x="2179" y="9051"/>
                  </a:lnTo>
                  <a:close/>
                </a:path>
              </a:pathLst>
            </a:custGeom>
            <a:solidFill>
              <a:srgbClr val="314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57400" y="150120"/>
              <a:ext cx="754920" cy="745560"/>
            </a:xfrm>
            <a:custGeom>
              <a:avLst/>
              <a:gdLst/>
              <a:ahLst/>
              <a:rect l="l" t="t" r="r" b="b"/>
              <a:pathLst>
                <a:path w="9739" h="9738">
                  <a:moveTo>
                    <a:pt x="2144" y="8903"/>
                  </a:moveTo>
                  <a:lnTo>
                    <a:pt x="2570" y="9161"/>
                  </a:lnTo>
                  <a:lnTo>
                    <a:pt x="3011" y="9370"/>
                  </a:lnTo>
                  <a:lnTo>
                    <a:pt x="3465" y="9532"/>
                  </a:lnTo>
                  <a:lnTo>
                    <a:pt x="3928" y="9646"/>
                  </a:lnTo>
                  <a:lnTo>
                    <a:pt x="4394" y="9715"/>
                  </a:lnTo>
                  <a:lnTo>
                    <a:pt x="4864" y="9738"/>
                  </a:lnTo>
                  <a:lnTo>
                    <a:pt x="5331" y="9715"/>
                  </a:lnTo>
                  <a:lnTo>
                    <a:pt x="5793" y="9648"/>
                  </a:lnTo>
                  <a:lnTo>
                    <a:pt x="6247" y="9538"/>
                  </a:lnTo>
                  <a:lnTo>
                    <a:pt x="6690" y="9385"/>
                  </a:lnTo>
                  <a:lnTo>
                    <a:pt x="7116" y="9188"/>
                  </a:lnTo>
                  <a:lnTo>
                    <a:pt x="7524" y="8951"/>
                  </a:lnTo>
                  <a:lnTo>
                    <a:pt x="7910" y="8672"/>
                  </a:lnTo>
                  <a:lnTo>
                    <a:pt x="8271" y="8353"/>
                  </a:lnTo>
                  <a:lnTo>
                    <a:pt x="8603" y="7993"/>
                  </a:lnTo>
                  <a:lnTo>
                    <a:pt x="8903" y="7596"/>
                  </a:lnTo>
                  <a:lnTo>
                    <a:pt x="9160" y="7168"/>
                  </a:lnTo>
                  <a:lnTo>
                    <a:pt x="9370" y="6727"/>
                  </a:lnTo>
                  <a:lnTo>
                    <a:pt x="9532" y="6273"/>
                  </a:lnTo>
                  <a:lnTo>
                    <a:pt x="9647" y="5811"/>
                  </a:lnTo>
                  <a:lnTo>
                    <a:pt x="9715" y="5343"/>
                  </a:lnTo>
                  <a:lnTo>
                    <a:pt x="9739" y="4874"/>
                  </a:lnTo>
                  <a:lnTo>
                    <a:pt x="9716" y="4406"/>
                  </a:lnTo>
                  <a:lnTo>
                    <a:pt x="9649" y="3944"/>
                  </a:lnTo>
                  <a:lnTo>
                    <a:pt x="9539" y="3490"/>
                  </a:lnTo>
                  <a:lnTo>
                    <a:pt x="9385" y="3048"/>
                  </a:lnTo>
                  <a:lnTo>
                    <a:pt x="9189" y="2622"/>
                  </a:lnTo>
                  <a:lnTo>
                    <a:pt x="8951" y="2213"/>
                  </a:lnTo>
                  <a:lnTo>
                    <a:pt x="8672" y="1827"/>
                  </a:lnTo>
                  <a:lnTo>
                    <a:pt x="8352" y="1466"/>
                  </a:lnTo>
                  <a:lnTo>
                    <a:pt x="7993" y="1134"/>
                  </a:lnTo>
                  <a:lnTo>
                    <a:pt x="7595" y="836"/>
                  </a:lnTo>
                  <a:lnTo>
                    <a:pt x="7168" y="577"/>
                  </a:lnTo>
                  <a:lnTo>
                    <a:pt x="6727" y="368"/>
                  </a:lnTo>
                  <a:lnTo>
                    <a:pt x="6273" y="205"/>
                  </a:lnTo>
                  <a:lnTo>
                    <a:pt x="5810" y="90"/>
                  </a:lnTo>
                  <a:lnTo>
                    <a:pt x="5344" y="22"/>
                  </a:lnTo>
                  <a:lnTo>
                    <a:pt x="4875" y="0"/>
                  </a:lnTo>
                  <a:lnTo>
                    <a:pt x="4407" y="22"/>
                  </a:lnTo>
                  <a:lnTo>
                    <a:pt x="3945" y="88"/>
                  </a:lnTo>
                  <a:lnTo>
                    <a:pt x="3491" y="199"/>
                  </a:lnTo>
                  <a:lnTo>
                    <a:pt x="3048" y="353"/>
                  </a:lnTo>
                  <a:lnTo>
                    <a:pt x="2622" y="549"/>
                  </a:lnTo>
                  <a:lnTo>
                    <a:pt x="2214" y="787"/>
                  </a:lnTo>
                  <a:lnTo>
                    <a:pt x="1828" y="1065"/>
                  </a:lnTo>
                  <a:lnTo>
                    <a:pt x="1468" y="1384"/>
                  </a:lnTo>
                  <a:lnTo>
                    <a:pt x="1136" y="1743"/>
                  </a:lnTo>
                  <a:lnTo>
                    <a:pt x="837" y="2142"/>
                  </a:lnTo>
                  <a:lnTo>
                    <a:pt x="579" y="2568"/>
                  </a:lnTo>
                  <a:lnTo>
                    <a:pt x="369" y="3010"/>
                  </a:lnTo>
                  <a:lnTo>
                    <a:pt x="207" y="3464"/>
                  </a:lnTo>
                  <a:lnTo>
                    <a:pt x="92" y="3926"/>
                  </a:lnTo>
                  <a:lnTo>
                    <a:pt x="23" y="4394"/>
                  </a:lnTo>
                  <a:lnTo>
                    <a:pt x="0" y="4863"/>
                  </a:lnTo>
                  <a:lnTo>
                    <a:pt x="23" y="5330"/>
                  </a:lnTo>
                  <a:lnTo>
                    <a:pt x="90" y="5793"/>
                  </a:lnTo>
                  <a:lnTo>
                    <a:pt x="199" y="6247"/>
                  </a:lnTo>
                  <a:lnTo>
                    <a:pt x="353" y="6689"/>
                  </a:lnTo>
                  <a:lnTo>
                    <a:pt x="549" y="7116"/>
                  </a:lnTo>
                  <a:lnTo>
                    <a:pt x="787" y="7524"/>
                  </a:lnTo>
                  <a:lnTo>
                    <a:pt x="1066" y="7910"/>
                  </a:lnTo>
                  <a:lnTo>
                    <a:pt x="1386" y="8271"/>
                  </a:lnTo>
                  <a:lnTo>
                    <a:pt x="1745" y="8603"/>
                  </a:lnTo>
                  <a:lnTo>
                    <a:pt x="2144" y="8903"/>
                  </a:lnTo>
                  <a:close/>
                </a:path>
              </a:pathLst>
            </a:custGeom>
            <a:solidFill>
              <a:srgbClr val="334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66760" y="152640"/>
              <a:ext cx="741960" cy="732600"/>
            </a:xfrm>
            <a:custGeom>
              <a:avLst/>
              <a:gdLst/>
              <a:ahLst/>
              <a:rect l="l" t="t" r="r" b="b"/>
              <a:pathLst>
                <a:path w="9577" h="9577">
                  <a:moveTo>
                    <a:pt x="2108" y="8755"/>
                  </a:moveTo>
                  <a:lnTo>
                    <a:pt x="2527" y="9008"/>
                  </a:lnTo>
                  <a:lnTo>
                    <a:pt x="2961" y="9215"/>
                  </a:lnTo>
                  <a:lnTo>
                    <a:pt x="3408" y="9374"/>
                  </a:lnTo>
                  <a:lnTo>
                    <a:pt x="3862" y="9488"/>
                  </a:lnTo>
                  <a:lnTo>
                    <a:pt x="4322" y="9555"/>
                  </a:lnTo>
                  <a:lnTo>
                    <a:pt x="4784" y="9577"/>
                  </a:lnTo>
                  <a:lnTo>
                    <a:pt x="5243" y="9555"/>
                  </a:lnTo>
                  <a:lnTo>
                    <a:pt x="5698" y="9490"/>
                  </a:lnTo>
                  <a:lnTo>
                    <a:pt x="6144" y="9380"/>
                  </a:lnTo>
                  <a:lnTo>
                    <a:pt x="6579" y="9230"/>
                  </a:lnTo>
                  <a:lnTo>
                    <a:pt x="6999" y="9037"/>
                  </a:lnTo>
                  <a:lnTo>
                    <a:pt x="7400" y="8803"/>
                  </a:lnTo>
                  <a:lnTo>
                    <a:pt x="7779" y="8529"/>
                  </a:lnTo>
                  <a:lnTo>
                    <a:pt x="8135" y="8214"/>
                  </a:lnTo>
                  <a:lnTo>
                    <a:pt x="8461" y="7861"/>
                  </a:lnTo>
                  <a:lnTo>
                    <a:pt x="8755" y="7470"/>
                  </a:lnTo>
                  <a:lnTo>
                    <a:pt x="9008" y="7050"/>
                  </a:lnTo>
                  <a:lnTo>
                    <a:pt x="9215" y="6615"/>
                  </a:lnTo>
                  <a:lnTo>
                    <a:pt x="9374" y="6169"/>
                  </a:lnTo>
                  <a:lnTo>
                    <a:pt x="9488" y="5715"/>
                  </a:lnTo>
                  <a:lnTo>
                    <a:pt x="9555" y="5255"/>
                  </a:lnTo>
                  <a:lnTo>
                    <a:pt x="9577" y="4793"/>
                  </a:lnTo>
                  <a:lnTo>
                    <a:pt x="9555" y="4334"/>
                  </a:lnTo>
                  <a:lnTo>
                    <a:pt x="9490" y="3879"/>
                  </a:lnTo>
                  <a:lnTo>
                    <a:pt x="9380" y="3433"/>
                  </a:lnTo>
                  <a:lnTo>
                    <a:pt x="9230" y="2998"/>
                  </a:lnTo>
                  <a:lnTo>
                    <a:pt x="9037" y="2578"/>
                  </a:lnTo>
                  <a:lnTo>
                    <a:pt x="8803" y="2177"/>
                  </a:lnTo>
                  <a:lnTo>
                    <a:pt x="8529" y="1796"/>
                  </a:lnTo>
                  <a:lnTo>
                    <a:pt x="8214" y="1442"/>
                  </a:lnTo>
                  <a:lnTo>
                    <a:pt x="7861" y="1116"/>
                  </a:lnTo>
                  <a:lnTo>
                    <a:pt x="7470" y="822"/>
                  </a:lnTo>
                  <a:lnTo>
                    <a:pt x="7050" y="568"/>
                  </a:lnTo>
                  <a:lnTo>
                    <a:pt x="6615" y="361"/>
                  </a:lnTo>
                  <a:lnTo>
                    <a:pt x="6169" y="203"/>
                  </a:lnTo>
                  <a:lnTo>
                    <a:pt x="5715" y="89"/>
                  </a:lnTo>
                  <a:lnTo>
                    <a:pt x="5256" y="22"/>
                  </a:lnTo>
                  <a:lnTo>
                    <a:pt x="4794" y="0"/>
                  </a:lnTo>
                  <a:lnTo>
                    <a:pt x="4334" y="22"/>
                  </a:lnTo>
                  <a:lnTo>
                    <a:pt x="3880" y="88"/>
                  </a:lnTo>
                  <a:lnTo>
                    <a:pt x="3433" y="197"/>
                  </a:lnTo>
                  <a:lnTo>
                    <a:pt x="2999" y="348"/>
                  </a:lnTo>
                  <a:lnTo>
                    <a:pt x="2579" y="540"/>
                  </a:lnTo>
                  <a:lnTo>
                    <a:pt x="2177" y="774"/>
                  </a:lnTo>
                  <a:lnTo>
                    <a:pt x="1797" y="1048"/>
                  </a:lnTo>
                  <a:lnTo>
                    <a:pt x="1443" y="1362"/>
                  </a:lnTo>
                  <a:lnTo>
                    <a:pt x="1117" y="1715"/>
                  </a:lnTo>
                  <a:lnTo>
                    <a:pt x="822" y="2107"/>
                  </a:lnTo>
                  <a:lnTo>
                    <a:pt x="568" y="2526"/>
                  </a:lnTo>
                  <a:lnTo>
                    <a:pt x="362" y="2961"/>
                  </a:lnTo>
                  <a:lnTo>
                    <a:pt x="203" y="3407"/>
                  </a:lnTo>
                  <a:lnTo>
                    <a:pt x="90" y="3861"/>
                  </a:lnTo>
                  <a:lnTo>
                    <a:pt x="23" y="4321"/>
                  </a:lnTo>
                  <a:lnTo>
                    <a:pt x="0" y="4783"/>
                  </a:lnTo>
                  <a:lnTo>
                    <a:pt x="22" y="5243"/>
                  </a:lnTo>
                  <a:lnTo>
                    <a:pt x="88" y="5697"/>
                  </a:lnTo>
                  <a:lnTo>
                    <a:pt x="196" y="6143"/>
                  </a:lnTo>
                  <a:lnTo>
                    <a:pt x="347" y="6578"/>
                  </a:lnTo>
                  <a:lnTo>
                    <a:pt x="540" y="6998"/>
                  </a:lnTo>
                  <a:lnTo>
                    <a:pt x="774" y="7400"/>
                  </a:lnTo>
                  <a:lnTo>
                    <a:pt x="1048" y="7779"/>
                  </a:lnTo>
                  <a:lnTo>
                    <a:pt x="1362" y="8135"/>
                  </a:lnTo>
                  <a:lnTo>
                    <a:pt x="1715" y="8461"/>
                  </a:lnTo>
                  <a:lnTo>
                    <a:pt x="2108" y="8755"/>
                  </a:lnTo>
                  <a:close/>
                </a:path>
              </a:pathLst>
            </a:custGeom>
            <a:solidFill>
              <a:srgbClr val="354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76120" y="155520"/>
              <a:ext cx="729720" cy="720000"/>
            </a:xfrm>
            <a:custGeom>
              <a:avLst/>
              <a:gdLst/>
              <a:ahLst/>
              <a:rect l="l" t="t" r="r" b="b"/>
              <a:pathLst>
                <a:path w="9417" h="9417">
                  <a:moveTo>
                    <a:pt x="2073" y="8609"/>
                  </a:moveTo>
                  <a:lnTo>
                    <a:pt x="2484" y="8857"/>
                  </a:lnTo>
                  <a:lnTo>
                    <a:pt x="2912" y="9060"/>
                  </a:lnTo>
                  <a:lnTo>
                    <a:pt x="3351" y="9217"/>
                  </a:lnTo>
                  <a:lnTo>
                    <a:pt x="3797" y="9328"/>
                  </a:lnTo>
                  <a:lnTo>
                    <a:pt x="4249" y="9394"/>
                  </a:lnTo>
                  <a:lnTo>
                    <a:pt x="4703" y="9417"/>
                  </a:lnTo>
                  <a:lnTo>
                    <a:pt x="5155" y="9395"/>
                  </a:lnTo>
                  <a:lnTo>
                    <a:pt x="5602" y="9330"/>
                  </a:lnTo>
                  <a:lnTo>
                    <a:pt x="6041" y="9223"/>
                  </a:lnTo>
                  <a:lnTo>
                    <a:pt x="6469" y="9075"/>
                  </a:lnTo>
                  <a:lnTo>
                    <a:pt x="6881" y="8885"/>
                  </a:lnTo>
                  <a:lnTo>
                    <a:pt x="7276" y="8655"/>
                  </a:lnTo>
                  <a:lnTo>
                    <a:pt x="7649" y="8385"/>
                  </a:lnTo>
                  <a:lnTo>
                    <a:pt x="7998" y="8077"/>
                  </a:lnTo>
                  <a:lnTo>
                    <a:pt x="8319" y="7729"/>
                  </a:lnTo>
                  <a:lnTo>
                    <a:pt x="8609" y="7345"/>
                  </a:lnTo>
                  <a:lnTo>
                    <a:pt x="8858" y="6932"/>
                  </a:lnTo>
                  <a:lnTo>
                    <a:pt x="9061" y="6505"/>
                  </a:lnTo>
                  <a:lnTo>
                    <a:pt x="9217" y="6066"/>
                  </a:lnTo>
                  <a:lnTo>
                    <a:pt x="9329" y="5619"/>
                  </a:lnTo>
                  <a:lnTo>
                    <a:pt x="9395" y="5167"/>
                  </a:lnTo>
                  <a:lnTo>
                    <a:pt x="9417" y="4713"/>
                  </a:lnTo>
                  <a:lnTo>
                    <a:pt x="9396" y="4262"/>
                  </a:lnTo>
                  <a:lnTo>
                    <a:pt x="9331" y="3814"/>
                  </a:lnTo>
                  <a:lnTo>
                    <a:pt x="9223" y="3375"/>
                  </a:lnTo>
                  <a:lnTo>
                    <a:pt x="9076" y="2948"/>
                  </a:lnTo>
                  <a:lnTo>
                    <a:pt x="8885" y="2535"/>
                  </a:lnTo>
                  <a:lnTo>
                    <a:pt x="8656" y="2140"/>
                  </a:lnTo>
                  <a:lnTo>
                    <a:pt x="8386" y="1767"/>
                  </a:lnTo>
                  <a:lnTo>
                    <a:pt x="8077" y="1418"/>
                  </a:lnTo>
                  <a:lnTo>
                    <a:pt x="7730" y="1097"/>
                  </a:lnTo>
                  <a:lnTo>
                    <a:pt x="7345" y="808"/>
                  </a:lnTo>
                  <a:lnTo>
                    <a:pt x="6932" y="558"/>
                  </a:lnTo>
                  <a:lnTo>
                    <a:pt x="6505" y="355"/>
                  </a:lnTo>
                  <a:lnTo>
                    <a:pt x="6066" y="199"/>
                  </a:lnTo>
                  <a:lnTo>
                    <a:pt x="5619" y="88"/>
                  </a:lnTo>
                  <a:lnTo>
                    <a:pt x="5168" y="22"/>
                  </a:lnTo>
                  <a:lnTo>
                    <a:pt x="4714" y="0"/>
                  </a:lnTo>
                  <a:lnTo>
                    <a:pt x="4262" y="21"/>
                  </a:lnTo>
                  <a:lnTo>
                    <a:pt x="3814" y="86"/>
                  </a:lnTo>
                  <a:lnTo>
                    <a:pt x="3375" y="192"/>
                  </a:lnTo>
                  <a:lnTo>
                    <a:pt x="2948" y="341"/>
                  </a:lnTo>
                  <a:lnTo>
                    <a:pt x="2535" y="530"/>
                  </a:lnTo>
                  <a:lnTo>
                    <a:pt x="2141" y="760"/>
                  </a:lnTo>
                  <a:lnTo>
                    <a:pt x="1768" y="1030"/>
                  </a:lnTo>
                  <a:lnTo>
                    <a:pt x="1419" y="1339"/>
                  </a:lnTo>
                  <a:lnTo>
                    <a:pt x="1098" y="1686"/>
                  </a:lnTo>
                  <a:lnTo>
                    <a:pt x="809" y="2072"/>
                  </a:lnTo>
                  <a:lnTo>
                    <a:pt x="559" y="2483"/>
                  </a:lnTo>
                  <a:lnTo>
                    <a:pt x="356" y="2910"/>
                  </a:lnTo>
                  <a:lnTo>
                    <a:pt x="200" y="3350"/>
                  </a:lnTo>
                  <a:lnTo>
                    <a:pt x="88" y="3796"/>
                  </a:lnTo>
                  <a:lnTo>
                    <a:pt x="22" y="4249"/>
                  </a:lnTo>
                  <a:lnTo>
                    <a:pt x="0" y="4702"/>
                  </a:lnTo>
                  <a:lnTo>
                    <a:pt x="21" y="5155"/>
                  </a:lnTo>
                  <a:lnTo>
                    <a:pt x="86" y="5601"/>
                  </a:lnTo>
                  <a:lnTo>
                    <a:pt x="193" y="6040"/>
                  </a:lnTo>
                  <a:lnTo>
                    <a:pt x="341" y="6469"/>
                  </a:lnTo>
                  <a:lnTo>
                    <a:pt x="531" y="6881"/>
                  </a:lnTo>
                  <a:lnTo>
                    <a:pt x="761" y="7275"/>
                  </a:lnTo>
                  <a:lnTo>
                    <a:pt x="1031" y="7649"/>
                  </a:lnTo>
                  <a:lnTo>
                    <a:pt x="1339" y="7997"/>
                  </a:lnTo>
                  <a:lnTo>
                    <a:pt x="1687" y="8318"/>
                  </a:lnTo>
                  <a:lnTo>
                    <a:pt x="2073" y="8609"/>
                  </a:lnTo>
                  <a:close/>
                </a:path>
              </a:pathLst>
            </a:custGeom>
            <a:solidFill>
              <a:srgbClr val="3750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85480" y="157320"/>
              <a:ext cx="717840" cy="708840"/>
            </a:xfrm>
            <a:custGeom>
              <a:avLst/>
              <a:gdLst/>
              <a:ahLst/>
              <a:rect l="l" t="t" r="r" b="b"/>
              <a:pathLst>
                <a:path w="9256" h="9255">
                  <a:moveTo>
                    <a:pt x="2036" y="8462"/>
                  </a:moveTo>
                  <a:lnTo>
                    <a:pt x="2441" y="8706"/>
                  </a:lnTo>
                  <a:lnTo>
                    <a:pt x="2861" y="8905"/>
                  </a:lnTo>
                  <a:lnTo>
                    <a:pt x="3292" y="9059"/>
                  </a:lnTo>
                  <a:lnTo>
                    <a:pt x="3732" y="9169"/>
                  </a:lnTo>
                  <a:lnTo>
                    <a:pt x="4176" y="9234"/>
                  </a:lnTo>
                  <a:lnTo>
                    <a:pt x="4621" y="9255"/>
                  </a:lnTo>
                  <a:lnTo>
                    <a:pt x="5066" y="9234"/>
                  </a:lnTo>
                  <a:lnTo>
                    <a:pt x="5506" y="9171"/>
                  </a:lnTo>
                  <a:lnTo>
                    <a:pt x="5938" y="9066"/>
                  </a:lnTo>
                  <a:lnTo>
                    <a:pt x="6357" y="8920"/>
                  </a:lnTo>
                  <a:lnTo>
                    <a:pt x="6762" y="8734"/>
                  </a:lnTo>
                  <a:lnTo>
                    <a:pt x="7151" y="8507"/>
                  </a:lnTo>
                  <a:lnTo>
                    <a:pt x="7518" y="8243"/>
                  </a:lnTo>
                  <a:lnTo>
                    <a:pt x="7861" y="7940"/>
                  </a:lnTo>
                  <a:lnTo>
                    <a:pt x="8176" y="7599"/>
                  </a:lnTo>
                  <a:lnTo>
                    <a:pt x="8461" y="7220"/>
                  </a:lnTo>
                  <a:lnTo>
                    <a:pt x="8706" y="6814"/>
                  </a:lnTo>
                  <a:lnTo>
                    <a:pt x="8906" y="6394"/>
                  </a:lnTo>
                  <a:lnTo>
                    <a:pt x="9060" y="5962"/>
                  </a:lnTo>
                  <a:lnTo>
                    <a:pt x="9168" y="5523"/>
                  </a:lnTo>
                  <a:lnTo>
                    <a:pt x="9233" y="5079"/>
                  </a:lnTo>
                  <a:lnTo>
                    <a:pt x="9256" y="4634"/>
                  </a:lnTo>
                  <a:lnTo>
                    <a:pt x="9234" y="4189"/>
                  </a:lnTo>
                  <a:lnTo>
                    <a:pt x="9170" y="3749"/>
                  </a:lnTo>
                  <a:lnTo>
                    <a:pt x="9065" y="3318"/>
                  </a:lnTo>
                  <a:lnTo>
                    <a:pt x="8920" y="2898"/>
                  </a:lnTo>
                  <a:lnTo>
                    <a:pt x="8734" y="2492"/>
                  </a:lnTo>
                  <a:lnTo>
                    <a:pt x="8507" y="2104"/>
                  </a:lnTo>
                  <a:lnTo>
                    <a:pt x="8242" y="1737"/>
                  </a:lnTo>
                  <a:lnTo>
                    <a:pt x="7938" y="1393"/>
                  </a:lnTo>
                  <a:lnTo>
                    <a:pt x="7597" y="1078"/>
                  </a:lnTo>
                  <a:lnTo>
                    <a:pt x="7219" y="794"/>
                  </a:lnTo>
                  <a:lnTo>
                    <a:pt x="6812" y="548"/>
                  </a:lnTo>
                  <a:lnTo>
                    <a:pt x="6393" y="349"/>
                  </a:lnTo>
                  <a:lnTo>
                    <a:pt x="5962" y="195"/>
                  </a:lnTo>
                  <a:lnTo>
                    <a:pt x="5523" y="87"/>
                  </a:lnTo>
                  <a:lnTo>
                    <a:pt x="5079" y="22"/>
                  </a:lnTo>
                  <a:lnTo>
                    <a:pt x="4632" y="0"/>
                  </a:lnTo>
                  <a:lnTo>
                    <a:pt x="4189" y="21"/>
                  </a:lnTo>
                  <a:lnTo>
                    <a:pt x="3749" y="85"/>
                  </a:lnTo>
                  <a:lnTo>
                    <a:pt x="3317" y="190"/>
                  </a:lnTo>
                  <a:lnTo>
                    <a:pt x="2897" y="336"/>
                  </a:lnTo>
                  <a:lnTo>
                    <a:pt x="2491" y="522"/>
                  </a:lnTo>
                  <a:lnTo>
                    <a:pt x="2104" y="748"/>
                  </a:lnTo>
                  <a:lnTo>
                    <a:pt x="1736" y="1013"/>
                  </a:lnTo>
                  <a:lnTo>
                    <a:pt x="1394" y="1316"/>
                  </a:lnTo>
                  <a:lnTo>
                    <a:pt x="1078" y="1657"/>
                  </a:lnTo>
                  <a:lnTo>
                    <a:pt x="794" y="2037"/>
                  </a:lnTo>
                  <a:lnTo>
                    <a:pt x="549" y="2442"/>
                  </a:lnTo>
                  <a:lnTo>
                    <a:pt x="350" y="2861"/>
                  </a:lnTo>
                  <a:lnTo>
                    <a:pt x="196" y="3293"/>
                  </a:lnTo>
                  <a:lnTo>
                    <a:pt x="86" y="3732"/>
                  </a:lnTo>
                  <a:lnTo>
                    <a:pt x="21" y="4177"/>
                  </a:lnTo>
                  <a:lnTo>
                    <a:pt x="0" y="4622"/>
                  </a:lnTo>
                  <a:lnTo>
                    <a:pt x="21" y="5066"/>
                  </a:lnTo>
                  <a:lnTo>
                    <a:pt x="84" y="5506"/>
                  </a:lnTo>
                  <a:lnTo>
                    <a:pt x="189" y="5938"/>
                  </a:lnTo>
                  <a:lnTo>
                    <a:pt x="335" y="6358"/>
                  </a:lnTo>
                  <a:lnTo>
                    <a:pt x="521" y="6763"/>
                  </a:lnTo>
                  <a:lnTo>
                    <a:pt x="747" y="7151"/>
                  </a:lnTo>
                  <a:lnTo>
                    <a:pt x="1012" y="7519"/>
                  </a:lnTo>
                  <a:lnTo>
                    <a:pt x="1315" y="7861"/>
                  </a:lnTo>
                  <a:lnTo>
                    <a:pt x="1656" y="8177"/>
                  </a:lnTo>
                  <a:lnTo>
                    <a:pt x="2036" y="8462"/>
                  </a:lnTo>
                  <a:close/>
                </a:path>
              </a:pathLst>
            </a:custGeom>
            <a:solidFill>
              <a:srgbClr val="3953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94840" y="159840"/>
              <a:ext cx="704520" cy="696240"/>
            </a:xfrm>
            <a:custGeom>
              <a:avLst/>
              <a:gdLst/>
              <a:ahLst/>
              <a:rect l="l" t="t" r="r" b="b"/>
              <a:pathLst>
                <a:path w="9096" h="9095">
                  <a:moveTo>
                    <a:pt x="2002" y="8316"/>
                  </a:moveTo>
                  <a:lnTo>
                    <a:pt x="2400" y="8556"/>
                  </a:lnTo>
                  <a:lnTo>
                    <a:pt x="2812" y="8752"/>
                  </a:lnTo>
                  <a:lnTo>
                    <a:pt x="3236" y="8903"/>
                  </a:lnTo>
                  <a:lnTo>
                    <a:pt x="3668" y="9010"/>
                  </a:lnTo>
                  <a:lnTo>
                    <a:pt x="4105" y="9074"/>
                  </a:lnTo>
                  <a:lnTo>
                    <a:pt x="4543" y="9095"/>
                  </a:lnTo>
                  <a:lnTo>
                    <a:pt x="4980" y="9074"/>
                  </a:lnTo>
                  <a:lnTo>
                    <a:pt x="5411" y="9012"/>
                  </a:lnTo>
                  <a:lnTo>
                    <a:pt x="5836" y="8909"/>
                  </a:lnTo>
                  <a:lnTo>
                    <a:pt x="6248" y="8766"/>
                  </a:lnTo>
                  <a:lnTo>
                    <a:pt x="6647" y="8582"/>
                  </a:lnTo>
                  <a:lnTo>
                    <a:pt x="7028" y="8361"/>
                  </a:lnTo>
                  <a:lnTo>
                    <a:pt x="7389" y="8100"/>
                  </a:lnTo>
                  <a:lnTo>
                    <a:pt x="7726" y="7801"/>
                  </a:lnTo>
                  <a:lnTo>
                    <a:pt x="8035" y="7466"/>
                  </a:lnTo>
                  <a:lnTo>
                    <a:pt x="8316" y="7095"/>
                  </a:lnTo>
                  <a:lnTo>
                    <a:pt x="8556" y="6696"/>
                  </a:lnTo>
                  <a:lnTo>
                    <a:pt x="8752" y="6283"/>
                  </a:lnTo>
                  <a:lnTo>
                    <a:pt x="8904" y="5859"/>
                  </a:lnTo>
                  <a:lnTo>
                    <a:pt x="9010" y="5428"/>
                  </a:lnTo>
                  <a:lnTo>
                    <a:pt x="9075" y="4991"/>
                  </a:lnTo>
                  <a:lnTo>
                    <a:pt x="9096" y="4553"/>
                  </a:lnTo>
                  <a:lnTo>
                    <a:pt x="9075" y="4116"/>
                  </a:lnTo>
                  <a:lnTo>
                    <a:pt x="9012" y="3684"/>
                  </a:lnTo>
                  <a:lnTo>
                    <a:pt x="8909" y="3260"/>
                  </a:lnTo>
                  <a:lnTo>
                    <a:pt x="8766" y="2848"/>
                  </a:lnTo>
                  <a:lnTo>
                    <a:pt x="8583" y="2449"/>
                  </a:lnTo>
                  <a:lnTo>
                    <a:pt x="8360" y="2067"/>
                  </a:lnTo>
                  <a:lnTo>
                    <a:pt x="8100" y="1707"/>
                  </a:lnTo>
                  <a:lnTo>
                    <a:pt x="7801" y="1370"/>
                  </a:lnTo>
                  <a:lnTo>
                    <a:pt x="7466" y="1059"/>
                  </a:lnTo>
                  <a:lnTo>
                    <a:pt x="7094" y="780"/>
                  </a:lnTo>
                  <a:lnTo>
                    <a:pt x="6696" y="539"/>
                  </a:lnTo>
                  <a:lnTo>
                    <a:pt x="6283" y="343"/>
                  </a:lnTo>
                  <a:lnTo>
                    <a:pt x="5860" y="192"/>
                  </a:lnTo>
                  <a:lnTo>
                    <a:pt x="5428" y="85"/>
                  </a:lnTo>
                  <a:lnTo>
                    <a:pt x="4991" y="21"/>
                  </a:lnTo>
                  <a:lnTo>
                    <a:pt x="4553" y="0"/>
                  </a:lnTo>
                  <a:lnTo>
                    <a:pt x="4117" y="21"/>
                  </a:lnTo>
                  <a:lnTo>
                    <a:pt x="3685" y="82"/>
                  </a:lnTo>
                  <a:lnTo>
                    <a:pt x="3261" y="186"/>
                  </a:lnTo>
                  <a:lnTo>
                    <a:pt x="2848" y="329"/>
                  </a:lnTo>
                  <a:lnTo>
                    <a:pt x="2450" y="513"/>
                  </a:lnTo>
                  <a:lnTo>
                    <a:pt x="2068" y="734"/>
                  </a:lnTo>
                  <a:lnTo>
                    <a:pt x="1708" y="995"/>
                  </a:lnTo>
                  <a:lnTo>
                    <a:pt x="1371" y="1293"/>
                  </a:lnTo>
                  <a:lnTo>
                    <a:pt x="1060" y="1629"/>
                  </a:lnTo>
                  <a:lnTo>
                    <a:pt x="780" y="2001"/>
                  </a:lnTo>
                  <a:lnTo>
                    <a:pt x="539" y="2399"/>
                  </a:lnTo>
                  <a:lnTo>
                    <a:pt x="344" y="2811"/>
                  </a:lnTo>
                  <a:lnTo>
                    <a:pt x="193" y="3236"/>
                  </a:lnTo>
                  <a:lnTo>
                    <a:pt x="85" y="3667"/>
                  </a:lnTo>
                  <a:lnTo>
                    <a:pt x="21" y="4104"/>
                  </a:lnTo>
                  <a:lnTo>
                    <a:pt x="0" y="4542"/>
                  </a:lnTo>
                  <a:lnTo>
                    <a:pt x="21" y="4979"/>
                  </a:lnTo>
                  <a:lnTo>
                    <a:pt x="83" y="5411"/>
                  </a:lnTo>
                  <a:lnTo>
                    <a:pt x="186" y="5835"/>
                  </a:lnTo>
                  <a:lnTo>
                    <a:pt x="330" y="6247"/>
                  </a:lnTo>
                  <a:lnTo>
                    <a:pt x="514" y="6646"/>
                  </a:lnTo>
                  <a:lnTo>
                    <a:pt x="735" y="7028"/>
                  </a:lnTo>
                  <a:lnTo>
                    <a:pt x="995" y="7388"/>
                  </a:lnTo>
                  <a:lnTo>
                    <a:pt x="1294" y="7725"/>
                  </a:lnTo>
                  <a:lnTo>
                    <a:pt x="1630" y="8035"/>
                  </a:lnTo>
                  <a:lnTo>
                    <a:pt x="2002" y="8316"/>
                  </a:lnTo>
                  <a:close/>
                </a:path>
              </a:pathLst>
            </a:custGeom>
            <a:solidFill>
              <a:srgbClr val="3b55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04200" y="162720"/>
              <a:ext cx="692640" cy="683280"/>
            </a:xfrm>
            <a:custGeom>
              <a:avLst/>
              <a:gdLst/>
              <a:ahLst/>
              <a:rect l="l" t="t" r="r" b="b"/>
              <a:pathLst>
                <a:path w="8935" h="8936">
                  <a:moveTo>
                    <a:pt x="1967" y="8169"/>
                  </a:moveTo>
                  <a:lnTo>
                    <a:pt x="2357" y="8405"/>
                  </a:lnTo>
                  <a:lnTo>
                    <a:pt x="2763" y="8598"/>
                  </a:lnTo>
                  <a:lnTo>
                    <a:pt x="3179" y="8746"/>
                  </a:lnTo>
                  <a:lnTo>
                    <a:pt x="3603" y="8852"/>
                  </a:lnTo>
                  <a:lnTo>
                    <a:pt x="4032" y="8914"/>
                  </a:lnTo>
                  <a:lnTo>
                    <a:pt x="4462" y="8936"/>
                  </a:lnTo>
                  <a:lnTo>
                    <a:pt x="4892" y="8915"/>
                  </a:lnTo>
                  <a:lnTo>
                    <a:pt x="5316" y="8854"/>
                  </a:lnTo>
                  <a:lnTo>
                    <a:pt x="5732" y="8753"/>
                  </a:lnTo>
                  <a:lnTo>
                    <a:pt x="6138" y="8611"/>
                  </a:lnTo>
                  <a:lnTo>
                    <a:pt x="6529" y="8432"/>
                  </a:lnTo>
                  <a:lnTo>
                    <a:pt x="6903" y="8214"/>
                  </a:lnTo>
                  <a:lnTo>
                    <a:pt x="7258" y="7958"/>
                  </a:lnTo>
                  <a:lnTo>
                    <a:pt x="7589" y="7664"/>
                  </a:lnTo>
                  <a:lnTo>
                    <a:pt x="7893" y="7335"/>
                  </a:lnTo>
                  <a:lnTo>
                    <a:pt x="8168" y="6970"/>
                  </a:lnTo>
                  <a:lnTo>
                    <a:pt x="8404" y="6579"/>
                  </a:lnTo>
                  <a:lnTo>
                    <a:pt x="8597" y="6173"/>
                  </a:lnTo>
                  <a:lnTo>
                    <a:pt x="8746" y="5757"/>
                  </a:lnTo>
                  <a:lnTo>
                    <a:pt x="8851" y="5333"/>
                  </a:lnTo>
                  <a:lnTo>
                    <a:pt x="8914" y="4904"/>
                  </a:lnTo>
                  <a:lnTo>
                    <a:pt x="8935" y="4474"/>
                  </a:lnTo>
                  <a:lnTo>
                    <a:pt x="8915" y="4044"/>
                  </a:lnTo>
                  <a:lnTo>
                    <a:pt x="8853" y="3620"/>
                  </a:lnTo>
                  <a:lnTo>
                    <a:pt x="8752" y="3204"/>
                  </a:lnTo>
                  <a:lnTo>
                    <a:pt x="8611" y="2798"/>
                  </a:lnTo>
                  <a:lnTo>
                    <a:pt x="8431" y="2407"/>
                  </a:lnTo>
                  <a:lnTo>
                    <a:pt x="8213" y="2032"/>
                  </a:lnTo>
                  <a:lnTo>
                    <a:pt x="7957" y="1678"/>
                  </a:lnTo>
                  <a:lnTo>
                    <a:pt x="7663" y="1347"/>
                  </a:lnTo>
                  <a:lnTo>
                    <a:pt x="7334" y="1042"/>
                  </a:lnTo>
                  <a:lnTo>
                    <a:pt x="6969" y="768"/>
                  </a:lnTo>
                  <a:lnTo>
                    <a:pt x="6578" y="531"/>
                  </a:lnTo>
                  <a:lnTo>
                    <a:pt x="6172" y="339"/>
                  </a:lnTo>
                  <a:lnTo>
                    <a:pt x="5756" y="190"/>
                  </a:lnTo>
                  <a:lnTo>
                    <a:pt x="5332" y="84"/>
                  </a:lnTo>
                  <a:lnTo>
                    <a:pt x="4903" y="22"/>
                  </a:lnTo>
                  <a:lnTo>
                    <a:pt x="4473" y="0"/>
                  </a:lnTo>
                  <a:lnTo>
                    <a:pt x="4043" y="22"/>
                  </a:lnTo>
                  <a:lnTo>
                    <a:pt x="3619" y="82"/>
                  </a:lnTo>
                  <a:lnTo>
                    <a:pt x="3202" y="184"/>
                  </a:lnTo>
                  <a:lnTo>
                    <a:pt x="2797" y="325"/>
                  </a:lnTo>
                  <a:lnTo>
                    <a:pt x="2406" y="504"/>
                  </a:lnTo>
                  <a:lnTo>
                    <a:pt x="2031" y="723"/>
                  </a:lnTo>
                  <a:lnTo>
                    <a:pt x="1677" y="978"/>
                  </a:lnTo>
                  <a:lnTo>
                    <a:pt x="1346" y="1272"/>
                  </a:lnTo>
                  <a:lnTo>
                    <a:pt x="1041" y="1601"/>
                  </a:lnTo>
                  <a:lnTo>
                    <a:pt x="767" y="1967"/>
                  </a:lnTo>
                  <a:lnTo>
                    <a:pt x="530" y="2357"/>
                  </a:lnTo>
                  <a:lnTo>
                    <a:pt x="337" y="2763"/>
                  </a:lnTo>
                  <a:lnTo>
                    <a:pt x="190" y="3179"/>
                  </a:lnTo>
                  <a:lnTo>
                    <a:pt x="83" y="3603"/>
                  </a:lnTo>
                  <a:lnTo>
                    <a:pt x="21" y="4033"/>
                  </a:lnTo>
                  <a:lnTo>
                    <a:pt x="0" y="4463"/>
                  </a:lnTo>
                  <a:lnTo>
                    <a:pt x="21" y="4892"/>
                  </a:lnTo>
                  <a:lnTo>
                    <a:pt x="82" y="5316"/>
                  </a:lnTo>
                  <a:lnTo>
                    <a:pt x="183" y="5733"/>
                  </a:lnTo>
                  <a:lnTo>
                    <a:pt x="325" y="6139"/>
                  </a:lnTo>
                  <a:lnTo>
                    <a:pt x="504" y="6530"/>
                  </a:lnTo>
                  <a:lnTo>
                    <a:pt x="722" y="6904"/>
                  </a:lnTo>
                  <a:lnTo>
                    <a:pt x="978" y="7258"/>
                  </a:lnTo>
                  <a:lnTo>
                    <a:pt x="1272" y="7590"/>
                  </a:lnTo>
                  <a:lnTo>
                    <a:pt x="1601" y="7894"/>
                  </a:lnTo>
                  <a:lnTo>
                    <a:pt x="1967" y="8169"/>
                  </a:lnTo>
                  <a:close/>
                </a:path>
              </a:pathLst>
            </a:custGeom>
            <a:solidFill>
              <a:srgbClr val="3e57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14280" y="164520"/>
              <a:ext cx="679680" cy="671400"/>
            </a:xfrm>
            <a:custGeom>
              <a:avLst/>
              <a:gdLst/>
              <a:ahLst/>
              <a:rect l="l" t="t" r="r" b="b"/>
              <a:pathLst>
                <a:path w="8773" h="8775">
                  <a:moveTo>
                    <a:pt x="1931" y="8022"/>
                  </a:moveTo>
                  <a:lnTo>
                    <a:pt x="2315" y="8254"/>
                  </a:lnTo>
                  <a:lnTo>
                    <a:pt x="2713" y="8443"/>
                  </a:lnTo>
                  <a:lnTo>
                    <a:pt x="3121" y="8589"/>
                  </a:lnTo>
                  <a:lnTo>
                    <a:pt x="3538" y="8693"/>
                  </a:lnTo>
                  <a:lnTo>
                    <a:pt x="3959" y="8755"/>
                  </a:lnTo>
                  <a:lnTo>
                    <a:pt x="4382" y="8775"/>
                  </a:lnTo>
                  <a:lnTo>
                    <a:pt x="4803" y="8755"/>
                  </a:lnTo>
                  <a:lnTo>
                    <a:pt x="5219" y="8694"/>
                  </a:lnTo>
                  <a:lnTo>
                    <a:pt x="5628" y="8595"/>
                  </a:lnTo>
                  <a:lnTo>
                    <a:pt x="6026" y="8456"/>
                  </a:lnTo>
                  <a:lnTo>
                    <a:pt x="6411" y="8280"/>
                  </a:lnTo>
                  <a:lnTo>
                    <a:pt x="6779" y="8066"/>
                  </a:lnTo>
                  <a:lnTo>
                    <a:pt x="7127" y="7814"/>
                  </a:lnTo>
                  <a:lnTo>
                    <a:pt x="7451" y="7527"/>
                  </a:lnTo>
                  <a:lnTo>
                    <a:pt x="7751" y="7203"/>
                  </a:lnTo>
                  <a:lnTo>
                    <a:pt x="8021" y="6844"/>
                  </a:lnTo>
                  <a:lnTo>
                    <a:pt x="8253" y="6460"/>
                  </a:lnTo>
                  <a:lnTo>
                    <a:pt x="8442" y="6062"/>
                  </a:lnTo>
                  <a:lnTo>
                    <a:pt x="8587" y="5653"/>
                  </a:lnTo>
                  <a:lnTo>
                    <a:pt x="8692" y="5237"/>
                  </a:lnTo>
                  <a:lnTo>
                    <a:pt x="8753" y="4816"/>
                  </a:lnTo>
                  <a:lnTo>
                    <a:pt x="8773" y="4393"/>
                  </a:lnTo>
                  <a:lnTo>
                    <a:pt x="8753" y="3972"/>
                  </a:lnTo>
                  <a:lnTo>
                    <a:pt x="8694" y="3555"/>
                  </a:lnTo>
                  <a:lnTo>
                    <a:pt x="8594" y="3146"/>
                  </a:lnTo>
                  <a:lnTo>
                    <a:pt x="8456" y="2747"/>
                  </a:lnTo>
                  <a:lnTo>
                    <a:pt x="8279" y="2364"/>
                  </a:lnTo>
                  <a:lnTo>
                    <a:pt x="8064" y="1996"/>
                  </a:lnTo>
                  <a:lnTo>
                    <a:pt x="7813" y="1647"/>
                  </a:lnTo>
                  <a:lnTo>
                    <a:pt x="7525" y="1323"/>
                  </a:lnTo>
                  <a:lnTo>
                    <a:pt x="7201" y="1023"/>
                  </a:lnTo>
                  <a:lnTo>
                    <a:pt x="6843" y="754"/>
                  </a:lnTo>
                  <a:lnTo>
                    <a:pt x="6458" y="521"/>
                  </a:lnTo>
                  <a:lnTo>
                    <a:pt x="6060" y="332"/>
                  </a:lnTo>
                  <a:lnTo>
                    <a:pt x="5651" y="186"/>
                  </a:lnTo>
                  <a:lnTo>
                    <a:pt x="5235" y="83"/>
                  </a:lnTo>
                  <a:lnTo>
                    <a:pt x="4814" y="22"/>
                  </a:lnTo>
                  <a:lnTo>
                    <a:pt x="4391" y="0"/>
                  </a:lnTo>
                  <a:lnTo>
                    <a:pt x="3970" y="21"/>
                  </a:lnTo>
                  <a:lnTo>
                    <a:pt x="3554" y="81"/>
                  </a:lnTo>
                  <a:lnTo>
                    <a:pt x="3144" y="180"/>
                  </a:lnTo>
                  <a:lnTo>
                    <a:pt x="2747" y="319"/>
                  </a:lnTo>
                  <a:lnTo>
                    <a:pt x="2362" y="496"/>
                  </a:lnTo>
                  <a:lnTo>
                    <a:pt x="1994" y="709"/>
                  </a:lnTo>
                  <a:lnTo>
                    <a:pt x="1646" y="960"/>
                  </a:lnTo>
                  <a:lnTo>
                    <a:pt x="1321" y="1248"/>
                  </a:lnTo>
                  <a:lnTo>
                    <a:pt x="1022" y="1572"/>
                  </a:lnTo>
                  <a:lnTo>
                    <a:pt x="753" y="1931"/>
                  </a:lnTo>
                  <a:lnTo>
                    <a:pt x="520" y="2315"/>
                  </a:lnTo>
                  <a:lnTo>
                    <a:pt x="331" y="2713"/>
                  </a:lnTo>
                  <a:lnTo>
                    <a:pt x="186" y="3122"/>
                  </a:lnTo>
                  <a:lnTo>
                    <a:pt x="81" y="3538"/>
                  </a:lnTo>
                  <a:lnTo>
                    <a:pt x="20" y="3960"/>
                  </a:lnTo>
                  <a:lnTo>
                    <a:pt x="0" y="4382"/>
                  </a:lnTo>
                  <a:lnTo>
                    <a:pt x="20" y="4803"/>
                  </a:lnTo>
                  <a:lnTo>
                    <a:pt x="79" y="5220"/>
                  </a:lnTo>
                  <a:lnTo>
                    <a:pt x="179" y="5629"/>
                  </a:lnTo>
                  <a:lnTo>
                    <a:pt x="317" y="6028"/>
                  </a:lnTo>
                  <a:lnTo>
                    <a:pt x="494" y="6413"/>
                  </a:lnTo>
                  <a:lnTo>
                    <a:pt x="709" y="6781"/>
                  </a:lnTo>
                  <a:lnTo>
                    <a:pt x="960" y="7128"/>
                  </a:lnTo>
                  <a:lnTo>
                    <a:pt x="1248" y="7453"/>
                  </a:lnTo>
                  <a:lnTo>
                    <a:pt x="1572" y="7752"/>
                  </a:lnTo>
                  <a:lnTo>
                    <a:pt x="1931" y="8022"/>
                  </a:lnTo>
                  <a:close/>
                </a:path>
              </a:pathLst>
            </a:custGeom>
            <a:solidFill>
              <a:srgbClr val="405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23640" y="167400"/>
              <a:ext cx="666360" cy="659520"/>
            </a:xfrm>
            <a:custGeom>
              <a:avLst/>
              <a:gdLst/>
              <a:ahLst/>
              <a:rect l="l" t="t" r="r" b="b"/>
              <a:pathLst>
                <a:path w="8612" h="8613">
                  <a:moveTo>
                    <a:pt x="1895" y="7876"/>
                  </a:moveTo>
                  <a:lnTo>
                    <a:pt x="2272" y="8103"/>
                  </a:lnTo>
                  <a:lnTo>
                    <a:pt x="2663" y="8288"/>
                  </a:lnTo>
                  <a:lnTo>
                    <a:pt x="3064" y="8432"/>
                  </a:lnTo>
                  <a:lnTo>
                    <a:pt x="3473" y="8532"/>
                  </a:lnTo>
                  <a:lnTo>
                    <a:pt x="3886" y="8593"/>
                  </a:lnTo>
                  <a:lnTo>
                    <a:pt x="4301" y="8613"/>
                  </a:lnTo>
                  <a:lnTo>
                    <a:pt x="4715" y="8594"/>
                  </a:lnTo>
                  <a:lnTo>
                    <a:pt x="5124" y="8535"/>
                  </a:lnTo>
                  <a:lnTo>
                    <a:pt x="5525" y="8437"/>
                  </a:lnTo>
                  <a:lnTo>
                    <a:pt x="5916" y="8302"/>
                  </a:lnTo>
                  <a:lnTo>
                    <a:pt x="6293" y="8129"/>
                  </a:lnTo>
                  <a:lnTo>
                    <a:pt x="6655" y="7918"/>
                  </a:lnTo>
                  <a:lnTo>
                    <a:pt x="6996" y="7671"/>
                  </a:lnTo>
                  <a:lnTo>
                    <a:pt x="7315" y="7389"/>
                  </a:lnTo>
                  <a:lnTo>
                    <a:pt x="7608" y="7071"/>
                  </a:lnTo>
                  <a:lnTo>
                    <a:pt x="7874" y="6719"/>
                  </a:lnTo>
                  <a:lnTo>
                    <a:pt x="8102" y="6341"/>
                  </a:lnTo>
                  <a:lnTo>
                    <a:pt x="8287" y="5951"/>
                  </a:lnTo>
                  <a:lnTo>
                    <a:pt x="8430" y="5550"/>
                  </a:lnTo>
                  <a:lnTo>
                    <a:pt x="8531" y="5141"/>
                  </a:lnTo>
                  <a:lnTo>
                    <a:pt x="8592" y="4728"/>
                  </a:lnTo>
                  <a:lnTo>
                    <a:pt x="8612" y="4313"/>
                  </a:lnTo>
                  <a:lnTo>
                    <a:pt x="8593" y="3900"/>
                  </a:lnTo>
                  <a:lnTo>
                    <a:pt x="8533" y="3490"/>
                  </a:lnTo>
                  <a:lnTo>
                    <a:pt x="8436" y="3088"/>
                  </a:lnTo>
                  <a:lnTo>
                    <a:pt x="8301" y="2697"/>
                  </a:lnTo>
                  <a:lnTo>
                    <a:pt x="8127" y="2320"/>
                  </a:lnTo>
                  <a:lnTo>
                    <a:pt x="7917" y="1958"/>
                  </a:lnTo>
                  <a:lnTo>
                    <a:pt x="7670" y="1617"/>
                  </a:lnTo>
                  <a:lnTo>
                    <a:pt x="7387" y="1298"/>
                  </a:lnTo>
                  <a:lnTo>
                    <a:pt x="7069" y="1005"/>
                  </a:lnTo>
                  <a:lnTo>
                    <a:pt x="6718" y="740"/>
                  </a:lnTo>
                  <a:lnTo>
                    <a:pt x="6340" y="512"/>
                  </a:lnTo>
                  <a:lnTo>
                    <a:pt x="5949" y="326"/>
                  </a:lnTo>
                  <a:lnTo>
                    <a:pt x="5548" y="183"/>
                  </a:lnTo>
                  <a:lnTo>
                    <a:pt x="5139" y="81"/>
                  </a:lnTo>
                  <a:lnTo>
                    <a:pt x="4725" y="20"/>
                  </a:lnTo>
                  <a:lnTo>
                    <a:pt x="4311" y="0"/>
                  </a:lnTo>
                  <a:lnTo>
                    <a:pt x="3897" y="20"/>
                  </a:lnTo>
                  <a:lnTo>
                    <a:pt x="3489" y="79"/>
                  </a:lnTo>
                  <a:lnTo>
                    <a:pt x="3087" y="177"/>
                  </a:lnTo>
                  <a:lnTo>
                    <a:pt x="2696" y="313"/>
                  </a:lnTo>
                  <a:lnTo>
                    <a:pt x="2318" y="486"/>
                  </a:lnTo>
                  <a:lnTo>
                    <a:pt x="1957" y="697"/>
                  </a:lnTo>
                  <a:lnTo>
                    <a:pt x="1616" y="943"/>
                  </a:lnTo>
                  <a:lnTo>
                    <a:pt x="1297" y="1225"/>
                  </a:lnTo>
                  <a:lnTo>
                    <a:pt x="1003" y="1543"/>
                  </a:lnTo>
                  <a:lnTo>
                    <a:pt x="739" y="1896"/>
                  </a:lnTo>
                  <a:lnTo>
                    <a:pt x="510" y="2272"/>
                  </a:lnTo>
                  <a:lnTo>
                    <a:pt x="325" y="2663"/>
                  </a:lnTo>
                  <a:lnTo>
                    <a:pt x="182" y="3065"/>
                  </a:lnTo>
                  <a:lnTo>
                    <a:pt x="81" y="3474"/>
                  </a:lnTo>
                  <a:lnTo>
                    <a:pt x="20" y="3887"/>
                  </a:lnTo>
                  <a:lnTo>
                    <a:pt x="0" y="4303"/>
                  </a:lnTo>
                  <a:lnTo>
                    <a:pt x="19" y="4716"/>
                  </a:lnTo>
                  <a:lnTo>
                    <a:pt x="78" y="5125"/>
                  </a:lnTo>
                  <a:lnTo>
                    <a:pt x="176" y="5527"/>
                  </a:lnTo>
                  <a:lnTo>
                    <a:pt x="311" y="5917"/>
                  </a:lnTo>
                  <a:lnTo>
                    <a:pt x="485" y="6296"/>
                  </a:lnTo>
                  <a:lnTo>
                    <a:pt x="695" y="6656"/>
                  </a:lnTo>
                  <a:lnTo>
                    <a:pt x="942" y="6997"/>
                  </a:lnTo>
                  <a:lnTo>
                    <a:pt x="1224" y="7316"/>
                  </a:lnTo>
                  <a:lnTo>
                    <a:pt x="1542" y="7610"/>
                  </a:lnTo>
                  <a:lnTo>
                    <a:pt x="1895" y="7876"/>
                  </a:lnTo>
                  <a:close/>
                </a:path>
              </a:pathLst>
            </a:custGeom>
            <a:solidFill>
              <a:srgbClr val="425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33000" y="170280"/>
              <a:ext cx="654480" cy="646200"/>
            </a:xfrm>
            <a:custGeom>
              <a:avLst/>
              <a:gdLst/>
              <a:ahLst/>
              <a:rect l="l" t="t" r="r" b="b"/>
              <a:pathLst>
                <a:path w="8451" h="8452">
                  <a:moveTo>
                    <a:pt x="1859" y="7728"/>
                  </a:moveTo>
                  <a:lnTo>
                    <a:pt x="2229" y="7951"/>
                  </a:lnTo>
                  <a:lnTo>
                    <a:pt x="2612" y="8133"/>
                  </a:lnTo>
                  <a:lnTo>
                    <a:pt x="3006" y="8273"/>
                  </a:lnTo>
                  <a:lnTo>
                    <a:pt x="3407" y="8373"/>
                  </a:lnTo>
                  <a:lnTo>
                    <a:pt x="3813" y="8433"/>
                  </a:lnTo>
                  <a:lnTo>
                    <a:pt x="4221" y="8452"/>
                  </a:lnTo>
                  <a:lnTo>
                    <a:pt x="4627" y="8433"/>
                  </a:lnTo>
                  <a:lnTo>
                    <a:pt x="5027" y="8375"/>
                  </a:lnTo>
                  <a:lnTo>
                    <a:pt x="5422" y="8278"/>
                  </a:lnTo>
                  <a:lnTo>
                    <a:pt x="5806" y="8145"/>
                  </a:lnTo>
                  <a:lnTo>
                    <a:pt x="6176" y="7975"/>
                  </a:lnTo>
                  <a:lnTo>
                    <a:pt x="6530" y="7769"/>
                  </a:lnTo>
                  <a:lnTo>
                    <a:pt x="6866" y="7527"/>
                  </a:lnTo>
                  <a:lnTo>
                    <a:pt x="7178" y="7250"/>
                  </a:lnTo>
                  <a:lnTo>
                    <a:pt x="7466" y="6939"/>
                  </a:lnTo>
                  <a:lnTo>
                    <a:pt x="7727" y="6593"/>
                  </a:lnTo>
                  <a:lnTo>
                    <a:pt x="7950" y="6222"/>
                  </a:lnTo>
                  <a:lnTo>
                    <a:pt x="8132" y="5840"/>
                  </a:lnTo>
                  <a:lnTo>
                    <a:pt x="8272" y="5445"/>
                  </a:lnTo>
                  <a:lnTo>
                    <a:pt x="8372" y="5044"/>
                  </a:lnTo>
                  <a:lnTo>
                    <a:pt x="8432" y="4638"/>
                  </a:lnTo>
                  <a:lnTo>
                    <a:pt x="8451" y="4231"/>
                  </a:lnTo>
                  <a:lnTo>
                    <a:pt x="8432" y="3825"/>
                  </a:lnTo>
                  <a:lnTo>
                    <a:pt x="8374" y="3424"/>
                  </a:lnTo>
                  <a:lnTo>
                    <a:pt x="8277" y="3030"/>
                  </a:lnTo>
                  <a:lnTo>
                    <a:pt x="8144" y="2646"/>
                  </a:lnTo>
                  <a:lnTo>
                    <a:pt x="7974" y="2275"/>
                  </a:lnTo>
                  <a:lnTo>
                    <a:pt x="7768" y="1921"/>
                  </a:lnTo>
                  <a:lnTo>
                    <a:pt x="7526" y="1586"/>
                  </a:lnTo>
                  <a:lnTo>
                    <a:pt x="7249" y="1273"/>
                  </a:lnTo>
                  <a:lnTo>
                    <a:pt x="6938" y="985"/>
                  </a:lnTo>
                  <a:lnTo>
                    <a:pt x="6592" y="725"/>
                  </a:lnTo>
                  <a:lnTo>
                    <a:pt x="6221" y="501"/>
                  </a:lnTo>
                  <a:lnTo>
                    <a:pt x="5839" y="319"/>
                  </a:lnTo>
                  <a:lnTo>
                    <a:pt x="5444" y="179"/>
                  </a:lnTo>
                  <a:lnTo>
                    <a:pt x="5043" y="79"/>
                  </a:lnTo>
                  <a:lnTo>
                    <a:pt x="4637" y="19"/>
                  </a:lnTo>
                  <a:lnTo>
                    <a:pt x="4230" y="0"/>
                  </a:lnTo>
                  <a:lnTo>
                    <a:pt x="3825" y="19"/>
                  </a:lnTo>
                  <a:lnTo>
                    <a:pt x="3423" y="77"/>
                  </a:lnTo>
                  <a:lnTo>
                    <a:pt x="3029" y="173"/>
                  </a:lnTo>
                  <a:lnTo>
                    <a:pt x="2645" y="306"/>
                  </a:lnTo>
                  <a:lnTo>
                    <a:pt x="2275" y="476"/>
                  </a:lnTo>
                  <a:lnTo>
                    <a:pt x="1921" y="683"/>
                  </a:lnTo>
                  <a:lnTo>
                    <a:pt x="1585" y="925"/>
                  </a:lnTo>
                  <a:lnTo>
                    <a:pt x="1272" y="1201"/>
                  </a:lnTo>
                  <a:lnTo>
                    <a:pt x="984" y="1513"/>
                  </a:lnTo>
                  <a:lnTo>
                    <a:pt x="725" y="1860"/>
                  </a:lnTo>
                  <a:lnTo>
                    <a:pt x="501" y="2229"/>
                  </a:lnTo>
                  <a:lnTo>
                    <a:pt x="319" y="2613"/>
                  </a:lnTo>
                  <a:lnTo>
                    <a:pt x="179" y="3007"/>
                  </a:lnTo>
                  <a:lnTo>
                    <a:pt x="79" y="3408"/>
                  </a:lnTo>
                  <a:lnTo>
                    <a:pt x="19" y="3815"/>
                  </a:lnTo>
                  <a:lnTo>
                    <a:pt x="0" y="4222"/>
                  </a:lnTo>
                  <a:lnTo>
                    <a:pt x="19" y="4628"/>
                  </a:lnTo>
                  <a:lnTo>
                    <a:pt x="76" y="5029"/>
                  </a:lnTo>
                  <a:lnTo>
                    <a:pt x="173" y="5423"/>
                  </a:lnTo>
                  <a:lnTo>
                    <a:pt x="306" y="5807"/>
                  </a:lnTo>
                  <a:lnTo>
                    <a:pt x="476" y="6177"/>
                  </a:lnTo>
                  <a:lnTo>
                    <a:pt x="682" y="6531"/>
                  </a:lnTo>
                  <a:lnTo>
                    <a:pt x="925" y="6867"/>
                  </a:lnTo>
                  <a:lnTo>
                    <a:pt x="1201" y="7179"/>
                  </a:lnTo>
                  <a:lnTo>
                    <a:pt x="1513" y="7467"/>
                  </a:lnTo>
                  <a:lnTo>
                    <a:pt x="1859" y="7728"/>
                  </a:lnTo>
                  <a:close/>
                </a:path>
              </a:pathLst>
            </a:custGeom>
            <a:solidFill>
              <a:srgbClr val="445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42360" y="171720"/>
              <a:ext cx="642600" cy="634680"/>
            </a:xfrm>
            <a:custGeom>
              <a:avLst/>
              <a:gdLst/>
              <a:ahLst/>
              <a:rect l="l" t="t" r="r" b="b"/>
              <a:pathLst>
                <a:path w="8292" h="8293">
                  <a:moveTo>
                    <a:pt x="1825" y="7582"/>
                  </a:moveTo>
                  <a:lnTo>
                    <a:pt x="2188" y="7801"/>
                  </a:lnTo>
                  <a:lnTo>
                    <a:pt x="2564" y="7979"/>
                  </a:lnTo>
                  <a:lnTo>
                    <a:pt x="2950" y="8118"/>
                  </a:lnTo>
                  <a:lnTo>
                    <a:pt x="3344" y="8215"/>
                  </a:lnTo>
                  <a:lnTo>
                    <a:pt x="3742" y="8273"/>
                  </a:lnTo>
                  <a:lnTo>
                    <a:pt x="4142" y="8293"/>
                  </a:lnTo>
                  <a:lnTo>
                    <a:pt x="4540" y="8274"/>
                  </a:lnTo>
                  <a:lnTo>
                    <a:pt x="4933" y="8217"/>
                  </a:lnTo>
                  <a:lnTo>
                    <a:pt x="5320" y="8123"/>
                  </a:lnTo>
                  <a:lnTo>
                    <a:pt x="5696" y="7992"/>
                  </a:lnTo>
                  <a:lnTo>
                    <a:pt x="6060" y="7825"/>
                  </a:lnTo>
                  <a:lnTo>
                    <a:pt x="6407" y="7622"/>
                  </a:lnTo>
                  <a:lnTo>
                    <a:pt x="6736" y="7385"/>
                  </a:lnTo>
                  <a:lnTo>
                    <a:pt x="7043" y="7113"/>
                  </a:lnTo>
                  <a:lnTo>
                    <a:pt x="7326" y="6808"/>
                  </a:lnTo>
                  <a:lnTo>
                    <a:pt x="7581" y="6469"/>
                  </a:lnTo>
                  <a:lnTo>
                    <a:pt x="7800" y="6105"/>
                  </a:lnTo>
                  <a:lnTo>
                    <a:pt x="7979" y="5729"/>
                  </a:lnTo>
                  <a:lnTo>
                    <a:pt x="8117" y="5342"/>
                  </a:lnTo>
                  <a:lnTo>
                    <a:pt x="8215" y="4949"/>
                  </a:lnTo>
                  <a:lnTo>
                    <a:pt x="8272" y="4551"/>
                  </a:lnTo>
                  <a:lnTo>
                    <a:pt x="8292" y="4151"/>
                  </a:lnTo>
                  <a:lnTo>
                    <a:pt x="8273" y="3754"/>
                  </a:lnTo>
                  <a:lnTo>
                    <a:pt x="8216" y="3359"/>
                  </a:lnTo>
                  <a:lnTo>
                    <a:pt x="8122" y="2973"/>
                  </a:lnTo>
                  <a:lnTo>
                    <a:pt x="7992" y="2597"/>
                  </a:lnTo>
                  <a:lnTo>
                    <a:pt x="7825" y="2234"/>
                  </a:lnTo>
                  <a:lnTo>
                    <a:pt x="7622" y="1886"/>
                  </a:lnTo>
                  <a:lnTo>
                    <a:pt x="7384" y="1556"/>
                  </a:lnTo>
                  <a:lnTo>
                    <a:pt x="7112" y="1250"/>
                  </a:lnTo>
                  <a:lnTo>
                    <a:pt x="6807" y="967"/>
                  </a:lnTo>
                  <a:lnTo>
                    <a:pt x="6468" y="712"/>
                  </a:lnTo>
                  <a:lnTo>
                    <a:pt x="6104" y="492"/>
                  </a:lnTo>
                  <a:lnTo>
                    <a:pt x="5728" y="314"/>
                  </a:lnTo>
                  <a:lnTo>
                    <a:pt x="5342" y="175"/>
                  </a:lnTo>
                  <a:lnTo>
                    <a:pt x="4949" y="78"/>
                  </a:lnTo>
                  <a:lnTo>
                    <a:pt x="4550" y="20"/>
                  </a:lnTo>
                  <a:lnTo>
                    <a:pt x="4150" y="0"/>
                  </a:lnTo>
                  <a:lnTo>
                    <a:pt x="3753" y="19"/>
                  </a:lnTo>
                  <a:lnTo>
                    <a:pt x="3360" y="77"/>
                  </a:lnTo>
                  <a:lnTo>
                    <a:pt x="2973" y="170"/>
                  </a:lnTo>
                  <a:lnTo>
                    <a:pt x="2596" y="301"/>
                  </a:lnTo>
                  <a:lnTo>
                    <a:pt x="2233" y="468"/>
                  </a:lnTo>
                  <a:lnTo>
                    <a:pt x="1885" y="671"/>
                  </a:lnTo>
                  <a:lnTo>
                    <a:pt x="1556" y="908"/>
                  </a:lnTo>
                  <a:lnTo>
                    <a:pt x="1249" y="1180"/>
                  </a:lnTo>
                  <a:lnTo>
                    <a:pt x="966" y="1485"/>
                  </a:lnTo>
                  <a:lnTo>
                    <a:pt x="712" y="1825"/>
                  </a:lnTo>
                  <a:lnTo>
                    <a:pt x="492" y="2188"/>
                  </a:lnTo>
                  <a:lnTo>
                    <a:pt x="314" y="2564"/>
                  </a:lnTo>
                  <a:lnTo>
                    <a:pt x="175" y="2951"/>
                  </a:lnTo>
                  <a:lnTo>
                    <a:pt x="78" y="3344"/>
                  </a:lnTo>
                  <a:lnTo>
                    <a:pt x="20" y="3742"/>
                  </a:lnTo>
                  <a:lnTo>
                    <a:pt x="0" y="4142"/>
                  </a:lnTo>
                  <a:lnTo>
                    <a:pt x="19" y="4540"/>
                  </a:lnTo>
                  <a:lnTo>
                    <a:pt x="77" y="4934"/>
                  </a:lnTo>
                  <a:lnTo>
                    <a:pt x="170" y="5321"/>
                  </a:lnTo>
                  <a:lnTo>
                    <a:pt x="301" y="5697"/>
                  </a:lnTo>
                  <a:lnTo>
                    <a:pt x="468" y="6061"/>
                  </a:lnTo>
                  <a:lnTo>
                    <a:pt x="671" y="6408"/>
                  </a:lnTo>
                  <a:lnTo>
                    <a:pt x="908" y="6737"/>
                  </a:lnTo>
                  <a:lnTo>
                    <a:pt x="1180" y="7044"/>
                  </a:lnTo>
                  <a:lnTo>
                    <a:pt x="1485" y="7327"/>
                  </a:lnTo>
                  <a:lnTo>
                    <a:pt x="1825" y="7582"/>
                  </a:lnTo>
                  <a:close/>
                </a:path>
              </a:pathLst>
            </a:custGeom>
            <a:solidFill>
              <a:srgbClr val="476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51360" y="174600"/>
              <a:ext cx="629280" cy="622440"/>
            </a:xfrm>
            <a:custGeom>
              <a:avLst/>
              <a:gdLst/>
              <a:ahLst/>
              <a:rect l="l" t="t" r="r" b="b"/>
              <a:pathLst>
                <a:path w="8131" h="8131">
                  <a:moveTo>
                    <a:pt x="1789" y="7433"/>
                  </a:moveTo>
                  <a:lnTo>
                    <a:pt x="2146" y="7648"/>
                  </a:lnTo>
                  <a:lnTo>
                    <a:pt x="2515" y="7823"/>
                  </a:lnTo>
                  <a:lnTo>
                    <a:pt x="2893" y="7958"/>
                  </a:lnTo>
                  <a:lnTo>
                    <a:pt x="3280" y="8055"/>
                  </a:lnTo>
                  <a:lnTo>
                    <a:pt x="3670" y="8112"/>
                  </a:lnTo>
                  <a:lnTo>
                    <a:pt x="4061" y="8131"/>
                  </a:lnTo>
                  <a:lnTo>
                    <a:pt x="4452" y="8112"/>
                  </a:lnTo>
                  <a:lnTo>
                    <a:pt x="4838" y="8057"/>
                  </a:lnTo>
                  <a:lnTo>
                    <a:pt x="5217" y="7965"/>
                  </a:lnTo>
                  <a:lnTo>
                    <a:pt x="5586" y="7837"/>
                  </a:lnTo>
                  <a:lnTo>
                    <a:pt x="5942" y="7673"/>
                  </a:lnTo>
                  <a:lnTo>
                    <a:pt x="6283" y="7474"/>
                  </a:lnTo>
                  <a:lnTo>
                    <a:pt x="6605" y="7242"/>
                  </a:lnTo>
                  <a:lnTo>
                    <a:pt x="6907" y="6975"/>
                  </a:lnTo>
                  <a:lnTo>
                    <a:pt x="7184" y="6675"/>
                  </a:lnTo>
                  <a:lnTo>
                    <a:pt x="7435" y="6343"/>
                  </a:lnTo>
                  <a:lnTo>
                    <a:pt x="7649" y="5986"/>
                  </a:lnTo>
                  <a:lnTo>
                    <a:pt x="7824" y="5617"/>
                  </a:lnTo>
                  <a:lnTo>
                    <a:pt x="7960" y="5239"/>
                  </a:lnTo>
                  <a:lnTo>
                    <a:pt x="8055" y="4852"/>
                  </a:lnTo>
                  <a:lnTo>
                    <a:pt x="8112" y="4462"/>
                  </a:lnTo>
                  <a:lnTo>
                    <a:pt x="8131" y="4071"/>
                  </a:lnTo>
                  <a:lnTo>
                    <a:pt x="8113" y="3680"/>
                  </a:lnTo>
                  <a:lnTo>
                    <a:pt x="8057" y="3293"/>
                  </a:lnTo>
                  <a:lnTo>
                    <a:pt x="7964" y="2915"/>
                  </a:lnTo>
                  <a:lnTo>
                    <a:pt x="7836" y="2546"/>
                  </a:lnTo>
                  <a:lnTo>
                    <a:pt x="7673" y="2189"/>
                  </a:lnTo>
                  <a:lnTo>
                    <a:pt x="7474" y="1849"/>
                  </a:lnTo>
                  <a:lnTo>
                    <a:pt x="7241" y="1525"/>
                  </a:lnTo>
                  <a:lnTo>
                    <a:pt x="6974" y="1225"/>
                  </a:lnTo>
                  <a:lnTo>
                    <a:pt x="6674" y="947"/>
                  </a:lnTo>
                  <a:lnTo>
                    <a:pt x="6343" y="697"/>
                  </a:lnTo>
                  <a:lnTo>
                    <a:pt x="5987" y="482"/>
                  </a:lnTo>
                  <a:lnTo>
                    <a:pt x="5618" y="307"/>
                  </a:lnTo>
                  <a:lnTo>
                    <a:pt x="5238" y="171"/>
                  </a:lnTo>
                  <a:lnTo>
                    <a:pt x="4852" y="75"/>
                  </a:lnTo>
                  <a:lnTo>
                    <a:pt x="4462" y="19"/>
                  </a:lnTo>
                  <a:lnTo>
                    <a:pt x="4071" y="0"/>
                  </a:lnTo>
                  <a:lnTo>
                    <a:pt x="3681" y="18"/>
                  </a:lnTo>
                  <a:lnTo>
                    <a:pt x="3295" y="74"/>
                  </a:lnTo>
                  <a:lnTo>
                    <a:pt x="2915" y="167"/>
                  </a:lnTo>
                  <a:lnTo>
                    <a:pt x="2546" y="294"/>
                  </a:lnTo>
                  <a:lnTo>
                    <a:pt x="2190" y="458"/>
                  </a:lnTo>
                  <a:lnTo>
                    <a:pt x="1849" y="657"/>
                  </a:lnTo>
                  <a:lnTo>
                    <a:pt x="1527" y="890"/>
                  </a:lnTo>
                  <a:lnTo>
                    <a:pt x="1226" y="1157"/>
                  </a:lnTo>
                  <a:lnTo>
                    <a:pt x="949" y="1456"/>
                  </a:lnTo>
                  <a:lnTo>
                    <a:pt x="699" y="1789"/>
                  </a:lnTo>
                  <a:lnTo>
                    <a:pt x="483" y="2145"/>
                  </a:lnTo>
                  <a:lnTo>
                    <a:pt x="307" y="2514"/>
                  </a:lnTo>
                  <a:lnTo>
                    <a:pt x="172" y="2893"/>
                  </a:lnTo>
                  <a:lnTo>
                    <a:pt x="77" y="3279"/>
                  </a:lnTo>
                  <a:lnTo>
                    <a:pt x="19" y="3669"/>
                  </a:lnTo>
                  <a:lnTo>
                    <a:pt x="0" y="4061"/>
                  </a:lnTo>
                  <a:lnTo>
                    <a:pt x="19" y="4451"/>
                  </a:lnTo>
                  <a:lnTo>
                    <a:pt x="75" y="4837"/>
                  </a:lnTo>
                  <a:lnTo>
                    <a:pt x="167" y="5217"/>
                  </a:lnTo>
                  <a:lnTo>
                    <a:pt x="295" y="5585"/>
                  </a:lnTo>
                  <a:lnTo>
                    <a:pt x="458" y="5942"/>
                  </a:lnTo>
                  <a:lnTo>
                    <a:pt x="657" y="6282"/>
                  </a:lnTo>
                  <a:lnTo>
                    <a:pt x="890" y="6605"/>
                  </a:lnTo>
                  <a:lnTo>
                    <a:pt x="1157" y="6906"/>
                  </a:lnTo>
                  <a:lnTo>
                    <a:pt x="1457" y="7182"/>
                  </a:lnTo>
                  <a:lnTo>
                    <a:pt x="1789" y="7433"/>
                  </a:lnTo>
                  <a:close/>
                </a:path>
              </a:pathLst>
            </a:custGeom>
            <a:solidFill>
              <a:srgbClr val="496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60720" y="177480"/>
              <a:ext cx="617400" cy="609840"/>
            </a:xfrm>
            <a:custGeom>
              <a:avLst/>
              <a:gdLst/>
              <a:ahLst/>
              <a:rect l="l" t="t" r="r" b="b"/>
              <a:pathLst>
                <a:path w="7971" h="7971">
                  <a:moveTo>
                    <a:pt x="1755" y="7287"/>
                  </a:moveTo>
                  <a:lnTo>
                    <a:pt x="2103" y="7498"/>
                  </a:lnTo>
                  <a:lnTo>
                    <a:pt x="2465" y="7669"/>
                  </a:lnTo>
                  <a:lnTo>
                    <a:pt x="2837" y="7802"/>
                  </a:lnTo>
                  <a:lnTo>
                    <a:pt x="3215" y="7895"/>
                  </a:lnTo>
                  <a:lnTo>
                    <a:pt x="3597" y="7952"/>
                  </a:lnTo>
                  <a:lnTo>
                    <a:pt x="3982" y="7971"/>
                  </a:lnTo>
                  <a:lnTo>
                    <a:pt x="4363" y="7952"/>
                  </a:lnTo>
                  <a:lnTo>
                    <a:pt x="4742" y="7897"/>
                  </a:lnTo>
                  <a:lnTo>
                    <a:pt x="5114" y="7807"/>
                  </a:lnTo>
                  <a:lnTo>
                    <a:pt x="5475" y="7682"/>
                  </a:lnTo>
                  <a:lnTo>
                    <a:pt x="5825" y="7521"/>
                  </a:lnTo>
                  <a:lnTo>
                    <a:pt x="6159" y="7327"/>
                  </a:lnTo>
                  <a:lnTo>
                    <a:pt x="6475" y="7098"/>
                  </a:lnTo>
                  <a:lnTo>
                    <a:pt x="6770" y="6837"/>
                  </a:lnTo>
                  <a:lnTo>
                    <a:pt x="7041" y="6542"/>
                  </a:lnTo>
                  <a:lnTo>
                    <a:pt x="7287" y="6217"/>
                  </a:lnTo>
                  <a:lnTo>
                    <a:pt x="7498" y="5867"/>
                  </a:lnTo>
                  <a:lnTo>
                    <a:pt x="7669" y="5506"/>
                  </a:lnTo>
                  <a:lnTo>
                    <a:pt x="7802" y="5135"/>
                  </a:lnTo>
                  <a:lnTo>
                    <a:pt x="7895" y="4756"/>
                  </a:lnTo>
                  <a:lnTo>
                    <a:pt x="7951" y="4373"/>
                  </a:lnTo>
                  <a:lnTo>
                    <a:pt x="7971" y="3990"/>
                  </a:lnTo>
                  <a:lnTo>
                    <a:pt x="7953" y="3607"/>
                  </a:lnTo>
                  <a:lnTo>
                    <a:pt x="7897" y="3228"/>
                  </a:lnTo>
                  <a:lnTo>
                    <a:pt x="7807" y="2857"/>
                  </a:lnTo>
                  <a:lnTo>
                    <a:pt x="7681" y="2496"/>
                  </a:lnTo>
                  <a:lnTo>
                    <a:pt x="7521" y="2146"/>
                  </a:lnTo>
                  <a:lnTo>
                    <a:pt x="7326" y="1812"/>
                  </a:lnTo>
                  <a:lnTo>
                    <a:pt x="7099" y="1497"/>
                  </a:lnTo>
                  <a:lnTo>
                    <a:pt x="6837" y="1201"/>
                  </a:lnTo>
                  <a:lnTo>
                    <a:pt x="6543" y="929"/>
                  </a:lnTo>
                  <a:lnTo>
                    <a:pt x="6218" y="684"/>
                  </a:lnTo>
                  <a:lnTo>
                    <a:pt x="5868" y="473"/>
                  </a:lnTo>
                  <a:lnTo>
                    <a:pt x="5506" y="301"/>
                  </a:lnTo>
                  <a:lnTo>
                    <a:pt x="5135" y="169"/>
                  </a:lnTo>
                  <a:lnTo>
                    <a:pt x="4757" y="74"/>
                  </a:lnTo>
                  <a:lnTo>
                    <a:pt x="4374" y="18"/>
                  </a:lnTo>
                  <a:lnTo>
                    <a:pt x="3990" y="0"/>
                  </a:lnTo>
                  <a:lnTo>
                    <a:pt x="3608" y="18"/>
                  </a:lnTo>
                  <a:lnTo>
                    <a:pt x="3229" y="72"/>
                  </a:lnTo>
                  <a:lnTo>
                    <a:pt x="2858" y="163"/>
                  </a:lnTo>
                  <a:lnTo>
                    <a:pt x="2496" y="289"/>
                  </a:lnTo>
                  <a:lnTo>
                    <a:pt x="2147" y="450"/>
                  </a:lnTo>
                  <a:lnTo>
                    <a:pt x="1812" y="644"/>
                  </a:lnTo>
                  <a:lnTo>
                    <a:pt x="1496" y="872"/>
                  </a:lnTo>
                  <a:lnTo>
                    <a:pt x="1202" y="1133"/>
                  </a:lnTo>
                  <a:lnTo>
                    <a:pt x="930" y="1428"/>
                  </a:lnTo>
                  <a:lnTo>
                    <a:pt x="685" y="1754"/>
                  </a:lnTo>
                  <a:lnTo>
                    <a:pt x="474" y="2103"/>
                  </a:lnTo>
                  <a:lnTo>
                    <a:pt x="301" y="2464"/>
                  </a:lnTo>
                  <a:lnTo>
                    <a:pt x="169" y="2836"/>
                  </a:lnTo>
                  <a:lnTo>
                    <a:pt x="75" y="3215"/>
                  </a:lnTo>
                  <a:lnTo>
                    <a:pt x="19" y="3597"/>
                  </a:lnTo>
                  <a:lnTo>
                    <a:pt x="0" y="3981"/>
                  </a:lnTo>
                  <a:lnTo>
                    <a:pt x="19" y="4364"/>
                  </a:lnTo>
                  <a:lnTo>
                    <a:pt x="73" y="4742"/>
                  </a:lnTo>
                  <a:lnTo>
                    <a:pt x="163" y="5113"/>
                  </a:lnTo>
                  <a:lnTo>
                    <a:pt x="290" y="5476"/>
                  </a:lnTo>
                  <a:lnTo>
                    <a:pt x="450" y="5824"/>
                  </a:lnTo>
                  <a:lnTo>
                    <a:pt x="645" y="6159"/>
                  </a:lnTo>
                  <a:lnTo>
                    <a:pt x="872" y="6475"/>
                  </a:lnTo>
                  <a:lnTo>
                    <a:pt x="1134" y="6770"/>
                  </a:lnTo>
                  <a:lnTo>
                    <a:pt x="1428" y="7042"/>
                  </a:lnTo>
                  <a:lnTo>
                    <a:pt x="1755" y="7287"/>
                  </a:lnTo>
                  <a:close/>
                </a:path>
              </a:pathLst>
            </a:custGeom>
            <a:solidFill>
              <a:srgbClr val="4b6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70080" y="179280"/>
              <a:ext cx="605160" cy="597600"/>
            </a:xfrm>
            <a:custGeom>
              <a:avLst/>
              <a:gdLst/>
              <a:ahLst/>
              <a:rect l="l" t="t" r="r" b="b"/>
              <a:pathLst>
                <a:path w="7809" h="7808">
                  <a:moveTo>
                    <a:pt x="1719" y="7139"/>
                  </a:moveTo>
                  <a:lnTo>
                    <a:pt x="2060" y="7346"/>
                  </a:lnTo>
                  <a:lnTo>
                    <a:pt x="2414" y="7514"/>
                  </a:lnTo>
                  <a:lnTo>
                    <a:pt x="2779" y="7643"/>
                  </a:lnTo>
                  <a:lnTo>
                    <a:pt x="3149" y="7736"/>
                  </a:lnTo>
                  <a:lnTo>
                    <a:pt x="3524" y="7790"/>
                  </a:lnTo>
                  <a:lnTo>
                    <a:pt x="3900" y="7808"/>
                  </a:lnTo>
                  <a:lnTo>
                    <a:pt x="4274" y="7790"/>
                  </a:lnTo>
                  <a:lnTo>
                    <a:pt x="4645" y="7737"/>
                  </a:lnTo>
                  <a:lnTo>
                    <a:pt x="5009" y="7649"/>
                  </a:lnTo>
                  <a:lnTo>
                    <a:pt x="5364" y="7525"/>
                  </a:lnTo>
                  <a:lnTo>
                    <a:pt x="5706" y="7368"/>
                  </a:lnTo>
                  <a:lnTo>
                    <a:pt x="6034" y="7178"/>
                  </a:lnTo>
                  <a:lnTo>
                    <a:pt x="6343" y="6953"/>
                  </a:lnTo>
                  <a:lnTo>
                    <a:pt x="6632" y="6697"/>
                  </a:lnTo>
                  <a:lnTo>
                    <a:pt x="6898" y="6409"/>
                  </a:lnTo>
                  <a:lnTo>
                    <a:pt x="7140" y="6090"/>
                  </a:lnTo>
                  <a:lnTo>
                    <a:pt x="7346" y="5748"/>
                  </a:lnTo>
                  <a:lnTo>
                    <a:pt x="7514" y="5394"/>
                  </a:lnTo>
                  <a:lnTo>
                    <a:pt x="7643" y="5029"/>
                  </a:lnTo>
                  <a:lnTo>
                    <a:pt x="7736" y="4659"/>
                  </a:lnTo>
                  <a:lnTo>
                    <a:pt x="7791" y="4284"/>
                  </a:lnTo>
                  <a:lnTo>
                    <a:pt x="7809" y="3908"/>
                  </a:lnTo>
                  <a:lnTo>
                    <a:pt x="7791" y="3533"/>
                  </a:lnTo>
                  <a:lnTo>
                    <a:pt x="7738" y="3162"/>
                  </a:lnTo>
                  <a:lnTo>
                    <a:pt x="7649" y="2799"/>
                  </a:lnTo>
                  <a:lnTo>
                    <a:pt x="7525" y="2444"/>
                  </a:lnTo>
                  <a:lnTo>
                    <a:pt x="7368" y="2102"/>
                  </a:lnTo>
                  <a:lnTo>
                    <a:pt x="7178" y="1775"/>
                  </a:lnTo>
                  <a:lnTo>
                    <a:pt x="6955" y="1465"/>
                  </a:lnTo>
                  <a:lnTo>
                    <a:pt x="6698" y="1177"/>
                  </a:lnTo>
                  <a:lnTo>
                    <a:pt x="6410" y="910"/>
                  </a:lnTo>
                  <a:lnTo>
                    <a:pt x="6091" y="671"/>
                  </a:lnTo>
                  <a:lnTo>
                    <a:pt x="5749" y="463"/>
                  </a:lnTo>
                  <a:lnTo>
                    <a:pt x="5394" y="294"/>
                  </a:lnTo>
                  <a:lnTo>
                    <a:pt x="5030" y="165"/>
                  </a:lnTo>
                  <a:lnTo>
                    <a:pt x="4659" y="72"/>
                  </a:lnTo>
                  <a:lnTo>
                    <a:pt x="4285" y="18"/>
                  </a:lnTo>
                  <a:lnTo>
                    <a:pt x="3909" y="0"/>
                  </a:lnTo>
                  <a:lnTo>
                    <a:pt x="3533" y="17"/>
                  </a:lnTo>
                  <a:lnTo>
                    <a:pt x="3163" y="71"/>
                  </a:lnTo>
                  <a:lnTo>
                    <a:pt x="2799" y="159"/>
                  </a:lnTo>
                  <a:lnTo>
                    <a:pt x="2445" y="283"/>
                  </a:lnTo>
                  <a:lnTo>
                    <a:pt x="2102" y="440"/>
                  </a:lnTo>
                  <a:lnTo>
                    <a:pt x="1775" y="630"/>
                  </a:lnTo>
                  <a:lnTo>
                    <a:pt x="1466" y="853"/>
                  </a:lnTo>
                  <a:lnTo>
                    <a:pt x="1177" y="1110"/>
                  </a:lnTo>
                  <a:lnTo>
                    <a:pt x="911" y="1398"/>
                  </a:lnTo>
                  <a:lnTo>
                    <a:pt x="670" y="1718"/>
                  </a:lnTo>
                  <a:lnTo>
                    <a:pt x="463" y="2059"/>
                  </a:lnTo>
                  <a:lnTo>
                    <a:pt x="295" y="2414"/>
                  </a:lnTo>
                  <a:lnTo>
                    <a:pt x="165" y="2778"/>
                  </a:lnTo>
                  <a:lnTo>
                    <a:pt x="73" y="3149"/>
                  </a:lnTo>
                  <a:lnTo>
                    <a:pt x="18" y="3523"/>
                  </a:lnTo>
                  <a:lnTo>
                    <a:pt x="0" y="3899"/>
                  </a:lnTo>
                  <a:lnTo>
                    <a:pt x="18" y="4274"/>
                  </a:lnTo>
                  <a:lnTo>
                    <a:pt x="72" y="4645"/>
                  </a:lnTo>
                  <a:lnTo>
                    <a:pt x="160" y="5009"/>
                  </a:lnTo>
                  <a:lnTo>
                    <a:pt x="284" y="5364"/>
                  </a:lnTo>
                  <a:lnTo>
                    <a:pt x="441" y="5706"/>
                  </a:lnTo>
                  <a:lnTo>
                    <a:pt x="631" y="6034"/>
                  </a:lnTo>
                  <a:lnTo>
                    <a:pt x="854" y="6343"/>
                  </a:lnTo>
                  <a:lnTo>
                    <a:pt x="1111" y="6632"/>
                  </a:lnTo>
                  <a:lnTo>
                    <a:pt x="1399" y="6898"/>
                  </a:lnTo>
                  <a:lnTo>
                    <a:pt x="1719" y="7139"/>
                  </a:lnTo>
                  <a:close/>
                </a:path>
              </a:pathLst>
            </a:custGeom>
            <a:solidFill>
              <a:srgbClr val="4e6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79440" y="182160"/>
              <a:ext cx="592200" cy="585000"/>
            </a:xfrm>
            <a:custGeom>
              <a:avLst/>
              <a:gdLst/>
              <a:ahLst/>
              <a:rect l="l" t="t" r="r" b="b"/>
              <a:pathLst>
                <a:path w="7648" h="7650">
                  <a:moveTo>
                    <a:pt x="1684" y="6994"/>
                  </a:moveTo>
                  <a:lnTo>
                    <a:pt x="2018" y="7196"/>
                  </a:lnTo>
                  <a:lnTo>
                    <a:pt x="2365" y="7360"/>
                  </a:lnTo>
                  <a:lnTo>
                    <a:pt x="2721" y="7487"/>
                  </a:lnTo>
                  <a:lnTo>
                    <a:pt x="3084" y="7577"/>
                  </a:lnTo>
                  <a:lnTo>
                    <a:pt x="3452" y="7631"/>
                  </a:lnTo>
                  <a:lnTo>
                    <a:pt x="3820" y="7650"/>
                  </a:lnTo>
                  <a:lnTo>
                    <a:pt x="4186" y="7631"/>
                  </a:lnTo>
                  <a:lnTo>
                    <a:pt x="4550" y="7579"/>
                  </a:lnTo>
                  <a:lnTo>
                    <a:pt x="4906" y="7492"/>
                  </a:lnTo>
                  <a:lnTo>
                    <a:pt x="5254" y="7372"/>
                  </a:lnTo>
                  <a:lnTo>
                    <a:pt x="5589" y="7218"/>
                  </a:lnTo>
                  <a:lnTo>
                    <a:pt x="5910" y="7031"/>
                  </a:lnTo>
                  <a:lnTo>
                    <a:pt x="6213" y="6812"/>
                  </a:lnTo>
                  <a:lnTo>
                    <a:pt x="6497" y="6561"/>
                  </a:lnTo>
                  <a:lnTo>
                    <a:pt x="6757" y="6279"/>
                  </a:lnTo>
                  <a:lnTo>
                    <a:pt x="6993" y="5967"/>
                  </a:lnTo>
                  <a:lnTo>
                    <a:pt x="7195" y="5631"/>
                  </a:lnTo>
                  <a:lnTo>
                    <a:pt x="7360" y="5284"/>
                  </a:lnTo>
                  <a:lnTo>
                    <a:pt x="7486" y="4928"/>
                  </a:lnTo>
                  <a:lnTo>
                    <a:pt x="7577" y="4565"/>
                  </a:lnTo>
                  <a:lnTo>
                    <a:pt x="7631" y="4198"/>
                  </a:lnTo>
                  <a:lnTo>
                    <a:pt x="7648" y="3829"/>
                  </a:lnTo>
                  <a:lnTo>
                    <a:pt x="7631" y="3462"/>
                  </a:lnTo>
                  <a:lnTo>
                    <a:pt x="7578" y="3099"/>
                  </a:lnTo>
                  <a:lnTo>
                    <a:pt x="7492" y="2742"/>
                  </a:lnTo>
                  <a:lnTo>
                    <a:pt x="7370" y="2395"/>
                  </a:lnTo>
                  <a:lnTo>
                    <a:pt x="7216" y="2060"/>
                  </a:lnTo>
                  <a:lnTo>
                    <a:pt x="7030" y="1739"/>
                  </a:lnTo>
                  <a:lnTo>
                    <a:pt x="6811" y="1436"/>
                  </a:lnTo>
                  <a:lnTo>
                    <a:pt x="6560" y="1153"/>
                  </a:lnTo>
                  <a:lnTo>
                    <a:pt x="6279" y="893"/>
                  </a:lnTo>
                  <a:lnTo>
                    <a:pt x="5966" y="658"/>
                  </a:lnTo>
                  <a:lnTo>
                    <a:pt x="5630" y="455"/>
                  </a:lnTo>
                  <a:lnTo>
                    <a:pt x="5284" y="290"/>
                  </a:lnTo>
                  <a:lnTo>
                    <a:pt x="4927" y="162"/>
                  </a:lnTo>
                  <a:lnTo>
                    <a:pt x="4564" y="72"/>
                  </a:lnTo>
                  <a:lnTo>
                    <a:pt x="4197" y="18"/>
                  </a:lnTo>
                  <a:lnTo>
                    <a:pt x="3828" y="0"/>
                  </a:lnTo>
                  <a:lnTo>
                    <a:pt x="3461" y="18"/>
                  </a:lnTo>
                  <a:lnTo>
                    <a:pt x="3098" y="70"/>
                  </a:lnTo>
                  <a:lnTo>
                    <a:pt x="2742" y="157"/>
                  </a:lnTo>
                  <a:lnTo>
                    <a:pt x="2394" y="277"/>
                  </a:lnTo>
                  <a:lnTo>
                    <a:pt x="2059" y="431"/>
                  </a:lnTo>
                  <a:lnTo>
                    <a:pt x="1738" y="618"/>
                  </a:lnTo>
                  <a:lnTo>
                    <a:pt x="1435" y="837"/>
                  </a:lnTo>
                  <a:lnTo>
                    <a:pt x="1152" y="1088"/>
                  </a:lnTo>
                  <a:lnTo>
                    <a:pt x="892" y="1370"/>
                  </a:lnTo>
                  <a:lnTo>
                    <a:pt x="657" y="1684"/>
                  </a:lnTo>
                  <a:lnTo>
                    <a:pt x="454" y="2018"/>
                  </a:lnTo>
                  <a:lnTo>
                    <a:pt x="289" y="2365"/>
                  </a:lnTo>
                  <a:lnTo>
                    <a:pt x="161" y="2722"/>
                  </a:lnTo>
                  <a:lnTo>
                    <a:pt x="71" y="3085"/>
                  </a:lnTo>
                  <a:lnTo>
                    <a:pt x="18" y="3453"/>
                  </a:lnTo>
                  <a:lnTo>
                    <a:pt x="0" y="3820"/>
                  </a:lnTo>
                  <a:lnTo>
                    <a:pt x="18" y="4188"/>
                  </a:lnTo>
                  <a:lnTo>
                    <a:pt x="70" y="4551"/>
                  </a:lnTo>
                  <a:lnTo>
                    <a:pt x="157" y="4908"/>
                  </a:lnTo>
                  <a:lnTo>
                    <a:pt x="277" y="5254"/>
                  </a:lnTo>
                  <a:lnTo>
                    <a:pt x="431" y="5590"/>
                  </a:lnTo>
                  <a:lnTo>
                    <a:pt x="619" y="5910"/>
                  </a:lnTo>
                  <a:lnTo>
                    <a:pt x="838" y="6213"/>
                  </a:lnTo>
                  <a:lnTo>
                    <a:pt x="1088" y="6497"/>
                  </a:lnTo>
                  <a:lnTo>
                    <a:pt x="1370" y="6758"/>
                  </a:lnTo>
                  <a:lnTo>
                    <a:pt x="1684" y="6994"/>
                  </a:lnTo>
                  <a:close/>
                </a:path>
              </a:pathLst>
            </a:custGeom>
            <a:solidFill>
              <a:srgbClr val="506b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88440" y="184680"/>
              <a:ext cx="580320" cy="573120"/>
            </a:xfrm>
            <a:custGeom>
              <a:avLst/>
              <a:gdLst/>
              <a:ahLst/>
              <a:rect l="l" t="t" r="r" b="b"/>
              <a:pathLst>
                <a:path w="7489" h="7488">
                  <a:moveTo>
                    <a:pt x="1649" y="6846"/>
                  </a:moveTo>
                  <a:lnTo>
                    <a:pt x="1976" y="7044"/>
                  </a:lnTo>
                  <a:lnTo>
                    <a:pt x="2315" y="7205"/>
                  </a:lnTo>
                  <a:lnTo>
                    <a:pt x="2665" y="7330"/>
                  </a:lnTo>
                  <a:lnTo>
                    <a:pt x="3020" y="7418"/>
                  </a:lnTo>
                  <a:lnTo>
                    <a:pt x="3380" y="7470"/>
                  </a:lnTo>
                  <a:lnTo>
                    <a:pt x="3740" y="7488"/>
                  </a:lnTo>
                  <a:lnTo>
                    <a:pt x="4099" y="7471"/>
                  </a:lnTo>
                  <a:lnTo>
                    <a:pt x="4455" y="7419"/>
                  </a:lnTo>
                  <a:lnTo>
                    <a:pt x="4804" y="7334"/>
                  </a:lnTo>
                  <a:lnTo>
                    <a:pt x="5144" y="7216"/>
                  </a:lnTo>
                  <a:lnTo>
                    <a:pt x="5473" y="7066"/>
                  </a:lnTo>
                  <a:lnTo>
                    <a:pt x="5787" y="6883"/>
                  </a:lnTo>
                  <a:lnTo>
                    <a:pt x="6083" y="6668"/>
                  </a:lnTo>
                  <a:lnTo>
                    <a:pt x="6361" y="6423"/>
                  </a:lnTo>
                  <a:lnTo>
                    <a:pt x="6616" y="6146"/>
                  </a:lnTo>
                  <a:lnTo>
                    <a:pt x="6846" y="5840"/>
                  </a:lnTo>
                  <a:lnTo>
                    <a:pt x="7044" y="5512"/>
                  </a:lnTo>
                  <a:lnTo>
                    <a:pt x="7206" y="5173"/>
                  </a:lnTo>
                  <a:lnTo>
                    <a:pt x="7330" y="4823"/>
                  </a:lnTo>
                  <a:lnTo>
                    <a:pt x="7418" y="4468"/>
                  </a:lnTo>
                  <a:lnTo>
                    <a:pt x="7470" y="4108"/>
                  </a:lnTo>
                  <a:lnTo>
                    <a:pt x="7489" y="3748"/>
                  </a:lnTo>
                  <a:lnTo>
                    <a:pt x="7472" y="3389"/>
                  </a:lnTo>
                  <a:lnTo>
                    <a:pt x="7421" y="3033"/>
                  </a:lnTo>
                  <a:lnTo>
                    <a:pt x="7335" y="2684"/>
                  </a:lnTo>
                  <a:lnTo>
                    <a:pt x="7217" y="2344"/>
                  </a:lnTo>
                  <a:lnTo>
                    <a:pt x="7067" y="2015"/>
                  </a:lnTo>
                  <a:lnTo>
                    <a:pt x="6884" y="1702"/>
                  </a:lnTo>
                  <a:lnTo>
                    <a:pt x="6669" y="1405"/>
                  </a:lnTo>
                  <a:lnTo>
                    <a:pt x="6423" y="1128"/>
                  </a:lnTo>
                  <a:lnTo>
                    <a:pt x="6148" y="872"/>
                  </a:lnTo>
                  <a:lnTo>
                    <a:pt x="5842" y="643"/>
                  </a:lnTo>
                  <a:lnTo>
                    <a:pt x="5513" y="444"/>
                  </a:lnTo>
                  <a:lnTo>
                    <a:pt x="5173" y="282"/>
                  </a:lnTo>
                  <a:lnTo>
                    <a:pt x="4824" y="158"/>
                  </a:lnTo>
                  <a:lnTo>
                    <a:pt x="4469" y="70"/>
                  </a:lnTo>
                  <a:lnTo>
                    <a:pt x="4109" y="17"/>
                  </a:lnTo>
                  <a:lnTo>
                    <a:pt x="3749" y="0"/>
                  </a:lnTo>
                  <a:lnTo>
                    <a:pt x="3389" y="17"/>
                  </a:lnTo>
                  <a:lnTo>
                    <a:pt x="3033" y="68"/>
                  </a:lnTo>
                  <a:lnTo>
                    <a:pt x="2684" y="153"/>
                  </a:lnTo>
                  <a:lnTo>
                    <a:pt x="2344" y="271"/>
                  </a:lnTo>
                  <a:lnTo>
                    <a:pt x="2017" y="422"/>
                  </a:lnTo>
                  <a:lnTo>
                    <a:pt x="1702" y="605"/>
                  </a:lnTo>
                  <a:lnTo>
                    <a:pt x="1405" y="818"/>
                  </a:lnTo>
                  <a:lnTo>
                    <a:pt x="1128" y="1064"/>
                  </a:lnTo>
                  <a:lnTo>
                    <a:pt x="873" y="1340"/>
                  </a:lnTo>
                  <a:lnTo>
                    <a:pt x="643" y="1647"/>
                  </a:lnTo>
                  <a:lnTo>
                    <a:pt x="444" y="1975"/>
                  </a:lnTo>
                  <a:lnTo>
                    <a:pt x="283" y="2314"/>
                  </a:lnTo>
                  <a:lnTo>
                    <a:pt x="158" y="2664"/>
                  </a:lnTo>
                  <a:lnTo>
                    <a:pt x="70" y="3019"/>
                  </a:lnTo>
                  <a:lnTo>
                    <a:pt x="18" y="3378"/>
                  </a:lnTo>
                  <a:lnTo>
                    <a:pt x="0" y="3740"/>
                  </a:lnTo>
                  <a:lnTo>
                    <a:pt x="18" y="4099"/>
                  </a:lnTo>
                  <a:lnTo>
                    <a:pt x="69" y="4454"/>
                  </a:lnTo>
                  <a:lnTo>
                    <a:pt x="154" y="4804"/>
                  </a:lnTo>
                  <a:lnTo>
                    <a:pt x="272" y="5143"/>
                  </a:lnTo>
                  <a:lnTo>
                    <a:pt x="423" y="5471"/>
                  </a:lnTo>
                  <a:lnTo>
                    <a:pt x="606" y="5786"/>
                  </a:lnTo>
                  <a:lnTo>
                    <a:pt x="821" y="6083"/>
                  </a:lnTo>
                  <a:lnTo>
                    <a:pt x="1066" y="6360"/>
                  </a:lnTo>
                  <a:lnTo>
                    <a:pt x="1342" y="6615"/>
                  </a:lnTo>
                  <a:lnTo>
                    <a:pt x="1649" y="6846"/>
                  </a:lnTo>
                  <a:close/>
                </a:path>
              </a:pathLst>
            </a:custGeom>
            <a:solidFill>
              <a:srgbClr val="526e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97800" y="186480"/>
              <a:ext cx="568080" cy="560880"/>
            </a:xfrm>
            <a:custGeom>
              <a:avLst/>
              <a:gdLst/>
              <a:ahLst/>
              <a:rect l="l" t="t" r="r" b="b"/>
              <a:pathLst>
                <a:path w="7328" h="7326">
                  <a:moveTo>
                    <a:pt x="1613" y="6698"/>
                  </a:moveTo>
                  <a:lnTo>
                    <a:pt x="1933" y="6891"/>
                  </a:lnTo>
                  <a:lnTo>
                    <a:pt x="2266" y="7049"/>
                  </a:lnTo>
                  <a:lnTo>
                    <a:pt x="2607" y="7171"/>
                  </a:lnTo>
                  <a:lnTo>
                    <a:pt x="2956" y="7257"/>
                  </a:lnTo>
                  <a:lnTo>
                    <a:pt x="3306" y="7309"/>
                  </a:lnTo>
                  <a:lnTo>
                    <a:pt x="3659" y="7326"/>
                  </a:lnTo>
                  <a:lnTo>
                    <a:pt x="4011" y="7309"/>
                  </a:lnTo>
                  <a:lnTo>
                    <a:pt x="4360" y="7259"/>
                  </a:lnTo>
                  <a:lnTo>
                    <a:pt x="4701" y="7176"/>
                  </a:lnTo>
                  <a:lnTo>
                    <a:pt x="5034" y="7062"/>
                  </a:lnTo>
                  <a:lnTo>
                    <a:pt x="5355" y="6914"/>
                  </a:lnTo>
                  <a:lnTo>
                    <a:pt x="5662" y="6735"/>
                  </a:lnTo>
                  <a:lnTo>
                    <a:pt x="5953" y="6525"/>
                  </a:lnTo>
                  <a:lnTo>
                    <a:pt x="6225" y="6284"/>
                  </a:lnTo>
                  <a:lnTo>
                    <a:pt x="6473" y="6014"/>
                  </a:lnTo>
                  <a:lnTo>
                    <a:pt x="6700" y="5716"/>
                  </a:lnTo>
                  <a:lnTo>
                    <a:pt x="6893" y="5395"/>
                  </a:lnTo>
                  <a:lnTo>
                    <a:pt x="7051" y="5062"/>
                  </a:lnTo>
                  <a:lnTo>
                    <a:pt x="7173" y="4721"/>
                  </a:lnTo>
                  <a:lnTo>
                    <a:pt x="7259" y="4372"/>
                  </a:lnTo>
                  <a:lnTo>
                    <a:pt x="7311" y="4021"/>
                  </a:lnTo>
                  <a:lnTo>
                    <a:pt x="7328" y="3668"/>
                  </a:lnTo>
                  <a:lnTo>
                    <a:pt x="7311" y="3316"/>
                  </a:lnTo>
                  <a:lnTo>
                    <a:pt x="7261" y="2968"/>
                  </a:lnTo>
                  <a:lnTo>
                    <a:pt x="7178" y="2626"/>
                  </a:lnTo>
                  <a:lnTo>
                    <a:pt x="7062" y="2294"/>
                  </a:lnTo>
                  <a:lnTo>
                    <a:pt x="6915" y="1973"/>
                  </a:lnTo>
                  <a:lnTo>
                    <a:pt x="6736" y="1665"/>
                  </a:lnTo>
                  <a:lnTo>
                    <a:pt x="6526" y="1375"/>
                  </a:lnTo>
                  <a:lnTo>
                    <a:pt x="6285" y="1103"/>
                  </a:lnTo>
                  <a:lnTo>
                    <a:pt x="6015" y="854"/>
                  </a:lnTo>
                  <a:lnTo>
                    <a:pt x="5717" y="629"/>
                  </a:lnTo>
                  <a:lnTo>
                    <a:pt x="5395" y="434"/>
                  </a:lnTo>
                  <a:lnTo>
                    <a:pt x="5063" y="277"/>
                  </a:lnTo>
                  <a:lnTo>
                    <a:pt x="4721" y="155"/>
                  </a:lnTo>
                  <a:lnTo>
                    <a:pt x="4373" y="69"/>
                  </a:lnTo>
                  <a:lnTo>
                    <a:pt x="4022" y="17"/>
                  </a:lnTo>
                  <a:lnTo>
                    <a:pt x="3669" y="0"/>
                  </a:lnTo>
                  <a:lnTo>
                    <a:pt x="3317" y="17"/>
                  </a:lnTo>
                  <a:lnTo>
                    <a:pt x="2968" y="66"/>
                  </a:lnTo>
                  <a:lnTo>
                    <a:pt x="2627" y="149"/>
                  </a:lnTo>
                  <a:lnTo>
                    <a:pt x="2294" y="265"/>
                  </a:lnTo>
                  <a:lnTo>
                    <a:pt x="1973" y="412"/>
                  </a:lnTo>
                  <a:lnTo>
                    <a:pt x="1666" y="592"/>
                  </a:lnTo>
                  <a:lnTo>
                    <a:pt x="1376" y="801"/>
                  </a:lnTo>
                  <a:lnTo>
                    <a:pt x="1104" y="1041"/>
                  </a:lnTo>
                  <a:lnTo>
                    <a:pt x="855" y="1312"/>
                  </a:lnTo>
                  <a:lnTo>
                    <a:pt x="630" y="1612"/>
                  </a:lnTo>
                  <a:lnTo>
                    <a:pt x="435" y="1932"/>
                  </a:lnTo>
                  <a:lnTo>
                    <a:pt x="278" y="2265"/>
                  </a:lnTo>
                  <a:lnTo>
                    <a:pt x="155" y="2606"/>
                  </a:lnTo>
                  <a:lnTo>
                    <a:pt x="69" y="2954"/>
                  </a:lnTo>
                  <a:lnTo>
                    <a:pt x="17" y="3306"/>
                  </a:lnTo>
                  <a:lnTo>
                    <a:pt x="0" y="3659"/>
                  </a:lnTo>
                  <a:lnTo>
                    <a:pt x="17" y="4010"/>
                  </a:lnTo>
                  <a:lnTo>
                    <a:pt x="67" y="4358"/>
                  </a:lnTo>
                  <a:lnTo>
                    <a:pt x="150" y="4699"/>
                  </a:lnTo>
                  <a:lnTo>
                    <a:pt x="266" y="5032"/>
                  </a:lnTo>
                  <a:lnTo>
                    <a:pt x="414" y="5353"/>
                  </a:lnTo>
                  <a:lnTo>
                    <a:pt x="592" y="5660"/>
                  </a:lnTo>
                  <a:lnTo>
                    <a:pt x="803" y="5951"/>
                  </a:lnTo>
                  <a:lnTo>
                    <a:pt x="1043" y="6223"/>
                  </a:lnTo>
                  <a:lnTo>
                    <a:pt x="1313" y="6472"/>
                  </a:lnTo>
                  <a:lnTo>
                    <a:pt x="1613" y="6698"/>
                  </a:lnTo>
                  <a:close/>
                </a:path>
              </a:pathLst>
            </a:custGeom>
            <a:solidFill>
              <a:srgbClr val="557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07160" y="189360"/>
              <a:ext cx="555840" cy="548280"/>
            </a:xfrm>
            <a:custGeom>
              <a:avLst/>
              <a:gdLst/>
              <a:ahLst/>
              <a:rect l="l" t="t" r="r" b="b"/>
              <a:pathLst>
                <a:path w="7167" h="7167">
                  <a:moveTo>
                    <a:pt x="1577" y="6552"/>
                  </a:moveTo>
                  <a:lnTo>
                    <a:pt x="1891" y="6741"/>
                  </a:lnTo>
                  <a:lnTo>
                    <a:pt x="2216" y="6896"/>
                  </a:lnTo>
                  <a:lnTo>
                    <a:pt x="2550" y="7015"/>
                  </a:lnTo>
                  <a:lnTo>
                    <a:pt x="2890" y="7100"/>
                  </a:lnTo>
                  <a:lnTo>
                    <a:pt x="3233" y="7150"/>
                  </a:lnTo>
                  <a:lnTo>
                    <a:pt x="3579" y="7167"/>
                  </a:lnTo>
                  <a:lnTo>
                    <a:pt x="3923" y="7151"/>
                  </a:lnTo>
                  <a:lnTo>
                    <a:pt x="4264" y="7102"/>
                  </a:lnTo>
                  <a:lnTo>
                    <a:pt x="4597" y="7020"/>
                  </a:lnTo>
                  <a:lnTo>
                    <a:pt x="4923" y="6907"/>
                  </a:lnTo>
                  <a:lnTo>
                    <a:pt x="5236" y="6763"/>
                  </a:lnTo>
                  <a:lnTo>
                    <a:pt x="5537" y="6588"/>
                  </a:lnTo>
                  <a:lnTo>
                    <a:pt x="5821" y="6383"/>
                  </a:lnTo>
                  <a:lnTo>
                    <a:pt x="6087" y="6148"/>
                  </a:lnTo>
                  <a:lnTo>
                    <a:pt x="6331" y="5883"/>
                  </a:lnTo>
                  <a:lnTo>
                    <a:pt x="6552" y="5591"/>
                  </a:lnTo>
                  <a:lnTo>
                    <a:pt x="6742" y="5276"/>
                  </a:lnTo>
                  <a:lnTo>
                    <a:pt x="6896" y="4951"/>
                  </a:lnTo>
                  <a:lnTo>
                    <a:pt x="7015" y="4617"/>
                  </a:lnTo>
                  <a:lnTo>
                    <a:pt x="7100" y="4277"/>
                  </a:lnTo>
                  <a:lnTo>
                    <a:pt x="7150" y="3934"/>
                  </a:lnTo>
                  <a:lnTo>
                    <a:pt x="7167" y="3588"/>
                  </a:lnTo>
                  <a:lnTo>
                    <a:pt x="7150" y="3244"/>
                  </a:lnTo>
                  <a:lnTo>
                    <a:pt x="7101" y="2904"/>
                  </a:lnTo>
                  <a:lnTo>
                    <a:pt x="7020" y="2570"/>
                  </a:lnTo>
                  <a:lnTo>
                    <a:pt x="6906" y="2245"/>
                  </a:lnTo>
                  <a:lnTo>
                    <a:pt x="6763" y="1931"/>
                  </a:lnTo>
                  <a:lnTo>
                    <a:pt x="6587" y="1630"/>
                  </a:lnTo>
                  <a:lnTo>
                    <a:pt x="6382" y="1346"/>
                  </a:lnTo>
                  <a:lnTo>
                    <a:pt x="6147" y="1080"/>
                  </a:lnTo>
                  <a:lnTo>
                    <a:pt x="5883" y="836"/>
                  </a:lnTo>
                  <a:lnTo>
                    <a:pt x="5590" y="616"/>
                  </a:lnTo>
                  <a:lnTo>
                    <a:pt x="5276" y="426"/>
                  </a:lnTo>
                  <a:lnTo>
                    <a:pt x="4950" y="271"/>
                  </a:lnTo>
                  <a:lnTo>
                    <a:pt x="4616" y="152"/>
                  </a:lnTo>
                  <a:lnTo>
                    <a:pt x="4276" y="67"/>
                  </a:lnTo>
                  <a:lnTo>
                    <a:pt x="3932" y="17"/>
                  </a:lnTo>
                  <a:lnTo>
                    <a:pt x="3586" y="0"/>
                  </a:lnTo>
                  <a:lnTo>
                    <a:pt x="3243" y="16"/>
                  </a:lnTo>
                  <a:lnTo>
                    <a:pt x="2903" y="66"/>
                  </a:lnTo>
                  <a:lnTo>
                    <a:pt x="2569" y="147"/>
                  </a:lnTo>
                  <a:lnTo>
                    <a:pt x="2244" y="260"/>
                  </a:lnTo>
                  <a:lnTo>
                    <a:pt x="1929" y="404"/>
                  </a:lnTo>
                  <a:lnTo>
                    <a:pt x="1629" y="579"/>
                  </a:lnTo>
                  <a:lnTo>
                    <a:pt x="1345" y="784"/>
                  </a:lnTo>
                  <a:lnTo>
                    <a:pt x="1079" y="1019"/>
                  </a:lnTo>
                  <a:lnTo>
                    <a:pt x="836" y="1284"/>
                  </a:lnTo>
                  <a:lnTo>
                    <a:pt x="616" y="1577"/>
                  </a:lnTo>
                  <a:lnTo>
                    <a:pt x="426" y="1891"/>
                  </a:lnTo>
                  <a:lnTo>
                    <a:pt x="272" y="2216"/>
                  </a:lnTo>
                  <a:lnTo>
                    <a:pt x="151" y="2550"/>
                  </a:lnTo>
                  <a:lnTo>
                    <a:pt x="67" y="2890"/>
                  </a:lnTo>
                  <a:lnTo>
                    <a:pt x="16" y="3234"/>
                  </a:lnTo>
                  <a:lnTo>
                    <a:pt x="0" y="3580"/>
                  </a:lnTo>
                  <a:lnTo>
                    <a:pt x="16" y="3923"/>
                  </a:lnTo>
                  <a:lnTo>
                    <a:pt x="65" y="4263"/>
                  </a:lnTo>
                  <a:lnTo>
                    <a:pt x="147" y="4598"/>
                  </a:lnTo>
                  <a:lnTo>
                    <a:pt x="260" y="4924"/>
                  </a:lnTo>
                  <a:lnTo>
                    <a:pt x="403" y="5237"/>
                  </a:lnTo>
                  <a:lnTo>
                    <a:pt x="579" y="5538"/>
                  </a:lnTo>
                  <a:lnTo>
                    <a:pt x="784" y="5822"/>
                  </a:lnTo>
                  <a:lnTo>
                    <a:pt x="1019" y="6088"/>
                  </a:lnTo>
                  <a:lnTo>
                    <a:pt x="1284" y="6331"/>
                  </a:lnTo>
                  <a:lnTo>
                    <a:pt x="1577" y="6552"/>
                  </a:lnTo>
                  <a:close/>
                </a:path>
              </a:pathLst>
            </a:custGeom>
            <a:solidFill>
              <a:srgbClr val="577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16520" y="191880"/>
              <a:ext cx="542880" cy="535320"/>
            </a:xfrm>
            <a:custGeom>
              <a:avLst/>
              <a:gdLst/>
              <a:ahLst/>
              <a:rect l="l" t="t" r="r" b="b"/>
              <a:pathLst>
                <a:path w="7005" h="7006">
                  <a:moveTo>
                    <a:pt x="1541" y="6405"/>
                  </a:moveTo>
                  <a:lnTo>
                    <a:pt x="1847" y="6590"/>
                  </a:lnTo>
                  <a:lnTo>
                    <a:pt x="2165" y="6741"/>
                  </a:lnTo>
                  <a:lnTo>
                    <a:pt x="2492" y="6857"/>
                  </a:lnTo>
                  <a:lnTo>
                    <a:pt x="2824" y="6940"/>
                  </a:lnTo>
                  <a:lnTo>
                    <a:pt x="3161" y="6990"/>
                  </a:lnTo>
                  <a:lnTo>
                    <a:pt x="3498" y="7006"/>
                  </a:lnTo>
                  <a:lnTo>
                    <a:pt x="3834" y="6990"/>
                  </a:lnTo>
                  <a:lnTo>
                    <a:pt x="4167" y="6942"/>
                  </a:lnTo>
                  <a:lnTo>
                    <a:pt x="4494" y="6862"/>
                  </a:lnTo>
                  <a:lnTo>
                    <a:pt x="4812" y="6752"/>
                  </a:lnTo>
                  <a:lnTo>
                    <a:pt x="5120" y="6611"/>
                  </a:lnTo>
                  <a:lnTo>
                    <a:pt x="5413" y="6439"/>
                  </a:lnTo>
                  <a:lnTo>
                    <a:pt x="5690" y="6238"/>
                  </a:lnTo>
                  <a:lnTo>
                    <a:pt x="5950" y="6009"/>
                  </a:lnTo>
                  <a:lnTo>
                    <a:pt x="6189" y="5750"/>
                  </a:lnTo>
                  <a:lnTo>
                    <a:pt x="6405" y="5465"/>
                  </a:lnTo>
                  <a:lnTo>
                    <a:pt x="6590" y="5157"/>
                  </a:lnTo>
                  <a:lnTo>
                    <a:pt x="6741" y="4839"/>
                  </a:lnTo>
                  <a:lnTo>
                    <a:pt x="6857" y="4513"/>
                  </a:lnTo>
                  <a:lnTo>
                    <a:pt x="6940" y="4181"/>
                  </a:lnTo>
                  <a:lnTo>
                    <a:pt x="6990" y="3845"/>
                  </a:lnTo>
                  <a:lnTo>
                    <a:pt x="7005" y="3507"/>
                  </a:lnTo>
                  <a:lnTo>
                    <a:pt x="6990" y="3171"/>
                  </a:lnTo>
                  <a:lnTo>
                    <a:pt x="6942" y="2839"/>
                  </a:lnTo>
                  <a:lnTo>
                    <a:pt x="6862" y="2512"/>
                  </a:lnTo>
                  <a:lnTo>
                    <a:pt x="6751" y="2193"/>
                  </a:lnTo>
                  <a:lnTo>
                    <a:pt x="6610" y="1887"/>
                  </a:lnTo>
                  <a:lnTo>
                    <a:pt x="6439" y="1593"/>
                  </a:lnTo>
                  <a:lnTo>
                    <a:pt x="6238" y="1315"/>
                  </a:lnTo>
                  <a:lnTo>
                    <a:pt x="6008" y="1056"/>
                  </a:lnTo>
                  <a:lnTo>
                    <a:pt x="5750" y="817"/>
                  </a:lnTo>
                  <a:lnTo>
                    <a:pt x="5464" y="602"/>
                  </a:lnTo>
                  <a:lnTo>
                    <a:pt x="5157" y="416"/>
                  </a:lnTo>
                  <a:lnTo>
                    <a:pt x="4839" y="265"/>
                  </a:lnTo>
                  <a:lnTo>
                    <a:pt x="4512" y="149"/>
                  </a:lnTo>
                  <a:lnTo>
                    <a:pt x="4180" y="66"/>
                  </a:lnTo>
                  <a:lnTo>
                    <a:pt x="3844" y="17"/>
                  </a:lnTo>
                  <a:lnTo>
                    <a:pt x="3507" y="0"/>
                  </a:lnTo>
                  <a:lnTo>
                    <a:pt x="3170" y="16"/>
                  </a:lnTo>
                  <a:lnTo>
                    <a:pt x="2838" y="65"/>
                  </a:lnTo>
                  <a:lnTo>
                    <a:pt x="2511" y="144"/>
                  </a:lnTo>
                  <a:lnTo>
                    <a:pt x="2193" y="254"/>
                  </a:lnTo>
                  <a:lnTo>
                    <a:pt x="1886" y="396"/>
                  </a:lnTo>
                  <a:lnTo>
                    <a:pt x="1592" y="567"/>
                  </a:lnTo>
                  <a:lnTo>
                    <a:pt x="1315" y="767"/>
                  </a:lnTo>
                  <a:lnTo>
                    <a:pt x="1055" y="996"/>
                  </a:lnTo>
                  <a:lnTo>
                    <a:pt x="816" y="1255"/>
                  </a:lnTo>
                  <a:lnTo>
                    <a:pt x="601" y="1542"/>
                  </a:lnTo>
                  <a:lnTo>
                    <a:pt x="415" y="1848"/>
                  </a:lnTo>
                  <a:lnTo>
                    <a:pt x="264" y="2166"/>
                  </a:lnTo>
                  <a:lnTo>
                    <a:pt x="148" y="2492"/>
                  </a:lnTo>
                  <a:lnTo>
                    <a:pt x="65" y="2825"/>
                  </a:lnTo>
                  <a:lnTo>
                    <a:pt x="17" y="3162"/>
                  </a:lnTo>
                  <a:lnTo>
                    <a:pt x="0" y="3499"/>
                  </a:lnTo>
                  <a:lnTo>
                    <a:pt x="16" y="3835"/>
                  </a:lnTo>
                  <a:lnTo>
                    <a:pt x="64" y="4168"/>
                  </a:lnTo>
                  <a:lnTo>
                    <a:pt x="143" y="4495"/>
                  </a:lnTo>
                  <a:lnTo>
                    <a:pt x="254" y="4813"/>
                  </a:lnTo>
                  <a:lnTo>
                    <a:pt x="395" y="5120"/>
                  </a:lnTo>
                  <a:lnTo>
                    <a:pt x="566" y="5413"/>
                  </a:lnTo>
                  <a:lnTo>
                    <a:pt x="766" y="5691"/>
                  </a:lnTo>
                  <a:lnTo>
                    <a:pt x="996" y="5950"/>
                  </a:lnTo>
                  <a:lnTo>
                    <a:pt x="1254" y="6190"/>
                  </a:lnTo>
                  <a:lnTo>
                    <a:pt x="1541" y="6405"/>
                  </a:lnTo>
                  <a:close/>
                </a:path>
              </a:pathLst>
            </a:custGeom>
            <a:solidFill>
              <a:srgbClr val="5a76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26600" y="194040"/>
              <a:ext cx="529920" cy="524160"/>
            </a:xfrm>
            <a:custGeom>
              <a:avLst/>
              <a:gdLst/>
              <a:ahLst/>
              <a:rect l="l" t="t" r="r" b="b"/>
              <a:pathLst>
                <a:path w="6845" h="6844">
                  <a:moveTo>
                    <a:pt x="1506" y="6259"/>
                  </a:moveTo>
                  <a:lnTo>
                    <a:pt x="1806" y="6439"/>
                  </a:lnTo>
                  <a:lnTo>
                    <a:pt x="2116" y="6586"/>
                  </a:lnTo>
                  <a:lnTo>
                    <a:pt x="2435" y="6700"/>
                  </a:lnTo>
                  <a:lnTo>
                    <a:pt x="2760" y="6781"/>
                  </a:lnTo>
                  <a:lnTo>
                    <a:pt x="3088" y="6828"/>
                  </a:lnTo>
                  <a:lnTo>
                    <a:pt x="3419" y="6844"/>
                  </a:lnTo>
                  <a:lnTo>
                    <a:pt x="3747" y="6829"/>
                  </a:lnTo>
                  <a:lnTo>
                    <a:pt x="4071" y="6783"/>
                  </a:lnTo>
                  <a:lnTo>
                    <a:pt x="4391" y="6704"/>
                  </a:lnTo>
                  <a:lnTo>
                    <a:pt x="4702" y="6597"/>
                  </a:lnTo>
                  <a:lnTo>
                    <a:pt x="5002" y="6458"/>
                  </a:lnTo>
                  <a:lnTo>
                    <a:pt x="5289" y="6292"/>
                  </a:lnTo>
                  <a:lnTo>
                    <a:pt x="5560" y="6096"/>
                  </a:lnTo>
                  <a:lnTo>
                    <a:pt x="5814" y="5871"/>
                  </a:lnTo>
                  <a:lnTo>
                    <a:pt x="6047" y="5619"/>
                  </a:lnTo>
                  <a:lnTo>
                    <a:pt x="6258" y="5339"/>
                  </a:lnTo>
                  <a:lnTo>
                    <a:pt x="6439" y="5038"/>
                  </a:lnTo>
                  <a:lnTo>
                    <a:pt x="6586" y="4728"/>
                  </a:lnTo>
                  <a:lnTo>
                    <a:pt x="6700" y="4409"/>
                  </a:lnTo>
                  <a:lnTo>
                    <a:pt x="6780" y="4085"/>
                  </a:lnTo>
                  <a:lnTo>
                    <a:pt x="6829" y="3756"/>
                  </a:lnTo>
                  <a:lnTo>
                    <a:pt x="6845" y="3427"/>
                  </a:lnTo>
                  <a:lnTo>
                    <a:pt x="6829" y="3097"/>
                  </a:lnTo>
                  <a:lnTo>
                    <a:pt x="6782" y="2773"/>
                  </a:lnTo>
                  <a:lnTo>
                    <a:pt x="6705" y="2454"/>
                  </a:lnTo>
                  <a:lnTo>
                    <a:pt x="6596" y="2142"/>
                  </a:lnTo>
                  <a:lnTo>
                    <a:pt x="6459" y="1843"/>
                  </a:lnTo>
                  <a:lnTo>
                    <a:pt x="6291" y="1556"/>
                  </a:lnTo>
                  <a:lnTo>
                    <a:pt x="6096" y="1284"/>
                  </a:lnTo>
                  <a:lnTo>
                    <a:pt x="5871" y="1031"/>
                  </a:lnTo>
                  <a:lnTo>
                    <a:pt x="5618" y="798"/>
                  </a:lnTo>
                  <a:lnTo>
                    <a:pt x="5339" y="588"/>
                  </a:lnTo>
                  <a:lnTo>
                    <a:pt x="5039" y="406"/>
                  </a:lnTo>
                  <a:lnTo>
                    <a:pt x="4727" y="259"/>
                  </a:lnTo>
                  <a:lnTo>
                    <a:pt x="4408" y="145"/>
                  </a:lnTo>
                  <a:lnTo>
                    <a:pt x="4084" y="64"/>
                  </a:lnTo>
                  <a:lnTo>
                    <a:pt x="3756" y="16"/>
                  </a:lnTo>
                  <a:lnTo>
                    <a:pt x="3426" y="0"/>
                  </a:lnTo>
                  <a:lnTo>
                    <a:pt x="3098" y="15"/>
                  </a:lnTo>
                  <a:lnTo>
                    <a:pt x="2772" y="63"/>
                  </a:lnTo>
                  <a:lnTo>
                    <a:pt x="2453" y="140"/>
                  </a:lnTo>
                  <a:lnTo>
                    <a:pt x="2143" y="248"/>
                  </a:lnTo>
                  <a:lnTo>
                    <a:pt x="1843" y="385"/>
                  </a:lnTo>
                  <a:lnTo>
                    <a:pt x="1556" y="553"/>
                  </a:lnTo>
                  <a:lnTo>
                    <a:pt x="1285" y="749"/>
                  </a:lnTo>
                  <a:lnTo>
                    <a:pt x="1031" y="973"/>
                  </a:lnTo>
                  <a:lnTo>
                    <a:pt x="798" y="1225"/>
                  </a:lnTo>
                  <a:lnTo>
                    <a:pt x="588" y="1506"/>
                  </a:lnTo>
                  <a:lnTo>
                    <a:pt x="406" y="1805"/>
                  </a:lnTo>
                  <a:lnTo>
                    <a:pt x="258" y="2116"/>
                  </a:lnTo>
                  <a:lnTo>
                    <a:pt x="144" y="2435"/>
                  </a:lnTo>
                  <a:lnTo>
                    <a:pt x="64" y="2759"/>
                  </a:lnTo>
                  <a:lnTo>
                    <a:pt x="16" y="3088"/>
                  </a:lnTo>
                  <a:lnTo>
                    <a:pt x="0" y="3418"/>
                  </a:lnTo>
                  <a:lnTo>
                    <a:pt x="16" y="3747"/>
                  </a:lnTo>
                  <a:lnTo>
                    <a:pt x="62" y="4072"/>
                  </a:lnTo>
                  <a:lnTo>
                    <a:pt x="140" y="4391"/>
                  </a:lnTo>
                  <a:lnTo>
                    <a:pt x="249" y="4702"/>
                  </a:lnTo>
                  <a:lnTo>
                    <a:pt x="386" y="5002"/>
                  </a:lnTo>
                  <a:lnTo>
                    <a:pt x="553" y="5289"/>
                  </a:lnTo>
                  <a:lnTo>
                    <a:pt x="749" y="5560"/>
                  </a:lnTo>
                  <a:lnTo>
                    <a:pt x="974" y="5814"/>
                  </a:lnTo>
                  <a:lnTo>
                    <a:pt x="1226" y="6047"/>
                  </a:lnTo>
                  <a:lnTo>
                    <a:pt x="1506" y="6259"/>
                  </a:lnTo>
                  <a:close/>
                </a:path>
              </a:pathLst>
            </a:custGeom>
            <a:solidFill>
              <a:srgbClr val="5c7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35960" y="196560"/>
              <a:ext cx="517680" cy="511560"/>
            </a:xfrm>
            <a:custGeom>
              <a:avLst/>
              <a:gdLst/>
              <a:ahLst/>
              <a:rect l="l" t="t" r="r" b="b"/>
              <a:pathLst>
                <a:path w="6684" h="6684">
                  <a:moveTo>
                    <a:pt x="1471" y="6112"/>
                  </a:moveTo>
                  <a:lnTo>
                    <a:pt x="1764" y="6288"/>
                  </a:lnTo>
                  <a:lnTo>
                    <a:pt x="2067" y="6432"/>
                  </a:lnTo>
                  <a:lnTo>
                    <a:pt x="2378" y="6542"/>
                  </a:lnTo>
                  <a:lnTo>
                    <a:pt x="2695" y="6621"/>
                  </a:lnTo>
                  <a:lnTo>
                    <a:pt x="3016" y="6669"/>
                  </a:lnTo>
                  <a:lnTo>
                    <a:pt x="3338" y="6684"/>
                  </a:lnTo>
                  <a:lnTo>
                    <a:pt x="3659" y="6669"/>
                  </a:lnTo>
                  <a:lnTo>
                    <a:pt x="3976" y="6623"/>
                  </a:lnTo>
                  <a:lnTo>
                    <a:pt x="4287" y="6547"/>
                  </a:lnTo>
                  <a:lnTo>
                    <a:pt x="4592" y="6441"/>
                  </a:lnTo>
                  <a:lnTo>
                    <a:pt x="4885" y="6307"/>
                  </a:lnTo>
                  <a:lnTo>
                    <a:pt x="5165" y="6144"/>
                  </a:lnTo>
                  <a:lnTo>
                    <a:pt x="5430" y="5952"/>
                  </a:lnTo>
                  <a:lnTo>
                    <a:pt x="5678" y="5733"/>
                  </a:lnTo>
                  <a:lnTo>
                    <a:pt x="5906" y="5487"/>
                  </a:lnTo>
                  <a:lnTo>
                    <a:pt x="6112" y="5213"/>
                  </a:lnTo>
                  <a:lnTo>
                    <a:pt x="6288" y="4920"/>
                  </a:lnTo>
                  <a:lnTo>
                    <a:pt x="6432" y="4617"/>
                  </a:lnTo>
                  <a:lnTo>
                    <a:pt x="6542" y="4306"/>
                  </a:lnTo>
                  <a:lnTo>
                    <a:pt x="6621" y="3989"/>
                  </a:lnTo>
                  <a:lnTo>
                    <a:pt x="6669" y="3668"/>
                  </a:lnTo>
                  <a:lnTo>
                    <a:pt x="6684" y="3346"/>
                  </a:lnTo>
                  <a:lnTo>
                    <a:pt x="6669" y="3025"/>
                  </a:lnTo>
                  <a:lnTo>
                    <a:pt x="6623" y="2708"/>
                  </a:lnTo>
                  <a:lnTo>
                    <a:pt x="6547" y="2396"/>
                  </a:lnTo>
                  <a:lnTo>
                    <a:pt x="6441" y="2092"/>
                  </a:lnTo>
                  <a:lnTo>
                    <a:pt x="6307" y="1800"/>
                  </a:lnTo>
                  <a:lnTo>
                    <a:pt x="6144" y="1519"/>
                  </a:lnTo>
                  <a:lnTo>
                    <a:pt x="5952" y="1255"/>
                  </a:lnTo>
                  <a:lnTo>
                    <a:pt x="5733" y="1007"/>
                  </a:lnTo>
                  <a:lnTo>
                    <a:pt x="5487" y="779"/>
                  </a:lnTo>
                  <a:lnTo>
                    <a:pt x="5213" y="574"/>
                  </a:lnTo>
                  <a:lnTo>
                    <a:pt x="4920" y="397"/>
                  </a:lnTo>
                  <a:lnTo>
                    <a:pt x="4617" y="252"/>
                  </a:lnTo>
                  <a:lnTo>
                    <a:pt x="4306" y="142"/>
                  </a:lnTo>
                  <a:lnTo>
                    <a:pt x="3989" y="63"/>
                  </a:lnTo>
                  <a:lnTo>
                    <a:pt x="3668" y="15"/>
                  </a:lnTo>
                  <a:lnTo>
                    <a:pt x="3346" y="0"/>
                  </a:lnTo>
                  <a:lnTo>
                    <a:pt x="3025" y="15"/>
                  </a:lnTo>
                  <a:lnTo>
                    <a:pt x="2708" y="61"/>
                  </a:lnTo>
                  <a:lnTo>
                    <a:pt x="2396" y="137"/>
                  </a:lnTo>
                  <a:lnTo>
                    <a:pt x="2092" y="243"/>
                  </a:lnTo>
                  <a:lnTo>
                    <a:pt x="1800" y="376"/>
                  </a:lnTo>
                  <a:lnTo>
                    <a:pt x="1519" y="540"/>
                  </a:lnTo>
                  <a:lnTo>
                    <a:pt x="1254" y="732"/>
                  </a:lnTo>
                  <a:lnTo>
                    <a:pt x="1007" y="951"/>
                  </a:lnTo>
                  <a:lnTo>
                    <a:pt x="779" y="1197"/>
                  </a:lnTo>
                  <a:lnTo>
                    <a:pt x="574" y="1470"/>
                  </a:lnTo>
                  <a:lnTo>
                    <a:pt x="396" y="1763"/>
                  </a:lnTo>
                  <a:lnTo>
                    <a:pt x="252" y="2066"/>
                  </a:lnTo>
                  <a:lnTo>
                    <a:pt x="141" y="2377"/>
                  </a:lnTo>
                  <a:lnTo>
                    <a:pt x="63" y="2695"/>
                  </a:lnTo>
                  <a:lnTo>
                    <a:pt x="15" y="3016"/>
                  </a:lnTo>
                  <a:lnTo>
                    <a:pt x="0" y="3338"/>
                  </a:lnTo>
                  <a:lnTo>
                    <a:pt x="15" y="3659"/>
                  </a:lnTo>
                  <a:lnTo>
                    <a:pt x="61" y="3976"/>
                  </a:lnTo>
                  <a:lnTo>
                    <a:pt x="137" y="4288"/>
                  </a:lnTo>
                  <a:lnTo>
                    <a:pt x="242" y="4592"/>
                  </a:lnTo>
                  <a:lnTo>
                    <a:pt x="377" y="4885"/>
                  </a:lnTo>
                  <a:lnTo>
                    <a:pt x="540" y="5165"/>
                  </a:lnTo>
                  <a:lnTo>
                    <a:pt x="731" y="5430"/>
                  </a:lnTo>
                  <a:lnTo>
                    <a:pt x="950" y="5678"/>
                  </a:lnTo>
                  <a:lnTo>
                    <a:pt x="1197" y="5906"/>
                  </a:lnTo>
                  <a:lnTo>
                    <a:pt x="1471" y="6112"/>
                  </a:lnTo>
                  <a:close/>
                </a:path>
              </a:pathLst>
            </a:custGeom>
            <a:solidFill>
              <a:srgbClr val="5f7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45320" y="199440"/>
              <a:ext cx="505080" cy="498600"/>
            </a:xfrm>
            <a:custGeom>
              <a:avLst/>
              <a:gdLst/>
              <a:ahLst/>
              <a:rect l="l" t="t" r="r" b="b"/>
              <a:pathLst>
                <a:path w="6523" h="6523">
                  <a:moveTo>
                    <a:pt x="1436" y="5964"/>
                  </a:moveTo>
                  <a:lnTo>
                    <a:pt x="1721" y="6136"/>
                  </a:lnTo>
                  <a:lnTo>
                    <a:pt x="2017" y="6276"/>
                  </a:lnTo>
                  <a:lnTo>
                    <a:pt x="2321" y="6385"/>
                  </a:lnTo>
                  <a:lnTo>
                    <a:pt x="2630" y="6462"/>
                  </a:lnTo>
                  <a:lnTo>
                    <a:pt x="2944" y="6508"/>
                  </a:lnTo>
                  <a:lnTo>
                    <a:pt x="3258" y="6523"/>
                  </a:lnTo>
                  <a:lnTo>
                    <a:pt x="3571" y="6508"/>
                  </a:lnTo>
                  <a:lnTo>
                    <a:pt x="3881" y="6464"/>
                  </a:lnTo>
                  <a:lnTo>
                    <a:pt x="4185" y="6390"/>
                  </a:lnTo>
                  <a:lnTo>
                    <a:pt x="4481" y="6287"/>
                  </a:lnTo>
                  <a:lnTo>
                    <a:pt x="4767" y="6156"/>
                  </a:lnTo>
                  <a:lnTo>
                    <a:pt x="5040" y="5997"/>
                  </a:lnTo>
                  <a:lnTo>
                    <a:pt x="5299" y="5810"/>
                  </a:lnTo>
                  <a:lnTo>
                    <a:pt x="5541" y="5596"/>
                  </a:lnTo>
                  <a:lnTo>
                    <a:pt x="5763" y="5356"/>
                  </a:lnTo>
                  <a:lnTo>
                    <a:pt x="5964" y="5089"/>
                  </a:lnTo>
                  <a:lnTo>
                    <a:pt x="6136" y="4803"/>
                  </a:lnTo>
                  <a:lnTo>
                    <a:pt x="6277" y="4506"/>
                  </a:lnTo>
                  <a:lnTo>
                    <a:pt x="6385" y="4202"/>
                  </a:lnTo>
                  <a:lnTo>
                    <a:pt x="6462" y="3893"/>
                  </a:lnTo>
                  <a:lnTo>
                    <a:pt x="6507" y="3579"/>
                  </a:lnTo>
                  <a:lnTo>
                    <a:pt x="6523" y="3266"/>
                  </a:lnTo>
                  <a:lnTo>
                    <a:pt x="6509" y="2952"/>
                  </a:lnTo>
                  <a:lnTo>
                    <a:pt x="6464" y="2643"/>
                  </a:lnTo>
                  <a:lnTo>
                    <a:pt x="6389" y="2339"/>
                  </a:lnTo>
                  <a:lnTo>
                    <a:pt x="6286" y="2042"/>
                  </a:lnTo>
                  <a:lnTo>
                    <a:pt x="6156" y="1756"/>
                  </a:lnTo>
                  <a:lnTo>
                    <a:pt x="5996" y="1483"/>
                  </a:lnTo>
                  <a:lnTo>
                    <a:pt x="5809" y="1225"/>
                  </a:lnTo>
                  <a:lnTo>
                    <a:pt x="5595" y="982"/>
                  </a:lnTo>
                  <a:lnTo>
                    <a:pt x="5355" y="760"/>
                  </a:lnTo>
                  <a:lnTo>
                    <a:pt x="5088" y="560"/>
                  </a:lnTo>
                  <a:lnTo>
                    <a:pt x="4802" y="387"/>
                  </a:lnTo>
                  <a:lnTo>
                    <a:pt x="4506" y="247"/>
                  </a:lnTo>
                  <a:lnTo>
                    <a:pt x="4202" y="138"/>
                  </a:lnTo>
                  <a:lnTo>
                    <a:pt x="3892" y="61"/>
                  </a:lnTo>
                  <a:lnTo>
                    <a:pt x="3580" y="15"/>
                  </a:lnTo>
                  <a:lnTo>
                    <a:pt x="3265" y="0"/>
                  </a:lnTo>
                  <a:lnTo>
                    <a:pt x="2952" y="15"/>
                  </a:lnTo>
                  <a:lnTo>
                    <a:pt x="2642" y="60"/>
                  </a:lnTo>
                  <a:lnTo>
                    <a:pt x="2338" y="134"/>
                  </a:lnTo>
                  <a:lnTo>
                    <a:pt x="2042" y="236"/>
                  </a:lnTo>
                  <a:lnTo>
                    <a:pt x="1756" y="368"/>
                  </a:lnTo>
                  <a:lnTo>
                    <a:pt x="1482" y="527"/>
                  </a:lnTo>
                  <a:lnTo>
                    <a:pt x="1224" y="713"/>
                  </a:lnTo>
                  <a:lnTo>
                    <a:pt x="982" y="927"/>
                  </a:lnTo>
                  <a:lnTo>
                    <a:pt x="759" y="1168"/>
                  </a:lnTo>
                  <a:lnTo>
                    <a:pt x="559" y="1435"/>
                  </a:lnTo>
                  <a:lnTo>
                    <a:pt x="386" y="1720"/>
                  </a:lnTo>
                  <a:lnTo>
                    <a:pt x="246" y="2017"/>
                  </a:lnTo>
                  <a:lnTo>
                    <a:pt x="137" y="2321"/>
                  </a:lnTo>
                  <a:lnTo>
                    <a:pt x="61" y="2630"/>
                  </a:lnTo>
                  <a:lnTo>
                    <a:pt x="15" y="2944"/>
                  </a:lnTo>
                  <a:lnTo>
                    <a:pt x="0" y="3257"/>
                  </a:lnTo>
                  <a:lnTo>
                    <a:pt x="15" y="3571"/>
                  </a:lnTo>
                  <a:lnTo>
                    <a:pt x="60" y="3881"/>
                  </a:lnTo>
                  <a:lnTo>
                    <a:pt x="134" y="4185"/>
                  </a:lnTo>
                  <a:lnTo>
                    <a:pt x="237" y="4481"/>
                  </a:lnTo>
                  <a:lnTo>
                    <a:pt x="368" y="4767"/>
                  </a:lnTo>
                  <a:lnTo>
                    <a:pt x="527" y="5040"/>
                  </a:lnTo>
                  <a:lnTo>
                    <a:pt x="715" y="5299"/>
                  </a:lnTo>
                  <a:lnTo>
                    <a:pt x="928" y="5541"/>
                  </a:lnTo>
                  <a:lnTo>
                    <a:pt x="1169" y="5763"/>
                  </a:lnTo>
                  <a:lnTo>
                    <a:pt x="1436" y="5964"/>
                  </a:lnTo>
                  <a:close/>
                </a:path>
              </a:pathLst>
            </a:custGeom>
            <a:solidFill>
              <a:srgbClr val="617e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54680" y="201600"/>
              <a:ext cx="492840" cy="487440"/>
            </a:xfrm>
            <a:custGeom>
              <a:avLst/>
              <a:gdLst/>
              <a:ahLst/>
              <a:rect l="l" t="t" r="r" b="b"/>
              <a:pathLst>
                <a:path w="6364" h="6362">
                  <a:moveTo>
                    <a:pt x="1401" y="5817"/>
                  </a:moveTo>
                  <a:lnTo>
                    <a:pt x="1680" y="5985"/>
                  </a:lnTo>
                  <a:lnTo>
                    <a:pt x="1968" y="6122"/>
                  </a:lnTo>
                  <a:lnTo>
                    <a:pt x="2265" y="6228"/>
                  </a:lnTo>
                  <a:lnTo>
                    <a:pt x="2567" y="6303"/>
                  </a:lnTo>
                  <a:lnTo>
                    <a:pt x="2872" y="6348"/>
                  </a:lnTo>
                  <a:lnTo>
                    <a:pt x="3179" y="6362"/>
                  </a:lnTo>
                  <a:lnTo>
                    <a:pt x="3484" y="6349"/>
                  </a:lnTo>
                  <a:lnTo>
                    <a:pt x="3786" y="6305"/>
                  </a:lnTo>
                  <a:lnTo>
                    <a:pt x="4083" y="6233"/>
                  </a:lnTo>
                  <a:lnTo>
                    <a:pt x="4372" y="6132"/>
                  </a:lnTo>
                  <a:lnTo>
                    <a:pt x="4650" y="6004"/>
                  </a:lnTo>
                  <a:lnTo>
                    <a:pt x="4917" y="5849"/>
                  </a:lnTo>
                  <a:lnTo>
                    <a:pt x="5170" y="5666"/>
                  </a:lnTo>
                  <a:lnTo>
                    <a:pt x="5405" y="5458"/>
                  </a:lnTo>
                  <a:lnTo>
                    <a:pt x="5622" y="5223"/>
                  </a:lnTo>
                  <a:lnTo>
                    <a:pt x="5819" y="4963"/>
                  </a:lnTo>
                  <a:lnTo>
                    <a:pt x="5987" y="4684"/>
                  </a:lnTo>
                  <a:lnTo>
                    <a:pt x="6124" y="4396"/>
                  </a:lnTo>
                  <a:lnTo>
                    <a:pt x="6229" y="4099"/>
                  </a:lnTo>
                  <a:lnTo>
                    <a:pt x="6305" y="3797"/>
                  </a:lnTo>
                  <a:lnTo>
                    <a:pt x="6349" y="3491"/>
                  </a:lnTo>
                  <a:lnTo>
                    <a:pt x="6364" y="3185"/>
                  </a:lnTo>
                  <a:lnTo>
                    <a:pt x="6349" y="2880"/>
                  </a:lnTo>
                  <a:lnTo>
                    <a:pt x="6306" y="2578"/>
                  </a:lnTo>
                  <a:lnTo>
                    <a:pt x="6233" y="2281"/>
                  </a:lnTo>
                  <a:lnTo>
                    <a:pt x="6133" y="1992"/>
                  </a:lnTo>
                  <a:lnTo>
                    <a:pt x="6005" y="1714"/>
                  </a:lnTo>
                  <a:lnTo>
                    <a:pt x="5850" y="1447"/>
                  </a:lnTo>
                  <a:lnTo>
                    <a:pt x="5668" y="1194"/>
                  </a:lnTo>
                  <a:lnTo>
                    <a:pt x="5458" y="959"/>
                  </a:lnTo>
                  <a:lnTo>
                    <a:pt x="5223" y="742"/>
                  </a:lnTo>
                  <a:lnTo>
                    <a:pt x="4964" y="546"/>
                  </a:lnTo>
                  <a:lnTo>
                    <a:pt x="4685" y="377"/>
                  </a:lnTo>
                  <a:lnTo>
                    <a:pt x="4396" y="240"/>
                  </a:lnTo>
                  <a:lnTo>
                    <a:pt x="4100" y="134"/>
                  </a:lnTo>
                  <a:lnTo>
                    <a:pt x="3798" y="59"/>
                  </a:lnTo>
                  <a:lnTo>
                    <a:pt x="3493" y="15"/>
                  </a:lnTo>
                  <a:lnTo>
                    <a:pt x="3186" y="0"/>
                  </a:lnTo>
                  <a:lnTo>
                    <a:pt x="2880" y="14"/>
                  </a:lnTo>
                  <a:lnTo>
                    <a:pt x="2578" y="57"/>
                  </a:lnTo>
                  <a:lnTo>
                    <a:pt x="2282" y="130"/>
                  </a:lnTo>
                  <a:lnTo>
                    <a:pt x="1993" y="231"/>
                  </a:lnTo>
                  <a:lnTo>
                    <a:pt x="1714" y="358"/>
                  </a:lnTo>
                  <a:lnTo>
                    <a:pt x="1447" y="513"/>
                  </a:lnTo>
                  <a:lnTo>
                    <a:pt x="1195" y="696"/>
                  </a:lnTo>
                  <a:lnTo>
                    <a:pt x="959" y="905"/>
                  </a:lnTo>
                  <a:lnTo>
                    <a:pt x="742" y="1140"/>
                  </a:lnTo>
                  <a:lnTo>
                    <a:pt x="547" y="1400"/>
                  </a:lnTo>
                  <a:lnTo>
                    <a:pt x="378" y="1679"/>
                  </a:lnTo>
                  <a:lnTo>
                    <a:pt x="241" y="1967"/>
                  </a:lnTo>
                  <a:lnTo>
                    <a:pt x="135" y="2263"/>
                  </a:lnTo>
                  <a:lnTo>
                    <a:pt x="60" y="2565"/>
                  </a:lnTo>
                  <a:lnTo>
                    <a:pt x="15" y="2871"/>
                  </a:lnTo>
                  <a:lnTo>
                    <a:pt x="0" y="3177"/>
                  </a:lnTo>
                  <a:lnTo>
                    <a:pt x="15" y="3483"/>
                  </a:lnTo>
                  <a:lnTo>
                    <a:pt x="59" y="3786"/>
                  </a:lnTo>
                  <a:lnTo>
                    <a:pt x="131" y="4081"/>
                  </a:lnTo>
                  <a:lnTo>
                    <a:pt x="232" y="4370"/>
                  </a:lnTo>
                  <a:lnTo>
                    <a:pt x="360" y="4649"/>
                  </a:lnTo>
                  <a:lnTo>
                    <a:pt x="515" y="4916"/>
                  </a:lnTo>
                  <a:lnTo>
                    <a:pt x="698" y="5169"/>
                  </a:lnTo>
                  <a:lnTo>
                    <a:pt x="906" y="5404"/>
                  </a:lnTo>
                  <a:lnTo>
                    <a:pt x="1141" y="5620"/>
                  </a:lnTo>
                  <a:lnTo>
                    <a:pt x="1401" y="5817"/>
                  </a:lnTo>
                  <a:close/>
                </a:path>
              </a:pathLst>
            </a:custGeom>
            <a:solidFill>
              <a:srgbClr val="648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64040" y="204120"/>
              <a:ext cx="480600" cy="474840"/>
            </a:xfrm>
            <a:custGeom>
              <a:avLst/>
              <a:gdLst/>
              <a:ahLst/>
              <a:rect l="l" t="t" r="r" b="b"/>
              <a:pathLst>
                <a:path w="6201" h="6202">
                  <a:moveTo>
                    <a:pt x="1365" y="5670"/>
                  </a:moveTo>
                  <a:lnTo>
                    <a:pt x="1636" y="5834"/>
                  </a:lnTo>
                  <a:lnTo>
                    <a:pt x="1917" y="5968"/>
                  </a:lnTo>
                  <a:lnTo>
                    <a:pt x="2207" y="6071"/>
                  </a:lnTo>
                  <a:lnTo>
                    <a:pt x="2501" y="6143"/>
                  </a:lnTo>
                  <a:lnTo>
                    <a:pt x="2798" y="6187"/>
                  </a:lnTo>
                  <a:lnTo>
                    <a:pt x="3096" y="6202"/>
                  </a:lnTo>
                  <a:lnTo>
                    <a:pt x="3394" y="6188"/>
                  </a:lnTo>
                  <a:lnTo>
                    <a:pt x="3689" y="6145"/>
                  </a:lnTo>
                  <a:lnTo>
                    <a:pt x="3978" y="6075"/>
                  </a:lnTo>
                  <a:lnTo>
                    <a:pt x="4259" y="5977"/>
                  </a:lnTo>
                  <a:lnTo>
                    <a:pt x="4532" y="5852"/>
                  </a:lnTo>
                  <a:lnTo>
                    <a:pt x="4791" y="5701"/>
                  </a:lnTo>
                  <a:lnTo>
                    <a:pt x="5037" y="5524"/>
                  </a:lnTo>
                  <a:lnTo>
                    <a:pt x="5266" y="5319"/>
                  </a:lnTo>
                  <a:lnTo>
                    <a:pt x="5478" y="5091"/>
                  </a:lnTo>
                  <a:lnTo>
                    <a:pt x="5669" y="4838"/>
                  </a:lnTo>
                  <a:lnTo>
                    <a:pt x="5833" y="4566"/>
                  </a:lnTo>
                  <a:lnTo>
                    <a:pt x="5967" y="4284"/>
                  </a:lnTo>
                  <a:lnTo>
                    <a:pt x="6070" y="3995"/>
                  </a:lnTo>
                  <a:lnTo>
                    <a:pt x="6142" y="3700"/>
                  </a:lnTo>
                  <a:lnTo>
                    <a:pt x="6186" y="3403"/>
                  </a:lnTo>
                  <a:lnTo>
                    <a:pt x="6201" y="3104"/>
                  </a:lnTo>
                  <a:lnTo>
                    <a:pt x="6186" y="2806"/>
                  </a:lnTo>
                  <a:lnTo>
                    <a:pt x="6144" y="2513"/>
                  </a:lnTo>
                  <a:lnTo>
                    <a:pt x="6073" y="2224"/>
                  </a:lnTo>
                  <a:lnTo>
                    <a:pt x="5975" y="1942"/>
                  </a:lnTo>
                  <a:lnTo>
                    <a:pt x="5851" y="1670"/>
                  </a:lnTo>
                  <a:lnTo>
                    <a:pt x="5699" y="1411"/>
                  </a:lnTo>
                  <a:lnTo>
                    <a:pt x="5521" y="1164"/>
                  </a:lnTo>
                  <a:lnTo>
                    <a:pt x="5318" y="934"/>
                  </a:lnTo>
                  <a:lnTo>
                    <a:pt x="5090" y="723"/>
                  </a:lnTo>
                  <a:lnTo>
                    <a:pt x="4837" y="532"/>
                  </a:lnTo>
                  <a:lnTo>
                    <a:pt x="4565" y="368"/>
                  </a:lnTo>
                  <a:lnTo>
                    <a:pt x="4283" y="234"/>
                  </a:lnTo>
                  <a:lnTo>
                    <a:pt x="3995" y="131"/>
                  </a:lnTo>
                  <a:lnTo>
                    <a:pt x="3700" y="58"/>
                  </a:lnTo>
                  <a:lnTo>
                    <a:pt x="3403" y="15"/>
                  </a:lnTo>
                  <a:lnTo>
                    <a:pt x="3104" y="0"/>
                  </a:lnTo>
                  <a:lnTo>
                    <a:pt x="2806" y="15"/>
                  </a:lnTo>
                  <a:lnTo>
                    <a:pt x="2512" y="57"/>
                  </a:lnTo>
                  <a:lnTo>
                    <a:pt x="2223" y="127"/>
                  </a:lnTo>
                  <a:lnTo>
                    <a:pt x="1941" y="225"/>
                  </a:lnTo>
                  <a:lnTo>
                    <a:pt x="1669" y="350"/>
                  </a:lnTo>
                  <a:lnTo>
                    <a:pt x="1409" y="502"/>
                  </a:lnTo>
                  <a:lnTo>
                    <a:pt x="1163" y="679"/>
                  </a:lnTo>
                  <a:lnTo>
                    <a:pt x="933" y="882"/>
                  </a:lnTo>
                  <a:lnTo>
                    <a:pt x="722" y="1111"/>
                  </a:lnTo>
                  <a:lnTo>
                    <a:pt x="532" y="1365"/>
                  </a:lnTo>
                  <a:lnTo>
                    <a:pt x="367" y="1636"/>
                  </a:lnTo>
                  <a:lnTo>
                    <a:pt x="233" y="1918"/>
                  </a:lnTo>
                  <a:lnTo>
                    <a:pt x="130" y="2207"/>
                  </a:lnTo>
                  <a:lnTo>
                    <a:pt x="58" y="2501"/>
                  </a:lnTo>
                  <a:lnTo>
                    <a:pt x="14" y="2799"/>
                  </a:lnTo>
                  <a:lnTo>
                    <a:pt x="0" y="3098"/>
                  </a:lnTo>
                  <a:lnTo>
                    <a:pt x="13" y="3395"/>
                  </a:lnTo>
                  <a:lnTo>
                    <a:pt x="56" y="3690"/>
                  </a:lnTo>
                  <a:lnTo>
                    <a:pt x="126" y="3979"/>
                  </a:lnTo>
                  <a:lnTo>
                    <a:pt x="224" y="4261"/>
                  </a:lnTo>
                  <a:lnTo>
                    <a:pt x="349" y="4532"/>
                  </a:lnTo>
                  <a:lnTo>
                    <a:pt x="500" y="4792"/>
                  </a:lnTo>
                  <a:lnTo>
                    <a:pt x="678" y="5038"/>
                  </a:lnTo>
                  <a:lnTo>
                    <a:pt x="882" y="5267"/>
                  </a:lnTo>
                  <a:lnTo>
                    <a:pt x="1110" y="5479"/>
                  </a:lnTo>
                  <a:lnTo>
                    <a:pt x="1365" y="5670"/>
                  </a:lnTo>
                  <a:close/>
                </a:path>
              </a:pathLst>
            </a:custGeom>
            <a:solidFill>
              <a:srgbClr val="6683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73400" y="207000"/>
              <a:ext cx="467640" cy="461880"/>
            </a:xfrm>
            <a:custGeom>
              <a:avLst/>
              <a:gdLst/>
              <a:ahLst/>
              <a:rect l="l" t="t" r="r" b="b"/>
              <a:pathLst>
                <a:path w="6040" h="6041">
                  <a:moveTo>
                    <a:pt x="1329" y="5523"/>
                  </a:moveTo>
                  <a:lnTo>
                    <a:pt x="1593" y="5683"/>
                  </a:lnTo>
                  <a:lnTo>
                    <a:pt x="1867" y="5813"/>
                  </a:lnTo>
                  <a:lnTo>
                    <a:pt x="2148" y="5914"/>
                  </a:lnTo>
                  <a:lnTo>
                    <a:pt x="2435" y="5985"/>
                  </a:lnTo>
                  <a:lnTo>
                    <a:pt x="2726" y="6026"/>
                  </a:lnTo>
                  <a:lnTo>
                    <a:pt x="3017" y="6041"/>
                  </a:lnTo>
                  <a:lnTo>
                    <a:pt x="3306" y="6027"/>
                  </a:lnTo>
                  <a:lnTo>
                    <a:pt x="3593" y="5986"/>
                  </a:lnTo>
                  <a:lnTo>
                    <a:pt x="3875" y="5917"/>
                  </a:lnTo>
                  <a:lnTo>
                    <a:pt x="4149" y="5822"/>
                  </a:lnTo>
                  <a:lnTo>
                    <a:pt x="4414" y="5700"/>
                  </a:lnTo>
                  <a:lnTo>
                    <a:pt x="4667" y="5553"/>
                  </a:lnTo>
                  <a:lnTo>
                    <a:pt x="4906" y="5380"/>
                  </a:lnTo>
                  <a:lnTo>
                    <a:pt x="5129" y="5182"/>
                  </a:lnTo>
                  <a:lnTo>
                    <a:pt x="5336" y="4959"/>
                  </a:lnTo>
                  <a:lnTo>
                    <a:pt x="5522" y="4712"/>
                  </a:lnTo>
                  <a:lnTo>
                    <a:pt x="5681" y="4448"/>
                  </a:lnTo>
                  <a:lnTo>
                    <a:pt x="5812" y="4173"/>
                  </a:lnTo>
                  <a:lnTo>
                    <a:pt x="5912" y="3892"/>
                  </a:lnTo>
                  <a:lnTo>
                    <a:pt x="5984" y="3605"/>
                  </a:lnTo>
                  <a:lnTo>
                    <a:pt x="6027" y="3315"/>
                  </a:lnTo>
                  <a:lnTo>
                    <a:pt x="6040" y="3024"/>
                  </a:lnTo>
                  <a:lnTo>
                    <a:pt x="6027" y="2734"/>
                  </a:lnTo>
                  <a:lnTo>
                    <a:pt x="5985" y="2447"/>
                  </a:lnTo>
                  <a:lnTo>
                    <a:pt x="5917" y="2165"/>
                  </a:lnTo>
                  <a:lnTo>
                    <a:pt x="5821" y="1891"/>
                  </a:lnTo>
                  <a:lnTo>
                    <a:pt x="5700" y="1626"/>
                  </a:lnTo>
                  <a:lnTo>
                    <a:pt x="5552" y="1373"/>
                  </a:lnTo>
                  <a:lnTo>
                    <a:pt x="5379" y="1134"/>
                  </a:lnTo>
                  <a:lnTo>
                    <a:pt x="5181" y="910"/>
                  </a:lnTo>
                  <a:lnTo>
                    <a:pt x="4958" y="703"/>
                  </a:lnTo>
                  <a:lnTo>
                    <a:pt x="4711" y="518"/>
                  </a:lnTo>
                  <a:lnTo>
                    <a:pt x="4447" y="358"/>
                  </a:lnTo>
                  <a:lnTo>
                    <a:pt x="4172" y="228"/>
                  </a:lnTo>
                  <a:lnTo>
                    <a:pt x="3891" y="127"/>
                  </a:lnTo>
                  <a:lnTo>
                    <a:pt x="3605" y="56"/>
                  </a:lnTo>
                  <a:lnTo>
                    <a:pt x="3315" y="14"/>
                  </a:lnTo>
                  <a:lnTo>
                    <a:pt x="3023" y="0"/>
                  </a:lnTo>
                  <a:lnTo>
                    <a:pt x="2733" y="14"/>
                  </a:lnTo>
                  <a:lnTo>
                    <a:pt x="2447" y="55"/>
                  </a:lnTo>
                  <a:lnTo>
                    <a:pt x="2165" y="123"/>
                  </a:lnTo>
                  <a:lnTo>
                    <a:pt x="1891" y="219"/>
                  </a:lnTo>
                  <a:lnTo>
                    <a:pt x="1626" y="340"/>
                  </a:lnTo>
                  <a:lnTo>
                    <a:pt x="1372" y="488"/>
                  </a:lnTo>
                  <a:lnTo>
                    <a:pt x="1133" y="661"/>
                  </a:lnTo>
                  <a:lnTo>
                    <a:pt x="910" y="859"/>
                  </a:lnTo>
                  <a:lnTo>
                    <a:pt x="704" y="1082"/>
                  </a:lnTo>
                  <a:lnTo>
                    <a:pt x="519" y="1330"/>
                  </a:lnTo>
                  <a:lnTo>
                    <a:pt x="358" y="1593"/>
                  </a:lnTo>
                  <a:lnTo>
                    <a:pt x="228" y="1868"/>
                  </a:lnTo>
                  <a:lnTo>
                    <a:pt x="127" y="2149"/>
                  </a:lnTo>
                  <a:lnTo>
                    <a:pt x="56" y="2436"/>
                  </a:lnTo>
                  <a:lnTo>
                    <a:pt x="14" y="2725"/>
                  </a:lnTo>
                  <a:lnTo>
                    <a:pt x="0" y="3017"/>
                  </a:lnTo>
                  <a:lnTo>
                    <a:pt x="14" y="3307"/>
                  </a:lnTo>
                  <a:lnTo>
                    <a:pt x="54" y="3594"/>
                  </a:lnTo>
                  <a:lnTo>
                    <a:pt x="123" y="3876"/>
                  </a:lnTo>
                  <a:lnTo>
                    <a:pt x="218" y="4150"/>
                  </a:lnTo>
                  <a:lnTo>
                    <a:pt x="340" y="4415"/>
                  </a:lnTo>
                  <a:lnTo>
                    <a:pt x="487" y="4668"/>
                  </a:lnTo>
                  <a:lnTo>
                    <a:pt x="660" y="4907"/>
                  </a:lnTo>
                  <a:lnTo>
                    <a:pt x="858" y="5131"/>
                  </a:lnTo>
                  <a:lnTo>
                    <a:pt x="1081" y="5337"/>
                  </a:lnTo>
                  <a:lnTo>
                    <a:pt x="1329" y="5523"/>
                  </a:lnTo>
                  <a:close/>
                </a:path>
              </a:pathLst>
            </a:custGeom>
            <a:solidFill>
              <a:srgbClr val="698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82760" y="208800"/>
              <a:ext cx="455400" cy="450000"/>
            </a:xfrm>
            <a:custGeom>
              <a:avLst/>
              <a:gdLst/>
              <a:ahLst/>
              <a:rect l="l" t="t" r="r" b="b"/>
              <a:pathLst>
                <a:path w="5880" h="5880">
                  <a:moveTo>
                    <a:pt x="1294" y="5376"/>
                  </a:moveTo>
                  <a:lnTo>
                    <a:pt x="1551" y="5531"/>
                  </a:lnTo>
                  <a:lnTo>
                    <a:pt x="1818" y="5657"/>
                  </a:lnTo>
                  <a:lnTo>
                    <a:pt x="2092" y="5755"/>
                  </a:lnTo>
                  <a:lnTo>
                    <a:pt x="2371" y="5824"/>
                  </a:lnTo>
                  <a:lnTo>
                    <a:pt x="2653" y="5866"/>
                  </a:lnTo>
                  <a:lnTo>
                    <a:pt x="2936" y="5880"/>
                  </a:lnTo>
                  <a:lnTo>
                    <a:pt x="3219" y="5866"/>
                  </a:lnTo>
                  <a:lnTo>
                    <a:pt x="3499" y="5825"/>
                  </a:lnTo>
                  <a:lnTo>
                    <a:pt x="3772" y="5759"/>
                  </a:lnTo>
                  <a:lnTo>
                    <a:pt x="4040" y="5666"/>
                  </a:lnTo>
                  <a:lnTo>
                    <a:pt x="4297" y="5548"/>
                  </a:lnTo>
                  <a:lnTo>
                    <a:pt x="4544" y="5404"/>
                  </a:lnTo>
                  <a:lnTo>
                    <a:pt x="4776" y="5235"/>
                  </a:lnTo>
                  <a:lnTo>
                    <a:pt x="4994" y="5043"/>
                  </a:lnTo>
                  <a:lnTo>
                    <a:pt x="5194" y="4826"/>
                  </a:lnTo>
                  <a:lnTo>
                    <a:pt x="5376" y="4586"/>
                  </a:lnTo>
                  <a:lnTo>
                    <a:pt x="5531" y="4327"/>
                  </a:lnTo>
                  <a:lnTo>
                    <a:pt x="5658" y="4061"/>
                  </a:lnTo>
                  <a:lnTo>
                    <a:pt x="5756" y="3787"/>
                  </a:lnTo>
                  <a:lnTo>
                    <a:pt x="5826" y="3508"/>
                  </a:lnTo>
                  <a:lnTo>
                    <a:pt x="5867" y="3226"/>
                  </a:lnTo>
                  <a:lnTo>
                    <a:pt x="5880" y="2942"/>
                  </a:lnTo>
                  <a:lnTo>
                    <a:pt x="5867" y="2661"/>
                  </a:lnTo>
                  <a:lnTo>
                    <a:pt x="5827" y="2381"/>
                  </a:lnTo>
                  <a:lnTo>
                    <a:pt x="5760" y="2107"/>
                  </a:lnTo>
                  <a:lnTo>
                    <a:pt x="5667" y="1840"/>
                  </a:lnTo>
                  <a:lnTo>
                    <a:pt x="5549" y="1583"/>
                  </a:lnTo>
                  <a:lnTo>
                    <a:pt x="5405" y="1336"/>
                  </a:lnTo>
                  <a:lnTo>
                    <a:pt x="5237" y="1103"/>
                  </a:lnTo>
                  <a:lnTo>
                    <a:pt x="5044" y="885"/>
                  </a:lnTo>
                  <a:lnTo>
                    <a:pt x="4827" y="685"/>
                  </a:lnTo>
                  <a:lnTo>
                    <a:pt x="4587" y="505"/>
                  </a:lnTo>
                  <a:lnTo>
                    <a:pt x="4329" y="348"/>
                  </a:lnTo>
                  <a:lnTo>
                    <a:pt x="4062" y="222"/>
                  </a:lnTo>
                  <a:lnTo>
                    <a:pt x="3789" y="124"/>
                  </a:lnTo>
                  <a:lnTo>
                    <a:pt x="3509" y="54"/>
                  </a:lnTo>
                  <a:lnTo>
                    <a:pt x="3227" y="12"/>
                  </a:lnTo>
                  <a:lnTo>
                    <a:pt x="2944" y="0"/>
                  </a:lnTo>
                  <a:lnTo>
                    <a:pt x="2662" y="12"/>
                  </a:lnTo>
                  <a:lnTo>
                    <a:pt x="2382" y="53"/>
                  </a:lnTo>
                  <a:lnTo>
                    <a:pt x="2108" y="120"/>
                  </a:lnTo>
                  <a:lnTo>
                    <a:pt x="1841" y="212"/>
                  </a:lnTo>
                  <a:lnTo>
                    <a:pt x="1584" y="330"/>
                  </a:lnTo>
                  <a:lnTo>
                    <a:pt x="1337" y="475"/>
                  </a:lnTo>
                  <a:lnTo>
                    <a:pt x="1103" y="643"/>
                  </a:lnTo>
                  <a:lnTo>
                    <a:pt x="885" y="835"/>
                  </a:lnTo>
                  <a:lnTo>
                    <a:pt x="686" y="1052"/>
                  </a:lnTo>
                  <a:lnTo>
                    <a:pt x="505" y="1293"/>
                  </a:lnTo>
                  <a:lnTo>
                    <a:pt x="349" y="1551"/>
                  </a:lnTo>
                  <a:lnTo>
                    <a:pt x="222" y="1818"/>
                  </a:lnTo>
                  <a:lnTo>
                    <a:pt x="124" y="2092"/>
                  </a:lnTo>
                  <a:lnTo>
                    <a:pt x="55" y="2370"/>
                  </a:lnTo>
                  <a:lnTo>
                    <a:pt x="14" y="2653"/>
                  </a:lnTo>
                  <a:lnTo>
                    <a:pt x="0" y="2936"/>
                  </a:lnTo>
                  <a:lnTo>
                    <a:pt x="14" y="3219"/>
                  </a:lnTo>
                  <a:lnTo>
                    <a:pt x="54" y="3498"/>
                  </a:lnTo>
                  <a:lnTo>
                    <a:pt x="120" y="3771"/>
                  </a:lnTo>
                  <a:lnTo>
                    <a:pt x="212" y="4039"/>
                  </a:lnTo>
                  <a:lnTo>
                    <a:pt x="332" y="4297"/>
                  </a:lnTo>
                  <a:lnTo>
                    <a:pt x="475" y="4543"/>
                  </a:lnTo>
                  <a:lnTo>
                    <a:pt x="643" y="4776"/>
                  </a:lnTo>
                  <a:lnTo>
                    <a:pt x="835" y="4994"/>
                  </a:lnTo>
                  <a:lnTo>
                    <a:pt x="1052" y="5194"/>
                  </a:lnTo>
                  <a:lnTo>
                    <a:pt x="1294" y="5376"/>
                  </a:lnTo>
                  <a:close/>
                </a:path>
              </a:pathLst>
            </a:custGeom>
            <a:solidFill>
              <a:srgbClr val="6b89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91760" y="211320"/>
              <a:ext cx="443160" cy="437760"/>
            </a:xfrm>
            <a:custGeom>
              <a:avLst/>
              <a:gdLst/>
              <a:ahLst/>
              <a:rect l="l" t="t" r="r" b="b"/>
              <a:pathLst>
                <a:path w="5720" h="5721">
                  <a:moveTo>
                    <a:pt x="1260" y="5231"/>
                  </a:moveTo>
                  <a:lnTo>
                    <a:pt x="1510" y="5382"/>
                  </a:lnTo>
                  <a:lnTo>
                    <a:pt x="1769" y="5505"/>
                  </a:lnTo>
                  <a:lnTo>
                    <a:pt x="2036" y="5600"/>
                  </a:lnTo>
                  <a:lnTo>
                    <a:pt x="2307" y="5668"/>
                  </a:lnTo>
                  <a:lnTo>
                    <a:pt x="2581" y="5707"/>
                  </a:lnTo>
                  <a:lnTo>
                    <a:pt x="2857" y="5721"/>
                  </a:lnTo>
                  <a:lnTo>
                    <a:pt x="3131" y="5708"/>
                  </a:lnTo>
                  <a:lnTo>
                    <a:pt x="3403" y="5669"/>
                  </a:lnTo>
                  <a:lnTo>
                    <a:pt x="3670" y="5604"/>
                  </a:lnTo>
                  <a:lnTo>
                    <a:pt x="3929" y="5514"/>
                  </a:lnTo>
                  <a:lnTo>
                    <a:pt x="4180" y="5399"/>
                  </a:lnTo>
                  <a:lnTo>
                    <a:pt x="4419" y="5258"/>
                  </a:lnTo>
                  <a:lnTo>
                    <a:pt x="4646" y="5095"/>
                  </a:lnTo>
                  <a:lnTo>
                    <a:pt x="4858" y="4908"/>
                  </a:lnTo>
                  <a:lnTo>
                    <a:pt x="5053" y="4696"/>
                  </a:lnTo>
                  <a:lnTo>
                    <a:pt x="5230" y="4463"/>
                  </a:lnTo>
                  <a:lnTo>
                    <a:pt x="5380" y="4212"/>
                  </a:lnTo>
                  <a:lnTo>
                    <a:pt x="5504" y="3953"/>
                  </a:lnTo>
                  <a:lnTo>
                    <a:pt x="5598" y="3686"/>
                  </a:lnTo>
                  <a:lnTo>
                    <a:pt x="5666" y="3415"/>
                  </a:lnTo>
                  <a:lnTo>
                    <a:pt x="5706" y="3140"/>
                  </a:lnTo>
                  <a:lnTo>
                    <a:pt x="5720" y="2864"/>
                  </a:lnTo>
                  <a:lnTo>
                    <a:pt x="5707" y="2590"/>
                  </a:lnTo>
                  <a:lnTo>
                    <a:pt x="5668" y="2318"/>
                  </a:lnTo>
                  <a:lnTo>
                    <a:pt x="5603" y="2052"/>
                  </a:lnTo>
                  <a:lnTo>
                    <a:pt x="5512" y="1792"/>
                  </a:lnTo>
                  <a:lnTo>
                    <a:pt x="5397" y="1542"/>
                  </a:lnTo>
                  <a:lnTo>
                    <a:pt x="5257" y="1302"/>
                  </a:lnTo>
                  <a:lnTo>
                    <a:pt x="5093" y="1075"/>
                  </a:lnTo>
                  <a:lnTo>
                    <a:pt x="4906" y="863"/>
                  </a:lnTo>
                  <a:lnTo>
                    <a:pt x="4695" y="668"/>
                  </a:lnTo>
                  <a:lnTo>
                    <a:pt x="4462" y="493"/>
                  </a:lnTo>
                  <a:lnTo>
                    <a:pt x="4211" y="341"/>
                  </a:lnTo>
                  <a:lnTo>
                    <a:pt x="3952" y="217"/>
                  </a:lnTo>
                  <a:lnTo>
                    <a:pt x="3685" y="122"/>
                  </a:lnTo>
                  <a:lnTo>
                    <a:pt x="3414" y="55"/>
                  </a:lnTo>
                  <a:lnTo>
                    <a:pt x="3138" y="14"/>
                  </a:lnTo>
                  <a:lnTo>
                    <a:pt x="2863" y="0"/>
                  </a:lnTo>
                  <a:lnTo>
                    <a:pt x="2589" y="14"/>
                  </a:lnTo>
                  <a:lnTo>
                    <a:pt x="2317" y="54"/>
                  </a:lnTo>
                  <a:lnTo>
                    <a:pt x="2051" y="118"/>
                  </a:lnTo>
                  <a:lnTo>
                    <a:pt x="1790" y="208"/>
                  </a:lnTo>
                  <a:lnTo>
                    <a:pt x="1541" y="324"/>
                  </a:lnTo>
                  <a:lnTo>
                    <a:pt x="1300" y="463"/>
                  </a:lnTo>
                  <a:lnTo>
                    <a:pt x="1074" y="627"/>
                  </a:lnTo>
                  <a:lnTo>
                    <a:pt x="861" y="815"/>
                  </a:lnTo>
                  <a:lnTo>
                    <a:pt x="667" y="1025"/>
                  </a:lnTo>
                  <a:lnTo>
                    <a:pt x="491" y="1260"/>
                  </a:lnTo>
                  <a:lnTo>
                    <a:pt x="339" y="1510"/>
                  </a:lnTo>
                  <a:lnTo>
                    <a:pt x="216" y="1769"/>
                  </a:lnTo>
                  <a:lnTo>
                    <a:pt x="121" y="2036"/>
                  </a:lnTo>
                  <a:lnTo>
                    <a:pt x="54" y="2307"/>
                  </a:lnTo>
                  <a:lnTo>
                    <a:pt x="14" y="2583"/>
                  </a:lnTo>
                  <a:lnTo>
                    <a:pt x="0" y="2858"/>
                  </a:lnTo>
                  <a:lnTo>
                    <a:pt x="14" y="3132"/>
                  </a:lnTo>
                  <a:lnTo>
                    <a:pt x="52" y="3404"/>
                  </a:lnTo>
                  <a:lnTo>
                    <a:pt x="117" y="3670"/>
                  </a:lnTo>
                  <a:lnTo>
                    <a:pt x="207" y="3931"/>
                  </a:lnTo>
                  <a:lnTo>
                    <a:pt x="323" y="4181"/>
                  </a:lnTo>
                  <a:lnTo>
                    <a:pt x="463" y="4421"/>
                  </a:lnTo>
                  <a:lnTo>
                    <a:pt x="626" y="4647"/>
                  </a:lnTo>
                  <a:lnTo>
                    <a:pt x="814" y="4860"/>
                  </a:lnTo>
                  <a:lnTo>
                    <a:pt x="1025" y="5054"/>
                  </a:lnTo>
                  <a:lnTo>
                    <a:pt x="1260" y="5231"/>
                  </a:lnTo>
                  <a:close/>
                </a:path>
              </a:pathLst>
            </a:custGeom>
            <a:solidFill>
              <a:srgbClr val="6e8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01120" y="214200"/>
              <a:ext cx="431280" cy="425160"/>
            </a:xfrm>
            <a:custGeom>
              <a:avLst/>
              <a:gdLst/>
              <a:ahLst/>
              <a:rect l="l" t="t" r="r" b="b"/>
              <a:pathLst>
                <a:path w="5559" h="5560">
                  <a:moveTo>
                    <a:pt x="1224" y="5084"/>
                  </a:moveTo>
                  <a:lnTo>
                    <a:pt x="1466" y="5231"/>
                  </a:lnTo>
                  <a:lnTo>
                    <a:pt x="1719" y="5351"/>
                  </a:lnTo>
                  <a:lnTo>
                    <a:pt x="1978" y="5443"/>
                  </a:lnTo>
                  <a:lnTo>
                    <a:pt x="2241" y="5508"/>
                  </a:lnTo>
                  <a:lnTo>
                    <a:pt x="2508" y="5548"/>
                  </a:lnTo>
                  <a:lnTo>
                    <a:pt x="2776" y="5560"/>
                  </a:lnTo>
                  <a:lnTo>
                    <a:pt x="3043" y="5548"/>
                  </a:lnTo>
                  <a:lnTo>
                    <a:pt x="3308" y="5509"/>
                  </a:lnTo>
                  <a:lnTo>
                    <a:pt x="3566" y="5447"/>
                  </a:lnTo>
                  <a:lnTo>
                    <a:pt x="3819" y="5359"/>
                  </a:lnTo>
                  <a:lnTo>
                    <a:pt x="4062" y="5247"/>
                  </a:lnTo>
                  <a:lnTo>
                    <a:pt x="4295" y="5112"/>
                  </a:lnTo>
                  <a:lnTo>
                    <a:pt x="4516" y="4952"/>
                  </a:lnTo>
                  <a:lnTo>
                    <a:pt x="4722" y="4769"/>
                  </a:lnTo>
                  <a:lnTo>
                    <a:pt x="4912" y="4564"/>
                  </a:lnTo>
                  <a:lnTo>
                    <a:pt x="5083" y="4338"/>
                  </a:lnTo>
                  <a:lnTo>
                    <a:pt x="5230" y="4094"/>
                  </a:lnTo>
                  <a:lnTo>
                    <a:pt x="5350" y="3841"/>
                  </a:lnTo>
                  <a:lnTo>
                    <a:pt x="5442" y="3583"/>
                  </a:lnTo>
                  <a:lnTo>
                    <a:pt x="5507" y="3319"/>
                  </a:lnTo>
                  <a:lnTo>
                    <a:pt x="5547" y="3052"/>
                  </a:lnTo>
                  <a:lnTo>
                    <a:pt x="5559" y="2785"/>
                  </a:lnTo>
                  <a:lnTo>
                    <a:pt x="5547" y="2518"/>
                  </a:lnTo>
                  <a:lnTo>
                    <a:pt x="5508" y="2253"/>
                  </a:lnTo>
                  <a:lnTo>
                    <a:pt x="5446" y="1995"/>
                  </a:lnTo>
                  <a:lnTo>
                    <a:pt x="5358" y="1742"/>
                  </a:lnTo>
                  <a:lnTo>
                    <a:pt x="5246" y="1498"/>
                  </a:lnTo>
                  <a:lnTo>
                    <a:pt x="5111" y="1265"/>
                  </a:lnTo>
                  <a:lnTo>
                    <a:pt x="4951" y="1044"/>
                  </a:lnTo>
                  <a:lnTo>
                    <a:pt x="4768" y="839"/>
                  </a:lnTo>
                  <a:lnTo>
                    <a:pt x="4563" y="649"/>
                  </a:lnTo>
                  <a:lnTo>
                    <a:pt x="4337" y="479"/>
                  </a:lnTo>
                  <a:lnTo>
                    <a:pt x="4093" y="331"/>
                  </a:lnTo>
                  <a:lnTo>
                    <a:pt x="3840" y="211"/>
                  </a:lnTo>
                  <a:lnTo>
                    <a:pt x="3582" y="118"/>
                  </a:lnTo>
                  <a:lnTo>
                    <a:pt x="3318" y="54"/>
                  </a:lnTo>
                  <a:lnTo>
                    <a:pt x="3051" y="14"/>
                  </a:lnTo>
                  <a:lnTo>
                    <a:pt x="2783" y="0"/>
                  </a:lnTo>
                  <a:lnTo>
                    <a:pt x="2517" y="13"/>
                  </a:lnTo>
                  <a:lnTo>
                    <a:pt x="2252" y="51"/>
                  </a:lnTo>
                  <a:lnTo>
                    <a:pt x="1994" y="114"/>
                  </a:lnTo>
                  <a:lnTo>
                    <a:pt x="1741" y="202"/>
                  </a:lnTo>
                  <a:lnTo>
                    <a:pt x="1497" y="314"/>
                  </a:lnTo>
                  <a:lnTo>
                    <a:pt x="1264" y="450"/>
                  </a:lnTo>
                  <a:lnTo>
                    <a:pt x="1043" y="608"/>
                  </a:lnTo>
                  <a:lnTo>
                    <a:pt x="838" y="791"/>
                  </a:lnTo>
                  <a:lnTo>
                    <a:pt x="648" y="996"/>
                  </a:lnTo>
                  <a:lnTo>
                    <a:pt x="478" y="1224"/>
                  </a:lnTo>
                  <a:lnTo>
                    <a:pt x="330" y="1467"/>
                  </a:lnTo>
                  <a:lnTo>
                    <a:pt x="211" y="1719"/>
                  </a:lnTo>
                  <a:lnTo>
                    <a:pt x="118" y="1979"/>
                  </a:lnTo>
                  <a:lnTo>
                    <a:pt x="52" y="2242"/>
                  </a:lnTo>
                  <a:lnTo>
                    <a:pt x="13" y="2509"/>
                  </a:lnTo>
                  <a:lnTo>
                    <a:pt x="0" y="2777"/>
                  </a:lnTo>
                  <a:lnTo>
                    <a:pt x="13" y="3044"/>
                  </a:lnTo>
                  <a:lnTo>
                    <a:pt x="51" y="3309"/>
                  </a:lnTo>
                  <a:lnTo>
                    <a:pt x="114" y="3568"/>
                  </a:lnTo>
                  <a:lnTo>
                    <a:pt x="201" y="3820"/>
                  </a:lnTo>
                  <a:lnTo>
                    <a:pt x="314" y="4063"/>
                  </a:lnTo>
                  <a:lnTo>
                    <a:pt x="449" y="4297"/>
                  </a:lnTo>
                  <a:lnTo>
                    <a:pt x="608" y="4517"/>
                  </a:lnTo>
                  <a:lnTo>
                    <a:pt x="791" y="4724"/>
                  </a:lnTo>
                  <a:lnTo>
                    <a:pt x="995" y="4913"/>
                  </a:lnTo>
                  <a:lnTo>
                    <a:pt x="1224" y="5084"/>
                  </a:lnTo>
                  <a:close/>
                </a:path>
              </a:pathLst>
            </a:custGeom>
            <a:solidFill>
              <a:srgbClr val="708f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10480" y="216000"/>
              <a:ext cx="418320" cy="412920"/>
            </a:xfrm>
            <a:custGeom>
              <a:avLst/>
              <a:gdLst/>
              <a:ahLst/>
              <a:rect l="l" t="t" r="r" b="b"/>
              <a:pathLst>
                <a:path w="5399" h="5399">
                  <a:moveTo>
                    <a:pt x="1189" y="4936"/>
                  </a:moveTo>
                  <a:lnTo>
                    <a:pt x="1425" y="5079"/>
                  </a:lnTo>
                  <a:lnTo>
                    <a:pt x="1670" y="5195"/>
                  </a:lnTo>
                  <a:lnTo>
                    <a:pt x="1922" y="5285"/>
                  </a:lnTo>
                  <a:lnTo>
                    <a:pt x="2178" y="5349"/>
                  </a:lnTo>
                  <a:lnTo>
                    <a:pt x="2436" y="5386"/>
                  </a:lnTo>
                  <a:lnTo>
                    <a:pt x="2697" y="5399"/>
                  </a:lnTo>
                  <a:lnTo>
                    <a:pt x="2956" y="5386"/>
                  </a:lnTo>
                  <a:lnTo>
                    <a:pt x="3212" y="5350"/>
                  </a:lnTo>
                  <a:lnTo>
                    <a:pt x="3464" y="5288"/>
                  </a:lnTo>
                  <a:lnTo>
                    <a:pt x="3709" y="5203"/>
                  </a:lnTo>
                  <a:lnTo>
                    <a:pt x="3946" y="5095"/>
                  </a:lnTo>
                  <a:lnTo>
                    <a:pt x="4171" y="4963"/>
                  </a:lnTo>
                  <a:lnTo>
                    <a:pt x="4386" y="4808"/>
                  </a:lnTo>
                  <a:lnTo>
                    <a:pt x="4586" y="4631"/>
                  </a:lnTo>
                  <a:lnTo>
                    <a:pt x="4769" y="4431"/>
                  </a:lnTo>
                  <a:lnTo>
                    <a:pt x="4935" y="4211"/>
                  </a:lnTo>
                  <a:lnTo>
                    <a:pt x="5078" y="3974"/>
                  </a:lnTo>
                  <a:lnTo>
                    <a:pt x="5195" y="3730"/>
                  </a:lnTo>
                  <a:lnTo>
                    <a:pt x="5284" y="3478"/>
                  </a:lnTo>
                  <a:lnTo>
                    <a:pt x="5348" y="3221"/>
                  </a:lnTo>
                  <a:lnTo>
                    <a:pt x="5386" y="2963"/>
                  </a:lnTo>
                  <a:lnTo>
                    <a:pt x="5399" y="2703"/>
                  </a:lnTo>
                  <a:lnTo>
                    <a:pt x="5386" y="2443"/>
                  </a:lnTo>
                  <a:lnTo>
                    <a:pt x="5349" y="2187"/>
                  </a:lnTo>
                  <a:lnTo>
                    <a:pt x="5288" y="1936"/>
                  </a:lnTo>
                  <a:lnTo>
                    <a:pt x="5202" y="1691"/>
                  </a:lnTo>
                  <a:lnTo>
                    <a:pt x="5094" y="1455"/>
                  </a:lnTo>
                  <a:lnTo>
                    <a:pt x="4962" y="1228"/>
                  </a:lnTo>
                  <a:lnTo>
                    <a:pt x="4808" y="1013"/>
                  </a:lnTo>
                  <a:lnTo>
                    <a:pt x="4630" y="814"/>
                  </a:lnTo>
                  <a:lnTo>
                    <a:pt x="4432" y="630"/>
                  </a:lnTo>
                  <a:lnTo>
                    <a:pt x="4211" y="464"/>
                  </a:lnTo>
                  <a:lnTo>
                    <a:pt x="3974" y="320"/>
                  </a:lnTo>
                  <a:lnTo>
                    <a:pt x="3730" y="204"/>
                  </a:lnTo>
                  <a:lnTo>
                    <a:pt x="3478" y="114"/>
                  </a:lnTo>
                  <a:lnTo>
                    <a:pt x="3222" y="50"/>
                  </a:lnTo>
                  <a:lnTo>
                    <a:pt x="2962" y="13"/>
                  </a:lnTo>
                  <a:lnTo>
                    <a:pt x="2703" y="0"/>
                  </a:lnTo>
                  <a:lnTo>
                    <a:pt x="2443" y="12"/>
                  </a:lnTo>
                  <a:lnTo>
                    <a:pt x="2187" y="49"/>
                  </a:lnTo>
                  <a:lnTo>
                    <a:pt x="1935" y="111"/>
                  </a:lnTo>
                  <a:lnTo>
                    <a:pt x="1690" y="196"/>
                  </a:lnTo>
                  <a:lnTo>
                    <a:pt x="1454" y="304"/>
                  </a:lnTo>
                  <a:lnTo>
                    <a:pt x="1227" y="436"/>
                  </a:lnTo>
                  <a:lnTo>
                    <a:pt x="1014" y="590"/>
                  </a:lnTo>
                  <a:lnTo>
                    <a:pt x="814" y="768"/>
                  </a:lnTo>
                  <a:lnTo>
                    <a:pt x="630" y="967"/>
                  </a:lnTo>
                  <a:lnTo>
                    <a:pt x="464" y="1188"/>
                  </a:lnTo>
                  <a:lnTo>
                    <a:pt x="320" y="1424"/>
                  </a:lnTo>
                  <a:lnTo>
                    <a:pt x="205" y="1669"/>
                  </a:lnTo>
                  <a:lnTo>
                    <a:pt x="114" y="1920"/>
                  </a:lnTo>
                  <a:lnTo>
                    <a:pt x="50" y="2178"/>
                  </a:lnTo>
                  <a:lnTo>
                    <a:pt x="13" y="2437"/>
                  </a:lnTo>
                  <a:lnTo>
                    <a:pt x="0" y="2696"/>
                  </a:lnTo>
                  <a:lnTo>
                    <a:pt x="13" y="2956"/>
                  </a:lnTo>
                  <a:lnTo>
                    <a:pt x="49" y="3212"/>
                  </a:lnTo>
                  <a:lnTo>
                    <a:pt x="111" y="3464"/>
                  </a:lnTo>
                  <a:lnTo>
                    <a:pt x="196" y="3709"/>
                  </a:lnTo>
                  <a:lnTo>
                    <a:pt x="305" y="3945"/>
                  </a:lnTo>
                  <a:lnTo>
                    <a:pt x="436" y="4172"/>
                  </a:lnTo>
                  <a:lnTo>
                    <a:pt x="592" y="4386"/>
                  </a:lnTo>
                  <a:lnTo>
                    <a:pt x="768" y="4585"/>
                  </a:lnTo>
                  <a:lnTo>
                    <a:pt x="968" y="4769"/>
                  </a:lnTo>
                  <a:lnTo>
                    <a:pt x="1189" y="4936"/>
                  </a:lnTo>
                  <a:close/>
                </a:path>
              </a:pathLst>
            </a:custGeom>
            <a:solidFill>
              <a:srgbClr val="739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19840" y="218880"/>
              <a:ext cx="406080" cy="401040"/>
            </a:xfrm>
            <a:custGeom>
              <a:avLst/>
              <a:gdLst/>
              <a:ahLst/>
              <a:rect l="l" t="t" r="r" b="b"/>
              <a:pathLst>
                <a:path w="5237" h="5238">
                  <a:moveTo>
                    <a:pt x="1152" y="4789"/>
                  </a:moveTo>
                  <a:lnTo>
                    <a:pt x="1381" y="4928"/>
                  </a:lnTo>
                  <a:lnTo>
                    <a:pt x="1619" y="5040"/>
                  </a:lnTo>
                  <a:lnTo>
                    <a:pt x="1862" y="5127"/>
                  </a:lnTo>
                  <a:lnTo>
                    <a:pt x="2111" y="5189"/>
                  </a:lnTo>
                  <a:lnTo>
                    <a:pt x="2363" y="5225"/>
                  </a:lnTo>
                  <a:lnTo>
                    <a:pt x="2615" y="5238"/>
                  </a:lnTo>
                  <a:lnTo>
                    <a:pt x="2867" y="5226"/>
                  </a:lnTo>
                  <a:lnTo>
                    <a:pt x="3116" y="5190"/>
                  </a:lnTo>
                  <a:lnTo>
                    <a:pt x="3359" y="5131"/>
                  </a:lnTo>
                  <a:lnTo>
                    <a:pt x="3597" y="5049"/>
                  </a:lnTo>
                  <a:lnTo>
                    <a:pt x="3827" y="4942"/>
                  </a:lnTo>
                  <a:lnTo>
                    <a:pt x="4047" y="4815"/>
                  </a:lnTo>
                  <a:lnTo>
                    <a:pt x="4254" y="4665"/>
                  </a:lnTo>
                  <a:lnTo>
                    <a:pt x="4448" y="4494"/>
                  </a:lnTo>
                  <a:lnTo>
                    <a:pt x="4626" y="4300"/>
                  </a:lnTo>
                  <a:lnTo>
                    <a:pt x="4788" y="4087"/>
                  </a:lnTo>
                  <a:lnTo>
                    <a:pt x="4926" y="3857"/>
                  </a:lnTo>
                  <a:lnTo>
                    <a:pt x="5039" y="3619"/>
                  </a:lnTo>
                  <a:lnTo>
                    <a:pt x="5126" y="3374"/>
                  </a:lnTo>
                  <a:lnTo>
                    <a:pt x="5188" y="3126"/>
                  </a:lnTo>
                  <a:lnTo>
                    <a:pt x="5225" y="2875"/>
                  </a:lnTo>
                  <a:lnTo>
                    <a:pt x="5237" y="2623"/>
                  </a:lnTo>
                  <a:lnTo>
                    <a:pt x="5225" y="2371"/>
                  </a:lnTo>
                  <a:lnTo>
                    <a:pt x="5189" y="2122"/>
                  </a:lnTo>
                  <a:lnTo>
                    <a:pt x="5130" y="1878"/>
                  </a:lnTo>
                  <a:lnTo>
                    <a:pt x="5047" y="1641"/>
                  </a:lnTo>
                  <a:lnTo>
                    <a:pt x="4942" y="1411"/>
                  </a:lnTo>
                  <a:lnTo>
                    <a:pt x="4813" y="1191"/>
                  </a:lnTo>
                  <a:lnTo>
                    <a:pt x="4664" y="984"/>
                  </a:lnTo>
                  <a:lnTo>
                    <a:pt x="4492" y="789"/>
                  </a:lnTo>
                  <a:lnTo>
                    <a:pt x="4299" y="610"/>
                  </a:lnTo>
                  <a:lnTo>
                    <a:pt x="4085" y="450"/>
                  </a:lnTo>
                  <a:lnTo>
                    <a:pt x="3856" y="311"/>
                  </a:lnTo>
                  <a:lnTo>
                    <a:pt x="3617" y="198"/>
                  </a:lnTo>
                  <a:lnTo>
                    <a:pt x="3374" y="111"/>
                  </a:lnTo>
                  <a:lnTo>
                    <a:pt x="3125" y="49"/>
                  </a:lnTo>
                  <a:lnTo>
                    <a:pt x="2873" y="13"/>
                  </a:lnTo>
                  <a:lnTo>
                    <a:pt x="2621" y="0"/>
                  </a:lnTo>
                  <a:lnTo>
                    <a:pt x="2369" y="12"/>
                  </a:lnTo>
                  <a:lnTo>
                    <a:pt x="2121" y="48"/>
                  </a:lnTo>
                  <a:lnTo>
                    <a:pt x="1877" y="108"/>
                  </a:lnTo>
                  <a:lnTo>
                    <a:pt x="1639" y="189"/>
                  </a:lnTo>
                  <a:lnTo>
                    <a:pt x="1409" y="296"/>
                  </a:lnTo>
                  <a:lnTo>
                    <a:pt x="1189" y="423"/>
                  </a:lnTo>
                  <a:lnTo>
                    <a:pt x="982" y="573"/>
                  </a:lnTo>
                  <a:lnTo>
                    <a:pt x="788" y="744"/>
                  </a:lnTo>
                  <a:lnTo>
                    <a:pt x="610" y="938"/>
                  </a:lnTo>
                  <a:lnTo>
                    <a:pt x="449" y="1153"/>
                  </a:lnTo>
                  <a:lnTo>
                    <a:pt x="310" y="1381"/>
                  </a:lnTo>
                  <a:lnTo>
                    <a:pt x="197" y="1619"/>
                  </a:lnTo>
                  <a:lnTo>
                    <a:pt x="110" y="1863"/>
                  </a:lnTo>
                  <a:lnTo>
                    <a:pt x="49" y="2112"/>
                  </a:lnTo>
                  <a:lnTo>
                    <a:pt x="11" y="2363"/>
                  </a:lnTo>
                  <a:lnTo>
                    <a:pt x="0" y="2615"/>
                  </a:lnTo>
                  <a:lnTo>
                    <a:pt x="11" y="2867"/>
                  </a:lnTo>
                  <a:lnTo>
                    <a:pt x="47" y="3116"/>
                  </a:lnTo>
                  <a:lnTo>
                    <a:pt x="106" y="3361"/>
                  </a:lnTo>
                  <a:lnTo>
                    <a:pt x="189" y="3598"/>
                  </a:lnTo>
                  <a:lnTo>
                    <a:pt x="294" y="3827"/>
                  </a:lnTo>
                  <a:lnTo>
                    <a:pt x="423" y="4047"/>
                  </a:lnTo>
                  <a:lnTo>
                    <a:pt x="573" y="4255"/>
                  </a:lnTo>
                  <a:lnTo>
                    <a:pt x="744" y="4449"/>
                  </a:lnTo>
                  <a:lnTo>
                    <a:pt x="937" y="4628"/>
                  </a:lnTo>
                  <a:lnTo>
                    <a:pt x="1152" y="4789"/>
                  </a:lnTo>
                  <a:close/>
                </a:path>
              </a:pathLst>
            </a:custGeom>
            <a:solidFill>
              <a:srgbClr val="769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30280" y="221760"/>
              <a:ext cx="393120" cy="388440"/>
            </a:xfrm>
            <a:custGeom>
              <a:avLst/>
              <a:gdLst/>
              <a:ahLst/>
              <a:rect l="l" t="t" r="r" b="b"/>
              <a:pathLst>
                <a:path w="5076" h="5077">
                  <a:moveTo>
                    <a:pt x="1117" y="4643"/>
                  </a:moveTo>
                  <a:lnTo>
                    <a:pt x="1339" y="4777"/>
                  </a:lnTo>
                  <a:lnTo>
                    <a:pt x="1569" y="4886"/>
                  </a:lnTo>
                  <a:lnTo>
                    <a:pt x="1806" y="4970"/>
                  </a:lnTo>
                  <a:lnTo>
                    <a:pt x="2046" y="5030"/>
                  </a:lnTo>
                  <a:lnTo>
                    <a:pt x="2291" y="5066"/>
                  </a:lnTo>
                  <a:lnTo>
                    <a:pt x="2535" y="5077"/>
                  </a:lnTo>
                  <a:lnTo>
                    <a:pt x="2779" y="5066"/>
                  </a:lnTo>
                  <a:lnTo>
                    <a:pt x="3020" y="5031"/>
                  </a:lnTo>
                  <a:lnTo>
                    <a:pt x="3256" y="4973"/>
                  </a:lnTo>
                  <a:lnTo>
                    <a:pt x="3487" y="4893"/>
                  </a:lnTo>
                  <a:lnTo>
                    <a:pt x="3710" y="4790"/>
                  </a:lnTo>
                  <a:lnTo>
                    <a:pt x="3923" y="4667"/>
                  </a:lnTo>
                  <a:lnTo>
                    <a:pt x="4124" y="4521"/>
                  </a:lnTo>
                  <a:lnTo>
                    <a:pt x="4312" y="4354"/>
                  </a:lnTo>
                  <a:lnTo>
                    <a:pt x="4485" y="4167"/>
                  </a:lnTo>
                  <a:lnTo>
                    <a:pt x="4641" y="3960"/>
                  </a:lnTo>
                  <a:lnTo>
                    <a:pt x="4775" y="3737"/>
                  </a:lnTo>
                  <a:lnTo>
                    <a:pt x="4885" y="3507"/>
                  </a:lnTo>
                  <a:lnTo>
                    <a:pt x="4969" y="3270"/>
                  </a:lnTo>
                  <a:lnTo>
                    <a:pt x="5029" y="3030"/>
                  </a:lnTo>
                  <a:lnTo>
                    <a:pt x="5065" y="2785"/>
                  </a:lnTo>
                  <a:lnTo>
                    <a:pt x="5076" y="2541"/>
                  </a:lnTo>
                  <a:lnTo>
                    <a:pt x="5065" y="2297"/>
                  </a:lnTo>
                  <a:lnTo>
                    <a:pt x="5031" y="2056"/>
                  </a:lnTo>
                  <a:lnTo>
                    <a:pt x="4972" y="1820"/>
                  </a:lnTo>
                  <a:lnTo>
                    <a:pt x="4892" y="1589"/>
                  </a:lnTo>
                  <a:lnTo>
                    <a:pt x="4790" y="1366"/>
                  </a:lnTo>
                  <a:lnTo>
                    <a:pt x="4666" y="1154"/>
                  </a:lnTo>
                  <a:lnTo>
                    <a:pt x="4520" y="953"/>
                  </a:lnTo>
                  <a:lnTo>
                    <a:pt x="4354" y="764"/>
                  </a:lnTo>
                  <a:lnTo>
                    <a:pt x="4167" y="591"/>
                  </a:lnTo>
                  <a:lnTo>
                    <a:pt x="3960" y="436"/>
                  </a:lnTo>
                  <a:lnTo>
                    <a:pt x="3737" y="301"/>
                  </a:lnTo>
                  <a:lnTo>
                    <a:pt x="3507" y="191"/>
                  </a:lnTo>
                  <a:lnTo>
                    <a:pt x="3270" y="107"/>
                  </a:lnTo>
                  <a:lnTo>
                    <a:pt x="3029" y="48"/>
                  </a:lnTo>
                  <a:lnTo>
                    <a:pt x="2785" y="12"/>
                  </a:lnTo>
                  <a:lnTo>
                    <a:pt x="2541" y="0"/>
                  </a:lnTo>
                  <a:lnTo>
                    <a:pt x="2297" y="12"/>
                  </a:lnTo>
                  <a:lnTo>
                    <a:pt x="2056" y="47"/>
                  </a:lnTo>
                  <a:lnTo>
                    <a:pt x="1819" y="104"/>
                  </a:lnTo>
                  <a:lnTo>
                    <a:pt x="1589" y="184"/>
                  </a:lnTo>
                  <a:lnTo>
                    <a:pt x="1366" y="286"/>
                  </a:lnTo>
                  <a:lnTo>
                    <a:pt x="1153" y="410"/>
                  </a:lnTo>
                  <a:lnTo>
                    <a:pt x="952" y="556"/>
                  </a:lnTo>
                  <a:lnTo>
                    <a:pt x="764" y="722"/>
                  </a:lnTo>
                  <a:lnTo>
                    <a:pt x="591" y="909"/>
                  </a:lnTo>
                  <a:lnTo>
                    <a:pt x="436" y="1117"/>
                  </a:lnTo>
                  <a:lnTo>
                    <a:pt x="301" y="1340"/>
                  </a:lnTo>
                  <a:lnTo>
                    <a:pt x="191" y="1569"/>
                  </a:lnTo>
                  <a:lnTo>
                    <a:pt x="107" y="1806"/>
                  </a:lnTo>
                  <a:lnTo>
                    <a:pt x="48" y="2048"/>
                  </a:lnTo>
                  <a:lnTo>
                    <a:pt x="12" y="2291"/>
                  </a:lnTo>
                  <a:lnTo>
                    <a:pt x="0" y="2536"/>
                  </a:lnTo>
                  <a:lnTo>
                    <a:pt x="12" y="2779"/>
                  </a:lnTo>
                  <a:lnTo>
                    <a:pt x="46" y="3020"/>
                  </a:lnTo>
                  <a:lnTo>
                    <a:pt x="104" y="3257"/>
                  </a:lnTo>
                  <a:lnTo>
                    <a:pt x="184" y="3488"/>
                  </a:lnTo>
                  <a:lnTo>
                    <a:pt x="286" y="3710"/>
                  </a:lnTo>
                  <a:lnTo>
                    <a:pt x="409" y="3923"/>
                  </a:lnTo>
                  <a:lnTo>
                    <a:pt x="555" y="4125"/>
                  </a:lnTo>
                  <a:lnTo>
                    <a:pt x="722" y="4313"/>
                  </a:lnTo>
                  <a:lnTo>
                    <a:pt x="909" y="4485"/>
                  </a:lnTo>
                  <a:lnTo>
                    <a:pt x="1117" y="4643"/>
                  </a:lnTo>
                  <a:close/>
                </a:path>
              </a:pathLst>
            </a:custGeom>
            <a:solidFill>
              <a:srgbClr val="789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39280" y="223200"/>
              <a:ext cx="380160" cy="376560"/>
            </a:xfrm>
            <a:custGeom>
              <a:avLst/>
              <a:gdLst/>
              <a:ahLst/>
              <a:rect l="l" t="t" r="r" b="b"/>
              <a:pathLst>
                <a:path w="4917" h="4917">
                  <a:moveTo>
                    <a:pt x="1082" y="4495"/>
                  </a:moveTo>
                  <a:lnTo>
                    <a:pt x="1297" y="4624"/>
                  </a:lnTo>
                  <a:lnTo>
                    <a:pt x="1520" y="4731"/>
                  </a:lnTo>
                  <a:lnTo>
                    <a:pt x="1749" y="4813"/>
                  </a:lnTo>
                  <a:lnTo>
                    <a:pt x="1983" y="4870"/>
                  </a:lnTo>
                  <a:lnTo>
                    <a:pt x="2219" y="4905"/>
                  </a:lnTo>
                  <a:lnTo>
                    <a:pt x="2456" y="4917"/>
                  </a:lnTo>
                  <a:lnTo>
                    <a:pt x="2692" y="4905"/>
                  </a:lnTo>
                  <a:lnTo>
                    <a:pt x="2926" y="4872"/>
                  </a:lnTo>
                  <a:lnTo>
                    <a:pt x="3154" y="4816"/>
                  </a:lnTo>
                  <a:lnTo>
                    <a:pt x="3377" y="4738"/>
                  </a:lnTo>
                  <a:lnTo>
                    <a:pt x="3593" y="4639"/>
                  </a:lnTo>
                  <a:lnTo>
                    <a:pt x="3800" y="4519"/>
                  </a:lnTo>
                  <a:lnTo>
                    <a:pt x="3994" y="4379"/>
                  </a:lnTo>
                  <a:lnTo>
                    <a:pt x="4176" y="4217"/>
                  </a:lnTo>
                  <a:lnTo>
                    <a:pt x="4343" y="4037"/>
                  </a:lnTo>
                  <a:lnTo>
                    <a:pt x="4495" y="3836"/>
                  </a:lnTo>
                  <a:lnTo>
                    <a:pt x="4625" y="3620"/>
                  </a:lnTo>
                  <a:lnTo>
                    <a:pt x="4731" y="3397"/>
                  </a:lnTo>
                  <a:lnTo>
                    <a:pt x="4812" y="3168"/>
                  </a:lnTo>
                  <a:lnTo>
                    <a:pt x="4870" y="2934"/>
                  </a:lnTo>
                  <a:lnTo>
                    <a:pt x="4905" y="2698"/>
                  </a:lnTo>
                  <a:lnTo>
                    <a:pt x="4917" y="2461"/>
                  </a:lnTo>
                  <a:lnTo>
                    <a:pt x="4905" y="2225"/>
                  </a:lnTo>
                  <a:lnTo>
                    <a:pt x="4871" y="1991"/>
                  </a:lnTo>
                  <a:lnTo>
                    <a:pt x="4816" y="1763"/>
                  </a:lnTo>
                  <a:lnTo>
                    <a:pt x="4738" y="1539"/>
                  </a:lnTo>
                  <a:lnTo>
                    <a:pt x="4639" y="1324"/>
                  </a:lnTo>
                  <a:lnTo>
                    <a:pt x="4519" y="1117"/>
                  </a:lnTo>
                  <a:lnTo>
                    <a:pt x="4379" y="923"/>
                  </a:lnTo>
                  <a:lnTo>
                    <a:pt x="4217" y="740"/>
                  </a:lnTo>
                  <a:lnTo>
                    <a:pt x="4037" y="573"/>
                  </a:lnTo>
                  <a:lnTo>
                    <a:pt x="3836" y="422"/>
                  </a:lnTo>
                  <a:lnTo>
                    <a:pt x="3620" y="291"/>
                  </a:lnTo>
                  <a:lnTo>
                    <a:pt x="3397" y="186"/>
                  </a:lnTo>
                  <a:lnTo>
                    <a:pt x="3168" y="104"/>
                  </a:lnTo>
                  <a:lnTo>
                    <a:pt x="2934" y="47"/>
                  </a:lnTo>
                  <a:lnTo>
                    <a:pt x="2698" y="12"/>
                  </a:lnTo>
                  <a:lnTo>
                    <a:pt x="2461" y="0"/>
                  </a:lnTo>
                  <a:lnTo>
                    <a:pt x="2225" y="12"/>
                  </a:lnTo>
                  <a:lnTo>
                    <a:pt x="1991" y="46"/>
                  </a:lnTo>
                  <a:lnTo>
                    <a:pt x="1763" y="101"/>
                  </a:lnTo>
                  <a:lnTo>
                    <a:pt x="1539" y="179"/>
                  </a:lnTo>
                  <a:lnTo>
                    <a:pt x="1324" y="277"/>
                  </a:lnTo>
                  <a:lnTo>
                    <a:pt x="1117" y="398"/>
                  </a:lnTo>
                  <a:lnTo>
                    <a:pt x="923" y="538"/>
                  </a:lnTo>
                  <a:lnTo>
                    <a:pt x="740" y="700"/>
                  </a:lnTo>
                  <a:lnTo>
                    <a:pt x="573" y="880"/>
                  </a:lnTo>
                  <a:lnTo>
                    <a:pt x="422" y="1082"/>
                  </a:lnTo>
                  <a:lnTo>
                    <a:pt x="291" y="1297"/>
                  </a:lnTo>
                  <a:lnTo>
                    <a:pt x="186" y="1520"/>
                  </a:lnTo>
                  <a:lnTo>
                    <a:pt x="104" y="1749"/>
                  </a:lnTo>
                  <a:lnTo>
                    <a:pt x="47" y="1983"/>
                  </a:lnTo>
                  <a:lnTo>
                    <a:pt x="12" y="2219"/>
                  </a:lnTo>
                  <a:lnTo>
                    <a:pt x="0" y="2456"/>
                  </a:lnTo>
                  <a:lnTo>
                    <a:pt x="12" y="2692"/>
                  </a:lnTo>
                  <a:lnTo>
                    <a:pt x="46" y="2926"/>
                  </a:lnTo>
                  <a:lnTo>
                    <a:pt x="101" y="3154"/>
                  </a:lnTo>
                  <a:lnTo>
                    <a:pt x="179" y="3377"/>
                  </a:lnTo>
                  <a:lnTo>
                    <a:pt x="277" y="3593"/>
                  </a:lnTo>
                  <a:lnTo>
                    <a:pt x="398" y="3799"/>
                  </a:lnTo>
                  <a:lnTo>
                    <a:pt x="538" y="3994"/>
                  </a:lnTo>
                  <a:lnTo>
                    <a:pt x="700" y="4176"/>
                  </a:lnTo>
                  <a:lnTo>
                    <a:pt x="880" y="4343"/>
                  </a:lnTo>
                  <a:lnTo>
                    <a:pt x="1082" y="4495"/>
                  </a:lnTo>
                  <a:close/>
                </a:path>
              </a:pathLst>
            </a:custGeom>
            <a:solidFill>
              <a:srgbClr val="7b9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48640" y="226080"/>
              <a:ext cx="367920" cy="363600"/>
            </a:xfrm>
            <a:custGeom>
              <a:avLst/>
              <a:gdLst/>
              <a:ahLst/>
              <a:rect l="l" t="t" r="r" b="b"/>
              <a:pathLst>
                <a:path w="4755" h="4755">
                  <a:moveTo>
                    <a:pt x="1046" y="4347"/>
                  </a:moveTo>
                  <a:lnTo>
                    <a:pt x="1255" y="4472"/>
                  </a:lnTo>
                  <a:lnTo>
                    <a:pt x="1470" y="4574"/>
                  </a:lnTo>
                  <a:lnTo>
                    <a:pt x="1692" y="4654"/>
                  </a:lnTo>
                  <a:lnTo>
                    <a:pt x="1918" y="4710"/>
                  </a:lnTo>
                  <a:lnTo>
                    <a:pt x="2146" y="4743"/>
                  </a:lnTo>
                  <a:lnTo>
                    <a:pt x="2375" y="4755"/>
                  </a:lnTo>
                  <a:lnTo>
                    <a:pt x="2604" y="4744"/>
                  </a:lnTo>
                  <a:lnTo>
                    <a:pt x="2829" y="4712"/>
                  </a:lnTo>
                  <a:lnTo>
                    <a:pt x="3051" y="4657"/>
                  </a:lnTo>
                  <a:lnTo>
                    <a:pt x="3267" y="4583"/>
                  </a:lnTo>
                  <a:lnTo>
                    <a:pt x="3475" y="4487"/>
                  </a:lnTo>
                  <a:lnTo>
                    <a:pt x="3675" y="4371"/>
                  </a:lnTo>
                  <a:lnTo>
                    <a:pt x="3864" y="4234"/>
                  </a:lnTo>
                  <a:lnTo>
                    <a:pt x="4040" y="4079"/>
                  </a:lnTo>
                  <a:lnTo>
                    <a:pt x="4202" y="3904"/>
                  </a:lnTo>
                  <a:lnTo>
                    <a:pt x="4348" y="3709"/>
                  </a:lnTo>
                  <a:lnTo>
                    <a:pt x="4474" y="3501"/>
                  </a:lnTo>
                  <a:lnTo>
                    <a:pt x="4576" y="3285"/>
                  </a:lnTo>
                  <a:lnTo>
                    <a:pt x="4654" y="3063"/>
                  </a:lnTo>
                  <a:lnTo>
                    <a:pt x="4711" y="2837"/>
                  </a:lnTo>
                  <a:lnTo>
                    <a:pt x="4745" y="2609"/>
                  </a:lnTo>
                  <a:lnTo>
                    <a:pt x="4755" y="2380"/>
                  </a:lnTo>
                  <a:lnTo>
                    <a:pt x="4745" y="2152"/>
                  </a:lnTo>
                  <a:lnTo>
                    <a:pt x="4712" y="1926"/>
                  </a:lnTo>
                  <a:lnTo>
                    <a:pt x="4659" y="1704"/>
                  </a:lnTo>
                  <a:lnTo>
                    <a:pt x="4583" y="1488"/>
                  </a:lnTo>
                  <a:lnTo>
                    <a:pt x="4488" y="1280"/>
                  </a:lnTo>
                  <a:lnTo>
                    <a:pt x="4372" y="1080"/>
                  </a:lnTo>
                  <a:lnTo>
                    <a:pt x="4236" y="892"/>
                  </a:lnTo>
                  <a:lnTo>
                    <a:pt x="4079" y="715"/>
                  </a:lnTo>
                  <a:lnTo>
                    <a:pt x="3904" y="554"/>
                  </a:lnTo>
                  <a:lnTo>
                    <a:pt x="3710" y="408"/>
                  </a:lnTo>
                  <a:lnTo>
                    <a:pt x="3501" y="282"/>
                  </a:lnTo>
                  <a:lnTo>
                    <a:pt x="3285" y="180"/>
                  </a:lnTo>
                  <a:lnTo>
                    <a:pt x="3064" y="100"/>
                  </a:lnTo>
                  <a:lnTo>
                    <a:pt x="2839" y="44"/>
                  </a:lnTo>
                  <a:lnTo>
                    <a:pt x="2610" y="11"/>
                  </a:lnTo>
                  <a:lnTo>
                    <a:pt x="2380" y="0"/>
                  </a:lnTo>
                  <a:lnTo>
                    <a:pt x="2152" y="11"/>
                  </a:lnTo>
                  <a:lnTo>
                    <a:pt x="1927" y="42"/>
                  </a:lnTo>
                  <a:lnTo>
                    <a:pt x="1704" y="97"/>
                  </a:lnTo>
                  <a:lnTo>
                    <a:pt x="1489" y="172"/>
                  </a:lnTo>
                  <a:lnTo>
                    <a:pt x="1280" y="268"/>
                  </a:lnTo>
                  <a:lnTo>
                    <a:pt x="1081" y="384"/>
                  </a:lnTo>
                  <a:lnTo>
                    <a:pt x="892" y="520"/>
                  </a:lnTo>
                  <a:lnTo>
                    <a:pt x="717" y="676"/>
                  </a:lnTo>
                  <a:lnTo>
                    <a:pt x="554" y="851"/>
                  </a:lnTo>
                  <a:lnTo>
                    <a:pt x="408" y="1046"/>
                  </a:lnTo>
                  <a:lnTo>
                    <a:pt x="282" y="1253"/>
                  </a:lnTo>
                  <a:lnTo>
                    <a:pt x="180" y="1469"/>
                  </a:lnTo>
                  <a:lnTo>
                    <a:pt x="101" y="1691"/>
                  </a:lnTo>
                  <a:lnTo>
                    <a:pt x="45" y="1917"/>
                  </a:lnTo>
                  <a:lnTo>
                    <a:pt x="12" y="2145"/>
                  </a:lnTo>
                  <a:lnTo>
                    <a:pt x="0" y="2374"/>
                  </a:lnTo>
                  <a:lnTo>
                    <a:pt x="11" y="2602"/>
                  </a:lnTo>
                  <a:lnTo>
                    <a:pt x="44" y="2829"/>
                  </a:lnTo>
                  <a:lnTo>
                    <a:pt x="98" y="3050"/>
                  </a:lnTo>
                  <a:lnTo>
                    <a:pt x="172" y="3266"/>
                  </a:lnTo>
                  <a:lnTo>
                    <a:pt x="268" y="3474"/>
                  </a:lnTo>
                  <a:lnTo>
                    <a:pt x="384" y="3674"/>
                  </a:lnTo>
                  <a:lnTo>
                    <a:pt x="520" y="3862"/>
                  </a:lnTo>
                  <a:lnTo>
                    <a:pt x="676" y="4039"/>
                  </a:lnTo>
                  <a:lnTo>
                    <a:pt x="852" y="4200"/>
                  </a:lnTo>
                  <a:lnTo>
                    <a:pt x="1046" y="4347"/>
                  </a:lnTo>
                  <a:close/>
                </a:path>
              </a:pathLst>
            </a:custGeom>
            <a:solidFill>
              <a:srgbClr val="7e9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58000" y="228960"/>
              <a:ext cx="356040" cy="351720"/>
            </a:xfrm>
            <a:custGeom>
              <a:avLst/>
              <a:gdLst/>
              <a:ahLst/>
              <a:rect l="l" t="t" r="r" b="b"/>
              <a:pathLst>
                <a:path w="4595" h="4594">
                  <a:moveTo>
                    <a:pt x="1012" y="4201"/>
                  </a:moveTo>
                  <a:lnTo>
                    <a:pt x="1213" y="4322"/>
                  </a:lnTo>
                  <a:lnTo>
                    <a:pt x="1422" y="4421"/>
                  </a:lnTo>
                  <a:lnTo>
                    <a:pt x="1635" y="4498"/>
                  </a:lnTo>
                  <a:lnTo>
                    <a:pt x="1853" y="4552"/>
                  </a:lnTo>
                  <a:lnTo>
                    <a:pt x="2075" y="4584"/>
                  </a:lnTo>
                  <a:lnTo>
                    <a:pt x="2296" y="4594"/>
                  </a:lnTo>
                  <a:lnTo>
                    <a:pt x="2516" y="4584"/>
                  </a:lnTo>
                  <a:lnTo>
                    <a:pt x="2735" y="4553"/>
                  </a:lnTo>
                  <a:lnTo>
                    <a:pt x="2948" y="4500"/>
                  </a:lnTo>
                  <a:lnTo>
                    <a:pt x="3157" y="4428"/>
                  </a:lnTo>
                  <a:lnTo>
                    <a:pt x="3359" y="4335"/>
                  </a:lnTo>
                  <a:lnTo>
                    <a:pt x="3551" y="4223"/>
                  </a:lnTo>
                  <a:lnTo>
                    <a:pt x="3733" y="4092"/>
                  </a:lnTo>
                  <a:lnTo>
                    <a:pt x="3903" y="3941"/>
                  </a:lnTo>
                  <a:lnTo>
                    <a:pt x="4060" y="3772"/>
                  </a:lnTo>
                  <a:lnTo>
                    <a:pt x="4202" y="3585"/>
                  </a:lnTo>
                  <a:lnTo>
                    <a:pt x="4323" y="3383"/>
                  </a:lnTo>
                  <a:lnTo>
                    <a:pt x="4422" y="3174"/>
                  </a:lnTo>
                  <a:lnTo>
                    <a:pt x="4498" y="2961"/>
                  </a:lnTo>
                  <a:lnTo>
                    <a:pt x="4553" y="2742"/>
                  </a:lnTo>
                  <a:lnTo>
                    <a:pt x="4585" y="2521"/>
                  </a:lnTo>
                  <a:lnTo>
                    <a:pt x="4595" y="2299"/>
                  </a:lnTo>
                  <a:lnTo>
                    <a:pt x="4585" y="2079"/>
                  </a:lnTo>
                  <a:lnTo>
                    <a:pt x="4554" y="1861"/>
                  </a:lnTo>
                  <a:lnTo>
                    <a:pt x="4501" y="1647"/>
                  </a:lnTo>
                  <a:lnTo>
                    <a:pt x="4428" y="1438"/>
                  </a:lnTo>
                  <a:lnTo>
                    <a:pt x="4336" y="1236"/>
                  </a:lnTo>
                  <a:lnTo>
                    <a:pt x="4224" y="1044"/>
                  </a:lnTo>
                  <a:lnTo>
                    <a:pt x="4092" y="862"/>
                  </a:lnTo>
                  <a:lnTo>
                    <a:pt x="3941" y="692"/>
                  </a:lnTo>
                  <a:lnTo>
                    <a:pt x="3772" y="535"/>
                  </a:lnTo>
                  <a:lnTo>
                    <a:pt x="3585" y="394"/>
                  </a:lnTo>
                  <a:lnTo>
                    <a:pt x="3383" y="272"/>
                  </a:lnTo>
                  <a:lnTo>
                    <a:pt x="3175" y="173"/>
                  </a:lnTo>
                  <a:lnTo>
                    <a:pt x="2961" y="97"/>
                  </a:lnTo>
                  <a:lnTo>
                    <a:pt x="2742" y="42"/>
                  </a:lnTo>
                  <a:lnTo>
                    <a:pt x="2522" y="10"/>
                  </a:lnTo>
                  <a:lnTo>
                    <a:pt x="2301" y="0"/>
                  </a:lnTo>
                  <a:lnTo>
                    <a:pt x="2080" y="10"/>
                  </a:lnTo>
                  <a:lnTo>
                    <a:pt x="1862" y="41"/>
                  </a:lnTo>
                  <a:lnTo>
                    <a:pt x="1648" y="93"/>
                  </a:lnTo>
                  <a:lnTo>
                    <a:pt x="1439" y="166"/>
                  </a:lnTo>
                  <a:lnTo>
                    <a:pt x="1238" y="258"/>
                  </a:lnTo>
                  <a:lnTo>
                    <a:pt x="1045" y="371"/>
                  </a:lnTo>
                  <a:lnTo>
                    <a:pt x="863" y="502"/>
                  </a:lnTo>
                  <a:lnTo>
                    <a:pt x="692" y="653"/>
                  </a:lnTo>
                  <a:lnTo>
                    <a:pt x="536" y="823"/>
                  </a:lnTo>
                  <a:lnTo>
                    <a:pt x="395" y="1011"/>
                  </a:lnTo>
                  <a:lnTo>
                    <a:pt x="273" y="1212"/>
                  </a:lnTo>
                  <a:lnTo>
                    <a:pt x="174" y="1420"/>
                  </a:lnTo>
                  <a:lnTo>
                    <a:pt x="97" y="1634"/>
                  </a:lnTo>
                  <a:lnTo>
                    <a:pt x="43" y="1853"/>
                  </a:lnTo>
                  <a:lnTo>
                    <a:pt x="11" y="2073"/>
                  </a:lnTo>
                  <a:lnTo>
                    <a:pt x="0" y="2295"/>
                  </a:lnTo>
                  <a:lnTo>
                    <a:pt x="11" y="2515"/>
                  </a:lnTo>
                  <a:lnTo>
                    <a:pt x="43" y="2733"/>
                  </a:lnTo>
                  <a:lnTo>
                    <a:pt x="95" y="2948"/>
                  </a:lnTo>
                  <a:lnTo>
                    <a:pt x="167" y="3156"/>
                  </a:lnTo>
                  <a:lnTo>
                    <a:pt x="260" y="3358"/>
                  </a:lnTo>
                  <a:lnTo>
                    <a:pt x="372" y="3551"/>
                  </a:lnTo>
                  <a:lnTo>
                    <a:pt x="503" y="3732"/>
                  </a:lnTo>
                  <a:lnTo>
                    <a:pt x="654" y="3902"/>
                  </a:lnTo>
                  <a:lnTo>
                    <a:pt x="824" y="4060"/>
                  </a:lnTo>
                  <a:lnTo>
                    <a:pt x="1012" y="4201"/>
                  </a:lnTo>
                  <a:close/>
                </a:path>
              </a:pathLst>
            </a:custGeom>
            <a:solidFill>
              <a:srgbClr val="80a2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67360" y="230760"/>
              <a:ext cx="343080" cy="339480"/>
            </a:xfrm>
            <a:custGeom>
              <a:avLst/>
              <a:gdLst/>
              <a:ahLst/>
              <a:rect l="l" t="t" r="r" b="b"/>
              <a:pathLst>
                <a:path w="4434" h="4435">
                  <a:moveTo>
                    <a:pt x="975" y="4055"/>
                  </a:moveTo>
                  <a:lnTo>
                    <a:pt x="1169" y="4172"/>
                  </a:lnTo>
                  <a:lnTo>
                    <a:pt x="1370" y="4267"/>
                  </a:lnTo>
                  <a:lnTo>
                    <a:pt x="1577" y="4341"/>
                  </a:lnTo>
                  <a:lnTo>
                    <a:pt x="1788" y="4393"/>
                  </a:lnTo>
                  <a:lnTo>
                    <a:pt x="2000" y="4424"/>
                  </a:lnTo>
                  <a:lnTo>
                    <a:pt x="2214" y="4435"/>
                  </a:lnTo>
                  <a:lnTo>
                    <a:pt x="2427" y="4424"/>
                  </a:lnTo>
                  <a:lnTo>
                    <a:pt x="2637" y="4394"/>
                  </a:lnTo>
                  <a:lnTo>
                    <a:pt x="2844" y="4343"/>
                  </a:lnTo>
                  <a:lnTo>
                    <a:pt x="3045" y="4274"/>
                  </a:lnTo>
                  <a:lnTo>
                    <a:pt x="3240" y="4185"/>
                  </a:lnTo>
                  <a:lnTo>
                    <a:pt x="3426" y="4077"/>
                  </a:lnTo>
                  <a:lnTo>
                    <a:pt x="3601" y="3950"/>
                  </a:lnTo>
                  <a:lnTo>
                    <a:pt x="3765" y="3804"/>
                  </a:lnTo>
                  <a:lnTo>
                    <a:pt x="3916" y="3641"/>
                  </a:lnTo>
                  <a:lnTo>
                    <a:pt x="4053" y="3460"/>
                  </a:lnTo>
                  <a:lnTo>
                    <a:pt x="4170" y="3265"/>
                  </a:lnTo>
                  <a:lnTo>
                    <a:pt x="4266" y="3065"/>
                  </a:lnTo>
                  <a:lnTo>
                    <a:pt x="4339" y="2857"/>
                  </a:lnTo>
                  <a:lnTo>
                    <a:pt x="4391" y="2647"/>
                  </a:lnTo>
                  <a:lnTo>
                    <a:pt x="4423" y="2434"/>
                  </a:lnTo>
                  <a:lnTo>
                    <a:pt x="4434" y="2220"/>
                  </a:lnTo>
                  <a:lnTo>
                    <a:pt x="4423" y="2008"/>
                  </a:lnTo>
                  <a:lnTo>
                    <a:pt x="4393" y="1797"/>
                  </a:lnTo>
                  <a:lnTo>
                    <a:pt x="4342" y="1590"/>
                  </a:lnTo>
                  <a:lnTo>
                    <a:pt x="4272" y="1389"/>
                  </a:lnTo>
                  <a:lnTo>
                    <a:pt x="4183" y="1195"/>
                  </a:lnTo>
                  <a:lnTo>
                    <a:pt x="4076" y="1009"/>
                  </a:lnTo>
                  <a:lnTo>
                    <a:pt x="3948" y="833"/>
                  </a:lnTo>
                  <a:lnTo>
                    <a:pt x="3802" y="668"/>
                  </a:lnTo>
                  <a:lnTo>
                    <a:pt x="3639" y="517"/>
                  </a:lnTo>
                  <a:lnTo>
                    <a:pt x="3458" y="381"/>
                  </a:lnTo>
                  <a:lnTo>
                    <a:pt x="3263" y="263"/>
                  </a:lnTo>
                  <a:lnTo>
                    <a:pt x="3062" y="168"/>
                  </a:lnTo>
                  <a:lnTo>
                    <a:pt x="2855" y="94"/>
                  </a:lnTo>
                  <a:lnTo>
                    <a:pt x="2645" y="42"/>
                  </a:lnTo>
                  <a:lnTo>
                    <a:pt x="2432" y="10"/>
                  </a:lnTo>
                  <a:lnTo>
                    <a:pt x="2218" y="0"/>
                  </a:lnTo>
                  <a:lnTo>
                    <a:pt x="2006" y="10"/>
                  </a:lnTo>
                  <a:lnTo>
                    <a:pt x="1795" y="41"/>
                  </a:lnTo>
                  <a:lnTo>
                    <a:pt x="1589" y="91"/>
                  </a:lnTo>
                  <a:lnTo>
                    <a:pt x="1387" y="161"/>
                  </a:lnTo>
                  <a:lnTo>
                    <a:pt x="1193" y="251"/>
                  </a:lnTo>
                  <a:lnTo>
                    <a:pt x="1007" y="358"/>
                  </a:lnTo>
                  <a:lnTo>
                    <a:pt x="831" y="486"/>
                  </a:lnTo>
                  <a:lnTo>
                    <a:pt x="667" y="631"/>
                  </a:lnTo>
                  <a:lnTo>
                    <a:pt x="516" y="795"/>
                  </a:lnTo>
                  <a:lnTo>
                    <a:pt x="380" y="977"/>
                  </a:lnTo>
                  <a:lnTo>
                    <a:pt x="262" y="1170"/>
                  </a:lnTo>
                  <a:lnTo>
                    <a:pt x="166" y="1371"/>
                  </a:lnTo>
                  <a:lnTo>
                    <a:pt x="93" y="1578"/>
                  </a:lnTo>
                  <a:lnTo>
                    <a:pt x="41" y="1789"/>
                  </a:lnTo>
                  <a:lnTo>
                    <a:pt x="9" y="2001"/>
                  </a:lnTo>
                  <a:lnTo>
                    <a:pt x="0" y="2215"/>
                  </a:lnTo>
                  <a:lnTo>
                    <a:pt x="9" y="2428"/>
                  </a:lnTo>
                  <a:lnTo>
                    <a:pt x="40" y="2638"/>
                  </a:lnTo>
                  <a:lnTo>
                    <a:pt x="90" y="2846"/>
                  </a:lnTo>
                  <a:lnTo>
                    <a:pt x="160" y="3046"/>
                  </a:lnTo>
                  <a:lnTo>
                    <a:pt x="249" y="3241"/>
                  </a:lnTo>
                  <a:lnTo>
                    <a:pt x="358" y="3427"/>
                  </a:lnTo>
                  <a:lnTo>
                    <a:pt x="484" y="3602"/>
                  </a:lnTo>
                  <a:lnTo>
                    <a:pt x="630" y="3767"/>
                  </a:lnTo>
                  <a:lnTo>
                    <a:pt x="794" y="3918"/>
                  </a:lnTo>
                  <a:lnTo>
                    <a:pt x="975" y="4055"/>
                  </a:lnTo>
                  <a:close/>
                </a:path>
              </a:pathLst>
            </a:custGeom>
            <a:solidFill>
              <a:srgbClr val="83a5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76360" y="233640"/>
              <a:ext cx="330840" cy="326880"/>
            </a:xfrm>
            <a:custGeom>
              <a:avLst/>
              <a:gdLst/>
              <a:ahLst/>
              <a:rect l="l" t="t" r="r" b="b"/>
              <a:pathLst>
                <a:path w="4272" h="4273">
                  <a:moveTo>
                    <a:pt x="941" y="3908"/>
                  </a:moveTo>
                  <a:lnTo>
                    <a:pt x="1128" y="4020"/>
                  </a:lnTo>
                  <a:lnTo>
                    <a:pt x="1321" y="4112"/>
                  </a:lnTo>
                  <a:lnTo>
                    <a:pt x="1520" y="4183"/>
                  </a:lnTo>
                  <a:lnTo>
                    <a:pt x="1723" y="4233"/>
                  </a:lnTo>
                  <a:lnTo>
                    <a:pt x="1928" y="4264"/>
                  </a:lnTo>
                  <a:lnTo>
                    <a:pt x="2134" y="4273"/>
                  </a:lnTo>
                  <a:lnTo>
                    <a:pt x="2340" y="4264"/>
                  </a:lnTo>
                  <a:lnTo>
                    <a:pt x="2543" y="4234"/>
                  </a:lnTo>
                  <a:lnTo>
                    <a:pt x="2742" y="4185"/>
                  </a:lnTo>
                  <a:lnTo>
                    <a:pt x="2935" y="4118"/>
                  </a:lnTo>
                  <a:lnTo>
                    <a:pt x="3123" y="4032"/>
                  </a:lnTo>
                  <a:lnTo>
                    <a:pt x="3302" y="3928"/>
                  </a:lnTo>
                  <a:lnTo>
                    <a:pt x="3471" y="3805"/>
                  </a:lnTo>
                  <a:lnTo>
                    <a:pt x="3629" y="3665"/>
                  </a:lnTo>
                  <a:lnTo>
                    <a:pt x="3775" y="3508"/>
                  </a:lnTo>
                  <a:lnTo>
                    <a:pt x="3907" y="3333"/>
                  </a:lnTo>
                  <a:lnTo>
                    <a:pt x="4019" y="3145"/>
                  </a:lnTo>
                  <a:lnTo>
                    <a:pt x="4111" y="2952"/>
                  </a:lnTo>
                  <a:lnTo>
                    <a:pt x="4182" y="2753"/>
                  </a:lnTo>
                  <a:lnTo>
                    <a:pt x="4232" y="2550"/>
                  </a:lnTo>
                  <a:lnTo>
                    <a:pt x="4263" y="2345"/>
                  </a:lnTo>
                  <a:lnTo>
                    <a:pt x="4272" y="2139"/>
                  </a:lnTo>
                  <a:lnTo>
                    <a:pt x="4263" y="1933"/>
                  </a:lnTo>
                  <a:lnTo>
                    <a:pt x="4233" y="1730"/>
                  </a:lnTo>
                  <a:lnTo>
                    <a:pt x="4185" y="1530"/>
                  </a:lnTo>
                  <a:lnTo>
                    <a:pt x="4117" y="1337"/>
                  </a:lnTo>
                  <a:lnTo>
                    <a:pt x="4031" y="1150"/>
                  </a:lnTo>
                  <a:lnTo>
                    <a:pt x="3927" y="970"/>
                  </a:lnTo>
                  <a:lnTo>
                    <a:pt x="3805" y="801"/>
                  </a:lnTo>
                  <a:lnTo>
                    <a:pt x="3664" y="643"/>
                  </a:lnTo>
                  <a:lnTo>
                    <a:pt x="3507" y="497"/>
                  </a:lnTo>
                  <a:lnTo>
                    <a:pt x="3333" y="366"/>
                  </a:lnTo>
                  <a:lnTo>
                    <a:pt x="3146" y="253"/>
                  </a:lnTo>
                  <a:lnTo>
                    <a:pt x="2951" y="161"/>
                  </a:lnTo>
                  <a:lnTo>
                    <a:pt x="2752" y="90"/>
                  </a:lnTo>
                  <a:lnTo>
                    <a:pt x="2549" y="40"/>
                  </a:lnTo>
                  <a:lnTo>
                    <a:pt x="2344" y="9"/>
                  </a:lnTo>
                  <a:lnTo>
                    <a:pt x="2139" y="0"/>
                  </a:lnTo>
                  <a:lnTo>
                    <a:pt x="1934" y="9"/>
                  </a:lnTo>
                  <a:lnTo>
                    <a:pt x="1731" y="39"/>
                  </a:lnTo>
                  <a:lnTo>
                    <a:pt x="1532" y="88"/>
                  </a:lnTo>
                  <a:lnTo>
                    <a:pt x="1337" y="155"/>
                  </a:lnTo>
                  <a:lnTo>
                    <a:pt x="1150" y="241"/>
                  </a:lnTo>
                  <a:lnTo>
                    <a:pt x="971" y="345"/>
                  </a:lnTo>
                  <a:lnTo>
                    <a:pt x="801" y="467"/>
                  </a:lnTo>
                  <a:lnTo>
                    <a:pt x="643" y="608"/>
                  </a:lnTo>
                  <a:lnTo>
                    <a:pt x="497" y="765"/>
                  </a:lnTo>
                  <a:lnTo>
                    <a:pt x="367" y="940"/>
                  </a:lnTo>
                  <a:lnTo>
                    <a:pt x="253" y="1127"/>
                  </a:lnTo>
                  <a:lnTo>
                    <a:pt x="161" y="1321"/>
                  </a:lnTo>
                  <a:lnTo>
                    <a:pt x="90" y="1520"/>
                  </a:lnTo>
                  <a:lnTo>
                    <a:pt x="40" y="1723"/>
                  </a:lnTo>
                  <a:lnTo>
                    <a:pt x="9" y="1928"/>
                  </a:lnTo>
                  <a:lnTo>
                    <a:pt x="0" y="2133"/>
                  </a:lnTo>
                  <a:lnTo>
                    <a:pt x="9" y="2338"/>
                  </a:lnTo>
                  <a:lnTo>
                    <a:pt x="39" y="2541"/>
                  </a:lnTo>
                  <a:lnTo>
                    <a:pt x="87" y="2741"/>
                  </a:lnTo>
                  <a:lnTo>
                    <a:pt x="155" y="2935"/>
                  </a:lnTo>
                  <a:lnTo>
                    <a:pt x="241" y="3123"/>
                  </a:lnTo>
                  <a:lnTo>
                    <a:pt x="345" y="3302"/>
                  </a:lnTo>
                  <a:lnTo>
                    <a:pt x="468" y="3472"/>
                  </a:lnTo>
                  <a:lnTo>
                    <a:pt x="608" y="3630"/>
                  </a:lnTo>
                  <a:lnTo>
                    <a:pt x="765" y="3776"/>
                  </a:lnTo>
                  <a:lnTo>
                    <a:pt x="941" y="3908"/>
                  </a:lnTo>
                  <a:close/>
                </a:path>
              </a:pathLst>
            </a:custGeom>
            <a:solidFill>
              <a:srgbClr val="86a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85720" y="236160"/>
              <a:ext cx="318960" cy="313920"/>
            </a:xfrm>
            <a:custGeom>
              <a:avLst/>
              <a:gdLst/>
              <a:ahLst/>
              <a:rect l="l" t="t" r="r" b="b"/>
              <a:pathLst>
                <a:path w="4112" h="4112">
                  <a:moveTo>
                    <a:pt x="905" y="3760"/>
                  </a:moveTo>
                  <a:lnTo>
                    <a:pt x="1084" y="3868"/>
                  </a:lnTo>
                  <a:lnTo>
                    <a:pt x="1270" y="3956"/>
                  </a:lnTo>
                  <a:lnTo>
                    <a:pt x="1463" y="4025"/>
                  </a:lnTo>
                  <a:lnTo>
                    <a:pt x="1657" y="4073"/>
                  </a:lnTo>
                  <a:lnTo>
                    <a:pt x="1855" y="4102"/>
                  </a:lnTo>
                  <a:lnTo>
                    <a:pt x="2054" y="4112"/>
                  </a:lnTo>
                  <a:lnTo>
                    <a:pt x="2251" y="4103"/>
                  </a:lnTo>
                  <a:lnTo>
                    <a:pt x="2446" y="4074"/>
                  </a:lnTo>
                  <a:lnTo>
                    <a:pt x="2639" y="4028"/>
                  </a:lnTo>
                  <a:lnTo>
                    <a:pt x="2825" y="3963"/>
                  </a:lnTo>
                  <a:lnTo>
                    <a:pt x="3005" y="3880"/>
                  </a:lnTo>
                  <a:lnTo>
                    <a:pt x="3178" y="3780"/>
                  </a:lnTo>
                  <a:lnTo>
                    <a:pt x="3340" y="3662"/>
                  </a:lnTo>
                  <a:lnTo>
                    <a:pt x="3493" y="3527"/>
                  </a:lnTo>
                  <a:lnTo>
                    <a:pt x="3634" y="3376"/>
                  </a:lnTo>
                  <a:lnTo>
                    <a:pt x="3760" y="3208"/>
                  </a:lnTo>
                  <a:lnTo>
                    <a:pt x="3869" y="3027"/>
                  </a:lnTo>
                  <a:lnTo>
                    <a:pt x="3957" y="2841"/>
                  </a:lnTo>
                  <a:lnTo>
                    <a:pt x="4025" y="2649"/>
                  </a:lnTo>
                  <a:lnTo>
                    <a:pt x="4074" y="2454"/>
                  </a:lnTo>
                  <a:lnTo>
                    <a:pt x="4103" y="2256"/>
                  </a:lnTo>
                  <a:lnTo>
                    <a:pt x="4112" y="2058"/>
                  </a:lnTo>
                  <a:lnTo>
                    <a:pt x="4104" y="1861"/>
                  </a:lnTo>
                  <a:lnTo>
                    <a:pt x="4075" y="1665"/>
                  </a:lnTo>
                  <a:lnTo>
                    <a:pt x="4028" y="1473"/>
                  </a:lnTo>
                  <a:lnTo>
                    <a:pt x="3963" y="1287"/>
                  </a:lnTo>
                  <a:lnTo>
                    <a:pt x="3880" y="1106"/>
                  </a:lnTo>
                  <a:lnTo>
                    <a:pt x="3780" y="934"/>
                  </a:lnTo>
                  <a:lnTo>
                    <a:pt x="3662" y="771"/>
                  </a:lnTo>
                  <a:lnTo>
                    <a:pt x="3527" y="618"/>
                  </a:lnTo>
                  <a:lnTo>
                    <a:pt x="3375" y="478"/>
                  </a:lnTo>
                  <a:lnTo>
                    <a:pt x="3207" y="352"/>
                  </a:lnTo>
                  <a:lnTo>
                    <a:pt x="3027" y="243"/>
                  </a:lnTo>
                  <a:lnTo>
                    <a:pt x="2841" y="155"/>
                  </a:lnTo>
                  <a:lnTo>
                    <a:pt x="2648" y="87"/>
                  </a:lnTo>
                  <a:lnTo>
                    <a:pt x="2454" y="38"/>
                  </a:lnTo>
                  <a:lnTo>
                    <a:pt x="2256" y="9"/>
                  </a:lnTo>
                  <a:lnTo>
                    <a:pt x="2058" y="0"/>
                  </a:lnTo>
                  <a:lnTo>
                    <a:pt x="1860" y="9"/>
                  </a:lnTo>
                  <a:lnTo>
                    <a:pt x="1665" y="37"/>
                  </a:lnTo>
                  <a:lnTo>
                    <a:pt x="1473" y="84"/>
                  </a:lnTo>
                  <a:lnTo>
                    <a:pt x="1286" y="148"/>
                  </a:lnTo>
                  <a:lnTo>
                    <a:pt x="1107" y="231"/>
                  </a:lnTo>
                  <a:lnTo>
                    <a:pt x="934" y="332"/>
                  </a:lnTo>
                  <a:lnTo>
                    <a:pt x="772" y="450"/>
                  </a:lnTo>
                  <a:lnTo>
                    <a:pt x="619" y="585"/>
                  </a:lnTo>
                  <a:lnTo>
                    <a:pt x="478" y="736"/>
                  </a:lnTo>
                  <a:lnTo>
                    <a:pt x="353" y="905"/>
                  </a:lnTo>
                  <a:lnTo>
                    <a:pt x="243" y="1085"/>
                  </a:lnTo>
                  <a:lnTo>
                    <a:pt x="155" y="1271"/>
                  </a:lnTo>
                  <a:lnTo>
                    <a:pt x="86" y="1463"/>
                  </a:lnTo>
                  <a:lnTo>
                    <a:pt x="38" y="1658"/>
                  </a:lnTo>
                  <a:lnTo>
                    <a:pt x="10" y="1856"/>
                  </a:lnTo>
                  <a:lnTo>
                    <a:pt x="0" y="2053"/>
                  </a:lnTo>
                  <a:lnTo>
                    <a:pt x="8" y="2251"/>
                  </a:lnTo>
                  <a:lnTo>
                    <a:pt x="37" y="2447"/>
                  </a:lnTo>
                  <a:lnTo>
                    <a:pt x="84" y="2638"/>
                  </a:lnTo>
                  <a:lnTo>
                    <a:pt x="149" y="2825"/>
                  </a:lnTo>
                  <a:lnTo>
                    <a:pt x="232" y="3005"/>
                  </a:lnTo>
                  <a:lnTo>
                    <a:pt x="332" y="3177"/>
                  </a:lnTo>
                  <a:lnTo>
                    <a:pt x="450" y="3340"/>
                  </a:lnTo>
                  <a:lnTo>
                    <a:pt x="585" y="3493"/>
                  </a:lnTo>
                  <a:lnTo>
                    <a:pt x="736" y="3633"/>
                  </a:lnTo>
                  <a:lnTo>
                    <a:pt x="905" y="3760"/>
                  </a:lnTo>
                  <a:close/>
                </a:path>
              </a:pathLst>
            </a:custGeom>
            <a:solidFill>
              <a:srgbClr val="89a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95080" y="237960"/>
              <a:ext cx="306000" cy="302760"/>
            </a:xfrm>
            <a:custGeom>
              <a:avLst/>
              <a:gdLst/>
              <a:ahLst/>
              <a:rect l="l" t="t" r="r" b="b"/>
              <a:pathLst>
                <a:path w="3952" h="3953">
                  <a:moveTo>
                    <a:pt x="870" y="3614"/>
                  </a:moveTo>
                  <a:lnTo>
                    <a:pt x="1042" y="3718"/>
                  </a:lnTo>
                  <a:lnTo>
                    <a:pt x="1222" y="3803"/>
                  </a:lnTo>
                  <a:lnTo>
                    <a:pt x="1406" y="3869"/>
                  </a:lnTo>
                  <a:lnTo>
                    <a:pt x="1594" y="3916"/>
                  </a:lnTo>
                  <a:lnTo>
                    <a:pt x="1783" y="3943"/>
                  </a:lnTo>
                  <a:lnTo>
                    <a:pt x="1973" y="3953"/>
                  </a:lnTo>
                  <a:lnTo>
                    <a:pt x="2163" y="3943"/>
                  </a:lnTo>
                  <a:lnTo>
                    <a:pt x="2351" y="3917"/>
                  </a:lnTo>
                  <a:lnTo>
                    <a:pt x="2535" y="3872"/>
                  </a:lnTo>
                  <a:lnTo>
                    <a:pt x="2714" y="3809"/>
                  </a:lnTo>
                  <a:lnTo>
                    <a:pt x="2888" y="3730"/>
                  </a:lnTo>
                  <a:lnTo>
                    <a:pt x="3053" y="3633"/>
                  </a:lnTo>
                  <a:lnTo>
                    <a:pt x="3210" y="3520"/>
                  </a:lnTo>
                  <a:lnTo>
                    <a:pt x="3356" y="3391"/>
                  </a:lnTo>
                  <a:lnTo>
                    <a:pt x="3490" y="3245"/>
                  </a:lnTo>
                  <a:lnTo>
                    <a:pt x="3613" y="3083"/>
                  </a:lnTo>
                  <a:lnTo>
                    <a:pt x="3717" y="2910"/>
                  </a:lnTo>
                  <a:lnTo>
                    <a:pt x="3802" y="2730"/>
                  </a:lnTo>
                  <a:lnTo>
                    <a:pt x="3868" y="2547"/>
                  </a:lnTo>
                  <a:lnTo>
                    <a:pt x="3915" y="2358"/>
                  </a:lnTo>
                  <a:lnTo>
                    <a:pt x="3942" y="2169"/>
                  </a:lnTo>
                  <a:lnTo>
                    <a:pt x="3952" y="1979"/>
                  </a:lnTo>
                  <a:lnTo>
                    <a:pt x="3942" y="1789"/>
                  </a:lnTo>
                  <a:lnTo>
                    <a:pt x="3916" y="1601"/>
                  </a:lnTo>
                  <a:lnTo>
                    <a:pt x="3871" y="1418"/>
                  </a:lnTo>
                  <a:lnTo>
                    <a:pt x="3808" y="1238"/>
                  </a:lnTo>
                  <a:lnTo>
                    <a:pt x="3728" y="1065"/>
                  </a:lnTo>
                  <a:lnTo>
                    <a:pt x="3632" y="899"/>
                  </a:lnTo>
                  <a:lnTo>
                    <a:pt x="3519" y="741"/>
                  </a:lnTo>
                  <a:lnTo>
                    <a:pt x="3389" y="596"/>
                  </a:lnTo>
                  <a:lnTo>
                    <a:pt x="3244" y="461"/>
                  </a:lnTo>
                  <a:lnTo>
                    <a:pt x="3082" y="340"/>
                  </a:lnTo>
                  <a:lnTo>
                    <a:pt x="2909" y="234"/>
                  </a:lnTo>
                  <a:lnTo>
                    <a:pt x="2729" y="149"/>
                  </a:lnTo>
                  <a:lnTo>
                    <a:pt x="2545" y="84"/>
                  </a:lnTo>
                  <a:lnTo>
                    <a:pt x="2357" y="38"/>
                  </a:lnTo>
                  <a:lnTo>
                    <a:pt x="2168" y="10"/>
                  </a:lnTo>
                  <a:lnTo>
                    <a:pt x="1978" y="0"/>
                  </a:lnTo>
                  <a:lnTo>
                    <a:pt x="1787" y="10"/>
                  </a:lnTo>
                  <a:lnTo>
                    <a:pt x="1600" y="37"/>
                  </a:lnTo>
                  <a:lnTo>
                    <a:pt x="1415" y="82"/>
                  </a:lnTo>
                  <a:lnTo>
                    <a:pt x="1237" y="144"/>
                  </a:lnTo>
                  <a:lnTo>
                    <a:pt x="1063" y="224"/>
                  </a:lnTo>
                  <a:lnTo>
                    <a:pt x="897" y="320"/>
                  </a:lnTo>
                  <a:lnTo>
                    <a:pt x="741" y="433"/>
                  </a:lnTo>
                  <a:lnTo>
                    <a:pt x="594" y="563"/>
                  </a:lnTo>
                  <a:lnTo>
                    <a:pt x="460" y="708"/>
                  </a:lnTo>
                  <a:lnTo>
                    <a:pt x="339" y="870"/>
                  </a:lnTo>
                  <a:lnTo>
                    <a:pt x="234" y="1042"/>
                  </a:lnTo>
                  <a:lnTo>
                    <a:pt x="149" y="1222"/>
                  </a:lnTo>
                  <a:lnTo>
                    <a:pt x="83" y="1406"/>
                  </a:lnTo>
                  <a:lnTo>
                    <a:pt x="36" y="1594"/>
                  </a:lnTo>
                  <a:lnTo>
                    <a:pt x="9" y="1783"/>
                  </a:lnTo>
                  <a:lnTo>
                    <a:pt x="0" y="1975"/>
                  </a:lnTo>
                  <a:lnTo>
                    <a:pt x="9" y="2164"/>
                  </a:lnTo>
                  <a:lnTo>
                    <a:pt x="36" y="2352"/>
                  </a:lnTo>
                  <a:lnTo>
                    <a:pt x="81" y="2536"/>
                  </a:lnTo>
                  <a:lnTo>
                    <a:pt x="143" y="2716"/>
                  </a:lnTo>
                  <a:lnTo>
                    <a:pt x="222" y="2888"/>
                  </a:lnTo>
                  <a:lnTo>
                    <a:pt x="319" y="3054"/>
                  </a:lnTo>
                  <a:lnTo>
                    <a:pt x="433" y="3211"/>
                  </a:lnTo>
                  <a:lnTo>
                    <a:pt x="561" y="3357"/>
                  </a:lnTo>
                  <a:lnTo>
                    <a:pt x="708" y="3492"/>
                  </a:lnTo>
                  <a:lnTo>
                    <a:pt x="870" y="3614"/>
                  </a:lnTo>
                  <a:close/>
                </a:path>
              </a:pathLst>
            </a:custGeom>
            <a:solidFill>
              <a:srgbClr val="8ca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04440" y="240840"/>
              <a:ext cx="293760" cy="290160"/>
            </a:xfrm>
            <a:custGeom>
              <a:avLst/>
              <a:gdLst/>
              <a:ahLst/>
              <a:rect l="l" t="t" r="r" b="b"/>
              <a:pathLst>
                <a:path w="3791" h="3792">
                  <a:moveTo>
                    <a:pt x="835" y="3467"/>
                  </a:moveTo>
                  <a:lnTo>
                    <a:pt x="1001" y="3567"/>
                  </a:lnTo>
                  <a:lnTo>
                    <a:pt x="1173" y="3649"/>
                  </a:lnTo>
                  <a:lnTo>
                    <a:pt x="1349" y="3712"/>
                  </a:lnTo>
                  <a:lnTo>
                    <a:pt x="1529" y="3756"/>
                  </a:lnTo>
                  <a:lnTo>
                    <a:pt x="1711" y="3784"/>
                  </a:lnTo>
                  <a:lnTo>
                    <a:pt x="1894" y="3792"/>
                  </a:lnTo>
                  <a:lnTo>
                    <a:pt x="2075" y="3784"/>
                  </a:lnTo>
                  <a:lnTo>
                    <a:pt x="2256" y="3758"/>
                  </a:lnTo>
                  <a:lnTo>
                    <a:pt x="2433" y="3715"/>
                  </a:lnTo>
                  <a:lnTo>
                    <a:pt x="2605" y="3655"/>
                  </a:lnTo>
                  <a:lnTo>
                    <a:pt x="2771" y="3579"/>
                  </a:lnTo>
                  <a:lnTo>
                    <a:pt x="2930" y="3486"/>
                  </a:lnTo>
                  <a:lnTo>
                    <a:pt x="3080" y="3378"/>
                  </a:lnTo>
                  <a:lnTo>
                    <a:pt x="3220" y="3253"/>
                  </a:lnTo>
                  <a:lnTo>
                    <a:pt x="3350" y="3113"/>
                  </a:lnTo>
                  <a:lnTo>
                    <a:pt x="3467" y="2959"/>
                  </a:lnTo>
                  <a:lnTo>
                    <a:pt x="3567" y="2792"/>
                  </a:lnTo>
                  <a:lnTo>
                    <a:pt x="3649" y="2620"/>
                  </a:lnTo>
                  <a:lnTo>
                    <a:pt x="3712" y="2443"/>
                  </a:lnTo>
                  <a:lnTo>
                    <a:pt x="3756" y="2264"/>
                  </a:lnTo>
                  <a:lnTo>
                    <a:pt x="3783" y="2082"/>
                  </a:lnTo>
                  <a:lnTo>
                    <a:pt x="3791" y="1899"/>
                  </a:lnTo>
                  <a:lnTo>
                    <a:pt x="3783" y="1717"/>
                  </a:lnTo>
                  <a:lnTo>
                    <a:pt x="3757" y="1536"/>
                  </a:lnTo>
                  <a:lnTo>
                    <a:pt x="3714" y="1360"/>
                  </a:lnTo>
                  <a:lnTo>
                    <a:pt x="3654" y="1188"/>
                  </a:lnTo>
                  <a:lnTo>
                    <a:pt x="3578" y="1022"/>
                  </a:lnTo>
                  <a:lnTo>
                    <a:pt x="3485" y="862"/>
                  </a:lnTo>
                  <a:lnTo>
                    <a:pt x="3377" y="713"/>
                  </a:lnTo>
                  <a:lnTo>
                    <a:pt x="3252" y="572"/>
                  </a:lnTo>
                  <a:lnTo>
                    <a:pt x="3112" y="443"/>
                  </a:lnTo>
                  <a:lnTo>
                    <a:pt x="2958" y="327"/>
                  </a:lnTo>
                  <a:lnTo>
                    <a:pt x="2791" y="226"/>
                  </a:lnTo>
                  <a:lnTo>
                    <a:pt x="2619" y="144"/>
                  </a:lnTo>
                  <a:lnTo>
                    <a:pt x="2442" y="81"/>
                  </a:lnTo>
                  <a:lnTo>
                    <a:pt x="2263" y="36"/>
                  </a:lnTo>
                  <a:lnTo>
                    <a:pt x="2081" y="10"/>
                  </a:lnTo>
                  <a:lnTo>
                    <a:pt x="1898" y="0"/>
                  </a:lnTo>
                  <a:lnTo>
                    <a:pt x="1716" y="9"/>
                  </a:lnTo>
                  <a:lnTo>
                    <a:pt x="1536" y="35"/>
                  </a:lnTo>
                  <a:lnTo>
                    <a:pt x="1359" y="78"/>
                  </a:lnTo>
                  <a:lnTo>
                    <a:pt x="1187" y="139"/>
                  </a:lnTo>
                  <a:lnTo>
                    <a:pt x="1021" y="214"/>
                  </a:lnTo>
                  <a:lnTo>
                    <a:pt x="862" y="306"/>
                  </a:lnTo>
                  <a:lnTo>
                    <a:pt x="712" y="415"/>
                  </a:lnTo>
                  <a:lnTo>
                    <a:pt x="571" y="539"/>
                  </a:lnTo>
                  <a:lnTo>
                    <a:pt x="441" y="680"/>
                  </a:lnTo>
                  <a:lnTo>
                    <a:pt x="326" y="835"/>
                  </a:lnTo>
                  <a:lnTo>
                    <a:pt x="225" y="1001"/>
                  </a:lnTo>
                  <a:lnTo>
                    <a:pt x="143" y="1173"/>
                  </a:lnTo>
                  <a:lnTo>
                    <a:pt x="80" y="1349"/>
                  </a:lnTo>
                  <a:lnTo>
                    <a:pt x="35" y="1530"/>
                  </a:lnTo>
                  <a:lnTo>
                    <a:pt x="9" y="1712"/>
                  </a:lnTo>
                  <a:lnTo>
                    <a:pt x="0" y="1895"/>
                  </a:lnTo>
                  <a:lnTo>
                    <a:pt x="9" y="2077"/>
                  </a:lnTo>
                  <a:lnTo>
                    <a:pt x="35" y="2256"/>
                  </a:lnTo>
                  <a:lnTo>
                    <a:pt x="78" y="2433"/>
                  </a:lnTo>
                  <a:lnTo>
                    <a:pt x="138" y="2605"/>
                  </a:lnTo>
                  <a:lnTo>
                    <a:pt x="214" y="2772"/>
                  </a:lnTo>
                  <a:lnTo>
                    <a:pt x="306" y="2930"/>
                  </a:lnTo>
                  <a:lnTo>
                    <a:pt x="415" y="3080"/>
                  </a:lnTo>
                  <a:lnTo>
                    <a:pt x="539" y="3220"/>
                  </a:lnTo>
                  <a:lnTo>
                    <a:pt x="680" y="3350"/>
                  </a:lnTo>
                  <a:lnTo>
                    <a:pt x="835" y="3467"/>
                  </a:lnTo>
                  <a:close/>
                </a:path>
              </a:pathLst>
            </a:custGeom>
            <a:solidFill>
              <a:srgbClr val="8e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13800" y="243360"/>
              <a:ext cx="281880" cy="277200"/>
            </a:xfrm>
            <a:custGeom>
              <a:avLst/>
              <a:gdLst/>
              <a:ahLst/>
              <a:rect l="l" t="t" r="r" b="b"/>
              <a:pathLst>
                <a:path w="3631" h="3632">
                  <a:moveTo>
                    <a:pt x="799" y="3320"/>
                  </a:moveTo>
                  <a:lnTo>
                    <a:pt x="957" y="3416"/>
                  </a:lnTo>
                  <a:lnTo>
                    <a:pt x="1122" y="3495"/>
                  </a:lnTo>
                  <a:lnTo>
                    <a:pt x="1292" y="3555"/>
                  </a:lnTo>
                  <a:lnTo>
                    <a:pt x="1464" y="3598"/>
                  </a:lnTo>
                  <a:lnTo>
                    <a:pt x="1639" y="3623"/>
                  </a:lnTo>
                  <a:lnTo>
                    <a:pt x="1813" y="3632"/>
                  </a:lnTo>
                  <a:lnTo>
                    <a:pt x="1987" y="3623"/>
                  </a:lnTo>
                  <a:lnTo>
                    <a:pt x="2161" y="3599"/>
                  </a:lnTo>
                  <a:lnTo>
                    <a:pt x="2330" y="3557"/>
                  </a:lnTo>
                  <a:lnTo>
                    <a:pt x="2495" y="3500"/>
                  </a:lnTo>
                  <a:lnTo>
                    <a:pt x="2654" y="3427"/>
                  </a:lnTo>
                  <a:lnTo>
                    <a:pt x="2806" y="3338"/>
                  </a:lnTo>
                  <a:lnTo>
                    <a:pt x="2951" y="3234"/>
                  </a:lnTo>
                  <a:lnTo>
                    <a:pt x="3085" y="3115"/>
                  </a:lnTo>
                  <a:lnTo>
                    <a:pt x="3208" y="2981"/>
                  </a:lnTo>
                  <a:lnTo>
                    <a:pt x="3321" y="2833"/>
                  </a:lnTo>
                  <a:lnTo>
                    <a:pt x="3416" y="2674"/>
                  </a:lnTo>
                  <a:lnTo>
                    <a:pt x="3494" y="2509"/>
                  </a:lnTo>
                  <a:lnTo>
                    <a:pt x="3554" y="2340"/>
                  </a:lnTo>
                  <a:lnTo>
                    <a:pt x="3597" y="2167"/>
                  </a:lnTo>
                  <a:lnTo>
                    <a:pt x="3623" y="1992"/>
                  </a:lnTo>
                  <a:lnTo>
                    <a:pt x="3631" y="1818"/>
                  </a:lnTo>
                  <a:lnTo>
                    <a:pt x="3623" y="1644"/>
                  </a:lnTo>
                  <a:lnTo>
                    <a:pt x="3598" y="1472"/>
                  </a:lnTo>
                  <a:lnTo>
                    <a:pt x="3557" y="1302"/>
                  </a:lnTo>
                  <a:lnTo>
                    <a:pt x="3499" y="1138"/>
                  </a:lnTo>
                  <a:lnTo>
                    <a:pt x="3426" y="978"/>
                  </a:lnTo>
                  <a:lnTo>
                    <a:pt x="3338" y="826"/>
                  </a:lnTo>
                  <a:lnTo>
                    <a:pt x="3233" y="682"/>
                  </a:lnTo>
                  <a:lnTo>
                    <a:pt x="3114" y="548"/>
                  </a:lnTo>
                  <a:lnTo>
                    <a:pt x="2980" y="424"/>
                  </a:lnTo>
                  <a:lnTo>
                    <a:pt x="2833" y="313"/>
                  </a:lnTo>
                  <a:lnTo>
                    <a:pt x="2673" y="216"/>
                  </a:lnTo>
                  <a:lnTo>
                    <a:pt x="2508" y="138"/>
                  </a:lnTo>
                  <a:lnTo>
                    <a:pt x="2339" y="78"/>
                  </a:lnTo>
                  <a:lnTo>
                    <a:pt x="2167" y="34"/>
                  </a:lnTo>
                  <a:lnTo>
                    <a:pt x="1993" y="9"/>
                  </a:lnTo>
                  <a:lnTo>
                    <a:pt x="1818" y="0"/>
                  </a:lnTo>
                  <a:lnTo>
                    <a:pt x="1644" y="9"/>
                  </a:lnTo>
                  <a:lnTo>
                    <a:pt x="1472" y="34"/>
                  </a:lnTo>
                  <a:lnTo>
                    <a:pt x="1302" y="75"/>
                  </a:lnTo>
                  <a:lnTo>
                    <a:pt x="1137" y="132"/>
                  </a:lnTo>
                  <a:lnTo>
                    <a:pt x="979" y="205"/>
                  </a:lnTo>
                  <a:lnTo>
                    <a:pt x="827" y="294"/>
                  </a:lnTo>
                  <a:lnTo>
                    <a:pt x="682" y="398"/>
                  </a:lnTo>
                  <a:lnTo>
                    <a:pt x="548" y="517"/>
                  </a:lnTo>
                  <a:lnTo>
                    <a:pt x="425" y="651"/>
                  </a:lnTo>
                  <a:lnTo>
                    <a:pt x="313" y="800"/>
                  </a:lnTo>
                  <a:lnTo>
                    <a:pt x="216" y="958"/>
                  </a:lnTo>
                  <a:lnTo>
                    <a:pt x="139" y="1123"/>
                  </a:lnTo>
                  <a:lnTo>
                    <a:pt x="78" y="1292"/>
                  </a:lnTo>
                  <a:lnTo>
                    <a:pt x="34" y="1465"/>
                  </a:lnTo>
                  <a:lnTo>
                    <a:pt x="9" y="1639"/>
                  </a:lnTo>
                  <a:lnTo>
                    <a:pt x="0" y="1814"/>
                  </a:lnTo>
                  <a:lnTo>
                    <a:pt x="9" y="1988"/>
                  </a:lnTo>
                  <a:lnTo>
                    <a:pt x="34" y="2160"/>
                  </a:lnTo>
                  <a:lnTo>
                    <a:pt x="75" y="2329"/>
                  </a:lnTo>
                  <a:lnTo>
                    <a:pt x="132" y="2494"/>
                  </a:lnTo>
                  <a:lnTo>
                    <a:pt x="206" y="2654"/>
                  </a:lnTo>
                  <a:lnTo>
                    <a:pt x="294" y="2806"/>
                  </a:lnTo>
                  <a:lnTo>
                    <a:pt x="397" y="2950"/>
                  </a:lnTo>
                  <a:lnTo>
                    <a:pt x="516" y="3084"/>
                  </a:lnTo>
                  <a:lnTo>
                    <a:pt x="650" y="3208"/>
                  </a:lnTo>
                  <a:lnTo>
                    <a:pt x="799" y="3320"/>
                  </a:lnTo>
                  <a:close/>
                </a:path>
              </a:pathLst>
            </a:custGeom>
            <a:solidFill>
              <a:srgbClr val="91b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2800" y="245520"/>
              <a:ext cx="269640" cy="266040"/>
            </a:xfrm>
            <a:custGeom>
              <a:avLst/>
              <a:gdLst/>
              <a:ahLst/>
              <a:rect l="l" t="t" r="r" b="b"/>
              <a:pathLst>
                <a:path w="3470" h="3471">
                  <a:moveTo>
                    <a:pt x="764" y="3174"/>
                  </a:moveTo>
                  <a:lnTo>
                    <a:pt x="915" y="3266"/>
                  </a:lnTo>
                  <a:lnTo>
                    <a:pt x="1072" y="3340"/>
                  </a:lnTo>
                  <a:lnTo>
                    <a:pt x="1234" y="3398"/>
                  </a:lnTo>
                  <a:lnTo>
                    <a:pt x="1399" y="3438"/>
                  </a:lnTo>
                  <a:lnTo>
                    <a:pt x="1566" y="3463"/>
                  </a:lnTo>
                  <a:lnTo>
                    <a:pt x="1733" y="3471"/>
                  </a:lnTo>
                  <a:lnTo>
                    <a:pt x="1899" y="3463"/>
                  </a:lnTo>
                  <a:lnTo>
                    <a:pt x="2064" y="3439"/>
                  </a:lnTo>
                  <a:lnTo>
                    <a:pt x="2226" y="3400"/>
                  </a:lnTo>
                  <a:lnTo>
                    <a:pt x="2383" y="3345"/>
                  </a:lnTo>
                  <a:lnTo>
                    <a:pt x="2535" y="3275"/>
                  </a:lnTo>
                  <a:lnTo>
                    <a:pt x="2681" y="3190"/>
                  </a:lnTo>
                  <a:lnTo>
                    <a:pt x="2818" y="3092"/>
                  </a:lnTo>
                  <a:lnTo>
                    <a:pt x="2947" y="2977"/>
                  </a:lnTo>
                  <a:lnTo>
                    <a:pt x="3065" y="2849"/>
                  </a:lnTo>
                  <a:lnTo>
                    <a:pt x="3172" y="2708"/>
                  </a:lnTo>
                  <a:lnTo>
                    <a:pt x="3263" y="2555"/>
                  </a:lnTo>
                  <a:lnTo>
                    <a:pt x="3338" y="2397"/>
                  </a:lnTo>
                  <a:lnTo>
                    <a:pt x="3396" y="2236"/>
                  </a:lnTo>
                  <a:lnTo>
                    <a:pt x="3437" y="2071"/>
                  </a:lnTo>
                  <a:lnTo>
                    <a:pt x="3461" y="1905"/>
                  </a:lnTo>
                  <a:lnTo>
                    <a:pt x="3470" y="1737"/>
                  </a:lnTo>
                  <a:lnTo>
                    <a:pt x="3461" y="1571"/>
                  </a:lnTo>
                  <a:lnTo>
                    <a:pt x="3438" y="1407"/>
                  </a:lnTo>
                  <a:lnTo>
                    <a:pt x="3398" y="1245"/>
                  </a:lnTo>
                  <a:lnTo>
                    <a:pt x="3343" y="1087"/>
                  </a:lnTo>
                  <a:lnTo>
                    <a:pt x="3273" y="935"/>
                  </a:lnTo>
                  <a:lnTo>
                    <a:pt x="3189" y="790"/>
                  </a:lnTo>
                  <a:lnTo>
                    <a:pt x="3089" y="652"/>
                  </a:lnTo>
                  <a:lnTo>
                    <a:pt x="2975" y="523"/>
                  </a:lnTo>
                  <a:lnTo>
                    <a:pt x="2848" y="405"/>
                  </a:lnTo>
                  <a:lnTo>
                    <a:pt x="2706" y="299"/>
                  </a:lnTo>
                  <a:lnTo>
                    <a:pt x="2554" y="206"/>
                  </a:lnTo>
                  <a:lnTo>
                    <a:pt x="2397" y="132"/>
                  </a:lnTo>
                  <a:lnTo>
                    <a:pt x="2235" y="73"/>
                  </a:lnTo>
                  <a:lnTo>
                    <a:pt x="2071" y="33"/>
                  </a:lnTo>
                  <a:lnTo>
                    <a:pt x="1904" y="9"/>
                  </a:lnTo>
                  <a:lnTo>
                    <a:pt x="1737" y="0"/>
                  </a:lnTo>
                  <a:lnTo>
                    <a:pt x="1570" y="9"/>
                  </a:lnTo>
                  <a:lnTo>
                    <a:pt x="1405" y="32"/>
                  </a:lnTo>
                  <a:lnTo>
                    <a:pt x="1244" y="71"/>
                  </a:lnTo>
                  <a:lnTo>
                    <a:pt x="1086" y="127"/>
                  </a:lnTo>
                  <a:lnTo>
                    <a:pt x="934" y="197"/>
                  </a:lnTo>
                  <a:lnTo>
                    <a:pt x="788" y="281"/>
                  </a:lnTo>
                  <a:lnTo>
                    <a:pt x="651" y="381"/>
                  </a:lnTo>
                  <a:lnTo>
                    <a:pt x="523" y="494"/>
                  </a:lnTo>
                  <a:lnTo>
                    <a:pt x="405" y="622"/>
                  </a:lnTo>
                  <a:lnTo>
                    <a:pt x="298" y="764"/>
                  </a:lnTo>
                  <a:lnTo>
                    <a:pt x="206" y="916"/>
                  </a:lnTo>
                  <a:lnTo>
                    <a:pt x="131" y="1074"/>
                  </a:lnTo>
                  <a:lnTo>
                    <a:pt x="73" y="1235"/>
                  </a:lnTo>
                  <a:lnTo>
                    <a:pt x="33" y="1400"/>
                  </a:lnTo>
                  <a:lnTo>
                    <a:pt x="8" y="1567"/>
                  </a:lnTo>
                  <a:lnTo>
                    <a:pt x="0" y="1734"/>
                  </a:lnTo>
                  <a:lnTo>
                    <a:pt x="8" y="1901"/>
                  </a:lnTo>
                  <a:lnTo>
                    <a:pt x="32" y="2066"/>
                  </a:lnTo>
                  <a:lnTo>
                    <a:pt x="71" y="2227"/>
                  </a:lnTo>
                  <a:lnTo>
                    <a:pt x="125" y="2385"/>
                  </a:lnTo>
                  <a:lnTo>
                    <a:pt x="195" y="2537"/>
                  </a:lnTo>
                  <a:lnTo>
                    <a:pt x="280" y="2682"/>
                  </a:lnTo>
                  <a:lnTo>
                    <a:pt x="379" y="2820"/>
                  </a:lnTo>
                  <a:lnTo>
                    <a:pt x="493" y="2949"/>
                  </a:lnTo>
                  <a:lnTo>
                    <a:pt x="622" y="3067"/>
                  </a:lnTo>
                  <a:lnTo>
                    <a:pt x="764" y="3174"/>
                  </a:lnTo>
                  <a:close/>
                </a:path>
              </a:pathLst>
            </a:custGeom>
            <a:solidFill>
              <a:srgbClr val="94b9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32520" y="248040"/>
              <a:ext cx="256320" cy="253440"/>
            </a:xfrm>
            <a:custGeom>
              <a:avLst/>
              <a:gdLst/>
              <a:ahLst/>
              <a:rect l="l" t="t" r="r" b="b"/>
              <a:pathLst>
                <a:path w="3308" h="3308">
                  <a:moveTo>
                    <a:pt x="728" y="3026"/>
                  </a:moveTo>
                  <a:lnTo>
                    <a:pt x="873" y="3113"/>
                  </a:lnTo>
                  <a:lnTo>
                    <a:pt x="1023" y="3184"/>
                  </a:lnTo>
                  <a:lnTo>
                    <a:pt x="1177" y="3239"/>
                  </a:lnTo>
                  <a:lnTo>
                    <a:pt x="1334" y="3278"/>
                  </a:lnTo>
                  <a:lnTo>
                    <a:pt x="1492" y="3301"/>
                  </a:lnTo>
                  <a:lnTo>
                    <a:pt x="1652" y="3308"/>
                  </a:lnTo>
                  <a:lnTo>
                    <a:pt x="1811" y="3301"/>
                  </a:lnTo>
                  <a:lnTo>
                    <a:pt x="1969" y="3279"/>
                  </a:lnTo>
                  <a:lnTo>
                    <a:pt x="2123" y="3241"/>
                  </a:lnTo>
                  <a:lnTo>
                    <a:pt x="2273" y="3189"/>
                  </a:lnTo>
                  <a:lnTo>
                    <a:pt x="2418" y="3122"/>
                  </a:lnTo>
                  <a:lnTo>
                    <a:pt x="2557" y="3042"/>
                  </a:lnTo>
                  <a:lnTo>
                    <a:pt x="2687" y="2947"/>
                  </a:lnTo>
                  <a:lnTo>
                    <a:pt x="2811" y="2838"/>
                  </a:lnTo>
                  <a:lnTo>
                    <a:pt x="2923" y="2717"/>
                  </a:lnTo>
                  <a:lnTo>
                    <a:pt x="3025" y="2582"/>
                  </a:lnTo>
                  <a:lnTo>
                    <a:pt x="3113" y="2437"/>
                  </a:lnTo>
                  <a:lnTo>
                    <a:pt x="3184" y="2287"/>
                  </a:lnTo>
                  <a:lnTo>
                    <a:pt x="3239" y="2132"/>
                  </a:lnTo>
                  <a:lnTo>
                    <a:pt x="3277" y="1975"/>
                  </a:lnTo>
                  <a:lnTo>
                    <a:pt x="3301" y="1816"/>
                  </a:lnTo>
                  <a:lnTo>
                    <a:pt x="3308" y="1656"/>
                  </a:lnTo>
                  <a:lnTo>
                    <a:pt x="3301" y="1497"/>
                  </a:lnTo>
                  <a:lnTo>
                    <a:pt x="3279" y="1341"/>
                  </a:lnTo>
                  <a:lnTo>
                    <a:pt x="3241" y="1185"/>
                  </a:lnTo>
                  <a:lnTo>
                    <a:pt x="3188" y="1036"/>
                  </a:lnTo>
                  <a:lnTo>
                    <a:pt x="3122" y="890"/>
                  </a:lnTo>
                  <a:lnTo>
                    <a:pt x="3041" y="752"/>
                  </a:lnTo>
                  <a:lnTo>
                    <a:pt x="2947" y="621"/>
                  </a:lnTo>
                  <a:lnTo>
                    <a:pt x="2838" y="498"/>
                  </a:lnTo>
                  <a:lnTo>
                    <a:pt x="2716" y="385"/>
                  </a:lnTo>
                  <a:lnTo>
                    <a:pt x="2581" y="284"/>
                  </a:lnTo>
                  <a:lnTo>
                    <a:pt x="2435" y="196"/>
                  </a:lnTo>
                  <a:lnTo>
                    <a:pt x="2286" y="124"/>
                  </a:lnTo>
                  <a:lnTo>
                    <a:pt x="2131" y="70"/>
                  </a:lnTo>
                  <a:lnTo>
                    <a:pt x="1974" y="31"/>
                  </a:lnTo>
                  <a:lnTo>
                    <a:pt x="1816" y="8"/>
                  </a:lnTo>
                  <a:lnTo>
                    <a:pt x="1656" y="0"/>
                  </a:lnTo>
                  <a:lnTo>
                    <a:pt x="1498" y="8"/>
                  </a:lnTo>
                  <a:lnTo>
                    <a:pt x="1340" y="31"/>
                  </a:lnTo>
                  <a:lnTo>
                    <a:pt x="1186" y="68"/>
                  </a:lnTo>
                  <a:lnTo>
                    <a:pt x="1035" y="120"/>
                  </a:lnTo>
                  <a:lnTo>
                    <a:pt x="891" y="186"/>
                  </a:lnTo>
                  <a:lnTo>
                    <a:pt x="751" y="267"/>
                  </a:lnTo>
                  <a:lnTo>
                    <a:pt x="621" y="362"/>
                  </a:lnTo>
                  <a:lnTo>
                    <a:pt x="498" y="470"/>
                  </a:lnTo>
                  <a:lnTo>
                    <a:pt x="385" y="592"/>
                  </a:lnTo>
                  <a:lnTo>
                    <a:pt x="284" y="728"/>
                  </a:lnTo>
                  <a:lnTo>
                    <a:pt x="195" y="873"/>
                  </a:lnTo>
                  <a:lnTo>
                    <a:pt x="124" y="1023"/>
                  </a:lnTo>
                  <a:lnTo>
                    <a:pt x="69" y="1177"/>
                  </a:lnTo>
                  <a:lnTo>
                    <a:pt x="31" y="1334"/>
                  </a:lnTo>
                  <a:lnTo>
                    <a:pt x="7" y="1494"/>
                  </a:lnTo>
                  <a:lnTo>
                    <a:pt x="0" y="1652"/>
                  </a:lnTo>
                  <a:lnTo>
                    <a:pt x="7" y="1812"/>
                  </a:lnTo>
                  <a:lnTo>
                    <a:pt x="30" y="1969"/>
                  </a:lnTo>
                  <a:lnTo>
                    <a:pt x="67" y="2123"/>
                  </a:lnTo>
                  <a:lnTo>
                    <a:pt x="120" y="2273"/>
                  </a:lnTo>
                  <a:lnTo>
                    <a:pt x="186" y="2418"/>
                  </a:lnTo>
                  <a:lnTo>
                    <a:pt x="267" y="2557"/>
                  </a:lnTo>
                  <a:lnTo>
                    <a:pt x="361" y="2688"/>
                  </a:lnTo>
                  <a:lnTo>
                    <a:pt x="470" y="2811"/>
                  </a:lnTo>
                  <a:lnTo>
                    <a:pt x="592" y="2924"/>
                  </a:lnTo>
                  <a:lnTo>
                    <a:pt x="728" y="3026"/>
                  </a:lnTo>
                  <a:close/>
                </a:path>
              </a:pathLst>
            </a:custGeom>
            <a:solidFill>
              <a:srgbClr val="97b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42600" y="250920"/>
              <a:ext cx="243360" cy="240480"/>
            </a:xfrm>
            <a:custGeom>
              <a:avLst/>
              <a:gdLst/>
              <a:ahLst/>
              <a:rect l="l" t="t" r="r" b="b"/>
              <a:pathLst>
                <a:path w="3148" h="3149">
                  <a:moveTo>
                    <a:pt x="693" y="2879"/>
                  </a:moveTo>
                  <a:lnTo>
                    <a:pt x="830" y="2962"/>
                  </a:lnTo>
                  <a:lnTo>
                    <a:pt x="973" y="3030"/>
                  </a:lnTo>
                  <a:lnTo>
                    <a:pt x="1120" y="3082"/>
                  </a:lnTo>
                  <a:lnTo>
                    <a:pt x="1269" y="3119"/>
                  </a:lnTo>
                  <a:lnTo>
                    <a:pt x="1420" y="3141"/>
                  </a:lnTo>
                  <a:lnTo>
                    <a:pt x="1572" y="3149"/>
                  </a:lnTo>
                  <a:lnTo>
                    <a:pt x="1723" y="3141"/>
                  </a:lnTo>
                  <a:lnTo>
                    <a:pt x="1873" y="3120"/>
                  </a:lnTo>
                  <a:lnTo>
                    <a:pt x="2020" y="3084"/>
                  </a:lnTo>
                  <a:lnTo>
                    <a:pt x="2162" y="3034"/>
                  </a:lnTo>
                  <a:lnTo>
                    <a:pt x="2301" y="2970"/>
                  </a:lnTo>
                  <a:lnTo>
                    <a:pt x="2432" y="2894"/>
                  </a:lnTo>
                  <a:lnTo>
                    <a:pt x="2558" y="2803"/>
                  </a:lnTo>
                  <a:lnTo>
                    <a:pt x="2674" y="2700"/>
                  </a:lnTo>
                  <a:lnTo>
                    <a:pt x="2781" y="2584"/>
                  </a:lnTo>
                  <a:lnTo>
                    <a:pt x="2879" y="2456"/>
                  </a:lnTo>
                  <a:lnTo>
                    <a:pt x="2962" y="2317"/>
                  </a:lnTo>
                  <a:lnTo>
                    <a:pt x="3029" y="2175"/>
                  </a:lnTo>
                  <a:lnTo>
                    <a:pt x="3081" y="2028"/>
                  </a:lnTo>
                  <a:lnTo>
                    <a:pt x="3118" y="1878"/>
                  </a:lnTo>
                  <a:lnTo>
                    <a:pt x="3141" y="1727"/>
                  </a:lnTo>
                  <a:lnTo>
                    <a:pt x="3148" y="1575"/>
                  </a:lnTo>
                  <a:lnTo>
                    <a:pt x="3141" y="1424"/>
                  </a:lnTo>
                  <a:lnTo>
                    <a:pt x="3119" y="1275"/>
                  </a:lnTo>
                  <a:lnTo>
                    <a:pt x="3083" y="1128"/>
                  </a:lnTo>
                  <a:lnTo>
                    <a:pt x="3033" y="985"/>
                  </a:lnTo>
                  <a:lnTo>
                    <a:pt x="2970" y="847"/>
                  </a:lnTo>
                  <a:lnTo>
                    <a:pt x="2894" y="715"/>
                  </a:lnTo>
                  <a:lnTo>
                    <a:pt x="2803" y="590"/>
                  </a:lnTo>
                  <a:lnTo>
                    <a:pt x="2700" y="474"/>
                  </a:lnTo>
                  <a:lnTo>
                    <a:pt x="2584" y="367"/>
                  </a:lnTo>
                  <a:lnTo>
                    <a:pt x="2456" y="270"/>
                  </a:lnTo>
                  <a:lnTo>
                    <a:pt x="2318" y="186"/>
                  </a:lnTo>
                  <a:lnTo>
                    <a:pt x="2175" y="119"/>
                  </a:lnTo>
                  <a:lnTo>
                    <a:pt x="2028" y="67"/>
                  </a:lnTo>
                  <a:lnTo>
                    <a:pt x="1879" y="30"/>
                  </a:lnTo>
                  <a:lnTo>
                    <a:pt x="1728" y="7"/>
                  </a:lnTo>
                  <a:lnTo>
                    <a:pt x="1576" y="0"/>
                  </a:lnTo>
                  <a:lnTo>
                    <a:pt x="1425" y="7"/>
                  </a:lnTo>
                  <a:lnTo>
                    <a:pt x="1275" y="29"/>
                  </a:lnTo>
                  <a:lnTo>
                    <a:pt x="1128" y="65"/>
                  </a:lnTo>
                  <a:lnTo>
                    <a:pt x="986" y="115"/>
                  </a:lnTo>
                  <a:lnTo>
                    <a:pt x="847" y="177"/>
                  </a:lnTo>
                  <a:lnTo>
                    <a:pt x="716" y="254"/>
                  </a:lnTo>
                  <a:lnTo>
                    <a:pt x="590" y="344"/>
                  </a:lnTo>
                  <a:lnTo>
                    <a:pt x="474" y="448"/>
                  </a:lnTo>
                  <a:lnTo>
                    <a:pt x="367" y="563"/>
                  </a:lnTo>
                  <a:lnTo>
                    <a:pt x="270" y="693"/>
                  </a:lnTo>
                  <a:lnTo>
                    <a:pt x="186" y="830"/>
                  </a:lnTo>
                  <a:lnTo>
                    <a:pt x="118" y="974"/>
                  </a:lnTo>
                  <a:lnTo>
                    <a:pt x="66" y="1120"/>
                  </a:lnTo>
                  <a:lnTo>
                    <a:pt x="29" y="1269"/>
                  </a:lnTo>
                  <a:lnTo>
                    <a:pt x="7" y="1421"/>
                  </a:lnTo>
                  <a:lnTo>
                    <a:pt x="0" y="1572"/>
                  </a:lnTo>
                  <a:lnTo>
                    <a:pt x="7" y="1723"/>
                  </a:lnTo>
                  <a:lnTo>
                    <a:pt x="29" y="1873"/>
                  </a:lnTo>
                  <a:lnTo>
                    <a:pt x="65" y="2020"/>
                  </a:lnTo>
                  <a:lnTo>
                    <a:pt x="114" y="2162"/>
                  </a:lnTo>
                  <a:lnTo>
                    <a:pt x="178" y="2300"/>
                  </a:lnTo>
                  <a:lnTo>
                    <a:pt x="254" y="2432"/>
                  </a:lnTo>
                  <a:lnTo>
                    <a:pt x="345" y="2558"/>
                  </a:lnTo>
                  <a:lnTo>
                    <a:pt x="448" y="2674"/>
                  </a:lnTo>
                  <a:lnTo>
                    <a:pt x="564" y="2781"/>
                  </a:lnTo>
                  <a:lnTo>
                    <a:pt x="693" y="2879"/>
                  </a:lnTo>
                  <a:close/>
                </a:path>
              </a:pathLst>
            </a:custGeom>
            <a:solidFill>
              <a:srgbClr val="9ac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51960" y="253800"/>
              <a:ext cx="231480" cy="228600"/>
            </a:xfrm>
            <a:custGeom>
              <a:avLst/>
              <a:gdLst/>
              <a:ahLst/>
              <a:rect l="l" t="t" r="r" b="b"/>
              <a:pathLst>
                <a:path w="2987" h="2987">
                  <a:moveTo>
                    <a:pt x="657" y="2731"/>
                  </a:moveTo>
                  <a:lnTo>
                    <a:pt x="788" y="2810"/>
                  </a:lnTo>
                  <a:lnTo>
                    <a:pt x="923" y="2874"/>
                  </a:lnTo>
                  <a:lnTo>
                    <a:pt x="1062" y="2923"/>
                  </a:lnTo>
                  <a:lnTo>
                    <a:pt x="1205" y="2958"/>
                  </a:lnTo>
                  <a:lnTo>
                    <a:pt x="1348" y="2980"/>
                  </a:lnTo>
                  <a:lnTo>
                    <a:pt x="1492" y="2987"/>
                  </a:lnTo>
                  <a:lnTo>
                    <a:pt x="1635" y="2980"/>
                  </a:lnTo>
                  <a:lnTo>
                    <a:pt x="1777" y="2960"/>
                  </a:lnTo>
                  <a:lnTo>
                    <a:pt x="1916" y="2926"/>
                  </a:lnTo>
                  <a:lnTo>
                    <a:pt x="2052" y="2879"/>
                  </a:lnTo>
                  <a:lnTo>
                    <a:pt x="2183" y="2818"/>
                  </a:lnTo>
                  <a:lnTo>
                    <a:pt x="2308" y="2745"/>
                  </a:lnTo>
                  <a:lnTo>
                    <a:pt x="2426" y="2660"/>
                  </a:lnTo>
                  <a:lnTo>
                    <a:pt x="2537" y="2562"/>
                  </a:lnTo>
                  <a:lnTo>
                    <a:pt x="2639" y="2451"/>
                  </a:lnTo>
                  <a:lnTo>
                    <a:pt x="2731" y="2330"/>
                  </a:lnTo>
                  <a:lnTo>
                    <a:pt x="2810" y="2198"/>
                  </a:lnTo>
                  <a:lnTo>
                    <a:pt x="2874" y="2063"/>
                  </a:lnTo>
                  <a:lnTo>
                    <a:pt x="2924" y="1924"/>
                  </a:lnTo>
                  <a:lnTo>
                    <a:pt x="2959" y="1782"/>
                  </a:lnTo>
                  <a:lnTo>
                    <a:pt x="2980" y="1638"/>
                  </a:lnTo>
                  <a:lnTo>
                    <a:pt x="2987" y="1495"/>
                  </a:lnTo>
                  <a:lnTo>
                    <a:pt x="2980" y="1351"/>
                  </a:lnTo>
                  <a:lnTo>
                    <a:pt x="2960" y="1210"/>
                  </a:lnTo>
                  <a:lnTo>
                    <a:pt x="2926" y="1070"/>
                  </a:lnTo>
                  <a:lnTo>
                    <a:pt x="2879" y="934"/>
                  </a:lnTo>
                  <a:lnTo>
                    <a:pt x="2819" y="804"/>
                  </a:lnTo>
                  <a:lnTo>
                    <a:pt x="2746" y="678"/>
                  </a:lnTo>
                  <a:lnTo>
                    <a:pt x="2660" y="560"/>
                  </a:lnTo>
                  <a:lnTo>
                    <a:pt x="2562" y="450"/>
                  </a:lnTo>
                  <a:lnTo>
                    <a:pt x="2452" y="348"/>
                  </a:lnTo>
                  <a:lnTo>
                    <a:pt x="2331" y="256"/>
                  </a:lnTo>
                  <a:lnTo>
                    <a:pt x="2199" y="176"/>
                  </a:lnTo>
                  <a:lnTo>
                    <a:pt x="2064" y="113"/>
                  </a:lnTo>
                  <a:lnTo>
                    <a:pt x="1924" y="63"/>
                  </a:lnTo>
                  <a:lnTo>
                    <a:pt x="1782" y="28"/>
                  </a:lnTo>
                  <a:lnTo>
                    <a:pt x="1639" y="6"/>
                  </a:lnTo>
                  <a:lnTo>
                    <a:pt x="1495" y="0"/>
                  </a:lnTo>
                  <a:lnTo>
                    <a:pt x="1351" y="6"/>
                  </a:lnTo>
                  <a:lnTo>
                    <a:pt x="1210" y="26"/>
                  </a:lnTo>
                  <a:lnTo>
                    <a:pt x="1071" y="61"/>
                  </a:lnTo>
                  <a:lnTo>
                    <a:pt x="935" y="107"/>
                  </a:lnTo>
                  <a:lnTo>
                    <a:pt x="804" y="168"/>
                  </a:lnTo>
                  <a:lnTo>
                    <a:pt x="679" y="240"/>
                  </a:lnTo>
                  <a:lnTo>
                    <a:pt x="561" y="326"/>
                  </a:lnTo>
                  <a:lnTo>
                    <a:pt x="450" y="424"/>
                  </a:lnTo>
                  <a:lnTo>
                    <a:pt x="348" y="535"/>
                  </a:lnTo>
                  <a:lnTo>
                    <a:pt x="256" y="657"/>
                  </a:lnTo>
                  <a:lnTo>
                    <a:pt x="177" y="788"/>
                  </a:lnTo>
                  <a:lnTo>
                    <a:pt x="113" y="923"/>
                  </a:lnTo>
                  <a:lnTo>
                    <a:pt x="63" y="1062"/>
                  </a:lnTo>
                  <a:lnTo>
                    <a:pt x="28" y="1203"/>
                  </a:lnTo>
                  <a:lnTo>
                    <a:pt x="7" y="1347"/>
                  </a:lnTo>
                  <a:lnTo>
                    <a:pt x="0" y="1491"/>
                  </a:lnTo>
                  <a:lnTo>
                    <a:pt x="7" y="1635"/>
                  </a:lnTo>
                  <a:lnTo>
                    <a:pt x="28" y="1776"/>
                  </a:lnTo>
                  <a:lnTo>
                    <a:pt x="61" y="1916"/>
                  </a:lnTo>
                  <a:lnTo>
                    <a:pt x="109" y="2052"/>
                  </a:lnTo>
                  <a:lnTo>
                    <a:pt x="168" y="2182"/>
                  </a:lnTo>
                  <a:lnTo>
                    <a:pt x="242" y="2308"/>
                  </a:lnTo>
                  <a:lnTo>
                    <a:pt x="327" y="2426"/>
                  </a:lnTo>
                  <a:lnTo>
                    <a:pt x="424" y="2536"/>
                  </a:lnTo>
                  <a:lnTo>
                    <a:pt x="535" y="2638"/>
                  </a:lnTo>
                  <a:lnTo>
                    <a:pt x="657" y="2731"/>
                  </a:lnTo>
                  <a:close/>
                </a:path>
              </a:pathLst>
            </a:custGeom>
            <a:solidFill>
              <a:srgbClr val="9dc3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60960" y="255600"/>
              <a:ext cx="218520" cy="216360"/>
            </a:xfrm>
            <a:custGeom>
              <a:avLst/>
              <a:gdLst/>
              <a:ahLst/>
              <a:rect l="l" t="t" r="r" b="b"/>
              <a:pathLst>
                <a:path w="2826" h="2827">
                  <a:moveTo>
                    <a:pt x="622" y="2584"/>
                  </a:moveTo>
                  <a:lnTo>
                    <a:pt x="746" y="2659"/>
                  </a:lnTo>
                  <a:lnTo>
                    <a:pt x="874" y="2719"/>
                  </a:lnTo>
                  <a:lnTo>
                    <a:pt x="1005" y="2767"/>
                  </a:lnTo>
                  <a:lnTo>
                    <a:pt x="1140" y="2800"/>
                  </a:lnTo>
                  <a:lnTo>
                    <a:pt x="1275" y="2820"/>
                  </a:lnTo>
                  <a:lnTo>
                    <a:pt x="1411" y="2827"/>
                  </a:lnTo>
                  <a:lnTo>
                    <a:pt x="1547" y="2820"/>
                  </a:lnTo>
                  <a:lnTo>
                    <a:pt x="1681" y="2801"/>
                  </a:lnTo>
                  <a:lnTo>
                    <a:pt x="1813" y="2768"/>
                  </a:lnTo>
                  <a:lnTo>
                    <a:pt x="1942" y="2723"/>
                  </a:lnTo>
                  <a:lnTo>
                    <a:pt x="2066" y="2667"/>
                  </a:lnTo>
                  <a:lnTo>
                    <a:pt x="2184" y="2598"/>
                  </a:lnTo>
                  <a:lnTo>
                    <a:pt x="2297" y="2517"/>
                  </a:lnTo>
                  <a:lnTo>
                    <a:pt x="2401" y="2424"/>
                  </a:lnTo>
                  <a:lnTo>
                    <a:pt x="2498" y="2319"/>
                  </a:lnTo>
                  <a:lnTo>
                    <a:pt x="2585" y="2205"/>
                  </a:lnTo>
                  <a:lnTo>
                    <a:pt x="2659" y="2080"/>
                  </a:lnTo>
                  <a:lnTo>
                    <a:pt x="2720" y="1952"/>
                  </a:lnTo>
                  <a:lnTo>
                    <a:pt x="2767" y="1821"/>
                  </a:lnTo>
                  <a:lnTo>
                    <a:pt x="2801" y="1686"/>
                  </a:lnTo>
                  <a:lnTo>
                    <a:pt x="2820" y="1551"/>
                  </a:lnTo>
                  <a:lnTo>
                    <a:pt x="2826" y="1415"/>
                  </a:lnTo>
                  <a:lnTo>
                    <a:pt x="2820" y="1279"/>
                  </a:lnTo>
                  <a:lnTo>
                    <a:pt x="2801" y="1145"/>
                  </a:lnTo>
                  <a:lnTo>
                    <a:pt x="2769" y="1013"/>
                  </a:lnTo>
                  <a:lnTo>
                    <a:pt x="2724" y="884"/>
                  </a:lnTo>
                  <a:lnTo>
                    <a:pt x="2667" y="760"/>
                  </a:lnTo>
                  <a:lnTo>
                    <a:pt x="2599" y="642"/>
                  </a:lnTo>
                  <a:lnTo>
                    <a:pt x="2517" y="529"/>
                  </a:lnTo>
                  <a:lnTo>
                    <a:pt x="2424" y="425"/>
                  </a:lnTo>
                  <a:lnTo>
                    <a:pt x="2320" y="328"/>
                  </a:lnTo>
                  <a:lnTo>
                    <a:pt x="2205" y="242"/>
                  </a:lnTo>
                  <a:lnTo>
                    <a:pt x="2081" y="167"/>
                  </a:lnTo>
                  <a:lnTo>
                    <a:pt x="1952" y="106"/>
                  </a:lnTo>
                  <a:lnTo>
                    <a:pt x="1822" y="59"/>
                  </a:lnTo>
                  <a:lnTo>
                    <a:pt x="1687" y="25"/>
                  </a:lnTo>
                  <a:lnTo>
                    <a:pt x="1552" y="6"/>
                  </a:lnTo>
                  <a:lnTo>
                    <a:pt x="1415" y="0"/>
                  </a:lnTo>
                  <a:lnTo>
                    <a:pt x="1279" y="6"/>
                  </a:lnTo>
                  <a:lnTo>
                    <a:pt x="1145" y="25"/>
                  </a:lnTo>
                  <a:lnTo>
                    <a:pt x="1014" y="57"/>
                  </a:lnTo>
                  <a:lnTo>
                    <a:pt x="885" y="102"/>
                  </a:lnTo>
                  <a:lnTo>
                    <a:pt x="761" y="159"/>
                  </a:lnTo>
                  <a:lnTo>
                    <a:pt x="643" y="227"/>
                  </a:lnTo>
                  <a:lnTo>
                    <a:pt x="530" y="309"/>
                  </a:lnTo>
                  <a:lnTo>
                    <a:pt x="426" y="402"/>
                  </a:lnTo>
                  <a:lnTo>
                    <a:pt x="329" y="506"/>
                  </a:lnTo>
                  <a:lnTo>
                    <a:pt x="243" y="622"/>
                  </a:lnTo>
                  <a:lnTo>
                    <a:pt x="167" y="745"/>
                  </a:lnTo>
                  <a:lnTo>
                    <a:pt x="107" y="874"/>
                  </a:lnTo>
                  <a:lnTo>
                    <a:pt x="60" y="1004"/>
                  </a:lnTo>
                  <a:lnTo>
                    <a:pt x="26" y="1139"/>
                  </a:lnTo>
                  <a:lnTo>
                    <a:pt x="7" y="1274"/>
                  </a:lnTo>
                  <a:lnTo>
                    <a:pt x="0" y="1411"/>
                  </a:lnTo>
                  <a:lnTo>
                    <a:pt x="7" y="1547"/>
                  </a:lnTo>
                  <a:lnTo>
                    <a:pt x="26" y="1681"/>
                  </a:lnTo>
                  <a:lnTo>
                    <a:pt x="58" y="1812"/>
                  </a:lnTo>
                  <a:lnTo>
                    <a:pt x="103" y="1941"/>
                  </a:lnTo>
                  <a:lnTo>
                    <a:pt x="160" y="2065"/>
                  </a:lnTo>
                  <a:lnTo>
                    <a:pt x="228" y="2183"/>
                  </a:lnTo>
                  <a:lnTo>
                    <a:pt x="310" y="2296"/>
                  </a:lnTo>
                  <a:lnTo>
                    <a:pt x="402" y="2400"/>
                  </a:lnTo>
                  <a:lnTo>
                    <a:pt x="506" y="2497"/>
                  </a:lnTo>
                  <a:lnTo>
                    <a:pt x="622" y="2584"/>
                  </a:lnTo>
                  <a:close/>
                </a:path>
              </a:pathLst>
            </a:custGeom>
            <a:solidFill>
              <a:srgbClr val="a0c7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70320" y="258120"/>
              <a:ext cx="206280" cy="203760"/>
            </a:xfrm>
            <a:custGeom>
              <a:avLst/>
              <a:gdLst/>
              <a:ahLst/>
              <a:rect l="l" t="t" r="r" b="b"/>
              <a:pathLst>
                <a:path w="2666" h="2665">
                  <a:moveTo>
                    <a:pt x="586" y="2437"/>
                  </a:moveTo>
                  <a:lnTo>
                    <a:pt x="702" y="2507"/>
                  </a:lnTo>
                  <a:lnTo>
                    <a:pt x="823" y="2565"/>
                  </a:lnTo>
                  <a:lnTo>
                    <a:pt x="948" y="2608"/>
                  </a:lnTo>
                  <a:lnTo>
                    <a:pt x="1074" y="2640"/>
                  </a:lnTo>
                  <a:lnTo>
                    <a:pt x="1203" y="2658"/>
                  </a:lnTo>
                  <a:lnTo>
                    <a:pt x="1332" y="2665"/>
                  </a:lnTo>
                  <a:lnTo>
                    <a:pt x="1459" y="2660"/>
                  </a:lnTo>
                  <a:lnTo>
                    <a:pt x="1586" y="2640"/>
                  </a:lnTo>
                  <a:lnTo>
                    <a:pt x="1710" y="2611"/>
                  </a:lnTo>
                  <a:lnTo>
                    <a:pt x="1831" y="2568"/>
                  </a:lnTo>
                  <a:lnTo>
                    <a:pt x="1948" y="2515"/>
                  </a:lnTo>
                  <a:lnTo>
                    <a:pt x="2060" y="2450"/>
                  </a:lnTo>
                  <a:lnTo>
                    <a:pt x="2166" y="2374"/>
                  </a:lnTo>
                  <a:lnTo>
                    <a:pt x="2265" y="2286"/>
                  </a:lnTo>
                  <a:lnTo>
                    <a:pt x="2355" y="2188"/>
                  </a:lnTo>
                  <a:lnTo>
                    <a:pt x="2438" y="2079"/>
                  </a:lnTo>
                  <a:lnTo>
                    <a:pt x="2509" y="1962"/>
                  </a:lnTo>
                  <a:lnTo>
                    <a:pt x="2566" y="1841"/>
                  </a:lnTo>
                  <a:lnTo>
                    <a:pt x="2610" y="1717"/>
                  </a:lnTo>
                  <a:lnTo>
                    <a:pt x="2641" y="1590"/>
                  </a:lnTo>
                  <a:lnTo>
                    <a:pt x="2659" y="1462"/>
                  </a:lnTo>
                  <a:lnTo>
                    <a:pt x="2666" y="1334"/>
                  </a:lnTo>
                  <a:lnTo>
                    <a:pt x="2659" y="1206"/>
                  </a:lnTo>
                  <a:lnTo>
                    <a:pt x="2641" y="1080"/>
                  </a:lnTo>
                  <a:lnTo>
                    <a:pt x="2612" y="955"/>
                  </a:lnTo>
                  <a:lnTo>
                    <a:pt x="2569" y="834"/>
                  </a:lnTo>
                  <a:lnTo>
                    <a:pt x="2516" y="717"/>
                  </a:lnTo>
                  <a:lnTo>
                    <a:pt x="2450" y="606"/>
                  </a:lnTo>
                  <a:lnTo>
                    <a:pt x="2375" y="500"/>
                  </a:lnTo>
                  <a:lnTo>
                    <a:pt x="2286" y="402"/>
                  </a:lnTo>
                  <a:lnTo>
                    <a:pt x="2189" y="311"/>
                  </a:lnTo>
                  <a:lnTo>
                    <a:pt x="2080" y="229"/>
                  </a:lnTo>
                  <a:lnTo>
                    <a:pt x="1963" y="158"/>
                  </a:lnTo>
                  <a:lnTo>
                    <a:pt x="1842" y="101"/>
                  </a:lnTo>
                  <a:lnTo>
                    <a:pt x="1718" y="56"/>
                  </a:lnTo>
                  <a:lnTo>
                    <a:pt x="1591" y="25"/>
                  </a:lnTo>
                  <a:lnTo>
                    <a:pt x="1462" y="6"/>
                  </a:lnTo>
                  <a:lnTo>
                    <a:pt x="1334" y="0"/>
                  </a:lnTo>
                  <a:lnTo>
                    <a:pt x="1206" y="6"/>
                  </a:lnTo>
                  <a:lnTo>
                    <a:pt x="1080" y="24"/>
                  </a:lnTo>
                  <a:lnTo>
                    <a:pt x="955" y="54"/>
                  </a:lnTo>
                  <a:lnTo>
                    <a:pt x="834" y="96"/>
                  </a:lnTo>
                  <a:lnTo>
                    <a:pt x="717" y="150"/>
                  </a:lnTo>
                  <a:lnTo>
                    <a:pt x="606" y="214"/>
                  </a:lnTo>
                  <a:lnTo>
                    <a:pt x="500" y="291"/>
                  </a:lnTo>
                  <a:lnTo>
                    <a:pt x="401" y="378"/>
                  </a:lnTo>
                  <a:lnTo>
                    <a:pt x="311" y="477"/>
                  </a:lnTo>
                  <a:lnTo>
                    <a:pt x="229" y="587"/>
                  </a:lnTo>
                  <a:lnTo>
                    <a:pt x="158" y="702"/>
                  </a:lnTo>
                  <a:lnTo>
                    <a:pt x="101" y="824"/>
                  </a:lnTo>
                  <a:lnTo>
                    <a:pt x="56" y="948"/>
                  </a:lnTo>
                  <a:lnTo>
                    <a:pt x="25" y="1074"/>
                  </a:lnTo>
                  <a:lnTo>
                    <a:pt x="6" y="1202"/>
                  </a:lnTo>
                  <a:lnTo>
                    <a:pt x="0" y="1331"/>
                  </a:lnTo>
                  <a:lnTo>
                    <a:pt x="6" y="1458"/>
                  </a:lnTo>
                  <a:lnTo>
                    <a:pt x="24" y="1585"/>
                  </a:lnTo>
                  <a:lnTo>
                    <a:pt x="55" y="1709"/>
                  </a:lnTo>
                  <a:lnTo>
                    <a:pt x="96" y="1830"/>
                  </a:lnTo>
                  <a:lnTo>
                    <a:pt x="151" y="1947"/>
                  </a:lnTo>
                  <a:lnTo>
                    <a:pt x="215" y="2059"/>
                  </a:lnTo>
                  <a:lnTo>
                    <a:pt x="291" y="2165"/>
                  </a:lnTo>
                  <a:lnTo>
                    <a:pt x="379" y="2264"/>
                  </a:lnTo>
                  <a:lnTo>
                    <a:pt x="477" y="2354"/>
                  </a:lnTo>
                  <a:lnTo>
                    <a:pt x="586" y="2437"/>
                  </a:lnTo>
                  <a:close/>
                </a:path>
              </a:pathLst>
            </a:custGeom>
            <a:solidFill>
              <a:srgbClr val="a3c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79680" y="261000"/>
              <a:ext cx="194400" cy="190800"/>
            </a:xfrm>
            <a:custGeom>
              <a:avLst/>
              <a:gdLst/>
              <a:ahLst/>
              <a:rect l="l" t="t" r="r" b="b"/>
              <a:pathLst>
                <a:path w="2504" h="2504">
                  <a:moveTo>
                    <a:pt x="552" y="2289"/>
                  </a:moveTo>
                  <a:lnTo>
                    <a:pt x="661" y="2355"/>
                  </a:lnTo>
                  <a:lnTo>
                    <a:pt x="775" y="2410"/>
                  </a:lnTo>
                  <a:lnTo>
                    <a:pt x="891" y="2451"/>
                  </a:lnTo>
                  <a:lnTo>
                    <a:pt x="1010" y="2481"/>
                  </a:lnTo>
                  <a:lnTo>
                    <a:pt x="1130" y="2499"/>
                  </a:lnTo>
                  <a:lnTo>
                    <a:pt x="1251" y="2504"/>
                  </a:lnTo>
                  <a:lnTo>
                    <a:pt x="1371" y="2499"/>
                  </a:lnTo>
                  <a:lnTo>
                    <a:pt x="1490" y="2482"/>
                  </a:lnTo>
                  <a:lnTo>
                    <a:pt x="1607" y="2453"/>
                  </a:lnTo>
                  <a:lnTo>
                    <a:pt x="1721" y="2414"/>
                  </a:lnTo>
                  <a:lnTo>
                    <a:pt x="1830" y="2364"/>
                  </a:lnTo>
                  <a:lnTo>
                    <a:pt x="1936" y="2302"/>
                  </a:lnTo>
                  <a:lnTo>
                    <a:pt x="2035" y="2231"/>
                  </a:lnTo>
                  <a:lnTo>
                    <a:pt x="2127" y="2149"/>
                  </a:lnTo>
                  <a:lnTo>
                    <a:pt x="2212" y="2057"/>
                  </a:lnTo>
                  <a:lnTo>
                    <a:pt x="2290" y="1955"/>
                  </a:lnTo>
                  <a:lnTo>
                    <a:pt x="2356" y="1844"/>
                  </a:lnTo>
                  <a:lnTo>
                    <a:pt x="2410" y="1730"/>
                  </a:lnTo>
                  <a:lnTo>
                    <a:pt x="2451" y="1613"/>
                  </a:lnTo>
                  <a:lnTo>
                    <a:pt x="2481" y="1495"/>
                  </a:lnTo>
                  <a:lnTo>
                    <a:pt x="2499" y="1374"/>
                  </a:lnTo>
                  <a:lnTo>
                    <a:pt x="2504" y="1254"/>
                  </a:lnTo>
                  <a:lnTo>
                    <a:pt x="2499" y="1133"/>
                  </a:lnTo>
                  <a:lnTo>
                    <a:pt x="2482" y="1015"/>
                  </a:lnTo>
                  <a:lnTo>
                    <a:pt x="2453" y="898"/>
                  </a:lnTo>
                  <a:lnTo>
                    <a:pt x="2414" y="784"/>
                  </a:lnTo>
                  <a:lnTo>
                    <a:pt x="2364" y="674"/>
                  </a:lnTo>
                  <a:lnTo>
                    <a:pt x="2302" y="568"/>
                  </a:lnTo>
                  <a:lnTo>
                    <a:pt x="2231" y="469"/>
                  </a:lnTo>
                  <a:lnTo>
                    <a:pt x="2149" y="377"/>
                  </a:lnTo>
                  <a:lnTo>
                    <a:pt x="2057" y="292"/>
                  </a:lnTo>
                  <a:lnTo>
                    <a:pt x="1955" y="215"/>
                  </a:lnTo>
                  <a:lnTo>
                    <a:pt x="1844" y="148"/>
                  </a:lnTo>
                  <a:lnTo>
                    <a:pt x="1731" y="94"/>
                  </a:lnTo>
                  <a:lnTo>
                    <a:pt x="1615" y="53"/>
                  </a:lnTo>
                  <a:lnTo>
                    <a:pt x="1496" y="23"/>
                  </a:lnTo>
                  <a:lnTo>
                    <a:pt x="1375" y="5"/>
                  </a:lnTo>
                  <a:lnTo>
                    <a:pt x="1254" y="0"/>
                  </a:lnTo>
                  <a:lnTo>
                    <a:pt x="1134" y="5"/>
                  </a:lnTo>
                  <a:lnTo>
                    <a:pt x="1015" y="22"/>
                  </a:lnTo>
                  <a:lnTo>
                    <a:pt x="898" y="51"/>
                  </a:lnTo>
                  <a:lnTo>
                    <a:pt x="784" y="90"/>
                  </a:lnTo>
                  <a:lnTo>
                    <a:pt x="675" y="140"/>
                  </a:lnTo>
                  <a:lnTo>
                    <a:pt x="570" y="202"/>
                  </a:lnTo>
                  <a:lnTo>
                    <a:pt x="471" y="274"/>
                  </a:lnTo>
                  <a:lnTo>
                    <a:pt x="377" y="356"/>
                  </a:lnTo>
                  <a:lnTo>
                    <a:pt x="292" y="448"/>
                  </a:lnTo>
                  <a:lnTo>
                    <a:pt x="216" y="551"/>
                  </a:lnTo>
                  <a:lnTo>
                    <a:pt x="149" y="661"/>
                  </a:lnTo>
                  <a:lnTo>
                    <a:pt x="94" y="775"/>
                  </a:lnTo>
                  <a:lnTo>
                    <a:pt x="53" y="890"/>
                  </a:lnTo>
                  <a:lnTo>
                    <a:pt x="23" y="1010"/>
                  </a:lnTo>
                  <a:lnTo>
                    <a:pt x="5" y="1130"/>
                  </a:lnTo>
                  <a:lnTo>
                    <a:pt x="0" y="1251"/>
                  </a:lnTo>
                  <a:lnTo>
                    <a:pt x="5" y="1371"/>
                  </a:lnTo>
                  <a:lnTo>
                    <a:pt x="22" y="1490"/>
                  </a:lnTo>
                  <a:lnTo>
                    <a:pt x="51" y="1607"/>
                  </a:lnTo>
                  <a:lnTo>
                    <a:pt x="90" y="1721"/>
                  </a:lnTo>
                  <a:lnTo>
                    <a:pt x="140" y="1830"/>
                  </a:lnTo>
                  <a:lnTo>
                    <a:pt x="202" y="1935"/>
                  </a:lnTo>
                  <a:lnTo>
                    <a:pt x="274" y="2034"/>
                  </a:lnTo>
                  <a:lnTo>
                    <a:pt x="356" y="2127"/>
                  </a:lnTo>
                  <a:lnTo>
                    <a:pt x="448" y="2212"/>
                  </a:lnTo>
                  <a:lnTo>
                    <a:pt x="552" y="2289"/>
                  </a:lnTo>
                  <a:close/>
                </a:path>
              </a:pathLst>
            </a:custGeom>
            <a:solidFill>
              <a:srgbClr val="a6c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89040" y="262800"/>
              <a:ext cx="181080" cy="179640"/>
            </a:xfrm>
            <a:custGeom>
              <a:avLst/>
              <a:gdLst/>
              <a:ahLst/>
              <a:rect l="l" t="t" r="r" b="b"/>
              <a:pathLst>
                <a:path w="2344" h="2346">
                  <a:moveTo>
                    <a:pt x="517" y="2145"/>
                  </a:moveTo>
                  <a:lnTo>
                    <a:pt x="619" y="2206"/>
                  </a:lnTo>
                  <a:lnTo>
                    <a:pt x="725" y="2256"/>
                  </a:lnTo>
                  <a:lnTo>
                    <a:pt x="835" y="2296"/>
                  </a:lnTo>
                  <a:lnTo>
                    <a:pt x="946" y="2323"/>
                  </a:lnTo>
                  <a:lnTo>
                    <a:pt x="1059" y="2340"/>
                  </a:lnTo>
                  <a:lnTo>
                    <a:pt x="1172" y="2346"/>
                  </a:lnTo>
                  <a:lnTo>
                    <a:pt x="1284" y="2340"/>
                  </a:lnTo>
                  <a:lnTo>
                    <a:pt x="1395" y="2324"/>
                  </a:lnTo>
                  <a:lnTo>
                    <a:pt x="1504" y="2298"/>
                  </a:lnTo>
                  <a:lnTo>
                    <a:pt x="1611" y="2261"/>
                  </a:lnTo>
                  <a:lnTo>
                    <a:pt x="1714" y="2214"/>
                  </a:lnTo>
                  <a:lnTo>
                    <a:pt x="1812" y="2156"/>
                  </a:lnTo>
                  <a:lnTo>
                    <a:pt x="1904" y="2089"/>
                  </a:lnTo>
                  <a:lnTo>
                    <a:pt x="1991" y="2012"/>
                  </a:lnTo>
                  <a:lnTo>
                    <a:pt x="2071" y="1926"/>
                  </a:lnTo>
                  <a:lnTo>
                    <a:pt x="2143" y="1830"/>
                  </a:lnTo>
                  <a:lnTo>
                    <a:pt x="2205" y="1727"/>
                  </a:lnTo>
                  <a:lnTo>
                    <a:pt x="2256" y="1621"/>
                  </a:lnTo>
                  <a:lnTo>
                    <a:pt x="2294" y="1511"/>
                  </a:lnTo>
                  <a:lnTo>
                    <a:pt x="2323" y="1399"/>
                  </a:lnTo>
                  <a:lnTo>
                    <a:pt x="2339" y="1288"/>
                  </a:lnTo>
                  <a:lnTo>
                    <a:pt x="2344" y="1174"/>
                  </a:lnTo>
                  <a:lnTo>
                    <a:pt x="2339" y="1061"/>
                  </a:lnTo>
                  <a:lnTo>
                    <a:pt x="2323" y="951"/>
                  </a:lnTo>
                  <a:lnTo>
                    <a:pt x="2296" y="841"/>
                  </a:lnTo>
                  <a:lnTo>
                    <a:pt x="2260" y="734"/>
                  </a:lnTo>
                  <a:lnTo>
                    <a:pt x="2212" y="632"/>
                  </a:lnTo>
                  <a:lnTo>
                    <a:pt x="2155" y="533"/>
                  </a:lnTo>
                  <a:lnTo>
                    <a:pt x="2088" y="441"/>
                  </a:lnTo>
                  <a:lnTo>
                    <a:pt x="2011" y="353"/>
                  </a:lnTo>
                  <a:lnTo>
                    <a:pt x="1925" y="274"/>
                  </a:lnTo>
                  <a:lnTo>
                    <a:pt x="1830" y="202"/>
                  </a:lnTo>
                  <a:lnTo>
                    <a:pt x="1726" y="140"/>
                  </a:lnTo>
                  <a:lnTo>
                    <a:pt x="1620" y="90"/>
                  </a:lnTo>
                  <a:lnTo>
                    <a:pt x="1511" y="50"/>
                  </a:lnTo>
                  <a:lnTo>
                    <a:pt x="1399" y="23"/>
                  </a:lnTo>
                  <a:lnTo>
                    <a:pt x="1286" y="6"/>
                  </a:lnTo>
                  <a:lnTo>
                    <a:pt x="1174" y="0"/>
                  </a:lnTo>
                  <a:lnTo>
                    <a:pt x="1061" y="6"/>
                  </a:lnTo>
                  <a:lnTo>
                    <a:pt x="950" y="22"/>
                  </a:lnTo>
                  <a:lnTo>
                    <a:pt x="841" y="48"/>
                  </a:lnTo>
                  <a:lnTo>
                    <a:pt x="735" y="86"/>
                  </a:lnTo>
                  <a:lnTo>
                    <a:pt x="631" y="132"/>
                  </a:lnTo>
                  <a:lnTo>
                    <a:pt x="534" y="190"/>
                  </a:lnTo>
                  <a:lnTo>
                    <a:pt x="440" y="257"/>
                  </a:lnTo>
                  <a:lnTo>
                    <a:pt x="353" y="333"/>
                  </a:lnTo>
                  <a:lnTo>
                    <a:pt x="273" y="419"/>
                  </a:lnTo>
                  <a:lnTo>
                    <a:pt x="202" y="516"/>
                  </a:lnTo>
                  <a:lnTo>
                    <a:pt x="139" y="618"/>
                  </a:lnTo>
                  <a:lnTo>
                    <a:pt x="88" y="724"/>
                  </a:lnTo>
                  <a:lnTo>
                    <a:pt x="50" y="834"/>
                  </a:lnTo>
                  <a:lnTo>
                    <a:pt x="21" y="946"/>
                  </a:lnTo>
                  <a:lnTo>
                    <a:pt x="5" y="1058"/>
                  </a:lnTo>
                  <a:lnTo>
                    <a:pt x="0" y="1171"/>
                  </a:lnTo>
                  <a:lnTo>
                    <a:pt x="5" y="1284"/>
                  </a:lnTo>
                  <a:lnTo>
                    <a:pt x="21" y="1395"/>
                  </a:lnTo>
                  <a:lnTo>
                    <a:pt x="48" y="1504"/>
                  </a:lnTo>
                  <a:lnTo>
                    <a:pt x="85" y="1611"/>
                  </a:lnTo>
                  <a:lnTo>
                    <a:pt x="132" y="1713"/>
                  </a:lnTo>
                  <a:lnTo>
                    <a:pt x="189" y="1812"/>
                  </a:lnTo>
                  <a:lnTo>
                    <a:pt x="256" y="1904"/>
                  </a:lnTo>
                  <a:lnTo>
                    <a:pt x="334" y="1992"/>
                  </a:lnTo>
                  <a:lnTo>
                    <a:pt x="420" y="2071"/>
                  </a:lnTo>
                  <a:lnTo>
                    <a:pt x="517" y="2145"/>
                  </a:lnTo>
                  <a:close/>
                </a:path>
              </a:pathLst>
            </a:custGeom>
            <a:solidFill>
              <a:srgbClr val="a9d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18040" y="1001160"/>
              <a:ext cx="291960" cy="93600"/>
            </a:xfrm>
            <a:custGeom>
              <a:avLst/>
              <a:gdLst/>
              <a:ahLst/>
              <a:rect l="l" t="t" r="r" b="b"/>
              <a:pathLst>
                <a:path w="3769" h="1229">
                  <a:moveTo>
                    <a:pt x="0" y="1200"/>
                  </a:moveTo>
                  <a:lnTo>
                    <a:pt x="54" y="1219"/>
                  </a:lnTo>
                  <a:lnTo>
                    <a:pt x="143" y="1229"/>
                  </a:lnTo>
                  <a:lnTo>
                    <a:pt x="263" y="1228"/>
                  </a:lnTo>
                  <a:lnTo>
                    <a:pt x="413" y="1217"/>
                  </a:lnTo>
                  <a:lnTo>
                    <a:pt x="590" y="1194"/>
                  </a:lnTo>
                  <a:lnTo>
                    <a:pt x="793" y="1159"/>
                  </a:lnTo>
                  <a:lnTo>
                    <a:pt x="1021" y="1112"/>
                  </a:lnTo>
                  <a:lnTo>
                    <a:pt x="1268" y="1050"/>
                  </a:lnTo>
                  <a:lnTo>
                    <a:pt x="1535" y="975"/>
                  </a:lnTo>
                  <a:lnTo>
                    <a:pt x="1819" y="885"/>
                  </a:lnTo>
                  <a:lnTo>
                    <a:pt x="2119" y="780"/>
                  </a:lnTo>
                  <a:lnTo>
                    <a:pt x="2430" y="659"/>
                  </a:lnTo>
                  <a:lnTo>
                    <a:pt x="2755" y="521"/>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16960" y="1091520"/>
              <a:ext cx="1800" cy="324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5" name=""/>
            <p:cNvSpPr/>
            <p:nvPr/>
          </p:nvSpPr>
          <p:spPr>
            <a:xfrm>
              <a:off x="808920" y="999720"/>
              <a:ext cx="1800" cy="3240"/>
            </a:xfrm>
            <a:custGeom>
              <a:avLst/>
              <a:gdLst/>
              <a:ahLst/>
              <a:rect l="l" t="t" r="r" b="b"/>
              <a:pathLst>
                <a:path w="24" h="40">
                  <a:moveTo>
                    <a:pt x="0" y="0"/>
                  </a:moveTo>
                  <a:lnTo>
                    <a:pt x="24"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6" name=""/>
            <p:cNvSpPr/>
            <p:nvPr/>
          </p:nvSpPr>
          <p:spPr>
            <a:xfrm>
              <a:off x="810000" y="794520"/>
              <a:ext cx="225000" cy="206280"/>
            </a:xfrm>
            <a:custGeom>
              <a:avLst/>
              <a:gdLst/>
              <a:ahLst/>
              <a:rect l="l" t="t" r="r" b="b"/>
              <a:pathLst>
                <a:path w="2896" h="2695">
                  <a:moveTo>
                    <a:pt x="0" y="2695"/>
                  </a:moveTo>
                  <a:lnTo>
                    <a:pt x="335" y="2490"/>
                  </a:lnTo>
                  <a:lnTo>
                    <a:pt x="649" y="2280"/>
                  </a:lnTo>
                  <a:lnTo>
                    <a:pt x="944" y="2069"/>
                  </a:lnTo>
                  <a:lnTo>
                    <a:pt x="1217" y="1856"/>
                  </a:lnTo>
                  <a:lnTo>
                    <a:pt x="1470" y="1646"/>
                  </a:lnTo>
                  <a:lnTo>
                    <a:pt x="1703" y="1438"/>
                  </a:lnTo>
                  <a:lnTo>
                    <a:pt x="1916" y="1236"/>
                  </a:lnTo>
                  <a:lnTo>
                    <a:pt x="2107" y="1042"/>
                  </a:lnTo>
                  <a:lnTo>
                    <a:pt x="2277" y="857"/>
                  </a:lnTo>
                  <a:lnTo>
                    <a:pt x="2428" y="683"/>
                  </a:lnTo>
                  <a:lnTo>
                    <a:pt x="2558" y="524"/>
                  </a:lnTo>
                  <a:lnTo>
                    <a:pt x="2666" y="379"/>
                  </a:lnTo>
                  <a:lnTo>
                    <a:pt x="2754" y="253"/>
                  </a:lnTo>
                  <a:lnTo>
                    <a:pt x="2822" y="147"/>
                  </a:lnTo>
                  <a:lnTo>
                    <a:pt x="2869" y="60"/>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08920" y="999720"/>
              <a:ext cx="1800" cy="3240"/>
            </a:xfrm>
            <a:custGeom>
              <a:avLst/>
              <a:gdLst/>
              <a:ahLst/>
              <a:rect l="l" t="t" r="r" b="b"/>
              <a:pathLst>
                <a:path w="24" h="40">
                  <a:moveTo>
                    <a:pt x="24" y="40"/>
                  </a:moveTo>
                  <a:lnTo>
                    <a:pt x="0" y="0"/>
                  </a:lnTo>
                  <a:lnTo>
                    <a:pt x="24" y="4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8" name=""/>
            <p:cNvSpPr/>
            <p:nvPr/>
          </p:nvSpPr>
          <p:spPr>
            <a:xfrm>
              <a:off x="1033200" y="794520"/>
              <a:ext cx="3600" cy="720"/>
            </a:xfrm>
            <a:custGeom>
              <a:avLst/>
              <a:gdLst/>
              <a:ahLst/>
              <a:rect l="l" t="t" r="r" b="b"/>
              <a:pathLst>
                <a:path w="45" h="12">
                  <a:moveTo>
                    <a:pt x="0" y="0"/>
                  </a:moveTo>
                  <a:lnTo>
                    <a:pt x="45" y="12"/>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9" name=""/>
            <p:cNvSpPr/>
            <p:nvPr/>
          </p:nvSpPr>
          <p:spPr>
            <a:xfrm>
              <a:off x="825840" y="345600"/>
              <a:ext cx="252000" cy="684720"/>
            </a:xfrm>
            <a:custGeom>
              <a:avLst/>
              <a:gdLst/>
              <a:ahLst/>
              <a:rect l="l" t="t" r="r" b="b"/>
              <a:pathLst>
                <a:path w="3257" h="8952">
                  <a:moveTo>
                    <a:pt x="0" y="8952"/>
                  </a:moveTo>
                  <a:lnTo>
                    <a:pt x="561" y="8586"/>
                  </a:lnTo>
                  <a:lnTo>
                    <a:pt x="1073" y="8174"/>
                  </a:lnTo>
                  <a:lnTo>
                    <a:pt x="1535" y="7719"/>
                  </a:lnTo>
                  <a:lnTo>
                    <a:pt x="1945" y="7225"/>
                  </a:lnTo>
                  <a:lnTo>
                    <a:pt x="2301" y="6700"/>
                  </a:lnTo>
                  <a:lnTo>
                    <a:pt x="2603" y="6145"/>
                  </a:lnTo>
                  <a:lnTo>
                    <a:pt x="2850" y="5566"/>
                  </a:lnTo>
                  <a:lnTo>
                    <a:pt x="3040" y="4966"/>
                  </a:lnTo>
                  <a:lnTo>
                    <a:pt x="3172" y="4352"/>
                  </a:lnTo>
                  <a:lnTo>
                    <a:pt x="3244" y="3727"/>
                  </a:lnTo>
                  <a:lnTo>
                    <a:pt x="3257" y="3095"/>
                  </a:lnTo>
                  <a:lnTo>
                    <a:pt x="3207" y="2462"/>
                  </a:lnTo>
                  <a:lnTo>
                    <a:pt x="3095" y="1831"/>
                  </a:lnTo>
                  <a:lnTo>
                    <a:pt x="2920" y="1207"/>
                  </a:lnTo>
                  <a:lnTo>
                    <a:pt x="2679" y="595"/>
                  </a:lnTo>
                  <a:lnTo>
                    <a:pt x="2373" y="0"/>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822960" y="1029600"/>
              <a:ext cx="3240" cy="3600"/>
            </a:xfrm>
            <a:custGeom>
              <a:avLst/>
              <a:gdLst/>
              <a:ahLst/>
              <a:rect l="l" t="t" r="r" b="b"/>
              <a:pathLst>
                <a:path w="43" h="52">
                  <a:moveTo>
                    <a:pt x="43" y="40"/>
                  </a:moveTo>
                  <a:lnTo>
                    <a:pt x="23" y="52"/>
                  </a:lnTo>
                  <a:lnTo>
                    <a:pt x="0" y="11"/>
                  </a:lnTo>
                  <a:lnTo>
                    <a:pt x="20" y="0"/>
                  </a:lnTo>
                  <a:lnTo>
                    <a:pt x="43"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1" name=""/>
            <p:cNvSpPr/>
            <p:nvPr/>
          </p:nvSpPr>
          <p:spPr>
            <a:xfrm>
              <a:off x="1007280" y="343800"/>
              <a:ext cx="3240" cy="2520"/>
            </a:xfrm>
            <a:custGeom>
              <a:avLst/>
              <a:gdLst/>
              <a:ahLst/>
              <a:rect l="l" t="t" r="r" b="b"/>
              <a:pathLst>
                <a:path w="52" h="43">
                  <a:moveTo>
                    <a:pt x="11" y="43"/>
                  </a:moveTo>
                  <a:lnTo>
                    <a:pt x="0" y="23"/>
                  </a:lnTo>
                  <a:lnTo>
                    <a:pt x="40" y="0"/>
                  </a:lnTo>
                  <a:lnTo>
                    <a:pt x="52" y="20"/>
                  </a:lnTo>
                  <a:lnTo>
                    <a:pt x="11" y="43"/>
                  </a:lnTo>
                  <a:close/>
                </a:path>
              </a:pathLst>
            </a:custGeom>
            <a:solidFill>
              <a:srgbClr val="1f61a9"/>
            </a:solidFill>
            <a:ln w="0">
              <a:solidFill>
                <a:srgbClr val="1f61a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2" name=""/>
            <p:cNvSpPr/>
            <p:nvPr/>
          </p:nvSpPr>
          <p:spPr>
            <a:xfrm>
              <a:off x="316080" y="96840"/>
              <a:ext cx="693720" cy="248760"/>
            </a:xfrm>
            <a:custGeom>
              <a:avLst/>
              <a:gdLst/>
              <a:ahLst/>
              <a:rect l="l" t="t" r="r" b="b"/>
              <a:pathLst>
                <a:path w="8954" h="3258">
                  <a:moveTo>
                    <a:pt x="8954" y="3258"/>
                  </a:moveTo>
                  <a:lnTo>
                    <a:pt x="8587" y="2695"/>
                  </a:lnTo>
                  <a:lnTo>
                    <a:pt x="8174" y="2183"/>
                  </a:lnTo>
                  <a:lnTo>
                    <a:pt x="7719" y="1721"/>
                  </a:lnTo>
                  <a:lnTo>
                    <a:pt x="7227" y="1311"/>
                  </a:lnTo>
                  <a:lnTo>
                    <a:pt x="6701" y="955"/>
                  </a:lnTo>
                  <a:lnTo>
                    <a:pt x="6146" y="653"/>
                  </a:lnTo>
                  <a:lnTo>
                    <a:pt x="5566" y="406"/>
                  </a:lnTo>
                  <a:lnTo>
                    <a:pt x="4968" y="217"/>
                  </a:lnTo>
                  <a:lnTo>
                    <a:pt x="4352" y="85"/>
                  </a:lnTo>
                  <a:lnTo>
                    <a:pt x="3727" y="12"/>
                  </a:lnTo>
                  <a:lnTo>
                    <a:pt x="3096" y="0"/>
                  </a:lnTo>
                  <a:lnTo>
                    <a:pt x="2462" y="49"/>
                  </a:lnTo>
                  <a:lnTo>
                    <a:pt x="1832" y="161"/>
                  </a:lnTo>
                  <a:lnTo>
                    <a:pt x="1208" y="337"/>
                  </a:lnTo>
                  <a:lnTo>
                    <a:pt x="595" y="578"/>
                  </a:lnTo>
                  <a:lnTo>
                    <a:pt x="0" y="886"/>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08000" y="344520"/>
              <a:ext cx="3600" cy="3600"/>
            </a:xfrm>
            <a:custGeom>
              <a:avLst/>
              <a:gdLst/>
              <a:ahLst/>
              <a:rect l="l" t="t" r="r" b="b"/>
              <a:pathLst>
                <a:path w="52" h="43">
                  <a:moveTo>
                    <a:pt x="41" y="0"/>
                  </a:moveTo>
                  <a:lnTo>
                    <a:pt x="52" y="20"/>
                  </a:lnTo>
                  <a:lnTo>
                    <a:pt x="12" y="43"/>
                  </a:lnTo>
                  <a:lnTo>
                    <a:pt x="0" y="23"/>
                  </a:lnTo>
                  <a:lnTo>
                    <a:pt x="41" y="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4" name=""/>
            <p:cNvSpPr/>
            <p:nvPr/>
          </p:nvSpPr>
          <p:spPr>
            <a:xfrm>
              <a:off x="313200" y="162720"/>
              <a:ext cx="3600" cy="3600"/>
            </a:xfrm>
            <a:custGeom>
              <a:avLst/>
              <a:gdLst/>
              <a:ahLst/>
              <a:rect l="l" t="t" r="r" b="b"/>
              <a:pathLst>
                <a:path w="44" h="52">
                  <a:moveTo>
                    <a:pt x="44" y="40"/>
                  </a:moveTo>
                  <a:lnTo>
                    <a:pt x="23" y="52"/>
                  </a:lnTo>
                  <a:lnTo>
                    <a:pt x="0" y="11"/>
                  </a:lnTo>
                  <a:lnTo>
                    <a:pt x="20" y="0"/>
                  </a:lnTo>
                  <a:lnTo>
                    <a:pt x="44"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5" name=""/>
            <p:cNvSpPr/>
            <p:nvPr/>
          </p:nvSpPr>
          <p:spPr>
            <a:xfrm>
              <a:off x="63360" y="164520"/>
              <a:ext cx="252720" cy="685080"/>
            </a:xfrm>
            <a:custGeom>
              <a:avLst/>
              <a:gdLst/>
              <a:ahLst/>
              <a:rect l="l" t="t" r="r" b="b"/>
              <a:pathLst>
                <a:path w="3257" h="8952">
                  <a:moveTo>
                    <a:pt x="3257" y="0"/>
                  </a:moveTo>
                  <a:lnTo>
                    <a:pt x="2695" y="364"/>
                  </a:lnTo>
                  <a:lnTo>
                    <a:pt x="2182" y="777"/>
                  </a:lnTo>
                  <a:lnTo>
                    <a:pt x="1721" y="1232"/>
                  </a:lnTo>
                  <a:lnTo>
                    <a:pt x="1311" y="1725"/>
                  </a:lnTo>
                  <a:lnTo>
                    <a:pt x="954" y="2250"/>
                  </a:lnTo>
                  <a:lnTo>
                    <a:pt x="652" y="2805"/>
                  </a:lnTo>
                  <a:lnTo>
                    <a:pt x="406" y="3385"/>
                  </a:lnTo>
                  <a:lnTo>
                    <a:pt x="216" y="3984"/>
                  </a:lnTo>
                  <a:lnTo>
                    <a:pt x="85" y="4599"/>
                  </a:lnTo>
                  <a:lnTo>
                    <a:pt x="11" y="5224"/>
                  </a:lnTo>
                  <a:lnTo>
                    <a:pt x="0" y="5855"/>
                  </a:lnTo>
                  <a:lnTo>
                    <a:pt x="49" y="6489"/>
                  </a:lnTo>
                  <a:lnTo>
                    <a:pt x="160" y="7119"/>
                  </a:lnTo>
                  <a:lnTo>
                    <a:pt x="337" y="7743"/>
                  </a:lnTo>
                  <a:lnTo>
                    <a:pt x="577" y="8356"/>
                  </a:lnTo>
                  <a:lnTo>
                    <a:pt x="885" y="895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15360" y="162000"/>
              <a:ext cx="2520" cy="3600"/>
            </a:xfrm>
            <a:custGeom>
              <a:avLst/>
              <a:gdLst/>
              <a:ahLst/>
              <a:rect l="l" t="t" r="r" b="b"/>
              <a:pathLst>
                <a:path w="44" h="52">
                  <a:moveTo>
                    <a:pt x="0" y="12"/>
                  </a:moveTo>
                  <a:lnTo>
                    <a:pt x="20" y="0"/>
                  </a:lnTo>
                  <a:lnTo>
                    <a:pt x="44" y="40"/>
                  </a:lnTo>
                  <a:lnTo>
                    <a:pt x="24"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7" name=""/>
            <p:cNvSpPr/>
            <p:nvPr/>
          </p:nvSpPr>
          <p:spPr>
            <a:xfrm>
              <a:off x="129960" y="848880"/>
              <a:ext cx="4320" cy="2880"/>
            </a:xfrm>
            <a:custGeom>
              <a:avLst/>
              <a:gdLst/>
              <a:ahLst/>
              <a:rect l="l" t="t" r="r" b="b"/>
              <a:pathLst>
                <a:path w="52" h="44">
                  <a:moveTo>
                    <a:pt x="40" y="0"/>
                  </a:moveTo>
                  <a:lnTo>
                    <a:pt x="52" y="21"/>
                  </a:lnTo>
                  <a:lnTo>
                    <a:pt x="12" y="44"/>
                  </a:lnTo>
                  <a:lnTo>
                    <a:pt x="0" y="24"/>
                  </a:lnTo>
                  <a:lnTo>
                    <a:pt x="40" y="0"/>
                  </a:lnTo>
                  <a:close/>
                </a:path>
              </a:pathLst>
            </a:custGeom>
            <a:solidFill>
              <a:srgbClr val="1f61a9"/>
            </a:solidFill>
            <a:ln w="0">
              <a:solidFill>
                <a:srgbClr val="1f61a9"/>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8" name=""/>
            <p:cNvSpPr/>
            <p:nvPr/>
          </p:nvSpPr>
          <p:spPr>
            <a:xfrm>
              <a:off x="131760" y="849960"/>
              <a:ext cx="693720" cy="248760"/>
            </a:xfrm>
            <a:custGeom>
              <a:avLst/>
              <a:gdLst/>
              <a:ahLst/>
              <a:rect l="l" t="t" r="r" b="b"/>
              <a:pathLst>
                <a:path w="8953" h="3256">
                  <a:moveTo>
                    <a:pt x="0" y="0"/>
                  </a:moveTo>
                  <a:lnTo>
                    <a:pt x="365" y="561"/>
                  </a:lnTo>
                  <a:lnTo>
                    <a:pt x="777" y="1074"/>
                  </a:lnTo>
                  <a:lnTo>
                    <a:pt x="1232" y="1535"/>
                  </a:lnTo>
                  <a:lnTo>
                    <a:pt x="1726" y="1944"/>
                  </a:lnTo>
                  <a:lnTo>
                    <a:pt x="2251" y="2302"/>
                  </a:lnTo>
                  <a:lnTo>
                    <a:pt x="2806" y="2603"/>
                  </a:lnTo>
                  <a:lnTo>
                    <a:pt x="3385" y="2850"/>
                  </a:lnTo>
                  <a:lnTo>
                    <a:pt x="3985" y="3039"/>
                  </a:lnTo>
                  <a:lnTo>
                    <a:pt x="4599" y="3171"/>
                  </a:lnTo>
                  <a:lnTo>
                    <a:pt x="5224" y="3245"/>
                  </a:lnTo>
                  <a:lnTo>
                    <a:pt x="5856" y="3256"/>
                  </a:lnTo>
                  <a:lnTo>
                    <a:pt x="6489" y="3207"/>
                  </a:lnTo>
                  <a:lnTo>
                    <a:pt x="7120" y="3096"/>
                  </a:lnTo>
                  <a:lnTo>
                    <a:pt x="7744" y="2919"/>
                  </a:lnTo>
                  <a:lnTo>
                    <a:pt x="8356" y="2679"/>
                  </a:lnTo>
                  <a:lnTo>
                    <a:pt x="8953" y="237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9240" y="847080"/>
              <a:ext cx="4320" cy="3240"/>
            </a:xfrm>
            <a:custGeom>
              <a:avLst/>
              <a:gdLst/>
              <a:ahLst/>
              <a:rect l="l" t="t" r="r" b="b"/>
              <a:pathLst>
                <a:path w="52" h="44">
                  <a:moveTo>
                    <a:pt x="12" y="44"/>
                  </a:moveTo>
                  <a:lnTo>
                    <a:pt x="0" y="24"/>
                  </a:lnTo>
                  <a:lnTo>
                    <a:pt x="41" y="0"/>
                  </a:lnTo>
                  <a:lnTo>
                    <a:pt x="52" y="20"/>
                  </a:lnTo>
                  <a:lnTo>
                    <a:pt x="12" y="44"/>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 name=""/>
            <p:cNvSpPr/>
            <p:nvPr/>
          </p:nvSpPr>
          <p:spPr>
            <a:xfrm>
              <a:off x="824760" y="1028880"/>
              <a:ext cx="3600" cy="3240"/>
            </a:xfrm>
            <a:custGeom>
              <a:avLst/>
              <a:gdLst/>
              <a:ahLst/>
              <a:rect l="l" t="t" r="r" b="b"/>
              <a:pathLst>
                <a:path w="44" h="52">
                  <a:moveTo>
                    <a:pt x="0" y="12"/>
                  </a:moveTo>
                  <a:lnTo>
                    <a:pt x="20" y="0"/>
                  </a:lnTo>
                  <a:lnTo>
                    <a:pt x="44" y="40"/>
                  </a:lnTo>
                  <a:lnTo>
                    <a:pt x="23"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a:off x="826560" y="396000"/>
              <a:ext cx="178560" cy="635400"/>
            </a:xfrm>
            <a:custGeom>
              <a:avLst/>
              <a:gdLst/>
              <a:ahLst/>
              <a:rect l="l" t="t" r="r" b="b"/>
              <a:pathLst>
                <a:path w="2309" h="8312">
                  <a:moveTo>
                    <a:pt x="0" y="8312"/>
                  </a:moveTo>
                  <a:lnTo>
                    <a:pt x="447" y="8013"/>
                  </a:lnTo>
                  <a:lnTo>
                    <a:pt x="847" y="7665"/>
                  </a:lnTo>
                  <a:lnTo>
                    <a:pt x="1201" y="7273"/>
                  </a:lnTo>
                  <a:lnTo>
                    <a:pt x="1508" y="6840"/>
                  </a:lnTo>
                  <a:lnTo>
                    <a:pt x="1765" y="6370"/>
                  </a:lnTo>
                  <a:lnTo>
                    <a:pt x="1974" y="5868"/>
                  </a:lnTo>
                  <a:lnTo>
                    <a:pt x="2134" y="5339"/>
                  </a:lnTo>
                  <a:lnTo>
                    <a:pt x="2243" y="4786"/>
                  </a:lnTo>
                  <a:lnTo>
                    <a:pt x="2302" y="4212"/>
                  </a:lnTo>
                  <a:lnTo>
                    <a:pt x="2309" y="3623"/>
                  </a:lnTo>
                  <a:lnTo>
                    <a:pt x="2266" y="3024"/>
                  </a:lnTo>
                  <a:lnTo>
                    <a:pt x="2168" y="2417"/>
                  </a:lnTo>
                  <a:lnTo>
                    <a:pt x="2018" y="1806"/>
                  </a:lnTo>
                  <a:lnTo>
                    <a:pt x="1814" y="1197"/>
                  </a:lnTo>
                  <a:lnTo>
                    <a:pt x="1555" y="593"/>
                  </a:lnTo>
                  <a:lnTo>
                    <a:pt x="1242"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3" name=""/>
            <p:cNvSpPr/>
            <p:nvPr/>
          </p:nvSpPr>
          <p:spPr>
            <a:xfrm>
              <a:off x="919800" y="393120"/>
              <a:ext cx="4320" cy="252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4" name=""/>
            <p:cNvSpPr/>
            <p:nvPr/>
          </p:nvSpPr>
          <p:spPr>
            <a:xfrm>
              <a:off x="315360" y="118800"/>
              <a:ext cx="606960" cy="277200"/>
            </a:xfrm>
            <a:custGeom>
              <a:avLst/>
              <a:gdLst/>
              <a:ahLst/>
              <a:rect l="l" t="t" r="r" b="b"/>
              <a:pathLst>
                <a:path w="7837" h="3616">
                  <a:moveTo>
                    <a:pt x="7837" y="3616"/>
                  </a:moveTo>
                  <a:lnTo>
                    <a:pt x="7475" y="3050"/>
                  </a:lnTo>
                  <a:lnTo>
                    <a:pt x="7080" y="2526"/>
                  </a:lnTo>
                  <a:lnTo>
                    <a:pt x="6651" y="2047"/>
                  </a:lnTo>
                  <a:lnTo>
                    <a:pt x="6196" y="1614"/>
                  </a:lnTo>
                  <a:lnTo>
                    <a:pt x="5717" y="1230"/>
                  </a:lnTo>
                  <a:lnTo>
                    <a:pt x="5217" y="895"/>
                  </a:lnTo>
                  <a:lnTo>
                    <a:pt x="4703" y="610"/>
                  </a:lnTo>
                  <a:lnTo>
                    <a:pt x="4175" y="377"/>
                  </a:lnTo>
                  <a:lnTo>
                    <a:pt x="3640" y="198"/>
                  </a:lnTo>
                  <a:lnTo>
                    <a:pt x="3101" y="74"/>
                  </a:lnTo>
                  <a:lnTo>
                    <a:pt x="2562" y="8"/>
                  </a:lnTo>
                  <a:lnTo>
                    <a:pt x="2026" y="0"/>
                  </a:lnTo>
                  <a:lnTo>
                    <a:pt x="1497" y="51"/>
                  </a:lnTo>
                  <a:lnTo>
                    <a:pt x="981" y="164"/>
                  </a:lnTo>
                  <a:lnTo>
                    <a:pt x="480" y="340"/>
                  </a:lnTo>
                  <a:lnTo>
                    <a:pt x="0" y="581"/>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920520" y="395280"/>
              <a:ext cx="4320" cy="252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6"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7" name=""/>
            <p:cNvSpPr/>
            <p:nvPr/>
          </p:nvSpPr>
          <p:spPr>
            <a:xfrm>
              <a:off x="135720" y="163800"/>
              <a:ext cx="179280" cy="635400"/>
            </a:xfrm>
            <a:custGeom>
              <a:avLst/>
              <a:gdLst/>
              <a:ahLst/>
              <a:rect l="l" t="t" r="r" b="b"/>
              <a:pathLst>
                <a:path w="2311" h="8312">
                  <a:moveTo>
                    <a:pt x="2311" y="0"/>
                  </a:moveTo>
                  <a:lnTo>
                    <a:pt x="1863" y="299"/>
                  </a:lnTo>
                  <a:lnTo>
                    <a:pt x="1462" y="647"/>
                  </a:lnTo>
                  <a:lnTo>
                    <a:pt x="1109" y="1039"/>
                  </a:lnTo>
                  <a:lnTo>
                    <a:pt x="803" y="1471"/>
                  </a:lnTo>
                  <a:lnTo>
                    <a:pt x="545" y="1941"/>
                  </a:lnTo>
                  <a:lnTo>
                    <a:pt x="335" y="2443"/>
                  </a:lnTo>
                  <a:lnTo>
                    <a:pt x="176" y="2973"/>
                  </a:lnTo>
                  <a:lnTo>
                    <a:pt x="66" y="3526"/>
                  </a:lnTo>
                  <a:lnTo>
                    <a:pt x="8" y="4099"/>
                  </a:lnTo>
                  <a:lnTo>
                    <a:pt x="0" y="4688"/>
                  </a:lnTo>
                  <a:lnTo>
                    <a:pt x="45" y="5288"/>
                  </a:lnTo>
                  <a:lnTo>
                    <a:pt x="142" y="5895"/>
                  </a:lnTo>
                  <a:lnTo>
                    <a:pt x="292" y="6505"/>
                  </a:lnTo>
                  <a:lnTo>
                    <a:pt x="496" y="7114"/>
                  </a:lnTo>
                  <a:lnTo>
                    <a:pt x="754" y="7718"/>
                  </a:lnTo>
                  <a:lnTo>
                    <a:pt x="1069" y="8312"/>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49" name=""/>
            <p:cNvSpPr/>
            <p:nvPr/>
          </p:nvSpPr>
          <p:spPr>
            <a:xfrm>
              <a:off x="217440" y="798480"/>
              <a:ext cx="3240" cy="324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 name=""/>
            <p:cNvSpPr/>
            <p:nvPr/>
          </p:nvSpPr>
          <p:spPr>
            <a:xfrm>
              <a:off x="218520" y="799200"/>
              <a:ext cx="608040" cy="277200"/>
            </a:xfrm>
            <a:custGeom>
              <a:avLst/>
              <a:gdLst/>
              <a:ahLst/>
              <a:rect l="l" t="t" r="r" b="b"/>
              <a:pathLst>
                <a:path w="7837" h="3616">
                  <a:moveTo>
                    <a:pt x="0" y="0"/>
                  </a:moveTo>
                  <a:lnTo>
                    <a:pt x="360" y="566"/>
                  </a:lnTo>
                  <a:lnTo>
                    <a:pt x="756" y="1090"/>
                  </a:lnTo>
                  <a:lnTo>
                    <a:pt x="1184" y="1568"/>
                  </a:lnTo>
                  <a:lnTo>
                    <a:pt x="1639" y="2001"/>
                  </a:lnTo>
                  <a:lnTo>
                    <a:pt x="2119" y="2386"/>
                  </a:lnTo>
                  <a:lnTo>
                    <a:pt x="2618" y="2721"/>
                  </a:lnTo>
                  <a:lnTo>
                    <a:pt x="3133" y="3006"/>
                  </a:lnTo>
                  <a:lnTo>
                    <a:pt x="3660" y="3238"/>
                  </a:lnTo>
                  <a:lnTo>
                    <a:pt x="4196" y="3417"/>
                  </a:lnTo>
                  <a:lnTo>
                    <a:pt x="4735" y="3541"/>
                  </a:lnTo>
                  <a:lnTo>
                    <a:pt x="5274" y="3607"/>
                  </a:lnTo>
                  <a:lnTo>
                    <a:pt x="5810" y="3616"/>
                  </a:lnTo>
                  <a:lnTo>
                    <a:pt x="6338" y="3565"/>
                  </a:lnTo>
                  <a:lnTo>
                    <a:pt x="6855" y="3451"/>
                  </a:lnTo>
                  <a:lnTo>
                    <a:pt x="7356" y="3276"/>
                  </a:lnTo>
                  <a:lnTo>
                    <a:pt x="7837" y="3035"/>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16360" y="797400"/>
              <a:ext cx="3600" cy="288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3" name=""/>
            <p:cNvSpPr/>
            <p:nvPr/>
          </p:nvSpPr>
          <p:spPr>
            <a:xfrm>
              <a:off x="767880" y="484200"/>
              <a:ext cx="125640" cy="547200"/>
            </a:xfrm>
            <a:custGeom>
              <a:avLst/>
              <a:gdLst/>
              <a:ahLst/>
              <a:rect l="l" t="t" r="r" b="b"/>
              <a:pathLst>
                <a:path w="1617" h="7154">
                  <a:moveTo>
                    <a:pt x="750" y="7154"/>
                  </a:moveTo>
                  <a:lnTo>
                    <a:pt x="993" y="6974"/>
                  </a:lnTo>
                  <a:lnTo>
                    <a:pt x="1196" y="6740"/>
                  </a:lnTo>
                  <a:lnTo>
                    <a:pt x="1359" y="6458"/>
                  </a:lnTo>
                  <a:lnTo>
                    <a:pt x="1482" y="6132"/>
                  </a:lnTo>
                  <a:lnTo>
                    <a:pt x="1566" y="5764"/>
                  </a:lnTo>
                  <a:lnTo>
                    <a:pt x="1610" y="5357"/>
                  </a:lnTo>
                  <a:lnTo>
                    <a:pt x="1617" y="4917"/>
                  </a:lnTo>
                  <a:lnTo>
                    <a:pt x="1585" y="4446"/>
                  </a:lnTo>
                  <a:lnTo>
                    <a:pt x="1516" y="3947"/>
                  </a:lnTo>
                  <a:lnTo>
                    <a:pt x="1408" y="3425"/>
                  </a:lnTo>
                  <a:lnTo>
                    <a:pt x="1264" y="2883"/>
                  </a:lnTo>
                  <a:lnTo>
                    <a:pt x="1083" y="2325"/>
                  </a:lnTo>
                  <a:lnTo>
                    <a:pt x="865" y="1753"/>
                  </a:lnTo>
                  <a:lnTo>
                    <a:pt x="612" y="1174"/>
                  </a:lnTo>
                  <a:lnTo>
                    <a:pt x="323" y="587"/>
                  </a:lnTo>
                  <a:lnTo>
                    <a:pt x="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5" name=""/>
            <p:cNvSpPr/>
            <p:nvPr/>
          </p:nvSpPr>
          <p:spPr>
            <a:xfrm>
              <a:off x="765360" y="481320"/>
              <a:ext cx="4320" cy="3600"/>
            </a:xfrm>
            <a:custGeom>
              <a:avLst/>
              <a:gdLst/>
              <a:ahLst/>
              <a:rect l="l" t="t" r="r" b="b"/>
              <a:pathLst>
                <a:path w="52" h="44">
                  <a:moveTo>
                    <a:pt x="11" y="44"/>
                  </a:moveTo>
                  <a:lnTo>
                    <a:pt x="0" y="23"/>
                  </a:lnTo>
                  <a:lnTo>
                    <a:pt x="40" y="0"/>
                  </a:lnTo>
                  <a:lnTo>
                    <a:pt x="52" y="20"/>
                  </a:lnTo>
                  <a:lnTo>
                    <a:pt x="11" y="44"/>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6" name=""/>
            <p:cNvSpPr/>
            <p:nvPr/>
          </p:nvSpPr>
          <p:spPr>
            <a:xfrm>
              <a:off x="315360" y="149040"/>
              <a:ext cx="452520" cy="335160"/>
            </a:xfrm>
            <a:custGeom>
              <a:avLst/>
              <a:gdLst/>
              <a:ahLst/>
              <a:rect l="l" t="t" r="r" b="b"/>
              <a:pathLst>
                <a:path w="5845" h="4379">
                  <a:moveTo>
                    <a:pt x="5845" y="4379"/>
                  </a:moveTo>
                  <a:lnTo>
                    <a:pt x="5494" y="3806"/>
                  </a:lnTo>
                  <a:lnTo>
                    <a:pt x="5128" y="3265"/>
                  </a:lnTo>
                  <a:lnTo>
                    <a:pt x="4750" y="2758"/>
                  </a:lnTo>
                  <a:lnTo>
                    <a:pt x="4362" y="2287"/>
                  </a:lnTo>
                  <a:lnTo>
                    <a:pt x="3966" y="1853"/>
                  </a:lnTo>
                  <a:lnTo>
                    <a:pt x="3566" y="1460"/>
                  </a:lnTo>
                  <a:lnTo>
                    <a:pt x="3166" y="1108"/>
                  </a:lnTo>
                  <a:lnTo>
                    <a:pt x="2767" y="801"/>
                  </a:lnTo>
                  <a:lnTo>
                    <a:pt x="2373" y="539"/>
                  </a:lnTo>
                  <a:lnTo>
                    <a:pt x="1988" y="326"/>
                  </a:lnTo>
                  <a:lnTo>
                    <a:pt x="1612" y="165"/>
                  </a:lnTo>
                  <a:lnTo>
                    <a:pt x="1251" y="55"/>
                  </a:lnTo>
                  <a:lnTo>
                    <a:pt x="905" y="0"/>
                  </a:lnTo>
                  <a:lnTo>
                    <a:pt x="580" y="2"/>
                  </a:lnTo>
                  <a:lnTo>
                    <a:pt x="277" y="64"/>
                  </a:lnTo>
                  <a:lnTo>
                    <a:pt x="0" y="186"/>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66440" y="483120"/>
              <a:ext cx="4320" cy="3600"/>
            </a:xfrm>
            <a:custGeom>
              <a:avLst/>
              <a:gdLst/>
              <a:ahLst/>
              <a:rect l="l" t="t" r="r" b="b"/>
              <a:pathLst>
                <a:path w="52" h="44">
                  <a:moveTo>
                    <a:pt x="41" y="0"/>
                  </a:moveTo>
                  <a:lnTo>
                    <a:pt x="52" y="20"/>
                  </a:lnTo>
                  <a:lnTo>
                    <a:pt x="12" y="44"/>
                  </a:lnTo>
                  <a:lnTo>
                    <a:pt x="0" y="24"/>
                  </a:lnTo>
                  <a:lnTo>
                    <a:pt x="41"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8"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59" name=""/>
            <p:cNvSpPr/>
            <p:nvPr/>
          </p:nvSpPr>
          <p:spPr>
            <a:xfrm>
              <a:off x="248040" y="163800"/>
              <a:ext cx="125640" cy="547200"/>
            </a:xfrm>
            <a:custGeom>
              <a:avLst/>
              <a:gdLst/>
              <a:ahLst/>
              <a:rect l="l" t="t" r="r" b="b"/>
              <a:pathLst>
                <a:path w="1618" h="7155">
                  <a:moveTo>
                    <a:pt x="868" y="0"/>
                  </a:moveTo>
                  <a:lnTo>
                    <a:pt x="624" y="180"/>
                  </a:lnTo>
                  <a:lnTo>
                    <a:pt x="421" y="413"/>
                  </a:lnTo>
                  <a:lnTo>
                    <a:pt x="258" y="694"/>
                  </a:lnTo>
                  <a:lnTo>
                    <a:pt x="135" y="1022"/>
                  </a:lnTo>
                  <a:lnTo>
                    <a:pt x="51" y="1390"/>
                  </a:lnTo>
                  <a:lnTo>
                    <a:pt x="6" y="1796"/>
                  </a:lnTo>
                  <a:lnTo>
                    <a:pt x="0" y="2237"/>
                  </a:lnTo>
                  <a:lnTo>
                    <a:pt x="32" y="2708"/>
                  </a:lnTo>
                  <a:lnTo>
                    <a:pt x="102" y="3206"/>
                  </a:lnTo>
                  <a:lnTo>
                    <a:pt x="208" y="3728"/>
                  </a:lnTo>
                  <a:lnTo>
                    <a:pt x="353" y="4271"/>
                  </a:lnTo>
                  <a:lnTo>
                    <a:pt x="534" y="4829"/>
                  </a:lnTo>
                  <a:lnTo>
                    <a:pt x="752" y="5401"/>
                  </a:lnTo>
                  <a:lnTo>
                    <a:pt x="1005" y="5980"/>
                  </a:lnTo>
                  <a:lnTo>
                    <a:pt x="1294" y="6567"/>
                  </a:lnTo>
                  <a:lnTo>
                    <a:pt x="1618" y="7155"/>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1" name=""/>
            <p:cNvSpPr/>
            <p:nvPr/>
          </p:nvSpPr>
          <p:spPr>
            <a:xfrm>
              <a:off x="371880" y="710280"/>
              <a:ext cx="3240" cy="2520"/>
            </a:xfrm>
            <a:custGeom>
              <a:avLst/>
              <a:gdLst/>
              <a:ahLst/>
              <a:rect l="l" t="t" r="r" b="b"/>
              <a:pathLst>
                <a:path w="52" h="44">
                  <a:moveTo>
                    <a:pt x="40" y="0"/>
                  </a:moveTo>
                  <a:lnTo>
                    <a:pt x="52" y="20"/>
                  </a:lnTo>
                  <a:lnTo>
                    <a:pt x="12" y="44"/>
                  </a:lnTo>
                  <a:lnTo>
                    <a:pt x="0" y="23"/>
                  </a:lnTo>
                  <a:lnTo>
                    <a:pt x="4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2" name=""/>
            <p:cNvSpPr/>
            <p:nvPr/>
          </p:nvSpPr>
          <p:spPr>
            <a:xfrm>
              <a:off x="373680" y="711000"/>
              <a:ext cx="452520" cy="334800"/>
            </a:xfrm>
            <a:custGeom>
              <a:avLst/>
              <a:gdLst/>
              <a:ahLst/>
              <a:rect l="l" t="t" r="r" b="b"/>
              <a:pathLst>
                <a:path w="5845" h="4377">
                  <a:moveTo>
                    <a:pt x="0" y="0"/>
                  </a:moveTo>
                  <a:lnTo>
                    <a:pt x="350" y="572"/>
                  </a:lnTo>
                  <a:lnTo>
                    <a:pt x="716" y="1113"/>
                  </a:lnTo>
                  <a:lnTo>
                    <a:pt x="1095" y="1620"/>
                  </a:lnTo>
                  <a:lnTo>
                    <a:pt x="1483" y="2091"/>
                  </a:lnTo>
                  <a:lnTo>
                    <a:pt x="1879" y="2524"/>
                  </a:lnTo>
                  <a:lnTo>
                    <a:pt x="2278" y="2919"/>
                  </a:lnTo>
                  <a:lnTo>
                    <a:pt x="2678" y="3270"/>
                  </a:lnTo>
                  <a:lnTo>
                    <a:pt x="3077" y="3577"/>
                  </a:lnTo>
                  <a:lnTo>
                    <a:pt x="3471" y="3838"/>
                  </a:lnTo>
                  <a:lnTo>
                    <a:pt x="3857" y="4051"/>
                  </a:lnTo>
                  <a:lnTo>
                    <a:pt x="4232" y="4214"/>
                  </a:lnTo>
                  <a:lnTo>
                    <a:pt x="4594" y="4323"/>
                  </a:lnTo>
                  <a:lnTo>
                    <a:pt x="4938" y="4377"/>
                  </a:lnTo>
                  <a:lnTo>
                    <a:pt x="5264" y="4375"/>
                  </a:lnTo>
                  <a:lnTo>
                    <a:pt x="5567" y="4314"/>
                  </a:lnTo>
                  <a:lnTo>
                    <a:pt x="5845" y="4192"/>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70800" y="708480"/>
              <a:ext cx="3600" cy="3240"/>
            </a:xfrm>
            <a:custGeom>
              <a:avLst/>
              <a:gdLst/>
              <a:ahLst/>
              <a:rect l="l" t="t" r="r" b="b"/>
              <a:pathLst>
                <a:path w="52" h="43">
                  <a:moveTo>
                    <a:pt x="12" y="43"/>
                  </a:moveTo>
                  <a:lnTo>
                    <a:pt x="0" y="23"/>
                  </a:lnTo>
                  <a:lnTo>
                    <a:pt x="41" y="0"/>
                  </a:lnTo>
                  <a:lnTo>
                    <a:pt x="52" y="20"/>
                  </a:lnTo>
                  <a:lnTo>
                    <a:pt x="12" y="43"/>
                  </a:lnTo>
                  <a:close/>
                </a:path>
              </a:pathLst>
            </a:custGeom>
            <a:solidFill>
              <a:srgbClr val="a9d1e5"/>
            </a:solidFill>
            <a:ln w="0">
              <a:solidFill>
                <a:srgbClr val="a9d1e5"/>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flipH="1" flipV="1">
              <a:off x="315720" y="165600"/>
              <a:ext cx="508680" cy="864000"/>
            </a:xfrm>
            <a:prstGeom prst="line">
              <a:avLst/>
            </a:prstGeom>
            <a:ln w="6480">
              <a:solidFill>
                <a:srgbClr val="d4e8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34640" y="703800"/>
              <a:ext cx="492840" cy="164160"/>
            </a:xfrm>
            <a:custGeom>
              <a:avLst/>
              <a:gdLst/>
              <a:ahLst/>
              <a:rect l="l" t="t" r="r" b="b"/>
              <a:pathLst>
                <a:path w="6360" h="2154">
                  <a:moveTo>
                    <a:pt x="0" y="1959"/>
                  </a:moveTo>
                  <a:lnTo>
                    <a:pt x="159" y="2053"/>
                  </a:lnTo>
                  <a:lnTo>
                    <a:pt x="357" y="2116"/>
                  </a:lnTo>
                  <a:lnTo>
                    <a:pt x="594" y="2150"/>
                  </a:lnTo>
                  <a:lnTo>
                    <a:pt x="869" y="2154"/>
                  </a:lnTo>
                  <a:lnTo>
                    <a:pt x="1178" y="2128"/>
                  </a:lnTo>
                  <a:lnTo>
                    <a:pt x="1520" y="2073"/>
                  </a:lnTo>
                  <a:lnTo>
                    <a:pt x="1894" y="1989"/>
                  </a:lnTo>
                  <a:lnTo>
                    <a:pt x="2297" y="1876"/>
                  </a:lnTo>
                  <a:lnTo>
                    <a:pt x="2727" y="1736"/>
                  </a:lnTo>
                  <a:lnTo>
                    <a:pt x="3183" y="1567"/>
                  </a:lnTo>
                  <a:lnTo>
                    <a:pt x="3664" y="1372"/>
                  </a:lnTo>
                  <a:lnTo>
                    <a:pt x="4165" y="1149"/>
                  </a:lnTo>
                  <a:lnTo>
                    <a:pt x="4689" y="900"/>
                  </a:lnTo>
                  <a:lnTo>
                    <a:pt x="5230" y="626"/>
                  </a:lnTo>
                  <a:lnTo>
                    <a:pt x="5787" y="325"/>
                  </a:lnTo>
                  <a:lnTo>
                    <a:pt x="636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33920" y="851760"/>
              <a:ext cx="1800" cy="2520"/>
            </a:xfrm>
            <a:custGeom>
              <a:avLst/>
              <a:gdLst/>
              <a:ahLst/>
              <a:rect l="l" t="t" r="r" b="b"/>
              <a:pathLst>
                <a:path w="30" h="36">
                  <a:moveTo>
                    <a:pt x="0" y="36"/>
                  </a:moveTo>
                  <a:lnTo>
                    <a:pt x="30" y="0"/>
                  </a:lnTo>
                  <a:lnTo>
                    <a:pt x="0" y="36"/>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8" name=""/>
            <p:cNvSpPr/>
            <p:nvPr/>
          </p:nvSpPr>
          <p:spPr>
            <a:xfrm>
              <a:off x="626760" y="702000"/>
              <a:ext cx="1800" cy="252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9" name=""/>
            <p:cNvSpPr/>
            <p:nvPr/>
          </p:nvSpPr>
          <p:spPr>
            <a:xfrm>
              <a:off x="627840" y="349200"/>
              <a:ext cx="384840" cy="354600"/>
            </a:xfrm>
            <a:custGeom>
              <a:avLst/>
              <a:gdLst/>
              <a:ahLst/>
              <a:rect l="l" t="t" r="r" b="b"/>
              <a:pathLst>
                <a:path w="4970" h="4633">
                  <a:moveTo>
                    <a:pt x="0" y="4633"/>
                  </a:moveTo>
                  <a:lnTo>
                    <a:pt x="563" y="4294"/>
                  </a:lnTo>
                  <a:lnTo>
                    <a:pt x="1096" y="3957"/>
                  </a:lnTo>
                  <a:lnTo>
                    <a:pt x="1597" y="3622"/>
                  </a:lnTo>
                  <a:lnTo>
                    <a:pt x="2064" y="3290"/>
                  </a:lnTo>
                  <a:lnTo>
                    <a:pt x="2500" y="2964"/>
                  </a:lnTo>
                  <a:lnTo>
                    <a:pt x="2902" y="2643"/>
                  </a:lnTo>
                  <a:lnTo>
                    <a:pt x="3270" y="2328"/>
                  </a:lnTo>
                  <a:lnTo>
                    <a:pt x="3603" y="2022"/>
                  </a:lnTo>
                  <a:lnTo>
                    <a:pt x="3901" y="1725"/>
                  </a:lnTo>
                  <a:lnTo>
                    <a:pt x="4164" y="1438"/>
                  </a:lnTo>
                  <a:lnTo>
                    <a:pt x="4391" y="1163"/>
                  </a:lnTo>
                  <a:lnTo>
                    <a:pt x="4582" y="900"/>
                  </a:lnTo>
                  <a:lnTo>
                    <a:pt x="4736" y="652"/>
                  </a:lnTo>
                  <a:lnTo>
                    <a:pt x="4852" y="418"/>
                  </a:lnTo>
                  <a:lnTo>
                    <a:pt x="4929" y="200"/>
                  </a:lnTo>
                  <a:lnTo>
                    <a:pt x="497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26760" y="702000"/>
              <a:ext cx="1800" cy="252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1" name=""/>
            <p:cNvSpPr/>
            <p:nvPr/>
          </p:nvSpPr>
          <p:spPr>
            <a:xfrm>
              <a:off x="1010880" y="348120"/>
              <a:ext cx="3600" cy="720"/>
            </a:xfrm>
            <a:custGeom>
              <a:avLst/>
              <a:gdLst/>
              <a:ahLst/>
              <a:rect l="l" t="t" r="r" b="b"/>
              <a:pathLst>
                <a:path w="47" h="4">
                  <a:moveTo>
                    <a:pt x="0" y="0"/>
                  </a:moveTo>
                  <a:lnTo>
                    <a:pt x="47" y="4"/>
                  </a:lnTo>
                  <a:lnTo>
                    <a:pt x="0" y="0"/>
                  </a:lnTo>
                  <a:close/>
                </a:path>
              </a:pathLst>
            </a:custGeom>
            <a:solidFill>
              <a:srgbClr val="a9d1e5"/>
            </a:solidFill>
            <a:ln w="0">
              <a:solidFill>
                <a:srgbClr val="a9d1e5"/>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80800" y="866160"/>
              <a:ext cx="448920" cy="149400"/>
            </a:xfrm>
            <a:custGeom>
              <a:avLst/>
              <a:gdLst/>
              <a:ahLst/>
              <a:rect l="l" t="t" r="r" b="b"/>
              <a:pathLst>
                <a:path w="5804" h="1962">
                  <a:moveTo>
                    <a:pt x="0" y="1819"/>
                  </a:moveTo>
                  <a:lnTo>
                    <a:pt x="78" y="1892"/>
                  </a:lnTo>
                  <a:lnTo>
                    <a:pt x="209" y="1940"/>
                  </a:lnTo>
                  <a:lnTo>
                    <a:pt x="392" y="1962"/>
                  </a:lnTo>
                  <a:lnTo>
                    <a:pt x="622" y="1960"/>
                  </a:lnTo>
                  <a:lnTo>
                    <a:pt x="895" y="1933"/>
                  </a:lnTo>
                  <a:lnTo>
                    <a:pt x="1208" y="1881"/>
                  </a:lnTo>
                  <a:lnTo>
                    <a:pt x="1559" y="1803"/>
                  </a:lnTo>
                  <a:lnTo>
                    <a:pt x="1941" y="1701"/>
                  </a:lnTo>
                  <a:lnTo>
                    <a:pt x="2355" y="1573"/>
                  </a:lnTo>
                  <a:lnTo>
                    <a:pt x="2795" y="1422"/>
                  </a:lnTo>
                  <a:lnTo>
                    <a:pt x="3258" y="1246"/>
                  </a:lnTo>
                  <a:lnTo>
                    <a:pt x="3741" y="1045"/>
                  </a:lnTo>
                  <a:lnTo>
                    <a:pt x="4241" y="820"/>
                  </a:lnTo>
                  <a:lnTo>
                    <a:pt x="4753" y="571"/>
                  </a:lnTo>
                  <a:lnTo>
                    <a:pt x="5275" y="298"/>
                  </a:lnTo>
                  <a:lnTo>
                    <a:pt x="5804"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79000" y="1004040"/>
              <a:ext cx="2520" cy="1440"/>
            </a:xfrm>
            <a:custGeom>
              <a:avLst/>
              <a:gdLst/>
              <a:ahLst/>
              <a:rect l="l" t="t" r="r" b="b"/>
              <a:pathLst>
                <a:path w="40" h="24">
                  <a:moveTo>
                    <a:pt x="0" y="24"/>
                  </a:moveTo>
                  <a:lnTo>
                    <a:pt x="40"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729000" y="864360"/>
              <a:ext cx="1800" cy="2880"/>
            </a:xfrm>
            <a:custGeom>
              <a:avLst/>
              <a:gdLst/>
              <a:ahLst/>
              <a:rect l="l" t="t" r="r" b="b"/>
              <a:pathLst>
                <a:path w="23" h="40">
                  <a:moveTo>
                    <a:pt x="0" y="0"/>
                  </a:moveTo>
                  <a:lnTo>
                    <a:pt x="23"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5" name=""/>
            <p:cNvSpPr/>
            <p:nvPr/>
          </p:nvSpPr>
          <p:spPr>
            <a:xfrm>
              <a:off x="730080" y="547560"/>
              <a:ext cx="345600" cy="318600"/>
            </a:xfrm>
            <a:custGeom>
              <a:avLst/>
              <a:gdLst/>
              <a:ahLst/>
              <a:rect l="l" t="t" r="r" b="b"/>
              <a:pathLst>
                <a:path w="4456" h="4164">
                  <a:moveTo>
                    <a:pt x="0" y="4164"/>
                  </a:moveTo>
                  <a:lnTo>
                    <a:pt x="517" y="3849"/>
                  </a:lnTo>
                  <a:lnTo>
                    <a:pt x="1012" y="3529"/>
                  </a:lnTo>
                  <a:lnTo>
                    <a:pt x="1481" y="3205"/>
                  </a:lnTo>
                  <a:lnTo>
                    <a:pt x="1922" y="2881"/>
                  </a:lnTo>
                  <a:lnTo>
                    <a:pt x="2333" y="2559"/>
                  </a:lnTo>
                  <a:lnTo>
                    <a:pt x="2714" y="2241"/>
                  </a:lnTo>
                  <a:lnTo>
                    <a:pt x="3062" y="1933"/>
                  </a:lnTo>
                  <a:lnTo>
                    <a:pt x="3376" y="1635"/>
                  </a:lnTo>
                  <a:lnTo>
                    <a:pt x="3652" y="1351"/>
                  </a:lnTo>
                  <a:lnTo>
                    <a:pt x="3892" y="1083"/>
                  </a:lnTo>
                  <a:lnTo>
                    <a:pt x="4092" y="837"/>
                  </a:lnTo>
                  <a:lnTo>
                    <a:pt x="4249" y="612"/>
                  </a:lnTo>
                  <a:lnTo>
                    <a:pt x="4364" y="413"/>
                  </a:lnTo>
                  <a:lnTo>
                    <a:pt x="4433" y="242"/>
                  </a:lnTo>
                  <a:lnTo>
                    <a:pt x="4456" y="104"/>
                  </a:lnTo>
                  <a:lnTo>
                    <a:pt x="4431"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29000" y="864360"/>
              <a:ext cx="1800" cy="2880"/>
            </a:xfrm>
            <a:custGeom>
              <a:avLst/>
              <a:gdLst/>
              <a:ahLst/>
              <a:rect l="l" t="t" r="r" b="b"/>
              <a:pathLst>
                <a:path w="23" h="40">
                  <a:moveTo>
                    <a:pt x="23" y="40"/>
                  </a:moveTo>
                  <a:lnTo>
                    <a:pt x="0" y="0"/>
                  </a:lnTo>
                  <a:lnTo>
                    <a:pt x="23" y="4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7" name=""/>
            <p:cNvSpPr/>
            <p:nvPr/>
          </p:nvSpPr>
          <p:spPr>
            <a:xfrm>
              <a:off x="1072080" y="546840"/>
              <a:ext cx="2880" cy="1440"/>
            </a:xfrm>
            <a:custGeom>
              <a:avLst/>
              <a:gdLst/>
              <a:ahLst/>
              <a:rect l="l" t="t" r="r" b="b"/>
              <a:pathLst>
                <a:path w="41" h="24">
                  <a:moveTo>
                    <a:pt x="0" y="24"/>
                  </a:moveTo>
                  <a:lnTo>
                    <a:pt x="41"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65160" y="502560"/>
              <a:ext cx="450000" cy="149400"/>
            </a:xfrm>
            <a:custGeom>
              <a:avLst/>
              <a:gdLst/>
              <a:ahLst/>
              <a:rect l="l" t="t" r="r" b="b"/>
              <a:pathLst>
                <a:path w="5803" h="1963">
                  <a:moveTo>
                    <a:pt x="0" y="1818"/>
                  </a:moveTo>
                  <a:lnTo>
                    <a:pt x="78" y="1891"/>
                  </a:lnTo>
                  <a:lnTo>
                    <a:pt x="210" y="1939"/>
                  </a:lnTo>
                  <a:lnTo>
                    <a:pt x="393" y="1963"/>
                  </a:lnTo>
                  <a:lnTo>
                    <a:pt x="622" y="1960"/>
                  </a:lnTo>
                  <a:lnTo>
                    <a:pt x="895" y="1933"/>
                  </a:lnTo>
                  <a:lnTo>
                    <a:pt x="1208" y="1880"/>
                  </a:lnTo>
                  <a:lnTo>
                    <a:pt x="1559" y="1803"/>
                  </a:lnTo>
                  <a:lnTo>
                    <a:pt x="1941" y="1701"/>
                  </a:lnTo>
                  <a:lnTo>
                    <a:pt x="2355" y="1573"/>
                  </a:lnTo>
                  <a:lnTo>
                    <a:pt x="2795" y="1423"/>
                  </a:lnTo>
                  <a:lnTo>
                    <a:pt x="3259" y="1246"/>
                  </a:lnTo>
                  <a:lnTo>
                    <a:pt x="3741" y="1045"/>
                  </a:lnTo>
                  <a:lnTo>
                    <a:pt x="4240" y="820"/>
                  </a:lnTo>
                  <a:lnTo>
                    <a:pt x="4752" y="571"/>
                  </a:lnTo>
                  <a:lnTo>
                    <a:pt x="5274" y="298"/>
                  </a:lnTo>
                  <a:lnTo>
                    <a:pt x="5803"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4080" y="64044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514440" y="500760"/>
              <a:ext cx="1440" cy="360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81" name=""/>
            <p:cNvSpPr/>
            <p:nvPr/>
          </p:nvSpPr>
          <p:spPr>
            <a:xfrm>
              <a:off x="515160" y="183960"/>
              <a:ext cx="344880" cy="318600"/>
            </a:xfrm>
            <a:custGeom>
              <a:avLst/>
              <a:gdLst/>
              <a:ahLst/>
              <a:rect l="l" t="t" r="r" b="b"/>
              <a:pathLst>
                <a:path w="4457" h="4164">
                  <a:moveTo>
                    <a:pt x="0" y="4164"/>
                  </a:moveTo>
                  <a:lnTo>
                    <a:pt x="517" y="3849"/>
                  </a:lnTo>
                  <a:lnTo>
                    <a:pt x="1012" y="3529"/>
                  </a:lnTo>
                  <a:lnTo>
                    <a:pt x="1481" y="3205"/>
                  </a:lnTo>
                  <a:lnTo>
                    <a:pt x="1922" y="2881"/>
                  </a:lnTo>
                  <a:lnTo>
                    <a:pt x="2334" y="2559"/>
                  </a:lnTo>
                  <a:lnTo>
                    <a:pt x="2715" y="2241"/>
                  </a:lnTo>
                  <a:lnTo>
                    <a:pt x="3063" y="1933"/>
                  </a:lnTo>
                  <a:lnTo>
                    <a:pt x="3376" y="1635"/>
                  </a:lnTo>
                  <a:lnTo>
                    <a:pt x="3654" y="1351"/>
                  </a:lnTo>
                  <a:lnTo>
                    <a:pt x="3893" y="1083"/>
                  </a:lnTo>
                  <a:lnTo>
                    <a:pt x="4092" y="837"/>
                  </a:lnTo>
                  <a:lnTo>
                    <a:pt x="4250" y="612"/>
                  </a:lnTo>
                  <a:lnTo>
                    <a:pt x="4365" y="414"/>
                  </a:lnTo>
                  <a:lnTo>
                    <a:pt x="4434" y="242"/>
                  </a:lnTo>
                  <a:lnTo>
                    <a:pt x="4457" y="104"/>
                  </a:lnTo>
                  <a:lnTo>
                    <a:pt x="4432"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14440" y="500760"/>
              <a:ext cx="1440" cy="360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83" name=""/>
            <p:cNvSpPr/>
            <p:nvPr/>
          </p:nvSpPr>
          <p:spPr>
            <a:xfrm>
              <a:off x="857520" y="18288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105840" y="304200"/>
              <a:ext cx="291600" cy="94680"/>
            </a:xfrm>
            <a:custGeom>
              <a:avLst/>
              <a:gdLst/>
              <a:ahLst/>
              <a:rect l="l" t="t" r="r" b="b"/>
              <a:pathLst>
                <a:path w="3769" h="1227">
                  <a:moveTo>
                    <a:pt x="0" y="1199"/>
                  </a:moveTo>
                  <a:lnTo>
                    <a:pt x="54" y="1218"/>
                  </a:lnTo>
                  <a:lnTo>
                    <a:pt x="143" y="1227"/>
                  </a:lnTo>
                  <a:lnTo>
                    <a:pt x="263" y="1227"/>
                  </a:lnTo>
                  <a:lnTo>
                    <a:pt x="413" y="1216"/>
                  </a:lnTo>
                  <a:lnTo>
                    <a:pt x="590" y="1193"/>
                  </a:lnTo>
                  <a:lnTo>
                    <a:pt x="793" y="1158"/>
                  </a:lnTo>
                  <a:lnTo>
                    <a:pt x="1021" y="1110"/>
                  </a:lnTo>
                  <a:lnTo>
                    <a:pt x="1268" y="1050"/>
                  </a:lnTo>
                  <a:lnTo>
                    <a:pt x="1535" y="974"/>
                  </a:lnTo>
                  <a:lnTo>
                    <a:pt x="1819" y="885"/>
                  </a:lnTo>
                  <a:lnTo>
                    <a:pt x="2119" y="780"/>
                  </a:lnTo>
                  <a:lnTo>
                    <a:pt x="2430" y="659"/>
                  </a:lnTo>
                  <a:lnTo>
                    <a:pt x="2755" y="520"/>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04760" y="395280"/>
              <a:ext cx="1800" cy="252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6" name=""/>
            <p:cNvSpPr/>
            <p:nvPr/>
          </p:nvSpPr>
          <p:spPr>
            <a:xfrm>
              <a:off x="397080" y="303120"/>
              <a:ext cx="1800" cy="2520"/>
            </a:xfrm>
            <a:custGeom>
              <a:avLst/>
              <a:gdLst/>
              <a:ahLst/>
              <a:rect l="l" t="t" r="r" b="b"/>
              <a:pathLst>
                <a:path w="24" h="41">
                  <a:moveTo>
                    <a:pt x="0" y="0"/>
                  </a:moveTo>
                  <a:lnTo>
                    <a:pt x="24" y="41"/>
                  </a:lnTo>
                  <a:lnTo>
                    <a:pt x="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7" name=""/>
            <p:cNvSpPr/>
            <p:nvPr/>
          </p:nvSpPr>
          <p:spPr>
            <a:xfrm>
              <a:off x="397800" y="98640"/>
              <a:ext cx="223920" cy="205560"/>
            </a:xfrm>
            <a:custGeom>
              <a:avLst/>
              <a:gdLst/>
              <a:ahLst/>
              <a:rect l="l" t="t" r="r" b="b"/>
              <a:pathLst>
                <a:path w="2896" h="2696">
                  <a:moveTo>
                    <a:pt x="0" y="2696"/>
                  </a:moveTo>
                  <a:lnTo>
                    <a:pt x="334" y="2490"/>
                  </a:lnTo>
                  <a:lnTo>
                    <a:pt x="648" y="2281"/>
                  </a:lnTo>
                  <a:lnTo>
                    <a:pt x="943" y="2069"/>
                  </a:lnTo>
                  <a:lnTo>
                    <a:pt x="1216" y="1858"/>
                  </a:lnTo>
                  <a:lnTo>
                    <a:pt x="1469" y="1646"/>
                  </a:lnTo>
                  <a:lnTo>
                    <a:pt x="1702" y="1439"/>
                  </a:lnTo>
                  <a:lnTo>
                    <a:pt x="1915" y="1237"/>
                  </a:lnTo>
                  <a:lnTo>
                    <a:pt x="2106" y="1042"/>
                  </a:lnTo>
                  <a:lnTo>
                    <a:pt x="2277" y="857"/>
                  </a:lnTo>
                  <a:lnTo>
                    <a:pt x="2427" y="684"/>
                  </a:lnTo>
                  <a:lnTo>
                    <a:pt x="2557" y="525"/>
                  </a:lnTo>
                  <a:lnTo>
                    <a:pt x="2666" y="380"/>
                  </a:lnTo>
                  <a:lnTo>
                    <a:pt x="2754" y="254"/>
                  </a:lnTo>
                  <a:lnTo>
                    <a:pt x="2822" y="146"/>
                  </a:lnTo>
                  <a:lnTo>
                    <a:pt x="2869" y="61"/>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97080" y="303120"/>
              <a:ext cx="1800" cy="2520"/>
            </a:xfrm>
            <a:custGeom>
              <a:avLst/>
              <a:gdLst/>
              <a:ahLst/>
              <a:rect l="l" t="t" r="r" b="b"/>
              <a:pathLst>
                <a:path w="24" h="41">
                  <a:moveTo>
                    <a:pt x="24" y="41"/>
                  </a:moveTo>
                  <a:lnTo>
                    <a:pt x="0" y="0"/>
                  </a:lnTo>
                  <a:lnTo>
                    <a:pt x="24" y="41"/>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9" name=""/>
            <p:cNvSpPr/>
            <p:nvPr/>
          </p:nvSpPr>
          <p:spPr>
            <a:xfrm>
              <a:off x="620280" y="97560"/>
              <a:ext cx="3600" cy="720"/>
            </a:xfrm>
            <a:custGeom>
              <a:avLst/>
              <a:gdLst/>
              <a:ahLst/>
              <a:rect l="l" t="t" r="r" b="b"/>
              <a:pathLst>
                <a:path w="44" h="13">
                  <a:moveTo>
                    <a:pt x="0" y="0"/>
                  </a:moveTo>
                  <a:lnTo>
                    <a:pt x="44" y="13"/>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pic>
        <p:nvPicPr>
          <p:cNvPr id="990" name="" descr=""/>
          <p:cNvPicPr/>
          <p:nvPr/>
        </p:nvPicPr>
        <p:blipFill>
          <a:blip r:embed="rId1"/>
          <a:stretch/>
        </p:blipFill>
        <p:spPr>
          <a:xfrm>
            <a:off x="76320" y="6261120"/>
            <a:ext cx="533160" cy="520560"/>
          </a:xfrm>
          <a:prstGeom prst="rect">
            <a:avLst/>
          </a:prstGeom>
          <a:ln w="0">
            <a:noFill/>
          </a:ln>
        </p:spPr>
      </p:pic>
      <p:sp>
        <p:nvSpPr>
          <p:cNvPr id="991" name=""/>
          <p:cNvSpPr/>
          <p:nvPr/>
        </p:nvSpPr>
        <p:spPr>
          <a:xfrm>
            <a:off x="1143000" y="609480"/>
            <a:ext cx="4265640" cy="457200"/>
          </a:xfrm>
          <a:prstGeom prst="rect">
            <a:avLst/>
          </a:prstGeom>
          <a:gradFill rotWithShape="0">
            <a:gsLst>
              <a:gs pos="0">
                <a:srgbClr val="007575"/>
              </a:gs>
              <a:gs pos="50000">
                <a:srgbClr val="00ffff"/>
              </a:gs>
              <a:gs pos="100000">
                <a:srgbClr val="007575"/>
              </a:gs>
            </a:gsLst>
            <a:lin ang="5400000"/>
          </a:gra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QM Activity System</a:t>
            </a:r>
            <a:endParaRPr b="0" lang="en-US" sz="2400" spc="-1" strike="noStrike">
              <a:solidFill>
                <a:srgbClr val="000000"/>
              </a:solidFill>
              <a:latin typeface="Times New Roman"/>
            </a:endParaRPr>
          </a:p>
        </p:txBody>
      </p:sp>
      <p:grpSp>
        <p:nvGrpSpPr>
          <p:cNvPr id="992" name=""/>
          <p:cNvGrpSpPr/>
          <p:nvPr/>
        </p:nvGrpSpPr>
        <p:grpSpPr>
          <a:xfrm>
            <a:off x="762120" y="1219320"/>
            <a:ext cx="4646160" cy="4266720"/>
            <a:chOff x="762120" y="1219320"/>
            <a:chExt cx="4646160" cy="4266720"/>
          </a:xfrm>
        </p:grpSpPr>
        <p:sp>
          <p:nvSpPr>
            <p:cNvPr id="993" name=""/>
            <p:cNvSpPr/>
            <p:nvPr/>
          </p:nvSpPr>
          <p:spPr>
            <a:xfrm>
              <a:off x="762120" y="1219320"/>
              <a:ext cx="4646160" cy="4266720"/>
            </a:xfrm>
            <a:prstGeom prst="triangle">
              <a:avLst>
                <a:gd name="adj" fmla="val 50000"/>
              </a:avLst>
            </a:prstGeom>
            <a:gradFill rotWithShape="0">
              <a:gsLst>
                <a:gs pos="0">
                  <a:srgbClr val="75752f"/>
                </a:gs>
                <a:gs pos="50000">
                  <a:srgbClr val="ffff66"/>
                </a:gs>
                <a:gs pos="100000">
                  <a:srgbClr val="75752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172600" y="3005280"/>
              <a:ext cx="19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508760" y="4196160"/>
              <a:ext cx="315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981080" y="1981080"/>
            <a:ext cx="22082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imes New Roman"/>
              </a:rPr>
              <a:t>( Hoshin Kan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imes New Roman"/>
              </a:rPr>
              <a:t>Policy Management</a:t>
            </a:r>
            <a:endParaRPr b="0" lang="en-US" sz="1800" spc="-1" strike="noStrike">
              <a:solidFill>
                <a:srgbClr val="000000"/>
              </a:solidFill>
              <a:latin typeface="Times New Roman"/>
            </a:endParaRPr>
          </a:p>
        </p:txBody>
      </p:sp>
      <p:sp>
        <p:nvSpPr>
          <p:cNvPr id="997" name=""/>
          <p:cNvSpPr/>
          <p:nvPr/>
        </p:nvSpPr>
        <p:spPr>
          <a:xfrm>
            <a:off x="1905120" y="3352680"/>
            <a:ext cx="2436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Daily (Activity) Management</a:t>
            </a:r>
            <a:endParaRPr b="0" lang="en-US" sz="2000" spc="-1" strike="noStrike">
              <a:solidFill>
                <a:srgbClr val="000000"/>
              </a:solidFill>
              <a:latin typeface="Times New Roman"/>
            </a:endParaRPr>
          </a:p>
        </p:txBody>
      </p:sp>
      <p:sp>
        <p:nvSpPr>
          <p:cNvPr id="998" name=""/>
          <p:cNvSpPr/>
          <p:nvPr/>
        </p:nvSpPr>
        <p:spPr>
          <a:xfrm>
            <a:off x="1676520" y="4343400"/>
            <a:ext cx="25128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Improvement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Workplace Vitality</a:t>
            </a:r>
            <a:endParaRPr b="0" lang="en-US" sz="2000" spc="-1" strike="noStrike">
              <a:solidFill>
                <a:srgbClr val="000000"/>
              </a:solidFill>
              <a:latin typeface="Times New Roman"/>
            </a:endParaRPr>
          </a:p>
        </p:txBody>
      </p:sp>
      <p:sp>
        <p:nvSpPr>
          <p:cNvPr id="999" name=""/>
          <p:cNvSpPr/>
          <p:nvPr/>
        </p:nvSpPr>
        <p:spPr>
          <a:xfrm>
            <a:off x="2152800" y="6324480"/>
            <a:ext cx="18396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5789520" y="914400"/>
            <a:ext cx="411336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amp; Strategy</a:t>
            </a:r>
            <a:endParaRPr b="0" lang="en-US" sz="2400" spc="-1" strike="noStrike">
              <a:solidFill>
                <a:srgbClr val="000000"/>
              </a:solidFill>
              <a:latin typeface="Times New Roman"/>
            </a:endParaRPr>
          </a:p>
          <a:p>
            <a:pPr>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 </a:t>
            </a:r>
            <a:r>
              <a:rPr b="1" lang="en-US" sz="2000" spc="-1" strike="noStrike">
                <a:solidFill>
                  <a:srgbClr val="0066ff"/>
                </a:solidFill>
                <a:latin typeface="Times New Roman"/>
              </a:rPr>
              <a:t>Long Term Visions &amp; compan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   </a:t>
            </a:r>
            <a:r>
              <a:rPr b="1" lang="en-US" sz="2000" spc="-1" strike="noStrike">
                <a:solidFill>
                  <a:srgbClr val="0066ff"/>
                </a:solidFill>
                <a:latin typeface="Times New Roman"/>
              </a:rPr>
              <a:t>policies ( 5 years &amp; 1 year policy )</a:t>
            </a:r>
            <a:endParaRPr b="0" lang="en-US" sz="2000" spc="-1" strike="noStrike">
              <a:solidFill>
                <a:srgbClr val="000000"/>
              </a:solidFill>
              <a:latin typeface="Times New Roman"/>
            </a:endParaRPr>
          </a:p>
        </p:txBody>
      </p:sp>
      <p:sp>
        <p:nvSpPr>
          <p:cNvPr id="1001" name=""/>
          <p:cNvSpPr/>
          <p:nvPr/>
        </p:nvSpPr>
        <p:spPr>
          <a:xfrm flipV="1">
            <a:off x="3230640" y="1676520"/>
            <a:ext cx="2330280" cy="33120"/>
          </a:xfrm>
          <a:prstGeom prst="line">
            <a:avLst/>
          </a:prstGeom>
          <a:ln w="76320">
            <a:solidFill>
              <a:srgbClr val="000000"/>
            </a:solidFill>
            <a:miter/>
            <a:tailEnd len="med" type="triangle" w="me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002" name=""/>
          <p:cNvGrpSpPr/>
          <p:nvPr/>
        </p:nvGrpSpPr>
        <p:grpSpPr>
          <a:xfrm>
            <a:off x="7085160" y="1981080"/>
            <a:ext cx="2069640" cy="1904760"/>
            <a:chOff x="7085160" y="1981080"/>
            <a:chExt cx="2069640" cy="1904760"/>
          </a:xfrm>
        </p:grpSpPr>
        <p:sp>
          <p:nvSpPr>
            <p:cNvPr id="1003" name=""/>
            <p:cNvSpPr/>
            <p:nvPr/>
          </p:nvSpPr>
          <p:spPr>
            <a:xfrm>
              <a:off x="7085160" y="1981080"/>
              <a:ext cx="2055600" cy="1904760"/>
            </a:xfrm>
            <a:prstGeom prst="ellipse">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112960" y="198108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85160" y="2933640"/>
              <a:ext cx="205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161120" y="2361960"/>
              <a:ext cx="968760" cy="2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on</a:t>
              </a:r>
              <a:endParaRPr b="0" lang="en-US" sz="2000" spc="-1" strike="noStrike">
                <a:solidFill>
                  <a:srgbClr val="000000"/>
                </a:solidFill>
                <a:latin typeface="Times New Roman"/>
              </a:endParaRPr>
            </a:p>
          </p:txBody>
        </p:sp>
        <p:sp>
          <p:nvSpPr>
            <p:cNvPr id="1007" name=""/>
            <p:cNvSpPr/>
            <p:nvPr/>
          </p:nvSpPr>
          <p:spPr>
            <a:xfrm>
              <a:off x="8379000" y="2361960"/>
              <a:ext cx="775800" cy="185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a:t>
              </a:r>
              <a:endParaRPr b="0" lang="en-US" sz="2000" spc="-1" strike="noStrike">
                <a:solidFill>
                  <a:srgbClr val="000000"/>
                </a:solidFill>
                <a:latin typeface="Times New Roman"/>
              </a:endParaRPr>
            </a:p>
          </p:txBody>
        </p:sp>
        <p:sp>
          <p:nvSpPr>
            <p:cNvPr id="1008" name=""/>
            <p:cNvSpPr/>
            <p:nvPr/>
          </p:nvSpPr>
          <p:spPr>
            <a:xfrm>
              <a:off x="8482320" y="3180960"/>
              <a:ext cx="658080" cy="24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a:t>
              </a:r>
              <a:endParaRPr b="0" lang="en-US" sz="2000" spc="-1" strike="noStrike">
                <a:solidFill>
                  <a:srgbClr val="000000"/>
                </a:solidFill>
                <a:latin typeface="Times New Roman"/>
              </a:endParaRPr>
            </a:p>
          </p:txBody>
        </p:sp>
        <p:sp>
          <p:nvSpPr>
            <p:cNvPr id="1009" name=""/>
            <p:cNvSpPr/>
            <p:nvPr/>
          </p:nvSpPr>
          <p:spPr>
            <a:xfrm>
              <a:off x="7161120" y="3200040"/>
              <a:ext cx="1084680" cy="17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ck</a:t>
              </a:r>
              <a:endParaRPr b="0" lang="en-US" sz="2000" spc="-1" strike="noStrike">
                <a:solidFill>
                  <a:srgbClr val="000000"/>
                </a:solidFill>
                <a:latin typeface="Times New Roman"/>
              </a:endParaRPr>
            </a:p>
          </p:txBody>
        </p:sp>
        <p:sp>
          <p:nvSpPr>
            <p:cNvPr id="1010" name=""/>
            <p:cNvSpPr/>
            <p:nvPr/>
          </p:nvSpPr>
          <p:spPr>
            <a:xfrm flipV="1">
              <a:off x="7617960" y="259056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998480" y="2514240"/>
              <a:ext cx="45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8683920" y="259056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7998480" y="3276360"/>
              <a:ext cx="53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7313760" y="4876920"/>
            <a:ext cx="2588760" cy="1904760"/>
            <a:chOff x="7313760" y="4876920"/>
            <a:chExt cx="2588760" cy="1904760"/>
          </a:xfrm>
        </p:grpSpPr>
        <p:sp>
          <p:nvSpPr>
            <p:cNvPr id="1015" name=""/>
            <p:cNvSpPr/>
            <p:nvPr/>
          </p:nvSpPr>
          <p:spPr>
            <a:xfrm>
              <a:off x="7313760" y="4876920"/>
              <a:ext cx="2055960" cy="1904760"/>
            </a:xfrm>
            <a:prstGeom prst="ellipse">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8341920" y="487692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313760" y="5829120"/>
              <a:ext cx="205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389720" y="5257800"/>
              <a:ext cx="969120" cy="25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on</a:t>
              </a:r>
              <a:endParaRPr b="0" lang="en-US" sz="2000" spc="-1" strike="noStrike">
                <a:solidFill>
                  <a:srgbClr val="000000"/>
                </a:solidFill>
                <a:latin typeface="Times New Roman"/>
              </a:endParaRPr>
            </a:p>
          </p:txBody>
        </p:sp>
        <p:sp>
          <p:nvSpPr>
            <p:cNvPr id="1019" name=""/>
            <p:cNvSpPr/>
            <p:nvPr/>
          </p:nvSpPr>
          <p:spPr>
            <a:xfrm>
              <a:off x="8607960" y="5257800"/>
              <a:ext cx="1294560" cy="228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ndard</a:t>
              </a:r>
              <a:endParaRPr b="0" lang="en-US" sz="2000" spc="-1" strike="noStrike">
                <a:solidFill>
                  <a:srgbClr val="000000"/>
                </a:solidFill>
                <a:latin typeface="Times New Roman"/>
              </a:endParaRPr>
            </a:p>
          </p:txBody>
        </p:sp>
        <p:sp>
          <p:nvSpPr>
            <p:cNvPr id="1020" name=""/>
            <p:cNvSpPr/>
            <p:nvPr/>
          </p:nvSpPr>
          <p:spPr>
            <a:xfrm>
              <a:off x="8711280" y="6076800"/>
              <a:ext cx="658080" cy="247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a:t>
              </a:r>
              <a:endParaRPr b="0" lang="en-US" sz="2000" spc="-1" strike="noStrike">
                <a:solidFill>
                  <a:srgbClr val="000000"/>
                </a:solidFill>
                <a:latin typeface="Times New Roman"/>
              </a:endParaRPr>
            </a:p>
          </p:txBody>
        </p:sp>
        <p:sp>
          <p:nvSpPr>
            <p:cNvPr id="1021" name=""/>
            <p:cNvSpPr/>
            <p:nvPr/>
          </p:nvSpPr>
          <p:spPr>
            <a:xfrm>
              <a:off x="7389720" y="6095880"/>
              <a:ext cx="1084680" cy="17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ck</a:t>
              </a:r>
              <a:endParaRPr b="0" lang="en-US" sz="2000" spc="-1" strike="noStrike">
                <a:solidFill>
                  <a:srgbClr val="000000"/>
                </a:solidFill>
                <a:latin typeface="Times New Roman"/>
              </a:endParaRPr>
            </a:p>
          </p:txBody>
        </p:sp>
        <p:sp>
          <p:nvSpPr>
            <p:cNvPr id="1022" name=""/>
            <p:cNvSpPr/>
            <p:nvPr/>
          </p:nvSpPr>
          <p:spPr>
            <a:xfrm flipV="1">
              <a:off x="7846560" y="5486400"/>
              <a:ext cx="0" cy="53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8227440" y="5410080"/>
              <a:ext cx="45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912520" y="5486400"/>
              <a:ext cx="0" cy="53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8227440" y="6172200"/>
              <a:ext cx="53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6475320" y="3809880"/>
            <a:ext cx="350388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cess</a:t>
            </a:r>
            <a:endParaRPr b="0" lang="en-US" sz="2400" spc="-1" strike="noStrike">
              <a:solidFill>
                <a:srgbClr val="000000"/>
              </a:solidFill>
              <a:latin typeface="Times New Roman"/>
            </a:endParaRPr>
          </a:p>
          <a:p>
            <a:pPr>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 </a:t>
            </a:r>
            <a:r>
              <a:rPr b="1" lang="en-US" sz="2000" spc="-1" strike="noStrike">
                <a:solidFill>
                  <a:srgbClr val="0066ff"/>
                </a:solidFill>
                <a:latin typeface="Times New Roman"/>
              </a:rPr>
              <a:t>Activity plan, table of du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   </a:t>
            </a:r>
            <a:r>
              <a:rPr b="1" lang="en-US" sz="2000" spc="-1" strike="noStrike">
                <a:solidFill>
                  <a:srgbClr val="0066ff"/>
                </a:solidFill>
                <a:latin typeface="Times New Roman"/>
              </a:rPr>
              <a:t>project improvement</a:t>
            </a:r>
            <a:endParaRPr b="0" lang="en-US" sz="2000" spc="-1" strike="noStrike">
              <a:solidFill>
                <a:srgbClr val="000000"/>
              </a:solidFill>
              <a:latin typeface="Times New Roman"/>
            </a:endParaRPr>
          </a:p>
        </p:txBody>
      </p:sp>
      <p:sp>
        <p:nvSpPr>
          <p:cNvPr id="1027" name=""/>
          <p:cNvSpPr/>
          <p:nvPr/>
        </p:nvSpPr>
        <p:spPr>
          <a:xfrm>
            <a:off x="3998880" y="3300480"/>
            <a:ext cx="2400480" cy="738000"/>
          </a:xfrm>
          <a:custGeom>
            <a:avLst/>
            <a:gdLst/>
            <a:ahLst/>
            <a:rect l="l" t="t" r="r" b="b"/>
            <a:pathLst>
              <a:path w="1344" h="480">
                <a:moveTo>
                  <a:pt x="0" y="0"/>
                </a:moveTo>
                <a:lnTo>
                  <a:pt x="864" y="0"/>
                </a:lnTo>
                <a:lnTo>
                  <a:pt x="864" y="480"/>
                </a:lnTo>
                <a:lnTo>
                  <a:pt x="1344" y="480"/>
                </a:lnTo>
              </a:path>
            </a:pathLst>
          </a:custGeom>
          <a:noFill/>
          <a:ln w="76320">
            <a:solidFill>
              <a:srgbClr val="00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28" name=""/>
          <p:cNvSpPr/>
          <p:nvPr/>
        </p:nvSpPr>
        <p:spPr>
          <a:xfrm>
            <a:off x="837720" y="6247440"/>
            <a:ext cx="5212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QCC, Creative Suggestion System</a:t>
            </a:r>
            <a:endParaRPr b="0" lang="en-US" sz="2400" spc="-1" strike="noStrike">
              <a:solidFill>
                <a:srgbClr val="000000"/>
              </a:solidFill>
              <a:latin typeface="Times New Roman"/>
            </a:endParaRPr>
          </a:p>
        </p:txBody>
      </p:sp>
      <p:sp>
        <p:nvSpPr>
          <p:cNvPr id="1029" name=""/>
          <p:cNvSpPr/>
          <p:nvPr/>
        </p:nvSpPr>
        <p:spPr>
          <a:xfrm>
            <a:off x="3022560" y="4890960"/>
            <a:ext cx="23760" cy="12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EFCB095-6D0D-410C-86BE-A30BB4721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0" y="0"/>
            <a:ext cx="685800" cy="6858000"/>
          </a:xfrm>
          <a:prstGeom prst="rect">
            <a:avLst/>
          </a:prstGeom>
          <a:gradFill rotWithShape="0">
            <a:gsLst>
              <a:gs pos="0">
                <a:srgbClr val="00336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1" name="" descr=""/>
          <p:cNvPicPr/>
          <p:nvPr/>
        </p:nvPicPr>
        <p:blipFill>
          <a:blip r:embed="rId1"/>
          <a:stretch/>
        </p:blipFill>
        <p:spPr>
          <a:xfrm>
            <a:off x="76320" y="6261120"/>
            <a:ext cx="533160" cy="520560"/>
          </a:xfrm>
          <a:prstGeom prst="rect">
            <a:avLst/>
          </a:prstGeom>
          <a:ln w="0">
            <a:noFill/>
          </a:ln>
        </p:spPr>
      </p:pic>
      <p:sp>
        <p:nvSpPr>
          <p:cNvPr id="1032" name=""/>
          <p:cNvSpPr/>
          <p:nvPr/>
        </p:nvSpPr>
        <p:spPr>
          <a:xfrm>
            <a:off x="304920" y="0"/>
            <a:ext cx="0" cy="617220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963720" y="463680"/>
            <a:ext cx="506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POLICY MANAGEMENT  </a:t>
            </a:r>
            <a:endParaRPr b="0" lang="en-US" sz="2400" spc="-1" strike="noStrike">
              <a:solidFill>
                <a:srgbClr val="000000"/>
              </a:solidFill>
              <a:latin typeface="Times New Roman"/>
            </a:endParaRPr>
          </a:p>
        </p:txBody>
      </p:sp>
      <p:grpSp>
        <p:nvGrpSpPr>
          <p:cNvPr id="1034" name=""/>
          <p:cNvGrpSpPr/>
          <p:nvPr/>
        </p:nvGrpSpPr>
        <p:grpSpPr>
          <a:xfrm>
            <a:off x="755640" y="971640"/>
            <a:ext cx="3890520" cy="3760560"/>
            <a:chOff x="755640" y="971640"/>
            <a:chExt cx="3890520" cy="3760560"/>
          </a:xfrm>
        </p:grpSpPr>
        <p:sp>
          <p:nvSpPr>
            <p:cNvPr id="1035" name=""/>
            <p:cNvSpPr/>
            <p:nvPr/>
          </p:nvSpPr>
          <p:spPr>
            <a:xfrm>
              <a:off x="804240" y="971640"/>
              <a:ext cx="383724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rporate Plan</a:t>
              </a:r>
              <a:endParaRPr b="0" lang="en-US" sz="2000" spc="-1" strike="noStrike">
                <a:solidFill>
                  <a:srgbClr val="000000"/>
                </a:solidFill>
                <a:latin typeface="Times New Roman"/>
              </a:endParaRPr>
            </a:p>
          </p:txBody>
        </p:sp>
        <p:sp>
          <p:nvSpPr>
            <p:cNvPr id="1036" name=""/>
            <p:cNvSpPr/>
            <p:nvPr/>
          </p:nvSpPr>
          <p:spPr>
            <a:xfrm>
              <a:off x="767880" y="2315160"/>
              <a:ext cx="383724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sion Action Plan</a:t>
              </a:r>
              <a:endParaRPr b="0" lang="en-US" sz="2000" spc="-1" strike="noStrike">
                <a:solidFill>
                  <a:srgbClr val="000000"/>
                </a:solidFill>
                <a:latin typeface="Times New Roman"/>
              </a:endParaRPr>
            </a:p>
          </p:txBody>
        </p:sp>
        <p:sp>
          <p:nvSpPr>
            <p:cNvPr id="1037" name=""/>
            <p:cNvSpPr/>
            <p:nvPr/>
          </p:nvSpPr>
          <p:spPr>
            <a:xfrm>
              <a:off x="767880" y="3007800"/>
              <a:ext cx="383724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artment Action Plan</a:t>
              </a:r>
              <a:endParaRPr b="0" lang="en-US" sz="2000" spc="-1" strike="noStrike">
                <a:solidFill>
                  <a:srgbClr val="000000"/>
                </a:solidFill>
                <a:latin typeface="Times New Roman"/>
              </a:endParaRPr>
            </a:p>
          </p:txBody>
        </p:sp>
        <p:sp>
          <p:nvSpPr>
            <p:cNvPr id="1038" name=""/>
            <p:cNvSpPr/>
            <p:nvPr/>
          </p:nvSpPr>
          <p:spPr>
            <a:xfrm>
              <a:off x="755640" y="3623400"/>
              <a:ext cx="383688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Action Plan</a:t>
              </a:r>
              <a:endParaRPr b="0" lang="en-US" sz="2000" spc="-1" strike="noStrike">
                <a:solidFill>
                  <a:srgbClr val="000000"/>
                </a:solidFill>
                <a:latin typeface="Times New Roman"/>
              </a:endParaRPr>
            </a:p>
          </p:txBody>
        </p:sp>
        <p:sp>
          <p:nvSpPr>
            <p:cNvPr id="1039" name=""/>
            <p:cNvSpPr/>
            <p:nvPr/>
          </p:nvSpPr>
          <p:spPr>
            <a:xfrm>
              <a:off x="755640" y="4333320"/>
              <a:ext cx="383688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 Action Plan</a:t>
              </a:r>
              <a:endParaRPr b="0" lang="en-US" sz="2000" spc="-1" strike="noStrike">
                <a:solidFill>
                  <a:srgbClr val="000000"/>
                </a:solidFill>
                <a:latin typeface="Times New Roman"/>
              </a:endParaRPr>
            </a:p>
          </p:txBody>
        </p:sp>
        <p:sp>
          <p:nvSpPr>
            <p:cNvPr id="1040" name=""/>
            <p:cNvSpPr/>
            <p:nvPr/>
          </p:nvSpPr>
          <p:spPr>
            <a:xfrm>
              <a:off x="809280" y="1614600"/>
              <a:ext cx="3836880" cy="39888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sion Long Term Plan</a:t>
              </a:r>
              <a:endParaRPr b="0" lang="en-US" sz="2000" spc="-1" strike="noStrike">
                <a:solidFill>
                  <a:srgbClr val="000000"/>
                </a:solidFill>
                <a:latin typeface="Times New Roman"/>
              </a:endParaRPr>
            </a:p>
          </p:txBody>
        </p:sp>
        <p:sp>
          <p:nvSpPr>
            <p:cNvPr id="1041" name=""/>
            <p:cNvSpPr/>
            <p:nvPr/>
          </p:nvSpPr>
          <p:spPr>
            <a:xfrm>
              <a:off x="2332800" y="1299600"/>
              <a:ext cx="693360" cy="34488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2324880" y="2002320"/>
              <a:ext cx="693360" cy="34488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3" name=""/>
            <p:cNvSpPr/>
            <p:nvPr/>
          </p:nvSpPr>
          <p:spPr>
            <a:xfrm>
              <a:off x="2316960" y="2684880"/>
              <a:ext cx="693360" cy="34452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329560" y="3355200"/>
              <a:ext cx="693360" cy="34452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5" name=""/>
            <p:cNvSpPr/>
            <p:nvPr/>
          </p:nvSpPr>
          <p:spPr>
            <a:xfrm>
              <a:off x="2321640" y="4037760"/>
              <a:ext cx="693360" cy="34452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pic>
        <p:nvPicPr>
          <p:cNvPr id="1046" name="" descr=""/>
          <p:cNvPicPr/>
          <p:nvPr/>
        </p:nvPicPr>
        <p:blipFill>
          <a:blip r:embed="rId2"/>
          <a:stretch/>
        </p:blipFill>
        <p:spPr>
          <a:xfrm>
            <a:off x="1219320" y="5035680"/>
            <a:ext cx="3027240" cy="1211040"/>
          </a:xfrm>
          <a:prstGeom prst="rect">
            <a:avLst/>
          </a:prstGeom>
          <a:ln w="0">
            <a:noFill/>
          </a:ln>
        </p:spPr>
      </p:pic>
      <p:sp>
        <p:nvSpPr>
          <p:cNvPr id="1047" name=""/>
          <p:cNvSpPr/>
          <p:nvPr/>
        </p:nvSpPr>
        <p:spPr>
          <a:xfrm>
            <a:off x="4037040" y="4952880"/>
            <a:ext cx="57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P</a:t>
            </a:r>
            <a:endParaRPr b="0" lang="en-US" sz="3600" spc="-1" strike="noStrike">
              <a:solidFill>
                <a:srgbClr val="000000"/>
              </a:solidFill>
              <a:latin typeface="Times New Roman"/>
            </a:endParaRPr>
          </a:p>
        </p:txBody>
      </p:sp>
      <p:sp>
        <p:nvSpPr>
          <p:cNvPr id="1048" name=""/>
          <p:cNvSpPr/>
          <p:nvPr/>
        </p:nvSpPr>
        <p:spPr>
          <a:xfrm>
            <a:off x="3443400" y="6151680"/>
            <a:ext cx="57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D</a:t>
            </a:r>
            <a:endParaRPr b="0" lang="en-US" sz="3600" spc="-1" strike="noStrike">
              <a:solidFill>
                <a:srgbClr val="000000"/>
              </a:solidFill>
              <a:latin typeface="Times New Roman"/>
            </a:endParaRPr>
          </a:p>
        </p:txBody>
      </p:sp>
      <p:sp>
        <p:nvSpPr>
          <p:cNvPr id="1049" name=""/>
          <p:cNvSpPr/>
          <p:nvPr/>
        </p:nvSpPr>
        <p:spPr>
          <a:xfrm>
            <a:off x="1219320" y="4768920"/>
            <a:ext cx="58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A</a:t>
            </a:r>
            <a:endParaRPr b="0" lang="en-US" sz="3600" spc="-1" strike="noStrike">
              <a:solidFill>
                <a:srgbClr val="000000"/>
              </a:solidFill>
              <a:latin typeface="Times New Roman"/>
            </a:endParaRPr>
          </a:p>
        </p:txBody>
      </p:sp>
      <p:sp>
        <p:nvSpPr>
          <p:cNvPr id="1050" name=""/>
          <p:cNvSpPr/>
          <p:nvPr/>
        </p:nvSpPr>
        <p:spPr>
          <a:xfrm>
            <a:off x="1349280" y="6012000"/>
            <a:ext cx="57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a:t>
            </a:r>
            <a:endParaRPr b="0" lang="en-US" sz="3600" spc="-1" strike="noStrike">
              <a:solidFill>
                <a:srgbClr val="000000"/>
              </a:solidFill>
              <a:latin typeface="Times New Roman"/>
            </a:endParaRPr>
          </a:p>
        </p:txBody>
      </p:sp>
      <p:sp>
        <p:nvSpPr>
          <p:cNvPr id="1051" name=""/>
          <p:cNvSpPr/>
          <p:nvPr/>
        </p:nvSpPr>
        <p:spPr>
          <a:xfrm>
            <a:off x="685800" y="453960"/>
            <a:ext cx="9217080" cy="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2" name=""/>
          <p:cNvGrpSpPr/>
          <p:nvPr/>
        </p:nvGrpSpPr>
        <p:grpSpPr>
          <a:xfrm>
            <a:off x="8732880" y="0"/>
            <a:ext cx="1014480" cy="1001880"/>
            <a:chOff x="8732880" y="0"/>
            <a:chExt cx="1014480" cy="1001880"/>
          </a:xfrm>
        </p:grpSpPr>
        <p:sp>
          <p:nvSpPr>
            <p:cNvPr id="1053" name=""/>
            <p:cNvSpPr/>
            <p:nvPr/>
          </p:nvSpPr>
          <p:spPr>
            <a:xfrm>
              <a:off x="8739360" y="4320"/>
              <a:ext cx="1004040" cy="990720"/>
            </a:xfrm>
            <a:custGeom>
              <a:avLst/>
              <a:gdLst/>
              <a:ahLst/>
              <a:rect l="l" t="t" r="r" b="b"/>
              <a:pathLst>
                <a:path w="12952" h="12953">
                  <a:moveTo>
                    <a:pt x="2850" y="11843"/>
                  </a:moveTo>
                  <a:lnTo>
                    <a:pt x="3417" y="12185"/>
                  </a:lnTo>
                  <a:lnTo>
                    <a:pt x="4004" y="12463"/>
                  </a:lnTo>
                  <a:lnTo>
                    <a:pt x="4608" y="12679"/>
                  </a:lnTo>
                  <a:lnTo>
                    <a:pt x="5223" y="12831"/>
                  </a:lnTo>
                  <a:lnTo>
                    <a:pt x="5845" y="12923"/>
                  </a:lnTo>
                  <a:lnTo>
                    <a:pt x="6469" y="12953"/>
                  </a:lnTo>
                  <a:lnTo>
                    <a:pt x="7090" y="12924"/>
                  </a:lnTo>
                  <a:lnTo>
                    <a:pt x="7705" y="12834"/>
                  </a:lnTo>
                  <a:lnTo>
                    <a:pt x="8309" y="12688"/>
                  </a:lnTo>
                  <a:lnTo>
                    <a:pt x="8897" y="12484"/>
                  </a:lnTo>
                  <a:lnTo>
                    <a:pt x="9465" y="12223"/>
                  </a:lnTo>
                  <a:lnTo>
                    <a:pt x="10008" y="11907"/>
                  </a:lnTo>
                  <a:lnTo>
                    <a:pt x="10521" y="11536"/>
                  </a:lnTo>
                  <a:lnTo>
                    <a:pt x="11001" y="11111"/>
                  </a:lnTo>
                  <a:lnTo>
                    <a:pt x="11442" y="10634"/>
                  </a:lnTo>
                  <a:lnTo>
                    <a:pt x="11841" y="10104"/>
                  </a:lnTo>
                  <a:lnTo>
                    <a:pt x="12183" y="9537"/>
                  </a:lnTo>
                  <a:lnTo>
                    <a:pt x="12463" y="8949"/>
                  </a:lnTo>
                  <a:lnTo>
                    <a:pt x="12677" y="8345"/>
                  </a:lnTo>
                  <a:lnTo>
                    <a:pt x="12830" y="7731"/>
                  </a:lnTo>
                  <a:lnTo>
                    <a:pt x="12922" y="7109"/>
                  </a:lnTo>
                  <a:lnTo>
                    <a:pt x="12952" y="6485"/>
                  </a:lnTo>
                  <a:lnTo>
                    <a:pt x="12922" y="5863"/>
                  </a:lnTo>
                  <a:lnTo>
                    <a:pt x="12834" y="5247"/>
                  </a:lnTo>
                  <a:lnTo>
                    <a:pt x="12687" y="4643"/>
                  </a:lnTo>
                  <a:lnTo>
                    <a:pt x="12483" y="4056"/>
                  </a:lnTo>
                  <a:lnTo>
                    <a:pt x="12221" y="3488"/>
                  </a:lnTo>
                  <a:lnTo>
                    <a:pt x="11906" y="2945"/>
                  </a:lnTo>
                  <a:lnTo>
                    <a:pt x="11535" y="2431"/>
                  </a:lnTo>
                  <a:lnTo>
                    <a:pt x="11109" y="1952"/>
                  </a:lnTo>
                  <a:lnTo>
                    <a:pt x="10632" y="1511"/>
                  </a:lnTo>
                  <a:lnTo>
                    <a:pt x="10103" y="1113"/>
                  </a:lnTo>
                  <a:lnTo>
                    <a:pt x="9535" y="770"/>
                  </a:lnTo>
                  <a:lnTo>
                    <a:pt x="8947" y="490"/>
                  </a:lnTo>
                  <a:lnTo>
                    <a:pt x="8343" y="275"/>
                  </a:lnTo>
                  <a:lnTo>
                    <a:pt x="7729" y="122"/>
                  </a:lnTo>
                  <a:lnTo>
                    <a:pt x="7107" y="31"/>
                  </a:lnTo>
                  <a:lnTo>
                    <a:pt x="6483" y="0"/>
                  </a:lnTo>
                  <a:lnTo>
                    <a:pt x="5862" y="30"/>
                  </a:lnTo>
                  <a:lnTo>
                    <a:pt x="5246" y="119"/>
                  </a:lnTo>
                  <a:lnTo>
                    <a:pt x="4642" y="266"/>
                  </a:lnTo>
                  <a:lnTo>
                    <a:pt x="4054" y="470"/>
                  </a:lnTo>
                  <a:lnTo>
                    <a:pt x="3487" y="730"/>
                  </a:lnTo>
                  <a:lnTo>
                    <a:pt x="2943" y="1047"/>
                  </a:lnTo>
                  <a:lnTo>
                    <a:pt x="2430" y="1418"/>
                  </a:lnTo>
                  <a:lnTo>
                    <a:pt x="1951" y="1842"/>
                  </a:lnTo>
                  <a:lnTo>
                    <a:pt x="1509" y="2321"/>
                  </a:lnTo>
                  <a:lnTo>
                    <a:pt x="1112" y="2851"/>
                  </a:lnTo>
                  <a:lnTo>
                    <a:pt x="768" y="3418"/>
                  </a:lnTo>
                  <a:lnTo>
                    <a:pt x="489" y="4006"/>
                  </a:lnTo>
                  <a:lnTo>
                    <a:pt x="274" y="4609"/>
                  </a:lnTo>
                  <a:lnTo>
                    <a:pt x="121" y="5224"/>
                  </a:lnTo>
                  <a:lnTo>
                    <a:pt x="29" y="5846"/>
                  </a:lnTo>
                  <a:lnTo>
                    <a:pt x="0" y="6470"/>
                  </a:lnTo>
                  <a:lnTo>
                    <a:pt x="29" y="7092"/>
                  </a:lnTo>
                  <a:lnTo>
                    <a:pt x="118" y="7706"/>
                  </a:lnTo>
                  <a:lnTo>
                    <a:pt x="264" y="8310"/>
                  </a:lnTo>
                  <a:lnTo>
                    <a:pt x="469" y="8898"/>
                  </a:lnTo>
                  <a:lnTo>
                    <a:pt x="730" y="9466"/>
                  </a:lnTo>
                  <a:lnTo>
                    <a:pt x="1046" y="10009"/>
                  </a:lnTo>
                  <a:lnTo>
                    <a:pt x="1417" y="10522"/>
                  </a:lnTo>
                  <a:lnTo>
                    <a:pt x="1842" y="11002"/>
                  </a:lnTo>
                  <a:lnTo>
                    <a:pt x="2319" y="11444"/>
                  </a:lnTo>
                  <a:lnTo>
                    <a:pt x="2850" y="11843"/>
                  </a:lnTo>
                  <a:close/>
                </a:path>
              </a:pathLst>
            </a:custGeom>
            <a:solidFill>
              <a:srgbClr val="0c26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8748360" y="7200"/>
              <a:ext cx="991080" cy="977760"/>
            </a:xfrm>
            <a:custGeom>
              <a:avLst/>
              <a:gdLst/>
              <a:ahLst/>
              <a:rect l="l" t="t" r="r" b="b"/>
              <a:pathLst>
                <a:path w="12791" h="12791">
                  <a:moveTo>
                    <a:pt x="2815" y="11694"/>
                  </a:moveTo>
                  <a:lnTo>
                    <a:pt x="3374" y="12032"/>
                  </a:lnTo>
                  <a:lnTo>
                    <a:pt x="3955" y="12307"/>
                  </a:lnTo>
                  <a:lnTo>
                    <a:pt x="4551" y="12520"/>
                  </a:lnTo>
                  <a:lnTo>
                    <a:pt x="5158" y="12671"/>
                  </a:lnTo>
                  <a:lnTo>
                    <a:pt x="5772" y="12761"/>
                  </a:lnTo>
                  <a:lnTo>
                    <a:pt x="6388" y="12791"/>
                  </a:lnTo>
                  <a:lnTo>
                    <a:pt x="7003" y="12762"/>
                  </a:lnTo>
                  <a:lnTo>
                    <a:pt x="7610" y="12674"/>
                  </a:lnTo>
                  <a:lnTo>
                    <a:pt x="8206" y="12529"/>
                  </a:lnTo>
                  <a:lnTo>
                    <a:pt x="8787" y="12327"/>
                  </a:lnTo>
                  <a:lnTo>
                    <a:pt x="9347" y="12070"/>
                  </a:lnTo>
                  <a:lnTo>
                    <a:pt x="9884" y="11757"/>
                  </a:lnTo>
                  <a:lnTo>
                    <a:pt x="10391" y="11391"/>
                  </a:lnTo>
                  <a:lnTo>
                    <a:pt x="10864" y="10972"/>
                  </a:lnTo>
                  <a:lnTo>
                    <a:pt x="11300" y="10500"/>
                  </a:lnTo>
                  <a:lnTo>
                    <a:pt x="11694" y="9977"/>
                  </a:lnTo>
                  <a:lnTo>
                    <a:pt x="12032" y="9417"/>
                  </a:lnTo>
                  <a:lnTo>
                    <a:pt x="12308" y="8836"/>
                  </a:lnTo>
                  <a:lnTo>
                    <a:pt x="12520" y="8240"/>
                  </a:lnTo>
                  <a:lnTo>
                    <a:pt x="12671" y="7633"/>
                  </a:lnTo>
                  <a:lnTo>
                    <a:pt x="12762" y="7019"/>
                  </a:lnTo>
                  <a:lnTo>
                    <a:pt x="12791" y="6403"/>
                  </a:lnTo>
                  <a:lnTo>
                    <a:pt x="12762" y="5788"/>
                  </a:lnTo>
                  <a:lnTo>
                    <a:pt x="12674" y="5181"/>
                  </a:lnTo>
                  <a:lnTo>
                    <a:pt x="12529" y="4585"/>
                  </a:lnTo>
                  <a:lnTo>
                    <a:pt x="12328" y="4004"/>
                  </a:lnTo>
                  <a:lnTo>
                    <a:pt x="12069" y="3444"/>
                  </a:lnTo>
                  <a:lnTo>
                    <a:pt x="11758" y="2907"/>
                  </a:lnTo>
                  <a:lnTo>
                    <a:pt x="11391" y="2400"/>
                  </a:lnTo>
                  <a:lnTo>
                    <a:pt x="10971" y="1927"/>
                  </a:lnTo>
                  <a:lnTo>
                    <a:pt x="10500" y="1491"/>
                  </a:lnTo>
                  <a:lnTo>
                    <a:pt x="9977" y="1098"/>
                  </a:lnTo>
                  <a:lnTo>
                    <a:pt x="9416" y="759"/>
                  </a:lnTo>
                  <a:lnTo>
                    <a:pt x="8835" y="484"/>
                  </a:lnTo>
                  <a:lnTo>
                    <a:pt x="8240" y="271"/>
                  </a:lnTo>
                  <a:lnTo>
                    <a:pt x="7632" y="120"/>
                  </a:lnTo>
                  <a:lnTo>
                    <a:pt x="7019" y="30"/>
                  </a:lnTo>
                  <a:lnTo>
                    <a:pt x="6402" y="0"/>
                  </a:lnTo>
                  <a:lnTo>
                    <a:pt x="5789" y="29"/>
                  </a:lnTo>
                  <a:lnTo>
                    <a:pt x="5180" y="117"/>
                  </a:lnTo>
                  <a:lnTo>
                    <a:pt x="4584" y="261"/>
                  </a:lnTo>
                  <a:lnTo>
                    <a:pt x="4004" y="463"/>
                  </a:lnTo>
                  <a:lnTo>
                    <a:pt x="3443" y="721"/>
                  </a:lnTo>
                  <a:lnTo>
                    <a:pt x="2906" y="1033"/>
                  </a:lnTo>
                  <a:lnTo>
                    <a:pt x="2399" y="1400"/>
                  </a:lnTo>
                  <a:lnTo>
                    <a:pt x="1926" y="1819"/>
                  </a:lnTo>
                  <a:lnTo>
                    <a:pt x="1490" y="2291"/>
                  </a:lnTo>
                  <a:lnTo>
                    <a:pt x="1097" y="2815"/>
                  </a:lnTo>
                  <a:lnTo>
                    <a:pt x="758" y="3374"/>
                  </a:lnTo>
                  <a:lnTo>
                    <a:pt x="483" y="3954"/>
                  </a:lnTo>
                  <a:lnTo>
                    <a:pt x="270" y="4551"/>
                  </a:lnTo>
                  <a:lnTo>
                    <a:pt x="119" y="5158"/>
                  </a:lnTo>
                  <a:lnTo>
                    <a:pt x="30" y="5771"/>
                  </a:lnTo>
                  <a:lnTo>
                    <a:pt x="0" y="6388"/>
                  </a:lnTo>
                  <a:lnTo>
                    <a:pt x="29" y="7002"/>
                  </a:lnTo>
                  <a:lnTo>
                    <a:pt x="117" y="7609"/>
                  </a:lnTo>
                  <a:lnTo>
                    <a:pt x="261" y="8206"/>
                  </a:lnTo>
                  <a:lnTo>
                    <a:pt x="463" y="8786"/>
                  </a:lnTo>
                  <a:lnTo>
                    <a:pt x="721" y="9346"/>
                  </a:lnTo>
                  <a:lnTo>
                    <a:pt x="1033" y="9883"/>
                  </a:lnTo>
                  <a:lnTo>
                    <a:pt x="1400" y="10390"/>
                  </a:lnTo>
                  <a:lnTo>
                    <a:pt x="1819" y="10863"/>
                  </a:lnTo>
                  <a:lnTo>
                    <a:pt x="2291" y="11299"/>
                  </a:lnTo>
                  <a:lnTo>
                    <a:pt x="2815" y="11694"/>
                  </a:lnTo>
                  <a:close/>
                </a:path>
              </a:pathLst>
            </a:custGeom>
            <a:solidFill>
              <a:srgbClr val="0e2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8757720" y="9000"/>
              <a:ext cx="978840" cy="966960"/>
            </a:xfrm>
            <a:custGeom>
              <a:avLst/>
              <a:gdLst/>
              <a:ahLst/>
              <a:rect l="l" t="t" r="r" b="b"/>
              <a:pathLst>
                <a:path w="12632" h="12630">
                  <a:moveTo>
                    <a:pt x="2780" y="11547"/>
                  </a:moveTo>
                  <a:lnTo>
                    <a:pt x="3333" y="11881"/>
                  </a:lnTo>
                  <a:lnTo>
                    <a:pt x="3906" y="12153"/>
                  </a:lnTo>
                  <a:lnTo>
                    <a:pt x="4495" y="12363"/>
                  </a:lnTo>
                  <a:lnTo>
                    <a:pt x="5094" y="12512"/>
                  </a:lnTo>
                  <a:lnTo>
                    <a:pt x="5700" y="12600"/>
                  </a:lnTo>
                  <a:lnTo>
                    <a:pt x="6309" y="12630"/>
                  </a:lnTo>
                  <a:lnTo>
                    <a:pt x="6916" y="12601"/>
                  </a:lnTo>
                  <a:lnTo>
                    <a:pt x="7515" y="12515"/>
                  </a:lnTo>
                  <a:lnTo>
                    <a:pt x="8104" y="12372"/>
                  </a:lnTo>
                  <a:lnTo>
                    <a:pt x="8677" y="12172"/>
                  </a:lnTo>
                  <a:lnTo>
                    <a:pt x="9231" y="11918"/>
                  </a:lnTo>
                  <a:lnTo>
                    <a:pt x="9761" y="11610"/>
                  </a:lnTo>
                  <a:lnTo>
                    <a:pt x="10261" y="11247"/>
                  </a:lnTo>
                  <a:lnTo>
                    <a:pt x="10729" y="10834"/>
                  </a:lnTo>
                  <a:lnTo>
                    <a:pt x="11160" y="10368"/>
                  </a:lnTo>
                  <a:lnTo>
                    <a:pt x="11549" y="9851"/>
                  </a:lnTo>
                  <a:lnTo>
                    <a:pt x="11882" y="9297"/>
                  </a:lnTo>
                  <a:lnTo>
                    <a:pt x="12155" y="8724"/>
                  </a:lnTo>
                  <a:lnTo>
                    <a:pt x="12364" y="8137"/>
                  </a:lnTo>
                  <a:lnTo>
                    <a:pt x="12513" y="7537"/>
                  </a:lnTo>
                  <a:lnTo>
                    <a:pt x="12602" y="6931"/>
                  </a:lnTo>
                  <a:lnTo>
                    <a:pt x="12632" y="6322"/>
                  </a:lnTo>
                  <a:lnTo>
                    <a:pt x="12602" y="5716"/>
                  </a:lnTo>
                  <a:lnTo>
                    <a:pt x="12516" y="5116"/>
                  </a:lnTo>
                  <a:lnTo>
                    <a:pt x="12373" y="4527"/>
                  </a:lnTo>
                  <a:lnTo>
                    <a:pt x="12174" y="3954"/>
                  </a:lnTo>
                  <a:lnTo>
                    <a:pt x="11919" y="3401"/>
                  </a:lnTo>
                  <a:lnTo>
                    <a:pt x="11610" y="2871"/>
                  </a:lnTo>
                  <a:lnTo>
                    <a:pt x="11249" y="2370"/>
                  </a:lnTo>
                  <a:lnTo>
                    <a:pt x="10834" y="1903"/>
                  </a:lnTo>
                  <a:lnTo>
                    <a:pt x="10369" y="1472"/>
                  </a:lnTo>
                  <a:lnTo>
                    <a:pt x="9853" y="1084"/>
                  </a:lnTo>
                  <a:lnTo>
                    <a:pt x="9299" y="749"/>
                  </a:lnTo>
                  <a:lnTo>
                    <a:pt x="8726" y="477"/>
                  </a:lnTo>
                  <a:lnTo>
                    <a:pt x="8138" y="267"/>
                  </a:lnTo>
                  <a:lnTo>
                    <a:pt x="7539" y="118"/>
                  </a:lnTo>
                  <a:lnTo>
                    <a:pt x="6932" y="28"/>
                  </a:lnTo>
                  <a:lnTo>
                    <a:pt x="6323" y="0"/>
                  </a:lnTo>
                  <a:lnTo>
                    <a:pt x="5717" y="28"/>
                  </a:lnTo>
                  <a:lnTo>
                    <a:pt x="5118" y="115"/>
                  </a:lnTo>
                  <a:lnTo>
                    <a:pt x="4529" y="258"/>
                  </a:lnTo>
                  <a:lnTo>
                    <a:pt x="3955" y="457"/>
                  </a:lnTo>
                  <a:lnTo>
                    <a:pt x="3401" y="712"/>
                  </a:lnTo>
                  <a:lnTo>
                    <a:pt x="2872" y="1020"/>
                  </a:lnTo>
                  <a:lnTo>
                    <a:pt x="2371" y="1382"/>
                  </a:lnTo>
                  <a:lnTo>
                    <a:pt x="1903" y="1796"/>
                  </a:lnTo>
                  <a:lnTo>
                    <a:pt x="1472" y="2262"/>
                  </a:lnTo>
                  <a:lnTo>
                    <a:pt x="1084" y="2780"/>
                  </a:lnTo>
                  <a:lnTo>
                    <a:pt x="750" y="3332"/>
                  </a:lnTo>
                  <a:lnTo>
                    <a:pt x="477" y="3905"/>
                  </a:lnTo>
                  <a:lnTo>
                    <a:pt x="268" y="4494"/>
                  </a:lnTo>
                  <a:lnTo>
                    <a:pt x="119" y="5094"/>
                  </a:lnTo>
                  <a:lnTo>
                    <a:pt x="30" y="5700"/>
                  </a:lnTo>
                  <a:lnTo>
                    <a:pt x="0" y="6308"/>
                  </a:lnTo>
                  <a:lnTo>
                    <a:pt x="29" y="6915"/>
                  </a:lnTo>
                  <a:lnTo>
                    <a:pt x="116" y="7515"/>
                  </a:lnTo>
                  <a:lnTo>
                    <a:pt x="259" y="8104"/>
                  </a:lnTo>
                  <a:lnTo>
                    <a:pt x="458" y="8677"/>
                  </a:lnTo>
                  <a:lnTo>
                    <a:pt x="712" y="9230"/>
                  </a:lnTo>
                  <a:lnTo>
                    <a:pt x="1021" y="9760"/>
                  </a:lnTo>
                  <a:lnTo>
                    <a:pt x="1383" y="10261"/>
                  </a:lnTo>
                  <a:lnTo>
                    <a:pt x="1797" y="10727"/>
                  </a:lnTo>
                  <a:lnTo>
                    <a:pt x="2262" y="11158"/>
                  </a:lnTo>
                  <a:lnTo>
                    <a:pt x="2780" y="11547"/>
                  </a:lnTo>
                  <a:close/>
                </a:path>
              </a:pathLst>
            </a:custGeom>
            <a:solidFill>
              <a:srgbClr val="0f2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8767800" y="11520"/>
              <a:ext cx="966240" cy="954000"/>
            </a:xfrm>
            <a:custGeom>
              <a:avLst/>
              <a:gdLst/>
              <a:ahLst/>
              <a:rect l="l" t="t" r="r" b="b"/>
              <a:pathLst>
                <a:path w="12472" h="12470">
                  <a:moveTo>
                    <a:pt x="2744" y="11401"/>
                  </a:moveTo>
                  <a:lnTo>
                    <a:pt x="3290" y="11731"/>
                  </a:lnTo>
                  <a:lnTo>
                    <a:pt x="3856" y="11999"/>
                  </a:lnTo>
                  <a:lnTo>
                    <a:pt x="4437" y="12206"/>
                  </a:lnTo>
                  <a:lnTo>
                    <a:pt x="5029" y="12354"/>
                  </a:lnTo>
                  <a:lnTo>
                    <a:pt x="5627" y="12441"/>
                  </a:lnTo>
                  <a:lnTo>
                    <a:pt x="6228" y="12470"/>
                  </a:lnTo>
                  <a:lnTo>
                    <a:pt x="6828" y="12441"/>
                  </a:lnTo>
                  <a:lnTo>
                    <a:pt x="7420" y="12356"/>
                  </a:lnTo>
                  <a:lnTo>
                    <a:pt x="8000" y="12214"/>
                  </a:lnTo>
                  <a:lnTo>
                    <a:pt x="8567" y="12018"/>
                  </a:lnTo>
                  <a:lnTo>
                    <a:pt x="9113" y="11767"/>
                  </a:lnTo>
                  <a:lnTo>
                    <a:pt x="9636" y="11462"/>
                  </a:lnTo>
                  <a:lnTo>
                    <a:pt x="10131" y="11106"/>
                  </a:lnTo>
                  <a:lnTo>
                    <a:pt x="10592" y="10696"/>
                  </a:lnTo>
                  <a:lnTo>
                    <a:pt x="11017" y="10236"/>
                  </a:lnTo>
                  <a:lnTo>
                    <a:pt x="11401" y="9727"/>
                  </a:lnTo>
                  <a:lnTo>
                    <a:pt x="11731" y="9180"/>
                  </a:lnTo>
                  <a:lnTo>
                    <a:pt x="12000" y="8614"/>
                  </a:lnTo>
                  <a:lnTo>
                    <a:pt x="12207" y="8033"/>
                  </a:lnTo>
                  <a:lnTo>
                    <a:pt x="12355" y="7441"/>
                  </a:lnTo>
                  <a:lnTo>
                    <a:pt x="12442" y="6843"/>
                  </a:lnTo>
                  <a:lnTo>
                    <a:pt x="12472" y="6242"/>
                  </a:lnTo>
                  <a:lnTo>
                    <a:pt x="12443" y="5644"/>
                  </a:lnTo>
                  <a:lnTo>
                    <a:pt x="12357" y="5051"/>
                  </a:lnTo>
                  <a:lnTo>
                    <a:pt x="12215" y="4470"/>
                  </a:lnTo>
                  <a:lnTo>
                    <a:pt x="12019" y="3903"/>
                  </a:lnTo>
                  <a:lnTo>
                    <a:pt x="11768" y="3357"/>
                  </a:lnTo>
                  <a:lnTo>
                    <a:pt x="11464" y="2835"/>
                  </a:lnTo>
                  <a:lnTo>
                    <a:pt x="11107" y="2341"/>
                  </a:lnTo>
                  <a:lnTo>
                    <a:pt x="10697" y="1878"/>
                  </a:lnTo>
                  <a:lnTo>
                    <a:pt x="10237" y="1453"/>
                  </a:lnTo>
                  <a:lnTo>
                    <a:pt x="9728" y="1070"/>
                  </a:lnTo>
                  <a:lnTo>
                    <a:pt x="9181" y="740"/>
                  </a:lnTo>
                  <a:lnTo>
                    <a:pt x="8615" y="471"/>
                  </a:lnTo>
                  <a:lnTo>
                    <a:pt x="8034" y="263"/>
                  </a:lnTo>
                  <a:lnTo>
                    <a:pt x="7442" y="117"/>
                  </a:lnTo>
                  <a:lnTo>
                    <a:pt x="6844" y="28"/>
                  </a:lnTo>
                  <a:lnTo>
                    <a:pt x="6243" y="0"/>
                  </a:lnTo>
                  <a:lnTo>
                    <a:pt x="5644" y="28"/>
                  </a:lnTo>
                  <a:lnTo>
                    <a:pt x="5052" y="113"/>
                  </a:lnTo>
                  <a:lnTo>
                    <a:pt x="4471" y="255"/>
                  </a:lnTo>
                  <a:lnTo>
                    <a:pt x="3904" y="451"/>
                  </a:lnTo>
                  <a:lnTo>
                    <a:pt x="3358" y="703"/>
                  </a:lnTo>
                  <a:lnTo>
                    <a:pt x="2836" y="1007"/>
                  </a:lnTo>
                  <a:lnTo>
                    <a:pt x="2341" y="1365"/>
                  </a:lnTo>
                  <a:lnTo>
                    <a:pt x="1879" y="1774"/>
                  </a:lnTo>
                  <a:lnTo>
                    <a:pt x="1454" y="2234"/>
                  </a:lnTo>
                  <a:lnTo>
                    <a:pt x="1071" y="2745"/>
                  </a:lnTo>
                  <a:lnTo>
                    <a:pt x="740" y="3290"/>
                  </a:lnTo>
                  <a:lnTo>
                    <a:pt x="471" y="3855"/>
                  </a:lnTo>
                  <a:lnTo>
                    <a:pt x="264" y="4437"/>
                  </a:lnTo>
                  <a:lnTo>
                    <a:pt x="117" y="5029"/>
                  </a:lnTo>
                  <a:lnTo>
                    <a:pt x="29" y="5628"/>
                  </a:lnTo>
                  <a:lnTo>
                    <a:pt x="0" y="6228"/>
                  </a:lnTo>
                  <a:lnTo>
                    <a:pt x="29" y="6827"/>
                  </a:lnTo>
                  <a:lnTo>
                    <a:pt x="114" y="7419"/>
                  </a:lnTo>
                  <a:lnTo>
                    <a:pt x="255" y="8000"/>
                  </a:lnTo>
                  <a:lnTo>
                    <a:pt x="452" y="8566"/>
                  </a:lnTo>
                  <a:lnTo>
                    <a:pt x="703" y="9112"/>
                  </a:lnTo>
                  <a:lnTo>
                    <a:pt x="1008" y="9635"/>
                  </a:lnTo>
                  <a:lnTo>
                    <a:pt x="1364" y="10130"/>
                  </a:lnTo>
                  <a:lnTo>
                    <a:pt x="1774" y="10592"/>
                  </a:lnTo>
                  <a:lnTo>
                    <a:pt x="2234" y="11017"/>
                  </a:lnTo>
                  <a:lnTo>
                    <a:pt x="2744" y="11401"/>
                  </a:lnTo>
                  <a:close/>
                </a:path>
              </a:pathLst>
            </a:custGeom>
            <a:solidFill>
              <a:srgbClr val="112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8777160" y="14400"/>
              <a:ext cx="952920" cy="941400"/>
            </a:xfrm>
            <a:custGeom>
              <a:avLst/>
              <a:gdLst/>
              <a:ahLst/>
              <a:rect l="l" t="t" r="r" b="b"/>
              <a:pathLst>
                <a:path w="12310" h="12310">
                  <a:moveTo>
                    <a:pt x="2709" y="11254"/>
                  </a:moveTo>
                  <a:lnTo>
                    <a:pt x="3248" y="11580"/>
                  </a:lnTo>
                  <a:lnTo>
                    <a:pt x="3806" y="11844"/>
                  </a:lnTo>
                  <a:lnTo>
                    <a:pt x="4380" y="12050"/>
                  </a:lnTo>
                  <a:lnTo>
                    <a:pt x="4964" y="12194"/>
                  </a:lnTo>
                  <a:lnTo>
                    <a:pt x="5555" y="12281"/>
                  </a:lnTo>
                  <a:lnTo>
                    <a:pt x="6148" y="12310"/>
                  </a:lnTo>
                  <a:lnTo>
                    <a:pt x="6740" y="12281"/>
                  </a:lnTo>
                  <a:lnTo>
                    <a:pt x="7324" y="12197"/>
                  </a:lnTo>
                  <a:lnTo>
                    <a:pt x="7897" y="12057"/>
                  </a:lnTo>
                  <a:lnTo>
                    <a:pt x="8456" y="11863"/>
                  </a:lnTo>
                  <a:lnTo>
                    <a:pt x="8997" y="11616"/>
                  </a:lnTo>
                  <a:lnTo>
                    <a:pt x="9512" y="11315"/>
                  </a:lnTo>
                  <a:lnTo>
                    <a:pt x="10000" y="10962"/>
                  </a:lnTo>
                  <a:lnTo>
                    <a:pt x="10456" y="10558"/>
                  </a:lnTo>
                  <a:lnTo>
                    <a:pt x="10875" y="10104"/>
                  </a:lnTo>
                  <a:lnTo>
                    <a:pt x="11255" y="9601"/>
                  </a:lnTo>
                  <a:lnTo>
                    <a:pt x="11580" y="9061"/>
                  </a:lnTo>
                  <a:lnTo>
                    <a:pt x="11845" y="8503"/>
                  </a:lnTo>
                  <a:lnTo>
                    <a:pt x="12050" y="7929"/>
                  </a:lnTo>
                  <a:lnTo>
                    <a:pt x="12194" y="7345"/>
                  </a:lnTo>
                  <a:lnTo>
                    <a:pt x="12282" y="6754"/>
                  </a:lnTo>
                  <a:lnTo>
                    <a:pt x="12310" y="6161"/>
                  </a:lnTo>
                  <a:lnTo>
                    <a:pt x="12282" y="5570"/>
                  </a:lnTo>
                  <a:lnTo>
                    <a:pt x="12198" y="4985"/>
                  </a:lnTo>
                  <a:lnTo>
                    <a:pt x="12057" y="4412"/>
                  </a:lnTo>
                  <a:lnTo>
                    <a:pt x="11864" y="3853"/>
                  </a:lnTo>
                  <a:lnTo>
                    <a:pt x="11616" y="3313"/>
                  </a:lnTo>
                  <a:lnTo>
                    <a:pt x="11315" y="2798"/>
                  </a:lnTo>
                  <a:lnTo>
                    <a:pt x="10962" y="2310"/>
                  </a:lnTo>
                  <a:lnTo>
                    <a:pt x="10558" y="1854"/>
                  </a:lnTo>
                  <a:lnTo>
                    <a:pt x="10104" y="1435"/>
                  </a:lnTo>
                  <a:lnTo>
                    <a:pt x="9601" y="1056"/>
                  </a:lnTo>
                  <a:lnTo>
                    <a:pt x="9062" y="730"/>
                  </a:lnTo>
                  <a:lnTo>
                    <a:pt x="8503" y="464"/>
                  </a:lnTo>
                  <a:lnTo>
                    <a:pt x="7930" y="260"/>
                  </a:lnTo>
                  <a:lnTo>
                    <a:pt x="7346" y="114"/>
                  </a:lnTo>
                  <a:lnTo>
                    <a:pt x="6755" y="28"/>
                  </a:lnTo>
                  <a:lnTo>
                    <a:pt x="6162" y="0"/>
                  </a:lnTo>
                  <a:lnTo>
                    <a:pt x="5571" y="28"/>
                  </a:lnTo>
                  <a:lnTo>
                    <a:pt x="4988" y="112"/>
                  </a:lnTo>
                  <a:lnTo>
                    <a:pt x="4413" y="251"/>
                  </a:lnTo>
                  <a:lnTo>
                    <a:pt x="3855" y="446"/>
                  </a:lnTo>
                  <a:lnTo>
                    <a:pt x="3315" y="694"/>
                  </a:lnTo>
                  <a:lnTo>
                    <a:pt x="2800" y="995"/>
                  </a:lnTo>
                  <a:lnTo>
                    <a:pt x="2312" y="1348"/>
                  </a:lnTo>
                  <a:lnTo>
                    <a:pt x="1856" y="1751"/>
                  </a:lnTo>
                  <a:lnTo>
                    <a:pt x="1437" y="2205"/>
                  </a:lnTo>
                  <a:lnTo>
                    <a:pt x="1058" y="2709"/>
                  </a:lnTo>
                  <a:lnTo>
                    <a:pt x="732" y="3248"/>
                  </a:lnTo>
                  <a:lnTo>
                    <a:pt x="466" y="3806"/>
                  </a:lnTo>
                  <a:lnTo>
                    <a:pt x="261" y="4379"/>
                  </a:lnTo>
                  <a:lnTo>
                    <a:pt x="116" y="4964"/>
                  </a:lnTo>
                  <a:lnTo>
                    <a:pt x="29" y="5555"/>
                  </a:lnTo>
                  <a:lnTo>
                    <a:pt x="0" y="6148"/>
                  </a:lnTo>
                  <a:lnTo>
                    <a:pt x="29" y="6738"/>
                  </a:lnTo>
                  <a:lnTo>
                    <a:pt x="113" y="7323"/>
                  </a:lnTo>
                  <a:lnTo>
                    <a:pt x="252" y="7897"/>
                  </a:lnTo>
                  <a:lnTo>
                    <a:pt x="447" y="8456"/>
                  </a:lnTo>
                  <a:lnTo>
                    <a:pt x="695" y="8995"/>
                  </a:lnTo>
                  <a:lnTo>
                    <a:pt x="996" y="9512"/>
                  </a:lnTo>
                  <a:lnTo>
                    <a:pt x="1347" y="10000"/>
                  </a:lnTo>
                  <a:lnTo>
                    <a:pt x="1751" y="10456"/>
                  </a:lnTo>
                  <a:lnTo>
                    <a:pt x="2205" y="10875"/>
                  </a:lnTo>
                  <a:lnTo>
                    <a:pt x="2709" y="11254"/>
                  </a:lnTo>
                  <a:close/>
                </a:path>
              </a:pathLst>
            </a:custGeom>
            <a:solidFill>
              <a:srgbClr val="132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8786520" y="16200"/>
              <a:ext cx="940680" cy="930240"/>
            </a:xfrm>
            <a:custGeom>
              <a:avLst/>
              <a:gdLst/>
              <a:ahLst/>
              <a:rect l="l" t="t" r="r" b="b"/>
              <a:pathLst>
                <a:path w="12148" h="12149">
                  <a:moveTo>
                    <a:pt x="2673" y="11109"/>
                  </a:moveTo>
                  <a:lnTo>
                    <a:pt x="3205" y="11430"/>
                  </a:lnTo>
                  <a:lnTo>
                    <a:pt x="3756" y="11691"/>
                  </a:lnTo>
                  <a:lnTo>
                    <a:pt x="4322" y="11893"/>
                  </a:lnTo>
                  <a:lnTo>
                    <a:pt x="4898" y="12036"/>
                  </a:lnTo>
                  <a:lnTo>
                    <a:pt x="5482" y="12122"/>
                  </a:lnTo>
                  <a:lnTo>
                    <a:pt x="6067" y="12149"/>
                  </a:lnTo>
                  <a:lnTo>
                    <a:pt x="6650" y="12122"/>
                  </a:lnTo>
                  <a:lnTo>
                    <a:pt x="7228" y="12039"/>
                  </a:lnTo>
                  <a:lnTo>
                    <a:pt x="7793" y="11901"/>
                  </a:lnTo>
                  <a:lnTo>
                    <a:pt x="8345" y="11709"/>
                  </a:lnTo>
                  <a:lnTo>
                    <a:pt x="8878" y="11465"/>
                  </a:lnTo>
                  <a:lnTo>
                    <a:pt x="9387" y="11168"/>
                  </a:lnTo>
                  <a:lnTo>
                    <a:pt x="9869" y="10820"/>
                  </a:lnTo>
                  <a:lnTo>
                    <a:pt x="10319" y="10422"/>
                  </a:lnTo>
                  <a:lnTo>
                    <a:pt x="10733" y="9974"/>
                  </a:lnTo>
                  <a:lnTo>
                    <a:pt x="11107" y="9478"/>
                  </a:lnTo>
                  <a:lnTo>
                    <a:pt x="11428" y="8945"/>
                  </a:lnTo>
                  <a:lnTo>
                    <a:pt x="11690" y="8393"/>
                  </a:lnTo>
                  <a:lnTo>
                    <a:pt x="11892" y="7828"/>
                  </a:lnTo>
                  <a:lnTo>
                    <a:pt x="12034" y="7251"/>
                  </a:lnTo>
                  <a:lnTo>
                    <a:pt x="12120" y="6667"/>
                  </a:lnTo>
                  <a:lnTo>
                    <a:pt x="12148" y="6082"/>
                  </a:lnTo>
                  <a:lnTo>
                    <a:pt x="12120" y="5499"/>
                  </a:lnTo>
                  <a:lnTo>
                    <a:pt x="12037" y="4922"/>
                  </a:lnTo>
                  <a:lnTo>
                    <a:pt x="11899" y="4356"/>
                  </a:lnTo>
                  <a:lnTo>
                    <a:pt x="11708" y="3804"/>
                  </a:lnTo>
                  <a:lnTo>
                    <a:pt x="11463" y="3272"/>
                  </a:lnTo>
                  <a:lnTo>
                    <a:pt x="11167" y="2762"/>
                  </a:lnTo>
                  <a:lnTo>
                    <a:pt x="10819" y="2281"/>
                  </a:lnTo>
                  <a:lnTo>
                    <a:pt x="10420" y="1830"/>
                  </a:lnTo>
                  <a:lnTo>
                    <a:pt x="9972" y="1416"/>
                  </a:lnTo>
                  <a:lnTo>
                    <a:pt x="9475" y="1043"/>
                  </a:lnTo>
                  <a:lnTo>
                    <a:pt x="8943" y="721"/>
                  </a:lnTo>
                  <a:lnTo>
                    <a:pt x="8392" y="460"/>
                  </a:lnTo>
                  <a:lnTo>
                    <a:pt x="7826" y="258"/>
                  </a:lnTo>
                  <a:lnTo>
                    <a:pt x="7249" y="114"/>
                  </a:lnTo>
                  <a:lnTo>
                    <a:pt x="6666" y="29"/>
                  </a:lnTo>
                  <a:lnTo>
                    <a:pt x="6081" y="0"/>
                  </a:lnTo>
                  <a:lnTo>
                    <a:pt x="5498" y="28"/>
                  </a:lnTo>
                  <a:lnTo>
                    <a:pt x="4921" y="112"/>
                  </a:lnTo>
                  <a:lnTo>
                    <a:pt x="4355" y="249"/>
                  </a:lnTo>
                  <a:lnTo>
                    <a:pt x="3803" y="442"/>
                  </a:lnTo>
                  <a:lnTo>
                    <a:pt x="3271" y="686"/>
                  </a:lnTo>
                  <a:lnTo>
                    <a:pt x="2762" y="983"/>
                  </a:lnTo>
                  <a:lnTo>
                    <a:pt x="2280" y="1330"/>
                  </a:lnTo>
                  <a:lnTo>
                    <a:pt x="1829" y="1729"/>
                  </a:lnTo>
                  <a:lnTo>
                    <a:pt x="1416" y="2178"/>
                  </a:lnTo>
                  <a:lnTo>
                    <a:pt x="1043" y="2675"/>
                  </a:lnTo>
                  <a:lnTo>
                    <a:pt x="720" y="3207"/>
                  </a:lnTo>
                  <a:lnTo>
                    <a:pt x="459" y="3757"/>
                  </a:lnTo>
                  <a:lnTo>
                    <a:pt x="257" y="4324"/>
                  </a:lnTo>
                  <a:lnTo>
                    <a:pt x="113" y="4900"/>
                  </a:lnTo>
                  <a:lnTo>
                    <a:pt x="28" y="5484"/>
                  </a:lnTo>
                  <a:lnTo>
                    <a:pt x="0" y="6068"/>
                  </a:lnTo>
                  <a:lnTo>
                    <a:pt x="27" y="6652"/>
                  </a:lnTo>
                  <a:lnTo>
                    <a:pt x="111" y="7228"/>
                  </a:lnTo>
                  <a:lnTo>
                    <a:pt x="248" y="7795"/>
                  </a:lnTo>
                  <a:lnTo>
                    <a:pt x="440" y="8347"/>
                  </a:lnTo>
                  <a:lnTo>
                    <a:pt x="685" y="8879"/>
                  </a:lnTo>
                  <a:lnTo>
                    <a:pt x="982" y="9388"/>
                  </a:lnTo>
                  <a:lnTo>
                    <a:pt x="1330" y="9870"/>
                  </a:lnTo>
                  <a:lnTo>
                    <a:pt x="1728" y="10320"/>
                  </a:lnTo>
                  <a:lnTo>
                    <a:pt x="2176" y="10734"/>
                  </a:lnTo>
                  <a:lnTo>
                    <a:pt x="2673" y="11109"/>
                  </a:lnTo>
                  <a:close/>
                </a:path>
              </a:pathLst>
            </a:custGeom>
            <a:solidFill>
              <a:srgbClr val="152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8795880" y="19080"/>
              <a:ext cx="928800" cy="917640"/>
            </a:xfrm>
            <a:custGeom>
              <a:avLst/>
              <a:gdLst/>
              <a:ahLst/>
              <a:rect l="l" t="t" r="r" b="b"/>
              <a:pathLst>
                <a:path w="11988" h="11989">
                  <a:moveTo>
                    <a:pt x="2638" y="10961"/>
                  </a:moveTo>
                  <a:lnTo>
                    <a:pt x="3163" y="11277"/>
                  </a:lnTo>
                  <a:lnTo>
                    <a:pt x="3707" y="11536"/>
                  </a:lnTo>
                  <a:lnTo>
                    <a:pt x="4265" y="11735"/>
                  </a:lnTo>
                  <a:lnTo>
                    <a:pt x="4834" y="11877"/>
                  </a:lnTo>
                  <a:lnTo>
                    <a:pt x="5410" y="11961"/>
                  </a:lnTo>
                  <a:lnTo>
                    <a:pt x="5987" y="11989"/>
                  </a:lnTo>
                  <a:lnTo>
                    <a:pt x="6562" y="11961"/>
                  </a:lnTo>
                  <a:lnTo>
                    <a:pt x="7132" y="11879"/>
                  </a:lnTo>
                  <a:lnTo>
                    <a:pt x="7690" y="11743"/>
                  </a:lnTo>
                  <a:lnTo>
                    <a:pt x="8235" y="11554"/>
                  </a:lnTo>
                  <a:lnTo>
                    <a:pt x="8760" y="11313"/>
                  </a:lnTo>
                  <a:lnTo>
                    <a:pt x="9263" y="11020"/>
                  </a:lnTo>
                  <a:lnTo>
                    <a:pt x="9738" y="10677"/>
                  </a:lnTo>
                  <a:lnTo>
                    <a:pt x="10182" y="10283"/>
                  </a:lnTo>
                  <a:lnTo>
                    <a:pt x="10591" y="9842"/>
                  </a:lnTo>
                  <a:lnTo>
                    <a:pt x="10959" y="9352"/>
                  </a:lnTo>
                  <a:lnTo>
                    <a:pt x="11276" y="8827"/>
                  </a:lnTo>
                  <a:lnTo>
                    <a:pt x="11535" y="8283"/>
                  </a:lnTo>
                  <a:lnTo>
                    <a:pt x="11733" y="7724"/>
                  </a:lnTo>
                  <a:lnTo>
                    <a:pt x="11876" y="7155"/>
                  </a:lnTo>
                  <a:lnTo>
                    <a:pt x="11960" y="6580"/>
                  </a:lnTo>
                  <a:lnTo>
                    <a:pt x="11988" y="6001"/>
                  </a:lnTo>
                  <a:lnTo>
                    <a:pt x="11960" y="5426"/>
                  </a:lnTo>
                  <a:lnTo>
                    <a:pt x="11878" y="4858"/>
                  </a:lnTo>
                  <a:lnTo>
                    <a:pt x="11742" y="4298"/>
                  </a:lnTo>
                  <a:lnTo>
                    <a:pt x="11553" y="3754"/>
                  </a:lnTo>
                  <a:lnTo>
                    <a:pt x="11311" y="3229"/>
                  </a:lnTo>
                  <a:lnTo>
                    <a:pt x="11019" y="2726"/>
                  </a:lnTo>
                  <a:lnTo>
                    <a:pt x="10676" y="2251"/>
                  </a:lnTo>
                  <a:lnTo>
                    <a:pt x="10282" y="1806"/>
                  </a:lnTo>
                  <a:lnTo>
                    <a:pt x="9840" y="1398"/>
                  </a:lnTo>
                  <a:lnTo>
                    <a:pt x="9350" y="1030"/>
                  </a:lnTo>
                  <a:lnTo>
                    <a:pt x="8825" y="713"/>
                  </a:lnTo>
                  <a:lnTo>
                    <a:pt x="8281" y="454"/>
                  </a:lnTo>
                  <a:lnTo>
                    <a:pt x="7722" y="254"/>
                  </a:lnTo>
                  <a:lnTo>
                    <a:pt x="7154" y="113"/>
                  </a:lnTo>
                  <a:lnTo>
                    <a:pt x="6578" y="29"/>
                  </a:lnTo>
                  <a:lnTo>
                    <a:pt x="6001" y="0"/>
                  </a:lnTo>
                  <a:lnTo>
                    <a:pt x="5425" y="28"/>
                  </a:lnTo>
                  <a:lnTo>
                    <a:pt x="4856" y="111"/>
                  </a:lnTo>
                  <a:lnTo>
                    <a:pt x="4297" y="246"/>
                  </a:lnTo>
                  <a:lnTo>
                    <a:pt x="3753" y="435"/>
                  </a:lnTo>
                  <a:lnTo>
                    <a:pt x="3227" y="676"/>
                  </a:lnTo>
                  <a:lnTo>
                    <a:pt x="2725" y="970"/>
                  </a:lnTo>
                  <a:lnTo>
                    <a:pt x="2249" y="1313"/>
                  </a:lnTo>
                  <a:lnTo>
                    <a:pt x="1806" y="1705"/>
                  </a:lnTo>
                  <a:lnTo>
                    <a:pt x="1397" y="2148"/>
                  </a:lnTo>
                  <a:lnTo>
                    <a:pt x="1029" y="2639"/>
                  </a:lnTo>
                  <a:lnTo>
                    <a:pt x="711" y="3163"/>
                  </a:lnTo>
                  <a:lnTo>
                    <a:pt x="453" y="3707"/>
                  </a:lnTo>
                  <a:lnTo>
                    <a:pt x="254" y="4265"/>
                  </a:lnTo>
                  <a:lnTo>
                    <a:pt x="113" y="4835"/>
                  </a:lnTo>
                  <a:lnTo>
                    <a:pt x="29" y="5410"/>
                  </a:lnTo>
                  <a:lnTo>
                    <a:pt x="0" y="5988"/>
                  </a:lnTo>
                  <a:lnTo>
                    <a:pt x="27" y="6563"/>
                  </a:lnTo>
                  <a:lnTo>
                    <a:pt x="109" y="7132"/>
                  </a:lnTo>
                  <a:lnTo>
                    <a:pt x="245" y="7692"/>
                  </a:lnTo>
                  <a:lnTo>
                    <a:pt x="435" y="8236"/>
                  </a:lnTo>
                  <a:lnTo>
                    <a:pt x="676" y="8761"/>
                  </a:lnTo>
                  <a:lnTo>
                    <a:pt x="968" y="9264"/>
                  </a:lnTo>
                  <a:lnTo>
                    <a:pt x="1312" y="9739"/>
                  </a:lnTo>
                  <a:lnTo>
                    <a:pt x="1705" y="10182"/>
                  </a:lnTo>
                  <a:lnTo>
                    <a:pt x="2147" y="10592"/>
                  </a:lnTo>
                  <a:lnTo>
                    <a:pt x="2638" y="10961"/>
                  </a:lnTo>
                  <a:close/>
                </a:path>
              </a:pathLst>
            </a:custGeom>
            <a:solidFill>
              <a:srgbClr val="173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8805240" y="21960"/>
              <a:ext cx="916920" cy="904320"/>
            </a:xfrm>
            <a:custGeom>
              <a:avLst/>
              <a:gdLst/>
              <a:ahLst/>
              <a:rect l="l" t="t" r="r" b="b"/>
              <a:pathLst>
                <a:path w="11827" h="11827">
                  <a:moveTo>
                    <a:pt x="2603" y="10813"/>
                  </a:moveTo>
                  <a:lnTo>
                    <a:pt x="3120" y="11125"/>
                  </a:lnTo>
                  <a:lnTo>
                    <a:pt x="3657" y="11381"/>
                  </a:lnTo>
                  <a:lnTo>
                    <a:pt x="4208" y="11577"/>
                  </a:lnTo>
                  <a:lnTo>
                    <a:pt x="4769" y="11716"/>
                  </a:lnTo>
                  <a:lnTo>
                    <a:pt x="5337" y="11799"/>
                  </a:lnTo>
                  <a:lnTo>
                    <a:pt x="5907" y="11827"/>
                  </a:lnTo>
                  <a:lnTo>
                    <a:pt x="6474" y="11799"/>
                  </a:lnTo>
                  <a:lnTo>
                    <a:pt x="7037" y="11719"/>
                  </a:lnTo>
                  <a:lnTo>
                    <a:pt x="7587" y="11585"/>
                  </a:lnTo>
                  <a:lnTo>
                    <a:pt x="8124" y="11399"/>
                  </a:lnTo>
                  <a:lnTo>
                    <a:pt x="8643" y="11160"/>
                  </a:lnTo>
                  <a:lnTo>
                    <a:pt x="9139" y="10871"/>
                  </a:lnTo>
                  <a:lnTo>
                    <a:pt x="9607" y="10532"/>
                  </a:lnTo>
                  <a:lnTo>
                    <a:pt x="10045" y="10144"/>
                  </a:lnTo>
                  <a:lnTo>
                    <a:pt x="10448" y="9708"/>
                  </a:lnTo>
                  <a:lnTo>
                    <a:pt x="10813" y="9225"/>
                  </a:lnTo>
                  <a:lnTo>
                    <a:pt x="11126" y="8706"/>
                  </a:lnTo>
                  <a:lnTo>
                    <a:pt x="11381" y="8170"/>
                  </a:lnTo>
                  <a:lnTo>
                    <a:pt x="11577" y="7619"/>
                  </a:lnTo>
                  <a:lnTo>
                    <a:pt x="11717" y="7058"/>
                  </a:lnTo>
                  <a:lnTo>
                    <a:pt x="11800" y="6490"/>
                  </a:lnTo>
                  <a:lnTo>
                    <a:pt x="11827" y="5921"/>
                  </a:lnTo>
                  <a:lnTo>
                    <a:pt x="11800" y="5353"/>
                  </a:lnTo>
                  <a:lnTo>
                    <a:pt x="11719" y="4792"/>
                  </a:lnTo>
                  <a:lnTo>
                    <a:pt x="11585" y="4240"/>
                  </a:lnTo>
                  <a:lnTo>
                    <a:pt x="11399" y="3703"/>
                  </a:lnTo>
                  <a:lnTo>
                    <a:pt x="11161" y="3184"/>
                  </a:lnTo>
                  <a:lnTo>
                    <a:pt x="10871" y="2689"/>
                  </a:lnTo>
                  <a:lnTo>
                    <a:pt x="10532" y="2220"/>
                  </a:lnTo>
                  <a:lnTo>
                    <a:pt x="10144" y="1782"/>
                  </a:lnTo>
                  <a:lnTo>
                    <a:pt x="9708" y="1379"/>
                  </a:lnTo>
                  <a:lnTo>
                    <a:pt x="9225" y="1016"/>
                  </a:lnTo>
                  <a:lnTo>
                    <a:pt x="8706" y="702"/>
                  </a:lnTo>
                  <a:lnTo>
                    <a:pt x="8170" y="447"/>
                  </a:lnTo>
                  <a:lnTo>
                    <a:pt x="7619" y="250"/>
                  </a:lnTo>
                  <a:lnTo>
                    <a:pt x="7058" y="111"/>
                  </a:lnTo>
                  <a:lnTo>
                    <a:pt x="6490" y="28"/>
                  </a:lnTo>
                  <a:lnTo>
                    <a:pt x="5921" y="0"/>
                  </a:lnTo>
                  <a:lnTo>
                    <a:pt x="5353" y="27"/>
                  </a:lnTo>
                  <a:lnTo>
                    <a:pt x="4791" y="108"/>
                  </a:lnTo>
                  <a:lnTo>
                    <a:pt x="4240" y="242"/>
                  </a:lnTo>
                  <a:lnTo>
                    <a:pt x="3703" y="429"/>
                  </a:lnTo>
                  <a:lnTo>
                    <a:pt x="3184" y="667"/>
                  </a:lnTo>
                  <a:lnTo>
                    <a:pt x="2689" y="956"/>
                  </a:lnTo>
                  <a:lnTo>
                    <a:pt x="2220" y="1294"/>
                  </a:lnTo>
                  <a:lnTo>
                    <a:pt x="1782" y="1682"/>
                  </a:lnTo>
                  <a:lnTo>
                    <a:pt x="1379" y="2118"/>
                  </a:lnTo>
                  <a:lnTo>
                    <a:pt x="1015" y="2603"/>
                  </a:lnTo>
                  <a:lnTo>
                    <a:pt x="702" y="3120"/>
                  </a:lnTo>
                  <a:lnTo>
                    <a:pt x="447" y="3656"/>
                  </a:lnTo>
                  <a:lnTo>
                    <a:pt x="250" y="4208"/>
                  </a:lnTo>
                  <a:lnTo>
                    <a:pt x="111" y="4769"/>
                  </a:lnTo>
                  <a:lnTo>
                    <a:pt x="28" y="5337"/>
                  </a:lnTo>
                  <a:lnTo>
                    <a:pt x="0" y="5907"/>
                  </a:lnTo>
                  <a:lnTo>
                    <a:pt x="27" y="6474"/>
                  </a:lnTo>
                  <a:lnTo>
                    <a:pt x="108" y="7036"/>
                  </a:lnTo>
                  <a:lnTo>
                    <a:pt x="242" y="7587"/>
                  </a:lnTo>
                  <a:lnTo>
                    <a:pt x="428" y="8124"/>
                  </a:lnTo>
                  <a:lnTo>
                    <a:pt x="667" y="8643"/>
                  </a:lnTo>
                  <a:lnTo>
                    <a:pt x="956" y="9138"/>
                  </a:lnTo>
                  <a:lnTo>
                    <a:pt x="1294" y="9607"/>
                  </a:lnTo>
                  <a:lnTo>
                    <a:pt x="1682" y="10045"/>
                  </a:lnTo>
                  <a:lnTo>
                    <a:pt x="2118" y="10448"/>
                  </a:lnTo>
                  <a:lnTo>
                    <a:pt x="2603" y="10813"/>
                  </a:lnTo>
                  <a:close/>
                </a:path>
              </a:pathLst>
            </a:custGeom>
            <a:solidFill>
              <a:srgbClr val="193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814600" y="23400"/>
              <a:ext cx="903600" cy="892800"/>
            </a:xfrm>
            <a:custGeom>
              <a:avLst/>
              <a:gdLst/>
              <a:ahLst/>
              <a:rect l="l" t="t" r="r" b="b"/>
              <a:pathLst>
                <a:path w="11668" h="11666">
                  <a:moveTo>
                    <a:pt x="2569" y="10666"/>
                  </a:moveTo>
                  <a:lnTo>
                    <a:pt x="3079" y="10974"/>
                  </a:lnTo>
                  <a:lnTo>
                    <a:pt x="3608" y="11225"/>
                  </a:lnTo>
                  <a:lnTo>
                    <a:pt x="4152" y="11420"/>
                  </a:lnTo>
                  <a:lnTo>
                    <a:pt x="4706" y="11557"/>
                  </a:lnTo>
                  <a:lnTo>
                    <a:pt x="5266" y="11640"/>
                  </a:lnTo>
                  <a:lnTo>
                    <a:pt x="5827" y="11666"/>
                  </a:lnTo>
                  <a:lnTo>
                    <a:pt x="6387" y="11640"/>
                  </a:lnTo>
                  <a:lnTo>
                    <a:pt x="6941" y="11560"/>
                  </a:lnTo>
                  <a:lnTo>
                    <a:pt x="7486" y="11428"/>
                  </a:lnTo>
                  <a:lnTo>
                    <a:pt x="8015" y="11243"/>
                  </a:lnTo>
                  <a:lnTo>
                    <a:pt x="8526" y="11009"/>
                  </a:lnTo>
                  <a:lnTo>
                    <a:pt x="9015" y="10724"/>
                  </a:lnTo>
                  <a:lnTo>
                    <a:pt x="9478" y="10390"/>
                  </a:lnTo>
                  <a:lnTo>
                    <a:pt x="9911" y="10007"/>
                  </a:lnTo>
                  <a:lnTo>
                    <a:pt x="10308" y="9576"/>
                  </a:lnTo>
                  <a:lnTo>
                    <a:pt x="10667" y="9100"/>
                  </a:lnTo>
                  <a:lnTo>
                    <a:pt x="10976" y="8589"/>
                  </a:lnTo>
                  <a:lnTo>
                    <a:pt x="11227" y="8059"/>
                  </a:lnTo>
                  <a:lnTo>
                    <a:pt x="11420" y="7515"/>
                  </a:lnTo>
                  <a:lnTo>
                    <a:pt x="11558" y="6962"/>
                  </a:lnTo>
                  <a:lnTo>
                    <a:pt x="11640" y="6402"/>
                  </a:lnTo>
                  <a:lnTo>
                    <a:pt x="11668" y="5840"/>
                  </a:lnTo>
                  <a:lnTo>
                    <a:pt x="11640" y="5279"/>
                  </a:lnTo>
                  <a:lnTo>
                    <a:pt x="11560" y="4726"/>
                  </a:lnTo>
                  <a:lnTo>
                    <a:pt x="11429" y="4182"/>
                  </a:lnTo>
                  <a:lnTo>
                    <a:pt x="11245" y="3653"/>
                  </a:lnTo>
                  <a:lnTo>
                    <a:pt x="11010" y="3142"/>
                  </a:lnTo>
                  <a:lnTo>
                    <a:pt x="10725" y="2653"/>
                  </a:lnTo>
                  <a:lnTo>
                    <a:pt x="10390" y="2190"/>
                  </a:lnTo>
                  <a:lnTo>
                    <a:pt x="10007" y="1757"/>
                  </a:lnTo>
                  <a:lnTo>
                    <a:pt x="9577" y="1360"/>
                  </a:lnTo>
                  <a:lnTo>
                    <a:pt x="9100" y="1002"/>
                  </a:lnTo>
                  <a:lnTo>
                    <a:pt x="8589" y="692"/>
                  </a:lnTo>
                  <a:lnTo>
                    <a:pt x="8060" y="441"/>
                  </a:lnTo>
                  <a:lnTo>
                    <a:pt x="7516" y="247"/>
                  </a:lnTo>
                  <a:lnTo>
                    <a:pt x="6962" y="110"/>
                  </a:lnTo>
                  <a:lnTo>
                    <a:pt x="6402" y="28"/>
                  </a:lnTo>
                  <a:lnTo>
                    <a:pt x="5841" y="0"/>
                  </a:lnTo>
                  <a:lnTo>
                    <a:pt x="5281" y="27"/>
                  </a:lnTo>
                  <a:lnTo>
                    <a:pt x="4727" y="106"/>
                  </a:lnTo>
                  <a:lnTo>
                    <a:pt x="4182" y="239"/>
                  </a:lnTo>
                  <a:lnTo>
                    <a:pt x="3653" y="423"/>
                  </a:lnTo>
                  <a:lnTo>
                    <a:pt x="3142" y="658"/>
                  </a:lnTo>
                  <a:lnTo>
                    <a:pt x="2653" y="943"/>
                  </a:lnTo>
                  <a:lnTo>
                    <a:pt x="2190" y="1277"/>
                  </a:lnTo>
                  <a:lnTo>
                    <a:pt x="1757" y="1660"/>
                  </a:lnTo>
                  <a:lnTo>
                    <a:pt x="1360" y="2090"/>
                  </a:lnTo>
                  <a:lnTo>
                    <a:pt x="1002" y="2567"/>
                  </a:lnTo>
                  <a:lnTo>
                    <a:pt x="692" y="3078"/>
                  </a:lnTo>
                  <a:lnTo>
                    <a:pt x="441" y="3607"/>
                  </a:lnTo>
                  <a:lnTo>
                    <a:pt x="248" y="4150"/>
                  </a:lnTo>
                  <a:lnTo>
                    <a:pt x="110" y="4704"/>
                  </a:lnTo>
                  <a:lnTo>
                    <a:pt x="28" y="5265"/>
                  </a:lnTo>
                  <a:lnTo>
                    <a:pt x="0" y="5826"/>
                  </a:lnTo>
                  <a:lnTo>
                    <a:pt x="28" y="6386"/>
                  </a:lnTo>
                  <a:lnTo>
                    <a:pt x="108" y="6940"/>
                  </a:lnTo>
                  <a:lnTo>
                    <a:pt x="239" y="7484"/>
                  </a:lnTo>
                  <a:lnTo>
                    <a:pt x="423" y="8014"/>
                  </a:lnTo>
                  <a:lnTo>
                    <a:pt x="658" y="8525"/>
                  </a:lnTo>
                  <a:lnTo>
                    <a:pt x="943" y="9014"/>
                  </a:lnTo>
                  <a:lnTo>
                    <a:pt x="1278" y="9476"/>
                  </a:lnTo>
                  <a:lnTo>
                    <a:pt x="1661" y="9909"/>
                  </a:lnTo>
                  <a:lnTo>
                    <a:pt x="2091" y="10307"/>
                  </a:lnTo>
                  <a:lnTo>
                    <a:pt x="2569" y="10666"/>
                  </a:lnTo>
                  <a:close/>
                </a:path>
              </a:pathLst>
            </a:custGeom>
            <a:solidFill>
              <a:srgbClr val="1b3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8823960" y="26640"/>
              <a:ext cx="891720" cy="880560"/>
            </a:xfrm>
            <a:custGeom>
              <a:avLst/>
              <a:gdLst/>
              <a:ahLst/>
              <a:rect l="l" t="t" r="r" b="b"/>
              <a:pathLst>
                <a:path w="11505" h="11506">
                  <a:moveTo>
                    <a:pt x="2532" y="10519"/>
                  </a:moveTo>
                  <a:lnTo>
                    <a:pt x="3036" y="10823"/>
                  </a:lnTo>
                  <a:lnTo>
                    <a:pt x="3558" y="11071"/>
                  </a:lnTo>
                  <a:lnTo>
                    <a:pt x="4093" y="11262"/>
                  </a:lnTo>
                  <a:lnTo>
                    <a:pt x="4640" y="11398"/>
                  </a:lnTo>
                  <a:lnTo>
                    <a:pt x="5192" y="11479"/>
                  </a:lnTo>
                  <a:lnTo>
                    <a:pt x="5747" y="11506"/>
                  </a:lnTo>
                  <a:lnTo>
                    <a:pt x="6298" y="11479"/>
                  </a:lnTo>
                  <a:lnTo>
                    <a:pt x="6845" y="11400"/>
                  </a:lnTo>
                  <a:lnTo>
                    <a:pt x="7382" y="11270"/>
                  </a:lnTo>
                  <a:lnTo>
                    <a:pt x="7904" y="11089"/>
                  </a:lnTo>
                  <a:lnTo>
                    <a:pt x="8408" y="10857"/>
                  </a:lnTo>
                  <a:lnTo>
                    <a:pt x="8890" y="10577"/>
                  </a:lnTo>
                  <a:lnTo>
                    <a:pt x="9346" y="10246"/>
                  </a:lnTo>
                  <a:lnTo>
                    <a:pt x="9773" y="9869"/>
                  </a:lnTo>
                  <a:lnTo>
                    <a:pt x="10165" y="9444"/>
                  </a:lnTo>
                  <a:lnTo>
                    <a:pt x="10519" y="8975"/>
                  </a:lnTo>
                  <a:lnTo>
                    <a:pt x="10823" y="8470"/>
                  </a:lnTo>
                  <a:lnTo>
                    <a:pt x="11071" y="7948"/>
                  </a:lnTo>
                  <a:lnTo>
                    <a:pt x="11262" y="7412"/>
                  </a:lnTo>
                  <a:lnTo>
                    <a:pt x="11398" y="6865"/>
                  </a:lnTo>
                  <a:lnTo>
                    <a:pt x="11479" y="6314"/>
                  </a:lnTo>
                  <a:lnTo>
                    <a:pt x="11505" y="5759"/>
                  </a:lnTo>
                  <a:lnTo>
                    <a:pt x="11479" y="5207"/>
                  </a:lnTo>
                  <a:lnTo>
                    <a:pt x="11400" y="4661"/>
                  </a:lnTo>
                  <a:lnTo>
                    <a:pt x="11269" y="4124"/>
                  </a:lnTo>
                  <a:lnTo>
                    <a:pt x="11089" y="3602"/>
                  </a:lnTo>
                  <a:lnTo>
                    <a:pt x="10857" y="3098"/>
                  </a:lnTo>
                  <a:lnTo>
                    <a:pt x="10576" y="2615"/>
                  </a:lnTo>
                  <a:lnTo>
                    <a:pt x="10246" y="2159"/>
                  </a:lnTo>
                  <a:lnTo>
                    <a:pt x="9868" y="1733"/>
                  </a:lnTo>
                  <a:lnTo>
                    <a:pt x="9444" y="1341"/>
                  </a:lnTo>
                  <a:lnTo>
                    <a:pt x="8974" y="988"/>
                  </a:lnTo>
                  <a:lnTo>
                    <a:pt x="8470" y="683"/>
                  </a:lnTo>
                  <a:lnTo>
                    <a:pt x="7948" y="435"/>
                  </a:lnTo>
                  <a:lnTo>
                    <a:pt x="7412" y="244"/>
                  </a:lnTo>
                  <a:lnTo>
                    <a:pt x="6866" y="108"/>
                  </a:lnTo>
                  <a:lnTo>
                    <a:pt x="6313" y="27"/>
                  </a:lnTo>
                  <a:lnTo>
                    <a:pt x="5759" y="0"/>
                  </a:lnTo>
                  <a:lnTo>
                    <a:pt x="5208" y="27"/>
                  </a:lnTo>
                  <a:lnTo>
                    <a:pt x="4661" y="105"/>
                  </a:lnTo>
                  <a:lnTo>
                    <a:pt x="4124" y="236"/>
                  </a:lnTo>
                  <a:lnTo>
                    <a:pt x="3602" y="418"/>
                  </a:lnTo>
                  <a:lnTo>
                    <a:pt x="3098" y="649"/>
                  </a:lnTo>
                  <a:lnTo>
                    <a:pt x="2616" y="930"/>
                  </a:lnTo>
                  <a:lnTo>
                    <a:pt x="2160" y="1260"/>
                  </a:lnTo>
                  <a:lnTo>
                    <a:pt x="1733" y="1637"/>
                  </a:lnTo>
                  <a:lnTo>
                    <a:pt x="1341" y="2061"/>
                  </a:lnTo>
                  <a:lnTo>
                    <a:pt x="988" y="2532"/>
                  </a:lnTo>
                  <a:lnTo>
                    <a:pt x="683" y="3035"/>
                  </a:lnTo>
                  <a:lnTo>
                    <a:pt x="435" y="3557"/>
                  </a:lnTo>
                  <a:lnTo>
                    <a:pt x="244" y="4094"/>
                  </a:lnTo>
                  <a:lnTo>
                    <a:pt x="108" y="4639"/>
                  </a:lnTo>
                  <a:lnTo>
                    <a:pt x="27" y="5192"/>
                  </a:lnTo>
                  <a:lnTo>
                    <a:pt x="0" y="5746"/>
                  </a:lnTo>
                  <a:lnTo>
                    <a:pt x="26" y="6299"/>
                  </a:lnTo>
                  <a:lnTo>
                    <a:pt x="106" y="6845"/>
                  </a:lnTo>
                  <a:lnTo>
                    <a:pt x="235" y="7381"/>
                  </a:lnTo>
                  <a:lnTo>
                    <a:pt x="417" y="7904"/>
                  </a:lnTo>
                  <a:lnTo>
                    <a:pt x="649" y="8408"/>
                  </a:lnTo>
                  <a:lnTo>
                    <a:pt x="930" y="8891"/>
                  </a:lnTo>
                  <a:lnTo>
                    <a:pt x="1259" y="9347"/>
                  </a:lnTo>
                  <a:lnTo>
                    <a:pt x="1637" y="9773"/>
                  </a:lnTo>
                  <a:lnTo>
                    <a:pt x="2061" y="10165"/>
                  </a:lnTo>
                  <a:lnTo>
                    <a:pt x="2532" y="10519"/>
                  </a:lnTo>
                  <a:close/>
                </a:path>
              </a:pathLst>
            </a:custGeom>
            <a:solidFill>
              <a:srgbClr val="1c3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832960" y="29160"/>
              <a:ext cx="879840" cy="867600"/>
            </a:xfrm>
            <a:custGeom>
              <a:avLst/>
              <a:gdLst/>
              <a:ahLst/>
              <a:rect l="l" t="t" r="r" b="b"/>
              <a:pathLst>
                <a:path w="11344" h="11345">
                  <a:moveTo>
                    <a:pt x="2496" y="10372"/>
                  </a:moveTo>
                  <a:lnTo>
                    <a:pt x="2992" y="10672"/>
                  </a:lnTo>
                  <a:lnTo>
                    <a:pt x="3507" y="10917"/>
                  </a:lnTo>
                  <a:lnTo>
                    <a:pt x="4035" y="11106"/>
                  </a:lnTo>
                  <a:lnTo>
                    <a:pt x="4574" y="11239"/>
                  </a:lnTo>
                  <a:lnTo>
                    <a:pt x="5119" y="11319"/>
                  </a:lnTo>
                  <a:lnTo>
                    <a:pt x="5665" y="11345"/>
                  </a:lnTo>
                  <a:lnTo>
                    <a:pt x="6209" y="11320"/>
                  </a:lnTo>
                  <a:lnTo>
                    <a:pt x="6748" y="11242"/>
                  </a:lnTo>
                  <a:lnTo>
                    <a:pt x="7278" y="11113"/>
                  </a:lnTo>
                  <a:lnTo>
                    <a:pt x="7792" y="10934"/>
                  </a:lnTo>
                  <a:lnTo>
                    <a:pt x="8290" y="10705"/>
                  </a:lnTo>
                  <a:lnTo>
                    <a:pt x="8765" y="10429"/>
                  </a:lnTo>
                  <a:lnTo>
                    <a:pt x="9215" y="10103"/>
                  </a:lnTo>
                  <a:lnTo>
                    <a:pt x="9636" y="9731"/>
                  </a:lnTo>
                  <a:lnTo>
                    <a:pt x="10022" y="9314"/>
                  </a:lnTo>
                  <a:lnTo>
                    <a:pt x="10371" y="8850"/>
                  </a:lnTo>
                  <a:lnTo>
                    <a:pt x="10671" y="8353"/>
                  </a:lnTo>
                  <a:lnTo>
                    <a:pt x="10916" y="7838"/>
                  </a:lnTo>
                  <a:lnTo>
                    <a:pt x="11104" y="7309"/>
                  </a:lnTo>
                  <a:lnTo>
                    <a:pt x="11238" y="6771"/>
                  </a:lnTo>
                  <a:lnTo>
                    <a:pt x="11318" y="6225"/>
                  </a:lnTo>
                  <a:lnTo>
                    <a:pt x="11344" y="5679"/>
                  </a:lnTo>
                  <a:lnTo>
                    <a:pt x="11319" y="5135"/>
                  </a:lnTo>
                  <a:lnTo>
                    <a:pt x="11241" y="4596"/>
                  </a:lnTo>
                  <a:lnTo>
                    <a:pt x="11111" y="4066"/>
                  </a:lnTo>
                  <a:lnTo>
                    <a:pt x="10933" y="3552"/>
                  </a:lnTo>
                  <a:lnTo>
                    <a:pt x="10704" y="3054"/>
                  </a:lnTo>
                  <a:lnTo>
                    <a:pt x="10428" y="2579"/>
                  </a:lnTo>
                  <a:lnTo>
                    <a:pt x="10102" y="2129"/>
                  </a:lnTo>
                  <a:lnTo>
                    <a:pt x="9730" y="1708"/>
                  </a:lnTo>
                  <a:lnTo>
                    <a:pt x="9311" y="1322"/>
                  </a:lnTo>
                  <a:lnTo>
                    <a:pt x="8848" y="974"/>
                  </a:lnTo>
                  <a:lnTo>
                    <a:pt x="8350" y="673"/>
                  </a:lnTo>
                  <a:lnTo>
                    <a:pt x="7836" y="428"/>
                  </a:lnTo>
                  <a:lnTo>
                    <a:pt x="7307" y="240"/>
                  </a:lnTo>
                  <a:lnTo>
                    <a:pt x="6768" y="106"/>
                  </a:lnTo>
                  <a:lnTo>
                    <a:pt x="6224" y="27"/>
                  </a:lnTo>
                  <a:lnTo>
                    <a:pt x="5678" y="0"/>
                  </a:lnTo>
                  <a:lnTo>
                    <a:pt x="5133" y="25"/>
                  </a:lnTo>
                  <a:lnTo>
                    <a:pt x="4594" y="104"/>
                  </a:lnTo>
                  <a:lnTo>
                    <a:pt x="4066" y="233"/>
                  </a:lnTo>
                  <a:lnTo>
                    <a:pt x="3551" y="411"/>
                  </a:lnTo>
                  <a:lnTo>
                    <a:pt x="3054" y="640"/>
                  </a:lnTo>
                  <a:lnTo>
                    <a:pt x="2579" y="916"/>
                  </a:lnTo>
                  <a:lnTo>
                    <a:pt x="2129" y="1242"/>
                  </a:lnTo>
                  <a:lnTo>
                    <a:pt x="1708" y="1614"/>
                  </a:lnTo>
                  <a:lnTo>
                    <a:pt x="1322" y="2033"/>
                  </a:lnTo>
                  <a:lnTo>
                    <a:pt x="973" y="2497"/>
                  </a:lnTo>
                  <a:lnTo>
                    <a:pt x="673" y="2994"/>
                  </a:lnTo>
                  <a:lnTo>
                    <a:pt x="428" y="3508"/>
                  </a:lnTo>
                  <a:lnTo>
                    <a:pt x="240" y="4036"/>
                  </a:lnTo>
                  <a:lnTo>
                    <a:pt x="106" y="4575"/>
                  </a:lnTo>
                  <a:lnTo>
                    <a:pt x="26" y="5120"/>
                  </a:lnTo>
                  <a:lnTo>
                    <a:pt x="0" y="5666"/>
                  </a:lnTo>
                  <a:lnTo>
                    <a:pt x="25" y="6210"/>
                  </a:lnTo>
                  <a:lnTo>
                    <a:pt x="103" y="6749"/>
                  </a:lnTo>
                  <a:lnTo>
                    <a:pt x="231" y="7278"/>
                  </a:lnTo>
                  <a:lnTo>
                    <a:pt x="411" y="7793"/>
                  </a:lnTo>
                  <a:lnTo>
                    <a:pt x="639" y="8290"/>
                  </a:lnTo>
                  <a:lnTo>
                    <a:pt x="916" y="8766"/>
                  </a:lnTo>
                  <a:lnTo>
                    <a:pt x="1241" y="9216"/>
                  </a:lnTo>
                  <a:lnTo>
                    <a:pt x="1612" y="9636"/>
                  </a:lnTo>
                  <a:lnTo>
                    <a:pt x="2031" y="10023"/>
                  </a:lnTo>
                  <a:lnTo>
                    <a:pt x="2496" y="10372"/>
                  </a:lnTo>
                  <a:close/>
                </a:path>
              </a:pathLst>
            </a:custGeom>
            <a:solidFill>
              <a:srgbClr val="1e3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8842320" y="30960"/>
              <a:ext cx="866520" cy="855720"/>
            </a:xfrm>
            <a:custGeom>
              <a:avLst/>
              <a:gdLst/>
              <a:ahLst/>
              <a:rect l="l" t="t" r="r" b="b"/>
              <a:pathLst>
                <a:path w="11185" h="11184">
                  <a:moveTo>
                    <a:pt x="2461" y="10226"/>
                  </a:moveTo>
                  <a:lnTo>
                    <a:pt x="2950" y="10521"/>
                  </a:lnTo>
                  <a:lnTo>
                    <a:pt x="3458" y="10761"/>
                  </a:lnTo>
                  <a:lnTo>
                    <a:pt x="3979" y="10947"/>
                  </a:lnTo>
                  <a:lnTo>
                    <a:pt x="4509" y="11079"/>
                  </a:lnTo>
                  <a:lnTo>
                    <a:pt x="5046" y="11158"/>
                  </a:lnTo>
                  <a:lnTo>
                    <a:pt x="5585" y="11184"/>
                  </a:lnTo>
                  <a:lnTo>
                    <a:pt x="6122" y="11159"/>
                  </a:lnTo>
                  <a:lnTo>
                    <a:pt x="6654" y="11082"/>
                  </a:lnTo>
                  <a:lnTo>
                    <a:pt x="7175" y="10955"/>
                  </a:lnTo>
                  <a:lnTo>
                    <a:pt x="7683" y="10778"/>
                  </a:lnTo>
                  <a:lnTo>
                    <a:pt x="8173" y="10554"/>
                  </a:lnTo>
                  <a:lnTo>
                    <a:pt x="8642" y="10281"/>
                  </a:lnTo>
                  <a:lnTo>
                    <a:pt x="9086" y="9961"/>
                  </a:lnTo>
                  <a:lnTo>
                    <a:pt x="9500" y="9594"/>
                  </a:lnTo>
                  <a:lnTo>
                    <a:pt x="9881" y="9182"/>
                  </a:lnTo>
                  <a:lnTo>
                    <a:pt x="10226" y="8725"/>
                  </a:lnTo>
                  <a:lnTo>
                    <a:pt x="10521" y="8234"/>
                  </a:lnTo>
                  <a:lnTo>
                    <a:pt x="10762" y="7726"/>
                  </a:lnTo>
                  <a:lnTo>
                    <a:pt x="10948" y="7205"/>
                  </a:lnTo>
                  <a:lnTo>
                    <a:pt x="11080" y="6675"/>
                  </a:lnTo>
                  <a:lnTo>
                    <a:pt x="11158" y="6138"/>
                  </a:lnTo>
                  <a:lnTo>
                    <a:pt x="11185" y="5599"/>
                  </a:lnTo>
                  <a:lnTo>
                    <a:pt x="11158" y="5062"/>
                  </a:lnTo>
                  <a:lnTo>
                    <a:pt x="11082" y="4531"/>
                  </a:lnTo>
                  <a:lnTo>
                    <a:pt x="10955" y="4010"/>
                  </a:lnTo>
                  <a:lnTo>
                    <a:pt x="10779" y="3502"/>
                  </a:lnTo>
                  <a:lnTo>
                    <a:pt x="10553" y="3012"/>
                  </a:lnTo>
                  <a:lnTo>
                    <a:pt x="10280" y="2543"/>
                  </a:lnTo>
                  <a:lnTo>
                    <a:pt x="9960" y="2098"/>
                  </a:lnTo>
                  <a:lnTo>
                    <a:pt x="9593" y="1685"/>
                  </a:lnTo>
                  <a:lnTo>
                    <a:pt x="9181" y="1303"/>
                  </a:lnTo>
                  <a:lnTo>
                    <a:pt x="8724" y="960"/>
                  </a:lnTo>
                  <a:lnTo>
                    <a:pt x="8234" y="663"/>
                  </a:lnTo>
                  <a:lnTo>
                    <a:pt x="7726" y="423"/>
                  </a:lnTo>
                  <a:lnTo>
                    <a:pt x="7206" y="237"/>
                  </a:lnTo>
                  <a:lnTo>
                    <a:pt x="6674" y="105"/>
                  </a:lnTo>
                  <a:lnTo>
                    <a:pt x="6137" y="26"/>
                  </a:lnTo>
                  <a:lnTo>
                    <a:pt x="5598" y="0"/>
                  </a:lnTo>
                  <a:lnTo>
                    <a:pt x="5061" y="26"/>
                  </a:lnTo>
                  <a:lnTo>
                    <a:pt x="4531" y="103"/>
                  </a:lnTo>
                  <a:lnTo>
                    <a:pt x="4009" y="229"/>
                  </a:lnTo>
                  <a:lnTo>
                    <a:pt x="3502" y="406"/>
                  </a:lnTo>
                  <a:lnTo>
                    <a:pt x="3012" y="631"/>
                  </a:lnTo>
                  <a:lnTo>
                    <a:pt x="2543" y="905"/>
                  </a:lnTo>
                  <a:lnTo>
                    <a:pt x="2098" y="1225"/>
                  </a:lnTo>
                  <a:lnTo>
                    <a:pt x="1685" y="1591"/>
                  </a:lnTo>
                  <a:lnTo>
                    <a:pt x="1303" y="2004"/>
                  </a:lnTo>
                  <a:lnTo>
                    <a:pt x="960" y="2462"/>
                  </a:lnTo>
                  <a:lnTo>
                    <a:pt x="663" y="2951"/>
                  </a:lnTo>
                  <a:lnTo>
                    <a:pt x="423" y="3458"/>
                  </a:lnTo>
                  <a:lnTo>
                    <a:pt x="237" y="3979"/>
                  </a:lnTo>
                  <a:lnTo>
                    <a:pt x="105" y="4510"/>
                  </a:lnTo>
                  <a:lnTo>
                    <a:pt x="26" y="5047"/>
                  </a:lnTo>
                  <a:lnTo>
                    <a:pt x="0" y="5586"/>
                  </a:lnTo>
                  <a:lnTo>
                    <a:pt x="25" y="6123"/>
                  </a:lnTo>
                  <a:lnTo>
                    <a:pt x="103" y="6654"/>
                  </a:lnTo>
                  <a:lnTo>
                    <a:pt x="229" y="7176"/>
                  </a:lnTo>
                  <a:lnTo>
                    <a:pt x="406" y="7683"/>
                  </a:lnTo>
                  <a:lnTo>
                    <a:pt x="630" y="8173"/>
                  </a:lnTo>
                  <a:lnTo>
                    <a:pt x="903" y="8642"/>
                  </a:lnTo>
                  <a:lnTo>
                    <a:pt x="1223" y="9086"/>
                  </a:lnTo>
                  <a:lnTo>
                    <a:pt x="1590" y="9499"/>
                  </a:lnTo>
                  <a:lnTo>
                    <a:pt x="2003" y="9881"/>
                  </a:lnTo>
                  <a:lnTo>
                    <a:pt x="2461" y="10226"/>
                  </a:lnTo>
                  <a:close/>
                </a:path>
              </a:pathLst>
            </a:custGeom>
            <a:solidFill>
              <a:srgbClr val="203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851680" y="33840"/>
              <a:ext cx="854640" cy="843840"/>
            </a:xfrm>
            <a:custGeom>
              <a:avLst/>
              <a:gdLst/>
              <a:ahLst/>
              <a:rect l="l" t="t" r="r" b="b"/>
              <a:pathLst>
                <a:path w="11024" h="11024">
                  <a:moveTo>
                    <a:pt x="2426" y="10079"/>
                  </a:moveTo>
                  <a:lnTo>
                    <a:pt x="2909" y="10370"/>
                  </a:lnTo>
                  <a:lnTo>
                    <a:pt x="3408" y="10607"/>
                  </a:lnTo>
                  <a:lnTo>
                    <a:pt x="3922" y="10791"/>
                  </a:lnTo>
                  <a:lnTo>
                    <a:pt x="4445" y="10921"/>
                  </a:lnTo>
                  <a:lnTo>
                    <a:pt x="4974" y="10998"/>
                  </a:lnTo>
                  <a:lnTo>
                    <a:pt x="5506" y="11024"/>
                  </a:lnTo>
                  <a:lnTo>
                    <a:pt x="6034" y="10998"/>
                  </a:lnTo>
                  <a:lnTo>
                    <a:pt x="6558" y="10923"/>
                  </a:lnTo>
                  <a:lnTo>
                    <a:pt x="7072" y="10797"/>
                  </a:lnTo>
                  <a:lnTo>
                    <a:pt x="7573" y="10624"/>
                  </a:lnTo>
                  <a:lnTo>
                    <a:pt x="8055" y="10402"/>
                  </a:lnTo>
                  <a:lnTo>
                    <a:pt x="8518" y="10133"/>
                  </a:lnTo>
                  <a:lnTo>
                    <a:pt x="8955" y="9817"/>
                  </a:lnTo>
                  <a:lnTo>
                    <a:pt x="9363" y="9456"/>
                  </a:lnTo>
                  <a:lnTo>
                    <a:pt x="9739" y="9050"/>
                  </a:lnTo>
                  <a:lnTo>
                    <a:pt x="10078" y="8599"/>
                  </a:lnTo>
                  <a:lnTo>
                    <a:pt x="10370" y="8115"/>
                  </a:lnTo>
                  <a:lnTo>
                    <a:pt x="10608" y="7616"/>
                  </a:lnTo>
                  <a:lnTo>
                    <a:pt x="10791" y="7102"/>
                  </a:lnTo>
                  <a:lnTo>
                    <a:pt x="10920" y="6579"/>
                  </a:lnTo>
                  <a:lnTo>
                    <a:pt x="10998" y="6050"/>
                  </a:lnTo>
                  <a:lnTo>
                    <a:pt x="11024" y="5518"/>
                  </a:lnTo>
                  <a:lnTo>
                    <a:pt x="10999" y="4990"/>
                  </a:lnTo>
                  <a:lnTo>
                    <a:pt x="10923" y="4466"/>
                  </a:lnTo>
                  <a:lnTo>
                    <a:pt x="10798" y="3952"/>
                  </a:lnTo>
                  <a:lnTo>
                    <a:pt x="10625" y="3452"/>
                  </a:lnTo>
                  <a:lnTo>
                    <a:pt x="10403" y="2969"/>
                  </a:lnTo>
                  <a:lnTo>
                    <a:pt x="10134" y="2506"/>
                  </a:lnTo>
                  <a:lnTo>
                    <a:pt x="9818" y="2070"/>
                  </a:lnTo>
                  <a:lnTo>
                    <a:pt x="9455" y="1661"/>
                  </a:lnTo>
                  <a:lnTo>
                    <a:pt x="9049" y="1285"/>
                  </a:lnTo>
                  <a:lnTo>
                    <a:pt x="8598" y="947"/>
                  </a:lnTo>
                  <a:lnTo>
                    <a:pt x="8115" y="655"/>
                  </a:lnTo>
                  <a:lnTo>
                    <a:pt x="7615" y="416"/>
                  </a:lnTo>
                  <a:lnTo>
                    <a:pt x="7102" y="234"/>
                  </a:lnTo>
                  <a:lnTo>
                    <a:pt x="6578" y="104"/>
                  </a:lnTo>
                  <a:lnTo>
                    <a:pt x="6049" y="26"/>
                  </a:lnTo>
                  <a:lnTo>
                    <a:pt x="5518" y="0"/>
                  </a:lnTo>
                  <a:lnTo>
                    <a:pt x="4989" y="25"/>
                  </a:lnTo>
                  <a:lnTo>
                    <a:pt x="4465" y="101"/>
                  </a:lnTo>
                  <a:lnTo>
                    <a:pt x="3952" y="226"/>
                  </a:lnTo>
                  <a:lnTo>
                    <a:pt x="3451" y="399"/>
                  </a:lnTo>
                  <a:lnTo>
                    <a:pt x="2968" y="622"/>
                  </a:lnTo>
                  <a:lnTo>
                    <a:pt x="2506" y="891"/>
                  </a:lnTo>
                  <a:lnTo>
                    <a:pt x="2069" y="1206"/>
                  </a:lnTo>
                  <a:lnTo>
                    <a:pt x="1661" y="1569"/>
                  </a:lnTo>
                  <a:lnTo>
                    <a:pt x="1284" y="1975"/>
                  </a:lnTo>
                  <a:lnTo>
                    <a:pt x="946" y="2427"/>
                  </a:lnTo>
                  <a:lnTo>
                    <a:pt x="654" y="2909"/>
                  </a:lnTo>
                  <a:lnTo>
                    <a:pt x="417" y="3409"/>
                  </a:lnTo>
                  <a:lnTo>
                    <a:pt x="233" y="3922"/>
                  </a:lnTo>
                  <a:lnTo>
                    <a:pt x="103" y="4446"/>
                  </a:lnTo>
                  <a:lnTo>
                    <a:pt x="25" y="4975"/>
                  </a:lnTo>
                  <a:lnTo>
                    <a:pt x="0" y="5505"/>
                  </a:lnTo>
                  <a:lnTo>
                    <a:pt x="25" y="6035"/>
                  </a:lnTo>
                  <a:lnTo>
                    <a:pt x="101" y="6559"/>
                  </a:lnTo>
                  <a:lnTo>
                    <a:pt x="226" y="7072"/>
                  </a:lnTo>
                  <a:lnTo>
                    <a:pt x="400" y="7573"/>
                  </a:lnTo>
                  <a:lnTo>
                    <a:pt x="622" y="8056"/>
                  </a:lnTo>
                  <a:lnTo>
                    <a:pt x="891" y="8518"/>
                  </a:lnTo>
                  <a:lnTo>
                    <a:pt x="1207" y="8955"/>
                  </a:lnTo>
                  <a:lnTo>
                    <a:pt x="1568" y="9363"/>
                  </a:lnTo>
                  <a:lnTo>
                    <a:pt x="1974" y="9739"/>
                  </a:lnTo>
                  <a:lnTo>
                    <a:pt x="2426" y="10079"/>
                  </a:lnTo>
                  <a:close/>
                </a:path>
              </a:pathLst>
            </a:custGeom>
            <a:solidFill>
              <a:srgbClr val="223b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861040" y="36360"/>
              <a:ext cx="842400" cy="831240"/>
            </a:xfrm>
            <a:custGeom>
              <a:avLst/>
              <a:gdLst/>
              <a:ahLst/>
              <a:rect l="l" t="t" r="r" b="b"/>
              <a:pathLst>
                <a:path w="10863" h="10862">
                  <a:moveTo>
                    <a:pt x="2391" y="9931"/>
                  </a:moveTo>
                  <a:lnTo>
                    <a:pt x="2866" y="10218"/>
                  </a:lnTo>
                  <a:lnTo>
                    <a:pt x="3359" y="10452"/>
                  </a:lnTo>
                  <a:lnTo>
                    <a:pt x="3865" y="10633"/>
                  </a:lnTo>
                  <a:lnTo>
                    <a:pt x="4381" y="10760"/>
                  </a:lnTo>
                  <a:lnTo>
                    <a:pt x="4902" y="10837"/>
                  </a:lnTo>
                  <a:lnTo>
                    <a:pt x="5425" y="10862"/>
                  </a:lnTo>
                  <a:lnTo>
                    <a:pt x="5947" y="10838"/>
                  </a:lnTo>
                  <a:lnTo>
                    <a:pt x="6463" y="10763"/>
                  </a:lnTo>
                  <a:lnTo>
                    <a:pt x="6969" y="10640"/>
                  </a:lnTo>
                  <a:lnTo>
                    <a:pt x="7462" y="10469"/>
                  </a:lnTo>
                  <a:lnTo>
                    <a:pt x="7938" y="10250"/>
                  </a:lnTo>
                  <a:lnTo>
                    <a:pt x="8393" y="9984"/>
                  </a:lnTo>
                  <a:lnTo>
                    <a:pt x="8824" y="9674"/>
                  </a:lnTo>
                  <a:lnTo>
                    <a:pt x="9227" y="9318"/>
                  </a:lnTo>
                  <a:lnTo>
                    <a:pt x="9597" y="8917"/>
                  </a:lnTo>
                  <a:lnTo>
                    <a:pt x="9932" y="8472"/>
                  </a:lnTo>
                  <a:lnTo>
                    <a:pt x="10219" y="7996"/>
                  </a:lnTo>
                  <a:lnTo>
                    <a:pt x="10453" y="7504"/>
                  </a:lnTo>
                  <a:lnTo>
                    <a:pt x="10633" y="6998"/>
                  </a:lnTo>
                  <a:lnTo>
                    <a:pt x="10761" y="6481"/>
                  </a:lnTo>
                  <a:lnTo>
                    <a:pt x="10838" y="5960"/>
                  </a:lnTo>
                  <a:lnTo>
                    <a:pt x="10863" y="5437"/>
                  </a:lnTo>
                  <a:lnTo>
                    <a:pt x="10839" y="4915"/>
                  </a:lnTo>
                  <a:lnTo>
                    <a:pt x="10764" y="4400"/>
                  </a:lnTo>
                  <a:lnTo>
                    <a:pt x="10641" y="3894"/>
                  </a:lnTo>
                  <a:lnTo>
                    <a:pt x="10470" y="3400"/>
                  </a:lnTo>
                  <a:lnTo>
                    <a:pt x="10251" y="2924"/>
                  </a:lnTo>
                  <a:lnTo>
                    <a:pt x="9985" y="2469"/>
                  </a:lnTo>
                  <a:lnTo>
                    <a:pt x="9674" y="2039"/>
                  </a:lnTo>
                  <a:lnTo>
                    <a:pt x="9318" y="1636"/>
                  </a:lnTo>
                  <a:lnTo>
                    <a:pt x="8918" y="1266"/>
                  </a:lnTo>
                  <a:lnTo>
                    <a:pt x="8473" y="932"/>
                  </a:lnTo>
                  <a:lnTo>
                    <a:pt x="7997" y="644"/>
                  </a:lnTo>
                  <a:lnTo>
                    <a:pt x="7505" y="410"/>
                  </a:lnTo>
                  <a:lnTo>
                    <a:pt x="6999" y="229"/>
                  </a:lnTo>
                  <a:lnTo>
                    <a:pt x="6482" y="102"/>
                  </a:lnTo>
                  <a:lnTo>
                    <a:pt x="5961" y="25"/>
                  </a:lnTo>
                  <a:lnTo>
                    <a:pt x="5438" y="0"/>
                  </a:lnTo>
                  <a:lnTo>
                    <a:pt x="4916" y="24"/>
                  </a:lnTo>
                  <a:lnTo>
                    <a:pt x="4400" y="99"/>
                  </a:lnTo>
                  <a:lnTo>
                    <a:pt x="3894" y="222"/>
                  </a:lnTo>
                  <a:lnTo>
                    <a:pt x="3401" y="393"/>
                  </a:lnTo>
                  <a:lnTo>
                    <a:pt x="2925" y="612"/>
                  </a:lnTo>
                  <a:lnTo>
                    <a:pt x="2470" y="878"/>
                  </a:lnTo>
                  <a:lnTo>
                    <a:pt x="2039" y="1188"/>
                  </a:lnTo>
                  <a:lnTo>
                    <a:pt x="1636" y="1544"/>
                  </a:lnTo>
                  <a:lnTo>
                    <a:pt x="1266" y="1945"/>
                  </a:lnTo>
                  <a:lnTo>
                    <a:pt x="932" y="2391"/>
                  </a:lnTo>
                  <a:lnTo>
                    <a:pt x="644" y="2866"/>
                  </a:lnTo>
                  <a:lnTo>
                    <a:pt x="410" y="3358"/>
                  </a:lnTo>
                  <a:lnTo>
                    <a:pt x="230" y="3864"/>
                  </a:lnTo>
                  <a:lnTo>
                    <a:pt x="102" y="4381"/>
                  </a:lnTo>
                  <a:lnTo>
                    <a:pt x="26" y="4902"/>
                  </a:lnTo>
                  <a:lnTo>
                    <a:pt x="0" y="5425"/>
                  </a:lnTo>
                  <a:lnTo>
                    <a:pt x="26" y="5947"/>
                  </a:lnTo>
                  <a:lnTo>
                    <a:pt x="100" y="6462"/>
                  </a:lnTo>
                  <a:lnTo>
                    <a:pt x="223" y="6968"/>
                  </a:lnTo>
                  <a:lnTo>
                    <a:pt x="395" y="7461"/>
                  </a:lnTo>
                  <a:lnTo>
                    <a:pt x="612" y="7938"/>
                  </a:lnTo>
                  <a:lnTo>
                    <a:pt x="878" y="8393"/>
                  </a:lnTo>
                  <a:lnTo>
                    <a:pt x="1190" y="8823"/>
                  </a:lnTo>
                  <a:lnTo>
                    <a:pt x="1546" y="9226"/>
                  </a:lnTo>
                  <a:lnTo>
                    <a:pt x="1947" y="9596"/>
                  </a:lnTo>
                  <a:lnTo>
                    <a:pt x="2391" y="9931"/>
                  </a:lnTo>
                  <a:close/>
                </a:path>
              </a:pathLst>
            </a:custGeom>
            <a:solidFill>
              <a:srgbClr val="243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871120" y="38520"/>
              <a:ext cx="828360" cy="819000"/>
            </a:xfrm>
            <a:custGeom>
              <a:avLst/>
              <a:gdLst/>
              <a:ahLst/>
              <a:rect l="l" t="t" r="r" b="b"/>
              <a:pathLst>
                <a:path w="10702" h="10702">
                  <a:moveTo>
                    <a:pt x="2355" y="9784"/>
                  </a:moveTo>
                  <a:lnTo>
                    <a:pt x="2823" y="10067"/>
                  </a:lnTo>
                  <a:lnTo>
                    <a:pt x="3309" y="10298"/>
                  </a:lnTo>
                  <a:lnTo>
                    <a:pt x="3807" y="10475"/>
                  </a:lnTo>
                  <a:lnTo>
                    <a:pt x="4316" y="10602"/>
                  </a:lnTo>
                  <a:lnTo>
                    <a:pt x="4829" y="10677"/>
                  </a:lnTo>
                  <a:lnTo>
                    <a:pt x="5345" y="10702"/>
                  </a:lnTo>
                  <a:lnTo>
                    <a:pt x="5859" y="10677"/>
                  </a:lnTo>
                  <a:lnTo>
                    <a:pt x="6367" y="10604"/>
                  </a:lnTo>
                  <a:lnTo>
                    <a:pt x="6866" y="10483"/>
                  </a:lnTo>
                  <a:lnTo>
                    <a:pt x="7352" y="10314"/>
                  </a:lnTo>
                  <a:lnTo>
                    <a:pt x="7821" y="10099"/>
                  </a:lnTo>
                  <a:lnTo>
                    <a:pt x="8269" y="9837"/>
                  </a:lnTo>
                  <a:lnTo>
                    <a:pt x="8694" y="9530"/>
                  </a:lnTo>
                  <a:lnTo>
                    <a:pt x="9091" y="9179"/>
                  </a:lnTo>
                  <a:lnTo>
                    <a:pt x="9456" y="8784"/>
                  </a:lnTo>
                  <a:lnTo>
                    <a:pt x="9785" y="8347"/>
                  </a:lnTo>
                  <a:lnTo>
                    <a:pt x="10068" y="7878"/>
                  </a:lnTo>
                  <a:lnTo>
                    <a:pt x="10299" y="7392"/>
                  </a:lnTo>
                  <a:lnTo>
                    <a:pt x="10476" y="6894"/>
                  </a:lnTo>
                  <a:lnTo>
                    <a:pt x="10602" y="6385"/>
                  </a:lnTo>
                  <a:lnTo>
                    <a:pt x="10677" y="5872"/>
                  </a:lnTo>
                  <a:lnTo>
                    <a:pt x="10702" y="5356"/>
                  </a:lnTo>
                  <a:lnTo>
                    <a:pt x="10677" y="4843"/>
                  </a:lnTo>
                  <a:lnTo>
                    <a:pt x="10604" y="4335"/>
                  </a:lnTo>
                  <a:lnTo>
                    <a:pt x="10483" y="3836"/>
                  </a:lnTo>
                  <a:lnTo>
                    <a:pt x="10314" y="3350"/>
                  </a:lnTo>
                  <a:lnTo>
                    <a:pt x="10099" y="2882"/>
                  </a:lnTo>
                  <a:lnTo>
                    <a:pt x="9837" y="2433"/>
                  </a:lnTo>
                  <a:lnTo>
                    <a:pt x="9530" y="2008"/>
                  </a:lnTo>
                  <a:lnTo>
                    <a:pt x="9179" y="1611"/>
                  </a:lnTo>
                  <a:lnTo>
                    <a:pt x="8785" y="1247"/>
                  </a:lnTo>
                  <a:lnTo>
                    <a:pt x="8348" y="918"/>
                  </a:lnTo>
                  <a:lnTo>
                    <a:pt x="7879" y="634"/>
                  </a:lnTo>
                  <a:lnTo>
                    <a:pt x="7393" y="404"/>
                  </a:lnTo>
                  <a:lnTo>
                    <a:pt x="6895" y="226"/>
                  </a:lnTo>
                  <a:lnTo>
                    <a:pt x="6386" y="100"/>
                  </a:lnTo>
                  <a:lnTo>
                    <a:pt x="5873" y="24"/>
                  </a:lnTo>
                  <a:lnTo>
                    <a:pt x="5357" y="0"/>
                  </a:lnTo>
                  <a:lnTo>
                    <a:pt x="4843" y="24"/>
                  </a:lnTo>
                  <a:lnTo>
                    <a:pt x="4335" y="97"/>
                  </a:lnTo>
                  <a:lnTo>
                    <a:pt x="3836" y="219"/>
                  </a:lnTo>
                  <a:lnTo>
                    <a:pt x="3350" y="388"/>
                  </a:lnTo>
                  <a:lnTo>
                    <a:pt x="2881" y="602"/>
                  </a:lnTo>
                  <a:lnTo>
                    <a:pt x="2433" y="864"/>
                  </a:lnTo>
                  <a:lnTo>
                    <a:pt x="2007" y="1171"/>
                  </a:lnTo>
                  <a:lnTo>
                    <a:pt x="1611" y="1522"/>
                  </a:lnTo>
                  <a:lnTo>
                    <a:pt x="1246" y="1917"/>
                  </a:lnTo>
                  <a:lnTo>
                    <a:pt x="918" y="2355"/>
                  </a:lnTo>
                  <a:lnTo>
                    <a:pt x="634" y="2823"/>
                  </a:lnTo>
                  <a:lnTo>
                    <a:pt x="404" y="3309"/>
                  </a:lnTo>
                  <a:lnTo>
                    <a:pt x="227" y="3808"/>
                  </a:lnTo>
                  <a:lnTo>
                    <a:pt x="100" y="4316"/>
                  </a:lnTo>
                  <a:lnTo>
                    <a:pt x="25" y="4829"/>
                  </a:lnTo>
                  <a:lnTo>
                    <a:pt x="0" y="5345"/>
                  </a:lnTo>
                  <a:lnTo>
                    <a:pt x="25" y="5858"/>
                  </a:lnTo>
                  <a:lnTo>
                    <a:pt x="98" y="6366"/>
                  </a:lnTo>
                  <a:lnTo>
                    <a:pt x="219" y="6865"/>
                  </a:lnTo>
                  <a:lnTo>
                    <a:pt x="388" y="7351"/>
                  </a:lnTo>
                  <a:lnTo>
                    <a:pt x="604" y="7820"/>
                  </a:lnTo>
                  <a:lnTo>
                    <a:pt x="865" y="8268"/>
                  </a:lnTo>
                  <a:lnTo>
                    <a:pt x="1172" y="8693"/>
                  </a:lnTo>
                  <a:lnTo>
                    <a:pt x="1523" y="9090"/>
                  </a:lnTo>
                  <a:lnTo>
                    <a:pt x="1917" y="9455"/>
                  </a:lnTo>
                  <a:lnTo>
                    <a:pt x="2355" y="9784"/>
                  </a:lnTo>
                  <a:close/>
                </a:path>
              </a:pathLst>
            </a:custGeom>
            <a:solidFill>
              <a:srgbClr val="263f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8880480" y="41040"/>
              <a:ext cx="816480" cy="806400"/>
            </a:xfrm>
            <a:custGeom>
              <a:avLst/>
              <a:gdLst/>
              <a:ahLst/>
              <a:rect l="l" t="t" r="r" b="b"/>
              <a:pathLst>
                <a:path w="10540" h="10542">
                  <a:moveTo>
                    <a:pt x="2319" y="9638"/>
                  </a:moveTo>
                  <a:lnTo>
                    <a:pt x="2781" y="9917"/>
                  </a:lnTo>
                  <a:lnTo>
                    <a:pt x="3259" y="10143"/>
                  </a:lnTo>
                  <a:lnTo>
                    <a:pt x="3750" y="10319"/>
                  </a:lnTo>
                  <a:lnTo>
                    <a:pt x="4250" y="10443"/>
                  </a:lnTo>
                  <a:lnTo>
                    <a:pt x="4756" y="10517"/>
                  </a:lnTo>
                  <a:lnTo>
                    <a:pt x="5264" y="10542"/>
                  </a:lnTo>
                  <a:lnTo>
                    <a:pt x="5770" y="10517"/>
                  </a:lnTo>
                  <a:lnTo>
                    <a:pt x="6271" y="10445"/>
                  </a:lnTo>
                  <a:lnTo>
                    <a:pt x="6762" y="10326"/>
                  </a:lnTo>
                  <a:lnTo>
                    <a:pt x="7240" y="10160"/>
                  </a:lnTo>
                  <a:lnTo>
                    <a:pt x="7703" y="9948"/>
                  </a:lnTo>
                  <a:lnTo>
                    <a:pt x="8144" y="9690"/>
                  </a:lnTo>
                  <a:lnTo>
                    <a:pt x="8562" y="9389"/>
                  </a:lnTo>
                  <a:lnTo>
                    <a:pt x="8953" y="9043"/>
                  </a:lnTo>
                  <a:lnTo>
                    <a:pt x="9311" y="8654"/>
                  </a:lnTo>
                  <a:lnTo>
                    <a:pt x="9637" y="8223"/>
                  </a:lnTo>
                  <a:lnTo>
                    <a:pt x="9915" y="7761"/>
                  </a:lnTo>
                  <a:lnTo>
                    <a:pt x="10142" y="7283"/>
                  </a:lnTo>
                  <a:lnTo>
                    <a:pt x="10317" y="6791"/>
                  </a:lnTo>
                  <a:lnTo>
                    <a:pt x="10441" y="6292"/>
                  </a:lnTo>
                  <a:lnTo>
                    <a:pt x="10516" y="5786"/>
                  </a:lnTo>
                  <a:lnTo>
                    <a:pt x="10540" y="5278"/>
                  </a:lnTo>
                  <a:lnTo>
                    <a:pt x="10516" y="4772"/>
                  </a:lnTo>
                  <a:lnTo>
                    <a:pt x="10444" y="4271"/>
                  </a:lnTo>
                  <a:lnTo>
                    <a:pt x="10324" y="3780"/>
                  </a:lnTo>
                  <a:lnTo>
                    <a:pt x="10159" y="3300"/>
                  </a:lnTo>
                  <a:lnTo>
                    <a:pt x="9946" y="2839"/>
                  </a:lnTo>
                  <a:lnTo>
                    <a:pt x="9689" y="2397"/>
                  </a:lnTo>
                  <a:lnTo>
                    <a:pt x="9387" y="1979"/>
                  </a:lnTo>
                  <a:lnTo>
                    <a:pt x="9041" y="1588"/>
                  </a:lnTo>
                  <a:lnTo>
                    <a:pt x="8652" y="1229"/>
                  </a:lnTo>
                  <a:lnTo>
                    <a:pt x="8222" y="905"/>
                  </a:lnTo>
                  <a:lnTo>
                    <a:pt x="7759" y="626"/>
                  </a:lnTo>
                  <a:lnTo>
                    <a:pt x="7281" y="398"/>
                  </a:lnTo>
                  <a:lnTo>
                    <a:pt x="6790" y="224"/>
                  </a:lnTo>
                  <a:lnTo>
                    <a:pt x="6290" y="99"/>
                  </a:lnTo>
                  <a:lnTo>
                    <a:pt x="5784" y="25"/>
                  </a:lnTo>
                  <a:lnTo>
                    <a:pt x="5276" y="0"/>
                  </a:lnTo>
                  <a:lnTo>
                    <a:pt x="4770" y="24"/>
                  </a:lnTo>
                  <a:lnTo>
                    <a:pt x="4269" y="96"/>
                  </a:lnTo>
                  <a:lnTo>
                    <a:pt x="3778" y="216"/>
                  </a:lnTo>
                  <a:lnTo>
                    <a:pt x="3299" y="382"/>
                  </a:lnTo>
                  <a:lnTo>
                    <a:pt x="2837" y="595"/>
                  </a:lnTo>
                  <a:lnTo>
                    <a:pt x="2396" y="852"/>
                  </a:lnTo>
                  <a:lnTo>
                    <a:pt x="1978" y="1154"/>
                  </a:lnTo>
                  <a:lnTo>
                    <a:pt x="1587" y="1500"/>
                  </a:lnTo>
                  <a:lnTo>
                    <a:pt x="1228" y="1890"/>
                  </a:lnTo>
                  <a:lnTo>
                    <a:pt x="904" y="2321"/>
                  </a:lnTo>
                  <a:lnTo>
                    <a:pt x="625" y="2783"/>
                  </a:lnTo>
                  <a:lnTo>
                    <a:pt x="398" y="3261"/>
                  </a:lnTo>
                  <a:lnTo>
                    <a:pt x="223" y="3752"/>
                  </a:lnTo>
                  <a:lnTo>
                    <a:pt x="98" y="4252"/>
                  </a:lnTo>
                  <a:lnTo>
                    <a:pt x="24" y="4758"/>
                  </a:lnTo>
                  <a:lnTo>
                    <a:pt x="0" y="5266"/>
                  </a:lnTo>
                  <a:lnTo>
                    <a:pt x="24" y="5772"/>
                  </a:lnTo>
                  <a:lnTo>
                    <a:pt x="96" y="6273"/>
                  </a:lnTo>
                  <a:lnTo>
                    <a:pt x="215" y="6764"/>
                  </a:lnTo>
                  <a:lnTo>
                    <a:pt x="381" y="7242"/>
                  </a:lnTo>
                  <a:lnTo>
                    <a:pt x="594" y="7705"/>
                  </a:lnTo>
                  <a:lnTo>
                    <a:pt x="851" y="8146"/>
                  </a:lnTo>
                  <a:lnTo>
                    <a:pt x="1153" y="8564"/>
                  </a:lnTo>
                  <a:lnTo>
                    <a:pt x="1499" y="8955"/>
                  </a:lnTo>
                  <a:lnTo>
                    <a:pt x="1888" y="9313"/>
                  </a:lnTo>
                  <a:lnTo>
                    <a:pt x="2319" y="9638"/>
                  </a:lnTo>
                  <a:close/>
                </a:path>
              </a:pathLst>
            </a:custGeom>
            <a:solidFill>
              <a:srgbClr val="28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889840" y="43920"/>
              <a:ext cx="804240" cy="794520"/>
            </a:xfrm>
            <a:custGeom>
              <a:avLst/>
              <a:gdLst/>
              <a:ahLst/>
              <a:rect l="l" t="t" r="r" b="b"/>
              <a:pathLst>
                <a:path w="10380" h="10381">
                  <a:moveTo>
                    <a:pt x="2283" y="9490"/>
                  </a:moveTo>
                  <a:lnTo>
                    <a:pt x="2737" y="9765"/>
                  </a:lnTo>
                  <a:lnTo>
                    <a:pt x="3208" y="9988"/>
                  </a:lnTo>
                  <a:lnTo>
                    <a:pt x="3692" y="10161"/>
                  </a:lnTo>
                  <a:lnTo>
                    <a:pt x="4185" y="10284"/>
                  </a:lnTo>
                  <a:lnTo>
                    <a:pt x="4684" y="10357"/>
                  </a:lnTo>
                  <a:lnTo>
                    <a:pt x="5183" y="10381"/>
                  </a:lnTo>
                  <a:lnTo>
                    <a:pt x="5682" y="10357"/>
                  </a:lnTo>
                  <a:lnTo>
                    <a:pt x="6175" y="10287"/>
                  </a:lnTo>
                  <a:lnTo>
                    <a:pt x="6659" y="10169"/>
                  </a:lnTo>
                  <a:lnTo>
                    <a:pt x="7130" y="10005"/>
                  </a:lnTo>
                  <a:lnTo>
                    <a:pt x="7585" y="9796"/>
                  </a:lnTo>
                  <a:lnTo>
                    <a:pt x="8020" y="9543"/>
                  </a:lnTo>
                  <a:lnTo>
                    <a:pt x="8432" y="9245"/>
                  </a:lnTo>
                  <a:lnTo>
                    <a:pt x="8816" y="8905"/>
                  </a:lnTo>
                  <a:lnTo>
                    <a:pt x="9170" y="8522"/>
                  </a:lnTo>
                  <a:lnTo>
                    <a:pt x="9490" y="8098"/>
                  </a:lnTo>
                  <a:lnTo>
                    <a:pt x="9764" y="7643"/>
                  </a:lnTo>
                  <a:lnTo>
                    <a:pt x="9988" y="7172"/>
                  </a:lnTo>
                  <a:lnTo>
                    <a:pt x="10160" y="6688"/>
                  </a:lnTo>
                  <a:lnTo>
                    <a:pt x="10282" y="6195"/>
                  </a:lnTo>
                  <a:lnTo>
                    <a:pt x="10356" y="5696"/>
                  </a:lnTo>
                  <a:lnTo>
                    <a:pt x="10380" y="5197"/>
                  </a:lnTo>
                  <a:lnTo>
                    <a:pt x="10356" y="4698"/>
                  </a:lnTo>
                  <a:lnTo>
                    <a:pt x="10284" y="4206"/>
                  </a:lnTo>
                  <a:lnTo>
                    <a:pt x="10166" y="3721"/>
                  </a:lnTo>
                  <a:lnTo>
                    <a:pt x="10003" y="3250"/>
                  </a:lnTo>
                  <a:lnTo>
                    <a:pt x="9794" y="2795"/>
                  </a:lnTo>
                  <a:lnTo>
                    <a:pt x="9541" y="2360"/>
                  </a:lnTo>
                  <a:lnTo>
                    <a:pt x="9244" y="1948"/>
                  </a:lnTo>
                  <a:lnTo>
                    <a:pt x="8903" y="1564"/>
                  </a:lnTo>
                  <a:lnTo>
                    <a:pt x="8521" y="1210"/>
                  </a:lnTo>
                  <a:lnTo>
                    <a:pt x="8096" y="891"/>
                  </a:lnTo>
                  <a:lnTo>
                    <a:pt x="7641" y="616"/>
                  </a:lnTo>
                  <a:lnTo>
                    <a:pt x="7170" y="393"/>
                  </a:lnTo>
                  <a:lnTo>
                    <a:pt x="6687" y="219"/>
                  </a:lnTo>
                  <a:lnTo>
                    <a:pt x="6193" y="97"/>
                  </a:lnTo>
                  <a:lnTo>
                    <a:pt x="5696" y="24"/>
                  </a:lnTo>
                  <a:lnTo>
                    <a:pt x="5195" y="0"/>
                  </a:lnTo>
                  <a:lnTo>
                    <a:pt x="4698" y="24"/>
                  </a:lnTo>
                  <a:lnTo>
                    <a:pt x="4204" y="95"/>
                  </a:lnTo>
                  <a:lnTo>
                    <a:pt x="3721" y="213"/>
                  </a:lnTo>
                  <a:lnTo>
                    <a:pt x="3250" y="377"/>
                  </a:lnTo>
                  <a:lnTo>
                    <a:pt x="2795" y="585"/>
                  </a:lnTo>
                  <a:lnTo>
                    <a:pt x="2359" y="839"/>
                  </a:lnTo>
                  <a:lnTo>
                    <a:pt x="1947" y="1137"/>
                  </a:lnTo>
                  <a:lnTo>
                    <a:pt x="1564" y="1477"/>
                  </a:lnTo>
                  <a:lnTo>
                    <a:pt x="1210" y="1860"/>
                  </a:lnTo>
                  <a:lnTo>
                    <a:pt x="891" y="2285"/>
                  </a:lnTo>
                  <a:lnTo>
                    <a:pt x="615" y="2739"/>
                  </a:lnTo>
                  <a:lnTo>
                    <a:pt x="392" y="3210"/>
                  </a:lnTo>
                  <a:lnTo>
                    <a:pt x="219" y="3693"/>
                  </a:lnTo>
                  <a:lnTo>
                    <a:pt x="96" y="4187"/>
                  </a:lnTo>
                  <a:lnTo>
                    <a:pt x="23" y="4684"/>
                  </a:lnTo>
                  <a:lnTo>
                    <a:pt x="0" y="5185"/>
                  </a:lnTo>
                  <a:lnTo>
                    <a:pt x="23" y="5683"/>
                  </a:lnTo>
                  <a:lnTo>
                    <a:pt x="94" y="6176"/>
                  </a:lnTo>
                  <a:lnTo>
                    <a:pt x="212" y="6659"/>
                  </a:lnTo>
                  <a:lnTo>
                    <a:pt x="376" y="7130"/>
                  </a:lnTo>
                  <a:lnTo>
                    <a:pt x="584" y="7585"/>
                  </a:lnTo>
                  <a:lnTo>
                    <a:pt x="837" y="8021"/>
                  </a:lnTo>
                  <a:lnTo>
                    <a:pt x="1135" y="8433"/>
                  </a:lnTo>
                  <a:lnTo>
                    <a:pt x="1475" y="8816"/>
                  </a:lnTo>
                  <a:lnTo>
                    <a:pt x="1858" y="9170"/>
                  </a:lnTo>
                  <a:lnTo>
                    <a:pt x="2283" y="9490"/>
                  </a:lnTo>
                  <a:close/>
                </a:path>
              </a:pathLst>
            </a:custGeom>
            <a:solidFill>
              <a:srgbClr val="2a4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899200" y="45720"/>
              <a:ext cx="791280" cy="782280"/>
            </a:xfrm>
            <a:custGeom>
              <a:avLst/>
              <a:gdLst/>
              <a:ahLst/>
              <a:rect l="l" t="t" r="r" b="b"/>
              <a:pathLst>
                <a:path w="10220" h="10221">
                  <a:moveTo>
                    <a:pt x="2249" y="9344"/>
                  </a:moveTo>
                  <a:lnTo>
                    <a:pt x="2696" y="9614"/>
                  </a:lnTo>
                  <a:lnTo>
                    <a:pt x="3160" y="9834"/>
                  </a:lnTo>
                  <a:lnTo>
                    <a:pt x="3637" y="10004"/>
                  </a:lnTo>
                  <a:lnTo>
                    <a:pt x="4122" y="10125"/>
                  </a:lnTo>
                  <a:lnTo>
                    <a:pt x="4612" y="10196"/>
                  </a:lnTo>
                  <a:lnTo>
                    <a:pt x="5104" y="10221"/>
                  </a:lnTo>
                  <a:lnTo>
                    <a:pt x="5595" y="10197"/>
                  </a:lnTo>
                  <a:lnTo>
                    <a:pt x="6081" y="10127"/>
                  </a:lnTo>
                  <a:lnTo>
                    <a:pt x="6557" y="10011"/>
                  </a:lnTo>
                  <a:lnTo>
                    <a:pt x="7021" y="9850"/>
                  </a:lnTo>
                  <a:lnTo>
                    <a:pt x="7469" y="9644"/>
                  </a:lnTo>
                  <a:lnTo>
                    <a:pt x="7898" y="9395"/>
                  </a:lnTo>
                  <a:lnTo>
                    <a:pt x="8303" y="9102"/>
                  </a:lnTo>
                  <a:lnTo>
                    <a:pt x="8681" y="8766"/>
                  </a:lnTo>
                  <a:lnTo>
                    <a:pt x="9030" y="8390"/>
                  </a:lnTo>
                  <a:lnTo>
                    <a:pt x="9345" y="7972"/>
                  </a:lnTo>
                  <a:lnTo>
                    <a:pt x="9615" y="7525"/>
                  </a:lnTo>
                  <a:lnTo>
                    <a:pt x="9835" y="7060"/>
                  </a:lnTo>
                  <a:lnTo>
                    <a:pt x="10004" y="6584"/>
                  </a:lnTo>
                  <a:lnTo>
                    <a:pt x="10125" y="6099"/>
                  </a:lnTo>
                  <a:lnTo>
                    <a:pt x="10196" y="5609"/>
                  </a:lnTo>
                  <a:lnTo>
                    <a:pt x="10220" y="5117"/>
                  </a:lnTo>
                  <a:lnTo>
                    <a:pt x="10196" y="4626"/>
                  </a:lnTo>
                  <a:lnTo>
                    <a:pt x="10127" y="4141"/>
                  </a:lnTo>
                  <a:lnTo>
                    <a:pt x="10010" y="3664"/>
                  </a:lnTo>
                  <a:lnTo>
                    <a:pt x="9850" y="3200"/>
                  </a:lnTo>
                  <a:lnTo>
                    <a:pt x="9643" y="2752"/>
                  </a:lnTo>
                  <a:lnTo>
                    <a:pt x="9395" y="2323"/>
                  </a:lnTo>
                  <a:lnTo>
                    <a:pt x="9101" y="1918"/>
                  </a:lnTo>
                  <a:lnTo>
                    <a:pt x="8766" y="1540"/>
                  </a:lnTo>
                  <a:lnTo>
                    <a:pt x="8390" y="1191"/>
                  </a:lnTo>
                  <a:lnTo>
                    <a:pt x="7972" y="877"/>
                  </a:lnTo>
                  <a:lnTo>
                    <a:pt x="7525" y="606"/>
                  </a:lnTo>
                  <a:lnTo>
                    <a:pt x="7060" y="386"/>
                  </a:lnTo>
                  <a:lnTo>
                    <a:pt x="6584" y="216"/>
                  </a:lnTo>
                  <a:lnTo>
                    <a:pt x="6099" y="96"/>
                  </a:lnTo>
                  <a:lnTo>
                    <a:pt x="5609" y="24"/>
                  </a:lnTo>
                  <a:lnTo>
                    <a:pt x="5117" y="0"/>
                  </a:lnTo>
                  <a:lnTo>
                    <a:pt x="4625" y="24"/>
                  </a:lnTo>
                  <a:lnTo>
                    <a:pt x="4141" y="94"/>
                  </a:lnTo>
                  <a:lnTo>
                    <a:pt x="3664" y="210"/>
                  </a:lnTo>
                  <a:lnTo>
                    <a:pt x="3200" y="370"/>
                  </a:lnTo>
                  <a:lnTo>
                    <a:pt x="2752" y="576"/>
                  </a:lnTo>
                  <a:lnTo>
                    <a:pt x="2324" y="826"/>
                  </a:lnTo>
                  <a:lnTo>
                    <a:pt x="1919" y="1119"/>
                  </a:lnTo>
                  <a:lnTo>
                    <a:pt x="1540" y="1453"/>
                  </a:lnTo>
                  <a:lnTo>
                    <a:pt x="1192" y="1831"/>
                  </a:lnTo>
                  <a:lnTo>
                    <a:pt x="878" y="2250"/>
                  </a:lnTo>
                  <a:lnTo>
                    <a:pt x="607" y="2696"/>
                  </a:lnTo>
                  <a:lnTo>
                    <a:pt x="387" y="3161"/>
                  </a:lnTo>
                  <a:lnTo>
                    <a:pt x="217" y="3637"/>
                  </a:lnTo>
                  <a:lnTo>
                    <a:pt x="97" y="4122"/>
                  </a:lnTo>
                  <a:lnTo>
                    <a:pt x="24" y="4612"/>
                  </a:lnTo>
                  <a:lnTo>
                    <a:pt x="0" y="5104"/>
                  </a:lnTo>
                  <a:lnTo>
                    <a:pt x="23" y="5595"/>
                  </a:lnTo>
                  <a:lnTo>
                    <a:pt x="93" y="6080"/>
                  </a:lnTo>
                  <a:lnTo>
                    <a:pt x="209" y="6556"/>
                  </a:lnTo>
                  <a:lnTo>
                    <a:pt x="371" y="7021"/>
                  </a:lnTo>
                  <a:lnTo>
                    <a:pt x="576" y="7468"/>
                  </a:lnTo>
                  <a:lnTo>
                    <a:pt x="826" y="7897"/>
                  </a:lnTo>
                  <a:lnTo>
                    <a:pt x="1118" y="8302"/>
                  </a:lnTo>
                  <a:lnTo>
                    <a:pt x="1454" y="8680"/>
                  </a:lnTo>
                  <a:lnTo>
                    <a:pt x="1831" y="9029"/>
                  </a:lnTo>
                  <a:lnTo>
                    <a:pt x="2249" y="9344"/>
                  </a:lnTo>
                  <a:close/>
                </a:path>
              </a:pathLst>
            </a:custGeom>
            <a:solidFill>
              <a:srgbClr val="2c46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8908200" y="48600"/>
              <a:ext cx="779400" cy="769320"/>
            </a:xfrm>
            <a:custGeom>
              <a:avLst/>
              <a:gdLst/>
              <a:ahLst/>
              <a:rect l="l" t="t" r="r" b="b"/>
              <a:pathLst>
                <a:path w="10059" h="10060">
                  <a:moveTo>
                    <a:pt x="2215" y="9198"/>
                  </a:moveTo>
                  <a:lnTo>
                    <a:pt x="2655" y="9464"/>
                  </a:lnTo>
                  <a:lnTo>
                    <a:pt x="3111" y="9681"/>
                  </a:lnTo>
                  <a:lnTo>
                    <a:pt x="3580" y="9847"/>
                  </a:lnTo>
                  <a:lnTo>
                    <a:pt x="4057" y="9966"/>
                  </a:lnTo>
                  <a:lnTo>
                    <a:pt x="4540" y="10037"/>
                  </a:lnTo>
                  <a:lnTo>
                    <a:pt x="5024" y="10060"/>
                  </a:lnTo>
                  <a:lnTo>
                    <a:pt x="5507" y="10037"/>
                  </a:lnTo>
                  <a:lnTo>
                    <a:pt x="5984" y="9969"/>
                  </a:lnTo>
                  <a:lnTo>
                    <a:pt x="6453" y="9854"/>
                  </a:lnTo>
                  <a:lnTo>
                    <a:pt x="6910" y="9695"/>
                  </a:lnTo>
                  <a:lnTo>
                    <a:pt x="7351" y="9493"/>
                  </a:lnTo>
                  <a:lnTo>
                    <a:pt x="7772" y="9248"/>
                  </a:lnTo>
                  <a:lnTo>
                    <a:pt x="8172" y="8960"/>
                  </a:lnTo>
                  <a:lnTo>
                    <a:pt x="8544" y="8629"/>
                  </a:lnTo>
                  <a:lnTo>
                    <a:pt x="8887" y="8258"/>
                  </a:lnTo>
                  <a:lnTo>
                    <a:pt x="9197" y="7848"/>
                  </a:lnTo>
                  <a:lnTo>
                    <a:pt x="9463" y="7407"/>
                  </a:lnTo>
                  <a:lnTo>
                    <a:pt x="9680" y="6949"/>
                  </a:lnTo>
                  <a:lnTo>
                    <a:pt x="9847" y="6481"/>
                  </a:lnTo>
                  <a:lnTo>
                    <a:pt x="9966" y="6003"/>
                  </a:lnTo>
                  <a:lnTo>
                    <a:pt x="10036" y="5521"/>
                  </a:lnTo>
                  <a:lnTo>
                    <a:pt x="10059" y="5036"/>
                  </a:lnTo>
                  <a:lnTo>
                    <a:pt x="10036" y="4553"/>
                  </a:lnTo>
                  <a:lnTo>
                    <a:pt x="9968" y="4075"/>
                  </a:lnTo>
                  <a:lnTo>
                    <a:pt x="9853" y="3606"/>
                  </a:lnTo>
                  <a:lnTo>
                    <a:pt x="9695" y="3150"/>
                  </a:lnTo>
                  <a:lnTo>
                    <a:pt x="9493" y="2709"/>
                  </a:lnTo>
                  <a:lnTo>
                    <a:pt x="9247" y="2287"/>
                  </a:lnTo>
                  <a:lnTo>
                    <a:pt x="8959" y="1888"/>
                  </a:lnTo>
                  <a:lnTo>
                    <a:pt x="8628" y="1515"/>
                  </a:lnTo>
                  <a:lnTo>
                    <a:pt x="8257" y="1173"/>
                  </a:lnTo>
                  <a:lnTo>
                    <a:pt x="7847" y="863"/>
                  </a:lnTo>
                  <a:lnTo>
                    <a:pt x="7406" y="597"/>
                  </a:lnTo>
                  <a:lnTo>
                    <a:pt x="6950" y="380"/>
                  </a:lnTo>
                  <a:lnTo>
                    <a:pt x="6481" y="213"/>
                  </a:lnTo>
                  <a:lnTo>
                    <a:pt x="6003" y="94"/>
                  </a:lnTo>
                  <a:lnTo>
                    <a:pt x="5520" y="24"/>
                  </a:lnTo>
                  <a:lnTo>
                    <a:pt x="5036" y="0"/>
                  </a:lnTo>
                  <a:lnTo>
                    <a:pt x="4552" y="24"/>
                  </a:lnTo>
                  <a:lnTo>
                    <a:pt x="4075" y="92"/>
                  </a:lnTo>
                  <a:lnTo>
                    <a:pt x="3606" y="206"/>
                  </a:lnTo>
                  <a:lnTo>
                    <a:pt x="3149" y="365"/>
                  </a:lnTo>
                  <a:lnTo>
                    <a:pt x="2709" y="567"/>
                  </a:lnTo>
                  <a:lnTo>
                    <a:pt x="2287" y="812"/>
                  </a:lnTo>
                  <a:lnTo>
                    <a:pt x="1888" y="1100"/>
                  </a:lnTo>
                  <a:lnTo>
                    <a:pt x="1515" y="1431"/>
                  </a:lnTo>
                  <a:lnTo>
                    <a:pt x="1173" y="1802"/>
                  </a:lnTo>
                  <a:lnTo>
                    <a:pt x="863" y="2213"/>
                  </a:lnTo>
                  <a:lnTo>
                    <a:pt x="596" y="2654"/>
                  </a:lnTo>
                  <a:lnTo>
                    <a:pt x="381" y="3111"/>
                  </a:lnTo>
                  <a:lnTo>
                    <a:pt x="213" y="3580"/>
                  </a:lnTo>
                  <a:lnTo>
                    <a:pt x="95" y="4057"/>
                  </a:lnTo>
                  <a:lnTo>
                    <a:pt x="23" y="4539"/>
                  </a:lnTo>
                  <a:lnTo>
                    <a:pt x="0" y="5024"/>
                  </a:lnTo>
                  <a:lnTo>
                    <a:pt x="23" y="5507"/>
                  </a:lnTo>
                  <a:lnTo>
                    <a:pt x="93" y="5985"/>
                  </a:lnTo>
                  <a:lnTo>
                    <a:pt x="206" y="6454"/>
                  </a:lnTo>
                  <a:lnTo>
                    <a:pt x="365" y="6910"/>
                  </a:lnTo>
                  <a:lnTo>
                    <a:pt x="568" y="7351"/>
                  </a:lnTo>
                  <a:lnTo>
                    <a:pt x="813" y="7773"/>
                  </a:lnTo>
                  <a:lnTo>
                    <a:pt x="1101" y="8172"/>
                  </a:lnTo>
                  <a:lnTo>
                    <a:pt x="1431" y="8545"/>
                  </a:lnTo>
                  <a:lnTo>
                    <a:pt x="1802" y="8887"/>
                  </a:lnTo>
                  <a:lnTo>
                    <a:pt x="2215" y="9198"/>
                  </a:lnTo>
                  <a:close/>
                </a:path>
              </a:pathLst>
            </a:custGeom>
            <a:solidFill>
              <a:srgbClr val="2f4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8917560" y="51120"/>
              <a:ext cx="767160" cy="757440"/>
            </a:xfrm>
            <a:custGeom>
              <a:avLst/>
              <a:gdLst/>
              <a:ahLst/>
              <a:rect l="l" t="t" r="r" b="b"/>
              <a:pathLst>
                <a:path w="9899" h="9899">
                  <a:moveTo>
                    <a:pt x="2179" y="9051"/>
                  </a:moveTo>
                  <a:lnTo>
                    <a:pt x="2611" y="9313"/>
                  </a:lnTo>
                  <a:lnTo>
                    <a:pt x="3061" y="9525"/>
                  </a:lnTo>
                  <a:lnTo>
                    <a:pt x="3522" y="9690"/>
                  </a:lnTo>
                  <a:lnTo>
                    <a:pt x="3992" y="9807"/>
                  </a:lnTo>
                  <a:lnTo>
                    <a:pt x="4467" y="9876"/>
                  </a:lnTo>
                  <a:lnTo>
                    <a:pt x="4944" y="9899"/>
                  </a:lnTo>
                  <a:lnTo>
                    <a:pt x="5419" y="9876"/>
                  </a:lnTo>
                  <a:lnTo>
                    <a:pt x="5889" y="9808"/>
                  </a:lnTo>
                  <a:lnTo>
                    <a:pt x="6350" y="9696"/>
                  </a:lnTo>
                  <a:lnTo>
                    <a:pt x="6800" y="9540"/>
                  </a:lnTo>
                  <a:lnTo>
                    <a:pt x="7234" y="9340"/>
                  </a:lnTo>
                  <a:lnTo>
                    <a:pt x="7649" y="9099"/>
                  </a:lnTo>
                  <a:lnTo>
                    <a:pt x="8042" y="8815"/>
                  </a:lnTo>
                  <a:lnTo>
                    <a:pt x="8408" y="8491"/>
                  </a:lnTo>
                  <a:lnTo>
                    <a:pt x="8745" y="8125"/>
                  </a:lnTo>
                  <a:lnTo>
                    <a:pt x="9051" y="7721"/>
                  </a:lnTo>
                  <a:lnTo>
                    <a:pt x="9312" y="7287"/>
                  </a:lnTo>
                  <a:lnTo>
                    <a:pt x="9525" y="6838"/>
                  </a:lnTo>
                  <a:lnTo>
                    <a:pt x="9689" y="6377"/>
                  </a:lnTo>
                  <a:lnTo>
                    <a:pt x="9806" y="5908"/>
                  </a:lnTo>
                  <a:lnTo>
                    <a:pt x="9876" y="5432"/>
                  </a:lnTo>
                  <a:lnTo>
                    <a:pt x="9899" y="4955"/>
                  </a:lnTo>
                  <a:lnTo>
                    <a:pt x="9877" y="4480"/>
                  </a:lnTo>
                  <a:lnTo>
                    <a:pt x="9809" y="4010"/>
                  </a:lnTo>
                  <a:lnTo>
                    <a:pt x="9696" y="3549"/>
                  </a:lnTo>
                  <a:lnTo>
                    <a:pt x="9540" y="3100"/>
                  </a:lnTo>
                  <a:lnTo>
                    <a:pt x="9341" y="2666"/>
                  </a:lnTo>
                  <a:lnTo>
                    <a:pt x="9099" y="2251"/>
                  </a:lnTo>
                  <a:lnTo>
                    <a:pt x="8816" y="1858"/>
                  </a:lnTo>
                  <a:lnTo>
                    <a:pt x="8491" y="1492"/>
                  </a:lnTo>
                  <a:lnTo>
                    <a:pt x="8126" y="1155"/>
                  </a:lnTo>
                  <a:lnTo>
                    <a:pt x="7722" y="851"/>
                  </a:lnTo>
                  <a:lnTo>
                    <a:pt x="7288" y="588"/>
                  </a:lnTo>
                  <a:lnTo>
                    <a:pt x="6838" y="374"/>
                  </a:lnTo>
                  <a:lnTo>
                    <a:pt x="6377" y="211"/>
                  </a:lnTo>
                  <a:lnTo>
                    <a:pt x="5907" y="94"/>
                  </a:lnTo>
                  <a:lnTo>
                    <a:pt x="5432" y="23"/>
                  </a:lnTo>
                  <a:lnTo>
                    <a:pt x="4954" y="0"/>
                  </a:lnTo>
                  <a:lnTo>
                    <a:pt x="4479" y="23"/>
                  </a:lnTo>
                  <a:lnTo>
                    <a:pt x="4009" y="90"/>
                  </a:lnTo>
                  <a:lnTo>
                    <a:pt x="3548" y="203"/>
                  </a:lnTo>
                  <a:lnTo>
                    <a:pt x="3099" y="359"/>
                  </a:lnTo>
                  <a:lnTo>
                    <a:pt x="2665" y="558"/>
                  </a:lnTo>
                  <a:lnTo>
                    <a:pt x="2250" y="799"/>
                  </a:lnTo>
                  <a:lnTo>
                    <a:pt x="1858" y="1083"/>
                  </a:lnTo>
                  <a:lnTo>
                    <a:pt x="1491" y="1408"/>
                  </a:lnTo>
                  <a:lnTo>
                    <a:pt x="1154" y="1773"/>
                  </a:lnTo>
                  <a:lnTo>
                    <a:pt x="850" y="2178"/>
                  </a:lnTo>
                  <a:lnTo>
                    <a:pt x="587" y="2611"/>
                  </a:lnTo>
                  <a:lnTo>
                    <a:pt x="374" y="3061"/>
                  </a:lnTo>
                  <a:lnTo>
                    <a:pt x="210" y="3522"/>
                  </a:lnTo>
                  <a:lnTo>
                    <a:pt x="93" y="3992"/>
                  </a:lnTo>
                  <a:lnTo>
                    <a:pt x="24" y="4467"/>
                  </a:lnTo>
                  <a:lnTo>
                    <a:pt x="0" y="4944"/>
                  </a:lnTo>
                  <a:lnTo>
                    <a:pt x="23" y="5420"/>
                  </a:lnTo>
                  <a:lnTo>
                    <a:pt x="91" y="5889"/>
                  </a:lnTo>
                  <a:lnTo>
                    <a:pt x="203" y="6351"/>
                  </a:lnTo>
                  <a:lnTo>
                    <a:pt x="360" y="6801"/>
                  </a:lnTo>
                  <a:lnTo>
                    <a:pt x="558" y="7234"/>
                  </a:lnTo>
                  <a:lnTo>
                    <a:pt x="800" y="7650"/>
                  </a:lnTo>
                  <a:lnTo>
                    <a:pt x="1084" y="8042"/>
                  </a:lnTo>
                  <a:lnTo>
                    <a:pt x="1408" y="8409"/>
                  </a:lnTo>
                  <a:lnTo>
                    <a:pt x="1774" y="8746"/>
                  </a:lnTo>
                  <a:lnTo>
                    <a:pt x="2179" y="9051"/>
                  </a:lnTo>
                  <a:close/>
                </a:path>
              </a:pathLst>
            </a:custGeom>
            <a:solidFill>
              <a:srgbClr val="314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8926920" y="53280"/>
              <a:ext cx="754920" cy="745560"/>
            </a:xfrm>
            <a:custGeom>
              <a:avLst/>
              <a:gdLst/>
              <a:ahLst/>
              <a:rect l="l" t="t" r="r" b="b"/>
              <a:pathLst>
                <a:path w="9739" h="9738">
                  <a:moveTo>
                    <a:pt x="2144" y="8903"/>
                  </a:moveTo>
                  <a:lnTo>
                    <a:pt x="2570" y="9161"/>
                  </a:lnTo>
                  <a:lnTo>
                    <a:pt x="3011" y="9370"/>
                  </a:lnTo>
                  <a:lnTo>
                    <a:pt x="3465" y="9532"/>
                  </a:lnTo>
                  <a:lnTo>
                    <a:pt x="3928" y="9646"/>
                  </a:lnTo>
                  <a:lnTo>
                    <a:pt x="4394" y="9715"/>
                  </a:lnTo>
                  <a:lnTo>
                    <a:pt x="4864" y="9738"/>
                  </a:lnTo>
                  <a:lnTo>
                    <a:pt x="5331" y="9715"/>
                  </a:lnTo>
                  <a:lnTo>
                    <a:pt x="5793" y="9648"/>
                  </a:lnTo>
                  <a:lnTo>
                    <a:pt x="6247" y="9538"/>
                  </a:lnTo>
                  <a:lnTo>
                    <a:pt x="6690" y="9385"/>
                  </a:lnTo>
                  <a:lnTo>
                    <a:pt x="7116" y="9188"/>
                  </a:lnTo>
                  <a:lnTo>
                    <a:pt x="7524" y="8951"/>
                  </a:lnTo>
                  <a:lnTo>
                    <a:pt x="7910" y="8672"/>
                  </a:lnTo>
                  <a:lnTo>
                    <a:pt x="8271" y="8353"/>
                  </a:lnTo>
                  <a:lnTo>
                    <a:pt x="8603" y="7993"/>
                  </a:lnTo>
                  <a:lnTo>
                    <a:pt x="8903" y="7596"/>
                  </a:lnTo>
                  <a:lnTo>
                    <a:pt x="9160" y="7168"/>
                  </a:lnTo>
                  <a:lnTo>
                    <a:pt x="9370" y="6727"/>
                  </a:lnTo>
                  <a:lnTo>
                    <a:pt x="9532" y="6273"/>
                  </a:lnTo>
                  <a:lnTo>
                    <a:pt x="9647" y="5811"/>
                  </a:lnTo>
                  <a:lnTo>
                    <a:pt x="9715" y="5343"/>
                  </a:lnTo>
                  <a:lnTo>
                    <a:pt x="9739" y="4874"/>
                  </a:lnTo>
                  <a:lnTo>
                    <a:pt x="9716" y="4406"/>
                  </a:lnTo>
                  <a:lnTo>
                    <a:pt x="9649" y="3944"/>
                  </a:lnTo>
                  <a:lnTo>
                    <a:pt x="9539" y="3490"/>
                  </a:lnTo>
                  <a:lnTo>
                    <a:pt x="9385" y="3048"/>
                  </a:lnTo>
                  <a:lnTo>
                    <a:pt x="9189" y="2622"/>
                  </a:lnTo>
                  <a:lnTo>
                    <a:pt x="8951" y="2213"/>
                  </a:lnTo>
                  <a:lnTo>
                    <a:pt x="8672" y="1827"/>
                  </a:lnTo>
                  <a:lnTo>
                    <a:pt x="8352" y="1466"/>
                  </a:lnTo>
                  <a:lnTo>
                    <a:pt x="7993" y="1134"/>
                  </a:lnTo>
                  <a:lnTo>
                    <a:pt x="7595" y="836"/>
                  </a:lnTo>
                  <a:lnTo>
                    <a:pt x="7168" y="577"/>
                  </a:lnTo>
                  <a:lnTo>
                    <a:pt x="6727" y="368"/>
                  </a:lnTo>
                  <a:lnTo>
                    <a:pt x="6273" y="205"/>
                  </a:lnTo>
                  <a:lnTo>
                    <a:pt x="5810" y="90"/>
                  </a:lnTo>
                  <a:lnTo>
                    <a:pt x="5344" y="22"/>
                  </a:lnTo>
                  <a:lnTo>
                    <a:pt x="4875" y="0"/>
                  </a:lnTo>
                  <a:lnTo>
                    <a:pt x="4407" y="22"/>
                  </a:lnTo>
                  <a:lnTo>
                    <a:pt x="3945" y="88"/>
                  </a:lnTo>
                  <a:lnTo>
                    <a:pt x="3491" y="199"/>
                  </a:lnTo>
                  <a:lnTo>
                    <a:pt x="3048" y="353"/>
                  </a:lnTo>
                  <a:lnTo>
                    <a:pt x="2622" y="549"/>
                  </a:lnTo>
                  <a:lnTo>
                    <a:pt x="2214" y="787"/>
                  </a:lnTo>
                  <a:lnTo>
                    <a:pt x="1828" y="1065"/>
                  </a:lnTo>
                  <a:lnTo>
                    <a:pt x="1468" y="1384"/>
                  </a:lnTo>
                  <a:lnTo>
                    <a:pt x="1136" y="1743"/>
                  </a:lnTo>
                  <a:lnTo>
                    <a:pt x="837" y="2142"/>
                  </a:lnTo>
                  <a:lnTo>
                    <a:pt x="579" y="2568"/>
                  </a:lnTo>
                  <a:lnTo>
                    <a:pt x="369" y="3010"/>
                  </a:lnTo>
                  <a:lnTo>
                    <a:pt x="207" y="3464"/>
                  </a:lnTo>
                  <a:lnTo>
                    <a:pt x="92" y="3926"/>
                  </a:lnTo>
                  <a:lnTo>
                    <a:pt x="23" y="4394"/>
                  </a:lnTo>
                  <a:lnTo>
                    <a:pt x="0" y="4863"/>
                  </a:lnTo>
                  <a:lnTo>
                    <a:pt x="23" y="5330"/>
                  </a:lnTo>
                  <a:lnTo>
                    <a:pt x="90" y="5793"/>
                  </a:lnTo>
                  <a:lnTo>
                    <a:pt x="199" y="6247"/>
                  </a:lnTo>
                  <a:lnTo>
                    <a:pt x="353" y="6689"/>
                  </a:lnTo>
                  <a:lnTo>
                    <a:pt x="549" y="7116"/>
                  </a:lnTo>
                  <a:lnTo>
                    <a:pt x="787" y="7524"/>
                  </a:lnTo>
                  <a:lnTo>
                    <a:pt x="1066" y="7910"/>
                  </a:lnTo>
                  <a:lnTo>
                    <a:pt x="1386" y="8271"/>
                  </a:lnTo>
                  <a:lnTo>
                    <a:pt x="1745" y="8603"/>
                  </a:lnTo>
                  <a:lnTo>
                    <a:pt x="2144" y="8903"/>
                  </a:lnTo>
                  <a:close/>
                </a:path>
              </a:pathLst>
            </a:custGeom>
            <a:solidFill>
              <a:srgbClr val="334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936280" y="55800"/>
              <a:ext cx="741960" cy="732600"/>
            </a:xfrm>
            <a:custGeom>
              <a:avLst/>
              <a:gdLst/>
              <a:ahLst/>
              <a:rect l="l" t="t" r="r" b="b"/>
              <a:pathLst>
                <a:path w="9577" h="9577">
                  <a:moveTo>
                    <a:pt x="2108" y="8755"/>
                  </a:moveTo>
                  <a:lnTo>
                    <a:pt x="2527" y="9008"/>
                  </a:lnTo>
                  <a:lnTo>
                    <a:pt x="2961" y="9215"/>
                  </a:lnTo>
                  <a:lnTo>
                    <a:pt x="3408" y="9374"/>
                  </a:lnTo>
                  <a:lnTo>
                    <a:pt x="3862" y="9488"/>
                  </a:lnTo>
                  <a:lnTo>
                    <a:pt x="4322" y="9555"/>
                  </a:lnTo>
                  <a:lnTo>
                    <a:pt x="4784" y="9577"/>
                  </a:lnTo>
                  <a:lnTo>
                    <a:pt x="5243" y="9555"/>
                  </a:lnTo>
                  <a:lnTo>
                    <a:pt x="5698" y="9490"/>
                  </a:lnTo>
                  <a:lnTo>
                    <a:pt x="6144" y="9380"/>
                  </a:lnTo>
                  <a:lnTo>
                    <a:pt x="6579" y="9230"/>
                  </a:lnTo>
                  <a:lnTo>
                    <a:pt x="6999" y="9037"/>
                  </a:lnTo>
                  <a:lnTo>
                    <a:pt x="7400" y="8803"/>
                  </a:lnTo>
                  <a:lnTo>
                    <a:pt x="7779" y="8529"/>
                  </a:lnTo>
                  <a:lnTo>
                    <a:pt x="8135" y="8214"/>
                  </a:lnTo>
                  <a:lnTo>
                    <a:pt x="8461" y="7861"/>
                  </a:lnTo>
                  <a:lnTo>
                    <a:pt x="8755" y="7470"/>
                  </a:lnTo>
                  <a:lnTo>
                    <a:pt x="9008" y="7050"/>
                  </a:lnTo>
                  <a:lnTo>
                    <a:pt x="9215" y="6615"/>
                  </a:lnTo>
                  <a:lnTo>
                    <a:pt x="9374" y="6169"/>
                  </a:lnTo>
                  <a:lnTo>
                    <a:pt x="9488" y="5715"/>
                  </a:lnTo>
                  <a:lnTo>
                    <a:pt x="9555" y="5255"/>
                  </a:lnTo>
                  <a:lnTo>
                    <a:pt x="9577" y="4793"/>
                  </a:lnTo>
                  <a:lnTo>
                    <a:pt x="9555" y="4334"/>
                  </a:lnTo>
                  <a:lnTo>
                    <a:pt x="9490" y="3879"/>
                  </a:lnTo>
                  <a:lnTo>
                    <a:pt x="9380" y="3433"/>
                  </a:lnTo>
                  <a:lnTo>
                    <a:pt x="9230" y="2998"/>
                  </a:lnTo>
                  <a:lnTo>
                    <a:pt x="9037" y="2578"/>
                  </a:lnTo>
                  <a:lnTo>
                    <a:pt x="8803" y="2177"/>
                  </a:lnTo>
                  <a:lnTo>
                    <a:pt x="8529" y="1796"/>
                  </a:lnTo>
                  <a:lnTo>
                    <a:pt x="8214" y="1442"/>
                  </a:lnTo>
                  <a:lnTo>
                    <a:pt x="7861" y="1116"/>
                  </a:lnTo>
                  <a:lnTo>
                    <a:pt x="7470" y="822"/>
                  </a:lnTo>
                  <a:lnTo>
                    <a:pt x="7050" y="568"/>
                  </a:lnTo>
                  <a:lnTo>
                    <a:pt x="6615" y="361"/>
                  </a:lnTo>
                  <a:lnTo>
                    <a:pt x="6169" y="203"/>
                  </a:lnTo>
                  <a:lnTo>
                    <a:pt x="5715" y="89"/>
                  </a:lnTo>
                  <a:lnTo>
                    <a:pt x="5256" y="22"/>
                  </a:lnTo>
                  <a:lnTo>
                    <a:pt x="4794" y="0"/>
                  </a:lnTo>
                  <a:lnTo>
                    <a:pt x="4334" y="22"/>
                  </a:lnTo>
                  <a:lnTo>
                    <a:pt x="3880" y="88"/>
                  </a:lnTo>
                  <a:lnTo>
                    <a:pt x="3433" y="197"/>
                  </a:lnTo>
                  <a:lnTo>
                    <a:pt x="2999" y="348"/>
                  </a:lnTo>
                  <a:lnTo>
                    <a:pt x="2579" y="540"/>
                  </a:lnTo>
                  <a:lnTo>
                    <a:pt x="2177" y="774"/>
                  </a:lnTo>
                  <a:lnTo>
                    <a:pt x="1797" y="1048"/>
                  </a:lnTo>
                  <a:lnTo>
                    <a:pt x="1443" y="1362"/>
                  </a:lnTo>
                  <a:lnTo>
                    <a:pt x="1117" y="1715"/>
                  </a:lnTo>
                  <a:lnTo>
                    <a:pt x="822" y="2107"/>
                  </a:lnTo>
                  <a:lnTo>
                    <a:pt x="568" y="2526"/>
                  </a:lnTo>
                  <a:lnTo>
                    <a:pt x="362" y="2961"/>
                  </a:lnTo>
                  <a:lnTo>
                    <a:pt x="203" y="3407"/>
                  </a:lnTo>
                  <a:lnTo>
                    <a:pt x="90" y="3861"/>
                  </a:lnTo>
                  <a:lnTo>
                    <a:pt x="23" y="4321"/>
                  </a:lnTo>
                  <a:lnTo>
                    <a:pt x="0" y="4783"/>
                  </a:lnTo>
                  <a:lnTo>
                    <a:pt x="22" y="5243"/>
                  </a:lnTo>
                  <a:lnTo>
                    <a:pt x="88" y="5697"/>
                  </a:lnTo>
                  <a:lnTo>
                    <a:pt x="196" y="6143"/>
                  </a:lnTo>
                  <a:lnTo>
                    <a:pt x="347" y="6578"/>
                  </a:lnTo>
                  <a:lnTo>
                    <a:pt x="540" y="6998"/>
                  </a:lnTo>
                  <a:lnTo>
                    <a:pt x="774" y="7400"/>
                  </a:lnTo>
                  <a:lnTo>
                    <a:pt x="1048" y="7779"/>
                  </a:lnTo>
                  <a:lnTo>
                    <a:pt x="1362" y="8135"/>
                  </a:lnTo>
                  <a:lnTo>
                    <a:pt x="1715" y="8461"/>
                  </a:lnTo>
                  <a:lnTo>
                    <a:pt x="2108" y="8755"/>
                  </a:lnTo>
                  <a:close/>
                </a:path>
              </a:pathLst>
            </a:custGeom>
            <a:solidFill>
              <a:srgbClr val="354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945640" y="58680"/>
              <a:ext cx="729720" cy="720000"/>
            </a:xfrm>
            <a:custGeom>
              <a:avLst/>
              <a:gdLst/>
              <a:ahLst/>
              <a:rect l="l" t="t" r="r" b="b"/>
              <a:pathLst>
                <a:path w="9417" h="9417">
                  <a:moveTo>
                    <a:pt x="2073" y="8609"/>
                  </a:moveTo>
                  <a:lnTo>
                    <a:pt x="2484" y="8857"/>
                  </a:lnTo>
                  <a:lnTo>
                    <a:pt x="2912" y="9060"/>
                  </a:lnTo>
                  <a:lnTo>
                    <a:pt x="3351" y="9217"/>
                  </a:lnTo>
                  <a:lnTo>
                    <a:pt x="3797" y="9328"/>
                  </a:lnTo>
                  <a:lnTo>
                    <a:pt x="4249" y="9394"/>
                  </a:lnTo>
                  <a:lnTo>
                    <a:pt x="4703" y="9417"/>
                  </a:lnTo>
                  <a:lnTo>
                    <a:pt x="5155" y="9395"/>
                  </a:lnTo>
                  <a:lnTo>
                    <a:pt x="5602" y="9330"/>
                  </a:lnTo>
                  <a:lnTo>
                    <a:pt x="6041" y="9223"/>
                  </a:lnTo>
                  <a:lnTo>
                    <a:pt x="6469" y="9075"/>
                  </a:lnTo>
                  <a:lnTo>
                    <a:pt x="6881" y="8885"/>
                  </a:lnTo>
                  <a:lnTo>
                    <a:pt x="7276" y="8655"/>
                  </a:lnTo>
                  <a:lnTo>
                    <a:pt x="7649" y="8385"/>
                  </a:lnTo>
                  <a:lnTo>
                    <a:pt x="7998" y="8077"/>
                  </a:lnTo>
                  <a:lnTo>
                    <a:pt x="8319" y="7729"/>
                  </a:lnTo>
                  <a:lnTo>
                    <a:pt x="8609" y="7345"/>
                  </a:lnTo>
                  <a:lnTo>
                    <a:pt x="8858" y="6932"/>
                  </a:lnTo>
                  <a:lnTo>
                    <a:pt x="9061" y="6505"/>
                  </a:lnTo>
                  <a:lnTo>
                    <a:pt x="9217" y="6066"/>
                  </a:lnTo>
                  <a:lnTo>
                    <a:pt x="9329" y="5619"/>
                  </a:lnTo>
                  <a:lnTo>
                    <a:pt x="9395" y="5167"/>
                  </a:lnTo>
                  <a:lnTo>
                    <a:pt x="9417" y="4713"/>
                  </a:lnTo>
                  <a:lnTo>
                    <a:pt x="9396" y="4262"/>
                  </a:lnTo>
                  <a:lnTo>
                    <a:pt x="9331" y="3814"/>
                  </a:lnTo>
                  <a:lnTo>
                    <a:pt x="9223" y="3375"/>
                  </a:lnTo>
                  <a:lnTo>
                    <a:pt x="9076" y="2948"/>
                  </a:lnTo>
                  <a:lnTo>
                    <a:pt x="8885" y="2535"/>
                  </a:lnTo>
                  <a:lnTo>
                    <a:pt x="8656" y="2140"/>
                  </a:lnTo>
                  <a:lnTo>
                    <a:pt x="8386" y="1767"/>
                  </a:lnTo>
                  <a:lnTo>
                    <a:pt x="8077" y="1418"/>
                  </a:lnTo>
                  <a:lnTo>
                    <a:pt x="7730" y="1097"/>
                  </a:lnTo>
                  <a:lnTo>
                    <a:pt x="7345" y="808"/>
                  </a:lnTo>
                  <a:lnTo>
                    <a:pt x="6932" y="558"/>
                  </a:lnTo>
                  <a:lnTo>
                    <a:pt x="6505" y="355"/>
                  </a:lnTo>
                  <a:lnTo>
                    <a:pt x="6066" y="199"/>
                  </a:lnTo>
                  <a:lnTo>
                    <a:pt x="5619" y="88"/>
                  </a:lnTo>
                  <a:lnTo>
                    <a:pt x="5168" y="22"/>
                  </a:lnTo>
                  <a:lnTo>
                    <a:pt x="4714" y="0"/>
                  </a:lnTo>
                  <a:lnTo>
                    <a:pt x="4262" y="21"/>
                  </a:lnTo>
                  <a:lnTo>
                    <a:pt x="3814" y="86"/>
                  </a:lnTo>
                  <a:lnTo>
                    <a:pt x="3375" y="192"/>
                  </a:lnTo>
                  <a:lnTo>
                    <a:pt x="2948" y="341"/>
                  </a:lnTo>
                  <a:lnTo>
                    <a:pt x="2535" y="530"/>
                  </a:lnTo>
                  <a:lnTo>
                    <a:pt x="2141" y="760"/>
                  </a:lnTo>
                  <a:lnTo>
                    <a:pt x="1768" y="1030"/>
                  </a:lnTo>
                  <a:lnTo>
                    <a:pt x="1419" y="1339"/>
                  </a:lnTo>
                  <a:lnTo>
                    <a:pt x="1098" y="1686"/>
                  </a:lnTo>
                  <a:lnTo>
                    <a:pt x="809" y="2072"/>
                  </a:lnTo>
                  <a:lnTo>
                    <a:pt x="559" y="2483"/>
                  </a:lnTo>
                  <a:lnTo>
                    <a:pt x="356" y="2910"/>
                  </a:lnTo>
                  <a:lnTo>
                    <a:pt x="200" y="3350"/>
                  </a:lnTo>
                  <a:lnTo>
                    <a:pt x="88" y="3796"/>
                  </a:lnTo>
                  <a:lnTo>
                    <a:pt x="22" y="4249"/>
                  </a:lnTo>
                  <a:lnTo>
                    <a:pt x="0" y="4702"/>
                  </a:lnTo>
                  <a:lnTo>
                    <a:pt x="21" y="5155"/>
                  </a:lnTo>
                  <a:lnTo>
                    <a:pt x="86" y="5601"/>
                  </a:lnTo>
                  <a:lnTo>
                    <a:pt x="193" y="6040"/>
                  </a:lnTo>
                  <a:lnTo>
                    <a:pt x="341" y="6469"/>
                  </a:lnTo>
                  <a:lnTo>
                    <a:pt x="531" y="6881"/>
                  </a:lnTo>
                  <a:lnTo>
                    <a:pt x="761" y="7275"/>
                  </a:lnTo>
                  <a:lnTo>
                    <a:pt x="1031" y="7649"/>
                  </a:lnTo>
                  <a:lnTo>
                    <a:pt x="1339" y="7997"/>
                  </a:lnTo>
                  <a:lnTo>
                    <a:pt x="1687" y="8318"/>
                  </a:lnTo>
                  <a:lnTo>
                    <a:pt x="2073" y="8609"/>
                  </a:lnTo>
                  <a:close/>
                </a:path>
              </a:pathLst>
            </a:custGeom>
            <a:solidFill>
              <a:srgbClr val="3750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8955000" y="60480"/>
              <a:ext cx="717840" cy="708840"/>
            </a:xfrm>
            <a:custGeom>
              <a:avLst/>
              <a:gdLst/>
              <a:ahLst/>
              <a:rect l="l" t="t" r="r" b="b"/>
              <a:pathLst>
                <a:path w="9256" h="9255">
                  <a:moveTo>
                    <a:pt x="2036" y="8462"/>
                  </a:moveTo>
                  <a:lnTo>
                    <a:pt x="2441" y="8706"/>
                  </a:lnTo>
                  <a:lnTo>
                    <a:pt x="2861" y="8905"/>
                  </a:lnTo>
                  <a:lnTo>
                    <a:pt x="3292" y="9059"/>
                  </a:lnTo>
                  <a:lnTo>
                    <a:pt x="3732" y="9169"/>
                  </a:lnTo>
                  <a:lnTo>
                    <a:pt x="4176" y="9234"/>
                  </a:lnTo>
                  <a:lnTo>
                    <a:pt x="4621" y="9255"/>
                  </a:lnTo>
                  <a:lnTo>
                    <a:pt x="5066" y="9234"/>
                  </a:lnTo>
                  <a:lnTo>
                    <a:pt x="5506" y="9171"/>
                  </a:lnTo>
                  <a:lnTo>
                    <a:pt x="5938" y="9066"/>
                  </a:lnTo>
                  <a:lnTo>
                    <a:pt x="6357" y="8920"/>
                  </a:lnTo>
                  <a:lnTo>
                    <a:pt x="6762" y="8734"/>
                  </a:lnTo>
                  <a:lnTo>
                    <a:pt x="7151" y="8507"/>
                  </a:lnTo>
                  <a:lnTo>
                    <a:pt x="7518" y="8243"/>
                  </a:lnTo>
                  <a:lnTo>
                    <a:pt x="7861" y="7940"/>
                  </a:lnTo>
                  <a:lnTo>
                    <a:pt x="8176" y="7599"/>
                  </a:lnTo>
                  <a:lnTo>
                    <a:pt x="8461" y="7220"/>
                  </a:lnTo>
                  <a:lnTo>
                    <a:pt x="8706" y="6814"/>
                  </a:lnTo>
                  <a:lnTo>
                    <a:pt x="8906" y="6394"/>
                  </a:lnTo>
                  <a:lnTo>
                    <a:pt x="9060" y="5962"/>
                  </a:lnTo>
                  <a:lnTo>
                    <a:pt x="9168" y="5523"/>
                  </a:lnTo>
                  <a:lnTo>
                    <a:pt x="9233" y="5079"/>
                  </a:lnTo>
                  <a:lnTo>
                    <a:pt x="9256" y="4634"/>
                  </a:lnTo>
                  <a:lnTo>
                    <a:pt x="9234" y="4189"/>
                  </a:lnTo>
                  <a:lnTo>
                    <a:pt x="9170" y="3749"/>
                  </a:lnTo>
                  <a:lnTo>
                    <a:pt x="9065" y="3318"/>
                  </a:lnTo>
                  <a:lnTo>
                    <a:pt x="8920" y="2898"/>
                  </a:lnTo>
                  <a:lnTo>
                    <a:pt x="8734" y="2492"/>
                  </a:lnTo>
                  <a:lnTo>
                    <a:pt x="8507" y="2104"/>
                  </a:lnTo>
                  <a:lnTo>
                    <a:pt x="8242" y="1737"/>
                  </a:lnTo>
                  <a:lnTo>
                    <a:pt x="7938" y="1393"/>
                  </a:lnTo>
                  <a:lnTo>
                    <a:pt x="7597" y="1078"/>
                  </a:lnTo>
                  <a:lnTo>
                    <a:pt x="7219" y="794"/>
                  </a:lnTo>
                  <a:lnTo>
                    <a:pt x="6812" y="548"/>
                  </a:lnTo>
                  <a:lnTo>
                    <a:pt x="6393" y="349"/>
                  </a:lnTo>
                  <a:lnTo>
                    <a:pt x="5962" y="195"/>
                  </a:lnTo>
                  <a:lnTo>
                    <a:pt x="5523" y="87"/>
                  </a:lnTo>
                  <a:lnTo>
                    <a:pt x="5079" y="22"/>
                  </a:lnTo>
                  <a:lnTo>
                    <a:pt x="4632" y="0"/>
                  </a:lnTo>
                  <a:lnTo>
                    <a:pt x="4189" y="21"/>
                  </a:lnTo>
                  <a:lnTo>
                    <a:pt x="3749" y="85"/>
                  </a:lnTo>
                  <a:lnTo>
                    <a:pt x="3317" y="190"/>
                  </a:lnTo>
                  <a:lnTo>
                    <a:pt x="2897" y="336"/>
                  </a:lnTo>
                  <a:lnTo>
                    <a:pt x="2491" y="522"/>
                  </a:lnTo>
                  <a:lnTo>
                    <a:pt x="2104" y="748"/>
                  </a:lnTo>
                  <a:lnTo>
                    <a:pt x="1736" y="1013"/>
                  </a:lnTo>
                  <a:lnTo>
                    <a:pt x="1394" y="1316"/>
                  </a:lnTo>
                  <a:lnTo>
                    <a:pt x="1078" y="1657"/>
                  </a:lnTo>
                  <a:lnTo>
                    <a:pt x="794" y="2037"/>
                  </a:lnTo>
                  <a:lnTo>
                    <a:pt x="549" y="2442"/>
                  </a:lnTo>
                  <a:lnTo>
                    <a:pt x="350" y="2861"/>
                  </a:lnTo>
                  <a:lnTo>
                    <a:pt x="196" y="3293"/>
                  </a:lnTo>
                  <a:lnTo>
                    <a:pt x="86" y="3732"/>
                  </a:lnTo>
                  <a:lnTo>
                    <a:pt x="21" y="4177"/>
                  </a:lnTo>
                  <a:lnTo>
                    <a:pt x="0" y="4622"/>
                  </a:lnTo>
                  <a:lnTo>
                    <a:pt x="21" y="5066"/>
                  </a:lnTo>
                  <a:lnTo>
                    <a:pt x="84" y="5506"/>
                  </a:lnTo>
                  <a:lnTo>
                    <a:pt x="189" y="5938"/>
                  </a:lnTo>
                  <a:lnTo>
                    <a:pt x="335" y="6358"/>
                  </a:lnTo>
                  <a:lnTo>
                    <a:pt x="521" y="6763"/>
                  </a:lnTo>
                  <a:lnTo>
                    <a:pt x="747" y="7151"/>
                  </a:lnTo>
                  <a:lnTo>
                    <a:pt x="1012" y="7519"/>
                  </a:lnTo>
                  <a:lnTo>
                    <a:pt x="1315" y="7861"/>
                  </a:lnTo>
                  <a:lnTo>
                    <a:pt x="1656" y="8177"/>
                  </a:lnTo>
                  <a:lnTo>
                    <a:pt x="2036" y="8462"/>
                  </a:lnTo>
                  <a:close/>
                </a:path>
              </a:pathLst>
            </a:custGeom>
            <a:solidFill>
              <a:srgbClr val="3953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964360" y="63000"/>
              <a:ext cx="704520" cy="696240"/>
            </a:xfrm>
            <a:custGeom>
              <a:avLst/>
              <a:gdLst/>
              <a:ahLst/>
              <a:rect l="l" t="t" r="r" b="b"/>
              <a:pathLst>
                <a:path w="9096" h="9095">
                  <a:moveTo>
                    <a:pt x="2002" y="8316"/>
                  </a:moveTo>
                  <a:lnTo>
                    <a:pt x="2400" y="8556"/>
                  </a:lnTo>
                  <a:lnTo>
                    <a:pt x="2812" y="8752"/>
                  </a:lnTo>
                  <a:lnTo>
                    <a:pt x="3236" y="8903"/>
                  </a:lnTo>
                  <a:lnTo>
                    <a:pt x="3668" y="9010"/>
                  </a:lnTo>
                  <a:lnTo>
                    <a:pt x="4105" y="9074"/>
                  </a:lnTo>
                  <a:lnTo>
                    <a:pt x="4543" y="9095"/>
                  </a:lnTo>
                  <a:lnTo>
                    <a:pt x="4980" y="9074"/>
                  </a:lnTo>
                  <a:lnTo>
                    <a:pt x="5411" y="9012"/>
                  </a:lnTo>
                  <a:lnTo>
                    <a:pt x="5836" y="8909"/>
                  </a:lnTo>
                  <a:lnTo>
                    <a:pt x="6248" y="8766"/>
                  </a:lnTo>
                  <a:lnTo>
                    <a:pt x="6647" y="8582"/>
                  </a:lnTo>
                  <a:lnTo>
                    <a:pt x="7028" y="8361"/>
                  </a:lnTo>
                  <a:lnTo>
                    <a:pt x="7389" y="8100"/>
                  </a:lnTo>
                  <a:lnTo>
                    <a:pt x="7726" y="7801"/>
                  </a:lnTo>
                  <a:lnTo>
                    <a:pt x="8035" y="7466"/>
                  </a:lnTo>
                  <a:lnTo>
                    <a:pt x="8316" y="7095"/>
                  </a:lnTo>
                  <a:lnTo>
                    <a:pt x="8556" y="6696"/>
                  </a:lnTo>
                  <a:lnTo>
                    <a:pt x="8752" y="6283"/>
                  </a:lnTo>
                  <a:lnTo>
                    <a:pt x="8904" y="5859"/>
                  </a:lnTo>
                  <a:lnTo>
                    <a:pt x="9010" y="5428"/>
                  </a:lnTo>
                  <a:lnTo>
                    <a:pt x="9075" y="4991"/>
                  </a:lnTo>
                  <a:lnTo>
                    <a:pt x="9096" y="4553"/>
                  </a:lnTo>
                  <a:lnTo>
                    <a:pt x="9075" y="4116"/>
                  </a:lnTo>
                  <a:lnTo>
                    <a:pt x="9012" y="3684"/>
                  </a:lnTo>
                  <a:lnTo>
                    <a:pt x="8909" y="3260"/>
                  </a:lnTo>
                  <a:lnTo>
                    <a:pt x="8766" y="2848"/>
                  </a:lnTo>
                  <a:lnTo>
                    <a:pt x="8583" y="2449"/>
                  </a:lnTo>
                  <a:lnTo>
                    <a:pt x="8360" y="2067"/>
                  </a:lnTo>
                  <a:lnTo>
                    <a:pt x="8100" y="1707"/>
                  </a:lnTo>
                  <a:lnTo>
                    <a:pt x="7801" y="1370"/>
                  </a:lnTo>
                  <a:lnTo>
                    <a:pt x="7466" y="1059"/>
                  </a:lnTo>
                  <a:lnTo>
                    <a:pt x="7094" y="780"/>
                  </a:lnTo>
                  <a:lnTo>
                    <a:pt x="6696" y="539"/>
                  </a:lnTo>
                  <a:lnTo>
                    <a:pt x="6283" y="343"/>
                  </a:lnTo>
                  <a:lnTo>
                    <a:pt x="5860" y="192"/>
                  </a:lnTo>
                  <a:lnTo>
                    <a:pt x="5428" y="85"/>
                  </a:lnTo>
                  <a:lnTo>
                    <a:pt x="4991" y="21"/>
                  </a:lnTo>
                  <a:lnTo>
                    <a:pt x="4553" y="0"/>
                  </a:lnTo>
                  <a:lnTo>
                    <a:pt x="4117" y="21"/>
                  </a:lnTo>
                  <a:lnTo>
                    <a:pt x="3685" y="82"/>
                  </a:lnTo>
                  <a:lnTo>
                    <a:pt x="3261" y="186"/>
                  </a:lnTo>
                  <a:lnTo>
                    <a:pt x="2848" y="329"/>
                  </a:lnTo>
                  <a:lnTo>
                    <a:pt x="2450" y="513"/>
                  </a:lnTo>
                  <a:lnTo>
                    <a:pt x="2068" y="734"/>
                  </a:lnTo>
                  <a:lnTo>
                    <a:pt x="1708" y="995"/>
                  </a:lnTo>
                  <a:lnTo>
                    <a:pt x="1371" y="1293"/>
                  </a:lnTo>
                  <a:lnTo>
                    <a:pt x="1060" y="1629"/>
                  </a:lnTo>
                  <a:lnTo>
                    <a:pt x="780" y="2001"/>
                  </a:lnTo>
                  <a:lnTo>
                    <a:pt x="539" y="2399"/>
                  </a:lnTo>
                  <a:lnTo>
                    <a:pt x="344" y="2811"/>
                  </a:lnTo>
                  <a:lnTo>
                    <a:pt x="193" y="3236"/>
                  </a:lnTo>
                  <a:lnTo>
                    <a:pt x="85" y="3667"/>
                  </a:lnTo>
                  <a:lnTo>
                    <a:pt x="21" y="4104"/>
                  </a:lnTo>
                  <a:lnTo>
                    <a:pt x="0" y="4542"/>
                  </a:lnTo>
                  <a:lnTo>
                    <a:pt x="21" y="4979"/>
                  </a:lnTo>
                  <a:lnTo>
                    <a:pt x="83" y="5411"/>
                  </a:lnTo>
                  <a:lnTo>
                    <a:pt x="186" y="5835"/>
                  </a:lnTo>
                  <a:lnTo>
                    <a:pt x="330" y="6247"/>
                  </a:lnTo>
                  <a:lnTo>
                    <a:pt x="514" y="6646"/>
                  </a:lnTo>
                  <a:lnTo>
                    <a:pt x="735" y="7028"/>
                  </a:lnTo>
                  <a:lnTo>
                    <a:pt x="995" y="7388"/>
                  </a:lnTo>
                  <a:lnTo>
                    <a:pt x="1294" y="7725"/>
                  </a:lnTo>
                  <a:lnTo>
                    <a:pt x="1630" y="8035"/>
                  </a:lnTo>
                  <a:lnTo>
                    <a:pt x="2002" y="8316"/>
                  </a:lnTo>
                  <a:close/>
                </a:path>
              </a:pathLst>
            </a:custGeom>
            <a:solidFill>
              <a:srgbClr val="3b55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8973720" y="65880"/>
              <a:ext cx="692640" cy="683280"/>
            </a:xfrm>
            <a:custGeom>
              <a:avLst/>
              <a:gdLst/>
              <a:ahLst/>
              <a:rect l="l" t="t" r="r" b="b"/>
              <a:pathLst>
                <a:path w="8935" h="8936">
                  <a:moveTo>
                    <a:pt x="1967" y="8169"/>
                  </a:moveTo>
                  <a:lnTo>
                    <a:pt x="2357" y="8405"/>
                  </a:lnTo>
                  <a:lnTo>
                    <a:pt x="2763" y="8598"/>
                  </a:lnTo>
                  <a:lnTo>
                    <a:pt x="3179" y="8746"/>
                  </a:lnTo>
                  <a:lnTo>
                    <a:pt x="3603" y="8852"/>
                  </a:lnTo>
                  <a:lnTo>
                    <a:pt x="4032" y="8914"/>
                  </a:lnTo>
                  <a:lnTo>
                    <a:pt x="4462" y="8936"/>
                  </a:lnTo>
                  <a:lnTo>
                    <a:pt x="4892" y="8915"/>
                  </a:lnTo>
                  <a:lnTo>
                    <a:pt x="5316" y="8854"/>
                  </a:lnTo>
                  <a:lnTo>
                    <a:pt x="5732" y="8753"/>
                  </a:lnTo>
                  <a:lnTo>
                    <a:pt x="6138" y="8611"/>
                  </a:lnTo>
                  <a:lnTo>
                    <a:pt x="6529" y="8432"/>
                  </a:lnTo>
                  <a:lnTo>
                    <a:pt x="6903" y="8214"/>
                  </a:lnTo>
                  <a:lnTo>
                    <a:pt x="7258" y="7958"/>
                  </a:lnTo>
                  <a:lnTo>
                    <a:pt x="7589" y="7664"/>
                  </a:lnTo>
                  <a:lnTo>
                    <a:pt x="7893" y="7335"/>
                  </a:lnTo>
                  <a:lnTo>
                    <a:pt x="8168" y="6970"/>
                  </a:lnTo>
                  <a:lnTo>
                    <a:pt x="8404" y="6579"/>
                  </a:lnTo>
                  <a:lnTo>
                    <a:pt x="8597" y="6173"/>
                  </a:lnTo>
                  <a:lnTo>
                    <a:pt x="8746" y="5757"/>
                  </a:lnTo>
                  <a:lnTo>
                    <a:pt x="8851" y="5333"/>
                  </a:lnTo>
                  <a:lnTo>
                    <a:pt x="8914" y="4904"/>
                  </a:lnTo>
                  <a:lnTo>
                    <a:pt x="8935" y="4474"/>
                  </a:lnTo>
                  <a:lnTo>
                    <a:pt x="8915" y="4044"/>
                  </a:lnTo>
                  <a:lnTo>
                    <a:pt x="8853" y="3620"/>
                  </a:lnTo>
                  <a:lnTo>
                    <a:pt x="8752" y="3204"/>
                  </a:lnTo>
                  <a:lnTo>
                    <a:pt x="8611" y="2798"/>
                  </a:lnTo>
                  <a:lnTo>
                    <a:pt x="8431" y="2407"/>
                  </a:lnTo>
                  <a:lnTo>
                    <a:pt x="8213" y="2032"/>
                  </a:lnTo>
                  <a:lnTo>
                    <a:pt x="7957" y="1678"/>
                  </a:lnTo>
                  <a:lnTo>
                    <a:pt x="7663" y="1347"/>
                  </a:lnTo>
                  <a:lnTo>
                    <a:pt x="7334" y="1042"/>
                  </a:lnTo>
                  <a:lnTo>
                    <a:pt x="6969" y="768"/>
                  </a:lnTo>
                  <a:lnTo>
                    <a:pt x="6578" y="531"/>
                  </a:lnTo>
                  <a:lnTo>
                    <a:pt x="6172" y="339"/>
                  </a:lnTo>
                  <a:lnTo>
                    <a:pt x="5756" y="190"/>
                  </a:lnTo>
                  <a:lnTo>
                    <a:pt x="5332" y="84"/>
                  </a:lnTo>
                  <a:lnTo>
                    <a:pt x="4903" y="22"/>
                  </a:lnTo>
                  <a:lnTo>
                    <a:pt x="4473" y="0"/>
                  </a:lnTo>
                  <a:lnTo>
                    <a:pt x="4043" y="22"/>
                  </a:lnTo>
                  <a:lnTo>
                    <a:pt x="3619" y="82"/>
                  </a:lnTo>
                  <a:lnTo>
                    <a:pt x="3202" y="184"/>
                  </a:lnTo>
                  <a:lnTo>
                    <a:pt x="2797" y="325"/>
                  </a:lnTo>
                  <a:lnTo>
                    <a:pt x="2406" y="504"/>
                  </a:lnTo>
                  <a:lnTo>
                    <a:pt x="2031" y="723"/>
                  </a:lnTo>
                  <a:lnTo>
                    <a:pt x="1677" y="978"/>
                  </a:lnTo>
                  <a:lnTo>
                    <a:pt x="1346" y="1272"/>
                  </a:lnTo>
                  <a:lnTo>
                    <a:pt x="1041" y="1601"/>
                  </a:lnTo>
                  <a:lnTo>
                    <a:pt x="767" y="1967"/>
                  </a:lnTo>
                  <a:lnTo>
                    <a:pt x="530" y="2357"/>
                  </a:lnTo>
                  <a:lnTo>
                    <a:pt x="337" y="2763"/>
                  </a:lnTo>
                  <a:lnTo>
                    <a:pt x="190" y="3179"/>
                  </a:lnTo>
                  <a:lnTo>
                    <a:pt x="83" y="3603"/>
                  </a:lnTo>
                  <a:lnTo>
                    <a:pt x="21" y="4033"/>
                  </a:lnTo>
                  <a:lnTo>
                    <a:pt x="0" y="4463"/>
                  </a:lnTo>
                  <a:lnTo>
                    <a:pt x="21" y="4892"/>
                  </a:lnTo>
                  <a:lnTo>
                    <a:pt x="82" y="5316"/>
                  </a:lnTo>
                  <a:lnTo>
                    <a:pt x="183" y="5733"/>
                  </a:lnTo>
                  <a:lnTo>
                    <a:pt x="325" y="6139"/>
                  </a:lnTo>
                  <a:lnTo>
                    <a:pt x="504" y="6530"/>
                  </a:lnTo>
                  <a:lnTo>
                    <a:pt x="722" y="6904"/>
                  </a:lnTo>
                  <a:lnTo>
                    <a:pt x="978" y="7258"/>
                  </a:lnTo>
                  <a:lnTo>
                    <a:pt x="1272" y="7590"/>
                  </a:lnTo>
                  <a:lnTo>
                    <a:pt x="1601" y="7894"/>
                  </a:lnTo>
                  <a:lnTo>
                    <a:pt x="1967" y="8169"/>
                  </a:lnTo>
                  <a:close/>
                </a:path>
              </a:pathLst>
            </a:custGeom>
            <a:solidFill>
              <a:srgbClr val="3e57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983800" y="67680"/>
              <a:ext cx="679680" cy="671400"/>
            </a:xfrm>
            <a:custGeom>
              <a:avLst/>
              <a:gdLst/>
              <a:ahLst/>
              <a:rect l="l" t="t" r="r" b="b"/>
              <a:pathLst>
                <a:path w="8773" h="8775">
                  <a:moveTo>
                    <a:pt x="1931" y="8022"/>
                  </a:moveTo>
                  <a:lnTo>
                    <a:pt x="2315" y="8254"/>
                  </a:lnTo>
                  <a:lnTo>
                    <a:pt x="2713" y="8443"/>
                  </a:lnTo>
                  <a:lnTo>
                    <a:pt x="3121" y="8589"/>
                  </a:lnTo>
                  <a:lnTo>
                    <a:pt x="3538" y="8693"/>
                  </a:lnTo>
                  <a:lnTo>
                    <a:pt x="3959" y="8755"/>
                  </a:lnTo>
                  <a:lnTo>
                    <a:pt x="4382" y="8775"/>
                  </a:lnTo>
                  <a:lnTo>
                    <a:pt x="4803" y="8755"/>
                  </a:lnTo>
                  <a:lnTo>
                    <a:pt x="5219" y="8694"/>
                  </a:lnTo>
                  <a:lnTo>
                    <a:pt x="5628" y="8595"/>
                  </a:lnTo>
                  <a:lnTo>
                    <a:pt x="6026" y="8456"/>
                  </a:lnTo>
                  <a:lnTo>
                    <a:pt x="6411" y="8280"/>
                  </a:lnTo>
                  <a:lnTo>
                    <a:pt x="6779" y="8066"/>
                  </a:lnTo>
                  <a:lnTo>
                    <a:pt x="7127" y="7814"/>
                  </a:lnTo>
                  <a:lnTo>
                    <a:pt x="7451" y="7527"/>
                  </a:lnTo>
                  <a:lnTo>
                    <a:pt x="7751" y="7203"/>
                  </a:lnTo>
                  <a:lnTo>
                    <a:pt x="8021" y="6844"/>
                  </a:lnTo>
                  <a:lnTo>
                    <a:pt x="8253" y="6460"/>
                  </a:lnTo>
                  <a:lnTo>
                    <a:pt x="8442" y="6062"/>
                  </a:lnTo>
                  <a:lnTo>
                    <a:pt x="8587" y="5653"/>
                  </a:lnTo>
                  <a:lnTo>
                    <a:pt x="8692" y="5237"/>
                  </a:lnTo>
                  <a:lnTo>
                    <a:pt x="8753" y="4816"/>
                  </a:lnTo>
                  <a:lnTo>
                    <a:pt x="8773" y="4393"/>
                  </a:lnTo>
                  <a:lnTo>
                    <a:pt x="8753" y="3972"/>
                  </a:lnTo>
                  <a:lnTo>
                    <a:pt x="8694" y="3555"/>
                  </a:lnTo>
                  <a:lnTo>
                    <a:pt x="8594" y="3146"/>
                  </a:lnTo>
                  <a:lnTo>
                    <a:pt x="8456" y="2747"/>
                  </a:lnTo>
                  <a:lnTo>
                    <a:pt x="8279" y="2364"/>
                  </a:lnTo>
                  <a:lnTo>
                    <a:pt x="8064" y="1996"/>
                  </a:lnTo>
                  <a:lnTo>
                    <a:pt x="7813" y="1647"/>
                  </a:lnTo>
                  <a:lnTo>
                    <a:pt x="7525" y="1323"/>
                  </a:lnTo>
                  <a:lnTo>
                    <a:pt x="7201" y="1023"/>
                  </a:lnTo>
                  <a:lnTo>
                    <a:pt x="6843" y="754"/>
                  </a:lnTo>
                  <a:lnTo>
                    <a:pt x="6458" y="521"/>
                  </a:lnTo>
                  <a:lnTo>
                    <a:pt x="6060" y="332"/>
                  </a:lnTo>
                  <a:lnTo>
                    <a:pt x="5651" y="186"/>
                  </a:lnTo>
                  <a:lnTo>
                    <a:pt x="5235" y="83"/>
                  </a:lnTo>
                  <a:lnTo>
                    <a:pt x="4814" y="22"/>
                  </a:lnTo>
                  <a:lnTo>
                    <a:pt x="4391" y="0"/>
                  </a:lnTo>
                  <a:lnTo>
                    <a:pt x="3970" y="21"/>
                  </a:lnTo>
                  <a:lnTo>
                    <a:pt x="3554" y="81"/>
                  </a:lnTo>
                  <a:lnTo>
                    <a:pt x="3144" y="180"/>
                  </a:lnTo>
                  <a:lnTo>
                    <a:pt x="2747" y="319"/>
                  </a:lnTo>
                  <a:lnTo>
                    <a:pt x="2362" y="496"/>
                  </a:lnTo>
                  <a:lnTo>
                    <a:pt x="1994" y="709"/>
                  </a:lnTo>
                  <a:lnTo>
                    <a:pt x="1646" y="960"/>
                  </a:lnTo>
                  <a:lnTo>
                    <a:pt x="1321" y="1248"/>
                  </a:lnTo>
                  <a:lnTo>
                    <a:pt x="1022" y="1572"/>
                  </a:lnTo>
                  <a:lnTo>
                    <a:pt x="753" y="1931"/>
                  </a:lnTo>
                  <a:lnTo>
                    <a:pt x="520" y="2315"/>
                  </a:lnTo>
                  <a:lnTo>
                    <a:pt x="331" y="2713"/>
                  </a:lnTo>
                  <a:lnTo>
                    <a:pt x="186" y="3122"/>
                  </a:lnTo>
                  <a:lnTo>
                    <a:pt x="81" y="3538"/>
                  </a:lnTo>
                  <a:lnTo>
                    <a:pt x="20" y="3960"/>
                  </a:lnTo>
                  <a:lnTo>
                    <a:pt x="0" y="4382"/>
                  </a:lnTo>
                  <a:lnTo>
                    <a:pt x="20" y="4803"/>
                  </a:lnTo>
                  <a:lnTo>
                    <a:pt x="79" y="5220"/>
                  </a:lnTo>
                  <a:lnTo>
                    <a:pt x="179" y="5629"/>
                  </a:lnTo>
                  <a:lnTo>
                    <a:pt x="317" y="6028"/>
                  </a:lnTo>
                  <a:lnTo>
                    <a:pt x="494" y="6413"/>
                  </a:lnTo>
                  <a:lnTo>
                    <a:pt x="709" y="6781"/>
                  </a:lnTo>
                  <a:lnTo>
                    <a:pt x="960" y="7128"/>
                  </a:lnTo>
                  <a:lnTo>
                    <a:pt x="1248" y="7453"/>
                  </a:lnTo>
                  <a:lnTo>
                    <a:pt x="1572" y="7752"/>
                  </a:lnTo>
                  <a:lnTo>
                    <a:pt x="1931" y="8022"/>
                  </a:lnTo>
                  <a:close/>
                </a:path>
              </a:pathLst>
            </a:custGeom>
            <a:solidFill>
              <a:srgbClr val="405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8993160" y="70560"/>
              <a:ext cx="666360" cy="659520"/>
            </a:xfrm>
            <a:custGeom>
              <a:avLst/>
              <a:gdLst/>
              <a:ahLst/>
              <a:rect l="l" t="t" r="r" b="b"/>
              <a:pathLst>
                <a:path w="8612" h="8613">
                  <a:moveTo>
                    <a:pt x="1895" y="7876"/>
                  </a:moveTo>
                  <a:lnTo>
                    <a:pt x="2272" y="8103"/>
                  </a:lnTo>
                  <a:lnTo>
                    <a:pt x="2663" y="8288"/>
                  </a:lnTo>
                  <a:lnTo>
                    <a:pt x="3064" y="8432"/>
                  </a:lnTo>
                  <a:lnTo>
                    <a:pt x="3473" y="8532"/>
                  </a:lnTo>
                  <a:lnTo>
                    <a:pt x="3886" y="8593"/>
                  </a:lnTo>
                  <a:lnTo>
                    <a:pt x="4301" y="8613"/>
                  </a:lnTo>
                  <a:lnTo>
                    <a:pt x="4715" y="8594"/>
                  </a:lnTo>
                  <a:lnTo>
                    <a:pt x="5124" y="8535"/>
                  </a:lnTo>
                  <a:lnTo>
                    <a:pt x="5525" y="8437"/>
                  </a:lnTo>
                  <a:lnTo>
                    <a:pt x="5916" y="8302"/>
                  </a:lnTo>
                  <a:lnTo>
                    <a:pt x="6293" y="8129"/>
                  </a:lnTo>
                  <a:lnTo>
                    <a:pt x="6655" y="7918"/>
                  </a:lnTo>
                  <a:lnTo>
                    <a:pt x="6996" y="7671"/>
                  </a:lnTo>
                  <a:lnTo>
                    <a:pt x="7315" y="7389"/>
                  </a:lnTo>
                  <a:lnTo>
                    <a:pt x="7608" y="7071"/>
                  </a:lnTo>
                  <a:lnTo>
                    <a:pt x="7874" y="6719"/>
                  </a:lnTo>
                  <a:lnTo>
                    <a:pt x="8102" y="6341"/>
                  </a:lnTo>
                  <a:lnTo>
                    <a:pt x="8287" y="5951"/>
                  </a:lnTo>
                  <a:lnTo>
                    <a:pt x="8430" y="5550"/>
                  </a:lnTo>
                  <a:lnTo>
                    <a:pt x="8531" y="5141"/>
                  </a:lnTo>
                  <a:lnTo>
                    <a:pt x="8592" y="4728"/>
                  </a:lnTo>
                  <a:lnTo>
                    <a:pt x="8612" y="4313"/>
                  </a:lnTo>
                  <a:lnTo>
                    <a:pt x="8593" y="3900"/>
                  </a:lnTo>
                  <a:lnTo>
                    <a:pt x="8533" y="3490"/>
                  </a:lnTo>
                  <a:lnTo>
                    <a:pt x="8436" y="3088"/>
                  </a:lnTo>
                  <a:lnTo>
                    <a:pt x="8301" y="2697"/>
                  </a:lnTo>
                  <a:lnTo>
                    <a:pt x="8127" y="2320"/>
                  </a:lnTo>
                  <a:lnTo>
                    <a:pt x="7917" y="1958"/>
                  </a:lnTo>
                  <a:lnTo>
                    <a:pt x="7670" y="1617"/>
                  </a:lnTo>
                  <a:lnTo>
                    <a:pt x="7387" y="1298"/>
                  </a:lnTo>
                  <a:lnTo>
                    <a:pt x="7069" y="1005"/>
                  </a:lnTo>
                  <a:lnTo>
                    <a:pt x="6718" y="740"/>
                  </a:lnTo>
                  <a:lnTo>
                    <a:pt x="6340" y="512"/>
                  </a:lnTo>
                  <a:lnTo>
                    <a:pt x="5949" y="326"/>
                  </a:lnTo>
                  <a:lnTo>
                    <a:pt x="5548" y="183"/>
                  </a:lnTo>
                  <a:lnTo>
                    <a:pt x="5139" y="81"/>
                  </a:lnTo>
                  <a:lnTo>
                    <a:pt x="4725" y="20"/>
                  </a:lnTo>
                  <a:lnTo>
                    <a:pt x="4311" y="0"/>
                  </a:lnTo>
                  <a:lnTo>
                    <a:pt x="3897" y="20"/>
                  </a:lnTo>
                  <a:lnTo>
                    <a:pt x="3489" y="79"/>
                  </a:lnTo>
                  <a:lnTo>
                    <a:pt x="3087" y="177"/>
                  </a:lnTo>
                  <a:lnTo>
                    <a:pt x="2696" y="313"/>
                  </a:lnTo>
                  <a:lnTo>
                    <a:pt x="2318" y="486"/>
                  </a:lnTo>
                  <a:lnTo>
                    <a:pt x="1957" y="697"/>
                  </a:lnTo>
                  <a:lnTo>
                    <a:pt x="1616" y="943"/>
                  </a:lnTo>
                  <a:lnTo>
                    <a:pt x="1297" y="1225"/>
                  </a:lnTo>
                  <a:lnTo>
                    <a:pt x="1003" y="1543"/>
                  </a:lnTo>
                  <a:lnTo>
                    <a:pt x="739" y="1896"/>
                  </a:lnTo>
                  <a:lnTo>
                    <a:pt x="510" y="2272"/>
                  </a:lnTo>
                  <a:lnTo>
                    <a:pt x="325" y="2663"/>
                  </a:lnTo>
                  <a:lnTo>
                    <a:pt x="182" y="3065"/>
                  </a:lnTo>
                  <a:lnTo>
                    <a:pt x="81" y="3474"/>
                  </a:lnTo>
                  <a:lnTo>
                    <a:pt x="20" y="3887"/>
                  </a:lnTo>
                  <a:lnTo>
                    <a:pt x="0" y="4303"/>
                  </a:lnTo>
                  <a:lnTo>
                    <a:pt x="19" y="4716"/>
                  </a:lnTo>
                  <a:lnTo>
                    <a:pt x="78" y="5125"/>
                  </a:lnTo>
                  <a:lnTo>
                    <a:pt x="176" y="5527"/>
                  </a:lnTo>
                  <a:lnTo>
                    <a:pt x="311" y="5917"/>
                  </a:lnTo>
                  <a:lnTo>
                    <a:pt x="485" y="6296"/>
                  </a:lnTo>
                  <a:lnTo>
                    <a:pt x="695" y="6656"/>
                  </a:lnTo>
                  <a:lnTo>
                    <a:pt x="942" y="6997"/>
                  </a:lnTo>
                  <a:lnTo>
                    <a:pt x="1224" y="7316"/>
                  </a:lnTo>
                  <a:lnTo>
                    <a:pt x="1542" y="7610"/>
                  </a:lnTo>
                  <a:lnTo>
                    <a:pt x="1895" y="7876"/>
                  </a:lnTo>
                  <a:close/>
                </a:path>
              </a:pathLst>
            </a:custGeom>
            <a:solidFill>
              <a:srgbClr val="425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9002520" y="73440"/>
              <a:ext cx="654480" cy="646200"/>
            </a:xfrm>
            <a:custGeom>
              <a:avLst/>
              <a:gdLst/>
              <a:ahLst/>
              <a:rect l="l" t="t" r="r" b="b"/>
              <a:pathLst>
                <a:path w="8451" h="8452">
                  <a:moveTo>
                    <a:pt x="1859" y="7728"/>
                  </a:moveTo>
                  <a:lnTo>
                    <a:pt x="2229" y="7951"/>
                  </a:lnTo>
                  <a:lnTo>
                    <a:pt x="2612" y="8133"/>
                  </a:lnTo>
                  <a:lnTo>
                    <a:pt x="3006" y="8273"/>
                  </a:lnTo>
                  <a:lnTo>
                    <a:pt x="3407" y="8373"/>
                  </a:lnTo>
                  <a:lnTo>
                    <a:pt x="3813" y="8433"/>
                  </a:lnTo>
                  <a:lnTo>
                    <a:pt x="4221" y="8452"/>
                  </a:lnTo>
                  <a:lnTo>
                    <a:pt x="4627" y="8433"/>
                  </a:lnTo>
                  <a:lnTo>
                    <a:pt x="5027" y="8375"/>
                  </a:lnTo>
                  <a:lnTo>
                    <a:pt x="5422" y="8278"/>
                  </a:lnTo>
                  <a:lnTo>
                    <a:pt x="5806" y="8145"/>
                  </a:lnTo>
                  <a:lnTo>
                    <a:pt x="6176" y="7975"/>
                  </a:lnTo>
                  <a:lnTo>
                    <a:pt x="6530" y="7769"/>
                  </a:lnTo>
                  <a:lnTo>
                    <a:pt x="6866" y="7527"/>
                  </a:lnTo>
                  <a:lnTo>
                    <a:pt x="7178" y="7250"/>
                  </a:lnTo>
                  <a:lnTo>
                    <a:pt x="7466" y="6939"/>
                  </a:lnTo>
                  <a:lnTo>
                    <a:pt x="7727" y="6593"/>
                  </a:lnTo>
                  <a:lnTo>
                    <a:pt x="7950" y="6222"/>
                  </a:lnTo>
                  <a:lnTo>
                    <a:pt x="8132" y="5840"/>
                  </a:lnTo>
                  <a:lnTo>
                    <a:pt x="8272" y="5445"/>
                  </a:lnTo>
                  <a:lnTo>
                    <a:pt x="8372" y="5044"/>
                  </a:lnTo>
                  <a:lnTo>
                    <a:pt x="8432" y="4638"/>
                  </a:lnTo>
                  <a:lnTo>
                    <a:pt x="8451" y="4231"/>
                  </a:lnTo>
                  <a:lnTo>
                    <a:pt x="8432" y="3825"/>
                  </a:lnTo>
                  <a:lnTo>
                    <a:pt x="8374" y="3424"/>
                  </a:lnTo>
                  <a:lnTo>
                    <a:pt x="8277" y="3030"/>
                  </a:lnTo>
                  <a:lnTo>
                    <a:pt x="8144" y="2646"/>
                  </a:lnTo>
                  <a:lnTo>
                    <a:pt x="7974" y="2275"/>
                  </a:lnTo>
                  <a:lnTo>
                    <a:pt x="7768" y="1921"/>
                  </a:lnTo>
                  <a:lnTo>
                    <a:pt x="7526" y="1586"/>
                  </a:lnTo>
                  <a:lnTo>
                    <a:pt x="7249" y="1273"/>
                  </a:lnTo>
                  <a:lnTo>
                    <a:pt x="6938" y="985"/>
                  </a:lnTo>
                  <a:lnTo>
                    <a:pt x="6592" y="725"/>
                  </a:lnTo>
                  <a:lnTo>
                    <a:pt x="6221" y="501"/>
                  </a:lnTo>
                  <a:lnTo>
                    <a:pt x="5839" y="319"/>
                  </a:lnTo>
                  <a:lnTo>
                    <a:pt x="5444" y="179"/>
                  </a:lnTo>
                  <a:lnTo>
                    <a:pt x="5043" y="79"/>
                  </a:lnTo>
                  <a:lnTo>
                    <a:pt x="4637" y="19"/>
                  </a:lnTo>
                  <a:lnTo>
                    <a:pt x="4230" y="0"/>
                  </a:lnTo>
                  <a:lnTo>
                    <a:pt x="3825" y="19"/>
                  </a:lnTo>
                  <a:lnTo>
                    <a:pt x="3423" y="77"/>
                  </a:lnTo>
                  <a:lnTo>
                    <a:pt x="3029" y="173"/>
                  </a:lnTo>
                  <a:lnTo>
                    <a:pt x="2645" y="306"/>
                  </a:lnTo>
                  <a:lnTo>
                    <a:pt x="2275" y="476"/>
                  </a:lnTo>
                  <a:lnTo>
                    <a:pt x="1921" y="683"/>
                  </a:lnTo>
                  <a:lnTo>
                    <a:pt x="1585" y="925"/>
                  </a:lnTo>
                  <a:lnTo>
                    <a:pt x="1272" y="1201"/>
                  </a:lnTo>
                  <a:lnTo>
                    <a:pt x="984" y="1513"/>
                  </a:lnTo>
                  <a:lnTo>
                    <a:pt x="725" y="1860"/>
                  </a:lnTo>
                  <a:lnTo>
                    <a:pt x="501" y="2229"/>
                  </a:lnTo>
                  <a:lnTo>
                    <a:pt x="319" y="2613"/>
                  </a:lnTo>
                  <a:lnTo>
                    <a:pt x="179" y="3007"/>
                  </a:lnTo>
                  <a:lnTo>
                    <a:pt x="79" y="3408"/>
                  </a:lnTo>
                  <a:lnTo>
                    <a:pt x="19" y="3815"/>
                  </a:lnTo>
                  <a:lnTo>
                    <a:pt x="0" y="4222"/>
                  </a:lnTo>
                  <a:lnTo>
                    <a:pt x="19" y="4628"/>
                  </a:lnTo>
                  <a:lnTo>
                    <a:pt x="76" y="5029"/>
                  </a:lnTo>
                  <a:lnTo>
                    <a:pt x="173" y="5423"/>
                  </a:lnTo>
                  <a:lnTo>
                    <a:pt x="306" y="5807"/>
                  </a:lnTo>
                  <a:lnTo>
                    <a:pt x="476" y="6177"/>
                  </a:lnTo>
                  <a:lnTo>
                    <a:pt x="682" y="6531"/>
                  </a:lnTo>
                  <a:lnTo>
                    <a:pt x="925" y="6867"/>
                  </a:lnTo>
                  <a:lnTo>
                    <a:pt x="1201" y="7179"/>
                  </a:lnTo>
                  <a:lnTo>
                    <a:pt x="1513" y="7467"/>
                  </a:lnTo>
                  <a:lnTo>
                    <a:pt x="1859" y="7728"/>
                  </a:lnTo>
                  <a:close/>
                </a:path>
              </a:pathLst>
            </a:custGeom>
            <a:solidFill>
              <a:srgbClr val="445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9011880" y="74880"/>
              <a:ext cx="642600" cy="634680"/>
            </a:xfrm>
            <a:custGeom>
              <a:avLst/>
              <a:gdLst/>
              <a:ahLst/>
              <a:rect l="l" t="t" r="r" b="b"/>
              <a:pathLst>
                <a:path w="8292" h="8293">
                  <a:moveTo>
                    <a:pt x="1825" y="7582"/>
                  </a:moveTo>
                  <a:lnTo>
                    <a:pt x="2188" y="7801"/>
                  </a:lnTo>
                  <a:lnTo>
                    <a:pt x="2564" y="7979"/>
                  </a:lnTo>
                  <a:lnTo>
                    <a:pt x="2950" y="8118"/>
                  </a:lnTo>
                  <a:lnTo>
                    <a:pt x="3344" y="8215"/>
                  </a:lnTo>
                  <a:lnTo>
                    <a:pt x="3742" y="8273"/>
                  </a:lnTo>
                  <a:lnTo>
                    <a:pt x="4142" y="8293"/>
                  </a:lnTo>
                  <a:lnTo>
                    <a:pt x="4540" y="8274"/>
                  </a:lnTo>
                  <a:lnTo>
                    <a:pt x="4933" y="8217"/>
                  </a:lnTo>
                  <a:lnTo>
                    <a:pt x="5320" y="8123"/>
                  </a:lnTo>
                  <a:lnTo>
                    <a:pt x="5696" y="7992"/>
                  </a:lnTo>
                  <a:lnTo>
                    <a:pt x="6060" y="7825"/>
                  </a:lnTo>
                  <a:lnTo>
                    <a:pt x="6407" y="7622"/>
                  </a:lnTo>
                  <a:lnTo>
                    <a:pt x="6736" y="7385"/>
                  </a:lnTo>
                  <a:lnTo>
                    <a:pt x="7043" y="7113"/>
                  </a:lnTo>
                  <a:lnTo>
                    <a:pt x="7326" y="6808"/>
                  </a:lnTo>
                  <a:lnTo>
                    <a:pt x="7581" y="6469"/>
                  </a:lnTo>
                  <a:lnTo>
                    <a:pt x="7800" y="6105"/>
                  </a:lnTo>
                  <a:lnTo>
                    <a:pt x="7979" y="5729"/>
                  </a:lnTo>
                  <a:lnTo>
                    <a:pt x="8117" y="5342"/>
                  </a:lnTo>
                  <a:lnTo>
                    <a:pt x="8215" y="4949"/>
                  </a:lnTo>
                  <a:lnTo>
                    <a:pt x="8272" y="4551"/>
                  </a:lnTo>
                  <a:lnTo>
                    <a:pt x="8292" y="4151"/>
                  </a:lnTo>
                  <a:lnTo>
                    <a:pt x="8273" y="3754"/>
                  </a:lnTo>
                  <a:lnTo>
                    <a:pt x="8216" y="3359"/>
                  </a:lnTo>
                  <a:lnTo>
                    <a:pt x="8122" y="2973"/>
                  </a:lnTo>
                  <a:lnTo>
                    <a:pt x="7992" y="2597"/>
                  </a:lnTo>
                  <a:lnTo>
                    <a:pt x="7825" y="2234"/>
                  </a:lnTo>
                  <a:lnTo>
                    <a:pt x="7622" y="1886"/>
                  </a:lnTo>
                  <a:lnTo>
                    <a:pt x="7384" y="1556"/>
                  </a:lnTo>
                  <a:lnTo>
                    <a:pt x="7112" y="1250"/>
                  </a:lnTo>
                  <a:lnTo>
                    <a:pt x="6807" y="967"/>
                  </a:lnTo>
                  <a:lnTo>
                    <a:pt x="6468" y="712"/>
                  </a:lnTo>
                  <a:lnTo>
                    <a:pt x="6104" y="492"/>
                  </a:lnTo>
                  <a:lnTo>
                    <a:pt x="5728" y="314"/>
                  </a:lnTo>
                  <a:lnTo>
                    <a:pt x="5342" y="175"/>
                  </a:lnTo>
                  <a:lnTo>
                    <a:pt x="4949" y="78"/>
                  </a:lnTo>
                  <a:lnTo>
                    <a:pt x="4550" y="20"/>
                  </a:lnTo>
                  <a:lnTo>
                    <a:pt x="4150" y="0"/>
                  </a:lnTo>
                  <a:lnTo>
                    <a:pt x="3753" y="19"/>
                  </a:lnTo>
                  <a:lnTo>
                    <a:pt x="3360" y="77"/>
                  </a:lnTo>
                  <a:lnTo>
                    <a:pt x="2973" y="170"/>
                  </a:lnTo>
                  <a:lnTo>
                    <a:pt x="2596" y="301"/>
                  </a:lnTo>
                  <a:lnTo>
                    <a:pt x="2233" y="468"/>
                  </a:lnTo>
                  <a:lnTo>
                    <a:pt x="1885" y="671"/>
                  </a:lnTo>
                  <a:lnTo>
                    <a:pt x="1556" y="908"/>
                  </a:lnTo>
                  <a:lnTo>
                    <a:pt x="1249" y="1180"/>
                  </a:lnTo>
                  <a:lnTo>
                    <a:pt x="966" y="1485"/>
                  </a:lnTo>
                  <a:lnTo>
                    <a:pt x="712" y="1825"/>
                  </a:lnTo>
                  <a:lnTo>
                    <a:pt x="492" y="2188"/>
                  </a:lnTo>
                  <a:lnTo>
                    <a:pt x="314" y="2564"/>
                  </a:lnTo>
                  <a:lnTo>
                    <a:pt x="175" y="2951"/>
                  </a:lnTo>
                  <a:lnTo>
                    <a:pt x="78" y="3344"/>
                  </a:lnTo>
                  <a:lnTo>
                    <a:pt x="20" y="3742"/>
                  </a:lnTo>
                  <a:lnTo>
                    <a:pt x="0" y="4142"/>
                  </a:lnTo>
                  <a:lnTo>
                    <a:pt x="19" y="4540"/>
                  </a:lnTo>
                  <a:lnTo>
                    <a:pt x="77" y="4934"/>
                  </a:lnTo>
                  <a:lnTo>
                    <a:pt x="170" y="5321"/>
                  </a:lnTo>
                  <a:lnTo>
                    <a:pt x="301" y="5697"/>
                  </a:lnTo>
                  <a:lnTo>
                    <a:pt x="468" y="6061"/>
                  </a:lnTo>
                  <a:lnTo>
                    <a:pt x="671" y="6408"/>
                  </a:lnTo>
                  <a:lnTo>
                    <a:pt x="908" y="6737"/>
                  </a:lnTo>
                  <a:lnTo>
                    <a:pt x="1180" y="7044"/>
                  </a:lnTo>
                  <a:lnTo>
                    <a:pt x="1485" y="7327"/>
                  </a:lnTo>
                  <a:lnTo>
                    <a:pt x="1825" y="7582"/>
                  </a:lnTo>
                  <a:close/>
                </a:path>
              </a:pathLst>
            </a:custGeom>
            <a:solidFill>
              <a:srgbClr val="476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9020880" y="77760"/>
              <a:ext cx="629280" cy="622440"/>
            </a:xfrm>
            <a:custGeom>
              <a:avLst/>
              <a:gdLst/>
              <a:ahLst/>
              <a:rect l="l" t="t" r="r" b="b"/>
              <a:pathLst>
                <a:path w="8131" h="8131">
                  <a:moveTo>
                    <a:pt x="1789" y="7433"/>
                  </a:moveTo>
                  <a:lnTo>
                    <a:pt x="2146" y="7648"/>
                  </a:lnTo>
                  <a:lnTo>
                    <a:pt x="2515" y="7823"/>
                  </a:lnTo>
                  <a:lnTo>
                    <a:pt x="2893" y="7958"/>
                  </a:lnTo>
                  <a:lnTo>
                    <a:pt x="3280" y="8055"/>
                  </a:lnTo>
                  <a:lnTo>
                    <a:pt x="3670" y="8112"/>
                  </a:lnTo>
                  <a:lnTo>
                    <a:pt x="4061" y="8131"/>
                  </a:lnTo>
                  <a:lnTo>
                    <a:pt x="4452" y="8112"/>
                  </a:lnTo>
                  <a:lnTo>
                    <a:pt x="4838" y="8057"/>
                  </a:lnTo>
                  <a:lnTo>
                    <a:pt x="5217" y="7965"/>
                  </a:lnTo>
                  <a:lnTo>
                    <a:pt x="5586" y="7837"/>
                  </a:lnTo>
                  <a:lnTo>
                    <a:pt x="5942" y="7673"/>
                  </a:lnTo>
                  <a:lnTo>
                    <a:pt x="6283" y="7474"/>
                  </a:lnTo>
                  <a:lnTo>
                    <a:pt x="6605" y="7242"/>
                  </a:lnTo>
                  <a:lnTo>
                    <a:pt x="6907" y="6975"/>
                  </a:lnTo>
                  <a:lnTo>
                    <a:pt x="7184" y="6675"/>
                  </a:lnTo>
                  <a:lnTo>
                    <a:pt x="7435" y="6343"/>
                  </a:lnTo>
                  <a:lnTo>
                    <a:pt x="7649" y="5986"/>
                  </a:lnTo>
                  <a:lnTo>
                    <a:pt x="7824" y="5617"/>
                  </a:lnTo>
                  <a:lnTo>
                    <a:pt x="7960" y="5239"/>
                  </a:lnTo>
                  <a:lnTo>
                    <a:pt x="8055" y="4852"/>
                  </a:lnTo>
                  <a:lnTo>
                    <a:pt x="8112" y="4462"/>
                  </a:lnTo>
                  <a:lnTo>
                    <a:pt x="8131" y="4071"/>
                  </a:lnTo>
                  <a:lnTo>
                    <a:pt x="8113" y="3680"/>
                  </a:lnTo>
                  <a:lnTo>
                    <a:pt x="8057" y="3293"/>
                  </a:lnTo>
                  <a:lnTo>
                    <a:pt x="7964" y="2915"/>
                  </a:lnTo>
                  <a:lnTo>
                    <a:pt x="7836" y="2546"/>
                  </a:lnTo>
                  <a:lnTo>
                    <a:pt x="7673" y="2189"/>
                  </a:lnTo>
                  <a:lnTo>
                    <a:pt x="7474" y="1849"/>
                  </a:lnTo>
                  <a:lnTo>
                    <a:pt x="7241" y="1525"/>
                  </a:lnTo>
                  <a:lnTo>
                    <a:pt x="6974" y="1225"/>
                  </a:lnTo>
                  <a:lnTo>
                    <a:pt x="6674" y="947"/>
                  </a:lnTo>
                  <a:lnTo>
                    <a:pt x="6343" y="697"/>
                  </a:lnTo>
                  <a:lnTo>
                    <a:pt x="5987" y="482"/>
                  </a:lnTo>
                  <a:lnTo>
                    <a:pt x="5618" y="307"/>
                  </a:lnTo>
                  <a:lnTo>
                    <a:pt x="5238" y="171"/>
                  </a:lnTo>
                  <a:lnTo>
                    <a:pt x="4852" y="75"/>
                  </a:lnTo>
                  <a:lnTo>
                    <a:pt x="4462" y="19"/>
                  </a:lnTo>
                  <a:lnTo>
                    <a:pt x="4071" y="0"/>
                  </a:lnTo>
                  <a:lnTo>
                    <a:pt x="3681" y="18"/>
                  </a:lnTo>
                  <a:lnTo>
                    <a:pt x="3295" y="74"/>
                  </a:lnTo>
                  <a:lnTo>
                    <a:pt x="2915" y="167"/>
                  </a:lnTo>
                  <a:lnTo>
                    <a:pt x="2546" y="294"/>
                  </a:lnTo>
                  <a:lnTo>
                    <a:pt x="2190" y="458"/>
                  </a:lnTo>
                  <a:lnTo>
                    <a:pt x="1849" y="657"/>
                  </a:lnTo>
                  <a:lnTo>
                    <a:pt x="1527" y="890"/>
                  </a:lnTo>
                  <a:lnTo>
                    <a:pt x="1226" y="1157"/>
                  </a:lnTo>
                  <a:lnTo>
                    <a:pt x="949" y="1456"/>
                  </a:lnTo>
                  <a:lnTo>
                    <a:pt x="699" y="1789"/>
                  </a:lnTo>
                  <a:lnTo>
                    <a:pt x="483" y="2145"/>
                  </a:lnTo>
                  <a:lnTo>
                    <a:pt x="307" y="2514"/>
                  </a:lnTo>
                  <a:lnTo>
                    <a:pt x="172" y="2893"/>
                  </a:lnTo>
                  <a:lnTo>
                    <a:pt x="77" y="3279"/>
                  </a:lnTo>
                  <a:lnTo>
                    <a:pt x="19" y="3669"/>
                  </a:lnTo>
                  <a:lnTo>
                    <a:pt x="0" y="4061"/>
                  </a:lnTo>
                  <a:lnTo>
                    <a:pt x="19" y="4451"/>
                  </a:lnTo>
                  <a:lnTo>
                    <a:pt x="75" y="4837"/>
                  </a:lnTo>
                  <a:lnTo>
                    <a:pt x="167" y="5217"/>
                  </a:lnTo>
                  <a:lnTo>
                    <a:pt x="295" y="5585"/>
                  </a:lnTo>
                  <a:lnTo>
                    <a:pt x="458" y="5942"/>
                  </a:lnTo>
                  <a:lnTo>
                    <a:pt x="657" y="6282"/>
                  </a:lnTo>
                  <a:lnTo>
                    <a:pt x="890" y="6605"/>
                  </a:lnTo>
                  <a:lnTo>
                    <a:pt x="1157" y="6906"/>
                  </a:lnTo>
                  <a:lnTo>
                    <a:pt x="1457" y="7182"/>
                  </a:lnTo>
                  <a:lnTo>
                    <a:pt x="1789" y="7433"/>
                  </a:lnTo>
                  <a:close/>
                </a:path>
              </a:pathLst>
            </a:custGeom>
            <a:solidFill>
              <a:srgbClr val="496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9030240" y="80640"/>
              <a:ext cx="617400" cy="609840"/>
            </a:xfrm>
            <a:custGeom>
              <a:avLst/>
              <a:gdLst/>
              <a:ahLst/>
              <a:rect l="l" t="t" r="r" b="b"/>
              <a:pathLst>
                <a:path w="7971" h="7971">
                  <a:moveTo>
                    <a:pt x="1755" y="7287"/>
                  </a:moveTo>
                  <a:lnTo>
                    <a:pt x="2103" y="7498"/>
                  </a:lnTo>
                  <a:lnTo>
                    <a:pt x="2465" y="7669"/>
                  </a:lnTo>
                  <a:lnTo>
                    <a:pt x="2837" y="7802"/>
                  </a:lnTo>
                  <a:lnTo>
                    <a:pt x="3215" y="7895"/>
                  </a:lnTo>
                  <a:lnTo>
                    <a:pt x="3597" y="7952"/>
                  </a:lnTo>
                  <a:lnTo>
                    <a:pt x="3982" y="7971"/>
                  </a:lnTo>
                  <a:lnTo>
                    <a:pt x="4363" y="7952"/>
                  </a:lnTo>
                  <a:lnTo>
                    <a:pt x="4742" y="7897"/>
                  </a:lnTo>
                  <a:lnTo>
                    <a:pt x="5114" y="7807"/>
                  </a:lnTo>
                  <a:lnTo>
                    <a:pt x="5475" y="7682"/>
                  </a:lnTo>
                  <a:lnTo>
                    <a:pt x="5825" y="7521"/>
                  </a:lnTo>
                  <a:lnTo>
                    <a:pt x="6159" y="7327"/>
                  </a:lnTo>
                  <a:lnTo>
                    <a:pt x="6475" y="7098"/>
                  </a:lnTo>
                  <a:lnTo>
                    <a:pt x="6770" y="6837"/>
                  </a:lnTo>
                  <a:lnTo>
                    <a:pt x="7041" y="6542"/>
                  </a:lnTo>
                  <a:lnTo>
                    <a:pt x="7287" y="6217"/>
                  </a:lnTo>
                  <a:lnTo>
                    <a:pt x="7498" y="5867"/>
                  </a:lnTo>
                  <a:lnTo>
                    <a:pt x="7669" y="5506"/>
                  </a:lnTo>
                  <a:lnTo>
                    <a:pt x="7802" y="5135"/>
                  </a:lnTo>
                  <a:lnTo>
                    <a:pt x="7895" y="4756"/>
                  </a:lnTo>
                  <a:lnTo>
                    <a:pt x="7951" y="4373"/>
                  </a:lnTo>
                  <a:lnTo>
                    <a:pt x="7971" y="3990"/>
                  </a:lnTo>
                  <a:lnTo>
                    <a:pt x="7953" y="3607"/>
                  </a:lnTo>
                  <a:lnTo>
                    <a:pt x="7897" y="3228"/>
                  </a:lnTo>
                  <a:lnTo>
                    <a:pt x="7807" y="2857"/>
                  </a:lnTo>
                  <a:lnTo>
                    <a:pt x="7681" y="2496"/>
                  </a:lnTo>
                  <a:lnTo>
                    <a:pt x="7521" y="2146"/>
                  </a:lnTo>
                  <a:lnTo>
                    <a:pt x="7326" y="1812"/>
                  </a:lnTo>
                  <a:lnTo>
                    <a:pt x="7099" y="1497"/>
                  </a:lnTo>
                  <a:lnTo>
                    <a:pt x="6837" y="1201"/>
                  </a:lnTo>
                  <a:lnTo>
                    <a:pt x="6543" y="929"/>
                  </a:lnTo>
                  <a:lnTo>
                    <a:pt x="6218" y="684"/>
                  </a:lnTo>
                  <a:lnTo>
                    <a:pt x="5868" y="473"/>
                  </a:lnTo>
                  <a:lnTo>
                    <a:pt x="5506" y="301"/>
                  </a:lnTo>
                  <a:lnTo>
                    <a:pt x="5135" y="169"/>
                  </a:lnTo>
                  <a:lnTo>
                    <a:pt x="4757" y="74"/>
                  </a:lnTo>
                  <a:lnTo>
                    <a:pt x="4374" y="18"/>
                  </a:lnTo>
                  <a:lnTo>
                    <a:pt x="3990" y="0"/>
                  </a:lnTo>
                  <a:lnTo>
                    <a:pt x="3608" y="18"/>
                  </a:lnTo>
                  <a:lnTo>
                    <a:pt x="3229" y="72"/>
                  </a:lnTo>
                  <a:lnTo>
                    <a:pt x="2858" y="163"/>
                  </a:lnTo>
                  <a:lnTo>
                    <a:pt x="2496" y="289"/>
                  </a:lnTo>
                  <a:lnTo>
                    <a:pt x="2147" y="450"/>
                  </a:lnTo>
                  <a:lnTo>
                    <a:pt x="1812" y="644"/>
                  </a:lnTo>
                  <a:lnTo>
                    <a:pt x="1496" y="872"/>
                  </a:lnTo>
                  <a:lnTo>
                    <a:pt x="1202" y="1133"/>
                  </a:lnTo>
                  <a:lnTo>
                    <a:pt x="930" y="1428"/>
                  </a:lnTo>
                  <a:lnTo>
                    <a:pt x="685" y="1754"/>
                  </a:lnTo>
                  <a:lnTo>
                    <a:pt x="474" y="2103"/>
                  </a:lnTo>
                  <a:lnTo>
                    <a:pt x="301" y="2464"/>
                  </a:lnTo>
                  <a:lnTo>
                    <a:pt x="169" y="2836"/>
                  </a:lnTo>
                  <a:lnTo>
                    <a:pt x="75" y="3215"/>
                  </a:lnTo>
                  <a:lnTo>
                    <a:pt x="19" y="3597"/>
                  </a:lnTo>
                  <a:lnTo>
                    <a:pt x="0" y="3981"/>
                  </a:lnTo>
                  <a:lnTo>
                    <a:pt x="19" y="4364"/>
                  </a:lnTo>
                  <a:lnTo>
                    <a:pt x="73" y="4742"/>
                  </a:lnTo>
                  <a:lnTo>
                    <a:pt x="163" y="5113"/>
                  </a:lnTo>
                  <a:lnTo>
                    <a:pt x="290" y="5476"/>
                  </a:lnTo>
                  <a:lnTo>
                    <a:pt x="450" y="5824"/>
                  </a:lnTo>
                  <a:lnTo>
                    <a:pt x="645" y="6159"/>
                  </a:lnTo>
                  <a:lnTo>
                    <a:pt x="872" y="6475"/>
                  </a:lnTo>
                  <a:lnTo>
                    <a:pt x="1134" y="6770"/>
                  </a:lnTo>
                  <a:lnTo>
                    <a:pt x="1428" y="7042"/>
                  </a:lnTo>
                  <a:lnTo>
                    <a:pt x="1755" y="7287"/>
                  </a:lnTo>
                  <a:close/>
                </a:path>
              </a:pathLst>
            </a:custGeom>
            <a:solidFill>
              <a:srgbClr val="4b6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9039600" y="82440"/>
              <a:ext cx="605160" cy="597600"/>
            </a:xfrm>
            <a:custGeom>
              <a:avLst/>
              <a:gdLst/>
              <a:ahLst/>
              <a:rect l="l" t="t" r="r" b="b"/>
              <a:pathLst>
                <a:path w="7809" h="7808">
                  <a:moveTo>
                    <a:pt x="1719" y="7139"/>
                  </a:moveTo>
                  <a:lnTo>
                    <a:pt x="2060" y="7346"/>
                  </a:lnTo>
                  <a:lnTo>
                    <a:pt x="2414" y="7514"/>
                  </a:lnTo>
                  <a:lnTo>
                    <a:pt x="2779" y="7643"/>
                  </a:lnTo>
                  <a:lnTo>
                    <a:pt x="3149" y="7736"/>
                  </a:lnTo>
                  <a:lnTo>
                    <a:pt x="3524" y="7790"/>
                  </a:lnTo>
                  <a:lnTo>
                    <a:pt x="3900" y="7808"/>
                  </a:lnTo>
                  <a:lnTo>
                    <a:pt x="4274" y="7790"/>
                  </a:lnTo>
                  <a:lnTo>
                    <a:pt x="4645" y="7737"/>
                  </a:lnTo>
                  <a:lnTo>
                    <a:pt x="5009" y="7649"/>
                  </a:lnTo>
                  <a:lnTo>
                    <a:pt x="5364" y="7525"/>
                  </a:lnTo>
                  <a:lnTo>
                    <a:pt x="5706" y="7368"/>
                  </a:lnTo>
                  <a:lnTo>
                    <a:pt x="6034" y="7178"/>
                  </a:lnTo>
                  <a:lnTo>
                    <a:pt x="6343" y="6953"/>
                  </a:lnTo>
                  <a:lnTo>
                    <a:pt x="6632" y="6697"/>
                  </a:lnTo>
                  <a:lnTo>
                    <a:pt x="6898" y="6409"/>
                  </a:lnTo>
                  <a:lnTo>
                    <a:pt x="7140" y="6090"/>
                  </a:lnTo>
                  <a:lnTo>
                    <a:pt x="7346" y="5748"/>
                  </a:lnTo>
                  <a:lnTo>
                    <a:pt x="7514" y="5394"/>
                  </a:lnTo>
                  <a:lnTo>
                    <a:pt x="7643" y="5029"/>
                  </a:lnTo>
                  <a:lnTo>
                    <a:pt x="7736" y="4659"/>
                  </a:lnTo>
                  <a:lnTo>
                    <a:pt x="7791" y="4284"/>
                  </a:lnTo>
                  <a:lnTo>
                    <a:pt x="7809" y="3908"/>
                  </a:lnTo>
                  <a:lnTo>
                    <a:pt x="7791" y="3533"/>
                  </a:lnTo>
                  <a:lnTo>
                    <a:pt x="7738" y="3162"/>
                  </a:lnTo>
                  <a:lnTo>
                    <a:pt x="7649" y="2799"/>
                  </a:lnTo>
                  <a:lnTo>
                    <a:pt x="7525" y="2444"/>
                  </a:lnTo>
                  <a:lnTo>
                    <a:pt x="7368" y="2102"/>
                  </a:lnTo>
                  <a:lnTo>
                    <a:pt x="7178" y="1775"/>
                  </a:lnTo>
                  <a:lnTo>
                    <a:pt x="6955" y="1465"/>
                  </a:lnTo>
                  <a:lnTo>
                    <a:pt x="6698" y="1177"/>
                  </a:lnTo>
                  <a:lnTo>
                    <a:pt x="6410" y="910"/>
                  </a:lnTo>
                  <a:lnTo>
                    <a:pt x="6091" y="671"/>
                  </a:lnTo>
                  <a:lnTo>
                    <a:pt x="5749" y="463"/>
                  </a:lnTo>
                  <a:lnTo>
                    <a:pt x="5394" y="294"/>
                  </a:lnTo>
                  <a:lnTo>
                    <a:pt x="5030" y="165"/>
                  </a:lnTo>
                  <a:lnTo>
                    <a:pt x="4659" y="72"/>
                  </a:lnTo>
                  <a:lnTo>
                    <a:pt x="4285" y="18"/>
                  </a:lnTo>
                  <a:lnTo>
                    <a:pt x="3909" y="0"/>
                  </a:lnTo>
                  <a:lnTo>
                    <a:pt x="3533" y="17"/>
                  </a:lnTo>
                  <a:lnTo>
                    <a:pt x="3163" y="71"/>
                  </a:lnTo>
                  <a:lnTo>
                    <a:pt x="2799" y="159"/>
                  </a:lnTo>
                  <a:lnTo>
                    <a:pt x="2445" y="283"/>
                  </a:lnTo>
                  <a:lnTo>
                    <a:pt x="2102" y="440"/>
                  </a:lnTo>
                  <a:lnTo>
                    <a:pt x="1775" y="630"/>
                  </a:lnTo>
                  <a:lnTo>
                    <a:pt x="1466" y="853"/>
                  </a:lnTo>
                  <a:lnTo>
                    <a:pt x="1177" y="1110"/>
                  </a:lnTo>
                  <a:lnTo>
                    <a:pt x="911" y="1398"/>
                  </a:lnTo>
                  <a:lnTo>
                    <a:pt x="670" y="1718"/>
                  </a:lnTo>
                  <a:lnTo>
                    <a:pt x="463" y="2059"/>
                  </a:lnTo>
                  <a:lnTo>
                    <a:pt x="295" y="2414"/>
                  </a:lnTo>
                  <a:lnTo>
                    <a:pt x="165" y="2778"/>
                  </a:lnTo>
                  <a:lnTo>
                    <a:pt x="73" y="3149"/>
                  </a:lnTo>
                  <a:lnTo>
                    <a:pt x="18" y="3523"/>
                  </a:lnTo>
                  <a:lnTo>
                    <a:pt x="0" y="3899"/>
                  </a:lnTo>
                  <a:lnTo>
                    <a:pt x="18" y="4274"/>
                  </a:lnTo>
                  <a:lnTo>
                    <a:pt x="72" y="4645"/>
                  </a:lnTo>
                  <a:lnTo>
                    <a:pt x="160" y="5009"/>
                  </a:lnTo>
                  <a:lnTo>
                    <a:pt x="284" y="5364"/>
                  </a:lnTo>
                  <a:lnTo>
                    <a:pt x="441" y="5706"/>
                  </a:lnTo>
                  <a:lnTo>
                    <a:pt x="631" y="6034"/>
                  </a:lnTo>
                  <a:lnTo>
                    <a:pt x="854" y="6343"/>
                  </a:lnTo>
                  <a:lnTo>
                    <a:pt x="1111" y="6632"/>
                  </a:lnTo>
                  <a:lnTo>
                    <a:pt x="1399" y="6898"/>
                  </a:lnTo>
                  <a:lnTo>
                    <a:pt x="1719" y="7139"/>
                  </a:lnTo>
                  <a:close/>
                </a:path>
              </a:pathLst>
            </a:custGeom>
            <a:solidFill>
              <a:srgbClr val="4e6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048960" y="85320"/>
              <a:ext cx="592200" cy="585000"/>
            </a:xfrm>
            <a:custGeom>
              <a:avLst/>
              <a:gdLst/>
              <a:ahLst/>
              <a:rect l="l" t="t" r="r" b="b"/>
              <a:pathLst>
                <a:path w="7648" h="7650">
                  <a:moveTo>
                    <a:pt x="1684" y="6994"/>
                  </a:moveTo>
                  <a:lnTo>
                    <a:pt x="2018" y="7196"/>
                  </a:lnTo>
                  <a:lnTo>
                    <a:pt x="2365" y="7360"/>
                  </a:lnTo>
                  <a:lnTo>
                    <a:pt x="2721" y="7487"/>
                  </a:lnTo>
                  <a:lnTo>
                    <a:pt x="3084" y="7577"/>
                  </a:lnTo>
                  <a:lnTo>
                    <a:pt x="3452" y="7631"/>
                  </a:lnTo>
                  <a:lnTo>
                    <a:pt x="3820" y="7650"/>
                  </a:lnTo>
                  <a:lnTo>
                    <a:pt x="4186" y="7631"/>
                  </a:lnTo>
                  <a:lnTo>
                    <a:pt x="4550" y="7579"/>
                  </a:lnTo>
                  <a:lnTo>
                    <a:pt x="4906" y="7492"/>
                  </a:lnTo>
                  <a:lnTo>
                    <a:pt x="5254" y="7372"/>
                  </a:lnTo>
                  <a:lnTo>
                    <a:pt x="5589" y="7218"/>
                  </a:lnTo>
                  <a:lnTo>
                    <a:pt x="5910" y="7031"/>
                  </a:lnTo>
                  <a:lnTo>
                    <a:pt x="6213" y="6812"/>
                  </a:lnTo>
                  <a:lnTo>
                    <a:pt x="6497" y="6561"/>
                  </a:lnTo>
                  <a:lnTo>
                    <a:pt x="6757" y="6279"/>
                  </a:lnTo>
                  <a:lnTo>
                    <a:pt x="6993" y="5967"/>
                  </a:lnTo>
                  <a:lnTo>
                    <a:pt x="7195" y="5631"/>
                  </a:lnTo>
                  <a:lnTo>
                    <a:pt x="7360" y="5284"/>
                  </a:lnTo>
                  <a:lnTo>
                    <a:pt x="7486" y="4928"/>
                  </a:lnTo>
                  <a:lnTo>
                    <a:pt x="7577" y="4565"/>
                  </a:lnTo>
                  <a:lnTo>
                    <a:pt x="7631" y="4198"/>
                  </a:lnTo>
                  <a:lnTo>
                    <a:pt x="7648" y="3829"/>
                  </a:lnTo>
                  <a:lnTo>
                    <a:pt x="7631" y="3462"/>
                  </a:lnTo>
                  <a:lnTo>
                    <a:pt x="7578" y="3099"/>
                  </a:lnTo>
                  <a:lnTo>
                    <a:pt x="7492" y="2742"/>
                  </a:lnTo>
                  <a:lnTo>
                    <a:pt x="7370" y="2395"/>
                  </a:lnTo>
                  <a:lnTo>
                    <a:pt x="7216" y="2060"/>
                  </a:lnTo>
                  <a:lnTo>
                    <a:pt x="7030" y="1739"/>
                  </a:lnTo>
                  <a:lnTo>
                    <a:pt x="6811" y="1436"/>
                  </a:lnTo>
                  <a:lnTo>
                    <a:pt x="6560" y="1153"/>
                  </a:lnTo>
                  <a:lnTo>
                    <a:pt x="6279" y="893"/>
                  </a:lnTo>
                  <a:lnTo>
                    <a:pt x="5966" y="658"/>
                  </a:lnTo>
                  <a:lnTo>
                    <a:pt x="5630" y="455"/>
                  </a:lnTo>
                  <a:lnTo>
                    <a:pt x="5284" y="290"/>
                  </a:lnTo>
                  <a:lnTo>
                    <a:pt x="4927" y="162"/>
                  </a:lnTo>
                  <a:lnTo>
                    <a:pt x="4564" y="72"/>
                  </a:lnTo>
                  <a:lnTo>
                    <a:pt x="4197" y="18"/>
                  </a:lnTo>
                  <a:lnTo>
                    <a:pt x="3828" y="0"/>
                  </a:lnTo>
                  <a:lnTo>
                    <a:pt x="3461" y="18"/>
                  </a:lnTo>
                  <a:lnTo>
                    <a:pt x="3098" y="70"/>
                  </a:lnTo>
                  <a:lnTo>
                    <a:pt x="2742" y="157"/>
                  </a:lnTo>
                  <a:lnTo>
                    <a:pt x="2394" y="277"/>
                  </a:lnTo>
                  <a:lnTo>
                    <a:pt x="2059" y="431"/>
                  </a:lnTo>
                  <a:lnTo>
                    <a:pt x="1738" y="618"/>
                  </a:lnTo>
                  <a:lnTo>
                    <a:pt x="1435" y="837"/>
                  </a:lnTo>
                  <a:lnTo>
                    <a:pt x="1152" y="1088"/>
                  </a:lnTo>
                  <a:lnTo>
                    <a:pt x="892" y="1370"/>
                  </a:lnTo>
                  <a:lnTo>
                    <a:pt x="657" y="1684"/>
                  </a:lnTo>
                  <a:lnTo>
                    <a:pt x="454" y="2018"/>
                  </a:lnTo>
                  <a:lnTo>
                    <a:pt x="289" y="2365"/>
                  </a:lnTo>
                  <a:lnTo>
                    <a:pt x="161" y="2722"/>
                  </a:lnTo>
                  <a:lnTo>
                    <a:pt x="71" y="3085"/>
                  </a:lnTo>
                  <a:lnTo>
                    <a:pt x="18" y="3453"/>
                  </a:lnTo>
                  <a:lnTo>
                    <a:pt x="0" y="3820"/>
                  </a:lnTo>
                  <a:lnTo>
                    <a:pt x="18" y="4188"/>
                  </a:lnTo>
                  <a:lnTo>
                    <a:pt x="70" y="4551"/>
                  </a:lnTo>
                  <a:lnTo>
                    <a:pt x="157" y="4908"/>
                  </a:lnTo>
                  <a:lnTo>
                    <a:pt x="277" y="5254"/>
                  </a:lnTo>
                  <a:lnTo>
                    <a:pt x="431" y="5590"/>
                  </a:lnTo>
                  <a:lnTo>
                    <a:pt x="619" y="5910"/>
                  </a:lnTo>
                  <a:lnTo>
                    <a:pt x="838" y="6213"/>
                  </a:lnTo>
                  <a:lnTo>
                    <a:pt x="1088" y="6497"/>
                  </a:lnTo>
                  <a:lnTo>
                    <a:pt x="1370" y="6758"/>
                  </a:lnTo>
                  <a:lnTo>
                    <a:pt x="1684" y="6994"/>
                  </a:lnTo>
                  <a:close/>
                </a:path>
              </a:pathLst>
            </a:custGeom>
            <a:solidFill>
              <a:srgbClr val="506b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9057960" y="87840"/>
              <a:ext cx="580320" cy="573120"/>
            </a:xfrm>
            <a:custGeom>
              <a:avLst/>
              <a:gdLst/>
              <a:ahLst/>
              <a:rect l="l" t="t" r="r" b="b"/>
              <a:pathLst>
                <a:path w="7489" h="7488">
                  <a:moveTo>
                    <a:pt x="1649" y="6846"/>
                  </a:moveTo>
                  <a:lnTo>
                    <a:pt x="1976" y="7044"/>
                  </a:lnTo>
                  <a:lnTo>
                    <a:pt x="2315" y="7205"/>
                  </a:lnTo>
                  <a:lnTo>
                    <a:pt x="2665" y="7330"/>
                  </a:lnTo>
                  <a:lnTo>
                    <a:pt x="3020" y="7418"/>
                  </a:lnTo>
                  <a:lnTo>
                    <a:pt x="3380" y="7470"/>
                  </a:lnTo>
                  <a:lnTo>
                    <a:pt x="3740" y="7488"/>
                  </a:lnTo>
                  <a:lnTo>
                    <a:pt x="4099" y="7471"/>
                  </a:lnTo>
                  <a:lnTo>
                    <a:pt x="4455" y="7419"/>
                  </a:lnTo>
                  <a:lnTo>
                    <a:pt x="4804" y="7334"/>
                  </a:lnTo>
                  <a:lnTo>
                    <a:pt x="5144" y="7216"/>
                  </a:lnTo>
                  <a:lnTo>
                    <a:pt x="5473" y="7066"/>
                  </a:lnTo>
                  <a:lnTo>
                    <a:pt x="5787" y="6883"/>
                  </a:lnTo>
                  <a:lnTo>
                    <a:pt x="6083" y="6668"/>
                  </a:lnTo>
                  <a:lnTo>
                    <a:pt x="6361" y="6423"/>
                  </a:lnTo>
                  <a:lnTo>
                    <a:pt x="6616" y="6146"/>
                  </a:lnTo>
                  <a:lnTo>
                    <a:pt x="6846" y="5840"/>
                  </a:lnTo>
                  <a:lnTo>
                    <a:pt x="7044" y="5512"/>
                  </a:lnTo>
                  <a:lnTo>
                    <a:pt x="7206" y="5173"/>
                  </a:lnTo>
                  <a:lnTo>
                    <a:pt x="7330" y="4823"/>
                  </a:lnTo>
                  <a:lnTo>
                    <a:pt x="7418" y="4468"/>
                  </a:lnTo>
                  <a:lnTo>
                    <a:pt x="7470" y="4108"/>
                  </a:lnTo>
                  <a:lnTo>
                    <a:pt x="7489" y="3748"/>
                  </a:lnTo>
                  <a:lnTo>
                    <a:pt x="7472" y="3389"/>
                  </a:lnTo>
                  <a:lnTo>
                    <a:pt x="7421" y="3033"/>
                  </a:lnTo>
                  <a:lnTo>
                    <a:pt x="7335" y="2684"/>
                  </a:lnTo>
                  <a:lnTo>
                    <a:pt x="7217" y="2344"/>
                  </a:lnTo>
                  <a:lnTo>
                    <a:pt x="7067" y="2015"/>
                  </a:lnTo>
                  <a:lnTo>
                    <a:pt x="6884" y="1702"/>
                  </a:lnTo>
                  <a:lnTo>
                    <a:pt x="6669" y="1405"/>
                  </a:lnTo>
                  <a:lnTo>
                    <a:pt x="6423" y="1128"/>
                  </a:lnTo>
                  <a:lnTo>
                    <a:pt x="6148" y="872"/>
                  </a:lnTo>
                  <a:lnTo>
                    <a:pt x="5842" y="643"/>
                  </a:lnTo>
                  <a:lnTo>
                    <a:pt x="5513" y="444"/>
                  </a:lnTo>
                  <a:lnTo>
                    <a:pt x="5173" y="282"/>
                  </a:lnTo>
                  <a:lnTo>
                    <a:pt x="4824" y="158"/>
                  </a:lnTo>
                  <a:lnTo>
                    <a:pt x="4469" y="70"/>
                  </a:lnTo>
                  <a:lnTo>
                    <a:pt x="4109" y="17"/>
                  </a:lnTo>
                  <a:lnTo>
                    <a:pt x="3749" y="0"/>
                  </a:lnTo>
                  <a:lnTo>
                    <a:pt x="3389" y="17"/>
                  </a:lnTo>
                  <a:lnTo>
                    <a:pt x="3033" y="68"/>
                  </a:lnTo>
                  <a:lnTo>
                    <a:pt x="2684" y="153"/>
                  </a:lnTo>
                  <a:lnTo>
                    <a:pt x="2344" y="271"/>
                  </a:lnTo>
                  <a:lnTo>
                    <a:pt x="2017" y="422"/>
                  </a:lnTo>
                  <a:lnTo>
                    <a:pt x="1702" y="605"/>
                  </a:lnTo>
                  <a:lnTo>
                    <a:pt x="1405" y="818"/>
                  </a:lnTo>
                  <a:lnTo>
                    <a:pt x="1128" y="1064"/>
                  </a:lnTo>
                  <a:lnTo>
                    <a:pt x="873" y="1340"/>
                  </a:lnTo>
                  <a:lnTo>
                    <a:pt x="643" y="1647"/>
                  </a:lnTo>
                  <a:lnTo>
                    <a:pt x="444" y="1975"/>
                  </a:lnTo>
                  <a:lnTo>
                    <a:pt x="283" y="2314"/>
                  </a:lnTo>
                  <a:lnTo>
                    <a:pt x="158" y="2664"/>
                  </a:lnTo>
                  <a:lnTo>
                    <a:pt x="70" y="3019"/>
                  </a:lnTo>
                  <a:lnTo>
                    <a:pt x="18" y="3378"/>
                  </a:lnTo>
                  <a:lnTo>
                    <a:pt x="0" y="3740"/>
                  </a:lnTo>
                  <a:lnTo>
                    <a:pt x="18" y="4099"/>
                  </a:lnTo>
                  <a:lnTo>
                    <a:pt x="69" y="4454"/>
                  </a:lnTo>
                  <a:lnTo>
                    <a:pt x="154" y="4804"/>
                  </a:lnTo>
                  <a:lnTo>
                    <a:pt x="272" y="5143"/>
                  </a:lnTo>
                  <a:lnTo>
                    <a:pt x="423" y="5471"/>
                  </a:lnTo>
                  <a:lnTo>
                    <a:pt x="606" y="5786"/>
                  </a:lnTo>
                  <a:lnTo>
                    <a:pt x="821" y="6083"/>
                  </a:lnTo>
                  <a:lnTo>
                    <a:pt x="1066" y="6360"/>
                  </a:lnTo>
                  <a:lnTo>
                    <a:pt x="1342" y="6615"/>
                  </a:lnTo>
                  <a:lnTo>
                    <a:pt x="1649" y="6846"/>
                  </a:lnTo>
                  <a:close/>
                </a:path>
              </a:pathLst>
            </a:custGeom>
            <a:solidFill>
              <a:srgbClr val="526e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9067320" y="89640"/>
              <a:ext cx="568080" cy="560880"/>
            </a:xfrm>
            <a:custGeom>
              <a:avLst/>
              <a:gdLst/>
              <a:ahLst/>
              <a:rect l="l" t="t" r="r" b="b"/>
              <a:pathLst>
                <a:path w="7328" h="7326">
                  <a:moveTo>
                    <a:pt x="1613" y="6698"/>
                  </a:moveTo>
                  <a:lnTo>
                    <a:pt x="1933" y="6891"/>
                  </a:lnTo>
                  <a:lnTo>
                    <a:pt x="2266" y="7049"/>
                  </a:lnTo>
                  <a:lnTo>
                    <a:pt x="2607" y="7171"/>
                  </a:lnTo>
                  <a:lnTo>
                    <a:pt x="2956" y="7257"/>
                  </a:lnTo>
                  <a:lnTo>
                    <a:pt x="3306" y="7309"/>
                  </a:lnTo>
                  <a:lnTo>
                    <a:pt x="3659" y="7326"/>
                  </a:lnTo>
                  <a:lnTo>
                    <a:pt x="4011" y="7309"/>
                  </a:lnTo>
                  <a:lnTo>
                    <a:pt x="4360" y="7259"/>
                  </a:lnTo>
                  <a:lnTo>
                    <a:pt x="4701" y="7176"/>
                  </a:lnTo>
                  <a:lnTo>
                    <a:pt x="5034" y="7062"/>
                  </a:lnTo>
                  <a:lnTo>
                    <a:pt x="5355" y="6914"/>
                  </a:lnTo>
                  <a:lnTo>
                    <a:pt x="5662" y="6735"/>
                  </a:lnTo>
                  <a:lnTo>
                    <a:pt x="5953" y="6525"/>
                  </a:lnTo>
                  <a:lnTo>
                    <a:pt x="6225" y="6284"/>
                  </a:lnTo>
                  <a:lnTo>
                    <a:pt x="6473" y="6014"/>
                  </a:lnTo>
                  <a:lnTo>
                    <a:pt x="6700" y="5716"/>
                  </a:lnTo>
                  <a:lnTo>
                    <a:pt x="6893" y="5395"/>
                  </a:lnTo>
                  <a:lnTo>
                    <a:pt x="7051" y="5062"/>
                  </a:lnTo>
                  <a:lnTo>
                    <a:pt x="7173" y="4721"/>
                  </a:lnTo>
                  <a:lnTo>
                    <a:pt x="7259" y="4372"/>
                  </a:lnTo>
                  <a:lnTo>
                    <a:pt x="7311" y="4021"/>
                  </a:lnTo>
                  <a:lnTo>
                    <a:pt x="7328" y="3668"/>
                  </a:lnTo>
                  <a:lnTo>
                    <a:pt x="7311" y="3316"/>
                  </a:lnTo>
                  <a:lnTo>
                    <a:pt x="7261" y="2968"/>
                  </a:lnTo>
                  <a:lnTo>
                    <a:pt x="7178" y="2626"/>
                  </a:lnTo>
                  <a:lnTo>
                    <a:pt x="7062" y="2294"/>
                  </a:lnTo>
                  <a:lnTo>
                    <a:pt x="6915" y="1973"/>
                  </a:lnTo>
                  <a:lnTo>
                    <a:pt x="6736" y="1665"/>
                  </a:lnTo>
                  <a:lnTo>
                    <a:pt x="6526" y="1375"/>
                  </a:lnTo>
                  <a:lnTo>
                    <a:pt x="6285" y="1103"/>
                  </a:lnTo>
                  <a:lnTo>
                    <a:pt x="6015" y="854"/>
                  </a:lnTo>
                  <a:lnTo>
                    <a:pt x="5717" y="629"/>
                  </a:lnTo>
                  <a:lnTo>
                    <a:pt x="5395" y="434"/>
                  </a:lnTo>
                  <a:lnTo>
                    <a:pt x="5063" y="277"/>
                  </a:lnTo>
                  <a:lnTo>
                    <a:pt x="4721" y="155"/>
                  </a:lnTo>
                  <a:lnTo>
                    <a:pt x="4373" y="69"/>
                  </a:lnTo>
                  <a:lnTo>
                    <a:pt x="4022" y="17"/>
                  </a:lnTo>
                  <a:lnTo>
                    <a:pt x="3669" y="0"/>
                  </a:lnTo>
                  <a:lnTo>
                    <a:pt x="3317" y="17"/>
                  </a:lnTo>
                  <a:lnTo>
                    <a:pt x="2968" y="66"/>
                  </a:lnTo>
                  <a:lnTo>
                    <a:pt x="2627" y="149"/>
                  </a:lnTo>
                  <a:lnTo>
                    <a:pt x="2294" y="265"/>
                  </a:lnTo>
                  <a:lnTo>
                    <a:pt x="1973" y="412"/>
                  </a:lnTo>
                  <a:lnTo>
                    <a:pt x="1666" y="592"/>
                  </a:lnTo>
                  <a:lnTo>
                    <a:pt x="1376" y="801"/>
                  </a:lnTo>
                  <a:lnTo>
                    <a:pt x="1104" y="1041"/>
                  </a:lnTo>
                  <a:lnTo>
                    <a:pt x="855" y="1312"/>
                  </a:lnTo>
                  <a:lnTo>
                    <a:pt x="630" y="1612"/>
                  </a:lnTo>
                  <a:lnTo>
                    <a:pt x="435" y="1932"/>
                  </a:lnTo>
                  <a:lnTo>
                    <a:pt x="278" y="2265"/>
                  </a:lnTo>
                  <a:lnTo>
                    <a:pt x="155" y="2606"/>
                  </a:lnTo>
                  <a:lnTo>
                    <a:pt x="69" y="2954"/>
                  </a:lnTo>
                  <a:lnTo>
                    <a:pt x="17" y="3306"/>
                  </a:lnTo>
                  <a:lnTo>
                    <a:pt x="0" y="3659"/>
                  </a:lnTo>
                  <a:lnTo>
                    <a:pt x="17" y="4010"/>
                  </a:lnTo>
                  <a:lnTo>
                    <a:pt x="67" y="4358"/>
                  </a:lnTo>
                  <a:lnTo>
                    <a:pt x="150" y="4699"/>
                  </a:lnTo>
                  <a:lnTo>
                    <a:pt x="266" y="5032"/>
                  </a:lnTo>
                  <a:lnTo>
                    <a:pt x="414" y="5353"/>
                  </a:lnTo>
                  <a:lnTo>
                    <a:pt x="592" y="5660"/>
                  </a:lnTo>
                  <a:lnTo>
                    <a:pt x="803" y="5951"/>
                  </a:lnTo>
                  <a:lnTo>
                    <a:pt x="1043" y="6223"/>
                  </a:lnTo>
                  <a:lnTo>
                    <a:pt x="1313" y="6472"/>
                  </a:lnTo>
                  <a:lnTo>
                    <a:pt x="1613" y="6698"/>
                  </a:lnTo>
                  <a:close/>
                </a:path>
              </a:pathLst>
            </a:custGeom>
            <a:solidFill>
              <a:srgbClr val="557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9076680" y="92520"/>
              <a:ext cx="555840" cy="548280"/>
            </a:xfrm>
            <a:custGeom>
              <a:avLst/>
              <a:gdLst/>
              <a:ahLst/>
              <a:rect l="l" t="t" r="r" b="b"/>
              <a:pathLst>
                <a:path w="7167" h="7167">
                  <a:moveTo>
                    <a:pt x="1577" y="6552"/>
                  </a:moveTo>
                  <a:lnTo>
                    <a:pt x="1891" y="6741"/>
                  </a:lnTo>
                  <a:lnTo>
                    <a:pt x="2216" y="6896"/>
                  </a:lnTo>
                  <a:lnTo>
                    <a:pt x="2550" y="7015"/>
                  </a:lnTo>
                  <a:lnTo>
                    <a:pt x="2890" y="7100"/>
                  </a:lnTo>
                  <a:lnTo>
                    <a:pt x="3233" y="7150"/>
                  </a:lnTo>
                  <a:lnTo>
                    <a:pt x="3579" y="7167"/>
                  </a:lnTo>
                  <a:lnTo>
                    <a:pt x="3923" y="7151"/>
                  </a:lnTo>
                  <a:lnTo>
                    <a:pt x="4264" y="7102"/>
                  </a:lnTo>
                  <a:lnTo>
                    <a:pt x="4597" y="7020"/>
                  </a:lnTo>
                  <a:lnTo>
                    <a:pt x="4923" y="6907"/>
                  </a:lnTo>
                  <a:lnTo>
                    <a:pt x="5236" y="6763"/>
                  </a:lnTo>
                  <a:lnTo>
                    <a:pt x="5537" y="6588"/>
                  </a:lnTo>
                  <a:lnTo>
                    <a:pt x="5821" y="6383"/>
                  </a:lnTo>
                  <a:lnTo>
                    <a:pt x="6087" y="6148"/>
                  </a:lnTo>
                  <a:lnTo>
                    <a:pt x="6331" y="5883"/>
                  </a:lnTo>
                  <a:lnTo>
                    <a:pt x="6552" y="5591"/>
                  </a:lnTo>
                  <a:lnTo>
                    <a:pt x="6742" y="5276"/>
                  </a:lnTo>
                  <a:lnTo>
                    <a:pt x="6896" y="4951"/>
                  </a:lnTo>
                  <a:lnTo>
                    <a:pt x="7015" y="4617"/>
                  </a:lnTo>
                  <a:lnTo>
                    <a:pt x="7100" y="4277"/>
                  </a:lnTo>
                  <a:lnTo>
                    <a:pt x="7150" y="3934"/>
                  </a:lnTo>
                  <a:lnTo>
                    <a:pt x="7167" y="3588"/>
                  </a:lnTo>
                  <a:lnTo>
                    <a:pt x="7150" y="3244"/>
                  </a:lnTo>
                  <a:lnTo>
                    <a:pt x="7101" y="2904"/>
                  </a:lnTo>
                  <a:lnTo>
                    <a:pt x="7020" y="2570"/>
                  </a:lnTo>
                  <a:lnTo>
                    <a:pt x="6906" y="2245"/>
                  </a:lnTo>
                  <a:lnTo>
                    <a:pt x="6763" y="1931"/>
                  </a:lnTo>
                  <a:lnTo>
                    <a:pt x="6587" y="1630"/>
                  </a:lnTo>
                  <a:lnTo>
                    <a:pt x="6382" y="1346"/>
                  </a:lnTo>
                  <a:lnTo>
                    <a:pt x="6147" y="1080"/>
                  </a:lnTo>
                  <a:lnTo>
                    <a:pt x="5883" y="836"/>
                  </a:lnTo>
                  <a:lnTo>
                    <a:pt x="5590" y="616"/>
                  </a:lnTo>
                  <a:lnTo>
                    <a:pt x="5276" y="426"/>
                  </a:lnTo>
                  <a:lnTo>
                    <a:pt x="4950" y="271"/>
                  </a:lnTo>
                  <a:lnTo>
                    <a:pt x="4616" y="152"/>
                  </a:lnTo>
                  <a:lnTo>
                    <a:pt x="4276" y="67"/>
                  </a:lnTo>
                  <a:lnTo>
                    <a:pt x="3932" y="17"/>
                  </a:lnTo>
                  <a:lnTo>
                    <a:pt x="3586" y="0"/>
                  </a:lnTo>
                  <a:lnTo>
                    <a:pt x="3243" y="16"/>
                  </a:lnTo>
                  <a:lnTo>
                    <a:pt x="2903" y="66"/>
                  </a:lnTo>
                  <a:lnTo>
                    <a:pt x="2569" y="147"/>
                  </a:lnTo>
                  <a:lnTo>
                    <a:pt x="2244" y="260"/>
                  </a:lnTo>
                  <a:lnTo>
                    <a:pt x="1929" y="404"/>
                  </a:lnTo>
                  <a:lnTo>
                    <a:pt x="1629" y="579"/>
                  </a:lnTo>
                  <a:lnTo>
                    <a:pt x="1345" y="784"/>
                  </a:lnTo>
                  <a:lnTo>
                    <a:pt x="1079" y="1019"/>
                  </a:lnTo>
                  <a:lnTo>
                    <a:pt x="836" y="1284"/>
                  </a:lnTo>
                  <a:lnTo>
                    <a:pt x="616" y="1577"/>
                  </a:lnTo>
                  <a:lnTo>
                    <a:pt x="426" y="1891"/>
                  </a:lnTo>
                  <a:lnTo>
                    <a:pt x="272" y="2216"/>
                  </a:lnTo>
                  <a:lnTo>
                    <a:pt x="151" y="2550"/>
                  </a:lnTo>
                  <a:lnTo>
                    <a:pt x="67" y="2890"/>
                  </a:lnTo>
                  <a:lnTo>
                    <a:pt x="16" y="3234"/>
                  </a:lnTo>
                  <a:lnTo>
                    <a:pt x="0" y="3580"/>
                  </a:lnTo>
                  <a:lnTo>
                    <a:pt x="16" y="3923"/>
                  </a:lnTo>
                  <a:lnTo>
                    <a:pt x="65" y="4263"/>
                  </a:lnTo>
                  <a:lnTo>
                    <a:pt x="147" y="4598"/>
                  </a:lnTo>
                  <a:lnTo>
                    <a:pt x="260" y="4924"/>
                  </a:lnTo>
                  <a:lnTo>
                    <a:pt x="403" y="5237"/>
                  </a:lnTo>
                  <a:lnTo>
                    <a:pt x="579" y="5538"/>
                  </a:lnTo>
                  <a:lnTo>
                    <a:pt x="784" y="5822"/>
                  </a:lnTo>
                  <a:lnTo>
                    <a:pt x="1019" y="6088"/>
                  </a:lnTo>
                  <a:lnTo>
                    <a:pt x="1284" y="6331"/>
                  </a:lnTo>
                  <a:lnTo>
                    <a:pt x="1577" y="6552"/>
                  </a:lnTo>
                  <a:close/>
                </a:path>
              </a:pathLst>
            </a:custGeom>
            <a:solidFill>
              <a:srgbClr val="577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9086040" y="95040"/>
              <a:ext cx="542880" cy="535320"/>
            </a:xfrm>
            <a:custGeom>
              <a:avLst/>
              <a:gdLst/>
              <a:ahLst/>
              <a:rect l="l" t="t" r="r" b="b"/>
              <a:pathLst>
                <a:path w="7005" h="7006">
                  <a:moveTo>
                    <a:pt x="1541" y="6405"/>
                  </a:moveTo>
                  <a:lnTo>
                    <a:pt x="1847" y="6590"/>
                  </a:lnTo>
                  <a:lnTo>
                    <a:pt x="2165" y="6741"/>
                  </a:lnTo>
                  <a:lnTo>
                    <a:pt x="2492" y="6857"/>
                  </a:lnTo>
                  <a:lnTo>
                    <a:pt x="2824" y="6940"/>
                  </a:lnTo>
                  <a:lnTo>
                    <a:pt x="3161" y="6990"/>
                  </a:lnTo>
                  <a:lnTo>
                    <a:pt x="3498" y="7006"/>
                  </a:lnTo>
                  <a:lnTo>
                    <a:pt x="3834" y="6990"/>
                  </a:lnTo>
                  <a:lnTo>
                    <a:pt x="4167" y="6942"/>
                  </a:lnTo>
                  <a:lnTo>
                    <a:pt x="4494" y="6862"/>
                  </a:lnTo>
                  <a:lnTo>
                    <a:pt x="4812" y="6752"/>
                  </a:lnTo>
                  <a:lnTo>
                    <a:pt x="5120" y="6611"/>
                  </a:lnTo>
                  <a:lnTo>
                    <a:pt x="5413" y="6439"/>
                  </a:lnTo>
                  <a:lnTo>
                    <a:pt x="5690" y="6238"/>
                  </a:lnTo>
                  <a:lnTo>
                    <a:pt x="5950" y="6009"/>
                  </a:lnTo>
                  <a:lnTo>
                    <a:pt x="6189" y="5750"/>
                  </a:lnTo>
                  <a:lnTo>
                    <a:pt x="6405" y="5465"/>
                  </a:lnTo>
                  <a:lnTo>
                    <a:pt x="6590" y="5157"/>
                  </a:lnTo>
                  <a:lnTo>
                    <a:pt x="6741" y="4839"/>
                  </a:lnTo>
                  <a:lnTo>
                    <a:pt x="6857" y="4513"/>
                  </a:lnTo>
                  <a:lnTo>
                    <a:pt x="6940" y="4181"/>
                  </a:lnTo>
                  <a:lnTo>
                    <a:pt x="6990" y="3845"/>
                  </a:lnTo>
                  <a:lnTo>
                    <a:pt x="7005" y="3507"/>
                  </a:lnTo>
                  <a:lnTo>
                    <a:pt x="6990" y="3171"/>
                  </a:lnTo>
                  <a:lnTo>
                    <a:pt x="6942" y="2839"/>
                  </a:lnTo>
                  <a:lnTo>
                    <a:pt x="6862" y="2512"/>
                  </a:lnTo>
                  <a:lnTo>
                    <a:pt x="6751" y="2193"/>
                  </a:lnTo>
                  <a:lnTo>
                    <a:pt x="6610" y="1887"/>
                  </a:lnTo>
                  <a:lnTo>
                    <a:pt x="6439" y="1593"/>
                  </a:lnTo>
                  <a:lnTo>
                    <a:pt x="6238" y="1315"/>
                  </a:lnTo>
                  <a:lnTo>
                    <a:pt x="6008" y="1056"/>
                  </a:lnTo>
                  <a:lnTo>
                    <a:pt x="5750" y="817"/>
                  </a:lnTo>
                  <a:lnTo>
                    <a:pt x="5464" y="602"/>
                  </a:lnTo>
                  <a:lnTo>
                    <a:pt x="5157" y="416"/>
                  </a:lnTo>
                  <a:lnTo>
                    <a:pt x="4839" y="265"/>
                  </a:lnTo>
                  <a:lnTo>
                    <a:pt x="4512" y="149"/>
                  </a:lnTo>
                  <a:lnTo>
                    <a:pt x="4180" y="66"/>
                  </a:lnTo>
                  <a:lnTo>
                    <a:pt x="3844" y="17"/>
                  </a:lnTo>
                  <a:lnTo>
                    <a:pt x="3507" y="0"/>
                  </a:lnTo>
                  <a:lnTo>
                    <a:pt x="3170" y="16"/>
                  </a:lnTo>
                  <a:lnTo>
                    <a:pt x="2838" y="65"/>
                  </a:lnTo>
                  <a:lnTo>
                    <a:pt x="2511" y="144"/>
                  </a:lnTo>
                  <a:lnTo>
                    <a:pt x="2193" y="254"/>
                  </a:lnTo>
                  <a:lnTo>
                    <a:pt x="1886" y="396"/>
                  </a:lnTo>
                  <a:lnTo>
                    <a:pt x="1592" y="567"/>
                  </a:lnTo>
                  <a:lnTo>
                    <a:pt x="1315" y="767"/>
                  </a:lnTo>
                  <a:lnTo>
                    <a:pt x="1055" y="996"/>
                  </a:lnTo>
                  <a:lnTo>
                    <a:pt x="816" y="1255"/>
                  </a:lnTo>
                  <a:lnTo>
                    <a:pt x="601" y="1542"/>
                  </a:lnTo>
                  <a:lnTo>
                    <a:pt x="415" y="1848"/>
                  </a:lnTo>
                  <a:lnTo>
                    <a:pt x="264" y="2166"/>
                  </a:lnTo>
                  <a:lnTo>
                    <a:pt x="148" y="2492"/>
                  </a:lnTo>
                  <a:lnTo>
                    <a:pt x="65" y="2825"/>
                  </a:lnTo>
                  <a:lnTo>
                    <a:pt x="17" y="3162"/>
                  </a:lnTo>
                  <a:lnTo>
                    <a:pt x="0" y="3499"/>
                  </a:lnTo>
                  <a:lnTo>
                    <a:pt x="16" y="3835"/>
                  </a:lnTo>
                  <a:lnTo>
                    <a:pt x="64" y="4168"/>
                  </a:lnTo>
                  <a:lnTo>
                    <a:pt x="143" y="4495"/>
                  </a:lnTo>
                  <a:lnTo>
                    <a:pt x="254" y="4813"/>
                  </a:lnTo>
                  <a:lnTo>
                    <a:pt x="395" y="5120"/>
                  </a:lnTo>
                  <a:lnTo>
                    <a:pt x="566" y="5413"/>
                  </a:lnTo>
                  <a:lnTo>
                    <a:pt x="766" y="5691"/>
                  </a:lnTo>
                  <a:lnTo>
                    <a:pt x="996" y="5950"/>
                  </a:lnTo>
                  <a:lnTo>
                    <a:pt x="1254" y="6190"/>
                  </a:lnTo>
                  <a:lnTo>
                    <a:pt x="1541" y="6405"/>
                  </a:lnTo>
                  <a:close/>
                </a:path>
              </a:pathLst>
            </a:custGeom>
            <a:solidFill>
              <a:srgbClr val="5a76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9096120" y="97200"/>
              <a:ext cx="529920" cy="524160"/>
            </a:xfrm>
            <a:custGeom>
              <a:avLst/>
              <a:gdLst/>
              <a:ahLst/>
              <a:rect l="l" t="t" r="r" b="b"/>
              <a:pathLst>
                <a:path w="6845" h="6844">
                  <a:moveTo>
                    <a:pt x="1506" y="6259"/>
                  </a:moveTo>
                  <a:lnTo>
                    <a:pt x="1806" y="6439"/>
                  </a:lnTo>
                  <a:lnTo>
                    <a:pt x="2116" y="6586"/>
                  </a:lnTo>
                  <a:lnTo>
                    <a:pt x="2435" y="6700"/>
                  </a:lnTo>
                  <a:lnTo>
                    <a:pt x="2760" y="6781"/>
                  </a:lnTo>
                  <a:lnTo>
                    <a:pt x="3088" y="6828"/>
                  </a:lnTo>
                  <a:lnTo>
                    <a:pt x="3419" y="6844"/>
                  </a:lnTo>
                  <a:lnTo>
                    <a:pt x="3747" y="6829"/>
                  </a:lnTo>
                  <a:lnTo>
                    <a:pt x="4071" y="6783"/>
                  </a:lnTo>
                  <a:lnTo>
                    <a:pt x="4391" y="6704"/>
                  </a:lnTo>
                  <a:lnTo>
                    <a:pt x="4702" y="6597"/>
                  </a:lnTo>
                  <a:lnTo>
                    <a:pt x="5002" y="6458"/>
                  </a:lnTo>
                  <a:lnTo>
                    <a:pt x="5289" y="6292"/>
                  </a:lnTo>
                  <a:lnTo>
                    <a:pt x="5560" y="6096"/>
                  </a:lnTo>
                  <a:lnTo>
                    <a:pt x="5814" y="5871"/>
                  </a:lnTo>
                  <a:lnTo>
                    <a:pt x="6047" y="5619"/>
                  </a:lnTo>
                  <a:lnTo>
                    <a:pt x="6258" y="5339"/>
                  </a:lnTo>
                  <a:lnTo>
                    <a:pt x="6439" y="5038"/>
                  </a:lnTo>
                  <a:lnTo>
                    <a:pt x="6586" y="4728"/>
                  </a:lnTo>
                  <a:lnTo>
                    <a:pt x="6700" y="4409"/>
                  </a:lnTo>
                  <a:lnTo>
                    <a:pt x="6780" y="4085"/>
                  </a:lnTo>
                  <a:lnTo>
                    <a:pt x="6829" y="3756"/>
                  </a:lnTo>
                  <a:lnTo>
                    <a:pt x="6845" y="3427"/>
                  </a:lnTo>
                  <a:lnTo>
                    <a:pt x="6829" y="3097"/>
                  </a:lnTo>
                  <a:lnTo>
                    <a:pt x="6782" y="2773"/>
                  </a:lnTo>
                  <a:lnTo>
                    <a:pt x="6705" y="2454"/>
                  </a:lnTo>
                  <a:lnTo>
                    <a:pt x="6596" y="2142"/>
                  </a:lnTo>
                  <a:lnTo>
                    <a:pt x="6459" y="1843"/>
                  </a:lnTo>
                  <a:lnTo>
                    <a:pt x="6291" y="1556"/>
                  </a:lnTo>
                  <a:lnTo>
                    <a:pt x="6096" y="1284"/>
                  </a:lnTo>
                  <a:lnTo>
                    <a:pt x="5871" y="1031"/>
                  </a:lnTo>
                  <a:lnTo>
                    <a:pt x="5618" y="798"/>
                  </a:lnTo>
                  <a:lnTo>
                    <a:pt x="5339" y="588"/>
                  </a:lnTo>
                  <a:lnTo>
                    <a:pt x="5039" y="406"/>
                  </a:lnTo>
                  <a:lnTo>
                    <a:pt x="4727" y="259"/>
                  </a:lnTo>
                  <a:lnTo>
                    <a:pt x="4408" y="145"/>
                  </a:lnTo>
                  <a:lnTo>
                    <a:pt x="4084" y="64"/>
                  </a:lnTo>
                  <a:lnTo>
                    <a:pt x="3756" y="16"/>
                  </a:lnTo>
                  <a:lnTo>
                    <a:pt x="3426" y="0"/>
                  </a:lnTo>
                  <a:lnTo>
                    <a:pt x="3098" y="15"/>
                  </a:lnTo>
                  <a:lnTo>
                    <a:pt x="2772" y="63"/>
                  </a:lnTo>
                  <a:lnTo>
                    <a:pt x="2453" y="140"/>
                  </a:lnTo>
                  <a:lnTo>
                    <a:pt x="2143" y="248"/>
                  </a:lnTo>
                  <a:lnTo>
                    <a:pt x="1843" y="385"/>
                  </a:lnTo>
                  <a:lnTo>
                    <a:pt x="1556" y="553"/>
                  </a:lnTo>
                  <a:lnTo>
                    <a:pt x="1285" y="749"/>
                  </a:lnTo>
                  <a:lnTo>
                    <a:pt x="1031" y="973"/>
                  </a:lnTo>
                  <a:lnTo>
                    <a:pt x="798" y="1225"/>
                  </a:lnTo>
                  <a:lnTo>
                    <a:pt x="588" y="1506"/>
                  </a:lnTo>
                  <a:lnTo>
                    <a:pt x="406" y="1805"/>
                  </a:lnTo>
                  <a:lnTo>
                    <a:pt x="258" y="2116"/>
                  </a:lnTo>
                  <a:lnTo>
                    <a:pt x="144" y="2435"/>
                  </a:lnTo>
                  <a:lnTo>
                    <a:pt x="64" y="2759"/>
                  </a:lnTo>
                  <a:lnTo>
                    <a:pt x="16" y="3088"/>
                  </a:lnTo>
                  <a:lnTo>
                    <a:pt x="0" y="3418"/>
                  </a:lnTo>
                  <a:lnTo>
                    <a:pt x="16" y="3747"/>
                  </a:lnTo>
                  <a:lnTo>
                    <a:pt x="62" y="4072"/>
                  </a:lnTo>
                  <a:lnTo>
                    <a:pt x="140" y="4391"/>
                  </a:lnTo>
                  <a:lnTo>
                    <a:pt x="249" y="4702"/>
                  </a:lnTo>
                  <a:lnTo>
                    <a:pt x="386" y="5002"/>
                  </a:lnTo>
                  <a:lnTo>
                    <a:pt x="553" y="5289"/>
                  </a:lnTo>
                  <a:lnTo>
                    <a:pt x="749" y="5560"/>
                  </a:lnTo>
                  <a:lnTo>
                    <a:pt x="974" y="5814"/>
                  </a:lnTo>
                  <a:lnTo>
                    <a:pt x="1226" y="6047"/>
                  </a:lnTo>
                  <a:lnTo>
                    <a:pt x="1506" y="6259"/>
                  </a:lnTo>
                  <a:close/>
                </a:path>
              </a:pathLst>
            </a:custGeom>
            <a:solidFill>
              <a:srgbClr val="5c7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9105480" y="99720"/>
              <a:ext cx="517680" cy="511560"/>
            </a:xfrm>
            <a:custGeom>
              <a:avLst/>
              <a:gdLst/>
              <a:ahLst/>
              <a:rect l="l" t="t" r="r" b="b"/>
              <a:pathLst>
                <a:path w="6684" h="6684">
                  <a:moveTo>
                    <a:pt x="1471" y="6112"/>
                  </a:moveTo>
                  <a:lnTo>
                    <a:pt x="1764" y="6288"/>
                  </a:lnTo>
                  <a:lnTo>
                    <a:pt x="2067" y="6432"/>
                  </a:lnTo>
                  <a:lnTo>
                    <a:pt x="2378" y="6542"/>
                  </a:lnTo>
                  <a:lnTo>
                    <a:pt x="2695" y="6621"/>
                  </a:lnTo>
                  <a:lnTo>
                    <a:pt x="3016" y="6669"/>
                  </a:lnTo>
                  <a:lnTo>
                    <a:pt x="3338" y="6684"/>
                  </a:lnTo>
                  <a:lnTo>
                    <a:pt x="3659" y="6669"/>
                  </a:lnTo>
                  <a:lnTo>
                    <a:pt x="3976" y="6623"/>
                  </a:lnTo>
                  <a:lnTo>
                    <a:pt x="4287" y="6547"/>
                  </a:lnTo>
                  <a:lnTo>
                    <a:pt x="4592" y="6441"/>
                  </a:lnTo>
                  <a:lnTo>
                    <a:pt x="4885" y="6307"/>
                  </a:lnTo>
                  <a:lnTo>
                    <a:pt x="5165" y="6144"/>
                  </a:lnTo>
                  <a:lnTo>
                    <a:pt x="5430" y="5952"/>
                  </a:lnTo>
                  <a:lnTo>
                    <a:pt x="5678" y="5733"/>
                  </a:lnTo>
                  <a:lnTo>
                    <a:pt x="5906" y="5487"/>
                  </a:lnTo>
                  <a:lnTo>
                    <a:pt x="6112" y="5213"/>
                  </a:lnTo>
                  <a:lnTo>
                    <a:pt x="6288" y="4920"/>
                  </a:lnTo>
                  <a:lnTo>
                    <a:pt x="6432" y="4617"/>
                  </a:lnTo>
                  <a:lnTo>
                    <a:pt x="6542" y="4306"/>
                  </a:lnTo>
                  <a:lnTo>
                    <a:pt x="6621" y="3989"/>
                  </a:lnTo>
                  <a:lnTo>
                    <a:pt x="6669" y="3668"/>
                  </a:lnTo>
                  <a:lnTo>
                    <a:pt x="6684" y="3346"/>
                  </a:lnTo>
                  <a:lnTo>
                    <a:pt x="6669" y="3025"/>
                  </a:lnTo>
                  <a:lnTo>
                    <a:pt x="6623" y="2708"/>
                  </a:lnTo>
                  <a:lnTo>
                    <a:pt x="6547" y="2396"/>
                  </a:lnTo>
                  <a:lnTo>
                    <a:pt x="6441" y="2092"/>
                  </a:lnTo>
                  <a:lnTo>
                    <a:pt x="6307" y="1800"/>
                  </a:lnTo>
                  <a:lnTo>
                    <a:pt x="6144" y="1519"/>
                  </a:lnTo>
                  <a:lnTo>
                    <a:pt x="5952" y="1255"/>
                  </a:lnTo>
                  <a:lnTo>
                    <a:pt x="5733" y="1007"/>
                  </a:lnTo>
                  <a:lnTo>
                    <a:pt x="5487" y="779"/>
                  </a:lnTo>
                  <a:lnTo>
                    <a:pt x="5213" y="574"/>
                  </a:lnTo>
                  <a:lnTo>
                    <a:pt x="4920" y="397"/>
                  </a:lnTo>
                  <a:lnTo>
                    <a:pt x="4617" y="252"/>
                  </a:lnTo>
                  <a:lnTo>
                    <a:pt x="4306" y="142"/>
                  </a:lnTo>
                  <a:lnTo>
                    <a:pt x="3989" y="63"/>
                  </a:lnTo>
                  <a:lnTo>
                    <a:pt x="3668" y="15"/>
                  </a:lnTo>
                  <a:lnTo>
                    <a:pt x="3346" y="0"/>
                  </a:lnTo>
                  <a:lnTo>
                    <a:pt x="3025" y="15"/>
                  </a:lnTo>
                  <a:lnTo>
                    <a:pt x="2708" y="61"/>
                  </a:lnTo>
                  <a:lnTo>
                    <a:pt x="2396" y="137"/>
                  </a:lnTo>
                  <a:lnTo>
                    <a:pt x="2092" y="243"/>
                  </a:lnTo>
                  <a:lnTo>
                    <a:pt x="1800" y="376"/>
                  </a:lnTo>
                  <a:lnTo>
                    <a:pt x="1519" y="540"/>
                  </a:lnTo>
                  <a:lnTo>
                    <a:pt x="1254" y="732"/>
                  </a:lnTo>
                  <a:lnTo>
                    <a:pt x="1007" y="951"/>
                  </a:lnTo>
                  <a:lnTo>
                    <a:pt x="779" y="1197"/>
                  </a:lnTo>
                  <a:lnTo>
                    <a:pt x="574" y="1470"/>
                  </a:lnTo>
                  <a:lnTo>
                    <a:pt x="396" y="1763"/>
                  </a:lnTo>
                  <a:lnTo>
                    <a:pt x="252" y="2066"/>
                  </a:lnTo>
                  <a:lnTo>
                    <a:pt x="141" y="2377"/>
                  </a:lnTo>
                  <a:lnTo>
                    <a:pt x="63" y="2695"/>
                  </a:lnTo>
                  <a:lnTo>
                    <a:pt x="15" y="3016"/>
                  </a:lnTo>
                  <a:lnTo>
                    <a:pt x="0" y="3338"/>
                  </a:lnTo>
                  <a:lnTo>
                    <a:pt x="15" y="3659"/>
                  </a:lnTo>
                  <a:lnTo>
                    <a:pt x="61" y="3976"/>
                  </a:lnTo>
                  <a:lnTo>
                    <a:pt x="137" y="4288"/>
                  </a:lnTo>
                  <a:lnTo>
                    <a:pt x="242" y="4592"/>
                  </a:lnTo>
                  <a:lnTo>
                    <a:pt x="377" y="4885"/>
                  </a:lnTo>
                  <a:lnTo>
                    <a:pt x="540" y="5165"/>
                  </a:lnTo>
                  <a:lnTo>
                    <a:pt x="731" y="5430"/>
                  </a:lnTo>
                  <a:lnTo>
                    <a:pt x="950" y="5678"/>
                  </a:lnTo>
                  <a:lnTo>
                    <a:pt x="1197" y="5906"/>
                  </a:lnTo>
                  <a:lnTo>
                    <a:pt x="1471" y="6112"/>
                  </a:lnTo>
                  <a:close/>
                </a:path>
              </a:pathLst>
            </a:custGeom>
            <a:solidFill>
              <a:srgbClr val="5f7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9114840" y="102600"/>
              <a:ext cx="505080" cy="498600"/>
            </a:xfrm>
            <a:custGeom>
              <a:avLst/>
              <a:gdLst/>
              <a:ahLst/>
              <a:rect l="l" t="t" r="r" b="b"/>
              <a:pathLst>
                <a:path w="6523" h="6523">
                  <a:moveTo>
                    <a:pt x="1436" y="5964"/>
                  </a:moveTo>
                  <a:lnTo>
                    <a:pt x="1721" y="6136"/>
                  </a:lnTo>
                  <a:lnTo>
                    <a:pt x="2017" y="6276"/>
                  </a:lnTo>
                  <a:lnTo>
                    <a:pt x="2321" y="6385"/>
                  </a:lnTo>
                  <a:lnTo>
                    <a:pt x="2630" y="6462"/>
                  </a:lnTo>
                  <a:lnTo>
                    <a:pt x="2944" y="6508"/>
                  </a:lnTo>
                  <a:lnTo>
                    <a:pt x="3258" y="6523"/>
                  </a:lnTo>
                  <a:lnTo>
                    <a:pt x="3571" y="6508"/>
                  </a:lnTo>
                  <a:lnTo>
                    <a:pt x="3881" y="6464"/>
                  </a:lnTo>
                  <a:lnTo>
                    <a:pt x="4185" y="6390"/>
                  </a:lnTo>
                  <a:lnTo>
                    <a:pt x="4481" y="6287"/>
                  </a:lnTo>
                  <a:lnTo>
                    <a:pt x="4767" y="6156"/>
                  </a:lnTo>
                  <a:lnTo>
                    <a:pt x="5040" y="5997"/>
                  </a:lnTo>
                  <a:lnTo>
                    <a:pt x="5299" y="5810"/>
                  </a:lnTo>
                  <a:lnTo>
                    <a:pt x="5541" y="5596"/>
                  </a:lnTo>
                  <a:lnTo>
                    <a:pt x="5763" y="5356"/>
                  </a:lnTo>
                  <a:lnTo>
                    <a:pt x="5964" y="5089"/>
                  </a:lnTo>
                  <a:lnTo>
                    <a:pt x="6136" y="4803"/>
                  </a:lnTo>
                  <a:lnTo>
                    <a:pt x="6277" y="4506"/>
                  </a:lnTo>
                  <a:lnTo>
                    <a:pt x="6385" y="4202"/>
                  </a:lnTo>
                  <a:lnTo>
                    <a:pt x="6462" y="3893"/>
                  </a:lnTo>
                  <a:lnTo>
                    <a:pt x="6507" y="3579"/>
                  </a:lnTo>
                  <a:lnTo>
                    <a:pt x="6523" y="3266"/>
                  </a:lnTo>
                  <a:lnTo>
                    <a:pt x="6509" y="2952"/>
                  </a:lnTo>
                  <a:lnTo>
                    <a:pt x="6464" y="2643"/>
                  </a:lnTo>
                  <a:lnTo>
                    <a:pt x="6389" y="2339"/>
                  </a:lnTo>
                  <a:lnTo>
                    <a:pt x="6286" y="2042"/>
                  </a:lnTo>
                  <a:lnTo>
                    <a:pt x="6156" y="1756"/>
                  </a:lnTo>
                  <a:lnTo>
                    <a:pt x="5996" y="1483"/>
                  </a:lnTo>
                  <a:lnTo>
                    <a:pt x="5809" y="1225"/>
                  </a:lnTo>
                  <a:lnTo>
                    <a:pt x="5595" y="982"/>
                  </a:lnTo>
                  <a:lnTo>
                    <a:pt x="5355" y="760"/>
                  </a:lnTo>
                  <a:lnTo>
                    <a:pt x="5088" y="560"/>
                  </a:lnTo>
                  <a:lnTo>
                    <a:pt x="4802" y="387"/>
                  </a:lnTo>
                  <a:lnTo>
                    <a:pt x="4506" y="247"/>
                  </a:lnTo>
                  <a:lnTo>
                    <a:pt x="4202" y="138"/>
                  </a:lnTo>
                  <a:lnTo>
                    <a:pt x="3892" y="61"/>
                  </a:lnTo>
                  <a:lnTo>
                    <a:pt x="3580" y="15"/>
                  </a:lnTo>
                  <a:lnTo>
                    <a:pt x="3265" y="0"/>
                  </a:lnTo>
                  <a:lnTo>
                    <a:pt x="2952" y="15"/>
                  </a:lnTo>
                  <a:lnTo>
                    <a:pt x="2642" y="60"/>
                  </a:lnTo>
                  <a:lnTo>
                    <a:pt x="2338" y="134"/>
                  </a:lnTo>
                  <a:lnTo>
                    <a:pt x="2042" y="236"/>
                  </a:lnTo>
                  <a:lnTo>
                    <a:pt x="1756" y="368"/>
                  </a:lnTo>
                  <a:lnTo>
                    <a:pt x="1482" y="527"/>
                  </a:lnTo>
                  <a:lnTo>
                    <a:pt x="1224" y="713"/>
                  </a:lnTo>
                  <a:lnTo>
                    <a:pt x="982" y="927"/>
                  </a:lnTo>
                  <a:lnTo>
                    <a:pt x="759" y="1168"/>
                  </a:lnTo>
                  <a:lnTo>
                    <a:pt x="559" y="1435"/>
                  </a:lnTo>
                  <a:lnTo>
                    <a:pt x="386" y="1720"/>
                  </a:lnTo>
                  <a:lnTo>
                    <a:pt x="246" y="2017"/>
                  </a:lnTo>
                  <a:lnTo>
                    <a:pt x="137" y="2321"/>
                  </a:lnTo>
                  <a:lnTo>
                    <a:pt x="61" y="2630"/>
                  </a:lnTo>
                  <a:lnTo>
                    <a:pt x="15" y="2944"/>
                  </a:lnTo>
                  <a:lnTo>
                    <a:pt x="0" y="3257"/>
                  </a:lnTo>
                  <a:lnTo>
                    <a:pt x="15" y="3571"/>
                  </a:lnTo>
                  <a:lnTo>
                    <a:pt x="60" y="3881"/>
                  </a:lnTo>
                  <a:lnTo>
                    <a:pt x="134" y="4185"/>
                  </a:lnTo>
                  <a:lnTo>
                    <a:pt x="237" y="4481"/>
                  </a:lnTo>
                  <a:lnTo>
                    <a:pt x="368" y="4767"/>
                  </a:lnTo>
                  <a:lnTo>
                    <a:pt x="527" y="5040"/>
                  </a:lnTo>
                  <a:lnTo>
                    <a:pt x="715" y="5299"/>
                  </a:lnTo>
                  <a:lnTo>
                    <a:pt x="928" y="5541"/>
                  </a:lnTo>
                  <a:lnTo>
                    <a:pt x="1169" y="5763"/>
                  </a:lnTo>
                  <a:lnTo>
                    <a:pt x="1436" y="5964"/>
                  </a:lnTo>
                  <a:close/>
                </a:path>
              </a:pathLst>
            </a:custGeom>
            <a:solidFill>
              <a:srgbClr val="617e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9124200" y="104760"/>
              <a:ext cx="492840" cy="487440"/>
            </a:xfrm>
            <a:custGeom>
              <a:avLst/>
              <a:gdLst/>
              <a:ahLst/>
              <a:rect l="l" t="t" r="r" b="b"/>
              <a:pathLst>
                <a:path w="6364" h="6362">
                  <a:moveTo>
                    <a:pt x="1401" y="5817"/>
                  </a:moveTo>
                  <a:lnTo>
                    <a:pt x="1680" y="5985"/>
                  </a:lnTo>
                  <a:lnTo>
                    <a:pt x="1968" y="6122"/>
                  </a:lnTo>
                  <a:lnTo>
                    <a:pt x="2265" y="6228"/>
                  </a:lnTo>
                  <a:lnTo>
                    <a:pt x="2567" y="6303"/>
                  </a:lnTo>
                  <a:lnTo>
                    <a:pt x="2872" y="6348"/>
                  </a:lnTo>
                  <a:lnTo>
                    <a:pt x="3179" y="6362"/>
                  </a:lnTo>
                  <a:lnTo>
                    <a:pt x="3484" y="6349"/>
                  </a:lnTo>
                  <a:lnTo>
                    <a:pt x="3786" y="6305"/>
                  </a:lnTo>
                  <a:lnTo>
                    <a:pt x="4083" y="6233"/>
                  </a:lnTo>
                  <a:lnTo>
                    <a:pt x="4372" y="6132"/>
                  </a:lnTo>
                  <a:lnTo>
                    <a:pt x="4650" y="6004"/>
                  </a:lnTo>
                  <a:lnTo>
                    <a:pt x="4917" y="5849"/>
                  </a:lnTo>
                  <a:lnTo>
                    <a:pt x="5170" y="5666"/>
                  </a:lnTo>
                  <a:lnTo>
                    <a:pt x="5405" y="5458"/>
                  </a:lnTo>
                  <a:lnTo>
                    <a:pt x="5622" y="5223"/>
                  </a:lnTo>
                  <a:lnTo>
                    <a:pt x="5819" y="4963"/>
                  </a:lnTo>
                  <a:lnTo>
                    <a:pt x="5987" y="4684"/>
                  </a:lnTo>
                  <a:lnTo>
                    <a:pt x="6124" y="4396"/>
                  </a:lnTo>
                  <a:lnTo>
                    <a:pt x="6229" y="4099"/>
                  </a:lnTo>
                  <a:lnTo>
                    <a:pt x="6305" y="3797"/>
                  </a:lnTo>
                  <a:lnTo>
                    <a:pt x="6349" y="3491"/>
                  </a:lnTo>
                  <a:lnTo>
                    <a:pt x="6364" y="3185"/>
                  </a:lnTo>
                  <a:lnTo>
                    <a:pt x="6349" y="2880"/>
                  </a:lnTo>
                  <a:lnTo>
                    <a:pt x="6306" y="2578"/>
                  </a:lnTo>
                  <a:lnTo>
                    <a:pt x="6233" y="2281"/>
                  </a:lnTo>
                  <a:lnTo>
                    <a:pt x="6133" y="1992"/>
                  </a:lnTo>
                  <a:lnTo>
                    <a:pt x="6005" y="1714"/>
                  </a:lnTo>
                  <a:lnTo>
                    <a:pt x="5850" y="1447"/>
                  </a:lnTo>
                  <a:lnTo>
                    <a:pt x="5668" y="1194"/>
                  </a:lnTo>
                  <a:lnTo>
                    <a:pt x="5458" y="959"/>
                  </a:lnTo>
                  <a:lnTo>
                    <a:pt x="5223" y="742"/>
                  </a:lnTo>
                  <a:lnTo>
                    <a:pt x="4964" y="546"/>
                  </a:lnTo>
                  <a:lnTo>
                    <a:pt x="4685" y="377"/>
                  </a:lnTo>
                  <a:lnTo>
                    <a:pt x="4396" y="240"/>
                  </a:lnTo>
                  <a:lnTo>
                    <a:pt x="4100" y="134"/>
                  </a:lnTo>
                  <a:lnTo>
                    <a:pt x="3798" y="59"/>
                  </a:lnTo>
                  <a:lnTo>
                    <a:pt x="3493" y="15"/>
                  </a:lnTo>
                  <a:lnTo>
                    <a:pt x="3186" y="0"/>
                  </a:lnTo>
                  <a:lnTo>
                    <a:pt x="2880" y="14"/>
                  </a:lnTo>
                  <a:lnTo>
                    <a:pt x="2578" y="57"/>
                  </a:lnTo>
                  <a:lnTo>
                    <a:pt x="2282" y="130"/>
                  </a:lnTo>
                  <a:lnTo>
                    <a:pt x="1993" y="231"/>
                  </a:lnTo>
                  <a:lnTo>
                    <a:pt x="1714" y="358"/>
                  </a:lnTo>
                  <a:lnTo>
                    <a:pt x="1447" y="513"/>
                  </a:lnTo>
                  <a:lnTo>
                    <a:pt x="1195" y="696"/>
                  </a:lnTo>
                  <a:lnTo>
                    <a:pt x="959" y="905"/>
                  </a:lnTo>
                  <a:lnTo>
                    <a:pt x="742" y="1140"/>
                  </a:lnTo>
                  <a:lnTo>
                    <a:pt x="547" y="1400"/>
                  </a:lnTo>
                  <a:lnTo>
                    <a:pt x="378" y="1679"/>
                  </a:lnTo>
                  <a:lnTo>
                    <a:pt x="241" y="1967"/>
                  </a:lnTo>
                  <a:lnTo>
                    <a:pt x="135" y="2263"/>
                  </a:lnTo>
                  <a:lnTo>
                    <a:pt x="60" y="2565"/>
                  </a:lnTo>
                  <a:lnTo>
                    <a:pt x="15" y="2871"/>
                  </a:lnTo>
                  <a:lnTo>
                    <a:pt x="0" y="3177"/>
                  </a:lnTo>
                  <a:lnTo>
                    <a:pt x="15" y="3483"/>
                  </a:lnTo>
                  <a:lnTo>
                    <a:pt x="59" y="3786"/>
                  </a:lnTo>
                  <a:lnTo>
                    <a:pt x="131" y="4081"/>
                  </a:lnTo>
                  <a:lnTo>
                    <a:pt x="232" y="4370"/>
                  </a:lnTo>
                  <a:lnTo>
                    <a:pt x="360" y="4649"/>
                  </a:lnTo>
                  <a:lnTo>
                    <a:pt x="515" y="4916"/>
                  </a:lnTo>
                  <a:lnTo>
                    <a:pt x="698" y="5169"/>
                  </a:lnTo>
                  <a:lnTo>
                    <a:pt x="906" y="5404"/>
                  </a:lnTo>
                  <a:lnTo>
                    <a:pt x="1141" y="5620"/>
                  </a:lnTo>
                  <a:lnTo>
                    <a:pt x="1401" y="5817"/>
                  </a:lnTo>
                  <a:close/>
                </a:path>
              </a:pathLst>
            </a:custGeom>
            <a:solidFill>
              <a:srgbClr val="648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9133560" y="107280"/>
              <a:ext cx="480600" cy="474840"/>
            </a:xfrm>
            <a:custGeom>
              <a:avLst/>
              <a:gdLst/>
              <a:ahLst/>
              <a:rect l="l" t="t" r="r" b="b"/>
              <a:pathLst>
                <a:path w="6201" h="6202">
                  <a:moveTo>
                    <a:pt x="1365" y="5670"/>
                  </a:moveTo>
                  <a:lnTo>
                    <a:pt x="1636" y="5834"/>
                  </a:lnTo>
                  <a:lnTo>
                    <a:pt x="1917" y="5968"/>
                  </a:lnTo>
                  <a:lnTo>
                    <a:pt x="2207" y="6071"/>
                  </a:lnTo>
                  <a:lnTo>
                    <a:pt x="2501" y="6143"/>
                  </a:lnTo>
                  <a:lnTo>
                    <a:pt x="2798" y="6187"/>
                  </a:lnTo>
                  <a:lnTo>
                    <a:pt x="3096" y="6202"/>
                  </a:lnTo>
                  <a:lnTo>
                    <a:pt x="3394" y="6188"/>
                  </a:lnTo>
                  <a:lnTo>
                    <a:pt x="3689" y="6145"/>
                  </a:lnTo>
                  <a:lnTo>
                    <a:pt x="3978" y="6075"/>
                  </a:lnTo>
                  <a:lnTo>
                    <a:pt x="4259" y="5977"/>
                  </a:lnTo>
                  <a:lnTo>
                    <a:pt x="4532" y="5852"/>
                  </a:lnTo>
                  <a:lnTo>
                    <a:pt x="4791" y="5701"/>
                  </a:lnTo>
                  <a:lnTo>
                    <a:pt x="5037" y="5524"/>
                  </a:lnTo>
                  <a:lnTo>
                    <a:pt x="5266" y="5319"/>
                  </a:lnTo>
                  <a:lnTo>
                    <a:pt x="5478" y="5091"/>
                  </a:lnTo>
                  <a:lnTo>
                    <a:pt x="5669" y="4838"/>
                  </a:lnTo>
                  <a:lnTo>
                    <a:pt x="5833" y="4566"/>
                  </a:lnTo>
                  <a:lnTo>
                    <a:pt x="5967" y="4284"/>
                  </a:lnTo>
                  <a:lnTo>
                    <a:pt x="6070" y="3995"/>
                  </a:lnTo>
                  <a:lnTo>
                    <a:pt x="6142" y="3700"/>
                  </a:lnTo>
                  <a:lnTo>
                    <a:pt x="6186" y="3403"/>
                  </a:lnTo>
                  <a:lnTo>
                    <a:pt x="6201" y="3104"/>
                  </a:lnTo>
                  <a:lnTo>
                    <a:pt x="6186" y="2806"/>
                  </a:lnTo>
                  <a:lnTo>
                    <a:pt x="6144" y="2513"/>
                  </a:lnTo>
                  <a:lnTo>
                    <a:pt x="6073" y="2224"/>
                  </a:lnTo>
                  <a:lnTo>
                    <a:pt x="5975" y="1942"/>
                  </a:lnTo>
                  <a:lnTo>
                    <a:pt x="5851" y="1670"/>
                  </a:lnTo>
                  <a:lnTo>
                    <a:pt x="5699" y="1411"/>
                  </a:lnTo>
                  <a:lnTo>
                    <a:pt x="5521" y="1164"/>
                  </a:lnTo>
                  <a:lnTo>
                    <a:pt x="5318" y="934"/>
                  </a:lnTo>
                  <a:lnTo>
                    <a:pt x="5090" y="723"/>
                  </a:lnTo>
                  <a:lnTo>
                    <a:pt x="4837" y="532"/>
                  </a:lnTo>
                  <a:lnTo>
                    <a:pt x="4565" y="368"/>
                  </a:lnTo>
                  <a:lnTo>
                    <a:pt x="4283" y="234"/>
                  </a:lnTo>
                  <a:lnTo>
                    <a:pt x="3995" y="131"/>
                  </a:lnTo>
                  <a:lnTo>
                    <a:pt x="3700" y="58"/>
                  </a:lnTo>
                  <a:lnTo>
                    <a:pt x="3403" y="15"/>
                  </a:lnTo>
                  <a:lnTo>
                    <a:pt x="3104" y="0"/>
                  </a:lnTo>
                  <a:lnTo>
                    <a:pt x="2806" y="15"/>
                  </a:lnTo>
                  <a:lnTo>
                    <a:pt x="2512" y="57"/>
                  </a:lnTo>
                  <a:lnTo>
                    <a:pt x="2223" y="127"/>
                  </a:lnTo>
                  <a:lnTo>
                    <a:pt x="1941" y="225"/>
                  </a:lnTo>
                  <a:lnTo>
                    <a:pt x="1669" y="350"/>
                  </a:lnTo>
                  <a:lnTo>
                    <a:pt x="1409" y="502"/>
                  </a:lnTo>
                  <a:lnTo>
                    <a:pt x="1163" y="679"/>
                  </a:lnTo>
                  <a:lnTo>
                    <a:pt x="933" y="882"/>
                  </a:lnTo>
                  <a:lnTo>
                    <a:pt x="722" y="1111"/>
                  </a:lnTo>
                  <a:lnTo>
                    <a:pt x="532" y="1365"/>
                  </a:lnTo>
                  <a:lnTo>
                    <a:pt x="367" y="1636"/>
                  </a:lnTo>
                  <a:lnTo>
                    <a:pt x="233" y="1918"/>
                  </a:lnTo>
                  <a:lnTo>
                    <a:pt x="130" y="2207"/>
                  </a:lnTo>
                  <a:lnTo>
                    <a:pt x="58" y="2501"/>
                  </a:lnTo>
                  <a:lnTo>
                    <a:pt x="14" y="2799"/>
                  </a:lnTo>
                  <a:lnTo>
                    <a:pt x="0" y="3098"/>
                  </a:lnTo>
                  <a:lnTo>
                    <a:pt x="13" y="3395"/>
                  </a:lnTo>
                  <a:lnTo>
                    <a:pt x="56" y="3690"/>
                  </a:lnTo>
                  <a:lnTo>
                    <a:pt x="126" y="3979"/>
                  </a:lnTo>
                  <a:lnTo>
                    <a:pt x="224" y="4261"/>
                  </a:lnTo>
                  <a:lnTo>
                    <a:pt x="349" y="4532"/>
                  </a:lnTo>
                  <a:lnTo>
                    <a:pt x="500" y="4792"/>
                  </a:lnTo>
                  <a:lnTo>
                    <a:pt x="678" y="5038"/>
                  </a:lnTo>
                  <a:lnTo>
                    <a:pt x="882" y="5267"/>
                  </a:lnTo>
                  <a:lnTo>
                    <a:pt x="1110" y="5479"/>
                  </a:lnTo>
                  <a:lnTo>
                    <a:pt x="1365" y="5670"/>
                  </a:lnTo>
                  <a:close/>
                </a:path>
              </a:pathLst>
            </a:custGeom>
            <a:solidFill>
              <a:srgbClr val="6683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9142920" y="110160"/>
              <a:ext cx="467640" cy="461880"/>
            </a:xfrm>
            <a:custGeom>
              <a:avLst/>
              <a:gdLst/>
              <a:ahLst/>
              <a:rect l="l" t="t" r="r" b="b"/>
              <a:pathLst>
                <a:path w="6040" h="6041">
                  <a:moveTo>
                    <a:pt x="1329" y="5523"/>
                  </a:moveTo>
                  <a:lnTo>
                    <a:pt x="1593" y="5683"/>
                  </a:lnTo>
                  <a:lnTo>
                    <a:pt x="1867" y="5813"/>
                  </a:lnTo>
                  <a:lnTo>
                    <a:pt x="2148" y="5914"/>
                  </a:lnTo>
                  <a:lnTo>
                    <a:pt x="2435" y="5985"/>
                  </a:lnTo>
                  <a:lnTo>
                    <a:pt x="2726" y="6026"/>
                  </a:lnTo>
                  <a:lnTo>
                    <a:pt x="3017" y="6041"/>
                  </a:lnTo>
                  <a:lnTo>
                    <a:pt x="3306" y="6027"/>
                  </a:lnTo>
                  <a:lnTo>
                    <a:pt x="3593" y="5986"/>
                  </a:lnTo>
                  <a:lnTo>
                    <a:pt x="3875" y="5917"/>
                  </a:lnTo>
                  <a:lnTo>
                    <a:pt x="4149" y="5822"/>
                  </a:lnTo>
                  <a:lnTo>
                    <a:pt x="4414" y="5700"/>
                  </a:lnTo>
                  <a:lnTo>
                    <a:pt x="4667" y="5553"/>
                  </a:lnTo>
                  <a:lnTo>
                    <a:pt x="4906" y="5380"/>
                  </a:lnTo>
                  <a:lnTo>
                    <a:pt x="5129" y="5182"/>
                  </a:lnTo>
                  <a:lnTo>
                    <a:pt x="5336" y="4959"/>
                  </a:lnTo>
                  <a:lnTo>
                    <a:pt x="5522" y="4712"/>
                  </a:lnTo>
                  <a:lnTo>
                    <a:pt x="5681" y="4448"/>
                  </a:lnTo>
                  <a:lnTo>
                    <a:pt x="5812" y="4173"/>
                  </a:lnTo>
                  <a:lnTo>
                    <a:pt x="5912" y="3892"/>
                  </a:lnTo>
                  <a:lnTo>
                    <a:pt x="5984" y="3605"/>
                  </a:lnTo>
                  <a:lnTo>
                    <a:pt x="6027" y="3315"/>
                  </a:lnTo>
                  <a:lnTo>
                    <a:pt x="6040" y="3024"/>
                  </a:lnTo>
                  <a:lnTo>
                    <a:pt x="6027" y="2734"/>
                  </a:lnTo>
                  <a:lnTo>
                    <a:pt x="5985" y="2447"/>
                  </a:lnTo>
                  <a:lnTo>
                    <a:pt x="5917" y="2165"/>
                  </a:lnTo>
                  <a:lnTo>
                    <a:pt x="5821" y="1891"/>
                  </a:lnTo>
                  <a:lnTo>
                    <a:pt x="5700" y="1626"/>
                  </a:lnTo>
                  <a:lnTo>
                    <a:pt x="5552" y="1373"/>
                  </a:lnTo>
                  <a:lnTo>
                    <a:pt x="5379" y="1134"/>
                  </a:lnTo>
                  <a:lnTo>
                    <a:pt x="5181" y="910"/>
                  </a:lnTo>
                  <a:lnTo>
                    <a:pt x="4958" y="703"/>
                  </a:lnTo>
                  <a:lnTo>
                    <a:pt x="4711" y="518"/>
                  </a:lnTo>
                  <a:lnTo>
                    <a:pt x="4447" y="358"/>
                  </a:lnTo>
                  <a:lnTo>
                    <a:pt x="4172" y="228"/>
                  </a:lnTo>
                  <a:lnTo>
                    <a:pt x="3891" y="127"/>
                  </a:lnTo>
                  <a:lnTo>
                    <a:pt x="3605" y="56"/>
                  </a:lnTo>
                  <a:lnTo>
                    <a:pt x="3315" y="14"/>
                  </a:lnTo>
                  <a:lnTo>
                    <a:pt x="3023" y="0"/>
                  </a:lnTo>
                  <a:lnTo>
                    <a:pt x="2733" y="14"/>
                  </a:lnTo>
                  <a:lnTo>
                    <a:pt x="2447" y="55"/>
                  </a:lnTo>
                  <a:lnTo>
                    <a:pt x="2165" y="123"/>
                  </a:lnTo>
                  <a:lnTo>
                    <a:pt x="1891" y="219"/>
                  </a:lnTo>
                  <a:lnTo>
                    <a:pt x="1626" y="340"/>
                  </a:lnTo>
                  <a:lnTo>
                    <a:pt x="1372" y="488"/>
                  </a:lnTo>
                  <a:lnTo>
                    <a:pt x="1133" y="661"/>
                  </a:lnTo>
                  <a:lnTo>
                    <a:pt x="910" y="859"/>
                  </a:lnTo>
                  <a:lnTo>
                    <a:pt x="704" y="1082"/>
                  </a:lnTo>
                  <a:lnTo>
                    <a:pt x="519" y="1330"/>
                  </a:lnTo>
                  <a:lnTo>
                    <a:pt x="358" y="1593"/>
                  </a:lnTo>
                  <a:lnTo>
                    <a:pt x="228" y="1868"/>
                  </a:lnTo>
                  <a:lnTo>
                    <a:pt x="127" y="2149"/>
                  </a:lnTo>
                  <a:lnTo>
                    <a:pt x="56" y="2436"/>
                  </a:lnTo>
                  <a:lnTo>
                    <a:pt x="14" y="2725"/>
                  </a:lnTo>
                  <a:lnTo>
                    <a:pt x="0" y="3017"/>
                  </a:lnTo>
                  <a:lnTo>
                    <a:pt x="14" y="3307"/>
                  </a:lnTo>
                  <a:lnTo>
                    <a:pt x="54" y="3594"/>
                  </a:lnTo>
                  <a:lnTo>
                    <a:pt x="123" y="3876"/>
                  </a:lnTo>
                  <a:lnTo>
                    <a:pt x="218" y="4150"/>
                  </a:lnTo>
                  <a:lnTo>
                    <a:pt x="340" y="4415"/>
                  </a:lnTo>
                  <a:lnTo>
                    <a:pt x="487" y="4668"/>
                  </a:lnTo>
                  <a:lnTo>
                    <a:pt x="660" y="4907"/>
                  </a:lnTo>
                  <a:lnTo>
                    <a:pt x="858" y="5131"/>
                  </a:lnTo>
                  <a:lnTo>
                    <a:pt x="1081" y="5337"/>
                  </a:lnTo>
                  <a:lnTo>
                    <a:pt x="1329" y="5523"/>
                  </a:lnTo>
                  <a:close/>
                </a:path>
              </a:pathLst>
            </a:custGeom>
            <a:solidFill>
              <a:srgbClr val="698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9152280" y="111960"/>
              <a:ext cx="455400" cy="450000"/>
            </a:xfrm>
            <a:custGeom>
              <a:avLst/>
              <a:gdLst/>
              <a:ahLst/>
              <a:rect l="l" t="t" r="r" b="b"/>
              <a:pathLst>
                <a:path w="5880" h="5880">
                  <a:moveTo>
                    <a:pt x="1294" y="5376"/>
                  </a:moveTo>
                  <a:lnTo>
                    <a:pt x="1551" y="5531"/>
                  </a:lnTo>
                  <a:lnTo>
                    <a:pt x="1818" y="5657"/>
                  </a:lnTo>
                  <a:lnTo>
                    <a:pt x="2092" y="5755"/>
                  </a:lnTo>
                  <a:lnTo>
                    <a:pt x="2371" y="5824"/>
                  </a:lnTo>
                  <a:lnTo>
                    <a:pt x="2653" y="5866"/>
                  </a:lnTo>
                  <a:lnTo>
                    <a:pt x="2936" y="5880"/>
                  </a:lnTo>
                  <a:lnTo>
                    <a:pt x="3219" y="5866"/>
                  </a:lnTo>
                  <a:lnTo>
                    <a:pt x="3499" y="5825"/>
                  </a:lnTo>
                  <a:lnTo>
                    <a:pt x="3772" y="5759"/>
                  </a:lnTo>
                  <a:lnTo>
                    <a:pt x="4040" y="5666"/>
                  </a:lnTo>
                  <a:lnTo>
                    <a:pt x="4297" y="5548"/>
                  </a:lnTo>
                  <a:lnTo>
                    <a:pt x="4544" y="5404"/>
                  </a:lnTo>
                  <a:lnTo>
                    <a:pt x="4776" y="5235"/>
                  </a:lnTo>
                  <a:lnTo>
                    <a:pt x="4994" y="5043"/>
                  </a:lnTo>
                  <a:lnTo>
                    <a:pt x="5194" y="4826"/>
                  </a:lnTo>
                  <a:lnTo>
                    <a:pt x="5376" y="4586"/>
                  </a:lnTo>
                  <a:lnTo>
                    <a:pt x="5531" y="4327"/>
                  </a:lnTo>
                  <a:lnTo>
                    <a:pt x="5658" y="4061"/>
                  </a:lnTo>
                  <a:lnTo>
                    <a:pt x="5756" y="3787"/>
                  </a:lnTo>
                  <a:lnTo>
                    <a:pt x="5826" y="3508"/>
                  </a:lnTo>
                  <a:lnTo>
                    <a:pt x="5867" y="3226"/>
                  </a:lnTo>
                  <a:lnTo>
                    <a:pt x="5880" y="2942"/>
                  </a:lnTo>
                  <a:lnTo>
                    <a:pt x="5867" y="2661"/>
                  </a:lnTo>
                  <a:lnTo>
                    <a:pt x="5827" y="2381"/>
                  </a:lnTo>
                  <a:lnTo>
                    <a:pt x="5760" y="2107"/>
                  </a:lnTo>
                  <a:lnTo>
                    <a:pt x="5667" y="1840"/>
                  </a:lnTo>
                  <a:lnTo>
                    <a:pt x="5549" y="1583"/>
                  </a:lnTo>
                  <a:lnTo>
                    <a:pt x="5405" y="1336"/>
                  </a:lnTo>
                  <a:lnTo>
                    <a:pt x="5237" y="1103"/>
                  </a:lnTo>
                  <a:lnTo>
                    <a:pt x="5044" y="885"/>
                  </a:lnTo>
                  <a:lnTo>
                    <a:pt x="4827" y="685"/>
                  </a:lnTo>
                  <a:lnTo>
                    <a:pt x="4587" y="505"/>
                  </a:lnTo>
                  <a:lnTo>
                    <a:pt x="4329" y="348"/>
                  </a:lnTo>
                  <a:lnTo>
                    <a:pt x="4062" y="222"/>
                  </a:lnTo>
                  <a:lnTo>
                    <a:pt x="3789" y="124"/>
                  </a:lnTo>
                  <a:lnTo>
                    <a:pt x="3509" y="54"/>
                  </a:lnTo>
                  <a:lnTo>
                    <a:pt x="3227" y="12"/>
                  </a:lnTo>
                  <a:lnTo>
                    <a:pt x="2944" y="0"/>
                  </a:lnTo>
                  <a:lnTo>
                    <a:pt x="2662" y="12"/>
                  </a:lnTo>
                  <a:lnTo>
                    <a:pt x="2382" y="53"/>
                  </a:lnTo>
                  <a:lnTo>
                    <a:pt x="2108" y="120"/>
                  </a:lnTo>
                  <a:lnTo>
                    <a:pt x="1841" y="212"/>
                  </a:lnTo>
                  <a:lnTo>
                    <a:pt x="1584" y="330"/>
                  </a:lnTo>
                  <a:lnTo>
                    <a:pt x="1337" y="475"/>
                  </a:lnTo>
                  <a:lnTo>
                    <a:pt x="1103" y="643"/>
                  </a:lnTo>
                  <a:lnTo>
                    <a:pt x="885" y="835"/>
                  </a:lnTo>
                  <a:lnTo>
                    <a:pt x="686" y="1052"/>
                  </a:lnTo>
                  <a:lnTo>
                    <a:pt x="505" y="1293"/>
                  </a:lnTo>
                  <a:lnTo>
                    <a:pt x="349" y="1551"/>
                  </a:lnTo>
                  <a:lnTo>
                    <a:pt x="222" y="1818"/>
                  </a:lnTo>
                  <a:lnTo>
                    <a:pt x="124" y="2092"/>
                  </a:lnTo>
                  <a:lnTo>
                    <a:pt x="55" y="2370"/>
                  </a:lnTo>
                  <a:lnTo>
                    <a:pt x="14" y="2653"/>
                  </a:lnTo>
                  <a:lnTo>
                    <a:pt x="0" y="2936"/>
                  </a:lnTo>
                  <a:lnTo>
                    <a:pt x="14" y="3219"/>
                  </a:lnTo>
                  <a:lnTo>
                    <a:pt x="54" y="3498"/>
                  </a:lnTo>
                  <a:lnTo>
                    <a:pt x="120" y="3771"/>
                  </a:lnTo>
                  <a:lnTo>
                    <a:pt x="212" y="4039"/>
                  </a:lnTo>
                  <a:lnTo>
                    <a:pt x="332" y="4297"/>
                  </a:lnTo>
                  <a:lnTo>
                    <a:pt x="475" y="4543"/>
                  </a:lnTo>
                  <a:lnTo>
                    <a:pt x="643" y="4776"/>
                  </a:lnTo>
                  <a:lnTo>
                    <a:pt x="835" y="4994"/>
                  </a:lnTo>
                  <a:lnTo>
                    <a:pt x="1052" y="5194"/>
                  </a:lnTo>
                  <a:lnTo>
                    <a:pt x="1294" y="5376"/>
                  </a:lnTo>
                  <a:close/>
                </a:path>
              </a:pathLst>
            </a:custGeom>
            <a:solidFill>
              <a:srgbClr val="6b89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9161280" y="114480"/>
              <a:ext cx="443160" cy="437760"/>
            </a:xfrm>
            <a:custGeom>
              <a:avLst/>
              <a:gdLst/>
              <a:ahLst/>
              <a:rect l="l" t="t" r="r" b="b"/>
              <a:pathLst>
                <a:path w="5720" h="5721">
                  <a:moveTo>
                    <a:pt x="1260" y="5231"/>
                  </a:moveTo>
                  <a:lnTo>
                    <a:pt x="1510" y="5382"/>
                  </a:lnTo>
                  <a:lnTo>
                    <a:pt x="1769" y="5505"/>
                  </a:lnTo>
                  <a:lnTo>
                    <a:pt x="2036" y="5600"/>
                  </a:lnTo>
                  <a:lnTo>
                    <a:pt x="2307" y="5668"/>
                  </a:lnTo>
                  <a:lnTo>
                    <a:pt x="2581" y="5707"/>
                  </a:lnTo>
                  <a:lnTo>
                    <a:pt x="2857" y="5721"/>
                  </a:lnTo>
                  <a:lnTo>
                    <a:pt x="3131" y="5708"/>
                  </a:lnTo>
                  <a:lnTo>
                    <a:pt x="3403" y="5669"/>
                  </a:lnTo>
                  <a:lnTo>
                    <a:pt x="3670" y="5604"/>
                  </a:lnTo>
                  <a:lnTo>
                    <a:pt x="3929" y="5514"/>
                  </a:lnTo>
                  <a:lnTo>
                    <a:pt x="4180" y="5399"/>
                  </a:lnTo>
                  <a:lnTo>
                    <a:pt x="4419" y="5258"/>
                  </a:lnTo>
                  <a:lnTo>
                    <a:pt x="4646" y="5095"/>
                  </a:lnTo>
                  <a:lnTo>
                    <a:pt x="4858" y="4908"/>
                  </a:lnTo>
                  <a:lnTo>
                    <a:pt x="5053" y="4696"/>
                  </a:lnTo>
                  <a:lnTo>
                    <a:pt x="5230" y="4463"/>
                  </a:lnTo>
                  <a:lnTo>
                    <a:pt x="5380" y="4212"/>
                  </a:lnTo>
                  <a:lnTo>
                    <a:pt x="5504" y="3953"/>
                  </a:lnTo>
                  <a:lnTo>
                    <a:pt x="5598" y="3686"/>
                  </a:lnTo>
                  <a:lnTo>
                    <a:pt x="5666" y="3415"/>
                  </a:lnTo>
                  <a:lnTo>
                    <a:pt x="5706" y="3140"/>
                  </a:lnTo>
                  <a:lnTo>
                    <a:pt x="5720" y="2864"/>
                  </a:lnTo>
                  <a:lnTo>
                    <a:pt x="5707" y="2590"/>
                  </a:lnTo>
                  <a:lnTo>
                    <a:pt x="5668" y="2318"/>
                  </a:lnTo>
                  <a:lnTo>
                    <a:pt x="5603" y="2052"/>
                  </a:lnTo>
                  <a:lnTo>
                    <a:pt x="5512" y="1792"/>
                  </a:lnTo>
                  <a:lnTo>
                    <a:pt x="5397" y="1542"/>
                  </a:lnTo>
                  <a:lnTo>
                    <a:pt x="5257" y="1302"/>
                  </a:lnTo>
                  <a:lnTo>
                    <a:pt x="5093" y="1075"/>
                  </a:lnTo>
                  <a:lnTo>
                    <a:pt x="4906" y="863"/>
                  </a:lnTo>
                  <a:lnTo>
                    <a:pt x="4695" y="668"/>
                  </a:lnTo>
                  <a:lnTo>
                    <a:pt x="4462" y="493"/>
                  </a:lnTo>
                  <a:lnTo>
                    <a:pt x="4211" y="341"/>
                  </a:lnTo>
                  <a:lnTo>
                    <a:pt x="3952" y="217"/>
                  </a:lnTo>
                  <a:lnTo>
                    <a:pt x="3685" y="122"/>
                  </a:lnTo>
                  <a:lnTo>
                    <a:pt x="3414" y="55"/>
                  </a:lnTo>
                  <a:lnTo>
                    <a:pt x="3138" y="14"/>
                  </a:lnTo>
                  <a:lnTo>
                    <a:pt x="2863" y="0"/>
                  </a:lnTo>
                  <a:lnTo>
                    <a:pt x="2589" y="14"/>
                  </a:lnTo>
                  <a:lnTo>
                    <a:pt x="2317" y="54"/>
                  </a:lnTo>
                  <a:lnTo>
                    <a:pt x="2051" y="118"/>
                  </a:lnTo>
                  <a:lnTo>
                    <a:pt x="1790" y="208"/>
                  </a:lnTo>
                  <a:lnTo>
                    <a:pt x="1541" y="324"/>
                  </a:lnTo>
                  <a:lnTo>
                    <a:pt x="1300" y="463"/>
                  </a:lnTo>
                  <a:lnTo>
                    <a:pt x="1074" y="627"/>
                  </a:lnTo>
                  <a:lnTo>
                    <a:pt x="861" y="815"/>
                  </a:lnTo>
                  <a:lnTo>
                    <a:pt x="667" y="1025"/>
                  </a:lnTo>
                  <a:lnTo>
                    <a:pt x="491" y="1260"/>
                  </a:lnTo>
                  <a:lnTo>
                    <a:pt x="339" y="1510"/>
                  </a:lnTo>
                  <a:lnTo>
                    <a:pt x="216" y="1769"/>
                  </a:lnTo>
                  <a:lnTo>
                    <a:pt x="121" y="2036"/>
                  </a:lnTo>
                  <a:lnTo>
                    <a:pt x="54" y="2307"/>
                  </a:lnTo>
                  <a:lnTo>
                    <a:pt x="14" y="2583"/>
                  </a:lnTo>
                  <a:lnTo>
                    <a:pt x="0" y="2858"/>
                  </a:lnTo>
                  <a:lnTo>
                    <a:pt x="14" y="3132"/>
                  </a:lnTo>
                  <a:lnTo>
                    <a:pt x="52" y="3404"/>
                  </a:lnTo>
                  <a:lnTo>
                    <a:pt x="117" y="3670"/>
                  </a:lnTo>
                  <a:lnTo>
                    <a:pt x="207" y="3931"/>
                  </a:lnTo>
                  <a:lnTo>
                    <a:pt x="323" y="4181"/>
                  </a:lnTo>
                  <a:lnTo>
                    <a:pt x="463" y="4421"/>
                  </a:lnTo>
                  <a:lnTo>
                    <a:pt x="626" y="4647"/>
                  </a:lnTo>
                  <a:lnTo>
                    <a:pt x="814" y="4860"/>
                  </a:lnTo>
                  <a:lnTo>
                    <a:pt x="1025" y="5054"/>
                  </a:lnTo>
                  <a:lnTo>
                    <a:pt x="1260" y="5231"/>
                  </a:lnTo>
                  <a:close/>
                </a:path>
              </a:pathLst>
            </a:custGeom>
            <a:solidFill>
              <a:srgbClr val="6e8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9170640" y="117360"/>
              <a:ext cx="431280" cy="425160"/>
            </a:xfrm>
            <a:custGeom>
              <a:avLst/>
              <a:gdLst/>
              <a:ahLst/>
              <a:rect l="l" t="t" r="r" b="b"/>
              <a:pathLst>
                <a:path w="5559" h="5560">
                  <a:moveTo>
                    <a:pt x="1224" y="5084"/>
                  </a:moveTo>
                  <a:lnTo>
                    <a:pt x="1466" y="5231"/>
                  </a:lnTo>
                  <a:lnTo>
                    <a:pt x="1719" y="5351"/>
                  </a:lnTo>
                  <a:lnTo>
                    <a:pt x="1978" y="5443"/>
                  </a:lnTo>
                  <a:lnTo>
                    <a:pt x="2241" y="5508"/>
                  </a:lnTo>
                  <a:lnTo>
                    <a:pt x="2508" y="5548"/>
                  </a:lnTo>
                  <a:lnTo>
                    <a:pt x="2776" y="5560"/>
                  </a:lnTo>
                  <a:lnTo>
                    <a:pt x="3043" y="5548"/>
                  </a:lnTo>
                  <a:lnTo>
                    <a:pt x="3308" y="5509"/>
                  </a:lnTo>
                  <a:lnTo>
                    <a:pt x="3566" y="5447"/>
                  </a:lnTo>
                  <a:lnTo>
                    <a:pt x="3819" y="5359"/>
                  </a:lnTo>
                  <a:lnTo>
                    <a:pt x="4062" y="5247"/>
                  </a:lnTo>
                  <a:lnTo>
                    <a:pt x="4295" y="5112"/>
                  </a:lnTo>
                  <a:lnTo>
                    <a:pt x="4516" y="4952"/>
                  </a:lnTo>
                  <a:lnTo>
                    <a:pt x="4722" y="4769"/>
                  </a:lnTo>
                  <a:lnTo>
                    <a:pt x="4912" y="4564"/>
                  </a:lnTo>
                  <a:lnTo>
                    <a:pt x="5083" y="4338"/>
                  </a:lnTo>
                  <a:lnTo>
                    <a:pt x="5230" y="4094"/>
                  </a:lnTo>
                  <a:lnTo>
                    <a:pt x="5350" y="3841"/>
                  </a:lnTo>
                  <a:lnTo>
                    <a:pt x="5442" y="3583"/>
                  </a:lnTo>
                  <a:lnTo>
                    <a:pt x="5507" y="3319"/>
                  </a:lnTo>
                  <a:lnTo>
                    <a:pt x="5547" y="3052"/>
                  </a:lnTo>
                  <a:lnTo>
                    <a:pt x="5559" y="2785"/>
                  </a:lnTo>
                  <a:lnTo>
                    <a:pt x="5547" y="2518"/>
                  </a:lnTo>
                  <a:lnTo>
                    <a:pt x="5508" y="2253"/>
                  </a:lnTo>
                  <a:lnTo>
                    <a:pt x="5446" y="1995"/>
                  </a:lnTo>
                  <a:lnTo>
                    <a:pt x="5358" y="1742"/>
                  </a:lnTo>
                  <a:lnTo>
                    <a:pt x="5246" y="1498"/>
                  </a:lnTo>
                  <a:lnTo>
                    <a:pt x="5111" y="1265"/>
                  </a:lnTo>
                  <a:lnTo>
                    <a:pt x="4951" y="1044"/>
                  </a:lnTo>
                  <a:lnTo>
                    <a:pt x="4768" y="839"/>
                  </a:lnTo>
                  <a:lnTo>
                    <a:pt x="4563" y="649"/>
                  </a:lnTo>
                  <a:lnTo>
                    <a:pt x="4337" y="479"/>
                  </a:lnTo>
                  <a:lnTo>
                    <a:pt x="4093" y="331"/>
                  </a:lnTo>
                  <a:lnTo>
                    <a:pt x="3840" y="211"/>
                  </a:lnTo>
                  <a:lnTo>
                    <a:pt x="3582" y="118"/>
                  </a:lnTo>
                  <a:lnTo>
                    <a:pt x="3318" y="54"/>
                  </a:lnTo>
                  <a:lnTo>
                    <a:pt x="3051" y="14"/>
                  </a:lnTo>
                  <a:lnTo>
                    <a:pt x="2783" y="0"/>
                  </a:lnTo>
                  <a:lnTo>
                    <a:pt x="2517" y="13"/>
                  </a:lnTo>
                  <a:lnTo>
                    <a:pt x="2252" y="51"/>
                  </a:lnTo>
                  <a:lnTo>
                    <a:pt x="1994" y="114"/>
                  </a:lnTo>
                  <a:lnTo>
                    <a:pt x="1741" y="202"/>
                  </a:lnTo>
                  <a:lnTo>
                    <a:pt x="1497" y="314"/>
                  </a:lnTo>
                  <a:lnTo>
                    <a:pt x="1264" y="450"/>
                  </a:lnTo>
                  <a:lnTo>
                    <a:pt x="1043" y="608"/>
                  </a:lnTo>
                  <a:lnTo>
                    <a:pt x="838" y="791"/>
                  </a:lnTo>
                  <a:lnTo>
                    <a:pt x="648" y="996"/>
                  </a:lnTo>
                  <a:lnTo>
                    <a:pt x="478" y="1224"/>
                  </a:lnTo>
                  <a:lnTo>
                    <a:pt x="330" y="1467"/>
                  </a:lnTo>
                  <a:lnTo>
                    <a:pt x="211" y="1719"/>
                  </a:lnTo>
                  <a:lnTo>
                    <a:pt x="118" y="1979"/>
                  </a:lnTo>
                  <a:lnTo>
                    <a:pt x="52" y="2242"/>
                  </a:lnTo>
                  <a:lnTo>
                    <a:pt x="13" y="2509"/>
                  </a:lnTo>
                  <a:lnTo>
                    <a:pt x="0" y="2777"/>
                  </a:lnTo>
                  <a:lnTo>
                    <a:pt x="13" y="3044"/>
                  </a:lnTo>
                  <a:lnTo>
                    <a:pt x="51" y="3309"/>
                  </a:lnTo>
                  <a:lnTo>
                    <a:pt x="114" y="3568"/>
                  </a:lnTo>
                  <a:lnTo>
                    <a:pt x="201" y="3820"/>
                  </a:lnTo>
                  <a:lnTo>
                    <a:pt x="314" y="4063"/>
                  </a:lnTo>
                  <a:lnTo>
                    <a:pt x="449" y="4297"/>
                  </a:lnTo>
                  <a:lnTo>
                    <a:pt x="608" y="4517"/>
                  </a:lnTo>
                  <a:lnTo>
                    <a:pt x="791" y="4724"/>
                  </a:lnTo>
                  <a:lnTo>
                    <a:pt x="995" y="4913"/>
                  </a:lnTo>
                  <a:lnTo>
                    <a:pt x="1224" y="5084"/>
                  </a:lnTo>
                  <a:close/>
                </a:path>
              </a:pathLst>
            </a:custGeom>
            <a:solidFill>
              <a:srgbClr val="708f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9180000" y="119160"/>
              <a:ext cx="418320" cy="412920"/>
            </a:xfrm>
            <a:custGeom>
              <a:avLst/>
              <a:gdLst/>
              <a:ahLst/>
              <a:rect l="l" t="t" r="r" b="b"/>
              <a:pathLst>
                <a:path w="5399" h="5399">
                  <a:moveTo>
                    <a:pt x="1189" y="4936"/>
                  </a:moveTo>
                  <a:lnTo>
                    <a:pt x="1425" y="5079"/>
                  </a:lnTo>
                  <a:lnTo>
                    <a:pt x="1670" y="5195"/>
                  </a:lnTo>
                  <a:lnTo>
                    <a:pt x="1922" y="5285"/>
                  </a:lnTo>
                  <a:lnTo>
                    <a:pt x="2178" y="5349"/>
                  </a:lnTo>
                  <a:lnTo>
                    <a:pt x="2436" y="5386"/>
                  </a:lnTo>
                  <a:lnTo>
                    <a:pt x="2697" y="5399"/>
                  </a:lnTo>
                  <a:lnTo>
                    <a:pt x="2956" y="5386"/>
                  </a:lnTo>
                  <a:lnTo>
                    <a:pt x="3212" y="5350"/>
                  </a:lnTo>
                  <a:lnTo>
                    <a:pt x="3464" y="5288"/>
                  </a:lnTo>
                  <a:lnTo>
                    <a:pt x="3709" y="5203"/>
                  </a:lnTo>
                  <a:lnTo>
                    <a:pt x="3946" y="5095"/>
                  </a:lnTo>
                  <a:lnTo>
                    <a:pt x="4171" y="4963"/>
                  </a:lnTo>
                  <a:lnTo>
                    <a:pt x="4386" y="4808"/>
                  </a:lnTo>
                  <a:lnTo>
                    <a:pt x="4586" y="4631"/>
                  </a:lnTo>
                  <a:lnTo>
                    <a:pt x="4769" y="4431"/>
                  </a:lnTo>
                  <a:lnTo>
                    <a:pt x="4935" y="4211"/>
                  </a:lnTo>
                  <a:lnTo>
                    <a:pt x="5078" y="3974"/>
                  </a:lnTo>
                  <a:lnTo>
                    <a:pt x="5195" y="3730"/>
                  </a:lnTo>
                  <a:lnTo>
                    <a:pt x="5284" y="3478"/>
                  </a:lnTo>
                  <a:lnTo>
                    <a:pt x="5348" y="3221"/>
                  </a:lnTo>
                  <a:lnTo>
                    <a:pt x="5386" y="2963"/>
                  </a:lnTo>
                  <a:lnTo>
                    <a:pt x="5399" y="2703"/>
                  </a:lnTo>
                  <a:lnTo>
                    <a:pt x="5386" y="2443"/>
                  </a:lnTo>
                  <a:lnTo>
                    <a:pt x="5349" y="2187"/>
                  </a:lnTo>
                  <a:lnTo>
                    <a:pt x="5288" y="1936"/>
                  </a:lnTo>
                  <a:lnTo>
                    <a:pt x="5202" y="1691"/>
                  </a:lnTo>
                  <a:lnTo>
                    <a:pt x="5094" y="1455"/>
                  </a:lnTo>
                  <a:lnTo>
                    <a:pt x="4962" y="1228"/>
                  </a:lnTo>
                  <a:lnTo>
                    <a:pt x="4808" y="1013"/>
                  </a:lnTo>
                  <a:lnTo>
                    <a:pt x="4630" y="814"/>
                  </a:lnTo>
                  <a:lnTo>
                    <a:pt x="4432" y="630"/>
                  </a:lnTo>
                  <a:lnTo>
                    <a:pt x="4211" y="464"/>
                  </a:lnTo>
                  <a:lnTo>
                    <a:pt x="3974" y="320"/>
                  </a:lnTo>
                  <a:lnTo>
                    <a:pt x="3730" y="204"/>
                  </a:lnTo>
                  <a:lnTo>
                    <a:pt x="3478" y="114"/>
                  </a:lnTo>
                  <a:lnTo>
                    <a:pt x="3222" y="50"/>
                  </a:lnTo>
                  <a:lnTo>
                    <a:pt x="2962" y="13"/>
                  </a:lnTo>
                  <a:lnTo>
                    <a:pt x="2703" y="0"/>
                  </a:lnTo>
                  <a:lnTo>
                    <a:pt x="2443" y="12"/>
                  </a:lnTo>
                  <a:lnTo>
                    <a:pt x="2187" y="49"/>
                  </a:lnTo>
                  <a:lnTo>
                    <a:pt x="1935" y="111"/>
                  </a:lnTo>
                  <a:lnTo>
                    <a:pt x="1690" y="196"/>
                  </a:lnTo>
                  <a:lnTo>
                    <a:pt x="1454" y="304"/>
                  </a:lnTo>
                  <a:lnTo>
                    <a:pt x="1227" y="436"/>
                  </a:lnTo>
                  <a:lnTo>
                    <a:pt x="1014" y="590"/>
                  </a:lnTo>
                  <a:lnTo>
                    <a:pt x="814" y="768"/>
                  </a:lnTo>
                  <a:lnTo>
                    <a:pt x="630" y="967"/>
                  </a:lnTo>
                  <a:lnTo>
                    <a:pt x="464" y="1188"/>
                  </a:lnTo>
                  <a:lnTo>
                    <a:pt x="320" y="1424"/>
                  </a:lnTo>
                  <a:lnTo>
                    <a:pt x="205" y="1669"/>
                  </a:lnTo>
                  <a:lnTo>
                    <a:pt x="114" y="1920"/>
                  </a:lnTo>
                  <a:lnTo>
                    <a:pt x="50" y="2178"/>
                  </a:lnTo>
                  <a:lnTo>
                    <a:pt x="13" y="2437"/>
                  </a:lnTo>
                  <a:lnTo>
                    <a:pt x="0" y="2696"/>
                  </a:lnTo>
                  <a:lnTo>
                    <a:pt x="13" y="2956"/>
                  </a:lnTo>
                  <a:lnTo>
                    <a:pt x="49" y="3212"/>
                  </a:lnTo>
                  <a:lnTo>
                    <a:pt x="111" y="3464"/>
                  </a:lnTo>
                  <a:lnTo>
                    <a:pt x="196" y="3709"/>
                  </a:lnTo>
                  <a:lnTo>
                    <a:pt x="305" y="3945"/>
                  </a:lnTo>
                  <a:lnTo>
                    <a:pt x="436" y="4172"/>
                  </a:lnTo>
                  <a:lnTo>
                    <a:pt x="592" y="4386"/>
                  </a:lnTo>
                  <a:lnTo>
                    <a:pt x="768" y="4585"/>
                  </a:lnTo>
                  <a:lnTo>
                    <a:pt x="968" y="4769"/>
                  </a:lnTo>
                  <a:lnTo>
                    <a:pt x="1189" y="4936"/>
                  </a:lnTo>
                  <a:close/>
                </a:path>
              </a:pathLst>
            </a:custGeom>
            <a:solidFill>
              <a:srgbClr val="739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9189360" y="122040"/>
              <a:ext cx="406080" cy="401040"/>
            </a:xfrm>
            <a:custGeom>
              <a:avLst/>
              <a:gdLst/>
              <a:ahLst/>
              <a:rect l="l" t="t" r="r" b="b"/>
              <a:pathLst>
                <a:path w="5237" h="5238">
                  <a:moveTo>
                    <a:pt x="1152" y="4789"/>
                  </a:moveTo>
                  <a:lnTo>
                    <a:pt x="1381" y="4928"/>
                  </a:lnTo>
                  <a:lnTo>
                    <a:pt x="1619" y="5040"/>
                  </a:lnTo>
                  <a:lnTo>
                    <a:pt x="1862" y="5127"/>
                  </a:lnTo>
                  <a:lnTo>
                    <a:pt x="2111" y="5189"/>
                  </a:lnTo>
                  <a:lnTo>
                    <a:pt x="2363" y="5225"/>
                  </a:lnTo>
                  <a:lnTo>
                    <a:pt x="2615" y="5238"/>
                  </a:lnTo>
                  <a:lnTo>
                    <a:pt x="2867" y="5226"/>
                  </a:lnTo>
                  <a:lnTo>
                    <a:pt x="3116" y="5190"/>
                  </a:lnTo>
                  <a:lnTo>
                    <a:pt x="3359" y="5131"/>
                  </a:lnTo>
                  <a:lnTo>
                    <a:pt x="3597" y="5049"/>
                  </a:lnTo>
                  <a:lnTo>
                    <a:pt x="3827" y="4942"/>
                  </a:lnTo>
                  <a:lnTo>
                    <a:pt x="4047" y="4815"/>
                  </a:lnTo>
                  <a:lnTo>
                    <a:pt x="4254" y="4665"/>
                  </a:lnTo>
                  <a:lnTo>
                    <a:pt x="4448" y="4494"/>
                  </a:lnTo>
                  <a:lnTo>
                    <a:pt x="4626" y="4300"/>
                  </a:lnTo>
                  <a:lnTo>
                    <a:pt x="4788" y="4087"/>
                  </a:lnTo>
                  <a:lnTo>
                    <a:pt x="4926" y="3857"/>
                  </a:lnTo>
                  <a:lnTo>
                    <a:pt x="5039" y="3619"/>
                  </a:lnTo>
                  <a:lnTo>
                    <a:pt x="5126" y="3374"/>
                  </a:lnTo>
                  <a:lnTo>
                    <a:pt x="5188" y="3126"/>
                  </a:lnTo>
                  <a:lnTo>
                    <a:pt x="5225" y="2875"/>
                  </a:lnTo>
                  <a:lnTo>
                    <a:pt x="5237" y="2623"/>
                  </a:lnTo>
                  <a:lnTo>
                    <a:pt x="5225" y="2371"/>
                  </a:lnTo>
                  <a:lnTo>
                    <a:pt x="5189" y="2122"/>
                  </a:lnTo>
                  <a:lnTo>
                    <a:pt x="5130" y="1878"/>
                  </a:lnTo>
                  <a:lnTo>
                    <a:pt x="5047" y="1641"/>
                  </a:lnTo>
                  <a:lnTo>
                    <a:pt x="4942" y="1411"/>
                  </a:lnTo>
                  <a:lnTo>
                    <a:pt x="4813" y="1191"/>
                  </a:lnTo>
                  <a:lnTo>
                    <a:pt x="4664" y="984"/>
                  </a:lnTo>
                  <a:lnTo>
                    <a:pt x="4492" y="789"/>
                  </a:lnTo>
                  <a:lnTo>
                    <a:pt x="4299" y="610"/>
                  </a:lnTo>
                  <a:lnTo>
                    <a:pt x="4085" y="450"/>
                  </a:lnTo>
                  <a:lnTo>
                    <a:pt x="3856" y="311"/>
                  </a:lnTo>
                  <a:lnTo>
                    <a:pt x="3617" y="198"/>
                  </a:lnTo>
                  <a:lnTo>
                    <a:pt x="3374" y="111"/>
                  </a:lnTo>
                  <a:lnTo>
                    <a:pt x="3125" y="49"/>
                  </a:lnTo>
                  <a:lnTo>
                    <a:pt x="2873" y="13"/>
                  </a:lnTo>
                  <a:lnTo>
                    <a:pt x="2621" y="0"/>
                  </a:lnTo>
                  <a:lnTo>
                    <a:pt x="2369" y="12"/>
                  </a:lnTo>
                  <a:lnTo>
                    <a:pt x="2121" y="48"/>
                  </a:lnTo>
                  <a:lnTo>
                    <a:pt x="1877" y="108"/>
                  </a:lnTo>
                  <a:lnTo>
                    <a:pt x="1639" y="189"/>
                  </a:lnTo>
                  <a:lnTo>
                    <a:pt x="1409" y="296"/>
                  </a:lnTo>
                  <a:lnTo>
                    <a:pt x="1189" y="423"/>
                  </a:lnTo>
                  <a:lnTo>
                    <a:pt x="982" y="573"/>
                  </a:lnTo>
                  <a:lnTo>
                    <a:pt x="788" y="744"/>
                  </a:lnTo>
                  <a:lnTo>
                    <a:pt x="610" y="938"/>
                  </a:lnTo>
                  <a:lnTo>
                    <a:pt x="449" y="1153"/>
                  </a:lnTo>
                  <a:lnTo>
                    <a:pt x="310" y="1381"/>
                  </a:lnTo>
                  <a:lnTo>
                    <a:pt x="197" y="1619"/>
                  </a:lnTo>
                  <a:lnTo>
                    <a:pt x="110" y="1863"/>
                  </a:lnTo>
                  <a:lnTo>
                    <a:pt x="49" y="2112"/>
                  </a:lnTo>
                  <a:lnTo>
                    <a:pt x="11" y="2363"/>
                  </a:lnTo>
                  <a:lnTo>
                    <a:pt x="0" y="2615"/>
                  </a:lnTo>
                  <a:lnTo>
                    <a:pt x="11" y="2867"/>
                  </a:lnTo>
                  <a:lnTo>
                    <a:pt x="47" y="3116"/>
                  </a:lnTo>
                  <a:lnTo>
                    <a:pt x="106" y="3361"/>
                  </a:lnTo>
                  <a:lnTo>
                    <a:pt x="189" y="3598"/>
                  </a:lnTo>
                  <a:lnTo>
                    <a:pt x="294" y="3827"/>
                  </a:lnTo>
                  <a:lnTo>
                    <a:pt x="423" y="4047"/>
                  </a:lnTo>
                  <a:lnTo>
                    <a:pt x="573" y="4255"/>
                  </a:lnTo>
                  <a:lnTo>
                    <a:pt x="744" y="4449"/>
                  </a:lnTo>
                  <a:lnTo>
                    <a:pt x="937" y="4628"/>
                  </a:lnTo>
                  <a:lnTo>
                    <a:pt x="1152" y="4789"/>
                  </a:lnTo>
                  <a:close/>
                </a:path>
              </a:pathLst>
            </a:custGeom>
            <a:solidFill>
              <a:srgbClr val="769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9199800" y="124920"/>
              <a:ext cx="393120" cy="388440"/>
            </a:xfrm>
            <a:custGeom>
              <a:avLst/>
              <a:gdLst/>
              <a:ahLst/>
              <a:rect l="l" t="t" r="r" b="b"/>
              <a:pathLst>
                <a:path w="5076" h="5077">
                  <a:moveTo>
                    <a:pt x="1117" y="4643"/>
                  </a:moveTo>
                  <a:lnTo>
                    <a:pt x="1339" y="4777"/>
                  </a:lnTo>
                  <a:lnTo>
                    <a:pt x="1569" y="4886"/>
                  </a:lnTo>
                  <a:lnTo>
                    <a:pt x="1806" y="4970"/>
                  </a:lnTo>
                  <a:lnTo>
                    <a:pt x="2046" y="5030"/>
                  </a:lnTo>
                  <a:lnTo>
                    <a:pt x="2291" y="5066"/>
                  </a:lnTo>
                  <a:lnTo>
                    <a:pt x="2535" y="5077"/>
                  </a:lnTo>
                  <a:lnTo>
                    <a:pt x="2779" y="5066"/>
                  </a:lnTo>
                  <a:lnTo>
                    <a:pt x="3020" y="5031"/>
                  </a:lnTo>
                  <a:lnTo>
                    <a:pt x="3256" y="4973"/>
                  </a:lnTo>
                  <a:lnTo>
                    <a:pt x="3487" y="4893"/>
                  </a:lnTo>
                  <a:lnTo>
                    <a:pt x="3710" y="4790"/>
                  </a:lnTo>
                  <a:lnTo>
                    <a:pt x="3923" y="4667"/>
                  </a:lnTo>
                  <a:lnTo>
                    <a:pt x="4124" y="4521"/>
                  </a:lnTo>
                  <a:lnTo>
                    <a:pt x="4312" y="4354"/>
                  </a:lnTo>
                  <a:lnTo>
                    <a:pt x="4485" y="4167"/>
                  </a:lnTo>
                  <a:lnTo>
                    <a:pt x="4641" y="3960"/>
                  </a:lnTo>
                  <a:lnTo>
                    <a:pt x="4775" y="3737"/>
                  </a:lnTo>
                  <a:lnTo>
                    <a:pt x="4885" y="3507"/>
                  </a:lnTo>
                  <a:lnTo>
                    <a:pt x="4969" y="3270"/>
                  </a:lnTo>
                  <a:lnTo>
                    <a:pt x="5029" y="3030"/>
                  </a:lnTo>
                  <a:lnTo>
                    <a:pt x="5065" y="2785"/>
                  </a:lnTo>
                  <a:lnTo>
                    <a:pt x="5076" y="2541"/>
                  </a:lnTo>
                  <a:lnTo>
                    <a:pt x="5065" y="2297"/>
                  </a:lnTo>
                  <a:lnTo>
                    <a:pt x="5031" y="2056"/>
                  </a:lnTo>
                  <a:lnTo>
                    <a:pt x="4972" y="1820"/>
                  </a:lnTo>
                  <a:lnTo>
                    <a:pt x="4892" y="1589"/>
                  </a:lnTo>
                  <a:lnTo>
                    <a:pt x="4790" y="1366"/>
                  </a:lnTo>
                  <a:lnTo>
                    <a:pt x="4666" y="1154"/>
                  </a:lnTo>
                  <a:lnTo>
                    <a:pt x="4520" y="953"/>
                  </a:lnTo>
                  <a:lnTo>
                    <a:pt x="4354" y="764"/>
                  </a:lnTo>
                  <a:lnTo>
                    <a:pt x="4167" y="591"/>
                  </a:lnTo>
                  <a:lnTo>
                    <a:pt x="3960" y="436"/>
                  </a:lnTo>
                  <a:lnTo>
                    <a:pt x="3737" y="301"/>
                  </a:lnTo>
                  <a:lnTo>
                    <a:pt x="3507" y="191"/>
                  </a:lnTo>
                  <a:lnTo>
                    <a:pt x="3270" y="107"/>
                  </a:lnTo>
                  <a:lnTo>
                    <a:pt x="3029" y="48"/>
                  </a:lnTo>
                  <a:lnTo>
                    <a:pt x="2785" y="12"/>
                  </a:lnTo>
                  <a:lnTo>
                    <a:pt x="2541" y="0"/>
                  </a:lnTo>
                  <a:lnTo>
                    <a:pt x="2297" y="12"/>
                  </a:lnTo>
                  <a:lnTo>
                    <a:pt x="2056" y="47"/>
                  </a:lnTo>
                  <a:lnTo>
                    <a:pt x="1819" y="104"/>
                  </a:lnTo>
                  <a:lnTo>
                    <a:pt x="1589" y="184"/>
                  </a:lnTo>
                  <a:lnTo>
                    <a:pt x="1366" y="286"/>
                  </a:lnTo>
                  <a:lnTo>
                    <a:pt x="1153" y="410"/>
                  </a:lnTo>
                  <a:lnTo>
                    <a:pt x="952" y="556"/>
                  </a:lnTo>
                  <a:lnTo>
                    <a:pt x="764" y="722"/>
                  </a:lnTo>
                  <a:lnTo>
                    <a:pt x="591" y="909"/>
                  </a:lnTo>
                  <a:lnTo>
                    <a:pt x="436" y="1117"/>
                  </a:lnTo>
                  <a:lnTo>
                    <a:pt x="301" y="1340"/>
                  </a:lnTo>
                  <a:lnTo>
                    <a:pt x="191" y="1569"/>
                  </a:lnTo>
                  <a:lnTo>
                    <a:pt x="107" y="1806"/>
                  </a:lnTo>
                  <a:lnTo>
                    <a:pt x="48" y="2048"/>
                  </a:lnTo>
                  <a:lnTo>
                    <a:pt x="12" y="2291"/>
                  </a:lnTo>
                  <a:lnTo>
                    <a:pt x="0" y="2536"/>
                  </a:lnTo>
                  <a:lnTo>
                    <a:pt x="12" y="2779"/>
                  </a:lnTo>
                  <a:lnTo>
                    <a:pt x="46" y="3020"/>
                  </a:lnTo>
                  <a:lnTo>
                    <a:pt x="104" y="3257"/>
                  </a:lnTo>
                  <a:lnTo>
                    <a:pt x="184" y="3488"/>
                  </a:lnTo>
                  <a:lnTo>
                    <a:pt x="286" y="3710"/>
                  </a:lnTo>
                  <a:lnTo>
                    <a:pt x="409" y="3923"/>
                  </a:lnTo>
                  <a:lnTo>
                    <a:pt x="555" y="4125"/>
                  </a:lnTo>
                  <a:lnTo>
                    <a:pt x="722" y="4313"/>
                  </a:lnTo>
                  <a:lnTo>
                    <a:pt x="909" y="4485"/>
                  </a:lnTo>
                  <a:lnTo>
                    <a:pt x="1117" y="4643"/>
                  </a:lnTo>
                  <a:close/>
                </a:path>
              </a:pathLst>
            </a:custGeom>
            <a:solidFill>
              <a:srgbClr val="789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9208800" y="126360"/>
              <a:ext cx="380160" cy="376560"/>
            </a:xfrm>
            <a:custGeom>
              <a:avLst/>
              <a:gdLst/>
              <a:ahLst/>
              <a:rect l="l" t="t" r="r" b="b"/>
              <a:pathLst>
                <a:path w="4917" h="4917">
                  <a:moveTo>
                    <a:pt x="1082" y="4495"/>
                  </a:moveTo>
                  <a:lnTo>
                    <a:pt x="1297" y="4624"/>
                  </a:lnTo>
                  <a:lnTo>
                    <a:pt x="1520" y="4731"/>
                  </a:lnTo>
                  <a:lnTo>
                    <a:pt x="1749" y="4813"/>
                  </a:lnTo>
                  <a:lnTo>
                    <a:pt x="1983" y="4870"/>
                  </a:lnTo>
                  <a:lnTo>
                    <a:pt x="2219" y="4905"/>
                  </a:lnTo>
                  <a:lnTo>
                    <a:pt x="2456" y="4917"/>
                  </a:lnTo>
                  <a:lnTo>
                    <a:pt x="2692" y="4905"/>
                  </a:lnTo>
                  <a:lnTo>
                    <a:pt x="2926" y="4872"/>
                  </a:lnTo>
                  <a:lnTo>
                    <a:pt x="3154" y="4816"/>
                  </a:lnTo>
                  <a:lnTo>
                    <a:pt x="3377" y="4738"/>
                  </a:lnTo>
                  <a:lnTo>
                    <a:pt x="3593" y="4639"/>
                  </a:lnTo>
                  <a:lnTo>
                    <a:pt x="3800" y="4519"/>
                  </a:lnTo>
                  <a:lnTo>
                    <a:pt x="3994" y="4379"/>
                  </a:lnTo>
                  <a:lnTo>
                    <a:pt x="4176" y="4217"/>
                  </a:lnTo>
                  <a:lnTo>
                    <a:pt x="4343" y="4037"/>
                  </a:lnTo>
                  <a:lnTo>
                    <a:pt x="4495" y="3836"/>
                  </a:lnTo>
                  <a:lnTo>
                    <a:pt x="4625" y="3620"/>
                  </a:lnTo>
                  <a:lnTo>
                    <a:pt x="4731" y="3397"/>
                  </a:lnTo>
                  <a:lnTo>
                    <a:pt x="4812" y="3168"/>
                  </a:lnTo>
                  <a:lnTo>
                    <a:pt x="4870" y="2934"/>
                  </a:lnTo>
                  <a:lnTo>
                    <a:pt x="4905" y="2698"/>
                  </a:lnTo>
                  <a:lnTo>
                    <a:pt x="4917" y="2461"/>
                  </a:lnTo>
                  <a:lnTo>
                    <a:pt x="4905" y="2225"/>
                  </a:lnTo>
                  <a:lnTo>
                    <a:pt x="4871" y="1991"/>
                  </a:lnTo>
                  <a:lnTo>
                    <a:pt x="4816" y="1763"/>
                  </a:lnTo>
                  <a:lnTo>
                    <a:pt x="4738" y="1539"/>
                  </a:lnTo>
                  <a:lnTo>
                    <a:pt x="4639" y="1324"/>
                  </a:lnTo>
                  <a:lnTo>
                    <a:pt x="4519" y="1117"/>
                  </a:lnTo>
                  <a:lnTo>
                    <a:pt x="4379" y="923"/>
                  </a:lnTo>
                  <a:lnTo>
                    <a:pt x="4217" y="740"/>
                  </a:lnTo>
                  <a:lnTo>
                    <a:pt x="4037" y="573"/>
                  </a:lnTo>
                  <a:lnTo>
                    <a:pt x="3836" y="422"/>
                  </a:lnTo>
                  <a:lnTo>
                    <a:pt x="3620" y="291"/>
                  </a:lnTo>
                  <a:lnTo>
                    <a:pt x="3397" y="186"/>
                  </a:lnTo>
                  <a:lnTo>
                    <a:pt x="3168" y="104"/>
                  </a:lnTo>
                  <a:lnTo>
                    <a:pt x="2934" y="47"/>
                  </a:lnTo>
                  <a:lnTo>
                    <a:pt x="2698" y="12"/>
                  </a:lnTo>
                  <a:lnTo>
                    <a:pt x="2461" y="0"/>
                  </a:lnTo>
                  <a:lnTo>
                    <a:pt x="2225" y="12"/>
                  </a:lnTo>
                  <a:lnTo>
                    <a:pt x="1991" y="46"/>
                  </a:lnTo>
                  <a:lnTo>
                    <a:pt x="1763" y="101"/>
                  </a:lnTo>
                  <a:lnTo>
                    <a:pt x="1539" y="179"/>
                  </a:lnTo>
                  <a:lnTo>
                    <a:pt x="1324" y="277"/>
                  </a:lnTo>
                  <a:lnTo>
                    <a:pt x="1117" y="398"/>
                  </a:lnTo>
                  <a:lnTo>
                    <a:pt x="923" y="538"/>
                  </a:lnTo>
                  <a:lnTo>
                    <a:pt x="740" y="700"/>
                  </a:lnTo>
                  <a:lnTo>
                    <a:pt x="573" y="880"/>
                  </a:lnTo>
                  <a:lnTo>
                    <a:pt x="422" y="1082"/>
                  </a:lnTo>
                  <a:lnTo>
                    <a:pt x="291" y="1297"/>
                  </a:lnTo>
                  <a:lnTo>
                    <a:pt x="186" y="1520"/>
                  </a:lnTo>
                  <a:lnTo>
                    <a:pt x="104" y="1749"/>
                  </a:lnTo>
                  <a:lnTo>
                    <a:pt x="47" y="1983"/>
                  </a:lnTo>
                  <a:lnTo>
                    <a:pt x="12" y="2219"/>
                  </a:lnTo>
                  <a:lnTo>
                    <a:pt x="0" y="2456"/>
                  </a:lnTo>
                  <a:lnTo>
                    <a:pt x="12" y="2692"/>
                  </a:lnTo>
                  <a:lnTo>
                    <a:pt x="46" y="2926"/>
                  </a:lnTo>
                  <a:lnTo>
                    <a:pt x="101" y="3154"/>
                  </a:lnTo>
                  <a:lnTo>
                    <a:pt x="179" y="3377"/>
                  </a:lnTo>
                  <a:lnTo>
                    <a:pt x="277" y="3593"/>
                  </a:lnTo>
                  <a:lnTo>
                    <a:pt x="398" y="3799"/>
                  </a:lnTo>
                  <a:lnTo>
                    <a:pt x="538" y="3994"/>
                  </a:lnTo>
                  <a:lnTo>
                    <a:pt x="700" y="4176"/>
                  </a:lnTo>
                  <a:lnTo>
                    <a:pt x="880" y="4343"/>
                  </a:lnTo>
                  <a:lnTo>
                    <a:pt x="1082" y="4495"/>
                  </a:lnTo>
                  <a:close/>
                </a:path>
              </a:pathLst>
            </a:custGeom>
            <a:solidFill>
              <a:srgbClr val="7b9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218160" y="129240"/>
              <a:ext cx="367920" cy="363600"/>
            </a:xfrm>
            <a:custGeom>
              <a:avLst/>
              <a:gdLst/>
              <a:ahLst/>
              <a:rect l="l" t="t" r="r" b="b"/>
              <a:pathLst>
                <a:path w="4755" h="4755">
                  <a:moveTo>
                    <a:pt x="1046" y="4347"/>
                  </a:moveTo>
                  <a:lnTo>
                    <a:pt x="1255" y="4472"/>
                  </a:lnTo>
                  <a:lnTo>
                    <a:pt x="1470" y="4574"/>
                  </a:lnTo>
                  <a:lnTo>
                    <a:pt x="1692" y="4654"/>
                  </a:lnTo>
                  <a:lnTo>
                    <a:pt x="1918" y="4710"/>
                  </a:lnTo>
                  <a:lnTo>
                    <a:pt x="2146" y="4743"/>
                  </a:lnTo>
                  <a:lnTo>
                    <a:pt x="2375" y="4755"/>
                  </a:lnTo>
                  <a:lnTo>
                    <a:pt x="2604" y="4744"/>
                  </a:lnTo>
                  <a:lnTo>
                    <a:pt x="2829" y="4712"/>
                  </a:lnTo>
                  <a:lnTo>
                    <a:pt x="3051" y="4657"/>
                  </a:lnTo>
                  <a:lnTo>
                    <a:pt x="3267" y="4583"/>
                  </a:lnTo>
                  <a:lnTo>
                    <a:pt x="3475" y="4487"/>
                  </a:lnTo>
                  <a:lnTo>
                    <a:pt x="3675" y="4371"/>
                  </a:lnTo>
                  <a:lnTo>
                    <a:pt x="3864" y="4234"/>
                  </a:lnTo>
                  <a:lnTo>
                    <a:pt x="4040" y="4079"/>
                  </a:lnTo>
                  <a:lnTo>
                    <a:pt x="4202" y="3904"/>
                  </a:lnTo>
                  <a:lnTo>
                    <a:pt x="4348" y="3709"/>
                  </a:lnTo>
                  <a:lnTo>
                    <a:pt x="4474" y="3501"/>
                  </a:lnTo>
                  <a:lnTo>
                    <a:pt x="4576" y="3285"/>
                  </a:lnTo>
                  <a:lnTo>
                    <a:pt x="4654" y="3063"/>
                  </a:lnTo>
                  <a:lnTo>
                    <a:pt x="4711" y="2837"/>
                  </a:lnTo>
                  <a:lnTo>
                    <a:pt x="4745" y="2609"/>
                  </a:lnTo>
                  <a:lnTo>
                    <a:pt x="4755" y="2380"/>
                  </a:lnTo>
                  <a:lnTo>
                    <a:pt x="4745" y="2152"/>
                  </a:lnTo>
                  <a:lnTo>
                    <a:pt x="4712" y="1926"/>
                  </a:lnTo>
                  <a:lnTo>
                    <a:pt x="4659" y="1704"/>
                  </a:lnTo>
                  <a:lnTo>
                    <a:pt x="4583" y="1488"/>
                  </a:lnTo>
                  <a:lnTo>
                    <a:pt x="4488" y="1280"/>
                  </a:lnTo>
                  <a:lnTo>
                    <a:pt x="4372" y="1080"/>
                  </a:lnTo>
                  <a:lnTo>
                    <a:pt x="4236" y="892"/>
                  </a:lnTo>
                  <a:lnTo>
                    <a:pt x="4079" y="715"/>
                  </a:lnTo>
                  <a:lnTo>
                    <a:pt x="3904" y="554"/>
                  </a:lnTo>
                  <a:lnTo>
                    <a:pt x="3710" y="408"/>
                  </a:lnTo>
                  <a:lnTo>
                    <a:pt x="3501" y="282"/>
                  </a:lnTo>
                  <a:lnTo>
                    <a:pt x="3285" y="180"/>
                  </a:lnTo>
                  <a:lnTo>
                    <a:pt x="3064" y="100"/>
                  </a:lnTo>
                  <a:lnTo>
                    <a:pt x="2839" y="44"/>
                  </a:lnTo>
                  <a:lnTo>
                    <a:pt x="2610" y="11"/>
                  </a:lnTo>
                  <a:lnTo>
                    <a:pt x="2380" y="0"/>
                  </a:lnTo>
                  <a:lnTo>
                    <a:pt x="2152" y="11"/>
                  </a:lnTo>
                  <a:lnTo>
                    <a:pt x="1927" y="42"/>
                  </a:lnTo>
                  <a:lnTo>
                    <a:pt x="1704" y="97"/>
                  </a:lnTo>
                  <a:lnTo>
                    <a:pt x="1489" y="172"/>
                  </a:lnTo>
                  <a:lnTo>
                    <a:pt x="1280" y="268"/>
                  </a:lnTo>
                  <a:lnTo>
                    <a:pt x="1081" y="384"/>
                  </a:lnTo>
                  <a:lnTo>
                    <a:pt x="892" y="520"/>
                  </a:lnTo>
                  <a:lnTo>
                    <a:pt x="717" y="676"/>
                  </a:lnTo>
                  <a:lnTo>
                    <a:pt x="554" y="851"/>
                  </a:lnTo>
                  <a:lnTo>
                    <a:pt x="408" y="1046"/>
                  </a:lnTo>
                  <a:lnTo>
                    <a:pt x="282" y="1253"/>
                  </a:lnTo>
                  <a:lnTo>
                    <a:pt x="180" y="1469"/>
                  </a:lnTo>
                  <a:lnTo>
                    <a:pt x="101" y="1691"/>
                  </a:lnTo>
                  <a:lnTo>
                    <a:pt x="45" y="1917"/>
                  </a:lnTo>
                  <a:lnTo>
                    <a:pt x="12" y="2145"/>
                  </a:lnTo>
                  <a:lnTo>
                    <a:pt x="0" y="2374"/>
                  </a:lnTo>
                  <a:lnTo>
                    <a:pt x="11" y="2602"/>
                  </a:lnTo>
                  <a:lnTo>
                    <a:pt x="44" y="2829"/>
                  </a:lnTo>
                  <a:lnTo>
                    <a:pt x="98" y="3050"/>
                  </a:lnTo>
                  <a:lnTo>
                    <a:pt x="172" y="3266"/>
                  </a:lnTo>
                  <a:lnTo>
                    <a:pt x="268" y="3474"/>
                  </a:lnTo>
                  <a:lnTo>
                    <a:pt x="384" y="3674"/>
                  </a:lnTo>
                  <a:lnTo>
                    <a:pt x="520" y="3862"/>
                  </a:lnTo>
                  <a:lnTo>
                    <a:pt x="676" y="4039"/>
                  </a:lnTo>
                  <a:lnTo>
                    <a:pt x="852" y="4200"/>
                  </a:lnTo>
                  <a:lnTo>
                    <a:pt x="1046" y="4347"/>
                  </a:lnTo>
                  <a:close/>
                </a:path>
              </a:pathLst>
            </a:custGeom>
            <a:solidFill>
              <a:srgbClr val="7e9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9227520" y="132120"/>
              <a:ext cx="356040" cy="351720"/>
            </a:xfrm>
            <a:custGeom>
              <a:avLst/>
              <a:gdLst/>
              <a:ahLst/>
              <a:rect l="l" t="t" r="r" b="b"/>
              <a:pathLst>
                <a:path w="4595" h="4594">
                  <a:moveTo>
                    <a:pt x="1012" y="4201"/>
                  </a:moveTo>
                  <a:lnTo>
                    <a:pt x="1213" y="4322"/>
                  </a:lnTo>
                  <a:lnTo>
                    <a:pt x="1422" y="4421"/>
                  </a:lnTo>
                  <a:lnTo>
                    <a:pt x="1635" y="4498"/>
                  </a:lnTo>
                  <a:lnTo>
                    <a:pt x="1853" y="4552"/>
                  </a:lnTo>
                  <a:lnTo>
                    <a:pt x="2075" y="4584"/>
                  </a:lnTo>
                  <a:lnTo>
                    <a:pt x="2296" y="4594"/>
                  </a:lnTo>
                  <a:lnTo>
                    <a:pt x="2516" y="4584"/>
                  </a:lnTo>
                  <a:lnTo>
                    <a:pt x="2735" y="4553"/>
                  </a:lnTo>
                  <a:lnTo>
                    <a:pt x="2948" y="4500"/>
                  </a:lnTo>
                  <a:lnTo>
                    <a:pt x="3157" y="4428"/>
                  </a:lnTo>
                  <a:lnTo>
                    <a:pt x="3359" y="4335"/>
                  </a:lnTo>
                  <a:lnTo>
                    <a:pt x="3551" y="4223"/>
                  </a:lnTo>
                  <a:lnTo>
                    <a:pt x="3733" y="4092"/>
                  </a:lnTo>
                  <a:lnTo>
                    <a:pt x="3903" y="3941"/>
                  </a:lnTo>
                  <a:lnTo>
                    <a:pt x="4060" y="3772"/>
                  </a:lnTo>
                  <a:lnTo>
                    <a:pt x="4202" y="3585"/>
                  </a:lnTo>
                  <a:lnTo>
                    <a:pt x="4323" y="3383"/>
                  </a:lnTo>
                  <a:lnTo>
                    <a:pt x="4422" y="3174"/>
                  </a:lnTo>
                  <a:lnTo>
                    <a:pt x="4498" y="2961"/>
                  </a:lnTo>
                  <a:lnTo>
                    <a:pt x="4553" y="2742"/>
                  </a:lnTo>
                  <a:lnTo>
                    <a:pt x="4585" y="2521"/>
                  </a:lnTo>
                  <a:lnTo>
                    <a:pt x="4595" y="2299"/>
                  </a:lnTo>
                  <a:lnTo>
                    <a:pt x="4585" y="2079"/>
                  </a:lnTo>
                  <a:lnTo>
                    <a:pt x="4554" y="1861"/>
                  </a:lnTo>
                  <a:lnTo>
                    <a:pt x="4501" y="1647"/>
                  </a:lnTo>
                  <a:lnTo>
                    <a:pt x="4428" y="1438"/>
                  </a:lnTo>
                  <a:lnTo>
                    <a:pt x="4336" y="1236"/>
                  </a:lnTo>
                  <a:lnTo>
                    <a:pt x="4224" y="1044"/>
                  </a:lnTo>
                  <a:lnTo>
                    <a:pt x="4092" y="862"/>
                  </a:lnTo>
                  <a:lnTo>
                    <a:pt x="3941" y="692"/>
                  </a:lnTo>
                  <a:lnTo>
                    <a:pt x="3772" y="535"/>
                  </a:lnTo>
                  <a:lnTo>
                    <a:pt x="3585" y="394"/>
                  </a:lnTo>
                  <a:lnTo>
                    <a:pt x="3383" y="272"/>
                  </a:lnTo>
                  <a:lnTo>
                    <a:pt x="3175" y="173"/>
                  </a:lnTo>
                  <a:lnTo>
                    <a:pt x="2961" y="97"/>
                  </a:lnTo>
                  <a:lnTo>
                    <a:pt x="2742" y="42"/>
                  </a:lnTo>
                  <a:lnTo>
                    <a:pt x="2522" y="10"/>
                  </a:lnTo>
                  <a:lnTo>
                    <a:pt x="2301" y="0"/>
                  </a:lnTo>
                  <a:lnTo>
                    <a:pt x="2080" y="10"/>
                  </a:lnTo>
                  <a:lnTo>
                    <a:pt x="1862" y="41"/>
                  </a:lnTo>
                  <a:lnTo>
                    <a:pt x="1648" y="93"/>
                  </a:lnTo>
                  <a:lnTo>
                    <a:pt x="1439" y="166"/>
                  </a:lnTo>
                  <a:lnTo>
                    <a:pt x="1238" y="258"/>
                  </a:lnTo>
                  <a:lnTo>
                    <a:pt x="1045" y="371"/>
                  </a:lnTo>
                  <a:lnTo>
                    <a:pt x="863" y="502"/>
                  </a:lnTo>
                  <a:lnTo>
                    <a:pt x="692" y="653"/>
                  </a:lnTo>
                  <a:lnTo>
                    <a:pt x="536" y="823"/>
                  </a:lnTo>
                  <a:lnTo>
                    <a:pt x="395" y="1011"/>
                  </a:lnTo>
                  <a:lnTo>
                    <a:pt x="273" y="1212"/>
                  </a:lnTo>
                  <a:lnTo>
                    <a:pt x="174" y="1420"/>
                  </a:lnTo>
                  <a:lnTo>
                    <a:pt x="97" y="1634"/>
                  </a:lnTo>
                  <a:lnTo>
                    <a:pt x="43" y="1853"/>
                  </a:lnTo>
                  <a:lnTo>
                    <a:pt x="11" y="2073"/>
                  </a:lnTo>
                  <a:lnTo>
                    <a:pt x="0" y="2295"/>
                  </a:lnTo>
                  <a:lnTo>
                    <a:pt x="11" y="2515"/>
                  </a:lnTo>
                  <a:lnTo>
                    <a:pt x="43" y="2733"/>
                  </a:lnTo>
                  <a:lnTo>
                    <a:pt x="95" y="2948"/>
                  </a:lnTo>
                  <a:lnTo>
                    <a:pt x="167" y="3156"/>
                  </a:lnTo>
                  <a:lnTo>
                    <a:pt x="260" y="3358"/>
                  </a:lnTo>
                  <a:lnTo>
                    <a:pt x="372" y="3551"/>
                  </a:lnTo>
                  <a:lnTo>
                    <a:pt x="503" y="3732"/>
                  </a:lnTo>
                  <a:lnTo>
                    <a:pt x="654" y="3902"/>
                  </a:lnTo>
                  <a:lnTo>
                    <a:pt x="824" y="4060"/>
                  </a:lnTo>
                  <a:lnTo>
                    <a:pt x="1012" y="4201"/>
                  </a:lnTo>
                  <a:close/>
                </a:path>
              </a:pathLst>
            </a:custGeom>
            <a:solidFill>
              <a:srgbClr val="80a2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9236880" y="133920"/>
              <a:ext cx="343080" cy="339480"/>
            </a:xfrm>
            <a:custGeom>
              <a:avLst/>
              <a:gdLst/>
              <a:ahLst/>
              <a:rect l="l" t="t" r="r" b="b"/>
              <a:pathLst>
                <a:path w="4434" h="4435">
                  <a:moveTo>
                    <a:pt x="975" y="4055"/>
                  </a:moveTo>
                  <a:lnTo>
                    <a:pt x="1169" y="4172"/>
                  </a:lnTo>
                  <a:lnTo>
                    <a:pt x="1370" y="4267"/>
                  </a:lnTo>
                  <a:lnTo>
                    <a:pt x="1577" y="4341"/>
                  </a:lnTo>
                  <a:lnTo>
                    <a:pt x="1788" y="4393"/>
                  </a:lnTo>
                  <a:lnTo>
                    <a:pt x="2000" y="4424"/>
                  </a:lnTo>
                  <a:lnTo>
                    <a:pt x="2214" y="4435"/>
                  </a:lnTo>
                  <a:lnTo>
                    <a:pt x="2427" y="4424"/>
                  </a:lnTo>
                  <a:lnTo>
                    <a:pt x="2637" y="4394"/>
                  </a:lnTo>
                  <a:lnTo>
                    <a:pt x="2844" y="4343"/>
                  </a:lnTo>
                  <a:lnTo>
                    <a:pt x="3045" y="4274"/>
                  </a:lnTo>
                  <a:lnTo>
                    <a:pt x="3240" y="4185"/>
                  </a:lnTo>
                  <a:lnTo>
                    <a:pt x="3426" y="4077"/>
                  </a:lnTo>
                  <a:lnTo>
                    <a:pt x="3601" y="3950"/>
                  </a:lnTo>
                  <a:lnTo>
                    <a:pt x="3765" y="3804"/>
                  </a:lnTo>
                  <a:lnTo>
                    <a:pt x="3916" y="3641"/>
                  </a:lnTo>
                  <a:lnTo>
                    <a:pt x="4053" y="3460"/>
                  </a:lnTo>
                  <a:lnTo>
                    <a:pt x="4170" y="3265"/>
                  </a:lnTo>
                  <a:lnTo>
                    <a:pt x="4266" y="3065"/>
                  </a:lnTo>
                  <a:lnTo>
                    <a:pt x="4339" y="2857"/>
                  </a:lnTo>
                  <a:lnTo>
                    <a:pt x="4391" y="2647"/>
                  </a:lnTo>
                  <a:lnTo>
                    <a:pt x="4423" y="2434"/>
                  </a:lnTo>
                  <a:lnTo>
                    <a:pt x="4434" y="2220"/>
                  </a:lnTo>
                  <a:lnTo>
                    <a:pt x="4423" y="2008"/>
                  </a:lnTo>
                  <a:lnTo>
                    <a:pt x="4393" y="1797"/>
                  </a:lnTo>
                  <a:lnTo>
                    <a:pt x="4342" y="1590"/>
                  </a:lnTo>
                  <a:lnTo>
                    <a:pt x="4272" y="1389"/>
                  </a:lnTo>
                  <a:lnTo>
                    <a:pt x="4183" y="1195"/>
                  </a:lnTo>
                  <a:lnTo>
                    <a:pt x="4076" y="1009"/>
                  </a:lnTo>
                  <a:lnTo>
                    <a:pt x="3948" y="833"/>
                  </a:lnTo>
                  <a:lnTo>
                    <a:pt x="3802" y="668"/>
                  </a:lnTo>
                  <a:lnTo>
                    <a:pt x="3639" y="517"/>
                  </a:lnTo>
                  <a:lnTo>
                    <a:pt x="3458" y="381"/>
                  </a:lnTo>
                  <a:lnTo>
                    <a:pt x="3263" y="263"/>
                  </a:lnTo>
                  <a:lnTo>
                    <a:pt x="3062" y="168"/>
                  </a:lnTo>
                  <a:lnTo>
                    <a:pt x="2855" y="94"/>
                  </a:lnTo>
                  <a:lnTo>
                    <a:pt x="2645" y="42"/>
                  </a:lnTo>
                  <a:lnTo>
                    <a:pt x="2432" y="10"/>
                  </a:lnTo>
                  <a:lnTo>
                    <a:pt x="2218" y="0"/>
                  </a:lnTo>
                  <a:lnTo>
                    <a:pt x="2006" y="10"/>
                  </a:lnTo>
                  <a:lnTo>
                    <a:pt x="1795" y="41"/>
                  </a:lnTo>
                  <a:lnTo>
                    <a:pt x="1589" y="91"/>
                  </a:lnTo>
                  <a:lnTo>
                    <a:pt x="1387" y="161"/>
                  </a:lnTo>
                  <a:lnTo>
                    <a:pt x="1193" y="251"/>
                  </a:lnTo>
                  <a:lnTo>
                    <a:pt x="1007" y="358"/>
                  </a:lnTo>
                  <a:lnTo>
                    <a:pt x="831" y="486"/>
                  </a:lnTo>
                  <a:lnTo>
                    <a:pt x="667" y="631"/>
                  </a:lnTo>
                  <a:lnTo>
                    <a:pt x="516" y="795"/>
                  </a:lnTo>
                  <a:lnTo>
                    <a:pt x="380" y="977"/>
                  </a:lnTo>
                  <a:lnTo>
                    <a:pt x="262" y="1170"/>
                  </a:lnTo>
                  <a:lnTo>
                    <a:pt x="166" y="1371"/>
                  </a:lnTo>
                  <a:lnTo>
                    <a:pt x="93" y="1578"/>
                  </a:lnTo>
                  <a:lnTo>
                    <a:pt x="41" y="1789"/>
                  </a:lnTo>
                  <a:lnTo>
                    <a:pt x="9" y="2001"/>
                  </a:lnTo>
                  <a:lnTo>
                    <a:pt x="0" y="2215"/>
                  </a:lnTo>
                  <a:lnTo>
                    <a:pt x="9" y="2428"/>
                  </a:lnTo>
                  <a:lnTo>
                    <a:pt x="40" y="2638"/>
                  </a:lnTo>
                  <a:lnTo>
                    <a:pt x="90" y="2846"/>
                  </a:lnTo>
                  <a:lnTo>
                    <a:pt x="160" y="3046"/>
                  </a:lnTo>
                  <a:lnTo>
                    <a:pt x="249" y="3241"/>
                  </a:lnTo>
                  <a:lnTo>
                    <a:pt x="358" y="3427"/>
                  </a:lnTo>
                  <a:lnTo>
                    <a:pt x="484" y="3602"/>
                  </a:lnTo>
                  <a:lnTo>
                    <a:pt x="630" y="3767"/>
                  </a:lnTo>
                  <a:lnTo>
                    <a:pt x="794" y="3918"/>
                  </a:lnTo>
                  <a:lnTo>
                    <a:pt x="975" y="4055"/>
                  </a:lnTo>
                  <a:close/>
                </a:path>
              </a:pathLst>
            </a:custGeom>
            <a:solidFill>
              <a:srgbClr val="83a5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9245880" y="136800"/>
              <a:ext cx="330840" cy="326880"/>
            </a:xfrm>
            <a:custGeom>
              <a:avLst/>
              <a:gdLst/>
              <a:ahLst/>
              <a:rect l="l" t="t" r="r" b="b"/>
              <a:pathLst>
                <a:path w="4272" h="4273">
                  <a:moveTo>
                    <a:pt x="941" y="3908"/>
                  </a:moveTo>
                  <a:lnTo>
                    <a:pt x="1128" y="4020"/>
                  </a:lnTo>
                  <a:lnTo>
                    <a:pt x="1321" y="4112"/>
                  </a:lnTo>
                  <a:lnTo>
                    <a:pt x="1520" y="4183"/>
                  </a:lnTo>
                  <a:lnTo>
                    <a:pt x="1723" y="4233"/>
                  </a:lnTo>
                  <a:lnTo>
                    <a:pt x="1928" y="4264"/>
                  </a:lnTo>
                  <a:lnTo>
                    <a:pt x="2134" y="4273"/>
                  </a:lnTo>
                  <a:lnTo>
                    <a:pt x="2340" y="4264"/>
                  </a:lnTo>
                  <a:lnTo>
                    <a:pt x="2543" y="4234"/>
                  </a:lnTo>
                  <a:lnTo>
                    <a:pt x="2742" y="4185"/>
                  </a:lnTo>
                  <a:lnTo>
                    <a:pt x="2935" y="4118"/>
                  </a:lnTo>
                  <a:lnTo>
                    <a:pt x="3123" y="4032"/>
                  </a:lnTo>
                  <a:lnTo>
                    <a:pt x="3302" y="3928"/>
                  </a:lnTo>
                  <a:lnTo>
                    <a:pt x="3471" y="3805"/>
                  </a:lnTo>
                  <a:lnTo>
                    <a:pt x="3629" y="3665"/>
                  </a:lnTo>
                  <a:lnTo>
                    <a:pt x="3775" y="3508"/>
                  </a:lnTo>
                  <a:lnTo>
                    <a:pt x="3907" y="3333"/>
                  </a:lnTo>
                  <a:lnTo>
                    <a:pt x="4019" y="3145"/>
                  </a:lnTo>
                  <a:lnTo>
                    <a:pt x="4111" y="2952"/>
                  </a:lnTo>
                  <a:lnTo>
                    <a:pt x="4182" y="2753"/>
                  </a:lnTo>
                  <a:lnTo>
                    <a:pt x="4232" y="2550"/>
                  </a:lnTo>
                  <a:lnTo>
                    <a:pt x="4263" y="2345"/>
                  </a:lnTo>
                  <a:lnTo>
                    <a:pt x="4272" y="2139"/>
                  </a:lnTo>
                  <a:lnTo>
                    <a:pt x="4263" y="1933"/>
                  </a:lnTo>
                  <a:lnTo>
                    <a:pt x="4233" y="1730"/>
                  </a:lnTo>
                  <a:lnTo>
                    <a:pt x="4185" y="1530"/>
                  </a:lnTo>
                  <a:lnTo>
                    <a:pt x="4117" y="1337"/>
                  </a:lnTo>
                  <a:lnTo>
                    <a:pt x="4031" y="1150"/>
                  </a:lnTo>
                  <a:lnTo>
                    <a:pt x="3927" y="970"/>
                  </a:lnTo>
                  <a:lnTo>
                    <a:pt x="3805" y="801"/>
                  </a:lnTo>
                  <a:lnTo>
                    <a:pt x="3664" y="643"/>
                  </a:lnTo>
                  <a:lnTo>
                    <a:pt x="3507" y="497"/>
                  </a:lnTo>
                  <a:lnTo>
                    <a:pt x="3333" y="366"/>
                  </a:lnTo>
                  <a:lnTo>
                    <a:pt x="3146" y="253"/>
                  </a:lnTo>
                  <a:lnTo>
                    <a:pt x="2951" y="161"/>
                  </a:lnTo>
                  <a:lnTo>
                    <a:pt x="2752" y="90"/>
                  </a:lnTo>
                  <a:lnTo>
                    <a:pt x="2549" y="40"/>
                  </a:lnTo>
                  <a:lnTo>
                    <a:pt x="2344" y="9"/>
                  </a:lnTo>
                  <a:lnTo>
                    <a:pt x="2139" y="0"/>
                  </a:lnTo>
                  <a:lnTo>
                    <a:pt x="1934" y="9"/>
                  </a:lnTo>
                  <a:lnTo>
                    <a:pt x="1731" y="39"/>
                  </a:lnTo>
                  <a:lnTo>
                    <a:pt x="1532" y="88"/>
                  </a:lnTo>
                  <a:lnTo>
                    <a:pt x="1337" y="155"/>
                  </a:lnTo>
                  <a:lnTo>
                    <a:pt x="1150" y="241"/>
                  </a:lnTo>
                  <a:lnTo>
                    <a:pt x="971" y="345"/>
                  </a:lnTo>
                  <a:lnTo>
                    <a:pt x="801" y="467"/>
                  </a:lnTo>
                  <a:lnTo>
                    <a:pt x="643" y="608"/>
                  </a:lnTo>
                  <a:lnTo>
                    <a:pt x="497" y="765"/>
                  </a:lnTo>
                  <a:lnTo>
                    <a:pt x="367" y="940"/>
                  </a:lnTo>
                  <a:lnTo>
                    <a:pt x="253" y="1127"/>
                  </a:lnTo>
                  <a:lnTo>
                    <a:pt x="161" y="1321"/>
                  </a:lnTo>
                  <a:lnTo>
                    <a:pt x="90" y="1520"/>
                  </a:lnTo>
                  <a:lnTo>
                    <a:pt x="40" y="1723"/>
                  </a:lnTo>
                  <a:lnTo>
                    <a:pt x="9" y="1928"/>
                  </a:lnTo>
                  <a:lnTo>
                    <a:pt x="0" y="2133"/>
                  </a:lnTo>
                  <a:lnTo>
                    <a:pt x="9" y="2338"/>
                  </a:lnTo>
                  <a:lnTo>
                    <a:pt x="39" y="2541"/>
                  </a:lnTo>
                  <a:lnTo>
                    <a:pt x="87" y="2741"/>
                  </a:lnTo>
                  <a:lnTo>
                    <a:pt x="155" y="2935"/>
                  </a:lnTo>
                  <a:lnTo>
                    <a:pt x="241" y="3123"/>
                  </a:lnTo>
                  <a:lnTo>
                    <a:pt x="345" y="3302"/>
                  </a:lnTo>
                  <a:lnTo>
                    <a:pt x="468" y="3472"/>
                  </a:lnTo>
                  <a:lnTo>
                    <a:pt x="608" y="3630"/>
                  </a:lnTo>
                  <a:lnTo>
                    <a:pt x="765" y="3776"/>
                  </a:lnTo>
                  <a:lnTo>
                    <a:pt x="941" y="3908"/>
                  </a:lnTo>
                  <a:close/>
                </a:path>
              </a:pathLst>
            </a:custGeom>
            <a:solidFill>
              <a:srgbClr val="86a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9255240" y="139320"/>
              <a:ext cx="318960" cy="313920"/>
            </a:xfrm>
            <a:custGeom>
              <a:avLst/>
              <a:gdLst/>
              <a:ahLst/>
              <a:rect l="l" t="t" r="r" b="b"/>
              <a:pathLst>
                <a:path w="4112" h="4112">
                  <a:moveTo>
                    <a:pt x="905" y="3760"/>
                  </a:moveTo>
                  <a:lnTo>
                    <a:pt x="1084" y="3868"/>
                  </a:lnTo>
                  <a:lnTo>
                    <a:pt x="1270" y="3956"/>
                  </a:lnTo>
                  <a:lnTo>
                    <a:pt x="1463" y="4025"/>
                  </a:lnTo>
                  <a:lnTo>
                    <a:pt x="1657" y="4073"/>
                  </a:lnTo>
                  <a:lnTo>
                    <a:pt x="1855" y="4102"/>
                  </a:lnTo>
                  <a:lnTo>
                    <a:pt x="2054" y="4112"/>
                  </a:lnTo>
                  <a:lnTo>
                    <a:pt x="2251" y="4103"/>
                  </a:lnTo>
                  <a:lnTo>
                    <a:pt x="2446" y="4074"/>
                  </a:lnTo>
                  <a:lnTo>
                    <a:pt x="2639" y="4028"/>
                  </a:lnTo>
                  <a:lnTo>
                    <a:pt x="2825" y="3963"/>
                  </a:lnTo>
                  <a:lnTo>
                    <a:pt x="3005" y="3880"/>
                  </a:lnTo>
                  <a:lnTo>
                    <a:pt x="3178" y="3780"/>
                  </a:lnTo>
                  <a:lnTo>
                    <a:pt x="3340" y="3662"/>
                  </a:lnTo>
                  <a:lnTo>
                    <a:pt x="3493" y="3527"/>
                  </a:lnTo>
                  <a:lnTo>
                    <a:pt x="3634" y="3376"/>
                  </a:lnTo>
                  <a:lnTo>
                    <a:pt x="3760" y="3208"/>
                  </a:lnTo>
                  <a:lnTo>
                    <a:pt x="3869" y="3027"/>
                  </a:lnTo>
                  <a:lnTo>
                    <a:pt x="3957" y="2841"/>
                  </a:lnTo>
                  <a:lnTo>
                    <a:pt x="4025" y="2649"/>
                  </a:lnTo>
                  <a:lnTo>
                    <a:pt x="4074" y="2454"/>
                  </a:lnTo>
                  <a:lnTo>
                    <a:pt x="4103" y="2256"/>
                  </a:lnTo>
                  <a:lnTo>
                    <a:pt x="4112" y="2058"/>
                  </a:lnTo>
                  <a:lnTo>
                    <a:pt x="4104" y="1861"/>
                  </a:lnTo>
                  <a:lnTo>
                    <a:pt x="4075" y="1665"/>
                  </a:lnTo>
                  <a:lnTo>
                    <a:pt x="4028" y="1473"/>
                  </a:lnTo>
                  <a:lnTo>
                    <a:pt x="3963" y="1287"/>
                  </a:lnTo>
                  <a:lnTo>
                    <a:pt x="3880" y="1106"/>
                  </a:lnTo>
                  <a:lnTo>
                    <a:pt x="3780" y="934"/>
                  </a:lnTo>
                  <a:lnTo>
                    <a:pt x="3662" y="771"/>
                  </a:lnTo>
                  <a:lnTo>
                    <a:pt x="3527" y="618"/>
                  </a:lnTo>
                  <a:lnTo>
                    <a:pt x="3375" y="478"/>
                  </a:lnTo>
                  <a:lnTo>
                    <a:pt x="3207" y="352"/>
                  </a:lnTo>
                  <a:lnTo>
                    <a:pt x="3027" y="243"/>
                  </a:lnTo>
                  <a:lnTo>
                    <a:pt x="2841" y="155"/>
                  </a:lnTo>
                  <a:lnTo>
                    <a:pt x="2648" y="87"/>
                  </a:lnTo>
                  <a:lnTo>
                    <a:pt x="2454" y="38"/>
                  </a:lnTo>
                  <a:lnTo>
                    <a:pt x="2256" y="9"/>
                  </a:lnTo>
                  <a:lnTo>
                    <a:pt x="2058" y="0"/>
                  </a:lnTo>
                  <a:lnTo>
                    <a:pt x="1860" y="9"/>
                  </a:lnTo>
                  <a:lnTo>
                    <a:pt x="1665" y="37"/>
                  </a:lnTo>
                  <a:lnTo>
                    <a:pt x="1473" y="84"/>
                  </a:lnTo>
                  <a:lnTo>
                    <a:pt x="1286" y="148"/>
                  </a:lnTo>
                  <a:lnTo>
                    <a:pt x="1107" y="231"/>
                  </a:lnTo>
                  <a:lnTo>
                    <a:pt x="934" y="332"/>
                  </a:lnTo>
                  <a:lnTo>
                    <a:pt x="772" y="450"/>
                  </a:lnTo>
                  <a:lnTo>
                    <a:pt x="619" y="585"/>
                  </a:lnTo>
                  <a:lnTo>
                    <a:pt x="478" y="736"/>
                  </a:lnTo>
                  <a:lnTo>
                    <a:pt x="353" y="905"/>
                  </a:lnTo>
                  <a:lnTo>
                    <a:pt x="243" y="1085"/>
                  </a:lnTo>
                  <a:lnTo>
                    <a:pt x="155" y="1271"/>
                  </a:lnTo>
                  <a:lnTo>
                    <a:pt x="86" y="1463"/>
                  </a:lnTo>
                  <a:lnTo>
                    <a:pt x="38" y="1658"/>
                  </a:lnTo>
                  <a:lnTo>
                    <a:pt x="10" y="1856"/>
                  </a:lnTo>
                  <a:lnTo>
                    <a:pt x="0" y="2053"/>
                  </a:lnTo>
                  <a:lnTo>
                    <a:pt x="8" y="2251"/>
                  </a:lnTo>
                  <a:lnTo>
                    <a:pt x="37" y="2447"/>
                  </a:lnTo>
                  <a:lnTo>
                    <a:pt x="84" y="2638"/>
                  </a:lnTo>
                  <a:lnTo>
                    <a:pt x="149" y="2825"/>
                  </a:lnTo>
                  <a:lnTo>
                    <a:pt x="232" y="3005"/>
                  </a:lnTo>
                  <a:lnTo>
                    <a:pt x="332" y="3177"/>
                  </a:lnTo>
                  <a:lnTo>
                    <a:pt x="450" y="3340"/>
                  </a:lnTo>
                  <a:lnTo>
                    <a:pt x="585" y="3493"/>
                  </a:lnTo>
                  <a:lnTo>
                    <a:pt x="736" y="3633"/>
                  </a:lnTo>
                  <a:lnTo>
                    <a:pt x="905" y="3760"/>
                  </a:lnTo>
                  <a:close/>
                </a:path>
              </a:pathLst>
            </a:custGeom>
            <a:solidFill>
              <a:srgbClr val="89a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9264600" y="141120"/>
              <a:ext cx="306000" cy="302760"/>
            </a:xfrm>
            <a:custGeom>
              <a:avLst/>
              <a:gdLst/>
              <a:ahLst/>
              <a:rect l="l" t="t" r="r" b="b"/>
              <a:pathLst>
                <a:path w="3952" h="3953">
                  <a:moveTo>
                    <a:pt x="870" y="3614"/>
                  </a:moveTo>
                  <a:lnTo>
                    <a:pt x="1042" y="3718"/>
                  </a:lnTo>
                  <a:lnTo>
                    <a:pt x="1222" y="3803"/>
                  </a:lnTo>
                  <a:lnTo>
                    <a:pt x="1406" y="3869"/>
                  </a:lnTo>
                  <a:lnTo>
                    <a:pt x="1594" y="3916"/>
                  </a:lnTo>
                  <a:lnTo>
                    <a:pt x="1783" y="3943"/>
                  </a:lnTo>
                  <a:lnTo>
                    <a:pt x="1973" y="3953"/>
                  </a:lnTo>
                  <a:lnTo>
                    <a:pt x="2163" y="3943"/>
                  </a:lnTo>
                  <a:lnTo>
                    <a:pt x="2351" y="3917"/>
                  </a:lnTo>
                  <a:lnTo>
                    <a:pt x="2535" y="3872"/>
                  </a:lnTo>
                  <a:lnTo>
                    <a:pt x="2714" y="3809"/>
                  </a:lnTo>
                  <a:lnTo>
                    <a:pt x="2888" y="3730"/>
                  </a:lnTo>
                  <a:lnTo>
                    <a:pt x="3053" y="3633"/>
                  </a:lnTo>
                  <a:lnTo>
                    <a:pt x="3210" y="3520"/>
                  </a:lnTo>
                  <a:lnTo>
                    <a:pt x="3356" y="3391"/>
                  </a:lnTo>
                  <a:lnTo>
                    <a:pt x="3490" y="3245"/>
                  </a:lnTo>
                  <a:lnTo>
                    <a:pt x="3613" y="3083"/>
                  </a:lnTo>
                  <a:lnTo>
                    <a:pt x="3717" y="2910"/>
                  </a:lnTo>
                  <a:lnTo>
                    <a:pt x="3802" y="2730"/>
                  </a:lnTo>
                  <a:lnTo>
                    <a:pt x="3868" y="2547"/>
                  </a:lnTo>
                  <a:lnTo>
                    <a:pt x="3915" y="2358"/>
                  </a:lnTo>
                  <a:lnTo>
                    <a:pt x="3942" y="2169"/>
                  </a:lnTo>
                  <a:lnTo>
                    <a:pt x="3952" y="1979"/>
                  </a:lnTo>
                  <a:lnTo>
                    <a:pt x="3942" y="1789"/>
                  </a:lnTo>
                  <a:lnTo>
                    <a:pt x="3916" y="1601"/>
                  </a:lnTo>
                  <a:lnTo>
                    <a:pt x="3871" y="1418"/>
                  </a:lnTo>
                  <a:lnTo>
                    <a:pt x="3808" y="1238"/>
                  </a:lnTo>
                  <a:lnTo>
                    <a:pt x="3728" y="1065"/>
                  </a:lnTo>
                  <a:lnTo>
                    <a:pt x="3632" y="899"/>
                  </a:lnTo>
                  <a:lnTo>
                    <a:pt x="3519" y="741"/>
                  </a:lnTo>
                  <a:lnTo>
                    <a:pt x="3389" y="596"/>
                  </a:lnTo>
                  <a:lnTo>
                    <a:pt x="3244" y="461"/>
                  </a:lnTo>
                  <a:lnTo>
                    <a:pt x="3082" y="340"/>
                  </a:lnTo>
                  <a:lnTo>
                    <a:pt x="2909" y="234"/>
                  </a:lnTo>
                  <a:lnTo>
                    <a:pt x="2729" y="149"/>
                  </a:lnTo>
                  <a:lnTo>
                    <a:pt x="2545" y="84"/>
                  </a:lnTo>
                  <a:lnTo>
                    <a:pt x="2357" y="38"/>
                  </a:lnTo>
                  <a:lnTo>
                    <a:pt x="2168" y="10"/>
                  </a:lnTo>
                  <a:lnTo>
                    <a:pt x="1978" y="0"/>
                  </a:lnTo>
                  <a:lnTo>
                    <a:pt x="1787" y="10"/>
                  </a:lnTo>
                  <a:lnTo>
                    <a:pt x="1600" y="37"/>
                  </a:lnTo>
                  <a:lnTo>
                    <a:pt x="1415" y="82"/>
                  </a:lnTo>
                  <a:lnTo>
                    <a:pt x="1237" y="144"/>
                  </a:lnTo>
                  <a:lnTo>
                    <a:pt x="1063" y="224"/>
                  </a:lnTo>
                  <a:lnTo>
                    <a:pt x="897" y="320"/>
                  </a:lnTo>
                  <a:lnTo>
                    <a:pt x="741" y="433"/>
                  </a:lnTo>
                  <a:lnTo>
                    <a:pt x="594" y="563"/>
                  </a:lnTo>
                  <a:lnTo>
                    <a:pt x="460" y="708"/>
                  </a:lnTo>
                  <a:lnTo>
                    <a:pt x="339" y="870"/>
                  </a:lnTo>
                  <a:lnTo>
                    <a:pt x="234" y="1042"/>
                  </a:lnTo>
                  <a:lnTo>
                    <a:pt x="149" y="1222"/>
                  </a:lnTo>
                  <a:lnTo>
                    <a:pt x="83" y="1406"/>
                  </a:lnTo>
                  <a:lnTo>
                    <a:pt x="36" y="1594"/>
                  </a:lnTo>
                  <a:lnTo>
                    <a:pt x="9" y="1783"/>
                  </a:lnTo>
                  <a:lnTo>
                    <a:pt x="0" y="1975"/>
                  </a:lnTo>
                  <a:lnTo>
                    <a:pt x="9" y="2164"/>
                  </a:lnTo>
                  <a:lnTo>
                    <a:pt x="36" y="2352"/>
                  </a:lnTo>
                  <a:lnTo>
                    <a:pt x="81" y="2536"/>
                  </a:lnTo>
                  <a:lnTo>
                    <a:pt x="143" y="2716"/>
                  </a:lnTo>
                  <a:lnTo>
                    <a:pt x="222" y="2888"/>
                  </a:lnTo>
                  <a:lnTo>
                    <a:pt x="319" y="3054"/>
                  </a:lnTo>
                  <a:lnTo>
                    <a:pt x="433" y="3211"/>
                  </a:lnTo>
                  <a:lnTo>
                    <a:pt x="561" y="3357"/>
                  </a:lnTo>
                  <a:lnTo>
                    <a:pt x="708" y="3492"/>
                  </a:lnTo>
                  <a:lnTo>
                    <a:pt x="870" y="3614"/>
                  </a:lnTo>
                  <a:close/>
                </a:path>
              </a:pathLst>
            </a:custGeom>
            <a:solidFill>
              <a:srgbClr val="8ca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9273960" y="144000"/>
              <a:ext cx="293760" cy="290160"/>
            </a:xfrm>
            <a:custGeom>
              <a:avLst/>
              <a:gdLst/>
              <a:ahLst/>
              <a:rect l="l" t="t" r="r" b="b"/>
              <a:pathLst>
                <a:path w="3791" h="3792">
                  <a:moveTo>
                    <a:pt x="835" y="3467"/>
                  </a:moveTo>
                  <a:lnTo>
                    <a:pt x="1001" y="3567"/>
                  </a:lnTo>
                  <a:lnTo>
                    <a:pt x="1173" y="3649"/>
                  </a:lnTo>
                  <a:lnTo>
                    <a:pt x="1349" y="3712"/>
                  </a:lnTo>
                  <a:lnTo>
                    <a:pt x="1529" y="3756"/>
                  </a:lnTo>
                  <a:lnTo>
                    <a:pt x="1711" y="3784"/>
                  </a:lnTo>
                  <a:lnTo>
                    <a:pt x="1894" y="3792"/>
                  </a:lnTo>
                  <a:lnTo>
                    <a:pt x="2075" y="3784"/>
                  </a:lnTo>
                  <a:lnTo>
                    <a:pt x="2256" y="3758"/>
                  </a:lnTo>
                  <a:lnTo>
                    <a:pt x="2433" y="3715"/>
                  </a:lnTo>
                  <a:lnTo>
                    <a:pt x="2605" y="3655"/>
                  </a:lnTo>
                  <a:lnTo>
                    <a:pt x="2771" y="3579"/>
                  </a:lnTo>
                  <a:lnTo>
                    <a:pt x="2930" y="3486"/>
                  </a:lnTo>
                  <a:lnTo>
                    <a:pt x="3080" y="3378"/>
                  </a:lnTo>
                  <a:lnTo>
                    <a:pt x="3220" y="3253"/>
                  </a:lnTo>
                  <a:lnTo>
                    <a:pt x="3350" y="3113"/>
                  </a:lnTo>
                  <a:lnTo>
                    <a:pt x="3467" y="2959"/>
                  </a:lnTo>
                  <a:lnTo>
                    <a:pt x="3567" y="2792"/>
                  </a:lnTo>
                  <a:lnTo>
                    <a:pt x="3649" y="2620"/>
                  </a:lnTo>
                  <a:lnTo>
                    <a:pt x="3712" y="2443"/>
                  </a:lnTo>
                  <a:lnTo>
                    <a:pt x="3756" y="2264"/>
                  </a:lnTo>
                  <a:lnTo>
                    <a:pt x="3783" y="2082"/>
                  </a:lnTo>
                  <a:lnTo>
                    <a:pt x="3791" y="1899"/>
                  </a:lnTo>
                  <a:lnTo>
                    <a:pt x="3783" y="1717"/>
                  </a:lnTo>
                  <a:lnTo>
                    <a:pt x="3757" y="1536"/>
                  </a:lnTo>
                  <a:lnTo>
                    <a:pt x="3714" y="1360"/>
                  </a:lnTo>
                  <a:lnTo>
                    <a:pt x="3654" y="1188"/>
                  </a:lnTo>
                  <a:lnTo>
                    <a:pt x="3578" y="1022"/>
                  </a:lnTo>
                  <a:lnTo>
                    <a:pt x="3485" y="862"/>
                  </a:lnTo>
                  <a:lnTo>
                    <a:pt x="3377" y="713"/>
                  </a:lnTo>
                  <a:lnTo>
                    <a:pt x="3252" y="572"/>
                  </a:lnTo>
                  <a:lnTo>
                    <a:pt x="3112" y="443"/>
                  </a:lnTo>
                  <a:lnTo>
                    <a:pt x="2958" y="327"/>
                  </a:lnTo>
                  <a:lnTo>
                    <a:pt x="2791" y="226"/>
                  </a:lnTo>
                  <a:lnTo>
                    <a:pt x="2619" y="144"/>
                  </a:lnTo>
                  <a:lnTo>
                    <a:pt x="2442" y="81"/>
                  </a:lnTo>
                  <a:lnTo>
                    <a:pt x="2263" y="36"/>
                  </a:lnTo>
                  <a:lnTo>
                    <a:pt x="2081" y="10"/>
                  </a:lnTo>
                  <a:lnTo>
                    <a:pt x="1898" y="0"/>
                  </a:lnTo>
                  <a:lnTo>
                    <a:pt x="1716" y="9"/>
                  </a:lnTo>
                  <a:lnTo>
                    <a:pt x="1536" y="35"/>
                  </a:lnTo>
                  <a:lnTo>
                    <a:pt x="1359" y="78"/>
                  </a:lnTo>
                  <a:lnTo>
                    <a:pt x="1187" y="139"/>
                  </a:lnTo>
                  <a:lnTo>
                    <a:pt x="1021" y="214"/>
                  </a:lnTo>
                  <a:lnTo>
                    <a:pt x="862" y="306"/>
                  </a:lnTo>
                  <a:lnTo>
                    <a:pt x="712" y="415"/>
                  </a:lnTo>
                  <a:lnTo>
                    <a:pt x="571" y="539"/>
                  </a:lnTo>
                  <a:lnTo>
                    <a:pt x="441" y="680"/>
                  </a:lnTo>
                  <a:lnTo>
                    <a:pt x="326" y="835"/>
                  </a:lnTo>
                  <a:lnTo>
                    <a:pt x="225" y="1001"/>
                  </a:lnTo>
                  <a:lnTo>
                    <a:pt x="143" y="1173"/>
                  </a:lnTo>
                  <a:lnTo>
                    <a:pt x="80" y="1349"/>
                  </a:lnTo>
                  <a:lnTo>
                    <a:pt x="35" y="1530"/>
                  </a:lnTo>
                  <a:lnTo>
                    <a:pt x="9" y="1712"/>
                  </a:lnTo>
                  <a:lnTo>
                    <a:pt x="0" y="1895"/>
                  </a:lnTo>
                  <a:lnTo>
                    <a:pt x="9" y="2077"/>
                  </a:lnTo>
                  <a:lnTo>
                    <a:pt x="35" y="2256"/>
                  </a:lnTo>
                  <a:lnTo>
                    <a:pt x="78" y="2433"/>
                  </a:lnTo>
                  <a:lnTo>
                    <a:pt x="138" y="2605"/>
                  </a:lnTo>
                  <a:lnTo>
                    <a:pt x="214" y="2772"/>
                  </a:lnTo>
                  <a:lnTo>
                    <a:pt x="306" y="2930"/>
                  </a:lnTo>
                  <a:lnTo>
                    <a:pt x="415" y="3080"/>
                  </a:lnTo>
                  <a:lnTo>
                    <a:pt x="539" y="3220"/>
                  </a:lnTo>
                  <a:lnTo>
                    <a:pt x="680" y="3350"/>
                  </a:lnTo>
                  <a:lnTo>
                    <a:pt x="835" y="3467"/>
                  </a:lnTo>
                  <a:close/>
                </a:path>
              </a:pathLst>
            </a:custGeom>
            <a:solidFill>
              <a:srgbClr val="8e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9283320" y="146520"/>
              <a:ext cx="281880" cy="277200"/>
            </a:xfrm>
            <a:custGeom>
              <a:avLst/>
              <a:gdLst/>
              <a:ahLst/>
              <a:rect l="l" t="t" r="r" b="b"/>
              <a:pathLst>
                <a:path w="3631" h="3632">
                  <a:moveTo>
                    <a:pt x="799" y="3320"/>
                  </a:moveTo>
                  <a:lnTo>
                    <a:pt x="957" y="3416"/>
                  </a:lnTo>
                  <a:lnTo>
                    <a:pt x="1122" y="3495"/>
                  </a:lnTo>
                  <a:lnTo>
                    <a:pt x="1292" y="3555"/>
                  </a:lnTo>
                  <a:lnTo>
                    <a:pt x="1464" y="3598"/>
                  </a:lnTo>
                  <a:lnTo>
                    <a:pt x="1639" y="3623"/>
                  </a:lnTo>
                  <a:lnTo>
                    <a:pt x="1813" y="3632"/>
                  </a:lnTo>
                  <a:lnTo>
                    <a:pt x="1987" y="3623"/>
                  </a:lnTo>
                  <a:lnTo>
                    <a:pt x="2161" y="3599"/>
                  </a:lnTo>
                  <a:lnTo>
                    <a:pt x="2330" y="3557"/>
                  </a:lnTo>
                  <a:lnTo>
                    <a:pt x="2495" y="3500"/>
                  </a:lnTo>
                  <a:lnTo>
                    <a:pt x="2654" y="3427"/>
                  </a:lnTo>
                  <a:lnTo>
                    <a:pt x="2806" y="3338"/>
                  </a:lnTo>
                  <a:lnTo>
                    <a:pt x="2951" y="3234"/>
                  </a:lnTo>
                  <a:lnTo>
                    <a:pt x="3085" y="3115"/>
                  </a:lnTo>
                  <a:lnTo>
                    <a:pt x="3208" y="2981"/>
                  </a:lnTo>
                  <a:lnTo>
                    <a:pt x="3321" y="2833"/>
                  </a:lnTo>
                  <a:lnTo>
                    <a:pt x="3416" y="2674"/>
                  </a:lnTo>
                  <a:lnTo>
                    <a:pt x="3494" y="2509"/>
                  </a:lnTo>
                  <a:lnTo>
                    <a:pt x="3554" y="2340"/>
                  </a:lnTo>
                  <a:lnTo>
                    <a:pt x="3597" y="2167"/>
                  </a:lnTo>
                  <a:lnTo>
                    <a:pt x="3623" y="1992"/>
                  </a:lnTo>
                  <a:lnTo>
                    <a:pt x="3631" y="1818"/>
                  </a:lnTo>
                  <a:lnTo>
                    <a:pt x="3623" y="1644"/>
                  </a:lnTo>
                  <a:lnTo>
                    <a:pt x="3598" y="1472"/>
                  </a:lnTo>
                  <a:lnTo>
                    <a:pt x="3557" y="1302"/>
                  </a:lnTo>
                  <a:lnTo>
                    <a:pt x="3499" y="1138"/>
                  </a:lnTo>
                  <a:lnTo>
                    <a:pt x="3426" y="978"/>
                  </a:lnTo>
                  <a:lnTo>
                    <a:pt x="3338" y="826"/>
                  </a:lnTo>
                  <a:lnTo>
                    <a:pt x="3233" y="682"/>
                  </a:lnTo>
                  <a:lnTo>
                    <a:pt x="3114" y="548"/>
                  </a:lnTo>
                  <a:lnTo>
                    <a:pt x="2980" y="424"/>
                  </a:lnTo>
                  <a:lnTo>
                    <a:pt x="2833" y="313"/>
                  </a:lnTo>
                  <a:lnTo>
                    <a:pt x="2673" y="216"/>
                  </a:lnTo>
                  <a:lnTo>
                    <a:pt x="2508" y="138"/>
                  </a:lnTo>
                  <a:lnTo>
                    <a:pt x="2339" y="78"/>
                  </a:lnTo>
                  <a:lnTo>
                    <a:pt x="2167" y="34"/>
                  </a:lnTo>
                  <a:lnTo>
                    <a:pt x="1993" y="9"/>
                  </a:lnTo>
                  <a:lnTo>
                    <a:pt x="1818" y="0"/>
                  </a:lnTo>
                  <a:lnTo>
                    <a:pt x="1644" y="9"/>
                  </a:lnTo>
                  <a:lnTo>
                    <a:pt x="1472" y="34"/>
                  </a:lnTo>
                  <a:lnTo>
                    <a:pt x="1302" y="75"/>
                  </a:lnTo>
                  <a:lnTo>
                    <a:pt x="1137" y="132"/>
                  </a:lnTo>
                  <a:lnTo>
                    <a:pt x="979" y="205"/>
                  </a:lnTo>
                  <a:lnTo>
                    <a:pt x="827" y="294"/>
                  </a:lnTo>
                  <a:lnTo>
                    <a:pt x="682" y="398"/>
                  </a:lnTo>
                  <a:lnTo>
                    <a:pt x="548" y="517"/>
                  </a:lnTo>
                  <a:lnTo>
                    <a:pt x="425" y="651"/>
                  </a:lnTo>
                  <a:lnTo>
                    <a:pt x="313" y="800"/>
                  </a:lnTo>
                  <a:lnTo>
                    <a:pt x="216" y="958"/>
                  </a:lnTo>
                  <a:lnTo>
                    <a:pt x="139" y="1123"/>
                  </a:lnTo>
                  <a:lnTo>
                    <a:pt x="78" y="1292"/>
                  </a:lnTo>
                  <a:lnTo>
                    <a:pt x="34" y="1465"/>
                  </a:lnTo>
                  <a:lnTo>
                    <a:pt x="9" y="1639"/>
                  </a:lnTo>
                  <a:lnTo>
                    <a:pt x="0" y="1814"/>
                  </a:lnTo>
                  <a:lnTo>
                    <a:pt x="9" y="1988"/>
                  </a:lnTo>
                  <a:lnTo>
                    <a:pt x="34" y="2160"/>
                  </a:lnTo>
                  <a:lnTo>
                    <a:pt x="75" y="2329"/>
                  </a:lnTo>
                  <a:lnTo>
                    <a:pt x="132" y="2494"/>
                  </a:lnTo>
                  <a:lnTo>
                    <a:pt x="206" y="2654"/>
                  </a:lnTo>
                  <a:lnTo>
                    <a:pt x="294" y="2806"/>
                  </a:lnTo>
                  <a:lnTo>
                    <a:pt x="397" y="2950"/>
                  </a:lnTo>
                  <a:lnTo>
                    <a:pt x="516" y="3084"/>
                  </a:lnTo>
                  <a:lnTo>
                    <a:pt x="650" y="3208"/>
                  </a:lnTo>
                  <a:lnTo>
                    <a:pt x="799" y="3320"/>
                  </a:lnTo>
                  <a:close/>
                </a:path>
              </a:pathLst>
            </a:custGeom>
            <a:solidFill>
              <a:srgbClr val="91b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292320" y="148680"/>
              <a:ext cx="269640" cy="266040"/>
            </a:xfrm>
            <a:custGeom>
              <a:avLst/>
              <a:gdLst/>
              <a:ahLst/>
              <a:rect l="l" t="t" r="r" b="b"/>
              <a:pathLst>
                <a:path w="3470" h="3471">
                  <a:moveTo>
                    <a:pt x="764" y="3174"/>
                  </a:moveTo>
                  <a:lnTo>
                    <a:pt x="915" y="3266"/>
                  </a:lnTo>
                  <a:lnTo>
                    <a:pt x="1072" y="3340"/>
                  </a:lnTo>
                  <a:lnTo>
                    <a:pt x="1234" y="3398"/>
                  </a:lnTo>
                  <a:lnTo>
                    <a:pt x="1399" y="3438"/>
                  </a:lnTo>
                  <a:lnTo>
                    <a:pt x="1566" y="3463"/>
                  </a:lnTo>
                  <a:lnTo>
                    <a:pt x="1733" y="3471"/>
                  </a:lnTo>
                  <a:lnTo>
                    <a:pt x="1899" y="3463"/>
                  </a:lnTo>
                  <a:lnTo>
                    <a:pt x="2064" y="3439"/>
                  </a:lnTo>
                  <a:lnTo>
                    <a:pt x="2226" y="3400"/>
                  </a:lnTo>
                  <a:lnTo>
                    <a:pt x="2383" y="3345"/>
                  </a:lnTo>
                  <a:lnTo>
                    <a:pt x="2535" y="3275"/>
                  </a:lnTo>
                  <a:lnTo>
                    <a:pt x="2681" y="3190"/>
                  </a:lnTo>
                  <a:lnTo>
                    <a:pt x="2818" y="3092"/>
                  </a:lnTo>
                  <a:lnTo>
                    <a:pt x="2947" y="2977"/>
                  </a:lnTo>
                  <a:lnTo>
                    <a:pt x="3065" y="2849"/>
                  </a:lnTo>
                  <a:lnTo>
                    <a:pt x="3172" y="2708"/>
                  </a:lnTo>
                  <a:lnTo>
                    <a:pt x="3263" y="2555"/>
                  </a:lnTo>
                  <a:lnTo>
                    <a:pt x="3338" y="2397"/>
                  </a:lnTo>
                  <a:lnTo>
                    <a:pt x="3396" y="2236"/>
                  </a:lnTo>
                  <a:lnTo>
                    <a:pt x="3437" y="2071"/>
                  </a:lnTo>
                  <a:lnTo>
                    <a:pt x="3461" y="1905"/>
                  </a:lnTo>
                  <a:lnTo>
                    <a:pt x="3470" y="1737"/>
                  </a:lnTo>
                  <a:lnTo>
                    <a:pt x="3461" y="1571"/>
                  </a:lnTo>
                  <a:lnTo>
                    <a:pt x="3438" y="1407"/>
                  </a:lnTo>
                  <a:lnTo>
                    <a:pt x="3398" y="1245"/>
                  </a:lnTo>
                  <a:lnTo>
                    <a:pt x="3343" y="1087"/>
                  </a:lnTo>
                  <a:lnTo>
                    <a:pt x="3273" y="935"/>
                  </a:lnTo>
                  <a:lnTo>
                    <a:pt x="3189" y="790"/>
                  </a:lnTo>
                  <a:lnTo>
                    <a:pt x="3089" y="652"/>
                  </a:lnTo>
                  <a:lnTo>
                    <a:pt x="2975" y="523"/>
                  </a:lnTo>
                  <a:lnTo>
                    <a:pt x="2848" y="405"/>
                  </a:lnTo>
                  <a:lnTo>
                    <a:pt x="2706" y="299"/>
                  </a:lnTo>
                  <a:lnTo>
                    <a:pt x="2554" y="206"/>
                  </a:lnTo>
                  <a:lnTo>
                    <a:pt x="2397" y="132"/>
                  </a:lnTo>
                  <a:lnTo>
                    <a:pt x="2235" y="73"/>
                  </a:lnTo>
                  <a:lnTo>
                    <a:pt x="2071" y="33"/>
                  </a:lnTo>
                  <a:lnTo>
                    <a:pt x="1904" y="9"/>
                  </a:lnTo>
                  <a:lnTo>
                    <a:pt x="1737" y="0"/>
                  </a:lnTo>
                  <a:lnTo>
                    <a:pt x="1570" y="9"/>
                  </a:lnTo>
                  <a:lnTo>
                    <a:pt x="1405" y="32"/>
                  </a:lnTo>
                  <a:lnTo>
                    <a:pt x="1244" y="71"/>
                  </a:lnTo>
                  <a:lnTo>
                    <a:pt x="1086" y="127"/>
                  </a:lnTo>
                  <a:lnTo>
                    <a:pt x="934" y="197"/>
                  </a:lnTo>
                  <a:lnTo>
                    <a:pt x="788" y="281"/>
                  </a:lnTo>
                  <a:lnTo>
                    <a:pt x="651" y="381"/>
                  </a:lnTo>
                  <a:lnTo>
                    <a:pt x="523" y="494"/>
                  </a:lnTo>
                  <a:lnTo>
                    <a:pt x="405" y="622"/>
                  </a:lnTo>
                  <a:lnTo>
                    <a:pt x="298" y="764"/>
                  </a:lnTo>
                  <a:lnTo>
                    <a:pt x="206" y="916"/>
                  </a:lnTo>
                  <a:lnTo>
                    <a:pt x="131" y="1074"/>
                  </a:lnTo>
                  <a:lnTo>
                    <a:pt x="73" y="1235"/>
                  </a:lnTo>
                  <a:lnTo>
                    <a:pt x="33" y="1400"/>
                  </a:lnTo>
                  <a:lnTo>
                    <a:pt x="8" y="1567"/>
                  </a:lnTo>
                  <a:lnTo>
                    <a:pt x="0" y="1734"/>
                  </a:lnTo>
                  <a:lnTo>
                    <a:pt x="8" y="1901"/>
                  </a:lnTo>
                  <a:lnTo>
                    <a:pt x="32" y="2066"/>
                  </a:lnTo>
                  <a:lnTo>
                    <a:pt x="71" y="2227"/>
                  </a:lnTo>
                  <a:lnTo>
                    <a:pt x="125" y="2385"/>
                  </a:lnTo>
                  <a:lnTo>
                    <a:pt x="195" y="2537"/>
                  </a:lnTo>
                  <a:lnTo>
                    <a:pt x="280" y="2682"/>
                  </a:lnTo>
                  <a:lnTo>
                    <a:pt x="379" y="2820"/>
                  </a:lnTo>
                  <a:lnTo>
                    <a:pt x="493" y="2949"/>
                  </a:lnTo>
                  <a:lnTo>
                    <a:pt x="622" y="3067"/>
                  </a:lnTo>
                  <a:lnTo>
                    <a:pt x="764" y="3174"/>
                  </a:lnTo>
                  <a:close/>
                </a:path>
              </a:pathLst>
            </a:custGeom>
            <a:solidFill>
              <a:srgbClr val="94b9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9302040" y="151200"/>
              <a:ext cx="256320" cy="253440"/>
            </a:xfrm>
            <a:custGeom>
              <a:avLst/>
              <a:gdLst/>
              <a:ahLst/>
              <a:rect l="l" t="t" r="r" b="b"/>
              <a:pathLst>
                <a:path w="3308" h="3308">
                  <a:moveTo>
                    <a:pt x="728" y="3026"/>
                  </a:moveTo>
                  <a:lnTo>
                    <a:pt x="873" y="3113"/>
                  </a:lnTo>
                  <a:lnTo>
                    <a:pt x="1023" y="3184"/>
                  </a:lnTo>
                  <a:lnTo>
                    <a:pt x="1177" y="3239"/>
                  </a:lnTo>
                  <a:lnTo>
                    <a:pt x="1334" y="3278"/>
                  </a:lnTo>
                  <a:lnTo>
                    <a:pt x="1492" y="3301"/>
                  </a:lnTo>
                  <a:lnTo>
                    <a:pt x="1652" y="3308"/>
                  </a:lnTo>
                  <a:lnTo>
                    <a:pt x="1811" y="3301"/>
                  </a:lnTo>
                  <a:lnTo>
                    <a:pt x="1969" y="3279"/>
                  </a:lnTo>
                  <a:lnTo>
                    <a:pt x="2123" y="3241"/>
                  </a:lnTo>
                  <a:lnTo>
                    <a:pt x="2273" y="3189"/>
                  </a:lnTo>
                  <a:lnTo>
                    <a:pt x="2418" y="3122"/>
                  </a:lnTo>
                  <a:lnTo>
                    <a:pt x="2557" y="3042"/>
                  </a:lnTo>
                  <a:lnTo>
                    <a:pt x="2687" y="2947"/>
                  </a:lnTo>
                  <a:lnTo>
                    <a:pt x="2811" y="2838"/>
                  </a:lnTo>
                  <a:lnTo>
                    <a:pt x="2923" y="2717"/>
                  </a:lnTo>
                  <a:lnTo>
                    <a:pt x="3025" y="2582"/>
                  </a:lnTo>
                  <a:lnTo>
                    <a:pt x="3113" y="2437"/>
                  </a:lnTo>
                  <a:lnTo>
                    <a:pt x="3184" y="2287"/>
                  </a:lnTo>
                  <a:lnTo>
                    <a:pt x="3239" y="2132"/>
                  </a:lnTo>
                  <a:lnTo>
                    <a:pt x="3277" y="1975"/>
                  </a:lnTo>
                  <a:lnTo>
                    <a:pt x="3301" y="1816"/>
                  </a:lnTo>
                  <a:lnTo>
                    <a:pt x="3308" y="1656"/>
                  </a:lnTo>
                  <a:lnTo>
                    <a:pt x="3301" y="1497"/>
                  </a:lnTo>
                  <a:lnTo>
                    <a:pt x="3279" y="1341"/>
                  </a:lnTo>
                  <a:lnTo>
                    <a:pt x="3241" y="1185"/>
                  </a:lnTo>
                  <a:lnTo>
                    <a:pt x="3188" y="1036"/>
                  </a:lnTo>
                  <a:lnTo>
                    <a:pt x="3122" y="890"/>
                  </a:lnTo>
                  <a:lnTo>
                    <a:pt x="3041" y="752"/>
                  </a:lnTo>
                  <a:lnTo>
                    <a:pt x="2947" y="621"/>
                  </a:lnTo>
                  <a:lnTo>
                    <a:pt x="2838" y="498"/>
                  </a:lnTo>
                  <a:lnTo>
                    <a:pt x="2716" y="385"/>
                  </a:lnTo>
                  <a:lnTo>
                    <a:pt x="2581" y="284"/>
                  </a:lnTo>
                  <a:lnTo>
                    <a:pt x="2435" y="196"/>
                  </a:lnTo>
                  <a:lnTo>
                    <a:pt x="2286" y="124"/>
                  </a:lnTo>
                  <a:lnTo>
                    <a:pt x="2131" y="70"/>
                  </a:lnTo>
                  <a:lnTo>
                    <a:pt x="1974" y="31"/>
                  </a:lnTo>
                  <a:lnTo>
                    <a:pt x="1816" y="8"/>
                  </a:lnTo>
                  <a:lnTo>
                    <a:pt x="1656" y="0"/>
                  </a:lnTo>
                  <a:lnTo>
                    <a:pt x="1498" y="8"/>
                  </a:lnTo>
                  <a:lnTo>
                    <a:pt x="1340" y="31"/>
                  </a:lnTo>
                  <a:lnTo>
                    <a:pt x="1186" y="68"/>
                  </a:lnTo>
                  <a:lnTo>
                    <a:pt x="1035" y="120"/>
                  </a:lnTo>
                  <a:lnTo>
                    <a:pt x="891" y="186"/>
                  </a:lnTo>
                  <a:lnTo>
                    <a:pt x="751" y="267"/>
                  </a:lnTo>
                  <a:lnTo>
                    <a:pt x="621" y="362"/>
                  </a:lnTo>
                  <a:lnTo>
                    <a:pt x="498" y="470"/>
                  </a:lnTo>
                  <a:lnTo>
                    <a:pt x="385" y="592"/>
                  </a:lnTo>
                  <a:lnTo>
                    <a:pt x="284" y="728"/>
                  </a:lnTo>
                  <a:lnTo>
                    <a:pt x="195" y="873"/>
                  </a:lnTo>
                  <a:lnTo>
                    <a:pt x="124" y="1023"/>
                  </a:lnTo>
                  <a:lnTo>
                    <a:pt x="69" y="1177"/>
                  </a:lnTo>
                  <a:lnTo>
                    <a:pt x="31" y="1334"/>
                  </a:lnTo>
                  <a:lnTo>
                    <a:pt x="7" y="1494"/>
                  </a:lnTo>
                  <a:lnTo>
                    <a:pt x="0" y="1652"/>
                  </a:lnTo>
                  <a:lnTo>
                    <a:pt x="7" y="1812"/>
                  </a:lnTo>
                  <a:lnTo>
                    <a:pt x="30" y="1969"/>
                  </a:lnTo>
                  <a:lnTo>
                    <a:pt x="67" y="2123"/>
                  </a:lnTo>
                  <a:lnTo>
                    <a:pt x="120" y="2273"/>
                  </a:lnTo>
                  <a:lnTo>
                    <a:pt x="186" y="2418"/>
                  </a:lnTo>
                  <a:lnTo>
                    <a:pt x="267" y="2557"/>
                  </a:lnTo>
                  <a:lnTo>
                    <a:pt x="361" y="2688"/>
                  </a:lnTo>
                  <a:lnTo>
                    <a:pt x="470" y="2811"/>
                  </a:lnTo>
                  <a:lnTo>
                    <a:pt x="592" y="2924"/>
                  </a:lnTo>
                  <a:lnTo>
                    <a:pt x="728" y="3026"/>
                  </a:lnTo>
                  <a:close/>
                </a:path>
              </a:pathLst>
            </a:custGeom>
            <a:solidFill>
              <a:srgbClr val="97b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9312120" y="154080"/>
              <a:ext cx="243360" cy="240480"/>
            </a:xfrm>
            <a:custGeom>
              <a:avLst/>
              <a:gdLst/>
              <a:ahLst/>
              <a:rect l="l" t="t" r="r" b="b"/>
              <a:pathLst>
                <a:path w="3148" h="3149">
                  <a:moveTo>
                    <a:pt x="693" y="2879"/>
                  </a:moveTo>
                  <a:lnTo>
                    <a:pt x="830" y="2962"/>
                  </a:lnTo>
                  <a:lnTo>
                    <a:pt x="973" y="3030"/>
                  </a:lnTo>
                  <a:lnTo>
                    <a:pt x="1120" y="3082"/>
                  </a:lnTo>
                  <a:lnTo>
                    <a:pt x="1269" y="3119"/>
                  </a:lnTo>
                  <a:lnTo>
                    <a:pt x="1420" y="3141"/>
                  </a:lnTo>
                  <a:lnTo>
                    <a:pt x="1572" y="3149"/>
                  </a:lnTo>
                  <a:lnTo>
                    <a:pt x="1723" y="3141"/>
                  </a:lnTo>
                  <a:lnTo>
                    <a:pt x="1873" y="3120"/>
                  </a:lnTo>
                  <a:lnTo>
                    <a:pt x="2020" y="3084"/>
                  </a:lnTo>
                  <a:lnTo>
                    <a:pt x="2162" y="3034"/>
                  </a:lnTo>
                  <a:lnTo>
                    <a:pt x="2301" y="2970"/>
                  </a:lnTo>
                  <a:lnTo>
                    <a:pt x="2432" y="2894"/>
                  </a:lnTo>
                  <a:lnTo>
                    <a:pt x="2558" y="2803"/>
                  </a:lnTo>
                  <a:lnTo>
                    <a:pt x="2674" y="2700"/>
                  </a:lnTo>
                  <a:lnTo>
                    <a:pt x="2781" y="2584"/>
                  </a:lnTo>
                  <a:lnTo>
                    <a:pt x="2879" y="2456"/>
                  </a:lnTo>
                  <a:lnTo>
                    <a:pt x="2962" y="2317"/>
                  </a:lnTo>
                  <a:lnTo>
                    <a:pt x="3029" y="2175"/>
                  </a:lnTo>
                  <a:lnTo>
                    <a:pt x="3081" y="2028"/>
                  </a:lnTo>
                  <a:lnTo>
                    <a:pt x="3118" y="1878"/>
                  </a:lnTo>
                  <a:lnTo>
                    <a:pt x="3141" y="1727"/>
                  </a:lnTo>
                  <a:lnTo>
                    <a:pt x="3148" y="1575"/>
                  </a:lnTo>
                  <a:lnTo>
                    <a:pt x="3141" y="1424"/>
                  </a:lnTo>
                  <a:lnTo>
                    <a:pt x="3119" y="1275"/>
                  </a:lnTo>
                  <a:lnTo>
                    <a:pt x="3083" y="1128"/>
                  </a:lnTo>
                  <a:lnTo>
                    <a:pt x="3033" y="985"/>
                  </a:lnTo>
                  <a:lnTo>
                    <a:pt x="2970" y="847"/>
                  </a:lnTo>
                  <a:lnTo>
                    <a:pt x="2894" y="715"/>
                  </a:lnTo>
                  <a:lnTo>
                    <a:pt x="2803" y="590"/>
                  </a:lnTo>
                  <a:lnTo>
                    <a:pt x="2700" y="474"/>
                  </a:lnTo>
                  <a:lnTo>
                    <a:pt x="2584" y="367"/>
                  </a:lnTo>
                  <a:lnTo>
                    <a:pt x="2456" y="270"/>
                  </a:lnTo>
                  <a:lnTo>
                    <a:pt x="2318" y="186"/>
                  </a:lnTo>
                  <a:lnTo>
                    <a:pt x="2175" y="119"/>
                  </a:lnTo>
                  <a:lnTo>
                    <a:pt x="2028" y="67"/>
                  </a:lnTo>
                  <a:lnTo>
                    <a:pt x="1879" y="30"/>
                  </a:lnTo>
                  <a:lnTo>
                    <a:pt x="1728" y="7"/>
                  </a:lnTo>
                  <a:lnTo>
                    <a:pt x="1576" y="0"/>
                  </a:lnTo>
                  <a:lnTo>
                    <a:pt x="1425" y="7"/>
                  </a:lnTo>
                  <a:lnTo>
                    <a:pt x="1275" y="29"/>
                  </a:lnTo>
                  <a:lnTo>
                    <a:pt x="1128" y="65"/>
                  </a:lnTo>
                  <a:lnTo>
                    <a:pt x="986" y="115"/>
                  </a:lnTo>
                  <a:lnTo>
                    <a:pt x="847" y="177"/>
                  </a:lnTo>
                  <a:lnTo>
                    <a:pt x="716" y="254"/>
                  </a:lnTo>
                  <a:lnTo>
                    <a:pt x="590" y="344"/>
                  </a:lnTo>
                  <a:lnTo>
                    <a:pt x="474" y="448"/>
                  </a:lnTo>
                  <a:lnTo>
                    <a:pt x="367" y="563"/>
                  </a:lnTo>
                  <a:lnTo>
                    <a:pt x="270" y="693"/>
                  </a:lnTo>
                  <a:lnTo>
                    <a:pt x="186" y="830"/>
                  </a:lnTo>
                  <a:lnTo>
                    <a:pt x="118" y="974"/>
                  </a:lnTo>
                  <a:lnTo>
                    <a:pt x="66" y="1120"/>
                  </a:lnTo>
                  <a:lnTo>
                    <a:pt x="29" y="1269"/>
                  </a:lnTo>
                  <a:lnTo>
                    <a:pt x="7" y="1421"/>
                  </a:lnTo>
                  <a:lnTo>
                    <a:pt x="0" y="1572"/>
                  </a:lnTo>
                  <a:lnTo>
                    <a:pt x="7" y="1723"/>
                  </a:lnTo>
                  <a:lnTo>
                    <a:pt x="29" y="1873"/>
                  </a:lnTo>
                  <a:lnTo>
                    <a:pt x="65" y="2020"/>
                  </a:lnTo>
                  <a:lnTo>
                    <a:pt x="114" y="2162"/>
                  </a:lnTo>
                  <a:lnTo>
                    <a:pt x="178" y="2300"/>
                  </a:lnTo>
                  <a:lnTo>
                    <a:pt x="254" y="2432"/>
                  </a:lnTo>
                  <a:lnTo>
                    <a:pt x="345" y="2558"/>
                  </a:lnTo>
                  <a:lnTo>
                    <a:pt x="448" y="2674"/>
                  </a:lnTo>
                  <a:lnTo>
                    <a:pt x="564" y="2781"/>
                  </a:lnTo>
                  <a:lnTo>
                    <a:pt x="693" y="2879"/>
                  </a:lnTo>
                  <a:close/>
                </a:path>
              </a:pathLst>
            </a:custGeom>
            <a:solidFill>
              <a:srgbClr val="9ac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9321480" y="156960"/>
              <a:ext cx="231480" cy="228600"/>
            </a:xfrm>
            <a:custGeom>
              <a:avLst/>
              <a:gdLst/>
              <a:ahLst/>
              <a:rect l="l" t="t" r="r" b="b"/>
              <a:pathLst>
                <a:path w="2987" h="2987">
                  <a:moveTo>
                    <a:pt x="657" y="2731"/>
                  </a:moveTo>
                  <a:lnTo>
                    <a:pt x="788" y="2810"/>
                  </a:lnTo>
                  <a:lnTo>
                    <a:pt x="923" y="2874"/>
                  </a:lnTo>
                  <a:lnTo>
                    <a:pt x="1062" y="2923"/>
                  </a:lnTo>
                  <a:lnTo>
                    <a:pt x="1205" y="2958"/>
                  </a:lnTo>
                  <a:lnTo>
                    <a:pt x="1348" y="2980"/>
                  </a:lnTo>
                  <a:lnTo>
                    <a:pt x="1492" y="2987"/>
                  </a:lnTo>
                  <a:lnTo>
                    <a:pt x="1635" y="2980"/>
                  </a:lnTo>
                  <a:lnTo>
                    <a:pt x="1777" y="2960"/>
                  </a:lnTo>
                  <a:lnTo>
                    <a:pt x="1916" y="2926"/>
                  </a:lnTo>
                  <a:lnTo>
                    <a:pt x="2052" y="2879"/>
                  </a:lnTo>
                  <a:lnTo>
                    <a:pt x="2183" y="2818"/>
                  </a:lnTo>
                  <a:lnTo>
                    <a:pt x="2308" y="2745"/>
                  </a:lnTo>
                  <a:lnTo>
                    <a:pt x="2426" y="2660"/>
                  </a:lnTo>
                  <a:lnTo>
                    <a:pt x="2537" y="2562"/>
                  </a:lnTo>
                  <a:lnTo>
                    <a:pt x="2639" y="2451"/>
                  </a:lnTo>
                  <a:lnTo>
                    <a:pt x="2731" y="2330"/>
                  </a:lnTo>
                  <a:lnTo>
                    <a:pt x="2810" y="2198"/>
                  </a:lnTo>
                  <a:lnTo>
                    <a:pt x="2874" y="2063"/>
                  </a:lnTo>
                  <a:lnTo>
                    <a:pt x="2924" y="1924"/>
                  </a:lnTo>
                  <a:lnTo>
                    <a:pt x="2959" y="1782"/>
                  </a:lnTo>
                  <a:lnTo>
                    <a:pt x="2980" y="1638"/>
                  </a:lnTo>
                  <a:lnTo>
                    <a:pt x="2987" y="1495"/>
                  </a:lnTo>
                  <a:lnTo>
                    <a:pt x="2980" y="1351"/>
                  </a:lnTo>
                  <a:lnTo>
                    <a:pt x="2960" y="1210"/>
                  </a:lnTo>
                  <a:lnTo>
                    <a:pt x="2926" y="1070"/>
                  </a:lnTo>
                  <a:lnTo>
                    <a:pt x="2879" y="934"/>
                  </a:lnTo>
                  <a:lnTo>
                    <a:pt x="2819" y="804"/>
                  </a:lnTo>
                  <a:lnTo>
                    <a:pt x="2746" y="678"/>
                  </a:lnTo>
                  <a:lnTo>
                    <a:pt x="2660" y="560"/>
                  </a:lnTo>
                  <a:lnTo>
                    <a:pt x="2562" y="450"/>
                  </a:lnTo>
                  <a:lnTo>
                    <a:pt x="2452" y="348"/>
                  </a:lnTo>
                  <a:lnTo>
                    <a:pt x="2331" y="256"/>
                  </a:lnTo>
                  <a:lnTo>
                    <a:pt x="2199" y="176"/>
                  </a:lnTo>
                  <a:lnTo>
                    <a:pt x="2064" y="113"/>
                  </a:lnTo>
                  <a:lnTo>
                    <a:pt x="1924" y="63"/>
                  </a:lnTo>
                  <a:lnTo>
                    <a:pt x="1782" y="28"/>
                  </a:lnTo>
                  <a:lnTo>
                    <a:pt x="1639" y="6"/>
                  </a:lnTo>
                  <a:lnTo>
                    <a:pt x="1495" y="0"/>
                  </a:lnTo>
                  <a:lnTo>
                    <a:pt x="1351" y="6"/>
                  </a:lnTo>
                  <a:lnTo>
                    <a:pt x="1210" y="26"/>
                  </a:lnTo>
                  <a:lnTo>
                    <a:pt x="1071" y="61"/>
                  </a:lnTo>
                  <a:lnTo>
                    <a:pt x="935" y="107"/>
                  </a:lnTo>
                  <a:lnTo>
                    <a:pt x="804" y="168"/>
                  </a:lnTo>
                  <a:lnTo>
                    <a:pt x="679" y="240"/>
                  </a:lnTo>
                  <a:lnTo>
                    <a:pt x="561" y="326"/>
                  </a:lnTo>
                  <a:lnTo>
                    <a:pt x="450" y="424"/>
                  </a:lnTo>
                  <a:lnTo>
                    <a:pt x="348" y="535"/>
                  </a:lnTo>
                  <a:lnTo>
                    <a:pt x="256" y="657"/>
                  </a:lnTo>
                  <a:lnTo>
                    <a:pt x="177" y="788"/>
                  </a:lnTo>
                  <a:lnTo>
                    <a:pt x="113" y="923"/>
                  </a:lnTo>
                  <a:lnTo>
                    <a:pt x="63" y="1062"/>
                  </a:lnTo>
                  <a:lnTo>
                    <a:pt x="28" y="1203"/>
                  </a:lnTo>
                  <a:lnTo>
                    <a:pt x="7" y="1347"/>
                  </a:lnTo>
                  <a:lnTo>
                    <a:pt x="0" y="1491"/>
                  </a:lnTo>
                  <a:lnTo>
                    <a:pt x="7" y="1635"/>
                  </a:lnTo>
                  <a:lnTo>
                    <a:pt x="28" y="1776"/>
                  </a:lnTo>
                  <a:lnTo>
                    <a:pt x="61" y="1916"/>
                  </a:lnTo>
                  <a:lnTo>
                    <a:pt x="109" y="2052"/>
                  </a:lnTo>
                  <a:lnTo>
                    <a:pt x="168" y="2182"/>
                  </a:lnTo>
                  <a:lnTo>
                    <a:pt x="242" y="2308"/>
                  </a:lnTo>
                  <a:lnTo>
                    <a:pt x="327" y="2426"/>
                  </a:lnTo>
                  <a:lnTo>
                    <a:pt x="424" y="2536"/>
                  </a:lnTo>
                  <a:lnTo>
                    <a:pt x="535" y="2638"/>
                  </a:lnTo>
                  <a:lnTo>
                    <a:pt x="657" y="2731"/>
                  </a:lnTo>
                  <a:close/>
                </a:path>
              </a:pathLst>
            </a:custGeom>
            <a:solidFill>
              <a:srgbClr val="9dc3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9330480" y="158760"/>
              <a:ext cx="218520" cy="216360"/>
            </a:xfrm>
            <a:custGeom>
              <a:avLst/>
              <a:gdLst/>
              <a:ahLst/>
              <a:rect l="l" t="t" r="r" b="b"/>
              <a:pathLst>
                <a:path w="2826" h="2827">
                  <a:moveTo>
                    <a:pt x="622" y="2584"/>
                  </a:moveTo>
                  <a:lnTo>
                    <a:pt x="746" y="2659"/>
                  </a:lnTo>
                  <a:lnTo>
                    <a:pt x="874" y="2719"/>
                  </a:lnTo>
                  <a:lnTo>
                    <a:pt x="1005" y="2767"/>
                  </a:lnTo>
                  <a:lnTo>
                    <a:pt x="1140" y="2800"/>
                  </a:lnTo>
                  <a:lnTo>
                    <a:pt x="1275" y="2820"/>
                  </a:lnTo>
                  <a:lnTo>
                    <a:pt x="1411" y="2827"/>
                  </a:lnTo>
                  <a:lnTo>
                    <a:pt x="1547" y="2820"/>
                  </a:lnTo>
                  <a:lnTo>
                    <a:pt x="1681" y="2801"/>
                  </a:lnTo>
                  <a:lnTo>
                    <a:pt x="1813" y="2768"/>
                  </a:lnTo>
                  <a:lnTo>
                    <a:pt x="1942" y="2723"/>
                  </a:lnTo>
                  <a:lnTo>
                    <a:pt x="2066" y="2667"/>
                  </a:lnTo>
                  <a:lnTo>
                    <a:pt x="2184" y="2598"/>
                  </a:lnTo>
                  <a:lnTo>
                    <a:pt x="2297" y="2517"/>
                  </a:lnTo>
                  <a:lnTo>
                    <a:pt x="2401" y="2424"/>
                  </a:lnTo>
                  <a:lnTo>
                    <a:pt x="2498" y="2319"/>
                  </a:lnTo>
                  <a:lnTo>
                    <a:pt x="2585" y="2205"/>
                  </a:lnTo>
                  <a:lnTo>
                    <a:pt x="2659" y="2080"/>
                  </a:lnTo>
                  <a:lnTo>
                    <a:pt x="2720" y="1952"/>
                  </a:lnTo>
                  <a:lnTo>
                    <a:pt x="2767" y="1821"/>
                  </a:lnTo>
                  <a:lnTo>
                    <a:pt x="2801" y="1686"/>
                  </a:lnTo>
                  <a:lnTo>
                    <a:pt x="2820" y="1551"/>
                  </a:lnTo>
                  <a:lnTo>
                    <a:pt x="2826" y="1415"/>
                  </a:lnTo>
                  <a:lnTo>
                    <a:pt x="2820" y="1279"/>
                  </a:lnTo>
                  <a:lnTo>
                    <a:pt x="2801" y="1145"/>
                  </a:lnTo>
                  <a:lnTo>
                    <a:pt x="2769" y="1013"/>
                  </a:lnTo>
                  <a:lnTo>
                    <a:pt x="2724" y="884"/>
                  </a:lnTo>
                  <a:lnTo>
                    <a:pt x="2667" y="760"/>
                  </a:lnTo>
                  <a:lnTo>
                    <a:pt x="2599" y="642"/>
                  </a:lnTo>
                  <a:lnTo>
                    <a:pt x="2517" y="529"/>
                  </a:lnTo>
                  <a:lnTo>
                    <a:pt x="2424" y="425"/>
                  </a:lnTo>
                  <a:lnTo>
                    <a:pt x="2320" y="328"/>
                  </a:lnTo>
                  <a:lnTo>
                    <a:pt x="2205" y="242"/>
                  </a:lnTo>
                  <a:lnTo>
                    <a:pt x="2081" y="167"/>
                  </a:lnTo>
                  <a:lnTo>
                    <a:pt x="1952" y="106"/>
                  </a:lnTo>
                  <a:lnTo>
                    <a:pt x="1822" y="59"/>
                  </a:lnTo>
                  <a:lnTo>
                    <a:pt x="1687" y="25"/>
                  </a:lnTo>
                  <a:lnTo>
                    <a:pt x="1552" y="6"/>
                  </a:lnTo>
                  <a:lnTo>
                    <a:pt x="1415" y="0"/>
                  </a:lnTo>
                  <a:lnTo>
                    <a:pt x="1279" y="6"/>
                  </a:lnTo>
                  <a:lnTo>
                    <a:pt x="1145" y="25"/>
                  </a:lnTo>
                  <a:lnTo>
                    <a:pt x="1014" y="57"/>
                  </a:lnTo>
                  <a:lnTo>
                    <a:pt x="885" y="102"/>
                  </a:lnTo>
                  <a:lnTo>
                    <a:pt x="761" y="159"/>
                  </a:lnTo>
                  <a:lnTo>
                    <a:pt x="643" y="227"/>
                  </a:lnTo>
                  <a:lnTo>
                    <a:pt x="530" y="309"/>
                  </a:lnTo>
                  <a:lnTo>
                    <a:pt x="426" y="402"/>
                  </a:lnTo>
                  <a:lnTo>
                    <a:pt x="329" y="506"/>
                  </a:lnTo>
                  <a:lnTo>
                    <a:pt x="243" y="622"/>
                  </a:lnTo>
                  <a:lnTo>
                    <a:pt x="167" y="745"/>
                  </a:lnTo>
                  <a:lnTo>
                    <a:pt x="107" y="874"/>
                  </a:lnTo>
                  <a:lnTo>
                    <a:pt x="60" y="1004"/>
                  </a:lnTo>
                  <a:lnTo>
                    <a:pt x="26" y="1139"/>
                  </a:lnTo>
                  <a:lnTo>
                    <a:pt x="7" y="1274"/>
                  </a:lnTo>
                  <a:lnTo>
                    <a:pt x="0" y="1411"/>
                  </a:lnTo>
                  <a:lnTo>
                    <a:pt x="7" y="1547"/>
                  </a:lnTo>
                  <a:lnTo>
                    <a:pt x="26" y="1681"/>
                  </a:lnTo>
                  <a:lnTo>
                    <a:pt x="58" y="1812"/>
                  </a:lnTo>
                  <a:lnTo>
                    <a:pt x="103" y="1941"/>
                  </a:lnTo>
                  <a:lnTo>
                    <a:pt x="160" y="2065"/>
                  </a:lnTo>
                  <a:lnTo>
                    <a:pt x="228" y="2183"/>
                  </a:lnTo>
                  <a:lnTo>
                    <a:pt x="310" y="2296"/>
                  </a:lnTo>
                  <a:lnTo>
                    <a:pt x="402" y="2400"/>
                  </a:lnTo>
                  <a:lnTo>
                    <a:pt x="506" y="2497"/>
                  </a:lnTo>
                  <a:lnTo>
                    <a:pt x="622" y="2584"/>
                  </a:lnTo>
                  <a:close/>
                </a:path>
              </a:pathLst>
            </a:custGeom>
            <a:solidFill>
              <a:srgbClr val="a0c7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9339840" y="161280"/>
              <a:ext cx="206280" cy="203760"/>
            </a:xfrm>
            <a:custGeom>
              <a:avLst/>
              <a:gdLst/>
              <a:ahLst/>
              <a:rect l="l" t="t" r="r" b="b"/>
              <a:pathLst>
                <a:path w="2666" h="2665">
                  <a:moveTo>
                    <a:pt x="586" y="2437"/>
                  </a:moveTo>
                  <a:lnTo>
                    <a:pt x="702" y="2507"/>
                  </a:lnTo>
                  <a:lnTo>
                    <a:pt x="823" y="2565"/>
                  </a:lnTo>
                  <a:lnTo>
                    <a:pt x="948" y="2608"/>
                  </a:lnTo>
                  <a:lnTo>
                    <a:pt x="1074" y="2640"/>
                  </a:lnTo>
                  <a:lnTo>
                    <a:pt x="1203" y="2658"/>
                  </a:lnTo>
                  <a:lnTo>
                    <a:pt x="1332" y="2665"/>
                  </a:lnTo>
                  <a:lnTo>
                    <a:pt x="1459" y="2660"/>
                  </a:lnTo>
                  <a:lnTo>
                    <a:pt x="1586" y="2640"/>
                  </a:lnTo>
                  <a:lnTo>
                    <a:pt x="1710" y="2611"/>
                  </a:lnTo>
                  <a:lnTo>
                    <a:pt x="1831" y="2568"/>
                  </a:lnTo>
                  <a:lnTo>
                    <a:pt x="1948" y="2515"/>
                  </a:lnTo>
                  <a:lnTo>
                    <a:pt x="2060" y="2450"/>
                  </a:lnTo>
                  <a:lnTo>
                    <a:pt x="2166" y="2374"/>
                  </a:lnTo>
                  <a:lnTo>
                    <a:pt x="2265" y="2286"/>
                  </a:lnTo>
                  <a:lnTo>
                    <a:pt x="2355" y="2188"/>
                  </a:lnTo>
                  <a:lnTo>
                    <a:pt x="2438" y="2079"/>
                  </a:lnTo>
                  <a:lnTo>
                    <a:pt x="2509" y="1962"/>
                  </a:lnTo>
                  <a:lnTo>
                    <a:pt x="2566" y="1841"/>
                  </a:lnTo>
                  <a:lnTo>
                    <a:pt x="2610" y="1717"/>
                  </a:lnTo>
                  <a:lnTo>
                    <a:pt x="2641" y="1590"/>
                  </a:lnTo>
                  <a:lnTo>
                    <a:pt x="2659" y="1462"/>
                  </a:lnTo>
                  <a:lnTo>
                    <a:pt x="2666" y="1334"/>
                  </a:lnTo>
                  <a:lnTo>
                    <a:pt x="2659" y="1206"/>
                  </a:lnTo>
                  <a:lnTo>
                    <a:pt x="2641" y="1080"/>
                  </a:lnTo>
                  <a:lnTo>
                    <a:pt x="2612" y="955"/>
                  </a:lnTo>
                  <a:lnTo>
                    <a:pt x="2569" y="834"/>
                  </a:lnTo>
                  <a:lnTo>
                    <a:pt x="2516" y="717"/>
                  </a:lnTo>
                  <a:lnTo>
                    <a:pt x="2450" y="606"/>
                  </a:lnTo>
                  <a:lnTo>
                    <a:pt x="2375" y="500"/>
                  </a:lnTo>
                  <a:lnTo>
                    <a:pt x="2286" y="402"/>
                  </a:lnTo>
                  <a:lnTo>
                    <a:pt x="2189" y="311"/>
                  </a:lnTo>
                  <a:lnTo>
                    <a:pt x="2080" y="229"/>
                  </a:lnTo>
                  <a:lnTo>
                    <a:pt x="1963" y="158"/>
                  </a:lnTo>
                  <a:lnTo>
                    <a:pt x="1842" y="101"/>
                  </a:lnTo>
                  <a:lnTo>
                    <a:pt x="1718" y="56"/>
                  </a:lnTo>
                  <a:lnTo>
                    <a:pt x="1591" y="25"/>
                  </a:lnTo>
                  <a:lnTo>
                    <a:pt x="1462" y="6"/>
                  </a:lnTo>
                  <a:lnTo>
                    <a:pt x="1334" y="0"/>
                  </a:lnTo>
                  <a:lnTo>
                    <a:pt x="1206" y="6"/>
                  </a:lnTo>
                  <a:lnTo>
                    <a:pt x="1080" y="24"/>
                  </a:lnTo>
                  <a:lnTo>
                    <a:pt x="955" y="54"/>
                  </a:lnTo>
                  <a:lnTo>
                    <a:pt x="834" y="96"/>
                  </a:lnTo>
                  <a:lnTo>
                    <a:pt x="717" y="150"/>
                  </a:lnTo>
                  <a:lnTo>
                    <a:pt x="606" y="214"/>
                  </a:lnTo>
                  <a:lnTo>
                    <a:pt x="500" y="291"/>
                  </a:lnTo>
                  <a:lnTo>
                    <a:pt x="401" y="378"/>
                  </a:lnTo>
                  <a:lnTo>
                    <a:pt x="311" y="477"/>
                  </a:lnTo>
                  <a:lnTo>
                    <a:pt x="229" y="587"/>
                  </a:lnTo>
                  <a:lnTo>
                    <a:pt x="158" y="702"/>
                  </a:lnTo>
                  <a:lnTo>
                    <a:pt x="101" y="824"/>
                  </a:lnTo>
                  <a:lnTo>
                    <a:pt x="56" y="948"/>
                  </a:lnTo>
                  <a:lnTo>
                    <a:pt x="25" y="1074"/>
                  </a:lnTo>
                  <a:lnTo>
                    <a:pt x="6" y="1202"/>
                  </a:lnTo>
                  <a:lnTo>
                    <a:pt x="0" y="1331"/>
                  </a:lnTo>
                  <a:lnTo>
                    <a:pt x="6" y="1458"/>
                  </a:lnTo>
                  <a:lnTo>
                    <a:pt x="24" y="1585"/>
                  </a:lnTo>
                  <a:lnTo>
                    <a:pt x="55" y="1709"/>
                  </a:lnTo>
                  <a:lnTo>
                    <a:pt x="96" y="1830"/>
                  </a:lnTo>
                  <a:lnTo>
                    <a:pt x="151" y="1947"/>
                  </a:lnTo>
                  <a:lnTo>
                    <a:pt x="215" y="2059"/>
                  </a:lnTo>
                  <a:lnTo>
                    <a:pt x="291" y="2165"/>
                  </a:lnTo>
                  <a:lnTo>
                    <a:pt x="379" y="2264"/>
                  </a:lnTo>
                  <a:lnTo>
                    <a:pt x="477" y="2354"/>
                  </a:lnTo>
                  <a:lnTo>
                    <a:pt x="586" y="2437"/>
                  </a:lnTo>
                  <a:close/>
                </a:path>
              </a:pathLst>
            </a:custGeom>
            <a:solidFill>
              <a:srgbClr val="a3c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9349200" y="164160"/>
              <a:ext cx="194400" cy="190800"/>
            </a:xfrm>
            <a:custGeom>
              <a:avLst/>
              <a:gdLst/>
              <a:ahLst/>
              <a:rect l="l" t="t" r="r" b="b"/>
              <a:pathLst>
                <a:path w="2504" h="2504">
                  <a:moveTo>
                    <a:pt x="552" y="2289"/>
                  </a:moveTo>
                  <a:lnTo>
                    <a:pt x="661" y="2355"/>
                  </a:lnTo>
                  <a:lnTo>
                    <a:pt x="775" y="2410"/>
                  </a:lnTo>
                  <a:lnTo>
                    <a:pt x="891" y="2451"/>
                  </a:lnTo>
                  <a:lnTo>
                    <a:pt x="1010" y="2481"/>
                  </a:lnTo>
                  <a:lnTo>
                    <a:pt x="1130" y="2499"/>
                  </a:lnTo>
                  <a:lnTo>
                    <a:pt x="1251" y="2504"/>
                  </a:lnTo>
                  <a:lnTo>
                    <a:pt x="1371" y="2499"/>
                  </a:lnTo>
                  <a:lnTo>
                    <a:pt x="1490" y="2482"/>
                  </a:lnTo>
                  <a:lnTo>
                    <a:pt x="1607" y="2453"/>
                  </a:lnTo>
                  <a:lnTo>
                    <a:pt x="1721" y="2414"/>
                  </a:lnTo>
                  <a:lnTo>
                    <a:pt x="1830" y="2364"/>
                  </a:lnTo>
                  <a:lnTo>
                    <a:pt x="1936" y="2302"/>
                  </a:lnTo>
                  <a:lnTo>
                    <a:pt x="2035" y="2231"/>
                  </a:lnTo>
                  <a:lnTo>
                    <a:pt x="2127" y="2149"/>
                  </a:lnTo>
                  <a:lnTo>
                    <a:pt x="2212" y="2057"/>
                  </a:lnTo>
                  <a:lnTo>
                    <a:pt x="2290" y="1955"/>
                  </a:lnTo>
                  <a:lnTo>
                    <a:pt x="2356" y="1844"/>
                  </a:lnTo>
                  <a:lnTo>
                    <a:pt x="2410" y="1730"/>
                  </a:lnTo>
                  <a:lnTo>
                    <a:pt x="2451" y="1613"/>
                  </a:lnTo>
                  <a:lnTo>
                    <a:pt x="2481" y="1495"/>
                  </a:lnTo>
                  <a:lnTo>
                    <a:pt x="2499" y="1374"/>
                  </a:lnTo>
                  <a:lnTo>
                    <a:pt x="2504" y="1254"/>
                  </a:lnTo>
                  <a:lnTo>
                    <a:pt x="2499" y="1133"/>
                  </a:lnTo>
                  <a:lnTo>
                    <a:pt x="2482" y="1015"/>
                  </a:lnTo>
                  <a:lnTo>
                    <a:pt x="2453" y="898"/>
                  </a:lnTo>
                  <a:lnTo>
                    <a:pt x="2414" y="784"/>
                  </a:lnTo>
                  <a:lnTo>
                    <a:pt x="2364" y="674"/>
                  </a:lnTo>
                  <a:lnTo>
                    <a:pt x="2302" y="568"/>
                  </a:lnTo>
                  <a:lnTo>
                    <a:pt x="2231" y="469"/>
                  </a:lnTo>
                  <a:lnTo>
                    <a:pt x="2149" y="377"/>
                  </a:lnTo>
                  <a:lnTo>
                    <a:pt x="2057" y="292"/>
                  </a:lnTo>
                  <a:lnTo>
                    <a:pt x="1955" y="215"/>
                  </a:lnTo>
                  <a:lnTo>
                    <a:pt x="1844" y="148"/>
                  </a:lnTo>
                  <a:lnTo>
                    <a:pt x="1731" y="94"/>
                  </a:lnTo>
                  <a:lnTo>
                    <a:pt x="1615" y="53"/>
                  </a:lnTo>
                  <a:lnTo>
                    <a:pt x="1496" y="23"/>
                  </a:lnTo>
                  <a:lnTo>
                    <a:pt x="1375" y="5"/>
                  </a:lnTo>
                  <a:lnTo>
                    <a:pt x="1254" y="0"/>
                  </a:lnTo>
                  <a:lnTo>
                    <a:pt x="1134" y="5"/>
                  </a:lnTo>
                  <a:lnTo>
                    <a:pt x="1015" y="22"/>
                  </a:lnTo>
                  <a:lnTo>
                    <a:pt x="898" y="51"/>
                  </a:lnTo>
                  <a:lnTo>
                    <a:pt x="784" y="90"/>
                  </a:lnTo>
                  <a:lnTo>
                    <a:pt x="675" y="140"/>
                  </a:lnTo>
                  <a:lnTo>
                    <a:pt x="570" y="202"/>
                  </a:lnTo>
                  <a:lnTo>
                    <a:pt x="471" y="274"/>
                  </a:lnTo>
                  <a:lnTo>
                    <a:pt x="377" y="356"/>
                  </a:lnTo>
                  <a:lnTo>
                    <a:pt x="292" y="448"/>
                  </a:lnTo>
                  <a:lnTo>
                    <a:pt x="216" y="551"/>
                  </a:lnTo>
                  <a:lnTo>
                    <a:pt x="149" y="661"/>
                  </a:lnTo>
                  <a:lnTo>
                    <a:pt x="94" y="775"/>
                  </a:lnTo>
                  <a:lnTo>
                    <a:pt x="53" y="890"/>
                  </a:lnTo>
                  <a:lnTo>
                    <a:pt x="23" y="1010"/>
                  </a:lnTo>
                  <a:lnTo>
                    <a:pt x="5" y="1130"/>
                  </a:lnTo>
                  <a:lnTo>
                    <a:pt x="0" y="1251"/>
                  </a:lnTo>
                  <a:lnTo>
                    <a:pt x="5" y="1371"/>
                  </a:lnTo>
                  <a:lnTo>
                    <a:pt x="22" y="1490"/>
                  </a:lnTo>
                  <a:lnTo>
                    <a:pt x="51" y="1607"/>
                  </a:lnTo>
                  <a:lnTo>
                    <a:pt x="90" y="1721"/>
                  </a:lnTo>
                  <a:lnTo>
                    <a:pt x="140" y="1830"/>
                  </a:lnTo>
                  <a:lnTo>
                    <a:pt x="202" y="1935"/>
                  </a:lnTo>
                  <a:lnTo>
                    <a:pt x="274" y="2034"/>
                  </a:lnTo>
                  <a:lnTo>
                    <a:pt x="356" y="2127"/>
                  </a:lnTo>
                  <a:lnTo>
                    <a:pt x="448" y="2212"/>
                  </a:lnTo>
                  <a:lnTo>
                    <a:pt x="552" y="2289"/>
                  </a:lnTo>
                  <a:close/>
                </a:path>
              </a:pathLst>
            </a:custGeom>
            <a:solidFill>
              <a:srgbClr val="a6c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358560" y="165960"/>
              <a:ext cx="181080" cy="179640"/>
            </a:xfrm>
            <a:custGeom>
              <a:avLst/>
              <a:gdLst/>
              <a:ahLst/>
              <a:rect l="l" t="t" r="r" b="b"/>
              <a:pathLst>
                <a:path w="2344" h="2346">
                  <a:moveTo>
                    <a:pt x="517" y="2145"/>
                  </a:moveTo>
                  <a:lnTo>
                    <a:pt x="619" y="2206"/>
                  </a:lnTo>
                  <a:lnTo>
                    <a:pt x="725" y="2256"/>
                  </a:lnTo>
                  <a:lnTo>
                    <a:pt x="835" y="2296"/>
                  </a:lnTo>
                  <a:lnTo>
                    <a:pt x="946" y="2323"/>
                  </a:lnTo>
                  <a:lnTo>
                    <a:pt x="1059" y="2340"/>
                  </a:lnTo>
                  <a:lnTo>
                    <a:pt x="1172" y="2346"/>
                  </a:lnTo>
                  <a:lnTo>
                    <a:pt x="1284" y="2340"/>
                  </a:lnTo>
                  <a:lnTo>
                    <a:pt x="1395" y="2324"/>
                  </a:lnTo>
                  <a:lnTo>
                    <a:pt x="1504" y="2298"/>
                  </a:lnTo>
                  <a:lnTo>
                    <a:pt x="1611" y="2261"/>
                  </a:lnTo>
                  <a:lnTo>
                    <a:pt x="1714" y="2214"/>
                  </a:lnTo>
                  <a:lnTo>
                    <a:pt x="1812" y="2156"/>
                  </a:lnTo>
                  <a:lnTo>
                    <a:pt x="1904" y="2089"/>
                  </a:lnTo>
                  <a:lnTo>
                    <a:pt x="1991" y="2012"/>
                  </a:lnTo>
                  <a:lnTo>
                    <a:pt x="2071" y="1926"/>
                  </a:lnTo>
                  <a:lnTo>
                    <a:pt x="2143" y="1830"/>
                  </a:lnTo>
                  <a:lnTo>
                    <a:pt x="2205" y="1727"/>
                  </a:lnTo>
                  <a:lnTo>
                    <a:pt x="2256" y="1621"/>
                  </a:lnTo>
                  <a:lnTo>
                    <a:pt x="2294" y="1511"/>
                  </a:lnTo>
                  <a:lnTo>
                    <a:pt x="2323" y="1399"/>
                  </a:lnTo>
                  <a:lnTo>
                    <a:pt x="2339" y="1288"/>
                  </a:lnTo>
                  <a:lnTo>
                    <a:pt x="2344" y="1174"/>
                  </a:lnTo>
                  <a:lnTo>
                    <a:pt x="2339" y="1061"/>
                  </a:lnTo>
                  <a:lnTo>
                    <a:pt x="2323" y="951"/>
                  </a:lnTo>
                  <a:lnTo>
                    <a:pt x="2296" y="841"/>
                  </a:lnTo>
                  <a:lnTo>
                    <a:pt x="2260" y="734"/>
                  </a:lnTo>
                  <a:lnTo>
                    <a:pt x="2212" y="632"/>
                  </a:lnTo>
                  <a:lnTo>
                    <a:pt x="2155" y="533"/>
                  </a:lnTo>
                  <a:lnTo>
                    <a:pt x="2088" y="441"/>
                  </a:lnTo>
                  <a:lnTo>
                    <a:pt x="2011" y="353"/>
                  </a:lnTo>
                  <a:lnTo>
                    <a:pt x="1925" y="274"/>
                  </a:lnTo>
                  <a:lnTo>
                    <a:pt x="1830" y="202"/>
                  </a:lnTo>
                  <a:lnTo>
                    <a:pt x="1726" y="140"/>
                  </a:lnTo>
                  <a:lnTo>
                    <a:pt x="1620" y="90"/>
                  </a:lnTo>
                  <a:lnTo>
                    <a:pt x="1511" y="50"/>
                  </a:lnTo>
                  <a:lnTo>
                    <a:pt x="1399" y="23"/>
                  </a:lnTo>
                  <a:lnTo>
                    <a:pt x="1286" y="6"/>
                  </a:lnTo>
                  <a:lnTo>
                    <a:pt x="1174" y="0"/>
                  </a:lnTo>
                  <a:lnTo>
                    <a:pt x="1061" y="6"/>
                  </a:lnTo>
                  <a:lnTo>
                    <a:pt x="950" y="22"/>
                  </a:lnTo>
                  <a:lnTo>
                    <a:pt x="841" y="48"/>
                  </a:lnTo>
                  <a:lnTo>
                    <a:pt x="735" y="86"/>
                  </a:lnTo>
                  <a:lnTo>
                    <a:pt x="631" y="132"/>
                  </a:lnTo>
                  <a:lnTo>
                    <a:pt x="534" y="190"/>
                  </a:lnTo>
                  <a:lnTo>
                    <a:pt x="440" y="257"/>
                  </a:lnTo>
                  <a:lnTo>
                    <a:pt x="353" y="333"/>
                  </a:lnTo>
                  <a:lnTo>
                    <a:pt x="273" y="419"/>
                  </a:lnTo>
                  <a:lnTo>
                    <a:pt x="202" y="516"/>
                  </a:lnTo>
                  <a:lnTo>
                    <a:pt x="139" y="618"/>
                  </a:lnTo>
                  <a:lnTo>
                    <a:pt x="88" y="724"/>
                  </a:lnTo>
                  <a:lnTo>
                    <a:pt x="50" y="834"/>
                  </a:lnTo>
                  <a:lnTo>
                    <a:pt x="21" y="946"/>
                  </a:lnTo>
                  <a:lnTo>
                    <a:pt x="5" y="1058"/>
                  </a:lnTo>
                  <a:lnTo>
                    <a:pt x="0" y="1171"/>
                  </a:lnTo>
                  <a:lnTo>
                    <a:pt x="5" y="1284"/>
                  </a:lnTo>
                  <a:lnTo>
                    <a:pt x="21" y="1395"/>
                  </a:lnTo>
                  <a:lnTo>
                    <a:pt x="48" y="1504"/>
                  </a:lnTo>
                  <a:lnTo>
                    <a:pt x="85" y="1611"/>
                  </a:lnTo>
                  <a:lnTo>
                    <a:pt x="132" y="1713"/>
                  </a:lnTo>
                  <a:lnTo>
                    <a:pt x="189" y="1812"/>
                  </a:lnTo>
                  <a:lnTo>
                    <a:pt x="256" y="1904"/>
                  </a:lnTo>
                  <a:lnTo>
                    <a:pt x="334" y="1992"/>
                  </a:lnTo>
                  <a:lnTo>
                    <a:pt x="420" y="2071"/>
                  </a:lnTo>
                  <a:lnTo>
                    <a:pt x="517" y="2145"/>
                  </a:lnTo>
                  <a:close/>
                </a:path>
              </a:pathLst>
            </a:custGeom>
            <a:solidFill>
              <a:srgbClr val="a9d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187560" y="904320"/>
              <a:ext cx="291960" cy="93600"/>
            </a:xfrm>
            <a:custGeom>
              <a:avLst/>
              <a:gdLst/>
              <a:ahLst/>
              <a:rect l="l" t="t" r="r" b="b"/>
              <a:pathLst>
                <a:path w="3769" h="1229">
                  <a:moveTo>
                    <a:pt x="0" y="1200"/>
                  </a:moveTo>
                  <a:lnTo>
                    <a:pt x="54" y="1219"/>
                  </a:lnTo>
                  <a:lnTo>
                    <a:pt x="143" y="1229"/>
                  </a:lnTo>
                  <a:lnTo>
                    <a:pt x="263" y="1228"/>
                  </a:lnTo>
                  <a:lnTo>
                    <a:pt x="413" y="1217"/>
                  </a:lnTo>
                  <a:lnTo>
                    <a:pt x="590" y="1194"/>
                  </a:lnTo>
                  <a:lnTo>
                    <a:pt x="793" y="1159"/>
                  </a:lnTo>
                  <a:lnTo>
                    <a:pt x="1021" y="1112"/>
                  </a:lnTo>
                  <a:lnTo>
                    <a:pt x="1268" y="1050"/>
                  </a:lnTo>
                  <a:lnTo>
                    <a:pt x="1535" y="975"/>
                  </a:lnTo>
                  <a:lnTo>
                    <a:pt x="1819" y="885"/>
                  </a:lnTo>
                  <a:lnTo>
                    <a:pt x="2119" y="780"/>
                  </a:lnTo>
                  <a:lnTo>
                    <a:pt x="2430" y="659"/>
                  </a:lnTo>
                  <a:lnTo>
                    <a:pt x="2755" y="521"/>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186480" y="994680"/>
              <a:ext cx="1800" cy="324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9478440" y="902880"/>
              <a:ext cx="1800" cy="3240"/>
            </a:xfrm>
            <a:custGeom>
              <a:avLst/>
              <a:gdLst/>
              <a:ahLst/>
              <a:rect l="l" t="t" r="r" b="b"/>
              <a:pathLst>
                <a:path w="24" h="40">
                  <a:moveTo>
                    <a:pt x="0" y="0"/>
                  </a:moveTo>
                  <a:lnTo>
                    <a:pt x="24"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9479520" y="697680"/>
              <a:ext cx="225000" cy="206280"/>
            </a:xfrm>
            <a:custGeom>
              <a:avLst/>
              <a:gdLst/>
              <a:ahLst/>
              <a:rect l="l" t="t" r="r" b="b"/>
              <a:pathLst>
                <a:path w="2896" h="2695">
                  <a:moveTo>
                    <a:pt x="0" y="2695"/>
                  </a:moveTo>
                  <a:lnTo>
                    <a:pt x="335" y="2490"/>
                  </a:lnTo>
                  <a:lnTo>
                    <a:pt x="649" y="2280"/>
                  </a:lnTo>
                  <a:lnTo>
                    <a:pt x="944" y="2069"/>
                  </a:lnTo>
                  <a:lnTo>
                    <a:pt x="1217" y="1856"/>
                  </a:lnTo>
                  <a:lnTo>
                    <a:pt x="1470" y="1646"/>
                  </a:lnTo>
                  <a:lnTo>
                    <a:pt x="1703" y="1438"/>
                  </a:lnTo>
                  <a:lnTo>
                    <a:pt x="1916" y="1236"/>
                  </a:lnTo>
                  <a:lnTo>
                    <a:pt x="2107" y="1042"/>
                  </a:lnTo>
                  <a:lnTo>
                    <a:pt x="2277" y="857"/>
                  </a:lnTo>
                  <a:lnTo>
                    <a:pt x="2428" y="683"/>
                  </a:lnTo>
                  <a:lnTo>
                    <a:pt x="2558" y="524"/>
                  </a:lnTo>
                  <a:lnTo>
                    <a:pt x="2666" y="379"/>
                  </a:lnTo>
                  <a:lnTo>
                    <a:pt x="2754" y="253"/>
                  </a:lnTo>
                  <a:lnTo>
                    <a:pt x="2822" y="147"/>
                  </a:lnTo>
                  <a:lnTo>
                    <a:pt x="2869" y="60"/>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9478440" y="902880"/>
              <a:ext cx="1800" cy="3240"/>
            </a:xfrm>
            <a:custGeom>
              <a:avLst/>
              <a:gdLst/>
              <a:ahLst/>
              <a:rect l="l" t="t" r="r" b="b"/>
              <a:pathLst>
                <a:path w="24" h="40">
                  <a:moveTo>
                    <a:pt x="24" y="40"/>
                  </a:moveTo>
                  <a:lnTo>
                    <a:pt x="0" y="0"/>
                  </a:lnTo>
                  <a:lnTo>
                    <a:pt x="24" y="4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9702720" y="697680"/>
              <a:ext cx="3600" cy="720"/>
            </a:xfrm>
            <a:custGeom>
              <a:avLst/>
              <a:gdLst/>
              <a:ahLst/>
              <a:rect l="l" t="t" r="r" b="b"/>
              <a:pathLst>
                <a:path w="45" h="12">
                  <a:moveTo>
                    <a:pt x="0" y="0"/>
                  </a:moveTo>
                  <a:lnTo>
                    <a:pt x="45" y="12"/>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6" name=""/>
            <p:cNvSpPr/>
            <p:nvPr/>
          </p:nvSpPr>
          <p:spPr>
            <a:xfrm>
              <a:off x="9495360" y="248760"/>
              <a:ext cx="252000" cy="684720"/>
            </a:xfrm>
            <a:custGeom>
              <a:avLst/>
              <a:gdLst/>
              <a:ahLst/>
              <a:rect l="l" t="t" r="r" b="b"/>
              <a:pathLst>
                <a:path w="3257" h="8952">
                  <a:moveTo>
                    <a:pt x="0" y="8952"/>
                  </a:moveTo>
                  <a:lnTo>
                    <a:pt x="561" y="8586"/>
                  </a:lnTo>
                  <a:lnTo>
                    <a:pt x="1073" y="8174"/>
                  </a:lnTo>
                  <a:lnTo>
                    <a:pt x="1535" y="7719"/>
                  </a:lnTo>
                  <a:lnTo>
                    <a:pt x="1945" y="7225"/>
                  </a:lnTo>
                  <a:lnTo>
                    <a:pt x="2301" y="6700"/>
                  </a:lnTo>
                  <a:lnTo>
                    <a:pt x="2603" y="6145"/>
                  </a:lnTo>
                  <a:lnTo>
                    <a:pt x="2850" y="5566"/>
                  </a:lnTo>
                  <a:lnTo>
                    <a:pt x="3040" y="4966"/>
                  </a:lnTo>
                  <a:lnTo>
                    <a:pt x="3172" y="4352"/>
                  </a:lnTo>
                  <a:lnTo>
                    <a:pt x="3244" y="3727"/>
                  </a:lnTo>
                  <a:lnTo>
                    <a:pt x="3257" y="3095"/>
                  </a:lnTo>
                  <a:lnTo>
                    <a:pt x="3207" y="2462"/>
                  </a:lnTo>
                  <a:lnTo>
                    <a:pt x="3095" y="1831"/>
                  </a:lnTo>
                  <a:lnTo>
                    <a:pt x="2920" y="1207"/>
                  </a:lnTo>
                  <a:lnTo>
                    <a:pt x="2679" y="595"/>
                  </a:lnTo>
                  <a:lnTo>
                    <a:pt x="2373" y="0"/>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9492480" y="932760"/>
              <a:ext cx="3240" cy="3600"/>
            </a:xfrm>
            <a:custGeom>
              <a:avLst/>
              <a:gdLst/>
              <a:ahLst/>
              <a:rect l="l" t="t" r="r" b="b"/>
              <a:pathLst>
                <a:path w="43" h="52">
                  <a:moveTo>
                    <a:pt x="43" y="40"/>
                  </a:moveTo>
                  <a:lnTo>
                    <a:pt x="23" y="52"/>
                  </a:lnTo>
                  <a:lnTo>
                    <a:pt x="0" y="11"/>
                  </a:lnTo>
                  <a:lnTo>
                    <a:pt x="20" y="0"/>
                  </a:lnTo>
                  <a:lnTo>
                    <a:pt x="43"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9676800" y="246960"/>
              <a:ext cx="3240" cy="2520"/>
            </a:xfrm>
            <a:custGeom>
              <a:avLst/>
              <a:gdLst/>
              <a:ahLst/>
              <a:rect l="l" t="t" r="r" b="b"/>
              <a:pathLst>
                <a:path w="52" h="43">
                  <a:moveTo>
                    <a:pt x="11" y="43"/>
                  </a:moveTo>
                  <a:lnTo>
                    <a:pt x="0" y="23"/>
                  </a:lnTo>
                  <a:lnTo>
                    <a:pt x="40" y="0"/>
                  </a:lnTo>
                  <a:lnTo>
                    <a:pt x="52" y="20"/>
                  </a:lnTo>
                  <a:lnTo>
                    <a:pt x="11" y="43"/>
                  </a:lnTo>
                  <a:close/>
                </a:path>
              </a:pathLst>
            </a:custGeom>
            <a:solidFill>
              <a:srgbClr val="1f61a9"/>
            </a:solidFill>
            <a:ln w="0">
              <a:solidFill>
                <a:srgbClr val="1f61a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9" name=""/>
            <p:cNvSpPr/>
            <p:nvPr/>
          </p:nvSpPr>
          <p:spPr>
            <a:xfrm>
              <a:off x="8985600" y="0"/>
              <a:ext cx="693720" cy="248760"/>
            </a:xfrm>
            <a:custGeom>
              <a:avLst/>
              <a:gdLst/>
              <a:ahLst/>
              <a:rect l="l" t="t" r="r" b="b"/>
              <a:pathLst>
                <a:path w="8954" h="3258">
                  <a:moveTo>
                    <a:pt x="8954" y="3258"/>
                  </a:moveTo>
                  <a:lnTo>
                    <a:pt x="8587" y="2695"/>
                  </a:lnTo>
                  <a:lnTo>
                    <a:pt x="8174" y="2183"/>
                  </a:lnTo>
                  <a:lnTo>
                    <a:pt x="7719" y="1721"/>
                  </a:lnTo>
                  <a:lnTo>
                    <a:pt x="7227" y="1311"/>
                  </a:lnTo>
                  <a:lnTo>
                    <a:pt x="6701" y="955"/>
                  </a:lnTo>
                  <a:lnTo>
                    <a:pt x="6146" y="653"/>
                  </a:lnTo>
                  <a:lnTo>
                    <a:pt x="5566" y="406"/>
                  </a:lnTo>
                  <a:lnTo>
                    <a:pt x="4968" y="217"/>
                  </a:lnTo>
                  <a:lnTo>
                    <a:pt x="4352" y="85"/>
                  </a:lnTo>
                  <a:lnTo>
                    <a:pt x="3727" y="12"/>
                  </a:lnTo>
                  <a:lnTo>
                    <a:pt x="3096" y="0"/>
                  </a:lnTo>
                  <a:lnTo>
                    <a:pt x="2462" y="49"/>
                  </a:lnTo>
                  <a:lnTo>
                    <a:pt x="1832" y="161"/>
                  </a:lnTo>
                  <a:lnTo>
                    <a:pt x="1208" y="337"/>
                  </a:lnTo>
                  <a:lnTo>
                    <a:pt x="595" y="578"/>
                  </a:lnTo>
                  <a:lnTo>
                    <a:pt x="0" y="886"/>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9677520" y="247680"/>
              <a:ext cx="3600" cy="3600"/>
            </a:xfrm>
            <a:custGeom>
              <a:avLst/>
              <a:gdLst/>
              <a:ahLst/>
              <a:rect l="l" t="t" r="r" b="b"/>
              <a:pathLst>
                <a:path w="52" h="43">
                  <a:moveTo>
                    <a:pt x="41" y="0"/>
                  </a:moveTo>
                  <a:lnTo>
                    <a:pt x="52" y="20"/>
                  </a:lnTo>
                  <a:lnTo>
                    <a:pt x="12" y="43"/>
                  </a:lnTo>
                  <a:lnTo>
                    <a:pt x="0" y="23"/>
                  </a:lnTo>
                  <a:lnTo>
                    <a:pt x="41" y="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1" name=""/>
            <p:cNvSpPr/>
            <p:nvPr/>
          </p:nvSpPr>
          <p:spPr>
            <a:xfrm>
              <a:off x="8982720" y="65880"/>
              <a:ext cx="3600" cy="3600"/>
            </a:xfrm>
            <a:custGeom>
              <a:avLst/>
              <a:gdLst/>
              <a:ahLst/>
              <a:rect l="l" t="t" r="r" b="b"/>
              <a:pathLst>
                <a:path w="44" h="52">
                  <a:moveTo>
                    <a:pt x="44" y="40"/>
                  </a:moveTo>
                  <a:lnTo>
                    <a:pt x="23" y="52"/>
                  </a:lnTo>
                  <a:lnTo>
                    <a:pt x="0" y="11"/>
                  </a:lnTo>
                  <a:lnTo>
                    <a:pt x="20" y="0"/>
                  </a:lnTo>
                  <a:lnTo>
                    <a:pt x="44"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2" name=""/>
            <p:cNvSpPr/>
            <p:nvPr/>
          </p:nvSpPr>
          <p:spPr>
            <a:xfrm>
              <a:off x="8732880" y="67680"/>
              <a:ext cx="252720" cy="685080"/>
            </a:xfrm>
            <a:custGeom>
              <a:avLst/>
              <a:gdLst/>
              <a:ahLst/>
              <a:rect l="l" t="t" r="r" b="b"/>
              <a:pathLst>
                <a:path w="3257" h="8952">
                  <a:moveTo>
                    <a:pt x="3257" y="0"/>
                  </a:moveTo>
                  <a:lnTo>
                    <a:pt x="2695" y="364"/>
                  </a:lnTo>
                  <a:lnTo>
                    <a:pt x="2182" y="777"/>
                  </a:lnTo>
                  <a:lnTo>
                    <a:pt x="1721" y="1232"/>
                  </a:lnTo>
                  <a:lnTo>
                    <a:pt x="1311" y="1725"/>
                  </a:lnTo>
                  <a:lnTo>
                    <a:pt x="954" y="2250"/>
                  </a:lnTo>
                  <a:lnTo>
                    <a:pt x="652" y="2805"/>
                  </a:lnTo>
                  <a:lnTo>
                    <a:pt x="406" y="3385"/>
                  </a:lnTo>
                  <a:lnTo>
                    <a:pt x="216" y="3984"/>
                  </a:lnTo>
                  <a:lnTo>
                    <a:pt x="85" y="4599"/>
                  </a:lnTo>
                  <a:lnTo>
                    <a:pt x="11" y="5224"/>
                  </a:lnTo>
                  <a:lnTo>
                    <a:pt x="0" y="5855"/>
                  </a:lnTo>
                  <a:lnTo>
                    <a:pt x="49" y="6489"/>
                  </a:lnTo>
                  <a:lnTo>
                    <a:pt x="160" y="7119"/>
                  </a:lnTo>
                  <a:lnTo>
                    <a:pt x="337" y="7743"/>
                  </a:lnTo>
                  <a:lnTo>
                    <a:pt x="577" y="8356"/>
                  </a:lnTo>
                  <a:lnTo>
                    <a:pt x="885" y="895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984880" y="65160"/>
              <a:ext cx="2520" cy="3600"/>
            </a:xfrm>
            <a:custGeom>
              <a:avLst/>
              <a:gdLst/>
              <a:ahLst/>
              <a:rect l="l" t="t" r="r" b="b"/>
              <a:pathLst>
                <a:path w="44" h="52">
                  <a:moveTo>
                    <a:pt x="0" y="12"/>
                  </a:moveTo>
                  <a:lnTo>
                    <a:pt x="20" y="0"/>
                  </a:lnTo>
                  <a:lnTo>
                    <a:pt x="44" y="40"/>
                  </a:lnTo>
                  <a:lnTo>
                    <a:pt x="24"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4" name=""/>
            <p:cNvSpPr/>
            <p:nvPr/>
          </p:nvSpPr>
          <p:spPr>
            <a:xfrm>
              <a:off x="8799480" y="752040"/>
              <a:ext cx="4320" cy="2880"/>
            </a:xfrm>
            <a:custGeom>
              <a:avLst/>
              <a:gdLst/>
              <a:ahLst/>
              <a:rect l="l" t="t" r="r" b="b"/>
              <a:pathLst>
                <a:path w="52" h="44">
                  <a:moveTo>
                    <a:pt x="40" y="0"/>
                  </a:moveTo>
                  <a:lnTo>
                    <a:pt x="52" y="21"/>
                  </a:lnTo>
                  <a:lnTo>
                    <a:pt x="12" y="44"/>
                  </a:lnTo>
                  <a:lnTo>
                    <a:pt x="0" y="24"/>
                  </a:lnTo>
                  <a:lnTo>
                    <a:pt x="40" y="0"/>
                  </a:lnTo>
                  <a:close/>
                </a:path>
              </a:pathLst>
            </a:custGeom>
            <a:solidFill>
              <a:srgbClr val="1f61a9"/>
            </a:solidFill>
            <a:ln w="0">
              <a:solidFill>
                <a:srgbClr val="1f61a9"/>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5" name=""/>
            <p:cNvSpPr/>
            <p:nvPr/>
          </p:nvSpPr>
          <p:spPr>
            <a:xfrm>
              <a:off x="8801280" y="753120"/>
              <a:ext cx="693720" cy="248760"/>
            </a:xfrm>
            <a:custGeom>
              <a:avLst/>
              <a:gdLst/>
              <a:ahLst/>
              <a:rect l="l" t="t" r="r" b="b"/>
              <a:pathLst>
                <a:path w="8953" h="3256">
                  <a:moveTo>
                    <a:pt x="0" y="0"/>
                  </a:moveTo>
                  <a:lnTo>
                    <a:pt x="365" y="561"/>
                  </a:lnTo>
                  <a:lnTo>
                    <a:pt x="777" y="1074"/>
                  </a:lnTo>
                  <a:lnTo>
                    <a:pt x="1232" y="1535"/>
                  </a:lnTo>
                  <a:lnTo>
                    <a:pt x="1726" y="1944"/>
                  </a:lnTo>
                  <a:lnTo>
                    <a:pt x="2251" y="2302"/>
                  </a:lnTo>
                  <a:lnTo>
                    <a:pt x="2806" y="2603"/>
                  </a:lnTo>
                  <a:lnTo>
                    <a:pt x="3385" y="2850"/>
                  </a:lnTo>
                  <a:lnTo>
                    <a:pt x="3985" y="3039"/>
                  </a:lnTo>
                  <a:lnTo>
                    <a:pt x="4599" y="3171"/>
                  </a:lnTo>
                  <a:lnTo>
                    <a:pt x="5224" y="3245"/>
                  </a:lnTo>
                  <a:lnTo>
                    <a:pt x="5856" y="3256"/>
                  </a:lnTo>
                  <a:lnTo>
                    <a:pt x="6489" y="3207"/>
                  </a:lnTo>
                  <a:lnTo>
                    <a:pt x="7120" y="3096"/>
                  </a:lnTo>
                  <a:lnTo>
                    <a:pt x="7744" y="2919"/>
                  </a:lnTo>
                  <a:lnTo>
                    <a:pt x="8356" y="2679"/>
                  </a:lnTo>
                  <a:lnTo>
                    <a:pt x="8953" y="237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8798760" y="750240"/>
              <a:ext cx="4320" cy="3240"/>
            </a:xfrm>
            <a:custGeom>
              <a:avLst/>
              <a:gdLst/>
              <a:ahLst/>
              <a:rect l="l" t="t" r="r" b="b"/>
              <a:pathLst>
                <a:path w="52" h="44">
                  <a:moveTo>
                    <a:pt x="12" y="44"/>
                  </a:moveTo>
                  <a:lnTo>
                    <a:pt x="0" y="24"/>
                  </a:lnTo>
                  <a:lnTo>
                    <a:pt x="41" y="0"/>
                  </a:lnTo>
                  <a:lnTo>
                    <a:pt x="52" y="20"/>
                  </a:lnTo>
                  <a:lnTo>
                    <a:pt x="12" y="44"/>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9494280" y="932040"/>
              <a:ext cx="3600" cy="3240"/>
            </a:xfrm>
            <a:custGeom>
              <a:avLst/>
              <a:gdLst/>
              <a:ahLst/>
              <a:rect l="l" t="t" r="r" b="b"/>
              <a:pathLst>
                <a:path w="44" h="52">
                  <a:moveTo>
                    <a:pt x="0" y="12"/>
                  </a:moveTo>
                  <a:lnTo>
                    <a:pt x="20" y="0"/>
                  </a:lnTo>
                  <a:lnTo>
                    <a:pt x="44" y="40"/>
                  </a:lnTo>
                  <a:lnTo>
                    <a:pt x="23"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9496080" y="299160"/>
              <a:ext cx="178560" cy="635400"/>
            </a:xfrm>
            <a:custGeom>
              <a:avLst/>
              <a:gdLst/>
              <a:ahLst/>
              <a:rect l="l" t="t" r="r" b="b"/>
              <a:pathLst>
                <a:path w="2309" h="8312">
                  <a:moveTo>
                    <a:pt x="0" y="8312"/>
                  </a:moveTo>
                  <a:lnTo>
                    <a:pt x="447" y="8013"/>
                  </a:lnTo>
                  <a:lnTo>
                    <a:pt x="847" y="7665"/>
                  </a:lnTo>
                  <a:lnTo>
                    <a:pt x="1201" y="7273"/>
                  </a:lnTo>
                  <a:lnTo>
                    <a:pt x="1508" y="6840"/>
                  </a:lnTo>
                  <a:lnTo>
                    <a:pt x="1765" y="6370"/>
                  </a:lnTo>
                  <a:lnTo>
                    <a:pt x="1974" y="5868"/>
                  </a:lnTo>
                  <a:lnTo>
                    <a:pt x="2134" y="5339"/>
                  </a:lnTo>
                  <a:lnTo>
                    <a:pt x="2243" y="4786"/>
                  </a:lnTo>
                  <a:lnTo>
                    <a:pt x="2302" y="4212"/>
                  </a:lnTo>
                  <a:lnTo>
                    <a:pt x="2309" y="3623"/>
                  </a:lnTo>
                  <a:lnTo>
                    <a:pt x="2266" y="3024"/>
                  </a:lnTo>
                  <a:lnTo>
                    <a:pt x="2168" y="2417"/>
                  </a:lnTo>
                  <a:lnTo>
                    <a:pt x="2018" y="1806"/>
                  </a:lnTo>
                  <a:lnTo>
                    <a:pt x="1814" y="1197"/>
                  </a:lnTo>
                  <a:lnTo>
                    <a:pt x="1555" y="593"/>
                  </a:lnTo>
                  <a:lnTo>
                    <a:pt x="1242"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9493560" y="933840"/>
              <a:ext cx="3600" cy="3600"/>
            </a:xfrm>
            <a:custGeom>
              <a:avLst/>
              <a:gdLst/>
              <a:ahLst/>
              <a:rect l="l" t="t" r="r" b="b"/>
              <a:pathLst>
                <a:path w="44" h="52">
                  <a:moveTo>
                    <a:pt x="44" y="41"/>
                  </a:moveTo>
                  <a:lnTo>
                    <a:pt x="24" y="52"/>
                  </a:lnTo>
                  <a:lnTo>
                    <a:pt x="0" y="12"/>
                  </a:lnTo>
                  <a:lnTo>
                    <a:pt x="20" y="0"/>
                  </a:lnTo>
                  <a:lnTo>
                    <a:pt x="44" y="4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0" name=""/>
            <p:cNvSpPr/>
            <p:nvPr/>
          </p:nvSpPr>
          <p:spPr>
            <a:xfrm>
              <a:off x="9589320" y="296280"/>
              <a:ext cx="4320" cy="252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1" name=""/>
            <p:cNvSpPr/>
            <p:nvPr/>
          </p:nvSpPr>
          <p:spPr>
            <a:xfrm>
              <a:off x="8984880" y="21960"/>
              <a:ext cx="606960" cy="277200"/>
            </a:xfrm>
            <a:custGeom>
              <a:avLst/>
              <a:gdLst/>
              <a:ahLst/>
              <a:rect l="l" t="t" r="r" b="b"/>
              <a:pathLst>
                <a:path w="7837" h="3616">
                  <a:moveTo>
                    <a:pt x="7837" y="3616"/>
                  </a:moveTo>
                  <a:lnTo>
                    <a:pt x="7475" y="3050"/>
                  </a:lnTo>
                  <a:lnTo>
                    <a:pt x="7080" y="2526"/>
                  </a:lnTo>
                  <a:lnTo>
                    <a:pt x="6651" y="2047"/>
                  </a:lnTo>
                  <a:lnTo>
                    <a:pt x="6196" y="1614"/>
                  </a:lnTo>
                  <a:lnTo>
                    <a:pt x="5717" y="1230"/>
                  </a:lnTo>
                  <a:lnTo>
                    <a:pt x="5217" y="895"/>
                  </a:lnTo>
                  <a:lnTo>
                    <a:pt x="4703" y="610"/>
                  </a:lnTo>
                  <a:lnTo>
                    <a:pt x="4175" y="377"/>
                  </a:lnTo>
                  <a:lnTo>
                    <a:pt x="3640" y="198"/>
                  </a:lnTo>
                  <a:lnTo>
                    <a:pt x="3101" y="74"/>
                  </a:lnTo>
                  <a:lnTo>
                    <a:pt x="2562" y="8"/>
                  </a:lnTo>
                  <a:lnTo>
                    <a:pt x="2026" y="0"/>
                  </a:lnTo>
                  <a:lnTo>
                    <a:pt x="1497" y="51"/>
                  </a:lnTo>
                  <a:lnTo>
                    <a:pt x="981" y="164"/>
                  </a:lnTo>
                  <a:lnTo>
                    <a:pt x="480" y="340"/>
                  </a:lnTo>
                  <a:lnTo>
                    <a:pt x="0" y="581"/>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590040" y="298440"/>
              <a:ext cx="4320" cy="252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3" name=""/>
            <p:cNvSpPr/>
            <p:nvPr/>
          </p:nvSpPr>
          <p:spPr>
            <a:xfrm>
              <a:off x="8982000" y="65160"/>
              <a:ext cx="3240" cy="3600"/>
            </a:xfrm>
            <a:custGeom>
              <a:avLst/>
              <a:gdLst/>
              <a:ahLst/>
              <a:rect l="l" t="t" r="r" b="b"/>
              <a:pathLst>
                <a:path w="43" h="52">
                  <a:moveTo>
                    <a:pt x="43" y="40"/>
                  </a:moveTo>
                  <a:lnTo>
                    <a:pt x="23" y="52"/>
                  </a:lnTo>
                  <a:lnTo>
                    <a:pt x="0" y="12"/>
                  </a:lnTo>
                  <a:lnTo>
                    <a:pt x="20" y="0"/>
                  </a:lnTo>
                  <a:lnTo>
                    <a:pt x="43" y="40"/>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4" name=""/>
            <p:cNvSpPr/>
            <p:nvPr/>
          </p:nvSpPr>
          <p:spPr>
            <a:xfrm>
              <a:off x="8805240" y="66960"/>
              <a:ext cx="179280" cy="635400"/>
            </a:xfrm>
            <a:custGeom>
              <a:avLst/>
              <a:gdLst/>
              <a:ahLst/>
              <a:rect l="l" t="t" r="r" b="b"/>
              <a:pathLst>
                <a:path w="2311" h="8312">
                  <a:moveTo>
                    <a:pt x="2311" y="0"/>
                  </a:moveTo>
                  <a:lnTo>
                    <a:pt x="1863" y="299"/>
                  </a:lnTo>
                  <a:lnTo>
                    <a:pt x="1462" y="647"/>
                  </a:lnTo>
                  <a:lnTo>
                    <a:pt x="1109" y="1039"/>
                  </a:lnTo>
                  <a:lnTo>
                    <a:pt x="803" y="1471"/>
                  </a:lnTo>
                  <a:lnTo>
                    <a:pt x="545" y="1941"/>
                  </a:lnTo>
                  <a:lnTo>
                    <a:pt x="335" y="2443"/>
                  </a:lnTo>
                  <a:lnTo>
                    <a:pt x="176" y="2973"/>
                  </a:lnTo>
                  <a:lnTo>
                    <a:pt x="66" y="3526"/>
                  </a:lnTo>
                  <a:lnTo>
                    <a:pt x="8" y="4099"/>
                  </a:lnTo>
                  <a:lnTo>
                    <a:pt x="0" y="4688"/>
                  </a:lnTo>
                  <a:lnTo>
                    <a:pt x="45" y="5288"/>
                  </a:lnTo>
                  <a:lnTo>
                    <a:pt x="142" y="5895"/>
                  </a:lnTo>
                  <a:lnTo>
                    <a:pt x="292" y="6505"/>
                  </a:lnTo>
                  <a:lnTo>
                    <a:pt x="496" y="7114"/>
                  </a:lnTo>
                  <a:lnTo>
                    <a:pt x="754" y="7718"/>
                  </a:lnTo>
                  <a:lnTo>
                    <a:pt x="1069" y="8312"/>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8983800" y="64080"/>
              <a:ext cx="3600" cy="3600"/>
            </a:xfrm>
            <a:custGeom>
              <a:avLst/>
              <a:gdLst/>
              <a:ahLst/>
              <a:rect l="l" t="t" r="r" b="b"/>
              <a:pathLst>
                <a:path w="43" h="52">
                  <a:moveTo>
                    <a:pt x="0" y="12"/>
                  </a:moveTo>
                  <a:lnTo>
                    <a:pt x="20" y="0"/>
                  </a:lnTo>
                  <a:lnTo>
                    <a:pt x="43" y="41"/>
                  </a:lnTo>
                  <a:lnTo>
                    <a:pt x="23" y="52"/>
                  </a:lnTo>
                  <a:lnTo>
                    <a:pt x="0" y="12"/>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6" name=""/>
            <p:cNvSpPr/>
            <p:nvPr/>
          </p:nvSpPr>
          <p:spPr>
            <a:xfrm>
              <a:off x="8886960" y="701640"/>
              <a:ext cx="3240" cy="324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7" name=""/>
            <p:cNvSpPr/>
            <p:nvPr/>
          </p:nvSpPr>
          <p:spPr>
            <a:xfrm>
              <a:off x="8888040" y="702360"/>
              <a:ext cx="608040" cy="277200"/>
            </a:xfrm>
            <a:custGeom>
              <a:avLst/>
              <a:gdLst/>
              <a:ahLst/>
              <a:rect l="l" t="t" r="r" b="b"/>
              <a:pathLst>
                <a:path w="7837" h="3616">
                  <a:moveTo>
                    <a:pt x="0" y="0"/>
                  </a:moveTo>
                  <a:lnTo>
                    <a:pt x="360" y="566"/>
                  </a:lnTo>
                  <a:lnTo>
                    <a:pt x="756" y="1090"/>
                  </a:lnTo>
                  <a:lnTo>
                    <a:pt x="1184" y="1568"/>
                  </a:lnTo>
                  <a:lnTo>
                    <a:pt x="1639" y="2001"/>
                  </a:lnTo>
                  <a:lnTo>
                    <a:pt x="2119" y="2386"/>
                  </a:lnTo>
                  <a:lnTo>
                    <a:pt x="2618" y="2721"/>
                  </a:lnTo>
                  <a:lnTo>
                    <a:pt x="3133" y="3006"/>
                  </a:lnTo>
                  <a:lnTo>
                    <a:pt x="3660" y="3238"/>
                  </a:lnTo>
                  <a:lnTo>
                    <a:pt x="4196" y="3417"/>
                  </a:lnTo>
                  <a:lnTo>
                    <a:pt x="4735" y="3541"/>
                  </a:lnTo>
                  <a:lnTo>
                    <a:pt x="5274" y="3607"/>
                  </a:lnTo>
                  <a:lnTo>
                    <a:pt x="5810" y="3616"/>
                  </a:lnTo>
                  <a:lnTo>
                    <a:pt x="6338" y="3565"/>
                  </a:lnTo>
                  <a:lnTo>
                    <a:pt x="6855" y="3451"/>
                  </a:lnTo>
                  <a:lnTo>
                    <a:pt x="7356" y="3276"/>
                  </a:lnTo>
                  <a:lnTo>
                    <a:pt x="7837" y="3035"/>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8885880" y="700560"/>
              <a:ext cx="3600" cy="288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9" name=""/>
            <p:cNvSpPr/>
            <p:nvPr/>
          </p:nvSpPr>
          <p:spPr>
            <a:xfrm>
              <a:off x="9495360" y="932760"/>
              <a:ext cx="2520" cy="3600"/>
            </a:xfrm>
            <a:custGeom>
              <a:avLst/>
              <a:gdLst/>
              <a:ahLst/>
              <a:rect l="l" t="t" r="r" b="b"/>
              <a:pathLst>
                <a:path w="44" h="52">
                  <a:moveTo>
                    <a:pt x="0" y="11"/>
                  </a:moveTo>
                  <a:lnTo>
                    <a:pt x="21" y="0"/>
                  </a:lnTo>
                  <a:lnTo>
                    <a:pt x="44" y="40"/>
                  </a:lnTo>
                  <a:lnTo>
                    <a:pt x="24" y="52"/>
                  </a:lnTo>
                  <a:lnTo>
                    <a:pt x="0" y="1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0" name=""/>
            <p:cNvSpPr/>
            <p:nvPr/>
          </p:nvSpPr>
          <p:spPr>
            <a:xfrm>
              <a:off x="9437400" y="387360"/>
              <a:ext cx="125640" cy="547200"/>
            </a:xfrm>
            <a:custGeom>
              <a:avLst/>
              <a:gdLst/>
              <a:ahLst/>
              <a:rect l="l" t="t" r="r" b="b"/>
              <a:pathLst>
                <a:path w="1617" h="7154">
                  <a:moveTo>
                    <a:pt x="750" y="7154"/>
                  </a:moveTo>
                  <a:lnTo>
                    <a:pt x="993" y="6974"/>
                  </a:lnTo>
                  <a:lnTo>
                    <a:pt x="1196" y="6740"/>
                  </a:lnTo>
                  <a:lnTo>
                    <a:pt x="1359" y="6458"/>
                  </a:lnTo>
                  <a:lnTo>
                    <a:pt x="1482" y="6132"/>
                  </a:lnTo>
                  <a:lnTo>
                    <a:pt x="1566" y="5764"/>
                  </a:lnTo>
                  <a:lnTo>
                    <a:pt x="1610" y="5357"/>
                  </a:lnTo>
                  <a:lnTo>
                    <a:pt x="1617" y="4917"/>
                  </a:lnTo>
                  <a:lnTo>
                    <a:pt x="1585" y="4446"/>
                  </a:lnTo>
                  <a:lnTo>
                    <a:pt x="1516" y="3947"/>
                  </a:lnTo>
                  <a:lnTo>
                    <a:pt x="1408" y="3425"/>
                  </a:lnTo>
                  <a:lnTo>
                    <a:pt x="1264" y="2883"/>
                  </a:lnTo>
                  <a:lnTo>
                    <a:pt x="1083" y="2325"/>
                  </a:lnTo>
                  <a:lnTo>
                    <a:pt x="865" y="1753"/>
                  </a:lnTo>
                  <a:lnTo>
                    <a:pt x="612" y="1174"/>
                  </a:lnTo>
                  <a:lnTo>
                    <a:pt x="323" y="587"/>
                  </a:lnTo>
                  <a:lnTo>
                    <a:pt x="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9493560" y="933840"/>
              <a:ext cx="3600" cy="3600"/>
            </a:xfrm>
            <a:custGeom>
              <a:avLst/>
              <a:gdLst/>
              <a:ahLst/>
              <a:rect l="l" t="t" r="r" b="b"/>
              <a:pathLst>
                <a:path w="44" h="52">
                  <a:moveTo>
                    <a:pt x="44" y="41"/>
                  </a:moveTo>
                  <a:lnTo>
                    <a:pt x="24" y="52"/>
                  </a:lnTo>
                  <a:lnTo>
                    <a:pt x="0" y="12"/>
                  </a:lnTo>
                  <a:lnTo>
                    <a:pt x="20" y="0"/>
                  </a:lnTo>
                  <a:lnTo>
                    <a:pt x="44" y="4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2" name=""/>
            <p:cNvSpPr/>
            <p:nvPr/>
          </p:nvSpPr>
          <p:spPr>
            <a:xfrm>
              <a:off x="9434880" y="384480"/>
              <a:ext cx="4320" cy="3600"/>
            </a:xfrm>
            <a:custGeom>
              <a:avLst/>
              <a:gdLst/>
              <a:ahLst/>
              <a:rect l="l" t="t" r="r" b="b"/>
              <a:pathLst>
                <a:path w="52" h="44">
                  <a:moveTo>
                    <a:pt x="11" y="44"/>
                  </a:moveTo>
                  <a:lnTo>
                    <a:pt x="0" y="23"/>
                  </a:lnTo>
                  <a:lnTo>
                    <a:pt x="40" y="0"/>
                  </a:lnTo>
                  <a:lnTo>
                    <a:pt x="52" y="20"/>
                  </a:lnTo>
                  <a:lnTo>
                    <a:pt x="11" y="44"/>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3" name=""/>
            <p:cNvSpPr/>
            <p:nvPr/>
          </p:nvSpPr>
          <p:spPr>
            <a:xfrm>
              <a:off x="8984880" y="52200"/>
              <a:ext cx="452520" cy="335160"/>
            </a:xfrm>
            <a:custGeom>
              <a:avLst/>
              <a:gdLst/>
              <a:ahLst/>
              <a:rect l="l" t="t" r="r" b="b"/>
              <a:pathLst>
                <a:path w="5845" h="4379">
                  <a:moveTo>
                    <a:pt x="5845" y="4379"/>
                  </a:moveTo>
                  <a:lnTo>
                    <a:pt x="5494" y="3806"/>
                  </a:lnTo>
                  <a:lnTo>
                    <a:pt x="5128" y="3265"/>
                  </a:lnTo>
                  <a:lnTo>
                    <a:pt x="4750" y="2758"/>
                  </a:lnTo>
                  <a:lnTo>
                    <a:pt x="4362" y="2287"/>
                  </a:lnTo>
                  <a:lnTo>
                    <a:pt x="3966" y="1853"/>
                  </a:lnTo>
                  <a:lnTo>
                    <a:pt x="3566" y="1460"/>
                  </a:lnTo>
                  <a:lnTo>
                    <a:pt x="3166" y="1108"/>
                  </a:lnTo>
                  <a:lnTo>
                    <a:pt x="2767" y="801"/>
                  </a:lnTo>
                  <a:lnTo>
                    <a:pt x="2373" y="539"/>
                  </a:lnTo>
                  <a:lnTo>
                    <a:pt x="1988" y="326"/>
                  </a:lnTo>
                  <a:lnTo>
                    <a:pt x="1612" y="165"/>
                  </a:lnTo>
                  <a:lnTo>
                    <a:pt x="1251" y="55"/>
                  </a:lnTo>
                  <a:lnTo>
                    <a:pt x="905" y="0"/>
                  </a:lnTo>
                  <a:lnTo>
                    <a:pt x="580" y="2"/>
                  </a:lnTo>
                  <a:lnTo>
                    <a:pt x="277" y="64"/>
                  </a:lnTo>
                  <a:lnTo>
                    <a:pt x="0" y="186"/>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9435960" y="386280"/>
              <a:ext cx="4320" cy="3600"/>
            </a:xfrm>
            <a:custGeom>
              <a:avLst/>
              <a:gdLst/>
              <a:ahLst/>
              <a:rect l="l" t="t" r="r" b="b"/>
              <a:pathLst>
                <a:path w="52" h="44">
                  <a:moveTo>
                    <a:pt x="41" y="0"/>
                  </a:moveTo>
                  <a:lnTo>
                    <a:pt x="52" y="20"/>
                  </a:lnTo>
                  <a:lnTo>
                    <a:pt x="12" y="44"/>
                  </a:lnTo>
                  <a:lnTo>
                    <a:pt x="0" y="24"/>
                  </a:lnTo>
                  <a:lnTo>
                    <a:pt x="41"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5" name=""/>
            <p:cNvSpPr/>
            <p:nvPr/>
          </p:nvSpPr>
          <p:spPr>
            <a:xfrm>
              <a:off x="8982000" y="65160"/>
              <a:ext cx="3240" cy="3600"/>
            </a:xfrm>
            <a:custGeom>
              <a:avLst/>
              <a:gdLst/>
              <a:ahLst/>
              <a:rect l="l" t="t" r="r" b="b"/>
              <a:pathLst>
                <a:path w="43" h="52">
                  <a:moveTo>
                    <a:pt x="43" y="40"/>
                  </a:moveTo>
                  <a:lnTo>
                    <a:pt x="23" y="52"/>
                  </a:lnTo>
                  <a:lnTo>
                    <a:pt x="0" y="12"/>
                  </a:lnTo>
                  <a:lnTo>
                    <a:pt x="20" y="0"/>
                  </a:lnTo>
                  <a:lnTo>
                    <a:pt x="4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6" name=""/>
            <p:cNvSpPr/>
            <p:nvPr/>
          </p:nvSpPr>
          <p:spPr>
            <a:xfrm>
              <a:off x="8917560" y="66960"/>
              <a:ext cx="125640" cy="547200"/>
            </a:xfrm>
            <a:custGeom>
              <a:avLst/>
              <a:gdLst/>
              <a:ahLst/>
              <a:rect l="l" t="t" r="r" b="b"/>
              <a:pathLst>
                <a:path w="1618" h="7155">
                  <a:moveTo>
                    <a:pt x="868" y="0"/>
                  </a:moveTo>
                  <a:lnTo>
                    <a:pt x="624" y="180"/>
                  </a:lnTo>
                  <a:lnTo>
                    <a:pt x="421" y="413"/>
                  </a:lnTo>
                  <a:lnTo>
                    <a:pt x="258" y="694"/>
                  </a:lnTo>
                  <a:lnTo>
                    <a:pt x="135" y="1022"/>
                  </a:lnTo>
                  <a:lnTo>
                    <a:pt x="51" y="1390"/>
                  </a:lnTo>
                  <a:lnTo>
                    <a:pt x="6" y="1796"/>
                  </a:lnTo>
                  <a:lnTo>
                    <a:pt x="0" y="2237"/>
                  </a:lnTo>
                  <a:lnTo>
                    <a:pt x="32" y="2708"/>
                  </a:lnTo>
                  <a:lnTo>
                    <a:pt x="102" y="3206"/>
                  </a:lnTo>
                  <a:lnTo>
                    <a:pt x="208" y="3728"/>
                  </a:lnTo>
                  <a:lnTo>
                    <a:pt x="353" y="4271"/>
                  </a:lnTo>
                  <a:lnTo>
                    <a:pt x="534" y="4829"/>
                  </a:lnTo>
                  <a:lnTo>
                    <a:pt x="752" y="5401"/>
                  </a:lnTo>
                  <a:lnTo>
                    <a:pt x="1005" y="5980"/>
                  </a:lnTo>
                  <a:lnTo>
                    <a:pt x="1294" y="6567"/>
                  </a:lnTo>
                  <a:lnTo>
                    <a:pt x="1618" y="7155"/>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983800" y="64080"/>
              <a:ext cx="3600" cy="3600"/>
            </a:xfrm>
            <a:custGeom>
              <a:avLst/>
              <a:gdLst/>
              <a:ahLst/>
              <a:rect l="l" t="t" r="r" b="b"/>
              <a:pathLst>
                <a:path w="43" h="52">
                  <a:moveTo>
                    <a:pt x="0" y="12"/>
                  </a:moveTo>
                  <a:lnTo>
                    <a:pt x="20" y="0"/>
                  </a:lnTo>
                  <a:lnTo>
                    <a:pt x="43" y="41"/>
                  </a:lnTo>
                  <a:lnTo>
                    <a:pt x="23" y="52"/>
                  </a:lnTo>
                  <a:lnTo>
                    <a:pt x="0" y="12"/>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9041400" y="613440"/>
              <a:ext cx="3240" cy="2520"/>
            </a:xfrm>
            <a:custGeom>
              <a:avLst/>
              <a:gdLst/>
              <a:ahLst/>
              <a:rect l="l" t="t" r="r" b="b"/>
              <a:pathLst>
                <a:path w="52" h="44">
                  <a:moveTo>
                    <a:pt x="40" y="0"/>
                  </a:moveTo>
                  <a:lnTo>
                    <a:pt x="52" y="20"/>
                  </a:lnTo>
                  <a:lnTo>
                    <a:pt x="12" y="44"/>
                  </a:lnTo>
                  <a:lnTo>
                    <a:pt x="0" y="23"/>
                  </a:lnTo>
                  <a:lnTo>
                    <a:pt x="4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9" name=""/>
            <p:cNvSpPr/>
            <p:nvPr/>
          </p:nvSpPr>
          <p:spPr>
            <a:xfrm>
              <a:off x="9043200" y="614160"/>
              <a:ext cx="452520" cy="334800"/>
            </a:xfrm>
            <a:custGeom>
              <a:avLst/>
              <a:gdLst/>
              <a:ahLst/>
              <a:rect l="l" t="t" r="r" b="b"/>
              <a:pathLst>
                <a:path w="5845" h="4377">
                  <a:moveTo>
                    <a:pt x="0" y="0"/>
                  </a:moveTo>
                  <a:lnTo>
                    <a:pt x="350" y="572"/>
                  </a:lnTo>
                  <a:lnTo>
                    <a:pt x="716" y="1113"/>
                  </a:lnTo>
                  <a:lnTo>
                    <a:pt x="1095" y="1620"/>
                  </a:lnTo>
                  <a:lnTo>
                    <a:pt x="1483" y="2091"/>
                  </a:lnTo>
                  <a:lnTo>
                    <a:pt x="1879" y="2524"/>
                  </a:lnTo>
                  <a:lnTo>
                    <a:pt x="2278" y="2919"/>
                  </a:lnTo>
                  <a:lnTo>
                    <a:pt x="2678" y="3270"/>
                  </a:lnTo>
                  <a:lnTo>
                    <a:pt x="3077" y="3577"/>
                  </a:lnTo>
                  <a:lnTo>
                    <a:pt x="3471" y="3838"/>
                  </a:lnTo>
                  <a:lnTo>
                    <a:pt x="3857" y="4051"/>
                  </a:lnTo>
                  <a:lnTo>
                    <a:pt x="4232" y="4214"/>
                  </a:lnTo>
                  <a:lnTo>
                    <a:pt x="4594" y="4323"/>
                  </a:lnTo>
                  <a:lnTo>
                    <a:pt x="4938" y="4377"/>
                  </a:lnTo>
                  <a:lnTo>
                    <a:pt x="5264" y="4375"/>
                  </a:lnTo>
                  <a:lnTo>
                    <a:pt x="5567" y="4314"/>
                  </a:lnTo>
                  <a:lnTo>
                    <a:pt x="5845" y="4192"/>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9040320" y="611640"/>
              <a:ext cx="3600" cy="3240"/>
            </a:xfrm>
            <a:custGeom>
              <a:avLst/>
              <a:gdLst/>
              <a:ahLst/>
              <a:rect l="l" t="t" r="r" b="b"/>
              <a:pathLst>
                <a:path w="52" h="43">
                  <a:moveTo>
                    <a:pt x="12" y="43"/>
                  </a:moveTo>
                  <a:lnTo>
                    <a:pt x="0" y="23"/>
                  </a:lnTo>
                  <a:lnTo>
                    <a:pt x="41" y="0"/>
                  </a:lnTo>
                  <a:lnTo>
                    <a:pt x="52" y="20"/>
                  </a:lnTo>
                  <a:lnTo>
                    <a:pt x="12" y="43"/>
                  </a:lnTo>
                  <a:close/>
                </a:path>
              </a:pathLst>
            </a:custGeom>
            <a:solidFill>
              <a:srgbClr val="a9d1e5"/>
            </a:solidFill>
            <a:ln w="0">
              <a:solidFill>
                <a:srgbClr val="a9d1e5"/>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1" name=""/>
            <p:cNvSpPr/>
            <p:nvPr/>
          </p:nvSpPr>
          <p:spPr>
            <a:xfrm>
              <a:off x="9495360" y="932760"/>
              <a:ext cx="2520" cy="3600"/>
            </a:xfrm>
            <a:custGeom>
              <a:avLst/>
              <a:gdLst/>
              <a:ahLst/>
              <a:rect l="l" t="t" r="r" b="b"/>
              <a:pathLst>
                <a:path w="44" h="52">
                  <a:moveTo>
                    <a:pt x="0" y="11"/>
                  </a:moveTo>
                  <a:lnTo>
                    <a:pt x="21" y="0"/>
                  </a:lnTo>
                  <a:lnTo>
                    <a:pt x="44" y="40"/>
                  </a:lnTo>
                  <a:lnTo>
                    <a:pt x="24" y="52"/>
                  </a:lnTo>
                  <a:lnTo>
                    <a:pt x="0" y="1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2" name=""/>
            <p:cNvSpPr/>
            <p:nvPr/>
          </p:nvSpPr>
          <p:spPr>
            <a:xfrm flipH="1" flipV="1">
              <a:off x="8985240" y="68760"/>
              <a:ext cx="508680" cy="864000"/>
            </a:xfrm>
            <a:prstGeom prst="line">
              <a:avLst/>
            </a:prstGeom>
            <a:ln w="6480">
              <a:solidFill>
                <a:srgbClr val="d4e8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804160" y="606960"/>
              <a:ext cx="492840" cy="164160"/>
            </a:xfrm>
            <a:custGeom>
              <a:avLst/>
              <a:gdLst/>
              <a:ahLst/>
              <a:rect l="l" t="t" r="r" b="b"/>
              <a:pathLst>
                <a:path w="6360" h="2154">
                  <a:moveTo>
                    <a:pt x="0" y="1959"/>
                  </a:moveTo>
                  <a:lnTo>
                    <a:pt x="159" y="2053"/>
                  </a:lnTo>
                  <a:lnTo>
                    <a:pt x="357" y="2116"/>
                  </a:lnTo>
                  <a:lnTo>
                    <a:pt x="594" y="2150"/>
                  </a:lnTo>
                  <a:lnTo>
                    <a:pt x="869" y="2154"/>
                  </a:lnTo>
                  <a:lnTo>
                    <a:pt x="1178" y="2128"/>
                  </a:lnTo>
                  <a:lnTo>
                    <a:pt x="1520" y="2073"/>
                  </a:lnTo>
                  <a:lnTo>
                    <a:pt x="1894" y="1989"/>
                  </a:lnTo>
                  <a:lnTo>
                    <a:pt x="2297" y="1876"/>
                  </a:lnTo>
                  <a:lnTo>
                    <a:pt x="2727" y="1736"/>
                  </a:lnTo>
                  <a:lnTo>
                    <a:pt x="3183" y="1567"/>
                  </a:lnTo>
                  <a:lnTo>
                    <a:pt x="3664" y="1372"/>
                  </a:lnTo>
                  <a:lnTo>
                    <a:pt x="4165" y="1149"/>
                  </a:lnTo>
                  <a:lnTo>
                    <a:pt x="4689" y="900"/>
                  </a:lnTo>
                  <a:lnTo>
                    <a:pt x="5230" y="626"/>
                  </a:lnTo>
                  <a:lnTo>
                    <a:pt x="5787" y="325"/>
                  </a:lnTo>
                  <a:lnTo>
                    <a:pt x="636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803440" y="754920"/>
              <a:ext cx="1800" cy="2520"/>
            </a:xfrm>
            <a:custGeom>
              <a:avLst/>
              <a:gdLst/>
              <a:ahLst/>
              <a:rect l="l" t="t" r="r" b="b"/>
              <a:pathLst>
                <a:path w="30" h="36">
                  <a:moveTo>
                    <a:pt x="0" y="36"/>
                  </a:moveTo>
                  <a:lnTo>
                    <a:pt x="30" y="0"/>
                  </a:lnTo>
                  <a:lnTo>
                    <a:pt x="0" y="36"/>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5" name=""/>
            <p:cNvSpPr/>
            <p:nvPr/>
          </p:nvSpPr>
          <p:spPr>
            <a:xfrm>
              <a:off x="9296280" y="605160"/>
              <a:ext cx="1800" cy="252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9297360" y="252360"/>
              <a:ext cx="384840" cy="354600"/>
            </a:xfrm>
            <a:custGeom>
              <a:avLst/>
              <a:gdLst/>
              <a:ahLst/>
              <a:rect l="l" t="t" r="r" b="b"/>
              <a:pathLst>
                <a:path w="4970" h="4633">
                  <a:moveTo>
                    <a:pt x="0" y="4633"/>
                  </a:moveTo>
                  <a:lnTo>
                    <a:pt x="563" y="4294"/>
                  </a:lnTo>
                  <a:lnTo>
                    <a:pt x="1096" y="3957"/>
                  </a:lnTo>
                  <a:lnTo>
                    <a:pt x="1597" y="3622"/>
                  </a:lnTo>
                  <a:lnTo>
                    <a:pt x="2064" y="3290"/>
                  </a:lnTo>
                  <a:lnTo>
                    <a:pt x="2500" y="2964"/>
                  </a:lnTo>
                  <a:lnTo>
                    <a:pt x="2902" y="2643"/>
                  </a:lnTo>
                  <a:lnTo>
                    <a:pt x="3270" y="2328"/>
                  </a:lnTo>
                  <a:lnTo>
                    <a:pt x="3603" y="2022"/>
                  </a:lnTo>
                  <a:lnTo>
                    <a:pt x="3901" y="1725"/>
                  </a:lnTo>
                  <a:lnTo>
                    <a:pt x="4164" y="1438"/>
                  </a:lnTo>
                  <a:lnTo>
                    <a:pt x="4391" y="1163"/>
                  </a:lnTo>
                  <a:lnTo>
                    <a:pt x="4582" y="900"/>
                  </a:lnTo>
                  <a:lnTo>
                    <a:pt x="4736" y="652"/>
                  </a:lnTo>
                  <a:lnTo>
                    <a:pt x="4852" y="418"/>
                  </a:lnTo>
                  <a:lnTo>
                    <a:pt x="4929" y="200"/>
                  </a:lnTo>
                  <a:lnTo>
                    <a:pt x="497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296280" y="605160"/>
              <a:ext cx="1800" cy="252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8" name=""/>
            <p:cNvSpPr/>
            <p:nvPr/>
          </p:nvSpPr>
          <p:spPr>
            <a:xfrm>
              <a:off x="9680400" y="251280"/>
              <a:ext cx="3600" cy="720"/>
            </a:xfrm>
            <a:custGeom>
              <a:avLst/>
              <a:gdLst/>
              <a:ahLst/>
              <a:rect l="l" t="t" r="r" b="b"/>
              <a:pathLst>
                <a:path w="47" h="4">
                  <a:moveTo>
                    <a:pt x="0" y="0"/>
                  </a:moveTo>
                  <a:lnTo>
                    <a:pt x="47" y="4"/>
                  </a:lnTo>
                  <a:lnTo>
                    <a:pt x="0" y="0"/>
                  </a:lnTo>
                  <a:close/>
                </a:path>
              </a:pathLst>
            </a:custGeom>
            <a:solidFill>
              <a:srgbClr val="a9d1e5"/>
            </a:solidFill>
            <a:ln w="0">
              <a:solidFill>
                <a:srgbClr val="a9d1e5"/>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9" name=""/>
            <p:cNvSpPr/>
            <p:nvPr/>
          </p:nvSpPr>
          <p:spPr>
            <a:xfrm>
              <a:off x="8950320" y="769320"/>
              <a:ext cx="448920" cy="149400"/>
            </a:xfrm>
            <a:custGeom>
              <a:avLst/>
              <a:gdLst/>
              <a:ahLst/>
              <a:rect l="l" t="t" r="r" b="b"/>
              <a:pathLst>
                <a:path w="5804" h="1962">
                  <a:moveTo>
                    <a:pt x="0" y="1819"/>
                  </a:moveTo>
                  <a:lnTo>
                    <a:pt x="78" y="1892"/>
                  </a:lnTo>
                  <a:lnTo>
                    <a:pt x="209" y="1940"/>
                  </a:lnTo>
                  <a:lnTo>
                    <a:pt x="392" y="1962"/>
                  </a:lnTo>
                  <a:lnTo>
                    <a:pt x="622" y="1960"/>
                  </a:lnTo>
                  <a:lnTo>
                    <a:pt x="895" y="1933"/>
                  </a:lnTo>
                  <a:lnTo>
                    <a:pt x="1208" y="1881"/>
                  </a:lnTo>
                  <a:lnTo>
                    <a:pt x="1559" y="1803"/>
                  </a:lnTo>
                  <a:lnTo>
                    <a:pt x="1941" y="1701"/>
                  </a:lnTo>
                  <a:lnTo>
                    <a:pt x="2355" y="1573"/>
                  </a:lnTo>
                  <a:lnTo>
                    <a:pt x="2795" y="1422"/>
                  </a:lnTo>
                  <a:lnTo>
                    <a:pt x="3258" y="1246"/>
                  </a:lnTo>
                  <a:lnTo>
                    <a:pt x="3741" y="1045"/>
                  </a:lnTo>
                  <a:lnTo>
                    <a:pt x="4241" y="820"/>
                  </a:lnTo>
                  <a:lnTo>
                    <a:pt x="4753" y="571"/>
                  </a:lnTo>
                  <a:lnTo>
                    <a:pt x="5275" y="298"/>
                  </a:lnTo>
                  <a:lnTo>
                    <a:pt x="5804"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8948520" y="907200"/>
              <a:ext cx="2520" cy="1440"/>
            </a:xfrm>
            <a:custGeom>
              <a:avLst/>
              <a:gdLst/>
              <a:ahLst/>
              <a:rect l="l" t="t" r="r" b="b"/>
              <a:pathLst>
                <a:path w="40" h="24">
                  <a:moveTo>
                    <a:pt x="0" y="24"/>
                  </a:moveTo>
                  <a:lnTo>
                    <a:pt x="40"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9398520" y="767520"/>
              <a:ext cx="1800" cy="2880"/>
            </a:xfrm>
            <a:custGeom>
              <a:avLst/>
              <a:gdLst/>
              <a:ahLst/>
              <a:rect l="l" t="t" r="r" b="b"/>
              <a:pathLst>
                <a:path w="23" h="40">
                  <a:moveTo>
                    <a:pt x="0" y="0"/>
                  </a:moveTo>
                  <a:lnTo>
                    <a:pt x="23"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72" name=""/>
            <p:cNvSpPr/>
            <p:nvPr/>
          </p:nvSpPr>
          <p:spPr>
            <a:xfrm>
              <a:off x="9399600" y="450720"/>
              <a:ext cx="345600" cy="318600"/>
            </a:xfrm>
            <a:custGeom>
              <a:avLst/>
              <a:gdLst/>
              <a:ahLst/>
              <a:rect l="l" t="t" r="r" b="b"/>
              <a:pathLst>
                <a:path w="4456" h="4164">
                  <a:moveTo>
                    <a:pt x="0" y="4164"/>
                  </a:moveTo>
                  <a:lnTo>
                    <a:pt x="517" y="3849"/>
                  </a:lnTo>
                  <a:lnTo>
                    <a:pt x="1012" y="3529"/>
                  </a:lnTo>
                  <a:lnTo>
                    <a:pt x="1481" y="3205"/>
                  </a:lnTo>
                  <a:lnTo>
                    <a:pt x="1922" y="2881"/>
                  </a:lnTo>
                  <a:lnTo>
                    <a:pt x="2333" y="2559"/>
                  </a:lnTo>
                  <a:lnTo>
                    <a:pt x="2714" y="2241"/>
                  </a:lnTo>
                  <a:lnTo>
                    <a:pt x="3062" y="1933"/>
                  </a:lnTo>
                  <a:lnTo>
                    <a:pt x="3376" y="1635"/>
                  </a:lnTo>
                  <a:lnTo>
                    <a:pt x="3652" y="1351"/>
                  </a:lnTo>
                  <a:lnTo>
                    <a:pt x="3892" y="1083"/>
                  </a:lnTo>
                  <a:lnTo>
                    <a:pt x="4092" y="837"/>
                  </a:lnTo>
                  <a:lnTo>
                    <a:pt x="4249" y="612"/>
                  </a:lnTo>
                  <a:lnTo>
                    <a:pt x="4364" y="413"/>
                  </a:lnTo>
                  <a:lnTo>
                    <a:pt x="4433" y="242"/>
                  </a:lnTo>
                  <a:lnTo>
                    <a:pt x="4456" y="104"/>
                  </a:lnTo>
                  <a:lnTo>
                    <a:pt x="4431"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9398520" y="767520"/>
              <a:ext cx="1800" cy="2880"/>
            </a:xfrm>
            <a:custGeom>
              <a:avLst/>
              <a:gdLst/>
              <a:ahLst/>
              <a:rect l="l" t="t" r="r" b="b"/>
              <a:pathLst>
                <a:path w="23" h="40">
                  <a:moveTo>
                    <a:pt x="23" y="40"/>
                  </a:moveTo>
                  <a:lnTo>
                    <a:pt x="0" y="0"/>
                  </a:lnTo>
                  <a:lnTo>
                    <a:pt x="23" y="4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74" name=""/>
            <p:cNvSpPr/>
            <p:nvPr/>
          </p:nvSpPr>
          <p:spPr>
            <a:xfrm>
              <a:off x="9741600" y="450000"/>
              <a:ext cx="2880" cy="1440"/>
            </a:xfrm>
            <a:custGeom>
              <a:avLst/>
              <a:gdLst/>
              <a:ahLst/>
              <a:rect l="l" t="t" r="r" b="b"/>
              <a:pathLst>
                <a:path w="41" h="24">
                  <a:moveTo>
                    <a:pt x="0" y="24"/>
                  </a:moveTo>
                  <a:lnTo>
                    <a:pt x="41"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8734680" y="405720"/>
              <a:ext cx="450000" cy="149400"/>
            </a:xfrm>
            <a:custGeom>
              <a:avLst/>
              <a:gdLst/>
              <a:ahLst/>
              <a:rect l="l" t="t" r="r" b="b"/>
              <a:pathLst>
                <a:path w="5803" h="1963">
                  <a:moveTo>
                    <a:pt x="0" y="1818"/>
                  </a:moveTo>
                  <a:lnTo>
                    <a:pt x="78" y="1891"/>
                  </a:lnTo>
                  <a:lnTo>
                    <a:pt x="210" y="1939"/>
                  </a:lnTo>
                  <a:lnTo>
                    <a:pt x="393" y="1963"/>
                  </a:lnTo>
                  <a:lnTo>
                    <a:pt x="622" y="1960"/>
                  </a:lnTo>
                  <a:lnTo>
                    <a:pt x="895" y="1933"/>
                  </a:lnTo>
                  <a:lnTo>
                    <a:pt x="1208" y="1880"/>
                  </a:lnTo>
                  <a:lnTo>
                    <a:pt x="1559" y="1803"/>
                  </a:lnTo>
                  <a:lnTo>
                    <a:pt x="1941" y="1701"/>
                  </a:lnTo>
                  <a:lnTo>
                    <a:pt x="2355" y="1573"/>
                  </a:lnTo>
                  <a:lnTo>
                    <a:pt x="2795" y="1423"/>
                  </a:lnTo>
                  <a:lnTo>
                    <a:pt x="3259" y="1246"/>
                  </a:lnTo>
                  <a:lnTo>
                    <a:pt x="3741" y="1045"/>
                  </a:lnTo>
                  <a:lnTo>
                    <a:pt x="4240" y="820"/>
                  </a:lnTo>
                  <a:lnTo>
                    <a:pt x="4752" y="571"/>
                  </a:lnTo>
                  <a:lnTo>
                    <a:pt x="5274" y="298"/>
                  </a:lnTo>
                  <a:lnTo>
                    <a:pt x="5803"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733600" y="54360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9183960" y="403920"/>
              <a:ext cx="1440" cy="360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8" name=""/>
            <p:cNvSpPr/>
            <p:nvPr/>
          </p:nvSpPr>
          <p:spPr>
            <a:xfrm>
              <a:off x="9184680" y="87120"/>
              <a:ext cx="344880" cy="318600"/>
            </a:xfrm>
            <a:custGeom>
              <a:avLst/>
              <a:gdLst/>
              <a:ahLst/>
              <a:rect l="l" t="t" r="r" b="b"/>
              <a:pathLst>
                <a:path w="4457" h="4164">
                  <a:moveTo>
                    <a:pt x="0" y="4164"/>
                  </a:moveTo>
                  <a:lnTo>
                    <a:pt x="517" y="3849"/>
                  </a:lnTo>
                  <a:lnTo>
                    <a:pt x="1012" y="3529"/>
                  </a:lnTo>
                  <a:lnTo>
                    <a:pt x="1481" y="3205"/>
                  </a:lnTo>
                  <a:lnTo>
                    <a:pt x="1922" y="2881"/>
                  </a:lnTo>
                  <a:lnTo>
                    <a:pt x="2334" y="2559"/>
                  </a:lnTo>
                  <a:lnTo>
                    <a:pt x="2715" y="2241"/>
                  </a:lnTo>
                  <a:lnTo>
                    <a:pt x="3063" y="1933"/>
                  </a:lnTo>
                  <a:lnTo>
                    <a:pt x="3376" y="1635"/>
                  </a:lnTo>
                  <a:lnTo>
                    <a:pt x="3654" y="1351"/>
                  </a:lnTo>
                  <a:lnTo>
                    <a:pt x="3893" y="1083"/>
                  </a:lnTo>
                  <a:lnTo>
                    <a:pt x="4092" y="837"/>
                  </a:lnTo>
                  <a:lnTo>
                    <a:pt x="4250" y="612"/>
                  </a:lnTo>
                  <a:lnTo>
                    <a:pt x="4365" y="414"/>
                  </a:lnTo>
                  <a:lnTo>
                    <a:pt x="4434" y="242"/>
                  </a:lnTo>
                  <a:lnTo>
                    <a:pt x="4457" y="104"/>
                  </a:lnTo>
                  <a:lnTo>
                    <a:pt x="4432"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183960" y="403920"/>
              <a:ext cx="1440" cy="360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0" name=""/>
            <p:cNvSpPr/>
            <p:nvPr/>
          </p:nvSpPr>
          <p:spPr>
            <a:xfrm>
              <a:off x="9527040" y="8604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8775360" y="207360"/>
              <a:ext cx="291600" cy="94680"/>
            </a:xfrm>
            <a:custGeom>
              <a:avLst/>
              <a:gdLst/>
              <a:ahLst/>
              <a:rect l="l" t="t" r="r" b="b"/>
              <a:pathLst>
                <a:path w="3769" h="1227">
                  <a:moveTo>
                    <a:pt x="0" y="1199"/>
                  </a:moveTo>
                  <a:lnTo>
                    <a:pt x="54" y="1218"/>
                  </a:lnTo>
                  <a:lnTo>
                    <a:pt x="143" y="1227"/>
                  </a:lnTo>
                  <a:lnTo>
                    <a:pt x="263" y="1227"/>
                  </a:lnTo>
                  <a:lnTo>
                    <a:pt x="413" y="1216"/>
                  </a:lnTo>
                  <a:lnTo>
                    <a:pt x="590" y="1193"/>
                  </a:lnTo>
                  <a:lnTo>
                    <a:pt x="793" y="1158"/>
                  </a:lnTo>
                  <a:lnTo>
                    <a:pt x="1021" y="1110"/>
                  </a:lnTo>
                  <a:lnTo>
                    <a:pt x="1268" y="1050"/>
                  </a:lnTo>
                  <a:lnTo>
                    <a:pt x="1535" y="974"/>
                  </a:lnTo>
                  <a:lnTo>
                    <a:pt x="1819" y="885"/>
                  </a:lnTo>
                  <a:lnTo>
                    <a:pt x="2119" y="780"/>
                  </a:lnTo>
                  <a:lnTo>
                    <a:pt x="2430" y="659"/>
                  </a:lnTo>
                  <a:lnTo>
                    <a:pt x="2755" y="520"/>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774280" y="298440"/>
              <a:ext cx="1800" cy="252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3" name=""/>
            <p:cNvSpPr/>
            <p:nvPr/>
          </p:nvSpPr>
          <p:spPr>
            <a:xfrm>
              <a:off x="9066600" y="206280"/>
              <a:ext cx="1800" cy="2520"/>
            </a:xfrm>
            <a:custGeom>
              <a:avLst/>
              <a:gdLst/>
              <a:ahLst/>
              <a:rect l="l" t="t" r="r" b="b"/>
              <a:pathLst>
                <a:path w="24" h="41">
                  <a:moveTo>
                    <a:pt x="0" y="0"/>
                  </a:moveTo>
                  <a:lnTo>
                    <a:pt x="24" y="41"/>
                  </a:lnTo>
                  <a:lnTo>
                    <a:pt x="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4" name=""/>
            <p:cNvSpPr/>
            <p:nvPr/>
          </p:nvSpPr>
          <p:spPr>
            <a:xfrm>
              <a:off x="9067320" y="1800"/>
              <a:ext cx="223920" cy="205560"/>
            </a:xfrm>
            <a:custGeom>
              <a:avLst/>
              <a:gdLst/>
              <a:ahLst/>
              <a:rect l="l" t="t" r="r" b="b"/>
              <a:pathLst>
                <a:path w="2896" h="2696">
                  <a:moveTo>
                    <a:pt x="0" y="2696"/>
                  </a:moveTo>
                  <a:lnTo>
                    <a:pt x="334" y="2490"/>
                  </a:lnTo>
                  <a:lnTo>
                    <a:pt x="648" y="2281"/>
                  </a:lnTo>
                  <a:lnTo>
                    <a:pt x="943" y="2069"/>
                  </a:lnTo>
                  <a:lnTo>
                    <a:pt x="1216" y="1858"/>
                  </a:lnTo>
                  <a:lnTo>
                    <a:pt x="1469" y="1646"/>
                  </a:lnTo>
                  <a:lnTo>
                    <a:pt x="1702" y="1439"/>
                  </a:lnTo>
                  <a:lnTo>
                    <a:pt x="1915" y="1237"/>
                  </a:lnTo>
                  <a:lnTo>
                    <a:pt x="2106" y="1042"/>
                  </a:lnTo>
                  <a:lnTo>
                    <a:pt x="2277" y="857"/>
                  </a:lnTo>
                  <a:lnTo>
                    <a:pt x="2427" y="684"/>
                  </a:lnTo>
                  <a:lnTo>
                    <a:pt x="2557" y="525"/>
                  </a:lnTo>
                  <a:lnTo>
                    <a:pt x="2666" y="380"/>
                  </a:lnTo>
                  <a:lnTo>
                    <a:pt x="2754" y="254"/>
                  </a:lnTo>
                  <a:lnTo>
                    <a:pt x="2822" y="146"/>
                  </a:lnTo>
                  <a:lnTo>
                    <a:pt x="2869" y="61"/>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066600" y="206280"/>
              <a:ext cx="1800" cy="2520"/>
            </a:xfrm>
            <a:custGeom>
              <a:avLst/>
              <a:gdLst/>
              <a:ahLst/>
              <a:rect l="l" t="t" r="r" b="b"/>
              <a:pathLst>
                <a:path w="24" h="41">
                  <a:moveTo>
                    <a:pt x="24" y="41"/>
                  </a:moveTo>
                  <a:lnTo>
                    <a:pt x="0" y="0"/>
                  </a:lnTo>
                  <a:lnTo>
                    <a:pt x="24" y="41"/>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6" name=""/>
            <p:cNvSpPr/>
            <p:nvPr/>
          </p:nvSpPr>
          <p:spPr>
            <a:xfrm>
              <a:off x="9289800" y="720"/>
              <a:ext cx="3600" cy="720"/>
            </a:xfrm>
            <a:custGeom>
              <a:avLst/>
              <a:gdLst/>
              <a:ahLst/>
              <a:rect l="l" t="t" r="r" b="b"/>
              <a:pathLst>
                <a:path w="44" h="13">
                  <a:moveTo>
                    <a:pt x="0" y="0"/>
                  </a:moveTo>
                  <a:lnTo>
                    <a:pt x="44" y="13"/>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87" name=""/>
          <p:cNvSpPr/>
          <p:nvPr/>
        </p:nvSpPr>
        <p:spPr>
          <a:xfrm>
            <a:off x="4799160" y="968400"/>
            <a:ext cx="2894040" cy="403200"/>
          </a:xfrm>
          <a:prstGeom prst="rect">
            <a:avLst/>
          </a:prstGeom>
          <a:gradFill rotWithShape="0">
            <a:gsLst>
              <a:gs pos="0">
                <a:srgbClr val="007575"/>
              </a:gs>
              <a:gs pos="50000">
                <a:srgbClr val="00ffff"/>
              </a:gs>
              <a:gs pos="100000">
                <a:srgbClr val="007575"/>
              </a:gs>
            </a:gsLst>
            <a:lin ang="5400000"/>
          </a:gra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rix  Management</a:t>
            </a:r>
            <a:endParaRPr b="0" lang="en-US" sz="1800" spc="-1" strike="noStrike">
              <a:solidFill>
                <a:srgbClr val="000000"/>
              </a:solidFill>
              <a:latin typeface="Times New Roman"/>
            </a:endParaRPr>
          </a:p>
        </p:txBody>
      </p:sp>
      <p:sp>
        <p:nvSpPr>
          <p:cNvPr id="1188" name=""/>
          <p:cNvSpPr/>
          <p:nvPr/>
        </p:nvSpPr>
        <p:spPr>
          <a:xfrm>
            <a:off x="4799160" y="1468440"/>
            <a:ext cx="4192560" cy="435132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799160" y="2379600"/>
            <a:ext cx="41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799160" y="3492360"/>
            <a:ext cx="41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799160" y="4707000"/>
            <a:ext cx="41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824440" y="1468440"/>
            <a:ext cx="0" cy="43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673680" y="1468440"/>
            <a:ext cx="0" cy="43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473960" y="1468440"/>
            <a:ext cx="0" cy="43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8277120" y="1468440"/>
            <a:ext cx="0" cy="43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799160" y="1468440"/>
            <a:ext cx="1025280" cy="91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4722840" y="2008080"/>
            <a:ext cx="1022400" cy="50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unction</a:t>
            </a:r>
            <a:endParaRPr b="0" lang="en-US" sz="1600" spc="-1" strike="noStrike">
              <a:solidFill>
                <a:srgbClr val="000000"/>
              </a:solidFill>
              <a:latin typeface="Times New Roman"/>
            </a:endParaRPr>
          </a:p>
        </p:txBody>
      </p:sp>
      <p:sp>
        <p:nvSpPr>
          <p:cNvPr id="1198" name=""/>
          <p:cNvSpPr/>
          <p:nvPr/>
        </p:nvSpPr>
        <p:spPr>
          <a:xfrm>
            <a:off x="5156280" y="1468440"/>
            <a:ext cx="714240" cy="50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v / Dept.</a:t>
            </a:r>
            <a:endParaRPr b="0" lang="en-US" sz="1600" spc="-1" strike="noStrike">
              <a:solidFill>
                <a:srgbClr val="000000"/>
              </a:solidFill>
              <a:latin typeface="Times New Roman"/>
            </a:endParaRPr>
          </a:p>
        </p:txBody>
      </p:sp>
      <p:sp>
        <p:nvSpPr>
          <p:cNvPr id="1199" name=""/>
          <p:cNvSpPr/>
          <p:nvPr/>
        </p:nvSpPr>
        <p:spPr>
          <a:xfrm>
            <a:off x="5713560" y="1569960"/>
            <a:ext cx="106668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du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a:t>
            </a:r>
            <a:endParaRPr b="0" lang="en-US" sz="1600" spc="-1" strike="noStrike">
              <a:solidFill>
                <a:srgbClr val="000000"/>
              </a:solidFill>
              <a:latin typeface="Times New Roman"/>
            </a:endParaRPr>
          </a:p>
        </p:txBody>
      </p:sp>
      <p:sp>
        <p:nvSpPr>
          <p:cNvPr id="1200" name=""/>
          <p:cNvSpPr/>
          <p:nvPr/>
        </p:nvSpPr>
        <p:spPr>
          <a:xfrm>
            <a:off x="6627960" y="1577880"/>
            <a:ext cx="91260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du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1201" name=""/>
          <p:cNvSpPr/>
          <p:nvPr/>
        </p:nvSpPr>
        <p:spPr>
          <a:xfrm>
            <a:off x="7464600" y="1569960"/>
            <a:ext cx="83808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cture</a:t>
            </a:r>
            <a:endParaRPr b="0" lang="en-US" sz="1600" spc="-1" strike="noStrike">
              <a:solidFill>
                <a:srgbClr val="000000"/>
              </a:solidFill>
              <a:latin typeface="Times New Roman"/>
            </a:endParaRPr>
          </a:p>
        </p:txBody>
      </p:sp>
      <p:sp>
        <p:nvSpPr>
          <p:cNvPr id="1202" name=""/>
          <p:cNvSpPr/>
          <p:nvPr/>
        </p:nvSpPr>
        <p:spPr>
          <a:xfrm>
            <a:off x="8312040" y="1577880"/>
            <a:ext cx="67644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es</a:t>
            </a:r>
            <a:endParaRPr b="0" lang="en-US" sz="1600" spc="-1" strike="noStrike">
              <a:solidFill>
                <a:srgbClr val="000000"/>
              </a:solidFill>
              <a:latin typeface="Times New Roman"/>
            </a:endParaRPr>
          </a:p>
        </p:txBody>
      </p:sp>
      <p:sp>
        <p:nvSpPr>
          <p:cNvPr id="1203" name=""/>
          <p:cNvSpPr/>
          <p:nvPr/>
        </p:nvSpPr>
        <p:spPr>
          <a:xfrm>
            <a:off x="4888080" y="2682720"/>
            <a:ext cx="977760" cy="50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Quality</a:t>
            </a:r>
            <a:endParaRPr b="0" lang="en-US" sz="1600" spc="-1" strike="noStrike">
              <a:solidFill>
                <a:srgbClr val="000000"/>
              </a:solidFill>
              <a:latin typeface="Times New Roman"/>
            </a:endParaRPr>
          </a:p>
        </p:txBody>
      </p:sp>
      <p:sp>
        <p:nvSpPr>
          <p:cNvPr id="1204" name=""/>
          <p:cNvSpPr/>
          <p:nvPr/>
        </p:nvSpPr>
        <p:spPr>
          <a:xfrm>
            <a:off x="4888080" y="3795840"/>
            <a:ext cx="580680" cy="50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st</a:t>
            </a:r>
            <a:endParaRPr b="0" lang="en-US" sz="1600" spc="-1" strike="noStrike">
              <a:solidFill>
                <a:srgbClr val="000000"/>
              </a:solidFill>
              <a:latin typeface="Times New Roman"/>
            </a:endParaRPr>
          </a:p>
        </p:txBody>
      </p:sp>
      <p:sp>
        <p:nvSpPr>
          <p:cNvPr id="1205" name=""/>
          <p:cNvSpPr/>
          <p:nvPr/>
        </p:nvSpPr>
        <p:spPr>
          <a:xfrm>
            <a:off x="6226200" y="2379600"/>
            <a:ext cx="0" cy="34401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075440" y="2379600"/>
            <a:ext cx="0" cy="34401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7875720" y="2379600"/>
            <a:ext cx="0" cy="34401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634240" y="2379600"/>
            <a:ext cx="0" cy="34401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824440" y="2886120"/>
            <a:ext cx="34354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824440" y="4100400"/>
            <a:ext cx="34354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093000" y="258120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940440" y="2581200"/>
            <a:ext cx="26856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742160" y="258120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501040" y="258120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501040" y="379584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742160" y="379584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940440" y="3795840"/>
            <a:ext cx="26856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093000" y="3795840"/>
            <a:ext cx="268200" cy="608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181560" y="399888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29360" y="399888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831080" y="399888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8589960" y="3998880"/>
            <a:ext cx="889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8589960" y="2784600"/>
            <a:ext cx="889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831080" y="278460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029360" y="278460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181560" y="2784600"/>
            <a:ext cx="90720" cy="201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799160" y="6022800"/>
            <a:ext cx="4341600" cy="606600"/>
          </a:xfrm>
          <a:prstGeom prst="rect">
            <a:avLst/>
          </a:prstGeom>
          <a:solidFill>
            <a:srgbClr val="00ffff"/>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sion / Department Based  Management</a:t>
            </a:r>
            <a:endParaRPr b="0" lang="en-US" sz="1800" spc="-1" strike="noStrike">
              <a:solidFill>
                <a:srgbClr val="000000"/>
              </a:solidFill>
              <a:latin typeface="Times New Roman"/>
            </a:endParaRPr>
          </a:p>
        </p:txBody>
      </p:sp>
      <p:sp>
        <p:nvSpPr>
          <p:cNvPr id="1228" name=""/>
          <p:cNvSpPr/>
          <p:nvPr/>
        </p:nvSpPr>
        <p:spPr>
          <a:xfrm>
            <a:off x="4888080" y="4908600"/>
            <a:ext cx="1130040" cy="50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livery</a:t>
            </a:r>
            <a:endParaRPr b="0" lang="en-US" sz="1600" spc="-1" strike="noStrike">
              <a:solidFill>
                <a:srgbClr val="000000"/>
              </a:solidFill>
              <a:latin typeface="Times New Roman"/>
            </a:endParaRPr>
          </a:p>
        </p:txBody>
      </p:sp>
      <p:sp>
        <p:nvSpPr>
          <p:cNvPr id="1229" name=""/>
          <p:cNvSpPr/>
          <p:nvPr/>
        </p:nvSpPr>
        <p:spPr>
          <a:xfrm>
            <a:off x="9293400" y="1523880"/>
            <a:ext cx="457200" cy="4267440"/>
          </a:xfrm>
          <a:prstGeom prst="rect">
            <a:avLst/>
          </a:prstGeom>
          <a:solidFill>
            <a:srgbClr val="00ffff"/>
          </a:solidFill>
          <a:ln w="9360">
            <a:solidFill>
              <a:srgbClr val="000000"/>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rot="5400000">
            <a:off x="8195040" y="3474000"/>
            <a:ext cx="274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al Managemen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07EEC2F3-DE78-407F-978F-A2534BBA2B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0" y="0"/>
            <a:ext cx="685800" cy="6858000"/>
          </a:xfrm>
          <a:prstGeom prst="rect">
            <a:avLst/>
          </a:prstGeom>
          <a:gradFill rotWithShape="0">
            <a:gsLst>
              <a:gs pos="0">
                <a:srgbClr val="00336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04920" y="0"/>
            <a:ext cx="0" cy="617220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85800" y="453960"/>
            <a:ext cx="9217080" cy="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4" name=""/>
          <p:cNvGrpSpPr/>
          <p:nvPr/>
        </p:nvGrpSpPr>
        <p:grpSpPr>
          <a:xfrm>
            <a:off x="63360" y="96840"/>
            <a:ext cx="1014480" cy="1001880"/>
            <a:chOff x="63360" y="96840"/>
            <a:chExt cx="1014480" cy="1001880"/>
          </a:xfrm>
        </p:grpSpPr>
        <p:sp>
          <p:nvSpPr>
            <p:cNvPr id="1235" name=""/>
            <p:cNvSpPr/>
            <p:nvPr/>
          </p:nvSpPr>
          <p:spPr>
            <a:xfrm>
              <a:off x="69840" y="101160"/>
              <a:ext cx="1004040" cy="990720"/>
            </a:xfrm>
            <a:custGeom>
              <a:avLst/>
              <a:gdLst/>
              <a:ahLst/>
              <a:rect l="l" t="t" r="r" b="b"/>
              <a:pathLst>
                <a:path w="12952" h="12953">
                  <a:moveTo>
                    <a:pt x="2850" y="11843"/>
                  </a:moveTo>
                  <a:lnTo>
                    <a:pt x="3417" y="12185"/>
                  </a:lnTo>
                  <a:lnTo>
                    <a:pt x="4004" y="12463"/>
                  </a:lnTo>
                  <a:lnTo>
                    <a:pt x="4608" y="12679"/>
                  </a:lnTo>
                  <a:lnTo>
                    <a:pt x="5223" y="12831"/>
                  </a:lnTo>
                  <a:lnTo>
                    <a:pt x="5845" y="12923"/>
                  </a:lnTo>
                  <a:lnTo>
                    <a:pt x="6469" y="12953"/>
                  </a:lnTo>
                  <a:lnTo>
                    <a:pt x="7090" y="12924"/>
                  </a:lnTo>
                  <a:lnTo>
                    <a:pt x="7705" y="12834"/>
                  </a:lnTo>
                  <a:lnTo>
                    <a:pt x="8309" y="12688"/>
                  </a:lnTo>
                  <a:lnTo>
                    <a:pt x="8897" y="12484"/>
                  </a:lnTo>
                  <a:lnTo>
                    <a:pt x="9465" y="12223"/>
                  </a:lnTo>
                  <a:lnTo>
                    <a:pt x="10008" y="11907"/>
                  </a:lnTo>
                  <a:lnTo>
                    <a:pt x="10521" y="11536"/>
                  </a:lnTo>
                  <a:lnTo>
                    <a:pt x="11001" y="11111"/>
                  </a:lnTo>
                  <a:lnTo>
                    <a:pt x="11442" y="10634"/>
                  </a:lnTo>
                  <a:lnTo>
                    <a:pt x="11841" y="10104"/>
                  </a:lnTo>
                  <a:lnTo>
                    <a:pt x="12183" y="9537"/>
                  </a:lnTo>
                  <a:lnTo>
                    <a:pt x="12463" y="8949"/>
                  </a:lnTo>
                  <a:lnTo>
                    <a:pt x="12677" y="8345"/>
                  </a:lnTo>
                  <a:lnTo>
                    <a:pt x="12830" y="7731"/>
                  </a:lnTo>
                  <a:lnTo>
                    <a:pt x="12922" y="7109"/>
                  </a:lnTo>
                  <a:lnTo>
                    <a:pt x="12952" y="6485"/>
                  </a:lnTo>
                  <a:lnTo>
                    <a:pt x="12922" y="5863"/>
                  </a:lnTo>
                  <a:lnTo>
                    <a:pt x="12834" y="5247"/>
                  </a:lnTo>
                  <a:lnTo>
                    <a:pt x="12687" y="4643"/>
                  </a:lnTo>
                  <a:lnTo>
                    <a:pt x="12483" y="4056"/>
                  </a:lnTo>
                  <a:lnTo>
                    <a:pt x="12221" y="3488"/>
                  </a:lnTo>
                  <a:lnTo>
                    <a:pt x="11906" y="2945"/>
                  </a:lnTo>
                  <a:lnTo>
                    <a:pt x="11535" y="2431"/>
                  </a:lnTo>
                  <a:lnTo>
                    <a:pt x="11109" y="1952"/>
                  </a:lnTo>
                  <a:lnTo>
                    <a:pt x="10632" y="1511"/>
                  </a:lnTo>
                  <a:lnTo>
                    <a:pt x="10103" y="1113"/>
                  </a:lnTo>
                  <a:lnTo>
                    <a:pt x="9535" y="770"/>
                  </a:lnTo>
                  <a:lnTo>
                    <a:pt x="8947" y="490"/>
                  </a:lnTo>
                  <a:lnTo>
                    <a:pt x="8343" y="275"/>
                  </a:lnTo>
                  <a:lnTo>
                    <a:pt x="7729" y="122"/>
                  </a:lnTo>
                  <a:lnTo>
                    <a:pt x="7107" y="31"/>
                  </a:lnTo>
                  <a:lnTo>
                    <a:pt x="6483" y="0"/>
                  </a:lnTo>
                  <a:lnTo>
                    <a:pt x="5862" y="30"/>
                  </a:lnTo>
                  <a:lnTo>
                    <a:pt x="5246" y="119"/>
                  </a:lnTo>
                  <a:lnTo>
                    <a:pt x="4642" y="266"/>
                  </a:lnTo>
                  <a:lnTo>
                    <a:pt x="4054" y="470"/>
                  </a:lnTo>
                  <a:lnTo>
                    <a:pt x="3487" y="730"/>
                  </a:lnTo>
                  <a:lnTo>
                    <a:pt x="2943" y="1047"/>
                  </a:lnTo>
                  <a:lnTo>
                    <a:pt x="2430" y="1418"/>
                  </a:lnTo>
                  <a:lnTo>
                    <a:pt x="1951" y="1842"/>
                  </a:lnTo>
                  <a:lnTo>
                    <a:pt x="1509" y="2321"/>
                  </a:lnTo>
                  <a:lnTo>
                    <a:pt x="1112" y="2851"/>
                  </a:lnTo>
                  <a:lnTo>
                    <a:pt x="768" y="3418"/>
                  </a:lnTo>
                  <a:lnTo>
                    <a:pt x="489" y="4006"/>
                  </a:lnTo>
                  <a:lnTo>
                    <a:pt x="274" y="4609"/>
                  </a:lnTo>
                  <a:lnTo>
                    <a:pt x="121" y="5224"/>
                  </a:lnTo>
                  <a:lnTo>
                    <a:pt x="29" y="5846"/>
                  </a:lnTo>
                  <a:lnTo>
                    <a:pt x="0" y="6470"/>
                  </a:lnTo>
                  <a:lnTo>
                    <a:pt x="29" y="7092"/>
                  </a:lnTo>
                  <a:lnTo>
                    <a:pt x="118" y="7706"/>
                  </a:lnTo>
                  <a:lnTo>
                    <a:pt x="264" y="8310"/>
                  </a:lnTo>
                  <a:lnTo>
                    <a:pt x="469" y="8898"/>
                  </a:lnTo>
                  <a:lnTo>
                    <a:pt x="730" y="9466"/>
                  </a:lnTo>
                  <a:lnTo>
                    <a:pt x="1046" y="10009"/>
                  </a:lnTo>
                  <a:lnTo>
                    <a:pt x="1417" y="10522"/>
                  </a:lnTo>
                  <a:lnTo>
                    <a:pt x="1842" y="11002"/>
                  </a:lnTo>
                  <a:lnTo>
                    <a:pt x="2319" y="11444"/>
                  </a:lnTo>
                  <a:lnTo>
                    <a:pt x="2850" y="11843"/>
                  </a:lnTo>
                  <a:close/>
                </a:path>
              </a:pathLst>
            </a:custGeom>
            <a:solidFill>
              <a:srgbClr val="0c26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840" y="104040"/>
              <a:ext cx="991080" cy="977760"/>
            </a:xfrm>
            <a:custGeom>
              <a:avLst/>
              <a:gdLst/>
              <a:ahLst/>
              <a:rect l="l" t="t" r="r" b="b"/>
              <a:pathLst>
                <a:path w="12791" h="12791">
                  <a:moveTo>
                    <a:pt x="2815" y="11694"/>
                  </a:moveTo>
                  <a:lnTo>
                    <a:pt x="3374" y="12032"/>
                  </a:lnTo>
                  <a:lnTo>
                    <a:pt x="3955" y="12307"/>
                  </a:lnTo>
                  <a:lnTo>
                    <a:pt x="4551" y="12520"/>
                  </a:lnTo>
                  <a:lnTo>
                    <a:pt x="5158" y="12671"/>
                  </a:lnTo>
                  <a:lnTo>
                    <a:pt x="5772" y="12761"/>
                  </a:lnTo>
                  <a:lnTo>
                    <a:pt x="6388" y="12791"/>
                  </a:lnTo>
                  <a:lnTo>
                    <a:pt x="7003" y="12762"/>
                  </a:lnTo>
                  <a:lnTo>
                    <a:pt x="7610" y="12674"/>
                  </a:lnTo>
                  <a:lnTo>
                    <a:pt x="8206" y="12529"/>
                  </a:lnTo>
                  <a:lnTo>
                    <a:pt x="8787" y="12327"/>
                  </a:lnTo>
                  <a:lnTo>
                    <a:pt x="9347" y="12070"/>
                  </a:lnTo>
                  <a:lnTo>
                    <a:pt x="9884" y="11757"/>
                  </a:lnTo>
                  <a:lnTo>
                    <a:pt x="10391" y="11391"/>
                  </a:lnTo>
                  <a:lnTo>
                    <a:pt x="10864" y="10972"/>
                  </a:lnTo>
                  <a:lnTo>
                    <a:pt x="11300" y="10500"/>
                  </a:lnTo>
                  <a:lnTo>
                    <a:pt x="11694" y="9977"/>
                  </a:lnTo>
                  <a:lnTo>
                    <a:pt x="12032" y="9417"/>
                  </a:lnTo>
                  <a:lnTo>
                    <a:pt x="12308" y="8836"/>
                  </a:lnTo>
                  <a:lnTo>
                    <a:pt x="12520" y="8240"/>
                  </a:lnTo>
                  <a:lnTo>
                    <a:pt x="12671" y="7633"/>
                  </a:lnTo>
                  <a:lnTo>
                    <a:pt x="12762" y="7019"/>
                  </a:lnTo>
                  <a:lnTo>
                    <a:pt x="12791" y="6403"/>
                  </a:lnTo>
                  <a:lnTo>
                    <a:pt x="12762" y="5788"/>
                  </a:lnTo>
                  <a:lnTo>
                    <a:pt x="12674" y="5181"/>
                  </a:lnTo>
                  <a:lnTo>
                    <a:pt x="12529" y="4585"/>
                  </a:lnTo>
                  <a:lnTo>
                    <a:pt x="12328" y="4004"/>
                  </a:lnTo>
                  <a:lnTo>
                    <a:pt x="12069" y="3444"/>
                  </a:lnTo>
                  <a:lnTo>
                    <a:pt x="11758" y="2907"/>
                  </a:lnTo>
                  <a:lnTo>
                    <a:pt x="11391" y="2400"/>
                  </a:lnTo>
                  <a:lnTo>
                    <a:pt x="10971" y="1927"/>
                  </a:lnTo>
                  <a:lnTo>
                    <a:pt x="10500" y="1491"/>
                  </a:lnTo>
                  <a:lnTo>
                    <a:pt x="9977" y="1098"/>
                  </a:lnTo>
                  <a:lnTo>
                    <a:pt x="9416" y="759"/>
                  </a:lnTo>
                  <a:lnTo>
                    <a:pt x="8835" y="484"/>
                  </a:lnTo>
                  <a:lnTo>
                    <a:pt x="8240" y="271"/>
                  </a:lnTo>
                  <a:lnTo>
                    <a:pt x="7632" y="120"/>
                  </a:lnTo>
                  <a:lnTo>
                    <a:pt x="7019" y="30"/>
                  </a:lnTo>
                  <a:lnTo>
                    <a:pt x="6402" y="0"/>
                  </a:lnTo>
                  <a:lnTo>
                    <a:pt x="5789" y="29"/>
                  </a:lnTo>
                  <a:lnTo>
                    <a:pt x="5180" y="117"/>
                  </a:lnTo>
                  <a:lnTo>
                    <a:pt x="4584" y="261"/>
                  </a:lnTo>
                  <a:lnTo>
                    <a:pt x="4004" y="463"/>
                  </a:lnTo>
                  <a:lnTo>
                    <a:pt x="3443" y="721"/>
                  </a:lnTo>
                  <a:lnTo>
                    <a:pt x="2906" y="1033"/>
                  </a:lnTo>
                  <a:lnTo>
                    <a:pt x="2399" y="1400"/>
                  </a:lnTo>
                  <a:lnTo>
                    <a:pt x="1926" y="1819"/>
                  </a:lnTo>
                  <a:lnTo>
                    <a:pt x="1490" y="2291"/>
                  </a:lnTo>
                  <a:lnTo>
                    <a:pt x="1097" y="2815"/>
                  </a:lnTo>
                  <a:lnTo>
                    <a:pt x="758" y="3374"/>
                  </a:lnTo>
                  <a:lnTo>
                    <a:pt x="483" y="3954"/>
                  </a:lnTo>
                  <a:lnTo>
                    <a:pt x="270" y="4551"/>
                  </a:lnTo>
                  <a:lnTo>
                    <a:pt x="119" y="5158"/>
                  </a:lnTo>
                  <a:lnTo>
                    <a:pt x="30" y="5771"/>
                  </a:lnTo>
                  <a:lnTo>
                    <a:pt x="0" y="6388"/>
                  </a:lnTo>
                  <a:lnTo>
                    <a:pt x="29" y="7002"/>
                  </a:lnTo>
                  <a:lnTo>
                    <a:pt x="117" y="7609"/>
                  </a:lnTo>
                  <a:lnTo>
                    <a:pt x="261" y="8206"/>
                  </a:lnTo>
                  <a:lnTo>
                    <a:pt x="463" y="8786"/>
                  </a:lnTo>
                  <a:lnTo>
                    <a:pt x="721" y="9346"/>
                  </a:lnTo>
                  <a:lnTo>
                    <a:pt x="1033" y="9883"/>
                  </a:lnTo>
                  <a:lnTo>
                    <a:pt x="1400" y="10390"/>
                  </a:lnTo>
                  <a:lnTo>
                    <a:pt x="1819" y="10863"/>
                  </a:lnTo>
                  <a:lnTo>
                    <a:pt x="2291" y="11299"/>
                  </a:lnTo>
                  <a:lnTo>
                    <a:pt x="2815" y="11694"/>
                  </a:lnTo>
                  <a:close/>
                </a:path>
              </a:pathLst>
            </a:custGeom>
            <a:solidFill>
              <a:srgbClr val="0e2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8200" y="105840"/>
              <a:ext cx="978840" cy="966960"/>
            </a:xfrm>
            <a:custGeom>
              <a:avLst/>
              <a:gdLst/>
              <a:ahLst/>
              <a:rect l="l" t="t" r="r" b="b"/>
              <a:pathLst>
                <a:path w="12632" h="12630">
                  <a:moveTo>
                    <a:pt x="2780" y="11547"/>
                  </a:moveTo>
                  <a:lnTo>
                    <a:pt x="3333" y="11881"/>
                  </a:lnTo>
                  <a:lnTo>
                    <a:pt x="3906" y="12153"/>
                  </a:lnTo>
                  <a:lnTo>
                    <a:pt x="4495" y="12363"/>
                  </a:lnTo>
                  <a:lnTo>
                    <a:pt x="5094" y="12512"/>
                  </a:lnTo>
                  <a:lnTo>
                    <a:pt x="5700" y="12600"/>
                  </a:lnTo>
                  <a:lnTo>
                    <a:pt x="6309" y="12630"/>
                  </a:lnTo>
                  <a:lnTo>
                    <a:pt x="6916" y="12601"/>
                  </a:lnTo>
                  <a:lnTo>
                    <a:pt x="7515" y="12515"/>
                  </a:lnTo>
                  <a:lnTo>
                    <a:pt x="8104" y="12372"/>
                  </a:lnTo>
                  <a:lnTo>
                    <a:pt x="8677" y="12172"/>
                  </a:lnTo>
                  <a:lnTo>
                    <a:pt x="9231" y="11918"/>
                  </a:lnTo>
                  <a:lnTo>
                    <a:pt x="9761" y="11610"/>
                  </a:lnTo>
                  <a:lnTo>
                    <a:pt x="10261" y="11247"/>
                  </a:lnTo>
                  <a:lnTo>
                    <a:pt x="10729" y="10834"/>
                  </a:lnTo>
                  <a:lnTo>
                    <a:pt x="11160" y="10368"/>
                  </a:lnTo>
                  <a:lnTo>
                    <a:pt x="11549" y="9851"/>
                  </a:lnTo>
                  <a:lnTo>
                    <a:pt x="11882" y="9297"/>
                  </a:lnTo>
                  <a:lnTo>
                    <a:pt x="12155" y="8724"/>
                  </a:lnTo>
                  <a:lnTo>
                    <a:pt x="12364" y="8137"/>
                  </a:lnTo>
                  <a:lnTo>
                    <a:pt x="12513" y="7537"/>
                  </a:lnTo>
                  <a:lnTo>
                    <a:pt x="12602" y="6931"/>
                  </a:lnTo>
                  <a:lnTo>
                    <a:pt x="12632" y="6322"/>
                  </a:lnTo>
                  <a:lnTo>
                    <a:pt x="12602" y="5716"/>
                  </a:lnTo>
                  <a:lnTo>
                    <a:pt x="12516" y="5116"/>
                  </a:lnTo>
                  <a:lnTo>
                    <a:pt x="12373" y="4527"/>
                  </a:lnTo>
                  <a:lnTo>
                    <a:pt x="12174" y="3954"/>
                  </a:lnTo>
                  <a:lnTo>
                    <a:pt x="11919" y="3401"/>
                  </a:lnTo>
                  <a:lnTo>
                    <a:pt x="11610" y="2871"/>
                  </a:lnTo>
                  <a:lnTo>
                    <a:pt x="11249" y="2370"/>
                  </a:lnTo>
                  <a:lnTo>
                    <a:pt x="10834" y="1903"/>
                  </a:lnTo>
                  <a:lnTo>
                    <a:pt x="10369" y="1472"/>
                  </a:lnTo>
                  <a:lnTo>
                    <a:pt x="9853" y="1084"/>
                  </a:lnTo>
                  <a:lnTo>
                    <a:pt x="9299" y="749"/>
                  </a:lnTo>
                  <a:lnTo>
                    <a:pt x="8726" y="477"/>
                  </a:lnTo>
                  <a:lnTo>
                    <a:pt x="8138" y="267"/>
                  </a:lnTo>
                  <a:lnTo>
                    <a:pt x="7539" y="118"/>
                  </a:lnTo>
                  <a:lnTo>
                    <a:pt x="6932" y="28"/>
                  </a:lnTo>
                  <a:lnTo>
                    <a:pt x="6323" y="0"/>
                  </a:lnTo>
                  <a:lnTo>
                    <a:pt x="5717" y="28"/>
                  </a:lnTo>
                  <a:lnTo>
                    <a:pt x="5118" y="115"/>
                  </a:lnTo>
                  <a:lnTo>
                    <a:pt x="4529" y="258"/>
                  </a:lnTo>
                  <a:lnTo>
                    <a:pt x="3955" y="457"/>
                  </a:lnTo>
                  <a:lnTo>
                    <a:pt x="3401" y="712"/>
                  </a:lnTo>
                  <a:lnTo>
                    <a:pt x="2872" y="1020"/>
                  </a:lnTo>
                  <a:lnTo>
                    <a:pt x="2371" y="1382"/>
                  </a:lnTo>
                  <a:lnTo>
                    <a:pt x="1903" y="1796"/>
                  </a:lnTo>
                  <a:lnTo>
                    <a:pt x="1472" y="2262"/>
                  </a:lnTo>
                  <a:lnTo>
                    <a:pt x="1084" y="2780"/>
                  </a:lnTo>
                  <a:lnTo>
                    <a:pt x="750" y="3332"/>
                  </a:lnTo>
                  <a:lnTo>
                    <a:pt x="477" y="3905"/>
                  </a:lnTo>
                  <a:lnTo>
                    <a:pt x="268" y="4494"/>
                  </a:lnTo>
                  <a:lnTo>
                    <a:pt x="119" y="5094"/>
                  </a:lnTo>
                  <a:lnTo>
                    <a:pt x="30" y="5700"/>
                  </a:lnTo>
                  <a:lnTo>
                    <a:pt x="0" y="6308"/>
                  </a:lnTo>
                  <a:lnTo>
                    <a:pt x="29" y="6915"/>
                  </a:lnTo>
                  <a:lnTo>
                    <a:pt x="116" y="7515"/>
                  </a:lnTo>
                  <a:lnTo>
                    <a:pt x="259" y="8104"/>
                  </a:lnTo>
                  <a:lnTo>
                    <a:pt x="458" y="8677"/>
                  </a:lnTo>
                  <a:lnTo>
                    <a:pt x="712" y="9230"/>
                  </a:lnTo>
                  <a:lnTo>
                    <a:pt x="1021" y="9760"/>
                  </a:lnTo>
                  <a:lnTo>
                    <a:pt x="1383" y="10261"/>
                  </a:lnTo>
                  <a:lnTo>
                    <a:pt x="1797" y="10727"/>
                  </a:lnTo>
                  <a:lnTo>
                    <a:pt x="2262" y="11158"/>
                  </a:lnTo>
                  <a:lnTo>
                    <a:pt x="2780" y="11547"/>
                  </a:lnTo>
                  <a:close/>
                </a:path>
              </a:pathLst>
            </a:custGeom>
            <a:solidFill>
              <a:srgbClr val="0f2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98280" y="108360"/>
              <a:ext cx="966240" cy="954000"/>
            </a:xfrm>
            <a:custGeom>
              <a:avLst/>
              <a:gdLst/>
              <a:ahLst/>
              <a:rect l="l" t="t" r="r" b="b"/>
              <a:pathLst>
                <a:path w="12472" h="12470">
                  <a:moveTo>
                    <a:pt x="2744" y="11401"/>
                  </a:moveTo>
                  <a:lnTo>
                    <a:pt x="3290" y="11731"/>
                  </a:lnTo>
                  <a:lnTo>
                    <a:pt x="3856" y="11999"/>
                  </a:lnTo>
                  <a:lnTo>
                    <a:pt x="4437" y="12206"/>
                  </a:lnTo>
                  <a:lnTo>
                    <a:pt x="5029" y="12354"/>
                  </a:lnTo>
                  <a:lnTo>
                    <a:pt x="5627" y="12441"/>
                  </a:lnTo>
                  <a:lnTo>
                    <a:pt x="6228" y="12470"/>
                  </a:lnTo>
                  <a:lnTo>
                    <a:pt x="6828" y="12441"/>
                  </a:lnTo>
                  <a:lnTo>
                    <a:pt x="7420" y="12356"/>
                  </a:lnTo>
                  <a:lnTo>
                    <a:pt x="8000" y="12214"/>
                  </a:lnTo>
                  <a:lnTo>
                    <a:pt x="8567" y="12018"/>
                  </a:lnTo>
                  <a:lnTo>
                    <a:pt x="9113" y="11767"/>
                  </a:lnTo>
                  <a:lnTo>
                    <a:pt x="9636" y="11462"/>
                  </a:lnTo>
                  <a:lnTo>
                    <a:pt x="10131" y="11106"/>
                  </a:lnTo>
                  <a:lnTo>
                    <a:pt x="10592" y="10696"/>
                  </a:lnTo>
                  <a:lnTo>
                    <a:pt x="11017" y="10236"/>
                  </a:lnTo>
                  <a:lnTo>
                    <a:pt x="11401" y="9727"/>
                  </a:lnTo>
                  <a:lnTo>
                    <a:pt x="11731" y="9180"/>
                  </a:lnTo>
                  <a:lnTo>
                    <a:pt x="12000" y="8614"/>
                  </a:lnTo>
                  <a:lnTo>
                    <a:pt x="12207" y="8033"/>
                  </a:lnTo>
                  <a:lnTo>
                    <a:pt x="12355" y="7441"/>
                  </a:lnTo>
                  <a:lnTo>
                    <a:pt x="12442" y="6843"/>
                  </a:lnTo>
                  <a:lnTo>
                    <a:pt x="12472" y="6242"/>
                  </a:lnTo>
                  <a:lnTo>
                    <a:pt x="12443" y="5644"/>
                  </a:lnTo>
                  <a:lnTo>
                    <a:pt x="12357" y="5051"/>
                  </a:lnTo>
                  <a:lnTo>
                    <a:pt x="12215" y="4470"/>
                  </a:lnTo>
                  <a:lnTo>
                    <a:pt x="12019" y="3903"/>
                  </a:lnTo>
                  <a:lnTo>
                    <a:pt x="11768" y="3357"/>
                  </a:lnTo>
                  <a:lnTo>
                    <a:pt x="11464" y="2835"/>
                  </a:lnTo>
                  <a:lnTo>
                    <a:pt x="11107" y="2341"/>
                  </a:lnTo>
                  <a:lnTo>
                    <a:pt x="10697" y="1878"/>
                  </a:lnTo>
                  <a:lnTo>
                    <a:pt x="10237" y="1453"/>
                  </a:lnTo>
                  <a:lnTo>
                    <a:pt x="9728" y="1070"/>
                  </a:lnTo>
                  <a:lnTo>
                    <a:pt x="9181" y="740"/>
                  </a:lnTo>
                  <a:lnTo>
                    <a:pt x="8615" y="471"/>
                  </a:lnTo>
                  <a:lnTo>
                    <a:pt x="8034" y="263"/>
                  </a:lnTo>
                  <a:lnTo>
                    <a:pt x="7442" y="117"/>
                  </a:lnTo>
                  <a:lnTo>
                    <a:pt x="6844" y="28"/>
                  </a:lnTo>
                  <a:lnTo>
                    <a:pt x="6243" y="0"/>
                  </a:lnTo>
                  <a:lnTo>
                    <a:pt x="5644" y="28"/>
                  </a:lnTo>
                  <a:lnTo>
                    <a:pt x="5052" y="113"/>
                  </a:lnTo>
                  <a:lnTo>
                    <a:pt x="4471" y="255"/>
                  </a:lnTo>
                  <a:lnTo>
                    <a:pt x="3904" y="451"/>
                  </a:lnTo>
                  <a:lnTo>
                    <a:pt x="3358" y="703"/>
                  </a:lnTo>
                  <a:lnTo>
                    <a:pt x="2836" y="1007"/>
                  </a:lnTo>
                  <a:lnTo>
                    <a:pt x="2341" y="1365"/>
                  </a:lnTo>
                  <a:lnTo>
                    <a:pt x="1879" y="1774"/>
                  </a:lnTo>
                  <a:lnTo>
                    <a:pt x="1454" y="2234"/>
                  </a:lnTo>
                  <a:lnTo>
                    <a:pt x="1071" y="2745"/>
                  </a:lnTo>
                  <a:lnTo>
                    <a:pt x="740" y="3290"/>
                  </a:lnTo>
                  <a:lnTo>
                    <a:pt x="471" y="3855"/>
                  </a:lnTo>
                  <a:lnTo>
                    <a:pt x="264" y="4437"/>
                  </a:lnTo>
                  <a:lnTo>
                    <a:pt x="117" y="5029"/>
                  </a:lnTo>
                  <a:lnTo>
                    <a:pt x="29" y="5628"/>
                  </a:lnTo>
                  <a:lnTo>
                    <a:pt x="0" y="6228"/>
                  </a:lnTo>
                  <a:lnTo>
                    <a:pt x="29" y="6827"/>
                  </a:lnTo>
                  <a:lnTo>
                    <a:pt x="114" y="7419"/>
                  </a:lnTo>
                  <a:lnTo>
                    <a:pt x="255" y="8000"/>
                  </a:lnTo>
                  <a:lnTo>
                    <a:pt x="452" y="8566"/>
                  </a:lnTo>
                  <a:lnTo>
                    <a:pt x="703" y="9112"/>
                  </a:lnTo>
                  <a:lnTo>
                    <a:pt x="1008" y="9635"/>
                  </a:lnTo>
                  <a:lnTo>
                    <a:pt x="1364" y="10130"/>
                  </a:lnTo>
                  <a:lnTo>
                    <a:pt x="1774" y="10592"/>
                  </a:lnTo>
                  <a:lnTo>
                    <a:pt x="2234" y="11017"/>
                  </a:lnTo>
                  <a:lnTo>
                    <a:pt x="2744" y="11401"/>
                  </a:lnTo>
                  <a:close/>
                </a:path>
              </a:pathLst>
            </a:custGeom>
            <a:solidFill>
              <a:srgbClr val="112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07640" y="111240"/>
              <a:ext cx="952920" cy="941400"/>
            </a:xfrm>
            <a:custGeom>
              <a:avLst/>
              <a:gdLst/>
              <a:ahLst/>
              <a:rect l="l" t="t" r="r" b="b"/>
              <a:pathLst>
                <a:path w="12310" h="12310">
                  <a:moveTo>
                    <a:pt x="2709" y="11254"/>
                  </a:moveTo>
                  <a:lnTo>
                    <a:pt x="3248" y="11580"/>
                  </a:lnTo>
                  <a:lnTo>
                    <a:pt x="3806" y="11844"/>
                  </a:lnTo>
                  <a:lnTo>
                    <a:pt x="4380" y="12050"/>
                  </a:lnTo>
                  <a:lnTo>
                    <a:pt x="4964" y="12194"/>
                  </a:lnTo>
                  <a:lnTo>
                    <a:pt x="5555" y="12281"/>
                  </a:lnTo>
                  <a:lnTo>
                    <a:pt x="6148" y="12310"/>
                  </a:lnTo>
                  <a:lnTo>
                    <a:pt x="6740" y="12281"/>
                  </a:lnTo>
                  <a:lnTo>
                    <a:pt x="7324" y="12197"/>
                  </a:lnTo>
                  <a:lnTo>
                    <a:pt x="7897" y="12057"/>
                  </a:lnTo>
                  <a:lnTo>
                    <a:pt x="8456" y="11863"/>
                  </a:lnTo>
                  <a:lnTo>
                    <a:pt x="8997" y="11616"/>
                  </a:lnTo>
                  <a:lnTo>
                    <a:pt x="9512" y="11315"/>
                  </a:lnTo>
                  <a:lnTo>
                    <a:pt x="10000" y="10962"/>
                  </a:lnTo>
                  <a:lnTo>
                    <a:pt x="10456" y="10558"/>
                  </a:lnTo>
                  <a:lnTo>
                    <a:pt x="10875" y="10104"/>
                  </a:lnTo>
                  <a:lnTo>
                    <a:pt x="11255" y="9601"/>
                  </a:lnTo>
                  <a:lnTo>
                    <a:pt x="11580" y="9061"/>
                  </a:lnTo>
                  <a:lnTo>
                    <a:pt x="11845" y="8503"/>
                  </a:lnTo>
                  <a:lnTo>
                    <a:pt x="12050" y="7929"/>
                  </a:lnTo>
                  <a:lnTo>
                    <a:pt x="12194" y="7345"/>
                  </a:lnTo>
                  <a:lnTo>
                    <a:pt x="12282" y="6754"/>
                  </a:lnTo>
                  <a:lnTo>
                    <a:pt x="12310" y="6161"/>
                  </a:lnTo>
                  <a:lnTo>
                    <a:pt x="12282" y="5570"/>
                  </a:lnTo>
                  <a:lnTo>
                    <a:pt x="12198" y="4985"/>
                  </a:lnTo>
                  <a:lnTo>
                    <a:pt x="12057" y="4412"/>
                  </a:lnTo>
                  <a:lnTo>
                    <a:pt x="11864" y="3853"/>
                  </a:lnTo>
                  <a:lnTo>
                    <a:pt x="11616" y="3313"/>
                  </a:lnTo>
                  <a:lnTo>
                    <a:pt x="11315" y="2798"/>
                  </a:lnTo>
                  <a:lnTo>
                    <a:pt x="10962" y="2310"/>
                  </a:lnTo>
                  <a:lnTo>
                    <a:pt x="10558" y="1854"/>
                  </a:lnTo>
                  <a:lnTo>
                    <a:pt x="10104" y="1435"/>
                  </a:lnTo>
                  <a:lnTo>
                    <a:pt x="9601" y="1056"/>
                  </a:lnTo>
                  <a:lnTo>
                    <a:pt x="9062" y="730"/>
                  </a:lnTo>
                  <a:lnTo>
                    <a:pt x="8503" y="464"/>
                  </a:lnTo>
                  <a:lnTo>
                    <a:pt x="7930" y="260"/>
                  </a:lnTo>
                  <a:lnTo>
                    <a:pt x="7346" y="114"/>
                  </a:lnTo>
                  <a:lnTo>
                    <a:pt x="6755" y="28"/>
                  </a:lnTo>
                  <a:lnTo>
                    <a:pt x="6162" y="0"/>
                  </a:lnTo>
                  <a:lnTo>
                    <a:pt x="5571" y="28"/>
                  </a:lnTo>
                  <a:lnTo>
                    <a:pt x="4988" y="112"/>
                  </a:lnTo>
                  <a:lnTo>
                    <a:pt x="4413" y="251"/>
                  </a:lnTo>
                  <a:lnTo>
                    <a:pt x="3855" y="446"/>
                  </a:lnTo>
                  <a:lnTo>
                    <a:pt x="3315" y="694"/>
                  </a:lnTo>
                  <a:lnTo>
                    <a:pt x="2800" y="995"/>
                  </a:lnTo>
                  <a:lnTo>
                    <a:pt x="2312" y="1348"/>
                  </a:lnTo>
                  <a:lnTo>
                    <a:pt x="1856" y="1751"/>
                  </a:lnTo>
                  <a:lnTo>
                    <a:pt x="1437" y="2205"/>
                  </a:lnTo>
                  <a:lnTo>
                    <a:pt x="1058" y="2709"/>
                  </a:lnTo>
                  <a:lnTo>
                    <a:pt x="732" y="3248"/>
                  </a:lnTo>
                  <a:lnTo>
                    <a:pt x="466" y="3806"/>
                  </a:lnTo>
                  <a:lnTo>
                    <a:pt x="261" y="4379"/>
                  </a:lnTo>
                  <a:lnTo>
                    <a:pt x="116" y="4964"/>
                  </a:lnTo>
                  <a:lnTo>
                    <a:pt x="29" y="5555"/>
                  </a:lnTo>
                  <a:lnTo>
                    <a:pt x="0" y="6148"/>
                  </a:lnTo>
                  <a:lnTo>
                    <a:pt x="29" y="6738"/>
                  </a:lnTo>
                  <a:lnTo>
                    <a:pt x="113" y="7323"/>
                  </a:lnTo>
                  <a:lnTo>
                    <a:pt x="252" y="7897"/>
                  </a:lnTo>
                  <a:lnTo>
                    <a:pt x="447" y="8456"/>
                  </a:lnTo>
                  <a:lnTo>
                    <a:pt x="695" y="8995"/>
                  </a:lnTo>
                  <a:lnTo>
                    <a:pt x="996" y="9512"/>
                  </a:lnTo>
                  <a:lnTo>
                    <a:pt x="1347" y="10000"/>
                  </a:lnTo>
                  <a:lnTo>
                    <a:pt x="1751" y="10456"/>
                  </a:lnTo>
                  <a:lnTo>
                    <a:pt x="2205" y="10875"/>
                  </a:lnTo>
                  <a:lnTo>
                    <a:pt x="2709" y="11254"/>
                  </a:lnTo>
                  <a:close/>
                </a:path>
              </a:pathLst>
            </a:custGeom>
            <a:solidFill>
              <a:srgbClr val="132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17000" y="113040"/>
              <a:ext cx="940680" cy="930240"/>
            </a:xfrm>
            <a:custGeom>
              <a:avLst/>
              <a:gdLst/>
              <a:ahLst/>
              <a:rect l="l" t="t" r="r" b="b"/>
              <a:pathLst>
                <a:path w="12148" h="12149">
                  <a:moveTo>
                    <a:pt x="2673" y="11109"/>
                  </a:moveTo>
                  <a:lnTo>
                    <a:pt x="3205" y="11430"/>
                  </a:lnTo>
                  <a:lnTo>
                    <a:pt x="3756" y="11691"/>
                  </a:lnTo>
                  <a:lnTo>
                    <a:pt x="4322" y="11893"/>
                  </a:lnTo>
                  <a:lnTo>
                    <a:pt x="4898" y="12036"/>
                  </a:lnTo>
                  <a:lnTo>
                    <a:pt x="5482" y="12122"/>
                  </a:lnTo>
                  <a:lnTo>
                    <a:pt x="6067" y="12149"/>
                  </a:lnTo>
                  <a:lnTo>
                    <a:pt x="6650" y="12122"/>
                  </a:lnTo>
                  <a:lnTo>
                    <a:pt x="7228" y="12039"/>
                  </a:lnTo>
                  <a:lnTo>
                    <a:pt x="7793" y="11901"/>
                  </a:lnTo>
                  <a:lnTo>
                    <a:pt x="8345" y="11709"/>
                  </a:lnTo>
                  <a:lnTo>
                    <a:pt x="8878" y="11465"/>
                  </a:lnTo>
                  <a:lnTo>
                    <a:pt x="9387" y="11168"/>
                  </a:lnTo>
                  <a:lnTo>
                    <a:pt x="9869" y="10820"/>
                  </a:lnTo>
                  <a:lnTo>
                    <a:pt x="10319" y="10422"/>
                  </a:lnTo>
                  <a:lnTo>
                    <a:pt x="10733" y="9974"/>
                  </a:lnTo>
                  <a:lnTo>
                    <a:pt x="11107" y="9478"/>
                  </a:lnTo>
                  <a:lnTo>
                    <a:pt x="11428" y="8945"/>
                  </a:lnTo>
                  <a:lnTo>
                    <a:pt x="11690" y="8393"/>
                  </a:lnTo>
                  <a:lnTo>
                    <a:pt x="11892" y="7828"/>
                  </a:lnTo>
                  <a:lnTo>
                    <a:pt x="12034" y="7251"/>
                  </a:lnTo>
                  <a:lnTo>
                    <a:pt x="12120" y="6667"/>
                  </a:lnTo>
                  <a:lnTo>
                    <a:pt x="12148" y="6082"/>
                  </a:lnTo>
                  <a:lnTo>
                    <a:pt x="12120" y="5499"/>
                  </a:lnTo>
                  <a:lnTo>
                    <a:pt x="12037" y="4922"/>
                  </a:lnTo>
                  <a:lnTo>
                    <a:pt x="11899" y="4356"/>
                  </a:lnTo>
                  <a:lnTo>
                    <a:pt x="11708" y="3804"/>
                  </a:lnTo>
                  <a:lnTo>
                    <a:pt x="11463" y="3272"/>
                  </a:lnTo>
                  <a:lnTo>
                    <a:pt x="11167" y="2762"/>
                  </a:lnTo>
                  <a:lnTo>
                    <a:pt x="10819" y="2281"/>
                  </a:lnTo>
                  <a:lnTo>
                    <a:pt x="10420" y="1830"/>
                  </a:lnTo>
                  <a:lnTo>
                    <a:pt x="9972" y="1416"/>
                  </a:lnTo>
                  <a:lnTo>
                    <a:pt x="9475" y="1043"/>
                  </a:lnTo>
                  <a:lnTo>
                    <a:pt x="8943" y="721"/>
                  </a:lnTo>
                  <a:lnTo>
                    <a:pt x="8392" y="460"/>
                  </a:lnTo>
                  <a:lnTo>
                    <a:pt x="7826" y="258"/>
                  </a:lnTo>
                  <a:lnTo>
                    <a:pt x="7249" y="114"/>
                  </a:lnTo>
                  <a:lnTo>
                    <a:pt x="6666" y="29"/>
                  </a:lnTo>
                  <a:lnTo>
                    <a:pt x="6081" y="0"/>
                  </a:lnTo>
                  <a:lnTo>
                    <a:pt x="5498" y="28"/>
                  </a:lnTo>
                  <a:lnTo>
                    <a:pt x="4921" y="112"/>
                  </a:lnTo>
                  <a:lnTo>
                    <a:pt x="4355" y="249"/>
                  </a:lnTo>
                  <a:lnTo>
                    <a:pt x="3803" y="442"/>
                  </a:lnTo>
                  <a:lnTo>
                    <a:pt x="3271" y="686"/>
                  </a:lnTo>
                  <a:lnTo>
                    <a:pt x="2762" y="983"/>
                  </a:lnTo>
                  <a:lnTo>
                    <a:pt x="2280" y="1330"/>
                  </a:lnTo>
                  <a:lnTo>
                    <a:pt x="1829" y="1729"/>
                  </a:lnTo>
                  <a:lnTo>
                    <a:pt x="1416" y="2178"/>
                  </a:lnTo>
                  <a:lnTo>
                    <a:pt x="1043" y="2675"/>
                  </a:lnTo>
                  <a:lnTo>
                    <a:pt x="720" y="3207"/>
                  </a:lnTo>
                  <a:lnTo>
                    <a:pt x="459" y="3757"/>
                  </a:lnTo>
                  <a:lnTo>
                    <a:pt x="257" y="4324"/>
                  </a:lnTo>
                  <a:lnTo>
                    <a:pt x="113" y="4900"/>
                  </a:lnTo>
                  <a:lnTo>
                    <a:pt x="28" y="5484"/>
                  </a:lnTo>
                  <a:lnTo>
                    <a:pt x="0" y="6068"/>
                  </a:lnTo>
                  <a:lnTo>
                    <a:pt x="27" y="6652"/>
                  </a:lnTo>
                  <a:lnTo>
                    <a:pt x="111" y="7228"/>
                  </a:lnTo>
                  <a:lnTo>
                    <a:pt x="248" y="7795"/>
                  </a:lnTo>
                  <a:lnTo>
                    <a:pt x="440" y="8347"/>
                  </a:lnTo>
                  <a:lnTo>
                    <a:pt x="685" y="8879"/>
                  </a:lnTo>
                  <a:lnTo>
                    <a:pt x="982" y="9388"/>
                  </a:lnTo>
                  <a:lnTo>
                    <a:pt x="1330" y="9870"/>
                  </a:lnTo>
                  <a:lnTo>
                    <a:pt x="1728" y="10320"/>
                  </a:lnTo>
                  <a:lnTo>
                    <a:pt x="2176" y="10734"/>
                  </a:lnTo>
                  <a:lnTo>
                    <a:pt x="2673" y="11109"/>
                  </a:lnTo>
                  <a:close/>
                </a:path>
              </a:pathLst>
            </a:custGeom>
            <a:solidFill>
              <a:srgbClr val="152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26360" y="115920"/>
              <a:ext cx="928800" cy="917640"/>
            </a:xfrm>
            <a:custGeom>
              <a:avLst/>
              <a:gdLst/>
              <a:ahLst/>
              <a:rect l="l" t="t" r="r" b="b"/>
              <a:pathLst>
                <a:path w="11988" h="11989">
                  <a:moveTo>
                    <a:pt x="2638" y="10961"/>
                  </a:moveTo>
                  <a:lnTo>
                    <a:pt x="3163" y="11277"/>
                  </a:lnTo>
                  <a:lnTo>
                    <a:pt x="3707" y="11536"/>
                  </a:lnTo>
                  <a:lnTo>
                    <a:pt x="4265" y="11735"/>
                  </a:lnTo>
                  <a:lnTo>
                    <a:pt x="4834" y="11877"/>
                  </a:lnTo>
                  <a:lnTo>
                    <a:pt x="5410" y="11961"/>
                  </a:lnTo>
                  <a:lnTo>
                    <a:pt x="5987" y="11989"/>
                  </a:lnTo>
                  <a:lnTo>
                    <a:pt x="6562" y="11961"/>
                  </a:lnTo>
                  <a:lnTo>
                    <a:pt x="7132" y="11879"/>
                  </a:lnTo>
                  <a:lnTo>
                    <a:pt x="7690" y="11743"/>
                  </a:lnTo>
                  <a:lnTo>
                    <a:pt x="8235" y="11554"/>
                  </a:lnTo>
                  <a:lnTo>
                    <a:pt x="8760" y="11313"/>
                  </a:lnTo>
                  <a:lnTo>
                    <a:pt x="9263" y="11020"/>
                  </a:lnTo>
                  <a:lnTo>
                    <a:pt x="9738" y="10677"/>
                  </a:lnTo>
                  <a:lnTo>
                    <a:pt x="10182" y="10283"/>
                  </a:lnTo>
                  <a:lnTo>
                    <a:pt x="10591" y="9842"/>
                  </a:lnTo>
                  <a:lnTo>
                    <a:pt x="10959" y="9352"/>
                  </a:lnTo>
                  <a:lnTo>
                    <a:pt x="11276" y="8827"/>
                  </a:lnTo>
                  <a:lnTo>
                    <a:pt x="11535" y="8283"/>
                  </a:lnTo>
                  <a:lnTo>
                    <a:pt x="11733" y="7724"/>
                  </a:lnTo>
                  <a:lnTo>
                    <a:pt x="11876" y="7155"/>
                  </a:lnTo>
                  <a:lnTo>
                    <a:pt x="11960" y="6580"/>
                  </a:lnTo>
                  <a:lnTo>
                    <a:pt x="11988" y="6001"/>
                  </a:lnTo>
                  <a:lnTo>
                    <a:pt x="11960" y="5426"/>
                  </a:lnTo>
                  <a:lnTo>
                    <a:pt x="11878" y="4858"/>
                  </a:lnTo>
                  <a:lnTo>
                    <a:pt x="11742" y="4298"/>
                  </a:lnTo>
                  <a:lnTo>
                    <a:pt x="11553" y="3754"/>
                  </a:lnTo>
                  <a:lnTo>
                    <a:pt x="11311" y="3229"/>
                  </a:lnTo>
                  <a:lnTo>
                    <a:pt x="11019" y="2726"/>
                  </a:lnTo>
                  <a:lnTo>
                    <a:pt x="10676" y="2251"/>
                  </a:lnTo>
                  <a:lnTo>
                    <a:pt x="10282" y="1806"/>
                  </a:lnTo>
                  <a:lnTo>
                    <a:pt x="9840" y="1398"/>
                  </a:lnTo>
                  <a:lnTo>
                    <a:pt x="9350" y="1030"/>
                  </a:lnTo>
                  <a:lnTo>
                    <a:pt x="8825" y="713"/>
                  </a:lnTo>
                  <a:lnTo>
                    <a:pt x="8281" y="454"/>
                  </a:lnTo>
                  <a:lnTo>
                    <a:pt x="7722" y="254"/>
                  </a:lnTo>
                  <a:lnTo>
                    <a:pt x="7154" y="113"/>
                  </a:lnTo>
                  <a:lnTo>
                    <a:pt x="6578" y="29"/>
                  </a:lnTo>
                  <a:lnTo>
                    <a:pt x="6001" y="0"/>
                  </a:lnTo>
                  <a:lnTo>
                    <a:pt x="5425" y="28"/>
                  </a:lnTo>
                  <a:lnTo>
                    <a:pt x="4856" y="111"/>
                  </a:lnTo>
                  <a:lnTo>
                    <a:pt x="4297" y="246"/>
                  </a:lnTo>
                  <a:lnTo>
                    <a:pt x="3753" y="435"/>
                  </a:lnTo>
                  <a:lnTo>
                    <a:pt x="3227" y="676"/>
                  </a:lnTo>
                  <a:lnTo>
                    <a:pt x="2725" y="970"/>
                  </a:lnTo>
                  <a:lnTo>
                    <a:pt x="2249" y="1313"/>
                  </a:lnTo>
                  <a:lnTo>
                    <a:pt x="1806" y="1705"/>
                  </a:lnTo>
                  <a:lnTo>
                    <a:pt x="1397" y="2148"/>
                  </a:lnTo>
                  <a:lnTo>
                    <a:pt x="1029" y="2639"/>
                  </a:lnTo>
                  <a:lnTo>
                    <a:pt x="711" y="3163"/>
                  </a:lnTo>
                  <a:lnTo>
                    <a:pt x="453" y="3707"/>
                  </a:lnTo>
                  <a:lnTo>
                    <a:pt x="254" y="4265"/>
                  </a:lnTo>
                  <a:lnTo>
                    <a:pt x="113" y="4835"/>
                  </a:lnTo>
                  <a:lnTo>
                    <a:pt x="29" y="5410"/>
                  </a:lnTo>
                  <a:lnTo>
                    <a:pt x="0" y="5988"/>
                  </a:lnTo>
                  <a:lnTo>
                    <a:pt x="27" y="6563"/>
                  </a:lnTo>
                  <a:lnTo>
                    <a:pt x="109" y="7132"/>
                  </a:lnTo>
                  <a:lnTo>
                    <a:pt x="245" y="7692"/>
                  </a:lnTo>
                  <a:lnTo>
                    <a:pt x="435" y="8236"/>
                  </a:lnTo>
                  <a:lnTo>
                    <a:pt x="676" y="8761"/>
                  </a:lnTo>
                  <a:lnTo>
                    <a:pt x="968" y="9264"/>
                  </a:lnTo>
                  <a:lnTo>
                    <a:pt x="1312" y="9739"/>
                  </a:lnTo>
                  <a:lnTo>
                    <a:pt x="1705" y="10182"/>
                  </a:lnTo>
                  <a:lnTo>
                    <a:pt x="2147" y="10592"/>
                  </a:lnTo>
                  <a:lnTo>
                    <a:pt x="2638" y="10961"/>
                  </a:lnTo>
                  <a:close/>
                </a:path>
              </a:pathLst>
            </a:custGeom>
            <a:solidFill>
              <a:srgbClr val="173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35720" y="118800"/>
              <a:ext cx="916920" cy="904320"/>
            </a:xfrm>
            <a:custGeom>
              <a:avLst/>
              <a:gdLst/>
              <a:ahLst/>
              <a:rect l="l" t="t" r="r" b="b"/>
              <a:pathLst>
                <a:path w="11827" h="11827">
                  <a:moveTo>
                    <a:pt x="2603" y="10813"/>
                  </a:moveTo>
                  <a:lnTo>
                    <a:pt x="3120" y="11125"/>
                  </a:lnTo>
                  <a:lnTo>
                    <a:pt x="3657" y="11381"/>
                  </a:lnTo>
                  <a:lnTo>
                    <a:pt x="4208" y="11577"/>
                  </a:lnTo>
                  <a:lnTo>
                    <a:pt x="4769" y="11716"/>
                  </a:lnTo>
                  <a:lnTo>
                    <a:pt x="5337" y="11799"/>
                  </a:lnTo>
                  <a:lnTo>
                    <a:pt x="5907" y="11827"/>
                  </a:lnTo>
                  <a:lnTo>
                    <a:pt x="6474" y="11799"/>
                  </a:lnTo>
                  <a:lnTo>
                    <a:pt x="7037" y="11719"/>
                  </a:lnTo>
                  <a:lnTo>
                    <a:pt x="7587" y="11585"/>
                  </a:lnTo>
                  <a:lnTo>
                    <a:pt x="8124" y="11399"/>
                  </a:lnTo>
                  <a:lnTo>
                    <a:pt x="8643" y="11160"/>
                  </a:lnTo>
                  <a:lnTo>
                    <a:pt x="9139" y="10871"/>
                  </a:lnTo>
                  <a:lnTo>
                    <a:pt x="9607" y="10532"/>
                  </a:lnTo>
                  <a:lnTo>
                    <a:pt x="10045" y="10144"/>
                  </a:lnTo>
                  <a:lnTo>
                    <a:pt x="10448" y="9708"/>
                  </a:lnTo>
                  <a:lnTo>
                    <a:pt x="10813" y="9225"/>
                  </a:lnTo>
                  <a:lnTo>
                    <a:pt x="11126" y="8706"/>
                  </a:lnTo>
                  <a:lnTo>
                    <a:pt x="11381" y="8170"/>
                  </a:lnTo>
                  <a:lnTo>
                    <a:pt x="11577" y="7619"/>
                  </a:lnTo>
                  <a:lnTo>
                    <a:pt x="11717" y="7058"/>
                  </a:lnTo>
                  <a:lnTo>
                    <a:pt x="11800" y="6490"/>
                  </a:lnTo>
                  <a:lnTo>
                    <a:pt x="11827" y="5921"/>
                  </a:lnTo>
                  <a:lnTo>
                    <a:pt x="11800" y="5353"/>
                  </a:lnTo>
                  <a:lnTo>
                    <a:pt x="11719" y="4792"/>
                  </a:lnTo>
                  <a:lnTo>
                    <a:pt x="11585" y="4240"/>
                  </a:lnTo>
                  <a:lnTo>
                    <a:pt x="11399" y="3703"/>
                  </a:lnTo>
                  <a:lnTo>
                    <a:pt x="11161" y="3184"/>
                  </a:lnTo>
                  <a:lnTo>
                    <a:pt x="10871" y="2689"/>
                  </a:lnTo>
                  <a:lnTo>
                    <a:pt x="10532" y="2220"/>
                  </a:lnTo>
                  <a:lnTo>
                    <a:pt x="10144" y="1782"/>
                  </a:lnTo>
                  <a:lnTo>
                    <a:pt x="9708" y="1379"/>
                  </a:lnTo>
                  <a:lnTo>
                    <a:pt x="9225" y="1016"/>
                  </a:lnTo>
                  <a:lnTo>
                    <a:pt x="8706" y="702"/>
                  </a:lnTo>
                  <a:lnTo>
                    <a:pt x="8170" y="447"/>
                  </a:lnTo>
                  <a:lnTo>
                    <a:pt x="7619" y="250"/>
                  </a:lnTo>
                  <a:lnTo>
                    <a:pt x="7058" y="111"/>
                  </a:lnTo>
                  <a:lnTo>
                    <a:pt x="6490" y="28"/>
                  </a:lnTo>
                  <a:lnTo>
                    <a:pt x="5921" y="0"/>
                  </a:lnTo>
                  <a:lnTo>
                    <a:pt x="5353" y="27"/>
                  </a:lnTo>
                  <a:lnTo>
                    <a:pt x="4791" y="108"/>
                  </a:lnTo>
                  <a:lnTo>
                    <a:pt x="4240" y="242"/>
                  </a:lnTo>
                  <a:lnTo>
                    <a:pt x="3703" y="429"/>
                  </a:lnTo>
                  <a:lnTo>
                    <a:pt x="3184" y="667"/>
                  </a:lnTo>
                  <a:lnTo>
                    <a:pt x="2689" y="956"/>
                  </a:lnTo>
                  <a:lnTo>
                    <a:pt x="2220" y="1294"/>
                  </a:lnTo>
                  <a:lnTo>
                    <a:pt x="1782" y="1682"/>
                  </a:lnTo>
                  <a:lnTo>
                    <a:pt x="1379" y="2118"/>
                  </a:lnTo>
                  <a:lnTo>
                    <a:pt x="1015" y="2603"/>
                  </a:lnTo>
                  <a:lnTo>
                    <a:pt x="702" y="3120"/>
                  </a:lnTo>
                  <a:lnTo>
                    <a:pt x="447" y="3656"/>
                  </a:lnTo>
                  <a:lnTo>
                    <a:pt x="250" y="4208"/>
                  </a:lnTo>
                  <a:lnTo>
                    <a:pt x="111" y="4769"/>
                  </a:lnTo>
                  <a:lnTo>
                    <a:pt x="28" y="5337"/>
                  </a:lnTo>
                  <a:lnTo>
                    <a:pt x="0" y="5907"/>
                  </a:lnTo>
                  <a:lnTo>
                    <a:pt x="27" y="6474"/>
                  </a:lnTo>
                  <a:lnTo>
                    <a:pt x="108" y="7036"/>
                  </a:lnTo>
                  <a:lnTo>
                    <a:pt x="242" y="7587"/>
                  </a:lnTo>
                  <a:lnTo>
                    <a:pt x="428" y="8124"/>
                  </a:lnTo>
                  <a:lnTo>
                    <a:pt x="667" y="8643"/>
                  </a:lnTo>
                  <a:lnTo>
                    <a:pt x="956" y="9138"/>
                  </a:lnTo>
                  <a:lnTo>
                    <a:pt x="1294" y="9607"/>
                  </a:lnTo>
                  <a:lnTo>
                    <a:pt x="1682" y="10045"/>
                  </a:lnTo>
                  <a:lnTo>
                    <a:pt x="2118" y="10448"/>
                  </a:lnTo>
                  <a:lnTo>
                    <a:pt x="2603" y="10813"/>
                  </a:lnTo>
                  <a:close/>
                </a:path>
              </a:pathLst>
            </a:custGeom>
            <a:solidFill>
              <a:srgbClr val="193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45080" y="120240"/>
              <a:ext cx="903600" cy="892800"/>
            </a:xfrm>
            <a:custGeom>
              <a:avLst/>
              <a:gdLst/>
              <a:ahLst/>
              <a:rect l="l" t="t" r="r" b="b"/>
              <a:pathLst>
                <a:path w="11668" h="11666">
                  <a:moveTo>
                    <a:pt x="2569" y="10666"/>
                  </a:moveTo>
                  <a:lnTo>
                    <a:pt x="3079" y="10974"/>
                  </a:lnTo>
                  <a:lnTo>
                    <a:pt x="3608" y="11225"/>
                  </a:lnTo>
                  <a:lnTo>
                    <a:pt x="4152" y="11420"/>
                  </a:lnTo>
                  <a:lnTo>
                    <a:pt x="4706" y="11557"/>
                  </a:lnTo>
                  <a:lnTo>
                    <a:pt x="5266" y="11640"/>
                  </a:lnTo>
                  <a:lnTo>
                    <a:pt x="5827" y="11666"/>
                  </a:lnTo>
                  <a:lnTo>
                    <a:pt x="6387" y="11640"/>
                  </a:lnTo>
                  <a:lnTo>
                    <a:pt x="6941" y="11560"/>
                  </a:lnTo>
                  <a:lnTo>
                    <a:pt x="7486" y="11428"/>
                  </a:lnTo>
                  <a:lnTo>
                    <a:pt x="8015" y="11243"/>
                  </a:lnTo>
                  <a:lnTo>
                    <a:pt x="8526" y="11009"/>
                  </a:lnTo>
                  <a:lnTo>
                    <a:pt x="9015" y="10724"/>
                  </a:lnTo>
                  <a:lnTo>
                    <a:pt x="9478" y="10390"/>
                  </a:lnTo>
                  <a:lnTo>
                    <a:pt x="9911" y="10007"/>
                  </a:lnTo>
                  <a:lnTo>
                    <a:pt x="10308" y="9576"/>
                  </a:lnTo>
                  <a:lnTo>
                    <a:pt x="10667" y="9100"/>
                  </a:lnTo>
                  <a:lnTo>
                    <a:pt x="10976" y="8589"/>
                  </a:lnTo>
                  <a:lnTo>
                    <a:pt x="11227" y="8059"/>
                  </a:lnTo>
                  <a:lnTo>
                    <a:pt x="11420" y="7515"/>
                  </a:lnTo>
                  <a:lnTo>
                    <a:pt x="11558" y="6962"/>
                  </a:lnTo>
                  <a:lnTo>
                    <a:pt x="11640" y="6402"/>
                  </a:lnTo>
                  <a:lnTo>
                    <a:pt x="11668" y="5840"/>
                  </a:lnTo>
                  <a:lnTo>
                    <a:pt x="11640" y="5279"/>
                  </a:lnTo>
                  <a:lnTo>
                    <a:pt x="11560" y="4726"/>
                  </a:lnTo>
                  <a:lnTo>
                    <a:pt x="11429" y="4182"/>
                  </a:lnTo>
                  <a:lnTo>
                    <a:pt x="11245" y="3653"/>
                  </a:lnTo>
                  <a:lnTo>
                    <a:pt x="11010" y="3142"/>
                  </a:lnTo>
                  <a:lnTo>
                    <a:pt x="10725" y="2653"/>
                  </a:lnTo>
                  <a:lnTo>
                    <a:pt x="10390" y="2190"/>
                  </a:lnTo>
                  <a:lnTo>
                    <a:pt x="10007" y="1757"/>
                  </a:lnTo>
                  <a:lnTo>
                    <a:pt x="9577" y="1360"/>
                  </a:lnTo>
                  <a:lnTo>
                    <a:pt x="9100" y="1002"/>
                  </a:lnTo>
                  <a:lnTo>
                    <a:pt x="8589" y="692"/>
                  </a:lnTo>
                  <a:lnTo>
                    <a:pt x="8060" y="441"/>
                  </a:lnTo>
                  <a:lnTo>
                    <a:pt x="7516" y="247"/>
                  </a:lnTo>
                  <a:lnTo>
                    <a:pt x="6962" y="110"/>
                  </a:lnTo>
                  <a:lnTo>
                    <a:pt x="6402" y="28"/>
                  </a:lnTo>
                  <a:lnTo>
                    <a:pt x="5841" y="0"/>
                  </a:lnTo>
                  <a:lnTo>
                    <a:pt x="5281" y="27"/>
                  </a:lnTo>
                  <a:lnTo>
                    <a:pt x="4727" y="106"/>
                  </a:lnTo>
                  <a:lnTo>
                    <a:pt x="4182" y="239"/>
                  </a:lnTo>
                  <a:lnTo>
                    <a:pt x="3653" y="423"/>
                  </a:lnTo>
                  <a:lnTo>
                    <a:pt x="3142" y="658"/>
                  </a:lnTo>
                  <a:lnTo>
                    <a:pt x="2653" y="943"/>
                  </a:lnTo>
                  <a:lnTo>
                    <a:pt x="2190" y="1277"/>
                  </a:lnTo>
                  <a:lnTo>
                    <a:pt x="1757" y="1660"/>
                  </a:lnTo>
                  <a:lnTo>
                    <a:pt x="1360" y="2090"/>
                  </a:lnTo>
                  <a:lnTo>
                    <a:pt x="1002" y="2567"/>
                  </a:lnTo>
                  <a:lnTo>
                    <a:pt x="692" y="3078"/>
                  </a:lnTo>
                  <a:lnTo>
                    <a:pt x="441" y="3607"/>
                  </a:lnTo>
                  <a:lnTo>
                    <a:pt x="248" y="4150"/>
                  </a:lnTo>
                  <a:lnTo>
                    <a:pt x="110" y="4704"/>
                  </a:lnTo>
                  <a:lnTo>
                    <a:pt x="28" y="5265"/>
                  </a:lnTo>
                  <a:lnTo>
                    <a:pt x="0" y="5826"/>
                  </a:lnTo>
                  <a:lnTo>
                    <a:pt x="28" y="6386"/>
                  </a:lnTo>
                  <a:lnTo>
                    <a:pt x="108" y="6940"/>
                  </a:lnTo>
                  <a:lnTo>
                    <a:pt x="239" y="7484"/>
                  </a:lnTo>
                  <a:lnTo>
                    <a:pt x="423" y="8014"/>
                  </a:lnTo>
                  <a:lnTo>
                    <a:pt x="658" y="8525"/>
                  </a:lnTo>
                  <a:lnTo>
                    <a:pt x="943" y="9014"/>
                  </a:lnTo>
                  <a:lnTo>
                    <a:pt x="1278" y="9476"/>
                  </a:lnTo>
                  <a:lnTo>
                    <a:pt x="1661" y="9909"/>
                  </a:lnTo>
                  <a:lnTo>
                    <a:pt x="2091" y="10307"/>
                  </a:lnTo>
                  <a:lnTo>
                    <a:pt x="2569" y="10666"/>
                  </a:lnTo>
                  <a:close/>
                </a:path>
              </a:pathLst>
            </a:custGeom>
            <a:solidFill>
              <a:srgbClr val="1b3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54440" y="123480"/>
              <a:ext cx="891720" cy="880560"/>
            </a:xfrm>
            <a:custGeom>
              <a:avLst/>
              <a:gdLst/>
              <a:ahLst/>
              <a:rect l="l" t="t" r="r" b="b"/>
              <a:pathLst>
                <a:path w="11505" h="11506">
                  <a:moveTo>
                    <a:pt x="2532" y="10519"/>
                  </a:moveTo>
                  <a:lnTo>
                    <a:pt x="3036" y="10823"/>
                  </a:lnTo>
                  <a:lnTo>
                    <a:pt x="3558" y="11071"/>
                  </a:lnTo>
                  <a:lnTo>
                    <a:pt x="4093" y="11262"/>
                  </a:lnTo>
                  <a:lnTo>
                    <a:pt x="4640" y="11398"/>
                  </a:lnTo>
                  <a:lnTo>
                    <a:pt x="5192" y="11479"/>
                  </a:lnTo>
                  <a:lnTo>
                    <a:pt x="5747" y="11506"/>
                  </a:lnTo>
                  <a:lnTo>
                    <a:pt x="6298" y="11479"/>
                  </a:lnTo>
                  <a:lnTo>
                    <a:pt x="6845" y="11400"/>
                  </a:lnTo>
                  <a:lnTo>
                    <a:pt x="7382" y="11270"/>
                  </a:lnTo>
                  <a:lnTo>
                    <a:pt x="7904" y="11089"/>
                  </a:lnTo>
                  <a:lnTo>
                    <a:pt x="8408" y="10857"/>
                  </a:lnTo>
                  <a:lnTo>
                    <a:pt x="8890" y="10577"/>
                  </a:lnTo>
                  <a:lnTo>
                    <a:pt x="9346" y="10246"/>
                  </a:lnTo>
                  <a:lnTo>
                    <a:pt x="9773" y="9869"/>
                  </a:lnTo>
                  <a:lnTo>
                    <a:pt x="10165" y="9444"/>
                  </a:lnTo>
                  <a:lnTo>
                    <a:pt x="10519" y="8975"/>
                  </a:lnTo>
                  <a:lnTo>
                    <a:pt x="10823" y="8470"/>
                  </a:lnTo>
                  <a:lnTo>
                    <a:pt x="11071" y="7948"/>
                  </a:lnTo>
                  <a:lnTo>
                    <a:pt x="11262" y="7412"/>
                  </a:lnTo>
                  <a:lnTo>
                    <a:pt x="11398" y="6865"/>
                  </a:lnTo>
                  <a:lnTo>
                    <a:pt x="11479" y="6314"/>
                  </a:lnTo>
                  <a:lnTo>
                    <a:pt x="11505" y="5759"/>
                  </a:lnTo>
                  <a:lnTo>
                    <a:pt x="11479" y="5207"/>
                  </a:lnTo>
                  <a:lnTo>
                    <a:pt x="11400" y="4661"/>
                  </a:lnTo>
                  <a:lnTo>
                    <a:pt x="11269" y="4124"/>
                  </a:lnTo>
                  <a:lnTo>
                    <a:pt x="11089" y="3602"/>
                  </a:lnTo>
                  <a:lnTo>
                    <a:pt x="10857" y="3098"/>
                  </a:lnTo>
                  <a:lnTo>
                    <a:pt x="10576" y="2615"/>
                  </a:lnTo>
                  <a:lnTo>
                    <a:pt x="10246" y="2159"/>
                  </a:lnTo>
                  <a:lnTo>
                    <a:pt x="9868" y="1733"/>
                  </a:lnTo>
                  <a:lnTo>
                    <a:pt x="9444" y="1341"/>
                  </a:lnTo>
                  <a:lnTo>
                    <a:pt x="8974" y="988"/>
                  </a:lnTo>
                  <a:lnTo>
                    <a:pt x="8470" y="683"/>
                  </a:lnTo>
                  <a:lnTo>
                    <a:pt x="7948" y="435"/>
                  </a:lnTo>
                  <a:lnTo>
                    <a:pt x="7412" y="244"/>
                  </a:lnTo>
                  <a:lnTo>
                    <a:pt x="6866" y="108"/>
                  </a:lnTo>
                  <a:lnTo>
                    <a:pt x="6313" y="27"/>
                  </a:lnTo>
                  <a:lnTo>
                    <a:pt x="5759" y="0"/>
                  </a:lnTo>
                  <a:lnTo>
                    <a:pt x="5208" y="27"/>
                  </a:lnTo>
                  <a:lnTo>
                    <a:pt x="4661" y="105"/>
                  </a:lnTo>
                  <a:lnTo>
                    <a:pt x="4124" y="236"/>
                  </a:lnTo>
                  <a:lnTo>
                    <a:pt x="3602" y="418"/>
                  </a:lnTo>
                  <a:lnTo>
                    <a:pt x="3098" y="649"/>
                  </a:lnTo>
                  <a:lnTo>
                    <a:pt x="2616" y="930"/>
                  </a:lnTo>
                  <a:lnTo>
                    <a:pt x="2160" y="1260"/>
                  </a:lnTo>
                  <a:lnTo>
                    <a:pt x="1733" y="1637"/>
                  </a:lnTo>
                  <a:lnTo>
                    <a:pt x="1341" y="2061"/>
                  </a:lnTo>
                  <a:lnTo>
                    <a:pt x="988" y="2532"/>
                  </a:lnTo>
                  <a:lnTo>
                    <a:pt x="683" y="3035"/>
                  </a:lnTo>
                  <a:lnTo>
                    <a:pt x="435" y="3557"/>
                  </a:lnTo>
                  <a:lnTo>
                    <a:pt x="244" y="4094"/>
                  </a:lnTo>
                  <a:lnTo>
                    <a:pt x="108" y="4639"/>
                  </a:lnTo>
                  <a:lnTo>
                    <a:pt x="27" y="5192"/>
                  </a:lnTo>
                  <a:lnTo>
                    <a:pt x="0" y="5746"/>
                  </a:lnTo>
                  <a:lnTo>
                    <a:pt x="26" y="6299"/>
                  </a:lnTo>
                  <a:lnTo>
                    <a:pt x="106" y="6845"/>
                  </a:lnTo>
                  <a:lnTo>
                    <a:pt x="235" y="7381"/>
                  </a:lnTo>
                  <a:lnTo>
                    <a:pt x="417" y="7904"/>
                  </a:lnTo>
                  <a:lnTo>
                    <a:pt x="649" y="8408"/>
                  </a:lnTo>
                  <a:lnTo>
                    <a:pt x="930" y="8891"/>
                  </a:lnTo>
                  <a:lnTo>
                    <a:pt x="1259" y="9347"/>
                  </a:lnTo>
                  <a:lnTo>
                    <a:pt x="1637" y="9773"/>
                  </a:lnTo>
                  <a:lnTo>
                    <a:pt x="2061" y="10165"/>
                  </a:lnTo>
                  <a:lnTo>
                    <a:pt x="2532" y="10519"/>
                  </a:lnTo>
                  <a:close/>
                </a:path>
              </a:pathLst>
            </a:custGeom>
            <a:solidFill>
              <a:srgbClr val="1c3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3440" y="126000"/>
              <a:ext cx="879840" cy="867600"/>
            </a:xfrm>
            <a:custGeom>
              <a:avLst/>
              <a:gdLst/>
              <a:ahLst/>
              <a:rect l="l" t="t" r="r" b="b"/>
              <a:pathLst>
                <a:path w="11344" h="11345">
                  <a:moveTo>
                    <a:pt x="2496" y="10372"/>
                  </a:moveTo>
                  <a:lnTo>
                    <a:pt x="2992" y="10672"/>
                  </a:lnTo>
                  <a:lnTo>
                    <a:pt x="3507" y="10917"/>
                  </a:lnTo>
                  <a:lnTo>
                    <a:pt x="4035" y="11106"/>
                  </a:lnTo>
                  <a:lnTo>
                    <a:pt x="4574" y="11239"/>
                  </a:lnTo>
                  <a:lnTo>
                    <a:pt x="5119" y="11319"/>
                  </a:lnTo>
                  <a:lnTo>
                    <a:pt x="5665" y="11345"/>
                  </a:lnTo>
                  <a:lnTo>
                    <a:pt x="6209" y="11320"/>
                  </a:lnTo>
                  <a:lnTo>
                    <a:pt x="6748" y="11242"/>
                  </a:lnTo>
                  <a:lnTo>
                    <a:pt x="7278" y="11113"/>
                  </a:lnTo>
                  <a:lnTo>
                    <a:pt x="7792" y="10934"/>
                  </a:lnTo>
                  <a:lnTo>
                    <a:pt x="8290" y="10705"/>
                  </a:lnTo>
                  <a:lnTo>
                    <a:pt x="8765" y="10429"/>
                  </a:lnTo>
                  <a:lnTo>
                    <a:pt x="9215" y="10103"/>
                  </a:lnTo>
                  <a:lnTo>
                    <a:pt x="9636" y="9731"/>
                  </a:lnTo>
                  <a:lnTo>
                    <a:pt x="10022" y="9314"/>
                  </a:lnTo>
                  <a:lnTo>
                    <a:pt x="10371" y="8850"/>
                  </a:lnTo>
                  <a:lnTo>
                    <a:pt x="10671" y="8353"/>
                  </a:lnTo>
                  <a:lnTo>
                    <a:pt x="10916" y="7838"/>
                  </a:lnTo>
                  <a:lnTo>
                    <a:pt x="11104" y="7309"/>
                  </a:lnTo>
                  <a:lnTo>
                    <a:pt x="11238" y="6771"/>
                  </a:lnTo>
                  <a:lnTo>
                    <a:pt x="11318" y="6225"/>
                  </a:lnTo>
                  <a:lnTo>
                    <a:pt x="11344" y="5679"/>
                  </a:lnTo>
                  <a:lnTo>
                    <a:pt x="11319" y="5135"/>
                  </a:lnTo>
                  <a:lnTo>
                    <a:pt x="11241" y="4596"/>
                  </a:lnTo>
                  <a:lnTo>
                    <a:pt x="11111" y="4066"/>
                  </a:lnTo>
                  <a:lnTo>
                    <a:pt x="10933" y="3552"/>
                  </a:lnTo>
                  <a:lnTo>
                    <a:pt x="10704" y="3054"/>
                  </a:lnTo>
                  <a:lnTo>
                    <a:pt x="10428" y="2579"/>
                  </a:lnTo>
                  <a:lnTo>
                    <a:pt x="10102" y="2129"/>
                  </a:lnTo>
                  <a:lnTo>
                    <a:pt x="9730" y="1708"/>
                  </a:lnTo>
                  <a:lnTo>
                    <a:pt x="9311" y="1322"/>
                  </a:lnTo>
                  <a:lnTo>
                    <a:pt x="8848" y="974"/>
                  </a:lnTo>
                  <a:lnTo>
                    <a:pt x="8350" y="673"/>
                  </a:lnTo>
                  <a:lnTo>
                    <a:pt x="7836" y="428"/>
                  </a:lnTo>
                  <a:lnTo>
                    <a:pt x="7307" y="240"/>
                  </a:lnTo>
                  <a:lnTo>
                    <a:pt x="6768" y="106"/>
                  </a:lnTo>
                  <a:lnTo>
                    <a:pt x="6224" y="27"/>
                  </a:lnTo>
                  <a:lnTo>
                    <a:pt x="5678" y="0"/>
                  </a:lnTo>
                  <a:lnTo>
                    <a:pt x="5133" y="25"/>
                  </a:lnTo>
                  <a:lnTo>
                    <a:pt x="4594" y="104"/>
                  </a:lnTo>
                  <a:lnTo>
                    <a:pt x="4066" y="233"/>
                  </a:lnTo>
                  <a:lnTo>
                    <a:pt x="3551" y="411"/>
                  </a:lnTo>
                  <a:lnTo>
                    <a:pt x="3054" y="640"/>
                  </a:lnTo>
                  <a:lnTo>
                    <a:pt x="2579" y="916"/>
                  </a:lnTo>
                  <a:lnTo>
                    <a:pt x="2129" y="1242"/>
                  </a:lnTo>
                  <a:lnTo>
                    <a:pt x="1708" y="1614"/>
                  </a:lnTo>
                  <a:lnTo>
                    <a:pt x="1322" y="2033"/>
                  </a:lnTo>
                  <a:lnTo>
                    <a:pt x="973" y="2497"/>
                  </a:lnTo>
                  <a:lnTo>
                    <a:pt x="673" y="2994"/>
                  </a:lnTo>
                  <a:lnTo>
                    <a:pt x="428" y="3508"/>
                  </a:lnTo>
                  <a:lnTo>
                    <a:pt x="240" y="4036"/>
                  </a:lnTo>
                  <a:lnTo>
                    <a:pt x="106" y="4575"/>
                  </a:lnTo>
                  <a:lnTo>
                    <a:pt x="26" y="5120"/>
                  </a:lnTo>
                  <a:lnTo>
                    <a:pt x="0" y="5666"/>
                  </a:lnTo>
                  <a:lnTo>
                    <a:pt x="25" y="6210"/>
                  </a:lnTo>
                  <a:lnTo>
                    <a:pt x="103" y="6749"/>
                  </a:lnTo>
                  <a:lnTo>
                    <a:pt x="231" y="7278"/>
                  </a:lnTo>
                  <a:lnTo>
                    <a:pt x="411" y="7793"/>
                  </a:lnTo>
                  <a:lnTo>
                    <a:pt x="639" y="8290"/>
                  </a:lnTo>
                  <a:lnTo>
                    <a:pt x="916" y="8766"/>
                  </a:lnTo>
                  <a:lnTo>
                    <a:pt x="1241" y="9216"/>
                  </a:lnTo>
                  <a:lnTo>
                    <a:pt x="1612" y="9636"/>
                  </a:lnTo>
                  <a:lnTo>
                    <a:pt x="2031" y="10023"/>
                  </a:lnTo>
                  <a:lnTo>
                    <a:pt x="2496" y="10372"/>
                  </a:lnTo>
                  <a:close/>
                </a:path>
              </a:pathLst>
            </a:custGeom>
            <a:solidFill>
              <a:srgbClr val="1e3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72800" y="127800"/>
              <a:ext cx="866520" cy="855720"/>
            </a:xfrm>
            <a:custGeom>
              <a:avLst/>
              <a:gdLst/>
              <a:ahLst/>
              <a:rect l="l" t="t" r="r" b="b"/>
              <a:pathLst>
                <a:path w="11185" h="11184">
                  <a:moveTo>
                    <a:pt x="2461" y="10226"/>
                  </a:moveTo>
                  <a:lnTo>
                    <a:pt x="2950" y="10521"/>
                  </a:lnTo>
                  <a:lnTo>
                    <a:pt x="3458" y="10761"/>
                  </a:lnTo>
                  <a:lnTo>
                    <a:pt x="3979" y="10947"/>
                  </a:lnTo>
                  <a:lnTo>
                    <a:pt x="4509" y="11079"/>
                  </a:lnTo>
                  <a:lnTo>
                    <a:pt x="5046" y="11158"/>
                  </a:lnTo>
                  <a:lnTo>
                    <a:pt x="5585" y="11184"/>
                  </a:lnTo>
                  <a:lnTo>
                    <a:pt x="6122" y="11159"/>
                  </a:lnTo>
                  <a:lnTo>
                    <a:pt x="6654" y="11082"/>
                  </a:lnTo>
                  <a:lnTo>
                    <a:pt x="7175" y="10955"/>
                  </a:lnTo>
                  <a:lnTo>
                    <a:pt x="7683" y="10778"/>
                  </a:lnTo>
                  <a:lnTo>
                    <a:pt x="8173" y="10554"/>
                  </a:lnTo>
                  <a:lnTo>
                    <a:pt x="8642" y="10281"/>
                  </a:lnTo>
                  <a:lnTo>
                    <a:pt x="9086" y="9961"/>
                  </a:lnTo>
                  <a:lnTo>
                    <a:pt x="9500" y="9594"/>
                  </a:lnTo>
                  <a:lnTo>
                    <a:pt x="9881" y="9182"/>
                  </a:lnTo>
                  <a:lnTo>
                    <a:pt x="10226" y="8725"/>
                  </a:lnTo>
                  <a:lnTo>
                    <a:pt x="10521" y="8234"/>
                  </a:lnTo>
                  <a:lnTo>
                    <a:pt x="10762" y="7726"/>
                  </a:lnTo>
                  <a:lnTo>
                    <a:pt x="10948" y="7205"/>
                  </a:lnTo>
                  <a:lnTo>
                    <a:pt x="11080" y="6675"/>
                  </a:lnTo>
                  <a:lnTo>
                    <a:pt x="11158" y="6138"/>
                  </a:lnTo>
                  <a:lnTo>
                    <a:pt x="11185" y="5599"/>
                  </a:lnTo>
                  <a:lnTo>
                    <a:pt x="11158" y="5062"/>
                  </a:lnTo>
                  <a:lnTo>
                    <a:pt x="11082" y="4531"/>
                  </a:lnTo>
                  <a:lnTo>
                    <a:pt x="10955" y="4010"/>
                  </a:lnTo>
                  <a:lnTo>
                    <a:pt x="10779" y="3502"/>
                  </a:lnTo>
                  <a:lnTo>
                    <a:pt x="10553" y="3012"/>
                  </a:lnTo>
                  <a:lnTo>
                    <a:pt x="10280" y="2543"/>
                  </a:lnTo>
                  <a:lnTo>
                    <a:pt x="9960" y="2098"/>
                  </a:lnTo>
                  <a:lnTo>
                    <a:pt x="9593" y="1685"/>
                  </a:lnTo>
                  <a:lnTo>
                    <a:pt x="9181" y="1303"/>
                  </a:lnTo>
                  <a:lnTo>
                    <a:pt x="8724" y="960"/>
                  </a:lnTo>
                  <a:lnTo>
                    <a:pt x="8234" y="663"/>
                  </a:lnTo>
                  <a:lnTo>
                    <a:pt x="7726" y="423"/>
                  </a:lnTo>
                  <a:lnTo>
                    <a:pt x="7206" y="237"/>
                  </a:lnTo>
                  <a:lnTo>
                    <a:pt x="6674" y="105"/>
                  </a:lnTo>
                  <a:lnTo>
                    <a:pt x="6137" y="26"/>
                  </a:lnTo>
                  <a:lnTo>
                    <a:pt x="5598" y="0"/>
                  </a:lnTo>
                  <a:lnTo>
                    <a:pt x="5061" y="26"/>
                  </a:lnTo>
                  <a:lnTo>
                    <a:pt x="4531" y="103"/>
                  </a:lnTo>
                  <a:lnTo>
                    <a:pt x="4009" y="229"/>
                  </a:lnTo>
                  <a:lnTo>
                    <a:pt x="3502" y="406"/>
                  </a:lnTo>
                  <a:lnTo>
                    <a:pt x="3012" y="631"/>
                  </a:lnTo>
                  <a:lnTo>
                    <a:pt x="2543" y="905"/>
                  </a:lnTo>
                  <a:lnTo>
                    <a:pt x="2098" y="1225"/>
                  </a:lnTo>
                  <a:lnTo>
                    <a:pt x="1685" y="1591"/>
                  </a:lnTo>
                  <a:lnTo>
                    <a:pt x="1303" y="2004"/>
                  </a:lnTo>
                  <a:lnTo>
                    <a:pt x="960" y="2462"/>
                  </a:lnTo>
                  <a:lnTo>
                    <a:pt x="663" y="2951"/>
                  </a:lnTo>
                  <a:lnTo>
                    <a:pt x="423" y="3458"/>
                  </a:lnTo>
                  <a:lnTo>
                    <a:pt x="237" y="3979"/>
                  </a:lnTo>
                  <a:lnTo>
                    <a:pt x="105" y="4510"/>
                  </a:lnTo>
                  <a:lnTo>
                    <a:pt x="26" y="5047"/>
                  </a:lnTo>
                  <a:lnTo>
                    <a:pt x="0" y="5586"/>
                  </a:lnTo>
                  <a:lnTo>
                    <a:pt x="25" y="6123"/>
                  </a:lnTo>
                  <a:lnTo>
                    <a:pt x="103" y="6654"/>
                  </a:lnTo>
                  <a:lnTo>
                    <a:pt x="229" y="7176"/>
                  </a:lnTo>
                  <a:lnTo>
                    <a:pt x="406" y="7683"/>
                  </a:lnTo>
                  <a:lnTo>
                    <a:pt x="630" y="8173"/>
                  </a:lnTo>
                  <a:lnTo>
                    <a:pt x="903" y="8642"/>
                  </a:lnTo>
                  <a:lnTo>
                    <a:pt x="1223" y="9086"/>
                  </a:lnTo>
                  <a:lnTo>
                    <a:pt x="1590" y="9499"/>
                  </a:lnTo>
                  <a:lnTo>
                    <a:pt x="2003" y="9881"/>
                  </a:lnTo>
                  <a:lnTo>
                    <a:pt x="2461" y="10226"/>
                  </a:lnTo>
                  <a:close/>
                </a:path>
              </a:pathLst>
            </a:custGeom>
            <a:solidFill>
              <a:srgbClr val="203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82160" y="130680"/>
              <a:ext cx="854640" cy="843840"/>
            </a:xfrm>
            <a:custGeom>
              <a:avLst/>
              <a:gdLst/>
              <a:ahLst/>
              <a:rect l="l" t="t" r="r" b="b"/>
              <a:pathLst>
                <a:path w="11024" h="11024">
                  <a:moveTo>
                    <a:pt x="2426" y="10079"/>
                  </a:moveTo>
                  <a:lnTo>
                    <a:pt x="2909" y="10370"/>
                  </a:lnTo>
                  <a:lnTo>
                    <a:pt x="3408" y="10607"/>
                  </a:lnTo>
                  <a:lnTo>
                    <a:pt x="3922" y="10791"/>
                  </a:lnTo>
                  <a:lnTo>
                    <a:pt x="4445" y="10921"/>
                  </a:lnTo>
                  <a:lnTo>
                    <a:pt x="4974" y="10998"/>
                  </a:lnTo>
                  <a:lnTo>
                    <a:pt x="5506" y="11024"/>
                  </a:lnTo>
                  <a:lnTo>
                    <a:pt x="6034" y="10998"/>
                  </a:lnTo>
                  <a:lnTo>
                    <a:pt x="6558" y="10923"/>
                  </a:lnTo>
                  <a:lnTo>
                    <a:pt x="7072" y="10797"/>
                  </a:lnTo>
                  <a:lnTo>
                    <a:pt x="7573" y="10624"/>
                  </a:lnTo>
                  <a:lnTo>
                    <a:pt x="8055" y="10402"/>
                  </a:lnTo>
                  <a:lnTo>
                    <a:pt x="8518" y="10133"/>
                  </a:lnTo>
                  <a:lnTo>
                    <a:pt x="8955" y="9817"/>
                  </a:lnTo>
                  <a:lnTo>
                    <a:pt x="9363" y="9456"/>
                  </a:lnTo>
                  <a:lnTo>
                    <a:pt x="9739" y="9050"/>
                  </a:lnTo>
                  <a:lnTo>
                    <a:pt x="10078" y="8599"/>
                  </a:lnTo>
                  <a:lnTo>
                    <a:pt x="10370" y="8115"/>
                  </a:lnTo>
                  <a:lnTo>
                    <a:pt x="10608" y="7616"/>
                  </a:lnTo>
                  <a:lnTo>
                    <a:pt x="10791" y="7102"/>
                  </a:lnTo>
                  <a:lnTo>
                    <a:pt x="10920" y="6579"/>
                  </a:lnTo>
                  <a:lnTo>
                    <a:pt x="10998" y="6050"/>
                  </a:lnTo>
                  <a:lnTo>
                    <a:pt x="11024" y="5518"/>
                  </a:lnTo>
                  <a:lnTo>
                    <a:pt x="10999" y="4990"/>
                  </a:lnTo>
                  <a:lnTo>
                    <a:pt x="10923" y="4466"/>
                  </a:lnTo>
                  <a:lnTo>
                    <a:pt x="10798" y="3952"/>
                  </a:lnTo>
                  <a:lnTo>
                    <a:pt x="10625" y="3452"/>
                  </a:lnTo>
                  <a:lnTo>
                    <a:pt x="10403" y="2969"/>
                  </a:lnTo>
                  <a:lnTo>
                    <a:pt x="10134" y="2506"/>
                  </a:lnTo>
                  <a:lnTo>
                    <a:pt x="9818" y="2070"/>
                  </a:lnTo>
                  <a:lnTo>
                    <a:pt x="9455" y="1661"/>
                  </a:lnTo>
                  <a:lnTo>
                    <a:pt x="9049" y="1285"/>
                  </a:lnTo>
                  <a:lnTo>
                    <a:pt x="8598" y="947"/>
                  </a:lnTo>
                  <a:lnTo>
                    <a:pt x="8115" y="655"/>
                  </a:lnTo>
                  <a:lnTo>
                    <a:pt x="7615" y="416"/>
                  </a:lnTo>
                  <a:lnTo>
                    <a:pt x="7102" y="234"/>
                  </a:lnTo>
                  <a:lnTo>
                    <a:pt x="6578" y="104"/>
                  </a:lnTo>
                  <a:lnTo>
                    <a:pt x="6049" y="26"/>
                  </a:lnTo>
                  <a:lnTo>
                    <a:pt x="5518" y="0"/>
                  </a:lnTo>
                  <a:lnTo>
                    <a:pt x="4989" y="25"/>
                  </a:lnTo>
                  <a:lnTo>
                    <a:pt x="4465" y="101"/>
                  </a:lnTo>
                  <a:lnTo>
                    <a:pt x="3952" y="226"/>
                  </a:lnTo>
                  <a:lnTo>
                    <a:pt x="3451" y="399"/>
                  </a:lnTo>
                  <a:lnTo>
                    <a:pt x="2968" y="622"/>
                  </a:lnTo>
                  <a:lnTo>
                    <a:pt x="2506" y="891"/>
                  </a:lnTo>
                  <a:lnTo>
                    <a:pt x="2069" y="1206"/>
                  </a:lnTo>
                  <a:lnTo>
                    <a:pt x="1661" y="1569"/>
                  </a:lnTo>
                  <a:lnTo>
                    <a:pt x="1284" y="1975"/>
                  </a:lnTo>
                  <a:lnTo>
                    <a:pt x="946" y="2427"/>
                  </a:lnTo>
                  <a:lnTo>
                    <a:pt x="654" y="2909"/>
                  </a:lnTo>
                  <a:lnTo>
                    <a:pt x="417" y="3409"/>
                  </a:lnTo>
                  <a:lnTo>
                    <a:pt x="233" y="3922"/>
                  </a:lnTo>
                  <a:lnTo>
                    <a:pt x="103" y="4446"/>
                  </a:lnTo>
                  <a:lnTo>
                    <a:pt x="25" y="4975"/>
                  </a:lnTo>
                  <a:lnTo>
                    <a:pt x="0" y="5505"/>
                  </a:lnTo>
                  <a:lnTo>
                    <a:pt x="25" y="6035"/>
                  </a:lnTo>
                  <a:lnTo>
                    <a:pt x="101" y="6559"/>
                  </a:lnTo>
                  <a:lnTo>
                    <a:pt x="226" y="7072"/>
                  </a:lnTo>
                  <a:lnTo>
                    <a:pt x="400" y="7573"/>
                  </a:lnTo>
                  <a:lnTo>
                    <a:pt x="622" y="8056"/>
                  </a:lnTo>
                  <a:lnTo>
                    <a:pt x="891" y="8518"/>
                  </a:lnTo>
                  <a:lnTo>
                    <a:pt x="1207" y="8955"/>
                  </a:lnTo>
                  <a:lnTo>
                    <a:pt x="1568" y="9363"/>
                  </a:lnTo>
                  <a:lnTo>
                    <a:pt x="1974" y="9739"/>
                  </a:lnTo>
                  <a:lnTo>
                    <a:pt x="2426" y="10079"/>
                  </a:lnTo>
                  <a:close/>
                </a:path>
              </a:pathLst>
            </a:custGeom>
            <a:solidFill>
              <a:srgbClr val="223b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91520" y="133200"/>
              <a:ext cx="842400" cy="831240"/>
            </a:xfrm>
            <a:custGeom>
              <a:avLst/>
              <a:gdLst/>
              <a:ahLst/>
              <a:rect l="l" t="t" r="r" b="b"/>
              <a:pathLst>
                <a:path w="10863" h="10862">
                  <a:moveTo>
                    <a:pt x="2391" y="9931"/>
                  </a:moveTo>
                  <a:lnTo>
                    <a:pt x="2866" y="10218"/>
                  </a:lnTo>
                  <a:lnTo>
                    <a:pt x="3359" y="10452"/>
                  </a:lnTo>
                  <a:lnTo>
                    <a:pt x="3865" y="10633"/>
                  </a:lnTo>
                  <a:lnTo>
                    <a:pt x="4381" y="10760"/>
                  </a:lnTo>
                  <a:lnTo>
                    <a:pt x="4902" y="10837"/>
                  </a:lnTo>
                  <a:lnTo>
                    <a:pt x="5425" y="10862"/>
                  </a:lnTo>
                  <a:lnTo>
                    <a:pt x="5947" y="10838"/>
                  </a:lnTo>
                  <a:lnTo>
                    <a:pt x="6463" y="10763"/>
                  </a:lnTo>
                  <a:lnTo>
                    <a:pt x="6969" y="10640"/>
                  </a:lnTo>
                  <a:lnTo>
                    <a:pt x="7462" y="10469"/>
                  </a:lnTo>
                  <a:lnTo>
                    <a:pt x="7938" y="10250"/>
                  </a:lnTo>
                  <a:lnTo>
                    <a:pt x="8393" y="9984"/>
                  </a:lnTo>
                  <a:lnTo>
                    <a:pt x="8824" y="9674"/>
                  </a:lnTo>
                  <a:lnTo>
                    <a:pt x="9227" y="9318"/>
                  </a:lnTo>
                  <a:lnTo>
                    <a:pt x="9597" y="8917"/>
                  </a:lnTo>
                  <a:lnTo>
                    <a:pt x="9932" y="8472"/>
                  </a:lnTo>
                  <a:lnTo>
                    <a:pt x="10219" y="7996"/>
                  </a:lnTo>
                  <a:lnTo>
                    <a:pt x="10453" y="7504"/>
                  </a:lnTo>
                  <a:lnTo>
                    <a:pt x="10633" y="6998"/>
                  </a:lnTo>
                  <a:lnTo>
                    <a:pt x="10761" y="6481"/>
                  </a:lnTo>
                  <a:lnTo>
                    <a:pt x="10838" y="5960"/>
                  </a:lnTo>
                  <a:lnTo>
                    <a:pt x="10863" y="5437"/>
                  </a:lnTo>
                  <a:lnTo>
                    <a:pt x="10839" y="4915"/>
                  </a:lnTo>
                  <a:lnTo>
                    <a:pt x="10764" y="4400"/>
                  </a:lnTo>
                  <a:lnTo>
                    <a:pt x="10641" y="3894"/>
                  </a:lnTo>
                  <a:lnTo>
                    <a:pt x="10470" y="3400"/>
                  </a:lnTo>
                  <a:lnTo>
                    <a:pt x="10251" y="2924"/>
                  </a:lnTo>
                  <a:lnTo>
                    <a:pt x="9985" y="2469"/>
                  </a:lnTo>
                  <a:lnTo>
                    <a:pt x="9674" y="2039"/>
                  </a:lnTo>
                  <a:lnTo>
                    <a:pt x="9318" y="1636"/>
                  </a:lnTo>
                  <a:lnTo>
                    <a:pt x="8918" y="1266"/>
                  </a:lnTo>
                  <a:lnTo>
                    <a:pt x="8473" y="932"/>
                  </a:lnTo>
                  <a:lnTo>
                    <a:pt x="7997" y="644"/>
                  </a:lnTo>
                  <a:lnTo>
                    <a:pt x="7505" y="410"/>
                  </a:lnTo>
                  <a:lnTo>
                    <a:pt x="6999" y="229"/>
                  </a:lnTo>
                  <a:lnTo>
                    <a:pt x="6482" y="102"/>
                  </a:lnTo>
                  <a:lnTo>
                    <a:pt x="5961" y="25"/>
                  </a:lnTo>
                  <a:lnTo>
                    <a:pt x="5438" y="0"/>
                  </a:lnTo>
                  <a:lnTo>
                    <a:pt x="4916" y="24"/>
                  </a:lnTo>
                  <a:lnTo>
                    <a:pt x="4400" y="99"/>
                  </a:lnTo>
                  <a:lnTo>
                    <a:pt x="3894" y="222"/>
                  </a:lnTo>
                  <a:lnTo>
                    <a:pt x="3401" y="393"/>
                  </a:lnTo>
                  <a:lnTo>
                    <a:pt x="2925" y="612"/>
                  </a:lnTo>
                  <a:lnTo>
                    <a:pt x="2470" y="878"/>
                  </a:lnTo>
                  <a:lnTo>
                    <a:pt x="2039" y="1188"/>
                  </a:lnTo>
                  <a:lnTo>
                    <a:pt x="1636" y="1544"/>
                  </a:lnTo>
                  <a:lnTo>
                    <a:pt x="1266" y="1945"/>
                  </a:lnTo>
                  <a:lnTo>
                    <a:pt x="932" y="2391"/>
                  </a:lnTo>
                  <a:lnTo>
                    <a:pt x="644" y="2866"/>
                  </a:lnTo>
                  <a:lnTo>
                    <a:pt x="410" y="3358"/>
                  </a:lnTo>
                  <a:lnTo>
                    <a:pt x="230" y="3864"/>
                  </a:lnTo>
                  <a:lnTo>
                    <a:pt x="102" y="4381"/>
                  </a:lnTo>
                  <a:lnTo>
                    <a:pt x="26" y="4902"/>
                  </a:lnTo>
                  <a:lnTo>
                    <a:pt x="0" y="5425"/>
                  </a:lnTo>
                  <a:lnTo>
                    <a:pt x="26" y="5947"/>
                  </a:lnTo>
                  <a:lnTo>
                    <a:pt x="100" y="6462"/>
                  </a:lnTo>
                  <a:lnTo>
                    <a:pt x="223" y="6968"/>
                  </a:lnTo>
                  <a:lnTo>
                    <a:pt x="395" y="7461"/>
                  </a:lnTo>
                  <a:lnTo>
                    <a:pt x="612" y="7938"/>
                  </a:lnTo>
                  <a:lnTo>
                    <a:pt x="878" y="8393"/>
                  </a:lnTo>
                  <a:lnTo>
                    <a:pt x="1190" y="8823"/>
                  </a:lnTo>
                  <a:lnTo>
                    <a:pt x="1546" y="9226"/>
                  </a:lnTo>
                  <a:lnTo>
                    <a:pt x="1947" y="9596"/>
                  </a:lnTo>
                  <a:lnTo>
                    <a:pt x="2391" y="9931"/>
                  </a:lnTo>
                  <a:close/>
                </a:path>
              </a:pathLst>
            </a:custGeom>
            <a:solidFill>
              <a:srgbClr val="243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201600" y="135360"/>
              <a:ext cx="828360" cy="819000"/>
            </a:xfrm>
            <a:custGeom>
              <a:avLst/>
              <a:gdLst/>
              <a:ahLst/>
              <a:rect l="l" t="t" r="r" b="b"/>
              <a:pathLst>
                <a:path w="10702" h="10702">
                  <a:moveTo>
                    <a:pt x="2355" y="9784"/>
                  </a:moveTo>
                  <a:lnTo>
                    <a:pt x="2823" y="10067"/>
                  </a:lnTo>
                  <a:lnTo>
                    <a:pt x="3309" y="10298"/>
                  </a:lnTo>
                  <a:lnTo>
                    <a:pt x="3807" y="10475"/>
                  </a:lnTo>
                  <a:lnTo>
                    <a:pt x="4316" y="10602"/>
                  </a:lnTo>
                  <a:lnTo>
                    <a:pt x="4829" y="10677"/>
                  </a:lnTo>
                  <a:lnTo>
                    <a:pt x="5345" y="10702"/>
                  </a:lnTo>
                  <a:lnTo>
                    <a:pt x="5859" y="10677"/>
                  </a:lnTo>
                  <a:lnTo>
                    <a:pt x="6367" y="10604"/>
                  </a:lnTo>
                  <a:lnTo>
                    <a:pt x="6866" y="10483"/>
                  </a:lnTo>
                  <a:lnTo>
                    <a:pt x="7352" y="10314"/>
                  </a:lnTo>
                  <a:lnTo>
                    <a:pt x="7821" y="10099"/>
                  </a:lnTo>
                  <a:lnTo>
                    <a:pt x="8269" y="9837"/>
                  </a:lnTo>
                  <a:lnTo>
                    <a:pt x="8694" y="9530"/>
                  </a:lnTo>
                  <a:lnTo>
                    <a:pt x="9091" y="9179"/>
                  </a:lnTo>
                  <a:lnTo>
                    <a:pt x="9456" y="8784"/>
                  </a:lnTo>
                  <a:lnTo>
                    <a:pt x="9785" y="8347"/>
                  </a:lnTo>
                  <a:lnTo>
                    <a:pt x="10068" y="7878"/>
                  </a:lnTo>
                  <a:lnTo>
                    <a:pt x="10299" y="7392"/>
                  </a:lnTo>
                  <a:lnTo>
                    <a:pt x="10476" y="6894"/>
                  </a:lnTo>
                  <a:lnTo>
                    <a:pt x="10602" y="6385"/>
                  </a:lnTo>
                  <a:lnTo>
                    <a:pt x="10677" y="5872"/>
                  </a:lnTo>
                  <a:lnTo>
                    <a:pt x="10702" y="5356"/>
                  </a:lnTo>
                  <a:lnTo>
                    <a:pt x="10677" y="4843"/>
                  </a:lnTo>
                  <a:lnTo>
                    <a:pt x="10604" y="4335"/>
                  </a:lnTo>
                  <a:lnTo>
                    <a:pt x="10483" y="3836"/>
                  </a:lnTo>
                  <a:lnTo>
                    <a:pt x="10314" y="3350"/>
                  </a:lnTo>
                  <a:lnTo>
                    <a:pt x="10099" y="2882"/>
                  </a:lnTo>
                  <a:lnTo>
                    <a:pt x="9837" y="2433"/>
                  </a:lnTo>
                  <a:lnTo>
                    <a:pt x="9530" y="2008"/>
                  </a:lnTo>
                  <a:lnTo>
                    <a:pt x="9179" y="1611"/>
                  </a:lnTo>
                  <a:lnTo>
                    <a:pt x="8785" y="1247"/>
                  </a:lnTo>
                  <a:lnTo>
                    <a:pt x="8348" y="918"/>
                  </a:lnTo>
                  <a:lnTo>
                    <a:pt x="7879" y="634"/>
                  </a:lnTo>
                  <a:lnTo>
                    <a:pt x="7393" y="404"/>
                  </a:lnTo>
                  <a:lnTo>
                    <a:pt x="6895" y="226"/>
                  </a:lnTo>
                  <a:lnTo>
                    <a:pt x="6386" y="100"/>
                  </a:lnTo>
                  <a:lnTo>
                    <a:pt x="5873" y="24"/>
                  </a:lnTo>
                  <a:lnTo>
                    <a:pt x="5357" y="0"/>
                  </a:lnTo>
                  <a:lnTo>
                    <a:pt x="4843" y="24"/>
                  </a:lnTo>
                  <a:lnTo>
                    <a:pt x="4335" y="97"/>
                  </a:lnTo>
                  <a:lnTo>
                    <a:pt x="3836" y="219"/>
                  </a:lnTo>
                  <a:lnTo>
                    <a:pt x="3350" y="388"/>
                  </a:lnTo>
                  <a:lnTo>
                    <a:pt x="2881" y="602"/>
                  </a:lnTo>
                  <a:lnTo>
                    <a:pt x="2433" y="864"/>
                  </a:lnTo>
                  <a:lnTo>
                    <a:pt x="2007" y="1171"/>
                  </a:lnTo>
                  <a:lnTo>
                    <a:pt x="1611" y="1522"/>
                  </a:lnTo>
                  <a:lnTo>
                    <a:pt x="1246" y="1917"/>
                  </a:lnTo>
                  <a:lnTo>
                    <a:pt x="918" y="2355"/>
                  </a:lnTo>
                  <a:lnTo>
                    <a:pt x="634" y="2823"/>
                  </a:lnTo>
                  <a:lnTo>
                    <a:pt x="404" y="3309"/>
                  </a:lnTo>
                  <a:lnTo>
                    <a:pt x="227" y="3808"/>
                  </a:lnTo>
                  <a:lnTo>
                    <a:pt x="100" y="4316"/>
                  </a:lnTo>
                  <a:lnTo>
                    <a:pt x="25" y="4829"/>
                  </a:lnTo>
                  <a:lnTo>
                    <a:pt x="0" y="5345"/>
                  </a:lnTo>
                  <a:lnTo>
                    <a:pt x="25" y="5858"/>
                  </a:lnTo>
                  <a:lnTo>
                    <a:pt x="98" y="6366"/>
                  </a:lnTo>
                  <a:lnTo>
                    <a:pt x="219" y="6865"/>
                  </a:lnTo>
                  <a:lnTo>
                    <a:pt x="388" y="7351"/>
                  </a:lnTo>
                  <a:lnTo>
                    <a:pt x="604" y="7820"/>
                  </a:lnTo>
                  <a:lnTo>
                    <a:pt x="865" y="8268"/>
                  </a:lnTo>
                  <a:lnTo>
                    <a:pt x="1172" y="8693"/>
                  </a:lnTo>
                  <a:lnTo>
                    <a:pt x="1523" y="9090"/>
                  </a:lnTo>
                  <a:lnTo>
                    <a:pt x="1917" y="9455"/>
                  </a:lnTo>
                  <a:lnTo>
                    <a:pt x="2355" y="9784"/>
                  </a:lnTo>
                  <a:close/>
                </a:path>
              </a:pathLst>
            </a:custGeom>
            <a:solidFill>
              <a:srgbClr val="263f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210960" y="137880"/>
              <a:ext cx="816480" cy="806400"/>
            </a:xfrm>
            <a:custGeom>
              <a:avLst/>
              <a:gdLst/>
              <a:ahLst/>
              <a:rect l="l" t="t" r="r" b="b"/>
              <a:pathLst>
                <a:path w="10540" h="10542">
                  <a:moveTo>
                    <a:pt x="2319" y="9638"/>
                  </a:moveTo>
                  <a:lnTo>
                    <a:pt x="2781" y="9917"/>
                  </a:lnTo>
                  <a:lnTo>
                    <a:pt x="3259" y="10143"/>
                  </a:lnTo>
                  <a:lnTo>
                    <a:pt x="3750" y="10319"/>
                  </a:lnTo>
                  <a:lnTo>
                    <a:pt x="4250" y="10443"/>
                  </a:lnTo>
                  <a:lnTo>
                    <a:pt x="4756" y="10517"/>
                  </a:lnTo>
                  <a:lnTo>
                    <a:pt x="5264" y="10542"/>
                  </a:lnTo>
                  <a:lnTo>
                    <a:pt x="5770" y="10517"/>
                  </a:lnTo>
                  <a:lnTo>
                    <a:pt x="6271" y="10445"/>
                  </a:lnTo>
                  <a:lnTo>
                    <a:pt x="6762" y="10326"/>
                  </a:lnTo>
                  <a:lnTo>
                    <a:pt x="7240" y="10160"/>
                  </a:lnTo>
                  <a:lnTo>
                    <a:pt x="7703" y="9948"/>
                  </a:lnTo>
                  <a:lnTo>
                    <a:pt x="8144" y="9690"/>
                  </a:lnTo>
                  <a:lnTo>
                    <a:pt x="8562" y="9389"/>
                  </a:lnTo>
                  <a:lnTo>
                    <a:pt x="8953" y="9043"/>
                  </a:lnTo>
                  <a:lnTo>
                    <a:pt x="9311" y="8654"/>
                  </a:lnTo>
                  <a:lnTo>
                    <a:pt x="9637" y="8223"/>
                  </a:lnTo>
                  <a:lnTo>
                    <a:pt x="9915" y="7761"/>
                  </a:lnTo>
                  <a:lnTo>
                    <a:pt x="10142" y="7283"/>
                  </a:lnTo>
                  <a:lnTo>
                    <a:pt x="10317" y="6791"/>
                  </a:lnTo>
                  <a:lnTo>
                    <a:pt x="10441" y="6292"/>
                  </a:lnTo>
                  <a:lnTo>
                    <a:pt x="10516" y="5786"/>
                  </a:lnTo>
                  <a:lnTo>
                    <a:pt x="10540" y="5278"/>
                  </a:lnTo>
                  <a:lnTo>
                    <a:pt x="10516" y="4772"/>
                  </a:lnTo>
                  <a:lnTo>
                    <a:pt x="10444" y="4271"/>
                  </a:lnTo>
                  <a:lnTo>
                    <a:pt x="10324" y="3780"/>
                  </a:lnTo>
                  <a:lnTo>
                    <a:pt x="10159" y="3300"/>
                  </a:lnTo>
                  <a:lnTo>
                    <a:pt x="9946" y="2839"/>
                  </a:lnTo>
                  <a:lnTo>
                    <a:pt x="9689" y="2397"/>
                  </a:lnTo>
                  <a:lnTo>
                    <a:pt x="9387" y="1979"/>
                  </a:lnTo>
                  <a:lnTo>
                    <a:pt x="9041" y="1588"/>
                  </a:lnTo>
                  <a:lnTo>
                    <a:pt x="8652" y="1229"/>
                  </a:lnTo>
                  <a:lnTo>
                    <a:pt x="8222" y="905"/>
                  </a:lnTo>
                  <a:lnTo>
                    <a:pt x="7759" y="626"/>
                  </a:lnTo>
                  <a:lnTo>
                    <a:pt x="7281" y="398"/>
                  </a:lnTo>
                  <a:lnTo>
                    <a:pt x="6790" y="224"/>
                  </a:lnTo>
                  <a:lnTo>
                    <a:pt x="6290" y="99"/>
                  </a:lnTo>
                  <a:lnTo>
                    <a:pt x="5784" y="25"/>
                  </a:lnTo>
                  <a:lnTo>
                    <a:pt x="5276" y="0"/>
                  </a:lnTo>
                  <a:lnTo>
                    <a:pt x="4770" y="24"/>
                  </a:lnTo>
                  <a:lnTo>
                    <a:pt x="4269" y="96"/>
                  </a:lnTo>
                  <a:lnTo>
                    <a:pt x="3778" y="216"/>
                  </a:lnTo>
                  <a:lnTo>
                    <a:pt x="3299" y="382"/>
                  </a:lnTo>
                  <a:lnTo>
                    <a:pt x="2837" y="595"/>
                  </a:lnTo>
                  <a:lnTo>
                    <a:pt x="2396" y="852"/>
                  </a:lnTo>
                  <a:lnTo>
                    <a:pt x="1978" y="1154"/>
                  </a:lnTo>
                  <a:lnTo>
                    <a:pt x="1587" y="1500"/>
                  </a:lnTo>
                  <a:lnTo>
                    <a:pt x="1228" y="1890"/>
                  </a:lnTo>
                  <a:lnTo>
                    <a:pt x="904" y="2321"/>
                  </a:lnTo>
                  <a:lnTo>
                    <a:pt x="625" y="2783"/>
                  </a:lnTo>
                  <a:lnTo>
                    <a:pt x="398" y="3261"/>
                  </a:lnTo>
                  <a:lnTo>
                    <a:pt x="223" y="3752"/>
                  </a:lnTo>
                  <a:lnTo>
                    <a:pt x="98" y="4252"/>
                  </a:lnTo>
                  <a:lnTo>
                    <a:pt x="24" y="4758"/>
                  </a:lnTo>
                  <a:lnTo>
                    <a:pt x="0" y="5266"/>
                  </a:lnTo>
                  <a:lnTo>
                    <a:pt x="24" y="5772"/>
                  </a:lnTo>
                  <a:lnTo>
                    <a:pt x="96" y="6273"/>
                  </a:lnTo>
                  <a:lnTo>
                    <a:pt x="215" y="6764"/>
                  </a:lnTo>
                  <a:lnTo>
                    <a:pt x="381" y="7242"/>
                  </a:lnTo>
                  <a:lnTo>
                    <a:pt x="594" y="7705"/>
                  </a:lnTo>
                  <a:lnTo>
                    <a:pt x="851" y="8146"/>
                  </a:lnTo>
                  <a:lnTo>
                    <a:pt x="1153" y="8564"/>
                  </a:lnTo>
                  <a:lnTo>
                    <a:pt x="1499" y="8955"/>
                  </a:lnTo>
                  <a:lnTo>
                    <a:pt x="1888" y="9313"/>
                  </a:lnTo>
                  <a:lnTo>
                    <a:pt x="2319" y="9638"/>
                  </a:lnTo>
                  <a:close/>
                </a:path>
              </a:pathLst>
            </a:custGeom>
            <a:solidFill>
              <a:srgbClr val="28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220320" y="140760"/>
              <a:ext cx="804240" cy="794520"/>
            </a:xfrm>
            <a:custGeom>
              <a:avLst/>
              <a:gdLst/>
              <a:ahLst/>
              <a:rect l="l" t="t" r="r" b="b"/>
              <a:pathLst>
                <a:path w="10380" h="10381">
                  <a:moveTo>
                    <a:pt x="2283" y="9490"/>
                  </a:moveTo>
                  <a:lnTo>
                    <a:pt x="2737" y="9765"/>
                  </a:lnTo>
                  <a:lnTo>
                    <a:pt x="3208" y="9988"/>
                  </a:lnTo>
                  <a:lnTo>
                    <a:pt x="3692" y="10161"/>
                  </a:lnTo>
                  <a:lnTo>
                    <a:pt x="4185" y="10284"/>
                  </a:lnTo>
                  <a:lnTo>
                    <a:pt x="4684" y="10357"/>
                  </a:lnTo>
                  <a:lnTo>
                    <a:pt x="5183" y="10381"/>
                  </a:lnTo>
                  <a:lnTo>
                    <a:pt x="5682" y="10357"/>
                  </a:lnTo>
                  <a:lnTo>
                    <a:pt x="6175" y="10287"/>
                  </a:lnTo>
                  <a:lnTo>
                    <a:pt x="6659" y="10169"/>
                  </a:lnTo>
                  <a:lnTo>
                    <a:pt x="7130" y="10005"/>
                  </a:lnTo>
                  <a:lnTo>
                    <a:pt x="7585" y="9796"/>
                  </a:lnTo>
                  <a:lnTo>
                    <a:pt x="8020" y="9543"/>
                  </a:lnTo>
                  <a:lnTo>
                    <a:pt x="8432" y="9245"/>
                  </a:lnTo>
                  <a:lnTo>
                    <a:pt x="8816" y="8905"/>
                  </a:lnTo>
                  <a:lnTo>
                    <a:pt x="9170" y="8522"/>
                  </a:lnTo>
                  <a:lnTo>
                    <a:pt x="9490" y="8098"/>
                  </a:lnTo>
                  <a:lnTo>
                    <a:pt x="9764" y="7643"/>
                  </a:lnTo>
                  <a:lnTo>
                    <a:pt x="9988" y="7172"/>
                  </a:lnTo>
                  <a:lnTo>
                    <a:pt x="10160" y="6688"/>
                  </a:lnTo>
                  <a:lnTo>
                    <a:pt x="10282" y="6195"/>
                  </a:lnTo>
                  <a:lnTo>
                    <a:pt x="10356" y="5696"/>
                  </a:lnTo>
                  <a:lnTo>
                    <a:pt x="10380" y="5197"/>
                  </a:lnTo>
                  <a:lnTo>
                    <a:pt x="10356" y="4698"/>
                  </a:lnTo>
                  <a:lnTo>
                    <a:pt x="10284" y="4206"/>
                  </a:lnTo>
                  <a:lnTo>
                    <a:pt x="10166" y="3721"/>
                  </a:lnTo>
                  <a:lnTo>
                    <a:pt x="10003" y="3250"/>
                  </a:lnTo>
                  <a:lnTo>
                    <a:pt x="9794" y="2795"/>
                  </a:lnTo>
                  <a:lnTo>
                    <a:pt x="9541" y="2360"/>
                  </a:lnTo>
                  <a:lnTo>
                    <a:pt x="9244" y="1948"/>
                  </a:lnTo>
                  <a:lnTo>
                    <a:pt x="8903" y="1564"/>
                  </a:lnTo>
                  <a:lnTo>
                    <a:pt x="8521" y="1210"/>
                  </a:lnTo>
                  <a:lnTo>
                    <a:pt x="8096" y="891"/>
                  </a:lnTo>
                  <a:lnTo>
                    <a:pt x="7641" y="616"/>
                  </a:lnTo>
                  <a:lnTo>
                    <a:pt x="7170" y="393"/>
                  </a:lnTo>
                  <a:lnTo>
                    <a:pt x="6687" y="219"/>
                  </a:lnTo>
                  <a:lnTo>
                    <a:pt x="6193" y="97"/>
                  </a:lnTo>
                  <a:lnTo>
                    <a:pt x="5696" y="24"/>
                  </a:lnTo>
                  <a:lnTo>
                    <a:pt x="5195" y="0"/>
                  </a:lnTo>
                  <a:lnTo>
                    <a:pt x="4698" y="24"/>
                  </a:lnTo>
                  <a:lnTo>
                    <a:pt x="4204" y="95"/>
                  </a:lnTo>
                  <a:lnTo>
                    <a:pt x="3721" y="213"/>
                  </a:lnTo>
                  <a:lnTo>
                    <a:pt x="3250" y="377"/>
                  </a:lnTo>
                  <a:lnTo>
                    <a:pt x="2795" y="585"/>
                  </a:lnTo>
                  <a:lnTo>
                    <a:pt x="2359" y="839"/>
                  </a:lnTo>
                  <a:lnTo>
                    <a:pt x="1947" y="1137"/>
                  </a:lnTo>
                  <a:lnTo>
                    <a:pt x="1564" y="1477"/>
                  </a:lnTo>
                  <a:lnTo>
                    <a:pt x="1210" y="1860"/>
                  </a:lnTo>
                  <a:lnTo>
                    <a:pt x="891" y="2285"/>
                  </a:lnTo>
                  <a:lnTo>
                    <a:pt x="615" y="2739"/>
                  </a:lnTo>
                  <a:lnTo>
                    <a:pt x="392" y="3210"/>
                  </a:lnTo>
                  <a:lnTo>
                    <a:pt x="219" y="3693"/>
                  </a:lnTo>
                  <a:lnTo>
                    <a:pt x="96" y="4187"/>
                  </a:lnTo>
                  <a:lnTo>
                    <a:pt x="23" y="4684"/>
                  </a:lnTo>
                  <a:lnTo>
                    <a:pt x="0" y="5185"/>
                  </a:lnTo>
                  <a:lnTo>
                    <a:pt x="23" y="5683"/>
                  </a:lnTo>
                  <a:lnTo>
                    <a:pt x="94" y="6176"/>
                  </a:lnTo>
                  <a:lnTo>
                    <a:pt x="212" y="6659"/>
                  </a:lnTo>
                  <a:lnTo>
                    <a:pt x="376" y="7130"/>
                  </a:lnTo>
                  <a:lnTo>
                    <a:pt x="584" y="7585"/>
                  </a:lnTo>
                  <a:lnTo>
                    <a:pt x="837" y="8021"/>
                  </a:lnTo>
                  <a:lnTo>
                    <a:pt x="1135" y="8433"/>
                  </a:lnTo>
                  <a:lnTo>
                    <a:pt x="1475" y="8816"/>
                  </a:lnTo>
                  <a:lnTo>
                    <a:pt x="1858" y="9170"/>
                  </a:lnTo>
                  <a:lnTo>
                    <a:pt x="2283" y="9490"/>
                  </a:lnTo>
                  <a:close/>
                </a:path>
              </a:pathLst>
            </a:custGeom>
            <a:solidFill>
              <a:srgbClr val="2a4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229680" y="142560"/>
              <a:ext cx="791280" cy="782280"/>
            </a:xfrm>
            <a:custGeom>
              <a:avLst/>
              <a:gdLst/>
              <a:ahLst/>
              <a:rect l="l" t="t" r="r" b="b"/>
              <a:pathLst>
                <a:path w="10220" h="10221">
                  <a:moveTo>
                    <a:pt x="2249" y="9344"/>
                  </a:moveTo>
                  <a:lnTo>
                    <a:pt x="2696" y="9614"/>
                  </a:lnTo>
                  <a:lnTo>
                    <a:pt x="3160" y="9834"/>
                  </a:lnTo>
                  <a:lnTo>
                    <a:pt x="3637" y="10004"/>
                  </a:lnTo>
                  <a:lnTo>
                    <a:pt x="4122" y="10125"/>
                  </a:lnTo>
                  <a:lnTo>
                    <a:pt x="4612" y="10196"/>
                  </a:lnTo>
                  <a:lnTo>
                    <a:pt x="5104" y="10221"/>
                  </a:lnTo>
                  <a:lnTo>
                    <a:pt x="5595" y="10197"/>
                  </a:lnTo>
                  <a:lnTo>
                    <a:pt x="6081" y="10127"/>
                  </a:lnTo>
                  <a:lnTo>
                    <a:pt x="6557" y="10011"/>
                  </a:lnTo>
                  <a:lnTo>
                    <a:pt x="7021" y="9850"/>
                  </a:lnTo>
                  <a:lnTo>
                    <a:pt x="7469" y="9644"/>
                  </a:lnTo>
                  <a:lnTo>
                    <a:pt x="7898" y="9395"/>
                  </a:lnTo>
                  <a:lnTo>
                    <a:pt x="8303" y="9102"/>
                  </a:lnTo>
                  <a:lnTo>
                    <a:pt x="8681" y="8766"/>
                  </a:lnTo>
                  <a:lnTo>
                    <a:pt x="9030" y="8390"/>
                  </a:lnTo>
                  <a:lnTo>
                    <a:pt x="9345" y="7972"/>
                  </a:lnTo>
                  <a:lnTo>
                    <a:pt x="9615" y="7525"/>
                  </a:lnTo>
                  <a:lnTo>
                    <a:pt x="9835" y="7060"/>
                  </a:lnTo>
                  <a:lnTo>
                    <a:pt x="10004" y="6584"/>
                  </a:lnTo>
                  <a:lnTo>
                    <a:pt x="10125" y="6099"/>
                  </a:lnTo>
                  <a:lnTo>
                    <a:pt x="10196" y="5609"/>
                  </a:lnTo>
                  <a:lnTo>
                    <a:pt x="10220" y="5117"/>
                  </a:lnTo>
                  <a:lnTo>
                    <a:pt x="10196" y="4626"/>
                  </a:lnTo>
                  <a:lnTo>
                    <a:pt x="10127" y="4141"/>
                  </a:lnTo>
                  <a:lnTo>
                    <a:pt x="10010" y="3664"/>
                  </a:lnTo>
                  <a:lnTo>
                    <a:pt x="9850" y="3200"/>
                  </a:lnTo>
                  <a:lnTo>
                    <a:pt x="9643" y="2752"/>
                  </a:lnTo>
                  <a:lnTo>
                    <a:pt x="9395" y="2323"/>
                  </a:lnTo>
                  <a:lnTo>
                    <a:pt x="9101" y="1918"/>
                  </a:lnTo>
                  <a:lnTo>
                    <a:pt x="8766" y="1540"/>
                  </a:lnTo>
                  <a:lnTo>
                    <a:pt x="8390" y="1191"/>
                  </a:lnTo>
                  <a:lnTo>
                    <a:pt x="7972" y="877"/>
                  </a:lnTo>
                  <a:lnTo>
                    <a:pt x="7525" y="606"/>
                  </a:lnTo>
                  <a:lnTo>
                    <a:pt x="7060" y="386"/>
                  </a:lnTo>
                  <a:lnTo>
                    <a:pt x="6584" y="216"/>
                  </a:lnTo>
                  <a:lnTo>
                    <a:pt x="6099" y="96"/>
                  </a:lnTo>
                  <a:lnTo>
                    <a:pt x="5609" y="24"/>
                  </a:lnTo>
                  <a:lnTo>
                    <a:pt x="5117" y="0"/>
                  </a:lnTo>
                  <a:lnTo>
                    <a:pt x="4625" y="24"/>
                  </a:lnTo>
                  <a:lnTo>
                    <a:pt x="4141" y="94"/>
                  </a:lnTo>
                  <a:lnTo>
                    <a:pt x="3664" y="210"/>
                  </a:lnTo>
                  <a:lnTo>
                    <a:pt x="3200" y="370"/>
                  </a:lnTo>
                  <a:lnTo>
                    <a:pt x="2752" y="576"/>
                  </a:lnTo>
                  <a:lnTo>
                    <a:pt x="2324" y="826"/>
                  </a:lnTo>
                  <a:lnTo>
                    <a:pt x="1919" y="1119"/>
                  </a:lnTo>
                  <a:lnTo>
                    <a:pt x="1540" y="1453"/>
                  </a:lnTo>
                  <a:lnTo>
                    <a:pt x="1192" y="1831"/>
                  </a:lnTo>
                  <a:lnTo>
                    <a:pt x="878" y="2250"/>
                  </a:lnTo>
                  <a:lnTo>
                    <a:pt x="607" y="2696"/>
                  </a:lnTo>
                  <a:lnTo>
                    <a:pt x="387" y="3161"/>
                  </a:lnTo>
                  <a:lnTo>
                    <a:pt x="217" y="3637"/>
                  </a:lnTo>
                  <a:lnTo>
                    <a:pt x="97" y="4122"/>
                  </a:lnTo>
                  <a:lnTo>
                    <a:pt x="24" y="4612"/>
                  </a:lnTo>
                  <a:lnTo>
                    <a:pt x="0" y="5104"/>
                  </a:lnTo>
                  <a:lnTo>
                    <a:pt x="23" y="5595"/>
                  </a:lnTo>
                  <a:lnTo>
                    <a:pt x="93" y="6080"/>
                  </a:lnTo>
                  <a:lnTo>
                    <a:pt x="209" y="6556"/>
                  </a:lnTo>
                  <a:lnTo>
                    <a:pt x="371" y="7021"/>
                  </a:lnTo>
                  <a:lnTo>
                    <a:pt x="576" y="7468"/>
                  </a:lnTo>
                  <a:lnTo>
                    <a:pt x="826" y="7897"/>
                  </a:lnTo>
                  <a:lnTo>
                    <a:pt x="1118" y="8302"/>
                  </a:lnTo>
                  <a:lnTo>
                    <a:pt x="1454" y="8680"/>
                  </a:lnTo>
                  <a:lnTo>
                    <a:pt x="1831" y="9029"/>
                  </a:lnTo>
                  <a:lnTo>
                    <a:pt x="2249" y="9344"/>
                  </a:lnTo>
                  <a:close/>
                </a:path>
              </a:pathLst>
            </a:custGeom>
            <a:solidFill>
              <a:srgbClr val="2c46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38680" y="145440"/>
              <a:ext cx="779400" cy="769320"/>
            </a:xfrm>
            <a:custGeom>
              <a:avLst/>
              <a:gdLst/>
              <a:ahLst/>
              <a:rect l="l" t="t" r="r" b="b"/>
              <a:pathLst>
                <a:path w="10059" h="10060">
                  <a:moveTo>
                    <a:pt x="2215" y="9198"/>
                  </a:moveTo>
                  <a:lnTo>
                    <a:pt x="2655" y="9464"/>
                  </a:lnTo>
                  <a:lnTo>
                    <a:pt x="3111" y="9681"/>
                  </a:lnTo>
                  <a:lnTo>
                    <a:pt x="3580" y="9847"/>
                  </a:lnTo>
                  <a:lnTo>
                    <a:pt x="4057" y="9966"/>
                  </a:lnTo>
                  <a:lnTo>
                    <a:pt x="4540" y="10037"/>
                  </a:lnTo>
                  <a:lnTo>
                    <a:pt x="5024" y="10060"/>
                  </a:lnTo>
                  <a:lnTo>
                    <a:pt x="5507" y="10037"/>
                  </a:lnTo>
                  <a:lnTo>
                    <a:pt x="5984" y="9969"/>
                  </a:lnTo>
                  <a:lnTo>
                    <a:pt x="6453" y="9854"/>
                  </a:lnTo>
                  <a:lnTo>
                    <a:pt x="6910" y="9695"/>
                  </a:lnTo>
                  <a:lnTo>
                    <a:pt x="7351" y="9493"/>
                  </a:lnTo>
                  <a:lnTo>
                    <a:pt x="7772" y="9248"/>
                  </a:lnTo>
                  <a:lnTo>
                    <a:pt x="8172" y="8960"/>
                  </a:lnTo>
                  <a:lnTo>
                    <a:pt x="8544" y="8629"/>
                  </a:lnTo>
                  <a:lnTo>
                    <a:pt x="8887" y="8258"/>
                  </a:lnTo>
                  <a:lnTo>
                    <a:pt x="9197" y="7848"/>
                  </a:lnTo>
                  <a:lnTo>
                    <a:pt x="9463" y="7407"/>
                  </a:lnTo>
                  <a:lnTo>
                    <a:pt x="9680" y="6949"/>
                  </a:lnTo>
                  <a:lnTo>
                    <a:pt x="9847" y="6481"/>
                  </a:lnTo>
                  <a:lnTo>
                    <a:pt x="9966" y="6003"/>
                  </a:lnTo>
                  <a:lnTo>
                    <a:pt x="10036" y="5521"/>
                  </a:lnTo>
                  <a:lnTo>
                    <a:pt x="10059" y="5036"/>
                  </a:lnTo>
                  <a:lnTo>
                    <a:pt x="10036" y="4553"/>
                  </a:lnTo>
                  <a:lnTo>
                    <a:pt x="9968" y="4075"/>
                  </a:lnTo>
                  <a:lnTo>
                    <a:pt x="9853" y="3606"/>
                  </a:lnTo>
                  <a:lnTo>
                    <a:pt x="9695" y="3150"/>
                  </a:lnTo>
                  <a:lnTo>
                    <a:pt x="9493" y="2709"/>
                  </a:lnTo>
                  <a:lnTo>
                    <a:pt x="9247" y="2287"/>
                  </a:lnTo>
                  <a:lnTo>
                    <a:pt x="8959" y="1888"/>
                  </a:lnTo>
                  <a:lnTo>
                    <a:pt x="8628" y="1515"/>
                  </a:lnTo>
                  <a:lnTo>
                    <a:pt x="8257" y="1173"/>
                  </a:lnTo>
                  <a:lnTo>
                    <a:pt x="7847" y="863"/>
                  </a:lnTo>
                  <a:lnTo>
                    <a:pt x="7406" y="597"/>
                  </a:lnTo>
                  <a:lnTo>
                    <a:pt x="6950" y="380"/>
                  </a:lnTo>
                  <a:lnTo>
                    <a:pt x="6481" y="213"/>
                  </a:lnTo>
                  <a:lnTo>
                    <a:pt x="6003" y="94"/>
                  </a:lnTo>
                  <a:lnTo>
                    <a:pt x="5520" y="24"/>
                  </a:lnTo>
                  <a:lnTo>
                    <a:pt x="5036" y="0"/>
                  </a:lnTo>
                  <a:lnTo>
                    <a:pt x="4552" y="24"/>
                  </a:lnTo>
                  <a:lnTo>
                    <a:pt x="4075" y="92"/>
                  </a:lnTo>
                  <a:lnTo>
                    <a:pt x="3606" y="206"/>
                  </a:lnTo>
                  <a:lnTo>
                    <a:pt x="3149" y="365"/>
                  </a:lnTo>
                  <a:lnTo>
                    <a:pt x="2709" y="567"/>
                  </a:lnTo>
                  <a:lnTo>
                    <a:pt x="2287" y="812"/>
                  </a:lnTo>
                  <a:lnTo>
                    <a:pt x="1888" y="1100"/>
                  </a:lnTo>
                  <a:lnTo>
                    <a:pt x="1515" y="1431"/>
                  </a:lnTo>
                  <a:lnTo>
                    <a:pt x="1173" y="1802"/>
                  </a:lnTo>
                  <a:lnTo>
                    <a:pt x="863" y="2213"/>
                  </a:lnTo>
                  <a:lnTo>
                    <a:pt x="596" y="2654"/>
                  </a:lnTo>
                  <a:lnTo>
                    <a:pt x="381" y="3111"/>
                  </a:lnTo>
                  <a:lnTo>
                    <a:pt x="213" y="3580"/>
                  </a:lnTo>
                  <a:lnTo>
                    <a:pt x="95" y="4057"/>
                  </a:lnTo>
                  <a:lnTo>
                    <a:pt x="23" y="4539"/>
                  </a:lnTo>
                  <a:lnTo>
                    <a:pt x="0" y="5024"/>
                  </a:lnTo>
                  <a:lnTo>
                    <a:pt x="23" y="5507"/>
                  </a:lnTo>
                  <a:lnTo>
                    <a:pt x="93" y="5985"/>
                  </a:lnTo>
                  <a:lnTo>
                    <a:pt x="206" y="6454"/>
                  </a:lnTo>
                  <a:lnTo>
                    <a:pt x="365" y="6910"/>
                  </a:lnTo>
                  <a:lnTo>
                    <a:pt x="568" y="7351"/>
                  </a:lnTo>
                  <a:lnTo>
                    <a:pt x="813" y="7773"/>
                  </a:lnTo>
                  <a:lnTo>
                    <a:pt x="1101" y="8172"/>
                  </a:lnTo>
                  <a:lnTo>
                    <a:pt x="1431" y="8545"/>
                  </a:lnTo>
                  <a:lnTo>
                    <a:pt x="1802" y="8887"/>
                  </a:lnTo>
                  <a:lnTo>
                    <a:pt x="2215" y="9198"/>
                  </a:lnTo>
                  <a:close/>
                </a:path>
              </a:pathLst>
            </a:custGeom>
            <a:solidFill>
              <a:srgbClr val="2f4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48040" y="147960"/>
              <a:ext cx="767160" cy="757440"/>
            </a:xfrm>
            <a:custGeom>
              <a:avLst/>
              <a:gdLst/>
              <a:ahLst/>
              <a:rect l="l" t="t" r="r" b="b"/>
              <a:pathLst>
                <a:path w="9899" h="9899">
                  <a:moveTo>
                    <a:pt x="2179" y="9051"/>
                  </a:moveTo>
                  <a:lnTo>
                    <a:pt x="2611" y="9313"/>
                  </a:lnTo>
                  <a:lnTo>
                    <a:pt x="3061" y="9525"/>
                  </a:lnTo>
                  <a:lnTo>
                    <a:pt x="3522" y="9690"/>
                  </a:lnTo>
                  <a:lnTo>
                    <a:pt x="3992" y="9807"/>
                  </a:lnTo>
                  <a:lnTo>
                    <a:pt x="4467" y="9876"/>
                  </a:lnTo>
                  <a:lnTo>
                    <a:pt x="4944" y="9899"/>
                  </a:lnTo>
                  <a:lnTo>
                    <a:pt x="5419" y="9876"/>
                  </a:lnTo>
                  <a:lnTo>
                    <a:pt x="5889" y="9808"/>
                  </a:lnTo>
                  <a:lnTo>
                    <a:pt x="6350" y="9696"/>
                  </a:lnTo>
                  <a:lnTo>
                    <a:pt x="6800" y="9540"/>
                  </a:lnTo>
                  <a:lnTo>
                    <a:pt x="7234" y="9340"/>
                  </a:lnTo>
                  <a:lnTo>
                    <a:pt x="7649" y="9099"/>
                  </a:lnTo>
                  <a:lnTo>
                    <a:pt x="8042" y="8815"/>
                  </a:lnTo>
                  <a:lnTo>
                    <a:pt x="8408" y="8491"/>
                  </a:lnTo>
                  <a:lnTo>
                    <a:pt x="8745" y="8125"/>
                  </a:lnTo>
                  <a:lnTo>
                    <a:pt x="9051" y="7721"/>
                  </a:lnTo>
                  <a:lnTo>
                    <a:pt x="9312" y="7287"/>
                  </a:lnTo>
                  <a:lnTo>
                    <a:pt x="9525" y="6838"/>
                  </a:lnTo>
                  <a:lnTo>
                    <a:pt x="9689" y="6377"/>
                  </a:lnTo>
                  <a:lnTo>
                    <a:pt x="9806" y="5908"/>
                  </a:lnTo>
                  <a:lnTo>
                    <a:pt x="9876" y="5432"/>
                  </a:lnTo>
                  <a:lnTo>
                    <a:pt x="9899" y="4955"/>
                  </a:lnTo>
                  <a:lnTo>
                    <a:pt x="9877" y="4480"/>
                  </a:lnTo>
                  <a:lnTo>
                    <a:pt x="9809" y="4010"/>
                  </a:lnTo>
                  <a:lnTo>
                    <a:pt x="9696" y="3549"/>
                  </a:lnTo>
                  <a:lnTo>
                    <a:pt x="9540" y="3100"/>
                  </a:lnTo>
                  <a:lnTo>
                    <a:pt x="9341" y="2666"/>
                  </a:lnTo>
                  <a:lnTo>
                    <a:pt x="9099" y="2251"/>
                  </a:lnTo>
                  <a:lnTo>
                    <a:pt x="8816" y="1858"/>
                  </a:lnTo>
                  <a:lnTo>
                    <a:pt x="8491" y="1492"/>
                  </a:lnTo>
                  <a:lnTo>
                    <a:pt x="8126" y="1155"/>
                  </a:lnTo>
                  <a:lnTo>
                    <a:pt x="7722" y="851"/>
                  </a:lnTo>
                  <a:lnTo>
                    <a:pt x="7288" y="588"/>
                  </a:lnTo>
                  <a:lnTo>
                    <a:pt x="6838" y="374"/>
                  </a:lnTo>
                  <a:lnTo>
                    <a:pt x="6377" y="211"/>
                  </a:lnTo>
                  <a:lnTo>
                    <a:pt x="5907" y="94"/>
                  </a:lnTo>
                  <a:lnTo>
                    <a:pt x="5432" y="23"/>
                  </a:lnTo>
                  <a:lnTo>
                    <a:pt x="4954" y="0"/>
                  </a:lnTo>
                  <a:lnTo>
                    <a:pt x="4479" y="23"/>
                  </a:lnTo>
                  <a:lnTo>
                    <a:pt x="4009" y="90"/>
                  </a:lnTo>
                  <a:lnTo>
                    <a:pt x="3548" y="203"/>
                  </a:lnTo>
                  <a:lnTo>
                    <a:pt x="3099" y="359"/>
                  </a:lnTo>
                  <a:lnTo>
                    <a:pt x="2665" y="558"/>
                  </a:lnTo>
                  <a:lnTo>
                    <a:pt x="2250" y="799"/>
                  </a:lnTo>
                  <a:lnTo>
                    <a:pt x="1858" y="1083"/>
                  </a:lnTo>
                  <a:lnTo>
                    <a:pt x="1491" y="1408"/>
                  </a:lnTo>
                  <a:lnTo>
                    <a:pt x="1154" y="1773"/>
                  </a:lnTo>
                  <a:lnTo>
                    <a:pt x="850" y="2178"/>
                  </a:lnTo>
                  <a:lnTo>
                    <a:pt x="587" y="2611"/>
                  </a:lnTo>
                  <a:lnTo>
                    <a:pt x="374" y="3061"/>
                  </a:lnTo>
                  <a:lnTo>
                    <a:pt x="210" y="3522"/>
                  </a:lnTo>
                  <a:lnTo>
                    <a:pt x="93" y="3992"/>
                  </a:lnTo>
                  <a:lnTo>
                    <a:pt x="24" y="4467"/>
                  </a:lnTo>
                  <a:lnTo>
                    <a:pt x="0" y="4944"/>
                  </a:lnTo>
                  <a:lnTo>
                    <a:pt x="23" y="5420"/>
                  </a:lnTo>
                  <a:lnTo>
                    <a:pt x="91" y="5889"/>
                  </a:lnTo>
                  <a:lnTo>
                    <a:pt x="203" y="6351"/>
                  </a:lnTo>
                  <a:lnTo>
                    <a:pt x="360" y="6801"/>
                  </a:lnTo>
                  <a:lnTo>
                    <a:pt x="558" y="7234"/>
                  </a:lnTo>
                  <a:lnTo>
                    <a:pt x="800" y="7650"/>
                  </a:lnTo>
                  <a:lnTo>
                    <a:pt x="1084" y="8042"/>
                  </a:lnTo>
                  <a:lnTo>
                    <a:pt x="1408" y="8409"/>
                  </a:lnTo>
                  <a:lnTo>
                    <a:pt x="1774" y="8746"/>
                  </a:lnTo>
                  <a:lnTo>
                    <a:pt x="2179" y="9051"/>
                  </a:lnTo>
                  <a:close/>
                </a:path>
              </a:pathLst>
            </a:custGeom>
            <a:solidFill>
              <a:srgbClr val="314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57400" y="150120"/>
              <a:ext cx="754920" cy="745560"/>
            </a:xfrm>
            <a:custGeom>
              <a:avLst/>
              <a:gdLst/>
              <a:ahLst/>
              <a:rect l="l" t="t" r="r" b="b"/>
              <a:pathLst>
                <a:path w="9739" h="9738">
                  <a:moveTo>
                    <a:pt x="2144" y="8903"/>
                  </a:moveTo>
                  <a:lnTo>
                    <a:pt x="2570" y="9161"/>
                  </a:lnTo>
                  <a:lnTo>
                    <a:pt x="3011" y="9370"/>
                  </a:lnTo>
                  <a:lnTo>
                    <a:pt x="3465" y="9532"/>
                  </a:lnTo>
                  <a:lnTo>
                    <a:pt x="3928" y="9646"/>
                  </a:lnTo>
                  <a:lnTo>
                    <a:pt x="4394" y="9715"/>
                  </a:lnTo>
                  <a:lnTo>
                    <a:pt x="4864" y="9738"/>
                  </a:lnTo>
                  <a:lnTo>
                    <a:pt x="5331" y="9715"/>
                  </a:lnTo>
                  <a:lnTo>
                    <a:pt x="5793" y="9648"/>
                  </a:lnTo>
                  <a:lnTo>
                    <a:pt x="6247" y="9538"/>
                  </a:lnTo>
                  <a:lnTo>
                    <a:pt x="6690" y="9385"/>
                  </a:lnTo>
                  <a:lnTo>
                    <a:pt x="7116" y="9188"/>
                  </a:lnTo>
                  <a:lnTo>
                    <a:pt x="7524" y="8951"/>
                  </a:lnTo>
                  <a:lnTo>
                    <a:pt x="7910" y="8672"/>
                  </a:lnTo>
                  <a:lnTo>
                    <a:pt x="8271" y="8353"/>
                  </a:lnTo>
                  <a:lnTo>
                    <a:pt x="8603" y="7993"/>
                  </a:lnTo>
                  <a:lnTo>
                    <a:pt x="8903" y="7596"/>
                  </a:lnTo>
                  <a:lnTo>
                    <a:pt x="9160" y="7168"/>
                  </a:lnTo>
                  <a:lnTo>
                    <a:pt x="9370" y="6727"/>
                  </a:lnTo>
                  <a:lnTo>
                    <a:pt x="9532" y="6273"/>
                  </a:lnTo>
                  <a:lnTo>
                    <a:pt x="9647" y="5811"/>
                  </a:lnTo>
                  <a:lnTo>
                    <a:pt x="9715" y="5343"/>
                  </a:lnTo>
                  <a:lnTo>
                    <a:pt x="9739" y="4874"/>
                  </a:lnTo>
                  <a:lnTo>
                    <a:pt x="9716" y="4406"/>
                  </a:lnTo>
                  <a:lnTo>
                    <a:pt x="9649" y="3944"/>
                  </a:lnTo>
                  <a:lnTo>
                    <a:pt x="9539" y="3490"/>
                  </a:lnTo>
                  <a:lnTo>
                    <a:pt x="9385" y="3048"/>
                  </a:lnTo>
                  <a:lnTo>
                    <a:pt x="9189" y="2622"/>
                  </a:lnTo>
                  <a:lnTo>
                    <a:pt x="8951" y="2213"/>
                  </a:lnTo>
                  <a:lnTo>
                    <a:pt x="8672" y="1827"/>
                  </a:lnTo>
                  <a:lnTo>
                    <a:pt x="8352" y="1466"/>
                  </a:lnTo>
                  <a:lnTo>
                    <a:pt x="7993" y="1134"/>
                  </a:lnTo>
                  <a:lnTo>
                    <a:pt x="7595" y="836"/>
                  </a:lnTo>
                  <a:lnTo>
                    <a:pt x="7168" y="577"/>
                  </a:lnTo>
                  <a:lnTo>
                    <a:pt x="6727" y="368"/>
                  </a:lnTo>
                  <a:lnTo>
                    <a:pt x="6273" y="205"/>
                  </a:lnTo>
                  <a:lnTo>
                    <a:pt x="5810" y="90"/>
                  </a:lnTo>
                  <a:lnTo>
                    <a:pt x="5344" y="22"/>
                  </a:lnTo>
                  <a:lnTo>
                    <a:pt x="4875" y="0"/>
                  </a:lnTo>
                  <a:lnTo>
                    <a:pt x="4407" y="22"/>
                  </a:lnTo>
                  <a:lnTo>
                    <a:pt x="3945" y="88"/>
                  </a:lnTo>
                  <a:lnTo>
                    <a:pt x="3491" y="199"/>
                  </a:lnTo>
                  <a:lnTo>
                    <a:pt x="3048" y="353"/>
                  </a:lnTo>
                  <a:lnTo>
                    <a:pt x="2622" y="549"/>
                  </a:lnTo>
                  <a:lnTo>
                    <a:pt x="2214" y="787"/>
                  </a:lnTo>
                  <a:lnTo>
                    <a:pt x="1828" y="1065"/>
                  </a:lnTo>
                  <a:lnTo>
                    <a:pt x="1468" y="1384"/>
                  </a:lnTo>
                  <a:lnTo>
                    <a:pt x="1136" y="1743"/>
                  </a:lnTo>
                  <a:lnTo>
                    <a:pt x="837" y="2142"/>
                  </a:lnTo>
                  <a:lnTo>
                    <a:pt x="579" y="2568"/>
                  </a:lnTo>
                  <a:lnTo>
                    <a:pt x="369" y="3010"/>
                  </a:lnTo>
                  <a:lnTo>
                    <a:pt x="207" y="3464"/>
                  </a:lnTo>
                  <a:lnTo>
                    <a:pt x="92" y="3926"/>
                  </a:lnTo>
                  <a:lnTo>
                    <a:pt x="23" y="4394"/>
                  </a:lnTo>
                  <a:lnTo>
                    <a:pt x="0" y="4863"/>
                  </a:lnTo>
                  <a:lnTo>
                    <a:pt x="23" y="5330"/>
                  </a:lnTo>
                  <a:lnTo>
                    <a:pt x="90" y="5793"/>
                  </a:lnTo>
                  <a:lnTo>
                    <a:pt x="199" y="6247"/>
                  </a:lnTo>
                  <a:lnTo>
                    <a:pt x="353" y="6689"/>
                  </a:lnTo>
                  <a:lnTo>
                    <a:pt x="549" y="7116"/>
                  </a:lnTo>
                  <a:lnTo>
                    <a:pt x="787" y="7524"/>
                  </a:lnTo>
                  <a:lnTo>
                    <a:pt x="1066" y="7910"/>
                  </a:lnTo>
                  <a:lnTo>
                    <a:pt x="1386" y="8271"/>
                  </a:lnTo>
                  <a:lnTo>
                    <a:pt x="1745" y="8603"/>
                  </a:lnTo>
                  <a:lnTo>
                    <a:pt x="2144" y="8903"/>
                  </a:lnTo>
                  <a:close/>
                </a:path>
              </a:pathLst>
            </a:custGeom>
            <a:solidFill>
              <a:srgbClr val="334c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66760" y="152640"/>
              <a:ext cx="741960" cy="732600"/>
            </a:xfrm>
            <a:custGeom>
              <a:avLst/>
              <a:gdLst/>
              <a:ahLst/>
              <a:rect l="l" t="t" r="r" b="b"/>
              <a:pathLst>
                <a:path w="9577" h="9577">
                  <a:moveTo>
                    <a:pt x="2108" y="8755"/>
                  </a:moveTo>
                  <a:lnTo>
                    <a:pt x="2527" y="9008"/>
                  </a:lnTo>
                  <a:lnTo>
                    <a:pt x="2961" y="9215"/>
                  </a:lnTo>
                  <a:lnTo>
                    <a:pt x="3408" y="9374"/>
                  </a:lnTo>
                  <a:lnTo>
                    <a:pt x="3862" y="9488"/>
                  </a:lnTo>
                  <a:lnTo>
                    <a:pt x="4322" y="9555"/>
                  </a:lnTo>
                  <a:lnTo>
                    <a:pt x="4784" y="9577"/>
                  </a:lnTo>
                  <a:lnTo>
                    <a:pt x="5243" y="9555"/>
                  </a:lnTo>
                  <a:lnTo>
                    <a:pt x="5698" y="9490"/>
                  </a:lnTo>
                  <a:lnTo>
                    <a:pt x="6144" y="9380"/>
                  </a:lnTo>
                  <a:lnTo>
                    <a:pt x="6579" y="9230"/>
                  </a:lnTo>
                  <a:lnTo>
                    <a:pt x="6999" y="9037"/>
                  </a:lnTo>
                  <a:lnTo>
                    <a:pt x="7400" y="8803"/>
                  </a:lnTo>
                  <a:lnTo>
                    <a:pt x="7779" y="8529"/>
                  </a:lnTo>
                  <a:lnTo>
                    <a:pt x="8135" y="8214"/>
                  </a:lnTo>
                  <a:lnTo>
                    <a:pt x="8461" y="7861"/>
                  </a:lnTo>
                  <a:lnTo>
                    <a:pt x="8755" y="7470"/>
                  </a:lnTo>
                  <a:lnTo>
                    <a:pt x="9008" y="7050"/>
                  </a:lnTo>
                  <a:lnTo>
                    <a:pt x="9215" y="6615"/>
                  </a:lnTo>
                  <a:lnTo>
                    <a:pt x="9374" y="6169"/>
                  </a:lnTo>
                  <a:lnTo>
                    <a:pt x="9488" y="5715"/>
                  </a:lnTo>
                  <a:lnTo>
                    <a:pt x="9555" y="5255"/>
                  </a:lnTo>
                  <a:lnTo>
                    <a:pt x="9577" y="4793"/>
                  </a:lnTo>
                  <a:lnTo>
                    <a:pt x="9555" y="4334"/>
                  </a:lnTo>
                  <a:lnTo>
                    <a:pt x="9490" y="3879"/>
                  </a:lnTo>
                  <a:lnTo>
                    <a:pt x="9380" y="3433"/>
                  </a:lnTo>
                  <a:lnTo>
                    <a:pt x="9230" y="2998"/>
                  </a:lnTo>
                  <a:lnTo>
                    <a:pt x="9037" y="2578"/>
                  </a:lnTo>
                  <a:lnTo>
                    <a:pt x="8803" y="2177"/>
                  </a:lnTo>
                  <a:lnTo>
                    <a:pt x="8529" y="1796"/>
                  </a:lnTo>
                  <a:lnTo>
                    <a:pt x="8214" y="1442"/>
                  </a:lnTo>
                  <a:lnTo>
                    <a:pt x="7861" y="1116"/>
                  </a:lnTo>
                  <a:lnTo>
                    <a:pt x="7470" y="822"/>
                  </a:lnTo>
                  <a:lnTo>
                    <a:pt x="7050" y="568"/>
                  </a:lnTo>
                  <a:lnTo>
                    <a:pt x="6615" y="361"/>
                  </a:lnTo>
                  <a:lnTo>
                    <a:pt x="6169" y="203"/>
                  </a:lnTo>
                  <a:lnTo>
                    <a:pt x="5715" y="89"/>
                  </a:lnTo>
                  <a:lnTo>
                    <a:pt x="5256" y="22"/>
                  </a:lnTo>
                  <a:lnTo>
                    <a:pt x="4794" y="0"/>
                  </a:lnTo>
                  <a:lnTo>
                    <a:pt x="4334" y="22"/>
                  </a:lnTo>
                  <a:lnTo>
                    <a:pt x="3880" y="88"/>
                  </a:lnTo>
                  <a:lnTo>
                    <a:pt x="3433" y="197"/>
                  </a:lnTo>
                  <a:lnTo>
                    <a:pt x="2999" y="348"/>
                  </a:lnTo>
                  <a:lnTo>
                    <a:pt x="2579" y="540"/>
                  </a:lnTo>
                  <a:lnTo>
                    <a:pt x="2177" y="774"/>
                  </a:lnTo>
                  <a:lnTo>
                    <a:pt x="1797" y="1048"/>
                  </a:lnTo>
                  <a:lnTo>
                    <a:pt x="1443" y="1362"/>
                  </a:lnTo>
                  <a:lnTo>
                    <a:pt x="1117" y="1715"/>
                  </a:lnTo>
                  <a:lnTo>
                    <a:pt x="822" y="2107"/>
                  </a:lnTo>
                  <a:lnTo>
                    <a:pt x="568" y="2526"/>
                  </a:lnTo>
                  <a:lnTo>
                    <a:pt x="362" y="2961"/>
                  </a:lnTo>
                  <a:lnTo>
                    <a:pt x="203" y="3407"/>
                  </a:lnTo>
                  <a:lnTo>
                    <a:pt x="90" y="3861"/>
                  </a:lnTo>
                  <a:lnTo>
                    <a:pt x="23" y="4321"/>
                  </a:lnTo>
                  <a:lnTo>
                    <a:pt x="0" y="4783"/>
                  </a:lnTo>
                  <a:lnTo>
                    <a:pt x="22" y="5243"/>
                  </a:lnTo>
                  <a:lnTo>
                    <a:pt x="88" y="5697"/>
                  </a:lnTo>
                  <a:lnTo>
                    <a:pt x="196" y="6143"/>
                  </a:lnTo>
                  <a:lnTo>
                    <a:pt x="347" y="6578"/>
                  </a:lnTo>
                  <a:lnTo>
                    <a:pt x="540" y="6998"/>
                  </a:lnTo>
                  <a:lnTo>
                    <a:pt x="774" y="7400"/>
                  </a:lnTo>
                  <a:lnTo>
                    <a:pt x="1048" y="7779"/>
                  </a:lnTo>
                  <a:lnTo>
                    <a:pt x="1362" y="8135"/>
                  </a:lnTo>
                  <a:lnTo>
                    <a:pt x="1715" y="8461"/>
                  </a:lnTo>
                  <a:lnTo>
                    <a:pt x="2108" y="8755"/>
                  </a:lnTo>
                  <a:close/>
                </a:path>
              </a:pathLst>
            </a:custGeom>
            <a:solidFill>
              <a:srgbClr val="354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276120" y="155520"/>
              <a:ext cx="729720" cy="720000"/>
            </a:xfrm>
            <a:custGeom>
              <a:avLst/>
              <a:gdLst/>
              <a:ahLst/>
              <a:rect l="l" t="t" r="r" b="b"/>
              <a:pathLst>
                <a:path w="9417" h="9417">
                  <a:moveTo>
                    <a:pt x="2073" y="8609"/>
                  </a:moveTo>
                  <a:lnTo>
                    <a:pt x="2484" y="8857"/>
                  </a:lnTo>
                  <a:lnTo>
                    <a:pt x="2912" y="9060"/>
                  </a:lnTo>
                  <a:lnTo>
                    <a:pt x="3351" y="9217"/>
                  </a:lnTo>
                  <a:lnTo>
                    <a:pt x="3797" y="9328"/>
                  </a:lnTo>
                  <a:lnTo>
                    <a:pt x="4249" y="9394"/>
                  </a:lnTo>
                  <a:lnTo>
                    <a:pt x="4703" y="9417"/>
                  </a:lnTo>
                  <a:lnTo>
                    <a:pt x="5155" y="9395"/>
                  </a:lnTo>
                  <a:lnTo>
                    <a:pt x="5602" y="9330"/>
                  </a:lnTo>
                  <a:lnTo>
                    <a:pt x="6041" y="9223"/>
                  </a:lnTo>
                  <a:lnTo>
                    <a:pt x="6469" y="9075"/>
                  </a:lnTo>
                  <a:lnTo>
                    <a:pt x="6881" y="8885"/>
                  </a:lnTo>
                  <a:lnTo>
                    <a:pt x="7276" y="8655"/>
                  </a:lnTo>
                  <a:lnTo>
                    <a:pt x="7649" y="8385"/>
                  </a:lnTo>
                  <a:lnTo>
                    <a:pt x="7998" y="8077"/>
                  </a:lnTo>
                  <a:lnTo>
                    <a:pt x="8319" y="7729"/>
                  </a:lnTo>
                  <a:lnTo>
                    <a:pt x="8609" y="7345"/>
                  </a:lnTo>
                  <a:lnTo>
                    <a:pt x="8858" y="6932"/>
                  </a:lnTo>
                  <a:lnTo>
                    <a:pt x="9061" y="6505"/>
                  </a:lnTo>
                  <a:lnTo>
                    <a:pt x="9217" y="6066"/>
                  </a:lnTo>
                  <a:lnTo>
                    <a:pt x="9329" y="5619"/>
                  </a:lnTo>
                  <a:lnTo>
                    <a:pt x="9395" y="5167"/>
                  </a:lnTo>
                  <a:lnTo>
                    <a:pt x="9417" y="4713"/>
                  </a:lnTo>
                  <a:lnTo>
                    <a:pt x="9396" y="4262"/>
                  </a:lnTo>
                  <a:lnTo>
                    <a:pt x="9331" y="3814"/>
                  </a:lnTo>
                  <a:lnTo>
                    <a:pt x="9223" y="3375"/>
                  </a:lnTo>
                  <a:lnTo>
                    <a:pt x="9076" y="2948"/>
                  </a:lnTo>
                  <a:lnTo>
                    <a:pt x="8885" y="2535"/>
                  </a:lnTo>
                  <a:lnTo>
                    <a:pt x="8656" y="2140"/>
                  </a:lnTo>
                  <a:lnTo>
                    <a:pt x="8386" y="1767"/>
                  </a:lnTo>
                  <a:lnTo>
                    <a:pt x="8077" y="1418"/>
                  </a:lnTo>
                  <a:lnTo>
                    <a:pt x="7730" y="1097"/>
                  </a:lnTo>
                  <a:lnTo>
                    <a:pt x="7345" y="808"/>
                  </a:lnTo>
                  <a:lnTo>
                    <a:pt x="6932" y="558"/>
                  </a:lnTo>
                  <a:lnTo>
                    <a:pt x="6505" y="355"/>
                  </a:lnTo>
                  <a:lnTo>
                    <a:pt x="6066" y="199"/>
                  </a:lnTo>
                  <a:lnTo>
                    <a:pt x="5619" y="88"/>
                  </a:lnTo>
                  <a:lnTo>
                    <a:pt x="5168" y="22"/>
                  </a:lnTo>
                  <a:lnTo>
                    <a:pt x="4714" y="0"/>
                  </a:lnTo>
                  <a:lnTo>
                    <a:pt x="4262" y="21"/>
                  </a:lnTo>
                  <a:lnTo>
                    <a:pt x="3814" y="86"/>
                  </a:lnTo>
                  <a:lnTo>
                    <a:pt x="3375" y="192"/>
                  </a:lnTo>
                  <a:lnTo>
                    <a:pt x="2948" y="341"/>
                  </a:lnTo>
                  <a:lnTo>
                    <a:pt x="2535" y="530"/>
                  </a:lnTo>
                  <a:lnTo>
                    <a:pt x="2141" y="760"/>
                  </a:lnTo>
                  <a:lnTo>
                    <a:pt x="1768" y="1030"/>
                  </a:lnTo>
                  <a:lnTo>
                    <a:pt x="1419" y="1339"/>
                  </a:lnTo>
                  <a:lnTo>
                    <a:pt x="1098" y="1686"/>
                  </a:lnTo>
                  <a:lnTo>
                    <a:pt x="809" y="2072"/>
                  </a:lnTo>
                  <a:lnTo>
                    <a:pt x="559" y="2483"/>
                  </a:lnTo>
                  <a:lnTo>
                    <a:pt x="356" y="2910"/>
                  </a:lnTo>
                  <a:lnTo>
                    <a:pt x="200" y="3350"/>
                  </a:lnTo>
                  <a:lnTo>
                    <a:pt x="88" y="3796"/>
                  </a:lnTo>
                  <a:lnTo>
                    <a:pt x="22" y="4249"/>
                  </a:lnTo>
                  <a:lnTo>
                    <a:pt x="0" y="4702"/>
                  </a:lnTo>
                  <a:lnTo>
                    <a:pt x="21" y="5155"/>
                  </a:lnTo>
                  <a:lnTo>
                    <a:pt x="86" y="5601"/>
                  </a:lnTo>
                  <a:lnTo>
                    <a:pt x="193" y="6040"/>
                  </a:lnTo>
                  <a:lnTo>
                    <a:pt x="341" y="6469"/>
                  </a:lnTo>
                  <a:lnTo>
                    <a:pt x="531" y="6881"/>
                  </a:lnTo>
                  <a:lnTo>
                    <a:pt x="761" y="7275"/>
                  </a:lnTo>
                  <a:lnTo>
                    <a:pt x="1031" y="7649"/>
                  </a:lnTo>
                  <a:lnTo>
                    <a:pt x="1339" y="7997"/>
                  </a:lnTo>
                  <a:lnTo>
                    <a:pt x="1687" y="8318"/>
                  </a:lnTo>
                  <a:lnTo>
                    <a:pt x="2073" y="8609"/>
                  </a:lnTo>
                  <a:close/>
                </a:path>
              </a:pathLst>
            </a:custGeom>
            <a:solidFill>
              <a:srgbClr val="3750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85480" y="157320"/>
              <a:ext cx="717840" cy="708840"/>
            </a:xfrm>
            <a:custGeom>
              <a:avLst/>
              <a:gdLst/>
              <a:ahLst/>
              <a:rect l="l" t="t" r="r" b="b"/>
              <a:pathLst>
                <a:path w="9256" h="9255">
                  <a:moveTo>
                    <a:pt x="2036" y="8462"/>
                  </a:moveTo>
                  <a:lnTo>
                    <a:pt x="2441" y="8706"/>
                  </a:lnTo>
                  <a:lnTo>
                    <a:pt x="2861" y="8905"/>
                  </a:lnTo>
                  <a:lnTo>
                    <a:pt x="3292" y="9059"/>
                  </a:lnTo>
                  <a:lnTo>
                    <a:pt x="3732" y="9169"/>
                  </a:lnTo>
                  <a:lnTo>
                    <a:pt x="4176" y="9234"/>
                  </a:lnTo>
                  <a:lnTo>
                    <a:pt x="4621" y="9255"/>
                  </a:lnTo>
                  <a:lnTo>
                    <a:pt x="5066" y="9234"/>
                  </a:lnTo>
                  <a:lnTo>
                    <a:pt x="5506" y="9171"/>
                  </a:lnTo>
                  <a:lnTo>
                    <a:pt x="5938" y="9066"/>
                  </a:lnTo>
                  <a:lnTo>
                    <a:pt x="6357" y="8920"/>
                  </a:lnTo>
                  <a:lnTo>
                    <a:pt x="6762" y="8734"/>
                  </a:lnTo>
                  <a:lnTo>
                    <a:pt x="7151" y="8507"/>
                  </a:lnTo>
                  <a:lnTo>
                    <a:pt x="7518" y="8243"/>
                  </a:lnTo>
                  <a:lnTo>
                    <a:pt x="7861" y="7940"/>
                  </a:lnTo>
                  <a:lnTo>
                    <a:pt x="8176" y="7599"/>
                  </a:lnTo>
                  <a:lnTo>
                    <a:pt x="8461" y="7220"/>
                  </a:lnTo>
                  <a:lnTo>
                    <a:pt x="8706" y="6814"/>
                  </a:lnTo>
                  <a:lnTo>
                    <a:pt x="8906" y="6394"/>
                  </a:lnTo>
                  <a:lnTo>
                    <a:pt x="9060" y="5962"/>
                  </a:lnTo>
                  <a:lnTo>
                    <a:pt x="9168" y="5523"/>
                  </a:lnTo>
                  <a:lnTo>
                    <a:pt x="9233" y="5079"/>
                  </a:lnTo>
                  <a:lnTo>
                    <a:pt x="9256" y="4634"/>
                  </a:lnTo>
                  <a:lnTo>
                    <a:pt x="9234" y="4189"/>
                  </a:lnTo>
                  <a:lnTo>
                    <a:pt x="9170" y="3749"/>
                  </a:lnTo>
                  <a:lnTo>
                    <a:pt x="9065" y="3318"/>
                  </a:lnTo>
                  <a:lnTo>
                    <a:pt x="8920" y="2898"/>
                  </a:lnTo>
                  <a:lnTo>
                    <a:pt x="8734" y="2492"/>
                  </a:lnTo>
                  <a:lnTo>
                    <a:pt x="8507" y="2104"/>
                  </a:lnTo>
                  <a:lnTo>
                    <a:pt x="8242" y="1737"/>
                  </a:lnTo>
                  <a:lnTo>
                    <a:pt x="7938" y="1393"/>
                  </a:lnTo>
                  <a:lnTo>
                    <a:pt x="7597" y="1078"/>
                  </a:lnTo>
                  <a:lnTo>
                    <a:pt x="7219" y="794"/>
                  </a:lnTo>
                  <a:lnTo>
                    <a:pt x="6812" y="548"/>
                  </a:lnTo>
                  <a:lnTo>
                    <a:pt x="6393" y="349"/>
                  </a:lnTo>
                  <a:lnTo>
                    <a:pt x="5962" y="195"/>
                  </a:lnTo>
                  <a:lnTo>
                    <a:pt x="5523" y="87"/>
                  </a:lnTo>
                  <a:lnTo>
                    <a:pt x="5079" y="22"/>
                  </a:lnTo>
                  <a:lnTo>
                    <a:pt x="4632" y="0"/>
                  </a:lnTo>
                  <a:lnTo>
                    <a:pt x="4189" y="21"/>
                  </a:lnTo>
                  <a:lnTo>
                    <a:pt x="3749" y="85"/>
                  </a:lnTo>
                  <a:lnTo>
                    <a:pt x="3317" y="190"/>
                  </a:lnTo>
                  <a:lnTo>
                    <a:pt x="2897" y="336"/>
                  </a:lnTo>
                  <a:lnTo>
                    <a:pt x="2491" y="522"/>
                  </a:lnTo>
                  <a:lnTo>
                    <a:pt x="2104" y="748"/>
                  </a:lnTo>
                  <a:lnTo>
                    <a:pt x="1736" y="1013"/>
                  </a:lnTo>
                  <a:lnTo>
                    <a:pt x="1394" y="1316"/>
                  </a:lnTo>
                  <a:lnTo>
                    <a:pt x="1078" y="1657"/>
                  </a:lnTo>
                  <a:lnTo>
                    <a:pt x="794" y="2037"/>
                  </a:lnTo>
                  <a:lnTo>
                    <a:pt x="549" y="2442"/>
                  </a:lnTo>
                  <a:lnTo>
                    <a:pt x="350" y="2861"/>
                  </a:lnTo>
                  <a:lnTo>
                    <a:pt x="196" y="3293"/>
                  </a:lnTo>
                  <a:lnTo>
                    <a:pt x="86" y="3732"/>
                  </a:lnTo>
                  <a:lnTo>
                    <a:pt x="21" y="4177"/>
                  </a:lnTo>
                  <a:lnTo>
                    <a:pt x="0" y="4622"/>
                  </a:lnTo>
                  <a:lnTo>
                    <a:pt x="21" y="5066"/>
                  </a:lnTo>
                  <a:lnTo>
                    <a:pt x="84" y="5506"/>
                  </a:lnTo>
                  <a:lnTo>
                    <a:pt x="189" y="5938"/>
                  </a:lnTo>
                  <a:lnTo>
                    <a:pt x="335" y="6358"/>
                  </a:lnTo>
                  <a:lnTo>
                    <a:pt x="521" y="6763"/>
                  </a:lnTo>
                  <a:lnTo>
                    <a:pt x="747" y="7151"/>
                  </a:lnTo>
                  <a:lnTo>
                    <a:pt x="1012" y="7519"/>
                  </a:lnTo>
                  <a:lnTo>
                    <a:pt x="1315" y="7861"/>
                  </a:lnTo>
                  <a:lnTo>
                    <a:pt x="1656" y="8177"/>
                  </a:lnTo>
                  <a:lnTo>
                    <a:pt x="2036" y="8462"/>
                  </a:lnTo>
                  <a:close/>
                </a:path>
              </a:pathLst>
            </a:custGeom>
            <a:solidFill>
              <a:srgbClr val="3953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294840" y="159840"/>
              <a:ext cx="704520" cy="696240"/>
            </a:xfrm>
            <a:custGeom>
              <a:avLst/>
              <a:gdLst/>
              <a:ahLst/>
              <a:rect l="l" t="t" r="r" b="b"/>
              <a:pathLst>
                <a:path w="9096" h="9095">
                  <a:moveTo>
                    <a:pt x="2002" y="8316"/>
                  </a:moveTo>
                  <a:lnTo>
                    <a:pt x="2400" y="8556"/>
                  </a:lnTo>
                  <a:lnTo>
                    <a:pt x="2812" y="8752"/>
                  </a:lnTo>
                  <a:lnTo>
                    <a:pt x="3236" y="8903"/>
                  </a:lnTo>
                  <a:lnTo>
                    <a:pt x="3668" y="9010"/>
                  </a:lnTo>
                  <a:lnTo>
                    <a:pt x="4105" y="9074"/>
                  </a:lnTo>
                  <a:lnTo>
                    <a:pt x="4543" y="9095"/>
                  </a:lnTo>
                  <a:lnTo>
                    <a:pt x="4980" y="9074"/>
                  </a:lnTo>
                  <a:lnTo>
                    <a:pt x="5411" y="9012"/>
                  </a:lnTo>
                  <a:lnTo>
                    <a:pt x="5836" y="8909"/>
                  </a:lnTo>
                  <a:lnTo>
                    <a:pt x="6248" y="8766"/>
                  </a:lnTo>
                  <a:lnTo>
                    <a:pt x="6647" y="8582"/>
                  </a:lnTo>
                  <a:lnTo>
                    <a:pt x="7028" y="8361"/>
                  </a:lnTo>
                  <a:lnTo>
                    <a:pt x="7389" y="8100"/>
                  </a:lnTo>
                  <a:lnTo>
                    <a:pt x="7726" y="7801"/>
                  </a:lnTo>
                  <a:lnTo>
                    <a:pt x="8035" y="7466"/>
                  </a:lnTo>
                  <a:lnTo>
                    <a:pt x="8316" y="7095"/>
                  </a:lnTo>
                  <a:lnTo>
                    <a:pt x="8556" y="6696"/>
                  </a:lnTo>
                  <a:lnTo>
                    <a:pt x="8752" y="6283"/>
                  </a:lnTo>
                  <a:lnTo>
                    <a:pt x="8904" y="5859"/>
                  </a:lnTo>
                  <a:lnTo>
                    <a:pt x="9010" y="5428"/>
                  </a:lnTo>
                  <a:lnTo>
                    <a:pt x="9075" y="4991"/>
                  </a:lnTo>
                  <a:lnTo>
                    <a:pt x="9096" y="4553"/>
                  </a:lnTo>
                  <a:lnTo>
                    <a:pt x="9075" y="4116"/>
                  </a:lnTo>
                  <a:lnTo>
                    <a:pt x="9012" y="3684"/>
                  </a:lnTo>
                  <a:lnTo>
                    <a:pt x="8909" y="3260"/>
                  </a:lnTo>
                  <a:lnTo>
                    <a:pt x="8766" y="2848"/>
                  </a:lnTo>
                  <a:lnTo>
                    <a:pt x="8583" y="2449"/>
                  </a:lnTo>
                  <a:lnTo>
                    <a:pt x="8360" y="2067"/>
                  </a:lnTo>
                  <a:lnTo>
                    <a:pt x="8100" y="1707"/>
                  </a:lnTo>
                  <a:lnTo>
                    <a:pt x="7801" y="1370"/>
                  </a:lnTo>
                  <a:lnTo>
                    <a:pt x="7466" y="1059"/>
                  </a:lnTo>
                  <a:lnTo>
                    <a:pt x="7094" y="780"/>
                  </a:lnTo>
                  <a:lnTo>
                    <a:pt x="6696" y="539"/>
                  </a:lnTo>
                  <a:lnTo>
                    <a:pt x="6283" y="343"/>
                  </a:lnTo>
                  <a:lnTo>
                    <a:pt x="5860" y="192"/>
                  </a:lnTo>
                  <a:lnTo>
                    <a:pt x="5428" y="85"/>
                  </a:lnTo>
                  <a:lnTo>
                    <a:pt x="4991" y="21"/>
                  </a:lnTo>
                  <a:lnTo>
                    <a:pt x="4553" y="0"/>
                  </a:lnTo>
                  <a:lnTo>
                    <a:pt x="4117" y="21"/>
                  </a:lnTo>
                  <a:lnTo>
                    <a:pt x="3685" y="82"/>
                  </a:lnTo>
                  <a:lnTo>
                    <a:pt x="3261" y="186"/>
                  </a:lnTo>
                  <a:lnTo>
                    <a:pt x="2848" y="329"/>
                  </a:lnTo>
                  <a:lnTo>
                    <a:pt x="2450" y="513"/>
                  </a:lnTo>
                  <a:lnTo>
                    <a:pt x="2068" y="734"/>
                  </a:lnTo>
                  <a:lnTo>
                    <a:pt x="1708" y="995"/>
                  </a:lnTo>
                  <a:lnTo>
                    <a:pt x="1371" y="1293"/>
                  </a:lnTo>
                  <a:lnTo>
                    <a:pt x="1060" y="1629"/>
                  </a:lnTo>
                  <a:lnTo>
                    <a:pt x="780" y="2001"/>
                  </a:lnTo>
                  <a:lnTo>
                    <a:pt x="539" y="2399"/>
                  </a:lnTo>
                  <a:lnTo>
                    <a:pt x="344" y="2811"/>
                  </a:lnTo>
                  <a:lnTo>
                    <a:pt x="193" y="3236"/>
                  </a:lnTo>
                  <a:lnTo>
                    <a:pt x="85" y="3667"/>
                  </a:lnTo>
                  <a:lnTo>
                    <a:pt x="21" y="4104"/>
                  </a:lnTo>
                  <a:lnTo>
                    <a:pt x="0" y="4542"/>
                  </a:lnTo>
                  <a:lnTo>
                    <a:pt x="21" y="4979"/>
                  </a:lnTo>
                  <a:lnTo>
                    <a:pt x="83" y="5411"/>
                  </a:lnTo>
                  <a:lnTo>
                    <a:pt x="186" y="5835"/>
                  </a:lnTo>
                  <a:lnTo>
                    <a:pt x="330" y="6247"/>
                  </a:lnTo>
                  <a:lnTo>
                    <a:pt x="514" y="6646"/>
                  </a:lnTo>
                  <a:lnTo>
                    <a:pt x="735" y="7028"/>
                  </a:lnTo>
                  <a:lnTo>
                    <a:pt x="995" y="7388"/>
                  </a:lnTo>
                  <a:lnTo>
                    <a:pt x="1294" y="7725"/>
                  </a:lnTo>
                  <a:lnTo>
                    <a:pt x="1630" y="8035"/>
                  </a:lnTo>
                  <a:lnTo>
                    <a:pt x="2002" y="8316"/>
                  </a:lnTo>
                  <a:close/>
                </a:path>
              </a:pathLst>
            </a:custGeom>
            <a:solidFill>
              <a:srgbClr val="3b55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04200" y="162720"/>
              <a:ext cx="692640" cy="683280"/>
            </a:xfrm>
            <a:custGeom>
              <a:avLst/>
              <a:gdLst/>
              <a:ahLst/>
              <a:rect l="l" t="t" r="r" b="b"/>
              <a:pathLst>
                <a:path w="8935" h="8936">
                  <a:moveTo>
                    <a:pt x="1967" y="8169"/>
                  </a:moveTo>
                  <a:lnTo>
                    <a:pt x="2357" y="8405"/>
                  </a:lnTo>
                  <a:lnTo>
                    <a:pt x="2763" y="8598"/>
                  </a:lnTo>
                  <a:lnTo>
                    <a:pt x="3179" y="8746"/>
                  </a:lnTo>
                  <a:lnTo>
                    <a:pt x="3603" y="8852"/>
                  </a:lnTo>
                  <a:lnTo>
                    <a:pt x="4032" y="8914"/>
                  </a:lnTo>
                  <a:lnTo>
                    <a:pt x="4462" y="8936"/>
                  </a:lnTo>
                  <a:lnTo>
                    <a:pt x="4892" y="8915"/>
                  </a:lnTo>
                  <a:lnTo>
                    <a:pt x="5316" y="8854"/>
                  </a:lnTo>
                  <a:lnTo>
                    <a:pt x="5732" y="8753"/>
                  </a:lnTo>
                  <a:lnTo>
                    <a:pt x="6138" y="8611"/>
                  </a:lnTo>
                  <a:lnTo>
                    <a:pt x="6529" y="8432"/>
                  </a:lnTo>
                  <a:lnTo>
                    <a:pt x="6903" y="8214"/>
                  </a:lnTo>
                  <a:lnTo>
                    <a:pt x="7258" y="7958"/>
                  </a:lnTo>
                  <a:lnTo>
                    <a:pt x="7589" y="7664"/>
                  </a:lnTo>
                  <a:lnTo>
                    <a:pt x="7893" y="7335"/>
                  </a:lnTo>
                  <a:lnTo>
                    <a:pt x="8168" y="6970"/>
                  </a:lnTo>
                  <a:lnTo>
                    <a:pt x="8404" y="6579"/>
                  </a:lnTo>
                  <a:lnTo>
                    <a:pt x="8597" y="6173"/>
                  </a:lnTo>
                  <a:lnTo>
                    <a:pt x="8746" y="5757"/>
                  </a:lnTo>
                  <a:lnTo>
                    <a:pt x="8851" y="5333"/>
                  </a:lnTo>
                  <a:lnTo>
                    <a:pt x="8914" y="4904"/>
                  </a:lnTo>
                  <a:lnTo>
                    <a:pt x="8935" y="4474"/>
                  </a:lnTo>
                  <a:lnTo>
                    <a:pt x="8915" y="4044"/>
                  </a:lnTo>
                  <a:lnTo>
                    <a:pt x="8853" y="3620"/>
                  </a:lnTo>
                  <a:lnTo>
                    <a:pt x="8752" y="3204"/>
                  </a:lnTo>
                  <a:lnTo>
                    <a:pt x="8611" y="2798"/>
                  </a:lnTo>
                  <a:lnTo>
                    <a:pt x="8431" y="2407"/>
                  </a:lnTo>
                  <a:lnTo>
                    <a:pt x="8213" y="2032"/>
                  </a:lnTo>
                  <a:lnTo>
                    <a:pt x="7957" y="1678"/>
                  </a:lnTo>
                  <a:lnTo>
                    <a:pt x="7663" y="1347"/>
                  </a:lnTo>
                  <a:lnTo>
                    <a:pt x="7334" y="1042"/>
                  </a:lnTo>
                  <a:lnTo>
                    <a:pt x="6969" y="768"/>
                  </a:lnTo>
                  <a:lnTo>
                    <a:pt x="6578" y="531"/>
                  </a:lnTo>
                  <a:lnTo>
                    <a:pt x="6172" y="339"/>
                  </a:lnTo>
                  <a:lnTo>
                    <a:pt x="5756" y="190"/>
                  </a:lnTo>
                  <a:lnTo>
                    <a:pt x="5332" y="84"/>
                  </a:lnTo>
                  <a:lnTo>
                    <a:pt x="4903" y="22"/>
                  </a:lnTo>
                  <a:lnTo>
                    <a:pt x="4473" y="0"/>
                  </a:lnTo>
                  <a:lnTo>
                    <a:pt x="4043" y="22"/>
                  </a:lnTo>
                  <a:lnTo>
                    <a:pt x="3619" y="82"/>
                  </a:lnTo>
                  <a:lnTo>
                    <a:pt x="3202" y="184"/>
                  </a:lnTo>
                  <a:lnTo>
                    <a:pt x="2797" y="325"/>
                  </a:lnTo>
                  <a:lnTo>
                    <a:pt x="2406" y="504"/>
                  </a:lnTo>
                  <a:lnTo>
                    <a:pt x="2031" y="723"/>
                  </a:lnTo>
                  <a:lnTo>
                    <a:pt x="1677" y="978"/>
                  </a:lnTo>
                  <a:lnTo>
                    <a:pt x="1346" y="1272"/>
                  </a:lnTo>
                  <a:lnTo>
                    <a:pt x="1041" y="1601"/>
                  </a:lnTo>
                  <a:lnTo>
                    <a:pt x="767" y="1967"/>
                  </a:lnTo>
                  <a:lnTo>
                    <a:pt x="530" y="2357"/>
                  </a:lnTo>
                  <a:lnTo>
                    <a:pt x="337" y="2763"/>
                  </a:lnTo>
                  <a:lnTo>
                    <a:pt x="190" y="3179"/>
                  </a:lnTo>
                  <a:lnTo>
                    <a:pt x="83" y="3603"/>
                  </a:lnTo>
                  <a:lnTo>
                    <a:pt x="21" y="4033"/>
                  </a:lnTo>
                  <a:lnTo>
                    <a:pt x="0" y="4463"/>
                  </a:lnTo>
                  <a:lnTo>
                    <a:pt x="21" y="4892"/>
                  </a:lnTo>
                  <a:lnTo>
                    <a:pt x="82" y="5316"/>
                  </a:lnTo>
                  <a:lnTo>
                    <a:pt x="183" y="5733"/>
                  </a:lnTo>
                  <a:lnTo>
                    <a:pt x="325" y="6139"/>
                  </a:lnTo>
                  <a:lnTo>
                    <a:pt x="504" y="6530"/>
                  </a:lnTo>
                  <a:lnTo>
                    <a:pt x="722" y="6904"/>
                  </a:lnTo>
                  <a:lnTo>
                    <a:pt x="978" y="7258"/>
                  </a:lnTo>
                  <a:lnTo>
                    <a:pt x="1272" y="7590"/>
                  </a:lnTo>
                  <a:lnTo>
                    <a:pt x="1601" y="7894"/>
                  </a:lnTo>
                  <a:lnTo>
                    <a:pt x="1967" y="8169"/>
                  </a:lnTo>
                  <a:close/>
                </a:path>
              </a:pathLst>
            </a:custGeom>
            <a:solidFill>
              <a:srgbClr val="3e57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14280" y="164520"/>
              <a:ext cx="679680" cy="671400"/>
            </a:xfrm>
            <a:custGeom>
              <a:avLst/>
              <a:gdLst/>
              <a:ahLst/>
              <a:rect l="l" t="t" r="r" b="b"/>
              <a:pathLst>
                <a:path w="8773" h="8775">
                  <a:moveTo>
                    <a:pt x="1931" y="8022"/>
                  </a:moveTo>
                  <a:lnTo>
                    <a:pt x="2315" y="8254"/>
                  </a:lnTo>
                  <a:lnTo>
                    <a:pt x="2713" y="8443"/>
                  </a:lnTo>
                  <a:lnTo>
                    <a:pt x="3121" y="8589"/>
                  </a:lnTo>
                  <a:lnTo>
                    <a:pt x="3538" y="8693"/>
                  </a:lnTo>
                  <a:lnTo>
                    <a:pt x="3959" y="8755"/>
                  </a:lnTo>
                  <a:lnTo>
                    <a:pt x="4382" y="8775"/>
                  </a:lnTo>
                  <a:lnTo>
                    <a:pt x="4803" y="8755"/>
                  </a:lnTo>
                  <a:lnTo>
                    <a:pt x="5219" y="8694"/>
                  </a:lnTo>
                  <a:lnTo>
                    <a:pt x="5628" y="8595"/>
                  </a:lnTo>
                  <a:lnTo>
                    <a:pt x="6026" y="8456"/>
                  </a:lnTo>
                  <a:lnTo>
                    <a:pt x="6411" y="8280"/>
                  </a:lnTo>
                  <a:lnTo>
                    <a:pt x="6779" y="8066"/>
                  </a:lnTo>
                  <a:lnTo>
                    <a:pt x="7127" y="7814"/>
                  </a:lnTo>
                  <a:lnTo>
                    <a:pt x="7451" y="7527"/>
                  </a:lnTo>
                  <a:lnTo>
                    <a:pt x="7751" y="7203"/>
                  </a:lnTo>
                  <a:lnTo>
                    <a:pt x="8021" y="6844"/>
                  </a:lnTo>
                  <a:lnTo>
                    <a:pt x="8253" y="6460"/>
                  </a:lnTo>
                  <a:lnTo>
                    <a:pt x="8442" y="6062"/>
                  </a:lnTo>
                  <a:lnTo>
                    <a:pt x="8587" y="5653"/>
                  </a:lnTo>
                  <a:lnTo>
                    <a:pt x="8692" y="5237"/>
                  </a:lnTo>
                  <a:lnTo>
                    <a:pt x="8753" y="4816"/>
                  </a:lnTo>
                  <a:lnTo>
                    <a:pt x="8773" y="4393"/>
                  </a:lnTo>
                  <a:lnTo>
                    <a:pt x="8753" y="3972"/>
                  </a:lnTo>
                  <a:lnTo>
                    <a:pt x="8694" y="3555"/>
                  </a:lnTo>
                  <a:lnTo>
                    <a:pt x="8594" y="3146"/>
                  </a:lnTo>
                  <a:lnTo>
                    <a:pt x="8456" y="2747"/>
                  </a:lnTo>
                  <a:lnTo>
                    <a:pt x="8279" y="2364"/>
                  </a:lnTo>
                  <a:lnTo>
                    <a:pt x="8064" y="1996"/>
                  </a:lnTo>
                  <a:lnTo>
                    <a:pt x="7813" y="1647"/>
                  </a:lnTo>
                  <a:lnTo>
                    <a:pt x="7525" y="1323"/>
                  </a:lnTo>
                  <a:lnTo>
                    <a:pt x="7201" y="1023"/>
                  </a:lnTo>
                  <a:lnTo>
                    <a:pt x="6843" y="754"/>
                  </a:lnTo>
                  <a:lnTo>
                    <a:pt x="6458" y="521"/>
                  </a:lnTo>
                  <a:lnTo>
                    <a:pt x="6060" y="332"/>
                  </a:lnTo>
                  <a:lnTo>
                    <a:pt x="5651" y="186"/>
                  </a:lnTo>
                  <a:lnTo>
                    <a:pt x="5235" y="83"/>
                  </a:lnTo>
                  <a:lnTo>
                    <a:pt x="4814" y="22"/>
                  </a:lnTo>
                  <a:lnTo>
                    <a:pt x="4391" y="0"/>
                  </a:lnTo>
                  <a:lnTo>
                    <a:pt x="3970" y="21"/>
                  </a:lnTo>
                  <a:lnTo>
                    <a:pt x="3554" y="81"/>
                  </a:lnTo>
                  <a:lnTo>
                    <a:pt x="3144" y="180"/>
                  </a:lnTo>
                  <a:lnTo>
                    <a:pt x="2747" y="319"/>
                  </a:lnTo>
                  <a:lnTo>
                    <a:pt x="2362" y="496"/>
                  </a:lnTo>
                  <a:lnTo>
                    <a:pt x="1994" y="709"/>
                  </a:lnTo>
                  <a:lnTo>
                    <a:pt x="1646" y="960"/>
                  </a:lnTo>
                  <a:lnTo>
                    <a:pt x="1321" y="1248"/>
                  </a:lnTo>
                  <a:lnTo>
                    <a:pt x="1022" y="1572"/>
                  </a:lnTo>
                  <a:lnTo>
                    <a:pt x="753" y="1931"/>
                  </a:lnTo>
                  <a:lnTo>
                    <a:pt x="520" y="2315"/>
                  </a:lnTo>
                  <a:lnTo>
                    <a:pt x="331" y="2713"/>
                  </a:lnTo>
                  <a:lnTo>
                    <a:pt x="186" y="3122"/>
                  </a:lnTo>
                  <a:lnTo>
                    <a:pt x="81" y="3538"/>
                  </a:lnTo>
                  <a:lnTo>
                    <a:pt x="20" y="3960"/>
                  </a:lnTo>
                  <a:lnTo>
                    <a:pt x="0" y="4382"/>
                  </a:lnTo>
                  <a:lnTo>
                    <a:pt x="20" y="4803"/>
                  </a:lnTo>
                  <a:lnTo>
                    <a:pt x="79" y="5220"/>
                  </a:lnTo>
                  <a:lnTo>
                    <a:pt x="179" y="5629"/>
                  </a:lnTo>
                  <a:lnTo>
                    <a:pt x="317" y="6028"/>
                  </a:lnTo>
                  <a:lnTo>
                    <a:pt x="494" y="6413"/>
                  </a:lnTo>
                  <a:lnTo>
                    <a:pt x="709" y="6781"/>
                  </a:lnTo>
                  <a:lnTo>
                    <a:pt x="960" y="7128"/>
                  </a:lnTo>
                  <a:lnTo>
                    <a:pt x="1248" y="7453"/>
                  </a:lnTo>
                  <a:lnTo>
                    <a:pt x="1572" y="7752"/>
                  </a:lnTo>
                  <a:lnTo>
                    <a:pt x="1931" y="8022"/>
                  </a:lnTo>
                  <a:close/>
                </a:path>
              </a:pathLst>
            </a:custGeom>
            <a:solidFill>
              <a:srgbClr val="405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23640" y="167400"/>
              <a:ext cx="666360" cy="659520"/>
            </a:xfrm>
            <a:custGeom>
              <a:avLst/>
              <a:gdLst/>
              <a:ahLst/>
              <a:rect l="l" t="t" r="r" b="b"/>
              <a:pathLst>
                <a:path w="8612" h="8613">
                  <a:moveTo>
                    <a:pt x="1895" y="7876"/>
                  </a:moveTo>
                  <a:lnTo>
                    <a:pt x="2272" y="8103"/>
                  </a:lnTo>
                  <a:lnTo>
                    <a:pt x="2663" y="8288"/>
                  </a:lnTo>
                  <a:lnTo>
                    <a:pt x="3064" y="8432"/>
                  </a:lnTo>
                  <a:lnTo>
                    <a:pt x="3473" y="8532"/>
                  </a:lnTo>
                  <a:lnTo>
                    <a:pt x="3886" y="8593"/>
                  </a:lnTo>
                  <a:lnTo>
                    <a:pt x="4301" y="8613"/>
                  </a:lnTo>
                  <a:lnTo>
                    <a:pt x="4715" y="8594"/>
                  </a:lnTo>
                  <a:lnTo>
                    <a:pt x="5124" y="8535"/>
                  </a:lnTo>
                  <a:lnTo>
                    <a:pt x="5525" y="8437"/>
                  </a:lnTo>
                  <a:lnTo>
                    <a:pt x="5916" y="8302"/>
                  </a:lnTo>
                  <a:lnTo>
                    <a:pt x="6293" y="8129"/>
                  </a:lnTo>
                  <a:lnTo>
                    <a:pt x="6655" y="7918"/>
                  </a:lnTo>
                  <a:lnTo>
                    <a:pt x="6996" y="7671"/>
                  </a:lnTo>
                  <a:lnTo>
                    <a:pt x="7315" y="7389"/>
                  </a:lnTo>
                  <a:lnTo>
                    <a:pt x="7608" y="7071"/>
                  </a:lnTo>
                  <a:lnTo>
                    <a:pt x="7874" y="6719"/>
                  </a:lnTo>
                  <a:lnTo>
                    <a:pt x="8102" y="6341"/>
                  </a:lnTo>
                  <a:lnTo>
                    <a:pt x="8287" y="5951"/>
                  </a:lnTo>
                  <a:lnTo>
                    <a:pt x="8430" y="5550"/>
                  </a:lnTo>
                  <a:lnTo>
                    <a:pt x="8531" y="5141"/>
                  </a:lnTo>
                  <a:lnTo>
                    <a:pt x="8592" y="4728"/>
                  </a:lnTo>
                  <a:lnTo>
                    <a:pt x="8612" y="4313"/>
                  </a:lnTo>
                  <a:lnTo>
                    <a:pt x="8593" y="3900"/>
                  </a:lnTo>
                  <a:lnTo>
                    <a:pt x="8533" y="3490"/>
                  </a:lnTo>
                  <a:lnTo>
                    <a:pt x="8436" y="3088"/>
                  </a:lnTo>
                  <a:lnTo>
                    <a:pt x="8301" y="2697"/>
                  </a:lnTo>
                  <a:lnTo>
                    <a:pt x="8127" y="2320"/>
                  </a:lnTo>
                  <a:lnTo>
                    <a:pt x="7917" y="1958"/>
                  </a:lnTo>
                  <a:lnTo>
                    <a:pt x="7670" y="1617"/>
                  </a:lnTo>
                  <a:lnTo>
                    <a:pt x="7387" y="1298"/>
                  </a:lnTo>
                  <a:lnTo>
                    <a:pt x="7069" y="1005"/>
                  </a:lnTo>
                  <a:lnTo>
                    <a:pt x="6718" y="740"/>
                  </a:lnTo>
                  <a:lnTo>
                    <a:pt x="6340" y="512"/>
                  </a:lnTo>
                  <a:lnTo>
                    <a:pt x="5949" y="326"/>
                  </a:lnTo>
                  <a:lnTo>
                    <a:pt x="5548" y="183"/>
                  </a:lnTo>
                  <a:lnTo>
                    <a:pt x="5139" y="81"/>
                  </a:lnTo>
                  <a:lnTo>
                    <a:pt x="4725" y="20"/>
                  </a:lnTo>
                  <a:lnTo>
                    <a:pt x="4311" y="0"/>
                  </a:lnTo>
                  <a:lnTo>
                    <a:pt x="3897" y="20"/>
                  </a:lnTo>
                  <a:lnTo>
                    <a:pt x="3489" y="79"/>
                  </a:lnTo>
                  <a:lnTo>
                    <a:pt x="3087" y="177"/>
                  </a:lnTo>
                  <a:lnTo>
                    <a:pt x="2696" y="313"/>
                  </a:lnTo>
                  <a:lnTo>
                    <a:pt x="2318" y="486"/>
                  </a:lnTo>
                  <a:lnTo>
                    <a:pt x="1957" y="697"/>
                  </a:lnTo>
                  <a:lnTo>
                    <a:pt x="1616" y="943"/>
                  </a:lnTo>
                  <a:lnTo>
                    <a:pt x="1297" y="1225"/>
                  </a:lnTo>
                  <a:lnTo>
                    <a:pt x="1003" y="1543"/>
                  </a:lnTo>
                  <a:lnTo>
                    <a:pt x="739" y="1896"/>
                  </a:lnTo>
                  <a:lnTo>
                    <a:pt x="510" y="2272"/>
                  </a:lnTo>
                  <a:lnTo>
                    <a:pt x="325" y="2663"/>
                  </a:lnTo>
                  <a:lnTo>
                    <a:pt x="182" y="3065"/>
                  </a:lnTo>
                  <a:lnTo>
                    <a:pt x="81" y="3474"/>
                  </a:lnTo>
                  <a:lnTo>
                    <a:pt x="20" y="3887"/>
                  </a:lnTo>
                  <a:lnTo>
                    <a:pt x="0" y="4303"/>
                  </a:lnTo>
                  <a:lnTo>
                    <a:pt x="19" y="4716"/>
                  </a:lnTo>
                  <a:lnTo>
                    <a:pt x="78" y="5125"/>
                  </a:lnTo>
                  <a:lnTo>
                    <a:pt x="176" y="5527"/>
                  </a:lnTo>
                  <a:lnTo>
                    <a:pt x="311" y="5917"/>
                  </a:lnTo>
                  <a:lnTo>
                    <a:pt x="485" y="6296"/>
                  </a:lnTo>
                  <a:lnTo>
                    <a:pt x="695" y="6656"/>
                  </a:lnTo>
                  <a:lnTo>
                    <a:pt x="942" y="6997"/>
                  </a:lnTo>
                  <a:lnTo>
                    <a:pt x="1224" y="7316"/>
                  </a:lnTo>
                  <a:lnTo>
                    <a:pt x="1542" y="7610"/>
                  </a:lnTo>
                  <a:lnTo>
                    <a:pt x="1895" y="7876"/>
                  </a:lnTo>
                  <a:close/>
                </a:path>
              </a:pathLst>
            </a:custGeom>
            <a:solidFill>
              <a:srgbClr val="425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33000" y="170280"/>
              <a:ext cx="654480" cy="646200"/>
            </a:xfrm>
            <a:custGeom>
              <a:avLst/>
              <a:gdLst/>
              <a:ahLst/>
              <a:rect l="l" t="t" r="r" b="b"/>
              <a:pathLst>
                <a:path w="8451" h="8452">
                  <a:moveTo>
                    <a:pt x="1859" y="7728"/>
                  </a:moveTo>
                  <a:lnTo>
                    <a:pt x="2229" y="7951"/>
                  </a:lnTo>
                  <a:lnTo>
                    <a:pt x="2612" y="8133"/>
                  </a:lnTo>
                  <a:lnTo>
                    <a:pt x="3006" y="8273"/>
                  </a:lnTo>
                  <a:lnTo>
                    <a:pt x="3407" y="8373"/>
                  </a:lnTo>
                  <a:lnTo>
                    <a:pt x="3813" y="8433"/>
                  </a:lnTo>
                  <a:lnTo>
                    <a:pt x="4221" y="8452"/>
                  </a:lnTo>
                  <a:lnTo>
                    <a:pt x="4627" y="8433"/>
                  </a:lnTo>
                  <a:lnTo>
                    <a:pt x="5027" y="8375"/>
                  </a:lnTo>
                  <a:lnTo>
                    <a:pt x="5422" y="8278"/>
                  </a:lnTo>
                  <a:lnTo>
                    <a:pt x="5806" y="8145"/>
                  </a:lnTo>
                  <a:lnTo>
                    <a:pt x="6176" y="7975"/>
                  </a:lnTo>
                  <a:lnTo>
                    <a:pt x="6530" y="7769"/>
                  </a:lnTo>
                  <a:lnTo>
                    <a:pt x="6866" y="7527"/>
                  </a:lnTo>
                  <a:lnTo>
                    <a:pt x="7178" y="7250"/>
                  </a:lnTo>
                  <a:lnTo>
                    <a:pt x="7466" y="6939"/>
                  </a:lnTo>
                  <a:lnTo>
                    <a:pt x="7727" y="6593"/>
                  </a:lnTo>
                  <a:lnTo>
                    <a:pt x="7950" y="6222"/>
                  </a:lnTo>
                  <a:lnTo>
                    <a:pt x="8132" y="5840"/>
                  </a:lnTo>
                  <a:lnTo>
                    <a:pt x="8272" y="5445"/>
                  </a:lnTo>
                  <a:lnTo>
                    <a:pt x="8372" y="5044"/>
                  </a:lnTo>
                  <a:lnTo>
                    <a:pt x="8432" y="4638"/>
                  </a:lnTo>
                  <a:lnTo>
                    <a:pt x="8451" y="4231"/>
                  </a:lnTo>
                  <a:lnTo>
                    <a:pt x="8432" y="3825"/>
                  </a:lnTo>
                  <a:lnTo>
                    <a:pt x="8374" y="3424"/>
                  </a:lnTo>
                  <a:lnTo>
                    <a:pt x="8277" y="3030"/>
                  </a:lnTo>
                  <a:lnTo>
                    <a:pt x="8144" y="2646"/>
                  </a:lnTo>
                  <a:lnTo>
                    <a:pt x="7974" y="2275"/>
                  </a:lnTo>
                  <a:lnTo>
                    <a:pt x="7768" y="1921"/>
                  </a:lnTo>
                  <a:lnTo>
                    <a:pt x="7526" y="1586"/>
                  </a:lnTo>
                  <a:lnTo>
                    <a:pt x="7249" y="1273"/>
                  </a:lnTo>
                  <a:lnTo>
                    <a:pt x="6938" y="985"/>
                  </a:lnTo>
                  <a:lnTo>
                    <a:pt x="6592" y="725"/>
                  </a:lnTo>
                  <a:lnTo>
                    <a:pt x="6221" y="501"/>
                  </a:lnTo>
                  <a:lnTo>
                    <a:pt x="5839" y="319"/>
                  </a:lnTo>
                  <a:lnTo>
                    <a:pt x="5444" y="179"/>
                  </a:lnTo>
                  <a:lnTo>
                    <a:pt x="5043" y="79"/>
                  </a:lnTo>
                  <a:lnTo>
                    <a:pt x="4637" y="19"/>
                  </a:lnTo>
                  <a:lnTo>
                    <a:pt x="4230" y="0"/>
                  </a:lnTo>
                  <a:lnTo>
                    <a:pt x="3825" y="19"/>
                  </a:lnTo>
                  <a:lnTo>
                    <a:pt x="3423" y="77"/>
                  </a:lnTo>
                  <a:lnTo>
                    <a:pt x="3029" y="173"/>
                  </a:lnTo>
                  <a:lnTo>
                    <a:pt x="2645" y="306"/>
                  </a:lnTo>
                  <a:lnTo>
                    <a:pt x="2275" y="476"/>
                  </a:lnTo>
                  <a:lnTo>
                    <a:pt x="1921" y="683"/>
                  </a:lnTo>
                  <a:lnTo>
                    <a:pt x="1585" y="925"/>
                  </a:lnTo>
                  <a:lnTo>
                    <a:pt x="1272" y="1201"/>
                  </a:lnTo>
                  <a:lnTo>
                    <a:pt x="984" y="1513"/>
                  </a:lnTo>
                  <a:lnTo>
                    <a:pt x="725" y="1860"/>
                  </a:lnTo>
                  <a:lnTo>
                    <a:pt x="501" y="2229"/>
                  </a:lnTo>
                  <a:lnTo>
                    <a:pt x="319" y="2613"/>
                  </a:lnTo>
                  <a:lnTo>
                    <a:pt x="179" y="3007"/>
                  </a:lnTo>
                  <a:lnTo>
                    <a:pt x="79" y="3408"/>
                  </a:lnTo>
                  <a:lnTo>
                    <a:pt x="19" y="3815"/>
                  </a:lnTo>
                  <a:lnTo>
                    <a:pt x="0" y="4222"/>
                  </a:lnTo>
                  <a:lnTo>
                    <a:pt x="19" y="4628"/>
                  </a:lnTo>
                  <a:lnTo>
                    <a:pt x="76" y="5029"/>
                  </a:lnTo>
                  <a:lnTo>
                    <a:pt x="173" y="5423"/>
                  </a:lnTo>
                  <a:lnTo>
                    <a:pt x="306" y="5807"/>
                  </a:lnTo>
                  <a:lnTo>
                    <a:pt x="476" y="6177"/>
                  </a:lnTo>
                  <a:lnTo>
                    <a:pt x="682" y="6531"/>
                  </a:lnTo>
                  <a:lnTo>
                    <a:pt x="925" y="6867"/>
                  </a:lnTo>
                  <a:lnTo>
                    <a:pt x="1201" y="7179"/>
                  </a:lnTo>
                  <a:lnTo>
                    <a:pt x="1513" y="7467"/>
                  </a:lnTo>
                  <a:lnTo>
                    <a:pt x="1859" y="7728"/>
                  </a:lnTo>
                  <a:close/>
                </a:path>
              </a:pathLst>
            </a:custGeom>
            <a:solidFill>
              <a:srgbClr val="445e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342360" y="171720"/>
              <a:ext cx="642600" cy="634680"/>
            </a:xfrm>
            <a:custGeom>
              <a:avLst/>
              <a:gdLst/>
              <a:ahLst/>
              <a:rect l="l" t="t" r="r" b="b"/>
              <a:pathLst>
                <a:path w="8292" h="8293">
                  <a:moveTo>
                    <a:pt x="1825" y="7582"/>
                  </a:moveTo>
                  <a:lnTo>
                    <a:pt x="2188" y="7801"/>
                  </a:lnTo>
                  <a:lnTo>
                    <a:pt x="2564" y="7979"/>
                  </a:lnTo>
                  <a:lnTo>
                    <a:pt x="2950" y="8118"/>
                  </a:lnTo>
                  <a:lnTo>
                    <a:pt x="3344" y="8215"/>
                  </a:lnTo>
                  <a:lnTo>
                    <a:pt x="3742" y="8273"/>
                  </a:lnTo>
                  <a:lnTo>
                    <a:pt x="4142" y="8293"/>
                  </a:lnTo>
                  <a:lnTo>
                    <a:pt x="4540" y="8274"/>
                  </a:lnTo>
                  <a:lnTo>
                    <a:pt x="4933" y="8217"/>
                  </a:lnTo>
                  <a:lnTo>
                    <a:pt x="5320" y="8123"/>
                  </a:lnTo>
                  <a:lnTo>
                    <a:pt x="5696" y="7992"/>
                  </a:lnTo>
                  <a:lnTo>
                    <a:pt x="6060" y="7825"/>
                  </a:lnTo>
                  <a:lnTo>
                    <a:pt x="6407" y="7622"/>
                  </a:lnTo>
                  <a:lnTo>
                    <a:pt x="6736" y="7385"/>
                  </a:lnTo>
                  <a:lnTo>
                    <a:pt x="7043" y="7113"/>
                  </a:lnTo>
                  <a:lnTo>
                    <a:pt x="7326" y="6808"/>
                  </a:lnTo>
                  <a:lnTo>
                    <a:pt x="7581" y="6469"/>
                  </a:lnTo>
                  <a:lnTo>
                    <a:pt x="7800" y="6105"/>
                  </a:lnTo>
                  <a:lnTo>
                    <a:pt x="7979" y="5729"/>
                  </a:lnTo>
                  <a:lnTo>
                    <a:pt x="8117" y="5342"/>
                  </a:lnTo>
                  <a:lnTo>
                    <a:pt x="8215" y="4949"/>
                  </a:lnTo>
                  <a:lnTo>
                    <a:pt x="8272" y="4551"/>
                  </a:lnTo>
                  <a:lnTo>
                    <a:pt x="8292" y="4151"/>
                  </a:lnTo>
                  <a:lnTo>
                    <a:pt x="8273" y="3754"/>
                  </a:lnTo>
                  <a:lnTo>
                    <a:pt x="8216" y="3359"/>
                  </a:lnTo>
                  <a:lnTo>
                    <a:pt x="8122" y="2973"/>
                  </a:lnTo>
                  <a:lnTo>
                    <a:pt x="7992" y="2597"/>
                  </a:lnTo>
                  <a:lnTo>
                    <a:pt x="7825" y="2234"/>
                  </a:lnTo>
                  <a:lnTo>
                    <a:pt x="7622" y="1886"/>
                  </a:lnTo>
                  <a:lnTo>
                    <a:pt x="7384" y="1556"/>
                  </a:lnTo>
                  <a:lnTo>
                    <a:pt x="7112" y="1250"/>
                  </a:lnTo>
                  <a:lnTo>
                    <a:pt x="6807" y="967"/>
                  </a:lnTo>
                  <a:lnTo>
                    <a:pt x="6468" y="712"/>
                  </a:lnTo>
                  <a:lnTo>
                    <a:pt x="6104" y="492"/>
                  </a:lnTo>
                  <a:lnTo>
                    <a:pt x="5728" y="314"/>
                  </a:lnTo>
                  <a:lnTo>
                    <a:pt x="5342" y="175"/>
                  </a:lnTo>
                  <a:lnTo>
                    <a:pt x="4949" y="78"/>
                  </a:lnTo>
                  <a:lnTo>
                    <a:pt x="4550" y="20"/>
                  </a:lnTo>
                  <a:lnTo>
                    <a:pt x="4150" y="0"/>
                  </a:lnTo>
                  <a:lnTo>
                    <a:pt x="3753" y="19"/>
                  </a:lnTo>
                  <a:lnTo>
                    <a:pt x="3360" y="77"/>
                  </a:lnTo>
                  <a:lnTo>
                    <a:pt x="2973" y="170"/>
                  </a:lnTo>
                  <a:lnTo>
                    <a:pt x="2596" y="301"/>
                  </a:lnTo>
                  <a:lnTo>
                    <a:pt x="2233" y="468"/>
                  </a:lnTo>
                  <a:lnTo>
                    <a:pt x="1885" y="671"/>
                  </a:lnTo>
                  <a:lnTo>
                    <a:pt x="1556" y="908"/>
                  </a:lnTo>
                  <a:lnTo>
                    <a:pt x="1249" y="1180"/>
                  </a:lnTo>
                  <a:lnTo>
                    <a:pt x="966" y="1485"/>
                  </a:lnTo>
                  <a:lnTo>
                    <a:pt x="712" y="1825"/>
                  </a:lnTo>
                  <a:lnTo>
                    <a:pt x="492" y="2188"/>
                  </a:lnTo>
                  <a:lnTo>
                    <a:pt x="314" y="2564"/>
                  </a:lnTo>
                  <a:lnTo>
                    <a:pt x="175" y="2951"/>
                  </a:lnTo>
                  <a:lnTo>
                    <a:pt x="78" y="3344"/>
                  </a:lnTo>
                  <a:lnTo>
                    <a:pt x="20" y="3742"/>
                  </a:lnTo>
                  <a:lnTo>
                    <a:pt x="0" y="4142"/>
                  </a:lnTo>
                  <a:lnTo>
                    <a:pt x="19" y="4540"/>
                  </a:lnTo>
                  <a:lnTo>
                    <a:pt x="77" y="4934"/>
                  </a:lnTo>
                  <a:lnTo>
                    <a:pt x="170" y="5321"/>
                  </a:lnTo>
                  <a:lnTo>
                    <a:pt x="301" y="5697"/>
                  </a:lnTo>
                  <a:lnTo>
                    <a:pt x="468" y="6061"/>
                  </a:lnTo>
                  <a:lnTo>
                    <a:pt x="671" y="6408"/>
                  </a:lnTo>
                  <a:lnTo>
                    <a:pt x="908" y="6737"/>
                  </a:lnTo>
                  <a:lnTo>
                    <a:pt x="1180" y="7044"/>
                  </a:lnTo>
                  <a:lnTo>
                    <a:pt x="1485" y="7327"/>
                  </a:lnTo>
                  <a:lnTo>
                    <a:pt x="1825" y="7582"/>
                  </a:lnTo>
                  <a:close/>
                </a:path>
              </a:pathLst>
            </a:custGeom>
            <a:solidFill>
              <a:srgbClr val="4761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51360" y="174600"/>
              <a:ext cx="629280" cy="622440"/>
            </a:xfrm>
            <a:custGeom>
              <a:avLst/>
              <a:gdLst/>
              <a:ahLst/>
              <a:rect l="l" t="t" r="r" b="b"/>
              <a:pathLst>
                <a:path w="8131" h="8131">
                  <a:moveTo>
                    <a:pt x="1789" y="7433"/>
                  </a:moveTo>
                  <a:lnTo>
                    <a:pt x="2146" y="7648"/>
                  </a:lnTo>
                  <a:lnTo>
                    <a:pt x="2515" y="7823"/>
                  </a:lnTo>
                  <a:lnTo>
                    <a:pt x="2893" y="7958"/>
                  </a:lnTo>
                  <a:lnTo>
                    <a:pt x="3280" y="8055"/>
                  </a:lnTo>
                  <a:lnTo>
                    <a:pt x="3670" y="8112"/>
                  </a:lnTo>
                  <a:lnTo>
                    <a:pt x="4061" y="8131"/>
                  </a:lnTo>
                  <a:lnTo>
                    <a:pt x="4452" y="8112"/>
                  </a:lnTo>
                  <a:lnTo>
                    <a:pt x="4838" y="8057"/>
                  </a:lnTo>
                  <a:lnTo>
                    <a:pt x="5217" y="7965"/>
                  </a:lnTo>
                  <a:lnTo>
                    <a:pt x="5586" y="7837"/>
                  </a:lnTo>
                  <a:lnTo>
                    <a:pt x="5942" y="7673"/>
                  </a:lnTo>
                  <a:lnTo>
                    <a:pt x="6283" y="7474"/>
                  </a:lnTo>
                  <a:lnTo>
                    <a:pt x="6605" y="7242"/>
                  </a:lnTo>
                  <a:lnTo>
                    <a:pt x="6907" y="6975"/>
                  </a:lnTo>
                  <a:lnTo>
                    <a:pt x="7184" y="6675"/>
                  </a:lnTo>
                  <a:lnTo>
                    <a:pt x="7435" y="6343"/>
                  </a:lnTo>
                  <a:lnTo>
                    <a:pt x="7649" y="5986"/>
                  </a:lnTo>
                  <a:lnTo>
                    <a:pt x="7824" y="5617"/>
                  </a:lnTo>
                  <a:lnTo>
                    <a:pt x="7960" y="5239"/>
                  </a:lnTo>
                  <a:lnTo>
                    <a:pt x="8055" y="4852"/>
                  </a:lnTo>
                  <a:lnTo>
                    <a:pt x="8112" y="4462"/>
                  </a:lnTo>
                  <a:lnTo>
                    <a:pt x="8131" y="4071"/>
                  </a:lnTo>
                  <a:lnTo>
                    <a:pt x="8113" y="3680"/>
                  </a:lnTo>
                  <a:lnTo>
                    <a:pt x="8057" y="3293"/>
                  </a:lnTo>
                  <a:lnTo>
                    <a:pt x="7964" y="2915"/>
                  </a:lnTo>
                  <a:lnTo>
                    <a:pt x="7836" y="2546"/>
                  </a:lnTo>
                  <a:lnTo>
                    <a:pt x="7673" y="2189"/>
                  </a:lnTo>
                  <a:lnTo>
                    <a:pt x="7474" y="1849"/>
                  </a:lnTo>
                  <a:lnTo>
                    <a:pt x="7241" y="1525"/>
                  </a:lnTo>
                  <a:lnTo>
                    <a:pt x="6974" y="1225"/>
                  </a:lnTo>
                  <a:lnTo>
                    <a:pt x="6674" y="947"/>
                  </a:lnTo>
                  <a:lnTo>
                    <a:pt x="6343" y="697"/>
                  </a:lnTo>
                  <a:lnTo>
                    <a:pt x="5987" y="482"/>
                  </a:lnTo>
                  <a:lnTo>
                    <a:pt x="5618" y="307"/>
                  </a:lnTo>
                  <a:lnTo>
                    <a:pt x="5238" y="171"/>
                  </a:lnTo>
                  <a:lnTo>
                    <a:pt x="4852" y="75"/>
                  </a:lnTo>
                  <a:lnTo>
                    <a:pt x="4462" y="19"/>
                  </a:lnTo>
                  <a:lnTo>
                    <a:pt x="4071" y="0"/>
                  </a:lnTo>
                  <a:lnTo>
                    <a:pt x="3681" y="18"/>
                  </a:lnTo>
                  <a:lnTo>
                    <a:pt x="3295" y="74"/>
                  </a:lnTo>
                  <a:lnTo>
                    <a:pt x="2915" y="167"/>
                  </a:lnTo>
                  <a:lnTo>
                    <a:pt x="2546" y="294"/>
                  </a:lnTo>
                  <a:lnTo>
                    <a:pt x="2190" y="458"/>
                  </a:lnTo>
                  <a:lnTo>
                    <a:pt x="1849" y="657"/>
                  </a:lnTo>
                  <a:lnTo>
                    <a:pt x="1527" y="890"/>
                  </a:lnTo>
                  <a:lnTo>
                    <a:pt x="1226" y="1157"/>
                  </a:lnTo>
                  <a:lnTo>
                    <a:pt x="949" y="1456"/>
                  </a:lnTo>
                  <a:lnTo>
                    <a:pt x="699" y="1789"/>
                  </a:lnTo>
                  <a:lnTo>
                    <a:pt x="483" y="2145"/>
                  </a:lnTo>
                  <a:lnTo>
                    <a:pt x="307" y="2514"/>
                  </a:lnTo>
                  <a:lnTo>
                    <a:pt x="172" y="2893"/>
                  </a:lnTo>
                  <a:lnTo>
                    <a:pt x="77" y="3279"/>
                  </a:lnTo>
                  <a:lnTo>
                    <a:pt x="19" y="3669"/>
                  </a:lnTo>
                  <a:lnTo>
                    <a:pt x="0" y="4061"/>
                  </a:lnTo>
                  <a:lnTo>
                    <a:pt x="19" y="4451"/>
                  </a:lnTo>
                  <a:lnTo>
                    <a:pt x="75" y="4837"/>
                  </a:lnTo>
                  <a:lnTo>
                    <a:pt x="167" y="5217"/>
                  </a:lnTo>
                  <a:lnTo>
                    <a:pt x="295" y="5585"/>
                  </a:lnTo>
                  <a:lnTo>
                    <a:pt x="458" y="5942"/>
                  </a:lnTo>
                  <a:lnTo>
                    <a:pt x="657" y="6282"/>
                  </a:lnTo>
                  <a:lnTo>
                    <a:pt x="890" y="6605"/>
                  </a:lnTo>
                  <a:lnTo>
                    <a:pt x="1157" y="6906"/>
                  </a:lnTo>
                  <a:lnTo>
                    <a:pt x="1457" y="7182"/>
                  </a:lnTo>
                  <a:lnTo>
                    <a:pt x="1789" y="7433"/>
                  </a:lnTo>
                  <a:close/>
                </a:path>
              </a:pathLst>
            </a:custGeom>
            <a:solidFill>
              <a:srgbClr val="496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60720" y="177480"/>
              <a:ext cx="617400" cy="609840"/>
            </a:xfrm>
            <a:custGeom>
              <a:avLst/>
              <a:gdLst/>
              <a:ahLst/>
              <a:rect l="l" t="t" r="r" b="b"/>
              <a:pathLst>
                <a:path w="7971" h="7971">
                  <a:moveTo>
                    <a:pt x="1755" y="7287"/>
                  </a:moveTo>
                  <a:lnTo>
                    <a:pt x="2103" y="7498"/>
                  </a:lnTo>
                  <a:lnTo>
                    <a:pt x="2465" y="7669"/>
                  </a:lnTo>
                  <a:lnTo>
                    <a:pt x="2837" y="7802"/>
                  </a:lnTo>
                  <a:lnTo>
                    <a:pt x="3215" y="7895"/>
                  </a:lnTo>
                  <a:lnTo>
                    <a:pt x="3597" y="7952"/>
                  </a:lnTo>
                  <a:lnTo>
                    <a:pt x="3982" y="7971"/>
                  </a:lnTo>
                  <a:lnTo>
                    <a:pt x="4363" y="7952"/>
                  </a:lnTo>
                  <a:lnTo>
                    <a:pt x="4742" y="7897"/>
                  </a:lnTo>
                  <a:lnTo>
                    <a:pt x="5114" y="7807"/>
                  </a:lnTo>
                  <a:lnTo>
                    <a:pt x="5475" y="7682"/>
                  </a:lnTo>
                  <a:lnTo>
                    <a:pt x="5825" y="7521"/>
                  </a:lnTo>
                  <a:lnTo>
                    <a:pt x="6159" y="7327"/>
                  </a:lnTo>
                  <a:lnTo>
                    <a:pt x="6475" y="7098"/>
                  </a:lnTo>
                  <a:lnTo>
                    <a:pt x="6770" y="6837"/>
                  </a:lnTo>
                  <a:lnTo>
                    <a:pt x="7041" y="6542"/>
                  </a:lnTo>
                  <a:lnTo>
                    <a:pt x="7287" y="6217"/>
                  </a:lnTo>
                  <a:lnTo>
                    <a:pt x="7498" y="5867"/>
                  </a:lnTo>
                  <a:lnTo>
                    <a:pt x="7669" y="5506"/>
                  </a:lnTo>
                  <a:lnTo>
                    <a:pt x="7802" y="5135"/>
                  </a:lnTo>
                  <a:lnTo>
                    <a:pt x="7895" y="4756"/>
                  </a:lnTo>
                  <a:lnTo>
                    <a:pt x="7951" y="4373"/>
                  </a:lnTo>
                  <a:lnTo>
                    <a:pt x="7971" y="3990"/>
                  </a:lnTo>
                  <a:lnTo>
                    <a:pt x="7953" y="3607"/>
                  </a:lnTo>
                  <a:lnTo>
                    <a:pt x="7897" y="3228"/>
                  </a:lnTo>
                  <a:lnTo>
                    <a:pt x="7807" y="2857"/>
                  </a:lnTo>
                  <a:lnTo>
                    <a:pt x="7681" y="2496"/>
                  </a:lnTo>
                  <a:lnTo>
                    <a:pt x="7521" y="2146"/>
                  </a:lnTo>
                  <a:lnTo>
                    <a:pt x="7326" y="1812"/>
                  </a:lnTo>
                  <a:lnTo>
                    <a:pt x="7099" y="1497"/>
                  </a:lnTo>
                  <a:lnTo>
                    <a:pt x="6837" y="1201"/>
                  </a:lnTo>
                  <a:lnTo>
                    <a:pt x="6543" y="929"/>
                  </a:lnTo>
                  <a:lnTo>
                    <a:pt x="6218" y="684"/>
                  </a:lnTo>
                  <a:lnTo>
                    <a:pt x="5868" y="473"/>
                  </a:lnTo>
                  <a:lnTo>
                    <a:pt x="5506" y="301"/>
                  </a:lnTo>
                  <a:lnTo>
                    <a:pt x="5135" y="169"/>
                  </a:lnTo>
                  <a:lnTo>
                    <a:pt x="4757" y="74"/>
                  </a:lnTo>
                  <a:lnTo>
                    <a:pt x="4374" y="18"/>
                  </a:lnTo>
                  <a:lnTo>
                    <a:pt x="3990" y="0"/>
                  </a:lnTo>
                  <a:lnTo>
                    <a:pt x="3608" y="18"/>
                  </a:lnTo>
                  <a:lnTo>
                    <a:pt x="3229" y="72"/>
                  </a:lnTo>
                  <a:lnTo>
                    <a:pt x="2858" y="163"/>
                  </a:lnTo>
                  <a:lnTo>
                    <a:pt x="2496" y="289"/>
                  </a:lnTo>
                  <a:lnTo>
                    <a:pt x="2147" y="450"/>
                  </a:lnTo>
                  <a:lnTo>
                    <a:pt x="1812" y="644"/>
                  </a:lnTo>
                  <a:lnTo>
                    <a:pt x="1496" y="872"/>
                  </a:lnTo>
                  <a:lnTo>
                    <a:pt x="1202" y="1133"/>
                  </a:lnTo>
                  <a:lnTo>
                    <a:pt x="930" y="1428"/>
                  </a:lnTo>
                  <a:lnTo>
                    <a:pt x="685" y="1754"/>
                  </a:lnTo>
                  <a:lnTo>
                    <a:pt x="474" y="2103"/>
                  </a:lnTo>
                  <a:lnTo>
                    <a:pt x="301" y="2464"/>
                  </a:lnTo>
                  <a:lnTo>
                    <a:pt x="169" y="2836"/>
                  </a:lnTo>
                  <a:lnTo>
                    <a:pt x="75" y="3215"/>
                  </a:lnTo>
                  <a:lnTo>
                    <a:pt x="19" y="3597"/>
                  </a:lnTo>
                  <a:lnTo>
                    <a:pt x="0" y="3981"/>
                  </a:lnTo>
                  <a:lnTo>
                    <a:pt x="19" y="4364"/>
                  </a:lnTo>
                  <a:lnTo>
                    <a:pt x="73" y="4742"/>
                  </a:lnTo>
                  <a:lnTo>
                    <a:pt x="163" y="5113"/>
                  </a:lnTo>
                  <a:lnTo>
                    <a:pt x="290" y="5476"/>
                  </a:lnTo>
                  <a:lnTo>
                    <a:pt x="450" y="5824"/>
                  </a:lnTo>
                  <a:lnTo>
                    <a:pt x="645" y="6159"/>
                  </a:lnTo>
                  <a:lnTo>
                    <a:pt x="872" y="6475"/>
                  </a:lnTo>
                  <a:lnTo>
                    <a:pt x="1134" y="6770"/>
                  </a:lnTo>
                  <a:lnTo>
                    <a:pt x="1428" y="7042"/>
                  </a:lnTo>
                  <a:lnTo>
                    <a:pt x="1755" y="7287"/>
                  </a:lnTo>
                  <a:close/>
                </a:path>
              </a:pathLst>
            </a:custGeom>
            <a:solidFill>
              <a:srgbClr val="4b6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70080" y="179280"/>
              <a:ext cx="605160" cy="597600"/>
            </a:xfrm>
            <a:custGeom>
              <a:avLst/>
              <a:gdLst/>
              <a:ahLst/>
              <a:rect l="l" t="t" r="r" b="b"/>
              <a:pathLst>
                <a:path w="7809" h="7808">
                  <a:moveTo>
                    <a:pt x="1719" y="7139"/>
                  </a:moveTo>
                  <a:lnTo>
                    <a:pt x="2060" y="7346"/>
                  </a:lnTo>
                  <a:lnTo>
                    <a:pt x="2414" y="7514"/>
                  </a:lnTo>
                  <a:lnTo>
                    <a:pt x="2779" y="7643"/>
                  </a:lnTo>
                  <a:lnTo>
                    <a:pt x="3149" y="7736"/>
                  </a:lnTo>
                  <a:lnTo>
                    <a:pt x="3524" y="7790"/>
                  </a:lnTo>
                  <a:lnTo>
                    <a:pt x="3900" y="7808"/>
                  </a:lnTo>
                  <a:lnTo>
                    <a:pt x="4274" y="7790"/>
                  </a:lnTo>
                  <a:lnTo>
                    <a:pt x="4645" y="7737"/>
                  </a:lnTo>
                  <a:lnTo>
                    <a:pt x="5009" y="7649"/>
                  </a:lnTo>
                  <a:lnTo>
                    <a:pt x="5364" y="7525"/>
                  </a:lnTo>
                  <a:lnTo>
                    <a:pt x="5706" y="7368"/>
                  </a:lnTo>
                  <a:lnTo>
                    <a:pt x="6034" y="7178"/>
                  </a:lnTo>
                  <a:lnTo>
                    <a:pt x="6343" y="6953"/>
                  </a:lnTo>
                  <a:lnTo>
                    <a:pt x="6632" y="6697"/>
                  </a:lnTo>
                  <a:lnTo>
                    <a:pt x="6898" y="6409"/>
                  </a:lnTo>
                  <a:lnTo>
                    <a:pt x="7140" y="6090"/>
                  </a:lnTo>
                  <a:lnTo>
                    <a:pt x="7346" y="5748"/>
                  </a:lnTo>
                  <a:lnTo>
                    <a:pt x="7514" y="5394"/>
                  </a:lnTo>
                  <a:lnTo>
                    <a:pt x="7643" y="5029"/>
                  </a:lnTo>
                  <a:lnTo>
                    <a:pt x="7736" y="4659"/>
                  </a:lnTo>
                  <a:lnTo>
                    <a:pt x="7791" y="4284"/>
                  </a:lnTo>
                  <a:lnTo>
                    <a:pt x="7809" y="3908"/>
                  </a:lnTo>
                  <a:lnTo>
                    <a:pt x="7791" y="3533"/>
                  </a:lnTo>
                  <a:lnTo>
                    <a:pt x="7738" y="3162"/>
                  </a:lnTo>
                  <a:lnTo>
                    <a:pt x="7649" y="2799"/>
                  </a:lnTo>
                  <a:lnTo>
                    <a:pt x="7525" y="2444"/>
                  </a:lnTo>
                  <a:lnTo>
                    <a:pt x="7368" y="2102"/>
                  </a:lnTo>
                  <a:lnTo>
                    <a:pt x="7178" y="1775"/>
                  </a:lnTo>
                  <a:lnTo>
                    <a:pt x="6955" y="1465"/>
                  </a:lnTo>
                  <a:lnTo>
                    <a:pt x="6698" y="1177"/>
                  </a:lnTo>
                  <a:lnTo>
                    <a:pt x="6410" y="910"/>
                  </a:lnTo>
                  <a:lnTo>
                    <a:pt x="6091" y="671"/>
                  </a:lnTo>
                  <a:lnTo>
                    <a:pt x="5749" y="463"/>
                  </a:lnTo>
                  <a:lnTo>
                    <a:pt x="5394" y="294"/>
                  </a:lnTo>
                  <a:lnTo>
                    <a:pt x="5030" y="165"/>
                  </a:lnTo>
                  <a:lnTo>
                    <a:pt x="4659" y="72"/>
                  </a:lnTo>
                  <a:lnTo>
                    <a:pt x="4285" y="18"/>
                  </a:lnTo>
                  <a:lnTo>
                    <a:pt x="3909" y="0"/>
                  </a:lnTo>
                  <a:lnTo>
                    <a:pt x="3533" y="17"/>
                  </a:lnTo>
                  <a:lnTo>
                    <a:pt x="3163" y="71"/>
                  </a:lnTo>
                  <a:lnTo>
                    <a:pt x="2799" y="159"/>
                  </a:lnTo>
                  <a:lnTo>
                    <a:pt x="2445" y="283"/>
                  </a:lnTo>
                  <a:lnTo>
                    <a:pt x="2102" y="440"/>
                  </a:lnTo>
                  <a:lnTo>
                    <a:pt x="1775" y="630"/>
                  </a:lnTo>
                  <a:lnTo>
                    <a:pt x="1466" y="853"/>
                  </a:lnTo>
                  <a:lnTo>
                    <a:pt x="1177" y="1110"/>
                  </a:lnTo>
                  <a:lnTo>
                    <a:pt x="911" y="1398"/>
                  </a:lnTo>
                  <a:lnTo>
                    <a:pt x="670" y="1718"/>
                  </a:lnTo>
                  <a:lnTo>
                    <a:pt x="463" y="2059"/>
                  </a:lnTo>
                  <a:lnTo>
                    <a:pt x="295" y="2414"/>
                  </a:lnTo>
                  <a:lnTo>
                    <a:pt x="165" y="2778"/>
                  </a:lnTo>
                  <a:lnTo>
                    <a:pt x="73" y="3149"/>
                  </a:lnTo>
                  <a:lnTo>
                    <a:pt x="18" y="3523"/>
                  </a:lnTo>
                  <a:lnTo>
                    <a:pt x="0" y="3899"/>
                  </a:lnTo>
                  <a:lnTo>
                    <a:pt x="18" y="4274"/>
                  </a:lnTo>
                  <a:lnTo>
                    <a:pt x="72" y="4645"/>
                  </a:lnTo>
                  <a:lnTo>
                    <a:pt x="160" y="5009"/>
                  </a:lnTo>
                  <a:lnTo>
                    <a:pt x="284" y="5364"/>
                  </a:lnTo>
                  <a:lnTo>
                    <a:pt x="441" y="5706"/>
                  </a:lnTo>
                  <a:lnTo>
                    <a:pt x="631" y="6034"/>
                  </a:lnTo>
                  <a:lnTo>
                    <a:pt x="854" y="6343"/>
                  </a:lnTo>
                  <a:lnTo>
                    <a:pt x="1111" y="6632"/>
                  </a:lnTo>
                  <a:lnTo>
                    <a:pt x="1399" y="6898"/>
                  </a:lnTo>
                  <a:lnTo>
                    <a:pt x="1719" y="7139"/>
                  </a:lnTo>
                  <a:close/>
                </a:path>
              </a:pathLst>
            </a:custGeom>
            <a:solidFill>
              <a:srgbClr val="4e6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79440" y="182160"/>
              <a:ext cx="592200" cy="585000"/>
            </a:xfrm>
            <a:custGeom>
              <a:avLst/>
              <a:gdLst/>
              <a:ahLst/>
              <a:rect l="l" t="t" r="r" b="b"/>
              <a:pathLst>
                <a:path w="7648" h="7650">
                  <a:moveTo>
                    <a:pt x="1684" y="6994"/>
                  </a:moveTo>
                  <a:lnTo>
                    <a:pt x="2018" y="7196"/>
                  </a:lnTo>
                  <a:lnTo>
                    <a:pt x="2365" y="7360"/>
                  </a:lnTo>
                  <a:lnTo>
                    <a:pt x="2721" y="7487"/>
                  </a:lnTo>
                  <a:lnTo>
                    <a:pt x="3084" y="7577"/>
                  </a:lnTo>
                  <a:lnTo>
                    <a:pt x="3452" y="7631"/>
                  </a:lnTo>
                  <a:lnTo>
                    <a:pt x="3820" y="7650"/>
                  </a:lnTo>
                  <a:lnTo>
                    <a:pt x="4186" y="7631"/>
                  </a:lnTo>
                  <a:lnTo>
                    <a:pt x="4550" y="7579"/>
                  </a:lnTo>
                  <a:lnTo>
                    <a:pt x="4906" y="7492"/>
                  </a:lnTo>
                  <a:lnTo>
                    <a:pt x="5254" y="7372"/>
                  </a:lnTo>
                  <a:lnTo>
                    <a:pt x="5589" y="7218"/>
                  </a:lnTo>
                  <a:lnTo>
                    <a:pt x="5910" y="7031"/>
                  </a:lnTo>
                  <a:lnTo>
                    <a:pt x="6213" y="6812"/>
                  </a:lnTo>
                  <a:lnTo>
                    <a:pt x="6497" y="6561"/>
                  </a:lnTo>
                  <a:lnTo>
                    <a:pt x="6757" y="6279"/>
                  </a:lnTo>
                  <a:lnTo>
                    <a:pt x="6993" y="5967"/>
                  </a:lnTo>
                  <a:lnTo>
                    <a:pt x="7195" y="5631"/>
                  </a:lnTo>
                  <a:lnTo>
                    <a:pt x="7360" y="5284"/>
                  </a:lnTo>
                  <a:lnTo>
                    <a:pt x="7486" y="4928"/>
                  </a:lnTo>
                  <a:lnTo>
                    <a:pt x="7577" y="4565"/>
                  </a:lnTo>
                  <a:lnTo>
                    <a:pt x="7631" y="4198"/>
                  </a:lnTo>
                  <a:lnTo>
                    <a:pt x="7648" y="3829"/>
                  </a:lnTo>
                  <a:lnTo>
                    <a:pt x="7631" y="3462"/>
                  </a:lnTo>
                  <a:lnTo>
                    <a:pt x="7578" y="3099"/>
                  </a:lnTo>
                  <a:lnTo>
                    <a:pt x="7492" y="2742"/>
                  </a:lnTo>
                  <a:lnTo>
                    <a:pt x="7370" y="2395"/>
                  </a:lnTo>
                  <a:lnTo>
                    <a:pt x="7216" y="2060"/>
                  </a:lnTo>
                  <a:lnTo>
                    <a:pt x="7030" y="1739"/>
                  </a:lnTo>
                  <a:lnTo>
                    <a:pt x="6811" y="1436"/>
                  </a:lnTo>
                  <a:lnTo>
                    <a:pt x="6560" y="1153"/>
                  </a:lnTo>
                  <a:lnTo>
                    <a:pt x="6279" y="893"/>
                  </a:lnTo>
                  <a:lnTo>
                    <a:pt x="5966" y="658"/>
                  </a:lnTo>
                  <a:lnTo>
                    <a:pt x="5630" y="455"/>
                  </a:lnTo>
                  <a:lnTo>
                    <a:pt x="5284" y="290"/>
                  </a:lnTo>
                  <a:lnTo>
                    <a:pt x="4927" y="162"/>
                  </a:lnTo>
                  <a:lnTo>
                    <a:pt x="4564" y="72"/>
                  </a:lnTo>
                  <a:lnTo>
                    <a:pt x="4197" y="18"/>
                  </a:lnTo>
                  <a:lnTo>
                    <a:pt x="3828" y="0"/>
                  </a:lnTo>
                  <a:lnTo>
                    <a:pt x="3461" y="18"/>
                  </a:lnTo>
                  <a:lnTo>
                    <a:pt x="3098" y="70"/>
                  </a:lnTo>
                  <a:lnTo>
                    <a:pt x="2742" y="157"/>
                  </a:lnTo>
                  <a:lnTo>
                    <a:pt x="2394" y="277"/>
                  </a:lnTo>
                  <a:lnTo>
                    <a:pt x="2059" y="431"/>
                  </a:lnTo>
                  <a:lnTo>
                    <a:pt x="1738" y="618"/>
                  </a:lnTo>
                  <a:lnTo>
                    <a:pt x="1435" y="837"/>
                  </a:lnTo>
                  <a:lnTo>
                    <a:pt x="1152" y="1088"/>
                  </a:lnTo>
                  <a:lnTo>
                    <a:pt x="892" y="1370"/>
                  </a:lnTo>
                  <a:lnTo>
                    <a:pt x="657" y="1684"/>
                  </a:lnTo>
                  <a:lnTo>
                    <a:pt x="454" y="2018"/>
                  </a:lnTo>
                  <a:lnTo>
                    <a:pt x="289" y="2365"/>
                  </a:lnTo>
                  <a:lnTo>
                    <a:pt x="161" y="2722"/>
                  </a:lnTo>
                  <a:lnTo>
                    <a:pt x="71" y="3085"/>
                  </a:lnTo>
                  <a:lnTo>
                    <a:pt x="18" y="3453"/>
                  </a:lnTo>
                  <a:lnTo>
                    <a:pt x="0" y="3820"/>
                  </a:lnTo>
                  <a:lnTo>
                    <a:pt x="18" y="4188"/>
                  </a:lnTo>
                  <a:lnTo>
                    <a:pt x="70" y="4551"/>
                  </a:lnTo>
                  <a:lnTo>
                    <a:pt x="157" y="4908"/>
                  </a:lnTo>
                  <a:lnTo>
                    <a:pt x="277" y="5254"/>
                  </a:lnTo>
                  <a:lnTo>
                    <a:pt x="431" y="5590"/>
                  </a:lnTo>
                  <a:lnTo>
                    <a:pt x="619" y="5910"/>
                  </a:lnTo>
                  <a:lnTo>
                    <a:pt x="838" y="6213"/>
                  </a:lnTo>
                  <a:lnTo>
                    <a:pt x="1088" y="6497"/>
                  </a:lnTo>
                  <a:lnTo>
                    <a:pt x="1370" y="6758"/>
                  </a:lnTo>
                  <a:lnTo>
                    <a:pt x="1684" y="6994"/>
                  </a:lnTo>
                  <a:close/>
                </a:path>
              </a:pathLst>
            </a:custGeom>
            <a:solidFill>
              <a:srgbClr val="506b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88440" y="184680"/>
              <a:ext cx="580320" cy="573120"/>
            </a:xfrm>
            <a:custGeom>
              <a:avLst/>
              <a:gdLst/>
              <a:ahLst/>
              <a:rect l="l" t="t" r="r" b="b"/>
              <a:pathLst>
                <a:path w="7489" h="7488">
                  <a:moveTo>
                    <a:pt x="1649" y="6846"/>
                  </a:moveTo>
                  <a:lnTo>
                    <a:pt x="1976" y="7044"/>
                  </a:lnTo>
                  <a:lnTo>
                    <a:pt x="2315" y="7205"/>
                  </a:lnTo>
                  <a:lnTo>
                    <a:pt x="2665" y="7330"/>
                  </a:lnTo>
                  <a:lnTo>
                    <a:pt x="3020" y="7418"/>
                  </a:lnTo>
                  <a:lnTo>
                    <a:pt x="3380" y="7470"/>
                  </a:lnTo>
                  <a:lnTo>
                    <a:pt x="3740" y="7488"/>
                  </a:lnTo>
                  <a:lnTo>
                    <a:pt x="4099" y="7471"/>
                  </a:lnTo>
                  <a:lnTo>
                    <a:pt x="4455" y="7419"/>
                  </a:lnTo>
                  <a:lnTo>
                    <a:pt x="4804" y="7334"/>
                  </a:lnTo>
                  <a:lnTo>
                    <a:pt x="5144" y="7216"/>
                  </a:lnTo>
                  <a:lnTo>
                    <a:pt x="5473" y="7066"/>
                  </a:lnTo>
                  <a:lnTo>
                    <a:pt x="5787" y="6883"/>
                  </a:lnTo>
                  <a:lnTo>
                    <a:pt x="6083" y="6668"/>
                  </a:lnTo>
                  <a:lnTo>
                    <a:pt x="6361" y="6423"/>
                  </a:lnTo>
                  <a:lnTo>
                    <a:pt x="6616" y="6146"/>
                  </a:lnTo>
                  <a:lnTo>
                    <a:pt x="6846" y="5840"/>
                  </a:lnTo>
                  <a:lnTo>
                    <a:pt x="7044" y="5512"/>
                  </a:lnTo>
                  <a:lnTo>
                    <a:pt x="7206" y="5173"/>
                  </a:lnTo>
                  <a:lnTo>
                    <a:pt x="7330" y="4823"/>
                  </a:lnTo>
                  <a:lnTo>
                    <a:pt x="7418" y="4468"/>
                  </a:lnTo>
                  <a:lnTo>
                    <a:pt x="7470" y="4108"/>
                  </a:lnTo>
                  <a:lnTo>
                    <a:pt x="7489" y="3748"/>
                  </a:lnTo>
                  <a:lnTo>
                    <a:pt x="7472" y="3389"/>
                  </a:lnTo>
                  <a:lnTo>
                    <a:pt x="7421" y="3033"/>
                  </a:lnTo>
                  <a:lnTo>
                    <a:pt x="7335" y="2684"/>
                  </a:lnTo>
                  <a:lnTo>
                    <a:pt x="7217" y="2344"/>
                  </a:lnTo>
                  <a:lnTo>
                    <a:pt x="7067" y="2015"/>
                  </a:lnTo>
                  <a:lnTo>
                    <a:pt x="6884" y="1702"/>
                  </a:lnTo>
                  <a:lnTo>
                    <a:pt x="6669" y="1405"/>
                  </a:lnTo>
                  <a:lnTo>
                    <a:pt x="6423" y="1128"/>
                  </a:lnTo>
                  <a:lnTo>
                    <a:pt x="6148" y="872"/>
                  </a:lnTo>
                  <a:lnTo>
                    <a:pt x="5842" y="643"/>
                  </a:lnTo>
                  <a:lnTo>
                    <a:pt x="5513" y="444"/>
                  </a:lnTo>
                  <a:lnTo>
                    <a:pt x="5173" y="282"/>
                  </a:lnTo>
                  <a:lnTo>
                    <a:pt x="4824" y="158"/>
                  </a:lnTo>
                  <a:lnTo>
                    <a:pt x="4469" y="70"/>
                  </a:lnTo>
                  <a:lnTo>
                    <a:pt x="4109" y="17"/>
                  </a:lnTo>
                  <a:lnTo>
                    <a:pt x="3749" y="0"/>
                  </a:lnTo>
                  <a:lnTo>
                    <a:pt x="3389" y="17"/>
                  </a:lnTo>
                  <a:lnTo>
                    <a:pt x="3033" y="68"/>
                  </a:lnTo>
                  <a:lnTo>
                    <a:pt x="2684" y="153"/>
                  </a:lnTo>
                  <a:lnTo>
                    <a:pt x="2344" y="271"/>
                  </a:lnTo>
                  <a:lnTo>
                    <a:pt x="2017" y="422"/>
                  </a:lnTo>
                  <a:lnTo>
                    <a:pt x="1702" y="605"/>
                  </a:lnTo>
                  <a:lnTo>
                    <a:pt x="1405" y="818"/>
                  </a:lnTo>
                  <a:lnTo>
                    <a:pt x="1128" y="1064"/>
                  </a:lnTo>
                  <a:lnTo>
                    <a:pt x="873" y="1340"/>
                  </a:lnTo>
                  <a:lnTo>
                    <a:pt x="643" y="1647"/>
                  </a:lnTo>
                  <a:lnTo>
                    <a:pt x="444" y="1975"/>
                  </a:lnTo>
                  <a:lnTo>
                    <a:pt x="283" y="2314"/>
                  </a:lnTo>
                  <a:lnTo>
                    <a:pt x="158" y="2664"/>
                  </a:lnTo>
                  <a:lnTo>
                    <a:pt x="70" y="3019"/>
                  </a:lnTo>
                  <a:lnTo>
                    <a:pt x="18" y="3378"/>
                  </a:lnTo>
                  <a:lnTo>
                    <a:pt x="0" y="3740"/>
                  </a:lnTo>
                  <a:lnTo>
                    <a:pt x="18" y="4099"/>
                  </a:lnTo>
                  <a:lnTo>
                    <a:pt x="69" y="4454"/>
                  </a:lnTo>
                  <a:lnTo>
                    <a:pt x="154" y="4804"/>
                  </a:lnTo>
                  <a:lnTo>
                    <a:pt x="272" y="5143"/>
                  </a:lnTo>
                  <a:lnTo>
                    <a:pt x="423" y="5471"/>
                  </a:lnTo>
                  <a:lnTo>
                    <a:pt x="606" y="5786"/>
                  </a:lnTo>
                  <a:lnTo>
                    <a:pt x="821" y="6083"/>
                  </a:lnTo>
                  <a:lnTo>
                    <a:pt x="1066" y="6360"/>
                  </a:lnTo>
                  <a:lnTo>
                    <a:pt x="1342" y="6615"/>
                  </a:lnTo>
                  <a:lnTo>
                    <a:pt x="1649" y="6846"/>
                  </a:lnTo>
                  <a:close/>
                </a:path>
              </a:pathLst>
            </a:custGeom>
            <a:solidFill>
              <a:srgbClr val="526e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97800" y="186480"/>
              <a:ext cx="568080" cy="560880"/>
            </a:xfrm>
            <a:custGeom>
              <a:avLst/>
              <a:gdLst/>
              <a:ahLst/>
              <a:rect l="l" t="t" r="r" b="b"/>
              <a:pathLst>
                <a:path w="7328" h="7326">
                  <a:moveTo>
                    <a:pt x="1613" y="6698"/>
                  </a:moveTo>
                  <a:lnTo>
                    <a:pt x="1933" y="6891"/>
                  </a:lnTo>
                  <a:lnTo>
                    <a:pt x="2266" y="7049"/>
                  </a:lnTo>
                  <a:lnTo>
                    <a:pt x="2607" y="7171"/>
                  </a:lnTo>
                  <a:lnTo>
                    <a:pt x="2956" y="7257"/>
                  </a:lnTo>
                  <a:lnTo>
                    <a:pt x="3306" y="7309"/>
                  </a:lnTo>
                  <a:lnTo>
                    <a:pt x="3659" y="7326"/>
                  </a:lnTo>
                  <a:lnTo>
                    <a:pt x="4011" y="7309"/>
                  </a:lnTo>
                  <a:lnTo>
                    <a:pt x="4360" y="7259"/>
                  </a:lnTo>
                  <a:lnTo>
                    <a:pt x="4701" y="7176"/>
                  </a:lnTo>
                  <a:lnTo>
                    <a:pt x="5034" y="7062"/>
                  </a:lnTo>
                  <a:lnTo>
                    <a:pt x="5355" y="6914"/>
                  </a:lnTo>
                  <a:lnTo>
                    <a:pt x="5662" y="6735"/>
                  </a:lnTo>
                  <a:lnTo>
                    <a:pt x="5953" y="6525"/>
                  </a:lnTo>
                  <a:lnTo>
                    <a:pt x="6225" y="6284"/>
                  </a:lnTo>
                  <a:lnTo>
                    <a:pt x="6473" y="6014"/>
                  </a:lnTo>
                  <a:lnTo>
                    <a:pt x="6700" y="5716"/>
                  </a:lnTo>
                  <a:lnTo>
                    <a:pt x="6893" y="5395"/>
                  </a:lnTo>
                  <a:lnTo>
                    <a:pt x="7051" y="5062"/>
                  </a:lnTo>
                  <a:lnTo>
                    <a:pt x="7173" y="4721"/>
                  </a:lnTo>
                  <a:lnTo>
                    <a:pt x="7259" y="4372"/>
                  </a:lnTo>
                  <a:lnTo>
                    <a:pt x="7311" y="4021"/>
                  </a:lnTo>
                  <a:lnTo>
                    <a:pt x="7328" y="3668"/>
                  </a:lnTo>
                  <a:lnTo>
                    <a:pt x="7311" y="3316"/>
                  </a:lnTo>
                  <a:lnTo>
                    <a:pt x="7261" y="2968"/>
                  </a:lnTo>
                  <a:lnTo>
                    <a:pt x="7178" y="2626"/>
                  </a:lnTo>
                  <a:lnTo>
                    <a:pt x="7062" y="2294"/>
                  </a:lnTo>
                  <a:lnTo>
                    <a:pt x="6915" y="1973"/>
                  </a:lnTo>
                  <a:lnTo>
                    <a:pt x="6736" y="1665"/>
                  </a:lnTo>
                  <a:lnTo>
                    <a:pt x="6526" y="1375"/>
                  </a:lnTo>
                  <a:lnTo>
                    <a:pt x="6285" y="1103"/>
                  </a:lnTo>
                  <a:lnTo>
                    <a:pt x="6015" y="854"/>
                  </a:lnTo>
                  <a:lnTo>
                    <a:pt x="5717" y="629"/>
                  </a:lnTo>
                  <a:lnTo>
                    <a:pt x="5395" y="434"/>
                  </a:lnTo>
                  <a:lnTo>
                    <a:pt x="5063" y="277"/>
                  </a:lnTo>
                  <a:lnTo>
                    <a:pt x="4721" y="155"/>
                  </a:lnTo>
                  <a:lnTo>
                    <a:pt x="4373" y="69"/>
                  </a:lnTo>
                  <a:lnTo>
                    <a:pt x="4022" y="17"/>
                  </a:lnTo>
                  <a:lnTo>
                    <a:pt x="3669" y="0"/>
                  </a:lnTo>
                  <a:lnTo>
                    <a:pt x="3317" y="17"/>
                  </a:lnTo>
                  <a:lnTo>
                    <a:pt x="2968" y="66"/>
                  </a:lnTo>
                  <a:lnTo>
                    <a:pt x="2627" y="149"/>
                  </a:lnTo>
                  <a:lnTo>
                    <a:pt x="2294" y="265"/>
                  </a:lnTo>
                  <a:lnTo>
                    <a:pt x="1973" y="412"/>
                  </a:lnTo>
                  <a:lnTo>
                    <a:pt x="1666" y="592"/>
                  </a:lnTo>
                  <a:lnTo>
                    <a:pt x="1376" y="801"/>
                  </a:lnTo>
                  <a:lnTo>
                    <a:pt x="1104" y="1041"/>
                  </a:lnTo>
                  <a:lnTo>
                    <a:pt x="855" y="1312"/>
                  </a:lnTo>
                  <a:lnTo>
                    <a:pt x="630" y="1612"/>
                  </a:lnTo>
                  <a:lnTo>
                    <a:pt x="435" y="1932"/>
                  </a:lnTo>
                  <a:lnTo>
                    <a:pt x="278" y="2265"/>
                  </a:lnTo>
                  <a:lnTo>
                    <a:pt x="155" y="2606"/>
                  </a:lnTo>
                  <a:lnTo>
                    <a:pt x="69" y="2954"/>
                  </a:lnTo>
                  <a:lnTo>
                    <a:pt x="17" y="3306"/>
                  </a:lnTo>
                  <a:lnTo>
                    <a:pt x="0" y="3659"/>
                  </a:lnTo>
                  <a:lnTo>
                    <a:pt x="17" y="4010"/>
                  </a:lnTo>
                  <a:lnTo>
                    <a:pt x="67" y="4358"/>
                  </a:lnTo>
                  <a:lnTo>
                    <a:pt x="150" y="4699"/>
                  </a:lnTo>
                  <a:lnTo>
                    <a:pt x="266" y="5032"/>
                  </a:lnTo>
                  <a:lnTo>
                    <a:pt x="414" y="5353"/>
                  </a:lnTo>
                  <a:lnTo>
                    <a:pt x="592" y="5660"/>
                  </a:lnTo>
                  <a:lnTo>
                    <a:pt x="803" y="5951"/>
                  </a:lnTo>
                  <a:lnTo>
                    <a:pt x="1043" y="6223"/>
                  </a:lnTo>
                  <a:lnTo>
                    <a:pt x="1313" y="6472"/>
                  </a:lnTo>
                  <a:lnTo>
                    <a:pt x="1613" y="6698"/>
                  </a:lnTo>
                  <a:close/>
                </a:path>
              </a:pathLst>
            </a:custGeom>
            <a:solidFill>
              <a:srgbClr val="557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07160" y="189360"/>
              <a:ext cx="555840" cy="548280"/>
            </a:xfrm>
            <a:custGeom>
              <a:avLst/>
              <a:gdLst/>
              <a:ahLst/>
              <a:rect l="l" t="t" r="r" b="b"/>
              <a:pathLst>
                <a:path w="7167" h="7167">
                  <a:moveTo>
                    <a:pt x="1577" y="6552"/>
                  </a:moveTo>
                  <a:lnTo>
                    <a:pt x="1891" y="6741"/>
                  </a:lnTo>
                  <a:lnTo>
                    <a:pt x="2216" y="6896"/>
                  </a:lnTo>
                  <a:lnTo>
                    <a:pt x="2550" y="7015"/>
                  </a:lnTo>
                  <a:lnTo>
                    <a:pt x="2890" y="7100"/>
                  </a:lnTo>
                  <a:lnTo>
                    <a:pt x="3233" y="7150"/>
                  </a:lnTo>
                  <a:lnTo>
                    <a:pt x="3579" y="7167"/>
                  </a:lnTo>
                  <a:lnTo>
                    <a:pt x="3923" y="7151"/>
                  </a:lnTo>
                  <a:lnTo>
                    <a:pt x="4264" y="7102"/>
                  </a:lnTo>
                  <a:lnTo>
                    <a:pt x="4597" y="7020"/>
                  </a:lnTo>
                  <a:lnTo>
                    <a:pt x="4923" y="6907"/>
                  </a:lnTo>
                  <a:lnTo>
                    <a:pt x="5236" y="6763"/>
                  </a:lnTo>
                  <a:lnTo>
                    <a:pt x="5537" y="6588"/>
                  </a:lnTo>
                  <a:lnTo>
                    <a:pt x="5821" y="6383"/>
                  </a:lnTo>
                  <a:lnTo>
                    <a:pt x="6087" y="6148"/>
                  </a:lnTo>
                  <a:lnTo>
                    <a:pt x="6331" y="5883"/>
                  </a:lnTo>
                  <a:lnTo>
                    <a:pt x="6552" y="5591"/>
                  </a:lnTo>
                  <a:lnTo>
                    <a:pt x="6742" y="5276"/>
                  </a:lnTo>
                  <a:lnTo>
                    <a:pt x="6896" y="4951"/>
                  </a:lnTo>
                  <a:lnTo>
                    <a:pt x="7015" y="4617"/>
                  </a:lnTo>
                  <a:lnTo>
                    <a:pt x="7100" y="4277"/>
                  </a:lnTo>
                  <a:lnTo>
                    <a:pt x="7150" y="3934"/>
                  </a:lnTo>
                  <a:lnTo>
                    <a:pt x="7167" y="3588"/>
                  </a:lnTo>
                  <a:lnTo>
                    <a:pt x="7150" y="3244"/>
                  </a:lnTo>
                  <a:lnTo>
                    <a:pt x="7101" y="2904"/>
                  </a:lnTo>
                  <a:lnTo>
                    <a:pt x="7020" y="2570"/>
                  </a:lnTo>
                  <a:lnTo>
                    <a:pt x="6906" y="2245"/>
                  </a:lnTo>
                  <a:lnTo>
                    <a:pt x="6763" y="1931"/>
                  </a:lnTo>
                  <a:lnTo>
                    <a:pt x="6587" y="1630"/>
                  </a:lnTo>
                  <a:lnTo>
                    <a:pt x="6382" y="1346"/>
                  </a:lnTo>
                  <a:lnTo>
                    <a:pt x="6147" y="1080"/>
                  </a:lnTo>
                  <a:lnTo>
                    <a:pt x="5883" y="836"/>
                  </a:lnTo>
                  <a:lnTo>
                    <a:pt x="5590" y="616"/>
                  </a:lnTo>
                  <a:lnTo>
                    <a:pt x="5276" y="426"/>
                  </a:lnTo>
                  <a:lnTo>
                    <a:pt x="4950" y="271"/>
                  </a:lnTo>
                  <a:lnTo>
                    <a:pt x="4616" y="152"/>
                  </a:lnTo>
                  <a:lnTo>
                    <a:pt x="4276" y="67"/>
                  </a:lnTo>
                  <a:lnTo>
                    <a:pt x="3932" y="17"/>
                  </a:lnTo>
                  <a:lnTo>
                    <a:pt x="3586" y="0"/>
                  </a:lnTo>
                  <a:lnTo>
                    <a:pt x="3243" y="16"/>
                  </a:lnTo>
                  <a:lnTo>
                    <a:pt x="2903" y="66"/>
                  </a:lnTo>
                  <a:lnTo>
                    <a:pt x="2569" y="147"/>
                  </a:lnTo>
                  <a:lnTo>
                    <a:pt x="2244" y="260"/>
                  </a:lnTo>
                  <a:lnTo>
                    <a:pt x="1929" y="404"/>
                  </a:lnTo>
                  <a:lnTo>
                    <a:pt x="1629" y="579"/>
                  </a:lnTo>
                  <a:lnTo>
                    <a:pt x="1345" y="784"/>
                  </a:lnTo>
                  <a:lnTo>
                    <a:pt x="1079" y="1019"/>
                  </a:lnTo>
                  <a:lnTo>
                    <a:pt x="836" y="1284"/>
                  </a:lnTo>
                  <a:lnTo>
                    <a:pt x="616" y="1577"/>
                  </a:lnTo>
                  <a:lnTo>
                    <a:pt x="426" y="1891"/>
                  </a:lnTo>
                  <a:lnTo>
                    <a:pt x="272" y="2216"/>
                  </a:lnTo>
                  <a:lnTo>
                    <a:pt x="151" y="2550"/>
                  </a:lnTo>
                  <a:lnTo>
                    <a:pt x="67" y="2890"/>
                  </a:lnTo>
                  <a:lnTo>
                    <a:pt x="16" y="3234"/>
                  </a:lnTo>
                  <a:lnTo>
                    <a:pt x="0" y="3580"/>
                  </a:lnTo>
                  <a:lnTo>
                    <a:pt x="16" y="3923"/>
                  </a:lnTo>
                  <a:lnTo>
                    <a:pt x="65" y="4263"/>
                  </a:lnTo>
                  <a:lnTo>
                    <a:pt x="147" y="4598"/>
                  </a:lnTo>
                  <a:lnTo>
                    <a:pt x="260" y="4924"/>
                  </a:lnTo>
                  <a:lnTo>
                    <a:pt x="403" y="5237"/>
                  </a:lnTo>
                  <a:lnTo>
                    <a:pt x="579" y="5538"/>
                  </a:lnTo>
                  <a:lnTo>
                    <a:pt x="784" y="5822"/>
                  </a:lnTo>
                  <a:lnTo>
                    <a:pt x="1019" y="6088"/>
                  </a:lnTo>
                  <a:lnTo>
                    <a:pt x="1284" y="6331"/>
                  </a:lnTo>
                  <a:lnTo>
                    <a:pt x="1577" y="6552"/>
                  </a:lnTo>
                  <a:close/>
                </a:path>
              </a:pathLst>
            </a:custGeom>
            <a:solidFill>
              <a:srgbClr val="577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16520" y="191880"/>
              <a:ext cx="542880" cy="535320"/>
            </a:xfrm>
            <a:custGeom>
              <a:avLst/>
              <a:gdLst/>
              <a:ahLst/>
              <a:rect l="l" t="t" r="r" b="b"/>
              <a:pathLst>
                <a:path w="7005" h="7006">
                  <a:moveTo>
                    <a:pt x="1541" y="6405"/>
                  </a:moveTo>
                  <a:lnTo>
                    <a:pt x="1847" y="6590"/>
                  </a:lnTo>
                  <a:lnTo>
                    <a:pt x="2165" y="6741"/>
                  </a:lnTo>
                  <a:lnTo>
                    <a:pt x="2492" y="6857"/>
                  </a:lnTo>
                  <a:lnTo>
                    <a:pt x="2824" y="6940"/>
                  </a:lnTo>
                  <a:lnTo>
                    <a:pt x="3161" y="6990"/>
                  </a:lnTo>
                  <a:lnTo>
                    <a:pt x="3498" y="7006"/>
                  </a:lnTo>
                  <a:lnTo>
                    <a:pt x="3834" y="6990"/>
                  </a:lnTo>
                  <a:lnTo>
                    <a:pt x="4167" y="6942"/>
                  </a:lnTo>
                  <a:lnTo>
                    <a:pt x="4494" y="6862"/>
                  </a:lnTo>
                  <a:lnTo>
                    <a:pt x="4812" y="6752"/>
                  </a:lnTo>
                  <a:lnTo>
                    <a:pt x="5120" y="6611"/>
                  </a:lnTo>
                  <a:lnTo>
                    <a:pt x="5413" y="6439"/>
                  </a:lnTo>
                  <a:lnTo>
                    <a:pt x="5690" y="6238"/>
                  </a:lnTo>
                  <a:lnTo>
                    <a:pt x="5950" y="6009"/>
                  </a:lnTo>
                  <a:lnTo>
                    <a:pt x="6189" y="5750"/>
                  </a:lnTo>
                  <a:lnTo>
                    <a:pt x="6405" y="5465"/>
                  </a:lnTo>
                  <a:lnTo>
                    <a:pt x="6590" y="5157"/>
                  </a:lnTo>
                  <a:lnTo>
                    <a:pt x="6741" y="4839"/>
                  </a:lnTo>
                  <a:lnTo>
                    <a:pt x="6857" y="4513"/>
                  </a:lnTo>
                  <a:lnTo>
                    <a:pt x="6940" y="4181"/>
                  </a:lnTo>
                  <a:lnTo>
                    <a:pt x="6990" y="3845"/>
                  </a:lnTo>
                  <a:lnTo>
                    <a:pt x="7005" y="3507"/>
                  </a:lnTo>
                  <a:lnTo>
                    <a:pt x="6990" y="3171"/>
                  </a:lnTo>
                  <a:lnTo>
                    <a:pt x="6942" y="2839"/>
                  </a:lnTo>
                  <a:lnTo>
                    <a:pt x="6862" y="2512"/>
                  </a:lnTo>
                  <a:lnTo>
                    <a:pt x="6751" y="2193"/>
                  </a:lnTo>
                  <a:lnTo>
                    <a:pt x="6610" y="1887"/>
                  </a:lnTo>
                  <a:lnTo>
                    <a:pt x="6439" y="1593"/>
                  </a:lnTo>
                  <a:lnTo>
                    <a:pt x="6238" y="1315"/>
                  </a:lnTo>
                  <a:lnTo>
                    <a:pt x="6008" y="1056"/>
                  </a:lnTo>
                  <a:lnTo>
                    <a:pt x="5750" y="817"/>
                  </a:lnTo>
                  <a:lnTo>
                    <a:pt x="5464" y="602"/>
                  </a:lnTo>
                  <a:lnTo>
                    <a:pt x="5157" y="416"/>
                  </a:lnTo>
                  <a:lnTo>
                    <a:pt x="4839" y="265"/>
                  </a:lnTo>
                  <a:lnTo>
                    <a:pt x="4512" y="149"/>
                  </a:lnTo>
                  <a:lnTo>
                    <a:pt x="4180" y="66"/>
                  </a:lnTo>
                  <a:lnTo>
                    <a:pt x="3844" y="17"/>
                  </a:lnTo>
                  <a:lnTo>
                    <a:pt x="3507" y="0"/>
                  </a:lnTo>
                  <a:lnTo>
                    <a:pt x="3170" y="16"/>
                  </a:lnTo>
                  <a:lnTo>
                    <a:pt x="2838" y="65"/>
                  </a:lnTo>
                  <a:lnTo>
                    <a:pt x="2511" y="144"/>
                  </a:lnTo>
                  <a:lnTo>
                    <a:pt x="2193" y="254"/>
                  </a:lnTo>
                  <a:lnTo>
                    <a:pt x="1886" y="396"/>
                  </a:lnTo>
                  <a:lnTo>
                    <a:pt x="1592" y="567"/>
                  </a:lnTo>
                  <a:lnTo>
                    <a:pt x="1315" y="767"/>
                  </a:lnTo>
                  <a:lnTo>
                    <a:pt x="1055" y="996"/>
                  </a:lnTo>
                  <a:lnTo>
                    <a:pt x="816" y="1255"/>
                  </a:lnTo>
                  <a:lnTo>
                    <a:pt x="601" y="1542"/>
                  </a:lnTo>
                  <a:lnTo>
                    <a:pt x="415" y="1848"/>
                  </a:lnTo>
                  <a:lnTo>
                    <a:pt x="264" y="2166"/>
                  </a:lnTo>
                  <a:lnTo>
                    <a:pt x="148" y="2492"/>
                  </a:lnTo>
                  <a:lnTo>
                    <a:pt x="65" y="2825"/>
                  </a:lnTo>
                  <a:lnTo>
                    <a:pt x="17" y="3162"/>
                  </a:lnTo>
                  <a:lnTo>
                    <a:pt x="0" y="3499"/>
                  </a:lnTo>
                  <a:lnTo>
                    <a:pt x="16" y="3835"/>
                  </a:lnTo>
                  <a:lnTo>
                    <a:pt x="64" y="4168"/>
                  </a:lnTo>
                  <a:lnTo>
                    <a:pt x="143" y="4495"/>
                  </a:lnTo>
                  <a:lnTo>
                    <a:pt x="254" y="4813"/>
                  </a:lnTo>
                  <a:lnTo>
                    <a:pt x="395" y="5120"/>
                  </a:lnTo>
                  <a:lnTo>
                    <a:pt x="566" y="5413"/>
                  </a:lnTo>
                  <a:lnTo>
                    <a:pt x="766" y="5691"/>
                  </a:lnTo>
                  <a:lnTo>
                    <a:pt x="996" y="5950"/>
                  </a:lnTo>
                  <a:lnTo>
                    <a:pt x="1254" y="6190"/>
                  </a:lnTo>
                  <a:lnTo>
                    <a:pt x="1541" y="6405"/>
                  </a:lnTo>
                  <a:close/>
                </a:path>
              </a:pathLst>
            </a:custGeom>
            <a:solidFill>
              <a:srgbClr val="5a76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26600" y="194040"/>
              <a:ext cx="529920" cy="524160"/>
            </a:xfrm>
            <a:custGeom>
              <a:avLst/>
              <a:gdLst/>
              <a:ahLst/>
              <a:rect l="l" t="t" r="r" b="b"/>
              <a:pathLst>
                <a:path w="6845" h="6844">
                  <a:moveTo>
                    <a:pt x="1506" y="6259"/>
                  </a:moveTo>
                  <a:lnTo>
                    <a:pt x="1806" y="6439"/>
                  </a:lnTo>
                  <a:lnTo>
                    <a:pt x="2116" y="6586"/>
                  </a:lnTo>
                  <a:lnTo>
                    <a:pt x="2435" y="6700"/>
                  </a:lnTo>
                  <a:lnTo>
                    <a:pt x="2760" y="6781"/>
                  </a:lnTo>
                  <a:lnTo>
                    <a:pt x="3088" y="6828"/>
                  </a:lnTo>
                  <a:lnTo>
                    <a:pt x="3419" y="6844"/>
                  </a:lnTo>
                  <a:lnTo>
                    <a:pt x="3747" y="6829"/>
                  </a:lnTo>
                  <a:lnTo>
                    <a:pt x="4071" y="6783"/>
                  </a:lnTo>
                  <a:lnTo>
                    <a:pt x="4391" y="6704"/>
                  </a:lnTo>
                  <a:lnTo>
                    <a:pt x="4702" y="6597"/>
                  </a:lnTo>
                  <a:lnTo>
                    <a:pt x="5002" y="6458"/>
                  </a:lnTo>
                  <a:lnTo>
                    <a:pt x="5289" y="6292"/>
                  </a:lnTo>
                  <a:lnTo>
                    <a:pt x="5560" y="6096"/>
                  </a:lnTo>
                  <a:lnTo>
                    <a:pt x="5814" y="5871"/>
                  </a:lnTo>
                  <a:lnTo>
                    <a:pt x="6047" y="5619"/>
                  </a:lnTo>
                  <a:lnTo>
                    <a:pt x="6258" y="5339"/>
                  </a:lnTo>
                  <a:lnTo>
                    <a:pt x="6439" y="5038"/>
                  </a:lnTo>
                  <a:lnTo>
                    <a:pt x="6586" y="4728"/>
                  </a:lnTo>
                  <a:lnTo>
                    <a:pt x="6700" y="4409"/>
                  </a:lnTo>
                  <a:lnTo>
                    <a:pt x="6780" y="4085"/>
                  </a:lnTo>
                  <a:lnTo>
                    <a:pt x="6829" y="3756"/>
                  </a:lnTo>
                  <a:lnTo>
                    <a:pt x="6845" y="3427"/>
                  </a:lnTo>
                  <a:lnTo>
                    <a:pt x="6829" y="3097"/>
                  </a:lnTo>
                  <a:lnTo>
                    <a:pt x="6782" y="2773"/>
                  </a:lnTo>
                  <a:lnTo>
                    <a:pt x="6705" y="2454"/>
                  </a:lnTo>
                  <a:lnTo>
                    <a:pt x="6596" y="2142"/>
                  </a:lnTo>
                  <a:lnTo>
                    <a:pt x="6459" y="1843"/>
                  </a:lnTo>
                  <a:lnTo>
                    <a:pt x="6291" y="1556"/>
                  </a:lnTo>
                  <a:lnTo>
                    <a:pt x="6096" y="1284"/>
                  </a:lnTo>
                  <a:lnTo>
                    <a:pt x="5871" y="1031"/>
                  </a:lnTo>
                  <a:lnTo>
                    <a:pt x="5618" y="798"/>
                  </a:lnTo>
                  <a:lnTo>
                    <a:pt x="5339" y="588"/>
                  </a:lnTo>
                  <a:lnTo>
                    <a:pt x="5039" y="406"/>
                  </a:lnTo>
                  <a:lnTo>
                    <a:pt x="4727" y="259"/>
                  </a:lnTo>
                  <a:lnTo>
                    <a:pt x="4408" y="145"/>
                  </a:lnTo>
                  <a:lnTo>
                    <a:pt x="4084" y="64"/>
                  </a:lnTo>
                  <a:lnTo>
                    <a:pt x="3756" y="16"/>
                  </a:lnTo>
                  <a:lnTo>
                    <a:pt x="3426" y="0"/>
                  </a:lnTo>
                  <a:lnTo>
                    <a:pt x="3098" y="15"/>
                  </a:lnTo>
                  <a:lnTo>
                    <a:pt x="2772" y="63"/>
                  </a:lnTo>
                  <a:lnTo>
                    <a:pt x="2453" y="140"/>
                  </a:lnTo>
                  <a:lnTo>
                    <a:pt x="2143" y="248"/>
                  </a:lnTo>
                  <a:lnTo>
                    <a:pt x="1843" y="385"/>
                  </a:lnTo>
                  <a:lnTo>
                    <a:pt x="1556" y="553"/>
                  </a:lnTo>
                  <a:lnTo>
                    <a:pt x="1285" y="749"/>
                  </a:lnTo>
                  <a:lnTo>
                    <a:pt x="1031" y="973"/>
                  </a:lnTo>
                  <a:lnTo>
                    <a:pt x="798" y="1225"/>
                  </a:lnTo>
                  <a:lnTo>
                    <a:pt x="588" y="1506"/>
                  </a:lnTo>
                  <a:lnTo>
                    <a:pt x="406" y="1805"/>
                  </a:lnTo>
                  <a:lnTo>
                    <a:pt x="258" y="2116"/>
                  </a:lnTo>
                  <a:lnTo>
                    <a:pt x="144" y="2435"/>
                  </a:lnTo>
                  <a:lnTo>
                    <a:pt x="64" y="2759"/>
                  </a:lnTo>
                  <a:lnTo>
                    <a:pt x="16" y="3088"/>
                  </a:lnTo>
                  <a:lnTo>
                    <a:pt x="0" y="3418"/>
                  </a:lnTo>
                  <a:lnTo>
                    <a:pt x="16" y="3747"/>
                  </a:lnTo>
                  <a:lnTo>
                    <a:pt x="62" y="4072"/>
                  </a:lnTo>
                  <a:lnTo>
                    <a:pt x="140" y="4391"/>
                  </a:lnTo>
                  <a:lnTo>
                    <a:pt x="249" y="4702"/>
                  </a:lnTo>
                  <a:lnTo>
                    <a:pt x="386" y="5002"/>
                  </a:lnTo>
                  <a:lnTo>
                    <a:pt x="553" y="5289"/>
                  </a:lnTo>
                  <a:lnTo>
                    <a:pt x="749" y="5560"/>
                  </a:lnTo>
                  <a:lnTo>
                    <a:pt x="974" y="5814"/>
                  </a:lnTo>
                  <a:lnTo>
                    <a:pt x="1226" y="6047"/>
                  </a:lnTo>
                  <a:lnTo>
                    <a:pt x="1506" y="6259"/>
                  </a:lnTo>
                  <a:close/>
                </a:path>
              </a:pathLst>
            </a:custGeom>
            <a:solidFill>
              <a:srgbClr val="5c7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35960" y="196560"/>
              <a:ext cx="517680" cy="511560"/>
            </a:xfrm>
            <a:custGeom>
              <a:avLst/>
              <a:gdLst/>
              <a:ahLst/>
              <a:rect l="l" t="t" r="r" b="b"/>
              <a:pathLst>
                <a:path w="6684" h="6684">
                  <a:moveTo>
                    <a:pt x="1471" y="6112"/>
                  </a:moveTo>
                  <a:lnTo>
                    <a:pt x="1764" y="6288"/>
                  </a:lnTo>
                  <a:lnTo>
                    <a:pt x="2067" y="6432"/>
                  </a:lnTo>
                  <a:lnTo>
                    <a:pt x="2378" y="6542"/>
                  </a:lnTo>
                  <a:lnTo>
                    <a:pt x="2695" y="6621"/>
                  </a:lnTo>
                  <a:lnTo>
                    <a:pt x="3016" y="6669"/>
                  </a:lnTo>
                  <a:lnTo>
                    <a:pt x="3338" y="6684"/>
                  </a:lnTo>
                  <a:lnTo>
                    <a:pt x="3659" y="6669"/>
                  </a:lnTo>
                  <a:lnTo>
                    <a:pt x="3976" y="6623"/>
                  </a:lnTo>
                  <a:lnTo>
                    <a:pt x="4287" y="6547"/>
                  </a:lnTo>
                  <a:lnTo>
                    <a:pt x="4592" y="6441"/>
                  </a:lnTo>
                  <a:lnTo>
                    <a:pt x="4885" y="6307"/>
                  </a:lnTo>
                  <a:lnTo>
                    <a:pt x="5165" y="6144"/>
                  </a:lnTo>
                  <a:lnTo>
                    <a:pt x="5430" y="5952"/>
                  </a:lnTo>
                  <a:lnTo>
                    <a:pt x="5678" y="5733"/>
                  </a:lnTo>
                  <a:lnTo>
                    <a:pt x="5906" y="5487"/>
                  </a:lnTo>
                  <a:lnTo>
                    <a:pt x="6112" y="5213"/>
                  </a:lnTo>
                  <a:lnTo>
                    <a:pt x="6288" y="4920"/>
                  </a:lnTo>
                  <a:lnTo>
                    <a:pt x="6432" y="4617"/>
                  </a:lnTo>
                  <a:lnTo>
                    <a:pt x="6542" y="4306"/>
                  </a:lnTo>
                  <a:lnTo>
                    <a:pt x="6621" y="3989"/>
                  </a:lnTo>
                  <a:lnTo>
                    <a:pt x="6669" y="3668"/>
                  </a:lnTo>
                  <a:lnTo>
                    <a:pt x="6684" y="3346"/>
                  </a:lnTo>
                  <a:lnTo>
                    <a:pt x="6669" y="3025"/>
                  </a:lnTo>
                  <a:lnTo>
                    <a:pt x="6623" y="2708"/>
                  </a:lnTo>
                  <a:lnTo>
                    <a:pt x="6547" y="2396"/>
                  </a:lnTo>
                  <a:lnTo>
                    <a:pt x="6441" y="2092"/>
                  </a:lnTo>
                  <a:lnTo>
                    <a:pt x="6307" y="1800"/>
                  </a:lnTo>
                  <a:lnTo>
                    <a:pt x="6144" y="1519"/>
                  </a:lnTo>
                  <a:lnTo>
                    <a:pt x="5952" y="1255"/>
                  </a:lnTo>
                  <a:lnTo>
                    <a:pt x="5733" y="1007"/>
                  </a:lnTo>
                  <a:lnTo>
                    <a:pt x="5487" y="779"/>
                  </a:lnTo>
                  <a:lnTo>
                    <a:pt x="5213" y="574"/>
                  </a:lnTo>
                  <a:lnTo>
                    <a:pt x="4920" y="397"/>
                  </a:lnTo>
                  <a:lnTo>
                    <a:pt x="4617" y="252"/>
                  </a:lnTo>
                  <a:lnTo>
                    <a:pt x="4306" y="142"/>
                  </a:lnTo>
                  <a:lnTo>
                    <a:pt x="3989" y="63"/>
                  </a:lnTo>
                  <a:lnTo>
                    <a:pt x="3668" y="15"/>
                  </a:lnTo>
                  <a:lnTo>
                    <a:pt x="3346" y="0"/>
                  </a:lnTo>
                  <a:lnTo>
                    <a:pt x="3025" y="15"/>
                  </a:lnTo>
                  <a:lnTo>
                    <a:pt x="2708" y="61"/>
                  </a:lnTo>
                  <a:lnTo>
                    <a:pt x="2396" y="137"/>
                  </a:lnTo>
                  <a:lnTo>
                    <a:pt x="2092" y="243"/>
                  </a:lnTo>
                  <a:lnTo>
                    <a:pt x="1800" y="376"/>
                  </a:lnTo>
                  <a:lnTo>
                    <a:pt x="1519" y="540"/>
                  </a:lnTo>
                  <a:lnTo>
                    <a:pt x="1254" y="732"/>
                  </a:lnTo>
                  <a:lnTo>
                    <a:pt x="1007" y="951"/>
                  </a:lnTo>
                  <a:lnTo>
                    <a:pt x="779" y="1197"/>
                  </a:lnTo>
                  <a:lnTo>
                    <a:pt x="574" y="1470"/>
                  </a:lnTo>
                  <a:lnTo>
                    <a:pt x="396" y="1763"/>
                  </a:lnTo>
                  <a:lnTo>
                    <a:pt x="252" y="2066"/>
                  </a:lnTo>
                  <a:lnTo>
                    <a:pt x="141" y="2377"/>
                  </a:lnTo>
                  <a:lnTo>
                    <a:pt x="63" y="2695"/>
                  </a:lnTo>
                  <a:lnTo>
                    <a:pt x="15" y="3016"/>
                  </a:lnTo>
                  <a:lnTo>
                    <a:pt x="0" y="3338"/>
                  </a:lnTo>
                  <a:lnTo>
                    <a:pt x="15" y="3659"/>
                  </a:lnTo>
                  <a:lnTo>
                    <a:pt x="61" y="3976"/>
                  </a:lnTo>
                  <a:lnTo>
                    <a:pt x="137" y="4288"/>
                  </a:lnTo>
                  <a:lnTo>
                    <a:pt x="242" y="4592"/>
                  </a:lnTo>
                  <a:lnTo>
                    <a:pt x="377" y="4885"/>
                  </a:lnTo>
                  <a:lnTo>
                    <a:pt x="540" y="5165"/>
                  </a:lnTo>
                  <a:lnTo>
                    <a:pt x="731" y="5430"/>
                  </a:lnTo>
                  <a:lnTo>
                    <a:pt x="950" y="5678"/>
                  </a:lnTo>
                  <a:lnTo>
                    <a:pt x="1197" y="5906"/>
                  </a:lnTo>
                  <a:lnTo>
                    <a:pt x="1471" y="6112"/>
                  </a:lnTo>
                  <a:close/>
                </a:path>
              </a:pathLst>
            </a:custGeom>
            <a:solidFill>
              <a:srgbClr val="5f7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45320" y="199440"/>
              <a:ext cx="505080" cy="498600"/>
            </a:xfrm>
            <a:custGeom>
              <a:avLst/>
              <a:gdLst/>
              <a:ahLst/>
              <a:rect l="l" t="t" r="r" b="b"/>
              <a:pathLst>
                <a:path w="6523" h="6523">
                  <a:moveTo>
                    <a:pt x="1436" y="5964"/>
                  </a:moveTo>
                  <a:lnTo>
                    <a:pt x="1721" y="6136"/>
                  </a:lnTo>
                  <a:lnTo>
                    <a:pt x="2017" y="6276"/>
                  </a:lnTo>
                  <a:lnTo>
                    <a:pt x="2321" y="6385"/>
                  </a:lnTo>
                  <a:lnTo>
                    <a:pt x="2630" y="6462"/>
                  </a:lnTo>
                  <a:lnTo>
                    <a:pt x="2944" y="6508"/>
                  </a:lnTo>
                  <a:lnTo>
                    <a:pt x="3258" y="6523"/>
                  </a:lnTo>
                  <a:lnTo>
                    <a:pt x="3571" y="6508"/>
                  </a:lnTo>
                  <a:lnTo>
                    <a:pt x="3881" y="6464"/>
                  </a:lnTo>
                  <a:lnTo>
                    <a:pt x="4185" y="6390"/>
                  </a:lnTo>
                  <a:lnTo>
                    <a:pt x="4481" y="6287"/>
                  </a:lnTo>
                  <a:lnTo>
                    <a:pt x="4767" y="6156"/>
                  </a:lnTo>
                  <a:lnTo>
                    <a:pt x="5040" y="5997"/>
                  </a:lnTo>
                  <a:lnTo>
                    <a:pt x="5299" y="5810"/>
                  </a:lnTo>
                  <a:lnTo>
                    <a:pt x="5541" y="5596"/>
                  </a:lnTo>
                  <a:lnTo>
                    <a:pt x="5763" y="5356"/>
                  </a:lnTo>
                  <a:lnTo>
                    <a:pt x="5964" y="5089"/>
                  </a:lnTo>
                  <a:lnTo>
                    <a:pt x="6136" y="4803"/>
                  </a:lnTo>
                  <a:lnTo>
                    <a:pt x="6277" y="4506"/>
                  </a:lnTo>
                  <a:lnTo>
                    <a:pt x="6385" y="4202"/>
                  </a:lnTo>
                  <a:lnTo>
                    <a:pt x="6462" y="3893"/>
                  </a:lnTo>
                  <a:lnTo>
                    <a:pt x="6507" y="3579"/>
                  </a:lnTo>
                  <a:lnTo>
                    <a:pt x="6523" y="3266"/>
                  </a:lnTo>
                  <a:lnTo>
                    <a:pt x="6509" y="2952"/>
                  </a:lnTo>
                  <a:lnTo>
                    <a:pt x="6464" y="2643"/>
                  </a:lnTo>
                  <a:lnTo>
                    <a:pt x="6389" y="2339"/>
                  </a:lnTo>
                  <a:lnTo>
                    <a:pt x="6286" y="2042"/>
                  </a:lnTo>
                  <a:lnTo>
                    <a:pt x="6156" y="1756"/>
                  </a:lnTo>
                  <a:lnTo>
                    <a:pt x="5996" y="1483"/>
                  </a:lnTo>
                  <a:lnTo>
                    <a:pt x="5809" y="1225"/>
                  </a:lnTo>
                  <a:lnTo>
                    <a:pt x="5595" y="982"/>
                  </a:lnTo>
                  <a:lnTo>
                    <a:pt x="5355" y="760"/>
                  </a:lnTo>
                  <a:lnTo>
                    <a:pt x="5088" y="560"/>
                  </a:lnTo>
                  <a:lnTo>
                    <a:pt x="4802" y="387"/>
                  </a:lnTo>
                  <a:lnTo>
                    <a:pt x="4506" y="247"/>
                  </a:lnTo>
                  <a:lnTo>
                    <a:pt x="4202" y="138"/>
                  </a:lnTo>
                  <a:lnTo>
                    <a:pt x="3892" y="61"/>
                  </a:lnTo>
                  <a:lnTo>
                    <a:pt x="3580" y="15"/>
                  </a:lnTo>
                  <a:lnTo>
                    <a:pt x="3265" y="0"/>
                  </a:lnTo>
                  <a:lnTo>
                    <a:pt x="2952" y="15"/>
                  </a:lnTo>
                  <a:lnTo>
                    <a:pt x="2642" y="60"/>
                  </a:lnTo>
                  <a:lnTo>
                    <a:pt x="2338" y="134"/>
                  </a:lnTo>
                  <a:lnTo>
                    <a:pt x="2042" y="236"/>
                  </a:lnTo>
                  <a:lnTo>
                    <a:pt x="1756" y="368"/>
                  </a:lnTo>
                  <a:lnTo>
                    <a:pt x="1482" y="527"/>
                  </a:lnTo>
                  <a:lnTo>
                    <a:pt x="1224" y="713"/>
                  </a:lnTo>
                  <a:lnTo>
                    <a:pt x="982" y="927"/>
                  </a:lnTo>
                  <a:lnTo>
                    <a:pt x="759" y="1168"/>
                  </a:lnTo>
                  <a:lnTo>
                    <a:pt x="559" y="1435"/>
                  </a:lnTo>
                  <a:lnTo>
                    <a:pt x="386" y="1720"/>
                  </a:lnTo>
                  <a:lnTo>
                    <a:pt x="246" y="2017"/>
                  </a:lnTo>
                  <a:lnTo>
                    <a:pt x="137" y="2321"/>
                  </a:lnTo>
                  <a:lnTo>
                    <a:pt x="61" y="2630"/>
                  </a:lnTo>
                  <a:lnTo>
                    <a:pt x="15" y="2944"/>
                  </a:lnTo>
                  <a:lnTo>
                    <a:pt x="0" y="3257"/>
                  </a:lnTo>
                  <a:lnTo>
                    <a:pt x="15" y="3571"/>
                  </a:lnTo>
                  <a:lnTo>
                    <a:pt x="60" y="3881"/>
                  </a:lnTo>
                  <a:lnTo>
                    <a:pt x="134" y="4185"/>
                  </a:lnTo>
                  <a:lnTo>
                    <a:pt x="237" y="4481"/>
                  </a:lnTo>
                  <a:lnTo>
                    <a:pt x="368" y="4767"/>
                  </a:lnTo>
                  <a:lnTo>
                    <a:pt x="527" y="5040"/>
                  </a:lnTo>
                  <a:lnTo>
                    <a:pt x="715" y="5299"/>
                  </a:lnTo>
                  <a:lnTo>
                    <a:pt x="928" y="5541"/>
                  </a:lnTo>
                  <a:lnTo>
                    <a:pt x="1169" y="5763"/>
                  </a:lnTo>
                  <a:lnTo>
                    <a:pt x="1436" y="5964"/>
                  </a:lnTo>
                  <a:close/>
                </a:path>
              </a:pathLst>
            </a:custGeom>
            <a:solidFill>
              <a:srgbClr val="617e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454680" y="201600"/>
              <a:ext cx="492840" cy="487440"/>
            </a:xfrm>
            <a:custGeom>
              <a:avLst/>
              <a:gdLst/>
              <a:ahLst/>
              <a:rect l="l" t="t" r="r" b="b"/>
              <a:pathLst>
                <a:path w="6364" h="6362">
                  <a:moveTo>
                    <a:pt x="1401" y="5817"/>
                  </a:moveTo>
                  <a:lnTo>
                    <a:pt x="1680" y="5985"/>
                  </a:lnTo>
                  <a:lnTo>
                    <a:pt x="1968" y="6122"/>
                  </a:lnTo>
                  <a:lnTo>
                    <a:pt x="2265" y="6228"/>
                  </a:lnTo>
                  <a:lnTo>
                    <a:pt x="2567" y="6303"/>
                  </a:lnTo>
                  <a:lnTo>
                    <a:pt x="2872" y="6348"/>
                  </a:lnTo>
                  <a:lnTo>
                    <a:pt x="3179" y="6362"/>
                  </a:lnTo>
                  <a:lnTo>
                    <a:pt x="3484" y="6349"/>
                  </a:lnTo>
                  <a:lnTo>
                    <a:pt x="3786" y="6305"/>
                  </a:lnTo>
                  <a:lnTo>
                    <a:pt x="4083" y="6233"/>
                  </a:lnTo>
                  <a:lnTo>
                    <a:pt x="4372" y="6132"/>
                  </a:lnTo>
                  <a:lnTo>
                    <a:pt x="4650" y="6004"/>
                  </a:lnTo>
                  <a:lnTo>
                    <a:pt x="4917" y="5849"/>
                  </a:lnTo>
                  <a:lnTo>
                    <a:pt x="5170" y="5666"/>
                  </a:lnTo>
                  <a:lnTo>
                    <a:pt x="5405" y="5458"/>
                  </a:lnTo>
                  <a:lnTo>
                    <a:pt x="5622" y="5223"/>
                  </a:lnTo>
                  <a:lnTo>
                    <a:pt x="5819" y="4963"/>
                  </a:lnTo>
                  <a:lnTo>
                    <a:pt x="5987" y="4684"/>
                  </a:lnTo>
                  <a:lnTo>
                    <a:pt x="6124" y="4396"/>
                  </a:lnTo>
                  <a:lnTo>
                    <a:pt x="6229" y="4099"/>
                  </a:lnTo>
                  <a:lnTo>
                    <a:pt x="6305" y="3797"/>
                  </a:lnTo>
                  <a:lnTo>
                    <a:pt x="6349" y="3491"/>
                  </a:lnTo>
                  <a:lnTo>
                    <a:pt x="6364" y="3185"/>
                  </a:lnTo>
                  <a:lnTo>
                    <a:pt x="6349" y="2880"/>
                  </a:lnTo>
                  <a:lnTo>
                    <a:pt x="6306" y="2578"/>
                  </a:lnTo>
                  <a:lnTo>
                    <a:pt x="6233" y="2281"/>
                  </a:lnTo>
                  <a:lnTo>
                    <a:pt x="6133" y="1992"/>
                  </a:lnTo>
                  <a:lnTo>
                    <a:pt x="6005" y="1714"/>
                  </a:lnTo>
                  <a:lnTo>
                    <a:pt x="5850" y="1447"/>
                  </a:lnTo>
                  <a:lnTo>
                    <a:pt x="5668" y="1194"/>
                  </a:lnTo>
                  <a:lnTo>
                    <a:pt x="5458" y="959"/>
                  </a:lnTo>
                  <a:lnTo>
                    <a:pt x="5223" y="742"/>
                  </a:lnTo>
                  <a:lnTo>
                    <a:pt x="4964" y="546"/>
                  </a:lnTo>
                  <a:lnTo>
                    <a:pt x="4685" y="377"/>
                  </a:lnTo>
                  <a:lnTo>
                    <a:pt x="4396" y="240"/>
                  </a:lnTo>
                  <a:lnTo>
                    <a:pt x="4100" y="134"/>
                  </a:lnTo>
                  <a:lnTo>
                    <a:pt x="3798" y="59"/>
                  </a:lnTo>
                  <a:lnTo>
                    <a:pt x="3493" y="15"/>
                  </a:lnTo>
                  <a:lnTo>
                    <a:pt x="3186" y="0"/>
                  </a:lnTo>
                  <a:lnTo>
                    <a:pt x="2880" y="14"/>
                  </a:lnTo>
                  <a:lnTo>
                    <a:pt x="2578" y="57"/>
                  </a:lnTo>
                  <a:lnTo>
                    <a:pt x="2282" y="130"/>
                  </a:lnTo>
                  <a:lnTo>
                    <a:pt x="1993" y="231"/>
                  </a:lnTo>
                  <a:lnTo>
                    <a:pt x="1714" y="358"/>
                  </a:lnTo>
                  <a:lnTo>
                    <a:pt x="1447" y="513"/>
                  </a:lnTo>
                  <a:lnTo>
                    <a:pt x="1195" y="696"/>
                  </a:lnTo>
                  <a:lnTo>
                    <a:pt x="959" y="905"/>
                  </a:lnTo>
                  <a:lnTo>
                    <a:pt x="742" y="1140"/>
                  </a:lnTo>
                  <a:lnTo>
                    <a:pt x="547" y="1400"/>
                  </a:lnTo>
                  <a:lnTo>
                    <a:pt x="378" y="1679"/>
                  </a:lnTo>
                  <a:lnTo>
                    <a:pt x="241" y="1967"/>
                  </a:lnTo>
                  <a:lnTo>
                    <a:pt x="135" y="2263"/>
                  </a:lnTo>
                  <a:lnTo>
                    <a:pt x="60" y="2565"/>
                  </a:lnTo>
                  <a:lnTo>
                    <a:pt x="15" y="2871"/>
                  </a:lnTo>
                  <a:lnTo>
                    <a:pt x="0" y="3177"/>
                  </a:lnTo>
                  <a:lnTo>
                    <a:pt x="15" y="3483"/>
                  </a:lnTo>
                  <a:lnTo>
                    <a:pt x="59" y="3786"/>
                  </a:lnTo>
                  <a:lnTo>
                    <a:pt x="131" y="4081"/>
                  </a:lnTo>
                  <a:lnTo>
                    <a:pt x="232" y="4370"/>
                  </a:lnTo>
                  <a:lnTo>
                    <a:pt x="360" y="4649"/>
                  </a:lnTo>
                  <a:lnTo>
                    <a:pt x="515" y="4916"/>
                  </a:lnTo>
                  <a:lnTo>
                    <a:pt x="698" y="5169"/>
                  </a:lnTo>
                  <a:lnTo>
                    <a:pt x="906" y="5404"/>
                  </a:lnTo>
                  <a:lnTo>
                    <a:pt x="1141" y="5620"/>
                  </a:lnTo>
                  <a:lnTo>
                    <a:pt x="1401" y="5817"/>
                  </a:lnTo>
                  <a:close/>
                </a:path>
              </a:pathLst>
            </a:custGeom>
            <a:solidFill>
              <a:srgbClr val="648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64040" y="204120"/>
              <a:ext cx="480600" cy="474840"/>
            </a:xfrm>
            <a:custGeom>
              <a:avLst/>
              <a:gdLst/>
              <a:ahLst/>
              <a:rect l="l" t="t" r="r" b="b"/>
              <a:pathLst>
                <a:path w="6201" h="6202">
                  <a:moveTo>
                    <a:pt x="1365" y="5670"/>
                  </a:moveTo>
                  <a:lnTo>
                    <a:pt x="1636" y="5834"/>
                  </a:lnTo>
                  <a:lnTo>
                    <a:pt x="1917" y="5968"/>
                  </a:lnTo>
                  <a:lnTo>
                    <a:pt x="2207" y="6071"/>
                  </a:lnTo>
                  <a:lnTo>
                    <a:pt x="2501" y="6143"/>
                  </a:lnTo>
                  <a:lnTo>
                    <a:pt x="2798" y="6187"/>
                  </a:lnTo>
                  <a:lnTo>
                    <a:pt x="3096" y="6202"/>
                  </a:lnTo>
                  <a:lnTo>
                    <a:pt x="3394" y="6188"/>
                  </a:lnTo>
                  <a:lnTo>
                    <a:pt x="3689" y="6145"/>
                  </a:lnTo>
                  <a:lnTo>
                    <a:pt x="3978" y="6075"/>
                  </a:lnTo>
                  <a:lnTo>
                    <a:pt x="4259" y="5977"/>
                  </a:lnTo>
                  <a:lnTo>
                    <a:pt x="4532" y="5852"/>
                  </a:lnTo>
                  <a:lnTo>
                    <a:pt x="4791" y="5701"/>
                  </a:lnTo>
                  <a:lnTo>
                    <a:pt x="5037" y="5524"/>
                  </a:lnTo>
                  <a:lnTo>
                    <a:pt x="5266" y="5319"/>
                  </a:lnTo>
                  <a:lnTo>
                    <a:pt x="5478" y="5091"/>
                  </a:lnTo>
                  <a:lnTo>
                    <a:pt x="5669" y="4838"/>
                  </a:lnTo>
                  <a:lnTo>
                    <a:pt x="5833" y="4566"/>
                  </a:lnTo>
                  <a:lnTo>
                    <a:pt x="5967" y="4284"/>
                  </a:lnTo>
                  <a:lnTo>
                    <a:pt x="6070" y="3995"/>
                  </a:lnTo>
                  <a:lnTo>
                    <a:pt x="6142" y="3700"/>
                  </a:lnTo>
                  <a:lnTo>
                    <a:pt x="6186" y="3403"/>
                  </a:lnTo>
                  <a:lnTo>
                    <a:pt x="6201" y="3104"/>
                  </a:lnTo>
                  <a:lnTo>
                    <a:pt x="6186" y="2806"/>
                  </a:lnTo>
                  <a:lnTo>
                    <a:pt x="6144" y="2513"/>
                  </a:lnTo>
                  <a:lnTo>
                    <a:pt x="6073" y="2224"/>
                  </a:lnTo>
                  <a:lnTo>
                    <a:pt x="5975" y="1942"/>
                  </a:lnTo>
                  <a:lnTo>
                    <a:pt x="5851" y="1670"/>
                  </a:lnTo>
                  <a:lnTo>
                    <a:pt x="5699" y="1411"/>
                  </a:lnTo>
                  <a:lnTo>
                    <a:pt x="5521" y="1164"/>
                  </a:lnTo>
                  <a:lnTo>
                    <a:pt x="5318" y="934"/>
                  </a:lnTo>
                  <a:lnTo>
                    <a:pt x="5090" y="723"/>
                  </a:lnTo>
                  <a:lnTo>
                    <a:pt x="4837" y="532"/>
                  </a:lnTo>
                  <a:lnTo>
                    <a:pt x="4565" y="368"/>
                  </a:lnTo>
                  <a:lnTo>
                    <a:pt x="4283" y="234"/>
                  </a:lnTo>
                  <a:lnTo>
                    <a:pt x="3995" y="131"/>
                  </a:lnTo>
                  <a:lnTo>
                    <a:pt x="3700" y="58"/>
                  </a:lnTo>
                  <a:lnTo>
                    <a:pt x="3403" y="15"/>
                  </a:lnTo>
                  <a:lnTo>
                    <a:pt x="3104" y="0"/>
                  </a:lnTo>
                  <a:lnTo>
                    <a:pt x="2806" y="15"/>
                  </a:lnTo>
                  <a:lnTo>
                    <a:pt x="2512" y="57"/>
                  </a:lnTo>
                  <a:lnTo>
                    <a:pt x="2223" y="127"/>
                  </a:lnTo>
                  <a:lnTo>
                    <a:pt x="1941" y="225"/>
                  </a:lnTo>
                  <a:lnTo>
                    <a:pt x="1669" y="350"/>
                  </a:lnTo>
                  <a:lnTo>
                    <a:pt x="1409" y="502"/>
                  </a:lnTo>
                  <a:lnTo>
                    <a:pt x="1163" y="679"/>
                  </a:lnTo>
                  <a:lnTo>
                    <a:pt x="933" y="882"/>
                  </a:lnTo>
                  <a:lnTo>
                    <a:pt x="722" y="1111"/>
                  </a:lnTo>
                  <a:lnTo>
                    <a:pt x="532" y="1365"/>
                  </a:lnTo>
                  <a:lnTo>
                    <a:pt x="367" y="1636"/>
                  </a:lnTo>
                  <a:lnTo>
                    <a:pt x="233" y="1918"/>
                  </a:lnTo>
                  <a:lnTo>
                    <a:pt x="130" y="2207"/>
                  </a:lnTo>
                  <a:lnTo>
                    <a:pt x="58" y="2501"/>
                  </a:lnTo>
                  <a:lnTo>
                    <a:pt x="14" y="2799"/>
                  </a:lnTo>
                  <a:lnTo>
                    <a:pt x="0" y="3098"/>
                  </a:lnTo>
                  <a:lnTo>
                    <a:pt x="13" y="3395"/>
                  </a:lnTo>
                  <a:lnTo>
                    <a:pt x="56" y="3690"/>
                  </a:lnTo>
                  <a:lnTo>
                    <a:pt x="126" y="3979"/>
                  </a:lnTo>
                  <a:lnTo>
                    <a:pt x="224" y="4261"/>
                  </a:lnTo>
                  <a:lnTo>
                    <a:pt x="349" y="4532"/>
                  </a:lnTo>
                  <a:lnTo>
                    <a:pt x="500" y="4792"/>
                  </a:lnTo>
                  <a:lnTo>
                    <a:pt x="678" y="5038"/>
                  </a:lnTo>
                  <a:lnTo>
                    <a:pt x="882" y="5267"/>
                  </a:lnTo>
                  <a:lnTo>
                    <a:pt x="1110" y="5479"/>
                  </a:lnTo>
                  <a:lnTo>
                    <a:pt x="1365" y="5670"/>
                  </a:lnTo>
                  <a:close/>
                </a:path>
              </a:pathLst>
            </a:custGeom>
            <a:solidFill>
              <a:srgbClr val="6683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73400" y="207000"/>
              <a:ext cx="467640" cy="461880"/>
            </a:xfrm>
            <a:custGeom>
              <a:avLst/>
              <a:gdLst/>
              <a:ahLst/>
              <a:rect l="l" t="t" r="r" b="b"/>
              <a:pathLst>
                <a:path w="6040" h="6041">
                  <a:moveTo>
                    <a:pt x="1329" y="5523"/>
                  </a:moveTo>
                  <a:lnTo>
                    <a:pt x="1593" y="5683"/>
                  </a:lnTo>
                  <a:lnTo>
                    <a:pt x="1867" y="5813"/>
                  </a:lnTo>
                  <a:lnTo>
                    <a:pt x="2148" y="5914"/>
                  </a:lnTo>
                  <a:lnTo>
                    <a:pt x="2435" y="5985"/>
                  </a:lnTo>
                  <a:lnTo>
                    <a:pt x="2726" y="6026"/>
                  </a:lnTo>
                  <a:lnTo>
                    <a:pt x="3017" y="6041"/>
                  </a:lnTo>
                  <a:lnTo>
                    <a:pt x="3306" y="6027"/>
                  </a:lnTo>
                  <a:lnTo>
                    <a:pt x="3593" y="5986"/>
                  </a:lnTo>
                  <a:lnTo>
                    <a:pt x="3875" y="5917"/>
                  </a:lnTo>
                  <a:lnTo>
                    <a:pt x="4149" y="5822"/>
                  </a:lnTo>
                  <a:lnTo>
                    <a:pt x="4414" y="5700"/>
                  </a:lnTo>
                  <a:lnTo>
                    <a:pt x="4667" y="5553"/>
                  </a:lnTo>
                  <a:lnTo>
                    <a:pt x="4906" y="5380"/>
                  </a:lnTo>
                  <a:lnTo>
                    <a:pt x="5129" y="5182"/>
                  </a:lnTo>
                  <a:lnTo>
                    <a:pt x="5336" y="4959"/>
                  </a:lnTo>
                  <a:lnTo>
                    <a:pt x="5522" y="4712"/>
                  </a:lnTo>
                  <a:lnTo>
                    <a:pt x="5681" y="4448"/>
                  </a:lnTo>
                  <a:lnTo>
                    <a:pt x="5812" y="4173"/>
                  </a:lnTo>
                  <a:lnTo>
                    <a:pt x="5912" y="3892"/>
                  </a:lnTo>
                  <a:lnTo>
                    <a:pt x="5984" y="3605"/>
                  </a:lnTo>
                  <a:lnTo>
                    <a:pt x="6027" y="3315"/>
                  </a:lnTo>
                  <a:lnTo>
                    <a:pt x="6040" y="3024"/>
                  </a:lnTo>
                  <a:lnTo>
                    <a:pt x="6027" y="2734"/>
                  </a:lnTo>
                  <a:lnTo>
                    <a:pt x="5985" y="2447"/>
                  </a:lnTo>
                  <a:lnTo>
                    <a:pt x="5917" y="2165"/>
                  </a:lnTo>
                  <a:lnTo>
                    <a:pt x="5821" y="1891"/>
                  </a:lnTo>
                  <a:lnTo>
                    <a:pt x="5700" y="1626"/>
                  </a:lnTo>
                  <a:lnTo>
                    <a:pt x="5552" y="1373"/>
                  </a:lnTo>
                  <a:lnTo>
                    <a:pt x="5379" y="1134"/>
                  </a:lnTo>
                  <a:lnTo>
                    <a:pt x="5181" y="910"/>
                  </a:lnTo>
                  <a:lnTo>
                    <a:pt x="4958" y="703"/>
                  </a:lnTo>
                  <a:lnTo>
                    <a:pt x="4711" y="518"/>
                  </a:lnTo>
                  <a:lnTo>
                    <a:pt x="4447" y="358"/>
                  </a:lnTo>
                  <a:lnTo>
                    <a:pt x="4172" y="228"/>
                  </a:lnTo>
                  <a:lnTo>
                    <a:pt x="3891" y="127"/>
                  </a:lnTo>
                  <a:lnTo>
                    <a:pt x="3605" y="56"/>
                  </a:lnTo>
                  <a:lnTo>
                    <a:pt x="3315" y="14"/>
                  </a:lnTo>
                  <a:lnTo>
                    <a:pt x="3023" y="0"/>
                  </a:lnTo>
                  <a:lnTo>
                    <a:pt x="2733" y="14"/>
                  </a:lnTo>
                  <a:lnTo>
                    <a:pt x="2447" y="55"/>
                  </a:lnTo>
                  <a:lnTo>
                    <a:pt x="2165" y="123"/>
                  </a:lnTo>
                  <a:lnTo>
                    <a:pt x="1891" y="219"/>
                  </a:lnTo>
                  <a:lnTo>
                    <a:pt x="1626" y="340"/>
                  </a:lnTo>
                  <a:lnTo>
                    <a:pt x="1372" y="488"/>
                  </a:lnTo>
                  <a:lnTo>
                    <a:pt x="1133" y="661"/>
                  </a:lnTo>
                  <a:lnTo>
                    <a:pt x="910" y="859"/>
                  </a:lnTo>
                  <a:lnTo>
                    <a:pt x="704" y="1082"/>
                  </a:lnTo>
                  <a:lnTo>
                    <a:pt x="519" y="1330"/>
                  </a:lnTo>
                  <a:lnTo>
                    <a:pt x="358" y="1593"/>
                  </a:lnTo>
                  <a:lnTo>
                    <a:pt x="228" y="1868"/>
                  </a:lnTo>
                  <a:lnTo>
                    <a:pt x="127" y="2149"/>
                  </a:lnTo>
                  <a:lnTo>
                    <a:pt x="56" y="2436"/>
                  </a:lnTo>
                  <a:lnTo>
                    <a:pt x="14" y="2725"/>
                  </a:lnTo>
                  <a:lnTo>
                    <a:pt x="0" y="3017"/>
                  </a:lnTo>
                  <a:lnTo>
                    <a:pt x="14" y="3307"/>
                  </a:lnTo>
                  <a:lnTo>
                    <a:pt x="54" y="3594"/>
                  </a:lnTo>
                  <a:lnTo>
                    <a:pt x="123" y="3876"/>
                  </a:lnTo>
                  <a:lnTo>
                    <a:pt x="218" y="4150"/>
                  </a:lnTo>
                  <a:lnTo>
                    <a:pt x="340" y="4415"/>
                  </a:lnTo>
                  <a:lnTo>
                    <a:pt x="487" y="4668"/>
                  </a:lnTo>
                  <a:lnTo>
                    <a:pt x="660" y="4907"/>
                  </a:lnTo>
                  <a:lnTo>
                    <a:pt x="858" y="5131"/>
                  </a:lnTo>
                  <a:lnTo>
                    <a:pt x="1081" y="5337"/>
                  </a:lnTo>
                  <a:lnTo>
                    <a:pt x="1329" y="5523"/>
                  </a:lnTo>
                  <a:close/>
                </a:path>
              </a:pathLst>
            </a:custGeom>
            <a:solidFill>
              <a:srgbClr val="698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82760" y="208800"/>
              <a:ext cx="455400" cy="450000"/>
            </a:xfrm>
            <a:custGeom>
              <a:avLst/>
              <a:gdLst/>
              <a:ahLst/>
              <a:rect l="l" t="t" r="r" b="b"/>
              <a:pathLst>
                <a:path w="5880" h="5880">
                  <a:moveTo>
                    <a:pt x="1294" y="5376"/>
                  </a:moveTo>
                  <a:lnTo>
                    <a:pt x="1551" y="5531"/>
                  </a:lnTo>
                  <a:lnTo>
                    <a:pt x="1818" y="5657"/>
                  </a:lnTo>
                  <a:lnTo>
                    <a:pt x="2092" y="5755"/>
                  </a:lnTo>
                  <a:lnTo>
                    <a:pt x="2371" y="5824"/>
                  </a:lnTo>
                  <a:lnTo>
                    <a:pt x="2653" y="5866"/>
                  </a:lnTo>
                  <a:lnTo>
                    <a:pt x="2936" y="5880"/>
                  </a:lnTo>
                  <a:lnTo>
                    <a:pt x="3219" y="5866"/>
                  </a:lnTo>
                  <a:lnTo>
                    <a:pt x="3499" y="5825"/>
                  </a:lnTo>
                  <a:lnTo>
                    <a:pt x="3772" y="5759"/>
                  </a:lnTo>
                  <a:lnTo>
                    <a:pt x="4040" y="5666"/>
                  </a:lnTo>
                  <a:lnTo>
                    <a:pt x="4297" y="5548"/>
                  </a:lnTo>
                  <a:lnTo>
                    <a:pt x="4544" y="5404"/>
                  </a:lnTo>
                  <a:lnTo>
                    <a:pt x="4776" y="5235"/>
                  </a:lnTo>
                  <a:lnTo>
                    <a:pt x="4994" y="5043"/>
                  </a:lnTo>
                  <a:lnTo>
                    <a:pt x="5194" y="4826"/>
                  </a:lnTo>
                  <a:lnTo>
                    <a:pt x="5376" y="4586"/>
                  </a:lnTo>
                  <a:lnTo>
                    <a:pt x="5531" y="4327"/>
                  </a:lnTo>
                  <a:lnTo>
                    <a:pt x="5658" y="4061"/>
                  </a:lnTo>
                  <a:lnTo>
                    <a:pt x="5756" y="3787"/>
                  </a:lnTo>
                  <a:lnTo>
                    <a:pt x="5826" y="3508"/>
                  </a:lnTo>
                  <a:lnTo>
                    <a:pt x="5867" y="3226"/>
                  </a:lnTo>
                  <a:lnTo>
                    <a:pt x="5880" y="2942"/>
                  </a:lnTo>
                  <a:lnTo>
                    <a:pt x="5867" y="2661"/>
                  </a:lnTo>
                  <a:lnTo>
                    <a:pt x="5827" y="2381"/>
                  </a:lnTo>
                  <a:lnTo>
                    <a:pt x="5760" y="2107"/>
                  </a:lnTo>
                  <a:lnTo>
                    <a:pt x="5667" y="1840"/>
                  </a:lnTo>
                  <a:lnTo>
                    <a:pt x="5549" y="1583"/>
                  </a:lnTo>
                  <a:lnTo>
                    <a:pt x="5405" y="1336"/>
                  </a:lnTo>
                  <a:lnTo>
                    <a:pt x="5237" y="1103"/>
                  </a:lnTo>
                  <a:lnTo>
                    <a:pt x="5044" y="885"/>
                  </a:lnTo>
                  <a:lnTo>
                    <a:pt x="4827" y="685"/>
                  </a:lnTo>
                  <a:lnTo>
                    <a:pt x="4587" y="505"/>
                  </a:lnTo>
                  <a:lnTo>
                    <a:pt x="4329" y="348"/>
                  </a:lnTo>
                  <a:lnTo>
                    <a:pt x="4062" y="222"/>
                  </a:lnTo>
                  <a:lnTo>
                    <a:pt x="3789" y="124"/>
                  </a:lnTo>
                  <a:lnTo>
                    <a:pt x="3509" y="54"/>
                  </a:lnTo>
                  <a:lnTo>
                    <a:pt x="3227" y="12"/>
                  </a:lnTo>
                  <a:lnTo>
                    <a:pt x="2944" y="0"/>
                  </a:lnTo>
                  <a:lnTo>
                    <a:pt x="2662" y="12"/>
                  </a:lnTo>
                  <a:lnTo>
                    <a:pt x="2382" y="53"/>
                  </a:lnTo>
                  <a:lnTo>
                    <a:pt x="2108" y="120"/>
                  </a:lnTo>
                  <a:lnTo>
                    <a:pt x="1841" y="212"/>
                  </a:lnTo>
                  <a:lnTo>
                    <a:pt x="1584" y="330"/>
                  </a:lnTo>
                  <a:lnTo>
                    <a:pt x="1337" y="475"/>
                  </a:lnTo>
                  <a:lnTo>
                    <a:pt x="1103" y="643"/>
                  </a:lnTo>
                  <a:lnTo>
                    <a:pt x="885" y="835"/>
                  </a:lnTo>
                  <a:lnTo>
                    <a:pt x="686" y="1052"/>
                  </a:lnTo>
                  <a:lnTo>
                    <a:pt x="505" y="1293"/>
                  </a:lnTo>
                  <a:lnTo>
                    <a:pt x="349" y="1551"/>
                  </a:lnTo>
                  <a:lnTo>
                    <a:pt x="222" y="1818"/>
                  </a:lnTo>
                  <a:lnTo>
                    <a:pt x="124" y="2092"/>
                  </a:lnTo>
                  <a:lnTo>
                    <a:pt x="55" y="2370"/>
                  </a:lnTo>
                  <a:lnTo>
                    <a:pt x="14" y="2653"/>
                  </a:lnTo>
                  <a:lnTo>
                    <a:pt x="0" y="2936"/>
                  </a:lnTo>
                  <a:lnTo>
                    <a:pt x="14" y="3219"/>
                  </a:lnTo>
                  <a:lnTo>
                    <a:pt x="54" y="3498"/>
                  </a:lnTo>
                  <a:lnTo>
                    <a:pt x="120" y="3771"/>
                  </a:lnTo>
                  <a:lnTo>
                    <a:pt x="212" y="4039"/>
                  </a:lnTo>
                  <a:lnTo>
                    <a:pt x="332" y="4297"/>
                  </a:lnTo>
                  <a:lnTo>
                    <a:pt x="475" y="4543"/>
                  </a:lnTo>
                  <a:lnTo>
                    <a:pt x="643" y="4776"/>
                  </a:lnTo>
                  <a:lnTo>
                    <a:pt x="835" y="4994"/>
                  </a:lnTo>
                  <a:lnTo>
                    <a:pt x="1052" y="5194"/>
                  </a:lnTo>
                  <a:lnTo>
                    <a:pt x="1294" y="5376"/>
                  </a:lnTo>
                  <a:close/>
                </a:path>
              </a:pathLst>
            </a:custGeom>
            <a:solidFill>
              <a:srgbClr val="6b89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91760" y="211320"/>
              <a:ext cx="443160" cy="437760"/>
            </a:xfrm>
            <a:custGeom>
              <a:avLst/>
              <a:gdLst/>
              <a:ahLst/>
              <a:rect l="l" t="t" r="r" b="b"/>
              <a:pathLst>
                <a:path w="5720" h="5721">
                  <a:moveTo>
                    <a:pt x="1260" y="5231"/>
                  </a:moveTo>
                  <a:lnTo>
                    <a:pt x="1510" y="5382"/>
                  </a:lnTo>
                  <a:lnTo>
                    <a:pt x="1769" y="5505"/>
                  </a:lnTo>
                  <a:lnTo>
                    <a:pt x="2036" y="5600"/>
                  </a:lnTo>
                  <a:lnTo>
                    <a:pt x="2307" y="5668"/>
                  </a:lnTo>
                  <a:lnTo>
                    <a:pt x="2581" y="5707"/>
                  </a:lnTo>
                  <a:lnTo>
                    <a:pt x="2857" y="5721"/>
                  </a:lnTo>
                  <a:lnTo>
                    <a:pt x="3131" y="5708"/>
                  </a:lnTo>
                  <a:lnTo>
                    <a:pt x="3403" y="5669"/>
                  </a:lnTo>
                  <a:lnTo>
                    <a:pt x="3670" y="5604"/>
                  </a:lnTo>
                  <a:lnTo>
                    <a:pt x="3929" y="5514"/>
                  </a:lnTo>
                  <a:lnTo>
                    <a:pt x="4180" y="5399"/>
                  </a:lnTo>
                  <a:lnTo>
                    <a:pt x="4419" y="5258"/>
                  </a:lnTo>
                  <a:lnTo>
                    <a:pt x="4646" y="5095"/>
                  </a:lnTo>
                  <a:lnTo>
                    <a:pt x="4858" y="4908"/>
                  </a:lnTo>
                  <a:lnTo>
                    <a:pt x="5053" y="4696"/>
                  </a:lnTo>
                  <a:lnTo>
                    <a:pt x="5230" y="4463"/>
                  </a:lnTo>
                  <a:lnTo>
                    <a:pt x="5380" y="4212"/>
                  </a:lnTo>
                  <a:lnTo>
                    <a:pt x="5504" y="3953"/>
                  </a:lnTo>
                  <a:lnTo>
                    <a:pt x="5598" y="3686"/>
                  </a:lnTo>
                  <a:lnTo>
                    <a:pt x="5666" y="3415"/>
                  </a:lnTo>
                  <a:lnTo>
                    <a:pt x="5706" y="3140"/>
                  </a:lnTo>
                  <a:lnTo>
                    <a:pt x="5720" y="2864"/>
                  </a:lnTo>
                  <a:lnTo>
                    <a:pt x="5707" y="2590"/>
                  </a:lnTo>
                  <a:lnTo>
                    <a:pt x="5668" y="2318"/>
                  </a:lnTo>
                  <a:lnTo>
                    <a:pt x="5603" y="2052"/>
                  </a:lnTo>
                  <a:lnTo>
                    <a:pt x="5512" y="1792"/>
                  </a:lnTo>
                  <a:lnTo>
                    <a:pt x="5397" y="1542"/>
                  </a:lnTo>
                  <a:lnTo>
                    <a:pt x="5257" y="1302"/>
                  </a:lnTo>
                  <a:lnTo>
                    <a:pt x="5093" y="1075"/>
                  </a:lnTo>
                  <a:lnTo>
                    <a:pt x="4906" y="863"/>
                  </a:lnTo>
                  <a:lnTo>
                    <a:pt x="4695" y="668"/>
                  </a:lnTo>
                  <a:lnTo>
                    <a:pt x="4462" y="493"/>
                  </a:lnTo>
                  <a:lnTo>
                    <a:pt x="4211" y="341"/>
                  </a:lnTo>
                  <a:lnTo>
                    <a:pt x="3952" y="217"/>
                  </a:lnTo>
                  <a:lnTo>
                    <a:pt x="3685" y="122"/>
                  </a:lnTo>
                  <a:lnTo>
                    <a:pt x="3414" y="55"/>
                  </a:lnTo>
                  <a:lnTo>
                    <a:pt x="3138" y="14"/>
                  </a:lnTo>
                  <a:lnTo>
                    <a:pt x="2863" y="0"/>
                  </a:lnTo>
                  <a:lnTo>
                    <a:pt x="2589" y="14"/>
                  </a:lnTo>
                  <a:lnTo>
                    <a:pt x="2317" y="54"/>
                  </a:lnTo>
                  <a:lnTo>
                    <a:pt x="2051" y="118"/>
                  </a:lnTo>
                  <a:lnTo>
                    <a:pt x="1790" y="208"/>
                  </a:lnTo>
                  <a:lnTo>
                    <a:pt x="1541" y="324"/>
                  </a:lnTo>
                  <a:lnTo>
                    <a:pt x="1300" y="463"/>
                  </a:lnTo>
                  <a:lnTo>
                    <a:pt x="1074" y="627"/>
                  </a:lnTo>
                  <a:lnTo>
                    <a:pt x="861" y="815"/>
                  </a:lnTo>
                  <a:lnTo>
                    <a:pt x="667" y="1025"/>
                  </a:lnTo>
                  <a:lnTo>
                    <a:pt x="491" y="1260"/>
                  </a:lnTo>
                  <a:lnTo>
                    <a:pt x="339" y="1510"/>
                  </a:lnTo>
                  <a:lnTo>
                    <a:pt x="216" y="1769"/>
                  </a:lnTo>
                  <a:lnTo>
                    <a:pt x="121" y="2036"/>
                  </a:lnTo>
                  <a:lnTo>
                    <a:pt x="54" y="2307"/>
                  </a:lnTo>
                  <a:lnTo>
                    <a:pt x="14" y="2583"/>
                  </a:lnTo>
                  <a:lnTo>
                    <a:pt x="0" y="2858"/>
                  </a:lnTo>
                  <a:lnTo>
                    <a:pt x="14" y="3132"/>
                  </a:lnTo>
                  <a:lnTo>
                    <a:pt x="52" y="3404"/>
                  </a:lnTo>
                  <a:lnTo>
                    <a:pt x="117" y="3670"/>
                  </a:lnTo>
                  <a:lnTo>
                    <a:pt x="207" y="3931"/>
                  </a:lnTo>
                  <a:lnTo>
                    <a:pt x="323" y="4181"/>
                  </a:lnTo>
                  <a:lnTo>
                    <a:pt x="463" y="4421"/>
                  </a:lnTo>
                  <a:lnTo>
                    <a:pt x="626" y="4647"/>
                  </a:lnTo>
                  <a:lnTo>
                    <a:pt x="814" y="4860"/>
                  </a:lnTo>
                  <a:lnTo>
                    <a:pt x="1025" y="5054"/>
                  </a:lnTo>
                  <a:lnTo>
                    <a:pt x="1260" y="5231"/>
                  </a:lnTo>
                  <a:close/>
                </a:path>
              </a:pathLst>
            </a:custGeom>
            <a:solidFill>
              <a:srgbClr val="6e8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01120" y="214200"/>
              <a:ext cx="431280" cy="425160"/>
            </a:xfrm>
            <a:custGeom>
              <a:avLst/>
              <a:gdLst/>
              <a:ahLst/>
              <a:rect l="l" t="t" r="r" b="b"/>
              <a:pathLst>
                <a:path w="5559" h="5560">
                  <a:moveTo>
                    <a:pt x="1224" y="5084"/>
                  </a:moveTo>
                  <a:lnTo>
                    <a:pt x="1466" y="5231"/>
                  </a:lnTo>
                  <a:lnTo>
                    <a:pt x="1719" y="5351"/>
                  </a:lnTo>
                  <a:lnTo>
                    <a:pt x="1978" y="5443"/>
                  </a:lnTo>
                  <a:lnTo>
                    <a:pt x="2241" y="5508"/>
                  </a:lnTo>
                  <a:lnTo>
                    <a:pt x="2508" y="5548"/>
                  </a:lnTo>
                  <a:lnTo>
                    <a:pt x="2776" y="5560"/>
                  </a:lnTo>
                  <a:lnTo>
                    <a:pt x="3043" y="5548"/>
                  </a:lnTo>
                  <a:lnTo>
                    <a:pt x="3308" y="5509"/>
                  </a:lnTo>
                  <a:lnTo>
                    <a:pt x="3566" y="5447"/>
                  </a:lnTo>
                  <a:lnTo>
                    <a:pt x="3819" y="5359"/>
                  </a:lnTo>
                  <a:lnTo>
                    <a:pt x="4062" y="5247"/>
                  </a:lnTo>
                  <a:lnTo>
                    <a:pt x="4295" y="5112"/>
                  </a:lnTo>
                  <a:lnTo>
                    <a:pt x="4516" y="4952"/>
                  </a:lnTo>
                  <a:lnTo>
                    <a:pt x="4722" y="4769"/>
                  </a:lnTo>
                  <a:lnTo>
                    <a:pt x="4912" y="4564"/>
                  </a:lnTo>
                  <a:lnTo>
                    <a:pt x="5083" y="4338"/>
                  </a:lnTo>
                  <a:lnTo>
                    <a:pt x="5230" y="4094"/>
                  </a:lnTo>
                  <a:lnTo>
                    <a:pt x="5350" y="3841"/>
                  </a:lnTo>
                  <a:lnTo>
                    <a:pt x="5442" y="3583"/>
                  </a:lnTo>
                  <a:lnTo>
                    <a:pt x="5507" y="3319"/>
                  </a:lnTo>
                  <a:lnTo>
                    <a:pt x="5547" y="3052"/>
                  </a:lnTo>
                  <a:lnTo>
                    <a:pt x="5559" y="2785"/>
                  </a:lnTo>
                  <a:lnTo>
                    <a:pt x="5547" y="2518"/>
                  </a:lnTo>
                  <a:lnTo>
                    <a:pt x="5508" y="2253"/>
                  </a:lnTo>
                  <a:lnTo>
                    <a:pt x="5446" y="1995"/>
                  </a:lnTo>
                  <a:lnTo>
                    <a:pt x="5358" y="1742"/>
                  </a:lnTo>
                  <a:lnTo>
                    <a:pt x="5246" y="1498"/>
                  </a:lnTo>
                  <a:lnTo>
                    <a:pt x="5111" y="1265"/>
                  </a:lnTo>
                  <a:lnTo>
                    <a:pt x="4951" y="1044"/>
                  </a:lnTo>
                  <a:lnTo>
                    <a:pt x="4768" y="839"/>
                  </a:lnTo>
                  <a:lnTo>
                    <a:pt x="4563" y="649"/>
                  </a:lnTo>
                  <a:lnTo>
                    <a:pt x="4337" y="479"/>
                  </a:lnTo>
                  <a:lnTo>
                    <a:pt x="4093" y="331"/>
                  </a:lnTo>
                  <a:lnTo>
                    <a:pt x="3840" y="211"/>
                  </a:lnTo>
                  <a:lnTo>
                    <a:pt x="3582" y="118"/>
                  </a:lnTo>
                  <a:lnTo>
                    <a:pt x="3318" y="54"/>
                  </a:lnTo>
                  <a:lnTo>
                    <a:pt x="3051" y="14"/>
                  </a:lnTo>
                  <a:lnTo>
                    <a:pt x="2783" y="0"/>
                  </a:lnTo>
                  <a:lnTo>
                    <a:pt x="2517" y="13"/>
                  </a:lnTo>
                  <a:lnTo>
                    <a:pt x="2252" y="51"/>
                  </a:lnTo>
                  <a:lnTo>
                    <a:pt x="1994" y="114"/>
                  </a:lnTo>
                  <a:lnTo>
                    <a:pt x="1741" y="202"/>
                  </a:lnTo>
                  <a:lnTo>
                    <a:pt x="1497" y="314"/>
                  </a:lnTo>
                  <a:lnTo>
                    <a:pt x="1264" y="450"/>
                  </a:lnTo>
                  <a:lnTo>
                    <a:pt x="1043" y="608"/>
                  </a:lnTo>
                  <a:lnTo>
                    <a:pt x="838" y="791"/>
                  </a:lnTo>
                  <a:lnTo>
                    <a:pt x="648" y="996"/>
                  </a:lnTo>
                  <a:lnTo>
                    <a:pt x="478" y="1224"/>
                  </a:lnTo>
                  <a:lnTo>
                    <a:pt x="330" y="1467"/>
                  </a:lnTo>
                  <a:lnTo>
                    <a:pt x="211" y="1719"/>
                  </a:lnTo>
                  <a:lnTo>
                    <a:pt x="118" y="1979"/>
                  </a:lnTo>
                  <a:lnTo>
                    <a:pt x="52" y="2242"/>
                  </a:lnTo>
                  <a:lnTo>
                    <a:pt x="13" y="2509"/>
                  </a:lnTo>
                  <a:lnTo>
                    <a:pt x="0" y="2777"/>
                  </a:lnTo>
                  <a:lnTo>
                    <a:pt x="13" y="3044"/>
                  </a:lnTo>
                  <a:lnTo>
                    <a:pt x="51" y="3309"/>
                  </a:lnTo>
                  <a:lnTo>
                    <a:pt x="114" y="3568"/>
                  </a:lnTo>
                  <a:lnTo>
                    <a:pt x="201" y="3820"/>
                  </a:lnTo>
                  <a:lnTo>
                    <a:pt x="314" y="4063"/>
                  </a:lnTo>
                  <a:lnTo>
                    <a:pt x="449" y="4297"/>
                  </a:lnTo>
                  <a:lnTo>
                    <a:pt x="608" y="4517"/>
                  </a:lnTo>
                  <a:lnTo>
                    <a:pt x="791" y="4724"/>
                  </a:lnTo>
                  <a:lnTo>
                    <a:pt x="995" y="4913"/>
                  </a:lnTo>
                  <a:lnTo>
                    <a:pt x="1224" y="5084"/>
                  </a:lnTo>
                  <a:close/>
                </a:path>
              </a:pathLst>
            </a:custGeom>
            <a:solidFill>
              <a:srgbClr val="708f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0480" y="216000"/>
              <a:ext cx="418320" cy="412920"/>
            </a:xfrm>
            <a:custGeom>
              <a:avLst/>
              <a:gdLst/>
              <a:ahLst/>
              <a:rect l="l" t="t" r="r" b="b"/>
              <a:pathLst>
                <a:path w="5399" h="5399">
                  <a:moveTo>
                    <a:pt x="1189" y="4936"/>
                  </a:moveTo>
                  <a:lnTo>
                    <a:pt x="1425" y="5079"/>
                  </a:lnTo>
                  <a:lnTo>
                    <a:pt x="1670" y="5195"/>
                  </a:lnTo>
                  <a:lnTo>
                    <a:pt x="1922" y="5285"/>
                  </a:lnTo>
                  <a:lnTo>
                    <a:pt x="2178" y="5349"/>
                  </a:lnTo>
                  <a:lnTo>
                    <a:pt x="2436" y="5386"/>
                  </a:lnTo>
                  <a:lnTo>
                    <a:pt x="2697" y="5399"/>
                  </a:lnTo>
                  <a:lnTo>
                    <a:pt x="2956" y="5386"/>
                  </a:lnTo>
                  <a:lnTo>
                    <a:pt x="3212" y="5350"/>
                  </a:lnTo>
                  <a:lnTo>
                    <a:pt x="3464" y="5288"/>
                  </a:lnTo>
                  <a:lnTo>
                    <a:pt x="3709" y="5203"/>
                  </a:lnTo>
                  <a:lnTo>
                    <a:pt x="3946" y="5095"/>
                  </a:lnTo>
                  <a:lnTo>
                    <a:pt x="4171" y="4963"/>
                  </a:lnTo>
                  <a:lnTo>
                    <a:pt x="4386" y="4808"/>
                  </a:lnTo>
                  <a:lnTo>
                    <a:pt x="4586" y="4631"/>
                  </a:lnTo>
                  <a:lnTo>
                    <a:pt x="4769" y="4431"/>
                  </a:lnTo>
                  <a:lnTo>
                    <a:pt x="4935" y="4211"/>
                  </a:lnTo>
                  <a:lnTo>
                    <a:pt x="5078" y="3974"/>
                  </a:lnTo>
                  <a:lnTo>
                    <a:pt x="5195" y="3730"/>
                  </a:lnTo>
                  <a:lnTo>
                    <a:pt x="5284" y="3478"/>
                  </a:lnTo>
                  <a:lnTo>
                    <a:pt x="5348" y="3221"/>
                  </a:lnTo>
                  <a:lnTo>
                    <a:pt x="5386" y="2963"/>
                  </a:lnTo>
                  <a:lnTo>
                    <a:pt x="5399" y="2703"/>
                  </a:lnTo>
                  <a:lnTo>
                    <a:pt x="5386" y="2443"/>
                  </a:lnTo>
                  <a:lnTo>
                    <a:pt x="5349" y="2187"/>
                  </a:lnTo>
                  <a:lnTo>
                    <a:pt x="5288" y="1936"/>
                  </a:lnTo>
                  <a:lnTo>
                    <a:pt x="5202" y="1691"/>
                  </a:lnTo>
                  <a:lnTo>
                    <a:pt x="5094" y="1455"/>
                  </a:lnTo>
                  <a:lnTo>
                    <a:pt x="4962" y="1228"/>
                  </a:lnTo>
                  <a:lnTo>
                    <a:pt x="4808" y="1013"/>
                  </a:lnTo>
                  <a:lnTo>
                    <a:pt x="4630" y="814"/>
                  </a:lnTo>
                  <a:lnTo>
                    <a:pt x="4432" y="630"/>
                  </a:lnTo>
                  <a:lnTo>
                    <a:pt x="4211" y="464"/>
                  </a:lnTo>
                  <a:lnTo>
                    <a:pt x="3974" y="320"/>
                  </a:lnTo>
                  <a:lnTo>
                    <a:pt x="3730" y="204"/>
                  </a:lnTo>
                  <a:lnTo>
                    <a:pt x="3478" y="114"/>
                  </a:lnTo>
                  <a:lnTo>
                    <a:pt x="3222" y="50"/>
                  </a:lnTo>
                  <a:lnTo>
                    <a:pt x="2962" y="13"/>
                  </a:lnTo>
                  <a:lnTo>
                    <a:pt x="2703" y="0"/>
                  </a:lnTo>
                  <a:lnTo>
                    <a:pt x="2443" y="12"/>
                  </a:lnTo>
                  <a:lnTo>
                    <a:pt x="2187" y="49"/>
                  </a:lnTo>
                  <a:lnTo>
                    <a:pt x="1935" y="111"/>
                  </a:lnTo>
                  <a:lnTo>
                    <a:pt x="1690" y="196"/>
                  </a:lnTo>
                  <a:lnTo>
                    <a:pt x="1454" y="304"/>
                  </a:lnTo>
                  <a:lnTo>
                    <a:pt x="1227" y="436"/>
                  </a:lnTo>
                  <a:lnTo>
                    <a:pt x="1014" y="590"/>
                  </a:lnTo>
                  <a:lnTo>
                    <a:pt x="814" y="768"/>
                  </a:lnTo>
                  <a:lnTo>
                    <a:pt x="630" y="967"/>
                  </a:lnTo>
                  <a:lnTo>
                    <a:pt x="464" y="1188"/>
                  </a:lnTo>
                  <a:lnTo>
                    <a:pt x="320" y="1424"/>
                  </a:lnTo>
                  <a:lnTo>
                    <a:pt x="205" y="1669"/>
                  </a:lnTo>
                  <a:lnTo>
                    <a:pt x="114" y="1920"/>
                  </a:lnTo>
                  <a:lnTo>
                    <a:pt x="50" y="2178"/>
                  </a:lnTo>
                  <a:lnTo>
                    <a:pt x="13" y="2437"/>
                  </a:lnTo>
                  <a:lnTo>
                    <a:pt x="0" y="2696"/>
                  </a:lnTo>
                  <a:lnTo>
                    <a:pt x="13" y="2956"/>
                  </a:lnTo>
                  <a:lnTo>
                    <a:pt x="49" y="3212"/>
                  </a:lnTo>
                  <a:lnTo>
                    <a:pt x="111" y="3464"/>
                  </a:lnTo>
                  <a:lnTo>
                    <a:pt x="196" y="3709"/>
                  </a:lnTo>
                  <a:lnTo>
                    <a:pt x="305" y="3945"/>
                  </a:lnTo>
                  <a:lnTo>
                    <a:pt x="436" y="4172"/>
                  </a:lnTo>
                  <a:lnTo>
                    <a:pt x="592" y="4386"/>
                  </a:lnTo>
                  <a:lnTo>
                    <a:pt x="768" y="4585"/>
                  </a:lnTo>
                  <a:lnTo>
                    <a:pt x="968" y="4769"/>
                  </a:lnTo>
                  <a:lnTo>
                    <a:pt x="1189" y="4936"/>
                  </a:lnTo>
                  <a:close/>
                </a:path>
              </a:pathLst>
            </a:custGeom>
            <a:solidFill>
              <a:srgbClr val="739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19840" y="218880"/>
              <a:ext cx="406080" cy="401040"/>
            </a:xfrm>
            <a:custGeom>
              <a:avLst/>
              <a:gdLst/>
              <a:ahLst/>
              <a:rect l="l" t="t" r="r" b="b"/>
              <a:pathLst>
                <a:path w="5237" h="5238">
                  <a:moveTo>
                    <a:pt x="1152" y="4789"/>
                  </a:moveTo>
                  <a:lnTo>
                    <a:pt x="1381" y="4928"/>
                  </a:lnTo>
                  <a:lnTo>
                    <a:pt x="1619" y="5040"/>
                  </a:lnTo>
                  <a:lnTo>
                    <a:pt x="1862" y="5127"/>
                  </a:lnTo>
                  <a:lnTo>
                    <a:pt x="2111" y="5189"/>
                  </a:lnTo>
                  <a:lnTo>
                    <a:pt x="2363" y="5225"/>
                  </a:lnTo>
                  <a:lnTo>
                    <a:pt x="2615" y="5238"/>
                  </a:lnTo>
                  <a:lnTo>
                    <a:pt x="2867" y="5226"/>
                  </a:lnTo>
                  <a:lnTo>
                    <a:pt x="3116" y="5190"/>
                  </a:lnTo>
                  <a:lnTo>
                    <a:pt x="3359" y="5131"/>
                  </a:lnTo>
                  <a:lnTo>
                    <a:pt x="3597" y="5049"/>
                  </a:lnTo>
                  <a:lnTo>
                    <a:pt x="3827" y="4942"/>
                  </a:lnTo>
                  <a:lnTo>
                    <a:pt x="4047" y="4815"/>
                  </a:lnTo>
                  <a:lnTo>
                    <a:pt x="4254" y="4665"/>
                  </a:lnTo>
                  <a:lnTo>
                    <a:pt x="4448" y="4494"/>
                  </a:lnTo>
                  <a:lnTo>
                    <a:pt x="4626" y="4300"/>
                  </a:lnTo>
                  <a:lnTo>
                    <a:pt x="4788" y="4087"/>
                  </a:lnTo>
                  <a:lnTo>
                    <a:pt x="4926" y="3857"/>
                  </a:lnTo>
                  <a:lnTo>
                    <a:pt x="5039" y="3619"/>
                  </a:lnTo>
                  <a:lnTo>
                    <a:pt x="5126" y="3374"/>
                  </a:lnTo>
                  <a:lnTo>
                    <a:pt x="5188" y="3126"/>
                  </a:lnTo>
                  <a:lnTo>
                    <a:pt x="5225" y="2875"/>
                  </a:lnTo>
                  <a:lnTo>
                    <a:pt x="5237" y="2623"/>
                  </a:lnTo>
                  <a:lnTo>
                    <a:pt x="5225" y="2371"/>
                  </a:lnTo>
                  <a:lnTo>
                    <a:pt x="5189" y="2122"/>
                  </a:lnTo>
                  <a:lnTo>
                    <a:pt x="5130" y="1878"/>
                  </a:lnTo>
                  <a:lnTo>
                    <a:pt x="5047" y="1641"/>
                  </a:lnTo>
                  <a:lnTo>
                    <a:pt x="4942" y="1411"/>
                  </a:lnTo>
                  <a:lnTo>
                    <a:pt x="4813" y="1191"/>
                  </a:lnTo>
                  <a:lnTo>
                    <a:pt x="4664" y="984"/>
                  </a:lnTo>
                  <a:lnTo>
                    <a:pt x="4492" y="789"/>
                  </a:lnTo>
                  <a:lnTo>
                    <a:pt x="4299" y="610"/>
                  </a:lnTo>
                  <a:lnTo>
                    <a:pt x="4085" y="450"/>
                  </a:lnTo>
                  <a:lnTo>
                    <a:pt x="3856" y="311"/>
                  </a:lnTo>
                  <a:lnTo>
                    <a:pt x="3617" y="198"/>
                  </a:lnTo>
                  <a:lnTo>
                    <a:pt x="3374" y="111"/>
                  </a:lnTo>
                  <a:lnTo>
                    <a:pt x="3125" y="49"/>
                  </a:lnTo>
                  <a:lnTo>
                    <a:pt x="2873" y="13"/>
                  </a:lnTo>
                  <a:lnTo>
                    <a:pt x="2621" y="0"/>
                  </a:lnTo>
                  <a:lnTo>
                    <a:pt x="2369" y="12"/>
                  </a:lnTo>
                  <a:lnTo>
                    <a:pt x="2121" y="48"/>
                  </a:lnTo>
                  <a:lnTo>
                    <a:pt x="1877" y="108"/>
                  </a:lnTo>
                  <a:lnTo>
                    <a:pt x="1639" y="189"/>
                  </a:lnTo>
                  <a:lnTo>
                    <a:pt x="1409" y="296"/>
                  </a:lnTo>
                  <a:lnTo>
                    <a:pt x="1189" y="423"/>
                  </a:lnTo>
                  <a:lnTo>
                    <a:pt x="982" y="573"/>
                  </a:lnTo>
                  <a:lnTo>
                    <a:pt x="788" y="744"/>
                  </a:lnTo>
                  <a:lnTo>
                    <a:pt x="610" y="938"/>
                  </a:lnTo>
                  <a:lnTo>
                    <a:pt x="449" y="1153"/>
                  </a:lnTo>
                  <a:lnTo>
                    <a:pt x="310" y="1381"/>
                  </a:lnTo>
                  <a:lnTo>
                    <a:pt x="197" y="1619"/>
                  </a:lnTo>
                  <a:lnTo>
                    <a:pt x="110" y="1863"/>
                  </a:lnTo>
                  <a:lnTo>
                    <a:pt x="49" y="2112"/>
                  </a:lnTo>
                  <a:lnTo>
                    <a:pt x="11" y="2363"/>
                  </a:lnTo>
                  <a:lnTo>
                    <a:pt x="0" y="2615"/>
                  </a:lnTo>
                  <a:lnTo>
                    <a:pt x="11" y="2867"/>
                  </a:lnTo>
                  <a:lnTo>
                    <a:pt x="47" y="3116"/>
                  </a:lnTo>
                  <a:lnTo>
                    <a:pt x="106" y="3361"/>
                  </a:lnTo>
                  <a:lnTo>
                    <a:pt x="189" y="3598"/>
                  </a:lnTo>
                  <a:lnTo>
                    <a:pt x="294" y="3827"/>
                  </a:lnTo>
                  <a:lnTo>
                    <a:pt x="423" y="4047"/>
                  </a:lnTo>
                  <a:lnTo>
                    <a:pt x="573" y="4255"/>
                  </a:lnTo>
                  <a:lnTo>
                    <a:pt x="744" y="4449"/>
                  </a:lnTo>
                  <a:lnTo>
                    <a:pt x="937" y="4628"/>
                  </a:lnTo>
                  <a:lnTo>
                    <a:pt x="1152" y="4789"/>
                  </a:lnTo>
                  <a:close/>
                </a:path>
              </a:pathLst>
            </a:custGeom>
            <a:solidFill>
              <a:srgbClr val="769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30280" y="221760"/>
              <a:ext cx="393120" cy="388440"/>
            </a:xfrm>
            <a:custGeom>
              <a:avLst/>
              <a:gdLst/>
              <a:ahLst/>
              <a:rect l="l" t="t" r="r" b="b"/>
              <a:pathLst>
                <a:path w="5076" h="5077">
                  <a:moveTo>
                    <a:pt x="1117" y="4643"/>
                  </a:moveTo>
                  <a:lnTo>
                    <a:pt x="1339" y="4777"/>
                  </a:lnTo>
                  <a:lnTo>
                    <a:pt x="1569" y="4886"/>
                  </a:lnTo>
                  <a:lnTo>
                    <a:pt x="1806" y="4970"/>
                  </a:lnTo>
                  <a:lnTo>
                    <a:pt x="2046" y="5030"/>
                  </a:lnTo>
                  <a:lnTo>
                    <a:pt x="2291" y="5066"/>
                  </a:lnTo>
                  <a:lnTo>
                    <a:pt x="2535" y="5077"/>
                  </a:lnTo>
                  <a:lnTo>
                    <a:pt x="2779" y="5066"/>
                  </a:lnTo>
                  <a:lnTo>
                    <a:pt x="3020" y="5031"/>
                  </a:lnTo>
                  <a:lnTo>
                    <a:pt x="3256" y="4973"/>
                  </a:lnTo>
                  <a:lnTo>
                    <a:pt x="3487" y="4893"/>
                  </a:lnTo>
                  <a:lnTo>
                    <a:pt x="3710" y="4790"/>
                  </a:lnTo>
                  <a:lnTo>
                    <a:pt x="3923" y="4667"/>
                  </a:lnTo>
                  <a:lnTo>
                    <a:pt x="4124" y="4521"/>
                  </a:lnTo>
                  <a:lnTo>
                    <a:pt x="4312" y="4354"/>
                  </a:lnTo>
                  <a:lnTo>
                    <a:pt x="4485" y="4167"/>
                  </a:lnTo>
                  <a:lnTo>
                    <a:pt x="4641" y="3960"/>
                  </a:lnTo>
                  <a:lnTo>
                    <a:pt x="4775" y="3737"/>
                  </a:lnTo>
                  <a:lnTo>
                    <a:pt x="4885" y="3507"/>
                  </a:lnTo>
                  <a:lnTo>
                    <a:pt x="4969" y="3270"/>
                  </a:lnTo>
                  <a:lnTo>
                    <a:pt x="5029" y="3030"/>
                  </a:lnTo>
                  <a:lnTo>
                    <a:pt x="5065" y="2785"/>
                  </a:lnTo>
                  <a:lnTo>
                    <a:pt x="5076" y="2541"/>
                  </a:lnTo>
                  <a:lnTo>
                    <a:pt x="5065" y="2297"/>
                  </a:lnTo>
                  <a:lnTo>
                    <a:pt x="5031" y="2056"/>
                  </a:lnTo>
                  <a:lnTo>
                    <a:pt x="4972" y="1820"/>
                  </a:lnTo>
                  <a:lnTo>
                    <a:pt x="4892" y="1589"/>
                  </a:lnTo>
                  <a:lnTo>
                    <a:pt x="4790" y="1366"/>
                  </a:lnTo>
                  <a:lnTo>
                    <a:pt x="4666" y="1154"/>
                  </a:lnTo>
                  <a:lnTo>
                    <a:pt x="4520" y="953"/>
                  </a:lnTo>
                  <a:lnTo>
                    <a:pt x="4354" y="764"/>
                  </a:lnTo>
                  <a:lnTo>
                    <a:pt x="4167" y="591"/>
                  </a:lnTo>
                  <a:lnTo>
                    <a:pt x="3960" y="436"/>
                  </a:lnTo>
                  <a:lnTo>
                    <a:pt x="3737" y="301"/>
                  </a:lnTo>
                  <a:lnTo>
                    <a:pt x="3507" y="191"/>
                  </a:lnTo>
                  <a:lnTo>
                    <a:pt x="3270" y="107"/>
                  </a:lnTo>
                  <a:lnTo>
                    <a:pt x="3029" y="48"/>
                  </a:lnTo>
                  <a:lnTo>
                    <a:pt x="2785" y="12"/>
                  </a:lnTo>
                  <a:lnTo>
                    <a:pt x="2541" y="0"/>
                  </a:lnTo>
                  <a:lnTo>
                    <a:pt x="2297" y="12"/>
                  </a:lnTo>
                  <a:lnTo>
                    <a:pt x="2056" y="47"/>
                  </a:lnTo>
                  <a:lnTo>
                    <a:pt x="1819" y="104"/>
                  </a:lnTo>
                  <a:lnTo>
                    <a:pt x="1589" y="184"/>
                  </a:lnTo>
                  <a:lnTo>
                    <a:pt x="1366" y="286"/>
                  </a:lnTo>
                  <a:lnTo>
                    <a:pt x="1153" y="410"/>
                  </a:lnTo>
                  <a:lnTo>
                    <a:pt x="952" y="556"/>
                  </a:lnTo>
                  <a:lnTo>
                    <a:pt x="764" y="722"/>
                  </a:lnTo>
                  <a:lnTo>
                    <a:pt x="591" y="909"/>
                  </a:lnTo>
                  <a:lnTo>
                    <a:pt x="436" y="1117"/>
                  </a:lnTo>
                  <a:lnTo>
                    <a:pt x="301" y="1340"/>
                  </a:lnTo>
                  <a:lnTo>
                    <a:pt x="191" y="1569"/>
                  </a:lnTo>
                  <a:lnTo>
                    <a:pt x="107" y="1806"/>
                  </a:lnTo>
                  <a:lnTo>
                    <a:pt x="48" y="2048"/>
                  </a:lnTo>
                  <a:lnTo>
                    <a:pt x="12" y="2291"/>
                  </a:lnTo>
                  <a:lnTo>
                    <a:pt x="0" y="2536"/>
                  </a:lnTo>
                  <a:lnTo>
                    <a:pt x="12" y="2779"/>
                  </a:lnTo>
                  <a:lnTo>
                    <a:pt x="46" y="3020"/>
                  </a:lnTo>
                  <a:lnTo>
                    <a:pt x="104" y="3257"/>
                  </a:lnTo>
                  <a:lnTo>
                    <a:pt x="184" y="3488"/>
                  </a:lnTo>
                  <a:lnTo>
                    <a:pt x="286" y="3710"/>
                  </a:lnTo>
                  <a:lnTo>
                    <a:pt x="409" y="3923"/>
                  </a:lnTo>
                  <a:lnTo>
                    <a:pt x="555" y="4125"/>
                  </a:lnTo>
                  <a:lnTo>
                    <a:pt x="722" y="4313"/>
                  </a:lnTo>
                  <a:lnTo>
                    <a:pt x="909" y="4485"/>
                  </a:lnTo>
                  <a:lnTo>
                    <a:pt x="1117" y="4643"/>
                  </a:lnTo>
                  <a:close/>
                </a:path>
              </a:pathLst>
            </a:custGeom>
            <a:solidFill>
              <a:srgbClr val="789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539280" y="223200"/>
              <a:ext cx="380160" cy="376560"/>
            </a:xfrm>
            <a:custGeom>
              <a:avLst/>
              <a:gdLst/>
              <a:ahLst/>
              <a:rect l="l" t="t" r="r" b="b"/>
              <a:pathLst>
                <a:path w="4917" h="4917">
                  <a:moveTo>
                    <a:pt x="1082" y="4495"/>
                  </a:moveTo>
                  <a:lnTo>
                    <a:pt x="1297" y="4624"/>
                  </a:lnTo>
                  <a:lnTo>
                    <a:pt x="1520" y="4731"/>
                  </a:lnTo>
                  <a:lnTo>
                    <a:pt x="1749" y="4813"/>
                  </a:lnTo>
                  <a:lnTo>
                    <a:pt x="1983" y="4870"/>
                  </a:lnTo>
                  <a:lnTo>
                    <a:pt x="2219" y="4905"/>
                  </a:lnTo>
                  <a:lnTo>
                    <a:pt x="2456" y="4917"/>
                  </a:lnTo>
                  <a:lnTo>
                    <a:pt x="2692" y="4905"/>
                  </a:lnTo>
                  <a:lnTo>
                    <a:pt x="2926" y="4872"/>
                  </a:lnTo>
                  <a:lnTo>
                    <a:pt x="3154" y="4816"/>
                  </a:lnTo>
                  <a:lnTo>
                    <a:pt x="3377" y="4738"/>
                  </a:lnTo>
                  <a:lnTo>
                    <a:pt x="3593" y="4639"/>
                  </a:lnTo>
                  <a:lnTo>
                    <a:pt x="3800" y="4519"/>
                  </a:lnTo>
                  <a:lnTo>
                    <a:pt x="3994" y="4379"/>
                  </a:lnTo>
                  <a:lnTo>
                    <a:pt x="4176" y="4217"/>
                  </a:lnTo>
                  <a:lnTo>
                    <a:pt x="4343" y="4037"/>
                  </a:lnTo>
                  <a:lnTo>
                    <a:pt x="4495" y="3836"/>
                  </a:lnTo>
                  <a:lnTo>
                    <a:pt x="4625" y="3620"/>
                  </a:lnTo>
                  <a:lnTo>
                    <a:pt x="4731" y="3397"/>
                  </a:lnTo>
                  <a:lnTo>
                    <a:pt x="4812" y="3168"/>
                  </a:lnTo>
                  <a:lnTo>
                    <a:pt x="4870" y="2934"/>
                  </a:lnTo>
                  <a:lnTo>
                    <a:pt x="4905" y="2698"/>
                  </a:lnTo>
                  <a:lnTo>
                    <a:pt x="4917" y="2461"/>
                  </a:lnTo>
                  <a:lnTo>
                    <a:pt x="4905" y="2225"/>
                  </a:lnTo>
                  <a:lnTo>
                    <a:pt x="4871" y="1991"/>
                  </a:lnTo>
                  <a:lnTo>
                    <a:pt x="4816" y="1763"/>
                  </a:lnTo>
                  <a:lnTo>
                    <a:pt x="4738" y="1539"/>
                  </a:lnTo>
                  <a:lnTo>
                    <a:pt x="4639" y="1324"/>
                  </a:lnTo>
                  <a:lnTo>
                    <a:pt x="4519" y="1117"/>
                  </a:lnTo>
                  <a:lnTo>
                    <a:pt x="4379" y="923"/>
                  </a:lnTo>
                  <a:lnTo>
                    <a:pt x="4217" y="740"/>
                  </a:lnTo>
                  <a:lnTo>
                    <a:pt x="4037" y="573"/>
                  </a:lnTo>
                  <a:lnTo>
                    <a:pt x="3836" y="422"/>
                  </a:lnTo>
                  <a:lnTo>
                    <a:pt x="3620" y="291"/>
                  </a:lnTo>
                  <a:lnTo>
                    <a:pt x="3397" y="186"/>
                  </a:lnTo>
                  <a:lnTo>
                    <a:pt x="3168" y="104"/>
                  </a:lnTo>
                  <a:lnTo>
                    <a:pt x="2934" y="47"/>
                  </a:lnTo>
                  <a:lnTo>
                    <a:pt x="2698" y="12"/>
                  </a:lnTo>
                  <a:lnTo>
                    <a:pt x="2461" y="0"/>
                  </a:lnTo>
                  <a:lnTo>
                    <a:pt x="2225" y="12"/>
                  </a:lnTo>
                  <a:lnTo>
                    <a:pt x="1991" y="46"/>
                  </a:lnTo>
                  <a:lnTo>
                    <a:pt x="1763" y="101"/>
                  </a:lnTo>
                  <a:lnTo>
                    <a:pt x="1539" y="179"/>
                  </a:lnTo>
                  <a:lnTo>
                    <a:pt x="1324" y="277"/>
                  </a:lnTo>
                  <a:lnTo>
                    <a:pt x="1117" y="398"/>
                  </a:lnTo>
                  <a:lnTo>
                    <a:pt x="923" y="538"/>
                  </a:lnTo>
                  <a:lnTo>
                    <a:pt x="740" y="700"/>
                  </a:lnTo>
                  <a:lnTo>
                    <a:pt x="573" y="880"/>
                  </a:lnTo>
                  <a:lnTo>
                    <a:pt x="422" y="1082"/>
                  </a:lnTo>
                  <a:lnTo>
                    <a:pt x="291" y="1297"/>
                  </a:lnTo>
                  <a:lnTo>
                    <a:pt x="186" y="1520"/>
                  </a:lnTo>
                  <a:lnTo>
                    <a:pt x="104" y="1749"/>
                  </a:lnTo>
                  <a:lnTo>
                    <a:pt x="47" y="1983"/>
                  </a:lnTo>
                  <a:lnTo>
                    <a:pt x="12" y="2219"/>
                  </a:lnTo>
                  <a:lnTo>
                    <a:pt x="0" y="2456"/>
                  </a:lnTo>
                  <a:lnTo>
                    <a:pt x="12" y="2692"/>
                  </a:lnTo>
                  <a:lnTo>
                    <a:pt x="46" y="2926"/>
                  </a:lnTo>
                  <a:lnTo>
                    <a:pt x="101" y="3154"/>
                  </a:lnTo>
                  <a:lnTo>
                    <a:pt x="179" y="3377"/>
                  </a:lnTo>
                  <a:lnTo>
                    <a:pt x="277" y="3593"/>
                  </a:lnTo>
                  <a:lnTo>
                    <a:pt x="398" y="3799"/>
                  </a:lnTo>
                  <a:lnTo>
                    <a:pt x="538" y="3994"/>
                  </a:lnTo>
                  <a:lnTo>
                    <a:pt x="700" y="4176"/>
                  </a:lnTo>
                  <a:lnTo>
                    <a:pt x="880" y="4343"/>
                  </a:lnTo>
                  <a:lnTo>
                    <a:pt x="1082" y="4495"/>
                  </a:lnTo>
                  <a:close/>
                </a:path>
              </a:pathLst>
            </a:custGeom>
            <a:solidFill>
              <a:srgbClr val="7b9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548640" y="226080"/>
              <a:ext cx="367920" cy="363600"/>
            </a:xfrm>
            <a:custGeom>
              <a:avLst/>
              <a:gdLst/>
              <a:ahLst/>
              <a:rect l="l" t="t" r="r" b="b"/>
              <a:pathLst>
                <a:path w="4755" h="4755">
                  <a:moveTo>
                    <a:pt x="1046" y="4347"/>
                  </a:moveTo>
                  <a:lnTo>
                    <a:pt x="1255" y="4472"/>
                  </a:lnTo>
                  <a:lnTo>
                    <a:pt x="1470" y="4574"/>
                  </a:lnTo>
                  <a:lnTo>
                    <a:pt x="1692" y="4654"/>
                  </a:lnTo>
                  <a:lnTo>
                    <a:pt x="1918" y="4710"/>
                  </a:lnTo>
                  <a:lnTo>
                    <a:pt x="2146" y="4743"/>
                  </a:lnTo>
                  <a:lnTo>
                    <a:pt x="2375" y="4755"/>
                  </a:lnTo>
                  <a:lnTo>
                    <a:pt x="2604" y="4744"/>
                  </a:lnTo>
                  <a:lnTo>
                    <a:pt x="2829" y="4712"/>
                  </a:lnTo>
                  <a:lnTo>
                    <a:pt x="3051" y="4657"/>
                  </a:lnTo>
                  <a:lnTo>
                    <a:pt x="3267" y="4583"/>
                  </a:lnTo>
                  <a:lnTo>
                    <a:pt x="3475" y="4487"/>
                  </a:lnTo>
                  <a:lnTo>
                    <a:pt x="3675" y="4371"/>
                  </a:lnTo>
                  <a:lnTo>
                    <a:pt x="3864" y="4234"/>
                  </a:lnTo>
                  <a:lnTo>
                    <a:pt x="4040" y="4079"/>
                  </a:lnTo>
                  <a:lnTo>
                    <a:pt x="4202" y="3904"/>
                  </a:lnTo>
                  <a:lnTo>
                    <a:pt x="4348" y="3709"/>
                  </a:lnTo>
                  <a:lnTo>
                    <a:pt x="4474" y="3501"/>
                  </a:lnTo>
                  <a:lnTo>
                    <a:pt x="4576" y="3285"/>
                  </a:lnTo>
                  <a:lnTo>
                    <a:pt x="4654" y="3063"/>
                  </a:lnTo>
                  <a:lnTo>
                    <a:pt x="4711" y="2837"/>
                  </a:lnTo>
                  <a:lnTo>
                    <a:pt x="4745" y="2609"/>
                  </a:lnTo>
                  <a:lnTo>
                    <a:pt x="4755" y="2380"/>
                  </a:lnTo>
                  <a:lnTo>
                    <a:pt x="4745" y="2152"/>
                  </a:lnTo>
                  <a:lnTo>
                    <a:pt x="4712" y="1926"/>
                  </a:lnTo>
                  <a:lnTo>
                    <a:pt x="4659" y="1704"/>
                  </a:lnTo>
                  <a:lnTo>
                    <a:pt x="4583" y="1488"/>
                  </a:lnTo>
                  <a:lnTo>
                    <a:pt x="4488" y="1280"/>
                  </a:lnTo>
                  <a:lnTo>
                    <a:pt x="4372" y="1080"/>
                  </a:lnTo>
                  <a:lnTo>
                    <a:pt x="4236" y="892"/>
                  </a:lnTo>
                  <a:lnTo>
                    <a:pt x="4079" y="715"/>
                  </a:lnTo>
                  <a:lnTo>
                    <a:pt x="3904" y="554"/>
                  </a:lnTo>
                  <a:lnTo>
                    <a:pt x="3710" y="408"/>
                  </a:lnTo>
                  <a:lnTo>
                    <a:pt x="3501" y="282"/>
                  </a:lnTo>
                  <a:lnTo>
                    <a:pt x="3285" y="180"/>
                  </a:lnTo>
                  <a:lnTo>
                    <a:pt x="3064" y="100"/>
                  </a:lnTo>
                  <a:lnTo>
                    <a:pt x="2839" y="44"/>
                  </a:lnTo>
                  <a:lnTo>
                    <a:pt x="2610" y="11"/>
                  </a:lnTo>
                  <a:lnTo>
                    <a:pt x="2380" y="0"/>
                  </a:lnTo>
                  <a:lnTo>
                    <a:pt x="2152" y="11"/>
                  </a:lnTo>
                  <a:lnTo>
                    <a:pt x="1927" y="42"/>
                  </a:lnTo>
                  <a:lnTo>
                    <a:pt x="1704" y="97"/>
                  </a:lnTo>
                  <a:lnTo>
                    <a:pt x="1489" y="172"/>
                  </a:lnTo>
                  <a:lnTo>
                    <a:pt x="1280" y="268"/>
                  </a:lnTo>
                  <a:lnTo>
                    <a:pt x="1081" y="384"/>
                  </a:lnTo>
                  <a:lnTo>
                    <a:pt x="892" y="520"/>
                  </a:lnTo>
                  <a:lnTo>
                    <a:pt x="717" y="676"/>
                  </a:lnTo>
                  <a:lnTo>
                    <a:pt x="554" y="851"/>
                  </a:lnTo>
                  <a:lnTo>
                    <a:pt x="408" y="1046"/>
                  </a:lnTo>
                  <a:lnTo>
                    <a:pt x="282" y="1253"/>
                  </a:lnTo>
                  <a:lnTo>
                    <a:pt x="180" y="1469"/>
                  </a:lnTo>
                  <a:lnTo>
                    <a:pt x="101" y="1691"/>
                  </a:lnTo>
                  <a:lnTo>
                    <a:pt x="45" y="1917"/>
                  </a:lnTo>
                  <a:lnTo>
                    <a:pt x="12" y="2145"/>
                  </a:lnTo>
                  <a:lnTo>
                    <a:pt x="0" y="2374"/>
                  </a:lnTo>
                  <a:lnTo>
                    <a:pt x="11" y="2602"/>
                  </a:lnTo>
                  <a:lnTo>
                    <a:pt x="44" y="2829"/>
                  </a:lnTo>
                  <a:lnTo>
                    <a:pt x="98" y="3050"/>
                  </a:lnTo>
                  <a:lnTo>
                    <a:pt x="172" y="3266"/>
                  </a:lnTo>
                  <a:lnTo>
                    <a:pt x="268" y="3474"/>
                  </a:lnTo>
                  <a:lnTo>
                    <a:pt x="384" y="3674"/>
                  </a:lnTo>
                  <a:lnTo>
                    <a:pt x="520" y="3862"/>
                  </a:lnTo>
                  <a:lnTo>
                    <a:pt x="676" y="4039"/>
                  </a:lnTo>
                  <a:lnTo>
                    <a:pt x="852" y="4200"/>
                  </a:lnTo>
                  <a:lnTo>
                    <a:pt x="1046" y="4347"/>
                  </a:lnTo>
                  <a:close/>
                </a:path>
              </a:pathLst>
            </a:custGeom>
            <a:solidFill>
              <a:srgbClr val="7e9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58000" y="228960"/>
              <a:ext cx="356040" cy="351720"/>
            </a:xfrm>
            <a:custGeom>
              <a:avLst/>
              <a:gdLst/>
              <a:ahLst/>
              <a:rect l="l" t="t" r="r" b="b"/>
              <a:pathLst>
                <a:path w="4595" h="4594">
                  <a:moveTo>
                    <a:pt x="1012" y="4201"/>
                  </a:moveTo>
                  <a:lnTo>
                    <a:pt x="1213" y="4322"/>
                  </a:lnTo>
                  <a:lnTo>
                    <a:pt x="1422" y="4421"/>
                  </a:lnTo>
                  <a:lnTo>
                    <a:pt x="1635" y="4498"/>
                  </a:lnTo>
                  <a:lnTo>
                    <a:pt x="1853" y="4552"/>
                  </a:lnTo>
                  <a:lnTo>
                    <a:pt x="2075" y="4584"/>
                  </a:lnTo>
                  <a:lnTo>
                    <a:pt x="2296" y="4594"/>
                  </a:lnTo>
                  <a:lnTo>
                    <a:pt x="2516" y="4584"/>
                  </a:lnTo>
                  <a:lnTo>
                    <a:pt x="2735" y="4553"/>
                  </a:lnTo>
                  <a:lnTo>
                    <a:pt x="2948" y="4500"/>
                  </a:lnTo>
                  <a:lnTo>
                    <a:pt x="3157" y="4428"/>
                  </a:lnTo>
                  <a:lnTo>
                    <a:pt x="3359" y="4335"/>
                  </a:lnTo>
                  <a:lnTo>
                    <a:pt x="3551" y="4223"/>
                  </a:lnTo>
                  <a:lnTo>
                    <a:pt x="3733" y="4092"/>
                  </a:lnTo>
                  <a:lnTo>
                    <a:pt x="3903" y="3941"/>
                  </a:lnTo>
                  <a:lnTo>
                    <a:pt x="4060" y="3772"/>
                  </a:lnTo>
                  <a:lnTo>
                    <a:pt x="4202" y="3585"/>
                  </a:lnTo>
                  <a:lnTo>
                    <a:pt x="4323" y="3383"/>
                  </a:lnTo>
                  <a:lnTo>
                    <a:pt x="4422" y="3174"/>
                  </a:lnTo>
                  <a:lnTo>
                    <a:pt x="4498" y="2961"/>
                  </a:lnTo>
                  <a:lnTo>
                    <a:pt x="4553" y="2742"/>
                  </a:lnTo>
                  <a:lnTo>
                    <a:pt x="4585" y="2521"/>
                  </a:lnTo>
                  <a:lnTo>
                    <a:pt x="4595" y="2299"/>
                  </a:lnTo>
                  <a:lnTo>
                    <a:pt x="4585" y="2079"/>
                  </a:lnTo>
                  <a:lnTo>
                    <a:pt x="4554" y="1861"/>
                  </a:lnTo>
                  <a:lnTo>
                    <a:pt x="4501" y="1647"/>
                  </a:lnTo>
                  <a:lnTo>
                    <a:pt x="4428" y="1438"/>
                  </a:lnTo>
                  <a:lnTo>
                    <a:pt x="4336" y="1236"/>
                  </a:lnTo>
                  <a:lnTo>
                    <a:pt x="4224" y="1044"/>
                  </a:lnTo>
                  <a:lnTo>
                    <a:pt x="4092" y="862"/>
                  </a:lnTo>
                  <a:lnTo>
                    <a:pt x="3941" y="692"/>
                  </a:lnTo>
                  <a:lnTo>
                    <a:pt x="3772" y="535"/>
                  </a:lnTo>
                  <a:lnTo>
                    <a:pt x="3585" y="394"/>
                  </a:lnTo>
                  <a:lnTo>
                    <a:pt x="3383" y="272"/>
                  </a:lnTo>
                  <a:lnTo>
                    <a:pt x="3175" y="173"/>
                  </a:lnTo>
                  <a:lnTo>
                    <a:pt x="2961" y="97"/>
                  </a:lnTo>
                  <a:lnTo>
                    <a:pt x="2742" y="42"/>
                  </a:lnTo>
                  <a:lnTo>
                    <a:pt x="2522" y="10"/>
                  </a:lnTo>
                  <a:lnTo>
                    <a:pt x="2301" y="0"/>
                  </a:lnTo>
                  <a:lnTo>
                    <a:pt x="2080" y="10"/>
                  </a:lnTo>
                  <a:lnTo>
                    <a:pt x="1862" y="41"/>
                  </a:lnTo>
                  <a:lnTo>
                    <a:pt x="1648" y="93"/>
                  </a:lnTo>
                  <a:lnTo>
                    <a:pt x="1439" y="166"/>
                  </a:lnTo>
                  <a:lnTo>
                    <a:pt x="1238" y="258"/>
                  </a:lnTo>
                  <a:lnTo>
                    <a:pt x="1045" y="371"/>
                  </a:lnTo>
                  <a:lnTo>
                    <a:pt x="863" y="502"/>
                  </a:lnTo>
                  <a:lnTo>
                    <a:pt x="692" y="653"/>
                  </a:lnTo>
                  <a:lnTo>
                    <a:pt x="536" y="823"/>
                  </a:lnTo>
                  <a:lnTo>
                    <a:pt x="395" y="1011"/>
                  </a:lnTo>
                  <a:lnTo>
                    <a:pt x="273" y="1212"/>
                  </a:lnTo>
                  <a:lnTo>
                    <a:pt x="174" y="1420"/>
                  </a:lnTo>
                  <a:lnTo>
                    <a:pt x="97" y="1634"/>
                  </a:lnTo>
                  <a:lnTo>
                    <a:pt x="43" y="1853"/>
                  </a:lnTo>
                  <a:lnTo>
                    <a:pt x="11" y="2073"/>
                  </a:lnTo>
                  <a:lnTo>
                    <a:pt x="0" y="2295"/>
                  </a:lnTo>
                  <a:lnTo>
                    <a:pt x="11" y="2515"/>
                  </a:lnTo>
                  <a:lnTo>
                    <a:pt x="43" y="2733"/>
                  </a:lnTo>
                  <a:lnTo>
                    <a:pt x="95" y="2948"/>
                  </a:lnTo>
                  <a:lnTo>
                    <a:pt x="167" y="3156"/>
                  </a:lnTo>
                  <a:lnTo>
                    <a:pt x="260" y="3358"/>
                  </a:lnTo>
                  <a:lnTo>
                    <a:pt x="372" y="3551"/>
                  </a:lnTo>
                  <a:lnTo>
                    <a:pt x="503" y="3732"/>
                  </a:lnTo>
                  <a:lnTo>
                    <a:pt x="654" y="3902"/>
                  </a:lnTo>
                  <a:lnTo>
                    <a:pt x="824" y="4060"/>
                  </a:lnTo>
                  <a:lnTo>
                    <a:pt x="1012" y="4201"/>
                  </a:lnTo>
                  <a:close/>
                </a:path>
              </a:pathLst>
            </a:custGeom>
            <a:solidFill>
              <a:srgbClr val="80a2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67360" y="230760"/>
              <a:ext cx="343080" cy="339480"/>
            </a:xfrm>
            <a:custGeom>
              <a:avLst/>
              <a:gdLst/>
              <a:ahLst/>
              <a:rect l="l" t="t" r="r" b="b"/>
              <a:pathLst>
                <a:path w="4434" h="4435">
                  <a:moveTo>
                    <a:pt x="975" y="4055"/>
                  </a:moveTo>
                  <a:lnTo>
                    <a:pt x="1169" y="4172"/>
                  </a:lnTo>
                  <a:lnTo>
                    <a:pt x="1370" y="4267"/>
                  </a:lnTo>
                  <a:lnTo>
                    <a:pt x="1577" y="4341"/>
                  </a:lnTo>
                  <a:lnTo>
                    <a:pt x="1788" y="4393"/>
                  </a:lnTo>
                  <a:lnTo>
                    <a:pt x="2000" y="4424"/>
                  </a:lnTo>
                  <a:lnTo>
                    <a:pt x="2214" y="4435"/>
                  </a:lnTo>
                  <a:lnTo>
                    <a:pt x="2427" y="4424"/>
                  </a:lnTo>
                  <a:lnTo>
                    <a:pt x="2637" y="4394"/>
                  </a:lnTo>
                  <a:lnTo>
                    <a:pt x="2844" y="4343"/>
                  </a:lnTo>
                  <a:lnTo>
                    <a:pt x="3045" y="4274"/>
                  </a:lnTo>
                  <a:lnTo>
                    <a:pt x="3240" y="4185"/>
                  </a:lnTo>
                  <a:lnTo>
                    <a:pt x="3426" y="4077"/>
                  </a:lnTo>
                  <a:lnTo>
                    <a:pt x="3601" y="3950"/>
                  </a:lnTo>
                  <a:lnTo>
                    <a:pt x="3765" y="3804"/>
                  </a:lnTo>
                  <a:lnTo>
                    <a:pt x="3916" y="3641"/>
                  </a:lnTo>
                  <a:lnTo>
                    <a:pt x="4053" y="3460"/>
                  </a:lnTo>
                  <a:lnTo>
                    <a:pt x="4170" y="3265"/>
                  </a:lnTo>
                  <a:lnTo>
                    <a:pt x="4266" y="3065"/>
                  </a:lnTo>
                  <a:lnTo>
                    <a:pt x="4339" y="2857"/>
                  </a:lnTo>
                  <a:lnTo>
                    <a:pt x="4391" y="2647"/>
                  </a:lnTo>
                  <a:lnTo>
                    <a:pt x="4423" y="2434"/>
                  </a:lnTo>
                  <a:lnTo>
                    <a:pt x="4434" y="2220"/>
                  </a:lnTo>
                  <a:lnTo>
                    <a:pt x="4423" y="2008"/>
                  </a:lnTo>
                  <a:lnTo>
                    <a:pt x="4393" y="1797"/>
                  </a:lnTo>
                  <a:lnTo>
                    <a:pt x="4342" y="1590"/>
                  </a:lnTo>
                  <a:lnTo>
                    <a:pt x="4272" y="1389"/>
                  </a:lnTo>
                  <a:lnTo>
                    <a:pt x="4183" y="1195"/>
                  </a:lnTo>
                  <a:lnTo>
                    <a:pt x="4076" y="1009"/>
                  </a:lnTo>
                  <a:lnTo>
                    <a:pt x="3948" y="833"/>
                  </a:lnTo>
                  <a:lnTo>
                    <a:pt x="3802" y="668"/>
                  </a:lnTo>
                  <a:lnTo>
                    <a:pt x="3639" y="517"/>
                  </a:lnTo>
                  <a:lnTo>
                    <a:pt x="3458" y="381"/>
                  </a:lnTo>
                  <a:lnTo>
                    <a:pt x="3263" y="263"/>
                  </a:lnTo>
                  <a:lnTo>
                    <a:pt x="3062" y="168"/>
                  </a:lnTo>
                  <a:lnTo>
                    <a:pt x="2855" y="94"/>
                  </a:lnTo>
                  <a:lnTo>
                    <a:pt x="2645" y="42"/>
                  </a:lnTo>
                  <a:lnTo>
                    <a:pt x="2432" y="10"/>
                  </a:lnTo>
                  <a:lnTo>
                    <a:pt x="2218" y="0"/>
                  </a:lnTo>
                  <a:lnTo>
                    <a:pt x="2006" y="10"/>
                  </a:lnTo>
                  <a:lnTo>
                    <a:pt x="1795" y="41"/>
                  </a:lnTo>
                  <a:lnTo>
                    <a:pt x="1589" y="91"/>
                  </a:lnTo>
                  <a:lnTo>
                    <a:pt x="1387" y="161"/>
                  </a:lnTo>
                  <a:lnTo>
                    <a:pt x="1193" y="251"/>
                  </a:lnTo>
                  <a:lnTo>
                    <a:pt x="1007" y="358"/>
                  </a:lnTo>
                  <a:lnTo>
                    <a:pt x="831" y="486"/>
                  </a:lnTo>
                  <a:lnTo>
                    <a:pt x="667" y="631"/>
                  </a:lnTo>
                  <a:lnTo>
                    <a:pt x="516" y="795"/>
                  </a:lnTo>
                  <a:lnTo>
                    <a:pt x="380" y="977"/>
                  </a:lnTo>
                  <a:lnTo>
                    <a:pt x="262" y="1170"/>
                  </a:lnTo>
                  <a:lnTo>
                    <a:pt x="166" y="1371"/>
                  </a:lnTo>
                  <a:lnTo>
                    <a:pt x="93" y="1578"/>
                  </a:lnTo>
                  <a:lnTo>
                    <a:pt x="41" y="1789"/>
                  </a:lnTo>
                  <a:lnTo>
                    <a:pt x="9" y="2001"/>
                  </a:lnTo>
                  <a:lnTo>
                    <a:pt x="0" y="2215"/>
                  </a:lnTo>
                  <a:lnTo>
                    <a:pt x="9" y="2428"/>
                  </a:lnTo>
                  <a:lnTo>
                    <a:pt x="40" y="2638"/>
                  </a:lnTo>
                  <a:lnTo>
                    <a:pt x="90" y="2846"/>
                  </a:lnTo>
                  <a:lnTo>
                    <a:pt x="160" y="3046"/>
                  </a:lnTo>
                  <a:lnTo>
                    <a:pt x="249" y="3241"/>
                  </a:lnTo>
                  <a:lnTo>
                    <a:pt x="358" y="3427"/>
                  </a:lnTo>
                  <a:lnTo>
                    <a:pt x="484" y="3602"/>
                  </a:lnTo>
                  <a:lnTo>
                    <a:pt x="630" y="3767"/>
                  </a:lnTo>
                  <a:lnTo>
                    <a:pt x="794" y="3918"/>
                  </a:lnTo>
                  <a:lnTo>
                    <a:pt x="975" y="4055"/>
                  </a:lnTo>
                  <a:close/>
                </a:path>
              </a:pathLst>
            </a:custGeom>
            <a:solidFill>
              <a:srgbClr val="83a5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76360" y="233640"/>
              <a:ext cx="330840" cy="326880"/>
            </a:xfrm>
            <a:custGeom>
              <a:avLst/>
              <a:gdLst/>
              <a:ahLst/>
              <a:rect l="l" t="t" r="r" b="b"/>
              <a:pathLst>
                <a:path w="4272" h="4273">
                  <a:moveTo>
                    <a:pt x="941" y="3908"/>
                  </a:moveTo>
                  <a:lnTo>
                    <a:pt x="1128" y="4020"/>
                  </a:lnTo>
                  <a:lnTo>
                    <a:pt x="1321" y="4112"/>
                  </a:lnTo>
                  <a:lnTo>
                    <a:pt x="1520" y="4183"/>
                  </a:lnTo>
                  <a:lnTo>
                    <a:pt x="1723" y="4233"/>
                  </a:lnTo>
                  <a:lnTo>
                    <a:pt x="1928" y="4264"/>
                  </a:lnTo>
                  <a:lnTo>
                    <a:pt x="2134" y="4273"/>
                  </a:lnTo>
                  <a:lnTo>
                    <a:pt x="2340" y="4264"/>
                  </a:lnTo>
                  <a:lnTo>
                    <a:pt x="2543" y="4234"/>
                  </a:lnTo>
                  <a:lnTo>
                    <a:pt x="2742" y="4185"/>
                  </a:lnTo>
                  <a:lnTo>
                    <a:pt x="2935" y="4118"/>
                  </a:lnTo>
                  <a:lnTo>
                    <a:pt x="3123" y="4032"/>
                  </a:lnTo>
                  <a:lnTo>
                    <a:pt x="3302" y="3928"/>
                  </a:lnTo>
                  <a:lnTo>
                    <a:pt x="3471" y="3805"/>
                  </a:lnTo>
                  <a:lnTo>
                    <a:pt x="3629" y="3665"/>
                  </a:lnTo>
                  <a:lnTo>
                    <a:pt x="3775" y="3508"/>
                  </a:lnTo>
                  <a:lnTo>
                    <a:pt x="3907" y="3333"/>
                  </a:lnTo>
                  <a:lnTo>
                    <a:pt x="4019" y="3145"/>
                  </a:lnTo>
                  <a:lnTo>
                    <a:pt x="4111" y="2952"/>
                  </a:lnTo>
                  <a:lnTo>
                    <a:pt x="4182" y="2753"/>
                  </a:lnTo>
                  <a:lnTo>
                    <a:pt x="4232" y="2550"/>
                  </a:lnTo>
                  <a:lnTo>
                    <a:pt x="4263" y="2345"/>
                  </a:lnTo>
                  <a:lnTo>
                    <a:pt x="4272" y="2139"/>
                  </a:lnTo>
                  <a:lnTo>
                    <a:pt x="4263" y="1933"/>
                  </a:lnTo>
                  <a:lnTo>
                    <a:pt x="4233" y="1730"/>
                  </a:lnTo>
                  <a:lnTo>
                    <a:pt x="4185" y="1530"/>
                  </a:lnTo>
                  <a:lnTo>
                    <a:pt x="4117" y="1337"/>
                  </a:lnTo>
                  <a:lnTo>
                    <a:pt x="4031" y="1150"/>
                  </a:lnTo>
                  <a:lnTo>
                    <a:pt x="3927" y="970"/>
                  </a:lnTo>
                  <a:lnTo>
                    <a:pt x="3805" y="801"/>
                  </a:lnTo>
                  <a:lnTo>
                    <a:pt x="3664" y="643"/>
                  </a:lnTo>
                  <a:lnTo>
                    <a:pt x="3507" y="497"/>
                  </a:lnTo>
                  <a:lnTo>
                    <a:pt x="3333" y="366"/>
                  </a:lnTo>
                  <a:lnTo>
                    <a:pt x="3146" y="253"/>
                  </a:lnTo>
                  <a:lnTo>
                    <a:pt x="2951" y="161"/>
                  </a:lnTo>
                  <a:lnTo>
                    <a:pt x="2752" y="90"/>
                  </a:lnTo>
                  <a:lnTo>
                    <a:pt x="2549" y="40"/>
                  </a:lnTo>
                  <a:lnTo>
                    <a:pt x="2344" y="9"/>
                  </a:lnTo>
                  <a:lnTo>
                    <a:pt x="2139" y="0"/>
                  </a:lnTo>
                  <a:lnTo>
                    <a:pt x="1934" y="9"/>
                  </a:lnTo>
                  <a:lnTo>
                    <a:pt x="1731" y="39"/>
                  </a:lnTo>
                  <a:lnTo>
                    <a:pt x="1532" y="88"/>
                  </a:lnTo>
                  <a:lnTo>
                    <a:pt x="1337" y="155"/>
                  </a:lnTo>
                  <a:lnTo>
                    <a:pt x="1150" y="241"/>
                  </a:lnTo>
                  <a:lnTo>
                    <a:pt x="971" y="345"/>
                  </a:lnTo>
                  <a:lnTo>
                    <a:pt x="801" y="467"/>
                  </a:lnTo>
                  <a:lnTo>
                    <a:pt x="643" y="608"/>
                  </a:lnTo>
                  <a:lnTo>
                    <a:pt x="497" y="765"/>
                  </a:lnTo>
                  <a:lnTo>
                    <a:pt x="367" y="940"/>
                  </a:lnTo>
                  <a:lnTo>
                    <a:pt x="253" y="1127"/>
                  </a:lnTo>
                  <a:lnTo>
                    <a:pt x="161" y="1321"/>
                  </a:lnTo>
                  <a:lnTo>
                    <a:pt x="90" y="1520"/>
                  </a:lnTo>
                  <a:lnTo>
                    <a:pt x="40" y="1723"/>
                  </a:lnTo>
                  <a:lnTo>
                    <a:pt x="9" y="1928"/>
                  </a:lnTo>
                  <a:lnTo>
                    <a:pt x="0" y="2133"/>
                  </a:lnTo>
                  <a:lnTo>
                    <a:pt x="9" y="2338"/>
                  </a:lnTo>
                  <a:lnTo>
                    <a:pt x="39" y="2541"/>
                  </a:lnTo>
                  <a:lnTo>
                    <a:pt x="87" y="2741"/>
                  </a:lnTo>
                  <a:lnTo>
                    <a:pt x="155" y="2935"/>
                  </a:lnTo>
                  <a:lnTo>
                    <a:pt x="241" y="3123"/>
                  </a:lnTo>
                  <a:lnTo>
                    <a:pt x="345" y="3302"/>
                  </a:lnTo>
                  <a:lnTo>
                    <a:pt x="468" y="3472"/>
                  </a:lnTo>
                  <a:lnTo>
                    <a:pt x="608" y="3630"/>
                  </a:lnTo>
                  <a:lnTo>
                    <a:pt x="765" y="3776"/>
                  </a:lnTo>
                  <a:lnTo>
                    <a:pt x="941" y="3908"/>
                  </a:lnTo>
                  <a:close/>
                </a:path>
              </a:pathLst>
            </a:custGeom>
            <a:solidFill>
              <a:srgbClr val="86a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85720" y="236160"/>
              <a:ext cx="318960" cy="313920"/>
            </a:xfrm>
            <a:custGeom>
              <a:avLst/>
              <a:gdLst/>
              <a:ahLst/>
              <a:rect l="l" t="t" r="r" b="b"/>
              <a:pathLst>
                <a:path w="4112" h="4112">
                  <a:moveTo>
                    <a:pt x="905" y="3760"/>
                  </a:moveTo>
                  <a:lnTo>
                    <a:pt x="1084" y="3868"/>
                  </a:lnTo>
                  <a:lnTo>
                    <a:pt x="1270" y="3956"/>
                  </a:lnTo>
                  <a:lnTo>
                    <a:pt x="1463" y="4025"/>
                  </a:lnTo>
                  <a:lnTo>
                    <a:pt x="1657" y="4073"/>
                  </a:lnTo>
                  <a:lnTo>
                    <a:pt x="1855" y="4102"/>
                  </a:lnTo>
                  <a:lnTo>
                    <a:pt x="2054" y="4112"/>
                  </a:lnTo>
                  <a:lnTo>
                    <a:pt x="2251" y="4103"/>
                  </a:lnTo>
                  <a:lnTo>
                    <a:pt x="2446" y="4074"/>
                  </a:lnTo>
                  <a:lnTo>
                    <a:pt x="2639" y="4028"/>
                  </a:lnTo>
                  <a:lnTo>
                    <a:pt x="2825" y="3963"/>
                  </a:lnTo>
                  <a:lnTo>
                    <a:pt x="3005" y="3880"/>
                  </a:lnTo>
                  <a:lnTo>
                    <a:pt x="3178" y="3780"/>
                  </a:lnTo>
                  <a:lnTo>
                    <a:pt x="3340" y="3662"/>
                  </a:lnTo>
                  <a:lnTo>
                    <a:pt x="3493" y="3527"/>
                  </a:lnTo>
                  <a:lnTo>
                    <a:pt x="3634" y="3376"/>
                  </a:lnTo>
                  <a:lnTo>
                    <a:pt x="3760" y="3208"/>
                  </a:lnTo>
                  <a:lnTo>
                    <a:pt x="3869" y="3027"/>
                  </a:lnTo>
                  <a:lnTo>
                    <a:pt x="3957" y="2841"/>
                  </a:lnTo>
                  <a:lnTo>
                    <a:pt x="4025" y="2649"/>
                  </a:lnTo>
                  <a:lnTo>
                    <a:pt x="4074" y="2454"/>
                  </a:lnTo>
                  <a:lnTo>
                    <a:pt x="4103" y="2256"/>
                  </a:lnTo>
                  <a:lnTo>
                    <a:pt x="4112" y="2058"/>
                  </a:lnTo>
                  <a:lnTo>
                    <a:pt x="4104" y="1861"/>
                  </a:lnTo>
                  <a:lnTo>
                    <a:pt x="4075" y="1665"/>
                  </a:lnTo>
                  <a:lnTo>
                    <a:pt x="4028" y="1473"/>
                  </a:lnTo>
                  <a:lnTo>
                    <a:pt x="3963" y="1287"/>
                  </a:lnTo>
                  <a:lnTo>
                    <a:pt x="3880" y="1106"/>
                  </a:lnTo>
                  <a:lnTo>
                    <a:pt x="3780" y="934"/>
                  </a:lnTo>
                  <a:lnTo>
                    <a:pt x="3662" y="771"/>
                  </a:lnTo>
                  <a:lnTo>
                    <a:pt x="3527" y="618"/>
                  </a:lnTo>
                  <a:lnTo>
                    <a:pt x="3375" y="478"/>
                  </a:lnTo>
                  <a:lnTo>
                    <a:pt x="3207" y="352"/>
                  </a:lnTo>
                  <a:lnTo>
                    <a:pt x="3027" y="243"/>
                  </a:lnTo>
                  <a:lnTo>
                    <a:pt x="2841" y="155"/>
                  </a:lnTo>
                  <a:lnTo>
                    <a:pt x="2648" y="87"/>
                  </a:lnTo>
                  <a:lnTo>
                    <a:pt x="2454" y="38"/>
                  </a:lnTo>
                  <a:lnTo>
                    <a:pt x="2256" y="9"/>
                  </a:lnTo>
                  <a:lnTo>
                    <a:pt x="2058" y="0"/>
                  </a:lnTo>
                  <a:lnTo>
                    <a:pt x="1860" y="9"/>
                  </a:lnTo>
                  <a:lnTo>
                    <a:pt x="1665" y="37"/>
                  </a:lnTo>
                  <a:lnTo>
                    <a:pt x="1473" y="84"/>
                  </a:lnTo>
                  <a:lnTo>
                    <a:pt x="1286" y="148"/>
                  </a:lnTo>
                  <a:lnTo>
                    <a:pt x="1107" y="231"/>
                  </a:lnTo>
                  <a:lnTo>
                    <a:pt x="934" y="332"/>
                  </a:lnTo>
                  <a:lnTo>
                    <a:pt x="772" y="450"/>
                  </a:lnTo>
                  <a:lnTo>
                    <a:pt x="619" y="585"/>
                  </a:lnTo>
                  <a:lnTo>
                    <a:pt x="478" y="736"/>
                  </a:lnTo>
                  <a:lnTo>
                    <a:pt x="353" y="905"/>
                  </a:lnTo>
                  <a:lnTo>
                    <a:pt x="243" y="1085"/>
                  </a:lnTo>
                  <a:lnTo>
                    <a:pt x="155" y="1271"/>
                  </a:lnTo>
                  <a:lnTo>
                    <a:pt x="86" y="1463"/>
                  </a:lnTo>
                  <a:lnTo>
                    <a:pt x="38" y="1658"/>
                  </a:lnTo>
                  <a:lnTo>
                    <a:pt x="10" y="1856"/>
                  </a:lnTo>
                  <a:lnTo>
                    <a:pt x="0" y="2053"/>
                  </a:lnTo>
                  <a:lnTo>
                    <a:pt x="8" y="2251"/>
                  </a:lnTo>
                  <a:lnTo>
                    <a:pt x="37" y="2447"/>
                  </a:lnTo>
                  <a:lnTo>
                    <a:pt x="84" y="2638"/>
                  </a:lnTo>
                  <a:lnTo>
                    <a:pt x="149" y="2825"/>
                  </a:lnTo>
                  <a:lnTo>
                    <a:pt x="232" y="3005"/>
                  </a:lnTo>
                  <a:lnTo>
                    <a:pt x="332" y="3177"/>
                  </a:lnTo>
                  <a:lnTo>
                    <a:pt x="450" y="3340"/>
                  </a:lnTo>
                  <a:lnTo>
                    <a:pt x="585" y="3493"/>
                  </a:lnTo>
                  <a:lnTo>
                    <a:pt x="736" y="3633"/>
                  </a:lnTo>
                  <a:lnTo>
                    <a:pt x="905" y="3760"/>
                  </a:lnTo>
                  <a:close/>
                </a:path>
              </a:pathLst>
            </a:custGeom>
            <a:solidFill>
              <a:srgbClr val="89a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5080" y="237960"/>
              <a:ext cx="306000" cy="302760"/>
            </a:xfrm>
            <a:custGeom>
              <a:avLst/>
              <a:gdLst/>
              <a:ahLst/>
              <a:rect l="l" t="t" r="r" b="b"/>
              <a:pathLst>
                <a:path w="3952" h="3953">
                  <a:moveTo>
                    <a:pt x="870" y="3614"/>
                  </a:moveTo>
                  <a:lnTo>
                    <a:pt x="1042" y="3718"/>
                  </a:lnTo>
                  <a:lnTo>
                    <a:pt x="1222" y="3803"/>
                  </a:lnTo>
                  <a:lnTo>
                    <a:pt x="1406" y="3869"/>
                  </a:lnTo>
                  <a:lnTo>
                    <a:pt x="1594" y="3916"/>
                  </a:lnTo>
                  <a:lnTo>
                    <a:pt x="1783" y="3943"/>
                  </a:lnTo>
                  <a:lnTo>
                    <a:pt x="1973" y="3953"/>
                  </a:lnTo>
                  <a:lnTo>
                    <a:pt x="2163" y="3943"/>
                  </a:lnTo>
                  <a:lnTo>
                    <a:pt x="2351" y="3917"/>
                  </a:lnTo>
                  <a:lnTo>
                    <a:pt x="2535" y="3872"/>
                  </a:lnTo>
                  <a:lnTo>
                    <a:pt x="2714" y="3809"/>
                  </a:lnTo>
                  <a:lnTo>
                    <a:pt x="2888" y="3730"/>
                  </a:lnTo>
                  <a:lnTo>
                    <a:pt x="3053" y="3633"/>
                  </a:lnTo>
                  <a:lnTo>
                    <a:pt x="3210" y="3520"/>
                  </a:lnTo>
                  <a:lnTo>
                    <a:pt x="3356" y="3391"/>
                  </a:lnTo>
                  <a:lnTo>
                    <a:pt x="3490" y="3245"/>
                  </a:lnTo>
                  <a:lnTo>
                    <a:pt x="3613" y="3083"/>
                  </a:lnTo>
                  <a:lnTo>
                    <a:pt x="3717" y="2910"/>
                  </a:lnTo>
                  <a:lnTo>
                    <a:pt x="3802" y="2730"/>
                  </a:lnTo>
                  <a:lnTo>
                    <a:pt x="3868" y="2547"/>
                  </a:lnTo>
                  <a:lnTo>
                    <a:pt x="3915" y="2358"/>
                  </a:lnTo>
                  <a:lnTo>
                    <a:pt x="3942" y="2169"/>
                  </a:lnTo>
                  <a:lnTo>
                    <a:pt x="3952" y="1979"/>
                  </a:lnTo>
                  <a:lnTo>
                    <a:pt x="3942" y="1789"/>
                  </a:lnTo>
                  <a:lnTo>
                    <a:pt x="3916" y="1601"/>
                  </a:lnTo>
                  <a:lnTo>
                    <a:pt x="3871" y="1418"/>
                  </a:lnTo>
                  <a:lnTo>
                    <a:pt x="3808" y="1238"/>
                  </a:lnTo>
                  <a:lnTo>
                    <a:pt x="3728" y="1065"/>
                  </a:lnTo>
                  <a:lnTo>
                    <a:pt x="3632" y="899"/>
                  </a:lnTo>
                  <a:lnTo>
                    <a:pt x="3519" y="741"/>
                  </a:lnTo>
                  <a:lnTo>
                    <a:pt x="3389" y="596"/>
                  </a:lnTo>
                  <a:lnTo>
                    <a:pt x="3244" y="461"/>
                  </a:lnTo>
                  <a:lnTo>
                    <a:pt x="3082" y="340"/>
                  </a:lnTo>
                  <a:lnTo>
                    <a:pt x="2909" y="234"/>
                  </a:lnTo>
                  <a:lnTo>
                    <a:pt x="2729" y="149"/>
                  </a:lnTo>
                  <a:lnTo>
                    <a:pt x="2545" y="84"/>
                  </a:lnTo>
                  <a:lnTo>
                    <a:pt x="2357" y="38"/>
                  </a:lnTo>
                  <a:lnTo>
                    <a:pt x="2168" y="10"/>
                  </a:lnTo>
                  <a:lnTo>
                    <a:pt x="1978" y="0"/>
                  </a:lnTo>
                  <a:lnTo>
                    <a:pt x="1787" y="10"/>
                  </a:lnTo>
                  <a:lnTo>
                    <a:pt x="1600" y="37"/>
                  </a:lnTo>
                  <a:lnTo>
                    <a:pt x="1415" y="82"/>
                  </a:lnTo>
                  <a:lnTo>
                    <a:pt x="1237" y="144"/>
                  </a:lnTo>
                  <a:lnTo>
                    <a:pt x="1063" y="224"/>
                  </a:lnTo>
                  <a:lnTo>
                    <a:pt x="897" y="320"/>
                  </a:lnTo>
                  <a:lnTo>
                    <a:pt x="741" y="433"/>
                  </a:lnTo>
                  <a:lnTo>
                    <a:pt x="594" y="563"/>
                  </a:lnTo>
                  <a:lnTo>
                    <a:pt x="460" y="708"/>
                  </a:lnTo>
                  <a:lnTo>
                    <a:pt x="339" y="870"/>
                  </a:lnTo>
                  <a:lnTo>
                    <a:pt x="234" y="1042"/>
                  </a:lnTo>
                  <a:lnTo>
                    <a:pt x="149" y="1222"/>
                  </a:lnTo>
                  <a:lnTo>
                    <a:pt x="83" y="1406"/>
                  </a:lnTo>
                  <a:lnTo>
                    <a:pt x="36" y="1594"/>
                  </a:lnTo>
                  <a:lnTo>
                    <a:pt x="9" y="1783"/>
                  </a:lnTo>
                  <a:lnTo>
                    <a:pt x="0" y="1975"/>
                  </a:lnTo>
                  <a:lnTo>
                    <a:pt x="9" y="2164"/>
                  </a:lnTo>
                  <a:lnTo>
                    <a:pt x="36" y="2352"/>
                  </a:lnTo>
                  <a:lnTo>
                    <a:pt x="81" y="2536"/>
                  </a:lnTo>
                  <a:lnTo>
                    <a:pt x="143" y="2716"/>
                  </a:lnTo>
                  <a:lnTo>
                    <a:pt x="222" y="2888"/>
                  </a:lnTo>
                  <a:lnTo>
                    <a:pt x="319" y="3054"/>
                  </a:lnTo>
                  <a:lnTo>
                    <a:pt x="433" y="3211"/>
                  </a:lnTo>
                  <a:lnTo>
                    <a:pt x="561" y="3357"/>
                  </a:lnTo>
                  <a:lnTo>
                    <a:pt x="708" y="3492"/>
                  </a:lnTo>
                  <a:lnTo>
                    <a:pt x="870" y="3614"/>
                  </a:lnTo>
                  <a:close/>
                </a:path>
              </a:pathLst>
            </a:custGeom>
            <a:solidFill>
              <a:srgbClr val="8ca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604440" y="240840"/>
              <a:ext cx="293760" cy="290160"/>
            </a:xfrm>
            <a:custGeom>
              <a:avLst/>
              <a:gdLst/>
              <a:ahLst/>
              <a:rect l="l" t="t" r="r" b="b"/>
              <a:pathLst>
                <a:path w="3791" h="3792">
                  <a:moveTo>
                    <a:pt x="835" y="3467"/>
                  </a:moveTo>
                  <a:lnTo>
                    <a:pt x="1001" y="3567"/>
                  </a:lnTo>
                  <a:lnTo>
                    <a:pt x="1173" y="3649"/>
                  </a:lnTo>
                  <a:lnTo>
                    <a:pt x="1349" y="3712"/>
                  </a:lnTo>
                  <a:lnTo>
                    <a:pt x="1529" y="3756"/>
                  </a:lnTo>
                  <a:lnTo>
                    <a:pt x="1711" y="3784"/>
                  </a:lnTo>
                  <a:lnTo>
                    <a:pt x="1894" y="3792"/>
                  </a:lnTo>
                  <a:lnTo>
                    <a:pt x="2075" y="3784"/>
                  </a:lnTo>
                  <a:lnTo>
                    <a:pt x="2256" y="3758"/>
                  </a:lnTo>
                  <a:lnTo>
                    <a:pt x="2433" y="3715"/>
                  </a:lnTo>
                  <a:lnTo>
                    <a:pt x="2605" y="3655"/>
                  </a:lnTo>
                  <a:lnTo>
                    <a:pt x="2771" y="3579"/>
                  </a:lnTo>
                  <a:lnTo>
                    <a:pt x="2930" y="3486"/>
                  </a:lnTo>
                  <a:lnTo>
                    <a:pt x="3080" y="3378"/>
                  </a:lnTo>
                  <a:lnTo>
                    <a:pt x="3220" y="3253"/>
                  </a:lnTo>
                  <a:lnTo>
                    <a:pt x="3350" y="3113"/>
                  </a:lnTo>
                  <a:lnTo>
                    <a:pt x="3467" y="2959"/>
                  </a:lnTo>
                  <a:lnTo>
                    <a:pt x="3567" y="2792"/>
                  </a:lnTo>
                  <a:lnTo>
                    <a:pt x="3649" y="2620"/>
                  </a:lnTo>
                  <a:lnTo>
                    <a:pt x="3712" y="2443"/>
                  </a:lnTo>
                  <a:lnTo>
                    <a:pt x="3756" y="2264"/>
                  </a:lnTo>
                  <a:lnTo>
                    <a:pt x="3783" y="2082"/>
                  </a:lnTo>
                  <a:lnTo>
                    <a:pt x="3791" y="1899"/>
                  </a:lnTo>
                  <a:lnTo>
                    <a:pt x="3783" y="1717"/>
                  </a:lnTo>
                  <a:lnTo>
                    <a:pt x="3757" y="1536"/>
                  </a:lnTo>
                  <a:lnTo>
                    <a:pt x="3714" y="1360"/>
                  </a:lnTo>
                  <a:lnTo>
                    <a:pt x="3654" y="1188"/>
                  </a:lnTo>
                  <a:lnTo>
                    <a:pt x="3578" y="1022"/>
                  </a:lnTo>
                  <a:lnTo>
                    <a:pt x="3485" y="862"/>
                  </a:lnTo>
                  <a:lnTo>
                    <a:pt x="3377" y="713"/>
                  </a:lnTo>
                  <a:lnTo>
                    <a:pt x="3252" y="572"/>
                  </a:lnTo>
                  <a:lnTo>
                    <a:pt x="3112" y="443"/>
                  </a:lnTo>
                  <a:lnTo>
                    <a:pt x="2958" y="327"/>
                  </a:lnTo>
                  <a:lnTo>
                    <a:pt x="2791" y="226"/>
                  </a:lnTo>
                  <a:lnTo>
                    <a:pt x="2619" y="144"/>
                  </a:lnTo>
                  <a:lnTo>
                    <a:pt x="2442" y="81"/>
                  </a:lnTo>
                  <a:lnTo>
                    <a:pt x="2263" y="36"/>
                  </a:lnTo>
                  <a:lnTo>
                    <a:pt x="2081" y="10"/>
                  </a:lnTo>
                  <a:lnTo>
                    <a:pt x="1898" y="0"/>
                  </a:lnTo>
                  <a:lnTo>
                    <a:pt x="1716" y="9"/>
                  </a:lnTo>
                  <a:lnTo>
                    <a:pt x="1536" y="35"/>
                  </a:lnTo>
                  <a:lnTo>
                    <a:pt x="1359" y="78"/>
                  </a:lnTo>
                  <a:lnTo>
                    <a:pt x="1187" y="139"/>
                  </a:lnTo>
                  <a:lnTo>
                    <a:pt x="1021" y="214"/>
                  </a:lnTo>
                  <a:lnTo>
                    <a:pt x="862" y="306"/>
                  </a:lnTo>
                  <a:lnTo>
                    <a:pt x="712" y="415"/>
                  </a:lnTo>
                  <a:lnTo>
                    <a:pt x="571" y="539"/>
                  </a:lnTo>
                  <a:lnTo>
                    <a:pt x="441" y="680"/>
                  </a:lnTo>
                  <a:lnTo>
                    <a:pt x="326" y="835"/>
                  </a:lnTo>
                  <a:lnTo>
                    <a:pt x="225" y="1001"/>
                  </a:lnTo>
                  <a:lnTo>
                    <a:pt x="143" y="1173"/>
                  </a:lnTo>
                  <a:lnTo>
                    <a:pt x="80" y="1349"/>
                  </a:lnTo>
                  <a:lnTo>
                    <a:pt x="35" y="1530"/>
                  </a:lnTo>
                  <a:lnTo>
                    <a:pt x="9" y="1712"/>
                  </a:lnTo>
                  <a:lnTo>
                    <a:pt x="0" y="1895"/>
                  </a:lnTo>
                  <a:lnTo>
                    <a:pt x="9" y="2077"/>
                  </a:lnTo>
                  <a:lnTo>
                    <a:pt x="35" y="2256"/>
                  </a:lnTo>
                  <a:lnTo>
                    <a:pt x="78" y="2433"/>
                  </a:lnTo>
                  <a:lnTo>
                    <a:pt x="138" y="2605"/>
                  </a:lnTo>
                  <a:lnTo>
                    <a:pt x="214" y="2772"/>
                  </a:lnTo>
                  <a:lnTo>
                    <a:pt x="306" y="2930"/>
                  </a:lnTo>
                  <a:lnTo>
                    <a:pt x="415" y="3080"/>
                  </a:lnTo>
                  <a:lnTo>
                    <a:pt x="539" y="3220"/>
                  </a:lnTo>
                  <a:lnTo>
                    <a:pt x="680" y="3350"/>
                  </a:lnTo>
                  <a:lnTo>
                    <a:pt x="835" y="3467"/>
                  </a:lnTo>
                  <a:close/>
                </a:path>
              </a:pathLst>
            </a:custGeom>
            <a:solidFill>
              <a:srgbClr val="8e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13800" y="243360"/>
              <a:ext cx="281880" cy="277200"/>
            </a:xfrm>
            <a:custGeom>
              <a:avLst/>
              <a:gdLst/>
              <a:ahLst/>
              <a:rect l="l" t="t" r="r" b="b"/>
              <a:pathLst>
                <a:path w="3631" h="3632">
                  <a:moveTo>
                    <a:pt x="799" y="3320"/>
                  </a:moveTo>
                  <a:lnTo>
                    <a:pt x="957" y="3416"/>
                  </a:lnTo>
                  <a:lnTo>
                    <a:pt x="1122" y="3495"/>
                  </a:lnTo>
                  <a:lnTo>
                    <a:pt x="1292" y="3555"/>
                  </a:lnTo>
                  <a:lnTo>
                    <a:pt x="1464" y="3598"/>
                  </a:lnTo>
                  <a:lnTo>
                    <a:pt x="1639" y="3623"/>
                  </a:lnTo>
                  <a:lnTo>
                    <a:pt x="1813" y="3632"/>
                  </a:lnTo>
                  <a:lnTo>
                    <a:pt x="1987" y="3623"/>
                  </a:lnTo>
                  <a:lnTo>
                    <a:pt x="2161" y="3599"/>
                  </a:lnTo>
                  <a:lnTo>
                    <a:pt x="2330" y="3557"/>
                  </a:lnTo>
                  <a:lnTo>
                    <a:pt x="2495" y="3500"/>
                  </a:lnTo>
                  <a:lnTo>
                    <a:pt x="2654" y="3427"/>
                  </a:lnTo>
                  <a:lnTo>
                    <a:pt x="2806" y="3338"/>
                  </a:lnTo>
                  <a:lnTo>
                    <a:pt x="2951" y="3234"/>
                  </a:lnTo>
                  <a:lnTo>
                    <a:pt x="3085" y="3115"/>
                  </a:lnTo>
                  <a:lnTo>
                    <a:pt x="3208" y="2981"/>
                  </a:lnTo>
                  <a:lnTo>
                    <a:pt x="3321" y="2833"/>
                  </a:lnTo>
                  <a:lnTo>
                    <a:pt x="3416" y="2674"/>
                  </a:lnTo>
                  <a:lnTo>
                    <a:pt x="3494" y="2509"/>
                  </a:lnTo>
                  <a:lnTo>
                    <a:pt x="3554" y="2340"/>
                  </a:lnTo>
                  <a:lnTo>
                    <a:pt x="3597" y="2167"/>
                  </a:lnTo>
                  <a:lnTo>
                    <a:pt x="3623" y="1992"/>
                  </a:lnTo>
                  <a:lnTo>
                    <a:pt x="3631" y="1818"/>
                  </a:lnTo>
                  <a:lnTo>
                    <a:pt x="3623" y="1644"/>
                  </a:lnTo>
                  <a:lnTo>
                    <a:pt x="3598" y="1472"/>
                  </a:lnTo>
                  <a:lnTo>
                    <a:pt x="3557" y="1302"/>
                  </a:lnTo>
                  <a:lnTo>
                    <a:pt x="3499" y="1138"/>
                  </a:lnTo>
                  <a:lnTo>
                    <a:pt x="3426" y="978"/>
                  </a:lnTo>
                  <a:lnTo>
                    <a:pt x="3338" y="826"/>
                  </a:lnTo>
                  <a:lnTo>
                    <a:pt x="3233" y="682"/>
                  </a:lnTo>
                  <a:lnTo>
                    <a:pt x="3114" y="548"/>
                  </a:lnTo>
                  <a:lnTo>
                    <a:pt x="2980" y="424"/>
                  </a:lnTo>
                  <a:lnTo>
                    <a:pt x="2833" y="313"/>
                  </a:lnTo>
                  <a:lnTo>
                    <a:pt x="2673" y="216"/>
                  </a:lnTo>
                  <a:lnTo>
                    <a:pt x="2508" y="138"/>
                  </a:lnTo>
                  <a:lnTo>
                    <a:pt x="2339" y="78"/>
                  </a:lnTo>
                  <a:lnTo>
                    <a:pt x="2167" y="34"/>
                  </a:lnTo>
                  <a:lnTo>
                    <a:pt x="1993" y="9"/>
                  </a:lnTo>
                  <a:lnTo>
                    <a:pt x="1818" y="0"/>
                  </a:lnTo>
                  <a:lnTo>
                    <a:pt x="1644" y="9"/>
                  </a:lnTo>
                  <a:lnTo>
                    <a:pt x="1472" y="34"/>
                  </a:lnTo>
                  <a:lnTo>
                    <a:pt x="1302" y="75"/>
                  </a:lnTo>
                  <a:lnTo>
                    <a:pt x="1137" y="132"/>
                  </a:lnTo>
                  <a:lnTo>
                    <a:pt x="979" y="205"/>
                  </a:lnTo>
                  <a:lnTo>
                    <a:pt x="827" y="294"/>
                  </a:lnTo>
                  <a:lnTo>
                    <a:pt x="682" y="398"/>
                  </a:lnTo>
                  <a:lnTo>
                    <a:pt x="548" y="517"/>
                  </a:lnTo>
                  <a:lnTo>
                    <a:pt x="425" y="651"/>
                  </a:lnTo>
                  <a:lnTo>
                    <a:pt x="313" y="800"/>
                  </a:lnTo>
                  <a:lnTo>
                    <a:pt x="216" y="958"/>
                  </a:lnTo>
                  <a:lnTo>
                    <a:pt x="139" y="1123"/>
                  </a:lnTo>
                  <a:lnTo>
                    <a:pt x="78" y="1292"/>
                  </a:lnTo>
                  <a:lnTo>
                    <a:pt x="34" y="1465"/>
                  </a:lnTo>
                  <a:lnTo>
                    <a:pt x="9" y="1639"/>
                  </a:lnTo>
                  <a:lnTo>
                    <a:pt x="0" y="1814"/>
                  </a:lnTo>
                  <a:lnTo>
                    <a:pt x="9" y="1988"/>
                  </a:lnTo>
                  <a:lnTo>
                    <a:pt x="34" y="2160"/>
                  </a:lnTo>
                  <a:lnTo>
                    <a:pt x="75" y="2329"/>
                  </a:lnTo>
                  <a:lnTo>
                    <a:pt x="132" y="2494"/>
                  </a:lnTo>
                  <a:lnTo>
                    <a:pt x="206" y="2654"/>
                  </a:lnTo>
                  <a:lnTo>
                    <a:pt x="294" y="2806"/>
                  </a:lnTo>
                  <a:lnTo>
                    <a:pt x="397" y="2950"/>
                  </a:lnTo>
                  <a:lnTo>
                    <a:pt x="516" y="3084"/>
                  </a:lnTo>
                  <a:lnTo>
                    <a:pt x="650" y="3208"/>
                  </a:lnTo>
                  <a:lnTo>
                    <a:pt x="799" y="3320"/>
                  </a:lnTo>
                  <a:close/>
                </a:path>
              </a:pathLst>
            </a:custGeom>
            <a:solidFill>
              <a:srgbClr val="91b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22800" y="245520"/>
              <a:ext cx="269640" cy="266040"/>
            </a:xfrm>
            <a:custGeom>
              <a:avLst/>
              <a:gdLst/>
              <a:ahLst/>
              <a:rect l="l" t="t" r="r" b="b"/>
              <a:pathLst>
                <a:path w="3470" h="3471">
                  <a:moveTo>
                    <a:pt x="764" y="3174"/>
                  </a:moveTo>
                  <a:lnTo>
                    <a:pt x="915" y="3266"/>
                  </a:lnTo>
                  <a:lnTo>
                    <a:pt x="1072" y="3340"/>
                  </a:lnTo>
                  <a:lnTo>
                    <a:pt x="1234" y="3398"/>
                  </a:lnTo>
                  <a:lnTo>
                    <a:pt x="1399" y="3438"/>
                  </a:lnTo>
                  <a:lnTo>
                    <a:pt x="1566" y="3463"/>
                  </a:lnTo>
                  <a:lnTo>
                    <a:pt x="1733" y="3471"/>
                  </a:lnTo>
                  <a:lnTo>
                    <a:pt x="1899" y="3463"/>
                  </a:lnTo>
                  <a:lnTo>
                    <a:pt x="2064" y="3439"/>
                  </a:lnTo>
                  <a:lnTo>
                    <a:pt x="2226" y="3400"/>
                  </a:lnTo>
                  <a:lnTo>
                    <a:pt x="2383" y="3345"/>
                  </a:lnTo>
                  <a:lnTo>
                    <a:pt x="2535" y="3275"/>
                  </a:lnTo>
                  <a:lnTo>
                    <a:pt x="2681" y="3190"/>
                  </a:lnTo>
                  <a:lnTo>
                    <a:pt x="2818" y="3092"/>
                  </a:lnTo>
                  <a:lnTo>
                    <a:pt x="2947" y="2977"/>
                  </a:lnTo>
                  <a:lnTo>
                    <a:pt x="3065" y="2849"/>
                  </a:lnTo>
                  <a:lnTo>
                    <a:pt x="3172" y="2708"/>
                  </a:lnTo>
                  <a:lnTo>
                    <a:pt x="3263" y="2555"/>
                  </a:lnTo>
                  <a:lnTo>
                    <a:pt x="3338" y="2397"/>
                  </a:lnTo>
                  <a:lnTo>
                    <a:pt x="3396" y="2236"/>
                  </a:lnTo>
                  <a:lnTo>
                    <a:pt x="3437" y="2071"/>
                  </a:lnTo>
                  <a:lnTo>
                    <a:pt x="3461" y="1905"/>
                  </a:lnTo>
                  <a:lnTo>
                    <a:pt x="3470" y="1737"/>
                  </a:lnTo>
                  <a:lnTo>
                    <a:pt x="3461" y="1571"/>
                  </a:lnTo>
                  <a:lnTo>
                    <a:pt x="3438" y="1407"/>
                  </a:lnTo>
                  <a:lnTo>
                    <a:pt x="3398" y="1245"/>
                  </a:lnTo>
                  <a:lnTo>
                    <a:pt x="3343" y="1087"/>
                  </a:lnTo>
                  <a:lnTo>
                    <a:pt x="3273" y="935"/>
                  </a:lnTo>
                  <a:lnTo>
                    <a:pt x="3189" y="790"/>
                  </a:lnTo>
                  <a:lnTo>
                    <a:pt x="3089" y="652"/>
                  </a:lnTo>
                  <a:lnTo>
                    <a:pt x="2975" y="523"/>
                  </a:lnTo>
                  <a:lnTo>
                    <a:pt x="2848" y="405"/>
                  </a:lnTo>
                  <a:lnTo>
                    <a:pt x="2706" y="299"/>
                  </a:lnTo>
                  <a:lnTo>
                    <a:pt x="2554" y="206"/>
                  </a:lnTo>
                  <a:lnTo>
                    <a:pt x="2397" y="132"/>
                  </a:lnTo>
                  <a:lnTo>
                    <a:pt x="2235" y="73"/>
                  </a:lnTo>
                  <a:lnTo>
                    <a:pt x="2071" y="33"/>
                  </a:lnTo>
                  <a:lnTo>
                    <a:pt x="1904" y="9"/>
                  </a:lnTo>
                  <a:lnTo>
                    <a:pt x="1737" y="0"/>
                  </a:lnTo>
                  <a:lnTo>
                    <a:pt x="1570" y="9"/>
                  </a:lnTo>
                  <a:lnTo>
                    <a:pt x="1405" y="32"/>
                  </a:lnTo>
                  <a:lnTo>
                    <a:pt x="1244" y="71"/>
                  </a:lnTo>
                  <a:lnTo>
                    <a:pt x="1086" y="127"/>
                  </a:lnTo>
                  <a:lnTo>
                    <a:pt x="934" y="197"/>
                  </a:lnTo>
                  <a:lnTo>
                    <a:pt x="788" y="281"/>
                  </a:lnTo>
                  <a:lnTo>
                    <a:pt x="651" y="381"/>
                  </a:lnTo>
                  <a:lnTo>
                    <a:pt x="523" y="494"/>
                  </a:lnTo>
                  <a:lnTo>
                    <a:pt x="405" y="622"/>
                  </a:lnTo>
                  <a:lnTo>
                    <a:pt x="298" y="764"/>
                  </a:lnTo>
                  <a:lnTo>
                    <a:pt x="206" y="916"/>
                  </a:lnTo>
                  <a:lnTo>
                    <a:pt x="131" y="1074"/>
                  </a:lnTo>
                  <a:lnTo>
                    <a:pt x="73" y="1235"/>
                  </a:lnTo>
                  <a:lnTo>
                    <a:pt x="33" y="1400"/>
                  </a:lnTo>
                  <a:lnTo>
                    <a:pt x="8" y="1567"/>
                  </a:lnTo>
                  <a:lnTo>
                    <a:pt x="0" y="1734"/>
                  </a:lnTo>
                  <a:lnTo>
                    <a:pt x="8" y="1901"/>
                  </a:lnTo>
                  <a:lnTo>
                    <a:pt x="32" y="2066"/>
                  </a:lnTo>
                  <a:lnTo>
                    <a:pt x="71" y="2227"/>
                  </a:lnTo>
                  <a:lnTo>
                    <a:pt x="125" y="2385"/>
                  </a:lnTo>
                  <a:lnTo>
                    <a:pt x="195" y="2537"/>
                  </a:lnTo>
                  <a:lnTo>
                    <a:pt x="280" y="2682"/>
                  </a:lnTo>
                  <a:lnTo>
                    <a:pt x="379" y="2820"/>
                  </a:lnTo>
                  <a:lnTo>
                    <a:pt x="493" y="2949"/>
                  </a:lnTo>
                  <a:lnTo>
                    <a:pt x="622" y="3067"/>
                  </a:lnTo>
                  <a:lnTo>
                    <a:pt x="764" y="3174"/>
                  </a:lnTo>
                  <a:close/>
                </a:path>
              </a:pathLst>
            </a:custGeom>
            <a:solidFill>
              <a:srgbClr val="94b9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32520" y="248040"/>
              <a:ext cx="256320" cy="253440"/>
            </a:xfrm>
            <a:custGeom>
              <a:avLst/>
              <a:gdLst/>
              <a:ahLst/>
              <a:rect l="l" t="t" r="r" b="b"/>
              <a:pathLst>
                <a:path w="3308" h="3308">
                  <a:moveTo>
                    <a:pt x="728" y="3026"/>
                  </a:moveTo>
                  <a:lnTo>
                    <a:pt x="873" y="3113"/>
                  </a:lnTo>
                  <a:lnTo>
                    <a:pt x="1023" y="3184"/>
                  </a:lnTo>
                  <a:lnTo>
                    <a:pt x="1177" y="3239"/>
                  </a:lnTo>
                  <a:lnTo>
                    <a:pt x="1334" y="3278"/>
                  </a:lnTo>
                  <a:lnTo>
                    <a:pt x="1492" y="3301"/>
                  </a:lnTo>
                  <a:lnTo>
                    <a:pt x="1652" y="3308"/>
                  </a:lnTo>
                  <a:lnTo>
                    <a:pt x="1811" y="3301"/>
                  </a:lnTo>
                  <a:lnTo>
                    <a:pt x="1969" y="3279"/>
                  </a:lnTo>
                  <a:lnTo>
                    <a:pt x="2123" y="3241"/>
                  </a:lnTo>
                  <a:lnTo>
                    <a:pt x="2273" y="3189"/>
                  </a:lnTo>
                  <a:lnTo>
                    <a:pt x="2418" y="3122"/>
                  </a:lnTo>
                  <a:lnTo>
                    <a:pt x="2557" y="3042"/>
                  </a:lnTo>
                  <a:lnTo>
                    <a:pt x="2687" y="2947"/>
                  </a:lnTo>
                  <a:lnTo>
                    <a:pt x="2811" y="2838"/>
                  </a:lnTo>
                  <a:lnTo>
                    <a:pt x="2923" y="2717"/>
                  </a:lnTo>
                  <a:lnTo>
                    <a:pt x="3025" y="2582"/>
                  </a:lnTo>
                  <a:lnTo>
                    <a:pt x="3113" y="2437"/>
                  </a:lnTo>
                  <a:lnTo>
                    <a:pt x="3184" y="2287"/>
                  </a:lnTo>
                  <a:lnTo>
                    <a:pt x="3239" y="2132"/>
                  </a:lnTo>
                  <a:lnTo>
                    <a:pt x="3277" y="1975"/>
                  </a:lnTo>
                  <a:lnTo>
                    <a:pt x="3301" y="1816"/>
                  </a:lnTo>
                  <a:lnTo>
                    <a:pt x="3308" y="1656"/>
                  </a:lnTo>
                  <a:lnTo>
                    <a:pt x="3301" y="1497"/>
                  </a:lnTo>
                  <a:lnTo>
                    <a:pt x="3279" y="1341"/>
                  </a:lnTo>
                  <a:lnTo>
                    <a:pt x="3241" y="1185"/>
                  </a:lnTo>
                  <a:lnTo>
                    <a:pt x="3188" y="1036"/>
                  </a:lnTo>
                  <a:lnTo>
                    <a:pt x="3122" y="890"/>
                  </a:lnTo>
                  <a:lnTo>
                    <a:pt x="3041" y="752"/>
                  </a:lnTo>
                  <a:lnTo>
                    <a:pt x="2947" y="621"/>
                  </a:lnTo>
                  <a:lnTo>
                    <a:pt x="2838" y="498"/>
                  </a:lnTo>
                  <a:lnTo>
                    <a:pt x="2716" y="385"/>
                  </a:lnTo>
                  <a:lnTo>
                    <a:pt x="2581" y="284"/>
                  </a:lnTo>
                  <a:lnTo>
                    <a:pt x="2435" y="196"/>
                  </a:lnTo>
                  <a:lnTo>
                    <a:pt x="2286" y="124"/>
                  </a:lnTo>
                  <a:lnTo>
                    <a:pt x="2131" y="70"/>
                  </a:lnTo>
                  <a:lnTo>
                    <a:pt x="1974" y="31"/>
                  </a:lnTo>
                  <a:lnTo>
                    <a:pt x="1816" y="8"/>
                  </a:lnTo>
                  <a:lnTo>
                    <a:pt x="1656" y="0"/>
                  </a:lnTo>
                  <a:lnTo>
                    <a:pt x="1498" y="8"/>
                  </a:lnTo>
                  <a:lnTo>
                    <a:pt x="1340" y="31"/>
                  </a:lnTo>
                  <a:lnTo>
                    <a:pt x="1186" y="68"/>
                  </a:lnTo>
                  <a:lnTo>
                    <a:pt x="1035" y="120"/>
                  </a:lnTo>
                  <a:lnTo>
                    <a:pt x="891" y="186"/>
                  </a:lnTo>
                  <a:lnTo>
                    <a:pt x="751" y="267"/>
                  </a:lnTo>
                  <a:lnTo>
                    <a:pt x="621" y="362"/>
                  </a:lnTo>
                  <a:lnTo>
                    <a:pt x="498" y="470"/>
                  </a:lnTo>
                  <a:lnTo>
                    <a:pt x="385" y="592"/>
                  </a:lnTo>
                  <a:lnTo>
                    <a:pt x="284" y="728"/>
                  </a:lnTo>
                  <a:lnTo>
                    <a:pt x="195" y="873"/>
                  </a:lnTo>
                  <a:lnTo>
                    <a:pt x="124" y="1023"/>
                  </a:lnTo>
                  <a:lnTo>
                    <a:pt x="69" y="1177"/>
                  </a:lnTo>
                  <a:lnTo>
                    <a:pt x="31" y="1334"/>
                  </a:lnTo>
                  <a:lnTo>
                    <a:pt x="7" y="1494"/>
                  </a:lnTo>
                  <a:lnTo>
                    <a:pt x="0" y="1652"/>
                  </a:lnTo>
                  <a:lnTo>
                    <a:pt x="7" y="1812"/>
                  </a:lnTo>
                  <a:lnTo>
                    <a:pt x="30" y="1969"/>
                  </a:lnTo>
                  <a:lnTo>
                    <a:pt x="67" y="2123"/>
                  </a:lnTo>
                  <a:lnTo>
                    <a:pt x="120" y="2273"/>
                  </a:lnTo>
                  <a:lnTo>
                    <a:pt x="186" y="2418"/>
                  </a:lnTo>
                  <a:lnTo>
                    <a:pt x="267" y="2557"/>
                  </a:lnTo>
                  <a:lnTo>
                    <a:pt x="361" y="2688"/>
                  </a:lnTo>
                  <a:lnTo>
                    <a:pt x="470" y="2811"/>
                  </a:lnTo>
                  <a:lnTo>
                    <a:pt x="592" y="2924"/>
                  </a:lnTo>
                  <a:lnTo>
                    <a:pt x="728" y="3026"/>
                  </a:lnTo>
                  <a:close/>
                </a:path>
              </a:pathLst>
            </a:custGeom>
            <a:solidFill>
              <a:srgbClr val="97b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642600" y="250920"/>
              <a:ext cx="243360" cy="240480"/>
            </a:xfrm>
            <a:custGeom>
              <a:avLst/>
              <a:gdLst/>
              <a:ahLst/>
              <a:rect l="l" t="t" r="r" b="b"/>
              <a:pathLst>
                <a:path w="3148" h="3149">
                  <a:moveTo>
                    <a:pt x="693" y="2879"/>
                  </a:moveTo>
                  <a:lnTo>
                    <a:pt x="830" y="2962"/>
                  </a:lnTo>
                  <a:lnTo>
                    <a:pt x="973" y="3030"/>
                  </a:lnTo>
                  <a:lnTo>
                    <a:pt x="1120" y="3082"/>
                  </a:lnTo>
                  <a:lnTo>
                    <a:pt x="1269" y="3119"/>
                  </a:lnTo>
                  <a:lnTo>
                    <a:pt x="1420" y="3141"/>
                  </a:lnTo>
                  <a:lnTo>
                    <a:pt x="1572" y="3149"/>
                  </a:lnTo>
                  <a:lnTo>
                    <a:pt x="1723" y="3141"/>
                  </a:lnTo>
                  <a:lnTo>
                    <a:pt x="1873" y="3120"/>
                  </a:lnTo>
                  <a:lnTo>
                    <a:pt x="2020" y="3084"/>
                  </a:lnTo>
                  <a:lnTo>
                    <a:pt x="2162" y="3034"/>
                  </a:lnTo>
                  <a:lnTo>
                    <a:pt x="2301" y="2970"/>
                  </a:lnTo>
                  <a:lnTo>
                    <a:pt x="2432" y="2894"/>
                  </a:lnTo>
                  <a:lnTo>
                    <a:pt x="2558" y="2803"/>
                  </a:lnTo>
                  <a:lnTo>
                    <a:pt x="2674" y="2700"/>
                  </a:lnTo>
                  <a:lnTo>
                    <a:pt x="2781" y="2584"/>
                  </a:lnTo>
                  <a:lnTo>
                    <a:pt x="2879" y="2456"/>
                  </a:lnTo>
                  <a:lnTo>
                    <a:pt x="2962" y="2317"/>
                  </a:lnTo>
                  <a:lnTo>
                    <a:pt x="3029" y="2175"/>
                  </a:lnTo>
                  <a:lnTo>
                    <a:pt x="3081" y="2028"/>
                  </a:lnTo>
                  <a:lnTo>
                    <a:pt x="3118" y="1878"/>
                  </a:lnTo>
                  <a:lnTo>
                    <a:pt x="3141" y="1727"/>
                  </a:lnTo>
                  <a:lnTo>
                    <a:pt x="3148" y="1575"/>
                  </a:lnTo>
                  <a:lnTo>
                    <a:pt x="3141" y="1424"/>
                  </a:lnTo>
                  <a:lnTo>
                    <a:pt x="3119" y="1275"/>
                  </a:lnTo>
                  <a:lnTo>
                    <a:pt x="3083" y="1128"/>
                  </a:lnTo>
                  <a:lnTo>
                    <a:pt x="3033" y="985"/>
                  </a:lnTo>
                  <a:lnTo>
                    <a:pt x="2970" y="847"/>
                  </a:lnTo>
                  <a:lnTo>
                    <a:pt x="2894" y="715"/>
                  </a:lnTo>
                  <a:lnTo>
                    <a:pt x="2803" y="590"/>
                  </a:lnTo>
                  <a:lnTo>
                    <a:pt x="2700" y="474"/>
                  </a:lnTo>
                  <a:lnTo>
                    <a:pt x="2584" y="367"/>
                  </a:lnTo>
                  <a:lnTo>
                    <a:pt x="2456" y="270"/>
                  </a:lnTo>
                  <a:lnTo>
                    <a:pt x="2318" y="186"/>
                  </a:lnTo>
                  <a:lnTo>
                    <a:pt x="2175" y="119"/>
                  </a:lnTo>
                  <a:lnTo>
                    <a:pt x="2028" y="67"/>
                  </a:lnTo>
                  <a:lnTo>
                    <a:pt x="1879" y="30"/>
                  </a:lnTo>
                  <a:lnTo>
                    <a:pt x="1728" y="7"/>
                  </a:lnTo>
                  <a:lnTo>
                    <a:pt x="1576" y="0"/>
                  </a:lnTo>
                  <a:lnTo>
                    <a:pt x="1425" y="7"/>
                  </a:lnTo>
                  <a:lnTo>
                    <a:pt x="1275" y="29"/>
                  </a:lnTo>
                  <a:lnTo>
                    <a:pt x="1128" y="65"/>
                  </a:lnTo>
                  <a:lnTo>
                    <a:pt x="986" y="115"/>
                  </a:lnTo>
                  <a:lnTo>
                    <a:pt x="847" y="177"/>
                  </a:lnTo>
                  <a:lnTo>
                    <a:pt x="716" y="254"/>
                  </a:lnTo>
                  <a:lnTo>
                    <a:pt x="590" y="344"/>
                  </a:lnTo>
                  <a:lnTo>
                    <a:pt x="474" y="448"/>
                  </a:lnTo>
                  <a:lnTo>
                    <a:pt x="367" y="563"/>
                  </a:lnTo>
                  <a:lnTo>
                    <a:pt x="270" y="693"/>
                  </a:lnTo>
                  <a:lnTo>
                    <a:pt x="186" y="830"/>
                  </a:lnTo>
                  <a:lnTo>
                    <a:pt x="118" y="974"/>
                  </a:lnTo>
                  <a:lnTo>
                    <a:pt x="66" y="1120"/>
                  </a:lnTo>
                  <a:lnTo>
                    <a:pt x="29" y="1269"/>
                  </a:lnTo>
                  <a:lnTo>
                    <a:pt x="7" y="1421"/>
                  </a:lnTo>
                  <a:lnTo>
                    <a:pt x="0" y="1572"/>
                  </a:lnTo>
                  <a:lnTo>
                    <a:pt x="7" y="1723"/>
                  </a:lnTo>
                  <a:lnTo>
                    <a:pt x="29" y="1873"/>
                  </a:lnTo>
                  <a:lnTo>
                    <a:pt x="65" y="2020"/>
                  </a:lnTo>
                  <a:lnTo>
                    <a:pt x="114" y="2162"/>
                  </a:lnTo>
                  <a:lnTo>
                    <a:pt x="178" y="2300"/>
                  </a:lnTo>
                  <a:lnTo>
                    <a:pt x="254" y="2432"/>
                  </a:lnTo>
                  <a:lnTo>
                    <a:pt x="345" y="2558"/>
                  </a:lnTo>
                  <a:lnTo>
                    <a:pt x="448" y="2674"/>
                  </a:lnTo>
                  <a:lnTo>
                    <a:pt x="564" y="2781"/>
                  </a:lnTo>
                  <a:lnTo>
                    <a:pt x="693" y="2879"/>
                  </a:lnTo>
                  <a:close/>
                </a:path>
              </a:pathLst>
            </a:custGeom>
            <a:solidFill>
              <a:srgbClr val="9ac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51960" y="253800"/>
              <a:ext cx="231480" cy="228600"/>
            </a:xfrm>
            <a:custGeom>
              <a:avLst/>
              <a:gdLst/>
              <a:ahLst/>
              <a:rect l="l" t="t" r="r" b="b"/>
              <a:pathLst>
                <a:path w="2987" h="2987">
                  <a:moveTo>
                    <a:pt x="657" y="2731"/>
                  </a:moveTo>
                  <a:lnTo>
                    <a:pt x="788" y="2810"/>
                  </a:lnTo>
                  <a:lnTo>
                    <a:pt x="923" y="2874"/>
                  </a:lnTo>
                  <a:lnTo>
                    <a:pt x="1062" y="2923"/>
                  </a:lnTo>
                  <a:lnTo>
                    <a:pt x="1205" y="2958"/>
                  </a:lnTo>
                  <a:lnTo>
                    <a:pt x="1348" y="2980"/>
                  </a:lnTo>
                  <a:lnTo>
                    <a:pt x="1492" y="2987"/>
                  </a:lnTo>
                  <a:lnTo>
                    <a:pt x="1635" y="2980"/>
                  </a:lnTo>
                  <a:lnTo>
                    <a:pt x="1777" y="2960"/>
                  </a:lnTo>
                  <a:lnTo>
                    <a:pt x="1916" y="2926"/>
                  </a:lnTo>
                  <a:lnTo>
                    <a:pt x="2052" y="2879"/>
                  </a:lnTo>
                  <a:lnTo>
                    <a:pt x="2183" y="2818"/>
                  </a:lnTo>
                  <a:lnTo>
                    <a:pt x="2308" y="2745"/>
                  </a:lnTo>
                  <a:lnTo>
                    <a:pt x="2426" y="2660"/>
                  </a:lnTo>
                  <a:lnTo>
                    <a:pt x="2537" y="2562"/>
                  </a:lnTo>
                  <a:lnTo>
                    <a:pt x="2639" y="2451"/>
                  </a:lnTo>
                  <a:lnTo>
                    <a:pt x="2731" y="2330"/>
                  </a:lnTo>
                  <a:lnTo>
                    <a:pt x="2810" y="2198"/>
                  </a:lnTo>
                  <a:lnTo>
                    <a:pt x="2874" y="2063"/>
                  </a:lnTo>
                  <a:lnTo>
                    <a:pt x="2924" y="1924"/>
                  </a:lnTo>
                  <a:lnTo>
                    <a:pt x="2959" y="1782"/>
                  </a:lnTo>
                  <a:lnTo>
                    <a:pt x="2980" y="1638"/>
                  </a:lnTo>
                  <a:lnTo>
                    <a:pt x="2987" y="1495"/>
                  </a:lnTo>
                  <a:lnTo>
                    <a:pt x="2980" y="1351"/>
                  </a:lnTo>
                  <a:lnTo>
                    <a:pt x="2960" y="1210"/>
                  </a:lnTo>
                  <a:lnTo>
                    <a:pt x="2926" y="1070"/>
                  </a:lnTo>
                  <a:lnTo>
                    <a:pt x="2879" y="934"/>
                  </a:lnTo>
                  <a:lnTo>
                    <a:pt x="2819" y="804"/>
                  </a:lnTo>
                  <a:lnTo>
                    <a:pt x="2746" y="678"/>
                  </a:lnTo>
                  <a:lnTo>
                    <a:pt x="2660" y="560"/>
                  </a:lnTo>
                  <a:lnTo>
                    <a:pt x="2562" y="450"/>
                  </a:lnTo>
                  <a:lnTo>
                    <a:pt x="2452" y="348"/>
                  </a:lnTo>
                  <a:lnTo>
                    <a:pt x="2331" y="256"/>
                  </a:lnTo>
                  <a:lnTo>
                    <a:pt x="2199" y="176"/>
                  </a:lnTo>
                  <a:lnTo>
                    <a:pt x="2064" y="113"/>
                  </a:lnTo>
                  <a:lnTo>
                    <a:pt x="1924" y="63"/>
                  </a:lnTo>
                  <a:lnTo>
                    <a:pt x="1782" y="28"/>
                  </a:lnTo>
                  <a:lnTo>
                    <a:pt x="1639" y="6"/>
                  </a:lnTo>
                  <a:lnTo>
                    <a:pt x="1495" y="0"/>
                  </a:lnTo>
                  <a:lnTo>
                    <a:pt x="1351" y="6"/>
                  </a:lnTo>
                  <a:lnTo>
                    <a:pt x="1210" y="26"/>
                  </a:lnTo>
                  <a:lnTo>
                    <a:pt x="1071" y="61"/>
                  </a:lnTo>
                  <a:lnTo>
                    <a:pt x="935" y="107"/>
                  </a:lnTo>
                  <a:lnTo>
                    <a:pt x="804" y="168"/>
                  </a:lnTo>
                  <a:lnTo>
                    <a:pt x="679" y="240"/>
                  </a:lnTo>
                  <a:lnTo>
                    <a:pt x="561" y="326"/>
                  </a:lnTo>
                  <a:lnTo>
                    <a:pt x="450" y="424"/>
                  </a:lnTo>
                  <a:lnTo>
                    <a:pt x="348" y="535"/>
                  </a:lnTo>
                  <a:lnTo>
                    <a:pt x="256" y="657"/>
                  </a:lnTo>
                  <a:lnTo>
                    <a:pt x="177" y="788"/>
                  </a:lnTo>
                  <a:lnTo>
                    <a:pt x="113" y="923"/>
                  </a:lnTo>
                  <a:lnTo>
                    <a:pt x="63" y="1062"/>
                  </a:lnTo>
                  <a:lnTo>
                    <a:pt x="28" y="1203"/>
                  </a:lnTo>
                  <a:lnTo>
                    <a:pt x="7" y="1347"/>
                  </a:lnTo>
                  <a:lnTo>
                    <a:pt x="0" y="1491"/>
                  </a:lnTo>
                  <a:lnTo>
                    <a:pt x="7" y="1635"/>
                  </a:lnTo>
                  <a:lnTo>
                    <a:pt x="28" y="1776"/>
                  </a:lnTo>
                  <a:lnTo>
                    <a:pt x="61" y="1916"/>
                  </a:lnTo>
                  <a:lnTo>
                    <a:pt x="109" y="2052"/>
                  </a:lnTo>
                  <a:lnTo>
                    <a:pt x="168" y="2182"/>
                  </a:lnTo>
                  <a:lnTo>
                    <a:pt x="242" y="2308"/>
                  </a:lnTo>
                  <a:lnTo>
                    <a:pt x="327" y="2426"/>
                  </a:lnTo>
                  <a:lnTo>
                    <a:pt x="424" y="2536"/>
                  </a:lnTo>
                  <a:lnTo>
                    <a:pt x="535" y="2638"/>
                  </a:lnTo>
                  <a:lnTo>
                    <a:pt x="657" y="2731"/>
                  </a:lnTo>
                  <a:close/>
                </a:path>
              </a:pathLst>
            </a:custGeom>
            <a:solidFill>
              <a:srgbClr val="9dc3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60960" y="255600"/>
              <a:ext cx="218520" cy="216360"/>
            </a:xfrm>
            <a:custGeom>
              <a:avLst/>
              <a:gdLst/>
              <a:ahLst/>
              <a:rect l="l" t="t" r="r" b="b"/>
              <a:pathLst>
                <a:path w="2826" h="2827">
                  <a:moveTo>
                    <a:pt x="622" y="2584"/>
                  </a:moveTo>
                  <a:lnTo>
                    <a:pt x="746" y="2659"/>
                  </a:lnTo>
                  <a:lnTo>
                    <a:pt x="874" y="2719"/>
                  </a:lnTo>
                  <a:lnTo>
                    <a:pt x="1005" y="2767"/>
                  </a:lnTo>
                  <a:lnTo>
                    <a:pt x="1140" y="2800"/>
                  </a:lnTo>
                  <a:lnTo>
                    <a:pt x="1275" y="2820"/>
                  </a:lnTo>
                  <a:lnTo>
                    <a:pt x="1411" y="2827"/>
                  </a:lnTo>
                  <a:lnTo>
                    <a:pt x="1547" y="2820"/>
                  </a:lnTo>
                  <a:lnTo>
                    <a:pt x="1681" y="2801"/>
                  </a:lnTo>
                  <a:lnTo>
                    <a:pt x="1813" y="2768"/>
                  </a:lnTo>
                  <a:lnTo>
                    <a:pt x="1942" y="2723"/>
                  </a:lnTo>
                  <a:lnTo>
                    <a:pt x="2066" y="2667"/>
                  </a:lnTo>
                  <a:lnTo>
                    <a:pt x="2184" y="2598"/>
                  </a:lnTo>
                  <a:lnTo>
                    <a:pt x="2297" y="2517"/>
                  </a:lnTo>
                  <a:lnTo>
                    <a:pt x="2401" y="2424"/>
                  </a:lnTo>
                  <a:lnTo>
                    <a:pt x="2498" y="2319"/>
                  </a:lnTo>
                  <a:lnTo>
                    <a:pt x="2585" y="2205"/>
                  </a:lnTo>
                  <a:lnTo>
                    <a:pt x="2659" y="2080"/>
                  </a:lnTo>
                  <a:lnTo>
                    <a:pt x="2720" y="1952"/>
                  </a:lnTo>
                  <a:lnTo>
                    <a:pt x="2767" y="1821"/>
                  </a:lnTo>
                  <a:lnTo>
                    <a:pt x="2801" y="1686"/>
                  </a:lnTo>
                  <a:lnTo>
                    <a:pt x="2820" y="1551"/>
                  </a:lnTo>
                  <a:lnTo>
                    <a:pt x="2826" y="1415"/>
                  </a:lnTo>
                  <a:lnTo>
                    <a:pt x="2820" y="1279"/>
                  </a:lnTo>
                  <a:lnTo>
                    <a:pt x="2801" y="1145"/>
                  </a:lnTo>
                  <a:lnTo>
                    <a:pt x="2769" y="1013"/>
                  </a:lnTo>
                  <a:lnTo>
                    <a:pt x="2724" y="884"/>
                  </a:lnTo>
                  <a:lnTo>
                    <a:pt x="2667" y="760"/>
                  </a:lnTo>
                  <a:lnTo>
                    <a:pt x="2599" y="642"/>
                  </a:lnTo>
                  <a:lnTo>
                    <a:pt x="2517" y="529"/>
                  </a:lnTo>
                  <a:lnTo>
                    <a:pt x="2424" y="425"/>
                  </a:lnTo>
                  <a:lnTo>
                    <a:pt x="2320" y="328"/>
                  </a:lnTo>
                  <a:lnTo>
                    <a:pt x="2205" y="242"/>
                  </a:lnTo>
                  <a:lnTo>
                    <a:pt x="2081" y="167"/>
                  </a:lnTo>
                  <a:lnTo>
                    <a:pt x="1952" y="106"/>
                  </a:lnTo>
                  <a:lnTo>
                    <a:pt x="1822" y="59"/>
                  </a:lnTo>
                  <a:lnTo>
                    <a:pt x="1687" y="25"/>
                  </a:lnTo>
                  <a:lnTo>
                    <a:pt x="1552" y="6"/>
                  </a:lnTo>
                  <a:lnTo>
                    <a:pt x="1415" y="0"/>
                  </a:lnTo>
                  <a:lnTo>
                    <a:pt x="1279" y="6"/>
                  </a:lnTo>
                  <a:lnTo>
                    <a:pt x="1145" y="25"/>
                  </a:lnTo>
                  <a:lnTo>
                    <a:pt x="1014" y="57"/>
                  </a:lnTo>
                  <a:lnTo>
                    <a:pt x="885" y="102"/>
                  </a:lnTo>
                  <a:lnTo>
                    <a:pt x="761" y="159"/>
                  </a:lnTo>
                  <a:lnTo>
                    <a:pt x="643" y="227"/>
                  </a:lnTo>
                  <a:lnTo>
                    <a:pt x="530" y="309"/>
                  </a:lnTo>
                  <a:lnTo>
                    <a:pt x="426" y="402"/>
                  </a:lnTo>
                  <a:lnTo>
                    <a:pt x="329" y="506"/>
                  </a:lnTo>
                  <a:lnTo>
                    <a:pt x="243" y="622"/>
                  </a:lnTo>
                  <a:lnTo>
                    <a:pt x="167" y="745"/>
                  </a:lnTo>
                  <a:lnTo>
                    <a:pt x="107" y="874"/>
                  </a:lnTo>
                  <a:lnTo>
                    <a:pt x="60" y="1004"/>
                  </a:lnTo>
                  <a:lnTo>
                    <a:pt x="26" y="1139"/>
                  </a:lnTo>
                  <a:lnTo>
                    <a:pt x="7" y="1274"/>
                  </a:lnTo>
                  <a:lnTo>
                    <a:pt x="0" y="1411"/>
                  </a:lnTo>
                  <a:lnTo>
                    <a:pt x="7" y="1547"/>
                  </a:lnTo>
                  <a:lnTo>
                    <a:pt x="26" y="1681"/>
                  </a:lnTo>
                  <a:lnTo>
                    <a:pt x="58" y="1812"/>
                  </a:lnTo>
                  <a:lnTo>
                    <a:pt x="103" y="1941"/>
                  </a:lnTo>
                  <a:lnTo>
                    <a:pt x="160" y="2065"/>
                  </a:lnTo>
                  <a:lnTo>
                    <a:pt x="228" y="2183"/>
                  </a:lnTo>
                  <a:lnTo>
                    <a:pt x="310" y="2296"/>
                  </a:lnTo>
                  <a:lnTo>
                    <a:pt x="402" y="2400"/>
                  </a:lnTo>
                  <a:lnTo>
                    <a:pt x="506" y="2497"/>
                  </a:lnTo>
                  <a:lnTo>
                    <a:pt x="622" y="2584"/>
                  </a:lnTo>
                  <a:close/>
                </a:path>
              </a:pathLst>
            </a:custGeom>
            <a:solidFill>
              <a:srgbClr val="a0c7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70320" y="258120"/>
              <a:ext cx="206280" cy="203760"/>
            </a:xfrm>
            <a:custGeom>
              <a:avLst/>
              <a:gdLst/>
              <a:ahLst/>
              <a:rect l="l" t="t" r="r" b="b"/>
              <a:pathLst>
                <a:path w="2666" h="2665">
                  <a:moveTo>
                    <a:pt x="586" y="2437"/>
                  </a:moveTo>
                  <a:lnTo>
                    <a:pt x="702" y="2507"/>
                  </a:lnTo>
                  <a:lnTo>
                    <a:pt x="823" y="2565"/>
                  </a:lnTo>
                  <a:lnTo>
                    <a:pt x="948" y="2608"/>
                  </a:lnTo>
                  <a:lnTo>
                    <a:pt x="1074" y="2640"/>
                  </a:lnTo>
                  <a:lnTo>
                    <a:pt x="1203" y="2658"/>
                  </a:lnTo>
                  <a:lnTo>
                    <a:pt x="1332" y="2665"/>
                  </a:lnTo>
                  <a:lnTo>
                    <a:pt x="1459" y="2660"/>
                  </a:lnTo>
                  <a:lnTo>
                    <a:pt x="1586" y="2640"/>
                  </a:lnTo>
                  <a:lnTo>
                    <a:pt x="1710" y="2611"/>
                  </a:lnTo>
                  <a:lnTo>
                    <a:pt x="1831" y="2568"/>
                  </a:lnTo>
                  <a:lnTo>
                    <a:pt x="1948" y="2515"/>
                  </a:lnTo>
                  <a:lnTo>
                    <a:pt x="2060" y="2450"/>
                  </a:lnTo>
                  <a:lnTo>
                    <a:pt x="2166" y="2374"/>
                  </a:lnTo>
                  <a:lnTo>
                    <a:pt x="2265" y="2286"/>
                  </a:lnTo>
                  <a:lnTo>
                    <a:pt x="2355" y="2188"/>
                  </a:lnTo>
                  <a:lnTo>
                    <a:pt x="2438" y="2079"/>
                  </a:lnTo>
                  <a:lnTo>
                    <a:pt x="2509" y="1962"/>
                  </a:lnTo>
                  <a:lnTo>
                    <a:pt x="2566" y="1841"/>
                  </a:lnTo>
                  <a:lnTo>
                    <a:pt x="2610" y="1717"/>
                  </a:lnTo>
                  <a:lnTo>
                    <a:pt x="2641" y="1590"/>
                  </a:lnTo>
                  <a:lnTo>
                    <a:pt x="2659" y="1462"/>
                  </a:lnTo>
                  <a:lnTo>
                    <a:pt x="2666" y="1334"/>
                  </a:lnTo>
                  <a:lnTo>
                    <a:pt x="2659" y="1206"/>
                  </a:lnTo>
                  <a:lnTo>
                    <a:pt x="2641" y="1080"/>
                  </a:lnTo>
                  <a:lnTo>
                    <a:pt x="2612" y="955"/>
                  </a:lnTo>
                  <a:lnTo>
                    <a:pt x="2569" y="834"/>
                  </a:lnTo>
                  <a:lnTo>
                    <a:pt x="2516" y="717"/>
                  </a:lnTo>
                  <a:lnTo>
                    <a:pt x="2450" y="606"/>
                  </a:lnTo>
                  <a:lnTo>
                    <a:pt x="2375" y="500"/>
                  </a:lnTo>
                  <a:lnTo>
                    <a:pt x="2286" y="402"/>
                  </a:lnTo>
                  <a:lnTo>
                    <a:pt x="2189" y="311"/>
                  </a:lnTo>
                  <a:lnTo>
                    <a:pt x="2080" y="229"/>
                  </a:lnTo>
                  <a:lnTo>
                    <a:pt x="1963" y="158"/>
                  </a:lnTo>
                  <a:lnTo>
                    <a:pt x="1842" y="101"/>
                  </a:lnTo>
                  <a:lnTo>
                    <a:pt x="1718" y="56"/>
                  </a:lnTo>
                  <a:lnTo>
                    <a:pt x="1591" y="25"/>
                  </a:lnTo>
                  <a:lnTo>
                    <a:pt x="1462" y="6"/>
                  </a:lnTo>
                  <a:lnTo>
                    <a:pt x="1334" y="0"/>
                  </a:lnTo>
                  <a:lnTo>
                    <a:pt x="1206" y="6"/>
                  </a:lnTo>
                  <a:lnTo>
                    <a:pt x="1080" y="24"/>
                  </a:lnTo>
                  <a:lnTo>
                    <a:pt x="955" y="54"/>
                  </a:lnTo>
                  <a:lnTo>
                    <a:pt x="834" y="96"/>
                  </a:lnTo>
                  <a:lnTo>
                    <a:pt x="717" y="150"/>
                  </a:lnTo>
                  <a:lnTo>
                    <a:pt x="606" y="214"/>
                  </a:lnTo>
                  <a:lnTo>
                    <a:pt x="500" y="291"/>
                  </a:lnTo>
                  <a:lnTo>
                    <a:pt x="401" y="378"/>
                  </a:lnTo>
                  <a:lnTo>
                    <a:pt x="311" y="477"/>
                  </a:lnTo>
                  <a:lnTo>
                    <a:pt x="229" y="587"/>
                  </a:lnTo>
                  <a:lnTo>
                    <a:pt x="158" y="702"/>
                  </a:lnTo>
                  <a:lnTo>
                    <a:pt x="101" y="824"/>
                  </a:lnTo>
                  <a:lnTo>
                    <a:pt x="56" y="948"/>
                  </a:lnTo>
                  <a:lnTo>
                    <a:pt x="25" y="1074"/>
                  </a:lnTo>
                  <a:lnTo>
                    <a:pt x="6" y="1202"/>
                  </a:lnTo>
                  <a:lnTo>
                    <a:pt x="0" y="1331"/>
                  </a:lnTo>
                  <a:lnTo>
                    <a:pt x="6" y="1458"/>
                  </a:lnTo>
                  <a:lnTo>
                    <a:pt x="24" y="1585"/>
                  </a:lnTo>
                  <a:lnTo>
                    <a:pt x="55" y="1709"/>
                  </a:lnTo>
                  <a:lnTo>
                    <a:pt x="96" y="1830"/>
                  </a:lnTo>
                  <a:lnTo>
                    <a:pt x="151" y="1947"/>
                  </a:lnTo>
                  <a:lnTo>
                    <a:pt x="215" y="2059"/>
                  </a:lnTo>
                  <a:lnTo>
                    <a:pt x="291" y="2165"/>
                  </a:lnTo>
                  <a:lnTo>
                    <a:pt x="379" y="2264"/>
                  </a:lnTo>
                  <a:lnTo>
                    <a:pt x="477" y="2354"/>
                  </a:lnTo>
                  <a:lnTo>
                    <a:pt x="586" y="2437"/>
                  </a:lnTo>
                  <a:close/>
                </a:path>
              </a:pathLst>
            </a:custGeom>
            <a:solidFill>
              <a:srgbClr val="a3c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679680" y="261000"/>
              <a:ext cx="194400" cy="190800"/>
            </a:xfrm>
            <a:custGeom>
              <a:avLst/>
              <a:gdLst/>
              <a:ahLst/>
              <a:rect l="l" t="t" r="r" b="b"/>
              <a:pathLst>
                <a:path w="2504" h="2504">
                  <a:moveTo>
                    <a:pt x="552" y="2289"/>
                  </a:moveTo>
                  <a:lnTo>
                    <a:pt x="661" y="2355"/>
                  </a:lnTo>
                  <a:lnTo>
                    <a:pt x="775" y="2410"/>
                  </a:lnTo>
                  <a:lnTo>
                    <a:pt x="891" y="2451"/>
                  </a:lnTo>
                  <a:lnTo>
                    <a:pt x="1010" y="2481"/>
                  </a:lnTo>
                  <a:lnTo>
                    <a:pt x="1130" y="2499"/>
                  </a:lnTo>
                  <a:lnTo>
                    <a:pt x="1251" y="2504"/>
                  </a:lnTo>
                  <a:lnTo>
                    <a:pt x="1371" y="2499"/>
                  </a:lnTo>
                  <a:lnTo>
                    <a:pt x="1490" y="2482"/>
                  </a:lnTo>
                  <a:lnTo>
                    <a:pt x="1607" y="2453"/>
                  </a:lnTo>
                  <a:lnTo>
                    <a:pt x="1721" y="2414"/>
                  </a:lnTo>
                  <a:lnTo>
                    <a:pt x="1830" y="2364"/>
                  </a:lnTo>
                  <a:lnTo>
                    <a:pt x="1936" y="2302"/>
                  </a:lnTo>
                  <a:lnTo>
                    <a:pt x="2035" y="2231"/>
                  </a:lnTo>
                  <a:lnTo>
                    <a:pt x="2127" y="2149"/>
                  </a:lnTo>
                  <a:lnTo>
                    <a:pt x="2212" y="2057"/>
                  </a:lnTo>
                  <a:lnTo>
                    <a:pt x="2290" y="1955"/>
                  </a:lnTo>
                  <a:lnTo>
                    <a:pt x="2356" y="1844"/>
                  </a:lnTo>
                  <a:lnTo>
                    <a:pt x="2410" y="1730"/>
                  </a:lnTo>
                  <a:lnTo>
                    <a:pt x="2451" y="1613"/>
                  </a:lnTo>
                  <a:lnTo>
                    <a:pt x="2481" y="1495"/>
                  </a:lnTo>
                  <a:lnTo>
                    <a:pt x="2499" y="1374"/>
                  </a:lnTo>
                  <a:lnTo>
                    <a:pt x="2504" y="1254"/>
                  </a:lnTo>
                  <a:lnTo>
                    <a:pt x="2499" y="1133"/>
                  </a:lnTo>
                  <a:lnTo>
                    <a:pt x="2482" y="1015"/>
                  </a:lnTo>
                  <a:lnTo>
                    <a:pt x="2453" y="898"/>
                  </a:lnTo>
                  <a:lnTo>
                    <a:pt x="2414" y="784"/>
                  </a:lnTo>
                  <a:lnTo>
                    <a:pt x="2364" y="674"/>
                  </a:lnTo>
                  <a:lnTo>
                    <a:pt x="2302" y="568"/>
                  </a:lnTo>
                  <a:lnTo>
                    <a:pt x="2231" y="469"/>
                  </a:lnTo>
                  <a:lnTo>
                    <a:pt x="2149" y="377"/>
                  </a:lnTo>
                  <a:lnTo>
                    <a:pt x="2057" y="292"/>
                  </a:lnTo>
                  <a:lnTo>
                    <a:pt x="1955" y="215"/>
                  </a:lnTo>
                  <a:lnTo>
                    <a:pt x="1844" y="148"/>
                  </a:lnTo>
                  <a:lnTo>
                    <a:pt x="1731" y="94"/>
                  </a:lnTo>
                  <a:lnTo>
                    <a:pt x="1615" y="53"/>
                  </a:lnTo>
                  <a:lnTo>
                    <a:pt x="1496" y="23"/>
                  </a:lnTo>
                  <a:lnTo>
                    <a:pt x="1375" y="5"/>
                  </a:lnTo>
                  <a:lnTo>
                    <a:pt x="1254" y="0"/>
                  </a:lnTo>
                  <a:lnTo>
                    <a:pt x="1134" y="5"/>
                  </a:lnTo>
                  <a:lnTo>
                    <a:pt x="1015" y="22"/>
                  </a:lnTo>
                  <a:lnTo>
                    <a:pt x="898" y="51"/>
                  </a:lnTo>
                  <a:lnTo>
                    <a:pt x="784" y="90"/>
                  </a:lnTo>
                  <a:lnTo>
                    <a:pt x="675" y="140"/>
                  </a:lnTo>
                  <a:lnTo>
                    <a:pt x="570" y="202"/>
                  </a:lnTo>
                  <a:lnTo>
                    <a:pt x="471" y="274"/>
                  </a:lnTo>
                  <a:lnTo>
                    <a:pt x="377" y="356"/>
                  </a:lnTo>
                  <a:lnTo>
                    <a:pt x="292" y="448"/>
                  </a:lnTo>
                  <a:lnTo>
                    <a:pt x="216" y="551"/>
                  </a:lnTo>
                  <a:lnTo>
                    <a:pt x="149" y="661"/>
                  </a:lnTo>
                  <a:lnTo>
                    <a:pt x="94" y="775"/>
                  </a:lnTo>
                  <a:lnTo>
                    <a:pt x="53" y="890"/>
                  </a:lnTo>
                  <a:lnTo>
                    <a:pt x="23" y="1010"/>
                  </a:lnTo>
                  <a:lnTo>
                    <a:pt x="5" y="1130"/>
                  </a:lnTo>
                  <a:lnTo>
                    <a:pt x="0" y="1251"/>
                  </a:lnTo>
                  <a:lnTo>
                    <a:pt x="5" y="1371"/>
                  </a:lnTo>
                  <a:lnTo>
                    <a:pt x="22" y="1490"/>
                  </a:lnTo>
                  <a:lnTo>
                    <a:pt x="51" y="1607"/>
                  </a:lnTo>
                  <a:lnTo>
                    <a:pt x="90" y="1721"/>
                  </a:lnTo>
                  <a:lnTo>
                    <a:pt x="140" y="1830"/>
                  </a:lnTo>
                  <a:lnTo>
                    <a:pt x="202" y="1935"/>
                  </a:lnTo>
                  <a:lnTo>
                    <a:pt x="274" y="2034"/>
                  </a:lnTo>
                  <a:lnTo>
                    <a:pt x="356" y="2127"/>
                  </a:lnTo>
                  <a:lnTo>
                    <a:pt x="448" y="2212"/>
                  </a:lnTo>
                  <a:lnTo>
                    <a:pt x="552" y="2289"/>
                  </a:lnTo>
                  <a:close/>
                </a:path>
              </a:pathLst>
            </a:custGeom>
            <a:solidFill>
              <a:srgbClr val="a6c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689040" y="262800"/>
              <a:ext cx="181080" cy="179640"/>
            </a:xfrm>
            <a:custGeom>
              <a:avLst/>
              <a:gdLst/>
              <a:ahLst/>
              <a:rect l="l" t="t" r="r" b="b"/>
              <a:pathLst>
                <a:path w="2344" h="2346">
                  <a:moveTo>
                    <a:pt x="517" y="2145"/>
                  </a:moveTo>
                  <a:lnTo>
                    <a:pt x="619" y="2206"/>
                  </a:lnTo>
                  <a:lnTo>
                    <a:pt x="725" y="2256"/>
                  </a:lnTo>
                  <a:lnTo>
                    <a:pt x="835" y="2296"/>
                  </a:lnTo>
                  <a:lnTo>
                    <a:pt x="946" y="2323"/>
                  </a:lnTo>
                  <a:lnTo>
                    <a:pt x="1059" y="2340"/>
                  </a:lnTo>
                  <a:lnTo>
                    <a:pt x="1172" y="2346"/>
                  </a:lnTo>
                  <a:lnTo>
                    <a:pt x="1284" y="2340"/>
                  </a:lnTo>
                  <a:lnTo>
                    <a:pt x="1395" y="2324"/>
                  </a:lnTo>
                  <a:lnTo>
                    <a:pt x="1504" y="2298"/>
                  </a:lnTo>
                  <a:lnTo>
                    <a:pt x="1611" y="2261"/>
                  </a:lnTo>
                  <a:lnTo>
                    <a:pt x="1714" y="2214"/>
                  </a:lnTo>
                  <a:lnTo>
                    <a:pt x="1812" y="2156"/>
                  </a:lnTo>
                  <a:lnTo>
                    <a:pt x="1904" y="2089"/>
                  </a:lnTo>
                  <a:lnTo>
                    <a:pt x="1991" y="2012"/>
                  </a:lnTo>
                  <a:lnTo>
                    <a:pt x="2071" y="1926"/>
                  </a:lnTo>
                  <a:lnTo>
                    <a:pt x="2143" y="1830"/>
                  </a:lnTo>
                  <a:lnTo>
                    <a:pt x="2205" y="1727"/>
                  </a:lnTo>
                  <a:lnTo>
                    <a:pt x="2256" y="1621"/>
                  </a:lnTo>
                  <a:lnTo>
                    <a:pt x="2294" y="1511"/>
                  </a:lnTo>
                  <a:lnTo>
                    <a:pt x="2323" y="1399"/>
                  </a:lnTo>
                  <a:lnTo>
                    <a:pt x="2339" y="1288"/>
                  </a:lnTo>
                  <a:lnTo>
                    <a:pt x="2344" y="1174"/>
                  </a:lnTo>
                  <a:lnTo>
                    <a:pt x="2339" y="1061"/>
                  </a:lnTo>
                  <a:lnTo>
                    <a:pt x="2323" y="951"/>
                  </a:lnTo>
                  <a:lnTo>
                    <a:pt x="2296" y="841"/>
                  </a:lnTo>
                  <a:lnTo>
                    <a:pt x="2260" y="734"/>
                  </a:lnTo>
                  <a:lnTo>
                    <a:pt x="2212" y="632"/>
                  </a:lnTo>
                  <a:lnTo>
                    <a:pt x="2155" y="533"/>
                  </a:lnTo>
                  <a:lnTo>
                    <a:pt x="2088" y="441"/>
                  </a:lnTo>
                  <a:lnTo>
                    <a:pt x="2011" y="353"/>
                  </a:lnTo>
                  <a:lnTo>
                    <a:pt x="1925" y="274"/>
                  </a:lnTo>
                  <a:lnTo>
                    <a:pt x="1830" y="202"/>
                  </a:lnTo>
                  <a:lnTo>
                    <a:pt x="1726" y="140"/>
                  </a:lnTo>
                  <a:lnTo>
                    <a:pt x="1620" y="90"/>
                  </a:lnTo>
                  <a:lnTo>
                    <a:pt x="1511" y="50"/>
                  </a:lnTo>
                  <a:lnTo>
                    <a:pt x="1399" y="23"/>
                  </a:lnTo>
                  <a:lnTo>
                    <a:pt x="1286" y="6"/>
                  </a:lnTo>
                  <a:lnTo>
                    <a:pt x="1174" y="0"/>
                  </a:lnTo>
                  <a:lnTo>
                    <a:pt x="1061" y="6"/>
                  </a:lnTo>
                  <a:lnTo>
                    <a:pt x="950" y="22"/>
                  </a:lnTo>
                  <a:lnTo>
                    <a:pt x="841" y="48"/>
                  </a:lnTo>
                  <a:lnTo>
                    <a:pt x="735" y="86"/>
                  </a:lnTo>
                  <a:lnTo>
                    <a:pt x="631" y="132"/>
                  </a:lnTo>
                  <a:lnTo>
                    <a:pt x="534" y="190"/>
                  </a:lnTo>
                  <a:lnTo>
                    <a:pt x="440" y="257"/>
                  </a:lnTo>
                  <a:lnTo>
                    <a:pt x="353" y="333"/>
                  </a:lnTo>
                  <a:lnTo>
                    <a:pt x="273" y="419"/>
                  </a:lnTo>
                  <a:lnTo>
                    <a:pt x="202" y="516"/>
                  </a:lnTo>
                  <a:lnTo>
                    <a:pt x="139" y="618"/>
                  </a:lnTo>
                  <a:lnTo>
                    <a:pt x="88" y="724"/>
                  </a:lnTo>
                  <a:lnTo>
                    <a:pt x="50" y="834"/>
                  </a:lnTo>
                  <a:lnTo>
                    <a:pt x="21" y="946"/>
                  </a:lnTo>
                  <a:lnTo>
                    <a:pt x="5" y="1058"/>
                  </a:lnTo>
                  <a:lnTo>
                    <a:pt x="0" y="1171"/>
                  </a:lnTo>
                  <a:lnTo>
                    <a:pt x="5" y="1284"/>
                  </a:lnTo>
                  <a:lnTo>
                    <a:pt x="21" y="1395"/>
                  </a:lnTo>
                  <a:lnTo>
                    <a:pt x="48" y="1504"/>
                  </a:lnTo>
                  <a:lnTo>
                    <a:pt x="85" y="1611"/>
                  </a:lnTo>
                  <a:lnTo>
                    <a:pt x="132" y="1713"/>
                  </a:lnTo>
                  <a:lnTo>
                    <a:pt x="189" y="1812"/>
                  </a:lnTo>
                  <a:lnTo>
                    <a:pt x="256" y="1904"/>
                  </a:lnTo>
                  <a:lnTo>
                    <a:pt x="334" y="1992"/>
                  </a:lnTo>
                  <a:lnTo>
                    <a:pt x="420" y="2071"/>
                  </a:lnTo>
                  <a:lnTo>
                    <a:pt x="517" y="2145"/>
                  </a:lnTo>
                  <a:close/>
                </a:path>
              </a:pathLst>
            </a:custGeom>
            <a:solidFill>
              <a:srgbClr val="a9d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18040" y="1001160"/>
              <a:ext cx="291960" cy="93600"/>
            </a:xfrm>
            <a:custGeom>
              <a:avLst/>
              <a:gdLst/>
              <a:ahLst/>
              <a:rect l="l" t="t" r="r" b="b"/>
              <a:pathLst>
                <a:path w="3769" h="1229">
                  <a:moveTo>
                    <a:pt x="0" y="1200"/>
                  </a:moveTo>
                  <a:lnTo>
                    <a:pt x="54" y="1219"/>
                  </a:lnTo>
                  <a:lnTo>
                    <a:pt x="143" y="1229"/>
                  </a:lnTo>
                  <a:lnTo>
                    <a:pt x="263" y="1228"/>
                  </a:lnTo>
                  <a:lnTo>
                    <a:pt x="413" y="1217"/>
                  </a:lnTo>
                  <a:lnTo>
                    <a:pt x="590" y="1194"/>
                  </a:lnTo>
                  <a:lnTo>
                    <a:pt x="793" y="1159"/>
                  </a:lnTo>
                  <a:lnTo>
                    <a:pt x="1021" y="1112"/>
                  </a:lnTo>
                  <a:lnTo>
                    <a:pt x="1268" y="1050"/>
                  </a:lnTo>
                  <a:lnTo>
                    <a:pt x="1535" y="975"/>
                  </a:lnTo>
                  <a:lnTo>
                    <a:pt x="1819" y="885"/>
                  </a:lnTo>
                  <a:lnTo>
                    <a:pt x="2119" y="780"/>
                  </a:lnTo>
                  <a:lnTo>
                    <a:pt x="2430" y="659"/>
                  </a:lnTo>
                  <a:lnTo>
                    <a:pt x="2755" y="521"/>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16960" y="1091520"/>
              <a:ext cx="1800" cy="324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4" name=""/>
            <p:cNvSpPr/>
            <p:nvPr/>
          </p:nvSpPr>
          <p:spPr>
            <a:xfrm>
              <a:off x="808920" y="999720"/>
              <a:ext cx="1800" cy="3240"/>
            </a:xfrm>
            <a:custGeom>
              <a:avLst/>
              <a:gdLst/>
              <a:ahLst/>
              <a:rect l="l" t="t" r="r" b="b"/>
              <a:pathLst>
                <a:path w="24" h="40">
                  <a:moveTo>
                    <a:pt x="0" y="0"/>
                  </a:moveTo>
                  <a:lnTo>
                    <a:pt x="24"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5" name=""/>
            <p:cNvSpPr/>
            <p:nvPr/>
          </p:nvSpPr>
          <p:spPr>
            <a:xfrm>
              <a:off x="810000" y="794520"/>
              <a:ext cx="225000" cy="206280"/>
            </a:xfrm>
            <a:custGeom>
              <a:avLst/>
              <a:gdLst/>
              <a:ahLst/>
              <a:rect l="l" t="t" r="r" b="b"/>
              <a:pathLst>
                <a:path w="2896" h="2695">
                  <a:moveTo>
                    <a:pt x="0" y="2695"/>
                  </a:moveTo>
                  <a:lnTo>
                    <a:pt x="335" y="2490"/>
                  </a:lnTo>
                  <a:lnTo>
                    <a:pt x="649" y="2280"/>
                  </a:lnTo>
                  <a:lnTo>
                    <a:pt x="944" y="2069"/>
                  </a:lnTo>
                  <a:lnTo>
                    <a:pt x="1217" y="1856"/>
                  </a:lnTo>
                  <a:lnTo>
                    <a:pt x="1470" y="1646"/>
                  </a:lnTo>
                  <a:lnTo>
                    <a:pt x="1703" y="1438"/>
                  </a:lnTo>
                  <a:lnTo>
                    <a:pt x="1916" y="1236"/>
                  </a:lnTo>
                  <a:lnTo>
                    <a:pt x="2107" y="1042"/>
                  </a:lnTo>
                  <a:lnTo>
                    <a:pt x="2277" y="857"/>
                  </a:lnTo>
                  <a:lnTo>
                    <a:pt x="2428" y="683"/>
                  </a:lnTo>
                  <a:lnTo>
                    <a:pt x="2558" y="524"/>
                  </a:lnTo>
                  <a:lnTo>
                    <a:pt x="2666" y="379"/>
                  </a:lnTo>
                  <a:lnTo>
                    <a:pt x="2754" y="253"/>
                  </a:lnTo>
                  <a:lnTo>
                    <a:pt x="2822" y="147"/>
                  </a:lnTo>
                  <a:lnTo>
                    <a:pt x="2869" y="60"/>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808920" y="999720"/>
              <a:ext cx="1800" cy="3240"/>
            </a:xfrm>
            <a:custGeom>
              <a:avLst/>
              <a:gdLst/>
              <a:ahLst/>
              <a:rect l="l" t="t" r="r" b="b"/>
              <a:pathLst>
                <a:path w="24" h="40">
                  <a:moveTo>
                    <a:pt x="24" y="40"/>
                  </a:moveTo>
                  <a:lnTo>
                    <a:pt x="0" y="0"/>
                  </a:lnTo>
                  <a:lnTo>
                    <a:pt x="24" y="4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7" name=""/>
            <p:cNvSpPr/>
            <p:nvPr/>
          </p:nvSpPr>
          <p:spPr>
            <a:xfrm>
              <a:off x="1033200" y="794520"/>
              <a:ext cx="3600" cy="720"/>
            </a:xfrm>
            <a:custGeom>
              <a:avLst/>
              <a:gdLst/>
              <a:ahLst/>
              <a:rect l="l" t="t" r="r" b="b"/>
              <a:pathLst>
                <a:path w="45" h="12">
                  <a:moveTo>
                    <a:pt x="0" y="0"/>
                  </a:moveTo>
                  <a:lnTo>
                    <a:pt x="45" y="12"/>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8" name=""/>
            <p:cNvSpPr/>
            <p:nvPr/>
          </p:nvSpPr>
          <p:spPr>
            <a:xfrm>
              <a:off x="825840" y="345600"/>
              <a:ext cx="252000" cy="684720"/>
            </a:xfrm>
            <a:custGeom>
              <a:avLst/>
              <a:gdLst/>
              <a:ahLst/>
              <a:rect l="l" t="t" r="r" b="b"/>
              <a:pathLst>
                <a:path w="3257" h="8952">
                  <a:moveTo>
                    <a:pt x="0" y="8952"/>
                  </a:moveTo>
                  <a:lnTo>
                    <a:pt x="561" y="8586"/>
                  </a:lnTo>
                  <a:lnTo>
                    <a:pt x="1073" y="8174"/>
                  </a:lnTo>
                  <a:lnTo>
                    <a:pt x="1535" y="7719"/>
                  </a:lnTo>
                  <a:lnTo>
                    <a:pt x="1945" y="7225"/>
                  </a:lnTo>
                  <a:lnTo>
                    <a:pt x="2301" y="6700"/>
                  </a:lnTo>
                  <a:lnTo>
                    <a:pt x="2603" y="6145"/>
                  </a:lnTo>
                  <a:lnTo>
                    <a:pt x="2850" y="5566"/>
                  </a:lnTo>
                  <a:lnTo>
                    <a:pt x="3040" y="4966"/>
                  </a:lnTo>
                  <a:lnTo>
                    <a:pt x="3172" y="4352"/>
                  </a:lnTo>
                  <a:lnTo>
                    <a:pt x="3244" y="3727"/>
                  </a:lnTo>
                  <a:lnTo>
                    <a:pt x="3257" y="3095"/>
                  </a:lnTo>
                  <a:lnTo>
                    <a:pt x="3207" y="2462"/>
                  </a:lnTo>
                  <a:lnTo>
                    <a:pt x="3095" y="1831"/>
                  </a:lnTo>
                  <a:lnTo>
                    <a:pt x="2920" y="1207"/>
                  </a:lnTo>
                  <a:lnTo>
                    <a:pt x="2679" y="595"/>
                  </a:lnTo>
                  <a:lnTo>
                    <a:pt x="2373" y="0"/>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822960" y="1029600"/>
              <a:ext cx="3240" cy="3600"/>
            </a:xfrm>
            <a:custGeom>
              <a:avLst/>
              <a:gdLst/>
              <a:ahLst/>
              <a:rect l="l" t="t" r="r" b="b"/>
              <a:pathLst>
                <a:path w="43" h="52">
                  <a:moveTo>
                    <a:pt x="43" y="40"/>
                  </a:moveTo>
                  <a:lnTo>
                    <a:pt x="23" y="52"/>
                  </a:lnTo>
                  <a:lnTo>
                    <a:pt x="0" y="11"/>
                  </a:lnTo>
                  <a:lnTo>
                    <a:pt x="20" y="0"/>
                  </a:lnTo>
                  <a:lnTo>
                    <a:pt x="43"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0" name=""/>
            <p:cNvSpPr/>
            <p:nvPr/>
          </p:nvSpPr>
          <p:spPr>
            <a:xfrm>
              <a:off x="1007280" y="343800"/>
              <a:ext cx="3240" cy="2520"/>
            </a:xfrm>
            <a:custGeom>
              <a:avLst/>
              <a:gdLst/>
              <a:ahLst/>
              <a:rect l="l" t="t" r="r" b="b"/>
              <a:pathLst>
                <a:path w="52" h="43">
                  <a:moveTo>
                    <a:pt x="11" y="43"/>
                  </a:moveTo>
                  <a:lnTo>
                    <a:pt x="0" y="23"/>
                  </a:lnTo>
                  <a:lnTo>
                    <a:pt x="40" y="0"/>
                  </a:lnTo>
                  <a:lnTo>
                    <a:pt x="52" y="20"/>
                  </a:lnTo>
                  <a:lnTo>
                    <a:pt x="11" y="43"/>
                  </a:lnTo>
                  <a:close/>
                </a:path>
              </a:pathLst>
            </a:custGeom>
            <a:solidFill>
              <a:srgbClr val="1f61a9"/>
            </a:solidFill>
            <a:ln w="0">
              <a:solidFill>
                <a:srgbClr val="1f61a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316080" y="96840"/>
              <a:ext cx="693720" cy="248760"/>
            </a:xfrm>
            <a:custGeom>
              <a:avLst/>
              <a:gdLst/>
              <a:ahLst/>
              <a:rect l="l" t="t" r="r" b="b"/>
              <a:pathLst>
                <a:path w="8954" h="3258">
                  <a:moveTo>
                    <a:pt x="8954" y="3258"/>
                  </a:moveTo>
                  <a:lnTo>
                    <a:pt x="8587" y="2695"/>
                  </a:lnTo>
                  <a:lnTo>
                    <a:pt x="8174" y="2183"/>
                  </a:lnTo>
                  <a:lnTo>
                    <a:pt x="7719" y="1721"/>
                  </a:lnTo>
                  <a:lnTo>
                    <a:pt x="7227" y="1311"/>
                  </a:lnTo>
                  <a:lnTo>
                    <a:pt x="6701" y="955"/>
                  </a:lnTo>
                  <a:lnTo>
                    <a:pt x="6146" y="653"/>
                  </a:lnTo>
                  <a:lnTo>
                    <a:pt x="5566" y="406"/>
                  </a:lnTo>
                  <a:lnTo>
                    <a:pt x="4968" y="217"/>
                  </a:lnTo>
                  <a:lnTo>
                    <a:pt x="4352" y="85"/>
                  </a:lnTo>
                  <a:lnTo>
                    <a:pt x="3727" y="12"/>
                  </a:lnTo>
                  <a:lnTo>
                    <a:pt x="3096" y="0"/>
                  </a:lnTo>
                  <a:lnTo>
                    <a:pt x="2462" y="49"/>
                  </a:lnTo>
                  <a:lnTo>
                    <a:pt x="1832" y="161"/>
                  </a:lnTo>
                  <a:lnTo>
                    <a:pt x="1208" y="337"/>
                  </a:lnTo>
                  <a:lnTo>
                    <a:pt x="595" y="578"/>
                  </a:lnTo>
                  <a:lnTo>
                    <a:pt x="0" y="886"/>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1008000" y="344520"/>
              <a:ext cx="3600" cy="3600"/>
            </a:xfrm>
            <a:custGeom>
              <a:avLst/>
              <a:gdLst/>
              <a:ahLst/>
              <a:rect l="l" t="t" r="r" b="b"/>
              <a:pathLst>
                <a:path w="52" h="43">
                  <a:moveTo>
                    <a:pt x="41" y="0"/>
                  </a:moveTo>
                  <a:lnTo>
                    <a:pt x="52" y="20"/>
                  </a:lnTo>
                  <a:lnTo>
                    <a:pt x="12" y="43"/>
                  </a:lnTo>
                  <a:lnTo>
                    <a:pt x="0" y="23"/>
                  </a:lnTo>
                  <a:lnTo>
                    <a:pt x="41" y="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313200" y="162720"/>
              <a:ext cx="3600" cy="3600"/>
            </a:xfrm>
            <a:custGeom>
              <a:avLst/>
              <a:gdLst/>
              <a:ahLst/>
              <a:rect l="l" t="t" r="r" b="b"/>
              <a:pathLst>
                <a:path w="44" h="52">
                  <a:moveTo>
                    <a:pt x="44" y="40"/>
                  </a:moveTo>
                  <a:lnTo>
                    <a:pt x="23" y="52"/>
                  </a:lnTo>
                  <a:lnTo>
                    <a:pt x="0" y="11"/>
                  </a:lnTo>
                  <a:lnTo>
                    <a:pt x="20" y="0"/>
                  </a:lnTo>
                  <a:lnTo>
                    <a:pt x="44" y="40"/>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63360" y="164520"/>
              <a:ext cx="252720" cy="685080"/>
            </a:xfrm>
            <a:custGeom>
              <a:avLst/>
              <a:gdLst/>
              <a:ahLst/>
              <a:rect l="l" t="t" r="r" b="b"/>
              <a:pathLst>
                <a:path w="3257" h="8952">
                  <a:moveTo>
                    <a:pt x="3257" y="0"/>
                  </a:moveTo>
                  <a:lnTo>
                    <a:pt x="2695" y="364"/>
                  </a:lnTo>
                  <a:lnTo>
                    <a:pt x="2182" y="777"/>
                  </a:lnTo>
                  <a:lnTo>
                    <a:pt x="1721" y="1232"/>
                  </a:lnTo>
                  <a:lnTo>
                    <a:pt x="1311" y="1725"/>
                  </a:lnTo>
                  <a:lnTo>
                    <a:pt x="954" y="2250"/>
                  </a:lnTo>
                  <a:lnTo>
                    <a:pt x="652" y="2805"/>
                  </a:lnTo>
                  <a:lnTo>
                    <a:pt x="406" y="3385"/>
                  </a:lnTo>
                  <a:lnTo>
                    <a:pt x="216" y="3984"/>
                  </a:lnTo>
                  <a:lnTo>
                    <a:pt x="85" y="4599"/>
                  </a:lnTo>
                  <a:lnTo>
                    <a:pt x="11" y="5224"/>
                  </a:lnTo>
                  <a:lnTo>
                    <a:pt x="0" y="5855"/>
                  </a:lnTo>
                  <a:lnTo>
                    <a:pt x="49" y="6489"/>
                  </a:lnTo>
                  <a:lnTo>
                    <a:pt x="160" y="7119"/>
                  </a:lnTo>
                  <a:lnTo>
                    <a:pt x="337" y="7743"/>
                  </a:lnTo>
                  <a:lnTo>
                    <a:pt x="577" y="8356"/>
                  </a:lnTo>
                  <a:lnTo>
                    <a:pt x="885" y="895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15360" y="162000"/>
              <a:ext cx="2520" cy="3600"/>
            </a:xfrm>
            <a:custGeom>
              <a:avLst/>
              <a:gdLst/>
              <a:ahLst/>
              <a:rect l="l" t="t" r="r" b="b"/>
              <a:pathLst>
                <a:path w="44" h="52">
                  <a:moveTo>
                    <a:pt x="0" y="12"/>
                  </a:moveTo>
                  <a:lnTo>
                    <a:pt x="20" y="0"/>
                  </a:lnTo>
                  <a:lnTo>
                    <a:pt x="44" y="40"/>
                  </a:lnTo>
                  <a:lnTo>
                    <a:pt x="24"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29960" y="848880"/>
              <a:ext cx="4320" cy="2880"/>
            </a:xfrm>
            <a:custGeom>
              <a:avLst/>
              <a:gdLst/>
              <a:ahLst/>
              <a:rect l="l" t="t" r="r" b="b"/>
              <a:pathLst>
                <a:path w="52" h="44">
                  <a:moveTo>
                    <a:pt x="40" y="0"/>
                  </a:moveTo>
                  <a:lnTo>
                    <a:pt x="52" y="21"/>
                  </a:lnTo>
                  <a:lnTo>
                    <a:pt x="12" y="44"/>
                  </a:lnTo>
                  <a:lnTo>
                    <a:pt x="0" y="24"/>
                  </a:lnTo>
                  <a:lnTo>
                    <a:pt x="40" y="0"/>
                  </a:lnTo>
                  <a:close/>
                </a:path>
              </a:pathLst>
            </a:custGeom>
            <a:solidFill>
              <a:srgbClr val="1f61a9"/>
            </a:solidFill>
            <a:ln w="0">
              <a:solidFill>
                <a:srgbClr val="1f61a9"/>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31760" y="849960"/>
              <a:ext cx="693720" cy="248760"/>
            </a:xfrm>
            <a:custGeom>
              <a:avLst/>
              <a:gdLst/>
              <a:ahLst/>
              <a:rect l="l" t="t" r="r" b="b"/>
              <a:pathLst>
                <a:path w="8953" h="3256">
                  <a:moveTo>
                    <a:pt x="0" y="0"/>
                  </a:moveTo>
                  <a:lnTo>
                    <a:pt x="365" y="561"/>
                  </a:lnTo>
                  <a:lnTo>
                    <a:pt x="777" y="1074"/>
                  </a:lnTo>
                  <a:lnTo>
                    <a:pt x="1232" y="1535"/>
                  </a:lnTo>
                  <a:lnTo>
                    <a:pt x="1726" y="1944"/>
                  </a:lnTo>
                  <a:lnTo>
                    <a:pt x="2251" y="2302"/>
                  </a:lnTo>
                  <a:lnTo>
                    <a:pt x="2806" y="2603"/>
                  </a:lnTo>
                  <a:lnTo>
                    <a:pt x="3385" y="2850"/>
                  </a:lnTo>
                  <a:lnTo>
                    <a:pt x="3985" y="3039"/>
                  </a:lnTo>
                  <a:lnTo>
                    <a:pt x="4599" y="3171"/>
                  </a:lnTo>
                  <a:lnTo>
                    <a:pt x="5224" y="3245"/>
                  </a:lnTo>
                  <a:lnTo>
                    <a:pt x="5856" y="3256"/>
                  </a:lnTo>
                  <a:lnTo>
                    <a:pt x="6489" y="3207"/>
                  </a:lnTo>
                  <a:lnTo>
                    <a:pt x="7120" y="3096"/>
                  </a:lnTo>
                  <a:lnTo>
                    <a:pt x="7744" y="2919"/>
                  </a:lnTo>
                  <a:lnTo>
                    <a:pt x="8356" y="2679"/>
                  </a:lnTo>
                  <a:lnTo>
                    <a:pt x="8953" y="2372"/>
                  </a:lnTo>
                </a:path>
              </a:pathLst>
            </a:custGeom>
            <a:noFill/>
            <a:ln w="6480">
              <a:solidFill>
                <a:srgbClr val="1f61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29240" y="847080"/>
              <a:ext cx="4320" cy="3240"/>
            </a:xfrm>
            <a:custGeom>
              <a:avLst/>
              <a:gdLst/>
              <a:ahLst/>
              <a:rect l="l" t="t" r="r" b="b"/>
              <a:pathLst>
                <a:path w="52" h="44">
                  <a:moveTo>
                    <a:pt x="12" y="44"/>
                  </a:moveTo>
                  <a:lnTo>
                    <a:pt x="0" y="24"/>
                  </a:lnTo>
                  <a:lnTo>
                    <a:pt x="41" y="0"/>
                  </a:lnTo>
                  <a:lnTo>
                    <a:pt x="52" y="20"/>
                  </a:lnTo>
                  <a:lnTo>
                    <a:pt x="12" y="44"/>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9" name=""/>
            <p:cNvSpPr/>
            <p:nvPr/>
          </p:nvSpPr>
          <p:spPr>
            <a:xfrm>
              <a:off x="824760" y="1028880"/>
              <a:ext cx="3600" cy="3240"/>
            </a:xfrm>
            <a:custGeom>
              <a:avLst/>
              <a:gdLst/>
              <a:ahLst/>
              <a:rect l="l" t="t" r="r" b="b"/>
              <a:pathLst>
                <a:path w="44" h="52">
                  <a:moveTo>
                    <a:pt x="0" y="12"/>
                  </a:moveTo>
                  <a:lnTo>
                    <a:pt x="20" y="0"/>
                  </a:lnTo>
                  <a:lnTo>
                    <a:pt x="44" y="40"/>
                  </a:lnTo>
                  <a:lnTo>
                    <a:pt x="23" y="52"/>
                  </a:lnTo>
                  <a:lnTo>
                    <a:pt x="0" y="12"/>
                  </a:lnTo>
                  <a:close/>
                </a:path>
              </a:pathLst>
            </a:custGeom>
            <a:solidFill>
              <a:srgbClr val="1f61a9"/>
            </a:solidFill>
            <a:ln w="0">
              <a:solidFill>
                <a:srgbClr val="1f61a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0" name=""/>
            <p:cNvSpPr/>
            <p:nvPr/>
          </p:nvSpPr>
          <p:spPr>
            <a:xfrm>
              <a:off x="826560" y="396000"/>
              <a:ext cx="178560" cy="635400"/>
            </a:xfrm>
            <a:custGeom>
              <a:avLst/>
              <a:gdLst/>
              <a:ahLst/>
              <a:rect l="l" t="t" r="r" b="b"/>
              <a:pathLst>
                <a:path w="2309" h="8312">
                  <a:moveTo>
                    <a:pt x="0" y="8312"/>
                  </a:moveTo>
                  <a:lnTo>
                    <a:pt x="447" y="8013"/>
                  </a:lnTo>
                  <a:lnTo>
                    <a:pt x="847" y="7665"/>
                  </a:lnTo>
                  <a:lnTo>
                    <a:pt x="1201" y="7273"/>
                  </a:lnTo>
                  <a:lnTo>
                    <a:pt x="1508" y="6840"/>
                  </a:lnTo>
                  <a:lnTo>
                    <a:pt x="1765" y="6370"/>
                  </a:lnTo>
                  <a:lnTo>
                    <a:pt x="1974" y="5868"/>
                  </a:lnTo>
                  <a:lnTo>
                    <a:pt x="2134" y="5339"/>
                  </a:lnTo>
                  <a:lnTo>
                    <a:pt x="2243" y="4786"/>
                  </a:lnTo>
                  <a:lnTo>
                    <a:pt x="2302" y="4212"/>
                  </a:lnTo>
                  <a:lnTo>
                    <a:pt x="2309" y="3623"/>
                  </a:lnTo>
                  <a:lnTo>
                    <a:pt x="2266" y="3024"/>
                  </a:lnTo>
                  <a:lnTo>
                    <a:pt x="2168" y="2417"/>
                  </a:lnTo>
                  <a:lnTo>
                    <a:pt x="2018" y="1806"/>
                  </a:lnTo>
                  <a:lnTo>
                    <a:pt x="1814" y="1197"/>
                  </a:lnTo>
                  <a:lnTo>
                    <a:pt x="1555" y="593"/>
                  </a:lnTo>
                  <a:lnTo>
                    <a:pt x="1242"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2" name=""/>
            <p:cNvSpPr/>
            <p:nvPr/>
          </p:nvSpPr>
          <p:spPr>
            <a:xfrm>
              <a:off x="919800" y="393120"/>
              <a:ext cx="4320" cy="252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23" name=""/>
            <p:cNvSpPr/>
            <p:nvPr/>
          </p:nvSpPr>
          <p:spPr>
            <a:xfrm>
              <a:off x="315360" y="118800"/>
              <a:ext cx="606960" cy="277200"/>
            </a:xfrm>
            <a:custGeom>
              <a:avLst/>
              <a:gdLst/>
              <a:ahLst/>
              <a:rect l="l" t="t" r="r" b="b"/>
              <a:pathLst>
                <a:path w="7837" h="3616">
                  <a:moveTo>
                    <a:pt x="7837" y="3616"/>
                  </a:moveTo>
                  <a:lnTo>
                    <a:pt x="7475" y="3050"/>
                  </a:lnTo>
                  <a:lnTo>
                    <a:pt x="7080" y="2526"/>
                  </a:lnTo>
                  <a:lnTo>
                    <a:pt x="6651" y="2047"/>
                  </a:lnTo>
                  <a:lnTo>
                    <a:pt x="6196" y="1614"/>
                  </a:lnTo>
                  <a:lnTo>
                    <a:pt x="5717" y="1230"/>
                  </a:lnTo>
                  <a:lnTo>
                    <a:pt x="5217" y="895"/>
                  </a:lnTo>
                  <a:lnTo>
                    <a:pt x="4703" y="610"/>
                  </a:lnTo>
                  <a:lnTo>
                    <a:pt x="4175" y="377"/>
                  </a:lnTo>
                  <a:lnTo>
                    <a:pt x="3640" y="198"/>
                  </a:lnTo>
                  <a:lnTo>
                    <a:pt x="3101" y="74"/>
                  </a:lnTo>
                  <a:lnTo>
                    <a:pt x="2562" y="8"/>
                  </a:lnTo>
                  <a:lnTo>
                    <a:pt x="2026" y="0"/>
                  </a:lnTo>
                  <a:lnTo>
                    <a:pt x="1497" y="51"/>
                  </a:lnTo>
                  <a:lnTo>
                    <a:pt x="981" y="164"/>
                  </a:lnTo>
                  <a:lnTo>
                    <a:pt x="480" y="340"/>
                  </a:lnTo>
                  <a:lnTo>
                    <a:pt x="0" y="581"/>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920520" y="395280"/>
              <a:ext cx="4320" cy="252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25"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6" name=""/>
            <p:cNvSpPr/>
            <p:nvPr/>
          </p:nvSpPr>
          <p:spPr>
            <a:xfrm>
              <a:off x="135720" y="163800"/>
              <a:ext cx="179280" cy="635400"/>
            </a:xfrm>
            <a:custGeom>
              <a:avLst/>
              <a:gdLst/>
              <a:ahLst/>
              <a:rect l="l" t="t" r="r" b="b"/>
              <a:pathLst>
                <a:path w="2311" h="8312">
                  <a:moveTo>
                    <a:pt x="2311" y="0"/>
                  </a:moveTo>
                  <a:lnTo>
                    <a:pt x="1863" y="299"/>
                  </a:lnTo>
                  <a:lnTo>
                    <a:pt x="1462" y="647"/>
                  </a:lnTo>
                  <a:lnTo>
                    <a:pt x="1109" y="1039"/>
                  </a:lnTo>
                  <a:lnTo>
                    <a:pt x="803" y="1471"/>
                  </a:lnTo>
                  <a:lnTo>
                    <a:pt x="545" y="1941"/>
                  </a:lnTo>
                  <a:lnTo>
                    <a:pt x="335" y="2443"/>
                  </a:lnTo>
                  <a:lnTo>
                    <a:pt x="176" y="2973"/>
                  </a:lnTo>
                  <a:lnTo>
                    <a:pt x="66" y="3526"/>
                  </a:lnTo>
                  <a:lnTo>
                    <a:pt x="8" y="4099"/>
                  </a:lnTo>
                  <a:lnTo>
                    <a:pt x="0" y="4688"/>
                  </a:lnTo>
                  <a:lnTo>
                    <a:pt x="45" y="5288"/>
                  </a:lnTo>
                  <a:lnTo>
                    <a:pt x="142" y="5895"/>
                  </a:lnTo>
                  <a:lnTo>
                    <a:pt x="292" y="6505"/>
                  </a:lnTo>
                  <a:lnTo>
                    <a:pt x="496" y="7114"/>
                  </a:lnTo>
                  <a:lnTo>
                    <a:pt x="754" y="7718"/>
                  </a:lnTo>
                  <a:lnTo>
                    <a:pt x="1069" y="8312"/>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8" name=""/>
            <p:cNvSpPr/>
            <p:nvPr/>
          </p:nvSpPr>
          <p:spPr>
            <a:xfrm>
              <a:off x="217440" y="798480"/>
              <a:ext cx="3240" cy="3240"/>
            </a:xfrm>
            <a:custGeom>
              <a:avLst/>
              <a:gdLst/>
              <a:ahLst/>
              <a:rect l="l" t="t" r="r" b="b"/>
              <a:pathLst>
                <a:path w="52" h="43">
                  <a:moveTo>
                    <a:pt x="40" y="0"/>
                  </a:moveTo>
                  <a:lnTo>
                    <a:pt x="52" y="20"/>
                  </a:lnTo>
                  <a:lnTo>
                    <a:pt x="11" y="43"/>
                  </a:lnTo>
                  <a:lnTo>
                    <a:pt x="0" y="23"/>
                  </a:lnTo>
                  <a:lnTo>
                    <a:pt x="40" y="0"/>
                  </a:lnTo>
                  <a:close/>
                </a:path>
              </a:pathLst>
            </a:custGeom>
            <a:solidFill>
              <a:srgbClr val="72a6cd"/>
            </a:solidFill>
            <a:ln w="0">
              <a:solidFill>
                <a:srgbClr val="72a6cd"/>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9" name=""/>
            <p:cNvSpPr/>
            <p:nvPr/>
          </p:nvSpPr>
          <p:spPr>
            <a:xfrm>
              <a:off x="218520" y="799200"/>
              <a:ext cx="608040" cy="277200"/>
            </a:xfrm>
            <a:custGeom>
              <a:avLst/>
              <a:gdLst/>
              <a:ahLst/>
              <a:rect l="l" t="t" r="r" b="b"/>
              <a:pathLst>
                <a:path w="7837" h="3616">
                  <a:moveTo>
                    <a:pt x="0" y="0"/>
                  </a:moveTo>
                  <a:lnTo>
                    <a:pt x="360" y="566"/>
                  </a:lnTo>
                  <a:lnTo>
                    <a:pt x="756" y="1090"/>
                  </a:lnTo>
                  <a:lnTo>
                    <a:pt x="1184" y="1568"/>
                  </a:lnTo>
                  <a:lnTo>
                    <a:pt x="1639" y="2001"/>
                  </a:lnTo>
                  <a:lnTo>
                    <a:pt x="2119" y="2386"/>
                  </a:lnTo>
                  <a:lnTo>
                    <a:pt x="2618" y="2721"/>
                  </a:lnTo>
                  <a:lnTo>
                    <a:pt x="3133" y="3006"/>
                  </a:lnTo>
                  <a:lnTo>
                    <a:pt x="3660" y="3238"/>
                  </a:lnTo>
                  <a:lnTo>
                    <a:pt x="4196" y="3417"/>
                  </a:lnTo>
                  <a:lnTo>
                    <a:pt x="4735" y="3541"/>
                  </a:lnTo>
                  <a:lnTo>
                    <a:pt x="5274" y="3607"/>
                  </a:lnTo>
                  <a:lnTo>
                    <a:pt x="5810" y="3616"/>
                  </a:lnTo>
                  <a:lnTo>
                    <a:pt x="6338" y="3565"/>
                  </a:lnTo>
                  <a:lnTo>
                    <a:pt x="6855" y="3451"/>
                  </a:lnTo>
                  <a:lnTo>
                    <a:pt x="7356" y="3276"/>
                  </a:lnTo>
                  <a:lnTo>
                    <a:pt x="7837" y="3035"/>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16360" y="797400"/>
              <a:ext cx="3600" cy="2880"/>
            </a:xfrm>
            <a:custGeom>
              <a:avLst/>
              <a:gdLst/>
              <a:ahLst/>
              <a:rect l="l" t="t" r="r" b="b"/>
              <a:pathLst>
                <a:path w="52" h="44">
                  <a:moveTo>
                    <a:pt x="12" y="44"/>
                  </a:moveTo>
                  <a:lnTo>
                    <a:pt x="0" y="24"/>
                  </a:lnTo>
                  <a:lnTo>
                    <a:pt x="40" y="0"/>
                  </a:lnTo>
                  <a:lnTo>
                    <a:pt x="52" y="21"/>
                  </a:lnTo>
                  <a:lnTo>
                    <a:pt x="12" y="44"/>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1"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72a6cd"/>
            </a:solidFill>
            <a:ln w="0">
              <a:solidFill>
                <a:srgbClr val="72a6cd"/>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2" name=""/>
            <p:cNvSpPr/>
            <p:nvPr/>
          </p:nvSpPr>
          <p:spPr>
            <a:xfrm>
              <a:off x="767880" y="484200"/>
              <a:ext cx="125640" cy="547200"/>
            </a:xfrm>
            <a:custGeom>
              <a:avLst/>
              <a:gdLst/>
              <a:ahLst/>
              <a:rect l="l" t="t" r="r" b="b"/>
              <a:pathLst>
                <a:path w="1617" h="7154">
                  <a:moveTo>
                    <a:pt x="750" y="7154"/>
                  </a:moveTo>
                  <a:lnTo>
                    <a:pt x="993" y="6974"/>
                  </a:lnTo>
                  <a:lnTo>
                    <a:pt x="1196" y="6740"/>
                  </a:lnTo>
                  <a:lnTo>
                    <a:pt x="1359" y="6458"/>
                  </a:lnTo>
                  <a:lnTo>
                    <a:pt x="1482" y="6132"/>
                  </a:lnTo>
                  <a:lnTo>
                    <a:pt x="1566" y="5764"/>
                  </a:lnTo>
                  <a:lnTo>
                    <a:pt x="1610" y="5357"/>
                  </a:lnTo>
                  <a:lnTo>
                    <a:pt x="1617" y="4917"/>
                  </a:lnTo>
                  <a:lnTo>
                    <a:pt x="1585" y="4446"/>
                  </a:lnTo>
                  <a:lnTo>
                    <a:pt x="1516" y="3947"/>
                  </a:lnTo>
                  <a:lnTo>
                    <a:pt x="1408" y="3425"/>
                  </a:lnTo>
                  <a:lnTo>
                    <a:pt x="1264" y="2883"/>
                  </a:lnTo>
                  <a:lnTo>
                    <a:pt x="1083" y="2325"/>
                  </a:lnTo>
                  <a:lnTo>
                    <a:pt x="865" y="1753"/>
                  </a:lnTo>
                  <a:lnTo>
                    <a:pt x="612" y="1174"/>
                  </a:lnTo>
                  <a:lnTo>
                    <a:pt x="323" y="587"/>
                  </a:lnTo>
                  <a:lnTo>
                    <a:pt x="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824040" y="1030680"/>
              <a:ext cx="3600" cy="3600"/>
            </a:xfrm>
            <a:custGeom>
              <a:avLst/>
              <a:gdLst/>
              <a:ahLst/>
              <a:rect l="l" t="t" r="r" b="b"/>
              <a:pathLst>
                <a:path w="44" h="52">
                  <a:moveTo>
                    <a:pt x="44" y="41"/>
                  </a:moveTo>
                  <a:lnTo>
                    <a:pt x="24" y="52"/>
                  </a:lnTo>
                  <a:lnTo>
                    <a:pt x="0" y="12"/>
                  </a:lnTo>
                  <a:lnTo>
                    <a:pt x="20" y="0"/>
                  </a:lnTo>
                  <a:lnTo>
                    <a:pt x="44" y="4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4" name=""/>
            <p:cNvSpPr/>
            <p:nvPr/>
          </p:nvSpPr>
          <p:spPr>
            <a:xfrm>
              <a:off x="765360" y="481320"/>
              <a:ext cx="4320" cy="3600"/>
            </a:xfrm>
            <a:custGeom>
              <a:avLst/>
              <a:gdLst/>
              <a:ahLst/>
              <a:rect l="l" t="t" r="r" b="b"/>
              <a:pathLst>
                <a:path w="52" h="44">
                  <a:moveTo>
                    <a:pt x="11" y="44"/>
                  </a:moveTo>
                  <a:lnTo>
                    <a:pt x="0" y="23"/>
                  </a:lnTo>
                  <a:lnTo>
                    <a:pt x="40" y="0"/>
                  </a:lnTo>
                  <a:lnTo>
                    <a:pt x="52" y="20"/>
                  </a:lnTo>
                  <a:lnTo>
                    <a:pt x="11" y="44"/>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5" name=""/>
            <p:cNvSpPr/>
            <p:nvPr/>
          </p:nvSpPr>
          <p:spPr>
            <a:xfrm>
              <a:off x="315360" y="149040"/>
              <a:ext cx="452520" cy="335160"/>
            </a:xfrm>
            <a:custGeom>
              <a:avLst/>
              <a:gdLst/>
              <a:ahLst/>
              <a:rect l="l" t="t" r="r" b="b"/>
              <a:pathLst>
                <a:path w="5845" h="4379">
                  <a:moveTo>
                    <a:pt x="5845" y="4379"/>
                  </a:moveTo>
                  <a:lnTo>
                    <a:pt x="5494" y="3806"/>
                  </a:lnTo>
                  <a:lnTo>
                    <a:pt x="5128" y="3265"/>
                  </a:lnTo>
                  <a:lnTo>
                    <a:pt x="4750" y="2758"/>
                  </a:lnTo>
                  <a:lnTo>
                    <a:pt x="4362" y="2287"/>
                  </a:lnTo>
                  <a:lnTo>
                    <a:pt x="3966" y="1853"/>
                  </a:lnTo>
                  <a:lnTo>
                    <a:pt x="3566" y="1460"/>
                  </a:lnTo>
                  <a:lnTo>
                    <a:pt x="3166" y="1108"/>
                  </a:lnTo>
                  <a:lnTo>
                    <a:pt x="2767" y="801"/>
                  </a:lnTo>
                  <a:lnTo>
                    <a:pt x="2373" y="539"/>
                  </a:lnTo>
                  <a:lnTo>
                    <a:pt x="1988" y="326"/>
                  </a:lnTo>
                  <a:lnTo>
                    <a:pt x="1612" y="165"/>
                  </a:lnTo>
                  <a:lnTo>
                    <a:pt x="1251" y="55"/>
                  </a:lnTo>
                  <a:lnTo>
                    <a:pt x="905" y="0"/>
                  </a:lnTo>
                  <a:lnTo>
                    <a:pt x="580" y="2"/>
                  </a:lnTo>
                  <a:lnTo>
                    <a:pt x="277" y="64"/>
                  </a:lnTo>
                  <a:lnTo>
                    <a:pt x="0" y="186"/>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66440" y="483120"/>
              <a:ext cx="4320" cy="3600"/>
            </a:xfrm>
            <a:custGeom>
              <a:avLst/>
              <a:gdLst/>
              <a:ahLst/>
              <a:rect l="l" t="t" r="r" b="b"/>
              <a:pathLst>
                <a:path w="52" h="44">
                  <a:moveTo>
                    <a:pt x="41" y="0"/>
                  </a:moveTo>
                  <a:lnTo>
                    <a:pt x="52" y="20"/>
                  </a:lnTo>
                  <a:lnTo>
                    <a:pt x="12" y="44"/>
                  </a:lnTo>
                  <a:lnTo>
                    <a:pt x="0" y="24"/>
                  </a:lnTo>
                  <a:lnTo>
                    <a:pt x="41"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7" name=""/>
            <p:cNvSpPr/>
            <p:nvPr/>
          </p:nvSpPr>
          <p:spPr>
            <a:xfrm>
              <a:off x="312480" y="162000"/>
              <a:ext cx="3240" cy="3600"/>
            </a:xfrm>
            <a:custGeom>
              <a:avLst/>
              <a:gdLst/>
              <a:ahLst/>
              <a:rect l="l" t="t" r="r" b="b"/>
              <a:pathLst>
                <a:path w="43" h="52">
                  <a:moveTo>
                    <a:pt x="43" y="40"/>
                  </a:moveTo>
                  <a:lnTo>
                    <a:pt x="23" y="52"/>
                  </a:lnTo>
                  <a:lnTo>
                    <a:pt x="0" y="12"/>
                  </a:lnTo>
                  <a:lnTo>
                    <a:pt x="20" y="0"/>
                  </a:lnTo>
                  <a:lnTo>
                    <a:pt x="4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248040" y="163800"/>
              <a:ext cx="125640" cy="547200"/>
            </a:xfrm>
            <a:custGeom>
              <a:avLst/>
              <a:gdLst/>
              <a:ahLst/>
              <a:rect l="l" t="t" r="r" b="b"/>
              <a:pathLst>
                <a:path w="1618" h="7155">
                  <a:moveTo>
                    <a:pt x="868" y="0"/>
                  </a:moveTo>
                  <a:lnTo>
                    <a:pt x="624" y="180"/>
                  </a:lnTo>
                  <a:lnTo>
                    <a:pt x="421" y="413"/>
                  </a:lnTo>
                  <a:lnTo>
                    <a:pt x="258" y="694"/>
                  </a:lnTo>
                  <a:lnTo>
                    <a:pt x="135" y="1022"/>
                  </a:lnTo>
                  <a:lnTo>
                    <a:pt x="51" y="1390"/>
                  </a:lnTo>
                  <a:lnTo>
                    <a:pt x="6" y="1796"/>
                  </a:lnTo>
                  <a:lnTo>
                    <a:pt x="0" y="2237"/>
                  </a:lnTo>
                  <a:lnTo>
                    <a:pt x="32" y="2708"/>
                  </a:lnTo>
                  <a:lnTo>
                    <a:pt x="102" y="3206"/>
                  </a:lnTo>
                  <a:lnTo>
                    <a:pt x="208" y="3728"/>
                  </a:lnTo>
                  <a:lnTo>
                    <a:pt x="353" y="4271"/>
                  </a:lnTo>
                  <a:lnTo>
                    <a:pt x="534" y="4829"/>
                  </a:lnTo>
                  <a:lnTo>
                    <a:pt x="752" y="5401"/>
                  </a:lnTo>
                  <a:lnTo>
                    <a:pt x="1005" y="5980"/>
                  </a:lnTo>
                  <a:lnTo>
                    <a:pt x="1294" y="6567"/>
                  </a:lnTo>
                  <a:lnTo>
                    <a:pt x="1618" y="7155"/>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14280" y="160920"/>
              <a:ext cx="3600" cy="3600"/>
            </a:xfrm>
            <a:custGeom>
              <a:avLst/>
              <a:gdLst/>
              <a:ahLst/>
              <a:rect l="l" t="t" r="r" b="b"/>
              <a:pathLst>
                <a:path w="43" h="52">
                  <a:moveTo>
                    <a:pt x="0" y="12"/>
                  </a:moveTo>
                  <a:lnTo>
                    <a:pt x="20" y="0"/>
                  </a:lnTo>
                  <a:lnTo>
                    <a:pt x="43" y="41"/>
                  </a:lnTo>
                  <a:lnTo>
                    <a:pt x="23" y="52"/>
                  </a:lnTo>
                  <a:lnTo>
                    <a:pt x="0" y="12"/>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0" name=""/>
            <p:cNvSpPr/>
            <p:nvPr/>
          </p:nvSpPr>
          <p:spPr>
            <a:xfrm>
              <a:off x="371880" y="710280"/>
              <a:ext cx="3240" cy="2520"/>
            </a:xfrm>
            <a:custGeom>
              <a:avLst/>
              <a:gdLst/>
              <a:ahLst/>
              <a:rect l="l" t="t" r="r" b="b"/>
              <a:pathLst>
                <a:path w="52" h="44">
                  <a:moveTo>
                    <a:pt x="40" y="0"/>
                  </a:moveTo>
                  <a:lnTo>
                    <a:pt x="52" y="20"/>
                  </a:lnTo>
                  <a:lnTo>
                    <a:pt x="12" y="44"/>
                  </a:lnTo>
                  <a:lnTo>
                    <a:pt x="0" y="23"/>
                  </a:lnTo>
                  <a:lnTo>
                    <a:pt x="4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1" name=""/>
            <p:cNvSpPr/>
            <p:nvPr/>
          </p:nvSpPr>
          <p:spPr>
            <a:xfrm>
              <a:off x="373680" y="711000"/>
              <a:ext cx="452520" cy="334800"/>
            </a:xfrm>
            <a:custGeom>
              <a:avLst/>
              <a:gdLst/>
              <a:ahLst/>
              <a:rect l="l" t="t" r="r" b="b"/>
              <a:pathLst>
                <a:path w="5845" h="4377">
                  <a:moveTo>
                    <a:pt x="0" y="0"/>
                  </a:moveTo>
                  <a:lnTo>
                    <a:pt x="350" y="572"/>
                  </a:lnTo>
                  <a:lnTo>
                    <a:pt x="716" y="1113"/>
                  </a:lnTo>
                  <a:lnTo>
                    <a:pt x="1095" y="1620"/>
                  </a:lnTo>
                  <a:lnTo>
                    <a:pt x="1483" y="2091"/>
                  </a:lnTo>
                  <a:lnTo>
                    <a:pt x="1879" y="2524"/>
                  </a:lnTo>
                  <a:lnTo>
                    <a:pt x="2278" y="2919"/>
                  </a:lnTo>
                  <a:lnTo>
                    <a:pt x="2678" y="3270"/>
                  </a:lnTo>
                  <a:lnTo>
                    <a:pt x="3077" y="3577"/>
                  </a:lnTo>
                  <a:lnTo>
                    <a:pt x="3471" y="3838"/>
                  </a:lnTo>
                  <a:lnTo>
                    <a:pt x="3857" y="4051"/>
                  </a:lnTo>
                  <a:lnTo>
                    <a:pt x="4232" y="4214"/>
                  </a:lnTo>
                  <a:lnTo>
                    <a:pt x="4594" y="4323"/>
                  </a:lnTo>
                  <a:lnTo>
                    <a:pt x="4938" y="4377"/>
                  </a:lnTo>
                  <a:lnTo>
                    <a:pt x="5264" y="4375"/>
                  </a:lnTo>
                  <a:lnTo>
                    <a:pt x="5567" y="4314"/>
                  </a:lnTo>
                  <a:lnTo>
                    <a:pt x="5845" y="4192"/>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70800" y="708480"/>
              <a:ext cx="3600" cy="3240"/>
            </a:xfrm>
            <a:custGeom>
              <a:avLst/>
              <a:gdLst/>
              <a:ahLst/>
              <a:rect l="l" t="t" r="r" b="b"/>
              <a:pathLst>
                <a:path w="52" h="43">
                  <a:moveTo>
                    <a:pt x="12" y="43"/>
                  </a:moveTo>
                  <a:lnTo>
                    <a:pt x="0" y="23"/>
                  </a:lnTo>
                  <a:lnTo>
                    <a:pt x="41" y="0"/>
                  </a:lnTo>
                  <a:lnTo>
                    <a:pt x="52" y="20"/>
                  </a:lnTo>
                  <a:lnTo>
                    <a:pt x="12" y="43"/>
                  </a:lnTo>
                  <a:close/>
                </a:path>
              </a:pathLst>
            </a:custGeom>
            <a:solidFill>
              <a:srgbClr val="a9d1e5"/>
            </a:solidFill>
            <a:ln w="0">
              <a:solidFill>
                <a:srgbClr val="a9d1e5"/>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3" name=""/>
            <p:cNvSpPr/>
            <p:nvPr/>
          </p:nvSpPr>
          <p:spPr>
            <a:xfrm>
              <a:off x="825840" y="1029600"/>
              <a:ext cx="2520" cy="3600"/>
            </a:xfrm>
            <a:custGeom>
              <a:avLst/>
              <a:gdLst/>
              <a:ahLst/>
              <a:rect l="l" t="t" r="r" b="b"/>
              <a:pathLst>
                <a:path w="44" h="52">
                  <a:moveTo>
                    <a:pt x="0" y="11"/>
                  </a:moveTo>
                  <a:lnTo>
                    <a:pt x="21" y="0"/>
                  </a:lnTo>
                  <a:lnTo>
                    <a:pt x="44" y="40"/>
                  </a:lnTo>
                  <a:lnTo>
                    <a:pt x="24" y="52"/>
                  </a:lnTo>
                  <a:lnTo>
                    <a:pt x="0" y="11"/>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4" name=""/>
            <p:cNvSpPr/>
            <p:nvPr/>
          </p:nvSpPr>
          <p:spPr>
            <a:xfrm flipH="1" flipV="1">
              <a:off x="315720" y="165600"/>
              <a:ext cx="508680" cy="864000"/>
            </a:xfrm>
            <a:prstGeom prst="line">
              <a:avLst/>
            </a:prstGeom>
            <a:ln w="6480">
              <a:solidFill>
                <a:srgbClr val="d4e8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34640" y="703800"/>
              <a:ext cx="492840" cy="164160"/>
            </a:xfrm>
            <a:custGeom>
              <a:avLst/>
              <a:gdLst/>
              <a:ahLst/>
              <a:rect l="l" t="t" r="r" b="b"/>
              <a:pathLst>
                <a:path w="6360" h="2154">
                  <a:moveTo>
                    <a:pt x="0" y="1959"/>
                  </a:moveTo>
                  <a:lnTo>
                    <a:pt x="159" y="2053"/>
                  </a:lnTo>
                  <a:lnTo>
                    <a:pt x="357" y="2116"/>
                  </a:lnTo>
                  <a:lnTo>
                    <a:pt x="594" y="2150"/>
                  </a:lnTo>
                  <a:lnTo>
                    <a:pt x="869" y="2154"/>
                  </a:lnTo>
                  <a:lnTo>
                    <a:pt x="1178" y="2128"/>
                  </a:lnTo>
                  <a:lnTo>
                    <a:pt x="1520" y="2073"/>
                  </a:lnTo>
                  <a:lnTo>
                    <a:pt x="1894" y="1989"/>
                  </a:lnTo>
                  <a:lnTo>
                    <a:pt x="2297" y="1876"/>
                  </a:lnTo>
                  <a:lnTo>
                    <a:pt x="2727" y="1736"/>
                  </a:lnTo>
                  <a:lnTo>
                    <a:pt x="3183" y="1567"/>
                  </a:lnTo>
                  <a:lnTo>
                    <a:pt x="3664" y="1372"/>
                  </a:lnTo>
                  <a:lnTo>
                    <a:pt x="4165" y="1149"/>
                  </a:lnTo>
                  <a:lnTo>
                    <a:pt x="4689" y="900"/>
                  </a:lnTo>
                  <a:lnTo>
                    <a:pt x="5230" y="626"/>
                  </a:lnTo>
                  <a:lnTo>
                    <a:pt x="5787" y="325"/>
                  </a:lnTo>
                  <a:lnTo>
                    <a:pt x="636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33920" y="851760"/>
              <a:ext cx="1800" cy="2520"/>
            </a:xfrm>
            <a:custGeom>
              <a:avLst/>
              <a:gdLst/>
              <a:ahLst/>
              <a:rect l="l" t="t" r="r" b="b"/>
              <a:pathLst>
                <a:path w="30" h="36">
                  <a:moveTo>
                    <a:pt x="0" y="36"/>
                  </a:moveTo>
                  <a:lnTo>
                    <a:pt x="30" y="0"/>
                  </a:lnTo>
                  <a:lnTo>
                    <a:pt x="0" y="36"/>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7" name=""/>
            <p:cNvSpPr/>
            <p:nvPr/>
          </p:nvSpPr>
          <p:spPr>
            <a:xfrm>
              <a:off x="626760" y="702000"/>
              <a:ext cx="1800" cy="252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8" name=""/>
            <p:cNvSpPr/>
            <p:nvPr/>
          </p:nvSpPr>
          <p:spPr>
            <a:xfrm>
              <a:off x="627840" y="349200"/>
              <a:ext cx="384840" cy="354600"/>
            </a:xfrm>
            <a:custGeom>
              <a:avLst/>
              <a:gdLst/>
              <a:ahLst/>
              <a:rect l="l" t="t" r="r" b="b"/>
              <a:pathLst>
                <a:path w="4970" h="4633">
                  <a:moveTo>
                    <a:pt x="0" y="4633"/>
                  </a:moveTo>
                  <a:lnTo>
                    <a:pt x="563" y="4294"/>
                  </a:lnTo>
                  <a:lnTo>
                    <a:pt x="1096" y="3957"/>
                  </a:lnTo>
                  <a:lnTo>
                    <a:pt x="1597" y="3622"/>
                  </a:lnTo>
                  <a:lnTo>
                    <a:pt x="2064" y="3290"/>
                  </a:lnTo>
                  <a:lnTo>
                    <a:pt x="2500" y="2964"/>
                  </a:lnTo>
                  <a:lnTo>
                    <a:pt x="2902" y="2643"/>
                  </a:lnTo>
                  <a:lnTo>
                    <a:pt x="3270" y="2328"/>
                  </a:lnTo>
                  <a:lnTo>
                    <a:pt x="3603" y="2022"/>
                  </a:lnTo>
                  <a:lnTo>
                    <a:pt x="3901" y="1725"/>
                  </a:lnTo>
                  <a:lnTo>
                    <a:pt x="4164" y="1438"/>
                  </a:lnTo>
                  <a:lnTo>
                    <a:pt x="4391" y="1163"/>
                  </a:lnTo>
                  <a:lnTo>
                    <a:pt x="4582" y="900"/>
                  </a:lnTo>
                  <a:lnTo>
                    <a:pt x="4736" y="652"/>
                  </a:lnTo>
                  <a:lnTo>
                    <a:pt x="4852" y="418"/>
                  </a:lnTo>
                  <a:lnTo>
                    <a:pt x="4929" y="200"/>
                  </a:lnTo>
                  <a:lnTo>
                    <a:pt x="4970"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26760" y="702000"/>
              <a:ext cx="1800" cy="252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0" name=""/>
            <p:cNvSpPr/>
            <p:nvPr/>
          </p:nvSpPr>
          <p:spPr>
            <a:xfrm>
              <a:off x="1010880" y="348120"/>
              <a:ext cx="3600" cy="720"/>
            </a:xfrm>
            <a:custGeom>
              <a:avLst/>
              <a:gdLst/>
              <a:ahLst/>
              <a:rect l="l" t="t" r="r" b="b"/>
              <a:pathLst>
                <a:path w="47" h="4">
                  <a:moveTo>
                    <a:pt x="0" y="0"/>
                  </a:moveTo>
                  <a:lnTo>
                    <a:pt x="47" y="4"/>
                  </a:lnTo>
                  <a:lnTo>
                    <a:pt x="0" y="0"/>
                  </a:lnTo>
                  <a:close/>
                </a:path>
              </a:pathLst>
            </a:custGeom>
            <a:solidFill>
              <a:srgbClr val="a9d1e5"/>
            </a:solidFill>
            <a:ln w="0">
              <a:solidFill>
                <a:srgbClr val="a9d1e5"/>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1" name=""/>
            <p:cNvSpPr/>
            <p:nvPr/>
          </p:nvSpPr>
          <p:spPr>
            <a:xfrm>
              <a:off x="280800" y="866160"/>
              <a:ext cx="448920" cy="149400"/>
            </a:xfrm>
            <a:custGeom>
              <a:avLst/>
              <a:gdLst/>
              <a:ahLst/>
              <a:rect l="l" t="t" r="r" b="b"/>
              <a:pathLst>
                <a:path w="5804" h="1962">
                  <a:moveTo>
                    <a:pt x="0" y="1819"/>
                  </a:moveTo>
                  <a:lnTo>
                    <a:pt x="78" y="1892"/>
                  </a:lnTo>
                  <a:lnTo>
                    <a:pt x="209" y="1940"/>
                  </a:lnTo>
                  <a:lnTo>
                    <a:pt x="392" y="1962"/>
                  </a:lnTo>
                  <a:lnTo>
                    <a:pt x="622" y="1960"/>
                  </a:lnTo>
                  <a:lnTo>
                    <a:pt x="895" y="1933"/>
                  </a:lnTo>
                  <a:lnTo>
                    <a:pt x="1208" y="1881"/>
                  </a:lnTo>
                  <a:lnTo>
                    <a:pt x="1559" y="1803"/>
                  </a:lnTo>
                  <a:lnTo>
                    <a:pt x="1941" y="1701"/>
                  </a:lnTo>
                  <a:lnTo>
                    <a:pt x="2355" y="1573"/>
                  </a:lnTo>
                  <a:lnTo>
                    <a:pt x="2795" y="1422"/>
                  </a:lnTo>
                  <a:lnTo>
                    <a:pt x="3258" y="1246"/>
                  </a:lnTo>
                  <a:lnTo>
                    <a:pt x="3741" y="1045"/>
                  </a:lnTo>
                  <a:lnTo>
                    <a:pt x="4241" y="820"/>
                  </a:lnTo>
                  <a:lnTo>
                    <a:pt x="4753" y="571"/>
                  </a:lnTo>
                  <a:lnTo>
                    <a:pt x="5275" y="298"/>
                  </a:lnTo>
                  <a:lnTo>
                    <a:pt x="5804"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79000" y="1004040"/>
              <a:ext cx="2520" cy="1440"/>
            </a:xfrm>
            <a:custGeom>
              <a:avLst/>
              <a:gdLst/>
              <a:ahLst/>
              <a:rect l="l" t="t" r="r" b="b"/>
              <a:pathLst>
                <a:path w="40" h="24">
                  <a:moveTo>
                    <a:pt x="0" y="24"/>
                  </a:moveTo>
                  <a:lnTo>
                    <a:pt x="40"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729000" y="864360"/>
              <a:ext cx="1800" cy="2880"/>
            </a:xfrm>
            <a:custGeom>
              <a:avLst/>
              <a:gdLst/>
              <a:ahLst/>
              <a:rect l="l" t="t" r="r" b="b"/>
              <a:pathLst>
                <a:path w="23" h="40">
                  <a:moveTo>
                    <a:pt x="0" y="0"/>
                  </a:moveTo>
                  <a:lnTo>
                    <a:pt x="23" y="40"/>
                  </a:lnTo>
                  <a:lnTo>
                    <a:pt x="0" y="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4" name=""/>
            <p:cNvSpPr/>
            <p:nvPr/>
          </p:nvSpPr>
          <p:spPr>
            <a:xfrm>
              <a:off x="730080" y="547560"/>
              <a:ext cx="345600" cy="318600"/>
            </a:xfrm>
            <a:custGeom>
              <a:avLst/>
              <a:gdLst/>
              <a:ahLst/>
              <a:rect l="l" t="t" r="r" b="b"/>
              <a:pathLst>
                <a:path w="4456" h="4164">
                  <a:moveTo>
                    <a:pt x="0" y="4164"/>
                  </a:moveTo>
                  <a:lnTo>
                    <a:pt x="517" y="3849"/>
                  </a:lnTo>
                  <a:lnTo>
                    <a:pt x="1012" y="3529"/>
                  </a:lnTo>
                  <a:lnTo>
                    <a:pt x="1481" y="3205"/>
                  </a:lnTo>
                  <a:lnTo>
                    <a:pt x="1922" y="2881"/>
                  </a:lnTo>
                  <a:lnTo>
                    <a:pt x="2333" y="2559"/>
                  </a:lnTo>
                  <a:lnTo>
                    <a:pt x="2714" y="2241"/>
                  </a:lnTo>
                  <a:lnTo>
                    <a:pt x="3062" y="1933"/>
                  </a:lnTo>
                  <a:lnTo>
                    <a:pt x="3376" y="1635"/>
                  </a:lnTo>
                  <a:lnTo>
                    <a:pt x="3652" y="1351"/>
                  </a:lnTo>
                  <a:lnTo>
                    <a:pt x="3892" y="1083"/>
                  </a:lnTo>
                  <a:lnTo>
                    <a:pt x="4092" y="837"/>
                  </a:lnTo>
                  <a:lnTo>
                    <a:pt x="4249" y="612"/>
                  </a:lnTo>
                  <a:lnTo>
                    <a:pt x="4364" y="413"/>
                  </a:lnTo>
                  <a:lnTo>
                    <a:pt x="4433" y="242"/>
                  </a:lnTo>
                  <a:lnTo>
                    <a:pt x="4456" y="104"/>
                  </a:lnTo>
                  <a:lnTo>
                    <a:pt x="4431"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29000" y="864360"/>
              <a:ext cx="1800" cy="2880"/>
            </a:xfrm>
            <a:custGeom>
              <a:avLst/>
              <a:gdLst/>
              <a:ahLst/>
              <a:rect l="l" t="t" r="r" b="b"/>
              <a:pathLst>
                <a:path w="23" h="40">
                  <a:moveTo>
                    <a:pt x="23" y="40"/>
                  </a:moveTo>
                  <a:lnTo>
                    <a:pt x="0" y="0"/>
                  </a:lnTo>
                  <a:lnTo>
                    <a:pt x="23" y="40"/>
                  </a:lnTo>
                  <a:close/>
                </a:path>
              </a:pathLst>
            </a:custGeom>
            <a:solidFill>
              <a:srgbClr val="72a6cd"/>
            </a:solidFill>
            <a:ln w="0">
              <a:solidFill>
                <a:srgbClr val="72a6cd"/>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6" name=""/>
            <p:cNvSpPr/>
            <p:nvPr/>
          </p:nvSpPr>
          <p:spPr>
            <a:xfrm>
              <a:off x="1072080" y="546840"/>
              <a:ext cx="2880" cy="1440"/>
            </a:xfrm>
            <a:custGeom>
              <a:avLst/>
              <a:gdLst/>
              <a:ahLst/>
              <a:rect l="l" t="t" r="r" b="b"/>
              <a:pathLst>
                <a:path w="41" h="24">
                  <a:moveTo>
                    <a:pt x="0" y="24"/>
                  </a:moveTo>
                  <a:lnTo>
                    <a:pt x="41" y="0"/>
                  </a:lnTo>
                  <a:lnTo>
                    <a:pt x="0" y="24"/>
                  </a:lnTo>
                  <a:close/>
                </a:path>
              </a:pathLst>
            </a:custGeom>
            <a:solidFill>
              <a:srgbClr val="72a6cd"/>
            </a:solidFill>
            <a:ln w="0">
              <a:solidFill>
                <a:srgbClr val="72a6c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65160" y="502560"/>
              <a:ext cx="450000" cy="149400"/>
            </a:xfrm>
            <a:custGeom>
              <a:avLst/>
              <a:gdLst/>
              <a:ahLst/>
              <a:rect l="l" t="t" r="r" b="b"/>
              <a:pathLst>
                <a:path w="5803" h="1963">
                  <a:moveTo>
                    <a:pt x="0" y="1818"/>
                  </a:moveTo>
                  <a:lnTo>
                    <a:pt x="78" y="1891"/>
                  </a:lnTo>
                  <a:lnTo>
                    <a:pt x="210" y="1939"/>
                  </a:lnTo>
                  <a:lnTo>
                    <a:pt x="393" y="1963"/>
                  </a:lnTo>
                  <a:lnTo>
                    <a:pt x="622" y="1960"/>
                  </a:lnTo>
                  <a:lnTo>
                    <a:pt x="895" y="1933"/>
                  </a:lnTo>
                  <a:lnTo>
                    <a:pt x="1208" y="1880"/>
                  </a:lnTo>
                  <a:lnTo>
                    <a:pt x="1559" y="1803"/>
                  </a:lnTo>
                  <a:lnTo>
                    <a:pt x="1941" y="1701"/>
                  </a:lnTo>
                  <a:lnTo>
                    <a:pt x="2355" y="1573"/>
                  </a:lnTo>
                  <a:lnTo>
                    <a:pt x="2795" y="1423"/>
                  </a:lnTo>
                  <a:lnTo>
                    <a:pt x="3259" y="1246"/>
                  </a:lnTo>
                  <a:lnTo>
                    <a:pt x="3741" y="1045"/>
                  </a:lnTo>
                  <a:lnTo>
                    <a:pt x="4240" y="820"/>
                  </a:lnTo>
                  <a:lnTo>
                    <a:pt x="4752" y="571"/>
                  </a:lnTo>
                  <a:lnTo>
                    <a:pt x="5274" y="298"/>
                  </a:lnTo>
                  <a:lnTo>
                    <a:pt x="5803"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4080" y="64044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514440" y="500760"/>
              <a:ext cx="1440" cy="3600"/>
            </a:xfrm>
            <a:custGeom>
              <a:avLst/>
              <a:gdLst/>
              <a:ahLst/>
              <a:rect l="l" t="t" r="r" b="b"/>
              <a:pathLst>
                <a:path w="23" h="40">
                  <a:moveTo>
                    <a:pt x="0" y="0"/>
                  </a:moveTo>
                  <a:lnTo>
                    <a:pt x="23" y="40"/>
                  </a:lnTo>
                  <a:lnTo>
                    <a:pt x="0" y="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0" name=""/>
            <p:cNvSpPr/>
            <p:nvPr/>
          </p:nvSpPr>
          <p:spPr>
            <a:xfrm>
              <a:off x="515160" y="183960"/>
              <a:ext cx="344880" cy="318600"/>
            </a:xfrm>
            <a:custGeom>
              <a:avLst/>
              <a:gdLst/>
              <a:ahLst/>
              <a:rect l="l" t="t" r="r" b="b"/>
              <a:pathLst>
                <a:path w="4457" h="4164">
                  <a:moveTo>
                    <a:pt x="0" y="4164"/>
                  </a:moveTo>
                  <a:lnTo>
                    <a:pt x="517" y="3849"/>
                  </a:lnTo>
                  <a:lnTo>
                    <a:pt x="1012" y="3529"/>
                  </a:lnTo>
                  <a:lnTo>
                    <a:pt x="1481" y="3205"/>
                  </a:lnTo>
                  <a:lnTo>
                    <a:pt x="1922" y="2881"/>
                  </a:lnTo>
                  <a:lnTo>
                    <a:pt x="2334" y="2559"/>
                  </a:lnTo>
                  <a:lnTo>
                    <a:pt x="2715" y="2241"/>
                  </a:lnTo>
                  <a:lnTo>
                    <a:pt x="3063" y="1933"/>
                  </a:lnTo>
                  <a:lnTo>
                    <a:pt x="3376" y="1635"/>
                  </a:lnTo>
                  <a:lnTo>
                    <a:pt x="3654" y="1351"/>
                  </a:lnTo>
                  <a:lnTo>
                    <a:pt x="3893" y="1083"/>
                  </a:lnTo>
                  <a:lnTo>
                    <a:pt x="4092" y="837"/>
                  </a:lnTo>
                  <a:lnTo>
                    <a:pt x="4250" y="612"/>
                  </a:lnTo>
                  <a:lnTo>
                    <a:pt x="4365" y="414"/>
                  </a:lnTo>
                  <a:lnTo>
                    <a:pt x="4434" y="242"/>
                  </a:lnTo>
                  <a:lnTo>
                    <a:pt x="4457" y="104"/>
                  </a:lnTo>
                  <a:lnTo>
                    <a:pt x="4432" y="0"/>
                  </a:lnTo>
                </a:path>
              </a:pathLst>
            </a:custGeom>
            <a:noFill/>
            <a:ln w="6480">
              <a:solidFill>
                <a:srgbClr val="a9d1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14440" y="500760"/>
              <a:ext cx="1440" cy="3600"/>
            </a:xfrm>
            <a:custGeom>
              <a:avLst/>
              <a:gdLst/>
              <a:ahLst/>
              <a:rect l="l" t="t" r="r" b="b"/>
              <a:pathLst>
                <a:path w="23" h="40">
                  <a:moveTo>
                    <a:pt x="23" y="40"/>
                  </a:moveTo>
                  <a:lnTo>
                    <a:pt x="0" y="0"/>
                  </a:lnTo>
                  <a:lnTo>
                    <a:pt x="23" y="40"/>
                  </a:lnTo>
                  <a:close/>
                </a:path>
              </a:pathLst>
            </a:custGeom>
            <a:solidFill>
              <a:srgbClr val="a9d1e5"/>
            </a:solidFill>
            <a:ln w="0">
              <a:solidFill>
                <a:srgbClr val="a9d1e5"/>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2" name=""/>
            <p:cNvSpPr/>
            <p:nvPr/>
          </p:nvSpPr>
          <p:spPr>
            <a:xfrm>
              <a:off x="857520" y="182880"/>
              <a:ext cx="2520" cy="1800"/>
            </a:xfrm>
            <a:custGeom>
              <a:avLst/>
              <a:gdLst/>
              <a:ahLst/>
              <a:rect l="l" t="t" r="r" b="b"/>
              <a:pathLst>
                <a:path w="40" h="24">
                  <a:moveTo>
                    <a:pt x="0" y="24"/>
                  </a:moveTo>
                  <a:lnTo>
                    <a:pt x="40" y="0"/>
                  </a:lnTo>
                  <a:lnTo>
                    <a:pt x="0" y="24"/>
                  </a:lnTo>
                  <a:close/>
                </a:path>
              </a:pathLst>
            </a:custGeom>
            <a:solidFill>
              <a:srgbClr val="a9d1e5"/>
            </a:solidFill>
            <a:ln w="0">
              <a:solidFill>
                <a:srgbClr val="a9d1e5"/>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3" name=""/>
            <p:cNvSpPr/>
            <p:nvPr/>
          </p:nvSpPr>
          <p:spPr>
            <a:xfrm>
              <a:off x="105840" y="304200"/>
              <a:ext cx="291600" cy="94680"/>
            </a:xfrm>
            <a:custGeom>
              <a:avLst/>
              <a:gdLst/>
              <a:ahLst/>
              <a:rect l="l" t="t" r="r" b="b"/>
              <a:pathLst>
                <a:path w="3769" h="1227">
                  <a:moveTo>
                    <a:pt x="0" y="1199"/>
                  </a:moveTo>
                  <a:lnTo>
                    <a:pt x="54" y="1218"/>
                  </a:lnTo>
                  <a:lnTo>
                    <a:pt x="143" y="1227"/>
                  </a:lnTo>
                  <a:lnTo>
                    <a:pt x="263" y="1227"/>
                  </a:lnTo>
                  <a:lnTo>
                    <a:pt x="413" y="1216"/>
                  </a:lnTo>
                  <a:lnTo>
                    <a:pt x="590" y="1193"/>
                  </a:lnTo>
                  <a:lnTo>
                    <a:pt x="793" y="1158"/>
                  </a:lnTo>
                  <a:lnTo>
                    <a:pt x="1021" y="1110"/>
                  </a:lnTo>
                  <a:lnTo>
                    <a:pt x="1268" y="1050"/>
                  </a:lnTo>
                  <a:lnTo>
                    <a:pt x="1535" y="974"/>
                  </a:lnTo>
                  <a:lnTo>
                    <a:pt x="1819" y="885"/>
                  </a:lnTo>
                  <a:lnTo>
                    <a:pt x="2119" y="780"/>
                  </a:lnTo>
                  <a:lnTo>
                    <a:pt x="2430" y="659"/>
                  </a:lnTo>
                  <a:lnTo>
                    <a:pt x="2755" y="520"/>
                  </a:lnTo>
                  <a:lnTo>
                    <a:pt x="3086" y="364"/>
                  </a:lnTo>
                  <a:lnTo>
                    <a:pt x="3424" y="191"/>
                  </a:lnTo>
                  <a:lnTo>
                    <a:pt x="3769"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04760" y="395280"/>
              <a:ext cx="1800" cy="2520"/>
            </a:xfrm>
            <a:custGeom>
              <a:avLst/>
              <a:gdLst/>
              <a:ahLst/>
              <a:rect l="l" t="t" r="r" b="b"/>
              <a:pathLst>
                <a:path w="26" h="38">
                  <a:moveTo>
                    <a:pt x="0" y="38"/>
                  </a:moveTo>
                  <a:lnTo>
                    <a:pt x="26" y="0"/>
                  </a:lnTo>
                  <a:lnTo>
                    <a:pt x="0" y="38"/>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5" name=""/>
            <p:cNvSpPr/>
            <p:nvPr/>
          </p:nvSpPr>
          <p:spPr>
            <a:xfrm>
              <a:off x="397080" y="303120"/>
              <a:ext cx="1800" cy="2520"/>
            </a:xfrm>
            <a:custGeom>
              <a:avLst/>
              <a:gdLst/>
              <a:ahLst/>
              <a:rect l="l" t="t" r="r" b="b"/>
              <a:pathLst>
                <a:path w="24" h="41">
                  <a:moveTo>
                    <a:pt x="0" y="0"/>
                  </a:moveTo>
                  <a:lnTo>
                    <a:pt x="24" y="41"/>
                  </a:lnTo>
                  <a:lnTo>
                    <a:pt x="0" y="0"/>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397800" y="98640"/>
              <a:ext cx="223920" cy="205560"/>
            </a:xfrm>
            <a:custGeom>
              <a:avLst/>
              <a:gdLst/>
              <a:ahLst/>
              <a:rect l="l" t="t" r="r" b="b"/>
              <a:pathLst>
                <a:path w="2896" h="2696">
                  <a:moveTo>
                    <a:pt x="0" y="2696"/>
                  </a:moveTo>
                  <a:lnTo>
                    <a:pt x="334" y="2490"/>
                  </a:lnTo>
                  <a:lnTo>
                    <a:pt x="648" y="2281"/>
                  </a:lnTo>
                  <a:lnTo>
                    <a:pt x="943" y="2069"/>
                  </a:lnTo>
                  <a:lnTo>
                    <a:pt x="1216" y="1858"/>
                  </a:lnTo>
                  <a:lnTo>
                    <a:pt x="1469" y="1646"/>
                  </a:lnTo>
                  <a:lnTo>
                    <a:pt x="1702" y="1439"/>
                  </a:lnTo>
                  <a:lnTo>
                    <a:pt x="1915" y="1237"/>
                  </a:lnTo>
                  <a:lnTo>
                    <a:pt x="2106" y="1042"/>
                  </a:lnTo>
                  <a:lnTo>
                    <a:pt x="2277" y="857"/>
                  </a:lnTo>
                  <a:lnTo>
                    <a:pt x="2427" y="684"/>
                  </a:lnTo>
                  <a:lnTo>
                    <a:pt x="2557" y="525"/>
                  </a:lnTo>
                  <a:lnTo>
                    <a:pt x="2666" y="380"/>
                  </a:lnTo>
                  <a:lnTo>
                    <a:pt x="2754" y="254"/>
                  </a:lnTo>
                  <a:lnTo>
                    <a:pt x="2822" y="146"/>
                  </a:lnTo>
                  <a:lnTo>
                    <a:pt x="2869" y="61"/>
                  </a:lnTo>
                  <a:lnTo>
                    <a:pt x="2896" y="0"/>
                  </a:lnTo>
                </a:path>
              </a:pathLst>
            </a:custGeom>
            <a:noFill/>
            <a:ln w="6480">
              <a:solidFill>
                <a:srgbClr val="72a6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97080" y="303120"/>
              <a:ext cx="1800" cy="2520"/>
            </a:xfrm>
            <a:custGeom>
              <a:avLst/>
              <a:gdLst/>
              <a:ahLst/>
              <a:rect l="l" t="t" r="r" b="b"/>
              <a:pathLst>
                <a:path w="24" h="41">
                  <a:moveTo>
                    <a:pt x="24" y="41"/>
                  </a:moveTo>
                  <a:lnTo>
                    <a:pt x="0" y="0"/>
                  </a:lnTo>
                  <a:lnTo>
                    <a:pt x="24" y="41"/>
                  </a:lnTo>
                  <a:close/>
                </a:path>
              </a:pathLst>
            </a:custGeom>
            <a:solidFill>
              <a:srgbClr val="72a6cd"/>
            </a:solidFill>
            <a:ln w="0">
              <a:solidFill>
                <a:srgbClr val="72a6cd"/>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8" name=""/>
            <p:cNvSpPr/>
            <p:nvPr/>
          </p:nvSpPr>
          <p:spPr>
            <a:xfrm>
              <a:off x="620280" y="97560"/>
              <a:ext cx="3600" cy="720"/>
            </a:xfrm>
            <a:custGeom>
              <a:avLst/>
              <a:gdLst/>
              <a:ahLst/>
              <a:rect l="l" t="t" r="r" b="b"/>
              <a:pathLst>
                <a:path w="44" h="13">
                  <a:moveTo>
                    <a:pt x="0" y="0"/>
                  </a:moveTo>
                  <a:lnTo>
                    <a:pt x="44" y="13"/>
                  </a:lnTo>
                  <a:lnTo>
                    <a:pt x="0" y="0"/>
                  </a:lnTo>
                  <a:close/>
                </a:path>
              </a:pathLst>
            </a:custGeom>
            <a:solidFill>
              <a:srgbClr val="72a6cd"/>
            </a:solidFill>
            <a:ln w="0">
              <a:solidFill>
                <a:srgbClr val="72a6cd"/>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pic>
        <p:nvPicPr>
          <p:cNvPr id="1369" name="" descr=""/>
          <p:cNvPicPr/>
          <p:nvPr/>
        </p:nvPicPr>
        <p:blipFill>
          <a:blip r:embed="rId1"/>
          <a:stretch/>
        </p:blipFill>
        <p:spPr>
          <a:xfrm>
            <a:off x="76320" y="6261120"/>
            <a:ext cx="533160" cy="520560"/>
          </a:xfrm>
          <a:prstGeom prst="rect">
            <a:avLst/>
          </a:prstGeom>
          <a:ln w="0">
            <a:noFill/>
          </a:ln>
        </p:spPr>
      </p:pic>
      <p:sp>
        <p:nvSpPr>
          <p:cNvPr id="1370" name=""/>
          <p:cNvSpPr/>
          <p:nvPr/>
        </p:nvSpPr>
        <p:spPr>
          <a:xfrm>
            <a:off x="1454040" y="533520"/>
            <a:ext cx="6185160" cy="533160"/>
          </a:xfrm>
          <a:prstGeom prst="rect">
            <a:avLst/>
          </a:prstGeom>
          <a:gradFill rotWithShape="0">
            <a:gsLst>
              <a:gs pos="0">
                <a:srgbClr val="007575"/>
              </a:gs>
              <a:gs pos="50000">
                <a:srgbClr val="00ffff"/>
              </a:gs>
              <a:gs pos="100000">
                <a:srgbClr val="007575"/>
              </a:gs>
            </a:gsLst>
            <a:lin ang="5400000"/>
          </a:gra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ement of Workplace Vitality</a:t>
            </a:r>
            <a:endParaRPr b="0" lang="en-US" sz="2000" spc="-1" strike="noStrike">
              <a:solidFill>
                <a:srgbClr val="000000"/>
              </a:solidFill>
              <a:latin typeface="Times New Roman"/>
            </a:endParaRPr>
          </a:p>
        </p:txBody>
      </p:sp>
      <p:sp>
        <p:nvSpPr>
          <p:cNvPr id="1371" name=""/>
          <p:cNvSpPr/>
          <p:nvPr/>
        </p:nvSpPr>
        <p:spPr>
          <a:xfrm>
            <a:off x="1828800" y="4876920"/>
            <a:ext cx="57531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flipV="1">
            <a:off x="1841400" y="1123560"/>
            <a:ext cx="3240" cy="375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rot="19908600">
            <a:off x="1852560" y="2488680"/>
            <a:ext cx="4318200" cy="1854360"/>
          </a:xfrm>
          <a:prstGeom prst="rightArrow">
            <a:avLst>
              <a:gd name="adj1" fmla="val 50000"/>
              <a:gd name="adj2" fmla="val 58217"/>
            </a:avLst>
          </a:prstGeom>
          <a:gradFill rotWithShape="0">
            <a:gsLst>
              <a:gs pos="0">
                <a:srgbClr val="007575"/>
              </a:gs>
              <a:gs pos="50000">
                <a:srgbClr val="00ffff"/>
              </a:gs>
              <a:gs pos="100000">
                <a:srgbClr val="007575"/>
              </a:gs>
            </a:gsLst>
            <a:lin ang="5400000"/>
          </a:gradFill>
          <a:ln w="9360">
            <a:solidFill>
              <a:srgbClr val="000000"/>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Q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QC Circle Activities</a:t>
            </a:r>
            <a:endParaRPr b="0" lang="en-US" sz="2000" spc="-1" strike="noStrike">
              <a:solidFill>
                <a:srgbClr val="000000"/>
              </a:solidFill>
              <a:latin typeface="Times New Roman"/>
            </a:endParaRPr>
          </a:p>
        </p:txBody>
      </p:sp>
      <p:sp>
        <p:nvSpPr>
          <p:cNvPr id="1374" name=""/>
          <p:cNvSpPr/>
          <p:nvPr/>
        </p:nvSpPr>
        <p:spPr>
          <a:xfrm>
            <a:off x="6018120" y="1501920"/>
            <a:ext cx="2818080" cy="1241280"/>
          </a:xfrm>
          <a:prstGeom prst="rect">
            <a:avLst/>
          </a:prstGeom>
          <a:gradFill rotWithShape="0">
            <a:gsLst>
              <a:gs pos="0">
                <a:srgbClr val="75752f"/>
              </a:gs>
              <a:gs pos="50000">
                <a:srgbClr val="ffff66"/>
              </a:gs>
              <a:gs pos="100000">
                <a:srgbClr val="75752f"/>
              </a:gs>
            </a:gsLst>
            <a:lin ang="5400000"/>
          </a:gradFill>
          <a:ln w="9360">
            <a:solidFill>
              <a:srgbClr val="000000"/>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sonal Develop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joyable Workplace</a:t>
            </a:r>
            <a:endParaRPr b="0" lang="en-US" sz="2000" spc="-1" strike="noStrike">
              <a:solidFill>
                <a:srgbClr val="000000"/>
              </a:solidFill>
              <a:latin typeface="Times New Roman"/>
            </a:endParaRPr>
          </a:p>
        </p:txBody>
      </p:sp>
      <p:sp>
        <p:nvSpPr>
          <p:cNvPr id="1375" name=""/>
          <p:cNvSpPr/>
          <p:nvPr/>
        </p:nvSpPr>
        <p:spPr>
          <a:xfrm>
            <a:off x="1905120" y="5105520"/>
            <a:ext cx="5665680" cy="76176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ntional QC Circle Activities</a:t>
            </a:r>
            <a:endParaRPr b="0" lang="en-US" sz="2400" spc="-1" strike="noStrike">
              <a:solidFill>
                <a:srgbClr val="000000"/>
              </a:solidFill>
              <a:latin typeface="Times New Roman"/>
            </a:endParaRPr>
          </a:p>
        </p:txBody>
      </p:sp>
      <p:sp>
        <p:nvSpPr>
          <p:cNvPr id="1376" name=""/>
          <p:cNvSpPr/>
          <p:nvPr/>
        </p:nvSpPr>
        <p:spPr>
          <a:xfrm>
            <a:off x="1143000" y="1407960"/>
            <a:ext cx="544680" cy="3316320"/>
          </a:xfrm>
          <a:prstGeom prst="rect">
            <a:avLst/>
          </a:prstGeom>
          <a:gradFill rotWithShape="0">
            <a:gsLst>
              <a:gs pos="0">
                <a:srgbClr val="75752f"/>
              </a:gs>
              <a:gs pos="50000">
                <a:srgbClr val="ffff66"/>
              </a:gs>
              <a:gs pos="100000">
                <a:srgbClr val="75752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Viewpoint</a:t>
            </a:r>
            <a:endParaRPr b="0" lang="en-US" sz="2000" spc="-1" strike="noStrike">
              <a:solidFill>
                <a:srgbClr val="000000"/>
              </a:solidFill>
              <a:latin typeface="Times New Roman"/>
            </a:endParaRPr>
          </a:p>
        </p:txBody>
      </p:sp>
      <p:sp>
        <p:nvSpPr>
          <p:cNvPr id="1377" name=""/>
          <p:cNvSpPr/>
          <p:nvPr/>
        </p:nvSpPr>
        <p:spPr>
          <a:xfrm>
            <a:off x="1981080" y="1447920"/>
            <a:ext cx="2254320" cy="1412640"/>
          </a:xfrm>
          <a:prstGeom prst="ellipse">
            <a:avLst/>
          </a:prstGeom>
          <a:gradFill rotWithShape="0">
            <a:gsLst>
              <a:gs pos="0">
                <a:srgbClr val="757500"/>
              </a:gs>
              <a:gs pos="50000">
                <a:srgbClr val="ffff00"/>
              </a:gs>
              <a:gs pos="100000">
                <a:srgbClr val="757500"/>
              </a:gs>
            </a:gsLst>
            <a:lin ang="5400000"/>
          </a:gradFill>
          <a:ln w="9360">
            <a:solidFill>
              <a:srgbClr val="000000"/>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ze QC circles 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place Management</a:t>
            </a:r>
            <a:endParaRPr b="0" lang="en-US" sz="2000" spc="-1" strike="noStrike">
              <a:solidFill>
                <a:srgbClr val="000000"/>
              </a:solidFill>
              <a:latin typeface="Times New Roman"/>
            </a:endParaRPr>
          </a:p>
        </p:txBody>
      </p:sp>
      <p:sp>
        <p:nvSpPr>
          <p:cNvPr id="1378" name=""/>
          <p:cNvSpPr/>
          <p:nvPr/>
        </p:nvSpPr>
        <p:spPr>
          <a:xfrm>
            <a:off x="2665440" y="2819520"/>
            <a:ext cx="561960" cy="4237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65640" y="3733920"/>
            <a:ext cx="2895480" cy="1073160"/>
          </a:xfrm>
          <a:prstGeom prst="ellipse">
            <a:avLst/>
          </a:prstGeom>
          <a:gradFill rotWithShape="0">
            <a:gsLst>
              <a:gs pos="0">
                <a:srgbClr val="757500"/>
              </a:gs>
              <a:gs pos="50000">
                <a:srgbClr val="ffff00"/>
              </a:gs>
              <a:gs pos="100000">
                <a:srgbClr val="757500"/>
              </a:gs>
            </a:gsLst>
            <a:lin ang="5400000"/>
          </a:gradFill>
          <a:ln w="9360">
            <a:solidFill>
              <a:srgbClr val="000000"/>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Solving</a:t>
            </a:r>
            <a:endParaRPr b="0" lang="en-US" sz="2000" spc="-1" strike="noStrike">
              <a:solidFill>
                <a:srgbClr val="000000"/>
              </a:solidFill>
              <a:latin typeface="Times New Roman"/>
            </a:endParaRPr>
          </a:p>
        </p:txBody>
      </p:sp>
      <p:sp>
        <p:nvSpPr>
          <p:cNvPr id="1380" name=""/>
          <p:cNvSpPr/>
          <p:nvPr/>
        </p:nvSpPr>
        <p:spPr>
          <a:xfrm flipH="1" flipV="1">
            <a:off x="4113360" y="3809880"/>
            <a:ext cx="388800" cy="6480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8A34D92-D8D0-4877-9674-CEB0324AD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p:nvPr>
        </p:nvSpPr>
        <p:spPr>
          <a:xfrm>
            <a:off x="690120" y="1961640"/>
            <a:ext cx="8472600" cy="4483080"/>
          </a:xfrm>
          <a:prstGeom prst="rect">
            <a:avLst/>
          </a:prstGeom>
          <a:noFill/>
          <a:ln w="0">
            <a:noFill/>
          </a:ln>
        </p:spPr>
        <p:txBody>
          <a:bodyPr lIns="90360" rIns="90360" tIns="44280" bIns="442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3. IMPLEMENTATION OF QUALITY COS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D251150-D671-4085-A2D5-A4354624A877}" type="slidenum">
              <a:t>19</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2" presetSubtype="4">
                                  <p:stCondLst>
                                    <p:cond delay="0"/>
                                  </p:stCondLst>
                                  <p:childTnLst>
                                    <p:set>
                                      <p:cBhvr>
                                        <p:cTn id="61" dur="1" fill="hold">
                                          <p:stCondLst>
                                            <p:cond delay="0"/>
                                          </p:stCondLst>
                                        </p:cTn>
                                        <p:tgtEl>
                                          <p:spTgt spid="1381">
                                            <p:txEl>
                                              <p:pRg st="0" end="0"/>
                                            </p:txEl>
                                          </p:spTgt>
                                        </p:tgtEl>
                                        <p:attrNameLst>
                                          <p:attrName>style.visibility</p:attrName>
                                        </p:attrNameLst>
                                      </p:cBhvr>
                                      <p:to>
                                        <p:strVal val="visible"/>
                                      </p:to>
                                    </p:set>
                                    <p:animEffect filter="slide(fromBottom)" transition="in">
                                      <p:cBhvr additive="repl">
                                        <p:cTn id="62" dur="10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7040" y="2053800"/>
            <a:ext cx="8533080" cy="3654360"/>
          </a:xfrm>
          <a:prstGeom prst="rect">
            <a:avLst/>
          </a:prstGeom>
          <a:noFill/>
          <a:ln w="0">
            <a:noFill/>
          </a:ln>
        </p:spPr>
        <p:txBody>
          <a:bodyPr lIns="90360" rIns="90360" tIns="44280" bIns="442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1. CURRENT GLOBAL TOYOTA WAY,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    </a:t>
            </a:r>
            <a:r>
              <a:rPr b="1" lang="en-US" sz="3200" spc="-1" strike="noStrike">
                <a:solidFill>
                  <a:srgbClr val="0000cc"/>
                </a:solidFill>
                <a:latin typeface="Arial"/>
                <a:ea typeface="Arial"/>
              </a:rPr>
              <a:t>TPS CONCEPT &amp; LEAN OPERATION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2. TOTAL QUALITY MANAGEMENT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3. IMPLEMENTATION OF QUALITY COS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719280" y="1308240"/>
            <a:ext cx="266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TENT :</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B25C336A-22D8-43AF-9D3D-EB647BEFB4C2}" type="slidenum">
              <a:t>2</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2" presetSubtype="4">
                                  <p:stCondLst>
                                    <p:cond delay="0"/>
                                  </p:stCondLst>
                                  <p:childTnLst>
                                    <p:set>
                                      <p:cBhvr>
                                        <p:cTn id="33" dur="1" fill="hold">
                                          <p:stCondLst>
                                            <p:cond delay="0"/>
                                          </p:stCondLst>
                                        </p:cTn>
                                        <p:tgtEl>
                                          <p:spTgt spid="95"/>
                                        </p:tgtEl>
                                        <p:attrNameLst>
                                          <p:attrName>style.visibility</p:attrName>
                                        </p:attrNameLst>
                                      </p:cBhvr>
                                      <p:to>
                                        <p:strVal val="visible"/>
                                      </p:to>
                                    </p:set>
                                    <p:animEffect filter="slide(fromBottom)" transition="in">
                                      <p:cBhvr additive="repl">
                                        <p:cTn id="34" dur="1000"/>
                                        <p:tgtEl>
                                          <p:spTgt spid="95"/>
                                        </p:tgtEl>
                                      </p:cBhvr>
                                    </p:animEffect>
                                  </p:childTnLst>
                                </p:cTn>
                              </p:par>
                            </p:childTnLst>
                          </p:cTn>
                        </p:par>
                        <p:par>
                          <p:cTn id="35"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38" dur="1000"/>
                                        <p:tgtEl>
                                          <p:spTgt spid="9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43" dur="1000"/>
                                        <p:tgtEl>
                                          <p:spTgt spid="94">
                                            <p:txEl>
                                              <p:pRg st="1" end="1"/>
                                            </p:txEl>
                                          </p:spTgt>
                                        </p:tgtEl>
                                      </p:cBhvr>
                                    </p:animEffect>
                                  </p:childTnLst>
                                </p:cTn>
                              </p:par>
                            </p:childTnLst>
                          </p:cTn>
                        </p:par>
                        <p:par>
                          <p:cTn id="44" fill="hold">
                            <p:stCondLst>
                              <p:cond delay="1000"/>
                            </p:stCondLst>
                            <p:childTnLst>
                              <p:par>
                                <p:cTn id="45" nodeType="afterEffect" fill="hold" presetClass="entr" presetID="12" presetSubtype="4">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47" dur="1000"/>
                                        <p:tgtEl>
                                          <p:spTgt spid="94">
                                            <p:txEl>
                                              <p:pRg st="2" end="2"/>
                                            </p:txEl>
                                          </p:spTgt>
                                        </p:tgtEl>
                                      </p:cBhvr>
                                    </p:animEffect>
                                  </p:childTnLst>
                                </p:cTn>
                              </p:par>
                            </p:childTnLst>
                          </p:cTn>
                        </p:par>
                        <p:par>
                          <p:cTn id="48" fill="hold">
                            <p:stCondLst>
                              <p:cond delay="2000"/>
                            </p:stCondLst>
                            <p:childTnLst>
                              <p:par>
                                <p:cTn id="49" nodeType="afterEffect" fill="hold" presetClass="entr" presetID="12" presetSubtype="4">
                                  <p:stCondLst>
                                    <p:cond delay="0"/>
                                  </p:stCondLst>
                                  <p:childTnLst>
                                    <p:set>
                                      <p:cBhvr>
                                        <p:cTn id="50"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51" dur="1000"/>
                                        <p:tgtEl>
                                          <p:spTgt spid="94">
                                            <p:txEl>
                                              <p:pRg st="3" end="3"/>
                                            </p:txEl>
                                          </p:spTgt>
                                        </p:tgtEl>
                                      </p:cBhvr>
                                    </p:animEffect>
                                  </p:childTnLst>
                                </p:cTn>
                              </p:par>
                            </p:childTnLst>
                          </p:cTn>
                        </p:par>
                        <p:par>
                          <p:cTn id="52" fill="hold">
                            <p:stCondLst>
                              <p:cond delay="3000"/>
                            </p:stCondLst>
                            <p:childTnLst>
                              <p:par>
                                <p:cTn id="53" nodeType="afterEffect" fill="hold" presetClass="entr" presetID="12" presetSubtype="4">
                                  <p:stCondLst>
                                    <p:cond delay="0"/>
                                  </p:stCondLst>
                                  <p:childTnLst>
                                    <p:set>
                                      <p:cBhvr>
                                        <p:cTn id="54"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55" dur="1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47680" y="838080"/>
            <a:ext cx="5199120" cy="609840"/>
          </a:xfrm>
          <a:prstGeom prst="rect">
            <a:avLst/>
          </a:prstGeom>
          <a:noFill/>
          <a:ln w="0">
            <a:noFill/>
          </a:ln>
        </p:spPr>
        <p:txBody>
          <a:bodyPr lIns="90360" rIns="90360" tIns="44280" bIns="442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quirement</a:t>
            </a:r>
            <a:endParaRPr b="0" lang="en-US" sz="2400" spc="-1" strike="noStrike">
              <a:solidFill>
                <a:srgbClr val="000000"/>
              </a:solidFill>
              <a:latin typeface="Arial"/>
            </a:endParaRPr>
          </a:p>
        </p:txBody>
      </p:sp>
      <p:sp>
        <p:nvSpPr>
          <p:cNvPr id="1383" name=""/>
          <p:cNvSpPr/>
          <p:nvPr/>
        </p:nvSpPr>
        <p:spPr>
          <a:xfrm>
            <a:off x="82440" y="1600200"/>
            <a:ext cx="2433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Arial"/>
              </a:rPr>
              <a:t>COMPETITIV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Arial"/>
              </a:rPr>
              <a:t>ADVANTAGE</a:t>
            </a:r>
            <a:endParaRPr b="0" lang="en-US" sz="2000" spc="-1" strike="noStrike">
              <a:solidFill>
                <a:srgbClr val="000000"/>
              </a:solidFill>
              <a:latin typeface="Times New Roman"/>
            </a:endParaRPr>
          </a:p>
        </p:txBody>
      </p:sp>
      <p:sp>
        <p:nvSpPr>
          <p:cNvPr id="1384" name=""/>
          <p:cNvSpPr/>
          <p:nvPr/>
        </p:nvSpPr>
        <p:spPr>
          <a:xfrm>
            <a:off x="2557440" y="1523880"/>
            <a:ext cx="6932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66"/>
                </a:solidFill>
                <a:latin typeface="Arial Black"/>
                <a:ea typeface="Arial"/>
              </a:rPr>
              <a:t>Value  –  Cost</a:t>
            </a:r>
            <a:endParaRPr b="0" lang="en-US" sz="6000" spc="-1" strike="noStrike">
              <a:solidFill>
                <a:srgbClr val="000000"/>
              </a:solidFill>
              <a:latin typeface="Times New Roman"/>
            </a:endParaRPr>
          </a:p>
        </p:txBody>
      </p:sp>
      <p:sp>
        <p:nvSpPr>
          <p:cNvPr id="1385" name=""/>
          <p:cNvSpPr/>
          <p:nvPr/>
        </p:nvSpPr>
        <p:spPr>
          <a:xfrm>
            <a:off x="2924280" y="3141720"/>
            <a:ext cx="140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66"/>
                </a:solidFill>
                <a:latin typeface="Arial Black"/>
                <a:ea typeface="Arial"/>
              </a:rPr>
              <a:t>v</a:t>
            </a:r>
            <a:endParaRPr b="0" lang="en-US" sz="6000" spc="-1" strike="noStrike">
              <a:solidFill>
                <a:srgbClr val="000000"/>
              </a:solidFill>
              <a:latin typeface="Times New Roman"/>
            </a:endParaRPr>
          </a:p>
        </p:txBody>
      </p:sp>
      <p:sp>
        <p:nvSpPr>
          <p:cNvPr id="1386" name=""/>
          <p:cNvSpPr/>
          <p:nvPr/>
        </p:nvSpPr>
        <p:spPr>
          <a:xfrm>
            <a:off x="6589800" y="3213000"/>
            <a:ext cx="90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66"/>
                </a:solidFill>
                <a:latin typeface="Arial Black"/>
                <a:ea typeface="Arial"/>
              </a:rPr>
              <a:t>c</a:t>
            </a:r>
            <a:endParaRPr b="0" lang="en-US" sz="6000" spc="-1" strike="noStrike">
              <a:solidFill>
                <a:srgbClr val="000000"/>
              </a:solidFill>
              <a:latin typeface="Times New Roman"/>
            </a:endParaRPr>
          </a:p>
        </p:txBody>
      </p:sp>
      <p:sp>
        <p:nvSpPr>
          <p:cNvPr id="1387" name=""/>
          <p:cNvSpPr/>
          <p:nvPr/>
        </p:nvSpPr>
        <p:spPr>
          <a:xfrm rot="18429600">
            <a:off x="4143240" y="3600000"/>
            <a:ext cx="595440" cy="525600"/>
          </a:xfrm>
          <a:prstGeom prst="rightArrow">
            <a:avLst>
              <a:gd name="adj1" fmla="val 50000"/>
              <a:gd name="adj2" fmla="val 2832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rot="18429600">
            <a:off x="4638600" y="3600000"/>
            <a:ext cx="595440" cy="525600"/>
          </a:xfrm>
          <a:prstGeom prst="rightArrow">
            <a:avLst>
              <a:gd name="adj1" fmla="val 50000"/>
              <a:gd name="adj2" fmla="val 2832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rot="18429600">
            <a:off x="5132880" y="3599640"/>
            <a:ext cx="595440" cy="527040"/>
          </a:xfrm>
          <a:prstGeom prst="rightArrow">
            <a:avLst>
              <a:gd name="adj1" fmla="val 35019"/>
              <a:gd name="adj2" fmla="val 285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3878280" y="2362320"/>
            <a:ext cx="1155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ial Black"/>
                <a:ea typeface="Arial"/>
              </a:rPr>
              <a:t>(v)      </a:t>
            </a:r>
            <a:endParaRPr b="0" lang="en-US" sz="4800" spc="-1" strike="noStrike">
              <a:solidFill>
                <a:srgbClr val="000000"/>
              </a:solidFill>
              <a:latin typeface="Times New Roman"/>
            </a:endParaRPr>
          </a:p>
        </p:txBody>
      </p:sp>
      <p:sp>
        <p:nvSpPr>
          <p:cNvPr id="1391" name=""/>
          <p:cNvSpPr/>
          <p:nvPr/>
        </p:nvSpPr>
        <p:spPr>
          <a:xfrm rot="3243600">
            <a:off x="7803000" y="3615480"/>
            <a:ext cx="595440" cy="527040"/>
          </a:xfrm>
          <a:prstGeom prst="rightArrow">
            <a:avLst>
              <a:gd name="adj1" fmla="val 50000"/>
              <a:gd name="adj2" fmla="val 2824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rot="3243600">
            <a:off x="8320320" y="3615480"/>
            <a:ext cx="595440" cy="527040"/>
          </a:xfrm>
          <a:prstGeom prst="rightArrow">
            <a:avLst>
              <a:gd name="adj1" fmla="val 50000"/>
              <a:gd name="adj2" fmla="val 2824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rot="3243600">
            <a:off x="8847000" y="3616200"/>
            <a:ext cx="595440" cy="525600"/>
          </a:xfrm>
          <a:prstGeom prst="rightArrow">
            <a:avLst>
              <a:gd name="adj1" fmla="val 50000"/>
              <a:gd name="adj2" fmla="val 2832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768760" y="3284640"/>
            <a:ext cx="6765840" cy="75384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7427880" y="2362320"/>
            <a:ext cx="131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ial Black"/>
                <a:ea typeface="Arial"/>
              </a:rPr>
              <a:t>(c)      </a:t>
            </a:r>
            <a:endParaRPr b="0" lang="en-US" sz="4800" spc="-1" strike="noStrike">
              <a:solidFill>
                <a:srgbClr val="000000"/>
              </a:solidFill>
              <a:latin typeface="Times New Roman"/>
            </a:endParaRPr>
          </a:p>
        </p:txBody>
      </p:sp>
      <p:sp>
        <p:nvSpPr>
          <p:cNvPr id="1396" name=""/>
          <p:cNvSpPr/>
          <p:nvPr/>
        </p:nvSpPr>
        <p:spPr>
          <a:xfrm>
            <a:off x="2639880" y="4114800"/>
            <a:ext cx="3397320" cy="260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Product quality meet with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Customer  need &amp; wan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Competitive price (pay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On Time Delivery</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fter Sales Servic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afety,Quality,Productiv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Human Rsc, Env, Info, Risk M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Natural Resourcess,etc</a:t>
            </a:r>
            <a:endParaRPr b="0" lang="en-US" sz="1400" spc="-1" strike="noStrike">
              <a:solidFill>
                <a:srgbClr val="000000"/>
              </a:solidFill>
              <a:latin typeface="Times New Roman"/>
            </a:endParaRPr>
          </a:p>
        </p:txBody>
      </p:sp>
      <p:sp>
        <p:nvSpPr>
          <p:cNvPr id="1397" name=""/>
          <p:cNvSpPr/>
          <p:nvPr/>
        </p:nvSpPr>
        <p:spPr>
          <a:xfrm>
            <a:off x="2639880" y="3200400"/>
            <a:ext cx="3384720" cy="3429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54720" y="3200400"/>
            <a:ext cx="3382920" cy="3429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767640" y="4191120"/>
            <a:ext cx="2474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Cost Reduc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xpense, invs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GA,etc)</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st Saving</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ight Budget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A/VE, etc</a:t>
            </a:r>
            <a:endParaRPr b="0" lang="en-US" sz="1800" spc="-1" strike="noStrike">
              <a:solidFill>
                <a:srgbClr val="000000"/>
              </a:solidFill>
              <a:latin typeface="Times New Roman"/>
            </a:endParaRPr>
          </a:p>
        </p:txBody>
      </p:sp>
      <p:sp>
        <p:nvSpPr>
          <p:cNvPr id="1400" name=""/>
          <p:cNvSpPr/>
          <p:nvPr/>
        </p:nvSpPr>
        <p:spPr>
          <a:xfrm>
            <a:off x="2394000" y="1828800"/>
            <a:ext cx="49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Arial"/>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D2503A-0EB6-4D4A-90E7-F64220DF41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
          <p:cNvSpPr/>
          <p:nvPr/>
        </p:nvSpPr>
        <p:spPr>
          <a:xfrm>
            <a:off x="2612880" y="728640"/>
            <a:ext cx="5613480" cy="324000"/>
          </a:xfrm>
          <a:prstGeom prst="rect">
            <a:avLst/>
          </a:prstGeom>
          <a:noFill/>
          <a:ln w="0">
            <a:noFill/>
          </a:ln>
        </p:spPr>
        <p:style>
          <a:lnRef idx="0"/>
          <a:fillRef idx="0"/>
          <a:effectRef idx="0"/>
          <a:fontRef idx="minor"/>
        </p:style>
        <p:txBody>
          <a:bodyPr lIns="92160" rIns="92160" tIns="46080" bIns="4608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 of Just In Time)</a:t>
            </a:r>
            <a:endParaRPr b="0" lang="en-US" sz="2000" spc="-1" strike="noStrike">
              <a:solidFill>
                <a:srgbClr val="000000"/>
              </a:solidFill>
              <a:latin typeface="Times New Roman"/>
            </a:endParaRPr>
          </a:p>
        </p:txBody>
      </p:sp>
      <p:sp>
        <p:nvSpPr>
          <p:cNvPr id="1402" name=""/>
          <p:cNvSpPr/>
          <p:nvPr/>
        </p:nvSpPr>
        <p:spPr>
          <a:xfrm>
            <a:off x="1162080" y="1405080"/>
            <a:ext cx="728820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produce product or vehicle to fulfill the various customer demand</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3" name=""/>
          <p:cNvSpPr/>
          <p:nvPr/>
        </p:nvSpPr>
        <p:spPr>
          <a:xfrm>
            <a:off x="1120680" y="2471760"/>
            <a:ext cx="53499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tal system from order to delivery</a:t>
            </a:r>
            <a:endParaRPr b="0" lang="en-US" sz="2000" spc="-1" strike="noStrike">
              <a:solidFill>
                <a:srgbClr val="000000"/>
              </a:solidFill>
              <a:latin typeface="Times New Roman"/>
            </a:endParaRPr>
          </a:p>
        </p:txBody>
      </p:sp>
      <p:sp>
        <p:nvSpPr>
          <p:cNvPr id="1404" name=""/>
          <p:cNvSpPr/>
          <p:nvPr/>
        </p:nvSpPr>
        <p:spPr>
          <a:xfrm>
            <a:off x="1093320" y="3235320"/>
            <a:ext cx="85291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shorten lead time (reduce stock, quick &amp; on time delivery) </a:t>
            </a:r>
            <a:endParaRPr b="0" lang="en-US" sz="2000" spc="-1" strike="noStrike">
              <a:solidFill>
                <a:srgbClr val="000000"/>
              </a:solidFill>
              <a:latin typeface="Times New Roman"/>
            </a:endParaRPr>
          </a:p>
        </p:txBody>
      </p:sp>
      <p:sp>
        <p:nvSpPr>
          <p:cNvPr id="1405" name=""/>
          <p:cNvSpPr/>
          <p:nvPr/>
        </p:nvSpPr>
        <p:spPr>
          <a:xfrm>
            <a:off x="2224080" y="423720"/>
            <a:ext cx="4441680" cy="576360"/>
          </a:xfrm>
          <a:custGeom>
            <a:avLst/>
            <a:gdLst>
              <a:gd name="textAreaLeft" fmla="*/ 67680 w 4441680"/>
              <a:gd name="textAreaRight" fmla="*/ 4374000 w 4441680"/>
              <a:gd name="textAreaTop" fmla="*/ 67680 h 576360"/>
              <a:gd name="textAreaBottom" fmla="*/ 508680 h 576360"/>
            </a:gdLst>
            <a:ahLst/>
            <a:rect l="textAreaLeft" t="textAreaTop" r="textAreaRight" b="textAreaBottom"/>
            <a:pathLst>
              <a:path w="166369" h="21600">
                <a:moveTo>
                  <a:pt x="3600" y="0"/>
                </a:moveTo>
                <a:arcTo wR="3600" hR="3600" stAng="0" swAng="5400000"/>
                <a:lnTo>
                  <a:pt x="0" y="18000"/>
                </a:lnTo>
                <a:arcTo wR="3600" hR="3600" stAng="16200000" swAng="5400000"/>
                <a:lnTo>
                  <a:pt x="162769" y="21600"/>
                </a:lnTo>
                <a:arcTo wR="3600" hR="3600" stAng="10800000" swAng="5400000"/>
                <a:lnTo>
                  <a:pt x="166369" y="3600"/>
                </a:lnTo>
                <a:arcTo wR="3600" hR="3600" stAng="5400000" swAng="5400000"/>
                <a:close/>
              </a:path>
            </a:pathLst>
          </a:custGeom>
          <a:solidFill>
            <a:srgbClr val="3333cc"/>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he purpose of “Just-In-Time”</a:t>
            </a:r>
            <a:endParaRPr b="0" lang="en-US" sz="2400" spc="-1" strike="noStrike">
              <a:solidFill>
                <a:srgbClr val="000000"/>
              </a:solidFill>
              <a:latin typeface="Times New Roman"/>
            </a:endParaRPr>
          </a:p>
        </p:txBody>
      </p:sp>
      <p:sp>
        <p:nvSpPr>
          <p:cNvPr id="1406" name=""/>
          <p:cNvSpPr/>
          <p:nvPr/>
        </p:nvSpPr>
        <p:spPr>
          <a:xfrm>
            <a:off x="2403360" y="2101680"/>
            <a:ext cx="486000" cy="281160"/>
          </a:xfrm>
          <a:prstGeom prst="down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373480" y="2881440"/>
            <a:ext cx="485640" cy="282600"/>
          </a:xfrm>
          <a:prstGeom prst="down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133640" y="3851280"/>
            <a:ext cx="72882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produce and convey only what is needed, when is needed and in just the amount needed</a:t>
            </a:r>
            <a:endParaRPr b="0" lang="en-US" sz="2000" spc="-1" strike="noStrike">
              <a:solidFill>
                <a:srgbClr val="000000"/>
              </a:solidFill>
              <a:latin typeface="Times New Roman"/>
            </a:endParaRPr>
          </a:p>
        </p:txBody>
      </p:sp>
      <p:sp>
        <p:nvSpPr>
          <p:cNvPr id="1409" name=""/>
          <p:cNvSpPr/>
          <p:nvPr/>
        </p:nvSpPr>
        <p:spPr>
          <a:xfrm>
            <a:off x="2303640" y="5405400"/>
            <a:ext cx="485640" cy="281160"/>
          </a:xfrm>
          <a:prstGeom prst="down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360520" y="4551480"/>
            <a:ext cx="486000" cy="280800"/>
          </a:xfrm>
          <a:prstGeom prst="down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1219320" y="5772240"/>
            <a:ext cx="67932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reduce production cost &amp; assure the quality</a:t>
            </a:r>
            <a:endParaRPr b="0" lang="en-US" sz="2000" spc="-1" strike="noStrike">
              <a:solidFill>
                <a:srgbClr val="000000"/>
              </a:solidFill>
              <a:latin typeface="Times New Roman"/>
            </a:endParaRPr>
          </a:p>
        </p:txBody>
      </p:sp>
      <p:sp>
        <p:nvSpPr>
          <p:cNvPr id="1412" name=""/>
          <p:cNvSpPr/>
          <p:nvPr/>
        </p:nvSpPr>
        <p:spPr>
          <a:xfrm>
            <a:off x="1262520" y="4994280"/>
            <a:ext cx="62110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t order, production and logistic system</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664920D-8B38-415A-99F0-C2C113F20C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2260440" y="685800"/>
            <a:ext cx="5613480" cy="720720"/>
          </a:xfrm>
          <a:prstGeom prst="rect">
            <a:avLst/>
          </a:prstGeom>
          <a:noFill/>
          <a:ln w="0">
            <a:noFill/>
          </a:ln>
        </p:spPr>
        <p:style>
          <a:lnRef idx="0"/>
          <a:fillRef idx="0"/>
          <a:effectRef idx="0"/>
          <a:fontRef idx="minor"/>
        </p:style>
        <p:txBody>
          <a:bodyPr lIns="92160" rIns="92160" tIns="46080" bIns="4608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 of Jidoka</a:t>
            </a:r>
            <a:endParaRPr b="0" lang="en-US" sz="3600" spc="-1" strike="noStrike">
              <a:solidFill>
                <a:srgbClr val="000000"/>
              </a:solidFill>
              <a:latin typeface="Times New Roman"/>
            </a:endParaRPr>
          </a:p>
        </p:txBody>
      </p:sp>
      <p:sp>
        <p:nvSpPr>
          <p:cNvPr id="1414" name=""/>
          <p:cNvSpPr/>
          <p:nvPr/>
        </p:nvSpPr>
        <p:spPr>
          <a:xfrm>
            <a:off x="829080" y="1866960"/>
            <a:ext cx="47282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hange motion into work”</a:t>
            </a:r>
            <a:endParaRPr b="0" lang="en-US" sz="2400" spc="-1" strike="noStrike">
              <a:solidFill>
                <a:srgbClr val="000000"/>
              </a:solidFill>
              <a:latin typeface="Times New Roman"/>
            </a:endParaRPr>
          </a:p>
        </p:txBody>
      </p:sp>
      <p:sp>
        <p:nvSpPr>
          <p:cNvPr id="1415" name=""/>
          <p:cNvSpPr/>
          <p:nvPr/>
        </p:nvSpPr>
        <p:spPr>
          <a:xfrm>
            <a:off x="3051000" y="2370240"/>
            <a:ext cx="5085000" cy="520560"/>
          </a:xfrm>
          <a:prstGeom prst="rect">
            <a:avLst/>
          </a:prstGeom>
          <a:blipFill rotWithShape="0">
            <a:blip r:embed="rId1"/>
            <a:srcRect/>
            <a:tile tx="0" ty="0" sx="100000" sy="100000" algn="ctr"/>
          </a:blipFill>
          <a:ln cap="sq" w="1260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Different from mere automation</a:t>
            </a:r>
            <a:endParaRPr b="0" lang="en-US" sz="2800" spc="-1" strike="noStrike">
              <a:solidFill>
                <a:srgbClr val="000000"/>
              </a:solidFill>
              <a:latin typeface="Times New Roman"/>
            </a:endParaRPr>
          </a:p>
        </p:txBody>
      </p:sp>
      <p:sp>
        <p:nvSpPr>
          <p:cNvPr id="1416" name=""/>
          <p:cNvSpPr/>
          <p:nvPr/>
        </p:nvSpPr>
        <p:spPr>
          <a:xfrm>
            <a:off x="1536120" y="4684680"/>
            <a:ext cx="309312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p and notif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case of abnormality</a:t>
            </a:r>
            <a:endParaRPr b="0" lang="en-US" sz="2000" spc="-1" strike="noStrike">
              <a:solidFill>
                <a:srgbClr val="000000"/>
              </a:solidFill>
              <a:latin typeface="Times New Roman"/>
            </a:endParaRPr>
          </a:p>
        </p:txBody>
      </p:sp>
      <p:sp>
        <p:nvSpPr>
          <p:cNvPr id="1417" name=""/>
          <p:cNvSpPr/>
          <p:nvPr/>
        </p:nvSpPr>
        <p:spPr>
          <a:xfrm>
            <a:off x="6188760" y="4743360"/>
            <a:ext cx="303660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t in quality in the process</a:t>
            </a:r>
            <a:endParaRPr b="0" lang="en-US" sz="16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reduction by Kaizen</a:t>
            </a:r>
            <a:endParaRPr b="0" lang="en-US" sz="16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power saving</a:t>
            </a:r>
            <a:endParaRPr b="0" lang="en-US" sz="1600" spc="-1" strike="noStrike">
              <a:solidFill>
                <a:srgbClr val="000000"/>
              </a:solidFill>
              <a:latin typeface="Times New Roman"/>
            </a:endParaRPr>
          </a:p>
        </p:txBody>
      </p:sp>
      <p:sp>
        <p:nvSpPr>
          <p:cNvPr id="1418" name=""/>
          <p:cNvSpPr/>
          <p:nvPr/>
        </p:nvSpPr>
        <p:spPr>
          <a:xfrm>
            <a:off x="1057680" y="5697360"/>
            <a:ext cx="38124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and notif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machine work</a:t>
            </a:r>
            <a:endParaRPr b="0" lang="en-US" sz="2000" spc="-1" strike="noStrike">
              <a:solidFill>
                <a:srgbClr val="000000"/>
              </a:solidFill>
              <a:latin typeface="Times New Roman"/>
            </a:endParaRPr>
          </a:p>
        </p:txBody>
      </p:sp>
      <p:sp>
        <p:nvSpPr>
          <p:cNvPr id="1419" name=""/>
          <p:cNvSpPr/>
          <p:nvPr/>
        </p:nvSpPr>
        <p:spPr>
          <a:xfrm>
            <a:off x="4640400" y="5084640"/>
            <a:ext cx="117360" cy="73080"/>
          </a:xfrm>
          <a:prstGeom prst="ellipse">
            <a:avLst/>
          </a:prstGeom>
          <a:solidFill>
            <a:srgbClr val="ffff00"/>
          </a:solidFill>
          <a:ln cap="sq" w="19080">
            <a:solidFill>
              <a:srgbClr val="ffff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20" name=""/>
          <p:cNvSpPr/>
          <p:nvPr/>
        </p:nvSpPr>
        <p:spPr>
          <a:xfrm flipV="1">
            <a:off x="4718160" y="4951440"/>
            <a:ext cx="1365120" cy="169920"/>
          </a:xfrm>
          <a:prstGeom prst="line">
            <a:avLst/>
          </a:prstGeom>
          <a:ln cap="sq" w="1908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718160" y="5132520"/>
            <a:ext cx="1401480" cy="241200"/>
          </a:xfrm>
          <a:prstGeom prst="line">
            <a:avLst/>
          </a:prstGeom>
          <a:ln cap="sq" w="1908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678200" y="5121360"/>
            <a:ext cx="1441440" cy="720720"/>
          </a:xfrm>
          <a:prstGeom prst="line">
            <a:avLst/>
          </a:prstGeom>
          <a:ln cap="sq" w="1908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67160" y="5913360"/>
            <a:ext cx="1676520" cy="0"/>
          </a:xfrm>
          <a:prstGeom prst="line">
            <a:avLst/>
          </a:prstGeom>
          <a:ln cap="sq" w="19080">
            <a:solidFill>
              <a:srgbClr val="ffff00"/>
            </a:solidFill>
            <a:miter/>
            <a:headEnd len="sm" type="oval" w="sm"/>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092240" y="4545000"/>
            <a:ext cx="8577360" cy="2087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090440" y="1844640"/>
            <a:ext cx="8577360" cy="25923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E5DC1AA-416D-4681-BFFF-50AA91D09C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6" name=""/>
          <p:cNvGraphicFramePr/>
          <p:nvPr/>
        </p:nvGraphicFramePr>
        <p:xfrm>
          <a:off x="743040" y="3813120"/>
          <a:ext cx="9005400" cy="2855880"/>
        </p:xfrm>
        <a:graphic>
          <a:graphicData uri="http://schemas.openxmlformats.org/drawingml/2006/table">
            <a:tbl>
              <a:tblPr/>
              <a:tblGrid>
                <a:gridCol w="503640"/>
                <a:gridCol w="2886840"/>
                <a:gridCol w="2748960"/>
                <a:gridCol w="2865960"/>
              </a:tblGrid>
              <a:tr h="638280">
                <a:tc gridSpan="2">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Equipmen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Pers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rPr>
                        <a:t>Material/Componen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2217600">
                <a:tc>
                  <a:txBody>
                    <a:bodyPr lIns="90000" rIns="90000" tIns="46800" bIns="46800" anchor="ctr" anchorCtr="1" vert="eaVe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dicato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
                      <a:stretch/>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
                      <a:stretch/>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stretch/>
                    </a:blipFill>
                  </a:tcPr>
                </a:tc>
              </a:tr>
            </a:tbl>
          </a:graphicData>
        </a:graphic>
      </p:graphicFrame>
      <p:pic>
        <p:nvPicPr>
          <p:cNvPr id="1427" name="" descr=""/>
          <p:cNvPicPr/>
          <p:nvPr/>
        </p:nvPicPr>
        <p:blipFill>
          <a:blip r:embed="rId4"/>
          <a:stretch/>
        </p:blipFill>
        <p:spPr>
          <a:xfrm>
            <a:off x="1335240" y="1125360"/>
            <a:ext cx="4730760" cy="2448000"/>
          </a:xfrm>
          <a:prstGeom prst="rect">
            <a:avLst/>
          </a:prstGeom>
          <a:ln w="9360">
            <a:solidFill>
              <a:srgbClr val="000000"/>
            </a:solidFill>
            <a:miter/>
          </a:ln>
        </p:spPr>
      </p:pic>
      <p:pic>
        <p:nvPicPr>
          <p:cNvPr id="1428" name="" descr=""/>
          <p:cNvPicPr/>
          <p:nvPr/>
        </p:nvPicPr>
        <p:blipFill>
          <a:blip r:embed="rId5"/>
          <a:stretch/>
        </p:blipFill>
        <p:spPr>
          <a:xfrm>
            <a:off x="6451560" y="1125360"/>
            <a:ext cx="3218040" cy="2467080"/>
          </a:xfrm>
          <a:prstGeom prst="rect">
            <a:avLst/>
          </a:prstGeom>
          <a:ln w="9360">
            <a:solidFill>
              <a:srgbClr val="000000"/>
            </a:solidFill>
            <a:miter/>
          </a:ln>
        </p:spPr>
      </p:pic>
      <p:sp>
        <p:nvSpPr>
          <p:cNvPr id="1429" name=""/>
          <p:cNvSpPr/>
          <p:nvPr/>
        </p:nvSpPr>
        <p:spPr>
          <a:xfrm>
            <a:off x="2612880" y="152280"/>
            <a:ext cx="5613480" cy="719280"/>
          </a:xfrm>
          <a:prstGeom prst="rect">
            <a:avLst/>
          </a:prstGeom>
          <a:noFill/>
          <a:ln w="0">
            <a:noFill/>
          </a:ln>
        </p:spPr>
        <p:style>
          <a:lnRef idx="0"/>
          <a:fillRef idx="0"/>
          <a:effectRef idx="0"/>
          <a:fontRef idx="minor"/>
        </p:style>
        <p:txBody>
          <a:bodyPr lIns="92160" rIns="92160" tIns="46080" bIns="4608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Jidoka Examp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38CE466-4575-4CAA-AC71-8B3FD4254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165240" y="4648320"/>
            <a:ext cx="3795480" cy="1981080"/>
          </a:xfrm>
          <a:prstGeom prst="rect">
            <a:avLst/>
          </a:pr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1" name=""/>
          <p:cNvSpPr/>
          <p:nvPr/>
        </p:nvSpPr>
        <p:spPr>
          <a:xfrm>
            <a:off x="5529240" y="4572000"/>
            <a:ext cx="3960720" cy="2173320"/>
          </a:xfrm>
          <a:prstGeom prst="rect">
            <a:avLst/>
          </a:pr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2" name=""/>
          <p:cNvSpPr/>
          <p:nvPr/>
        </p:nvSpPr>
        <p:spPr>
          <a:xfrm>
            <a:off x="5446800" y="1219320"/>
            <a:ext cx="4260600" cy="1981080"/>
          </a:xfrm>
          <a:prstGeom prst="rect">
            <a:avLst/>
          </a:pr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3" name=""/>
          <p:cNvSpPr/>
          <p:nvPr/>
        </p:nvSpPr>
        <p:spPr>
          <a:xfrm>
            <a:off x="165240" y="1219320"/>
            <a:ext cx="3795480" cy="1981080"/>
          </a:xfrm>
          <a:prstGeom prst="rect">
            <a:avLst/>
          </a:pr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4" name=""/>
          <p:cNvSpPr/>
          <p:nvPr/>
        </p:nvSpPr>
        <p:spPr>
          <a:xfrm>
            <a:off x="0" y="762120"/>
            <a:ext cx="990288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247680" y="990720"/>
            <a:ext cx="3548160" cy="429120"/>
          </a:xfrm>
          <a:prstGeom prst="rect">
            <a:avLst/>
          </a:prstGeom>
          <a:solidFill>
            <a:srgbClr val="ffff00"/>
          </a:solidFill>
          <a:ln w="64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Narrow"/>
                <a:ea typeface="MS PGothic"/>
              </a:rPr>
              <a:t>P: Draw up CR action plan</a:t>
            </a:r>
            <a:endParaRPr b="0" lang="en-US" sz="2200" spc="-1" strike="noStrike">
              <a:solidFill>
                <a:srgbClr val="000000"/>
              </a:solidFill>
              <a:latin typeface="Times New Roman"/>
            </a:endParaRPr>
          </a:p>
        </p:txBody>
      </p:sp>
      <p:sp>
        <p:nvSpPr>
          <p:cNvPr id="1436" name=""/>
          <p:cNvSpPr/>
          <p:nvPr/>
        </p:nvSpPr>
        <p:spPr>
          <a:xfrm>
            <a:off x="5735520" y="4419720"/>
            <a:ext cx="3548160" cy="398880"/>
          </a:xfrm>
          <a:prstGeom prst="rect">
            <a:avLst/>
          </a:prstGeom>
          <a:solidFill>
            <a:srgbClr val="ffff00"/>
          </a:solidFill>
          <a:ln w="64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ea typeface="MS PGothic"/>
              </a:rPr>
              <a:t>C: Check actual</a:t>
            </a:r>
            <a:endParaRPr b="0" lang="en-US" sz="2000" spc="-1" strike="noStrike">
              <a:solidFill>
                <a:srgbClr val="000000"/>
              </a:solidFill>
              <a:latin typeface="Times New Roman"/>
            </a:endParaRPr>
          </a:p>
        </p:txBody>
      </p:sp>
      <p:sp>
        <p:nvSpPr>
          <p:cNvPr id="1437" name=""/>
          <p:cNvSpPr/>
          <p:nvPr/>
        </p:nvSpPr>
        <p:spPr>
          <a:xfrm>
            <a:off x="247680" y="4419720"/>
            <a:ext cx="3548160" cy="398880"/>
          </a:xfrm>
          <a:prstGeom prst="rect">
            <a:avLst/>
          </a:prstGeom>
          <a:solidFill>
            <a:srgbClr val="ffff00"/>
          </a:solidFill>
          <a:ln w="64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ea typeface="MS PGothic"/>
              </a:rPr>
              <a:t>A: Making countermeasures</a:t>
            </a:r>
            <a:endParaRPr b="0" lang="en-US" sz="2000" spc="-1" strike="noStrike">
              <a:solidFill>
                <a:srgbClr val="000000"/>
              </a:solidFill>
              <a:latin typeface="Times New Roman"/>
            </a:endParaRPr>
          </a:p>
        </p:txBody>
      </p:sp>
      <p:sp>
        <p:nvSpPr>
          <p:cNvPr id="1438" name=""/>
          <p:cNvSpPr/>
          <p:nvPr/>
        </p:nvSpPr>
        <p:spPr>
          <a:xfrm>
            <a:off x="247680" y="1600200"/>
            <a:ext cx="1981080" cy="457200"/>
          </a:xfrm>
          <a:prstGeom prst="bevel">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Profit plan</a:t>
            </a:r>
            <a:endParaRPr b="0" lang="en-US" sz="1600" spc="-1" strike="noStrike">
              <a:solidFill>
                <a:srgbClr val="000000"/>
              </a:solidFill>
              <a:latin typeface="Times New Roman"/>
            </a:endParaRPr>
          </a:p>
        </p:txBody>
      </p:sp>
      <p:sp>
        <p:nvSpPr>
          <p:cNvPr id="1439" name=""/>
          <p:cNvSpPr/>
          <p:nvPr/>
        </p:nvSpPr>
        <p:spPr>
          <a:xfrm>
            <a:off x="1073160" y="2666880"/>
            <a:ext cx="2475000" cy="457200"/>
          </a:xfrm>
          <a:prstGeom prst="bevel">
            <a:avLst>
              <a:gd name="adj" fmla="val 1562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CR action plan</a:t>
            </a:r>
            <a:endParaRPr b="0" lang="en-US" sz="1600" spc="-1" strike="noStrike">
              <a:solidFill>
                <a:srgbClr val="000000"/>
              </a:solidFill>
              <a:latin typeface="Times New Roman"/>
            </a:endParaRPr>
          </a:p>
        </p:txBody>
      </p:sp>
      <p:sp>
        <p:nvSpPr>
          <p:cNvPr id="1440" name=""/>
          <p:cNvSpPr/>
          <p:nvPr/>
        </p:nvSpPr>
        <p:spPr>
          <a:xfrm>
            <a:off x="5405400" y="914400"/>
            <a:ext cx="4373640" cy="398880"/>
          </a:xfrm>
          <a:prstGeom prst="rect">
            <a:avLst/>
          </a:prstGeom>
          <a:solidFill>
            <a:srgbClr val="ffff00"/>
          </a:solidFill>
          <a:ln w="648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ea typeface="MS PGothic"/>
              </a:rPr>
              <a:t>D</a:t>
            </a:r>
            <a:r>
              <a:rPr b="1" lang="ja-JP" sz="2000" spc="-1" strike="noStrike">
                <a:solidFill>
                  <a:srgbClr val="ff0000"/>
                </a:solidFill>
                <a:latin typeface="Arial Narrow"/>
                <a:ea typeface="MS PGothic"/>
              </a:rPr>
              <a:t>：</a:t>
            </a:r>
            <a:r>
              <a:rPr b="1" lang="en-US" sz="2000" spc="-1" strike="noStrike">
                <a:solidFill>
                  <a:srgbClr val="ff0000"/>
                </a:solidFill>
                <a:latin typeface="Arial Narrow"/>
                <a:ea typeface="MS PGothic"/>
              </a:rPr>
              <a:t>Cost maintenance &amp; Kaizen activity</a:t>
            </a:r>
            <a:endParaRPr b="0" lang="en-US" sz="2000" spc="-1" strike="noStrike">
              <a:solidFill>
                <a:srgbClr val="000000"/>
              </a:solidFill>
              <a:latin typeface="Times New Roman"/>
            </a:endParaRPr>
          </a:p>
        </p:txBody>
      </p:sp>
      <p:sp>
        <p:nvSpPr>
          <p:cNvPr id="1441" name=""/>
          <p:cNvSpPr/>
          <p:nvPr/>
        </p:nvSpPr>
        <p:spPr>
          <a:xfrm>
            <a:off x="5529240" y="1676520"/>
            <a:ext cx="2263680" cy="448920"/>
          </a:xfrm>
          <a:prstGeom prst="bevel">
            <a:avLst>
              <a:gd name="adj" fmla="val 12500"/>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Gentan-i management</a:t>
            </a:r>
            <a:endParaRPr b="0" lang="en-US" sz="1600" spc="-1" strike="noStrike">
              <a:solidFill>
                <a:srgbClr val="000000"/>
              </a:solidFill>
              <a:latin typeface="Times New Roman"/>
            </a:endParaRPr>
          </a:p>
        </p:txBody>
      </p:sp>
      <p:sp>
        <p:nvSpPr>
          <p:cNvPr id="1442" name=""/>
          <p:cNvSpPr/>
          <p:nvPr/>
        </p:nvSpPr>
        <p:spPr>
          <a:xfrm>
            <a:off x="5611680" y="2133720"/>
            <a:ext cx="1976400" cy="448920"/>
          </a:xfrm>
          <a:prstGeom prst="bevel">
            <a:avLst>
              <a:gd name="adj" fmla="val 12500"/>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FA management</a:t>
            </a:r>
            <a:endParaRPr b="0" lang="en-US" sz="1600" spc="-1" strike="noStrike">
              <a:solidFill>
                <a:srgbClr val="000000"/>
              </a:solidFill>
              <a:latin typeface="Times New Roman"/>
            </a:endParaRPr>
          </a:p>
        </p:txBody>
      </p:sp>
      <p:sp>
        <p:nvSpPr>
          <p:cNvPr id="1443" name=""/>
          <p:cNvSpPr/>
          <p:nvPr/>
        </p:nvSpPr>
        <p:spPr>
          <a:xfrm>
            <a:off x="8829720" y="2743200"/>
            <a:ext cx="825480" cy="3070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SW</a:t>
            </a:r>
            <a:endParaRPr b="0" lang="en-US" sz="1400" spc="-1" strike="noStrike">
              <a:solidFill>
                <a:srgbClr val="000000"/>
              </a:solidFill>
              <a:latin typeface="Times New Roman"/>
            </a:endParaRPr>
          </a:p>
        </p:txBody>
      </p:sp>
      <p:sp>
        <p:nvSpPr>
          <p:cNvPr id="1444" name=""/>
          <p:cNvSpPr/>
          <p:nvPr/>
        </p:nvSpPr>
        <p:spPr>
          <a:xfrm>
            <a:off x="5492880" y="2727360"/>
            <a:ext cx="3087720" cy="407160"/>
          </a:xfrm>
          <a:prstGeom prst="bevel">
            <a:avLst>
              <a:gd name="adj" fmla="val 8648"/>
            </a:avLst>
          </a:prstGeom>
          <a:solidFill>
            <a:srgbClr val="ffcc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Man hour control</a:t>
            </a:r>
            <a:endParaRPr b="0" lang="en-US" sz="1600" spc="-1" strike="noStrike">
              <a:solidFill>
                <a:srgbClr val="000000"/>
              </a:solidFill>
              <a:latin typeface="Times New Roman"/>
            </a:endParaRPr>
          </a:p>
        </p:txBody>
      </p:sp>
      <p:grpSp>
        <p:nvGrpSpPr>
          <p:cNvPr id="1445" name=""/>
          <p:cNvGrpSpPr/>
          <p:nvPr/>
        </p:nvGrpSpPr>
        <p:grpSpPr>
          <a:xfrm>
            <a:off x="7756560" y="1752480"/>
            <a:ext cx="1485360" cy="533160"/>
            <a:chOff x="7756560" y="1752480"/>
            <a:chExt cx="1485360" cy="533160"/>
          </a:xfrm>
        </p:grpSpPr>
        <p:sp>
          <p:nvSpPr>
            <p:cNvPr id="1446" name=""/>
            <p:cNvSpPr/>
            <p:nvPr/>
          </p:nvSpPr>
          <p:spPr>
            <a:xfrm>
              <a:off x="7921440" y="1752480"/>
              <a:ext cx="0" cy="53316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7921440" y="2285640"/>
              <a:ext cx="13204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756560" y="1904760"/>
              <a:ext cx="1320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V="1">
              <a:off x="7921440" y="1828440"/>
              <a:ext cx="164880" cy="76320"/>
            </a:xfrm>
            <a:prstGeom prst="line">
              <a:avLst/>
            </a:prstGeom>
            <a:ln w="64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8086320" y="1828440"/>
              <a:ext cx="16524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8251560" y="1828440"/>
              <a:ext cx="24732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8499240" y="1828440"/>
              <a:ext cx="164880" cy="3049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8664120" y="2133360"/>
              <a:ext cx="495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4" name=""/>
          <p:cNvSpPr/>
          <p:nvPr/>
        </p:nvSpPr>
        <p:spPr>
          <a:xfrm>
            <a:off x="8086680" y="1676520"/>
            <a:ext cx="412920" cy="380880"/>
          </a:xfrm>
          <a:prstGeom prst="ellipse">
            <a:avLst/>
          </a:prstGeom>
          <a:noFill/>
          <a:ln w="648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5" name=""/>
          <p:cNvSpPr/>
          <p:nvPr/>
        </p:nvSpPr>
        <p:spPr>
          <a:xfrm>
            <a:off x="8582040" y="2057400"/>
            <a:ext cx="165240" cy="304920"/>
          </a:xfrm>
          <a:prstGeom prst="line">
            <a:avLst/>
          </a:prstGeom>
          <a:ln w="64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656320" y="5518080"/>
            <a:ext cx="2760480" cy="448920"/>
          </a:xfrm>
          <a:prstGeom prst="bevel">
            <a:avLst>
              <a:gd name="adj" fmla="val 12500"/>
            </a:avLst>
          </a:prstGeom>
          <a:solidFill>
            <a:srgbClr val="99ffc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Actual cost by product</a:t>
            </a:r>
            <a:endParaRPr b="0" lang="en-US" sz="1600" spc="-1" strike="noStrike">
              <a:solidFill>
                <a:srgbClr val="000000"/>
              </a:solidFill>
              <a:latin typeface="Times New Roman"/>
            </a:endParaRPr>
          </a:p>
        </p:txBody>
      </p:sp>
      <p:grpSp>
        <p:nvGrpSpPr>
          <p:cNvPr id="1457" name=""/>
          <p:cNvGrpSpPr/>
          <p:nvPr/>
        </p:nvGrpSpPr>
        <p:grpSpPr>
          <a:xfrm>
            <a:off x="5859360" y="6019920"/>
            <a:ext cx="1649160" cy="685440"/>
            <a:chOff x="5859360" y="6019920"/>
            <a:chExt cx="1649160" cy="685440"/>
          </a:xfrm>
        </p:grpSpPr>
        <p:sp>
          <p:nvSpPr>
            <p:cNvPr id="1458" name=""/>
            <p:cNvSpPr/>
            <p:nvPr/>
          </p:nvSpPr>
          <p:spPr>
            <a:xfrm>
              <a:off x="5859360" y="6019920"/>
              <a:ext cx="0" cy="6854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859360" y="6705360"/>
              <a:ext cx="16491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106680" y="6019920"/>
              <a:ext cx="164880" cy="68544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1" name=""/>
            <p:cNvSpPr/>
            <p:nvPr/>
          </p:nvSpPr>
          <p:spPr>
            <a:xfrm>
              <a:off x="6436440" y="6156360"/>
              <a:ext cx="164520" cy="5486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2" name=""/>
            <p:cNvSpPr/>
            <p:nvPr/>
          </p:nvSpPr>
          <p:spPr>
            <a:xfrm>
              <a:off x="6848640" y="6019920"/>
              <a:ext cx="164880" cy="68544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3" name=""/>
            <p:cNvSpPr/>
            <p:nvPr/>
          </p:nvSpPr>
          <p:spPr>
            <a:xfrm>
              <a:off x="7178760" y="6293880"/>
              <a:ext cx="164520" cy="4111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64" name=""/>
          <p:cNvSpPr/>
          <p:nvPr/>
        </p:nvSpPr>
        <p:spPr>
          <a:xfrm>
            <a:off x="5859360" y="6095880"/>
            <a:ext cx="1897200" cy="0"/>
          </a:xfrm>
          <a:prstGeom prst="line">
            <a:avLst/>
          </a:prstGeom>
          <a:ln w="64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756560" y="2362320"/>
            <a:ext cx="841320" cy="276480"/>
          </a:xfrm>
          <a:prstGeom prst="rect">
            <a:avLst/>
          </a:prstGeom>
          <a:noFill/>
          <a:ln w="64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Maintain</a:t>
            </a:r>
            <a:endParaRPr b="0" lang="en-US" sz="1200" spc="-1" strike="noStrike">
              <a:solidFill>
                <a:srgbClr val="000000"/>
              </a:solidFill>
              <a:latin typeface="Times New Roman"/>
            </a:endParaRPr>
          </a:p>
        </p:txBody>
      </p:sp>
      <p:sp>
        <p:nvSpPr>
          <p:cNvPr id="1466" name=""/>
          <p:cNvSpPr/>
          <p:nvPr/>
        </p:nvSpPr>
        <p:spPr>
          <a:xfrm>
            <a:off x="3465360" y="3253320"/>
            <a:ext cx="2971800" cy="649800"/>
          </a:xfrm>
          <a:prstGeom prst="ellipse">
            <a:avLst/>
          </a:prstGeom>
          <a:solidFill>
            <a:srgbClr val="99ccff"/>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MS PGothic"/>
              </a:rPr>
              <a:t>Cost Meeting</a:t>
            </a:r>
            <a:endParaRPr b="0" lang="en-US" sz="2400" spc="-1" strike="noStrike">
              <a:solidFill>
                <a:srgbClr val="000000"/>
              </a:solidFill>
              <a:latin typeface="Times New Roman"/>
            </a:endParaRPr>
          </a:p>
        </p:txBody>
      </p:sp>
      <p:sp>
        <p:nvSpPr>
          <p:cNvPr id="1467" name=""/>
          <p:cNvSpPr/>
          <p:nvPr/>
        </p:nvSpPr>
        <p:spPr>
          <a:xfrm>
            <a:off x="990720" y="2133720"/>
            <a:ext cx="1896840" cy="457200"/>
          </a:xfrm>
          <a:prstGeom prst="bevel">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CR target</a:t>
            </a:r>
            <a:endParaRPr b="0" lang="en-US" sz="1600" spc="-1" strike="noStrike">
              <a:solidFill>
                <a:srgbClr val="000000"/>
              </a:solidFill>
              <a:latin typeface="Times New Roman"/>
            </a:endParaRPr>
          </a:p>
        </p:txBody>
      </p:sp>
      <p:sp>
        <p:nvSpPr>
          <p:cNvPr id="1468" name=""/>
          <p:cNvSpPr/>
          <p:nvPr/>
        </p:nvSpPr>
        <p:spPr>
          <a:xfrm rot="3033600">
            <a:off x="2325960" y="1820160"/>
            <a:ext cx="381240" cy="245880"/>
          </a:xfrm>
          <a:custGeom>
            <a:avLst/>
            <a:gdLst>
              <a:gd name="textAreaLeft" fmla="*/ 66600 w 381240"/>
              <a:gd name="textAreaRight" fmla="*/ 276480 w 381240"/>
              <a:gd name="textAreaTop" fmla="*/ 32760 h 245880"/>
              <a:gd name="textAreaBottom" fmla="*/ 213120 h 245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ff"/>
          </a:solidFill>
          <a:ln w="64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9" name=""/>
          <p:cNvSpPr/>
          <p:nvPr/>
        </p:nvSpPr>
        <p:spPr>
          <a:xfrm rot="3033600">
            <a:off x="2903760" y="2352600"/>
            <a:ext cx="380880" cy="247680"/>
          </a:xfrm>
          <a:custGeom>
            <a:avLst/>
            <a:gdLst>
              <a:gd name="textAreaLeft" fmla="*/ 66600 w 380880"/>
              <a:gd name="textAreaRight" fmla="*/ 276120 w 380880"/>
              <a:gd name="textAreaTop" fmla="*/ 33120 h 247680"/>
              <a:gd name="textAreaBottom" fmla="*/ 214560 h 24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ff"/>
          </a:solidFill>
          <a:ln w="64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0" name=""/>
          <p:cNvSpPr/>
          <p:nvPr/>
        </p:nvSpPr>
        <p:spPr>
          <a:xfrm>
            <a:off x="8582040" y="1828800"/>
            <a:ext cx="412560" cy="380880"/>
          </a:xfrm>
          <a:prstGeom prst="ellipse">
            <a:avLst/>
          </a:prstGeom>
          <a:noFill/>
          <a:ln w="648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1" name=""/>
          <p:cNvSpPr/>
          <p:nvPr/>
        </p:nvSpPr>
        <p:spPr>
          <a:xfrm flipH="1">
            <a:off x="8169120" y="2057400"/>
            <a:ext cx="82800" cy="304920"/>
          </a:xfrm>
          <a:prstGeom prst="line">
            <a:avLst/>
          </a:prstGeom>
          <a:ln w="64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664480" y="2362320"/>
            <a:ext cx="712800" cy="276480"/>
          </a:xfrm>
          <a:prstGeom prst="rect">
            <a:avLst/>
          </a:prstGeom>
          <a:noFill/>
          <a:ln w="64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Kazien</a:t>
            </a:r>
            <a:endParaRPr b="0" lang="en-US" sz="1200" spc="-1" strike="noStrike">
              <a:solidFill>
                <a:srgbClr val="000000"/>
              </a:solidFill>
              <a:latin typeface="Times New Roman"/>
            </a:endParaRPr>
          </a:p>
        </p:txBody>
      </p:sp>
      <p:sp>
        <p:nvSpPr>
          <p:cNvPr id="1473" name=""/>
          <p:cNvSpPr/>
          <p:nvPr/>
        </p:nvSpPr>
        <p:spPr>
          <a:xfrm>
            <a:off x="8582040" y="2743200"/>
            <a:ext cx="247680" cy="304920"/>
          </a:xfrm>
          <a:prstGeom prst="leftArrow">
            <a:avLst>
              <a:gd name="adj1" fmla="val 50000"/>
              <a:gd name="adj2" fmla="val 25000"/>
            </a:avLst>
          </a:prstGeom>
          <a:solidFill>
            <a:srgbClr val="ffff66"/>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4" name=""/>
          <p:cNvSpPr/>
          <p:nvPr/>
        </p:nvSpPr>
        <p:spPr>
          <a:xfrm flipH="1" flipV="1" rot="2628600">
            <a:off x="2311200" y="3275640"/>
            <a:ext cx="1153800" cy="1066680"/>
          </a:xfrm>
          <a:custGeom>
            <a:avLst/>
            <a:gdLst>
              <a:gd name="textAreaLeft" fmla="*/ -360 w 1153800"/>
              <a:gd name="textAreaRight" fmla="*/ 1153800 w 1153800"/>
              <a:gd name="textAreaTop" fmla="*/ -360 h 1066680"/>
              <a:gd name="textAreaBottom" fmla="*/ 1066680 h 1066680"/>
            </a:gdLst>
            <a:ahLst/>
            <a:rect l="textAreaLeft" t="textAreaTop" r="textAreaRight" b="textAreaBottom"/>
            <a:pathLst>
              <a:path w="21600" h="21600">
                <a:moveTo>
                  <a:pt x="5300" y="10800"/>
                </a:moveTo>
                <a:arcTo wR="-5500" hR="-5500" stAng="-10800000" swAng="-7272648"/>
                <a:lnTo>
                  <a:pt x="5204" y="1563"/>
                </a:lnTo>
                <a:arcTo wR="10800" hR="10800" stAng="-7272648" swAng="7272648"/>
                <a:lnTo>
                  <a:pt x="24300" y="10800"/>
                </a:lnTo>
                <a:lnTo>
                  <a:pt x="18950" y="16150"/>
                </a:lnTo>
                <a:lnTo>
                  <a:pt x="13600" y="10800"/>
                </a:lnTo>
                <a:close/>
              </a:path>
            </a:pathLst>
          </a:cu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flipH="1" flipV="1" rot="18828600">
            <a:off x="4252680" y="3993120"/>
            <a:ext cx="1067040" cy="1155600"/>
          </a:xfrm>
          <a:custGeom>
            <a:avLst/>
            <a:gdLst>
              <a:gd name="textAreaLeft" fmla="*/ 360 w 1067040"/>
              <a:gd name="textAreaRight" fmla="*/ 1067760 w 1067040"/>
              <a:gd name="textAreaTop" fmla="*/ 360 h 1155600"/>
              <a:gd name="textAreaBottom" fmla="*/ 1156320 h 1155600"/>
            </a:gdLst>
            <a:ahLst/>
            <a:rect l="textAreaLeft" t="textAreaTop" r="textAreaRight" b="textAreaBottom"/>
            <a:pathLst>
              <a:path w="21600" h="21600">
                <a:moveTo>
                  <a:pt x="5300" y="10800"/>
                </a:moveTo>
                <a:arcTo wR="-5500" hR="-5500" stAng="-10800000" swAng="-7272648"/>
                <a:lnTo>
                  <a:pt x="5204" y="1563"/>
                </a:lnTo>
                <a:arcTo wR="10800" hR="10800" stAng="-7272648" swAng="7272648"/>
                <a:lnTo>
                  <a:pt x="24300" y="10800"/>
                </a:lnTo>
                <a:lnTo>
                  <a:pt x="18950" y="16150"/>
                </a:lnTo>
                <a:lnTo>
                  <a:pt x="13600" y="10800"/>
                </a:lnTo>
                <a:close/>
              </a:path>
            </a:pathLst>
          </a:cu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6" name=""/>
          <p:cNvSpPr/>
          <p:nvPr/>
        </p:nvSpPr>
        <p:spPr>
          <a:xfrm flipH="1" flipV="1" rot="8028600">
            <a:off x="4252320" y="2621880"/>
            <a:ext cx="1067040" cy="1155600"/>
          </a:xfrm>
          <a:custGeom>
            <a:avLst/>
            <a:gdLst>
              <a:gd name="textAreaLeft" fmla="*/ 360 w 1067040"/>
              <a:gd name="textAreaRight" fmla="*/ 1067760 w 1067040"/>
              <a:gd name="textAreaTop" fmla="*/ 360 h 1155600"/>
              <a:gd name="textAreaBottom" fmla="*/ 1156320 h 1155600"/>
            </a:gdLst>
            <a:ahLst/>
            <a:rect l="textAreaLeft" t="textAreaTop" r="textAreaRight" b="textAreaBottom"/>
            <a:pathLst>
              <a:path w="21600" h="21600">
                <a:moveTo>
                  <a:pt x="5300" y="10800"/>
                </a:moveTo>
                <a:arcTo wR="-5500" hR="-5500" stAng="-10800000" swAng="-7272648"/>
                <a:lnTo>
                  <a:pt x="5204" y="1563"/>
                </a:lnTo>
                <a:arcTo wR="10800" hR="10800" stAng="-7272648" swAng="7272648"/>
                <a:lnTo>
                  <a:pt x="24300" y="10800"/>
                </a:lnTo>
                <a:lnTo>
                  <a:pt x="18950" y="16150"/>
                </a:lnTo>
                <a:lnTo>
                  <a:pt x="13600" y="10800"/>
                </a:lnTo>
                <a:close/>
              </a:path>
            </a:pathLst>
          </a:cu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7" name=""/>
          <p:cNvSpPr/>
          <p:nvPr/>
        </p:nvSpPr>
        <p:spPr>
          <a:xfrm>
            <a:off x="1073160" y="5791320"/>
            <a:ext cx="2557440" cy="457200"/>
          </a:xfrm>
          <a:prstGeom prst="bevel">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Countermeasures</a:t>
            </a:r>
            <a:endParaRPr b="0" lang="en-US" sz="1600" spc="-1" strike="noStrike">
              <a:solidFill>
                <a:srgbClr val="000000"/>
              </a:solidFill>
              <a:latin typeface="Times New Roman"/>
            </a:endParaRPr>
          </a:p>
        </p:txBody>
      </p:sp>
      <p:sp>
        <p:nvSpPr>
          <p:cNvPr id="1478" name=""/>
          <p:cNvSpPr/>
          <p:nvPr/>
        </p:nvSpPr>
        <p:spPr>
          <a:xfrm>
            <a:off x="412920" y="4952880"/>
            <a:ext cx="2474640" cy="685800"/>
          </a:xfrm>
          <a:prstGeom prst="bevel">
            <a:avLst>
              <a:gd name="adj" fmla="val 1041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Progress 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Kaizen plan</a:t>
            </a:r>
            <a:endParaRPr b="0" lang="en-US" sz="1600" spc="-1" strike="noStrike">
              <a:solidFill>
                <a:srgbClr val="000000"/>
              </a:solidFill>
              <a:latin typeface="Times New Roman"/>
            </a:endParaRPr>
          </a:p>
        </p:txBody>
      </p:sp>
      <p:sp>
        <p:nvSpPr>
          <p:cNvPr id="1479" name=""/>
          <p:cNvSpPr/>
          <p:nvPr/>
        </p:nvSpPr>
        <p:spPr>
          <a:xfrm rot="3033600">
            <a:off x="2820960" y="5476680"/>
            <a:ext cx="381240" cy="247680"/>
          </a:xfrm>
          <a:custGeom>
            <a:avLst/>
            <a:gdLst>
              <a:gd name="textAreaLeft" fmla="*/ 66600 w 381240"/>
              <a:gd name="textAreaRight" fmla="*/ 276480 w 381240"/>
              <a:gd name="textAreaTop" fmla="*/ 33120 h 247680"/>
              <a:gd name="textAreaBottom" fmla="*/ 214560 h 24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ff"/>
          </a:solidFill>
          <a:ln w="64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0" name=""/>
          <p:cNvSpPr/>
          <p:nvPr/>
        </p:nvSpPr>
        <p:spPr>
          <a:xfrm>
            <a:off x="3218040" y="3886200"/>
            <a:ext cx="3549600" cy="398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MS PGothic"/>
              </a:rPr>
              <a:t>Promote through cost meeting</a:t>
            </a:r>
            <a:endParaRPr b="0" lang="en-US" sz="2000" spc="-1" strike="noStrike">
              <a:solidFill>
                <a:srgbClr val="000000"/>
              </a:solidFill>
              <a:latin typeface="Times New Roman"/>
            </a:endParaRPr>
          </a:p>
        </p:txBody>
      </p:sp>
      <p:sp>
        <p:nvSpPr>
          <p:cNvPr id="1481" name=""/>
          <p:cNvSpPr/>
          <p:nvPr/>
        </p:nvSpPr>
        <p:spPr>
          <a:xfrm rot="2628600">
            <a:off x="6436800" y="3352680"/>
            <a:ext cx="1154160" cy="1067040"/>
          </a:xfrm>
          <a:custGeom>
            <a:avLst/>
            <a:gdLst>
              <a:gd name="textAreaLeft" fmla="*/ 0 w 1154160"/>
              <a:gd name="textAreaRight" fmla="*/ 1154520 w 1154160"/>
              <a:gd name="textAreaTop" fmla="*/ 0 h 1067040"/>
              <a:gd name="textAreaBottom" fmla="*/ 1067400 h 1067040"/>
            </a:gdLst>
            <a:ahLst/>
            <a:rect l="textAreaLeft" t="textAreaTop" r="textAreaRight" b="textAreaBottom"/>
            <a:pathLst>
              <a:path w="21600" h="21600">
                <a:moveTo>
                  <a:pt x="5300" y="10800"/>
                </a:moveTo>
                <a:arcTo wR="-5500" hR="-5500" stAng="-10800000" swAng="-7272648"/>
                <a:lnTo>
                  <a:pt x="5204" y="1563"/>
                </a:lnTo>
                <a:arcTo wR="10800" hR="10800" stAng="-7272648" swAng="7272648"/>
                <a:lnTo>
                  <a:pt x="24300" y="10800"/>
                </a:lnTo>
                <a:lnTo>
                  <a:pt x="18950" y="16150"/>
                </a:lnTo>
                <a:lnTo>
                  <a:pt x="13600" y="10800"/>
                </a:lnTo>
                <a:close/>
              </a:path>
            </a:pathLst>
          </a:custGeom>
          <a:solidFill>
            <a:srgbClr val="ff9900"/>
          </a:solid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2" name=""/>
          <p:cNvSpPr/>
          <p:nvPr/>
        </p:nvSpPr>
        <p:spPr>
          <a:xfrm>
            <a:off x="5611680" y="4876920"/>
            <a:ext cx="2805120" cy="576000"/>
          </a:xfrm>
          <a:prstGeom prst="bevel">
            <a:avLst>
              <a:gd name="adj" fmla="val 1015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Budget vs Actual</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32"/>
                </a:solidFill>
                <a:latin typeface="Arial Narrow"/>
                <a:ea typeface="MS PGothic"/>
              </a:rPr>
              <a:t>by div., by cost item</a:t>
            </a:r>
            <a:endParaRPr b="0" lang="en-US" sz="1600" spc="-1" strike="noStrike">
              <a:solidFill>
                <a:srgbClr val="000000"/>
              </a:solidFill>
              <a:latin typeface="Times New Roman"/>
            </a:endParaRPr>
          </a:p>
        </p:txBody>
      </p:sp>
      <p:sp>
        <p:nvSpPr>
          <p:cNvPr id="1483" name=""/>
          <p:cNvSpPr/>
          <p:nvPr/>
        </p:nvSpPr>
        <p:spPr>
          <a:xfrm>
            <a:off x="82440" y="76320"/>
            <a:ext cx="3878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65240" y="685800"/>
            <a:ext cx="3795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77800" y="-76320"/>
            <a:ext cx="91598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MS PGothic"/>
              </a:rPr>
              <a:t>PDCA Cycle of Cost Management</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FAF5CF5-336C-4638-A1C3-F32C9CD51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2612880" y="728640"/>
            <a:ext cx="5613480" cy="324000"/>
          </a:xfrm>
          <a:prstGeom prst="rect">
            <a:avLst/>
          </a:prstGeom>
          <a:noFill/>
          <a:ln w="0">
            <a:noFill/>
          </a:ln>
        </p:spPr>
        <p:style>
          <a:lnRef idx="0"/>
          <a:fillRef idx="0"/>
          <a:effectRef idx="0"/>
          <a:fontRef idx="minor"/>
        </p:style>
        <p:txBody>
          <a:bodyPr lIns="92160" rIns="92160" tIns="46080" bIns="4608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 of Just In Time)</a:t>
            </a:r>
            <a:endParaRPr b="0" lang="en-US" sz="2000" spc="-1" strike="noStrike">
              <a:solidFill>
                <a:srgbClr val="000000"/>
              </a:solidFill>
              <a:latin typeface="Times New Roman"/>
            </a:endParaRPr>
          </a:p>
        </p:txBody>
      </p:sp>
      <p:sp>
        <p:nvSpPr>
          <p:cNvPr id="1487" name=""/>
          <p:cNvSpPr/>
          <p:nvPr/>
        </p:nvSpPr>
        <p:spPr>
          <a:xfrm>
            <a:off x="642960" y="1450800"/>
            <a:ext cx="8926560" cy="50317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3600" spc="-1" strike="noStrike">
                <a:solidFill>
                  <a:srgbClr val="000000"/>
                </a:solidFill>
                <a:latin typeface="Arial"/>
                <a:ea typeface="Arial"/>
              </a:rPr>
              <a:t>Best quality &amp; competitive price:</a:t>
            </a:r>
            <a:endParaRPr b="0" lang="en-US" sz="3600" spc="-1" strike="noStrike">
              <a:solidFill>
                <a:srgbClr val="000000"/>
              </a:solidFill>
              <a:latin typeface="Times New Roman"/>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vide good quality : one by one production &amp; build-in quality.</a:t>
            </a:r>
            <a:endParaRPr b="0" lang="en-US" sz="3600" spc="-1" strike="noStrike">
              <a:solidFill>
                <a:srgbClr val="000000"/>
              </a:solidFill>
              <a:latin typeface="Times New Roman"/>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st reduction in inventory, logistic handling, and production.</a:t>
            </a:r>
            <a:endParaRPr b="0" lang="en-US" sz="3600" spc="-1" strike="noStrike">
              <a:solidFill>
                <a:srgbClr val="000000"/>
              </a:solidFill>
              <a:latin typeface="Times New Roman"/>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Reduce other waste in production activities (eq. repair, etc.)</a:t>
            </a:r>
            <a:endParaRPr b="0" lang="en-US" sz="3600" spc="-1" strike="noStrike">
              <a:solidFill>
                <a:srgbClr val="000000"/>
              </a:solidFill>
              <a:latin typeface="Times New Roman"/>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crease employee awareness for quality, productivity &amp; cost.</a:t>
            </a:r>
            <a:endParaRPr b="0" lang="en-US" sz="3600" spc="-1" strike="noStrike">
              <a:solidFill>
                <a:srgbClr val="000000"/>
              </a:solidFill>
              <a:latin typeface="Times New Roman"/>
            </a:endParaRPr>
          </a:p>
        </p:txBody>
      </p:sp>
      <p:sp>
        <p:nvSpPr>
          <p:cNvPr id="1488" name=""/>
          <p:cNvSpPr/>
          <p:nvPr/>
        </p:nvSpPr>
        <p:spPr>
          <a:xfrm>
            <a:off x="1635120" y="434880"/>
            <a:ext cx="742788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 : THE BENEFITS</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702D3281-0147-4F21-8CC3-FBD7DD863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9" name="" descr=""/>
          <p:cNvPicPr/>
          <p:nvPr/>
        </p:nvPicPr>
        <p:blipFill>
          <a:blip r:embed="rId1"/>
          <a:stretch/>
        </p:blipFill>
        <p:spPr>
          <a:xfrm>
            <a:off x="2311560" y="1017720"/>
            <a:ext cx="7095960" cy="3551040"/>
          </a:xfrm>
          <a:prstGeom prst="rect">
            <a:avLst/>
          </a:prstGeom>
          <a:ln w="0">
            <a:noFill/>
          </a:ln>
        </p:spPr>
      </p:pic>
      <p:sp>
        <p:nvSpPr>
          <p:cNvPr id="1490" name=""/>
          <p:cNvSpPr txBox="1"/>
          <p:nvPr/>
        </p:nvSpPr>
        <p:spPr>
          <a:xfrm>
            <a:off x="1716120" y="5318280"/>
            <a:ext cx="5964120" cy="825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6666ff"/>
                  </a:solidFill>
                  <a:miter/>
                </a:ln>
                <a:solidFill>
                  <a:srgbClr val="6666ff"/>
                </a:solidFill>
                <a:latin typeface="EuroRoman"/>
              </a:rPr>
              <a:t>THANK YOU</a:t>
            </a:r>
            <a:endParaRPr b="0" lang="en-US" sz="2400" spc="1" strike="noStrike">
              <a:ln w="9360">
                <a:solidFill>
                  <a:srgbClr val="6666ff"/>
                </a:solidFill>
                <a:miter/>
              </a:ln>
              <a:solidFill>
                <a:srgbClr val="6666ff"/>
              </a:solidFill>
              <a:latin typeface="EuroRoman"/>
              <a:ea typeface="EuroRoman"/>
            </a:endParaRPr>
          </a:p>
        </p:txBody>
      </p:sp>
      <p:sp>
        <p:nvSpPr>
          <p:cNvPr id="2" name="PlaceHolder 1"/>
          <p:cNvSpPr>
            <a:spLocks noGrp="1"/>
          </p:cNvSpPr>
          <p:nvPr>
            <p:ph type="sldNum" idx="1"/>
          </p:nvPr>
        </p:nvSpPr>
        <p:spPr/>
        <p:txBody>
          <a:bodyPr/>
          <a:p>
            <a:fld id="{FE914D39-3286-4223-8AC1-D4C82E88FA1E}" type="slidenum">
              <a:t>26</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1489"/>
                                        </p:tgtEl>
                                        <p:attrNameLst>
                                          <p:attrName>style.visibility</p:attrName>
                                        </p:attrNameLst>
                                      </p:cBhvr>
                                      <p:to>
                                        <p:strVal val="visible"/>
                                      </p:to>
                                    </p:set>
                                    <p:anim calcmode="lin" valueType="num">
                                      <p:cBhvr additive="repl">
                                        <p:cTn id="69" dur="500" fill="hold"/>
                                        <p:tgtEl>
                                          <p:spTgt spid="1489"/>
                                        </p:tgtEl>
                                        <p:attrNameLst>
                                          <p:attrName>ppt_w</p:attrName>
                                        </p:attrNameLst>
                                      </p:cBhvr>
                                      <p:tavLst>
                                        <p:tav tm="0">
                                          <p:val>
                                            <p:fltVal val="0"/>
                                          </p:val>
                                        </p:tav>
                                        <p:tav tm="100000">
                                          <p:val>
                                            <p:strVal val="#ppt_w"/>
                                          </p:val>
                                        </p:tav>
                                      </p:tavLst>
                                    </p:anim>
                                    <p:anim calcmode="lin" valueType="num">
                                      <p:cBhvr additive="repl">
                                        <p:cTn id="70" dur="500" fill="hold"/>
                                        <p:tgtEl>
                                          <p:spTgt spid="1489"/>
                                        </p:tgtEl>
                                        <p:attrNameLst>
                                          <p:attrName>ppt_h</p:attrName>
                                        </p:attrNameLst>
                                      </p:cBhvr>
                                      <p:tavLst>
                                        <p:tav tm="0">
                                          <p:val>
                                            <p:fltVal val="0"/>
                                          </p:val>
                                        </p:tav>
                                        <p:tav tm="100000">
                                          <p:val>
                                            <p:strVal val="#ppt_h"/>
                                          </p:val>
                                        </p:tav>
                                      </p:tavLst>
                                    </p:anim>
                                    <p:animEffect filter="fade" transition="in">
                                      <p:cBhvr additive="repl">
                                        <p:cTn id="71" dur="500"/>
                                        <p:tgtEl>
                                          <p:spTgt spid="1489"/>
                                        </p:tgtEl>
                                      </p:cBhvr>
                                    </p:animEffect>
                                  </p:childTnLst>
                                </p:cTn>
                              </p:par>
                            </p:childTnLst>
                          </p:cTn>
                        </p:par>
                        <p:par>
                          <p:cTn id="72" fill="hold">
                            <p:stCondLst>
                              <p:cond delay="500"/>
                            </p:stCondLst>
                            <p:childTnLst>
                              <p:par>
                                <p:cTn id="73" nodeType="afterEffect" fill="hold" presetClass="entr" presetID="53">
                                  <p:stCondLst>
                                    <p:cond delay="0"/>
                                  </p:stCondLst>
                                  <p:childTnLst>
                                    <p:set>
                                      <p:cBhvr>
                                        <p:cTn id="74" dur="1" fill="hold">
                                          <p:stCondLst>
                                            <p:cond delay="0"/>
                                          </p:stCondLst>
                                        </p:cTn>
                                        <p:tgtEl>
                                          <p:spTgt spid="1490"/>
                                        </p:tgtEl>
                                        <p:attrNameLst>
                                          <p:attrName>style.visibility</p:attrName>
                                        </p:attrNameLst>
                                      </p:cBhvr>
                                      <p:to>
                                        <p:strVal val="visible"/>
                                      </p:to>
                                    </p:set>
                                    <p:anim calcmode="lin" valueType="num">
                                      <p:cBhvr additive="repl">
                                        <p:cTn id="75" dur="500" fill="hold"/>
                                        <p:tgtEl>
                                          <p:spTgt spid="1490"/>
                                        </p:tgtEl>
                                        <p:attrNameLst>
                                          <p:attrName>ppt_w</p:attrName>
                                        </p:attrNameLst>
                                      </p:cBhvr>
                                      <p:tavLst>
                                        <p:tav tm="0">
                                          <p:val>
                                            <p:fltVal val="0"/>
                                          </p:val>
                                        </p:tav>
                                        <p:tav tm="100000">
                                          <p:val>
                                            <p:strVal val="#ppt_w"/>
                                          </p:val>
                                        </p:tav>
                                      </p:tavLst>
                                    </p:anim>
                                    <p:anim calcmode="lin" valueType="num">
                                      <p:cBhvr additive="repl">
                                        <p:cTn id="76" dur="500" fill="hold"/>
                                        <p:tgtEl>
                                          <p:spTgt spid="1490"/>
                                        </p:tgtEl>
                                        <p:attrNameLst>
                                          <p:attrName>ppt_h</p:attrName>
                                        </p:attrNameLst>
                                      </p:cBhvr>
                                      <p:tavLst>
                                        <p:tav tm="0">
                                          <p:val>
                                            <p:fltVal val="0"/>
                                          </p:val>
                                        </p:tav>
                                        <p:tav tm="100000">
                                          <p:val>
                                            <p:strVal val="#ppt_h"/>
                                          </p:val>
                                        </p:tav>
                                      </p:tavLst>
                                    </p:anim>
                                    <p:animEffect filter="fade" transition="in">
                                      <p:cBhvr additive="repl">
                                        <p:cTn id="77" dur="5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43080" y="1181160"/>
            <a:ext cx="9242280" cy="4572000"/>
          </a:xfrm>
          <a:prstGeom prst="rect">
            <a:avLst/>
          </a:prstGeom>
          <a:ln w="0">
            <a:noFill/>
          </a:ln>
        </p:spPr>
      </p:pic>
      <p:sp>
        <p:nvSpPr>
          <p:cNvPr id="97" name=""/>
          <p:cNvSpPr/>
          <p:nvPr/>
        </p:nvSpPr>
        <p:spPr>
          <a:xfrm>
            <a:off x="1176480" y="2222640"/>
            <a:ext cx="804600" cy="67284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476440" y="4295880"/>
            <a:ext cx="1154160" cy="95256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611600" y="2590920"/>
            <a:ext cx="741600" cy="67932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425920" y="3381480"/>
            <a:ext cx="825480" cy="72396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786200" y="4038480"/>
            <a:ext cx="825480" cy="6796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427880" y="4495680"/>
            <a:ext cx="824040" cy="6796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015320" y="2895480"/>
            <a:ext cx="741240" cy="6796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086680" y="3436920"/>
            <a:ext cx="825480" cy="67932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479600" y="338040"/>
            <a:ext cx="757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Arial"/>
              </a:rPr>
              <a:t> </a:t>
            </a:r>
            <a:r>
              <a:rPr b="1" lang="en-US" sz="2400" spc="-1" strike="noStrike">
                <a:solidFill>
                  <a:srgbClr val="000000"/>
                </a:solidFill>
                <a:latin typeface="Book Antiqua"/>
                <a:ea typeface="Arial"/>
              </a:rPr>
              <a:t>1.  Current Situation of Global Toyota.  </a:t>
            </a:r>
            <a:endParaRPr b="0" lang="en-US" sz="2400" spc="-1" strike="noStrike">
              <a:solidFill>
                <a:srgbClr val="000000"/>
              </a:solidFill>
              <a:latin typeface="Times New Roman"/>
            </a:endParaRPr>
          </a:p>
        </p:txBody>
      </p:sp>
      <p:sp>
        <p:nvSpPr>
          <p:cNvPr id="106" name=""/>
          <p:cNvSpPr/>
          <p:nvPr/>
        </p:nvSpPr>
        <p:spPr>
          <a:xfrm>
            <a:off x="1238400" y="2286000"/>
            <a:ext cx="660240" cy="5428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Nort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Americ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11</a:t>
            </a:r>
            <a:endParaRPr b="0" lang="en-US" sz="1100" spc="-1" strike="noStrike">
              <a:solidFill>
                <a:srgbClr val="000000"/>
              </a:solidFill>
              <a:latin typeface="Times New Roman"/>
            </a:endParaRPr>
          </a:p>
        </p:txBody>
      </p:sp>
      <p:sp>
        <p:nvSpPr>
          <p:cNvPr id="107" name=""/>
          <p:cNvSpPr/>
          <p:nvPr/>
        </p:nvSpPr>
        <p:spPr>
          <a:xfrm>
            <a:off x="2557440" y="4343400"/>
            <a:ext cx="990720" cy="8380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Central &am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Sout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Americ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4</a:t>
            </a:r>
            <a:endParaRPr b="0" lang="en-US" sz="1100" spc="-1" strike="noStrike">
              <a:solidFill>
                <a:srgbClr val="000000"/>
              </a:solidFill>
              <a:latin typeface="Times New Roman"/>
            </a:endParaRPr>
          </a:p>
        </p:txBody>
      </p:sp>
      <p:sp>
        <p:nvSpPr>
          <p:cNvPr id="108" name=""/>
          <p:cNvSpPr/>
          <p:nvPr/>
        </p:nvSpPr>
        <p:spPr>
          <a:xfrm>
            <a:off x="8169120" y="3505320"/>
            <a:ext cx="660600" cy="5428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Asi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9</a:t>
            </a:r>
            <a:endParaRPr b="0" lang="en-US" sz="1100" spc="-1" strike="noStrike">
              <a:solidFill>
                <a:srgbClr val="000000"/>
              </a:solidFill>
              <a:latin typeface="Times New Roman"/>
            </a:endParaRPr>
          </a:p>
        </p:txBody>
      </p:sp>
      <p:sp>
        <p:nvSpPr>
          <p:cNvPr id="109" name=""/>
          <p:cNvSpPr/>
          <p:nvPr/>
        </p:nvSpPr>
        <p:spPr>
          <a:xfrm>
            <a:off x="7508880" y="4572000"/>
            <a:ext cx="660240" cy="5428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Oceani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1</a:t>
            </a:r>
            <a:endParaRPr b="0" lang="en-US" sz="1100" spc="-1" strike="noStrike">
              <a:solidFill>
                <a:srgbClr val="000000"/>
              </a:solidFill>
              <a:latin typeface="Times New Roman"/>
            </a:endParaRPr>
          </a:p>
        </p:txBody>
      </p:sp>
      <p:sp>
        <p:nvSpPr>
          <p:cNvPr id="110" name=""/>
          <p:cNvSpPr/>
          <p:nvPr/>
        </p:nvSpPr>
        <p:spPr>
          <a:xfrm>
            <a:off x="4869000" y="4114800"/>
            <a:ext cx="660240" cy="5428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Afric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2</a:t>
            </a:r>
            <a:endParaRPr b="0" lang="en-US" sz="1100" spc="-1" strike="noStrike">
              <a:solidFill>
                <a:srgbClr val="000000"/>
              </a:solidFill>
              <a:latin typeface="Times New Roman"/>
            </a:endParaRPr>
          </a:p>
        </p:txBody>
      </p:sp>
      <p:sp>
        <p:nvSpPr>
          <p:cNvPr id="111" name=""/>
          <p:cNvSpPr/>
          <p:nvPr/>
        </p:nvSpPr>
        <p:spPr>
          <a:xfrm>
            <a:off x="5529240" y="3429000"/>
            <a:ext cx="660600" cy="60948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Midd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Eas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5</a:t>
            </a:r>
            <a:endParaRPr b="0" lang="en-US" sz="1100" spc="-1" strike="noStrike">
              <a:solidFill>
                <a:srgbClr val="000000"/>
              </a:solidFill>
              <a:latin typeface="Times New Roman"/>
            </a:endParaRPr>
          </a:p>
        </p:txBody>
      </p:sp>
      <p:sp>
        <p:nvSpPr>
          <p:cNvPr id="112" name=""/>
          <p:cNvSpPr/>
          <p:nvPr/>
        </p:nvSpPr>
        <p:spPr>
          <a:xfrm>
            <a:off x="7097760" y="2971800"/>
            <a:ext cx="576360" cy="53352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Chin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13</a:t>
            </a:r>
            <a:endParaRPr b="0" lang="en-US" sz="1100" spc="-1" strike="noStrike">
              <a:solidFill>
                <a:srgbClr val="000000"/>
              </a:solidFill>
              <a:latin typeface="Times New Roman"/>
            </a:endParaRPr>
          </a:p>
        </p:txBody>
      </p:sp>
      <p:sp>
        <p:nvSpPr>
          <p:cNvPr id="113" name=""/>
          <p:cNvSpPr/>
          <p:nvPr/>
        </p:nvSpPr>
        <p:spPr>
          <a:xfrm>
            <a:off x="4703760" y="2666880"/>
            <a:ext cx="577800" cy="533520"/>
          </a:xfrm>
          <a:prstGeom prst="ellipse">
            <a:avLst/>
          </a:prstGeom>
          <a:solidFill>
            <a:srgbClr val="ffff00">
              <a:alpha val="44000"/>
            </a:srgbClr>
          </a:solidFill>
          <a:ln w="9360">
            <a:solidFill>
              <a:srgbClr val="0000ff"/>
            </a:solidFill>
            <a:prstDash val="sysDot"/>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Europ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ea typeface="Arial"/>
              </a:rPr>
              <a:t>6</a:t>
            </a:r>
            <a:endParaRPr b="0" lang="en-US" sz="1100" spc="-1" strike="noStrike">
              <a:solidFill>
                <a:srgbClr val="000000"/>
              </a:solidFill>
              <a:latin typeface="Times New Roman"/>
            </a:endParaRPr>
          </a:p>
        </p:txBody>
      </p:sp>
      <p:sp>
        <p:nvSpPr>
          <p:cNvPr id="114" name=""/>
          <p:cNvSpPr/>
          <p:nvPr/>
        </p:nvSpPr>
        <p:spPr>
          <a:xfrm>
            <a:off x="2125800" y="861840"/>
            <a:ext cx="5960880" cy="398880"/>
          </a:xfrm>
          <a:prstGeom prst="rect">
            <a:avLst/>
          </a:prstGeom>
          <a:solidFill>
            <a:srgbClr val="ff99cc">
              <a:alpha val="71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Book Antiqua"/>
                <a:ea typeface="Arial"/>
              </a:rPr>
              <a:t>&lt; No. of Toyota Affiliates Company  </a:t>
            </a:r>
            <a:endParaRPr b="0" lang="en-US" sz="2000" spc="-1" strike="noStrike">
              <a:solidFill>
                <a:srgbClr val="000000"/>
              </a:solidFill>
              <a:latin typeface="Times New Roman"/>
            </a:endParaRPr>
          </a:p>
        </p:txBody>
      </p:sp>
      <p:sp>
        <p:nvSpPr>
          <p:cNvPr id="115" name=""/>
          <p:cNvSpPr/>
          <p:nvPr/>
        </p:nvSpPr>
        <p:spPr>
          <a:xfrm>
            <a:off x="412920" y="5765760"/>
            <a:ext cx="9159840" cy="398880"/>
          </a:xfrm>
          <a:prstGeom prst="rect">
            <a:avLst/>
          </a:prstGeom>
          <a:solidFill>
            <a:srgbClr val="ffffff">
              <a:alpha val="71000"/>
            </a:srgbClr>
          </a:solidFill>
          <a:ln w="93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Arial"/>
              </a:rPr>
              <a:t>51 manufacturing companies in 26 countries</a:t>
            </a:r>
            <a:endParaRPr b="0" lang="en-US" sz="2000" spc="-1" strike="noStrike">
              <a:solidFill>
                <a:srgbClr val="000000"/>
              </a:solidFill>
              <a:latin typeface="Times New Roman"/>
            </a:endParaRPr>
          </a:p>
        </p:txBody>
      </p:sp>
      <p:sp>
        <p:nvSpPr>
          <p:cNvPr id="116" name=""/>
          <p:cNvSpPr/>
          <p:nvPr/>
        </p:nvSpPr>
        <p:spPr>
          <a:xfrm>
            <a:off x="412920" y="6222960"/>
            <a:ext cx="9159840" cy="398880"/>
          </a:xfrm>
          <a:prstGeom prst="rect">
            <a:avLst/>
          </a:prstGeom>
          <a:solidFill>
            <a:srgbClr val="ffffff">
              <a:alpha val="71000"/>
            </a:srgbClr>
          </a:solidFill>
          <a:ln w="93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Arial"/>
              </a:rPr>
              <a:t>170 importers / distributors in 140 countri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B508653-ED57-43FC-8F63-AD83CE1D4B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863720" y="395280"/>
            <a:ext cx="7370640" cy="611280"/>
          </a:xfrm>
          <a:prstGeom prst="rect">
            <a:avLst/>
          </a:prstGeom>
          <a:solidFill>
            <a:srgbClr val="cc99ff"/>
          </a:solidFill>
          <a:ln w="0">
            <a:noFill/>
          </a:ln>
        </p:spPr>
        <p:txBody>
          <a:bodyPr lIns="90360" rIns="90360" tIns="44280" bIns="442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4P” Model of Toyota Way</a:t>
            </a:r>
            <a:endParaRPr b="0" lang="en-US" sz="3200" spc="-1" strike="noStrike">
              <a:solidFill>
                <a:srgbClr val="000000"/>
              </a:solidFill>
              <a:latin typeface="Arial"/>
            </a:endParaRPr>
          </a:p>
        </p:txBody>
      </p:sp>
      <p:grpSp>
        <p:nvGrpSpPr>
          <p:cNvPr id="118" name=""/>
          <p:cNvGrpSpPr/>
          <p:nvPr/>
        </p:nvGrpSpPr>
        <p:grpSpPr>
          <a:xfrm>
            <a:off x="922320" y="1591560"/>
            <a:ext cx="7959240" cy="4673160"/>
            <a:chOff x="922320" y="1591560"/>
            <a:chExt cx="7959240" cy="4673160"/>
          </a:xfrm>
        </p:grpSpPr>
        <p:sp>
          <p:nvSpPr>
            <p:cNvPr id="119" name="_s549893"/>
            <p:cNvSpPr/>
            <p:nvPr/>
          </p:nvSpPr>
          <p:spPr>
            <a:xfrm flipV="1">
              <a:off x="4141080" y="1755360"/>
              <a:ext cx="1534320" cy="1127880"/>
            </a:xfrm>
            <a:custGeom>
              <a:avLst/>
              <a:gdLst>
                <a:gd name="textAreaLeft" fmla="*/ 550440 w 1534320"/>
                <a:gd name="textAreaRight" fmla="*/ 983880 w 1534320"/>
                <a:gd name="textAreaTop" fmla="*/ 404640 h 1127880"/>
                <a:gd name="textAreaBottom" fmla="*/ 723240 h 1127880"/>
              </a:gdLst>
              <a:ahLst/>
              <a:rect l="textAreaLeft" t="textAreaTop" r="textAreaRight" b="textAreaBottom"/>
              <a:pathLst>
                <a:path w="21600" h="21600">
                  <a:moveTo>
                    <a:pt x="0" y="0"/>
                  </a:moveTo>
                  <a:lnTo>
                    <a:pt x="21600" y="0"/>
                  </a:lnTo>
                  <a:lnTo>
                    <a:pt x="10800" y="21600"/>
                  </a:lnTo>
                  <a:lnTo>
                    <a:pt x="10800" y="21600"/>
                  </a:lnTo>
                  <a:close/>
                </a:path>
              </a:pathLst>
            </a:custGeom>
            <a:solidFill>
              <a:srgbClr val="0399ff"/>
            </a:solidFill>
            <a:ln w="28440">
              <a:solidFill>
                <a:srgbClr val="4b595b"/>
              </a:solidFill>
              <a:miter/>
            </a:ln>
          </p:spPr>
          <p:style>
            <a:lnRef idx="0"/>
            <a:fillRef idx="0"/>
            <a:effectRef idx="0"/>
            <a:fontRef idx="minor"/>
          </p:style>
          <p:txBody>
            <a:bodyPr wrap="none" lIns="55800" rIns="558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OBLE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OLV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inuous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rovement &amp;</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Learning)</a:t>
              </a:r>
              <a:endParaRPr b="0" lang="en-US" sz="900" spc="-1" strike="noStrike">
                <a:solidFill>
                  <a:srgbClr val="000000"/>
                </a:solidFill>
                <a:latin typeface="Times New Roman"/>
              </a:endParaRPr>
            </a:p>
          </p:txBody>
        </p:sp>
        <p:sp>
          <p:nvSpPr>
            <p:cNvPr id="120" name="_s549894"/>
            <p:cNvSpPr/>
            <p:nvPr/>
          </p:nvSpPr>
          <p:spPr>
            <a:xfrm flipV="1">
              <a:off x="3373560" y="2882880"/>
              <a:ext cx="3069360" cy="1126440"/>
            </a:xfrm>
            <a:custGeom>
              <a:avLst/>
              <a:gdLst>
                <a:gd name="textAreaLeft" fmla="*/ 675000 w 3069360"/>
                <a:gd name="textAreaRight" fmla="*/ 2394360 w 3069360"/>
                <a:gd name="textAreaTop" fmla="*/ 247680 h 1126440"/>
                <a:gd name="textAreaBottom" fmla="*/ 878760 h 112644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55800" rIns="558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EOPLE &amp; PARTNE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pect, challenge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nd grow them)</a:t>
              </a:r>
              <a:endParaRPr b="0" lang="en-US" sz="900" spc="-1" strike="noStrike">
                <a:solidFill>
                  <a:srgbClr val="000000"/>
                </a:solidFill>
                <a:latin typeface="Times New Roman"/>
              </a:endParaRPr>
            </a:p>
          </p:txBody>
        </p:sp>
        <p:sp>
          <p:nvSpPr>
            <p:cNvPr id="121" name="_s549895"/>
            <p:cNvSpPr/>
            <p:nvPr/>
          </p:nvSpPr>
          <p:spPr>
            <a:xfrm flipV="1">
              <a:off x="2606400" y="4010040"/>
              <a:ext cx="4603320" cy="1127880"/>
            </a:xfrm>
            <a:custGeom>
              <a:avLst/>
              <a:gdLst>
                <a:gd name="textAreaLeft" fmla="*/ 799200 w 4603320"/>
                <a:gd name="textAreaRight" fmla="*/ 3804120 w 4603320"/>
                <a:gd name="textAreaTop" fmla="*/ 195840 h 1127880"/>
                <a:gd name="textAreaBottom" fmla="*/ 932040 h 1127880"/>
              </a:gdLst>
              <a:ahLst/>
              <a:rect l="textAreaLeft" t="textAreaTop" r="textAreaRight" b="textAreaBottom"/>
              <a:pathLst>
                <a:path w="21600" h="21600">
                  <a:moveTo>
                    <a:pt x="0" y="0"/>
                  </a:moveTo>
                  <a:lnTo>
                    <a:pt x="21600" y="0"/>
                  </a:lnTo>
                  <a:lnTo>
                    <a:pt x="18000" y="21600"/>
                  </a:lnTo>
                  <a:lnTo>
                    <a:pt x="3600" y="21600"/>
                  </a:lnTo>
                  <a:close/>
                </a:path>
              </a:pathLst>
            </a:custGeom>
            <a:solidFill>
              <a:srgbClr val="f1fd09"/>
            </a:solidFill>
            <a:ln w="28440">
              <a:solidFill>
                <a:srgbClr val="cad402"/>
              </a:solidFill>
              <a:miter/>
            </a:ln>
          </p:spPr>
          <p:style>
            <a:lnRef idx="0"/>
            <a:fillRef idx="0"/>
            <a:effectRef idx="0"/>
            <a:fontRef idx="minor"/>
          </p:style>
          <p:txBody>
            <a:bodyPr wrap="none" lIns="55800" rIns="558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Eliminate waste)</a:t>
              </a:r>
              <a:endParaRPr b="0" lang="en-US" sz="1000" spc="-1" strike="noStrike">
                <a:solidFill>
                  <a:srgbClr val="000000"/>
                </a:solidFill>
                <a:latin typeface="Times New Roman"/>
              </a:endParaRPr>
            </a:p>
          </p:txBody>
        </p:sp>
        <p:sp>
          <p:nvSpPr>
            <p:cNvPr id="122" name="_s549896"/>
            <p:cNvSpPr/>
            <p:nvPr/>
          </p:nvSpPr>
          <p:spPr>
            <a:xfrm flipV="1">
              <a:off x="1838880" y="5137560"/>
              <a:ext cx="6138360" cy="1126440"/>
            </a:xfrm>
            <a:custGeom>
              <a:avLst/>
              <a:gdLst>
                <a:gd name="textAreaLeft" fmla="*/ 923400 w 6138360"/>
                <a:gd name="textAreaRight" fmla="*/ 5214960 w 6138360"/>
                <a:gd name="textAreaTop" fmla="*/ 169200 h 1126440"/>
                <a:gd name="textAreaBottom" fmla="*/ 957240 h 1126440"/>
              </a:gdLst>
              <a:ahLst/>
              <a:rect l="textAreaLeft" t="textAreaTop" r="textAreaRight" b="textAreaBottom"/>
              <a:pathLst>
                <a:path w="21600" h="21600">
                  <a:moveTo>
                    <a:pt x="0" y="0"/>
                  </a:moveTo>
                  <a:lnTo>
                    <a:pt x="21600" y="0"/>
                  </a:lnTo>
                  <a:lnTo>
                    <a:pt x="18900" y="21600"/>
                  </a:lnTo>
                  <a:lnTo>
                    <a:pt x="2700" y="21600"/>
                  </a:lnTo>
                  <a:close/>
                </a:path>
              </a:pathLst>
            </a:custGeom>
            <a:solidFill>
              <a:srgbClr val="ff8c01"/>
            </a:solidFill>
            <a:ln w="28440">
              <a:solidFill>
                <a:srgbClr val="d87600"/>
              </a:solidFill>
              <a:miter/>
            </a:ln>
          </p:spPr>
          <p:style>
            <a:lnRef idx="0"/>
            <a:fillRef idx="0"/>
            <a:effectRef idx="0"/>
            <a:fontRef idx="minor"/>
          </p:style>
          <p:txBody>
            <a:bodyPr wrap="none" lIns="55800" rIns="558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HILOSOPH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Long-Term Thinking)</a:t>
              </a:r>
              <a:endParaRPr b="0" lang="en-US" sz="900" spc="-1" strike="noStrike">
                <a:solidFill>
                  <a:srgbClr val="000000"/>
                </a:solidFill>
                <a:latin typeface="Times New Roman"/>
              </a:endParaRPr>
            </a:p>
          </p:txBody>
        </p:sp>
        <p:sp>
          <p:nvSpPr>
            <p:cNvPr id="123" name=""/>
            <p:cNvSpPr/>
            <p:nvPr/>
          </p:nvSpPr>
          <p:spPr>
            <a:xfrm flipH="1">
              <a:off x="2486520" y="2915640"/>
              <a:ext cx="765720" cy="1095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52960" y="2914200"/>
              <a:ext cx="88812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rot="17852400">
              <a:off x="2314080" y="3139200"/>
              <a:ext cx="110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spect &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eam Work</a:t>
              </a:r>
              <a:endParaRPr b="0" lang="en-US" sz="1400" spc="-1" strike="noStrike">
                <a:solidFill>
                  <a:srgbClr val="000000"/>
                </a:solidFill>
                <a:latin typeface="Times New Roman"/>
              </a:endParaRPr>
            </a:p>
          </p:txBody>
        </p:sp>
        <p:sp>
          <p:nvSpPr>
            <p:cNvPr id="126" name=""/>
            <p:cNvSpPr/>
            <p:nvPr/>
          </p:nvSpPr>
          <p:spPr>
            <a:xfrm>
              <a:off x="3293640" y="2846160"/>
              <a:ext cx="888120" cy="1080"/>
            </a:xfrm>
            <a:prstGeom prst="line">
              <a:avLst/>
            </a:prstGeom>
            <a:ln cap="sq"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 name=""/>
            <p:cNvSpPr/>
            <p:nvPr/>
          </p:nvSpPr>
          <p:spPr>
            <a:xfrm flipH="1">
              <a:off x="3293640" y="1751400"/>
              <a:ext cx="765360" cy="1095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61160" y="1751400"/>
              <a:ext cx="806040" cy="1080"/>
            </a:xfrm>
            <a:prstGeom prst="line">
              <a:avLst/>
            </a:prstGeom>
            <a:ln cap="sq"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 name=""/>
            <p:cNvSpPr/>
            <p:nvPr/>
          </p:nvSpPr>
          <p:spPr>
            <a:xfrm rot="17864400">
              <a:off x="3162240" y="2028600"/>
              <a:ext cx="92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Gench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Genbutsu</a:t>
              </a:r>
              <a:endParaRPr b="0" lang="en-US" sz="1400" spc="-1" strike="noStrike">
                <a:solidFill>
                  <a:srgbClr val="000000"/>
                </a:solidFill>
                <a:latin typeface="Times New Roman"/>
              </a:endParaRPr>
            </a:p>
          </p:txBody>
        </p:sp>
        <p:sp>
          <p:nvSpPr>
            <p:cNvPr id="130" name=""/>
            <p:cNvSpPr/>
            <p:nvPr/>
          </p:nvSpPr>
          <p:spPr>
            <a:xfrm>
              <a:off x="1406520" y="5140080"/>
              <a:ext cx="24156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112760" y="5072400"/>
              <a:ext cx="241920" cy="1080"/>
            </a:xfrm>
            <a:prstGeom prst="line">
              <a:avLst/>
            </a:prstGeom>
            <a:ln cap="sq"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 name=""/>
            <p:cNvSpPr/>
            <p:nvPr/>
          </p:nvSpPr>
          <p:spPr>
            <a:xfrm>
              <a:off x="3090600" y="2162160"/>
              <a:ext cx="24192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flipV="1">
              <a:off x="1230120" y="2161800"/>
              <a:ext cx="1981080" cy="2911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990400">
              <a:off x="1296720" y="3662280"/>
              <a:ext cx="944280" cy="398880"/>
            </a:xfrm>
            <a:prstGeom prst="rect">
              <a:avLst/>
            </a:prstGeom>
            <a:noFill/>
            <a:ln w="0">
              <a:noFill/>
            </a:ln>
            <a:effectLst>
              <a:outerShdw dist="12600" dir="54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Kaizen</a:t>
              </a:r>
              <a:endParaRPr b="0" lang="en-US" sz="2000" spc="-1" strike="noStrike">
                <a:solidFill>
                  <a:srgbClr val="000000"/>
                </a:solidFill>
                <a:latin typeface="Times New Roman"/>
              </a:endParaRPr>
            </a:p>
          </p:txBody>
        </p:sp>
        <p:sp>
          <p:nvSpPr>
            <p:cNvPr id="135" name=""/>
            <p:cNvSpPr/>
            <p:nvPr/>
          </p:nvSpPr>
          <p:spPr>
            <a:xfrm>
              <a:off x="922320" y="1681920"/>
              <a:ext cx="1495080" cy="1212480"/>
            </a:xfrm>
            <a:prstGeom prst="ellipse">
              <a:avLst/>
            </a:prstGeom>
            <a:solidFill>
              <a:srgbClr val="00cc66"/>
            </a:solidFill>
            <a:ln cap="sq" w="19080">
              <a:solidFill>
                <a:srgbClr val="ffff00"/>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Toyo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Term</a:t>
              </a:r>
              <a:endParaRPr b="0" lang="en-US" sz="2000" spc="-1" strike="noStrike">
                <a:solidFill>
                  <a:srgbClr val="000000"/>
                </a:solidFill>
                <a:latin typeface="Times New Roman"/>
              </a:endParaRPr>
            </a:p>
          </p:txBody>
        </p:sp>
        <p:sp>
          <p:nvSpPr>
            <p:cNvPr id="136" name=""/>
            <p:cNvSpPr/>
            <p:nvPr/>
          </p:nvSpPr>
          <p:spPr>
            <a:xfrm>
              <a:off x="7101360" y="3039480"/>
              <a:ext cx="178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tinu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provement</a:t>
              </a:r>
              <a:endParaRPr b="0" lang="en-US" sz="1600" spc="-1" strike="noStrike">
                <a:solidFill>
                  <a:srgbClr val="000000"/>
                </a:solidFill>
                <a:latin typeface="Times New Roman"/>
              </a:endParaRPr>
            </a:p>
          </p:txBody>
        </p:sp>
        <p:sp>
          <p:nvSpPr>
            <p:cNvPr id="137" name=""/>
            <p:cNvSpPr/>
            <p:nvPr/>
          </p:nvSpPr>
          <p:spPr>
            <a:xfrm>
              <a:off x="7188120" y="2056680"/>
              <a:ext cx="109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p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 People</a:t>
              </a:r>
              <a:endParaRPr b="0" lang="en-US" sz="1600" spc="-1" strike="noStrike">
                <a:solidFill>
                  <a:srgbClr val="000000"/>
                </a:solidFill>
                <a:latin typeface="Times New Roman"/>
              </a:endParaRPr>
            </a:p>
          </p:txBody>
        </p:sp>
        <p:sp>
          <p:nvSpPr>
            <p:cNvPr id="138" name=""/>
            <p:cNvSpPr/>
            <p:nvPr/>
          </p:nvSpPr>
          <p:spPr>
            <a:xfrm>
              <a:off x="7185960" y="2503440"/>
              <a:ext cx="109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Resp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Team Work</a:t>
              </a:r>
              <a:endParaRPr b="0" lang="en-US" sz="1200" spc="-1" strike="noStrike">
                <a:solidFill>
                  <a:srgbClr val="000000"/>
                </a:solidFill>
                <a:latin typeface="Times New Roman"/>
              </a:endParaRPr>
            </a:p>
          </p:txBody>
        </p:sp>
        <p:cxnSp>
          <p:nvCxnSpPr>
            <p:cNvPr id="139" name=""/>
            <p:cNvCxnSpPr>
              <a:stCxn id="140" idx="2"/>
              <a:endCxn id="137" idx="1"/>
            </p:cNvCxnSpPr>
            <p:nvPr/>
          </p:nvCxnSpPr>
          <p:spPr>
            <a:xfrm flipH="1" rot="16200000">
              <a:off x="6749280" y="1911600"/>
              <a:ext cx="390240" cy="483120"/>
            </a:xfrm>
            <a:prstGeom prst="bentConnector2">
              <a:avLst/>
            </a:prstGeom>
            <a:ln w="19080">
              <a:solidFill>
                <a:srgbClr val="000000"/>
              </a:solidFill>
              <a:miter/>
              <a:tailEnd len="med" type="triangle" w="med"/>
            </a:ln>
          </p:spPr>
        </p:cxnSp>
        <p:sp>
          <p:nvSpPr>
            <p:cNvPr id="141" name=""/>
            <p:cNvSpPr/>
            <p:nvPr/>
          </p:nvSpPr>
          <p:spPr>
            <a:xfrm>
              <a:off x="7144200" y="3531960"/>
              <a:ext cx="168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1" lang="en-US" sz="1200" spc="-1" strike="noStrike">
                  <a:solidFill>
                    <a:srgbClr val="000000"/>
                  </a:solidFill>
                  <a:latin typeface="Arial"/>
                  <a:ea typeface="Arial"/>
                </a:rPr>
                <a:t> Challe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Kaiz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enchi Genbutsu</a:t>
              </a:r>
              <a:endParaRPr b="0" lang="en-US" sz="1200" spc="-1" strike="noStrike">
                <a:solidFill>
                  <a:srgbClr val="000000"/>
                </a:solidFill>
                <a:latin typeface="Times New Roman"/>
              </a:endParaRPr>
            </a:p>
          </p:txBody>
        </p:sp>
        <p:sp>
          <p:nvSpPr>
            <p:cNvPr id="140" name=""/>
            <p:cNvSpPr/>
            <p:nvPr/>
          </p:nvSpPr>
          <p:spPr>
            <a:xfrm>
              <a:off x="5735160" y="1591560"/>
              <a:ext cx="193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Toyota Way</a:t>
              </a:r>
              <a:endParaRPr b="0" lang="en-US" sz="1800" spc="-1" strike="noStrike">
                <a:solidFill>
                  <a:srgbClr val="000000"/>
                </a:solidFill>
                <a:latin typeface="Times New Roman"/>
              </a:endParaRPr>
            </a:p>
          </p:txBody>
        </p:sp>
        <p:cxnSp>
          <p:nvCxnSpPr>
            <p:cNvPr id="142" name=""/>
            <p:cNvCxnSpPr>
              <a:stCxn id="140" idx="2"/>
              <a:endCxn id="136" idx="1"/>
            </p:cNvCxnSpPr>
            <p:nvPr/>
          </p:nvCxnSpPr>
          <p:spPr>
            <a:xfrm flipH="1" rot="16200000">
              <a:off x="6215400" y="2445120"/>
              <a:ext cx="1373400" cy="398880"/>
            </a:xfrm>
            <a:prstGeom prst="bentConnector2">
              <a:avLst/>
            </a:prstGeom>
            <a:ln w="19080">
              <a:solidFill>
                <a:srgbClr val="000000"/>
              </a:solidFill>
              <a:miter/>
              <a:tailEnd len="med" type="triangle" w="med"/>
            </a:ln>
          </p:spPr>
        </p:cxnSp>
      </p:grpSp>
      <p:sp>
        <p:nvSpPr>
          <p:cNvPr id="143" name=""/>
          <p:cNvSpPr/>
          <p:nvPr/>
        </p:nvSpPr>
        <p:spPr>
          <a:xfrm>
            <a:off x="2556000" y="4086360"/>
            <a:ext cx="85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flipV="1">
            <a:off x="782640" y="5132520"/>
            <a:ext cx="781200" cy="1225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7800" y="6497640"/>
            <a:ext cx="233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rot="18017400">
            <a:off x="221760" y="5655240"/>
            <a:ext cx="1270440" cy="398880"/>
          </a:xfrm>
          <a:prstGeom prst="rect">
            <a:avLst/>
          </a:prstGeom>
          <a:noFill/>
          <a:ln w="0">
            <a:noFill/>
          </a:ln>
          <a:effectLst>
            <a:outerShdw dist="12600" dir="54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Challenge</a:t>
            </a:r>
            <a:endParaRPr b="0" lang="en-US" sz="2000" spc="-1" strike="noStrike">
              <a:solidFill>
                <a:srgbClr val="000000"/>
              </a:solidFill>
              <a:latin typeface="Times New Roman"/>
            </a:endParaRPr>
          </a:p>
        </p:txBody>
      </p:sp>
      <p:sp>
        <p:nvSpPr>
          <p:cNvPr id="147" name=""/>
          <p:cNvSpPr/>
          <p:nvPr/>
        </p:nvSpPr>
        <p:spPr>
          <a:xfrm flipH="1" flipV="1">
            <a:off x="4578480" y="1343160"/>
            <a:ext cx="2311200" cy="304560"/>
          </a:xfrm>
          <a:custGeom>
            <a:avLst/>
            <a:gdLst>
              <a:gd name="textAreaLeft" fmla="*/ 404280 w 2311200"/>
              <a:gd name="textAreaRight" fmla="*/ 1675800 w 231120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823D4B-DB53-4CA8-B49A-A057C7D9BC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838080"/>
            <a:ext cx="9217080" cy="990720"/>
          </a:xfrm>
          <a:prstGeom prst="roundRect">
            <a:avLst>
              <a:gd name="adj" fmla="val 50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14560" y="2405160"/>
            <a:ext cx="4827600" cy="457200"/>
          </a:xfrm>
          <a:prstGeom prst="rect">
            <a:avLst/>
          </a:prstGeom>
          <a:solidFill>
            <a:srgbClr val="ffff66"/>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25840" y="19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6120" y="914400"/>
            <a:ext cx="8823240" cy="916200"/>
          </a:xfrm>
          <a:prstGeom prst="rect">
            <a:avLst/>
          </a:prstGeom>
          <a:noFill/>
          <a:ln w="0">
            <a:noFill/>
          </a:ln>
        </p:spPr>
        <p:style>
          <a:lnRef idx="0"/>
          <a:fillRef idx="0"/>
          <a:effectRef idx="0"/>
          <a:fontRef idx="minor"/>
        </p:style>
        <p:txBody>
          <a:bodyPr lIns="90000" rIns="90000" tIns="46800" bIns="46800" anchor="t">
            <a:spAutoFit/>
          </a:bodyPr>
          <a:p>
            <a:pPr marL="511200" indent="-51120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d4d4d"/>
                </a:solidFill>
                <a:latin typeface="Gill Sans MT"/>
                <a:ea typeface="Times New Roman (Arabic)"/>
              </a:rPr>
              <a:t>b. Cost Reduction is Absolute Requirement for Increased Profit</a:t>
            </a:r>
            <a:endParaRPr b="0" lang="en-US" sz="3000" spc="-1" strike="noStrike">
              <a:solidFill>
                <a:srgbClr val="000000"/>
              </a:solidFill>
              <a:latin typeface="Times New Roman"/>
            </a:endParaRPr>
          </a:p>
        </p:txBody>
      </p:sp>
      <p:sp>
        <p:nvSpPr>
          <p:cNvPr id="152" name=""/>
          <p:cNvSpPr/>
          <p:nvPr/>
        </p:nvSpPr>
        <p:spPr>
          <a:xfrm>
            <a:off x="542880" y="2004840"/>
            <a:ext cx="632772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Times New Roman (Arabic)"/>
              </a:rPr>
              <a:t>(</a:t>
            </a:r>
            <a:r>
              <a:rPr b="1" lang="en-US" sz="2000" spc="-1" strike="noStrike">
                <a:solidFill>
                  <a:srgbClr val="000000"/>
                </a:solidFill>
                <a:latin typeface="Gill Sans MT"/>
                <a:ea typeface="Times New Roman (Arabic)"/>
              </a:rPr>
              <a:t>1</a:t>
            </a:r>
            <a:r>
              <a:rPr b="1" lang="ar-SA" sz="2000" spc="-1" strike="noStrike">
                <a:solidFill>
                  <a:srgbClr val="000000"/>
                </a:solidFill>
                <a:latin typeface="Gill Sans MT"/>
                <a:ea typeface="Times New Roman (Arabic)"/>
              </a:rPr>
              <a:t>)</a:t>
            </a:r>
            <a:r>
              <a:rPr b="1" lang="en-US" sz="2000" spc="-1" strike="noStrike">
                <a:solidFill>
                  <a:srgbClr val="000000"/>
                </a:solidFill>
                <a:latin typeface="Gill Sans MT"/>
                <a:ea typeface="Times New Roman (Arabic)"/>
              </a:rPr>
              <a:t>  </a:t>
            </a:r>
            <a:r>
              <a:rPr b="1" lang="ar-SA" sz="2000" spc="-1" strike="noStrike">
                <a:solidFill>
                  <a:srgbClr val="000000"/>
                </a:solidFill>
                <a:latin typeface="Gill Sans MT"/>
                <a:ea typeface="Times New Roman (Arabic)"/>
              </a:rPr>
              <a:t> </a:t>
            </a:r>
            <a:r>
              <a:rPr b="1" lang="en-US" sz="2000" spc="-1" strike="noStrike">
                <a:solidFill>
                  <a:srgbClr val="000000"/>
                </a:solidFill>
                <a:latin typeface="Gill Sans MT"/>
                <a:ea typeface="Times New Roman (Arabic)"/>
              </a:rPr>
              <a:t>Selling price  =  Cost + Profi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Times New Roman (Arabic)"/>
              </a:rPr>
              <a:t>(2)   Profit             =  Selling Price - Costs</a:t>
            </a:r>
            <a:endParaRPr b="0" lang="en-US" sz="2000" spc="-1" strike="noStrike">
              <a:solidFill>
                <a:srgbClr val="000000"/>
              </a:solidFill>
              <a:latin typeface="Times New Roman"/>
            </a:endParaRPr>
          </a:p>
        </p:txBody>
      </p:sp>
      <p:sp>
        <p:nvSpPr>
          <p:cNvPr id="153" name=""/>
          <p:cNvSpPr/>
          <p:nvPr/>
        </p:nvSpPr>
        <p:spPr>
          <a:xfrm>
            <a:off x="1341360" y="3657600"/>
            <a:ext cx="825480" cy="117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41360" y="3657600"/>
            <a:ext cx="8254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48160" y="3414600"/>
            <a:ext cx="90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20760" y="37386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Profit</a:t>
            </a:r>
            <a:endParaRPr b="0" lang="en-US" sz="1400" spc="-1" strike="noStrike">
              <a:solidFill>
                <a:srgbClr val="000000"/>
              </a:solidFill>
              <a:latin typeface="Times New Roman"/>
            </a:endParaRPr>
          </a:p>
        </p:txBody>
      </p:sp>
      <p:grpSp>
        <p:nvGrpSpPr>
          <p:cNvPr id="157" name=""/>
          <p:cNvGrpSpPr/>
          <p:nvPr/>
        </p:nvGrpSpPr>
        <p:grpSpPr>
          <a:xfrm>
            <a:off x="2768760" y="3414600"/>
            <a:ext cx="825120" cy="1414440"/>
            <a:chOff x="2768760" y="3414600"/>
            <a:chExt cx="825120" cy="1414440"/>
          </a:xfrm>
        </p:grpSpPr>
        <p:sp>
          <p:nvSpPr>
            <p:cNvPr id="158" name=""/>
            <p:cNvSpPr/>
            <p:nvPr/>
          </p:nvSpPr>
          <p:spPr>
            <a:xfrm>
              <a:off x="2768760" y="3429000"/>
              <a:ext cx="825120" cy="140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768760" y="3414600"/>
              <a:ext cx="82512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45320" y="3857760"/>
              <a:ext cx="0" cy="91440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51200" y="4114800"/>
              <a:ext cx="659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Cost</a:t>
              </a:r>
              <a:endParaRPr b="0" lang="en-US" sz="1400" spc="-1" strike="noStrike">
                <a:solidFill>
                  <a:srgbClr val="000000"/>
                </a:solidFill>
                <a:latin typeface="Times New Roman"/>
              </a:endParaRPr>
            </a:p>
          </p:txBody>
        </p:sp>
        <p:sp>
          <p:nvSpPr>
            <p:cNvPr id="162" name=""/>
            <p:cNvSpPr/>
            <p:nvPr/>
          </p:nvSpPr>
          <p:spPr>
            <a:xfrm>
              <a:off x="3155400" y="3467160"/>
              <a:ext cx="0" cy="30492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flipV="1">
            <a:off x="2146320" y="3429000"/>
            <a:ext cx="65880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50920" y="3048120"/>
            <a:ext cx="173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ea typeface="Times New Roman (Arabic)"/>
              </a:rPr>
              <a:t>(</a:t>
            </a:r>
            <a:r>
              <a:rPr b="1" lang="en-US" sz="1400" spc="-1" strike="noStrike">
                <a:solidFill>
                  <a:srgbClr val="000000"/>
                </a:solidFill>
                <a:latin typeface="Gill Sans MT"/>
                <a:ea typeface="Times New Roman (Arabic)"/>
              </a:rPr>
              <a:t>1</a:t>
            </a:r>
            <a:r>
              <a:rPr b="1" lang="ar-SA" sz="1400" spc="-1" strike="noStrike">
                <a:solidFill>
                  <a:srgbClr val="000000"/>
                </a:solidFill>
                <a:latin typeface="Gill Sans MT"/>
                <a:ea typeface="Times New Roman (Arabic)"/>
              </a:rPr>
              <a:t>) </a:t>
            </a:r>
            <a:r>
              <a:rPr b="1" lang="en-US" sz="1400" spc="-1" strike="noStrike">
                <a:solidFill>
                  <a:srgbClr val="000000"/>
                </a:solidFill>
                <a:latin typeface="Gill Sans MT"/>
                <a:ea typeface="Times New Roman (Arabic)"/>
              </a:rPr>
              <a:t>Cost + Profit</a:t>
            </a:r>
            <a:endParaRPr b="0" lang="en-US" sz="1400" spc="-1" strike="noStrike">
              <a:solidFill>
                <a:srgbClr val="000000"/>
              </a:solidFill>
              <a:latin typeface="Times New Roman"/>
            </a:endParaRPr>
          </a:p>
        </p:txBody>
      </p:sp>
      <p:grpSp>
        <p:nvGrpSpPr>
          <p:cNvPr id="165" name=""/>
          <p:cNvGrpSpPr/>
          <p:nvPr/>
        </p:nvGrpSpPr>
        <p:grpSpPr>
          <a:xfrm>
            <a:off x="3708360" y="3429000"/>
            <a:ext cx="1072800" cy="1371600"/>
            <a:chOff x="3708360" y="3429000"/>
            <a:chExt cx="1072800" cy="1371600"/>
          </a:xfrm>
        </p:grpSpPr>
        <p:sp>
          <p:nvSpPr>
            <p:cNvPr id="166" name=""/>
            <p:cNvSpPr/>
            <p:nvPr/>
          </p:nvSpPr>
          <p:spPr>
            <a:xfrm>
              <a:off x="4038480" y="3429000"/>
              <a:ext cx="0" cy="137160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708360" y="3809880"/>
              <a:ext cx="1072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Selling Price</a:t>
              </a:r>
              <a:endParaRPr b="0" lang="en-US" sz="1400" spc="-1" strike="noStrike">
                <a:solidFill>
                  <a:srgbClr val="000000"/>
                </a:solidFill>
                <a:latin typeface="Times New Roman"/>
              </a:endParaRPr>
            </a:p>
          </p:txBody>
        </p:sp>
      </p:grpSp>
      <p:sp>
        <p:nvSpPr>
          <p:cNvPr id="168" name=""/>
          <p:cNvSpPr/>
          <p:nvPr/>
        </p:nvSpPr>
        <p:spPr>
          <a:xfrm>
            <a:off x="1332000" y="4838760"/>
            <a:ext cx="304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73160" y="4997520"/>
            <a:ext cx="205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ill Sans MT"/>
                <a:ea typeface="Times New Roman (Arabic)"/>
              </a:rPr>
              <a:t>Methods for increasing profit</a:t>
            </a:r>
            <a:endParaRPr b="0" lang="en-US" sz="1800" spc="-1" strike="noStrike">
              <a:solidFill>
                <a:srgbClr val="000000"/>
              </a:solidFill>
              <a:latin typeface="Times New Roman"/>
            </a:endParaRPr>
          </a:p>
        </p:txBody>
      </p:sp>
      <p:sp>
        <p:nvSpPr>
          <p:cNvPr id="170" name=""/>
          <p:cNvSpPr/>
          <p:nvPr/>
        </p:nvSpPr>
        <p:spPr>
          <a:xfrm>
            <a:off x="3208320" y="5105520"/>
            <a:ext cx="92160" cy="461880"/>
          </a:xfrm>
          <a:custGeom>
            <a:avLst/>
            <a:gdLst>
              <a:gd name="textAreaLeft" fmla="*/ 59040 w 92160"/>
              <a:gd name="textAreaRight" fmla="*/ 92520 w 92160"/>
              <a:gd name="textAreaTop" fmla="*/ 11880 h 461880"/>
              <a:gd name="textAreaBottom" fmla="*/ 450000 h 46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52760" y="5067360"/>
            <a:ext cx="5805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abic)"/>
              </a:rPr>
              <a:t>Raise the selling price                    Demand &gt; Supply</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abic)"/>
              </a:rPr>
              <a:t>Reduce the costs                           Demand &lt; Supply </a:t>
            </a:r>
            <a:endParaRPr b="0" lang="en-US" sz="1600" spc="-1" strike="noStrike">
              <a:solidFill>
                <a:srgbClr val="000000"/>
              </a:solidFill>
              <a:latin typeface="Times New Roman"/>
            </a:endParaRPr>
          </a:p>
        </p:txBody>
      </p:sp>
      <p:sp>
        <p:nvSpPr>
          <p:cNvPr id="172" name=""/>
          <p:cNvSpPr/>
          <p:nvPr/>
        </p:nvSpPr>
        <p:spPr>
          <a:xfrm>
            <a:off x="5829480" y="5172120"/>
            <a:ext cx="685800" cy="0"/>
          </a:xfrm>
          <a:prstGeom prst="line">
            <a:avLst/>
          </a:prstGeom>
          <a:ln w="38160">
            <a:solidFill>
              <a:srgbClr val="000000"/>
            </a:solidFill>
            <a:prstDash val="sysDot"/>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4120" y="5448240"/>
            <a:ext cx="1198440" cy="0"/>
          </a:xfrm>
          <a:prstGeom prst="line">
            <a:avLst/>
          </a:prstGeom>
          <a:ln w="38160">
            <a:solidFill>
              <a:srgbClr val="000000"/>
            </a:solidFill>
            <a:prstDash val="sysDot"/>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32440" y="3657600"/>
            <a:ext cx="825480" cy="117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932440" y="3429000"/>
            <a:ext cx="8254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139240" y="3414600"/>
            <a:ext cx="90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7361280" y="3414600"/>
            <a:ext cx="823680" cy="1414440"/>
            <a:chOff x="7361280" y="3414600"/>
            <a:chExt cx="823680" cy="1414440"/>
          </a:xfrm>
        </p:grpSpPr>
        <p:sp>
          <p:nvSpPr>
            <p:cNvPr id="178" name=""/>
            <p:cNvSpPr/>
            <p:nvPr/>
          </p:nvSpPr>
          <p:spPr>
            <a:xfrm>
              <a:off x="7361280" y="3429000"/>
              <a:ext cx="823680" cy="140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61280" y="3414600"/>
              <a:ext cx="82368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37120" y="3857760"/>
              <a:ext cx="0" cy="91440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443720" y="4114800"/>
              <a:ext cx="658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Cost</a:t>
              </a:r>
              <a:endParaRPr b="0" lang="en-US" sz="1400" spc="-1" strike="noStrike">
                <a:solidFill>
                  <a:srgbClr val="000000"/>
                </a:solidFill>
                <a:latin typeface="Times New Roman"/>
              </a:endParaRPr>
            </a:p>
          </p:txBody>
        </p:sp>
        <p:sp>
          <p:nvSpPr>
            <p:cNvPr id="182" name=""/>
            <p:cNvSpPr/>
            <p:nvPr/>
          </p:nvSpPr>
          <p:spPr>
            <a:xfrm>
              <a:off x="7747200" y="3467160"/>
              <a:ext cx="0" cy="30492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6778800" y="3443400"/>
            <a:ext cx="5666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823000" y="2971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ea typeface="Times New Roman (Arabic)"/>
              </a:rPr>
              <a:t>(</a:t>
            </a:r>
            <a:r>
              <a:rPr b="1" lang="en-US" sz="1400" spc="-1" strike="noStrike">
                <a:solidFill>
                  <a:srgbClr val="000000"/>
                </a:solidFill>
                <a:latin typeface="Gill Sans MT"/>
                <a:ea typeface="Times New Roman (Arabic)"/>
              </a:rPr>
              <a:t>2</a:t>
            </a:r>
            <a:r>
              <a:rPr b="1" lang="ar-SA" sz="1400" spc="-1" strike="noStrike">
                <a:solidFill>
                  <a:srgbClr val="000000"/>
                </a:solidFill>
                <a:latin typeface="Gill Sans MT"/>
                <a:ea typeface="Times New Roman (Arabic)"/>
              </a:rPr>
              <a:t>) </a:t>
            </a:r>
            <a:r>
              <a:rPr b="1" lang="en-US" sz="1400" spc="-1" strike="noStrike">
                <a:solidFill>
                  <a:srgbClr val="000000"/>
                </a:solidFill>
                <a:latin typeface="Gill Sans MT"/>
                <a:ea typeface="Times New Roman (Arabic)"/>
              </a:rPr>
              <a:t>Cost Reduction</a:t>
            </a:r>
            <a:endParaRPr b="0" lang="en-US" sz="1400" spc="-1" strike="noStrike">
              <a:solidFill>
                <a:srgbClr val="000000"/>
              </a:solidFill>
              <a:latin typeface="Times New Roman"/>
            </a:endParaRPr>
          </a:p>
        </p:txBody>
      </p:sp>
      <p:grpSp>
        <p:nvGrpSpPr>
          <p:cNvPr id="185" name=""/>
          <p:cNvGrpSpPr/>
          <p:nvPr/>
        </p:nvGrpSpPr>
        <p:grpSpPr>
          <a:xfrm>
            <a:off x="8531280" y="3429000"/>
            <a:ext cx="1072800" cy="1371600"/>
            <a:chOff x="8531280" y="3429000"/>
            <a:chExt cx="1072800" cy="1371600"/>
          </a:xfrm>
        </p:grpSpPr>
        <p:sp>
          <p:nvSpPr>
            <p:cNvPr id="186" name=""/>
            <p:cNvSpPr/>
            <p:nvPr/>
          </p:nvSpPr>
          <p:spPr>
            <a:xfrm>
              <a:off x="8861400" y="3429000"/>
              <a:ext cx="0" cy="137160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531280" y="3809880"/>
              <a:ext cx="1072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Selling Price</a:t>
              </a:r>
              <a:endParaRPr b="0" lang="en-US" sz="1400" spc="-1" strike="noStrike">
                <a:solidFill>
                  <a:srgbClr val="000000"/>
                </a:solidFill>
                <a:latin typeface="Times New Roman"/>
              </a:endParaRPr>
            </a:p>
          </p:txBody>
        </p:sp>
      </p:grpSp>
      <p:sp>
        <p:nvSpPr>
          <p:cNvPr id="188" name=""/>
          <p:cNvSpPr/>
          <p:nvPr/>
        </p:nvSpPr>
        <p:spPr>
          <a:xfrm>
            <a:off x="5921280" y="4838760"/>
            <a:ext cx="304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74160" y="3457440"/>
            <a:ext cx="72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Profit</a:t>
            </a:r>
            <a:endParaRPr b="0" lang="en-US" sz="1400" spc="-1" strike="noStrike">
              <a:solidFill>
                <a:srgbClr val="000000"/>
              </a:solidFill>
              <a:latin typeface="Times New Roman"/>
            </a:endParaRPr>
          </a:p>
        </p:txBody>
      </p:sp>
      <p:sp>
        <p:nvSpPr>
          <p:cNvPr id="190" name=""/>
          <p:cNvSpPr/>
          <p:nvPr/>
        </p:nvSpPr>
        <p:spPr>
          <a:xfrm>
            <a:off x="1816200" y="5857920"/>
            <a:ext cx="6584760" cy="423000"/>
          </a:xfrm>
          <a:prstGeom prst="rect">
            <a:avLst/>
          </a:prstGeom>
          <a:solidFill>
            <a:srgbClr val="ff0000"/>
          </a:solidFill>
          <a:ln w="9360">
            <a:solidFill>
              <a:srgbClr val="b2b2b2"/>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Gill Sans MT"/>
                <a:ea typeface="Times New Roman (Arabic)"/>
              </a:rPr>
              <a:t>Customers determine the selling price</a:t>
            </a:r>
            <a:endParaRPr b="0" lang="en-US" sz="2400" spc="-1" strike="noStrike">
              <a:solidFill>
                <a:srgbClr val="000000"/>
              </a:solidFill>
              <a:latin typeface="Times New Roman"/>
            </a:endParaRPr>
          </a:p>
        </p:txBody>
      </p:sp>
      <p:sp>
        <p:nvSpPr>
          <p:cNvPr id="191" name=""/>
          <p:cNvSpPr/>
          <p:nvPr/>
        </p:nvSpPr>
        <p:spPr>
          <a:xfrm>
            <a:off x="6016680" y="2438280"/>
            <a:ext cx="20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abic)"/>
              </a:rPr>
              <a:t>Cost Reduction</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2AD7C4D3-5C85-4CC6-B0F3-DD4F3D89D2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838080"/>
            <a:ext cx="9217080" cy="990720"/>
          </a:xfrm>
          <a:prstGeom prst="roundRect">
            <a:avLst>
              <a:gd name="adj" fmla="val 50000"/>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76320" y="955800"/>
            <a:ext cx="8778240" cy="950400"/>
            <a:chOff x="76320" y="955800"/>
            <a:chExt cx="8778240" cy="950400"/>
          </a:xfrm>
        </p:grpSpPr>
        <p:sp>
          <p:nvSpPr>
            <p:cNvPr id="194" name=""/>
            <p:cNvSpPr/>
            <p:nvPr/>
          </p:nvSpPr>
          <p:spPr>
            <a:xfrm>
              <a:off x="511920" y="959040"/>
              <a:ext cx="8342640" cy="947160"/>
            </a:xfrm>
            <a:prstGeom prst="rect">
              <a:avLst/>
            </a:prstGeom>
            <a:noFill/>
            <a:ln w="0">
              <a:noFill/>
            </a:ln>
          </p:spPr>
          <p:style>
            <a:lnRef idx="0"/>
            <a:fillRef idx="0"/>
            <a:effectRef idx="0"/>
            <a:fontRef idx="minor"/>
          </p:style>
          <p:txBody>
            <a:bodyPr lIns="90000" rIns="90000" tIns="46800" bIns="46800" anchor="t">
              <a:spAutoFit/>
            </a:bodyPr>
            <a:p>
              <a:pPr marL="577800" indent="-5778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d4d4d"/>
                  </a:solidFill>
                  <a:latin typeface="Gill Sans MT"/>
                  <a:ea typeface="Times New Roman (Arabic)"/>
                </a:rPr>
                <a:t>b. Cost Reduction is Absolute Requirement for Increased Profit</a:t>
              </a:r>
              <a:endParaRPr b="0" lang="en-US" sz="2800" spc="-1" strike="noStrike">
                <a:solidFill>
                  <a:srgbClr val="000000"/>
                </a:solidFill>
                <a:latin typeface="Times New Roman"/>
              </a:endParaRPr>
            </a:p>
          </p:txBody>
        </p:sp>
        <p:sp>
          <p:nvSpPr>
            <p:cNvPr id="195" name=""/>
            <p:cNvSpPr/>
            <p:nvPr/>
          </p:nvSpPr>
          <p:spPr>
            <a:xfrm>
              <a:off x="76320" y="955800"/>
              <a:ext cx="565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1238400" y="1949400"/>
            <a:ext cx="800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Gill Sans MT"/>
                <a:ea typeface="Times New Roman (Arabic)"/>
              </a:rPr>
              <a:t>Productivity  </a:t>
            </a:r>
            <a:r>
              <a:rPr b="1" i="1" lang="en-US" sz="3600" spc="-1" strike="noStrike">
                <a:solidFill>
                  <a:srgbClr val="ff3300"/>
                </a:solidFill>
                <a:latin typeface="Symbol"/>
                <a:ea typeface="Symbol"/>
              </a:rPr>
              <a:t></a:t>
            </a:r>
            <a:r>
              <a:rPr b="1" i="1" lang="en-US" sz="3600" spc="-1" strike="noStrike">
                <a:solidFill>
                  <a:srgbClr val="ff3300"/>
                </a:solidFill>
                <a:latin typeface="Gill Sans MT"/>
                <a:ea typeface="Times New Roman (Arabic)"/>
              </a:rPr>
              <a:t>  Labor productivity</a:t>
            </a:r>
            <a:endParaRPr b="0" lang="en-US" sz="3600" spc="-1" strike="noStrike">
              <a:solidFill>
                <a:srgbClr val="000000"/>
              </a:solidFill>
              <a:latin typeface="Times New Roman"/>
            </a:endParaRPr>
          </a:p>
        </p:txBody>
      </p:sp>
      <p:sp>
        <p:nvSpPr>
          <p:cNvPr id="197" name=""/>
          <p:cNvSpPr/>
          <p:nvPr/>
        </p:nvSpPr>
        <p:spPr>
          <a:xfrm>
            <a:off x="784080" y="3489480"/>
            <a:ext cx="253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ill Sans MT"/>
                <a:ea typeface="Times New Roman (Arabic)"/>
              </a:rPr>
              <a:t>Productivity</a:t>
            </a:r>
            <a:endParaRPr b="0" lang="en-US" sz="3200" spc="-1" strike="noStrike">
              <a:solidFill>
                <a:srgbClr val="000000"/>
              </a:solidFill>
              <a:latin typeface="Times New Roman"/>
            </a:endParaRPr>
          </a:p>
        </p:txBody>
      </p:sp>
      <p:sp>
        <p:nvSpPr>
          <p:cNvPr id="198" name=""/>
          <p:cNvSpPr/>
          <p:nvPr/>
        </p:nvSpPr>
        <p:spPr>
          <a:xfrm>
            <a:off x="3741840" y="277488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abic)"/>
              </a:rPr>
              <a:t>Labor Productivity</a:t>
            </a:r>
            <a:endParaRPr b="0" lang="en-US" sz="2400" spc="-1" strike="noStrike">
              <a:solidFill>
                <a:srgbClr val="000000"/>
              </a:solidFill>
              <a:latin typeface="Times New Roman"/>
            </a:endParaRPr>
          </a:p>
        </p:txBody>
      </p:sp>
      <p:sp>
        <p:nvSpPr>
          <p:cNvPr id="199" name=""/>
          <p:cNvSpPr/>
          <p:nvPr/>
        </p:nvSpPr>
        <p:spPr>
          <a:xfrm>
            <a:off x="3732120" y="3056040"/>
            <a:ext cx="32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cc"/>
                </a:solidFill>
                <a:latin typeface="Gill Sans MT"/>
                <a:ea typeface="Times New Roman (Arabic)"/>
              </a:rPr>
              <a:t>(</a:t>
            </a:r>
            <a:r>
              <a:rPr b="0" i="1" lang="en-US" sz="2000" spc="-1" strike="noStrike">
                <a:solidFill>
                  <a:srgbClr val="0000cc"/>
                </a:solidFill>
                <a:latin typeface="Gill Sans MT"/>
                <a:ea typeface="Times New Roman (Arabic)"/>
              </a:rPr>
              <a:t>with smaller man power)</a:t>
            </a:r>
            <a:endParaRPr b="0" lang="en-US" sz="2000" spc="-1" strike="noStrike">
              <a:solidFill>
                <a:srgbClr val="000000"/>
              </a:solidFill>
              <a:latin typeface="Times New Roman"/>
            </a:endParaRPr>
          </a:p>
        </p:txBody>
      </p:sp>
      <p:sp>
        <p:nvSpPr>
          <p:cNvPr id="200" name=""/>
          <p:cNvSpPr/>
          <p:nvPr/>
        </p:nvSpPr>
        <p:spPr>
          <a:xfrm>
            <a:off x="3736800" y="3519360"/>
            <a:ext cx="49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abic)"/>
              </a:rPr>
              <a:t>Equipment Productivity</a:t>
            </a:r>
            <a:endParaRPr b="0" lang="en-US" sz="2400" spc="-1" strike="noStrike">
              <a:solidFill>
                <a:srgbClr val="000000"/>
              </a:solidFill>
              <a:latin typeface="Times New Roman"/>
            </a:endParaRPr>
          </a:p>
        </p:txBody>
      </p:sp>
      <p:sp>
        <p:nvSpPr>
          <p:cNvPr id="201" name=""/>
          <p:cNvSpPr/>
          <p:nvPr/>
        </p:nvSpPr>
        <p:spPr>
          <a:xfrm>
            <a:off x="3741840" y="3828960"/>
            <a:ext cx="567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cc"/>
                </a:solidFill>
                <a:latin typeface="Gill Sans MT"/>
                <a:ea typeface="Times New Roman (Arabic)"/>
              </a:rPr>
              <a:t>(</a:t>
            </a:r>
            <a:r>
              <a:rPr b="0" i="1" lang="en-US" sz="2000" spc="-1" strike="noStrike">
                <a:solidFill>
                  <a:srgbClr val="0000cc"/>
                </a:solidFill>
                <a:latin typeface="Gill Sans MT"/>
                <a:ea typeface="Times New Roman (Arabic)"/>
              </a:rPr>
              <a:t>with smaller equipment investment)</a:t>
            </a:r>
            <a:endParaRPr b="0" lang="en-US" sz="2000" spc="-1" strike="noStrike">
              <a:solidFill>
                <a:srgbClr val="000000"/>
              </a:solidFill>
              <a:latin typeface="Times New Roman"/>
            </a:endParaRPr>
          </a:p>
        </p:txBody>
      </p:sp>
      <p:sp>
        <p:nvSpPr>
          <p:cNvPr id="202" name=""/>
          <p:cNvSpPr/>
          <p:nvPr/>
        </p:nvSpPr>
        <p:spPr>
          <a:xfrm>
            <a:off x="3747960" y="4272120"/>
            <a:ext cx="49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abic)"/>
              </a:rPr>
              <a:t>Material Productivity</a:t>
            </a:r>
            <a:endParaRPr b="0" lang="en-US" sz="2400" spc="-1" strike="noStrike">
              <a:solidFill>
                <a:srgbClr val="000000"/>
              </a:solidFill>
              <a:latin typeface="Times New Roman"/>
            </a:endParaRPr>
          </a:p>
        </p:txBody>
      </p:sp>
      <p:sp>
        <p:nvSpPr>
          <p:cNvPr id="203" name=""/>
          <p:cNvSpPr/>
          <p:nvPr/>
        </p:nvSpPr>
        <p:spPr>
          <a:xfrm>
            <a:off x="3772080" y="4610160"/>
            <a:ext cx="594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cc"/>
                </a:solidFill>
                <a:latin typeface="Gill Sans MT"/>
                <a:ea typeface="Times New Roman (Arabic)"/>
              </a:rPr>
              <a:t>(</a:t>
            </a:r>
            <a:r>
              <a:rPr b="0" i="1" lang="en-US" sz="2000" spc="-1" strike="noStrike">
                <a:solidFill>
                  <a:srgbClr val="0000cc"/>
                </a:solidFill>
                <a:latin typeface="Gill Sans MT"/>
                <a:ea typeface="Times New Roman (Arabic)"/>
              </a:rPr>
              <a:t>with less costly materials and higher yield ratio)</a:t>
            </a:r>
            <a:endParaRPr b="0" lang="en-US" sz="2000" spc="-1" strike="noStrike">
              <a:solidFill>
                <a:srgbClr val="000000"/>
              </a:solidFill>
              <a:latin typeface="Times New Roman"/>
            </a:endParaRPr>
          </a:p>
        </p:txBody>
      </p:sp>
      <p:sp>
        <p:nvSpPr>
          <p:cNvPr id="204" name=""/>
          <p:cNvSpPr/>
          <p:nvPr/>
        </p:nvSpPr>
        <p:spPr>
          <a:xfrm>
            <a:off x="3403440" y="2965320"/>
            <a:ext cx="293760" cy="1800360"/>
          </a:xfrm>
          <a:custGeom>
            <a:avLst/>
            <a:gdLst>
              <a:gd name="textAreaLeft" fmla="*/ 187560 w 293760"/>
              <a:gd name="textAreaRight" fmla="*/ 294120 w 29376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03280" y="5334120"/>
            <a:ext cx="7508880" cy="7642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ffcc"/>
                </a:solidFill>
                <a:latin typeface="Gill Sans MT"/>
                <a:ea typeface="Times New Roman (Arabic)"/>
              </a:rPr>
              <a:t>The quality of design plays a decisive role. Still the costs vary depending on the manufacturing method</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5D4A37DF-F1A2-414A-9FF4-4C83720BF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84200" y="706320"/>
            <a:ext cx="7864560" cy="685800"/>
          </a:xfrm>
          <a:prstGeom prst="roundRect">
            <a:avLst>
              <a:gd name="adj" fmla="val 50000"/>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0" y="771480"/>
            <a:ext cx="8778600" cy="523800"/>
            <a:chOff x="0" y="771480"/>
            <a:chExt cx="8778600" cy="523800"/>
          </a:xfrm>
        </p:grpSpPr>
        <p:sp>
          <p:nvSpPr>
            <p:cNvPr id="208" name=""/>
            <p:cNvSpPr/>
            <p:nvPr/>
          </p:nvSpPr>
          <p:spPr>
            <a:xfrm>
              <a:off x="435600" y="774720"/>
              <a:ext cx="83430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d4d4d"/>
                  </a:solidFill>
                  <a:latin typeface="Gill Sans MT"/>
                  <a:ea typeface="Times New Roman (Arabic)"/>
                </a:rPr>
                <a:t>c. Cost Dependent on Production Method</a:t>
              </a:r>
              <a:endParaRPr b="0" lang="en-US" sz="2800" spc="-1" strike="noStrike">
                <a:solidFill>
                  <a:srgbClr val="000000"/>
                </a:solidFill>
                <a:latin typeface="Times New Roman"/>
              </a:endParaRPr>
            </a:p>
          </p:txBody>
        </p:sp>
        <p:sp>
          <p:nvSpPr>
            <p:cNvPr id="209" name=""/>
            <p:cNvSpPr/>
            <p:nvPr/>
          </p:nvSpPr>
          <p:spPr>
            <a:xfrm>
              <a:off x="0" y="771480"/>
              <a:ext cx="56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
          <p:cNvSpPr/>
          <p:nvPr/>
        </p:nvSpPr>
        <p:spPr>
          <a:xfrm>
            <a:off x="9407520" y="809640"/>
            <a:ext cx="47952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412920" y="2784600"/>
            <a:ext cx="2805120" cy="2473200"/>
            <a:chOff x="412920" y="2784600"/>
            <a:chExt cx="2805120" cy="2473200"/>
          </a:xfrm>
        </p:grpSpPr>
        <p:sp>
          <p:nvSpPr>
            <p:cNvPr id="212" name=""/>
            <p:cNvSpPr/>
            <p:nvPr/>
          </p:nvSpPr>
          <p:spPr>
            <a:xfrm>
              <a:off x="412920" y="2784600"/>
              <a:ext cx="2805120" cy="24732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71480" y="3101040"/>
              <a:ext cx="2103840" cy="1854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15480" y="2784600"/>
              <a:ext cx="0" cy="11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15480" y="3903480"/>
              <a:ext cx="1274760" cy="58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815480" y="3903480"/>
              <a:ext cx="31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2920" y="3844440"/>
              <a:ext cx="140256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 name=""/>
            <p:cNvSpPr/>
            <p:nvPr/>
          </p:nvSpPr>
          <p:spPr>
            <a:xfrm>
              <a:off x="795240" y="3196800"/>
              <a:ext cx="1019880" cy="70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831320" y="3259440"/>
              <a:ext cx="9720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333333"/>
                  </a:solidFill>
                  <a:latin typeface="Gill Sans MT"/>
                  <a:ea typeface="Times New Roman (Arabic)"/>
                </a:rPr>
                <a:t>Raw material purchase</a:t>
              </a:r>
              <a:endParaRPr b="0" lang="en-US" sz="1300" spc="-1" strike="noStrike">
                <a:solidFill>
                  <a:srgbClr val="000000"/>
                </a:solidFill>
                <a:latin typeface="Times New Roman"/>
              </a:endParaRPr>
            </a:p>
          </p:txBody>
        </p:sp>
        <p:sp>
          <p:nvSpPr>
            <p:cNvPr id="220" name=""/>
            <p:cNvSpPr/>
            <p:nvPr/>
          </p:nvSpPr>
          <p:spPr>
            <a:xfrm>
              <a:off x="1948320" y="4105800"/>
              <a:ext cx="970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333333"/>
                  </a:solidFill>
                  <a:latin typeface="Gill Sans MT"/>
                  <a:ea typeface="Times New Roman (Arabic)"/>
                </a:rPr>
                <a:t>Part purchase</a:t>
              </a:r>
              <a:endParaRPr b="0" lang="en-US" sz="1300" spc="-1" strike="noStrike">
                <a:solidFill>
                  <a:srgbClr val="000000"/>
                </a:solidFill>
                <a:latin typeface="Times New Roman"/>
              </a:endParaRPr>
            </a:p>
          </p:txBody>
        </p:sp>
        <p:sp>
          <p:nvSpPr>
            <p:cNvPr id="221" name=""/>
            <p:cNvSpPr/>
            <p:nvPr/>
          </p:nvSpPr>
          <p:spPr>
            <a:xfrm>
              <a:off x="966600" y="4065120"/>
              <a:ext cx="972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333333"/>
                  </a:solidFill>
                  <a:latin typeface="Gill Sans MT"/>
                  <a:ea typeface="Times New Roman (Arabic)"/>
                </a:rPr>
                <a:t>Labor Expense</a:t>
              </a:r>
              <a:endParaRPr b="0" lang="en-US" sz="1300" spc="-1" strike="noStrike">
                <a:solidFill>
                  <a:srgbClr val="000000"/>
                </a:solidFill>
                <a:latin typeface="Times New Roman"/>
              </a:endParaRPr>
            </a:p>
          </p:txBody>
        </p:sp>
        <p:sp>
          <p:nvSpPr>
            <p:cNvPr id="222" name=""/>
            <p:cNvSpPr/>
            <p:nvPr/>
          </p:nvSpPr>
          <p:spPr>
            <a:xfrm>
              <a:off x="803160" y="3601440"/>
              <a:ext cx="970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333333"/>
                  </a:solidFill>
                  <a:latin typeface="Gill Sans MT"/>
                  <a:ea typeface="Times New Roman (Arabic)"/>
                </a:rPr>
                <a:t>Energy</a:t>
              </a:r>
              <a:endParaRPr b="0" lang="en-US" sz="1300" spc="-1" strike="noStrike">
                <a:solidFill>
                  <a:srgbClr val="000000"/>
                </a:solidFill>
                <a:latin typeface="Times New Roman"/>
              </a:endParaRPr>
            </a:p>
          </p:txBody>
        </p:sp>
        <p:sp>
          <p:nvSpPr>
            <p:cNvPr id="223" name=""/>
            <p:cNvSpPr/>
            <p:nvPr/>
          </p:nvSpPr>
          <p:spPr>
            <a:xfrm>
              <a:off x="1253520" y="3231000"/>
              <a:ext cx="70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333333"/>
                  </a:solidFill>
                  <a:latin typeface="Gill Sans MT"/>
                  <a:ea typeface="Times New Roman (Arabic)"/>
                </a:rPr>
                <a:t>Other</a:t>
              </a:r>
              <a:endParaRPr b="0" lang="en-US" sz="1300" spc="-1" strike="noStrike">
                <a:solidFill>
                  <a:srgbClr val="000000"/>
                </a:solidFill>
                <a:latin typeface="Times New Roman"/>
              </a:endParaRPr>
            </a:p>
          </p:txBody>
        </p:sp>
      </p:grpSp>
      <p:sp>
        <p:nvSpPr>
          <p:cNvPr id="224" name=""/>
          <p:cNvSpPr/>
          <p:nvPr/>
        </p:nvSpPr>
        <p:spPr>
          <a:xfrm>
            <a:off x="1579680" y="5457960"/>
            <a:ext cx="412560" cy="31752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8000" y="5415120"/>
            <a:ext cx="412560" cy="317520"/>
          </a:xfrm>
          <a:prstGeom prst="rect">
            <a:avLst/>
          </a:prstGeom>
          <a:solidFill>
            <a:srgbClr val="ffff66"/>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365880" y="4452840"/>
            <a:ext cx="907920" cy="381240"/>
          </a:xfrm>
          <a:prstGeom prst="downArrow">
            <a:avLst>
              <a:gd name="adj1" fmla="val 50000"/>
              <a:gd name="adj2" fmla="val 64167"/>
            </a:avLst>
          </a:prstGeom>
          <a:gradFill rotWithShape="0">
            <a:gsLst>
              <a:gs pos="0">
                <a:srgbClr val="ff9900"/>
              </a:gs>
              <a:gs pos="100000">
                <a:srgbClr val="ff330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0040" y="5372280"/>
            <a:ext cx="1150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Gill Sans MT"/>
                <a:ea typeface="Times New Roman (Arabic)"/>
              </a:rPr>
              <a:t>Cost in Common between companies</a:t>
            </a:r>
            <a:endParaRPr b="0" lang="en-US" sz="1300" spc="-1" strike="noStrike">
              <a:solidFill>
                <a:srgbClr val="000000"/>
              </a:solidFill>
              <a:latin typeface="Times New Roman"/>
            </a:endParaRPr>
          </a:p>
        </p:txBody>
      </p:sp>
      <p:sp>
        <p:nvSpPr>
          <p:cNvPr id="228" name=""/>
          <p:cNvSpPr/>
          <p:nvPr/>
        </p:nvSpPr>
        <p:spPr>
          <a:xfrm>
            <a:off x="2001960" y="5391000"/>
            <a:ext cx="1484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Gill Sans MT"/>
                <a:ea typeface="Times New Roman (Arabic)"/>
              </a:rPr>
              <a:t>Cost caused by difference in production method</a:t>
            </a:r>
            <a:endParaRPr b="0" lang="en-US" sz="1300" spc="-1" strike="noStrike">
              <a:solidFill>
                <a:srgbClr val="000000"/>
              </a:solidFill>
              <a:latin typeface="Times New Roman"/>
            </a:endParaRPr>
          </a:p>
        </p:txBody>
      </p:sp>
      <p:grpSp>
        <p:nvGrpSpPr>
          <p:cNvPr id="229" name=""/>
          <p:cNvGrpSpPr/>
          <p:nvPr/>
        </p:nvGrpSpPr>
        <p:grpSpPr>
          <a:xfrm>
            <a:off x="3745080" y="3095640"/>
            <a:ext cx="1485720" cy="1041840"/>
            <a:chOff x="3745080" y="3095640"/>
            <a:chExt cx="1485720" cy="1041840"/>
          </a:xfrm>
        </p:grpSpPr>
        <p:grpSp>
          <p:nvGrpSpPr>
            <p:cNvPr id="230" name=""/>
            <p:cNvGrpSpPr/>
            <p:nvPr/>
          </p:nvGrpSpPr>
          <p:grpSpPr>
            <a:xfrm>
              <a:off x="3745080" y="3173040"/>
              <a:ext cx="1485720" cy="783000"/>
              <a:chOff x="3745080" y="3173040"/>
              <a:chExt cx="1485720" cy="783000"/>
            </a:xfrm>
          </p:grpSpPr>
          <p:sp>
            <p:nvSpPr>
              <p:cNvPr id="231" name=""/>
              <p:cNvSpPr/>
              <p:nvPr/>
            </p:nvSpPr>
            <p:spPr>
              <a:xfrm>
                <a:off x="3745080" y="3173040"/>
                <a:ext cx="1485720" cy="7830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745080" y="336852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745080" y="356436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745080" y="376416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98484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22424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47300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242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5216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4293360" y="3095640"/>
              <a:ext cx="28260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09560" y="3097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242" name=""/>
            <p:cNvSpPr/>
            <p:nvPr/>
          </p:nvSpPr>
          <p:spPr>
            <a:xfrm>
              <a:off x="4700160" y="3517200"/>
              <a:ext cx="28296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716360" y="3519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244" name=""/>
            <p:cNvSpPr/>
            <p:nvPr/>
          </p:nvSpPr>
          <p:spPr>
            <a:xfrm>
              <a:off x="3895200" y="3548160"/>
              <a:ext cx="282960" cy="261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03480" y="3530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246" name=""/>
            <p:cNvSpPr/>
            <p:nvPr/>
          </p:nvSpPr>
          <p:spPr>
            <a:xfrm rot="21455400">
              <a:off x="4409280" y="3189240"/>
              <a:ext cx="4233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4235400" y="3666600"/>
              <a:ext cx="40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6033200">
              <a:off x="4101840" y="3143880"/>
              <a:ext cx="390960" cy="565560"/>
            </a:xfrm>
            <a:custGeom>
              <a:avLst/>
              <a:gdLst/>
              <a:ahLst/>
              <a:rect l="l" t="t" r="r" b="b"/>
              <a:pathLst>
                <a:path stroke="0" w="21600" h="21600">
                  <a:moveTo>
                    <a:pt x="10800" y="0"/>
                  </a:moveTo>
                  <a:arcTo wR="10800" hR="10800" stAng="-5400000" swAng="4591099"/>
                  <a:lnTo>
                    <a:pt x="10800" y="10800"/>
                  </a:lnTo>
                  <a:close/>
                </a:path>
                <a:path fill="none" w="21600" h="21600">
                  <a:moveTo>
                    <a:pt x="10800" y="0"/>
                  </a:moveTo>
                  <a:arcTo wR="10800" hR="10800" stAng="-5400000" swAng="4591099"/>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4258080" y="3755880"/>
              <a:ext cx="424080" cy="381600"/>
              <a:chOff x="4258080" y="3755880"/>
              <a:chExt cx="424080" cy="381600"/>
            </a:xfrm>
          </p:grpSpPr>
          <p:sp>
            <p:nvSpPr>
              <p:cNvPr id="250" name=""/>
              <p:cNvSpPr/>
              <p:nvPr/>
            </p:nvSpPr>
            <p:spPr>
              <a:xfrm>
                <a:off x="4319640" y="3821400"/>
                <a:ext cx="282600" cy="261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600">
                <a:off x="4257720" y="3755880"/>
                <a:ext cx="424080" cy="38160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5286240" y="3095640"/>
            <a:ext cx="1486080" cy="1041840"/>
            <a:chOff x="5286240" y="3095640"/>
            <a:chExt cx="1486080" cy="1041840"/>
          </a:xfrm>
        </p:grpSpPr>
        <p:grpSp>
          <p:nvGrpSpPr>
            <p:cNvPr id="253" name=""/>
            <p:cNvGrpSpPr/>
            <p:nvPr/>
          </p:nvGrpSpPr>
          <p:grpSpPr>
            <a:xfrm>
              <a:off x="5286240" y="3173040"/>
              <a:ext cx="1486080" cy="783000"/>
              <a:chOff x="5286240" y="3173040"/>
              <a:chExt cx="1486080" cy="783000"/>
            </a:xfrm>
          </p:grpSpPr>
          <p:sp>
            <p:nvSpPr>
              <p:cNvPr id="254" name=""/>
              <p:cNvSpPr/>
              <p:nvPr/>
            </p:nvSpPr>
            <p:spPr>
              <a:xfrm>
                <a:off x="5286240" y="3173040"/>
                <a:ext cx="1486080" cy="7830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86240" y="3368520"/>
                <a:ext cx="14860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86240" y="3564360"/>
                <a:ext cx="14860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86240" y="3764160"/>
                <a:ext cx="14860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2600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6540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01416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26580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4936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5834520" y="3095640"/>
              <a:ext cx="28260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51080" y="3097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265" name=""/>
            <p:cNvSpPr/>
            <p:nvPr/>
          </p:nvSpPr>
          <p:spPr>
            <a:xfrm>
              <a:off x="6241680" y="3517200"/>
              <a:ext cx="28296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257880" y="3519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267" name=""/>
            <p:cNvSpPr/>
            <p:nvPr/>
          </p:nvSpPr>
          <p:spPr>
            <a:xfrm>
              <a:off x="5436360" y="3548160"/>
              <a:ext cx="282960" cy="261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4640" y="3530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269" name=""/>
            <p:cNvSpPr/>
            <p:nvPr/>
          </p:nvSpPr>
          <p:spPr>
            <a:xfrm rot="21455400">
              <a:off x="5950800" y="3189240"/>
              <a:ext cx="4233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777280" y="3666600"/>
              <a:ext cx="402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16033200">
              <a:off x="5643000" y="3143880"/>
              <a:ext cx="390960" cy="565560"/>
            </a:xfrm>
            <a:custGeom>
              <a:avLst/>
              <a:gdLst/>
              <a:ahLst/>
              <a:rect l="l" t="t" r="r" b="b"/>
              <a:pathLst>
                <a:path stroke="0" w="21600" h="21600">
                  <a:moveTo>
                    <a:pt x="10800" y="0"/>
                  </a:moveTo>
                  <a:arcTo wR="10800" hR="10800" stAng="-5400000" swAng="4591099"/>
                  <a:lnTo>
                    <a:pt x="10800" y="10800"/>
                  </a:lnTo>
                  <a:close/>
                </a:path>
                <a:path fill="none" w="21600" h="21600">
                  <a:moveTo>
                    <a:pt x="10800" y="0"/>
                  </a:moveTo>
                  <a:arcTo wR="10800" hR="10800" stAng="-5400000" swAng="4591099"/>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799240" y="3755880"/>
              <a:ext cx="424080" cy="381600"/>
              <a:chOff x="5799240" y="3755880"/>
              <a:chExt cx="424080" cy="381600"/>
            </a:xfrm>
          </p:grpSpPr>
          <p:sp>
            <p:nvSpPr>
              <p:cNvPr id="273" name=""/>
              <p:cNvSpPr/>
              <p:nvPr/>
            </p:nvSpPr>
            <p:spPr>
              <a:xfrm>
                <a:off x="5860800" y="3821400"/>
                <a:ext cx="282600" cy="261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00">
                <a:off x="5798880" y="3755880"/>
                <a:ext cx="424080" cy="38160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6808680" y="3095640"/>
            <a:ext cx="1484280" cy="1041840"/>
            <a:chOff x="6808680" y="3095640"/>
            <a:chExt cx="1484280" cy="1041840"/>
          </a:xfrm>
        </p:grpSpPr>
        <p:grpSp>
          <p:nvGrpSpPr>
            <p:cNvPr id="276" name=""/>
            <p:cNvGrpSpPr/>
            <p:nvPr/>
          </p:nvGrpSpPr>
          <p:grpSpPr>
            <a:xfrm>
              <a:off x="6808680" y="3173040"/>
              <a:ext cx="1484280" cy="783000"/>
              <a:chOff x="6808680" y="3173040"/>
              <a:chExt cx="1484280" cy="783000"/>
            </a:xfrm>
          </p:grpSpPr>
          <p:sp>
            <p:nvSpPr>
              <p:cNvPr id="277" name=""/>
              <p:cNvSpPr/>
              <p:nvPr/>
            </p:nvSpPr>
            <p:spPr>
              <a:xfrm>
                <a:off x="6808680" y="3173040"/>
                <a:ext cx="1484280" cy="7830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08680" y="3368520"/>
                <a:ext cx="148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08680" y="3564360"/>
                <a:ext cx="148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808680" y="3764160"/>
                <a:ext cx="148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0480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2874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358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78716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0146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7356600" y="3095640"/>
              <a:ext cx="28224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72440" y="3097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288" name=""/>
            <p:cNvSpPr/>
            <p:nvPr/>
          </p:nvSpPr>
          <p:spPr>
            <a:xfrm>
              <a:off x="7763040" y="3517200"/>
              <a:ext cx="28260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779240" y="3519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290" name=""/>
            <p:cNvSpPr/>
            <p:nvPr/>
          </p:nvSpPr>
          <p:spPr>
            <a:xfrm>
              <a:off x="6958800" y="3548160"/>
              <a:ext cx="282600" cy="261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966720" y="3530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292" name=""/>
            <p:cNvSpPr/>
            <p:nvPr/>
          </p:nvSpPr>
          <p:spPr>
            <a:xfrm rot="21455400">
              <a:off x="7472160" y="3189240"/>
              <a:ext cx="4233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7299000" y="3666600"/>
              <a:ext cx="401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16033200">
              <a:off x="7164720" y="3144240"/>
              <a:ext cx="390960" cy="564840"/>
            </a:xfrm>
            <a:custGeom>
              <a:avLst/>
              <a:gdLst/>
              <a:ahLst/>
              <a:rect l="l" t="t" r="r" b="b"/>
              <a:pathLst>
                <a:path stroke="0" w="21600" h="21600">
                  <a:moveTo>
                    <a:pt x="10800" y="0"/>
                  </a:moveTo>
                  <a:arcTo wR="10800" hR="10800" stAng="-5400000" swAng="4591099"/>
                  <a:lnTo>
                    <a:pt x="10800" y="10800"/>
                  </a:lnTo>
                  <a:close/>
                </a:path>
                <a:path fill="none" w="21600" h="21600">
                  <a:moveTo>
                    <a:pt x="10800" y="0"/>
                  </a:moveTo>
                  <a:arcTo wR="10800" hR="10800" stAng="-5400000" swAng="4591099"/>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7320960" y="3755880"/>
              <a:ext cx="423720" cy="381600"/>
              <a:chOff x="7320960" y="3755880"/>
              <a:chExt cx="423720" cy="381600"/>
            </a:xfrm>
          </p:grpSpPr>
          <p:sp>
            <p:nvSpPr>
              <p:cNvPr id="296" name=""/>
              <p:cNvSpPr/>
              <p:nvPr/>
            </p:nvSpPr>
            <p:spPr>
              <a:xfrm>
                <a:off x="7382520" y="3821400"/>
                <a:ext cx="282240" cy="261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600">
                <a:off x="7320600" y="3755880"/>
                <a:ext cx="423720" cy="38160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 name=""/>
          <p:cNvGrpSpPr/>
          <p:nvPr/>
        </p:nvGrpSpPr>
        <p:grpSpPr>
          <a:xfrm>
            <a:off x="8359920" y="3095640"/>
            <a:ext cx="1485720" cy="1041840"/>
            <a:chOff x="8359920" y="3095640"/>
            <a:chExt cx="1485720" cy="1041840"/>
          </a:xfrm>
        </p:grpSpPr>
        <p:grpSp>
          <p:nvGrpSpPr>
            <p:cNvPr id="299" name=""/>
            <p:cNvGrpSpPr/>
            <p:nvPr/>
          </p:nvGrpSpPr>
          <p:grpSpPr>
            <a:xfrm>
              <a:off x="8359920" y="3173040"/>
              <a:ext cx="1485720" cy="783000"/>
              <a:chOff x="8359920" y="3173040"/>
              <a:chExt cx="1485720" cy="783000"/>
            </a:xfrm>
          </p:grpSpPr>
          <p:sp>
            <p:nvSpPr>
              <p:cNvPr id="300" name=""/>
              <p:cNvSpPr/>
              <p:nvPr/>
            </p:nvSpPr>
            <p:spPr>
              <a:xfrm>
                <a:off x="8359920" y="3173040"/>
                <a:ext cx="1485720" cy="78300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359920" y="336852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359920" y="356436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359920" y="3764160"/>
                <a:ext cx="1485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5996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83908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08784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933912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9567000" y="3173040"/>
                <a:ext cx="0" cy="783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 name=""/>
            <p:cNvSpPr/>
            <p:nvPr/>
          </p:nvSpPr>
          <p:spPr>
            <a:xfrm>
              <a:off x="8908200" y="3095640"/>
              <a:ext cx="28260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24400" y="3097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311" name=""/>
            <p:cNvSpPr/>
            <p:nvPr/>
          </p:nvSpPr>
          <p:spPr>
            <a:xfrm>
              <a:off x="9315000" y="3517200"/>
              <a:ext cx="282960" cy="260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9331200" y="3519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313" name=""/>
            <p:cNvSpPr/>
            <p:nvPr/>
          </p:nvSpPr>
          <p:spPr>
            <a:xfrm>
              <a:off x="8510040" y="3548160"/>
              <a:ext cx="282960" cy="261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518320" y="3530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315" name=""/>
            <p:cNvSpPr/>
            <p:nvPr/>
          </p:nvSpPr>
          <p:spPr>
            <a:xfrm rot="21455400">
              <a:off x="9024120" y="3189240"/>
              <a:ext cx="4233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850240" y="3666600"/>
              <a:ext cx="40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rot="16033200">
              <a:off x="8716680" y="3143880"/>
              <a:ext cx="390960" cy="565560"/>
            </a:xfrm>
            <a:custGeom>
              <a:avLst/>
              <a:gdLst/>
              <a:ahLst/>
              <a:rect l="l" t="t" r="r" b="b"/>
              <a:pathLst>
                <a:path stroke="0" w="21600" h="21600">
                  <a:moveTo>
                    <a:pt x="10800" y="0"/>
                  </a:moveTo>
                  <a:arcTo wR="10800" hR="10800" stAng="-5400000" swAng="4591099"/>
                  <a:lnTo>
                    <a:pt x="10800" y="10800"/>
                  </a:lnTo>
                  <a:close/>
                </a:path>
                <a:path fill="none" w="21600" h="21600">
                  <a:moveTo>
                    <a:pt x="10800" y="0"/>
                  </a:moveTo>
                  <a:arcTo wR="10800" hR="10800" stAng="-5400000" swAng="4591099"/>
                </a:path>
              </a:pathLst>
            </a:custGeom>
            <a:noFill/>
            <a:ln w="9360">
              <a:solidFill>
                <a:srgbClr val="000000"/>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872920" y="3755880"/>
              <a:ext cx="424080" cy="381600"/>
              <a:chOff x="8872920" y="3755880"/>
              <a:chExt cx="424080" cy="381600"/>
            </a:xfrm>
          </p:grpSpPr>
          <p:sp>
            <p:nvSpPr>
              <p:cNvPr id="319" name=""/>
              <p:cNvSpPr/>
              <p:nvPr/>
            </p:nvSpPr>
            <p:spPr>
              <a:xfrm>
                <a:off x="8934480" y="3821400"/>
                <a:ext cx="282600" cy="261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600">
                <a:off x="8872560" y="3755880"/>
                <a:ext cx="424080" cy="38160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
          <p:cNvSpPr/>
          <p:nvPr/>
        </p:nvSpPr>
        <p:spPr>
          <a:xfrm>
            <a:off x="4359240" y="4186080"/>
            <a:ext cx="12412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abic)"/>
              </a:rPr>
              <a:t>Process Flow</a:t>
            </a:r>
            <a:endParaRPr b="0" lang="en-US" sz="1300" spc="-1" strike="noStrike">
              <a:solidFill>
                <a:srgbClr val="000000"/>
              </a:solidFill>
              <a:latin typeface="Times New Roman"/>
            </a:endParaRPr>
          </a:p>
        </p:txBody>
      </p:sp>
      <p:sp>
        <p:nvSpPr>
          <p:cNvPr id="322" name=""/>
          <p:cNvSpPr/>
          <p:nvPr/>
        </p:nvSpPr>
        <p:spPr>
          <a:xfrm>
            <a:off x="5710320" y="4319640"/>
            <a:ext cx="1979640" cy="0"/>
          </a:xfrm>
          <a:prstGeom prst="line">
            <a:avLst/>
          </a:prstGeom>
          <a:ln w="572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270320" y="2771640"/>
            <a:ext cx="41292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4322880" y="276696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1</a:t>
            </a:r>
            <a:endParaRPr b="0" lang="en-US" sz="1400" spc="-1" strike="noStrike">
              <a:solidFill>
                <a:srgbClr val="000000"/>
              </a:solidFill>
              <a:latin typeface="Times New Roman"/>
            </a:endParaRPr>
          </a:p>
        </p:txBody>
      </p:sp>
      <p:sp>
        <p:nvSpPr>
          <p:cNvPr id="325" name=""/>
          <p:cNvSpPr/>
          <p:nvPr/>
        </p:nvSpPr>
        <p:spPr>
          <a:xfrm>
            <a:off x="5756400" y="2762280"/>
            <a:ext cx="41256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808600" y="2757600"/>
            <a:ext cx="66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2</a:t>
            </a:r>
            <a:endParaRPr b="0" lang="en-US" sz="1400" spc="-1" strike="noStrike">
              <a:solidFill>
                <a:srgbClr val="000000"/>
              </a:solidFill>
              <a:latin typeface="Times New Roman"/>
            </a:endParaRPr>
          </a:p>
        </p:txBody>
      </p:sp>
      <p:sp>
        <p:nvSpPr>
          <p:cNvPr id="327" name=""/>
          <p:cNvSpPr/>
          <p:nvPr/>
        </p:nvSpPr>
        <p:spPr>
          <a:xfrm>
            <a:off x="7308720" y="2762280"/>
            <a:ext cx="41112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7361280" y="2757600"/>
            <a:ext cx="65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3</a:t>
            </a:r>
            <a:endParaRPr b="0" lang="en-US" sz="1400" spc="-1" strike="noStrike">
              <a:solidFill>
                <a:srgbClr val="000000"/>
              </a:solidFill>
              <a:latin typeface="Times New Roman"/>
            </a:endParaRPr>
          </a:p>
        </p:txBody>
      </p:sp>
      <p:sp>
        <p:nvSpPr>
          <p:cNvPr id="329" name=""/>
          <p:cNvSpPr/>
          <p:nvPr/>
        </p:nvSpPr>
        <p:spPr>
          <a:xfrm>
            <a:off x="8861400" y="2762280"/>
            <a:ext cx="41292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8912160" y="2757600"/>
            <a:ext cx="66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4</a:t>
            </a:r>
            <a:endParaRPr b="0" lang="en-US" sz="1400" spc="-1" strike="noStrike">
              <a:solidFill>
                <a:srgbClr val="000000"/>
              </a:solidFill>
              <a:latin typeface="Times New Roman"/>
            </a:endParaRPr>
          </a:p>
        </p:txBody>
      </p:sp>
      <p:grpSp>
        <p:nvGrpSpPr>
          <p:cNvPr id="331" name=""/>
          <p:cNvGrpSpPr/>
          <p:nvPr/>
        </p:nvGrpSpPr>
        <p:grpSpPr>
          <a:xfrm>
            <a:off x="4328280" y="6267600"/>
            <a:ext cx="3299400" cy="291960"/>
            <a:chOff x="4328280" y="6267600"/>
            <a:chExt cx="3299400" cy="291960"/>
          </a:xfrm>
        </p:grpSpPr>
        <p:sp>
          <p:nvSpPr>
            <p:cNvPr id="332" name=""/>
            <p:cNvSpPr/>
            <p:nvPr/>
          </p:nvSpPr>
          <p:spPr>
            <a:xfrm>
              <a:off x="4328280" y="6267600"/>
              <a:ext cx="12412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abic)"/>
                </a:rPr>
                <a:t>Process Flow</a:t>
              </a:r>
              <a:endParaRPr b="0" lang="en-US" sz="1300" spc="-1" strike="noStrike">
                <a:solidFill>
                  <a:srgbClr val="000000"/>
                </a:solidFill>
                <a:latin typeface="Times New Roman"/>
              </a:endParaRPr>
            </a:p>
          </p:txBody>
        </p:sp>
        <p:sp>
          <p:nvSpPr>
            <p:cNvPr id="333" name=""/>
            <p:cNvSpPr/>
            <p:nvPr/>
          </p:nvSpPr>
          <p:spPr>
            <a:xfrm>
              <a:off x="5647680" y="6405480"/>
              <a:ext cx="1980000" cy="0"/>
            </a:xfrm>
            <a:prstGeom prst="line">
              <a:avLst/>
            </a:prstGeom>
            <a:ln w="572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765600" y="5565600"/>
            <a:ext cx="798480" cy="420840"/>
            <a:chOff x="3765600" y="5565600"/>
            <a:chExt cx="798480" cy="420840"/>
          </a:xfrm>
        </p:grpSpPr>
        <p:sp>
          <p:nvSpPr>
            <p:cNvPr id="335" name=""/>
            <p:cNvSpPr/>
            <p:nvPr/>
          </p:nvSpPr>
          <p:spPr>
            <a:xfrm>
              <a:off x="3765600" y="5565600"/>
              <a:ext cx="798480" cy="42084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765600" y="5670720"/>
              <a:ext cx="7984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765600" y="5775840"/>
              <a:ext cx="7984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765600" y="5883480"/>
              <a:ext cx="7984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94480" y="55656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023000" y="55656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156920" y="55656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291920" y="55656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14320" y="55656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4473720" y="5172120"/>
            <a:ext cx="28260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474080" y="5160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346" name=""/>
          <p:cNvSpPr/>
          <p:nvPr/>
        </p:nvSpPr>
        <p:spPr>
          <a:xfrm>
            <a:off x="6192720" y="5594400"/>
            <a:ext cx="28440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79400" y="5567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4</a:t>
            </a:r>
            <a:endParaRPr b="0" lang="en-US" sz="1400" spc="-1" strike="noStrike">
              <a:solidFill>
                <a:srgbClr val="000000"/>
              </a:solidFill>
              <a:latin typeface="Times New Roman"/>
            </a:endParaRPr>
          </a:p>
        </p:txBody>
      </p:sp>
      <p:sp>
        <p:nvSpPr>
          <p:cNvPr id="348" name=""/>
          <p:cNvSpPr/>
          <p:nvPr/>
        </p:nvSpPr>
        <p:spPr>
          <a:xfrm>
            <a:off x="4075200" y="5624640"/>
            <a:ext cx="282600" cy="261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83120" y="5607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350" name=""/>
          <p:cNvSpPr/>
          <p:nvPr/>
        </p:nvSpPr>
        <p:spPr>
          <a:xfrm flipH="1">
            <a:off x="4414680" y="5743440"/>
            <a:ext cx="1687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 name=""/>
          <p:cNvGrpSpPr/>
          <p:nvPr/>
        </p:nvGrpSpPr>
        <p:grpSpPr>
          <a:xfrm>
            <a:off x="5181480" y="5855760"/>
            <a:ext cx="425160" cy="382320"/>
            <a:chOff x="5181480" y="5855760"/>
            <a:chExt cx="425160" cy="382320"/>
          </a:xfrm>
        </p:grpSpPr>
        <p:sp>
          <p:nvSpPr>
            <p:cNvPr id="352" name=""/>
            <p:cNvSpPr/>
            <p:nvPr/>
          </p:nvSpPr>
          <p:spPr>
            <a:xfrm>
              <a:off x="5243400" y="5921280"/>
              <a:ext cx="283320" cy="261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600">
              <a:off x="5181120" y="5855760"/>
              <a:ext cx="425160" cy="38232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5875200" y="5203800"/>
            <a:ext cx="28440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60080" y="5176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356" name=""/>
          <p:cNvSpPr/>
          <p:nvPr/>
        </p:nvSpPr>
        <p:spPr>
          <a:xfrm>
            <a:off x="4807080" y="5362560"/>
            <a:ext cx="10476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4203720" y="5397480"/>
            <a:ext cx="247680" cy="13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102360" y="5452920"/>
            <a:ext cx="165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419720" y="4838760"/>
            <a:ext cx="41256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471920" y="4834080"/>
            <a:ext cx="66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1</a:t>
            </a:r>
            <a:endParaRPr b="0" lang="en-US" sz="1400" spc="-1" strike="noStrike">
              <a:solidFill>
                <a:srgbClr val="000000"/>
              </a:solidFill>
              <a:latin typeface="Times New Roman"/>
            </a:endParaRPr>
          </a:p>
        </p:txBody>
      </p:sp>
      <p:sp>
        <p:nvSpPr>
          <p:cNvPr id="361" name=""/>
          <p:cNvSpPr/>
          <p:nvPr/>
        </p:nvSpPr>
        <p:spPr>
          <a:xfrm>
            <a:off x="5829480" y="4867200"/>
            <a:ext cx="41256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880240" y="486252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2</a:t>
            </a:r>
            <a:endParaRPr b="0" lang="en-US" sz="1400" spc="-1" strike="noStrike">
              <a:solidFill>
                <a:srgbClr val="000000"/>
              </a:solidFill>
              <a:latin typeface="Times New Roman"/>
            </a:endParaRPr>
          </a:p>
        </p:txBody>
      </p:sp>
      <p:grpSp>
        <p:nvGrpSpPr>
          <p:cNvPr id="363" name=""/>
          <p:cNvGrpSpPr/>
          <p:nvPr/>
        </p:nvGrpSpPr>
        <p:grpSpPr>
          <a:xfrm>
            <a:off x="8866080" y="5553000"/>
            <a:ext cx="800280" cy="420840"/>
            <a:chOff x="8866080" y="5553000"/>
            <a:chExt cx="800280" cy="420840"/>
          </a:xfrm>
        </p:grpSpPr>
        <p:sp>
          <p:nvSpPr>
            <p:cNvPr id="364" name=""/>
            <p:cNvSpPr/>
            <p:nvPr/>
          </p:nvSpPr>
          <p:spPr>
            <a:xfrm>
              <a:off x="8866080" y="5553000"/>
              <a:ext cx="800280" cy="42084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866080" y="5658120"/>
              <a:ext cx="800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866080" y="5763240"/>
              <a:ext cx="800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866080" y="5870880"/>
              <a:ext cx="800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994960" y="55530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9124200" y="55530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9258120" y="55530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9393480" y="55530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9516240" y="5553000"/>
              <a:ext cx="0" cy="420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7562880" y="5183280"/>
            <a:ext cx="28080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563600" y="5172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2</a:t>
            </a:r>
            <a:endParaRPr b="0" lang="en-US" sz="1400" spc="-1" strike="noStrike">
              <a:solidFill>
                <a:srgbClr val="000000"/>
              </a:solidFill>
              <a:latin typeface="Times New Roman"/>
            </a:endParaRPr>
          </a:p>
        </p:txBody>
      </p:sp>
      <p:sp>
        <p:nvSpPr>
          <p:cNvPr id="375" name=""/>
          <p:cNvSpPr/>
          <p:nvPr/>
        </p:nvSpPr>
        <p:spPr>
          <a:xfrm>
            <a:off x="9282240" y="5605560"/>
            <a:ext cx="28404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268560" y="5578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4</a:t>
            </a:r>
            <a:endParaRPr b="0" lang="en-US" sz="1400" spc="-1" strike="noStrike">
              <a:solidFill>
                <a:srgbClr val="000000"/>
              </a:solidFill>
              <a:latin typeface="Times New Roman"/>
            </a:endParaRPr>
          </a:p>
        </p:txBody>
      </p:sp>
      <p:sp>
        <p:nvSpPr>
          <p:cNvPr id="377" name=""/>
          <p:cNvSpPr/>
          <p:nvPr/>
        </p:nvSpPr>
        <p:spPr>
          <a:xfrm>
            <a:off x="7164360" y="5635800"/>
            <a:ext cx="282600" cy="261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1920" y="5618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ea typeface="Times New Roman (Arabic)"/>
              </a:rPr>
              <a:t>1</a:t>
            </a:r>
            <a:endParaRPr b="0" lang="en-US" sz="1600" spc="-1" strike="noStrike">
              <a:solidFill>
                <a:srgbClr val="000000"/>
              </a:solidFill>
              <a:latin typeface="Times New Roman"/>
            </a:endParaRPr>
          </a:p>
        </p:txBody>
      </p:sp>
      <p:sp>
        <p:nvSpPr>
          <p:cNvPr id="379" name=""/>
          <p:cNvSpPr/>
          <p:nvPr/>
        </p:nvSpPr>
        <p:spPr>
          <a:xfrm flipH="1">
            <a:off x="7503840" y="5754600"/>
            <a:ext cx="16873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8271000" y="5838480"/>
            <a:ext cx="424800" cy="382320"/>
            <a:chOff x="8271000" y="5838480"/>
            <a:chExt cx="424800" cy="382320"/>
          </a:xfrm>
        </p:grpSpPr>
        <p:sp>
          <p:nvSpPr>
            <p:cNvPr id="381" name=""/>
            <p:cNvSpPr/>
            <p:nvPr/>
          </p:nvSpPr>
          <p:spPr>
            <a:xfrm>
              <a:off x="8332920" y="5904000"/>
              <a:ext cx="282960" cy="261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600">
              <a:off x="8270640" y="5838480"/>
              <a:ext cx="424800" cy="382320"/>
            </a:xfrm>
            <a:custGeom>
              <a:avLst/>
              <a:gdLst/>
              <a:ahLst/>
              <a:rect l="l" t="t" r="r" b="b"/>
              <a:pathLst>
                <a:path stroke="0" w="21600" h="21600">
                  <a:moveTo>
                    <a:pt x="21509" y="9401"/>
                  </a:moveTo>
                  <a:arcTo wR="10800" hR="10800" stAng="-446461" swAng="12609325"/>
                  <a:lnTo>
                    <a:pt x="10800" y="10800"/>
                  </a:lnTo>
                  <a:close/>
                </a:path>
                <a:path fill="none" w="21600" h="21600">
                  <a:moveTo>
                    <a:pt x="21509" y="9401"/>
                  </a:moveTo>
                  <a:arcTo wR="10800" hR="10800" stAng="-446461" swAng="126093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8964720" y="5214960"/>
            <a:ext cx="282600" cy="260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949240" y="5187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ea typeface="Times New Roman (Arabic)"/>
              </a:rPr>
              <a:t>3</a:t>
            </a:r>
            <a:endParaRPr b="0" lang="en-US" sz="1400" spc="-1" strike="noStrike">
              <a:solidFill>
                <a:srgbClr val="000000"/>
              </a:solidFill>
              <a:latin typeface="Times New Roman"/>
            </a:endParaRPr>
          </a:p>
        </p:txBody>
      </p:sp>
      <p:sp>
        <p:nvSpPr>
          <p:cNvPr id="385" name=""/>
          <p:cNvSpPr/>
          <p:nvPr/>
        </p:nvSpPr>
        <p:spPr>
          <a:xfrm>
            <a:off x="7896240" y="5373720"/>
            <a:ext cx="10476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7350120" y="5408280"/>
            <a:ext cx="19044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191520" y="5464080"/>
            <a:ext cx="165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24720" y="4838760"/>
            <a:ext cx="41292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7575480" y="4834080"/>
            <a:ext cx="66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3</a:t>
            </a:r>
            <a:endParaRPr b="0" lang="en-US" sz="1400" spc="-1" strike="noStrike">
              <a:solidFill>
                <a:srgbClr val="000000"/>
              </a:solidFill>
              <a:latin typeface="Times New Roman"/>
            </a:endParaRPr>
          </a:p>
        </p:txBody>
      </p:sp>
      <p:sp>
        <p:nvSpPr>
          <p:cNvPr id="390" name=""/>
          <p:cNvSpPr/>
          <p:nvPr/>
        </p:nvSpPr>
        <p:spPr>
          <a:xfrm>
            <a:off x="8916840" y="4867200"/>
            <a:ext cx="412920" cy="304920"/>
          </a:xfrm>
          <a:prstGeom prst="rect">
            <a:avLst/>
          </a:prstGeom>
          <a:solidFill>
            <a:srgbClr val="99ff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8969400" y="486252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4</a:t>
            </a:r>
            <a:endParaRPr b="0" lang="en-US" sz="1400" spc="-1" strike="noStrike">
              <a:solidFill>
                <a:srgbClr val="000000"/>
              </a:solidFill>
              <a:latin typeface="Times New Roman"/>
            </a:endParaRPr>
          </a:p>
        </p:txBody>
      </p:sp>
      <p:sp>
        <p:nvSpPr>
          <p:cNvPr id="392" name=""/>
          <p:cNvSpPr/>
          <p:nvPr/>
        </p:nvSpPr>
        <p:spPr>
          <a:xfrm>
            <a:off x="3529080" y="1673280"/>
            <a:ext cx="6189480" cy="874800"/>
          </a:xfrm>
          <a:prstGeom prst="rect">
            <a:avLst/>
          </a:prstGeom>
          <a:solidFill>
            <a:srgbClr val="008080"/>
          </a:solidFill>
          <a:ln w="38160">
            <a:solidFill>
              <a:srgbClr val="3333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ea typeface="Times New Roman (Arabic)"/>
              </a:rPr>
              <a:t>Cost change depending on the production flow, even with the same design, same equipment, and the same material</a:t>
            </a:r>
            <a:endParaRPr b="0" lang="en-US" sz="1900" spc="-1" strike="noStrike">
              <a:solidFill>
                <a:srgbClr val="000000"/>
              </a:solidFill>
              <a:latin typeface="Times New Roman"/>
            </a:endParaRPr>
          </a:p>
        </p:txBody>
      </p:sp>
      <p:sp>
        <p:nvSpPr>
          <p:cNvPr id="393" name=""/>
          <p:cNvSpPr/>
          <p:nvPr/>
        </p:nvSpPr>
        <p:spPr>
          <a:xfrm>
            <a:off x="260280" y="2124000"/>
            <a:ext cx="2887560" cy="457200"/>
          </a:xfrm>
          <a:prstGeom prst="roundRect">
            <a:avLst>
              <a:gd name="adj" fmla="val 50000"/>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33"/>
                </a:solidFill>
                <a:latin typeface="Gill Sans MT"/>
                <a:ea typeface="Times New Roman (Arabic)"/>
              </a:rPr>
              <a:t>Component of COS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57BDCD9D-87BC-49A4-8E77-FC6DC542D9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4786200" y="4541760"/>
            <a:ext cx="3630600" cy="1173240"/>
          </a:xfrm>
          <a:prstGeom prst="rect">
            <a:avLst/>
          </a:prstGeom>
          <a:ln w="0">
            <a:noFill/>
          </a:ln>
        </p:spPr>
      </p:pic>
      <p:pic>
        <p:nvPicPr>
          <p:cNvPr id="395" name="" descr=""/>
          <p:cNvPicPr/>
          <p:nvPr/>
        </p:nvPicPr>
        <p:blipFill>
          <a:blip r:embed="rId2"/>
          <a:stretch/>
        </p:blipFill>
        <p:spPr>
          <a:xfrm>
            <a:off x="6602400" y="2070000"/>
            <a:ext cx="1628640" cy="1133640"/>
          </a:xfrm>
          <a:prstGeom prst="rect">
            <a:avLst/>
          </a:prstGeom>
          <a:ln w="0">
            <a:noFill/>
          </a:ln>
        </p:spPr>
      </p:pic>
      <p:pic>
        <p:nvPicPr>
          <p:cNvPr id="396" name="" descr=""/>
          <p:cNvPicPr/>
          <p:nvPr/>
        </p:nvPicPr>
        <p:blipFill>
          <a:blip r:embed="rId3"/>
          <a:stretch/>
        </p:blipFill>
        <p:spPr>
          <a:xfrm>
            <a:off x="1981080" y="2228760"/>
            <a:ext cx="1289160" cy="1047960"/>
          </a:xfrm>
          <a:prstGeom prst="rect">
            <a:avLst/>
          </a:prstGeom>
          <a:ln w="0">
            <a:noFill/>
          </a:ln>
        </p:spPr>
      </p:pic>
      <p:grpSp>
        <p:nvGrpSpPr>
          <p:cNvPr id="397" name=""/>
          <p:cNvGrpSpPr/>
          <p:nvPr/>
        </p:nvGrpSpPr>
        <p:grpSpPr>
          <a:xfrm>
            <a:off x="3424320" y="1600200"/>
            <a:ext cx="825480" cy="660240"/>
            <a:chOff x="3424320" y="1600200"/>
            <a:chExt cx="825480" cy="660240"/>
          </a:xfrm>
        </p:grpSpPr>
        <p:sp>
          <p:nvSpPr>
            <p:cNvPr id="398" name=""/>
            <p:cNvSpPr/>
            <p:nvPr/>
          </p:nvSpPr>
          <p:spPr>
            <a:xfrm>
              <a:off x="3424320" y="160020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424320" y="180324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4290840" y="1752480"/>
            <a:ext cx="1568520" cy="520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5900760" y="1600200"/>
            <a:ext cx="825480" cy="660240"/>
            <a:chOff x="5900760" y="1600200"/>
            <a:chExt cx="825480" cy="660240"/>
          </a:xfrm>
        </p:grpSpPr>
        <p:sp>
          <p:nvSpPr>
            <p:cNvPr id="402" name=""/>
            <p:cNvSpPr/>
            <p:nvPr/>
          </p:nvSpPr>
          <p:spPr>
            <a:xfrm>
              <a:off x="5900760" y="160020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00760" y="180324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a:off x="5921280" y="18288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Material</a:t>
            </a:r>
            <a:endParaRPr b="0" lang="en-US" sz="1400" spc="-1" strike="noStrike">
              <a:solidFill>
                <a:srgbClr val="000000"/>
              </a:solidFill>
              <a:latin typeface="Times New Roman"/>
            </a:endParaRPr>
          </a:p>
        </p:txBody>
      </p:sp>
      <p:sp>
        <p:nvSpPr>
          <p:cNvPr id="405" name=""/>
          <p:cNvSpPr/>
          <p:nvPr/>
        </p:nvSpPr>
        <p:spPr>
          <a:xfrm>
            <a:off x="4352760" y="1828800"/>
            <a:ext cx="156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ill Sans MT"/>
                <a:ea typeface="Times New Roman (Arabic)"/>
              </a:rPr>
              <a:t>Operator A</a:t>
            </a:r>
            <a:endParaRPr b="0" lang="en-US" sz="1600" spc="-1" strike="noStrike">
              <a:solidFill>
                <a:srgbClr val="000000"/>
              </a:solidFill>
              <a:latin typeface="Times New Roman"/>
            </a:endParaRPr>
          </a:p>
        </p:txBody>
      </p:sp>
      <p:grpSp>
        <p:nvGrpSpPr>
          <p:cNvPr id="406" name=""/>
          <p:cNvGrpSpPr/>
          <p:nvPr/>
        </p:nvGrpSpPr>
        <p:grpSpPr>
          <a:xfrm>
            <a:off x="969840" y="3048120"/>
            <a:ext cx="825480" cy="660240"/>
            <a:chOff x="969840" y="3048120"/>
            <a:chExt cx="825480" cy="660240"/>
          </a:xfrm>
        </p:grpSpPr>
        <p:sp>
          <p:nvSpPr>
            <p:cNvPr id="407" name=""/>
            <p:cNvSpPr/>
            <p:nvPr/>
          </p:nvSpPr>
          <p:spPr>
            <a:xfrm>
              <a:off x="969840" y="304812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969840" y="325116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1836720" y="3200400"/>
            <a:ext cx="1566720" cy="520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3444840" y="3048120"/>
            <a:ext cx="825480" cy="660240"/>
            <a:chOff x="3444840" y="3048120"/>
            <a:chExt cx="825480" cy="660240"/>
          </a:xfrm>
        </p:grpSpPr>
        <p:sp>
          <p:nvSpPr>
            <p:cNvPr id="411" name=""/>
            <p:cNvSpPr/>
            <p:nvPr/>
          </p:nvSpPr>
          <p:spPr>
            <a:xfrm>
              <a:off x="3444840" y="304812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444840" y="325116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3451320" y="33400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Material</a:t>
            </a:r>
            <a:endParaRPr b="0" lang="en-US" sz="1400" spc="-1" strike="noStrike">
              <a:solidFill>
                <a:srgbClr val="000000"/>
              </a:solidFill>
              <a:latin typeface="Times New Roman"/>
            </a:endParaRPr>
          </a:p>
        </p:txBody>
      </p:sp>
      <p:sp>
        <p:nvSpPr>
          <p:cNvPr id="414" name=""/>
          <p:cNvSpPr/>
          <p:nvPr/>
        </p:nvSpPr>
        <p:spPr>
          <a:xfrm>
            <a:off x="1898640" y="3276720"/>
            <a:ext cx="15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ill Sans MT"/>
                <a:ea typeface="Times New Roman (Arabic)"/>
              </a:rPr>
              <a:t>Operator B</a:t>
            </a:r>
            <a:endParaRPr b="0" lang="en-US" sz="1600" spc="-1" strike="noStrike">
              <a:solidFill>
                <a:srgbClr val="000000"/>
              </a:solidFill>
              <a:latin typeface="Times New Roman"/>
            </a:endParaRPr>
          </a:p>
        </p:txBody>
      </p:sp>
      <p:grpSp>
        <p:nvGrpSpPr>
          <p:cNvPr id="415" name=""/>
          <p:cNvGrpSpPr/>
          <p:nvPr/>
        </p:nvGrpSpPr>
        <p:grpSpPr>
          <a:xfrm>
            <a:off x="5715000" y="3060720"/>
            <a:ext cx="825480" cy="660240"/>
            <a:chOff x="5715000" y="3060720"/>
            <a:chExt cx="825480" cy="660240"/>
          </a:xfrm>
        </p:grpSpPr>
        <p:sp>
          <p:nvSpPr>
            <p:cNvPr id="416" name=""/>
            <p:cNvSpPr/>
            <p:nvPr/>
          </p:nvSpPr>
          <p:spPr>
            <a:xfrm>
              <a:off x="5715000" y="306072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715000" y="326376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6581880" y="3213000"/>
            <a:ext cx="1566720" cy="520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8190000" y="3060720"/>
            <a:ext cx="825480" cy="660240"/>
            <a:chOff x="8190000" y="3060720"/>
            <a:chExt cx="825480" cy="660240"/>
          </a:xfrm>
        </p:grpSpPr>
        <p:sp>
          <p:nvSpPr>
            <p:cNvPr id="420" name=""/>
            <p:cNvSpPr/>
            <p:nvPr/>
          </p:nvSpPr>
          <p:spPr>
            <a:xfrm>
              <a:off x="8190000" y="306072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190000" y="326376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8128080" y="3216240"/>
            <a:ext cx="107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ea typeface="Times New Roman (Arabic)"/>
              </a:rPr>
              <a:t>Finished production</a:t>
            </a:r>
            <a:endParaRPr b="0" lang="en-US" sz="1400" spc="-1" strike="noStrike">
              <a:solidFill>
                <a:srgbClr val="000000"/>
              </a:solidFill>
              <a:latin typeface="Times New Roman"/>
            </a:endParaRPr>
          </a:p>
        </p:txBody>
      </p:sp>
      <p:sp>
        <p:nvSpPr>
          <p:cNvPr id="423" name=""/>
          <p:cNvSpPr/>
          <p:nvPr/>
        </p:nvSpPr>
        <p:spPr>
          <a:xfrm>
            <a:off x="6643800" y="3289320"/>
            <a:ext cx="15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ill Sans MT"/>
                <a:ea typeface="Times New Roman (Arabic)"/>
              </a:rPr>
              <a:t>Operator C</a:t>
            </a:r>
            <a:endParaRPr b="0" lang="en-US" sz="1600" spc="-1" strike="noStrike">
              <a:solidFill>
                <a:srgbClr val="000000"/>
              </a:solidFill>
              <a:latin typeface="Times New Roman"/>
            </a:endParaRPr>
          </a:p>
        </p:txBody>
      </p:sp>
      <p:grpSp>
        <p:nvGrpSpPr>
          <p:cNvPr id="424" name=""/>
          <p:cNvGrpSpPr/>
          <p:nvPr/>
        </p:nvGrpSpPr>
        <p:grpSpPr>
          <a:xfrm>
            <a:off x="2027520" y="1447560"/>
            <a:ext cx="1308960" cy="1371960"/>
            <a:chOff x="2027520" y="1447560"/>
            <a:chExt cx="1308960" cy="1371960"/>
          </a:xfrm>
        </p:grpSpPr>
        <p:sp>
          <p:nvSpPr>
            <p:cNvPr id="425" name=""/>
            <p:cNvSpPr/>
            <p:nvPr/>
          </p:nvSpPr>
          <p:spPr>
            <a:xfrm flipH="1" rot="17933400">
              <a:off x="2148480" y="1680120"/>
              <a:ext cx="1066680" cy="90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rot="17933400">
              <a:off x="2153880" y="1683720"/>
              <a:ext cx="1056240" cy="897840"/>
            </a:xfrm>
            <a:custGeom>
              <a:avLst/>
              <a:gdLst/>
              <a:ahLst/>
              <a:rect l="l" t="t" r="r" b="b"/>
              <a:pathLst>
                <a:path w="2349" h="1886">
                  <a:moveTo>
                    <a:pt x="19" y="1253"/>
                  </a:moveTo>
                  <a:lnTo>
                    <a:pt x="3" y="1224"/>
                  </a:lnTo>
                  <a:lnTo>
                    <a:pt x="0" y="1200"/>
                  </a:lnTo>
                  <a:lnTo>
                    <a:pt x="110" y="1036"/>
                  </a:lnTo>
                  <a:lnTo>
                    <a:pt x="129" y="1011"/>
                  </a:lnTo>
                  <a:lnTo>
                    <a:pt x="169" y="964"/>
                  </a:lnTo>
                  <a:lnTo>
                    <a:pt x="211" y="916"/>
                  </a:lnTo>
                  <a:lnTo>
                    <a:pt x="253" y="873"/>
                  </a:lnTo>
                  <a:lnTo>
                    <a:pt x="296" y="829"/>
                  </a:lnTo>
                  <a:lnTo>
                    <a:pt x="344" y="787"/>
                  </a:lnTo>
                  <a:lnTo>
                    <a:pt x="392" y="749"/>
                  </a:lnTo>
                  <a:lnTo>
                    <a:pt x="443" y="711"/>
                  </a:lnTo>
                  <a:lnTo>
                    <a:pt x="498" y="675"/>
                  </a:lnTo>
                  <a:lnTo>
                    <a:pt x="553" y="642"/>
                  </a:lnTo>
                  <a:lnTo>
                    <a:pt x="614" y="610"/>
                  </a:lnTo>
                  <a:lnTo>
                    <a:pt x="677" y="582"/>
                  </a:lnTo>
                  <a:lnTo>
                    <a:pt x="744" y="557"/>
                  </a:lnTo>
                  <a:lnTo>
                    <a:pt x="812" y="532"/>
                  </a:lnTo>
                  <a:lnTo>
                    <a:pt x="887" y="511"/>
                  </a:lnTo>
                  <a:lnTo>
                    <a:pt x="967" y="494"/>
                  </a:lnTo>
                  <a:lnTo>
                    <a:pt x="1048" y="479"/>
                  </a:lnTo>
                  <a:lnTo>
                    <a:pt x="1098" y="466"/>
                  </a:lnTo>
                  <a:lnTo>
                    <a:pt x="1132" y="460"/>
                  </a:lnTo>
                  <a:lnTo>
                    <a:pt x="1252" y="467"/>
                  </a:lnTo>
                  <a:lnTo>
                    <a:pt x="1296" y="471"/>
                  </a:lnTo>
                  <a:lnTo>
                    <a:pt x="1494" y="517"/>
                  </a:lnTo>
                  <a:lnTo>
                    <a:pt x="1513" y="523"/>
                  </a:lnTo>
                  <a:lnTo>
                    <a:pt x="1528" y="511"/>
                  </a:lnTo>
                  <a:lnTo>
                    <a:pt x="1433" y="133"/>
                  </a:lnTo>
                  <a:lnTo>
                    <a:pt x="1435" y="112"/>
                  </a:lnTo>
                  <a:lnTo>
                    <a:pt x="1422" y="70"/>
                  </a:lnTo>
                  <a:lnTo>
                    <a:pt x="1446" y="28"/>
                  </a:lnTo>
                  <a:lnTo>
                    <a:pt x="1452" y="9"/>
                  </a:lnTo>
                  <a:lnTo>
                    <a:pt x="1500" y="0"/>
                  </a:lnTo>
                  <a:lnTo>
                    <a:pt x="1530" y="30"/>
                  </a:lnTo>
                  <a:lnTo>
                    <a:pt x="1568" y="79"/>
                  </a:lnTo>
                  <a:lnTo>
                    <a:pt x="1606" y="129"/>
                  </a:lnTo>
                  <a:lnTo>
                    <a:pt x="1644" y="176"/>
                  </a:lnTo>
                  <a:lnTo>
                    <a:pt x="1684" y="222"/>
                  </a:lnTo>
                  <a:lnTo>
                    <a:pt x="1724" y="268"/>
                  </a:lnTo>
                  <a:lnTo>
                    <a:pt x="1766" y="311"/>
                  </a:lnTo>
                  <a:lnTo>
                    <a:pt x="1808" y="357"/>
                  </a:lnTo>
                  <a:lnTo>
                    <a:pt x="1850" y="399"/>
                  </a:lnTo>
                  <a:lnTo>
                    <a:pt x="1892" y="443"/>
                  </a:lnTo>
                  <a:lnTo>
                    <a:pt x="1935" y="485"/>
                  </a:lnTo>
                  <a:lnTo>
                    <a:pt x="1979" y="526"/>
                  </a:lnTo>
                  <a:lnTo>
                    <a:pt x="2023" y="568"/>
                  </a:lnTo>
                  <a:lnTo>
                    <a:pt x="2067" y="610"/>
                  </a:lnTo>
                  <a:lnTo>
                    <a:pt x="2111" y="652"/>
                  </a:lnTo>
                  <a:lnTo>
                    <a:pt x="2154" y="692"/>
                  </a:lnTo>
                  <a:lnTo>
                    <a:pt x="2198" y="734"/>
                  </a:lnTo>
                  <a:lnTo>
                    <a:pt x="2349" y="867"/>
                  </a:lnTo>
                  <a:lnTo>
                    <a:pt x="2341" y="899"/>
                  </a:lnTo>
                  <a:lnTo>
                    <a:pt x="2282" y="924"/>
                  </a:lnTo>
                  <a:lnTo>
                    <a:pt x="2073" y="971"/>
                  </a:lnTo>
                  <a:lnTo>
                    <a:pt x="2040" y="979"/>
                  </a:lnTo>
                  <a:lnTo>
                    <a:pt x="2010" y="989"/>
                  </a:lnTo>
                  <a:lnTo>
                    <a:pt x="1977" y="1000"/>
                  </a:lnTo>
                  <a:lnTo>
                    <a:pt x="1947" y="1011"/>
                  </a:lnTo>
                  <a:lnTo>
                    <a:pt x="1915" y="1023"/>
                  </a:lnTo>
                  <a:lnTo>
                    <a:pt x="1884" y="1036"/>
                  </a:lnTo>
                  <a:lnTo>
                    <a:pt x="1854" y="1049"/>
                  </a:lnTo>
                  <a:lnTo>
                    <a:pt x="1823" y="1063"/>
                  </a:lnTo>
                  <a:lnTo>
                    <a:pt x="1793" y="1078"/>
                  </a:lnTo>
                  <a:lnTo>
                    <a:pt x="1762" y="1093"/>
                  </a:lnTo>
                  <a:lnTo>
                    <a:pt x="1734" y="1107"/>
                  </a:lnTo>
                  <a:lnTo>
                    <a:pt x="1705" y="1122"/>
                  </a:lnTo>
                  <a:lnTo>
                    <a:pt x="1675" y="1137"/>
                  </a:lnTo>
                  <a:lnTo>
                    <a:pt x="1648" y="1152"/>
                  </a:lnTo>
                  <a:lnTo>
                    <a:pt x="1619" y="1167"/>
                  </a:lnTo>
                  <a:lnTo>
                    <a:pt x="1593" y="1181"/>
                  </a:lnTo>
                  <a:lnTo>
                    <a:pt x="1326" y="1373"/>
                  </a:lnTo>
                  <a:lnTo>
                    <a:pt x="1309" y="1367"/>
                  </a:lnTo>
                  <a:lnTo>
                    <a:pt x="1271" y="1283"/>
                  </a:lnTo>
                  <a:lnTo>
                    <a:pt x="1288" y="1232"/>
                  </a:lnTo>
                  <a:lnTo>
                    <a:pt x="1302" y="1205"/>
                  </a:lnTo>
                  <a:lnTo>
                    <a:pt x="1463" y="835"/>
                  </a:lnTo>
                  <a:lnTo>
                    <a:pt x="1439" y="829"/>
                  </a:lnTo>
                  <a:lnTo>
                    <a:pt x="1420" y="823"/>
                  </a:lnTo>
                  <a:lnTo>
                    <a:pt x="1372" y="825"/>
                  </a:lnTo>
                  <a:lnTo>
                    <a:pt x="1328" y="838"/>
                  </a:lnTo>
                  <a:lnTo>
                    <a:pt x="1284" y="854"/>
                  </a:lnTo>
                  <a:lnTo>
                    <a:pt x="1243" y="871"/>
                  </a:lnTo>
                  <a:lnTo>
                    <a:pt x="1203" y="890"/>
                  </a:lnTo>
                  <a:lnTo>
                    <a:pt x="1163" y="911"/>
                  </a:lnTo>
                  <a:lnTo>
                    <a:pt x="1126" y="935"/>
                  </a:lnTo>
                  <a:lnTo>
                    <a:pt x="1090" y="962"/>
                  </a:lnTo>
                  <a:lnTo>
                    <a:pt x="1058" y="989"/>
                  </a:lnTo>
                  <a:lnTo>
                    <a:pt x="1026" y="1019"/>
                  </a:lnTo>
                  <a:lnTo>
                    <a:pt x="995" y="1049"/>
                  </a:lnTo>
                  <a:lnTo>
                    <a:pt x="968" y="1084"/>
                  </a:lnTo>
                  <a:lnTo>
                    <a:pt x="944" y="1118"/>
                  </a:lnTo>
                  <a:lnTo>
                    <a:pt x="919" y="1154"/>
                  </a:lnTo>
                  <a:lnTo>
                    <a:pt x="898" y="1192"/>
                  </a:lnTo>
                  <a:lnTo>
                    <a:pt x="881" y="1230"/>
                  </a:lnTo>
                  <a:lnTo>
                    <a:pt x="864" y="1270"/>
                  </a:lnTo>
                  <a:lnTo>
                    <a:pt x="835" y="1380"/>
                  </a:lnTo>
                  <a:lnTo>
                    <a:pt x="824" y="1508"/>
                  </a:lnTo>
                  <a:lnTo>
                    <a:pt x="833" y="1641"/>
                  </a:lnTo>
                  <a:lnTo>
                    <a:pt x="864" y="1768"/>
                  </a:lnTo>
                  <a:lnTo>
                    <a:pt x="892" y="1822"/>
                  </a:lnTo>
                  <a:lnTo>
                    <a:pt x="889" y="1848"/>
                  </a:lnTo>
                  <a:lnTo>
                    <a:pt x="835" y="1886"/>
                  </a:lnTo>
                  <a:lnTo>
                    <a:pt x="820" y="1875"/>
                  </a:lnTo>
                  <a:lnTo>
                    <a:pt x="557" y="1632"/>
                  </a:lnTo>
                  <a:lnTo>
                    <a:pt x="403" y="1519"/>
                  </a:lnTo>
                  <a:lnTo>
                    <a:pt x="232" y="1401"/>
                  </a:lnTo>
                  <a:lnTo>
                    <a:pt x="24" y="1264"/>
                  </a:lnTo>
                  <a:lnTo>
                    <a:pt x="19" y="1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rot="17933400">
              <a:off x="2213640" y="1760760"/>
              <a:ext cx="929520" cy="724680"/>
            </a:xfrm>
            <a:custGeom>
              <a:avLst/>
              <a:gdLst/>
              <a:ahLst/>
              <a:rect l="l" t="t" r="r" b="b"/>
              <a:pathLst>
                <a:path w="2067" h="1522">
                  <a:moveTo>
                    <a:pt x="0" y="1054"/>
                  </a:moveTo>
                  <a:lnTo>
                    <a:pt x="82" y="907"/>
                  </a:lnTo>
                  <a:lnTo>
                    <a:pt x="149" y="841"/>
                  </a:lnTo>
                  <a:lnTo>
                    <a:pt x="181" y="801"/>
                  </a:lnTo>
                  <a:lnTo>
                    <a:pt x="215" y="765"/>
                  </a:lnTo>
                  <a:lnTo>
                    <a:pt x="251" y="728"/>
                  </a:lnTo>
                  <a:lnTo>
                    <a:pt x="290" y="692"/>
                  </a:lnTo>
                  <a:lnTo>
                    <a:pt x="329" y="660"/>
                  </a:lnTo>
                  <a:lnTo>
                    <a:pt x="371" y="628"/>
                  </a:lnTo>
                  <a:lnTo>
                    <a:pt x="417" y="599"/>
                  </a:lnTo>
                  <a:lnTo>
                    <a:pt x="463" y="571"/>
                  </a:lnTo>
                  <a:lnTo>
                    <a:pt x="512" y="544"/>
                  </a:lnTo>
                  <a:lnTo>
                    <a:pt x="562" y="519"/>
                  </a:lnTo>
                  <a:lnTo>
                    <a:pt x="613" y="496"/>
                  </a:lnTo>
                  <a:lnTo>
                    <a:pt x="668" y="476"/>
                  </a:lnTo>
                  <a:lnTo>
                    <a:pt x="724" y="456"/>
                  </a:lnTo>
                  <a:lnTo>
                    <a:pt x="783" y="437"/>
                  </a:lnTo>
                  <a:lnTo>
                    <a:pt x="842" y="422"/>
                  </a:lnTo>
                  <a:lnTo>
                    <a:pt x="904" y="409"/>
                  </a:lnTo>
                  <a:lnTo>
                    <a:pt x="927" y="411"/>
                  </a:lnTo>
                  <a:lnTo>
                    <a:pt x="958" y="407"/>
                  </a:lnTo>
                  <a:lnTo>
                    <a:pt x="986" y="403"/>
                  </a:lnTo>
                  <a:lnTo>
                    <a:pt x="1017" y="401"/>
                  </a:lnTo>
                  <a:lnTo>
                    <a:pt x="1045" y="399"/>
                  </a:lnTo>
                  <a:lnTo>
                    <a:pt x="1074" y="399"/>
                  </a:lnTo>
                  <a:lnTo>
                    <a:pt x="1104" y="399"/>
                  </a:lnTo>
                  <a:lnTo>
                    <a:pt x="1133" y="399"/>
                  </a:lnTo>
                  <a:lnTo>
                    <a:pt x="1161" y="401"/>
                  </a:lnTo>
                  <a:lnTo>
                    <a:pt x="1188" y="403"/>
                  </a:lnTo>
                  <a:lnTo>
                    <a:pt x="1217" y="407"/>
                  </a:lnTo>
                  <a:lnTo>
                    <a:pt x="1243" y="411"/>
                  </a:lnTo>
                  <a:lnTo>
                    <a:pt x="1270" y="415"/>
                  </a:lnTo>
                  <a:lnTo>
                    <a:pt x="1297" y="420"/>
                  </a:lnTo>
                  <a:lnTo>
                    <a:pt x="1323" y="424"/>
                  </a:lnTo>
                  <a:lnTo>
                    <a:pt x="1348" y="432"/>
                  </a:lnTo>
                  <a:lnTo>
                    <a:pt x="1373" y="437"/>
                  </a:lnTo>
                  <a:lnTo>
                    <a:pt x="1470" y="491"/>
                  </a:lnTo>
                  <a:lnTo>
                    <a:pt x="1498" y="476"/>
                  </a:lnTo>
                  <a:lnTo>
                    <a:pt x="1493" y="422"/>
                  </a:lnTo>
                  <a:lnTo>
                    <a:pt x="1485" y="367"/>
                  </a:lnTo>
                  <a:lnTo>
                    <a:pt x="1474" y="312"/>
                  </a:lnTo>
                  <a:lnTo>
                    <a:pt x="1460" y="255"/>
                  </a:lnTo>
                  <a:lnTo>
                    <a:pt x="1445" y="200"/>
                  </a:lnTo>
                  <a:lnTo>
                    <a:pt x="1432" y="143"/>
                  </a:lnTo>
                  <a:lnTo>
                    <a:pt x="1418" y="89"/>
                  </a:lnTo>
                  <a:lnTo>
                    <a:pt x="1405" y="36"/>
                  </a:lnTo>
                  <a:lnTo>
                    <a:pt x="1409" y="0"/>
                  </a:lnTo>
                  <a:lnTo>
                    <a:pt x="1441" y="36"/>
                  </a:lnTo>
                  <a:lnTo>
                    <a:pt x="1472" y="72"/>
                  </a:lnTo>
                  <a:lnTo>
                    <a:pt x="1504" y="108"/>
                  </a:lnTo>
                  <a:lnTo>
                    <a:pt x="1536" y="143"/>
                  </a:lnTo>
                  <a:lnTo>
                    <a:pt x="1571" y="179"/>
                  </a:lnTo>
                  <a:lnTo>
                    <a:pt x="1603" y="213"/>
                  </a:lnTo>
                  <a:lnTo>
                    <a:pt x="1637" y="249"/>
                  </a:lnTo>
                  <a:lnTo>
                    <a:pt x="1670" y="283"/>
                  </a:lnTo>
                  <a:lnTo>
                    <a:pt x="1704" y="318"/>
                  </a:lnTo>
                  <a:lnTo>
                    <a:pt x="1738" y="352"/>
                  </a:lnTo>
                  <a:lnTo>
                    <a:pt x="1772" y="386"/>
                  </a:lnTo>
                  <a:lnTo>
                    <a:pt x="1807" y="418"/>
                  </a:lnTo>
                  <a:lnTo>
                    <a:pt x="1841" y="453"/>
                  </a:lnTo>
                  <a:lnTo>
                    <a:pt x="1875" y="485"/>
                  </a:lnTo>
                  <a:lnTo>
                    <a:pt x="1911" y="517"/>
                  </a:lnTo>
                  <a:lnTo>
                    <a:pt x="1946" y="550"/>
                  </a:lnTo>
                  <a:lnTo>
                    <a:pt x="2060" y="645"/>
                  </a:lnTo>
                  <a:lnTo>
                    <a:pt x="2067" y="666"/>
                  </a:lnTo>
                  <a:lnTo>
                    <a:pt x="2012" y="694"/>
                  </a:lnTo>
                  <a:lnTo>
                    <a:pt x="1970" y="704"/>
                  </a:lnTo>
                  <a:lnTo>
                    <a:pt x="1927" y="713"/>
                  </a:lnTo>
                  <a:lnTo>
                    <a:pt x="1883" y="725"/>
                  </a:lnTo>
                  <a:lnTo>
                    <a:pt x="1841" y="738"/>
                  </a:lnTo>
                  <a:lnTo>
                    <a:pt x="1797" y="753"/>
                  </a:lnTo>
                  <a:lnTo>
                    <a:pt x="1753" y="768"/>
                  </a:lnTo>
                  <a:lnTo>
                    <a:pt x="1712" y="786"/>
                  </a:lnTo>
                  <a:lnTo>
                    <a:pt x="1670" y="803"/>
                  </a:lnTo>
                  <a:lnTo>
                    <a:pt x="1628" y="820"/>
                  </a:lnTo>
                  <a:lnTo>
                    <a:pt x="1586" y="841"/>
                  </a:lnTo>
                  <a:lnTo>
                    <a:pt x="1546" y="860"/>
                  </a:lnTo>
                  <a:lnTo>
                    <a:pt x="1506" y="881"/>
                  </a:lnTo>
                  <a:lnTo>
                    <a:pt x="1468" y="902"/>
                  </a:lnTo>
                  <a:lnTo>
                    <a:pt x="1430" y="923"/>
                  </a:lnTo>
                  <a:lnTo>
                    <a:pt x="1394" y="943"/>
                  </a:lnTo>
                  <a:lnTo>
                    <a:pt x="1359" y="964"/>
                  </a:lnTo>
                  <a:lnTo>
                    <a:pt x="1317" y="1000"/>
                  </a:lnTo>
                  <a:lnTo>
                    <a:pt x="1477" y="645"/>
                  </a:lnTo>
                  <a:lnTo>
                    <a:pt x="1479" y="630"/>
                  </a:lnTo>
                  <a:lnTo>
                    <a:pt x="1455" y="580"/>
                  </a:lnTo>
                  <a:lnTo>
                    <a:pt x="1418" y="567"/>
                  </a:lnTo>
                  <a:lnTo>
                    <a:pt x="1356" y="563"/>
                  </a:lnTo>
                  <a:lnTo>
                    <a:pt x="1297" y="563"/>
                  </a:lnTo>
                  <a:lnTo>
                    <a:pt x="1239" y="569"/>
                  </a:lnTo>
                  <a:lnTo>
                    <a:pt x="1184" y="578"/>
                  </a:lnTo>
                  <a:lnTo>
                    <a:pt x="1133" y="593"/>
                  </a:lnTo>
                  <a:lnTo>
                    <a:pt x="1081" y="611"/>
                  </a:lnTo>
                  <a:lnTo>
                    <a:pt x="1034" y="631"/>
                  </a:lnTo>
                  <a:lnTo>
                    <a:pt x="990" y="654"/>
                  </a:lnTo>
                  <a:lnTo>
                    <a:pt x="946" y="681"/>
                  </a:lnTo>
                  <a:lnTo>
                    <a:pt x="904" y="709"/>
                  </a:lnTo>
                  <a:lnTo>
                    <a:pt x="866" y="740"/>
                  </a:lnTo>
                  <a:lnTo>
                    <a:pt x="830" y="772"/>
                  </a:lnTo>
                  <a:lnTo>
                    <a:pt x="796" y="806"/>
                  </a:lnTo>
                  <a:lnTo>
                    <a:pt x="765" y="841"/>
                  </a:lnTo>
                  <a:lnTo>
                    <a:pt x="735" y="875"/>
                  </a:lnTo>
                  <a:lnTo>
                    <a:pt x="708" y="911"/>
                  </a:lnTo>
                  <a:lnTo>
                    <a:pt x="689" y="949"/>
                  </a:lnTo>
                  <a:lnTo>
                    <a:pt x="672" y="985"/>
                  </a:lnTo>
                  <a:lnTo>
                    <a:pt x="655" y="1025"/>
                  </a:lnTo>
                  <a:lnTo>
                    <a:pt x="642" y="1063"/>
                  </a:lnTo>
                  <a:lnTo>
                    <a:pt x="630" y="1105"/>
                  </a:lnTo>
                  <a:lnTo>
                    <a:pt x="621" y="1147"/>
                  </a:lnTo>
                  <a:lnTo>
                    <a:pt x="613" y="1193"/>
                  </a:lnTo>
                  <a:lnTo>
                    <a:pt x="609" y="1238"/>
                  </a:lnTo>
                  <a:lnTo>
                    <a:pt x="615" y="1282"/>
                  </a:lnTo>
                  <a:lnTo>
                    <a:pt x="609" y="1409"/>
                  </a:lnTo>
                  <a:lnTo>
                    <a:pt x="611" y="1427"/>
                  </a:lnTo>
                  <a:lnTo>
                    <a:pt x="615" y="1522"/>
                  </a:lnTo>
                  <a:lnTo>
                    <a:pt x="556" y="1468"/>
                  </a:lnTo>
                  <a:lnTo>
                    <a:pt x="438" y="1370"/>
                  </a:lnTo>
                  <a:lnTo>
                    <a:pt x="164" y="1181"/>
                  </a:lnTo>
                  <a:lnTo>
                    <a:pt x="139" y="1153"/>
                  </a:lnTo>
                  <a:lnTo>
                    <a:pt x="44" y="1096"/>
                  </a:lnTo>
                  <a:lnTo>
                    <a:pt x="6" y="1065"/>
                  </a:lnTo>
                  <a:lnTo>
                    <a:pt x="0" y="105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404240" y="3221640"/>
            <a:ext cx="1425240" cy="1329120"/>
            <a:chOff x="4404240" y="3221640"/>
            <a:chExt cx="1425240" cy="1329120"/>
          </a:xfrm>
        </p:grpSpPr>
        <p:sp>
          <p:nvSpPr>
            <p:cNvPr id="429" name=""/>
            <p:cNvSpPr/>
            <p:nvPr/>
          </p:nvSpPr>
          <p:spPr>
            <a:xfrm flipH="1" rot="8842800">
              <a:off x="4538520" y="3467160"/>
              <a:ext cx="1155960" cy="83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rot="8842800">
              <a:off x="4542840" y="3470760"/>
              <a:ext cx="1145160" cy="830160"/>
            </a:xfrm>
            <a:custGeom>
              <a:avLst/>
              <a:gdLst/>
              <a:ahLst/>
              <a:rect l="l" t="t" r="r" b="b"/>
              <a:pathLst>
                <a:path w="2349" h="1886">
                  <a:moveTo>
                    <a:pt x="19" y="1253"/>
                  </a:moveTo>
                  <a:lnTo>
                    <a:pt x="3" y="1224"/>
                  </a:lnTo>
                  <a:lnTo>
                    <a:pt x="0" y="1200"/>
                  </a:lnTo>
                  <a:lnTo>
                    <a:pt x="110" y="1036"/>
                  </a:lnTo>
                  <a:lnTo>
                    <a:pt x="129" y="1011"/>
                  </a:lnTo>
                  <a:lnTo>
                    <a:pt x="169" y="964"/>
                  </a:lnTo>
                  <a:lnTo>
                    <a:pt x="211" y="916"/>
                  </a:lnTo>
                  <a:lnTo>
                    <a:pt x="253" y="873"/>
                  </a:lnTo>
                  <a:lnTo>
                    <a:pt x="296" y="829"/>
                  </a:lnTo>
                  <a:lnTo>
                    <a:pt x="344" y="787"/>
                  </a:lnTo>
                  <a:lnTo>
                    <a:pt x="392" y="749"/>
                  </a:lnTo>
                  <a:lnTo>
                    <a:pt x="443" y="711"/>
                  </a:lnTo>
                  <a:lnTo>
                    <a:pt x="498" y="675"/>
                  </a:lnTo>
                  <a:lnTo>
                    <a:pt x="553" y="642"/>
                  </a:lnTo>
                  <a:lnTo>
                    <a:pt x="614" y="610"/>
                  </a:lnTo>
                  <a:lnTo>
                    <a:pt x="677" y="582"/>
                  </a:lnTo>
                  <a:lnTo>
                    <a:pt x="744" y="557"/>
                  </a:lnTo>
                  <a:lnTo>
                    <a:pt x="812" y="532"/>
                  </a:lnTo>
                  <a:lnTo>
                    <a:pt x="887" y="511"/>
                  </a:lnTo>
                  <a:lnTo>
                    <a:pt x="967" y="494"/>
                  </a:lnTo>
                  <a:lnTo>
                    <a:pt x="1048" y="479"/>
                  </a:lnTo>
                  <a:lnTo>
                    <a:pt x="1098" y="466"/>
                  </a:lnTo>
                  <a:lnTo>
                    <a:pt x="1132" y="460"/>
                  </a:lnTo>
                  <a:lnTo>
                    <a:pt x="1252" y="467"/>
                  </a:lnTo>
                  <a:lnTo>
                    <a:pt x="1296" y="471"/>
                  </a:lnTo>
                  <a:lnTo>
                    <a:pt x="1494" y="517"/>
                  </a:lnTo>
                  <a:lnTo>
                    <a:pt x="1513" y="523"/>
                  </a:lnTo>
                  <a:lnTo>
                    <a:pt x="1528" y="511"/>
                  </a:lnTo>
                  <a:lnTo>
                    <a:pt x="1433" y="133"/>
                  </a:lnTo>
                  <a:lnTo>
                    <a:pt x="1435" y="112"/>
                  </a:lnTo>
                  <a:lnTo>
                    <a:pt x="1422" y="70"/>
                  </a:lnTo>
                  <a:lnTo>
                    <a:pt x="1446" y="28"/>
                  </a:lnTo>
                  <a:lnTo>
                    <a:pt x="1452" y="9"/>
                  </a:lnTo>
                  <a:lnTo>
                    <a:pt x="1500" y="0"/>
                  </a:lnTo>
                  <a:lnTo>
                    <a:pt x="1530" y="30"/>
                  </a:lnTo>
                  <a:lnTo>
                    <a:pt x="1568" y="79"/>
                  </a:lnTo>
                  <a:lnTo>
                    <a:pt x="1606" y="129"/>
                  </a:lnTo>
                  <a:lnTo>
                    <a:pt x="1644" y="176"/>
                  </a:lnTo>
                  <a:lnTo>
                    <a:pt x="1684" y="222"/>
                  </a:lnTo>
                  <a:lnTo>
                    <a:pt x="1724" y="268"/>
                  </a:lnTo>
                  <a:lnTo>
                    <a:pt x="1766" y="311"/>
                  </a:lnTo>
                  <a:lnTo>
                    <a:pt x="1808" y="357"/>
                  </a:lnTo>
                  <a:lnTo>
                    <a:pt x="1850" y="399"/>
                  </a:lnTo>
                  <a:lnTo>
                    <a:pt x="1892" y="443"/>
                  </a:lnTo>
                  <a:lnTo>
                    <a:pt x="1935" y="485"/>
                  </a:lnTo>
                  <a:lnTo>
                    <a:pt x="1979" y="526"/>
                  </a:lnTo>
                  <a:lnTo>
                    <a:pt x="2023" y="568"/>
                  </a:lnTo>
                  <a:lnTo>
                    <a:pt x="2067" y="610"/>
                  </a:lnTo>
                  <a:lnTo>
                    <a:pt x="2111" y="652"/>
                  </a:lnTo>
                  <a:lnTo>
                    <a:pt x="2154" y="692"/>
                  </a:lnTo>
                  <a:lnTo>
                    <a:pt x="2198" y="734"/>
                  </a:lnTo>
                  <a:lnTo>
                    <a:pt x="2349" y="867"/>
                  </a:lnTo>
                  <a:lnTo>
                    <a:pt x="2341" y="899"/>
                  </a:lnTo>
                  <a:lnTo>
                    <a:pt x="2282" y="924"/>
                  </a:lnTo>
                  <a:lnTo>
                    <a:pt x="2073" y="971"/>
                  </a:lnTo>
                  <a:lnTo>
                    <a:pt x="2040" y="979"/>
                  </a:lnTo>
                  <a:lnTo>
                    <a:pt x="2010" y="989"/>
                  </a:lnTo>
                  <a:lnTo>
                    <a:pt x="1977" y="1000"/>
                  </a:lnTo>
                  <a:lnTo>
                    <a:pt x="1947" y="1011"/>
                  </a:lnTo>
                  <a:lnTo>
                    <a:pt x="1915" y="1023"/>
                  </a:lnTo>
                  <a:lnTo>
                    <a:pt x="1884" y="1036"/>
                  </a:lnTo>
                  <a:lnTo>
                    <a:pt x="1854" y="1049"/>
                  </a:lnTo>
                  <a:lnTo>
                    <a:pt x="1823" y="1063"/>
                  </a:lnTo>
                  <a:lnTo>
                    <a:pt x="1793" y="1078"/>
                  </a:lnTo>
                  <a:lnTo>
                    <a:pt x="1762" y="1093"/>
                  </a:lnTo>
                  <a:lnTo>
                    <a:pt x="1734" y="1107"/>
                  </a:lnTo>
                  <a:lnTo>
                    <a:pt x="1705" y="1122"/>
                  </a:lnTo>
                  <a:lnTo>
                    <a:pt x="1675" y="1137"/>
                  </a:lnTo>
                  <a:lnTo>
                    <a:pt x="1648" y="1152"/>
                  </a:lnTo>
                  <a:lnTo>
                    <a:pt x="1619" y="1167"/>
                  </a:lnTo>
                  <a:lnTo>
                    <a:pt x="1593" y="1181"/>
                  </a:lnTo>
                  <a:lnTo>
                    <a:pt x="1326" y="1373"/>
                  </a:lnTo>
                  <a:lnTo>
                    <a:pt x="1309" y="1367"/>
                  </a:lnTo>
                  <a:lnTo>
                    <a:pt x="1271" y="1283"/>
                  </a:lnTo>
                  <a:lnTo>
                    <a:pt x="1288" y="1232"/>
                  </a:lnTo>
                  <a:lnTo>
                    <a:pt x="1302" y="1205"/>
                  </a:lnTo>
                  <a:lnTo>
                    <a:pt x="1463" y="835"/>
                  </a:lnTo>
                  <a:lnTo>
                    <a:pt x="1439" y="829"/>
                  </a:lnTo>
                  <a:lnTo>
                    <a:pt x="1420" y="823"/>
                  </a:lnTo>
                  <a:lnTo>
                    <a:pt x="1372" y="825"/>
                  </a:lnTo>
                  <a:lnTo>
                    <a:pt x="1328" y="838"/>
                  </a:lnTo>
                  <a:lnTo>
                    <a:pt x="1284" y="854"/>
                  </a:lnTo>
                  <a:lnTo>
                    <a:pt x="1243" y="871"/>
                  </a:lnTo>
                  <a:lnTo>
                    <a:pt x="1203" y="890"/>
                  </a:lnTo>
                  <a:lnTo>
                    <a:pt x="1163" y="911"/>
                  </a:lnTo>
                  <a:lnTo>
                    <a:pt x="1126" y="935"/>
                  </a:lnTo>
                  <a:lnTo>
                    <a:pt x="1090" y="962"/>
                  </a:lnTo>
                  <a:lnTo>
                    <a:pt x="1058" y="989"/>
                  </a:lnTo>
                  <a:lnTo>
                    <a:pt x="1026" y="1019"/>
                  </a:lnTo>
                  <a:lnTo>
                    <a:pt x="995" y="1049"/>
                  </a:lnTo>
                  <a:lnTo>
                    <a:pt x="968" y="1084"/>
                  </a:lnTo>
                  <a:lnTo>
                    <a:pt x="944" y="1118"/>
                  </a:lnTo>
                  <a:lnTo>
                    <a:pt x="919" y="1154"/>
                  </a:lnTo>
                  <a:lnTo>
                    <a:pt x="898" y="1192"/>
                  </a:lnTo>
                  <a:lnTo>
                    <a:pt x="881" y="1230"/>
                  </a:lnTo>
                  <a:lnTo>
                    <a:pt x="864" y="1270"/>
                  </a:lnTo>
                  <a:lnTo>
                    <a:pt x="835" y="1380"/>
                  </a:lnTo>
                  <a:lnTo>
                    <a:pt x="824" y="1508"/>
                  </a:lnTo>
                  <a:lnTo>
                    <a:pt x="833" y="1641"/>
                  </a:lnTo>
                  <a:lnTo>
                    <a:pt x="864" y="1768"/>
                  </a:lnTo>
                  <a:lnTo>
                    <a:pt x="892" y="1822"/>
                  </a:lnTo>
                  <a:lnTo>
                    <a:pt x="889" y="1848"/>
                  </a:lnTo>
                  <a:lnTo>
                    <a:pt x="835" y="1886"/>
                  </a:lnTo>
                  <a:lnTo>
                    <a:pt x="820" y="1875"/>
                  </a:lnTo>
                  <a:lnTo>
                    <a:pt x="557" y="1632"/>
                  </a:lnTo>
                  <a:lnTo>
                    <a:pt x="403" y="1519"/>
                  </a:lnTo>
                  <a:lnTo>
                    <a:pt x="232" y="1401"/>
                  </a:lnTo>
                  <a:lnTo>
                    <a:pt x="24" y="1264"/>
                  </a:lnTo>
                  <a:lnTo>
                    <a:pt x="19" y="1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rot="8842800">
              <a:off x="4609800" y="3562560"/>
              <a:ext cx="1007640" cy="669240"/>
            </a:xfrm>
            <a:custGeom>
              <a:avLst/>
              <a:gdLst/>
              <a:ahLst/>
              <a:rect l="l" t="t" r="r" b="b"/>
              <a:pathLst>
                <a:path w="2067" h="1522">
                  <a:moveTo>
                    <a:pt x="0" y="1054"/>
                  </a:moveTo>
                  <a:lnTo>
                    <a:pt x="82" y="907"/>
                  </a:lnTo>
                  <a:lnTo>
                    <a:pt x="149" y="841"/>
                  </a:lnTo>
                  <a:lnTo>
                    <a:pt x="181" y="801"/>
                  </a:lnTo>
                  <a:lnTo>
                    <a:pt x="215" y="765"/>
                  </a:lnTo>
                  <a:lnTo>
                    <a:pt x="251" y="728"/>
                  </a:lnTo>
                  <a:lnTo>
                    <a:pt x="290" y="692"/>
                  </a:lnTo>
                  <a:lnTo>
                    <a:pt x="329" y="660"/>
                  </a:lnTo>
                  <a:lnTo>
                    <a:pt x="371" y="628"/>
                  </a:lnTo>
                  <a:lnTo>
                    <a:pt x="417" y="599"/>
                  </a:lnTo>
                  <a:lnTo>
                    <a:pt x="463" y="571"/>
                  </a:lnTo>
                  <a:lnTo>
                    <a:pt x="512" y="544"/>
                  </a:lnTo>
                  <a:lnTo>
                    <a:pt x="562" y="519"/>
                  </a:lnTo>
                  <a:lnTo>
                    <a:pt x="613" y="496"/>
                  </a:lnTo>
                  <a:lnTo>
                    <a:pt x="668" y="476"/>
                  </a:lnTo>
                  <a:lnTo>
                    <a:pt x="724" y="456"/>
                  </a:lnTo>
                  <a:lnTo>
                    <a:pt x="783" y="437"/>
                  </a:lnTo>
                  <a:lnTo>
                    <a:pt x="842" y="422"/>
                  </a:lnTo>
                  <a:lnTo>
                    <a:pt x="904" y="409"/>
                  </a:lnTo>
                  <a:lnTo>
                    <a:pt x="927" y="411"/>
                  </a:lnTo>
                  <a:lnTo>
                    <a:pt x="958" y="407"/>
                  </a:lnTo>
                  <a:lnTo>
                    <a:pt x="986" y="403"/>
                  </a:lnTo>
                  <a:lnTo>
                    <a:pt x="1017" y="401"/>
                  </a:lnTo>
                  <a:lnTo>
                    <a:pt x="1045" y="399"/>
                  </a:lnTo>
                  <a:lnTo>
                    <a:pt x="1074" y="399"/>
                  </a:lnTo>
                  <a:lnTo>
                    <a:pt x="1104" y="399"/>
                  </a:lnTo>
                  <a:lnTo>
                    <a:pt x="1133" y="399"/>
                  </a:lnTo>
                  <a:lnTo>
                    <a:pt x="1161" y="401"/>
                  </a:lnTo>
                  <a:lnTo>
                    <a:pt x="1188" y="403"/>
                  </a:lnTo>
                  <a:lnTo>
                    <a:pt x="1217" y="407"/>
                  </a:lnTo>
                  <a:lnTo>
                    <a:pt x="1243" y="411"/>
                  </a:lnTo>
                  <a:lnTo>
                    <a:pt x="1270" y="415"/>
                  </a:lnTo>
                  <a:lnTo>
                    <a:pt x="1297" y="420"/>
                  </a:lnTo>
                  <a:lnTo>
                    <a:pt x="1323" y="424"/>
                  </a:lnTo>
                  <a:lnTo>
                    <a:pt x="1348" y="432"/>
                  </a:lnTo>
                  <a:lnTo>
                    <a:pt x="1373" y="437"/>
                  </a:lnTo>
                  <a:lnTo>
                    <a:pt x="1470" y="491"/>
                  </a:lnTo>
                  <a:lnTo>
                    <a:pt x="1498" y="476"/>
                  </a:lnTo>
                  <a:lnTo>
                    <a:pt x="1493" y="422"/>
                  </a:lnTo>
                  <a:lnTo>
                    <a:pt x="1485" y="367"/>
                  </a:lnTo>
                  <a:lnTo>
                    <a:pt x="1474" y="312"/>
                  </a:lnTo>
                  <a:lnTo>
                    <a:pt x="1460" y="255"/>
                  </a:lnTo>
                  <a:lnTo>
                    <a:pt x="1445" y="200"/>
                  </a:lnTo>
                  <a:lnTo>
                    <a:pt x="1432" y="143"/>
                  </a:lnTo>
                  <a:lnTo>
                    <a:pt x="1418" y="89"/>
                  </a:lnTo>
                  <a:lnTo>
                    <a:pt x="1405" y="36"/>
                  </a:lnTo>
                  <a:lnTo>
                    <a:pt x="1409" y="0"/>
                  </a:lnTo>
                  <a:lnTo>
                    <a:pt x="1441" y="36"/>
                  </a:lnTo>
                  <a:lnTo>
                    <a:pt x="1472" y="72"/>
                  </a:lnTo>
                  <a:lnTo>
                    <a:pt x="1504" y="108"/>
                  </a:lnTo>
                  <a:lnTo>
                    <a:pt x="1536" y="143"/>
                  </a:lnTo>
                  <a:lnTo>
                    <a:pt x="1571" y="179"/>
                  </a:lnTo>
                  <a:lnTo>
                    <a:pt x="1603" y="213"/>
                  </a:lnTo>
                  <a:lnTo>
                    <a:pt x="1637" y="249"/>
                  </a:lnTo>
                  <a:lnTo>
                    <a:pt x="1670" y="283"/>
                  </a:lnTo>
                  <a:lnTo>
                    <a:pt x="1704" y="318"/>
                  </a:lnTo>
                  <a:lnTo>
                    <a:pt x="1738" y="352"/>
                  </a:lnTo>
                  <a:lnTo>
                    <a:pt x="1772" y="386"/>
                  </a:lnTo>
                  <a:lnTo>
                    <a:pt x="1807" y="418"/>
                  </a:lnTo>
                  <a:lnTo>
                    <a:pt x="1841" y="453"/>
                  </a:lnTo>
                  <a:lnTo>
                    <a:pt x="1875" y="485"/>
                  </a:lnTo>
                  <a:lnTo>
                    <a:pt x="1911" y="517"/>
                  </a:lnTo>
                  <a:lnTo>
                    <a:pt x="1946" y="550"/>
                  </a:lnTo>
                  <a:lnTo>
                    <a:pt x="2060" y="645"/>
                  </a:lnTo>
                  <a:lnTo>
                    <a:pt x="2067" y="666"/>
                  </a:lnTo>
                  <a:lnTo>
                    <a:pt x="2012" y="694"/>
                  </a:lnTo>
                  <a:lnTo>
                    <a:pt x="1970" y="704"/>
                  </a:lnTo>
                  <a:lnTo>
                    <a:pt x="1927" y="713"/>
                  </a:lnTo>
                  <a:lnTo>
                    <a:pt x="1883" y="725"/>
                  </a:lnTo>
                  <a:lnTo>
                    <a:pt x="1841" y="738"/>
                  </a:lnTo>
                  <a:lnTo>
                    <a:pt x="1797" y="753"/>
                  </a:lnTo>
                  <a:lnTo>
                    <a:pt x="1753" y="768"/>
                  </a:lnTo>
                  <a:lnTo>
                    <a:pt x="1712" y="786"/>
                  </a:lnTo>
                  <a:lnTo>
                    <a:pt x="1670" y="803"/>
                  </a:lnTo>
                  <a:lnTo>
                    <a:pt x="1628" y="820"/>
                  </a:lnTo>
                  <a:lnTo>
                    <a:pt x="1586" y="841"/>
                  </a:lnTo>
                  <a:lnTo>
                    <a:pt x="1546" y="860"/>
                  </a:lnTo>
                  <a:lnTo>
                    <a:pt x="1506" y="881"/>
                  </a:lnTo>
                  <a:lnTo>
                    <a:pt x="1468" y="902"/>
                  </a:lnTo>
                  <a:lnTo>
                    <a:pt x="1430" y="923"/>
                  </a:lnTo>
                  <a:lnTo>
                    <a:pt x="1394" y="943"/>
                  </a:lnTo>
                  <a:lnTo>
                    <a:pt x="1359" y="964"/>
                  </a:lnTo>
                  <a:lnTo>
                    <a:pt x="1317" y="1000"/>
                  </a:lnTo>
                  <a:lnTo>
                    <a:pt x="1477" y="645"/>
                  </a:lnTo>
                  <a:lnTo>
                    <a:pt x="1479" y="630"/>
                  </a:lnTo>
                  <a:lnTo>
                    <a:pt x="1455" y="580"/>
                  </a:lnTo>
                  <a:lnTo>
                    <a:pt x="1418" y="567"/>
                  </a:lnTo>
                  <a:lnTo>
                    <a:pt x="1356" y="563"/>
                  </a:lnTo>
                  <a:lnTo>
                    <a:pt x="1297" y="563"/>
                  </a:lnTo>
                  <a:lnTo>
                    <a:pt x="1239" y="569"/>
                  </a:lnTo>
                  <a:lnTo>
                    <a:pt x="1184" y="578"/>
                  </a:lnTo>
                  <a:lnTo>
                    <a:pt x="1133" y="593"/>
                  </a:lnTo>
                  <a:lnTo>
                    <a:pt x="1081" y="611"/>
                  </a:lnTo>
                  <a:lnTo>
                    <a:pt x="1034" y="631"/>
                  </a:lnTo>
                  <a:lnTo>
                    <a:pt x="990" y="654"/>
                  </a:lnTo>
                  <a:lnTo>
                    <a:pt x="946" y="681"/>
                  </a:lnTo>
                  <a:lnTo>
                    <a:pt x="904" y="709"/>
                  </a:lnTo>
                  <a:lnTo>
                    <a:pt x="866" y="740"/>
                  </a:lnTo>
                  <a:lnTo>
                    <a:pt x="830" y="772"/>
                  </a:lnTo>
                  <a:lnTo>
                    <a:pt x="796" y="806"/>
                  </a:lnTo>
                  <a:lnTo>
                    <a:pt x="765" y="841"/>
                  </a:lnTo>
                  <a:lnTo>
                    <a:pt x="735" y="875"/>
                  </a:lnTo>
                  <a:lnTo>
                    <a:pt x="708" y="911"/>
                  </a:lnTo>
                  <a:lnTo>
                    <a:pt x="689" y="949"/>
                  </a:lnTo>
                  <a:lnTo>
                    <a:pt x="672" y="985"/>
                  </a:lnTo>
                  <a:lnTo>
                    <a:pt x="655" y="1025"/>
                  </a:lnTo>
                  <a:lnTo>
                    <a:pt x="642" y="1063"/>
                  </a:lnTo>
                  <a:lnTo>
                    <a:pt x="630" y="1105"/>
                  </a:lnTo>
                  <a:lnTo>
                    <a:pt x="621" y="1147"/>
                  </a:lnTo>
                  <a:lnTo>
                    <a:pt x="613" y="1193"/>
                  </a:lnTo>
                  <a:lnTo>
                    <a:pt x="609" y="1238"/>
                  </a:lnTo>
                  <a:lnTo>
                    <a:pt x="615" y="1282"/>
                  </a:lnTo>
                  <a:lnTo>
                    <a:pt x="609" y="1409"/>
                  </a:lnTo>
                  <a:lnTo>
                    <a:pt x="611" y="1427"/>
                  </a:lnTo>
                  <a:lnTo>
                    <a:pt x="615" y="1522"/>
                  </a:lnTo>
                  <a:lnTo>
                    <a:pt x="556" y="1468"/>
                  </a:lnTo>
                  <a:lnTo>
                    <a:pt x="438" y="1370"/>
                  </a:lnTo>
                  <a:lnTo>
                    <a:pt x="164" y="1181"/>
                  </a:lnTo>
                  <a:lnTo>
                    <a:pt x="139" y="1153"/>
                  </a:lnTo>
                  <a:lnTo>
                    <a:pt x="44" y="1096"/>
                  </a:lnTo>
                  <a:lnTo>
                    <a:pt x="6" y="1065"/>
                  </a:lnTo>
                  <a:lnTo>
                    <a:pt x="0" y="105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3795840" y="5492880"/>
            <a:ext cx="825480" cy="660240"/>
            <a:chOff x="3795840" y="5492880"/>
            <a:chExt cx="825480" cy="660240"/>
          </a:xfrm>
        </p:grpSpPr>
        <p:sp>
          <p:nvSpPr>
            <p:cNvPr id="433" name=""/>
            <p:cNvSpPr/>
            <p:nvPr/>
          </p:nvSpPr>
          <p:spPr>
            <a:xfrm>
              <a:off x="3795840" y="549288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795840" y="569592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3801960" y="57913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abic)"/>
              </a:rPr>
              <a:t>Material</a:t>
            </a:r>
            <a:endParaRPr b="0" lang="en-US" sz="1400" spc="-1" strike="noStrike">
              <a:solidFill>
                <a:srgbClr val="000000"/>
              </a:solidFill>
              <a:latin typeface="Times New Roman"/>
            </a:endParaRPr>
          </a:p>
        </p:txBody>
      </p:sp>
      <p:grpSp>
        <p:nvGrpSpPr>
          <p:cNvPr id="436" name=""/>
          <p:cNvGrpSpPr/>
          <p:nvPr/>
        </p:nvGrpSpPr>
        <p:grpSpPr>
          <a:xfrm>
            <a:off x="8499600" y="5486400"/>
            <a:ext cx="825480" cy="660240"/>
            <a:chOff x="8499600" y="5486400"/>
            <a:chExt cx="825480" cy="660240"/>
          </a:xfrm>
        </p:grpSpPr>
        <p:sp>
          <p:nvSpPr>
            <p:cNvPr id="437" name=""/>
            <p:cNvSpPr/>
            <p:nvPr/>
          </p:nvSpPr>
          <p:spPr>
            <a:xfrm>
              <a:off x="8499600" y="5486400"/>
              <a:ext cx="825480" cy="457200"/>
            </a:xfrm>
            <a:prstGeom prst="flowChartMultidocumen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499600" y="5689440"/>
              <a:ext cx="8254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8451720" y="5676840"/>
            <a:ext cx="1073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ea typeface="Times New Roman (Arabic)"/>
              </a:rPr>
              <a:t>Finished production</a:t>
            </a:r>
            <a:endParaRPr b="0" lang="en-US" sz="1400" spc="-1" strike="noStrike">
              <a:solidFill>
                <a:srgbClr val="000000"/>
              </a:solidFill>
              <a:latin typeface="Times New Roman"/>
            </a:endParaRPr>
          </a:p>
        </p:txBody>
      </p:sp>
      <p:grpSp>
        <p:nvGrpSpPr>
          <p:cNvPr id="440" name=""/>
          <p:cNvGrpSpPr/>
          <p:nvPr/>
        </p:nvGrpSpPr>
        <p:grpSpPr>
          <a:xfrm>
            <a:off x="4703760" y="5638680"/>
            <a:ext cx="3712680" cy="520560"/>
            <a:chOff x="4703760" y="5638680"/>
            <a:chExt cx="3712680" cy="520560"/>
          </a:xfrm>
        </p:grpSpPr>
        <p:sp>
          <p:nvSpPr>
            <p:cNvPr id="441" name=""/>
            <p:cNvSpPr/>
            <p:nvPr/>
          </p:nvSpPr>
          <p:spPr>
            <a:xfrm>
              <a:off x="4703760" y="5638680"/>
              <a:ext cx="3712680" cy="520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703760" y="5753160"/>
              <a:ext cx="156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ill Sans MT"/>
                  <a:ea typeface="Times New Roman (Arabic)"/>
                </a:rPr>
                <a:t>Operator A</a:t>
              </a:r>
              <a:endParaRPr b="0" lang="en-US" sz="1400" spc="-1" strike="noStrike">
                <a:solidFill>
                  <a:srgbClr val="000000"/>
                </a:solidFill>
                <a:latin typeface="Times New Roman"/>
              </a:endParaRPr>
            </a:p>
          </p:txBody>
        </p:sp>
        <p:sp>
          <p:nvSpPr>
            <p:cNvPr id="443" name=""/>
            <p:cNvSpPr/>
            <p:nvPr/>
          </p:nvSpPr>
          <p:spPr>
            <a:xfrm>
              <a:off x="6003360" y="5771880"/>
              <a:ext cx="156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ill Sans MT"/>
                  <a:ea typeface="Times New Roman (Arabic)"/>
                </a:rPr>
                <a:t>Operator B</a:t>
              </a:r>
              <a:endParaRPr b="0" lang="en-US" sz="1400" spc="-1" strike="noStrike">
                <a:solidFill>
                  <a:srgbClr val="000000"/>
                </a:solidFill>
                <a:latin typeface="Times New Roman"/>
              </a:endParaRPr>
            </a:p>
          </p:txBody>
        </p:sp>
      </p:grpSp>
      <p:sp>
        <p:nvSpPr>
          <p:cNvPr id="444" name=""/>
          <p:cNvSpPr/>
          <p:nvPr/>
        </p:nvSpPr>
        <p:spPr>
          <a:xfrm>
            <a:off x="7174080" y="5759280"/>
            <a:ext cx="156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ill Sans MT"/>
                <a:ea typeface="Times New Roman (Arabic)"/>
              </a:rPr>
              <a:t>Operator C</a:t>
            </a:r>
            <a:endParaRPr b="0" lang="en-US" sz="1400" spc="-1" strike="noStrike">
              <a:solidFill>
                <a:srgbClr val="000000"/>
              </a:solidFill>
              <a:latin typeface="Times New Roman"/>
            </a:endParaRPr>
          </a:p>
        </p:txBody>
      </p:sp>
      <p:sp>
        <p:nvSpPr>
          <p:cNvPr id="445" name=""/>
          <p:cNvSpPr/>
          <p:nvPr/>
        </p:nvSpPr>
        <p:spPr>
          <a:xfrm>
            <a:off x="4910040" y="6324480"/>
            <a:ext cx="3630600" cy="0"/>
          </a:xfrm>
          <a:prstGeom prst="line">
            <a:avLst/>
          </a:prstGeom>
          <a:ln w="117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47680" y="990720"/>
            <a:ext cx="3713040" cy="457200"/>
          </a:xfrm>
          <a:prstGeom prst="roundRect">
            <a:avLst>
              <a:gd name="adj" fmla="val 50000"/>
            </a:avLst>
          </a:prstGeom>
          <a:solidFill>
            <a:srgbClr val="008080"/>
          </a:solidFill>
          <a:ln w="5724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ill Sans MT"/>
                <a:ea typeface="Times New Roman (Arabic)"/>
              </a:rPr>
              <a:t>Traditional </a:t>
            </a:r>
            <a:r>
              <a:rPr b="0" lang="en-US" sz="2400" spc="-1" strike="noStrike">
                <a:solidFill>
                  <a:srgbClr val="3333cc"/>
                </a:solidFill>
                <a:latin typeface="Gill Sans MT"/>
                <a:ea typeface="Times New Roman (Arabic)"/>
              </a:rPr>
              <a:t>Production</a:t>
            </a:r>
            <a:endParaRPr b="0" lang="en-US" sz="2400" spc="-1" strike="noStrike">
              <a:solidFill>
                <a:srgbClr val="000000"/>
              </a:solidFill>
              <a:latin typeface="Times New Roman"/>
            </a:endParaRPr>
          </a:p>
        </p:txBody>
      </p:sp>
      <p:sp>
        <p:nvSpPr>
          <p:cNvPr id="447" name=""/>
          <p:cNvSpPr/>
          <p:nvPr/>
        </p:nvSpPr>
        <p:spPr>
          <a:xfrm>
            <a:off x="247680" y="4343400"/>
            <a:ext cx="4621320" cy="457200"/>
          </a:xfrm>
          <a:prstGeom prst="roundRect">
            <a:avLst>
              <a:gd name="adj" fmla="val 50000"/>
            </a:avLst>
          </a:prstGeom>
          <a:solidFill>
            <a:srgbClr val="008080"/>
          </a:solidFill>
          <a:ln w="5724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ill Sans MT"/>
                <a:ea typeface="Times New Roman (Arabic)"/>
              </a:rPr>
              <a:t>Continuous Flow </a:t>
            </a:r>
            <a:r>
              <a:rPr b="0" lang="en-US" sz="2400" spc="-1" strike="noStrike">
                <a:solidFill>
                  <a:srgbClr val="3333cc"/>
                </a:solidFill>
                <a:latin typeface="Gill Sans MT"/>
                <a:ea typeface="Times New Roman (Arabic)"/>
              </a:rPr>
              <a:t>Production</a:t>
            </a:r>
            <a:endParaRPr b="0" lang="en-US" sz="2400" spc="-1" strike="noStrike">
              <a:solidFill>
                <a:srgbClr val="000000"/>
              </a:solidFill>
              <a:latin typeface="Times New Roman"/>
            </a:endParaRPr>
          </a:p>
        </p:txBody>
      </p:sp>
      <p:pic>
        <p:nvPicPr>
          <p:cNvPr id="448" name="" descr=""/>
          <p:cNvPicPr/>
          <p:nvPr/>
        </p:nvPicPr>
        <p:blipFill>
          <a:blip r:embed="rId4"/>
          <a:srcRect l="0" t="8567" r="0" b="0"/>
          <a:stretch/>
        </p:blipFill>
        <p:spPr>
          <a:xfrm>
            <a:off x="4538520" y="838080"/>
            <a:ext cx="1155960" cy="914400"/>
          </a:xfrm>
          <a:prstGeom prst="rect">
            <a:avLst/>
          </a:prstGeom>
          <a:ln w="0">
            <a:noFill/>
          </a:ln>
        </p:spPr>
      </p:pic>
      <p:sp>
        <p:nvSpPr>
          <p:cNvPr id="449" name=""/>
          <p:cNvSpPr/>
          <p:nvPr/>
        </p:nvSpPr>
        <p:spPr>
          <a:xfrm>
            <a:off x="1771560" y="181080"/>
            <a:ext cx="5389560" cy="609480"/>
          </a:xfrm>
          <a:prstGeom prst="roundRect">
            <a:avLst>
              <a:gd name="adj" fmla="val 50000"/>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RADITIONAL Production vs CFP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96B98B7-6E5D-4293-AAAA-A74B2CDCE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176040" y="2789280"/>
            <a:ext cx="4435200" cy="3333600"/>
            <a:chOff x="176040" y="2789280"/>
            <a:chExt cx="4435200" cy="3333600"/>
          </a:xfrm>
        </p:grpSpPr>
        <p:sp>
          <p:nvSpPr>
            <p:cNvPr id="451" name=""/>
            <p:cNvSpPr/>
            <p:nvPr/>
          </p:nvSpPr>
          <p:spPr>
            <a:xfrm>
              <a:off x="835920" y="2789280"/>
              <a:ext cx="3754800" cy="3333600"/>
            </a:xfrm>
            <a:prstGeom prst="ellipse">
              <a:avLst/>
            </a:prstGeom>
            <a:solidFill>
              <a:srgbClr val="ffffff"/>
            </a:solid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784880" y="3636720"/>
              <a:ext cx="1732680" cy="15714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692440" y="2789280"/>
              <a:ext cx="0" cy="87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38440" y="4541760"/>
              <a:ext cx="1072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rot="4035000">
              <a:off x="1438920" y="3103560"/>
              <a:ext cx="2402640" cy="2632320"/>
            </a:xfrm>
            <a:custGeom>
              <a:avLst/>
              <a:gdLst/>
              <a:ahLst/>
              <a:rect l="l" t="t" r="r" b="b"/>
              <a:pathLst>
                <a:path stroke="0" w="21600" h="21600">
                  <a:moveTo>
                    <a:pt x="15970" y="1318"/>
                  </a:moveTo>
                  <a:arcTo wR="10800" hR="10800" stAng="-3683955" swAng="16014629"/>
                  <a:lnTo>
                    <a:pt x="10800" y="10800"/>
                  </a:lnTo>
                  <a:close/>
                </a:path>
                <a:path fill="none" w="21600" h="21600">
                  <a:moveTo>
                    <a:pt x="15970" y="1318"/>
                  </a:moveTo>
                  <a:arcTo wR="10800" hR="10800" stAng="-3683955" swAng="16014629"/>
                </a:path>
              </a:pathLst>
            </a:cu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3440" y="3132000"/>
              <a:ext cx="1072800" cy="456840"/>
            </a:xfrm>
            <a:prstGeom prst="roundRect">
              <a:avLst>
                <a:gd name="adj" fmla="val 16667"/>
              </a:avLst>
            </a:prstGeom>
            <a:solidFill>
              <a:srgbClr val="00808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05360" y="3151080"/>
              <a:ext cx="107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Gill Sans MT"/>
                  <a:ea typeface="Times New Roman (Arabic)"/>
                </a:rPr>
                <a:t>Muda</a:t>
              </a:r>
              <a:endParaRPr b="0" lang="en-US" sz="1800" spc="-1" strike="noStrike">
                <a:solidFill>
                  <a:srgbClr val="000000"/>
                </a:solidFill>
                <a:latin typeface="Times New Roman"/>
              </a:endParaRPr>
            </a:p>
          </p:txBody>
        </p:sp>
        <p:sp>
          <p:nvSpPr>
            <p:cNvPr id="458" name=""/>
            <p:cNvSpPr/>
            <p:nvPr/>
          </p:nvSpPr>
          <p:spPr>
            <a:xfrm>
              <a:off x="3467160" y="3703320"/>
              <a:ext cx="52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ea typeface="Times New Roman (Arabic)"/>
                </a:rPr>
                <a:t>[</a:t>
              </a:r>
              <a:r>
                <a:rPr b="1" lang="en-US" sz="1800" spc="-1" strike="noStrike">
                  <a:solidFill>
                    <a:srgbClr val="000000"/>
                  </a:solidFill>
                  <a:latin typeface="Gill Sans MT"/>
                  <a:ea typeface="Times New Roman (Arabic)"/>
                </a:rPr>
                <a:t>A]</a:t>
              </a:r>
              <a:endParaRPr b="0" lang="en-US" sz="1800" spc="-1" strike="noStrike">
                <a:solidFill>
                  <a:srgbClr val="000000"/>
                </a:solidFill>
                <a:latin typeface="Times New Roman"/>
              </a:endParaRPr>
            </a:p>
          </p:txBody>
        </p:sp>
        <p:sp>
          <p:nvSpPr>
            <p:cNvPr id="459" name=""/>
            <p:cNvSpPr/>
            <p:nvPr/>
          </p:nvSpPr>
          <p:spPr>
            <a:xfrm>
              <a:off x="2149200" y="5684760"/>
              <a:ext cx="5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ea typeface="Times New Roman (Arabic)"/>
                </a:rPr>
                <a:t>[</a:t>
              </a:r>
              <a:r>
                <a:rPr b="1" lang="en-US" sz="1800" spc="-1" strike="noStrike">
                  <a:solidFill>
                    <a:srgbClr val="000000"/>
                  </a:solidFill>
                  <a:latin typeface="Gill Sans MT"/>
                  <a:ea typeface="Times New Roman (Arabic)"/>
                </a:rPr>
                <a:t>B]</a:t>
              </a:r>
              <a:endParaRPr b="0" lang="en-US" sz="1800" spc="-1" strike="noStrike">
                <a:solidFill>
                  <a:srgbClr val="000000"/>
                </a:solidFill>
                <a:latin typeface="Times New Roman"/>
              </a:endParaRPr>
            </a:p>
          </p:txBody>
        </p:sp>
        <p:sp>
          <p:nvSpPr>
            <p:cNvPr id="460" name=""/>
            <p:cNvSpPr/>
            <p:nvPr/>
          </p:nvSpPr>
          <p:spPr>
            <a:xfrm>
              <a:off x="176040" y="5151240"/>
              <a:ext cx="1715400" cy="609120"/>
            </a:xfrm>
            <a:prstGeom prst="roundRect">
              <a:avLst>
                <a:gd name="adj" fmla="val 16667"/>
              </a:avLst>
            </a:prstGeom>
            <a:solidFill>
              <a:srgbClr val="00808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5400" y="5170320"/>
              <a:ext cx="17157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Gill Sans MT"/>
                  <a:ea typeface="Times New Roman (Arabic)"/>
                </a:rPr>
                <a:t>Non-Value-adding work</a:t>
              </a:r>
              <a:endParaRPr b="0" lang="en-US" sz="1800" spc="-1" strike="noStrike">
                <a:solidFill>
                  <a:srgbClr val="000000"/>
                </a:solidFill>
                <a:latin typeface="Times New Roman"/>
              </a:endParaRPr>
            </a:p>
          </p:txBody>
        </p:sp>
        <p:sp>
          <p:nvSpPr>
            <p:cNvPr id="462" name=""/>
            <p:cNvSpPr/>
            <p:nvPr/>
          </p:nvSpPr>
          <p:spPr>
            <a:xfrm>
              <a:off x="1740240" y="294156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ea typeface="Times New Roman (Arabic)"/>
                </a:rPr>
                <a:t>[</a:t>
              </a:r>
              <a:r>
                <a:rPr b="1" lang="en-US" sz="1800" spc="-1" strike="noStrike">
                  <a:solidFill>
                    <a:srgbClr val="000000"/>
                  </a:solidFill>
                  <a:latin typeface="Gill Sans MT"/>
                  <a:ea typeface="Times New Roman (Arabic)"/>
                </a:rPr>
                <a:t>C]</a:t>
              </a:r>
              <a:endParaRPr b="0" lang="en-US" sz="1800" spc="-1" strike="noStrike">
                <a:solidFill>
                  <a:srgbClr val="000000"/>
                </a:solidFill>
                <a:latin typeface="Times New Roman"/>
              </a:endParaRPr>
            </a:p>
          </p:txBody>
        </p:sp>
        <p:sp>
          <p:nvSpPr>
            <p:cNvPr id="463" name=""/>
            <p:cNvSpPr/>
            <p:nvPr/>
          </p:nvSpPr>
          <p:spPr>
            <a:xfrm>
              <a:off x="340920" y="3017520"/>
              <a:ext cx="1325520" cy="456840"/>
            </a:xfrm>
            <a:prstGeom prst="roundRect">
              <a:avLst>
                <a:gd name="adj" fmla="val 16667"/>
              </a:avLst>
            </a:prstGeom>
            <a:solidFill>
              <a:srgbClr val="00808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76560" y="3074760"/>
              <a:ext cx="132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Gill Sans MT"/>
                  <a:ea typeface="Times New Roman (Arabic)"/>
                </a:rPr>
                <a:t>Net Work</a:t>
              </a:r>
              <a:endParaRPr b="0" lang="en-US" sz="1800" spc="-1" strike="noStrike">
                <a:solidFill>
                  <a:srgbClr val="000000"/>
                </a:solidFill>
                <a:latin typeface="Times New Roman"/>
              </a:endParaRPr>
            </a:p>
          </p:txBody>
        </p:sp>
        <p:sp>
          <p:nvSpPr>
            <p:cNvPr id="465" name=""/>
            <p:cNvSpPr/>
            <p:nvPr/>
          </p:nvSpPr>
          <p:spPr>
            <a:xfrm>
              <a:off x="1867320" y="4179600"/>
              <a:ext cx="14853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abic)"/>
                </a:rPr>
                <a:t>Operator’s motions</a:t>
              </a:r>
              <a:endParaRPr b="0" lang="en-US" sz="1600" spc="-1" strike="noStrike">
                <a:solidFill>
                  <a:srgbClr val="000000"/>
                </a:solidFill>
                <a:latin typeface="Times New Roman"/>
              </a:endParaRPr>
            </a:p>
          </p:txBody>
        </p:sp>
        <p:sp>
          <p:nvSpPr>
            <p:cNvPr id="466" name=""/>
            <p:cNvSpPr/>
            <p:nvPr/>
          </p:nvSpPr>
          <p:spPr>
            <a:xfrm>
              <a:off x="2053080" y="5227560"/>
              <a:ext cx="990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abic)"/>
                </a:rPr>
                <a:t>Work</a:t>
              </a:r>
              <a:endParaRPr b="0" lang="en-US" sz="1600" spc="-1" strike="noStrike">
                <a:solidFill>
                  <a:srgbClr val="000000"/>
                </a:solidFill>
                <a:latin typeface="Times New Roman"/>
              </a:endParaRPr>
            </a:p>
          </p:txBody>
        </p:sp>
      </p:grpSp>
      <p:sp>
        <p:nvSpPr>
          <p:cNvPr id="467" name=""/>
          <p:cNvSpPr/>
          <p:nvPr/>
        </p:nvSpPr>
        <p:spPr>
          <a:xfrm>
            <a:off x="4570560" y="2209680"/>
            <a:ext cx="5332320" cy="36003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Times New Roman (Arabic)"/>
              </a:rPr>
              <a:t>[</a:t>
            </a:r>
            <a:r>
              <a:rPr b="1" lang="en-US" sz="2800" spc="-1" strike="noStrike">
                <a:solidFill>
                  <a:srgbClr val="000000"/>
                </a:solidFill>
                <a:latin typeface="Gill Sans MT"/>
                <a:ea typeface="Times New Roman (Arabic)"/>
              </a:rPr>
              <a:t>A] </a:t>
            </a:r>
            <a:r>
              <a:rPr b="1" lang="en-US" sz="2800" spc="-1" strike="noStrike" u="sng">
                <a:solidFill>
                  <a:srgbClr val="ff0000"/>
                </a:solidFill>
                <a:uFillTx/>
                <a:latin typeface="Gill Sans MT"/>
                <a:ea typeface="Times New Roman (Arabic)"/>
              </a:rPr>
              <a:t>MUDA</a:t>
            </a:r>
            <a:r>
              <a:rPr b="0" lang="en-US" sz="2400" spc="-1" strike="noStrike">
                <a:solidFill>
                  <a:srgbClr val="ff0000"/>
                </a:solidFill>
                <a:latin typeface="Gill Sans MT"/>
                <a:ea typeface="Times New Roman (Arabic)"/>
              </a:rPr>
              <a:t> </a:t>
            </a:r>
            <a:r>
              <a:rPr b="0" lang="en-US" sz="2400" spc="-1" strike="noStrike">
                <a:solidFill>
                  <a:srgbClr val="000000"/>
                </a:solidFill>
                <a:latin typeface="Gill Sans MT"/>
                <a:ea typeface="Times New Roman (Arabic)"/>
              </a:rPr>
              <a:t>:  Motion no necessary for production work</a:t>
            </a:r>
            <a:endParaRPr b="0" lang="en-US" sz="2400" spc="-1" strike="noStrike">
              <a:solidFill>
                <a:srgbClr val="000000"/>
              </a:solidFill>
              <a:latin typeface="Times New Roman"/>
            </a:endParaRPr>
          </a:p>
          <a:p>
            <a:pPr marL="685800" indent="-685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Times New Roman (Arabic)"/>
              </a:rPr>
              <a:t>[B] </a:t>
            </a:r>
            <a:r>
              <a:rPr b="1" lang="en-US" sz="2800" spc="-1" strike="noStrike" u="sng">
                <a:solidFill>
                  <a:srgbClr val="ff0000"/>
                </a:solidFill>
                <a:uFillTx/>
                <a:latin typeface="Gill Sans MT"/>
                <a:ea typeface="Times New Roman (Arabic)"/>
              </a:rPr>
              <a:t>Non-Value- Adding Work</a:t>
            </a:r>
            <a:r>
              <a:rPr b="1" lang="en-US" sz="2800" spc="-1" strike="noStrike">
                <a:solidFill>
                  <a:srgbClr val="000000"/>
                </a:solidFill>
                <a:latin typeface="Gill Sans MT"/>
                <a:ea typeface="Times New Roman (Arabic)"/>
              </a:rPr>
              <a:t> : </a:t>
            </a:r>
            <a:r>
              <a:rPr b="0" lang="en-US" sz="2400" spc="-1" strike="noStrike">
                <a:solidFill>
                  <a:srgbClr val="000000"/>
                </a:solidFill>
                <a:latin typeface="Gill Sans MT"/>
                <a:ea typeface="Times New Roman (Arabic)"/>
              </a:rPr>
              <a:t>Motion that are necessary but do not add any value to the product at the present work stage.</a:t>
            </a:r>
            <a:endParaRPr b="0" lang="en-US" sz="2400" spc="-1" strike="noStrike">
              <a:solidFill>
                <a:srgbClr val="000000"/>
              </a:solidFill>
              <a:latin typeface="Times New Roman"/>
            </a:endParaRPr>
          </a:p>
          <a:p>
            <a:pPr marL="685800" indent="-685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Times New Roman (Arabic)"/>
              </a:rPr>
              <a:t>[C] </a:t>
            </a:r>
            <a:r>
              <a:rPr b="1" lang="en-US" sz="2800" spc="-1" strike="noStrike" u="sng">
                <a:solidFill>
                  <a:srgbClr val="ff0000"/>
                </a:solidFill>
                <a:uFillTx/>
                <a:latin typeface="Gill Sans MT"/>
                <a:ea typeface="Times New Roman (Arabic)"/>
              </a:rPr>
              <a:t>Net Work</a:t>
            </a:r>
            <a:r>
              <a:rPr b="0" lang="en-US" sz="2400" spc="-1" strike="noStrike">
                <a:solidFill>
                  <a:srgbClr val="000000"/>
                </a:solidFill>
                <a:latin typeface="Gill Sans MT"/>
                <a:ea typeface="Times New Roman (Arabic)"/>
              </a:rPr>
              <a:t> : Motion that add values to the product</a:t>
            </a:r>
            <a:endParaRPr b="0" lang="en-US" sz="2400" spc="-1" strike="noStrike">
              <a:solidFill>
                <a:srgbClr val="000000"/>
              </a:solidFill>
              <a:latin typeface="Times New Roman"/>
            </a:endParaRPr>
          </a:p>
        </p:txBody>
      </p:sp>
      <p:sp>
        <p:nvSpPr>
          <p:cNvPr id="468" name=""/>
          <p:cNvSpPr/>
          <p:nvPr/>
        </p:nvSpPr>
        <p:spPr>
          <a:xfrm>
            <a:off x="903240" y="646200"/>
            <a:ext cx="7804080" cy="804600"/>
          </a:xfrm>
          <a:prstGeom prst="roundRect">
            <a:avLst>
              <a:gd name="adj" fmla="val 50000"/>
            </a:avLst>
          </a:prstGeom>
          <a:solidFill>
            <a:srgbClr val="ff99cc"/>
          </a:solidFill>
          <a:ln w="57240">
            <a:solidFill>
              <a:srgbClr val="c0c0c0"/>
            </a:solidFill>
            <a:miter/>
          </a:ln>
        </p:spPr>
        <p:style>
          <a:lnRef idx="0"/>
          <a:fillRef idx="0"/>
          <a:effectRef idx="0"/>
          <a:fontRef idx="minor"/>
        </p:style>
        <p:txBody>
          <a:bodyPr wrap="none"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ill Sans MT"/>
                <a:ea typeface="Times New Roman (Arabic)"/>
              </a:rPr>
              <a:t>e.   WORK CONCEPT (eg. Operator’s Motion)</a:t>
            </a:r>
            <a:endParaRPr b="0" lang="en-US" sz="2400" spc="-1" strike="noStrike">
              <a:solidFill>
                <a:srgbClr val="000000"/>
              </a:solidFill>
              <a:latin typeface="Times New Roman"/>
            </a:endParaRPr>
          </a:p>
        </p:txBody>
      </p:sp>
      <p:sp>
        <p:nvSpPr>
          <p:cNvPr id="469" name=""/>
          <p:cNvSpPr/>
          <p:nvPr/>
        </p:nvSpPr>
        <p:spPr>
          <a:xfrm>
            <a:off x="4018680" y="5811840"/>
            <a:ext cx="5432400" cy="631440"/>
          </a:xfrm>
          <a:prstGeom prst="rect">
            <a:avLst/>
          </a:prstGeom>
          <a:solidFill>
            <a:srgbClr val="ffff00"/>
          </a:solidFill>
          <a:ln w="12600">
            <a:solidFill>
              <a:srgbClr val="0033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RA : UNEVERNESS, UNSTABLE, FLUCTUATIVE THING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RI :  OVERBURDEN, OVERLOAD, OVERWORK CONDITION</a:t>
            </a:r>
            <a:endParaRPr b="0" lang="en-US" sz="1400" spc="-1" strike="noStrike">
              <a:solidFill>
                <a:srgbClr val="000000"/>
              </a:solidFill>
              <a:latin typeface="Times New Roman"/>
            </a:endParaRPr>
          </a:p>
        </p:txBody>
      </p:sp>
      <p:sp>
        <p:nvSpPr>
          <p:cNvPr id="470" name=""/>
          <p:cNvSpPr/>
          <p:nvPr/>
        </p:nvSpPr>
        <p:spPr>
          <a:xfrm>
            <a:off x="4041360" y="1716120"/>
            <a:ext cx="3589920" cy="307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A : WASTE, UNNECESSARY WO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C973893-3DCA-47BA-8E21-09DC9D2BB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3T02:14:14Z</dcterms:created>
  <dc:creator>Accenture</dc:creator>
  <dc:description>PowerPoint Half Grid 2-Colors Overhead Presentation Template.  Accenture Firmwide Templates v8.0b.</dc:description>
  <dc:language>en-US</dc:language>
  <cp:lastModifiedBy>Arsal Simatupang</cp:lastModifiedBy>
  <cp:lastPrinted>1999-03-19T08:59:41Z</cp:lastPrinted>
  <dcterms:modified xsi:type="dcterms:W3CDTF">2009-05-24T07:26:26Z</dcterms:modified>
  <cp:revision>301</cp:revision>
  <dc:subject>Presentation Template Designs</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17811097</vt:r8>
  </property>
  <property fmtid="{D5CDD505-2E9C-101B-9397-08002B2CF9AE}" pid="3" name="_AuthorEmail">
    <vt:lpwstr>sentiyono@toyota.co.id</vt:lpwstr>
  </property>
  <property fmtid="{D5CDD505-2E9C-101B-9397-08002B2CF9AE}" pid="4" name="_AuthorEmailDisplayName">
    <vt:lpwstr>Sentiyono</vt:lpwstr>
  </property>
  <property fmtid="{D5CDD505-2E9C-101B-9397-08002B2CF9AE}" pid="5" name="_EmailSubject">
    <vt:lpwstr>materi training</vt:lpwstr>
  </property>
  <property fmtid="{D5CDD505-2E9C-101B-9397-08002B2CF9AE}" pid="6" name="_PreviousAdHocReviewCycleID">
    <vt:r8>-1844786683</vt:r8>
  </property>
  <property fmtid="{D5CDD505-2E9C-101B-9397-08002B2CF9AE}" pid="7" name="_ReviewingToolsShownOnce">
    <vt:lpwstr/>
  </property>
</Properties>
</file>