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2A31B-32C3-4BB9-A634-AFF8085D7E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411768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733D6-394A-4254-8894-88313C2216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411768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411768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C72C1-0CCD-493A-B0E0-D518E8939D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411768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411768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411768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8CB14-124A-468A-AAF6-381B70BA18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85341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411768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F6416-B11C-4B4B-955B-38ECEDFD14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7840" y="411768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411768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411768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411768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7840" y="411768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411768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90680" y="411768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6080" y="411768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08D75-EDEA-418A-AECD-9FEA96F225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982B8-FF31-414E-AFD5-609CA849DD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2BC76-9846-4B3C-8BAA-8CEDCB6204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85341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AA876-95BF-44C4-BCBC-D72FD88E83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411768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98588-D63D-498C-8C48-E6762EFCD3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411768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DEB10-DF72-4CE0-AFB5-84459A093C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411768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81175-A278-455A-8A45-BECFC8635E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12760" y="0"/>
            <a:ext cx="3587760" cy="5241960"/>
          </a:xfrm>
          <a:custGeom>
            <a:avLst/>
            <a:gdLst/>
            <a:ahLst/>
            <a:rect l="l" t="t" r="r" b="b"/>
            <a:pathLst>
              <a:path w="2260" h="3302">
                <a:moveTo>
                  <a:pt x="840" y="0"/>
                </a:moveTo>
                <a:cubicBezTo>
                  <a:pt x="0" y="0"/>
                  <a:pt x="134" y="0"/>
                  <a:pt x="134" y="0"/>
                </a:cubicBezTo>
                <a:cubicBezTo>
                  <a:pt x="134" y="0"/>
                  <a:pt x="134" y="2366"/>
                  <a:pt x="134" y="3302"/>
                </a:cubicBezTo>
                <a:cubicBezTo>
                  <a:pt x="2016" y="2945"/>
                  <a:pt x="2260" y="1160"/>
                  <a:pt x="840" y="0"/>
                </a:cubicBezTo>
                <a:close/>
              </a:path>
            </a:pathLst>
          </a:custGeom>
          <a:solidFill>
            <a:srgbClr val="f9dd8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50800" y="-11160"/>
            <a:ext cx="8585280" cy="6873840"/>
          </a:xfrm>
          <a:custGeom>
            <a:avLst/>
            <a:gdLst/>
            <a:ahLst/>
            <a:rect l="l" t="t" r="r" b="b"/>
            <a:pathLst>
              <a:path w="5408" h="4330">
                <a:moveTo>
                  <a:pt x="1402" y="4330"/>
                </a:moveTo>
                <a:cubicBezTo>
                  <a:pt x="2242" y="4330"/>
                  <a:pt x="5408" y="4327"/>
                  <a:pt x="5408" y="4327"/>
                </a:cubicBezTo>
                <a:cubicBezTo>
                  <a:pt x="5408" y="4327"/>
                  <a:pt x="5406" y="950"/>
                  <a:pt x="5406" y="14"/>
                </a:cubicBezTo>
                <a:cubicBezTo>
                  <a:pt x="4004" y="0"/>
                  <a:pt x="2700" y="0"/>
                  <a:pt x="1839" y="0"/>
                </a:cubicBezTo>
                <a:cubicBezTo>
                  <a:pt x="0" y="2193"/>
                  <a:pt x="687" y="3845"/>
                  <a:pt x="1402" y="4330"/>
                </a:cubicBezTo>
                <a:close/>
              </a:path>
            </a:pathLst>
          </a:custGeom>
          <a:solidFill>
            <a:srgbClr val="3a5482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0" y="3505320"/>
            <a:ext cx="4586400" cy="3381120"/>
          </a:xfrm>
          <a:custGeom>
            <a:avLst/>
            <a:gdLst/>
            <a:ahLst/>
            <a:rect l="l" t="t" r="r" b="b"/>
            <a:pathLst>
              <a:path w="2889" h="2130">
                <a:moveTo>
                  <a:pt x="0" y="2126"/>
                </a:moveTo>
                <a:cubicBezTo>
                  <a:pt x="841" y="2126"/>
                  <a:pt x="2889" y="2130"/>
                  <a:pt x="2889" y="2130"/>
                </a:cubicBezTo>
                <a:cubicBezTo>
                  <a:pt x="2889" y="2130"/>
                  <a:pt x="2881" y="1034"/>
                  <a:pt x="2880" y="98"/>
                </a:cubicBezTo>
                <a:cubicBezTo>
                  <a:pt x="1687" y="0"/>
                  <a:pt x="186" y="430"/>
                  <a:pt x="0" y="2126"/>
                </a:cubicBezTo>
                <a:close/>
              </a:path>
            </a:pathLst>
          </a:custGeom>
          <a:solidFill>
            <a:srgbClr val="99c311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12600" y="3129120"/>
            <a:ext cx="3708360" cy="3735360"/>
          </a:xfrm>
          <a:custGeom>
            <a:avLst/>
            <a:gdLst/>
            <a:ahLst/>
            <a:rect l="l" t="t" r="r" b="b"/>
            <a:pathLst>
              <a:path w="2336" h="2353">
                <a:moveTo>
                  <a:pt x="0" y="0"/>
                </a:moveTo>
                <a:cubicBezTo>
                  <a:pt x="0" y="840"/>
                  <a:pt x="7" y="2350"/>
                  <a:pt x="7" y="2350"/>
                </a:cubicBezTo>
                <a:cubicBezTo>
                  <a:pt x="7" y="2350"/>
                  <a:pt x="1360" y="2353"/>
                  <a:pt x="2296" y="2353"/>
                </a:cubicBezTo>
                <a:cubicBezTo>
                  <a:pt x="2336" y="1193"/>
                  <a:pt x="1720" y="130"/>
                  <a:pt x="0" y="0"/>
                </a:cubicBezTo>
                <a:close/>
              </a:path>
            </a:pathLst>
          </a:custGeom>
          <a:solidFill>
            <a:srgbClr val="367d82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5400000">
            <a:off x="5649480" y="-11160"/>
            <a:ext cx="3481560" cy="3503880"/>
          </a:xfrm>
          <a:custGeom>
            <a:avLst/>
            <a:gdLst/>
            <a:ahLst/>
            <a:rect l="l" t="t" r="r" b="b"/>
            <a:pathLst>
              <a:path w="2193" h="2207">
                <a:moveTo>
                  <a:pt x="1714" y="0"/>
                </a:moveTo>
                <a:cubicBezTo>
                  <a:pt x="874" y="0"/>
                  <a:pt x="0" y="0"/>
                  <a:pt x="0" y="0"/>
                </a:cubicBezTo>
                <a:cubicBezTo>
                  <a:pt x="0" y="0"/>
                  <a:pt x="0" y="936"/>
                  <a:pt x="0" y="1872"/>
                </a:cubicBezTo>
                <a:cubicBezTo>
                  <a:pt x="985" y="2207"/>
                  <a:pt x="2193" y="1568"/>
                  <a:pt x="1714" y="0"/>
                </a:cubicBezTo>
                <a:close/>
              </a:path>
            </a:pathLst>
          </a:custGeom>
          <a:solidFill>
            <a:srgbClr val="bbe0e3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65160" y="-36360"/>
            <a:ext cx="5641920" cy="3074760"/>
          </a:xfrm>
          <a:custGeom>
            <a:avLst/>
            <a:gdLst/>
            <a:ahLst/>
            <a:rect l="l" t="t" r="r" b="b"/>
            <a:pathLst>
              <a:path w="3554" h="1937">
                <a:moveTo>
                  <a:pt x="2304" y="1856"/>
                </a:moveTo>
                <a:cubicBezTo>
                  <a:pt x="2799" y="1775"/>
                  <a:pt x="3554" y="1402"/>
                  <a:pt x="3497" y="15"/>
                </a:cubicBezTo>
                <a:cubicBezTo>
                  <a:pt x="3496" y="0"/>
                  <a:pt x="936" y="15"/>
                  <a:pt x="0" y="15"/>
                </a:cubicBezTo>
                <a:cubicBezTo>
                  <a:pt x="357" y="1897"/>
                  <a:pt x="1809" y="1937"/>
                  <a:pt x="2304" y="1856"/>
                </a:cubicBezTo>
                <a:close/>
              </a:path>
            </a:pathLst>
          </a:custGeom>
          <a:solidFill>
            <a:srgbClr val="fe9758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490920" y="3786120"/>
            <a:ext cx="5665680" cy="3103560"/>
          </a:xfrm>
          <a:custGeom>
            <a:avLst/>
            <a:gdLst/>
            <a:ahLst/>
            <a:rect l="l" t="t" r="r" b="b"/>
            <a:pathLst>
              <a:path w="3569" h="1955">
                <a:moveTo>
                  <a:pt x="470" y="1947"/>
                </a:moveTo>
                <a:cubicBezTo>
                  <a:pt x="1311" y="1947"/>
                  <a:pt x="3569" y="1955"/>
                  <a:pt x="3569" y="1955"/>
                </a:cubicBezTo>
                <a:cubicBezTo>
                  <a:pt x="3569" y="1955"/>
                  <a:pt x="3528" y="812"/>
                  <a:pt x="2287" y="333"/>
                </a:cubicBezTo>
                <a:cubicBezTo>
                  <a:pt x="1322" y="0"/>
                  <a:pt x="0" y="739"/>
                  <a:pt x="470" y="1947"/>
                </a:cubicBezTo>
                <a:close/>
              </a:path>
            </a:pathLst>
          </a:custGeom>
          <a:solidFill>
            <a:srgbClr val="82b181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solidFill>
            <a:srgbClr val="3a5482">
              <a:alpha val="9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ldNum" idx="1"/>
          </p:nvPr>
        </p:nvSpPr>
        <p:spPr>
          <a:xfrm>
            <a:off x="700992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D636401C-D3EB-4D6F-8EA7-042C85BA2016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5257800"/>
          </a:xfrm>
          <a:prstGeom prst="rect">
            <a:avLst/>
          </a:prstGeom>
          <a:solidFill>
            <a:srgbClr val="ffffff">
              <a:alpha val="94000"/>
            </a:srgbClr>
          </a:solidFill>
          <a:ln w="38160">
            <a:solidFill>
              <a:srgbClr val="3a54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212760" y="0"/>
            <a:ext cx="3587760" cy="5241960"/>
          </a:xfrm>
          <a:custGeom>
            <a:avLst/>
            <a:gdLst/>
            <a:ahLst/>
            <a:rect l="l" t="t" r="r" b="b"/>
            <a:pathLst>
              <a:path w="2260" h="3302">
                <a:moveTo>
                  <a:pt x="840" y="0"/>
                </a:moveTo>
                <a:cubicBezTo>
                  <a:pt x="0" y="0"/>
                  <a:pt x="134" y="0"/>
                  <a:pt x="134" y="0"/>
                </a:cubicBezTo>
                <a:cubicBezTo>
                  <a:pt x="134" y="0"/>
                  <a:pt x="134" y="2366"/>
                  <a:pt x="134" y="3302"/>
                </a:cubicBezTo>
                <a:cubicBezTo>
                  <a:pt x="2016" y="2945"/>
                  <a:pt x="2260" y="1160"/>
                  <a:pt x="840" y="0"/>
                </a:cubicBezTo>
                <a:close/>
              </a:path>
            </a:pathLst>
          </a:custGeom>
          <a:solidFill>
            <a:srgbClr val="f9dd8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50800" y="-11160"/>
            <a:ext cx="8585280" cy="6873840"/>
          </a:xfrm>
          <a:custGeom>
            <a:avLst/>
            <a:gdLst/>
            <a:ahLst/>
            <a:rect l="l" t="t" r="r" b="b"/>
            <a:pathLst>
              <a:path w="5408" h="4330">
                <a:moveTo>
                  <a:pt x="1402" y="4330"/>
                </a:moveTo>
                <a:cubicBezTo>
                  <a:pt x="2242" y="4330"/>
                  <a:pt x="5408" y="4327"/>
                  <a:pt x="5408" y="4327"/>
                </a:cubicBezTo>
                <a:cubicBezTo>
                  <a:pt x="5408" y="4327"/>
                  <a:pt x="5406" y="950"/>
                  <a:pt x="5406" y="14"/>
                </a:cubicBezTo>
                <a:cubicBezTo>
                  <a:pt x="4004" y="0"/>
                  <a:pt x="2700" y="0"/>
                  <a:pt x="1839" y="0"/>
                </a:cubicBezTo>
                <a:cubicBezTo>
                  <a:pt x="0" y="2193"/>
                  <a:pt x="687" y="3845"/>
                  <a:pt x="1402" y="4330"/>
                </a:cubicBezTo>
                <a:close/>
              </a:path>
            </a:pathLst>
          </a:custGeom>
          <a:solidFill>
            <a:srgbClr val="3a5482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3505320"/>
            <a:ext cx="4586400" cy="3381120"/>
          </a:xfrm>
          <a:custGeom>
            <a:avLst/>
            <a:gdLst/>
            <a:ahLst/>
            <a:rect l="l" t="t" r="r" b="b"/>
            <a:pathLst>
              <a:path w="2889" h="2130">
                <a:moveTo>
                  <a:pt x="0" y="2126"/>
                </a:moveTo>
                <a:cubicBezTo>
                  <a:pt x="841" y="2126"/>
                  <a:pt x="2889" y="2130"/>
                  <a:pt x="2889" y="2130"/>
                </a:cubicBezTo>
                <a:cubicBezTo>
                  <a:pt x="2889" y="2130"/>
                  <a:pt x="2881" y="1034"/>
                  <a:pt x="2880" y="98"/>
                </a:cubicBezTo>
                <a:cubicBezTo>
                  <a:pt x="1687" y="0"/>
                  <a:pt x="186" y="430"/>
                  <a:pt x="0" y="2126"/>
                </a:cubicBezTo>
                <a:close/>
              </a:path>
            </a:pathLst>
          </a:custGeom>
          <a:solidFill>
            <a:srgbClr val="99c311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12600" y="3129120"/>
            <a:ext cx="3708360" cy="3735360"/>
          </a:xfrm>
          <a:custGeom>
            <a:avLst/>
            <a:gdLst/>
            <a:ahLst/>
            <a:rect l="l" t="t" r="r" b="b"/>
            <a:pathLst>
              <a:path w="2336" h="2353">
                <a:moveTo>
                  <a:pt x="0" y="0"/>
                </a:moveTo>
                <a:cubicBezTo>
                  <a:pt x="0" y="840"/>
                  <a:pt x="7" y="2350"/>
                  <a:pt x="7" y="2350"/>
                </a:cubicBezTo>
                <a:cubicBezTo>
                  <a:pt x="7" y="2350"/>
                  <a:pt x="1360" y="2353"/>
                  <a:pt x="2296" y="2353"/>
                </a:cubicBezTo>
                <a:cubicBezTo>
                  <a:pt x="2336" y="1193"/>
                  <a:pt x="1720" y="130"/>
                  <a:pt x="0" y="0"/>
                </a:cubicBezTo>
                <a:close/>
              </a:path>
            </a:pathLst>
          </a:custGeom>
          <a:solidFill>
            <a:srgbClr val="367d82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5649480" y="-11160"/>
            <a:ext cx="3481560" cy="3503880"/>
          </a:xfrm>
          <a:custGeom>
            <a:avLst/>
            <a:gdLst/>
            <a:ahLst/>
            <a:rect l="l" t="t" r="r" b="b"/>
            <a:pathLst>
              <a:path w="2193" h="2207">
                <a:moveTo>
                  <a:pt x="1714" y="0"/>
                </a:moveTo>
                <a:cubicBezTo>
                  <a:pt x="874" y="0"/>
                  <a:pt x="0" y="0"/>
                  <a:pt x="0" y="0"/>
                </a:cubicBezTo>
                <a:cubicBezTo>
                  <a:pt x="0" y="0"/>
                  <a:pt x="0" y="936"/>
                  <a:pt x="0" y="1872"/>
                </a:cubicBezTo>
                <a:cubicBezTo>
                  <a:pt x="985" y="2207"/>
                  <a:pt x="2193" y="1568"/>
                  <a:pt x="1714" y="0"/>
                </a:cubicBezTo>
                <a:close/>
              </a:path>
            </a:pathLst>
          </a:custGeom>
          <a:solidFill>
            <a:srgbClr val="bbe0e3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65160" y="-36360"/>
            <a:ext cx="5641920" cy="3074760"/>
          </a:xfrm>
          <a:custGeom>
            <a:avLst/>
            <a:gdLst/>
            <a:ahLst/>
            <a:rect l="l" t="t" r="r" b="b"/>
            <a:pathLst>
              <a:path w="3554" h="1937">
                <a:moveTo>
                  <a:pt x="2304" y="1856"/>
                </a:moveTo>
                <a:cubicBezTo>
                  <a:pt x="2799" y="1775"/>
                  <a:pt x="3554" y="1402"/>
                  <a:pt x="3497" y="15"/>
                </a:cubicBezTo>
                <a:cubicBezTo>
                  <a:pt x="3496" y="0"/>
                  <a:pt x="936" y="15"/>
                  <a:pt x="0" y="15"/>
                </a:cubicBezTo>
                <a:cubicBezTo>
                  <a:pt x="357" y="1897"/>
                  <a:pt x="1809" y="1937"/>
                  <a:pt x="2304" y="1856"/>
                </a:cubicBezTo>
                <a:close/>
              </a:path>
            </a:pathLst>
          </a:custGeom>
          <a:solidFill>
            <a:srgbClr val="fe9758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90920" y="3786120"/>
            <a:ext cx="5665680" cy="3103560"/>
          </a:xfrm>
          <a:custGeom>
            <a:avLst/>
            <a:gdLst/>
            <a:ahLst/>
            <a:rect l="l" t="t" r="r" b="b"/>
            <a:pathLst>
              <a:path w="3569" h="1955">
                <a:moveTo>
                  <a:pt x="470" y="1947"/>
                </a:moveTo>
                <a:cubicBezTo>
                  <a:pt x="1311" y="1947"/>
                  <a:pt x="3569" y="1955"/>
                  <a:pt x="3569" y="1955"/>
                </a:cubicBezTo>
                <a:cubicBezTo>
                  <a:pt x="3569" y="1955"/>
                  <a:pt x="3528" y="812"/>
                  <a:pt x="2287" y="333"/>
                </a:cubicBezTo>
                <a:cubicBezTo>
                  <a:pt x="1322" y="0"/>
                  <a:pt x="0" y="739"/>
                  <a:pt x="470" y="1947"/>
                </a:cubicBezTo>
                <a:close/>
              </a:path>
            </a:pathLst>
          </a:custGeom>
          <a:solidFill>
            <a:srgbClr val="82b181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914400"/>
            <a:ext cx="7696080" cy="5181480"/>
          </a:xfrm>
          <a:prstGeom prst="rect">
            <a:avLst/>
          </a:prstGeom>
          <a:solidFill>
            <a:srgbClr val="3a6382">
              <a:alpha val="91000"/>
            </a:srgbClr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67080" y="1371240"/>
            <a:ext cx="419112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3925800" cy="502920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3733920" y="659916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Book Antiqua"/>
              </a:rPr>
              <a:t>Copyright</a:t>
            </a: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Book Antiqua"/>
              </a:rPr>
              <a:t>© 2008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657216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Book Antiqua"/>
              </a:rPr>
              <a:t>McGraw-Hill/Irw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1219320"/>
          </a:xfrm>
          <a:prstGeom prst="rect">
            <a:avLst/>
          </a:prstGeom>
          <a:solidFill>
            <a:srgbClr val="3a5482">
              <a:alpha val="9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c0c12"/>
                </a:solidFill>
                <a:latin typeface="Arial"/>
              </a:rPr>
              <a:t>METODOLOGI PENELITI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6019560"/>
            <a:ext cx="8534160" cy="609480"/>
          </a:xfrm>
          <a:prstGeom prst="rect">
            <a:avLst/>
          </a:prstGeom>
          <a:solidFill>
            <a:srgbClr val="f8cb7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13111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d by: Yudhi Herliansy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3353040"/>
            <a:ext cx="80010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ESI 5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ELEMENT RESEARCH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792520" y="26971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0AB6F-4B4C-48D6-8AD2-394C94A007A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solidFill>
            <a:srgbClr val="3a5482">
              <a:alpha val="9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oh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34160" cy="4724280"/>
          </a:xfrm>
          <a:prstGeom prst="rect">
            <a:avLst/>
          </a:prstGeom>
          <a:solidFill>
            <a:srgbClr val="ffcc66">
              <a:alpha val="94000"/>
            </a:srgbClr>
          </a:solidFill>
          <a:ln w="38160">
            <a:solidFill>
              <a:srgbClr val="3a54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elitian tentang dampak pengumuman deviden yang dilakukan oleh banyak perusahaan manufaktur untuk banyak periode, misal utk tahun, 2001,2002, 2003, 2004, 2005, 2006, 2007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elitian tentang Kinerja banyak Perusahaan manufaktur menggunakan analisis rasio keuangan tahun 2001,2002, 2003, 2004, 2005, 2006, 2007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277BA-E303-48E9-9980-9B22983945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solidFill>
            <a:srgbClr val="3a5482">
              <a:alpha val="9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ongitudin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2590920"/>
            <a:ext cx="8534160" cy="3047760"/>
          </a:xfrm>
          <a:prstGeom prst="rect">
            <a:avLst/>
          </a:prstGeom>
          <a:solidFill>
            <a:srgbClr val="ffff00">
              <a:alpha val="94000"/>
            </a:srgbClr>
          </a:solidFill>
          <a:ln w="38160">
            <a:solidFill>
              <a:srgbClr val="3a54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elitian yang merupakan gabungan antara crossection dan data pooled dimana menggunakan penelitian data pr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upakan gabungan antara banyak sampel dan banyak waktu pengamatan untuk sifat penelitian yang menggunakan data prim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3DB12-8FBC-4963-97CA-5C687439E9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solidFill>
            <a:srgbClr val="3a5482">
              <a:alpha val="9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oh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34160" cy="4724280"/>
          </a:xfrm>
          <a:prstGeom prst="rect">
            <a:avLst/>
          </a:prstGeom>
          <a:solidFill>
            <a:srgbClr val="ffcc66">
              <a:alpha val="94000"/>
            </a:srgbClr>
          </a:solidFill>
          <a:ln w="38160">
            <a:solidFill>
              <a:srgbClr val="3a54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elitian  persepsi mahasiswa tentang optimalisasi fasilitas IT UMB tahun 2000, 2005, 2006, 2007, 200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lam contoh ini peneliti melakukan pengamatan/ potret fenomena yang sedang terjadi dalam beberapa periode pengamat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18885-A7D8-4666-BDB2-094DD95712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solidFill>
            <a:srgbClr val="3a5482">
              <a:alpha val="9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ISA KARAKTERISTIK PERUSAHAAN, INDUSTRI DAN EKONOMI MAKRO TERHADAP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N BETA SAHAM SYARIAH DI BURSA EFEK JAKART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4876920"/>
          </a:xfrm>
          <a:prstGeom prst="rect">
            <a:avLst/>
          </a:prstGeom>
          <a:solidFill>
            <a:srgbClr val="ffcc66">
              <a:alpha val="94000"/>
            </a:srgbClr>
          </a:solidFill>
          <a:ln w="38160">
            <a:solidFill>
              <a:srgbClr val="3a54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ang lingkup penelitian ini adalah sebagai beriku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Fokus penelitian merupakan saham emiten ya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st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 Bursa Efek Jakarta (BEJ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Obyek yang diteliti adalah saham perusahaan yang termasuk dala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akarta Islam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de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JII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Periode yang diteliti dari Januari 2001 sampai Desember 200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el dependen adala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 beta saham syaria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Variabel independen adalah variabel-variabel karakteristik perusahaan, industri dan ekonomi mak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40836-CB1D-40C6-835F-EF48EE4EAD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solidFill>
            <a:srgbClr val="3a5482">
              <a:alpha val="9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ALISA HUBUNGAN INDEX HARGA SAHAM GABUNGAN (IHSG) JAKARTA (JSX), LONDON (FTSE), TOKYO (NIKKEI) DAN SINGAPURA (SSI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952880"/>
          </a:xfrm>
          <a:prstGeom prst="rect">
            <a:avLst/>
          </a:prstGeom>
          <a:solidFill>
            <a:srgbClr val="ffcc66">
              <a:alpha val="94000"/>
            </a:srgbClr>
          </a:solidFill>
          <a:ln w="38160">
            <a:solidFill>
              <a:srgbClr val="3a54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yang digunakan dalam penelitian ini adalah kurs efek bulanan yang disediakan oleh Pusat Data Informasi di Bursa Efek Jakarta untuk masing-masing negara yang dijadikan penelitian. Data yang digunakan adalah dari bulan Januari 2000 sampai dengan Juni 2005 (66 Bulan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6D017-2A1A-4682-8FBF-E7B3FA0CDE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990720" y="533520"/>
            <a:ext cx="2257200" cy="3560760"/>
            <a:chOff x="990720" y="533520"/>
            <a:chExt cx="2257200" cy="3560760"/>
          </a:xfrm>
        </p:grpSpPr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990720" y="533520"/>
              <a:ext cx="2257200" cy="356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1082520" y="579600"/>
              <a:ext cx="2022120" cy="34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819520" y="3048120"/>
            <a:ext cx="5354640" cy="2742840"/>
            <a:chOff x="2819520" y="3048120"/>
            <a:chExt cx="5354640" cy="274284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2819520" y="3048120"/>
              <a:ext cx="5354640" cy="27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2911680" y="3106440"/>
              <a:ext cx="5119920" cy="25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0F7A3-457A-4E1A-915C-28D475C4BC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c0c12"/>
                </a:solidFill>
                <a:latin typeface="Arial"/>
              </a:rPr>
              <a:t>RESEARCH DESIG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1447920"/>
            <a:ext cx="20574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yp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vestig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Causal re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Corre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Group diffr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ra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91120" y="1447920"/>
            <a:ext cx="1904760" cy="19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t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searc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inimal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udying ev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nipulat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, sim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447920"/>
            <a:ext cx="1143000" cy="19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ud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i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nc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i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4648320"/>
            <a:ext cx="2133720" cy="22096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ta Coo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tho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Observ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Int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Question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Phsys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obtrus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43800" y="1143000"/>
            <a:ext cx="1600200" cy="2362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nt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Oper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fin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aling, c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rizing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3657600"/>
            <a:ext cx="1371600" cy="1371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Feel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Good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Hypothes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447920"/>
            <a:ext cx="1600200" cy="175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urpos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kxplo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ypothes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876920"/>
            <a:ext cx="1752480" cy="1676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One sho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crossect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Longitud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57400" y="4876920"/>
            <a:ext cx="1523880" cy="1676160"/>
          </a:xfrm>
          <a:prstGeom prst="rect">
            <a:avLst/>
          </a:prstGeom>
          <a:solidFill>
            <a:srgbClr val="fbe3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ampl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sig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npr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800600"/>
            <a:ext cx="198108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it Analys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dividu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y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rga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581280"/>
            <a:ext cx="1295280" cy="8384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396252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32004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32767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3429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05720" y="3429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53889-4398-4B67-A944-5106C4E275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HAS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2819520"/>
            <a:ext cx="8534160" cy="26668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ncangan riset berdasar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ime horiz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ncangan riset eksperimen (sederha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hasan Jur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197B2-9CDA-4C0A-8139-F397DE84FD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solidFill>
            <a:srgbClr val="3a5482">
              <a:alpha val="9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ancangan riset berdasar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ime horiz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2742840"/>
            <a:ext cx="8534160" cy="2514600"/>
          </a:xfrm>
          <a:prstGeom prst="rect">
            <a:avLst/>
          </a:prstGeom>
          <a:solidFill>
            <a:srgbClr val="ffff00">
              <a:alpha val="94000"/>
            </a:srgbClr>
          </a:solidFill>
          <a:ln w="38160">
            <a:solidFill>
              <a:srgbClr val="3a54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One Shot atau crossec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imes 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Panel data atau pool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Longitud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89BE4-F494-4902-A88A-EB882E9DD3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solidFill>
            <a:srgbClr val="3a5482">
              <a:alpha val="9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e Shot atau crossection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4495680"/>
          </a:xfrm>
          <a:prstGeom prst="rect">
            <a:avLst/>
          </a:prstGeom>
          <a:solidFill>
            <a:srgbClr val="ffff00">
              <a:alpha val="94000"/>
            </a:srgbClr>
          </a:solidFill>
          <a:ln w="38160">
            <a:solidFill>
              <a:srgbClr val="3a54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upakan rancangan penelitian yang melibatkan satu waktu tertentu dengan banyak samp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lakukan dengan data yang hanya sekali dikumpulkan dalam periode harian migguan atau bulan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26920-4DF1-4845-BAAE-84030D37DC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solidFill>
            <a:srgbClr val="3a5482">
              <a:alpha val="9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oh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34160" cy="4724280"/>
          </a:xfrm>
          <a:prstGeom prst="rect">
            <a:avLst/>
          </a:prstGeom>
          <a:solidFill>
            <a:srgbClr val="ffcc66">
              <a:alpha val="94000"/>
            </a:srgbClr>
          </a:solidFill>
          <a:ln w="38160">
            <a:solidFill>
              <a:srgbClr val="3a54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elitian tentang dampak pengumuman deviden yang dilakukan oleh perusahaan manufaktur untuk 1 periode, misal  utk tahun 200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elitian tentang Kinerja Perusahaan manufaktur menggunakan analisis rasio keuangan tahun 200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elitian  persepsi mahasiswa tentang optimalisasi fasilitas IT UMB tahun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1F7E7-0173-4E37-B54D-64895A4459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09480" y="2133720"/>
            <a:ext cx="8001000" cy="289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upakan penelitian yang melibatkan serangkaian waktu (banyak waktu) dengan satu atau beberapa objek peneliti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solidFill>
            <a:srgbClr val="3a5482">
              <a:alpha val="9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 Ser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A8AE9-807A-4A86-867B-B90A0AE7A50A}" type="slidenum">
              <a:t>7</a:t>
            </a:fld>
          </a:p>
        </p:txBody>
      </p:sp>
    </p:spTree>
  </p:cSld>
  <p:transition>
    <p:blinds dir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solidFill>
            <a:srgbClr val="3a5482">
              <a:alpha val="9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oh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34160" cy="4724280"/>
          </a:xfrm>
          <a:prstGeom prst="rect">
            <a:avLst/>
          </a:prstGeom>
          <a:solidFill>
            <a:srgbClr val="ffcc66">
              <a:alpha val="94000"/>
            </a:srgbClr>
          </a:solidFill>
          <a:ln w="38160">
            <a:solidFill>
              <a:srgbClr val="3a54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elitian tentang dampak pengumuman deviden yang dilakukan oleh satu perusahaan manufaktur untuk banyak periode, misal utk tahun, 2001,2002, 2003, 2004, 2005, 2006, 2007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elitian tentang Kinerja sebuah Perusahaan manufaktur menggunakan analisis rasio keuangan tahun 2001,2002, 2003, 2004, 2005, 2006, 2007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B3905-1EEE-465F-AFB8-D80C5B7615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solidFill>
            <a:srgbClr val="3a5482">
              <a:alpha val="9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nel Data atau Data Pool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590920"/>
            <a:ext cx="8534160" cy="3047760"/>
          </a:xfrm>
          <a:prstGeom prst="rect">
            <a:avLst/>
          </a:prstGeom>
          <a:solidFill>
            <a:srgbClr val="ffff00">
              <a:alpha val="94000"/>
            </a:srgbClr>
          </a:solidFill>
          <a:ln w="38160">
            <a:solidFill>
              <a:srgbClr val="3a54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upakan gabungan antara crossection dan data poo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upakan gabungan antara banyak sampel dan banyak waktu pengamat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57367-F77B-4D4F-B2D6-62F3D27FDE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14T22:32:30Z</dcterms:created>
  <dc:creator>Jon A. Booker</dc:creator>
  <dc:description/>
  <cp:keywords/>
  <dc:language>en-US</dc:language>
  <cp:lastModifiedBy>user</cp:lastModifiedBy>
  <cp:lastPrinted>2001-01-17T16:52:16Z</cp:lastPrinted>
  <dcterms:modified xsi:type="dcterms:W3CDTF">2008-11-07T02:12:13Z</dcterms:modified>
  <cp:revision>100</cp:revision>
  <dc:subject>Chapter 1 Hilton</dc:subject>
  <dc:title>Managerial Accounting Overview</dc:title>
</cp:coreProperties>
</file>