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B859-76DB-4692-A97A-02814651D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C282-443B-4E9B-8C5C-92CC9AE53D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047"/>
            </a:gs>
            <a:gs pos="50000">
              <a:srgbClr val="990099"/>
            </a:gs>
            <a:gs pos="100000">
              <a:srgbClr val="4700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99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" name="Picture 5" descr="D:\FRONTPAGE THEMES\CONSTRUC\URBBANND.PNG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3aaad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" name="AutoShape 11"/>
          <p:cNvCxnSpPr/>
          <p:nvPr/>
        </p:nvCxnSpPr>
        <p:spPr>
          <a:xfrm>
            <a:off x="0" y="1854000"/>
            <a:ext cx="9144720" cy="1080"/>
          </a:xfrm>
          <a:prstGeom prst="straightConnector1">
            <a:avLst/>
          </a:prstGeom>
          <a:ln w="57240">
            <a:solidFill>
              <a:srgbClr val="ffff00"/>
            </a:solidFill>
            <a:miter/>
          </a:ln>
        </p:spPr>
      </p:cxnSp>
      <p:cxnSp>
        <p:nvCxnSpPr>
          <p:cNvPr id="7" name="AutoShape 12"/>
          <p:cNvCxnSpPr/>
          <p:nvPr/>
        </p:nvCxnSpPr>
        <p:spPr>
          <a:xfrm>
            <a:off x="0" y="1790280"/>
            <a:ext cx="9144720" cy="1080"/>
          </a:xfrm>
          <a:prstGeom prst="straightConnector1">
            <a:avLst/>
          </a:prstGeom>
          <a:ln w="57240">
            <a:solidFill>
              <a:srgbClr val="00cc00"/>
            </a:solidFill>
            <a:miter/>
          </a:ln>
        </p:spPr>
      </p:cxnSp>
      <p:cxnSp>
        <p:nvCxnSpPr>
          <p:cNvPr id="8" name="AutoShape 13"/>
          <p:cNvCxnSpPr/>
          <p:nvPr/>
        </p:nvCxnSpPr>
        <p:spPr>
          <a:xfrm>
            <a:off x="0" y="1736280"/>
            <a:ext cx="9144720" cy="1080"/>
          </a:xfrm>
          <a:prstGeom prst="straightConnector1">
            <a:avLst/>
          </a:prstGeom>
          <a:ln w="57240">
            <a:solidFill>
              <a:srgbClr val="ff00ff"/>
            </a:solidFill>
            <a:miter/>
          </a:ln>
        </p:spPr>
      </p:cxnSp>
      <p:sp>
        <p:nvSpPr>
          <p:cNvPr id="9" name="Rectangle 15"/>
          <p:cNvSpPr/>
          <p:nvPr/>
        </p:nvSpPr>
        <p:spPr>
          <a:xfrm>
            <a:off x="7165800" y="6270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2 - </a:t>
            </a:r>
            <a:fld id="{CBA0196B-E294-4478-BFFA-1E5670DDEE9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Text Box 16"/>
          <p:cNvSpPr/>
          <p:nvPr/>
        </p:nvSpPr>
        <p:spPr>
          <a:xfrm>
            <a:off x="0" y="6270480"/>
            <a:ext cx="731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©2003 Prentice Hall Business Publishing,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Cost Accounting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11/e,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Horngren/Datar/Foste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047"/>
            </a:gs>
            <a:gs pos="50000">
              <a:srgbClr val="990099"/>
            </a:gs>
            <a:gs pos="100000">
              <a:srgbClr val="4700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Rectangle 3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Rectangle 4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0" name="Picture 5" descr="D:\FRONTPAGE THEMES\CONSTRUC\URBBANND.PNG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Rectangle 12"/>
          <p:cNvSpPr/>
          <p:nvPr/>
        </p:nvSpPr>
        <p:spPr>
          <a:xfrm>
            <a:off x="7165800" y="6270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2 - </a:t>
            </a:r>
            <a:fld id="{C0FE79D8-BE39-46CD-B5BB-5C4E5645AAD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0" y="6270480"/>
            <a:ext cx="731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©2003 Prentice Hall Business Publishing,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Cost Accounting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11/e,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Horngren/Datar/Foste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3aaad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400" y="2101680"/>
            <a:ext cx="8226360" cy="209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anagement Control Systems,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ransfer Pricing, and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ultinational Consider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741400" y="4570560"/>
            <a:ext cx="3655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hapter 2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entralization in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national Compan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455760" y="2376360"/>
            <a:ext cx="8226360" cy="15541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5e18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entralization enables country managers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decisions that exploit their knowle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local business and political condi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455760" y="3930480"/>
            <a:ext cx="8226360" cy="155448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185e1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national corporations often ro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agers between foreign lo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corporate headquart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ponsibility Cen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1095480" y="2376360"/>
            <a:ext cx="2925720" cy="14623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Oval 5"/>
          <p:cNvSpPr/>
          <p:nvPr/>
        </p:nvSpPr>
        <p:spPr>
          <a:xfrm>
            <a:off x="5118120" y="2376360"/>
            <a:ext cx="2925720" cy="1462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en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Oval 6"/>
          <p:cNvSpPr/>
          <p:nvPr/>
        </p:nvSpPr>
        <p:spPr>
          <a:xfrm>
            <a:off x="5118120" y="4386240"/>
            <a:ext cx="2925720" cy="1461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ves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Oval 7"/>
          <p:cNvSpPr/>
          <p:nvPr/>
        </p:nvSpPr>
        <p:spPr>
          <a:xfrm>
            <a:off x="1095480" y="4386240"/>
            <a:ext cx="2925720" cy="14619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f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earning Objective 3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55760" y="2376360"/>
            <a:ext cx="82263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xplain transfer prices and fou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riteria used to evaluate them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ansfer Pric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455760" y="2376360"/>
            <a:ext cx="8226360" cy="15541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5e18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fafd00"/>
                </a:solidFill>
                <a:latin typeface="Times New Roman"/>
              </a:rPr>
              <a:t>transfer pric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the price one subunit char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a product or service supplied to an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unit of the same organiz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455760" y="3930480"/>
            <a:ext cx="8226360" cy="109728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185e1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afd00"/>
                </a:solidFill>
                <a:latin typeface="Times New Roman"/>
              </a:rPr>
              <a:t>Intermediate product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the produ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ferred between subunits of an organiz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ansfer Pric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370160" y="2376360"/>
            <a:ext cx="6399000" cy="10969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5e18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fer pricing should help achie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company’s strategies and go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1370160" y="3473280"/>
            <a:ext cx="6399000" cy="64008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185e1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t the organization’s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1370160" y="4113360"/>
            <a:ext cx="6399000" cy="639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mote goal congru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1370160" y="4753080"/>
            <a:ext cx="6399000" cy="1096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mote a sustained high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management eff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ansfer-Pricing Metho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912960" y="2376360"/>
            <a:ext cx="5484600" cy="9144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5e1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ket-based transfer pr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827360" y="3656160"/>
            <a:ext cx="5484600" cy="91440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185e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st-based transfer pr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2741760" y="4935600"/>
            <a:ext cx="5484600" cy="9144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gotiated transfer pr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ansfer-Pric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827360" y="2192400"/>
            <a:ext cx="5484600" cy="10969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5e18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mas &amp; Co. has two divi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portation and Refin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455760" y="3473280"/>
            <a:ext cx="4387680" cy="155448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185e1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portation purch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ude oil in Alaska 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nds it to Seatt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7" descr="D:\CLIP_ART\ENERGY\REFINERY.WMF"/>
          <p:cNvPicPr/>
          <p:nvPr/>
        </p:nvPicPr>
        <p:blipFill>
          <a:blip r:embed="rId1"/>
          <a:stretch/>
        </p:blipFill>
        <p:spPr>
          <a:xfrm>
            <a:off x="6078600" y="507204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5300640" y="3475080"/>
            <a:ext cx="3382920" cy="15541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ining proce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ude o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o gasoli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11" descr=""/>
          <p:cNvPicPr/>
          <p:nvPr/>
        </p:nvPicPr>
        <p:blipFill>
          <a:blip r:embed="rId2"/>
          <a:stretch/>
        </p:blipFill>
        <p:spPr>
          <a:xfrm>
            <a:off x="1279440" y="5070600"/>
            <a:ext cx="2741760" cy="13716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arison of Metho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12960" y="2192400"/>
            <a:ext cx="7313400" cy="6397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5e18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ful for Evaluating Subunit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928800" y="3214800"/>
            <a:ext cx="2558880" cy="63972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100000">
                <a:srgbClr val="33cc33"/>
              </a:gs>
            </a:gsLst>
            <a:lin ang="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afd00"/>
                </a:solidFill>
                <a:latin typeface="Times New Roman"/>
              </a:rPr>
              <a:t>Market Pri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3473280" y="3198960"/>
            <a:ext cx="4753080" cy="63972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185e18"/>
              </a:gs>
            </a:gsLst>
            <a:lin ang="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es, if markets competi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914400" y="3838680"/>
            <a:ext cx="2558880" cy="1096920"/>
          </a:xfrm>
          <a:prstGeom prst="rect">
            <a:avLst/>
          </a:prstGeom>
          <a:gradFill rotWithShape="0">
            <a:gsLst>
              <a:gs pos="0">
                <a:srgbClr val="002f76"/>
              </a:gs>
              <a:gs pos="100000">
                <a:srgbClr val="0066ff"/>
              </a:gs>
            </a:gsLst>
            <a:lin ang="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afd00"/>
                </a:solidFill>
                <a:latin typeface="Times New Roman"/>
              </a:rPr>
              <a:t>Cost-Base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3473280" y="3838680"/>
            <a:ext cx="4753080" cy="10969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lin ang="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icult, unless transf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ce exceeds full 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914400" y="4935600"/>
            <a:ext cx="2558880" cy="63972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100000">
                <a:srgbClr val="ff9900"/>
              </a:gs>
            </a:gsLst>
            <a:lin ang="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afd00"/>
                </a:solidFill>
                <a:latin typeface="Times New Roman"/>
              </a:rPr>
              <a:t>Negotiate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3473280" y="4935600"/>
            <a:ext cx="4753080" cy="6397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arison of Metho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915840" y="2192400"/>
            <a:ext cx="7313760" cy="6397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5e18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tivates Management Eff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914400" y="3198960"/>
            <a:ext cx="2558880" cy="63972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100000">
                <a:srgbClr val="33cc33"/>
              </a:gs>
            </a:gsLst>
            <a:lin ang="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afd00"/>
                </a:solidFill>
                <a:latin typeface="Times New Roman"/>
              </a:rPr>
              <a:t>Market Pri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3473280" y="3198960"/>
            <a:ext cx="4753080" cy="63972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185e18"/>
              </a:gs>
            </a:gsLst>
            <a:lin ang="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914400" y="3838680"/>
            <a:ext cx="2558880" cy="1554120"/>
          </a:xfrm>
          <a:prstGeom prst="rect">
            <a:avLst/>
          </a:prstGeom>
          <a:gradFill rotWithShape="0">
            <a:gsLst>
              <a:gs pos="0">
                <a:srgbClr val="002f76"/>
              </a:gs>
              <a:gs pos="100000">
                <a:srgbClr val="0066ff"/>
              </a:gs>
            </a:gsLst>
            <a:lin ang="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afd00"/>
                </a:solidFill>
                <a:latin typeface="Times New Roman"/>
              </a:rPr>
              <a:t>Cost-Base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3473280" y="3838680"/>
            <a:ext cx="4753080" cy="15541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lin ang="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es, if based on budge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sts; less incentive i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ed on actual 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914400" y="5392800"/>
            <a:ext cx="2558880" cy="63972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100000">
                <a:srgbClr val="ff9900"/>
              </a:gs>
            </a:gsLst>
            <a:lin ang="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afd00"/>
                </a:solidFill>
                <a:latin typeface="Times New Roman"/>
              </a:rPr>
              <a:t>Negotiate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473280" y="5392800"/>
            <a:ext cx="4753080" cy="6397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arison of Metho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912960" y="2192400"/>
            <a:ext cx="7313400" cy="6397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5e18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rves Subunit Autono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914400" y="3198960"/>
            <a:ext cx="2558880" cy="63972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100000">
                <a:srgbClr val="33cc33"/>
              </a:gs>
            </a:gsLst>
            <a:lin ang="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afd00"/>
                </a:solidFill>
                <a:latin typeface="Times New Roman"/>
              </a:rPr>
              <a:t>Market Pri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3473280" y="3198960"/>
            <a:ext cx="4753080" cy="63972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185e18"/>
              </a:gs>
            </a:gsLst>
            <a:lin ang="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es, if markets competi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914400" y="3838680"/>
            <a:ext cx="2558880" cy="639720"/>
          </a:xfrm>
          <a:prstGeom prst="rect">
            <a:avLst/>
          </a:prstGeom>
          <a:gradFill rotWithShape="0">
            <a:gsLst>
              <a:gs pos="0">
                <a:srgbClr val="002f76"/>
              </a:gs>
              <a:gs pos="100000">
                <a:srgbClr val="0066ff"/>
              </a:gs>
            </a:gsLst>
            <a:lin ang="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afd00"/>
                </a:solidFill>
                <a:latin typeface="Times New Roman"/>
              </a:rPr>
              <a:t>Cost-Base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3473280" y="3838680"/>
            <a:ext cx="4753080" cy="639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lin ang="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, it is rule b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914400" y="4478400"/>
            <a:ext cx="2558880" cy="63972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100000">
                <a:srgbClr val="ff9900"/>
              </a:gs>
            </a:gsLst>
            <a:lin ang="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afd00"/>
                </a:solidFill>
                <a:latin typeface="Times New Roman"/>
              </a:rPr>
              <a:t>Negotiate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3473280" y="4478400"/>
            <a:ext cx="4753080" cy="6397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earning Objective 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1370160" y="2376360"/>
            <a:ext cx="6399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escribe a manage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ntrol system and i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ree key properti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arison of Metho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912960" y="2192400"/>
            <a:ext cx="7313400" cy="6397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5e18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Fa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914400" y="3198960"/>
            <a:ext cx="2558880" cy="63972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100000">
                <a:srgbClr val="33cc33"/>
              </a:gs>
            </a:gsLst>
            <a:lin ang="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afd00"/>
                </a:solidFill>
                <a:latin typeface="Times New Roman"/>
              </a:rPr>
              <a:t>Market Pri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3473280" y="3198960"/>
            <a:ext cx="4753080" cy="63972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185e18"/>
              </a:gs>
            </a:gsLst>
            <a:lin ang="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market may ex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914400" y="3838680"/>
            <a:ext cx="2558880" cy="1096920"/>
          </a:xfrm>
          <a:prstGeom prst="rect">
            <a:avLst/>
          </a:prstGeom>
          <a:gradFill rotWithShape="0">
            <a:gsLst>
              <a:gs pos="0">
                <a:srgbClr val="002f76"/>
              </a:gs>
              <a:gs pos="100000">
                <a:srgbClr val="0066ff"/>
              </a:gs>
            </a:gsLst>
            <a:lin ang="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afd00"/>
                </a:solidFill>
                <a:latin typeface="Times New Roman"/>
              </a:rPr>
              <a:t>Cost-Base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3473280" y="3838680"/>
            <a:ext cx="4753080" cy="10969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lin ang="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ful for determ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-cost; easy to impl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914400" y="4935600"/>
            <a:ext cx="2558880" cy="109692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100000">
                <a:srgbClr val="ff9900"/>
              </a:gs>
            </a:gsLst>
            <a:lin ang="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afd00"/>
                </a:solidFill>
                <a:latin typeface="Times New Roman"/>
              </a:rPr>
              <a:t>Negotiate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3473280" y="4935600"/>
            <a:ext cx="4753080" cy="1096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rgaining takes time 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need to be review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Guidel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93840" y="2984400"/>
            <a:ext cx="8597880" cy="2273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um transfer pr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Incremental costs per unit incur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 to the point of transf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Opportunity costs per unit to the selling divi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rnal Pricing – Transfer pricing issu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642960" y="20001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Rod Transparent"/>
              </a:rPr>
              <a:t>Transfer Price i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Rod Transparent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Rod Transparent"/>
              </a:rPr>
              <a:t>the internal price charged by one segment of a firm for a product or service supplied to another segment of the same fi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Rod Transparent"/>
              </a:rPr>
              <a:t>Such 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Rod Transparent"/>
              </a:rPr>
              <a:t>Internal charge paid by final assembly division for components produced by other divi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Rod Transparent"/>
              </a:rPr>
              <a:t>Service fees to operating departments for telecommunications, maintenance, and services by support services depart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ffects of Transfer Price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214200" y="2357280"/>
            <a:ext cx="8143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rformance measurement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allocate total company profits among business seg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fluence decision making by purchasing, production, marketing, and investment manag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wards and punishme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ensation for divisional manag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titioning decision righ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utes over determining transfer pr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deal Transfer Pric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500040" y="1928880"/>
            <a:ext cx="8358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al transfer price would b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pportunity cost, or the value forgone by not using the transferred product in its next best alternative 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pportunity cost is the greater of variable production cost or revenue available if the product is sold outside of the fi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ansfer Pricing Implemen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285840" y="1963800"/>
            <a:ext cx="8286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putes over transfer pricing occur frequently because transfer prices influence performance evaluation of manag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nal accounting data are often used to set transfer prices, even when external market prices are avail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ifying costs as fixed or variable can influence transfer prices determined by internal accounting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reduce transfer pricing disputes, firms may reorganize by combining interdependent segments or spinning off some segments as separate fi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13880" y="713880"/>
            <a:ext cx="7815240" cy="75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ansfer Pricing for International Tax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285840" y="2071800"/>
            <a:ext cx="85010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hen products or services of a multinational firm are transferred between segments located in countries with different tax rates, the firm attempts to set a transfer price that minimizes total income tax liabilit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gment in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higher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tax countr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Reduc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taxable income in that country by charging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high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prices on imports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low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prices on expor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gment in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lower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ax countr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Increas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taxable income in that country by charging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low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prices on imports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high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prices on expor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overnment tax regulators try to reduce transfer pricing manipula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national Transfer Pric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455760" y="2852640"/>
            <a:ext cx="8226360" cy="2741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RC Section 482 requires that transfer prices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th tangible and intangible property between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any and its foreign division be set to eq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ice that would be charged by an unrel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party in a comparable transa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nagement Control Syste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Text Box 1028"/>
          <p:cNvSpPr/>
          <p:nvPr/>
        </p:nvSpPr>
        <p:spPr>
          <a:xfrm>
            <a:off x="272880" y="2376360"/>
            <a:ext cx="8593200" cy="10969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5e18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anagement control system is a me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gathering and using informatio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1029"/>
          <p:cNvSpPr/>
          <p:nvPr/>
        </p:nvSpPr>
        <p:spPr>
          <a:xfrm>
            <a:off x="272880" y="3473280"/>
            <a:ext cx="8593200" cy="64008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185e1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guides the behavior of managers and employe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nagement Control Syste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279440" y="2376360"/>
            <a:ext cx="4388040" cy="731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ncial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279440" y="4386240"/>
            <a:ext cx="4388040" cy="731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al control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473280" y="3381480"/>
            <a:ext cx="4388040" cy="731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financial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473280" y="5392800"/>
            <a:ext cx="4388040" cy="731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ormal control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valuating Manage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trol Syste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44280" y="2376360"/>
            <a:ext cx="3016440" cy="6397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5e18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3060720" y="2376360"/>
            <a:ext cx="3016080" cy="63972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185e1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al congru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6078600" y="2376360"/>
            <a:ext cx="3016080" cy="639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3198960" y="4021200"/>
            <a:ext cx="2741400" cy="6397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5e18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 to rew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370160" y="5392800"/>
            <a:ext cx="2741400" cy="63972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185e1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etar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5027760" y="5392800"/>
            <a:ext cx="2741400" cy="639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monet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AutoShape 23"/>
          <p:cNvSpPr/>
          <p:nvPr/>
        </p:nvSpPr>
        <p:spPr>
          <a:xfrm rot="16200000">
            <a:off x="4253760" y="462240"/>
            <a:ext cx="639720" cy="6032520"/>
          </a:xfrm>
          <a:custGeom>
            <a:avLst/>
            <a:gdLst>
              <a:gd name="textAreaLeft" fmla="*/ 408600 w 639720"/>
              <a:gd name="textAreaRight" fmla="*/ 640080 w 639720"/>
              <a:gd name="textAreaTop" fmla="*/ 157320 h 6032520"/>
              <a:gd name="textAreaBottom" fmla="*/ 5875200 h 603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AutoShape 24"/>
          <p:cNvCxnSpPr>
            <a:stCxn id="114" idx="2"/>
            <a:endCxn id="115" idx="0"/>
          </p:cNvCxnSpPr>
          <p:nvPr/>
        </p:nvCxnSpPr>
        <p:spPr>
          <a:xfrm rot="5400000">
            <a:off x="3289680" y="4112280"/>
            <a:ext cx="732600" cy="1829520"/>
          </a:xfrm>
          <a:prstGeom prst="bentConnector3">
            <a:avLst>
              <a:gd name="adj1" fmla="val 49852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19" name="AutoShape 25"/>
          <p:cNvCxnSpPr>
            <a:stCxn id="114" idx="2"/>
            <a:endCxn id="116" idx="0"/>
          </p:cNvCxnSpPr>
          <p:nvPr/>
        </p:nvCxnSpPr>
        <p:spPr>
          <a:xfrm flipH="1" rot="16200000">
            <a:off x="5118840" y="4111920"/>
            <a:ext cx="732600" cy="1829520"/>
          </a:xfrm>
          <a:prstGeom prst="bentConnector3">
            <a:avLst>
              <a:gd name="adj1" fmla="val 49852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</p:spTree>
  </p:cSld>
  <p:transition>
    <p:wipe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earning Objective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1370160" y="2376360"/>
            <a:ext cx="6399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escribe the benefits a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sts of decentralizatio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rganization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72880" y="2376360"/>
            <a:ext cx="3838680" cy="6397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5e18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tal decentral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72880" y="5300640"/>
            <a:ext cx="3838680" cy="63972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185e1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tal central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4329000" y="3009960"/>
            <a:ext cx="4662720" cy="2247840"/>
          </a:xfrm>
          <a:prstGeom prst="rect">
            <a:avLst/>
          </a:prstGeom>
          <a:ln w="0">
            <a:noFill/>
          </a:ln>
        </p:spPr>
      </p:pic>
      <p:cxnSp>
        <p:nvCxnSpPr>
          <p:cNvPr id="126" name="AutoShape 9"/>
          <p:cNvCxnSpPr/>
          <p:nvPr/>
        </p:nvCxnSpPr>
        <p:spPr>
          <a:xfrm>
            <a:off x="1552320" y="3016080"/>
            <a:ext cx="1080" cy="228528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27" name="AutoShape 10"/>
          <p:cNvCxnSpPr/>
          <p:nvPr/>
        </p:nvCxnSpPr>
        <p:spPr>
          <a:xfrm>
            <a:off x="2833200" y="3016080"/>
            <a:ext cx="1080" cy="2285280"/>
          </a:xfrm>
          <a:prstGeom prst="straightConnector1">
            <a:avLst/>
          </a:prstGeom>
          <a:ln w="28440">
            <a:solidFill>
              <a:srgbClr val="ffff00"/>
            </a:solidFill>
            <a:miter/>
            <a:headEnd len="med" type="triangle" w="med"/>
          </a:ln>
        </p:spPr>
      </p:cxnSp>
    </p:spTree>
  </p:cSld>
  <p:transition>
    <p:wipe dir="l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nefits of Decentraliz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455760" y="2376360"/>
            <a:ext cx="8226360" cy="6397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5e18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s greater responsiveness to local n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55760" y="3016080"/>
            <a:ext cx="8226360" cy="64008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185e1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s to gains from quicker decision ma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55760" y="3656160"/>
            <a:ext cx="8226360" cy="639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s motivation of subunit manag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455760" y="4295880"/>
            <a:ext cx="8226360" cy="6397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ists management development and lea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455760" y="4935600"/>
            <a:ext cx="8226360" cy="63972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100000">
                <a:srgbClr val="76007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arpens the focus of subunit manag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sts of Decentraliz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455760" y="2376360"/>
            <a:ext cx="8226360" cy="6397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5e18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optimal decision making may occ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455760" y="3016080"/>
            <a:ext cx="8226360" cy="109728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185e1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uses the manager’s attention on the subun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ther than the organization as a who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455760" y="4113360"/>
            <a:ext cx="8226360" cy="639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s the costs of gathering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455760" y="4753080"/>
            <a:ext cx="8226360" cy="6397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lts in duplication of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12:21:33Z</dcterms:created>
  <dc:creator>Olga Quintana</dc:creator>
  <dc:description/>
  <dc:language>en-US</dc:language>
  <cp:lastModifiedBy>Your User Name</cp:lastModifiedBy>
  <dcterms:modified xsi:type="dcterms:W3CDTF">2009-11-29T03:32:04Z</dcterms:modified>
  <cp:revision>112</cp:revision>
  <dc:subject>Cost Accounting 11/e</dc:subject>
  <dc:title>Management Control Systems, Transfer Pricing, and Multinational Considerations</dc:title>
</cp:coreProperties>
</file>