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E31C-EC76-45A8-8D86-6145C08D3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411768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D5CA-1C15-4BD8-AE8D-3EAD32F1E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8276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936E-4E1E-46FE-BD81-15309BD89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48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02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48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02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2069-F982-4BC3-BA91-68C54AE9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D813-EE9C-4C53-920A-87B59AF32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8276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411768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8276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948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802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948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802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E221-DBA4-4F5B-B2B3-F9173086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F01B-3C51-466D-BF01-2CAECB13B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A792-2C9D-4893-9B56-3604B4D43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731F-7E10-48EF-B498-D7B3B510A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89DA-4189-421E-BB96-AFE5C6169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82760" y="411768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DC28-791B-475A-BCA5-E1D3AD9A9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2760" y="137124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11768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A1C3-7D38-453D-B666-F10463A54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70000" contrast="-70000"/>
          </a:blip>
          <a:srcRect l="0" t="11224" r="0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212760" y="0"/>
            <a:ext cx="3587760" cy="5241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550800" y="-11160"/>
            <a:ext cx="8585280" cy="687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4572000" y="3505320"/>
            <a:ext cx="4586400" cy="3381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-12600" y="3129120"/>
            <a:ext cx="3708360" cy="373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 rot="5400000">
            <a:off x="5649480" y="-11160"/>
            <a:ext cx="3481560" cy="350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965160" y="-36360"/>
            <a:ext cx="5641920" cy="307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3490920" y="3786120"/>
            <a:ext cx="5665680" cy="310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solidFill>
            <a:srgbClr val="051a8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700992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3C6214EE-5283-45B3-A5BC-869E0EE6EE0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rcRect l="0" t="11224" r="0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Freeform 3"/>
          <p:cNvSpPr/>
          <p:nvPr/>
        </p:nvSpPr>
        <p:spPr>
          <a:xfrm>
            <a:off x="-212760" y="0"/>
            <a:ext cx="3587760" cy="5241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550800" y="-11160"/>
            <a:ext cx="8585280" cy="687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4572000" y="3505320"/>
            <a:ext cx="4586400" cy="3381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-12600" y="3129120"/>
            <a:ext cx="3708360" cy="373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965160" y="-36360"/>
            <a:ext cx="5641920" cy="307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3490920" y="3786120"/>
            <a:ext cx="5665680" cy="310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2120" y="914400"/>
            <a:ext cx="7696080" cy="5029200"/>
          </a:xfrm>
          <a:prstGeom prst="rect">
            <a:avLst/>
          </a:prstGeom>
          <a:solidFill>
            <a:srgbClr val="2a3d68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733920" y="65991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6320" y="65721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pic>
        <p:nvPicPr>
          <p:cNvPr id="57" name="Picture 14" descr="cover_adv"/>
          <p:cNvPicPr/>
          <p:nvPr/>
        </p:nvPicPr>
        <p:blipFill>
          <a:blip r:embed="rId3"/>
          <a:stretch/>
        </p:blipFill>
        <p:spPr>
          <a:xfrm>
            <a:off x="1143000" y="1523880"/>
            <a:ext cx="28195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219320"/>
          </a:xfrm>
          <a:prstGeom prst="rect">
            <a:avLst/>
          </a:prstGeom>
          <a:solidFill>
            <a:srgbClr val="051a8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343040" y="3276720"/>
            <a:ext cx="4343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Ce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ransfer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724280" y="1447920"/>
            <a:ext cx="342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82734D2C-8B6D-4628-97AF-57F667042BE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Transfer Pr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45640" y="1371600"/>
            <a:ext cx="806148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placed on transfer goods is used to make it possible to transfer goods between divisions while allowing them to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etain their aut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0"/>
          <p:cNvGraphicFramePr/>
          <p:nvPr/>
        </p:nvGraphicFramePr>
        <p:xfrm>
          <a:off x="3048120" y="3733920"/>
          <a:ext cx="36129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733920"/>
                    <a:ext cx="36129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FB329471-3D6C-40AA-A759-7C4C69D0AE2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Goal Congruence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17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s may arise between the company’s interests and an individual manager’s interests when transfer-price-based performance measures ar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2590920" y="3914640"/>
          <a:ext cx="42274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14640"/>
                    <a:ext cx="42274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D7EC018C-2FC1-4BD4-AC21-0BEDF0ADA7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flicts may be resolved by . . .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tervention by top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ly established transfer price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d transfer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024"/>
          <p:cNvGraphicFramePr/>
          <p:nvPr/>
        </p:nvGraphicFramePr>
        <p:xfrm>
          <a:off x="2819520" y="4429080"/>
          <a:ext cx="31050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429080"/>
                    <a:ext cx="31050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Transfer Pr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2F884C87-3BCA-4517-B974-FB0487915E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management may become swamped with pricing disputes causing division managers to lose aut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0"/>
          <p:cNvGraphicFramePr/>
          <p:nvPr/>
        </p:nvGraphicFramePr>
        <p:xfrm>
          <a:off x="228600" y="4114800"/>
          <a:ext cx="68580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6858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AutoShape 4"/>
          <p:cNvSpPr/>
          <p:nvPr/>
        </p:nvSpPr>
        <p:spPr>
          <a:xfrm rot="2326800">
            <a:off x="6933960" y="4038480"/>
            <a:ext cx="1066680" cy="10796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I just won’t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pay $65 for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that part!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 flipH="1">
            <a:off x="304920" y="2819520"/>
            <a:ext cx="1218960" cy="11318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You really 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don’t have any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</a:rPr>
              <a:t>choice!</a:t>
            </a:r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Transfer Pr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3352680" y="3048120"/>
            <a:ext cx="3568680" cy="100476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Now, here is what the two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of you are going to do.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C516B4D4-9C56-4E67-B749-7C9910D707A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46000" y="1814040"/>
            <a:ext cx="8218800" cy="4691160"/>
          </a:xfrm>
          <a:prstGeom prst="rect">
            <a:avLst/>
          </a:prstGeom>
          <a:solidFill>
            <a:srgbClr val="ffffcc">
              <a:alpha val="94000"/>
            </a:srgbClr>
          </a:solidFill>
          <a:ln w="38160">
            <a:solidFill>
              <a:srgbClr val="fc0128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Arial"/>
              </a:rPr>
              <a:t>As a general rule, a market price-based transfer pricing policy contains the following guidelines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749"/>
              </a:spcBef>
              <a:buClr>
                <a:srgbClr val="fc012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The transfer price is usually set at a</a:t>
            </a: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discount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from the cost to acquire the item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 on the open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c012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The selling division may elect to transfer or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 to continue to sell to the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rally Establish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fer Pr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7607ACDE-9EB6-439E-AAFC-A808713170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gotiating the Transfer Pr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8960" y="1387440"/>
            <a:ext cx="8506080" cy="2013120"/>
          </a:xfrm>
          <a:prstGeom prst="rect">
            <a:avLst/>
          </a:prstGeom>
          <a:solidFill>
            <a:srgbClr val="000000">
              <a:alpha val="94000"/>
            </a:srgbClr>
          </a:solidFill>
          <a:ln w="25560">
            <a:solidFill>
              <a:srgbClr val="fc0128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stem where transfer prices are arrived at through negotiation between managers of buying and selling div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65240" y="3975120"/>
            <a:ext cx="4698720" cy="1498680"/>
          </a:xfrm>
          <a:prstGeom prst="rect">
            <a:avLst/>
          </a:prstGeom>
          <a:solidFill>
            <a:srgbClr val="fcfeb9"/>
          </a:solidFill>
          <a:ln w="25560">
            <a:solidFill>
              <a:srgbClr val="fc0128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Much management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time  is used in the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negotiation process.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80040" y="4889520"/>
            <a:ext cx="4698720" cy="14986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ae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Negotiated price may not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be in the best interest of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overall company operations. 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8043BE9E-881D-4979-A6EB-89DA6BCD0FF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st-Based Transfer Pr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ome companies use the following measures of cost to establish transfer prices . .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absorp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treating unit fixed costs as vari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0"/>
          <p:cNvGraphicFramePr/>
          <p:nvPr/>
        </p:nvGraphicFramePr>
        <p:xfrm>
          <a:off x="1671480" y="5640480"/>
          <a:ext cx="57200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5640480"/>
                    <a:ext cx="57200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0EB6F4C3-E220-4D2A-8D22-8F1234D84F2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International Persp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ax rates and import duties are different in different countries, companies have incentives to set transfer prices that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revenues in low-tax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osts in high-tax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st of goods transferred to high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-duty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0"/>
          <p:cNvGraphicFramePr/>
          <p:nvPr/>
        </p:nvGraphicFramePr>
        <p:xfrm>
          <a:off x="7315200" y="4649760"/>
          <a:ext cx="179388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4649760"/>
                    <a:ext cx="17938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CCCD112E-4689-4B72-B9DE-B4CEDDF5972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havioral Issu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isk Aversion and Incentiv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5280" y="1876320"/>
            <a:ext cx="8511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of a managerial perform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system using financial perform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involves a trade-off between:</a:t>
            </a:r>
            <a:endParaRPr b="0" lang="en-US" sz="32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65240" y="3594240"/>
            <a:ext cx="3784320" cy="2641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entives for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ager to act 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zation’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.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194440" y="3594240"/>
            <a:ext cx="3784320" cy="2641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imposed on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 becau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performa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s are on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ly controll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manager.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099320" y="4619520"/>
            <a:ext cx="9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ff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1371405C-7FB9-43AA-B5F0-6B2859CBBCB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d of Chap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2341440" y="3200400"/>
          <a:ext cx="425772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3200400"/>
                    <a:ext cx="425772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1589040" y="1684440"/>
            <a:ext cx="6059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Let’s transfer some  of your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capital to me so that my ra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of return will be higher!</a:t>
            </a:r>
            <a:endParaRPr b="0" lang="en-US" sz="32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723960" y="1851120"/>
          <a:ext cx="773100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851120"/>
                    <a:ext cx="773100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3"/>
          <p:cNvSpPr/>
          <p:nvPr/>
        </p:nvSpPr>
        <p:spPr>
          <a:xfrm>
            <a:off x="6494040" y="1828800"/>
            <a:ext cx="2385000" cy="759240"/>
          </a:xfrm>
          <a:prstGeom prst="rect">
            <a:avLst/>
          </a:prstGeom>
          <a:solidFill>
            <a:srgbClr val="fcfeb9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14141"/>
                </a:solidFill>
                <a:latin typeface="Arial"/>
              </a:rPr>
              <a:t>Decision Making</a:t>
            </a:r>
            <a:br>
              <a:rPr sz="2200"/>
            </a:br>
            <a:r>
              <a:rPr b="1" lang="en-US" sz="2200" spc="-1" strike="noStrike">
                <a:solidFill>
                  <a:srgbClr val="414141"/>
                </a:solidFill>
                <a:latin typeface="Arial"/>
              </a:rPr>
              <a:t>is pushed down.</a:t>
            </a:r>
            <a:endParaRPr b="0" lang="en-US" sz="2200" spc="-1" strike="noStrike">
              <a:solidFill>
                <a:srgbClr val="7fff00"/>
              </a:solidFill>
              <a:latin typeface="Arial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1991880" y="3060720"/>
            <a:ext cx="5182200" cy="1879560"/>
            <a:chOff x="1991880" y="3060720"/>
            <a:chExt cx="5182200" cy="1879560"/>
          </a:xfrm>
        </p:grpSpPr>
        <p:sp>
          <p:nvSpPr>
            <p:cNvPr id="105" name="Line 4"/>
            <p:cNvSpPr/>
            <p:nvPr/>
          </p:nvSpPr>
          <p:spPr>
            <a:xfrm>
              <a:off x="4608360" y="3060720"/>
              <a:ext cx="2565720" cy="1879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7fff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H="1">
              <a:off x="1991880" y="3060720"/>
              <a:ext cx="2616120" cy="1879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7fff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 flipH="1">
              <a:off x="2830680" y="3060720"/>
              <a:ext cx="1777680" cy="58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7fff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4608360" y="3060720"/>
              <a:ext cx="1727280" cy="58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7fff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Delegation of Decision Making</a:t>
            </a:r>
            <a:br>
              <a:rPr sz="4200"/>
            </a:b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(Decentralization)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28600" y="57913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centralization often occurs as organizations continue to grow.</a:t>
            </a:r>
            <a:endParaRPr b="0" lang="en-US" sz="22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261949BB-CEFA-4731-8203-DD7A7B853EF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AA2CD9BB-CE93-4537-AAF5-654407FAD26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538200" y="1055520"/>
          <a:ext cx="8059680" cy="55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055520"/>
                    <a:ext cx="8059680" cy="55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entr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969920" y="1555920"/>
            <a:ext cx="4690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38e00"/>
                </a:solidFill>
                <a:latin typeface="Century Schoolbook"/>
              </a:rPr>
              <a:t>Advantages</a:t>
            </a:r>
            <a:endParaRPr b="0" lang="en-US" sz="6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33920" y="3110040"/>
            <a:ext cx="306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Allows organization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 to respond more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quickly to events.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89120" y="4633920"/>
            <a:ext cx="3517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Frees top management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from day-to-day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operating activities.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996080" y="3110040"/>
            <a:ext cx="292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Uses specialized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knowledge and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skills of managers.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356000" y="2451240"/>
            <a:ext cx="1727280" cy="660240"/>
          </a:xfrm>
          <a:prstGeom prst="line">
            <a:avLst/>
          </a:prstGeom>
          <a:ln w="2556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325760" y="2451240"/>
            <a:ext cx="0" cy="2184120"/>
          </a:xfrm>
          <a:prstGeom prst="line">
            <a:avLst/>
          </a:prstGeom>
          <a:ln w="2556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H="1">
            <a:off x="2549160" y="2451240"/>
            <a:ext cx="1778040" cy="660240"/>
          </a:xfrm>
          <a:prstGeom prst="line">
            <a:avLst/>
          </a:prstGeom>
          <a:ln w="2556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F784245C-C0FE-41C9-B522-6A877A61DB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538200" y="1055520"/>
          <a:ext cx="8059680" cy="55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055520"/>
                    <a:ext cx="8059680" cy="55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entr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27560" y="1555920"/>
            <a:ext cx="3982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entury Schoolbook"/>
              </a:rPr>
              <a:t>Challenge</a:t>
            </a:r>
            <a:endParaRPr b="0" lang="en-US" sz="60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540320" y="2451240"/>
            <a:ext cx="0" cy="431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872720" y="2790720"/>
            <a:ext cx="5085720" cy="18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 Congruence: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s of the subunits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decisions that achiev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-management goals.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graphicFrame>
        <p:nvGraphicFramePr>
          <p:cNvPr id="130" name="Object 7"/>
          <p:cNvGraphicFramePr/>
          <p:nvPr/>
        </p:nvGraphicFramePr>
        <p:xfrm>
          <a:off x="3216240" y="4724280"/>
          <a:ext cx="222588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724280"/>
                    <a:ext cx="222588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634498A2-D121-441D-9EA9-F811F75C4DE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003320" y="4737240"/>
            <a:ext cx="7365960" cy="1650960"/>
          </a:xfrm>
          <a:prstGeom prst="roundRect">
            <a:avLst>
              <a:gd name="adj" fmla="val 12495"/>
            </a:avLst>
          </a:prstGeom>
          <a:solidFill>
            <a:srgbClr val="0000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suring Performanc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 Investment Cent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3520" y="1676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vestment Cen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make decisions that affect both profit and invested capital.</a:t>
            </a:r>
            <a:endParaRPr b="0" lang="en-US" sz="3200" spc="-1" strike="noStrike">
              <a:solidFill>
                <a:srgbClr val="7fff00"/>
              </a:solidFill>
              <a:latin typeface="Arial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5029200" y="1778040"/>
          <a:ext cx="3338640" cy="22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78040"/>
                    <a:ext cx="333864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6"/>
          <p:cNvSpPr/>
          <p:nvPr/>
        </p:nvSpPr>
        <p:spPr>
          <a:xfrm>
            <a:off x="4883760" y="4100400"/>
            <a:ext cx="368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437840" y="4970520"/>
            <a:ext cx="1813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Investment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Center</a:t>
            </a:r>
            <a:br>
              <a:rPr sz="2400"/>
            </a:b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3365640" y="4970520"/>
            <a:ext cx="4761000" cy="1186200"/>
            <a:chOff x="3365640" y="4970520"/>
            <a:chExt cx="4761000" cy="1186200"/>
          </a:xfrm>
        </p:grpSpPr>
        <p:sp>
          <p:nvSpPr>
            <p:cNvPr id="141" name="Rectangle 8"/>
            <p:cNvSpPr/>
            <p:nvPr/>
          </p:nvSpPr>
          <p:spPr>
            <a:xfrm>
              <a:off x="4668480" y="4970520"/>
              <a:ext cx="345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Rounded MT Bold"/>
                </a:rPr>
                <a:t>Return on investment, </a:t>
              </a:r>
              <a:endParaRPr b="0" lang="en-US" sz="2400" spc="-1" strike="noStrike">
                <a:solidFill>
                  <a:srgbClr val="7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Rounded MT Bold"/>
                </a:rPr>
                <a:t>residual income, or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 Rounded MT Bold"/>
                </a:rPr>
                <a:t>economic value added</a:t>
              </a:r>
              <a:endParaRPr b="0" lang="en-US" sz="2400" spc="-1" strike="noStrike">
                <a:solidFill>
                  <a:srgbClr val="7fff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3365640" y="5562720"/>
              <a:ext cx="12826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7fff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C131AD02-D08E-4B4D-A780-7E723AD5C4F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fer Pric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3198960" y="1063800"/>
          <a:ext cx="274320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1063800"/>
                    <a:ext cx="274320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4"/>
          <p:cNvSpPr/>
          <p:nvPr/>
        </p:nvSpPr>
        <p:spPr>
          <a:xfrm>
            <a:off x="2026440" y="5365800"/>
            <a:ext cx="5085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change topics!</a:t>
            </a:r>
            <a:endParaRPr b="0" lang="en-US" sz="40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90DB82F8-829C-4DA4-BFBF-1B911CE328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720" y="1828440"/>
            <a:ext cx="87627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er price affects the profit measure for both the selling division and the buying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43640" y="3490920"/>
            <a:ext cx="275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8fff"/>
                </a:solidFill>
                <a:latin typeface="Arial"/>
              </a:rPr>
              <a:t>A higher transfer</a:t>
            </a:r>
            <a:br>
              <a:rPr sz="2400"/>
            </a:br>
            <a:r>
              <a:rPr b="1" lang="en-US" sz="2400" spc="-1" strike="noStrike">
                <a:solidFill>
                  <a:srgbClr val="718fff"/>
                </a:solidFill>
                <a:latin typeface="Arial"/>
              </a:rPr>
              <a:t>price for batteries</a:t>
            </a:r>
            <a:br>
              <a:rPr sz="2400"/>
            </a:br>
            <a:r>
              <a:rPr b="1" lang="en-US" sz="2400" spc="-1" strike="noStrike">
                <a:solidFill>
                  <a:srgbClr val="718fff"/>
                </a:solidFill>
                <a:latin typeface="Arial"/>
              </a:rPr>
              <a:t>means . . .</a:t>
            </a:r>
            <a:r>
              <a:rPr b="0" lang="en-US" sz="24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667960" y="5562720"/>
            <a:ext cx="1766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1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s for the</a:t>
            </a:r>
            <a:endParaRPr b="0" lang="en-US" sz="1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y division.</a:t>
            </a:r>
            <a:endParaRPr b="0" lang="en-US" sz="1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363840" y="4952880"/>
            <a:ext cx="1473120" cy="0"/>
          </a:xfrm>
          <a:prstGeom prst="line">
            <a:avLst/>
          </a:prstGeom>
          <a:ln w="50760">
            <a:solidFill>
              <a:srgbClr val="d7d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084360" y="5548320"/>
            <a:ext cx="195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Division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93760" y="5548320"/>
            <a:ext cx="229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 Division</a:t>
            </a:r>
            <a:endParaRPr b="0" lang="en-US" sz="2400" spc="-1" strike="noStrike">
              <a:solidFill>
                <a:srgbClr val="7fff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76320" y="3473280"/>
            <a:ext cx="8985240" cy="2003760"/>
            <a:chOff x="76320" y="3473280"/>
            <a:chExt cx="8985240" cy="2003760"/>
          </a:xfrm>
        </p:grpSpPr>
        <p:graphicFrame>
          <p:nvGraphicFramePr>
            <p:cNvPr id="156" name="Object 0"/>
            <p:cNvGraphicFramePr/>
            <p:nvPr/>
          </p:nvGraphicFramePr>
          <p:xfrm>
            <a:off x="5173560" y="3473280"/>
            <a:ext cx="3888000" cy="200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73560" y="3473280"/>
                      <a:ext cx="3888000" cy="200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1"/>
            <p:cNvGraphicFramePr/>
            <p:nvPr/>
          </p:nvGraphicFramePr>
          <p:xfrm>
            <a:off x="76320" y="4106880"/>
            <a:ext cx="2738160" cy="134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4106880"/>
                      <a:ext cx="2738160" cy="13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fer Pric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2971440" y="5410080"/>
            <a:ext cx="3049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573080" y="5791320"/>
            <a:ext cx="15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rofi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1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division.</a:t>
            </a:r>
            <a:endParaRPr b="0" lang="en-US" sz="1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 flipV="1">
            <a:off x="5181480" y="548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10A478A8-F336-4D5B-98BB-64D9A027C92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 Congru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61920" y="1847880"/>
            <a:ext cx="7201080" cy="3695760"/>
          </a:xfrm>
          <a:prstGeom prst="rect">
            <a:avLst/>
          </a:prstGeom>
          <a:solidFill>
            <a:srgbClr val="fcfeb9"/>
          </a:solidFill>
          <a:ln w="38160">
            <a:solidFill>
              <a:srgbClr val="fc0128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deal transfer price allow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ch division manager to m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isions that maximize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ny’s profit, whi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empting to maximize his/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wn division’s profit.</a:t>
            </a:r>
            <a:endParaRPr b="0" lang="en-US" sz="3600" spc="-1" strike="noStrike">
              <a:solidFill>
                <a:srgbClr val="7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2"/>
          <p:cNvSpPr/>
          <p:nvPr/>
        </p:nvSpPr>
        <p:spPr>
          <a:xfrm>
            <a:off x="7010280" y="66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-</a:t>
            </a:r>
            <a:fld id="{010FB3D2-49BA-487E-9248-AC5262EB2C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2240" y="151920"/>
            <a:ext cx="8583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eral-Transfer-Pricing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0840" y="2484360"/>
            <a:ext cx="1507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price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329200" y="1844640"/>
            <a:ext cx="2915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2800" spc="-1" strike="noStrike">
                <a:solidFill>
                  <a:srgbClr val="7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outlay</a:t>
            </a:r>
            <a:br>
              <a:rPr sz="2800"/>
            </a:b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cost</a:t>
            </a:r>
            <a:r>
              <a:rPr b="0" lang="en-US" sz="2800" spc="-1" strike="noStrike">
                <a:solidFill>
                  <a:srgbClr val="7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un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rred beca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ed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207840" y="1844640"/>
            <a:ext cx="27752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Opportunity co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unit to the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er</a:t>
            </a:r>
            <a:endParaRPr b="0" lang="en-US" sz="28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66880" y="2624040"/>
            <a:ext cx="448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7fff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576760" y="2619360"/>
            <a:ext cx="448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7fff00"/>
              </a:solidFill>
              <a:latin typeface="Arial"/>
            </a:endParaRPr>
          </a:p>
        </p:txBody>
      </p:sp>
      <p:graphicFrame>
        <p:nvGraphicFramePr>
          <p:cNvPr id="174" name="Object 8"/>
          <p:cNvGraphicFramePr/>
          <p:nvPr/>
        </p:nvGraphicFramePr>
        <p:xfrm>
          <a:off x="2362320" y="4094280"/>
          <a:ext cx="35287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094280"/>
                    <a:ext cx="35287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19:19:25Z</dcterms:created>
  <dc:creator>Charles Caldwell</dc:creator>
  <dc:description/>
  <cp:keywords/>
  <dc:language>en-US</dc:language>
  <cp:lastModifiedBy>Your User Name</cp:lastModifiedBy>
  <cp:lastPrinted>2000-11-11T15:43:50Z</cp:lastPrinted>
  <dcterms:modified xsi:type="dcterms:W3CDTF">2009-11-29T03:31:40Z</dcterms:modified>
  <cp:revision>53</cp:revision>
  <dc:subject>Investment Centers and Transfer Pricing</dc:subject>
  <dc:title>Hilton 5th Edition Chapter Thirteen </dc:title>
</cp:coreProperties>
</file>