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F09-B6DF-44F6-B2FC-8FC79FB9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FB8-2F3E-42E0-A39F-CAF77633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161-A362-4CE6-8E0A-D2BD45D1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BC4-5A4A-46D9-BC4A-B6C2C9BA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A479-AF92-4CD9-AF89-11BBAF07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4C75-CA93-48E8-90BF-C382383D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534D-B0F9-4404-A09E-ABAB3357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2C3D-1962-4D3B-8F72-2D860C11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2A3E-CBC2-4804-A08E-E982927B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2B85-B580-43D3-9824-1AFE2880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036B-B1B1-4738-8F81-F6BB5AA2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657-4427-498B-A78B-62063F05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91B6-1330-49AE-A88F-A0EC97B6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14D6-5C22-479A-B856-DF10039A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6F01-2D5F-4EFD-B418-91F172F3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6846-5F0D-4552-A877-B2EAE738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08C5-0954-47BC-8E2D-387474DC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870-6401-4CE2-B4EB-8B219812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D0F-C9E7-4510-B236-14B7E9F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FFD-DD65-4DC9-8571-0E85FCCC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0A6-4C93-4796-B3F3-B837DC64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0B6-693F-444C-8495-2E892B9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B76-FE76-479A-87BC-06A96B60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AF9-658C-4215-A578-8488A755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C174-5180-4A45-A7EC-942EA1BFBA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EA37-4F75-4FBE-9224-21237A89D3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428840"/>
            <a:ext cx="68580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rnational Financial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porting Standard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FRS 8 Operating Segments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2760" y="682560"/>
            <a:ext cx="8717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61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1080" y="990720"/>
            <a:ext cx="865800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7800" y="1447920"/>
            <a:ext cx="84553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0600" y="1523880"/>
            <a:ext cx="8361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7040" y="2590920"/>
            <a:ext cx="8658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6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853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23:52:52Z</dcterms:created>
  <dc:creator>Portege_2</dc:creator>
  <dc:description/>
  <dc:language>en-US</dc:language>
  <cp:lastModifiedBy>Portege_2</cp:lastModifiedBy>
  <dcterms:modified xsi:type="dcterms:W3CDTF">2009-06-22T23:53:40Z</dcterms:modified>
  <cp:revision>1</cp:revision>
  <dc:subject/>
  <dc:title>International Financial Reporting Standards IFRS 8 Operating Segments </dc:title>
</cp:coreProperties>
</file>