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332F-E66E-45C7-B380-AD684280A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C68D-C3CF-47B1-A19C-F657BD68E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27EF-9EDF-44BE-8C24-F092FBC1F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FB12-0995-4BF3-89E9-E12BB3666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409C-9C4A-4281-96B2-FD80F9A84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0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5D88-1482-4506-8F79-4BF399200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452D-1A6E-422F-A98C-E15A57777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54F9-3E69-422C-84ED-1EA4037B9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2768-FD0B-4BAB-8ABD-3E047ECAB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724A-863F-4FA1-941F-D1BB4A010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35BA-4CF8-47E1-A825-3DFFE4E1C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1264-10B4-40CE-8852-3F3E75057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2760" y="0"/>
            <a:ext cx="3587760" cy="5241960"/>
          </a:xfrm>
          <a:custGeom>
            <a:avLst/>
            <a:gdLst/>
            <a:ahLst/>
            <a:rect l="l" t="t" r="r" b="b"/>
            <a:pathLst>
              <a:path w="2260" h="3302">
                <a:moveTo>
                  <a:pt x="840" y="0"/>
                </a:moveTo>
                <a:cubicBezTo>
                  <a:pt x="0" y="0"/>
                  <a:pt x="134" y="0"/>
                  <a:pt x="134" y="0"/>
                </a:cubicBezTo>
                <a:cubicBezTo>
                  <a:pt x="134" y="0"/>
                  <a:pt x="134" y="2366"/>
                  <a:pt x="134" y="3302"/>
                </a:cubicBezTo>
                <a:cubicBezTo>
                  <a:pt x="2016" y="2945"/>
                  <a:pt x="2260" y="1160"/>
                  <a:pt x="840" y="0"/>
                </a:cubicBezTo>
                <a:close/>
              </a:path>
            </a:pathLst>
          </a:custGeom>
          <a:solidFill>
            <a:srgbClr val="f9dd8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50800" y="-11160"/>
            <a:ext cx="8585280" cy="6873840"/>
          </a:xfrm>
          <a:custGeom>
            <a:avLst/>
            <a:gdLst/>
            <a:ahLst/>
            <a:rect l="l" t="t" r="r" b="b"/>
            <a:pathLst>
              <a:path w="5408" h="4330">
                <a:moveTo>
                  <a:pt x="1402" y="4330"/>
                </a:moveTo>
                <a:cubicBezTo>
                  <a:pt x="2242" y="4330"/>
                  <a:pt x="5408" y="4327"/>
                  <a:pt x="5408" y="4327"/>
                </a:cubicBezTo>
                <a:cubicBezTo>
                  <a:pt x="5408" y="4327"/>
                  <a:pt x="5406" y="950"/>
                  <a:pt x="5406" y="14"/>
                </a:cubicBezTo>
                <a:cubicBezTo>
                  <a:pt x="4004" y="0"/>
                  <a:pt x="2700" y="0"/>
                  <a:pt x="1839" y="0"/>
                </a:cubicBezTo>
                <a:cubicBezTo>
                  <a:pt x="0" y="2193"/>
                  <a:pt x="687" y="3845"/>
                  <a:pt x="1402" y="4330"/>
                </a:cubicBezTo>
                <a:close/>
              </a:path>
            </a:pathLst>
          </a:custGeom>
          <a:solidFill>
            <a:srgbClr val="3a548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3505320"/>
            <a:ext cx="4586400" cy="3381120"/>
          </a:xfrm>
          <a:custGeom>
            <a:avLst/>
            <a:gdLst/>
            <a:ahLst/>
            <a:rect l="l" t="t" r="r" b="b"/>
            <a:pathLst>
              <a:path w="2889" h="2130">
                <a:moveTo>
                  <a:pt x="0" y="2126"/>
                </a:moveTo>
                <a:cubicBezTo>
                  <a:pt x="841" y="2126"/>
                  <a:pt x="2889" y="2130"/>
                  <a:pt x="2889" y="2130"/>
                </a:cubicBezTo>
                <a:cubicBezTo>
                  <a:pt x="2889" y="2130"/>
                  <a:pt x="2881" y="1034"/>
                  <a:pt x="2880" y="98"/>
                </a:cubicBezTo>
                <a:cubicBezTo>
                  <a:pt x="1687" y="0"/>
                  <a:pt x="186" y="430"/>
                  <a:pt x="0" y="2126"/>
                </a:cubicBezTo>
                <a:close/>
              </a:path>
            </a:pathLst>
          </a:custGeom>
          <a:solidFill>
            <a:srgbClr val="99c311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2600" y="3129120"/>
            <a:ext cx="3708360" cy="3735360"/>
          </a:xfrm>
          <a:custGeom>
            <a:avLst/>
            <a:gdLst/>
            <a:ahLst/>
            <a:rect l="l" t="t" r="r" b="b"/>
            <a:pathLst>
              <a:path w="2336" h="2353">
                <a:moveTo>
                  <a:pt x="0" y="0"/>
                </a:moveTo>
                <a:cubicBezTo>
                  <a:pt x="0" y="840"/>
                  <a:pt x="7" y="2350"/>
                  <a:pt x="7" y="2350"/>
                </a:cubicBezTo>
                <a:cubicBezTo>
                  <a:pt x="7" y="2350"/>
                  <a:pt x="1360" y="2353"/>
                  <a:pt x="2296" y="2353"/>
                </a:cubicBezTo>
                <a:cubicBezTo>
                  <a:pt x="2336" y="1193"/>
                  <a:pt x="1720" y="130"/>
                  <a:pt x="0" y="0"/>
                </a:cubicBezTo>
                <a:close/>
              </a:path>
            </a:pathLst>
          </a:custGeom>
          <a:solidFill>
            <a:srgbClr val="367d82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5649480" y="-11160"/>
            <a:ext cx="3481560" cy="3503880"/>
          </a:xfrm>
          <a:custGeom>
            <a:avLst/>
            <a:gdLst/>
            <a:ahLst/>
            <a:rect l="l" t="t" r="r" b="b"/>
            <a:pathLst>
              <a:path w="2193" h="2207">
                <a:moveTo>
                  <a:pt x="1714" y="0"/>
                </a:moveTo>
                <a:cubicBezTo>
                  <a:pt x="874" y="0"/>
                  <a:pt x="0" y="0"/>
                  <a:pt x="0" y="0"/>
                </a:cubicBezTo>
                <a:cubicBezTo>
                  <a:pt x="0" y="0"/>
                  <a:pt x="0" y="936"/>
                  <a:pt x="0" y="1872"/>
                </a:cubicBezTo>
                <a:cubicBezTo>
                  <a:pt x="985" y="2207"/>
                  <a:pt x="2193" y="1568"/>
                  <a:pt x="1714" y="0"/>
                </a:cubicBezTo>
                <a:close/>
              </a:path>
            </a:pathLst>
          </a:custGeom>
          <a:solidFill>
            <a:srgbClr val="bbe0e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65160" y="-36360"/>
            <a:ext cx="5641920" cy="3074760"/>
          </a:xfrm>
          <a:custGeom>
            <a:avLst/>
            <a:gdLst/>
            <a:ahLst/>
            <a:rect l="l" t="t" r="r" b="b"/>
            <a:pathLst>
              <a:path w="3554" h="1937">
                <a:moveTo>
                  <a:pt x="2304" y="1856"/>
                </a:moveTo>
                <a:cubicBezTo>
                  <a:pt x="2799" y="1775"/>
                  <a:pt x="3554" y="1402"/>
                  <a:pt x="3497" y="15"/>
                </a:cubicBezTo>
                <a:cubicBezTo>
                  <a:pt x="3496" y="0"/>
                  <a:pt x="936" y="15"/>
                  <a:pt x="0" y="15"/>
                </a:cubicBezTo>
                <a:cubicBezTo>
                  <a:pt x="357" y="1897"/>
                  <a:pt x="1809" y="1937"/>
                  <a:pt x="2304" y="1856"/>
                </a:cubicBezTo>
                <a:close/>
              </a:path>
            </a:pathLst>
          </a:custGeom>
          <a:solidFill>
            <a:srgbClr val="fe975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90920" y="3786120"/>
            <a:ext cx="5665680" cy="3103560"/>
          </a:xfrm>
          <a:custGeom>
            <a:avLst/>
            <a:gdLst/>
            <a:ahLst/>
            <a:rect l="l" t="t" r="r" b="b"/>
            <a:pathLst>
              <a:path w="3569" h="1955">
                <a:moveTo>
                  <a:pt x="470" y="1947"/>
                </a:moveTo>
                <a:cubicBezTo>
                  <a:pt x="1311" y="1947"/>
                  <a:pt x="3569" y="1955"/>
                  <a:pt x="3569" y="1955"/>
                </a:cubicBezTo>
                <a:cubicBezTo>
                  <a:pt x="3569" y="1955"/>
                  <a:pt x="3528" y="812"/>
                  <a:pt x="2287" y="333"/>
                </a:cubicBezTo>
                <a:cubicBezTo>
                  <a:pt x="1322" y="0"/>
                  <a:pt x="0" y="739"/>
                  <a:pt x="470" y="1947"/>
                </a:cubicBezTo>
                <a:close/>
              </a:path>
            </a:pathLst>
          </a:custGeom>
          <a:solidFill>
            <a:srgbClr val="82b181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ldNum" idx="1"/>
          </p:nvPr>
        </p:nvSpPr>
        <p:spPr>
          <a:xfrm>
            <a:off x="700992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7DD3043-C024-436D-9A43-27585591172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212760" y="0"/>
            <a:ext cx="3587760" cy="5241960"/>
          </a:xfrm>
          <a:custGeom>
            <a:avLst/>
            <a:gdLst/>
            <a:ahLst/>
            <a:rect l="l" t="t" r="r" b="b"/>
            <a:pathLst>
              <a:path w="2260" h="3302">
                <a:moveTo>
                  <a:pt x="840" y="0"/>
                </a:moveTo>
                <a:cubicBezTo>
                  <a:pt x="0" y="0"/>
                  <a:pt x="134" y="0"/>
                  <a:pt x="134" y="0"/>
                </a:cubicBezTo>
                <a:cubicBezTo>
                  <a:pt x="134" y="0"/>
                  <a:pt x="134" y="2366"/>
                  <a:pt x="134" y="3302"/>
                </a:cubicBezTo>
                <a:cubicBezTo>
                  <a:pt x="2016" y="2945"/>
                  <a:pt x="2260" y="1160"/>
                  <a:pt x="840" y="0"/>
                </a:cubicBezTo>
                <a:close/>
              </a:path>
            </a:pathLst>
          </a:custGeom>
          <a:solidFill>
            <a:srgbClr val="f9dd8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0800" y="-11160"/>
            <a:ext cx="8585280" cy="6873840"/>
          </a:xfrm>
          <a:custGeom>
            <a:avLst/>
            <a:gdLst/>
            <a:ahLst/>
            <a:rect l="l" t="t" r="r" b="b"/>
            <a:pathLst>
              <a:path w="5408" h="4330">
                <a:moveTo>
                  <a:pt x="1402" y="4330"/>
                </a:moveTo>
                <a:cubicBezTo>
                  <a:pt x="2242" y="4330"/>
                  <a:pt x="5408" y="4327"/>
                  <a:pt x="5408" y="4327"/>
                </a:cubicBezTo>
                <a:cubicBezTo>
                  <a:pt x="5408" y="4327"/>
                  <a:pt x="5406" y="950"/>
                  <a:pt x="5406" y="14"/>
                </a:cubicBezTo>
                <a:cubicBezTo>
                  <a:pt x="4004" y="0"/>
                  <a:pt x="2700" y="0"/>
                  <a:pt x="1839" y="0"/>
                </a:cubicBezTo>
                <a:cubicBezTo>
                  <a:pt x="0" y="2193"/>
                  <a:pt x="687" y="3845"/>
                  <a:pt x="1402" y="4330"/>
                </a:cubicBezTo>
                <a:close/>
              </a:path>
            </a:pathLst>
          </a:custGeom>
          <a:solidFill>
            <a:srgbClr val="3a548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505320"/>
            <a:ext cx="4586400" cy="3381120"/>
          </a:xfrm>
          <a:custGeom>
            <a:avLst/>
            <a:gdLst/>
            <a:ahLst/>
            <a:rect l="l" t="t" r="r" b="b"/>
            <a:pathLst>
              <a:path w="2889" h="2130">
                <a:moveTo>
                  <a:pt x="0" y="2126"/>
                </a:moveTo>
                <a:cubicBezTo>
                  <a:pt x="841" y="2126"/>
                  <a:pt x="2889" y="2130"/>
                  <a:pt x="2889" y="2130"/>
                </a:cubicBezTo>
                <a:cubicBezTo>
                  <a:pt x="2889" y="2130"/>
                  <a:pt x="2881" y="1034"/>
                  <a:pt x="2880" y="98"/>
                </a:cubicBezTo>
                <a:cubicBezTo>
                  <a:pt x="1687" y="0"/>
                  <a:pt x="186" y="430"/>
                  <a:pt x="0" y="2126"/>
                </a:cubicBezTo>
                <a:close/>
              </a:path>
            </a:pathLst>
          </a:custGeom>
          <a:solidFill>
            <a:srgbClr val="99c311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2600" y="3129120"/>
            <a:ext cx="3708360" cy="3735360"/>
          </a:xfrm>
          <a:custGeom>
            <a:avLst/>
            <a:gdLst/>
            <a:ahLst/>
            <a:rect l="l" t="t" r="r" b="b"/>
            <a:pathLst>
              <a:path w="2336" h="2353">
                <a:moveTo>
                  <a:pt x="0" y="0"/>
                </a:moveTo>
                <a:cubicBezTo>
                  <a:pt x="0" y="840"/>
                  <a:pt x="7" y="2350"/>
                  <a:pt x="7" y="2350"/>
                </a:cubicBezTo>
                <a:cubicBezTo>
                  <a:pt x="7" y="2350"/>
                  <a:pt x="1360" y="2353"/>
                  <a:pt x="2296" y="2353"/>
                </a:cubicBezTo>
                <a:cubicBezTo>
                  <a:pt x="2336" y="1193"/>
                  <a:pt x="1720" y="130"/>
                  <a:pt x="0" y="0"/>
                </a:cubicBezTo>
                <a:close/>
              </a:path>
            </a:pathLst>
          </a:custGeom>
          <a:solidFill>
            <a:srgbClr val="367d82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649480" y="-11160"/>
            <a:ext cx="3481560" cy="3503880"/>
          </a:xfrm>
          <a:custGeom>
            <a:avLst/>
            <a:gdLst/>
            <a:ahLst/>
            <a:rect l="l" t="t" r="r" b="b"/>
            <a:pathLst>
              <a:path w="2193" h="2207">
                <a:moveTo>
                  <a:pt x="1714" y="0"/>
                </a:moveTo>
                <a:cubicBezTo>
                  <a:pt x="874" y="0"/>
                  <a:pt x="0" y="0"/>
                  <a:pt x="0" y="0"/>
                </a:cubicBezTo>
                <a:cubicBezTo>
                  <a:pt x="0" y="0"/>
                  <a:pt x="0" y="936"/>
                  <a:pt x="0" y="1872"/>
                </a:cubicBezTo>
                <a:cubicBezTo>
                  <a:pt x="985" y="2207"/>
                  <a:pt x="2193" y="1568"/>
                  <a:pt x="1714" y="0"/>
                </a:cubicBezTo>
                <a:close/>
              </a:path>
            </a:pathLst>
          </a:custGeom>
          <a:solidFill>
            <a:srgbClr val="bbe0e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65160" y="-36360"/>
            <a:ext cx="5641920" cy="3074760"/>
          </a:xfrm>
          <a:custGeom>
            <a:avLst/>
            <a:gdLst/>
            <a:ahLst/>
            <a:rect l="l" t="t" r="r" b="b"/>
            <a:pathLst>
              <a:path w="3554" h="1937">
                <a:moveTo>
                  <a:pt x="2304" y="1856"/>
                </a:moveTo>
                <a:cubicBezTo>
                  <a:pt x="2799" y="1775"/>
                  <a:pt x="3554" y="1402"/>
                  <a:pt x="3497" y="15"/>
                </a:cubicBezTo>
                <a:cubicBezTo>
                  <a:pt x="3496" y="0"/>
                  <a:pt x="936" y="15"/>
                  <a:pt x="0" y="15"/>
                </a:cubicBezTo>
                <a:cubicBezTo>
                  <a:pt x="357" y="1897"/>
                  <a:pt x="1809" y="1937"/>
                  <a:pt x="2304" y="1856"/>
                </a:cubicBezTo>
                <a:close/>
              </a:path>
            </a:pathLst>
          </a:custGeom>
          <a:solidFill>
            <a:srgbClr val="fe975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0920" y="3786120"/>
            <a:ext cx="5665680" cy="3103560"/>
          </a:xfrm>
          <a:custGeom>
            <a:avLst/>
            <a:gdLst/>
            <a:ahLst/>
            <a:rect l="l" t="t" r="r" b="b"/>
            <a:pathLst>
              <a:path w="3569" h="1955">
                <a:moveTo>
                  <a:pt x="470" y="1947"/>
                </a:moveTo>
                <a:cubicBezTo>
                  <a:pt x="1311" y="1947"/>
                  <a:pt x="3569" y="1955"/>
                  <a:pt x="3569" y="1955"/>
                </a:cubicBezTo>
                <a:cubicBezTo>
                  <a:pt x="3569" y="1955"/>
                  <a:pt x="3528" y="812"/>
                  <a:pt x="2287" y="333"/>
                </a:cubicBezTo>
                <a:cubicBezTo>
                  <a:pt x="1322" y="0"/>
                  <a:pt x="0" y="739"/>
                  <a:pt x="470" y="1947"/>
                </a:cubicBezTo>
                <a:close/>
              </a:path>
            </a:pathLst>
          </a:custGeom>
          <a:solidFill>
            <a:srgbClr val="82b181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914400"/>
            <a:ext cx="7696080" cy="5181480"/>
          </a:xfrm>
          <a:prstGeom prst="rect">
            <a:avLst/>
          </a:prstGeom>
          <a:solidFill>
            <a:srgbClr val="3a6382">
              <a:alpha val="91000"/>
            </a:srgbClr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1371240"/>
            <a:ext cx="41911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925800" cy="50292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3733920" y="659916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© 2008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7216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981080"/>
            <a:ext cx="80773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11120" indent="-6746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ANCANGAN PENELIT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11120" indent="-6746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DESAIN PENELITIA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METODOLOGI PENELITI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3BF6-1BE1-4691-87C1-EAFDF9010F22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ancangan Deskrip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solidFill>
            <a:srgbClr val="ffff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Memahami karakteristik sebuah kelompok dalam situasi ter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Memikirkan secara sistematisaspek situ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erikan gagasan peneyelidikan dan penelitan lanju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uat keptusan sederh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27B9-F317-443B-8B3E-32B570AA29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3. Pengujian Hipot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solidFill>
            <a:srgbClr val="ffff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Menjelaskan sifat hubungan tertentu, atau menentukan perbedaan antar kelompok atau kebebasan dua atau lebih faktor dalam suatu situas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64D2-DF5D-41C0-8B92-CEDFBBAA9E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ancangan Pengujian hipot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solidFill>
            <a:srgbClr val="ffff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entukan hubungan antar variabel berdasar te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Kumpulkan data dengan cara terten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ji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3FDE-5731-438F-8B6C-F169A6F7F6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nalisis Studi kas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solidFill>
            <a:srgbClr val="ffff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udi kasus meliputi analisis kontekstual dan mendalam terhadap hal yang berkaitan dengan situasi serupa dalam organisa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rupakan teknik pemecahan masalah, teknik ini dilakukan dengan membandingkan konteks masalah yang sama dengan lain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20CF-36EC-4856-AD66-C8D1D97C13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YPE INVESTIGASI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AU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solidFill>
            <a:srgbClr val="ffff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nsip kausalitas didasarkan p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hwa tidak ada satupun peristiwa terjadi secara kebetulan, melainkan semuanya memiliki sebab yang mendahului, (Nihil fit sine causa= tdk ada satupun peristiwa yg tidak memiliki seb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bab yang melahirkan akiba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bab yg Mesti (necessary causa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bab yg Menjadikan (sufficient ca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98EB-ECE0-4787-A72B-9E82838074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ebab yg Mesti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necessary causa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534160" cy="3810240"/>
          </a:xfrm>
          <a:prstGeom prst="rect">
            <a:avLst/>
          </a:prstGeom>
          <a:solidFill>
            <a:srgbClr val="ffcc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dalah suatu keadaan bila tdk ada maka akibatnya tdk akan terj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ntoh, Insentif  merupakan sebab adanya peningkatan penjualan, tanpa adanya insentif penjualan tdk akan meningkat. Namun adanya insentif,  peningkatan penjualan tidak harus terj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62EE-54E7-432C-AEF4-932AD66488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91120"/>
          </a:xfrm>
          <a:prstGeom prst="rect">
            <a:avLst/>
          </a:prstGeom>
          <a:solidFill>
            <a:srgbClr val="ffcc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dalah suatu yang adanya menyebabkan akibat lahir. Sebab menjadikan adalah sesuatu yang adanya atau tidaknya suatu menentukan ada tidaknya akib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oh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nsentif  merupakan sebab adanya peningkatan penjualan, tanpa adanya insentif penjualan tdk akan meningk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ebab yg Menjadikan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Sufficient causa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38E2-A944-45FC-8CE1-C13D169C55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8381880" cy="3657600"/>
          </a:xfrm>
          <a:prstGeom prst="rect">
            <a:avLst/>
          </a:prstGeom>
          <a:solidFill>
            <a:srgbClr val="ffcc66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ode Persetujua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Metode Perbedaa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Metode Persamaan Varia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Metode Sisasisih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5228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etode Stuart M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586E-0565-4211-8C0E-1F2DD9A99F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1440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etode Persetuju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953240"/>
          </a:xfrm>
          <a:prstGeom prst="rect">
            <a:avLst/>
          </a:prstGeom>
          <a:solidFill>
            <a:srgbClr val="ffcc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FAEF-5628-4244-8785-A78A2927EE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52578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A42A-1CBA-476C-B1B0-44A7217627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ain Peneliti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2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erancang Penelitian berarti menentukan jenis penelitiannya, menentukan data yang akan digunakan dan merancang model empiris untuk menguji hipotesis secara statist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Rancangan penelitian adalah rencana dari struktur penelitian yang mengarahkan proses dan hasil penelitian sedapat mungkin menjadi valid, objektif, efisien, dan efek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47E6-1534-4FFC-B1A3-41787763F7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 yg hrs diperhatikan dalam merancang penelitia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solidFill>
            <a:srgbClr val="ff66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ain hrs didasarkan pad pertanyaan dan topik penelit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arahkan peneliti memilih sumberdaya dan tipe informasi yg diperlu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ain riset adalah kerangka yg dapat menunjukkan hub antar variab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DFD6-4FBC-4713-86E6-341352D91E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c12"/>
                </a:solidFill>
                <a:latin typeface="Arial"/>
              </a:rPr>
              <a:t>RESEARCH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1447920"/>
            <a:ext cx="2057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estig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Causal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Group diff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r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1447920"/>
            <a:ext cx="190476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ar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m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ing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ipul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, si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1447920"/>
            <a:ext cx="114300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4648320"/>
            <a:ext cx="2133720" cy="22096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Coo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h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Ob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Int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Questi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Phs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obtru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143000"/>
            <a:ext cx="1600200" cy="2362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nt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ling, 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iz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3657600"/>
            <a:ext cx="137160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ee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Good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Hypothe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447920"/>
            <a:ext cx="16002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rpos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kxpl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ypothe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876920"/>
            <a:ext cx="1752480" cy="1676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One sh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rossec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876920"/>
            <a:ext cx="1523880" cy="1676160"/>
          </a:xfrm>
          <a:prstGeom prst="rect">
            <a:avLst/>
          </a:prstGeom>
          <a:solidFill>
            <a:srgbClr val="fbe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p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pr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00600"/>
            <a:ext cx="19810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t Analy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y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581280"/>
            <a:ext cx="1295280" cy="838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9625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200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276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0D92-9EFC-4C55-A348-B47330FBC3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urposes of the 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5640" y="3123720"/>
            <a:ext cx="6553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xploratory Stud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scrip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ypothesis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3340-0B6E-4B20-BBAB-24742F2502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1. Exploratory 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3581280"/>
          </a:xfrm>
          <a:prstGeom prst="rect">
            <a:avLst/>
          </a:prstGeom>
          <a:solidFill>
            <a:srgbClr val="ffff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akukan jik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idak banyak yang diketahui mengenai situasi yang dihadapi, at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idak ada informasi yang tersedia mengenai bagaimana masalah atau isu penelitian yg mirip diselesaikan dimasa lal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535A-DBF6-438E-8798-F46A1EEE0F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Rancangan Studi eksplora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886200"/>
          </a:xfrm>
          <a:prstGeom prst="rect">
            <a:avLst/>
          </a:prstGeom>
          <a:solidFill>
            <a:srgbClr val="ffff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akukan studi awal utk melihat situ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ham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akukan wawanc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akukan Observasi sesuai tujuan peneli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etelah mendapat hal terkait fenomena maka kembangkan teori dan rumuskan hipot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A7B3-CF32-43B7-817A-80BA38AE9B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2. Descriptive 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91120"/>
          </a:xfrm>
          <a:prstGeom prst="rect">
            <a:avLst/>
          </a:prstGeom>
          <a:solidFill>
            <a:srgbClr val="ffff66">
              <a:alpha val="9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akuka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Untuk mengetahui dan menjelaskan karakteristik variabel yang diteliti dalam suatu situasi. Misalnya studi thd  sebuah kelas mengenai; Gender, Usia, IPK,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nggambarkan aspek-aspek yang relevan dengan fenomena perhatian dari seseorang, organisasi industri d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FCCD-FD32-4F10-8390-061944DC62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ancangan Deskrip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3962160"/>
          </a:xfrm>
          <a:prstGeom prst="rect">
            <a:avLst/>
          </a:prstGeom>
          <a:solidFill>
            <a:srgbClr val="ffff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entukan variabel yang ingin dijelas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akukan colec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mbarkan data yang diperoleh dalam bentuk yang bermakna.sehingga membantu untu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7CCB-A9F2-4F9D-B1C9-D048EC2AE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4T22:32:30Z</dcterms:created>
  <dc:creator>Jon A. Booker</dc:creator>
  <dc:description/>
  <cp:keywords/>
  <dc:language>en-US</dc:language>
  <cp:lastModifiedBy>user</cp:lastModifiedBy>
  <cp:lastPrinted>2001-01-17T16:52:16Z</cp:lastPrinted>
  <dcterms:modified xsi:type="dcterms:W3CDTF">2008-04-11T10:42:25Z</dcterms:modified>
  <cp:revision>92</cp:revision>
  <dc:subject>Chapter 1 Hilton</dc:subject>
  <dc:title>Managerial Accounting Overview</dc:title>
</cp:coreProperties>
</file>