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7.gif" ContentType="image/gif"/>
  <Override PartName="/ppt/media/Elvis%20ificandream.wav" ContentType="audio/x-wav"/>
  <Override PartName="/ppt/media/image6.jpeg" ContentType="image/jpeg"/>
  <Override PartName="/ppt/media/image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571-01A5-4D5A-9B82-05D418D4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99D-B5F8-4D0D-B126-8E5C4E1F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A93-CD51-4620-854A-EC42CE94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EB9-CBD7-40C2-A0E6-A04CB041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0DF-3A7B-49C6-923A-ED6822B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134-86A5-4A69-B450-A3393186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121-D748-44FB-AB94-F594CD93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A94-FE09-4A67-A02D-7F197CA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8D7-6AC3-4A88-B356-2921C5E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E91-636F-4A6F-BD8E-9EB51E9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CD8-6B90-4FEF-892F-4ECFBEF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02B-0A7C-4859-A506-29D298A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3046-8E64-43B2-856D-F1B2230A8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vis%20ificand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powerpoints.sexlog.nl/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chinesepowerpoints.sexlog.nl/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ppsworld.sexlog.nl/" TargetMode="External"/><Relationship Id="rId7" Type="http://schemas.openxmlformats.org/officeDocument/2006/relationships/image" Target="../media/image17.gif"/><Relationship Id="rId8" Type="http://schemas.openxmlformats.org/officeDocument/2006/relationships/hyperlink" Target="http://x-sky.skynetblogs.be/" TargetMode="External"/><Relationship Id="rId9" Type="http://schemas.openxmlformats.org/officeDocument/2006/relationships/image" Target="../media/image18.jpeg"/><Relationship Id="rId10" Type="http://schemas.openxmlformats.org/officeDocument/2006/relationships/hyperlink" Target="http://www.fotoric.be/" TargetMode="External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2421000"/>
            <a:ext cx="65516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6313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Wonton ICG"/>
              </a:rPr>
              <a:t>Yumi Lee ...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6313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Wonton ICG"/>
              <a:ea typeface="Wonton ICG"/>
            </a:endParaRPr>
          </a:p>
        </p:txBody>
      </p:sp>
    </p:spTree>
  </p:cSld>
  <p:transition spd="slow" advTm="7000">
    <p:random/>
    <p:sndAc>
      <p:stSnd>
        <p:snd r:embed="rId2" name="Elvis%20ificand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39272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28920" y="1343160"/>
            <a:ext cx="4286160" cy="4171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2592360" cy="79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333360"/>
            <a:ext cx="538164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1628640"/>
            <a:ext cx="54007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8000" y="2924280"/>
            <a:ext cx="5400720" cy="93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8000" y="4221000"/>
            <a:ext cx="5400720" cy="100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8000" y="5589720"/>
            <a:ext cx="540072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67160" y="480960"/>
            <a:ext cx="4009680" cy="5896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62120" y="49536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62120" y="423720"/>
            <a:ext cx="4019760" cy="601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62120" y="485640"/>
            <a:ext cx="401976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84360" y="54936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396072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1:47:30Z</dcterms:created>
  <dc:creator>Rudi</dc:creator>
  <dc:description/>
  <dc:language>en-US</dc:language>
  <cp:lastModifiedBy>Rudi</cp:lastModifiedBy>
  <dcterms:modified xsi:type="dcterms:W3CDTF">2006-09-17T12:04:15Z</dcterms:modified>
  <cp:revision>2</cp:revision>
  <dc:subject/>
  <dc:title>Dia 1</dc:title>
</cp:coreProperties>
</file>