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0032.wav" ContentType="audio/x-wav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0E8-A142-48CC-82DF-C05FF071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5B0-8E17-41F9-B97E-DC85F98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7C0-103F-4DFC-87D9-2179EDC0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295-7ED5-4A00-AD3C-822C7931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82A-BCD2-4A0D-902C-41600B5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715-2915-4D8A-89E2-1E67DDC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8FB-0A19-47FB-99D7-3E4B937B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EED-06BF-4878-AAB1-E5AC548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6AD-FF90-48C1-AC54-FD51E07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606-7608-4F20-A206-543DF5A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0A4-8280-4AE4-9E62-4E500A0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214-EA80-42CC-B60F-5841092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137-A9DD-485C-B92E-CB84A725C28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003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5371920" cy="532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585324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existen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0"/>
            <a:ext cx="5105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0"/>
            <a:ext cx="6400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3935520" cy="58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2480" y="5638680"/>
            <a:ext cx="5334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0"/>
            <a:ext cx="4724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00"/>
                </a:solidFill>
                <a:latin typeface="Book Antiqua"/>
                <a:ea typeface="Times New Roman"/>
              </a:rPr>
              <a:t>Esperanç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onh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0"/>
            <a:ext cx="6324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334120"/>
            <a:ext cx="6248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098720"/>
            <a:ext cx="5867640" cy="575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5334120"/>
            <a:ext cx="693396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548784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Book Antiqua"/>
                <a:ea typeface="Times New Roman"/>
              </a:rPr>
              <a:t>Caridad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auxi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5029200"/>
            <a:ext cx="8229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04920"/>
            <a:ext cx="8001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57200"/>
            <a:ext cx="68580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33404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0"/>
            <a:ext cx="5562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5715000"/>
            <a:ext cx="59436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60357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2b2b2"/>
                </a:solidFill>
                <a:latin typeface="Book Antiqua"/>
                <a:ea typeface="Times New Roman"/>
              </a:rPr>
              <a:t>Fraternidade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expa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7467840" cy="4925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380880"/>
            <a:ext cx="76201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105520"/>
            <a:ext cx="8458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4100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2b2b2"/>
                </a:solidFill>
                <a:latin typeface="Book Antiqua"/>
                <a:ea typeface="Times New Roman"/>
              </a:rPr>
              <a:t>Sacrifíci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esfor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54878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Book Antiqua"/>
                <a:ea typeface="Times New Roman"/>
              </a:rPr>
              <a:t>Renú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dep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722760" cy="5105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8280" y="0"/>
            <a:ext cx="44197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04920"/>
            <a:ext cx="7848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876920"/>
            <a:ext cx="838188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4878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ccff"/>
                </a:solidFill>
                <a:latin typeface="Book Antiqua"/>
                <a:ea typeface="Times New Roman"/>
              </a:rPr>
              <a:t>Simpati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É o Amor que sor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457200"/>
            <a:ext cx="1218960" cy="47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4543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90720" y="457200"/>
            <a:ext cx="7391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54878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66"/>
                </a:solidFill>
                <a:latin typeface="Book Antiqua"/>
                <a:ea typeface="Times New Roman"/>
              </a:rPr>
              <a:t>Trabalh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É o Amor que constró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77760"/>
            <a:ext cx="7810560" cy="5167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88390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3520"/>
            <a:ext cx="990720" cy="5638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143000"/>
            <a:ext cx="99072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914400"/>
            <a:ext cx="99036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0200" y="60357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Indiferença </a:t>
            </a:r>
            <a:r>
              <a:rPr b="0" lang="pt-BR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É o Amor que se esco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5943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5280" y="5334120"/>
            <a:ext cx="72392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0"/>
            <a:ext cx="792504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878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99"/>
                </a:solidFill>
                <a:latin typeface="Book Antiqua"/>
                <a:ea typeface="Times New Roman"/>
              </a:rPr>
              <a:t>Desesper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É o Amor que se desgover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7010640" cy="478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228600"/>
            <a:ext cx="73152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548784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00"/>
                </a:solidFill>
                <a:latin typeface="Book Antiqua"/>
                <a:ea typeface="Times New Roman"/>
              </a:rPr>
              <a:t>Paixã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desequili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81680" cy="50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54864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Book Antiqua"/>
                <a:ea typeface="Times New Roman"/>
              </a:rPr>
              <a:t>Razã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pond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5000"/>
            <a:ext cx="6686640" cy="442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6858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01760" y="-380880"/>
            <a:ext cx="611964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-76212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876920"/>
            <a:ext cx="716256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486400"/>
            <a:ext cx="579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ook Antiqua"/>
                <a:ea typeface="Times New Roman"/>
              </a:rPr>
              <a:t>Ciú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desvai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54864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Book Antiqua"/>
                <a:ea typeface="Times New Roman"/>
              </a:rPr>
              <a:t>Orgulh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enlouque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010280" cy="468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380880"/>
            <a:ext cx="7467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9480"/>
            <a:ext cx="106704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838080"/>
            <a:ext cx="106704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71600" y="0"/>
            <a:ext cx="70866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05520"/>
            <a:ext cx="723924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48784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Sensualism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enven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1160"/>
            <a:ext cx="7924680" cy="62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0"/>
            <a:ext cx="84582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952880"/>
            <a:ext cx="861048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518148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inalmente, o </a:t>
            </a:r>
            <a:r>
              <a:rPr b="1" lang="pt-PT" sz="2400" spc="-1" strike="noStrike">
                <a:solidFill>
                  <a:srgbClr val="993300"/>
                </a:solidFill>
                <a:latin typeface="Book Antiqua"/>
                <a:ea typeface="Times New Roman"/>
              </a:rPr>
              <a:t>Ódi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, que julgas ser a antítese do Amor, não é senão o próprio Amor que adoeceu grav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i="1" lang="pt-PT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rancisco Cândido Xavier</a:t>
            </a:r>
            <a:r>
              <a:rPr b="0" i="1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33520"/>
            <a:ext cx="38124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29600" y="609480"/>
            <a:ext cx="91440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152388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nha um ótimo dia, uma ótima hora,um ótimo seg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 tudo em sua vida seja ótimo hoje e sempre, que a  paz, a alegria, a simplicidade e a esperança perpetue em sua alma por toda a  sua existência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9720" y="4572000"/>
            <a:ext cx="78724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ortanto.. </a:t>
            </a: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AME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 si mesmo e a todos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u redor.. Lembre-s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Universo é um eco de nossas ações e pens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58532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 Antiqua"/>
                <a:ea typeface="Times New Roman"/>
              </a:rPr>
              <a:t>Estu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anali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0"/>
            <a:ext cx="54864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84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33720" y="5410080"/>
            <a:ext cx="53337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43556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7400" y="5334120"/>
            <a:ext cx="5181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2578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ook Antiqua"/>
                <a:ea typeface="Times New Roman"/>
              </a:rPr>
              <a:t>Ciênci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investi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5181480"/>
            <a:ext cx="7924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541008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Book Antiqua"/>
                <a:ea typeface="Times New Roman"/>
              </a:rPr>
              <a:t>Filoso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pen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441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533520"/>
            <a:ext cx="73152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378320" cy="533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603576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ff"/>
                </a:solidFill>
                <a:latin typeface="Book Antiqua"/>
                <a:ea typeface="Times New Roman"/>
              </a:rPr>
              <a:t>Religião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                                                                          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busca D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0"/>
            <a:ext cx="5181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602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4952880"/>
            <a:ext cx="87631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54100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Ver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eterni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0"/>
            <a:ext cx="5715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5257800"/>
            <a:ext cx="61722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0"/>
            <a:ext cx="5943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181480"/>
            <a:ext cx="60195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213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105520"/>
            <a:ext cx="807696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48784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Book Antiqua"/>
                <a:ea typeface="Times New Roman"/>
              </a:rPr>
              <a:t>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el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0"/>
            <a:ext cx="838224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62120"/>
            <a:ext cx="30456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838080"/>
            <a:ext cx="53352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0"/>
            <a:ext cx="838188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181480"/>
            <a:ext cx="8763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0"/>
            <a:ext cx="87631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57200"/>
            <a:ext cx="8380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0"/>
            <a:ext cx="62485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5078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5181480"/>
            <a:ext cx="78487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41008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00"/>
                </a:solidFill>
                <a:latin typeface="Book Antiqua"/>
                <a:ea typeface="Times New Roman"/>
              </a:rPr>
              <a:t>Fé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É o Amor que se transce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57200"/>
            <a:ext cx="76960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3:46:19Z</dcterms:created>
  <dc:creator>karinizumi@yahoo.com.br</dc:creator>
  <dc:description/>
  <dc:language>en-US</dc:language>
  <cp:lastModifiedBy>kcalleffo</cp:lastModifiedBy>
  <dcterms:modified xsi:type="dcterms:W3CDTF">2005-06-10T21:13:44Z</dcterms:modified>
  <cp:revision>14</cp:revision>
  <dc:subject/>
  <dc:title>Tudo é amo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8591027</vt:r8>
  </property>
  <property fmtid="{D5CDD505-2E9C-101B-9397-08002B2CF9AE}" pid="3" name="_AuthorEmail">
    <vt:lpwstr>wandasg@uol.com.br</vt:lpwstr>
  </property>
  <property fmtid="{D5CDD505-2E9C-101B-9397-08002B2CF9AE}" pid="4" name="_AuthorEmailDisplayName">
    <vt:lpwstr>Wanda Cristina Sanchez</vt:lpwstr>
  </property>
  <property fmtid="{D5CDD505-2E9C-101B-9397-08002B2CF9AE}" pid="5" name="_EmailSubject">
    <vt:lpwstr>O Amor</vt:lpwstr>
  </property>
  <property fmtid="{D5CDD505-2E9C-101B-9397-08002B2CF9AE}" pid="6" name="_ReviewingToolsShownOnce">
    <vt:lpwstr/>
  </property>
</Properties>
</file>