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924-E504-4BEB-81E7-F7DAC7A8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3BE-AFD0-4469-9F51-9B0BE384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025-9853-41F9-BA93-BA4A801C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9E3-93F2-4E95-B2FB-055739D9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7C7-6D00-416C-8C10-6473F597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271-5E73-4A9C-AE5F-BA8AC88C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EE19-5D28-4408-A167-023E6540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784-3476-486F-B8DF-F987ACA9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118-6900-4872-902B-9E8FF2F4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311-B3C4-47C5-BDCD-31EBCCF1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AC3-6F91-44EC-812C-8C3AF152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981-2FEB-4626-8B55-105A459C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graciosisimo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18D6-A76A-46BC-9355-A62CE1BC7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237360"/>
            <a:ext cx="200052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0080720" cy="756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ff"/>
                </a:solidFill>
                <a:latin typeface="Arial"/>
              </a:rPr>
              <a:t>La última fo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350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4087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5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597708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3500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67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858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1063800"/>
            <a:ext cx="597708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16360" y="-31680"/>
            <a:ext cx="349092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836640"/>
            <a:ext cx="47628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1279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73480" y="476280"/>
            <a:ext cx="4741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35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16:35:25Z</dcterms:created>
  <dc:creator>P</dc:creator>
  <dc:description/>
  <dc:language>en-US</dc:language>
  <cp:lastModifiedBy>User</cp:lastModifiedBy>
  <dcterms:modified xsi:type="dcterms:W3CDTF">2006-11-05T00:15:23Z</dcterms:modified>
  <cp:revision>7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