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Edelweise_AndreRieu.wav" ContentType="audio/x-wav"/>
  <Override PartName="/ppt/media/image5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AF5-5230-401E-B558-18A1F8D2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1D9-7308-4952-9326-226CBA9B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676-EB59-4A87-B903-4500CA26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043-1EAD-42D0-8CFC-050F9BAD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934-C08D-4365-ABD0-306EB774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63B-8374-4931-A884-09FD17CC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47F-E390-4728-8CFC-08B6495A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DEC-30D0-4EB4-A034-187A93B1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DB9-90E3-4D3D-87FA-913668B7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F94-B8F7-448C-82B6-E7BCD8EA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910-BD08-44A7-9F29-1454B4A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811-B076-4B99-99D4-FC086EAC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7A58-AD3B-4E05-9435-B54C9240CD76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delweise_AndreRie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X-TM7421DivX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590920" y="211788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66"/>
                </a:solidFill>
                <a:latin typeface="Arial"/>
              </a:rPr>
              <a:t>QUERO SER UMA TELEVISÃO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push dir="r"/>
    <p:sndAc>
      <p:stSnd>
        <p:snd r:embed="rId2" name="Edelweise_AndreRie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Familia%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6858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QUERO SENTIR QUE A MINHA FAMÍLIA DEIXA TUDO DE LADO, DE VEZ EM QUANDO, PARA PASSAR ALGUNS MOMENTOS COMI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alhaco"/>
          <p:cNvPicPr/>
          <p:nvPr/>
        </p:nvPicPr>
        <p:blipFill>
          <a:blip r:embed="rId2"/>
          <a:stretch/>
        </p:blipFill>
        <p:spPr>
          <a:xfrm>
            <a:off x="609480" y="457200"/>
            <a:ext cx="4160880" cy="3290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4876920" y="161604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3300"/>
                </a:solidFill>
                <a:latin typeface="Arial"/>
              </a:rPr>
              <a:t>POR FIM, QUE EU POSSA DIVERTIR A T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04920" y="426708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c000"/>
                </a:solidFill>
                <a:latin typeface="Arial"/>
              </a:rPr>
              <a:t>SENHOR, NÃO TE PEÇO MUITO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c000"/>
                </a:solidFill>
                <a:latin typeface="Arial"/>
              </a:rPr>
              <a:t>SÓ TE PEÇO QUE ME DEIXES VIVER COM INTENSIDADE O QUE QUALQUER TELEVISÃO VIVE 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um%20simples%20olhar"/>
          <p:cNvPicPr/>
          <p:nvPr/>
        </p:nvPicPr>
        <p:blipFill>
          <a:blip r:embed="rId1"/>
          <a:stretch/>
        </p:blipFill>
        <p:spPr>
          <a:xfrm>
            <a:off x="1752480" y="533520"/>
            <a:ext cx="541044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533520" y="4952880"/>
            <a:ext cx="815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QUANDO TERMINOU A LEITURA, O MARIDO VIROU-SE PARA A PROFESSORA E DIS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- MEU DEUS, COITADO DESSE MENINO.    QUE PAIS ELE TEM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Manuela%20con%20carta%2003"/>
          <p:cNvPicPr/>
          <p:nvPr/>
        </p:nvPicPr>
        <p:blipFill>
          <a:blip r:embed="rId2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609480" y="548640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9900"/>
                </a:solidFill>
                <a:latin typeface="Arial"/>
              </a:rPr>
              <a:t>A PROFESSORA OLHOU BEM NOS OLHOS DO MARIDO E DEPOIS BAIXOU-OS, DIZENDO NUM SUSSURR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9900"/>
                </a:solidFill>
                <a:latin typeface="Arial"/>
              </a:rPr>
              <a:t>- ESSA REDAÇÃO É DO NOSSO FILHO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familia"/>
          <p:cNvPicPr/>
          <p:nvPr/>
        </p:nvPicPr>
        <p:blipFill>
          <a:blip r:embed="rId2"/>
          <a:stretch/>
        </p:blipFill>
        <p:spPr>
          <a:xfrm>
            <a:off x="0" y="0"/>
            <a:ext cx="4724280" cy="3129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724280" y="990720"/>
            <a:ext cx="42674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3300"/>
                </a:solidFill>
                <a:latin typeface="Arial"/>
              </a:rPr>
              <a:t>E PRA VOCÊ?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ERÁ QUE A TELEVISÃO É O QUE DE MAIS IMPORTANTE HÁ NA SUA CAS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35268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ccff"/>
                </a:solidFill>
                <a:latin typeface="Arial"/>
              </a:rPr>
              <a:t>LUÍS SAM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2_206_12051_escola_professora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304920" y="5715000"/>
            <a:ext cx="8610480" cy="91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A SALA DE AULA, A PROFESSORA PEDIU AOS SEUS ALUNOS QUE FIZESSEM UMA REDAÇÃO E QUE NA MESMA EXPRESSASSEM O QUE GOSTARIAM QUE DEUS FIZESSE POR E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S-oEST-04-10-2005(8)"/>
          <p:cNvPicPr/>
          <p:nvPr/>
        </p:nvPicPr>
        <p:blipFill>
          <a:blip r:embed="rId2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685800" y="5562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JÁ EM CASA E QUANDO CORRIGIA AS REDAÇÕES DOS SEUS ALUNOS, DEPAROU-SE COM UMA QUE A DEIXOU MUITO EMOCION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anuela%20con%20carta%2001"/>
          <p:cNvPicPr/>
          <p:nvPr/>
        </p:nvPicPr>
        <p:blipFill>
          <a:blip r:embed="rId2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457200" y="51037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O MARIDO, NESSE MOMENTO, ENTROU NA SALA ONDE ELA SE ENCONTRAVA E VENDO-A A SOLUÇAR, PERGUNTOU-LHE:                                        - O QUE ACONTECEU ?                                                                                    ELA RESPONDEU-LHE:                                                                                     - LÊ ! – PASSANDO-LHE UMA FOLHA DE PAPEL. – É A REDAÇÃO DE UM ALUNO M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9802a"/>
          <p:cNvPicPr/>
          <p:nvPr/>
        </p:nvPicPr>
        <p:blipFill>
          <a:blip r:embed="rId1"/>
          <a:stretch/>
        </p:blipFill>
        <p:spPr>
          <a:xfrm>
            <a:off x="2590920" y="838080"/>
            <a:ext cx="4038480" cy="3956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685800" y="5181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66"/>
                </a:solidFill>
                <a:latin typeface="Arial"/>
              </a:rPr>
              <a:t>O MARIDO PEGOU NA FOLHA DE PAPEL QUE ELA LHE ENTREGAVA E COMEÇOU A L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elevis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2209680" y="2133720"/>
            <a:ext cx="4953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cc33"/>
                </a:solidFill>
                <a:latin typeface="Arial"/>
              </a:rPr>
              <a:t>“</a:t>
            </a:r>
            <a:r>
              <a:rPr b="1" lang="pt-PT" sz="3200" spc="-1" strike="noStrike">
                <a:solidFill>
                  <a:srgbClr val="ffcc66"/>
                </a:solidFill>
                <a:latin typeface="Arial"/>
              </a:rPr>
              <a:t>SENHOR</a:t>
            </a:r>
            <a:r>
              <a:rPr b="1" lang="pt-PT" sz="3200" spc="-1" strike="noStrike">
                <a:solidFill>
                  <a:srgbClr val="33cc33"/>
                </a:solidFill>
                <a:latin typeface="Arial"/>
              </a:rPr>
              <a:t>, ESTA NOITE PEÇO-TE ALGO DE MUITO ESPECIAL: </a:t>
            </a:r>
            <a:r>
              <a:rPr b="1" lang="pt-PT" sz="3200" spc="-1" strike="noStrike">
                <a:solidFill>
                  <a:srgbClr val="333399"/>
                </a:solidFill>
                <a:latin typeface="Arial"/>
              </a:rPr>
              <a:t>“TRANSFORMA-ME NUMA TELEVISÃO”</a:t>
            </a:r>
            <a:r>
              <a:rPr b="1" lang="pt-PT" sz="32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clase010"/>
          <p:cNvPicPr/>
          <p:nvPr/>
        </p:nvPicPr>
        <p:blipFill>
          <a:blip r:embed="rId1"/>
          <a:stretch/>
        </p:blipFill>
        <p:spPr>
          <a:xfrm>
            <a:off x="0" y="0"/>
            <a:ext cx="9144000" cy="4743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52280" y="48769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c000"/>
                </a:solidFill>
                <a:latin typeface="Arial"/>
              </a:rPr>
              <a:t>QUERO OCUPAR O ESPAÇO DELA.    VIVER COMO A TELEVISÃO DA MINHA CASA VIVE.    TER UM LUGAR ESPECIAL PARA MIM E REUNIR A MINHA FAMÍLIA EM REDOR.</a:t>
            </a:r>
            <a:r>
              <a:rPr b="0" lang="pt-PT" sz="1600" spc="-1" strike="noStrike">
                <a:solidFill>
                  <a:srgbClr val="ffc000"/>
                </a:solidFill>
                <a:latin typeface="Arial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52280" y="5638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c000"/>
                </a:solidFill>
                <a:latin typeface="Arial"/>
              </a:rPr>
              <a:t>SER LEVADO A SÉRIO QUANDO FALAR … SER O CENTRO DAS ATENÇÕES E SER ESCUTADO SEM INTERRUPÇÕES OU PERGUNT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televis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6320" y="76320"/>
            <a:ext cx="8915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ccff"/>
                </a:solidFill>
                <a:latin typeface="Arial"/>
              </a:rPr>
              <a:t>QUERO RECEBER A MESMA ATENÇÃO 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ccff"/>
                </a:solidFill>
                <a:latin typeface="Arial"/>
              </a:rPr>
              <a:t>ELA RECEBE QUANDO NÃO FUNCI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ccff"/>
                </a:solidFill>
                <a:latin typeface="Arial"/>
              </a:rPr>
              <a:t>TER A COMPANHIA DO MEU PAI QUANDO ELE CHEGA A CAS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66ccff"/>
                </a:solidFill>
                <a:latin typeface="Arial"/>
              </a:rPr>
              <a:t>MESMO QUE ESTEJA CANSADO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mae_lendo2"/>
          <p:cNvPicPr/>
          <p:nvPr/>
        </p:nvPicPr>
        <p:blipFill>
          <a:blip r:embed="rId1"/>
          <a:stretch/>
        </p:blipFill>
        <p:spPr>
          <a:xfrm>
            <a:off x="609480" y="304920"/>
            <a:ext cx="3276720" cy="245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briga"/>
          <p:cNvPicPr/>
          <p:nvPr/>
        </p:nvPicPr>
        <p:blipFill>
          <a:blip r:embed="rId2"/>
          <a:stretch/>
        </p:blipFill>
        <p:spPr>
          <a:xfrm>
            <a:off x="4952880" y="3809880"/>
            <a:ext cx="3416400" cy="269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"/>
          <p:cNvSpPr/>
          <p:nvPr/>
        </p:nvSpPr>
        <p:spPr>
          <a:xfrm>
            <a:off x="3886200" y="7333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cc6600"/>
                </a:solidFill>
                <a:latin typeface="Arial"/>
              </a:rPr>
              <a:t>QUE A MINHA MÃE ME PROCURE QUANDO ESTIVER SOZINHA E ABORRECIDA, EM VEZ DE ME IGNOR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33520" y="44956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cc6600"/>
                </a:solidFill>
                <a:latin typeface="Arial"/>
              </a:rPr>
              <a:t>E AINDA, QUE OS MEUS IRMÃOS “BRIGUEM” PARA PODEREM ESTAR COM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1:42:56Z</dcterms:created>
  <dc:creator>Carla</dc:creator>
  <dc:description/>
  <dc:language>en-US</dc:language>
  <cp:lastModifiedBy>TRF</cp:lastModifiedBy>
  <dcterms:modified xsi:type="dcterms:W3CDTF">2009-02-26T20:29:02Z</dcterms:modified>
  <cp:revision>8</cp:revision>
  <dc:subject/>
  <dc:title>Diapositivo 1</dc:title>
</cp:coreProperties>
</file>