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FE682-36A8-4B4B-A05A-E1292A65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93EA8-B137-47C2-9E04-D6C826CB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285D0-8160-4A1A-BF3E-0FF70D10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AB38D-8A38-4D38-994F-FA87ADE9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7170-52F4-4B97-9757-9D3A2EF2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18B2-BAC8-452D-9C8C-211125BD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1A3A-AF76-4563-998B-8705AD70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C242-C4FF-4578-B709-6EA9B419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FA56-3E03-45E5-B96C-72A8BA0B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04EE-7A1B-4D12-BF93-44F4D7CF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54C8-AA0D-410A-AD5D-B0F5A9E1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7176-D9AF-4145-81BC-85E336A2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6E8E-781C-4D43-8A2D-92E7A3F6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E3A9-77CA-4116-A8C5-C7260519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DD3C-3ECD-47F2-8160-009B999B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6569-FC21-40C9-873D-F868A6DB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40C4-BB19-4465-9D66-1FF5C6B8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32EEA-C628-421F-8C6C-8F16D055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4EA44-1695-4F0E-BFF3-F7D17328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D9DC5-8F47-4F58-BA24-168F181F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AC9D3-9911-44A2-91C5-5CB66625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5FBA9-88DC-49BF-B803-27D8AD48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8771B-B200-4CD8-8F44-348744FD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47319-7514-4961-A049-40ABCF56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C076-64C3-43AD-982B-A31CA22E641E}" type="slidenum">
              <a:rPr b="0" lang="pt-P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81A8-BFDC-4C36-935B-D6C14076852E}" type="slidenum">
              <a:rPr b="0" lang="pt-P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14880" y="1843920"/>
            <a:ext cx="78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 PERIGO DA FALTA DE CIN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0" b="2649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4000" y="2852640"/>
            <a:ext cx="5040360" cy="4005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1125360"/>
            <a:ext cx="82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Viu, como faz falta o uso do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Cinto ??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50440" y="148320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Veja as fotos e entenda porque 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necessário usar sempre o cinto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105156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ão cenas fortes e dramáticas, mas q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ram bem a necessidade do uso d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nto, para nossa segurança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45520" y="979920"/>
            <a:ext cx="863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e fundo e veja as foto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s coisas não aconteceriam, se as pesso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vessem utilizando corretamente o cinto..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4100"/>
          <a:stretch/>
        </p:blipFill>
        <p:spPr>
          <a:xfrm>
            <a:off x="161928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41280" y="0"/>
            <a:ext cx="666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25560" y="0"/>
            <a:ext cx="54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25480" y="0"/>
            <a:ext cx="569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0" b="2649"/>
          <a:stretch/>
        </p:blipFill>
        <p:spPr>
          <a:xfrm>
            <a:off x="0" y="-77760"/>
            <a:ext cx="9144000" cy="69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16:49:12Z</dcterms:created>
  <dc:creator>Rangel</dc:creator>
  <dc:description/>
  <dc:language>en-US</dc:language>
  <cp:lastModifiedBy>Leonardo</cp:lastModifiedBy>
  <dcterms:modified xsi:type="dcterms:W3CDTF">2006-06-05T16:36:24Z</dcterms:modified>
  <cp:revision>7</cp:revision>
  <dc:subject/>
  <dc:title>Slide 1</dc:title>
</cp:coreProperties>
</file>