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eliculas-Exodo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0EA-DF83-4CFF-91F0-FC724C5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63E-8E9D-4A78-B184-EB6C028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423-0DC1-4933-B726-86EA936E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98B-7ACA-4014-9B2B-1870C7FB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5F3E-58BF-4E5D-9E52-65E43300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A184-E19D-4ABC-8A59-EADDD8A5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7B91-CB7E-4FA0-AEB1-59B277C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265-2D5F-4784-AAC8-66FEE169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12C-B8D0-4A82-BB9C-02F043F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1DFB-64C7-4467-A21E-9BAE9FF6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96D9-472A-494E-8411-013D1EA9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A60-A598-4DA3-B34B-9E350E7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D50-4F39-4C02-AEE7-B1D6B9D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9FC4-E50F-45E8-996C-5DB4016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3F2-408E-49CA-B077-590363D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98B7-A01D-447A-93DF-2F3C0377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F348-8275-45E7-A90A-5FD0DD61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6C6-022E-488E-9276-5F56055B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551-032C-4443-B35B-FF11CE2B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1D7-DDCB-485E-96A1-96EA11F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91A-2ED3-469E-9DAD-D4A7A84C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7CB-5DDD-40E5-BD8B-AD95FF48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54E-3ED1-400D-B19C-5AF497F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6C7-6618-4197-AD28-6E7D7A9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05F-ED59-4FAB-837C-3156CA550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A52E-3277-4C49-8104-FA9ED7409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eliculas-Exod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55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 MORTE (CIENTÍFICA) DE JESU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644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Aos 33 anos, Jesus foi condenado à mor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41160"/>
            <a:ext cx="770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Tudo isso sem mencionar a humilhação que passou depois de ter carregado sua própria cruz por quase dois quilômetros, enquanto a multidão cuspia em seu rosto e lhe atirava pedras (a cruz pesava cerca de 30 quilos, somente na parte superior, naquela em que pregaram suas mão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336240"/>
            <a:ext cx="820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Jesus passou tudo isso, só para que tu tenhas um livre acesso a De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Para que tenhas todos teus pecados "lavados". Todos eles, sem exceção! Não ignores esta situação. ELE MORREU POR TI!. Por ti que estás agora lendo este e-mail. Não creias que Ele somente morreu por outros, por aqueles que vão a igreja ou por aqueles monjes, padres, pastores, bispos, etc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250640"/>
            <a:ext cx="813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Ele morreu por ti! É fácil passar uma piada, fotos com bobagens ou pornografias por e-mail, mas quando é alguma coisa relacionada a Deus, tu tens vergonha de passar a outros, porque te preocupas com o que possam pensar de tua mor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411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Aceita a realidade, a verdade de que JESUS É A ÚNICA SALVAÇÃO PARA O MU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eus tem planos para ti, mostra a  todos o que Ele passou, unicamente para te dar a Salvação. Pensa nisto agora! Deus abençoe tua vida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14900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Tudo o que tens que fazer é o seguin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9228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60 segundos con Deu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urante 60 segundos, deixa o que estás fazendo, e aproveita esta oportunidade! Vamos ver se Satanás pode deter i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336240"/>
            <a:ext cx="8351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mplesmente ore pela pessoa que te enviou esta mensagem: Senhor tu conheces bem a vida de ................. E te peço que tu o abençoes em todos os aspectos e lhe faças prosperar. Que tu cuides de sua família, de sua saúde, do deu trabalho e de todos os planos traçados para este ano. Não lhe deixes cair em tentação, mas livra-o do mal. Em nome de Jesus, amé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333000"/>
            <a:ext cx="842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2.Depois, envia esta mensagem a todos os seus conta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3. Em um instante, estas pessoas estarão orando por ti, e tu conseguirás que muitas pessoas orem a Deus por outr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4. Em seguida, pense por um momento e aprecia o poder de Deus em tua vida, por fazer o que Lhe agra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839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e não tens vergonha de fazer isto, por favor, segue as instruções. Jesus Cristo disse, "Se te envergonhares de mim, eu me envergonharei de ti diante de meu Pai"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ão tens vergonha, envia esta mensagem... Somente se tu crês nE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m, amo a Deus. Ele é minha fonte de existência e meu Salvador. Ele me mantém funcionando de dia e de noite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4428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em Ele, nada sou, mas com Ele "tudo posso em Cristo que me fortalece". Filipenses 4: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Esta é a prova mais simples. Se amas a Deus e não te envergonhas de todas as  coisas maravilhosas que Ele fez por ti, envia isto às pessoas que am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248840"/>
            <a:ext cx="7274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A “pior" morte da época. Somente os piores criminosos morreram  como Jesus. E com Jesus ainda foi pior, porque nem todos os criminosos condenados aquele castigo receberam pregos em suas mãos e pé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12832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m, foram pregos... e dos grandes! Cada um tinha de 15 a 20 cm, com uma ponta de 6 cm. A outra extremidade era puntiaguda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98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Eles eram pregados nos pulsos, e não nas mãos, como se diz. No pulso, há um tendão que vai até o ombro, e quando os pregos foram martelados, esse tendão se rompeu, obrigando Jesus a forçar todos os músculos de suas costas, por ter seus pulsos pregados, para poder respirar porque perdía todo o ar de seus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pulmões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639360"/>
            <a:ext cx="792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esta forma era obrigado a apoiar-se no prego colocado en seus pés que eram maiores ainda que o de suas mãos, porque pregavam os dois pés juntos. E como seus pés não agüentariam por muito tempo sem rasgarem-se também, Jesus era obrigado a alternar esse "ciclo" simplesmente para poder respi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336240"/>
            <a:ext cx="59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Jesus agüentou essa situação por pouco mais de 3 hor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m, mais de 3 horas! Muito tempo, não é verdade? Alguns minutos antes de morrer, Jesus já não sangrava ma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mplesmente saía água de seus cortes e feridas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196640"/>
            <a:ext cx="80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Quando o imaginamos ferido, imaginamos meras feridas, mas não; as dEle eram verdadeiros buracos, buracos feitos em seu corp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Ele não tinha mais sangue para sangrar, portanto, dele saía água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33480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O corpo humano está composto de aproximadamente 3,5 litros de sangue (em um adulto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Jesus derramou 3,5 litros de sangue; teve três pregos enormes cravados em seus membros; uma coroa de espinhos en sua cabeça e, além disso, um soldado romano cravou uma lança em seu tórax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25:24Z</dcterms:created>
  <dc:creator>lucho chapi</dc:creator>
  <dc:description/>
  <dc:language>en-US</dc:language>
  <cp:lastModifiedBy>Convidado</cp:lastModifiedBy>
  <dcterms:modified xsi:type="dcterms:W3CDTF">2009-08-31T14:17:48Z</dcterms:modified>
  <cp:revision>10</cp:revision>
  <dc:subject/>
  <dc:title>Diapositiva 1</dc:title>
</cp:coreProperties>
</file>