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CA2-9342-431E-AF2F-654DB0D1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73B-C9F0-43FE-BF59-0DA60B3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426-0DA4-4785-9203-9082F8ED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ADD-6FA4-484A-958F-581DD1EB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B13-7953-4A81-8590-E6C536F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AEF-6C6F-4881-A769-5AA6E505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FAA-C52B-472E-9A6D-3E21EE76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DE8-377B-44C4-905A-E8136FF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A54-D24B-455A-BB39-B3565141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0A4-33D4-4DCC-90B6-5D39FCD8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25B-5191-47B5-9EE9-A8F71CC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1B0-E512-411A-B8E2-B76FF58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9D9-0267-42D0-9E15-21309C4837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341360"/>
            <a:ext cx="806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ste de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videz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1240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3300"/>
                </a:solidFill>
                <a:latin typeface="Arial"/>
              </a:rPr>
              <a:t>Se você é a favor da vida, reenvia este e-mail, porque às vezes os propagandistas da morte podem nos confun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41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Arial"/>
              </a:rPr>
              <a:t>Muitos inocentes dependem de nó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440" y="33336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ff"/>
                </a:solidFill>
                <a:latin typeface="Arial"/>
              </a:rPr>
              <a:t>Todos temos o direito a estar aqu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50"/>
                            </p:stCondLst>
                            <p:childTnLst>
                              <p:par>
                                <p:cTn id="28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27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01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762120"/>
            <a:ext cx="7872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ff3300"/>
                </a:solidFill>
                <a:latin typeface="Arial"/>
              </a:rPr>
              <a:t>O que você recomendaria, ou acha  que deveria ser feito perante os seguintes cinco casos de gravidez?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549360"/>
            <a:ext cx="817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pai é asmático, a mãe está tuberculosa. Têm quatro filhos. O primeiro é cego, o segundo é surdo, o terceiro morreu e o quarto tem tuberculose. A mãe está grávida de no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Você recomendaria o aborto nesta situação?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852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m homem branco viola uma menina negra de 13 anos e esta ficou grávida. Se você fosse o pai desta jov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Você recomendaria o aborto?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2320" y="504972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6846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ma senhora está grávida; já tem muitos filhos, dois deles morreram, o seu esposo está na guerra e a ela resta-lhe pouco tempo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Você recomendaria o aborto a esta senhora?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3333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m pastor e a sua esposa enfrentam problemas econômicos muito fortes, já têm 14 filhos, são realmente pobres. Considerando a sua extrema indig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Você recomendaria à esposa desse pastor que abortasse o seu décimo quinto filho?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889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ma jovem está grávida; não está casada e o seu noivo não é o pai do bebê que está espera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Você recomendaria que ela abortas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495680"/>
            <a:ext cx="849636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ff"/>
                </a:solidFill>
                <a:latin typeface="Arial"/>
              </a:rPr>
              <a:t>Conclusõ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e você respondeu que SIM em alguma das situações anteriores, leia a seguir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45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370400" cy="475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4343400"/>
            <a:ext cx="37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Você teria ajudado a matar um dos músicos mais brilhantes do univer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28600"/>
            <a:ext cx="360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No primeiro ca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O pai  asmático e a mãe  tuberculosa, tiveram quatro filhos: o primeiro cego, o segundo surdo, o terceiro morr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e o quarto tinha tubercul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A mãe estava grávida de novo.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551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Beethoven.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71880" y="333360"/>
            <a:ext cx="470376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4010040"/>
            <a:ext cx="331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Você teria ajudado a matar uma das cantoras negras mais famosas do mu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719280"/>
            <a:ext cx="302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o segundo cas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Arial"/>
              </a:rPr>
              <a:t>Um homem branco viola uma menina negra de 13 anos e esta ficou grávida.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Ethel Wa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81400" y="351000"/>
            <a:ext cx="442296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962520"/>
            <a:ext cx="352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Você teria ajudado a matar um homem que foi enviado por Deus para atuar na história da humani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4936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o terceiro caso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Uma senhora está grávida; já tem muitos filhos, dois deles morreram, o seu esposo está na guerra e a ela resta-lhe pouco tempo de vid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553572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3300"/>
                </a:solidFill>
                <a:latin typeface="Arial"/>
              </a:rPr>
              <a:t>João Paul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00640" y="351000"/>
            <a:ext cx="4132080" cy="496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4365720"/>
            <a:ext cx="37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Você teria ajudado a matar um dos grande pregadores do  século pass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04640"/>
            <a:ext cx="396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o quarto caso: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Arial"/>
              </a:rPr>
              <a:t>Um pastor e a sua esposa enfrentam problemas econômicos muito fortes, já têm 14 filhos, são realmente pobre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5166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John Wes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7480" y="243000"/>
            <a:ext cx="4502160" cy="545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80060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abem que você teria ajudado a ma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3360"/>
            <a:ext cx="33112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o quinto cas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3200" spc="-1" strike="noStrike">
                <a:solidFill>
                  <a:srgbClr val="0000ff"/>
                </a:solidFill>
                <a:latin typeface="Arial"/>
              </a:rPr>
              <a:t>Uma jovem está grávida; não está casada e o seu noivo não é o pai do bebê que está esperando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5877000"/>
            <a:ext cx="43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3300"/>
                </a:solidFill>
                <a:latin typeface="Arial"/>
              </a:rPr>
              <a:t>JESUS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05:02Z</dcterms:created>
  <dc:creator>eduardo</dc:creator>
  <dc:description/>
  <dc:language>en-US</dc:language>
  <cp:lastModifiedBy>Maria Christina Leandro da Silva</cp:lastModifiedBy>
  <dcterms:modified xsi:type="dcterms:W3CDTF">2007-01-15T05:11:09Z</dcterms:modified>
  <cp:revision>17</cp:revision>
  <dc:subject/>
  <dc:title>Diapositiva 1</dc:title>
</cp:coreProperties>
</file>