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.jpeg" ContentType="image/jpeg"/>
  <Override PartName="/ppt/media/Nectar%20da%20Libertad%20-%20reduzida%C2%B4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DF3-5CD2-4F58-AA71-B486F72D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F92-2EAF-4730-B7DA-FA5B0F1E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B47-CDFF-4F9B-A28E-C9189AE2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4FE-F73D-4FDA-8BD6-96B14320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9A1-8762-4940-B0E0-5619083B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E91-D292-43CF-949E-ECF97BA1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0C4-EE8C-4E8F-BDAF-73618315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68C-3577-4B15-B2DD-68598C4F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3EA-4343-449D-B5EC-356D7158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192-A6A8-43EC-BB2E-82C4373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678-24A1-4FD6-8D2E-6C45DEE0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CFA-00B2-491F-9438-64FA50C1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533F-6B39-4652-932B-0DE90D09B46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ectar%20da%20Libertad%20-%20reduzida&#180;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09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62064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2133720"/>
            <a:ext cx="59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comic"/>
              </a:rPr>
              <a:t>DEUS É CULPADO?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1773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...Então, foi dito que deveríamos dar aos nossos filhos tantas camisinhas quantas eles quisessem, para que eles pudessem se divertir à vontade. E nós dissemos: "Está bem!"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7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260676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- ...Então, alguém sugeriu que imprimíssemos revistas com fotografias de mulheres nuas, e disséssemos que isto é uma coisa sadia e uma apreciação natural do corpo feminino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98100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- ...Depois, uma outra pessoa levou isso um passo mais adiante e publicou fotos de crianças nuas e foi mais além ainda, colocando-as à disposição da Internet.  E nós dissemos: "Está bem, isto é democracia, e eles têm o direito de ter liberdade de se expressar e fazer isso"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333360"/>
            <a:ext cx="8748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- ...Agora, nós estamos nos perguntando por que nossos filhos não têm consciência e por que não sabem distinguir entre o bem e o mal, entre o certo e o errado, por que não lhes incomoda matar pessoas estranhas ou seus próprios colegas de classe ou a si próprios... Provavelmente, se nós analisarmos seriamente, iremos facilmente compreender: nós colhemos aquilo que semeamos!!!..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4164120"/>
            <a:ext cx="79912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21654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654e"/>
                </a:solidFill>
                <a:latin typeface="Arial"/>
              </a:rPr>
              <a:t>...Uma menina escreveu um bilhetinho para Deu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654e"/>
                </a:solidFill>
                <a:latin typeface="Arial"/>
              </a:rPr>
              <a:t>"Senhor, por que não salvaste aquela criança na escola?“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58920" y="2205000"/>
            <a:ext cx="6842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1692"/>
                </a:solidFill>
                <a:latin typeface="Arial"/>
              </a:rPr>
              <a:t>- ...A resposta de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1692"/>
                </a:solidFill>
                <a:latin typeface="Arial"/>
              </a:rPr>
              <a:t>"Querida, não me deixam entrar nas escolas!"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e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916280"/>
            <a:ext cx="79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- ...É triste como as pessoas simplesmente culpam a Deus e não entendem porque o mundo está indo a passos largos para o inferno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4360" y="1341360"/>
            <a:ext cx="77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...É triste como cremos em tudo que os Jornais e a TV dizem, mas duvidamos do que a Bíblia, ou do que a sua religião, que você diz que segue, ensina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26920" y="981000"/>
            <a:ext cx="7848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- ...É triste como todo mundo quer ir para o céu, desde que não precise crer, nem pensar ou dizer qualquer coisa que a Bíblia ensina. É triste como alguém diz: "Eu creio em Deus", mas ainda assim segue a satanás, que por sinal, também "crê" em Deus..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19280" y="213372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 engraçado como somos rápidos para julgar, mas não queremos ser julgados!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95480" y="107316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1844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1700280"/>
            <a:ext cx="7777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1692"/>
                </a:solidFill>
                <a:latin typeface="Arial"/>
              </a:rPr>
              <a:t>Finalmente, a verdade é dita na TV American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1692"/>
                </a:solidFill>
                <a:latin typeface="Arial"/>
              </a:rPr>
              <a:t>A filha de Billy Graham estava sendo entrevistada no Early Show e Jane Clayson perguntou a el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216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00000" y="155736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...Como podemos enviar centenas de piadas por e-mail, e elas se espalham como fogo, mas quando tentamos enviar algum e-mail</a:t>
            </a: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 falando de Deus as pessoas têm medo de compartilhar e reenviá-los a outro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83664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É triste ver como o material imoral, obsceno e vulgar corre livremente na Internet, mas uma discussão pública a respeito de Deus é suprimida rapidamente na escola e no trabalho. É triste ver como as pessoas fica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lamadas de Cristo no domingo, mas depois se transformam em cristãos invisíveis pelo resto da semana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126828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ê está achando engraçado? Você mesmo pode não querer reenviar esta mensagem a muitos de sua lista de endereços, porque você não tem certeza a respeito de como a receberão, ou do que pensarão a seu respeito, por lhes ter enviado. Não é verdad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2d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26920" y="620640"/>
            <a:ext cx="741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c0000"/>
                </a:solidFill>
                <a:latin typeface="Arial"/>
              </a:rPr>
              <a:t>Gozado que nós nos preocupamos mais com o que as outras pessoas pensam a nosso respeito do que com o que Deus pensa... "Garanto que Ele, que enxerga tudo em nosso coração, está torcendo par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que você, no seu livre arbítrio, envie estas palavras a outras pessoas"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9640" y="2997360"/>
            <a:ext cx="763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e esta mensagem adiante, se acha que ela tem algum méri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não, ignore-a... E delete-a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raço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1413000"/>
            <a:ext cx="7704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- Como é que Deus teria permitido algo horroroso assim acontecer, no dia 11 de setembro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Anne Graham deu uma resposta profunda e sábia: </a:t>
            </a:r>
            <a:br>
              <a:rPr sz="36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174600"/>
            <a:ext cx="8820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99ff"/>
                </a:solidFill>
                <a:latin typeface="Arial"/>
              </a:rPr>
              <a:t>- ” Eu creio que Deus ficou profundamente triste com o que aconteceu, tanto quanto nós. Por muitos anos temos dito para Deus não interferir em nossas escolhas, sair do nosso governo e sair de nossas vidas. Sendo um cavalheiro como Deus é, eu creio que Ele calmamente nos deixou. Como poderemos esperar que Deus nos dê a sua bênção e a sua proteção se nós exigimos que Ele não se envolva mais conosco?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782640"/>
            <a:ext cx="86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99"/>
                </a:solidFill>
                <a:latin typeface="Arial"/>
              </a:rPr>
              <a:t>- À vista de tantos acontecimentos recentes - ataque dos terroristas, tiroteio nas escolas, etc... - eu creio que tudo começou desde que Madeline Murray O'hare (que foi assassinada), se queixou de que era impróprio se fazer oração nas escolas Americanas, como se fazia tradicionalmente, e nós concordamos com a sua opinião..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1484280"/>
            <a:ext cx="87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- ...Depois disso, alguém disse que seria melhor também não ler mais a Bíblia nas escolas... A Bíblia que nos ensina que não devemos matar, roubar e devemos amar o nosso próximo como a nós mesmos. E nós concordamos com esse alguém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476280"/>
            <a:ext cx="8209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-...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ogo depois, o Dr. Benjamin Spock disse que não deveríamos bater em nossos filhos quando eles se comportassem mal, porque suas personalidades em formação ficariam distorcidas e poderíamos prejudicar sua auto estima, (o filho dele se suicidou) e nós dissemos: "Um perito nesse assunto deve saber o que está falando". E então concordamos com ele...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8496360" cy="6524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2565360"/>
            <a:ext cx="38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1692"/>
                </a:solidFill>
                <a:latin typeface="Arial"/>
              </a:rPr>
              <a:t>- ...Depois alguém disse que os professores e diretores das escolas não deveriam disciplinar nossos filhos quando se comportassem mal. Então foi decidido que nenhum professor poderia tocar nos alunos... (há diferença entre disciplinar e tocar)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42920" y="285264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- ...Aí, alguém sugeriu que deveríamos deixar que nossas filhas fizessem aborto, se elas assim o quisessem. E nós aceitamos, sem ao menos questionar....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23:19:55Z</dcterms:created>
  <dc:creator>Silvana Capelari</dc:creator>
  <dc:description/>
  <dc:language>en-US</dc:language>
  <cp:lastModifiedBy>Nilza</cp:lastModifiedBy>
  <dcterms:modified xsi:type="dcterms:W3CDTF">2008-09-28T21:28:31Z</dcterms:modified>
  <cp:revision>4</cp:revision>
  <dc:subject/>
  <dc:title>Slide 1</dc:title>
</cp:coreProperties>
</file>