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Baby_Einstein_1st_Movement.wav" ContentType="audio/x-wav"/>
  <Override PartName="/ppt/media/image6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E3D-D87C-4DC6-A300-4A21852B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1E4-F55E-413C-BFE9-B221E7DC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07D-8021-4EB0-A70D-02F12438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A34-5089-46F5-961D-770B4112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C11-EA64-49B0-9DC8-B4B1F948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B85-2F2D-4035-AAD7-D75EB6B1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38E-3E44-43B5-8419-A11AFCF0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981-2DF1-414B-93CE-7B399F3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FFA-1FFB-4441-A7E9-1E1C3A66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C9E-6164-4B2C-AFC8-96EA67B1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D85-1160-409C-925A-637D53C9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D83-ADA5-4287-BF2D-900F3CF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E4F3-FD3A-49F3-B76D-56C4050ED33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Baby_Einstein_1st_Movement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Dinael\Pictures\SETA PRA BAIXO.gif"/>
          <p:cNvPicPr/>
          <p:nvPr/>
        </p:nvPicPr>
        <p:blipFill>
          <a:blip r:embed="rId2"/>
          <a:stretch/>
        </p:blipFill>
        <p:spPr>
          <a:xfrm rot="16200000">
            <a:off x="188640" y="2882880"/>
            <a:ext cx="611280" cy="91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Users\Dinael\Pictures\ar1.png"/>
          <p:cNvPicPr/>
          <p:nvPr/>
        </p:nvPicPr>
        <p:blipFill>
          <a:blip r:embed="rId3"/>
          <a:stretch/>
        </p:blipFill>
        <p:spPr>
          <a:xfrm>
            <a:off x="162000" y="1700280"/>
            <a:ext cx="8820000" cy="4505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Baby_Einstein_1st_Movemen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8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500"/>
                            </p:stCondLst>
                            <p:childTnLst>
                              <p:par>
                                <p:cTn id="9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Dinael\Pictures\ar2.png"/>
          <p:cNvPicPr/>
          <p:nvPr/>
        </p:nvPicPr>
        <p:blipFill>
          <a:blip r:embed="rId2"/>
          <a:stretch/>
        </p:blipFill>
        <p:spPr>
          <a:xfrm>
            <a:off x="1006560" y="260280"/>
            <a:ext cx="713088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Users\Dinael\Pictures\ar3.png"/>
          <p:cNvPicPr/>
          <p:nvPr/>
        </p:nvPicPr>
        <p:blipFill>
          <a:blip r:embed="rId2"/>
          <a:stretch/>
        </p:blipFill>
        <p:spPr>
          <a:xfrm>
            <a:off x="1368360" y="189000"/>
            <a:ext cx="6407280" cy="177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Users\Dinael\Pictures\ar4.png"/>
          <p:cNvPicPr/>
          <p:nvPr/>
        </p:nvPicPr>
        <p:blipFill>
          <a:blip r:embed="rId2"/>
          <a:stretch/>
        </p:blipFill>
        <p:spPr>
          <a:xfrm>
            <a:off x="-47520" y="5516640"/>
            <a:ext cx="9240840" cy="137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4" descr="C:\Users\Dinael\Pictures\ar5.png"/>
          <p:cNvPicPr/>
          <p:nvPr/>
        </p:nvPicPr>
        <p:blipFill>
          <a:blip r:embed="rId2"/>
          <a:stretch/>
        </p:blipFill>
        <p:spPr>
          <a:xfrm>
            <a:off x="5364000" y="941400"/>
            <a:ext cx="3816360" cy="497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4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C:\Users\Dinael\Pictures\ar6.png"/>
          <p:cNvPicPr/>
          <p:nvPr/>
        </p:nvPicPr>
        <p:blipFill>
          <a:blip r:embed="rId2"/>
          <a:stretch/>
        </p:blipFill>
        <p:spPr>
          <a:xfrm>
            <a:off x="5187960" y="282600"/>
            <a:ext cx="3959280" cy="628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6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Dinael\Pictures\ar7.png"/>
          <p:cNvPicPr/>
          <p:nvPr/>
        </p:nvPicPr>
        <p:blipFill>
          <a:blip r:embed="rId2"/>
          <a:stretch/>
        </p:blipFill>
        <p:spPr>
          <a:xfrm>
            <a:off x="5519880" y="911160"/>
            <a:ext cx="3608280" cy="503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:\Users\Dinael\Pictures\SETA PRA BAIXO.gif"/>
          <p:cNvPicPr/>
          <p:nvPr/>
        </p:nvPicPr>
        <p:blipFill>
          <a:blip r:embed="rId2"/>
          <a:stretch/>
        </p:blipFill>
        <p:spPr>
          <a:xfrm rot="16200000">
            <a:off x="214920" y="5728320"/>
            <a:ext cx="720720" cy="108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Dinael\Pictures\SETA PRA BAIXO.gif"/>
          <p:cNvPicPr/>
          <p:nvPr/>
        </p:nvPicPr>
        <p:blipFill>
          <a:blip r:embed="rId3"/>
          <a:stretch/>
        </p:blipFill>
        <p:spPr>
          <a:xfrm flipH="1" rot="5400000">
            <a:off x="8145720" y="5758560"/>
            <a:ext cx="72072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"/>
                            </p:stCondLst>
                            <p:childTnLst>
                              <p:par>
                                <p:cTn id="6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57:37Z</dcterms:created>
  <dc:creator/>
  <dc:description/>
  <dc:language>en-US</dc:language>
  <cp:lastModifiedBy>Dinael</cp:lastModifiedBy>
  <dcterms:modified xsi:type="dcterms:W3CDTF">2012-02-20T17:56:49Z</dcterms:modified>
  <cp:revision>21</cp:revision>
  <dc:subject/>
  <dc:title>Apresentação do PowerPoint</dc:title>
</cp:coreProperties>
</file>