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Tu%20quieres%20volver%20(Sarah%20Brigtman)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1A7B-404A-4B4C-BB7E-2FEA1D27B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C62F-6AD1-47EE-B43A-96791FBA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D03D-CC25-400D-AB8B-044489BE7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484D-F63C-463F-9315-82158E26F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4E48-656C-4AA8-933D-1BDB4E6B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3BB8-A335-4981-B844-4F62DBB6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AAA2-7A60-4275-A2C5-3FAFC845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B2C5-22EE-41F4-8288-B3450E6A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F8F0-A25E-4717-9B88-016D611A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95EC-8448-454E-A001-323D1EA6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AC9B-BFE7-4D9F-A51B-EEB83028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002B-4DFF-4294-AB74-8527124F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29C5-B1F5-4654-9BD7-414158BEC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u%20quieres%20volver%20(Sarah%20Brigtman)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odossa@hotmail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95280" y="4267080"/>
            <a:ext cx="63248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effectLst>
                  <a:outerShdw dist="17819" dir="2700000" blurRad="0" rotWithShape="0">
                    <a:srgbClr val="989898"/>
                  </a:outerShdw>
                </a:effectLst>
                <a:latin typeface="Lucida Sans"/>
              </a:rPr>
              <a:t>A existência</a:t>
            </a:r>
            <a:endParaRPr b="1" i="1" lang="en-US" sz="24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effectLst>
                <a:outerShdw dist="17819" dir="2700000" blurRad="0" rotWithShape="0">
                  <a:srgbClr val="989898"/>
                </a:outerShdw>
              </a:effectLst>
              <a:latin typeface="Lucida Sans"/>
              <a:ea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effectLst>
                  <a:outerShdw dist="17819" dir="2700000" blurRad="0" rotWithShape="0">
                    <a:srgbClr val="989898"/>
                  </a:outerShdw>
                </a:effectLst>
                <a:latin typeface="Lucida Sans"/>
              </a:rPr>
              <a:t>de Deus</a:t>
            </a:r>
            <a:endParaRPr b="1" i="1" lang="en-US" sz="24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effectLst>
                <a:outerShdw dist="17819" dir="2700000" blurRad="0" rotWithShape="0">
                  <a:srgbClr val="989898"/>
                </a:outerShdw>
              </a:effectLst>
              <a:latin typeface="Lucida Sans"/>
              <a:ea typeface="Lucida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495680" y="1447920"/>
            <a:ext cx="404352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tempo passava e ele, de joelh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cava pensando que a mulher poder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á estar morta e, certament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 teria de pagar por isso.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638680" y="990720"/>
            <a:ext cx="2924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letiu sobre suas intemperança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bre seu mau humor principalm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bre sua insensatez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257800" y="1219320"/>
            <a:ext cx="3070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repente, sentiu uma mão tocar-l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ombro esquerdo e ao virar deparou-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 acriança em prantos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952880" y="914400"/>
            <a:ext cx="3749760" cy="63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quele momento ficou desconsola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s tinha uma certeza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us, de fato, não existi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á podia imaginar o que estava para lhe acontecer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562720" y="1600200"/>
            <a:ext cx="2751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choro e o olhar triste daquela criança lhe 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ravessava a alma.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410080" y="1447920"/>
            <a:ext cx="3084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entanto, como um lampejo de sabedoria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guntou ao menino o que lhe havia acontecido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419720" y="1143000"/>
            <a:ext cx="4127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ão aquela criança começou a dizer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"Senhor, por favor não brigue comig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s é que caí e quebrei o vidro do remédi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á pro senhor me dar outro?"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943600" y="2057400"/>
            <a:ext cx="2611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us existe e te conhece pelo teu nome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486400" y="1600200"/>
            <a:ext cx="2971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 sempre tem o melhor para você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mais que as circunstâncias mostrem o contrário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48320" y="1066680"/>
            <a:ext cx="3700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ia neste amor que é maior do qu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lquer um dos seus problemas, mesm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stes sejam grandes e de difícil resolução.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105520" y="1676520"/>
            <a:ext cx="3328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mico era dono de uma bem sucedi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rmácia numa cidade do interior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410080" y="1600200"/>
            <a:ext cx="2895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ia na vida melhor que Ele tem preparada para você!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ia neste amor!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876920" y="1289160"/>
            <a:ext cx="35607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ão considere esta mensagem como religiosa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 algo muito maior do que religi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 uma mensagem sobre o amor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us que te faz estar próximo dele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76440" y="4800600"/>
            <a:ext cx="7656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m te faz próximo ao seu Pai é este amor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724280" y="1066680"/>
            <a:ext cx="3429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ia em todos os instantes deste d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se fossem milagres realizados só para você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s você é, com toda certeza, um dos milag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Deus aqui na terra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38800" y="4662360"/>
            <a:ext cx="5389920" cy="155700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existência de Deus” (desconheço aut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úsica tema: Tu quieres volver (Sarah Brightma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matado por:  Orlei Antôn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-mail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odossa@hotmai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2.12.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267080" y="1371600"/>
            <a:ext cx="4389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a um homem bastante intelig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s não acreditava na existência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us ou de qualquer outra coisa alé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seu mundo material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343400" y="917640"/>
            <a:ext cx="4411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m certo dia, estava ele fechand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farmácia quando chegou uma crianç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os prantos dizendo que sua mãe estav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ando mal e que se ela não tomas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remédio logo iria morrer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724280" y="1600200"/>
            <a:ext cx="3902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ito nervoso e após insistência da criança, resolveu reabrir a farmácia para pegar o remédio.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191120" y="1523880"/>
            <a:ext cx="4206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a insensibilidade perante aque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mento era tal que acabou pegand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remédio mesmo no escuro, entregou-o à criança, que agradeceu e saiu dali às pressas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876920" y="1371600"/>
            <a:ext cx="3429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utos depois, percebeu que hav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gado o remédio errado para criança e, se aquela mãe o tomasse, seria morte instantânea.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791320" y="914400"/>
            <a:ext cx="2539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esperado, tentou alcanç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riança mas não teve êxito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1320" y="4813200"/>
            <a:ext cx="69717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itou em desespero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o tempo passava e nada acontecia.</a:t>
            </a: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724280" y="685800"/>
            <a:ext cx="37116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 saber o que fazer e co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onsciência pesada, ajoelhou-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começou a chorar e dizer qu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realmente existia um De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não o deixasse passar por assassino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3T00:27:11Z</dcterms:created>
  <dc:creator>orlei</dc:creator>
  <dc:description/>
  <dc:language>en-US</dc:language>
  <cp:lastModifiedBy>orlei</cp:lastModifiedBy>
  <dcterms:modified xsi:type="dcterms:W3CDTF">2005-12-23T00:31:52Z</dcterms:modified>
  <cp:revision>2</cp:revision>
  <dc:subject/>
  <dc:title>Apresentação do PowerPoint</dc:title>
</cp:coreProperties>
</file>