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or%20especial-%20piano%20SUAVE%2093%20kb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A42-2C96-46BE-88F1-0F40268C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25A-B7DE-4218-8CD2-6039238F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67F-81A8-4D08-A929-BD64D989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DA0-00F3-42A8-8938-8C2932A8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DDC-3DEB-406D-AD29-B4BDFD6B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2E2-EECF-4512-AA21-12CFA91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338-2D3A-49FA-9C4C-7DCBCA7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EF7-14C4-483D-B0EC-AE0F98E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615-AF08-412A-9411-4B8AD85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64D-81BD-4BF2-89F0-919A171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5CE-989A-4541-BA1D-213A5ADF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AD0-DB5F-4BA1-8EB6-2D0411A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3055-E5F3-4E89-942B-75F8BEF03B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especial-%20piano%20SUAVE%2093%20kb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89000"/>
            <a:ext cx="2573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557360"/>
            <a:ext cx="34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riart´s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43280" y="2565360"/>
            <a:ext cx="19238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Net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213120" y="5661000"/>
            <a:ext cx="37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dição e 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uclimae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826280" y="3448080"/>
            <a:ext cx="59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riartsnet@hotmail.c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2163240" y="3976560"/>
            <a:ext cx="50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Bookman Old Style"/>
              </a:rPr>
              <a:t>Apresent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533412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gritei e pule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de tanta felicidad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vivi de am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 fiz juras eternas,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s "quebrei a cara"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uitas vez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762120"/>
            <a:ext cx="5905440" cy="4113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Já chorei ouvindo música e vendo fotos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liguei só pra escutar uma voz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me apaixonei por um sorris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56160"/>
            <a:ext cx="91440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Já pensei que fosse morrer de tanta sau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e...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18280"/>
            <a:ext cx="9144000" cy="1169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...tive medo de perder alguém especi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(e acabei perdendo)! Mas sobrevivi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334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 ainda viv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ão passo pela vida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 você também não deveria passar. Viva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om mesmo é ir a luta com determinação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braçar a vida e viver com paixã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erder com classe e vencer com ousadi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rque o mundo pertence a quem se atre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 VIDA É MUI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ra ser insignificante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7336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ste conteúdo não deve parar em você repasse para a maior quantidade de pessoas que você conheça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  <a:ea typeface="Arial"/>
              </a:rPr>
              <a:t>VID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exto de Charles 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80024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á perdoei erros quase imperdoávei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tei substituir pessoas insubstituíve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squecer pessoas inesquecíveis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á fiz coisas por impulso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á me decepcionei com pesso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quando nunca pensei me decepciona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s também decepcionei alguém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Já abracei pra proteger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6400800"/>
            <a:ext cx="8229600" cy="4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dei risada quando não podia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0" y="198360"/>
            <a:ext cx="647712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á fiz amigos eternos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amei e fui amado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s també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já fui rejeitado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7610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Já fui amado e não soube am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9:10:54Z</dcterms:created>
  <dc:creator>Duque</dc:creator>
  <dc:description/>
  <dc:language>en-US</dc:language>
  <cp:lastModifiedBy>euclimaecil almeida de freitas</cp:lastModifiedBy>
  <dcterms:modified xsi:type="dcterms:W3CDTF">2006-11-21T00:49:20Z</dcterms:modified>
  <cp:revision>34</cp:revision>
  <dc:subject/>
  <dc:title>Não crio juizo na VIDA!</dc:title>
</cp:coreProperties>
</file>