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EED7-0D0F-4B19-9EE9-DF2B767F8AA9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DCB6-26A3-4C6F-9F8D-3CC2C55C89D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304D-E0E0-4AC3-84E8-C24925D9FE2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8882-FDA8-49AE-BE54-3E1712FC314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7124-8EC1-43E9-BAB2-BF03DC714D0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F4D4-DCDD-47A9-BD4C-A03EA89CA95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817C-6CBB-4B07-8319-A7F381382222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1AA5-BEFA-4AD9-A15A-535197BDCCB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FE40-21AB-4594-A54F-3CFE82B703E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C499-6030-4B95-BDA0-38D6802B213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EC6E-E0BC-4F68-8635-9387F96F376A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A858-B972-41B5-82FA-CD2A53851A5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0C1E-039B-4A75-B845-4E2626FD3E3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BDFC-B5B4-40CB-8B3F-6BC961ECA6E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18CF-9E6A-4717-AAF8-48C502F894D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5B14-5C77-4AD0-9FD8-EEFBC909F47A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484E-B976-470A-83D6-2B53716D578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1C8B-5D47-4EA1-80DC-8ECEF6B947B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6F40-C129-49F9-B43B-67D61D2E3058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DBC3-3E64-4396-8DC9-DC2C8F8B9CB9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5D1A-1216-46F5-AA28-F1C1EA8476D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7C8-0C02-4745-8BCD-4855D02C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AE9-58C7-48BF-997E-B7C97543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C0C-85A8-42ED-8FEE-516A433C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CAD-5F60-4A56-A0D3-A650DBBD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D92-C3F4-48CC-BF50-FC5FA0AE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3E6-80DB-4479-9A4C-3D82F4CE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FFB-8DAC-4C68-869E-21FE2719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EDD-DDED-4513-A603-CE1DE995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2E4-AE63-4EB7-8FC0-26CCA238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57C-DF15-4EA9-8ADB-1B3B5952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8AC-E43D-4213-87CB-4B8DD9CE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AE9-00D8-47AC-95FE-3165BE71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FDF5-AFCA-43DB-BB63-99C7C70F5AF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99680"/>
            <a:ext cx="835164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cc0000"/>
                </a:solidFill>
                <a:latin typeface="Calibri"/>
              </a:rPr>
              <a:t>O que aconteceu com a radiação que devia durar 1.000 anos em Hiroshima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cxecxecxecxecxecxecxMA8.1273277732" descr="cid:465D967D772946D3961669804DA49DCD@PCdeClau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cxecxecxecxecxecxecxMA9.1273277732" descr="cid:D18421EAC3AD406997DFCCDA018CF530@PCdeClau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ecxecxecxecxecxecxecxMA10.1273277732" descr="cid:E46BC3849F064FD099D165E098092891@PCdeClau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cxecxecxecxecxecxecxMA11.1273277732" descr="cid:DDB35617BD0C447880C67A5AF9971B93@PCdeClau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ecxecxecxecxecxecxecxMA12.1273277732" descr="cid:E3ED8DEF90ED4EBE832583CA12F3D0A5@PCdeClau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23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cc0000"/>
                </a:solidFill>
                <a:latin typeface="Calibri"/>
              </a:rPr>
              <a:t>BRASIL</a:t>
            </a:r>
            <a:br>
              <a:rPr sz="8000"/>
            </a:br>
            <a:r>
              <a:rPr b="1" lang="fr-CA" sz="8000" spc="-1" strike="noStrike">
                <a:solidFill>
                  <a:srgbClr val="cc0000"/>
                </a:solidFill>
                <a:latin typeface="Calibri"/>
              </a:rPr>
              <a:t>65 anos depois</a:t>
            </a:r>
            <a:br>
              <a:rPr sz="8000"/>
            </a:br>
            <a:r>
              <a:rPr b="1" lang="fr-CA" sz="8000" spc="-1" strike="noStrike">
                <a:solidFill>
                  <a:srgbClr val="cc0000"/>
                </a:solidFill>
                <a:latin typeface="Calibri"/>
              </a:rPr>
              <a:t>da bomba de HIROSHIMA</a:t>
            </a:r>
            <a:r>
              <a:rPr b="1" lang="fr-CA" sz="8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6"/>
          <p:cNvSpPr/>
          <p:nvPr/>
        </p:nvSpPr>
        <p:spPr>
          <a:xfrm>
            <a:off x="7776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m 3" descr="favela 1.jpg"/>
          <p:cNvPicPr/>
          <p:nvPr/>
        </p:nvPicPr>
        <p:blipFill>
          <a:blip r:embed="rId1"/>
          <a:stretch/>
        </p:blipFill>
        <p:spPr>
          <a:xfrm>
            <a:off x="324000" y="333360"/>
            <a:ext cx="4895640" cy="2374920"/>
          </a:xfrm>
          <a:prstGeom prst="rect">
            <a:avLst/>
          </a:prstGeom>
          <a:ln w="0">
            <a:noFill/>
          </a:ln>
        </p:spPr>
      </p:pic>
      <p:pic>
        <p:nvPicPr>
          <p:cNvPr id="65" name="Imagem 5" descr="favela 3.jpg"/>
          <p:cNvPicPr/>
          <p:nvPr/>
        </p:nvPicPr>
        <p:blipFill>
          <a:blip r:embed="rId2"/>
          <a:stretch/>
        </p:blipFill>
        <p:spPr>
          <a:xfrm>
            <a:off x="468360" y="2997360"/>
            <a:ext cx="4032360" cy="3579480"/>
          </a:xfrm>
          <a:prstGeom prst="rect">
            <a:avLst/>
          </a:prstGeom>
          <a:ln w="0">
            <a:noFill/>
          </a:ln>
        </p:spPr>
      </p:pic>
      <p:pic>
        <p:nvPicPr>
          <p:cNvPr id="66" name="Imagem 4" descr="favela 2.jpg"/>
          <p:cNvPicPr/>
          <p:nvPr/>
        </p:nvPicPr>
        <p:blipFill>
          <a:blip r:embed="rId3"/>
          <a:stretch/>
        </p:blipFill>
        <p:spPr>
          <a:xfrm>
            <a:off x="4643280" y="333360"/>
            <a:ext cx="428148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2" descr="lixo 1.jpg"/>
          <p:cNvPicPr/>
          <p:nvPr/>
        </p:nvPicPr>
        <p:blipFill>
          <a:blip r:embed="rId1"/>
          <a:stretch/>
        </p:blipFill>
        <p:spPr>
          <a:xfrm>
            <a:off x="3635280" y="260280"/>
            <a:ext cx="4681800" cy="3213000"/>
          </a:xfrm>
          <a:prstGeom prst="rect">
            <a:avLst/>
          </a:prstGeom>
          <a:ln w="0">
            <a:noFill/>
          </a:ln>
        </p:spPr>
      </p:pic>
      <p:pic>
        <p:nvPicPr>
          <p:cNvPr id="68" name="Imagem 3" descr="lixo 2.jpg"/>
          <p:cNvPicPr/>
          <p:nvPr/>
        </p:nvPicPr>
        <p:blipFill>
          <a:blip r:embed="rId2"/>
          <a:stretch/>
        </p:blipFill>
        <p:spPr>
          <a:xfrm>
            <a:off x="3635280" y="3573360"/>
            <a:ext cx="539136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Imagem 4" descr="lixo 3.jpg"/>
          <p:cNvPicPr/>
          <p:nvPr/>
        </p:nvPicPr>
        <p:blipFill>
          <a:blip r:embed="rId3"/>
          <a:stretch/>
        </p:blipFill>
        <p:spPr>
          <a:xfrm>
            <a:off x="108000" y="260280"/>
            <a:ext cx="34178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2" descr="estrada esburacada 4.jpg"/>
          <p:cNvPicPr/>
          <p:nvPr/>
        </p:nvPicPr>
        <p:blipFill>
          <a:blip r:embed="rId1"/>
          <a:stretch/>
        </p:blipFill>
        <p:spPr>
          <a:xfrm>
            <a:off x="179280" y="0"/>
            <a:ext cx="3857760" cy="2892600"/>
          </a:xfrm>
          <a:prstGeom prst="rect">
            <a:avLst/>
          </a:prstGeom>
          <a:ln w="0">
            <a:noFill/>
          </a:ln>
        </p:spPr>
      </p:pic>
      <p:pic>
        <p:nvPicPr>
          <p:cNvPr id="71" name="Imagem 3" descr="estrada esburacada.jpg"/>
          <p:cNvPicPr/>
          <p:nvPr/>
        </p:nvPicPr>
        <p:blipFill>
          <a:blip r:embed="rId2"/>
          <a:stretch/>
        </p:blipFill>
        <p:spPr>
          <a:xfrm>
            <a:off x="4140360" y="3068640"/>
            <a:ext cx="4854240" cy="3641760"/>
          </a:xfrm>
          <a:prstGeom prst="rect">
            <a:avLst/>
          </a:prstGeom>
          <a:ln w="0">
            <a:noFill/>
          </a:ln>
        </p:spPr>
      </p:pic>
      <p:pic>
        <p:nvPicPr>
          <p:cNvPr id="72" name="Imagem 4" descr="estrada esburacada 5.jpg"/>
          <p:cNvPicPr/>
          <p:nvPr/>
        </p:nvPicPr>
        <p:blipFill>
          <a:blip r:embed="rId3"/>
          <a:stretch/>
        </p:blipFill>
        <p:spPr>
          <a:xfrm>
            <a:off x="395280" y="3068640"/>
            <a:ext cx="3608280" cy="2952720"/>
          </a:xfrm>
          <a:prstGeom prst="rect">
            <a:avLst/>
          </a:prstGeom>
          <a:ln w="0">
            <a:noFill/>
          </a:ln>
        </p:spPr>
      </p:pic>
      <p:pic>
        <p:nvPicPr>
          <p:cNvPr id="73" name="Imagem 5" descr="estrada esburacada 3.jpg"/>
          <p:cNvPicPr/>
          <p:nvPr/>
        </p:nvPicPr>
        <p:blipFill>
          <a:blip r:embed="rId4"/>
          <a:stretch/>
        </p:blipFill>
        <p:spPr>
          <a:xfrm>
            <a:off x="4140360" y="476280"/>
            <a:ext cx="3095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marginal.jpg"/>
          <p:cNvPicPr/>
          <p:nvPr/>
        </p:nvPicPr>
        <p:blipFill>
          <a:blip r:embed="rId1"/>
          <a:stretch/>
        </p:blipFill>
        <p:spPr>
          <a:xfrm>
            <a:off x="250920" y="260280"/>
            <a:ext cx="6941880" cy="4500720"/>
          </a:xfrm>
          <a:prstGeom prst="rect">
            <a:avLst/>
          </a:prstGeom>
          <a:ln w="0">
            <a:noFill/>
          </a:ln>
        </p:spPr>
      </p:pic>
      <p:pic>
        <p:nvPicPr>
          <p:cNvPr id="75" name="Imagem 3" descr="marginal 1.jpg"/>
          <p:cNvPicPr/>
          <p:nvPr/>
        </p:nvPicPr>
        <p:blipFill>
          <a:blip r:embed="rId2"/>
          <a:stretch/>
        </p:blipFill>
        <p:spPr>
          <a:xfrm>
            <a:off x="5003640" y="3789360"/>
            <a:ext cx="37641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cxecxecxecxecxecxecxMA1.1273277732" descr="cid:2C9E5A9B0ED748E49B9E061E17B813FD@PCdeClaude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cc0000"/>
                </a:solidFill>
                <a:latin typeface="Calibri"/>
              </a:rPr>
              <a:t>A longo prazo, o que causa maior destruição?</a:t>
            </a:r>
            <a:br>
              <a:rPr sz="6000"/>
            </a:br>
            <a:br>
              <a:rPr sz="6000"/>
            </a:br>
            <a:r>
              <a:rPr b="1" lang="fr-CA" sz="6000" spc="-1" strike="noStrike">
                <a:solidFill>
                  <a:srgbClr val="cc0000"/>
                </a:solidFill>
                <a:latin typeface="Calibri"/>
              </a:rPr>
              <a:t> A BOMBA ATÔMICA ou</a:t>
            </a:r>
            <a:br>
              <a:rPr sz="6000"/>
            </a:br>
            <a:r>
              <a:rPr b="1" lang="fr-CA" sz="6000" spc="-1" strike="noStrike">
                <a:solidFill>
                  <a:srgbClr val="cc0000"/>
                </a:solidFill>
                <a:latin typeface="Calibri"/>
              </a:rPr>
              <a:t>os POLÍTICO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cxecxecxecxecxecxecxMA2.1273277732" descr="cid:DDC996D9F5F041B1BBF1A72D3D33E1CF@PCdeClaude"/>
          <p:cNvPicPr/>
          <p:nvPr/>
        </p:nvPicPr>
        <p:blipFill>
          <a:blip r:embed="rId1"/>
          <a:stretch/>
        </p:blipFill>
        <p:spPr>
          <a:xfrm>
            <a:off x="0" y="0"/>
            <a:ext cx="931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cxecxecxecxecxecxecxMA3.1273277732" descr="cid:BDC36571B58F442DA4492FF8F8725A58@PCdeClaude"/>
          <p:cNvPicPr/>
          <p:nvPr/>
        </p:nvPicPr>
        <p:blipFill>
          <a:blip r:embed="rId1"/>
          <a:stretch/>
        </p:blipFill>
        <p:spPr>
          <a:xfrm>
            <a:off x="1357200" y="285840"/>
            <a:ext cx="6357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615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cc0000"/>
                </a:solidFill>
                <a:latin typeface="Calibri"/>
              </a:rPr>
              <a:t>HIROSHIMA </a:t>
            </a:r>
            <a:br>
              <a:rPr sz="9600"/>
            </a:br>
            <a:r>
              <a:rPr b="1" lang="fr-CA" sz="9600" spc="-1" strike="noStrike">
                <a:solidFill>
                  <a:srgbClr val="cc0000"/>
                </a:solidFill>
                <a:latin typeface="Calibri"/>
              </a:rPr>
              <a:t>65 anos depois</a:t>
            </a: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cxecxecxecxecxecxecxMA4.1273277732" descr="cid:0AF05A3797F34BBDB2309C015FD96B59@PCdeClau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cxecxecxecxecxecxecxMA5.1273277732" descr="cid:C636DB83CC5248699720B95BD949BA3A@PCdeClau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cxecxecxecxecxecxecxMA6.1273277732" descr="cid:B3B9CBE9C15C498D879289B64ECEC4AE@PCdeClau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cxecxecxecxecxecxecxMA7.1273277732" descr="cid:7D7F8E0D2F634EB8B59D46F9CF2143E1@PCdeClau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8:25:16Z</dcterms:created>
  <dc:creator>Michel</dc:creator>
  <dc:description/>
  <dc:language>en-US</dc:language>
  <cp:lastModifiedBy>Toninho</cp:lastModifiedBy>
  <dcterms:modified xsi:type="dcterms:W3CDTF">2011-03-22T00:00:31Z</dcterms:modified>
  <cp:revision>26</cp:revision>
  <dc:subject/>
  <dc:title>Qu’est-il arrivé a la Radiation qui devais durée mille ans , sur Hiroshima en 1945</dc:title>
</cp:coreProperties>
</file>