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E04B-4F55-456F-9E38-111F72F6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959C-037A-4E7E-98CC-286F4AA1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B2B1-1EA6-48AA-B4BE-8741D73CE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D34A-13F8-4EC2-B498-D8A12D4DF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26A2-4D1C-4D39-B48D-CC9DB7D18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2459-2004-4D32-821A-6D41DF0A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A500-91D8-4C43-8227-982BC4F6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E9E8-ED9C-418E-9859-6B2FECA7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AF52-88BA-4C18-A8A2-4E42176B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1369-9127-4954-9774-6B0B5604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DACF-2C66-4B36-805C-8869AB49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C1DD-E352-49C6-8320-1C276B51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47C5-FF73-49C9-B463-65A12889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446A-EBA0-4EF8-A389-20EC40DE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6519-F546-4D3C-9340-350302CC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AAE3-0EDB-4431-A730-AB64AB353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D4C1-4630-43B2-8BD4-54661377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8C4A-0CEC-4B01-B902-B3FB73D6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028E-57C6-4BC3-9F70-C1613302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8DBC-D8D2-4098-B031-4364DBA1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CBBD-0B24-4DF0-A6E5-1D2A6F3F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FFBD-D180-4DD9-8A62-C6E8926A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428A-403C-4F42-8BC5-41EED302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F549-5F97-4AEB-8DA6-273CC610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AA3F-D22A-4ECB-BFD5-3206E02BEBC5}" type="slidenum">
              <a:rPr b="0" lang="pt-BR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FD12-ECE5-4E12-82F8-EAB283CA4159}" type="slidenum">
              <a:rPr b="0" lang="pt-BR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pic168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ângulo 4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Times New Roman"/>
              </a:rPr>
              <a:t>A ÁRVORE MISTERIOSA NO RIO LIMPOPO (Moçambiqu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Rectângulo 5"/>
          <p:cNvSpPr/>
          <p:nvPr/>
        </p:nvSpPr>
        <p:spPr>
          <a:xfrm>
            <a:off x="0" y="44290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ta, é uma árvore  que parece saída da Arca de Noé!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Mas o mais curioso de tudo, é que  ninguém parece saber  quem a esculpiu e quando é que isso terá sido feito…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  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ORA, REPAREM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pic302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pic114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6705720" y="6095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66"/>
                </a:solidFill>
                <a:latin typeface="Times New Roman"/>
              </a:rPr>
              <a:t>Format. </a:t>
            </a:r>
            <a:r>
              <a:rPr b="0" i="1" lang="pt-PT" sz="2400" spc="-1" strike="noStrike">
                <a:solidFill>
                  <a:srgbClr val="ffff66"/>
                </a:solidFill>
                <a:latin typeface="Times New Roman"/>
              </a:rPr>
              <a:t>Ja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pic158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pic213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pic11408"/>
          <p:cNvPicPr/>
          <p:nvPr/>
        </p:nvPicPr>
        <p:blipFill>
          <a:blip r:embed="rId1"/>
          <a:stretch/>
        </p:blipFill>
        <p:spPr>
          <a:xfrm>
            <a:off x="1828800" y="1600200"/>
            <a:ext cx="5486400" cy="3657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ic1870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pic242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pic26443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pic110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pic095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pic05545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12:36:57Z</dcterms:created>
  <dc:creator>hedery</dc:creator>
  <dc:description/>
  <dc:language>en-US</dc:language>
  <cp:lastModifiedBy>Caeiro</cp:lastModifiedBy>
  <dcterms:modified xsi:type="dcterms:W3CDTF">2009-11-30T17:35:29Z</dcterms:modified>
  <cp:revision>11</cp:revision>
  <dc:subject/>
  <dc:title>Apresentação do PowerPoint</dc:title>
</cp:coreProperties>
</file>