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0ACF-AE6B-4382-9E3F-FF6EC0D3C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0910-CEC3-4FA4-A046-9DF7F48C9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1E09-E429-4D01-993A-3C5CBD2AC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6386-8CAE-4F50-86B6-DFB9B3872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D05D-888B-4994-AE63-62EFB1582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1283-CF7D-4D1B-8065-E2AB0BABD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A6B8-6D17-42AD-A3D5-CC5E0376F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D326-E844-4562-9C41-03E2A5BC8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F3B8-BE0F-4438-B892-EECEA026A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E4CF-04E8-4D7C-9112-876D28631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AC25-15C6-469F-A1DF-7F3C74C65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7D8E-ED05-430C-9546-E01F827F4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643F4-2060-4618-9356-00F9E8D15F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752480" y="609480"/>
            <a:ext cx="8096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Right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UM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666880" y="1676520"/>
            <a:ext cx="2143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Bottom">
              <a:avLst>
                <a:gd name="adj" fmla="val 68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EQUENO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5029200" y="2819520"/>
            <a:ext cx="222876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DESAFI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048120" y="3429000"/>
            <a:ext cx="48564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DA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600200" y="4495680"/>
            <a:ext cx="15048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LÍNGUA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191120" y="4419720"/>
            <a:ext cx="356220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PORTUGUESA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685800" y="144792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96633"/>
                </a:solidFill>
                <a:latin typeface="Times New Roman"/>
              </a:rPr>
              <a:t>M</a:t>
            </a:r>
            <a:r>
              <a:rPr b="0" lang="en-US" sz="8000" spc="-1" strike="noStrike">
                <a:solidFill>
                  <a:srgbClr val="ff99ff"/>
                </a:solidFill>
                <a:latin typeface="Times New Roman"/>
              </a:rPr>
              <a:t>A</a:t>
            </a:r>
            <a:r>
              <a:rPr b="0" lang="en-US" sz="80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8000" spc="-1" strike="noStrike">
                <a:solidFill>
                  <a:srgbClr val="660033"/>
                </a:solidFill>
                <a:latin typeface="Times New Roman"/>
              </a:rPr>
              <a:t>E</a:t>
            </a:r>
            <a:r>
              <a:rPr b="0" lang="en-US" sz="8000" spc="-1" strike="noStrike">
                <a:solidFill>
                  <a:srgbClr val="008000"/>
                </a:solidFill>
                <a:latin typeface="Times New Roman"/>
              </a:rPr>
              <a:t>M</a:t>
            </a:r>
            <a:r>
              <a:rPr b="0" lang="en-US" sz="8000" spc="-1" strike="noStrike">
                <a:solidFill>
                  <a:srgbClr val="ff3300"/>
                </a:solidFill>
                <a:latin typeface="Times New Roman"/>
              </a:rPr>
              <a:t>Á</a:t>
            </a:r>
            <a:r>
              <a:rPr b="0" lang="en-US" sz="8000" spc="-1" strike="noStrike">
                <a:solidFill>
                  <a:srgbClr val="660066"/>
                </a:solidFill>
                <a:latin typeface="Times New Roman"/>
              </a:rPr>
              <a:t>T</a:t>
            </a:r>
            <a:r>
              <a:rPr b="0" lang="en-US" sz="8000" spc="-1" strike="noStrike">
                <a:solidFill>
                  <a:srgbClr val="00cc99"/>
                </a:solidFill>
                <a:latin typeface="Times New Roman"/>
              </a:rPr>
              <a:t>I</a:t>
            </a: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8000" spc="-1" strike="noStrike">
                <a:solidFill>
                  <a:srgbClr val="003300"/>
                </a:solidFill>
                <a:latin typeface="Times New Roman"/>
              </a:rPr>
              <a:t>A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371600" y="4114800"/>
            <a:ext cx="655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Bookman Old Style"/>
              </a:rPr>
              <a:t>É A ÚNICA FEMININA 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914400" y="609480"/>
            <a:ext cx="71629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 u="sng">
                <a:solidFill>
                  <a:srgbClr val="000000"/>
                </a:solidFill>
                <a:uFillTx/>
                <a:latin typeface="Arial Unicode MS"/>
              </a:rPr>
              <a:t>Porque tem </a:t>
            </a:r>
            <a:r>
              <a:rPr b="0" i="1" lang="en-US" sz="5400" spc="-1" strike="noStrike" u="sng">
                <a:solidFill>
                  <a:srgbClr val="008000"/>
                </a:solidFill>
                <a:uFillTx/>
                <a:latin typeface="Arial Unicode MS"/>
              </a:rPr>
              <a:t>REGRAS</a:t>
            </a:r>
            <a:r>
              <a:rPr b="0" i="1" lang="en-US" sz="5400" spc="-1" strike="noStrike" u="sng">
                <a:solidFill>
                  <a:srgbClr val="ff3300"/>
                </a:solidFill>
                <a:uFillTx/>
                <a:latin typeface="Arial Unicode MS"/>
              </a:rPr>
              <a:t> </a:t>
            </a:r>
            <a:r>
              <a:rPr b="0" i="1" lang="en-US" sz="5400" spc="-1" strike="noStrike" u="sng">
                <a:solidFill>
                  <a:srgbClr val="000000"/>
                </a:solidFill>
                <a:uFillTx/>
                <a:latin typeface="Arial Unicode MS"/>
              </a:rPr>
              <a:t>demais, </a:t>
            </a:r>
            <a:r>
              <a:rPr b="0" i="1" lang="en-US" sz="5400" spc="-1" strike="noStrike" u="sng">
                <a:solidFill>
                  <a:srgbClr val="3333cc"/>
                </a:solidFill>
                <a:uFillTx/>
                <a:latin typeface="Arial Unicode MS"/>
              </a:rPr>
              <a:t>PROBLEMAS</a:t>
            </a:r>
            <a:r>
              <a:rPr b="0" i="1" lang="en-US" sz="5400" spc="-1" strike="noStrike" u="sng">
                <a:solidFill>
                  <a:srgbClr val="000000"/>
                </a:solidFill>
                <a:uFillTx/>
                <a:latin typeface="Arial Unicode MS"/>
              </a:rPr>
              <a:t> demais e ..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rot="767400">
            <a:off x="990360" y="4267080"/>
            <a:ext cx="716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Tahoma"/>
              </a:rPr>
              <a:t>QUASE NINGUÉM ENTENDE!!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1219320" y="1066680"/>
            <a:ext cx="6734160" cy="41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1) Qual das palavras abaixo é feminina?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8" name=""/>
          <p:cNvSpPr/>
          <p:nvPr/>
        </p:nvSpPr>
        <p:spPr>
          <a:xfrm>
            <a:off x="1066680" y="2209680"/>
            <a:ext cx="70866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) BANDEI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066680" y="2971800"/>
            <a:ext cx="7086600" cy="4597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B) GALINH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66680" y="3733920"/>
            <a:ext cx="7086600" cy="45972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Times New Roman"/>
              </a:rPr>
              <a:t>C) DIRETO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66680" y="4495680"/>
            <a:ext cx="7086600" cy="45972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D) FARINH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66680" y="5257800"/>
            <a:ext cx="7086600" cy="459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) MATEMÁ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2209680" y="762120"/>
            <a:ext cx="4572000" cy="92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ff33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Sylfaen"/>
              </a:rPr>
              <a:t>Se você repondeu:</a:t>
            </a:r>
            <a:endParaRPr b="0" lang="en-US" sz="2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ff3300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Sylfaen"/>
              <a:ea typeface="Sylfaen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905120" y="4572000"/>
            <a:ext cx="5410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ERROU.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733920" y="2819520"/>
            <a:ext cx="16952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Palatino Linotype"/>
              </a:rPr>
              <a:t>TODAS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Palatino Linotype"/>
              <a:ea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819520" y="2133720"/>
            <a:ext cx="3047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3300"/>
                </a:solidFill>
                <a:latin typeface="Times New Roman"/>
              </a:rPr>
              <a:t>PORQUE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33720" y="3886200"/>
            <a:ext cx="4800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660033"/>
                </a:solidFill>
                <a:latin typeface="Tahoma"/>
              </a:rPr>
              <a:t>PENSE BEM ..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914400" y="990720"/>
            <a:ext cx="23814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Bandeira: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9" name=""/>
          <p:cNvSpPr/>
          <p:nvPr/>
        </p:nvSpPr>
        <p:spPr>
          <a:xfrm>
            <a:off x="990720" y="1981080"/>
            <a:ext cx="716256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Não é feminina porque tem </a:t>
            </a:r>
            <a:r>
              <a:rPr b="0" lang="en-US" sz="8800" spc="-1" strike="noStrike">
                <a:solidFill>
                  <a:srgbClr val="ff3300"/>
                </a:solidFill>
                <a:latin typeface="Times New Roman"/>
              </a:rPr>
              <a:t>PAU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914400" y="990720"/>
            <a:ext cx="23814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Galinha: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1981080"/>
            <a:ext cx="716256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>
                <a:solidFill>
                  <a:srgbClr val="000000"/>
                </a:solidFill>
                <a:latin typeface="Palatino Linotype"/>
              </a:rPr>
              <a:t>Não é feminina porque tem </a:t>
            </a:r>
            <a:r>
              <a:rPr b="0" i="1" lang="en-US" sz="8000" spc="-1" strike="noStrike">
                <a:solidFill>
                  <a:srgbClr val="ff3300"/>
                </a:solidFill>
                <a:latin typeface="Palatino Linotype"/>
              </a:rPr>
              <a:t>PINTO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914400" y="990720"/>
            <a:ext cx="23814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Diretoria: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3" name=""/>
          <p:cNvSpPr/>
          <p:nvPr/>
        </p:nvSpPr>
        <p:spPr>
          <a:xfrm>
            <a:off x="990720" y="1981080"/>
            <a:ext cx="71625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>
                <a:solidFill>
                  <a:srgbClr val="000000"/>
                </a:solidFill>
                <a:latin typeface="Impact"/>
              </a:rPr>
              <a:t>Não é feminina porque tem </a:t>
            </a:r>
            <a:r>
              <a:rPr b="0" i="1" lang="en-US" sz="8000" spc="-1" strike="noStrike">
                <a:solidFill>
                  <a:srgbClr val="ff3300"/>
                </a:solidFill>
                <a:latin typeface="Impact"/>
              </a:rPr>
              <a:t>MEMBRO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914400" y="990720"/>
            <a:ext cx="23814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Farinha: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5" name=""/>
          <p:cNvSpPr/>
          <p:nvPr/>
        </p:nvSpPr>
        <p:spPr>
          <a:xfrm>
            <a:off x="990720" y="1981080"/>
            <a:ext cx="716256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800" spc="-1" strike="noStrike">
                <a:solidFill>
                  <a:srgbClr val="000000"/>
                </a:solidFill>
                <a:latin typeface="Monotype Corsiva"/>
              </a:rPr>
              <a:t>Não é feminina porque tem </a:t>
            </a:r>
            <a:r>
              <a:rPr b="0" i="1" lang="en-US" sz="8800" spc="-1" strike="noStrike">
                <a:solidFill>
                  <a:srgbClr val="ff3300"/>
                </a:solidFill>
                <a:latin typeface="Monotype Corsiva"/>
              </a:rPr>
              <a:t>SACO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2590920" y="2133720"/>
            <a:ext cx="4495680" cy="25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tão ..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5T12:15:30Z</dcterms:created>
  <dc:creator>Paulo Brito</dc:creator>
  <dc:description/>
  <dc:language>en-US</dc:language>
  <cp:lastModifiedBy>Paulo Brito</cp:lastModifiedBy>
  <dcterms:modified xsi:type="dcterms:W3CDTF">2005-09-15T12:29:31Z</dcterms:modified>
  <cp:revision>2</cp:revision>
  <dc:subject/>
  <dc:title>Apresentação do PowerPoint</dc:title>
</cp:coreProperties>
</file>