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ERNESTO%20CORTAZAR-%20AUTUMN%20ROSE.wav" ContentType="audio/x-wav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A54-DA9B-456A-A2B7-45AF1F9B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5D6-EFD7-4D95-B504-58D43114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C19-83C6-4037-81C7-64E69A29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ADB-56D8-45B5-8BE2-9C247B7D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297E-2B3F-401A-8850-0AB7DD4B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980-EEED-4477-A9EF-5B527D76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4C41-061F-448B-BF4A-B47D419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32A9-A90A-489F-A75C-EA3E261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0E33-BEFF-46B1-AF8F-36EFCB1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C72-FC01-4D09-95FC-087C70B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015-89E9-4753-8EFA-B54950E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835-6342-44ED-8CE8-51068038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E34D-924E-4125-A462-447F15C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FB97-7926-4E07-BF11-1B06CF0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4B5E-B423-4777-967C-5823799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EEAA-9135-42E2-9361-B8406418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34A-2640-4D7D-9386-913040E3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BE8-0D33-4E87-B1D9-E0FAF79F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687-49D8-4175-A2BD-2227E72F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0D6-DB5D-4BC5-A6DE-44D91A1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DD0-3D22-4327-8F5C-18E2659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819-8345-445D-86E1-78613EA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B6B-BBA0-4D83-BE4B-9060DAA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BA5-1346-4A66-9E6A-0518D73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6400-C04B-4076-87F9-22BDCAD4E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1DB-2068-4D98-83F7-25E2CA367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%20CORTAZAR-%20AUTUMN%20ROS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luizagorete@uol.com.br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056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HOSPITAL DOS OLHOS DE</a:t>
            </a: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SOROCABA – SÃO PAULO - BRAS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00cc"/>
                </a:solidFill>
                <a:latin typeface="Tahoma"/>
              </a:rPr>
              <a:t>Hospital Maçonic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00cc"/>
                </a:solidFill>
                <a:latin typeface="Tahoma"/>
              </a:rPr>
              <a:t>Leia e repasse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32000" y="5229360"/>
            <a:ext cx="288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6448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O JORNAL  DA REDE GLOBO MOSTROU UM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REPORTAGEM SOBRE O HOSPITAL DOS  OLHO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cc00"/>
                </a:solidFill>
                <a:latin typeface="Tahoma"/>
              </a:rPr>
              <a:t>DE SOROCABA. ESSE HOSPITAL É D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MAÇONARIA, SEM FINS LUCRATIVOS.  ELE É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CONVENIADO COM O SUS, E TEM CAPACIDAD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ARA REALIZAR  CERCA DE TREZENTO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TRANSPLANTES DE CÓRNEAS POR MÊS, POI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HÁ UM ESTOQUE DE CÓRNEAS SUFICIENT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PARA A REALIZAÇÃO DOS MESMOS.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61600"/>
            <a:ext cx="80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ENTRETANTO, ESSE HOSPITAL ESTÁ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ALIZANDO SOMENTE CERCA DE CENTO 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VINTE  TRANSPLANTES POR MÊS,  DEVID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A FALTA DE PACIENTES. AS CÓRNEAS NÃ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UTILIZADAS ESTÃO SENDO JOGADAS FOR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OR PASSAREM DO TEMPO D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UTILIZAÇÃO / VALIDADE !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3500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ÇO A TODOS QUE POR VENTURA TENHA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cc00"/>
                </a:solidFill>
                <a:latin typeface="Tahoma"/>
              </a:rPr>
              <a:t>CONHECIMENTO DE ALGUÉM QUE ESTEJA N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FILA DO TRANSPLANTE AGUARDANDO UM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DOADOR, INFORME ESSA PESSOA PARA QUE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NTRE  EM CONTATO COM O HOSPITAL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FTALMOLOGICO DE SOROCABA -SP - BRASI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TELEFONE - (15) 3212-7009 - DE 2ª A 6ª FEIR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ATENCIOSAMENTE,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DR. EDUARDO BEZERRA -MÉD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28124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POR FAVOR, REPASSEM ESTE E-MAIL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VOCÊ PODE NÃO ESTAR PRECISANDO,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AS SEMPRE HÁ ALGUÉ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NECESSITANDO.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429000"/>
            <a:ext cx="79912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 RECEBIDA DE MARIA DE FATIMA DAM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IZA GOR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luizagorete@uol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72080" y="537372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23:43:29Z</dcterms:created>
  <dc:creator>luiza gorete</dc:creator>
  <dc:description/>
  <dc:language>en-US</dc:language>
  <cp:lastModifiedBy>luiza gorete</cp:lastModifiedBy>
  <dcterms:modified xsi:type="dcterms:W3CDTF">2007-08-20T00:49:2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